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F07-920D-4C01-9032-D4D66136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380-ACF4-4183-83D1-41B62F50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340-7668-4BBB-BAE5-1B928E66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BDC-5281-4431-BBF5-9BC23E09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9BFF5-A481-464E-9330-E45F0E75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4D12-7BAC-4A9D-AE5E-5F1BC00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0FC8-BA6D-46EE-AAC1-B28F170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B104-1D94-453D-A6D7-D802EF8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6ACF-6163-41E5-817A-5258DB67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DD10-7375-48AB-9D2A-D09BFC4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3F810-BD85-4778-9809-FB1B977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7F8-125B-4C9E-9B27-9D7E433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42C1A-AD55-4383-BA4A-AD44E6E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5B4FD-7F4A-4E39-89BF-4386E5B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DF41-7F20-4602-9264-F05A2BF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A8CBC-7A14-4C28-A383-B48B6286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7EDFE-E1C8-4193-9921-52DA1BFA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A593-35BF-47A0-AF20-C951457D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76F1-C6A0-42F6-BCF4-0ACF1DFE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4F7D1-5C75-4614-9DBC-D3EBEED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5B35-7416-4F75-810A-C4515653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4318B-89D6-4942-AC01-9D1C0486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0BF-3597-49B0-B235-B594AAD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E068-9953-4525-9B72-E928D6E1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39D2-CC0E-45F1-B960-C183FE4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A1C6-2ACB-4B0E-813A-9861867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B4B7-B775-4378-8297-520E166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5508-6174-432B-B29F-92AB074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9BC7-C843-46BB-A0C9-C9773864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942E-6FDF-4B74-AC8C-041C9F80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2FFC2-FE60-4464-B014-BB68FC80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E62B6-D206-4A50-9E62-0436927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10258-4D8A-4897-A3FD-80A32532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4DA-E600-4E43-A67C-0708BA07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64138-EC57-49A8-9C03-6EF4F8BC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16783-622C-4AB0-90FB-A945EE35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A054A-9E8A-4AD0-B176-0C2D6DB5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FBF79-AC8D-4FFC-B18D-0B8DBE7E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6E3CB-DEDE-457E-BA5C-CE3436E6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E282A-FACC-4730-8177-1C54649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3B12C-D70F-4CB6-9C4F-2A653CF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D9B6B-E37A-47B4-B4B2-9CB0A032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35645-A331-4C1A-A40D-16DE2237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05324-3E9E-4FE9-887D-677E0BE5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754-59F4-4368-9C91-8231D87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04324-211A-4AC5-B109-8D17CE4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8BDD0-56A7-4DEA-8C9D-DF0B1990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0115D-C3C8-43E2-A8E4-F1F94C54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43B11-A20A-4A3D-B09E-501BA1E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E9EAE-13F5-4E15-B161-773864F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EC1A0-9037-41F2-B9E5-BE49CDF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6BAA8-4A15-4A01-A3A2-FE7E1CC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CAF8E-66D5-4D39-815E-C5083AF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EB666-5422-4653-91A1-9D8293BD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58455-E946-43F1-BB30-1F26823C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9AD-66A9-40A9-ABED-E11EF65B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E5C73-561E-4E22-AA4D-DA7DF496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D6ABA-0454-4745-ABD0-ACDD3DFD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66EAD-523E-46E5-B556-37BC2A73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097B2-7BF2-43E6-9612-E452FDB9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E15CB-D10D-40DF-8107-FD0FB4FB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F5B7A-F630-46B1-9F14-BEEFDDE4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781CC-FE9D-4425-8CDD-DCA0A54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4D8CE-DA6D-4C06-886D-DE593C8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E5520-6EA8-4201-B2EC-5F81B31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7BCB3-05D0-4D5B-8CAF-A5234D5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DC5-4536-4711-8FDB-92774C3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AC8D1-F2EC-40B7-BAD8-0237903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479FA-D982-4664-98BF-C0C840D3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B442A-821C-44C8-8D53-23162969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A4D-3800-4BE7-904E-03676AD0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09D-D1A7-4404-8C93-5438779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68D-1947-4959-8524-793C862E55F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6868-3A6A-4F70-A761-7284C3C516B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EA66-18D3-4D93-812B-D417D879E2E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057-D087-4E84-9866-EC17970A925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D2AC-5172-468A-BEB1-DFAEFC49861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A3A4-4199-4930-B1F9-6CD6151F522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07880" y="1427040"/>
            <a:ext cx="840132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57120" y="9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Constantia"/>
              </a:rPr>
              <a:t>Исторически первым способом организации вычислений стала централизованная обработка информации. Все данные хранились и обрабатывались на центральном компьютере –мейнфрейме. К менфрейму подключались терминалы, функциональные возможности которых ограничивались лишь выводом результатов и передачей кодов нажатых клавич на центральный компьютер.  Чем больше терминалов было подключено, тем более мощный компьютер требовался и тем дороже обходились эти вычислени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3520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7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На смену пришла сетевая архитектура «клиент-сервер». При использовании  этой архитектуры, как и при центарлизованной обработке информации также нобходимо наличие центрального комьютера –сервера.  Но его функциональные задачи иные. Клиентские компьютеры запрашивают у сервера необходимые данные, выполняют обработку и отсылают обратно. Приложения, написанные для архтектуры «Клиент-сервер», обычно состоят из раздельных серверныйх  клиентских компонентов. Рассмотрим термины, употребляемые при работе с архитектурой «клиент-сервер»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5647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Сервером называется компьютер, предоставляющий доступ к своим ресурсам для других компьютеров, называемых клиентам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Клиент может быть  одного из двух типов:  Толстый клиент   Тонкий клиен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400" spc="-1" strike="noStrike">
                <a:solidFill>
                  <a:srgbClr val="ffffff"/>
                </a:solidFill>
                <a:latin typeface="Constantia"/>
              </a:rPr>
              <a:t>Толстый клиент – характеризуется тем, что он содержит средства доступа к базе данных, средства обработки и отражения инофрмации. Каждое клиентское приложение копирует себе все необходимые данные, выполняет их обработку и отсылает результат обратно на сервер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kk-KZ" sz="2600" spc="-1" strike="noStrike">
                <a:solidFill>
                  <a:srgbClr val="ffffff"/>
                </a:solidFill>
                <a:latin typeface="Constantia"/>
              </a:rPr>
              <a:t>Функции тонкого клиента 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сводятся в основном к выводу результатов, обработки данных, осуществляемой на сервере. Клиент лишь отсылает серверу список задач, которые необходимо выполнить, а в ответ принимает обработанные данны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се права и логика обработки данных хранятся на сервере и лишь вызываются клиент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нтрализованное хранение данны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меньшение сетевого трафика (освобождается сет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олее удобное администрирование баз данны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5410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ществует несколько основных направлений использования СУБД. Каждое из них имеет свои характерные свойства, диктующие требования к построению специализированных систе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жно выделить два основных подхода к проектированию систем на основе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QL Server X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QL Server X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.0 </a:t>
            </a:r>
            <a:r>
              <a:rPr b="0" lang="kk-KZ" sz="2400" spc="-1" strike="noStrike">
                <a:solidFill>
                  <a:srgbClr val="fefac9"/>
                </a:solidFill>
                <a:latin typeface="Constantia"/>
              </a:rPr>
              <a:t> как система поддержки принятия решения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QL Server X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.0 как система управления обработки транзакций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4441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8:31:34Z</dcterms:created>
  <dc:creator>Admin</dc:creator>
  <dc:description/>
  <dc:language>en-US</dc:language>
  <cp:lastModifiedBy>Admin</cp:lastModifiedBy>
  <dcterms:modified xsi:type="dcterms:W3CDTF">2011-01-11T18:45:39Z</dcterms:modified>
  <cp:revision>2</cp:revision>
  <dc:subject/>
  <dc:title>Назначение SQL Server X.0</dc:title>
</cp:coreProperties>
</file>