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88C0C0-6C17-46A5-93C9-5A4EAD137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A24A34-BCB3-4530-B1E7-CE10A9D19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67868B-759C-4249-AE5E-63411EA3A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3A896F-FDC7-4C4D-A78B-A1E8C403C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3D98B-9F0C-483F-8020-413CD2063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6CED8-A841-4ACF-8AD2-671126FE2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EB098-3777-47B6-A60E-F07560CFE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25B98-19AB-46C0-A704-F848F44E1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CF837-01FC-4DE9-9388-789290113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8511B-7096-432B-8891-8858CE982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F1444-73AD-4426-A84A-94A0FE0BD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4AEA4D-2C41-4E95-9ED4-BE97903D1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5D63B-D218-4C32-AB6C-20AB1ECF0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98917-308B-4161-AE91-D2E793B8E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C9870-7D93-48D9-B2AD-2EA4605EC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D4670-9E93-4A6E-9C35-086E3906B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16654-0913-4F39-91BF-B7705B6F5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382917-2843-4362-9613-E3E2F693F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705AA7-54B5-43DC-ADD0-00DA8D422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C9A9D1-5513-4043-BD24-BB8AE3669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34E2E5-17EC-4304-A5B8-16A02BC96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E7A581-4E35-44D8-ADAF-9963A303D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54C7A1-413A-45DC-843A-01D775E66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A9D4C9-95C2-48AE-B586-6CA671145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20A1B-01CB-42AB-8411-91E067F57A3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C7E3E-B5BB-4F84-A6DF-99598B59836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620640"/>
            <a:ext cx="896472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5400" spc="-1" strike="noStrike">
                <a:solidFill>
                  <a:srgbClr val="ffffff"/>
                </a:solidFill>
                <a:latin typeface="Garamond"/>
              </a:rPr>
              <a:t>Дискретті және үзіліссіз ақпаратты өлшеудің ықтималдық тәсілі.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539280" y="3573000"/>
            <a:ext cx="860436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Garamond"/>
              </a:rPr>
              <a:t>Жұмыстың мақсаты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: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ывести формулу энтропи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Изучить свойства меры информации и энтропи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Рассмотреть задания лекци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 rot="1509600">
            <a:off x="6877080" y="2852640"/>
            <a:ext cx="2019240" cy="14032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324000" y="3068640"/>
            <a:ext cx="3600360" cy="45864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1042920" y="6357960"/>
                <a:ext cx="702000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r>
                          <m:t xml:space="preserve">Y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∈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178920" y="260280"/>
            <a:ext cx="871380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ffffff"/>
                </a:solidFill>
                <a:latin typeface="Garamond"/>
              </a:rPr>
              <a:t>3-тапсырм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kk-KZ" sz="2800" spc="-1" strike="noStrike">
                <a:solidFill>
                  <a:srgbClr val="ffffff"/>
                </a:solidFill>
                <a:latin typeface="Garamond"/>
              </a:rPr>
              <a:t>Z=(X1+1)2  дискретті кездейсоқ шамасында Х туралы қанша ақпарат бар, Мұнда  Х1  және Х2 тәуелсіз дискретті кездейсоқ шамалары бірдей ықтималдылықпен 0 немесе 1 мәнін қабылдай алады?  НХ1 және НZ-ті табыңдар. Х1 және Z арасындағы тәуелділік қандай сипатта болады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 rot="20733000">
            <a:off x="1116000" y="4797000"/>
            <a:ext cx="6696000" cy="83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e5e5ff"/>
                </a:solidFill>
                <a:latin typeface="Garamond"/>
              </a:rPr>
              <a:t>Қолданылған әдебиеттердің тізімі: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29600" cy="51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just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Чисар И., Кернер Я. Теория информации— М.: Мир, 1985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 algn="just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Шеннон К. Работы по теории информации и кибернетики — М., Издательство иностранной литературы, 1963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 algn="just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Яглом А., Яглом И. Вероятность и информация — М.; Наука, 1973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 algn="just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Введение в криптографию /Под общей редакцией В. В. Ященко. — М.: МЦНМО: "ЧеРо", 2000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 algn="just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Джордж Ф. Основы кибернетики — М.: Радио и Связь, 1984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323640" y="475920"/>
            <a:ext cx="856908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Garamond"/>
              </a:rPr>
              <a:t>Ақпарат теориясының негізінде Шеннон ұсынған, бір кездейсоқ шамада соған қатысты келесі кездейсоқ шама жататын ақпарат көлемін өлшеу тәсілі жатыр. Бұл тәсіл ақпарат көлемін санмен сипаттауға мүмкіндік береді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Garamond"/>
              </a:rPr>
              <a:t>P(X=Xi)= pi, P(Y=Yj)= qj үлестірім заңымен және P(X=Xi, Y=Yj)= pij біріккен үлестірілімен берілген Х және Y кездейсоқ шамасы үшін, Y-ке қатысты Х-те жататын ақпарат көлемі мынаған тең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2916360" y="5516640"/>
            <a:ext cx="3600360" cy="103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179280" y="259920"/>
            <a:ext cx="864072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Garamond"/>
              </a:rPr>
              <a:t>       </a:t>
            </a:r>
            <a:r>
              <a:rPr b="0" lang="kk-KZ" sz="3200" spc="-1" strike="noStrike">
                <a:solidFill>
                  <a:srgbClr val="ffffff"/>
                </a:solidFill>
                <a:latin typeface="Garamond"/>
              </a:rPr>
              <a:t>px(t1),  py(t2) және  pxy(t1,t2) ықтималдылығымен үлестірілген Х және Y үздіксіз кездесоқ шамасы үшін формула мына түрде болады:    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Garamond"/>
              </a:rPr>
              <a:t>                   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kk-KZ" sz="3200" spc="-1" strike="noStrike">
                <a:solidFill>
                  <a:srgbClr val="ffffff"/>
                </a:solidFill>
                <a:latin typeface="Garamond"/>
              </a:rPr>
              <a:t>Көріп тұрғанымыздай ,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Garamond"/>
              </a:rPr>
              <a:t>       </a:t>
            </a:r>
            <a:r>
              <a:rPr b="0" lang="kk-KZ" sz="3200" spc="-1" strike="noStrike">
                <a:solidFill>
                  <a:srgbClr val="ffffff"/>
                </a:solidFill>
                <a:latin typeface="Garamond"/>
              </a:rPr>
              <a:t>және бұдан,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2195640" y="2421000"/>
            <a:ext cx="5616360" cy="8586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2195640" y="4221000"/>
            <a:ext cx="5472000" cy="75276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2268360" y="5805360"/>
            <a:ext cx="5328000" cy="8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324000" y="549000"/>
            <a:ext cx="8820000" cy="61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kk-KZ" sz="3200" spc="-1" strike="noStrike">
                <a:solidFill>
                  <a:srgbClr val="ffffff"/>
                </a:solidFill>
                <a:latin typeface="Garamond"/>
              </a:rPr>
              <a:t>Ақпарат теориясында Х кездейсоқ шамасының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Garamond"/>
              </a:rPr>
              <a:t>энтропиясы мына формуламен анықталады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908000" y="1989000"/>
            <a:ext cx="5688360" cy="9367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250920" y="3429000"/>
            <a:ext cx="856908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500" spc="-1" strike="noStrike" u="sng">
                <a:solidFill>
                  <a:srgbClr val="ffffff"/>
                </a:solidFill>
                <a:uFillTx/>
                <a:latin typeface="Garamond"/>
              </a:rPr>
              <a:t>Энтропия және ақпарат амалдарының қасиеттері: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500" spc="-1" strike="noStrike">
                <a:solidFill>
                  <a:srgbClr val="ffffff"/>
                </a:solidFill>
                <a:latin typeface="Garamond"/>
              </a:rPr>
              <a:t>1.                                             Х  және </a:t>
            </a:r>
            <a:r>
              <a:rPr b="0" lang="en-US" sz="2500" spc="-1" strike="noStrike">
                <a:solidFill>
                  <a:srgbClr val="ffffff"/>
                </a:solidFill>
                <a:latin typeface="Garamond"/>
              </a:rPr>
              <a:t>Y </a:t>
            </a:r>
            <a:r>
              <a:rPr b="0" lang="kk-KZ" sz="2500" spc="-1" strike="noStrike">
                <a:solidFill>
                  <a:srgbClr val="ffffff"/>
                </a:solidFill>
                <a:latin typeface="Garamond"/>
              </a:rPr>
              <a:t>тәуелсіз;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Garamond"/>
              </a:rPr>
              <a:t>2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Garamond"/>
              </a:rPr>
              <a:t>3. </a:t>
            </a:r>
            <a:r>
              <a:rPr b="0" lang="en-US" sz="2500" spc="-1" strike="noStrike">
                <a:solidFill>
                  <a:srgbClr val="ffffff"/>
                </a:solidFill>
                <a:latin typeface="Garamond"/>
              </a:rPr>
              <a:t>HX=</a:t>
            </a:r>
            <a:r>
              <a:rPr b="0" lang="kk-KZ" sz="2500" spc="-1" strike="noStrike">
                <a:solidFill>
                  <a:srgbClr val="ffffff"/>
                </a:solidFill>
                <a:latin typeface="Garamond"/>
              </a:rPr>
              <a:t>0 </a:t>
            </a:r>
            <a:r>
              <a:rPr b="0" lang="en-US" sz="2500" spc="-1" strike="noStrike">
                <a:solidFill>
                  <a:srgbClr val="ffffff"/>
                </a:solidFill>
                <a:latin typeface="Garamond"/>
              </a:rPr>
              <a:t> X – </a:t>
            </a:r>
            <a:r>
              <a:rPr b="0" lang="kk-KZ" sz="2500" spc="-1" strike="noStrike">
                <a:solidFill>
                  <a:srgbClr val="ffffff"/>
                </a:solidFill>
                <a:latin typeface="Garamond"/>
              </a:rPr>
              <a:t>тұрақты;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5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500" spc="-1" strike="noStrike">
                <a:solidFill>
                  <a:srgbClr val="ffffff"/>
                </a:solidFill>
                <a:latin typeface="Garamond"/>
              </a:rPr>
              <a:t>4.                                                 мұндағы  ;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5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0" y="0"/>
                <a:ext cx="1704960" cy="20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≥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⇔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7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611280" y="3933720"/>
                <a:ext cx="3382920" cy="39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≥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⇔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0" y="0"/>
                <a:ext cx="1171440" cy="20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,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684360" y="4653000"/>
                <a:ext cx="252072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,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3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684360" y="6237360"/>
                <a:ext cx="3600360" cy="36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H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HY</m:t>
                    </m:r>
                    <m:r>
                      <m:t xml:space="preserve">−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5" name=""/>
          <p:cNvSpPr/>
          <p:nvPr/>
        </p:nvSpPr>
        <p:spPr>
          <a:xfrm>
            <a:off x="0" y="328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5940360" y="6165720"/>
                <a:ext cx="320364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395280" y="981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Garamond"/>
              </a:rPr>
              <a:t>5.                              егер                             онда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X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-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Y</a:t>
            </a:r>
            <a:r>
              <a:rPr b="0" lang="kk-KZ" sz="3200" spc="-1" strike="noStrike">
                <a:solidFill>
                  <a:srgbClr val="ffffff"/>
                </a:solidFill>
                <a:latin typeface="Garamond"/>
              </a:rPr>
              <a:t> функциясы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0" y="0"/>
                <a:ext cx="1190520" cy="20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≤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826920" y="1052640"/>
                <a:ext cx="284976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≤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643280" y="1052640"/>
                <a:ext cx="266400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250560" y="475920"/>
            <a:ext cx="889308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60520" indent="-560520" algn="just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ff"/>
                </a:solidFill>
                <a:latin typeface="Garamond"/>
              </a:rPr>
              <a:t>                 </a:t>
            </a:r>
            <a:r>
              <a:rPr b="0" lang="kk-KZ" sz="2800" spc="-1" strike="noStrike">
                <a:solidFill>
                  <a:srgbClr val="ffffff"/>
                </a:solidFill>
                <a:latin typeface="Garamond"/>
              </a:rPr>
              <a:t>теңдеуінің (х=1  болғанда теңдеу орнатылады) барлық  х – терін логарифдесек, х-1     lnx  немесе                                     теңдеуі шығады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6052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6052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6052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6052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6052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ff"/>
                </a:solidFill>
                <a:latin typeface="Garamond"/>
              </a:rPr>
              <a:t>       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6052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kk-KZ" sz="2800" spc="-1" strike="noStrike">
                <a:solidFill>
                  <a:srgbClr val="ffffff"/>
                </a:solidFill>
                <a:latin typeface="Garamond"/>
              </a:rPr>
              <a:t>яғни, I(X,Y)=0, барлық   i және  j үшін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6052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ff"/>
                </a:solidFill>
                <a:latin typeface="Garamond"/>
              </a:rPr>
              <a:t>болғанда, яғни X және Y тәуелсіз болғанда.  Егер X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6052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ff"/>
                </a:solidFill>
                <a:latin typeface="Garamond"/>
              </a:rPr>
              <a:t>және Y тәуелсіз болса, онда      және логарифм аргументтері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6052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ff"/>
                </a:solidFill>
                <a:latin typeface="Garamond"/>
              </a:rPr>
              <a:t>1-ге тең , бұдан логарифмнің өзі 0-ге тең, бұл I(X,Y)=0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6052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ff"/>
                </a:solidFill>
                <a:latin typeface="Garamond"/>
              </a:rPr>
              <a:t>дегенді білдіреді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826920" y="404640"/>
                <a:ext cx="1297080" cy="57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е</m:t>
                        </m:r>
                      </m:e>
                      <m:sup>
                        <m:r>
                          <m:t xml:space="preserve">ч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≥</m:t>
                    </m:r>
                    <m:r>
                      <m:t xml:space="preserve">х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8244000" y="907920"/>
                <a:ext cx="29340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3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2627280" y="1197000"/>
                <a:ext cx="180036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х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≥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843280" y="2349360"/>
            <a:ext cx="4105080" cy="128592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6300720" y="3645000"/>
                <a:ext cx="129708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4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5148360" y="4581360"/>
                <a:ext cx="136836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250560" y="333360"/>
            <a:ext cx="8569080" cy="65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cc00"/>
                </a:solidFill>
                <a:latin typeface="Garamond"/>
              </a:rPr>
              <a:t>2</a:t>
            </a:r>
            <a:r>
              <a:rPr b="0" lang="kk-KZ" sz="3200" spc="-1" strike="noStrike">
                <a:solidFill>
                  <a:srgbClr val="ffffff"/>
                </a:solidFill>
                <a:latin typeface="Garamond"/>
              </a:rPr>
              <a:t>.      Аргументке қатысты формуланың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kk-KZ" sz="3200" spc="-1" strike="noStrike">
                <a:solidFill>
                  <a:srgbClr val="ffffff"/>
                </a:solidFill>
                <a:latin typeface="Garamond"/>
              </a:rPr>
              <a:t>симметриялығынан туындайды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cc00"/>
                </a:solidFill>
                <a:latin typeface="Garamond"/>
              </a:rPr>
              <a:t>3</a:t>
            </a:r>
            <a:r>
              <a:rPr b="0" lang="kk-KZ" sz="3200" spc="-1" strike="noStrike">
                <a:solidFill>
                  <a:srgbClr val="ffffff"/>
                </a:solidFill>
                <a:latin typeface="Garamond"/>
              </a:rPr>
              <a:t>.  Егер НХ=0,  онда НХ-ті анықтайтын қосындының барлық мүшелері нөл болуы керек, бұл тек және тек қана  Х тұрақты болғанда мүмкін болады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cc00"/>
                </a:solidFill>
                <a:latin typeface="Garamond"/>
              </a:rPr>
              <a:t>4.</a:t>
            </a:r>
            <a:r>
              <a:rPr b="0" lang="kk-KZ" sz="3200" spc="-1" strike="noStrike">
                <a:solidFill>
                  <a:srgbClr val="ffffff"/>
                </a:solidFill>
                <a:latin typeface="Garamond"/>
              </a:rPr>
              <a:t>      Берілген 4 байланыстан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2340000" y="4292640"/>
            <a:ext cx="4753080" cy="22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324000" y="259920"/>
            <a:ext cx="84960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Garamond"/>
              </a:rPr>
              <a:t>Шығатыны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kk-KZ" sz="3200" spc="-1" strike="noStrike">
                <a:solidFill>
                  <a:srgbClr val="ffcc00"/>
                </a:solidFill>
                <a:latin typeface="Garamond"/>
              </a:rPr>
              <a:t>5)</a:t>
            </a:r>
            <a:r>
              <a:rPr b="0" lang="kk-KZ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kk-KZ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kk-KZ" sz="3200" spc="-1" strike="noStrike">
                <a:solidFill>
                  <a:srgbClr val="ffffff"/>
                </a:solidFill>
                <a:latin typeface="Garamond"/>
              </a:rPr>
              <a:t>                                                немесе HY- H(X,Y) 0, болатынын дәлелдеу керек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kk-KZ" sz="3200" spc="-1" strike="noStrike">
                <a:solidFill>
                  <a:srgbClr val="ffffff"/>
                </a:solidFill>
                <a:latin typeface="Garamond"/>
              </a:rPr>
              <a:t>бірақ                                                    яғни барлық логарифмнің аргументтері 1-ден үлкен емес, бұдан логарифмнің мәні 0-ден үлкен емес, бұл барлық қосынды 0-ден үлкен емес дегенді білдіреді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258920" y="981000"/>
            <a:ext cx="5638680" cy="59688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826920" y="1916280"/>
                <a:ext cx="5400720" cy="4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H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HY</m:t>
                    </m:r>
                    <m:r>
                      <m:t xml:space="preserve">−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≤</m:t>
                    </m:r>
                    <m:r>
                      <m:rPr>
                        <m:lit/>
                        <m:nor/>
                      </m:rPr>
                      <m:t xml:space="preserve">НХ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1403280" y="3284640"/>
            <a:ext cx="5639040" cy="5587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1835280" y="3933720"/>
                <a:ext cx="5616360" cy="45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≤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800" spc="-1" strike="noStrike">
                <a:solidFill>
                  <a:srgbClr val="e5e5ff"/>
                </a:solidFill>
                <a:latin typeface="Garamond"/>
              </a:rPr>
              <a:t>Тапсырмалар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362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500" spc="-1" strike="noStrike">
                <a:solidFill>
                  <a:srgbClr val="ffffff"/>
                </a:solidFill>
                <a:latin typeface="Garamond"/>
              </a:rPr>
              <a:t>1-тапсырма</a:t>
            </a:r>
            <a:endParaRPr b="0" lang="en-US" sz="25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5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kk-KZ" sz="2500" spc="-1" strike="noStrike">
                <a:solidFill>
                  <a:srgbClr val="ffffff"/>
                </a:solidFill>
                <a:latin typeface="Garamond"/>
              </a:rPr>
              <a:t>Үлестірімімен берілген, Х дискретті кездейсоқ шамасының энтропиясын  табыңыздар?</a:t>
            </a:r>
            <a:endParaRPr b="0" lang="en-US" sz="25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2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500" spc="-1" strike="noStrike">
                <a:solidFill>
                  <a:srgbClr val="ffffff"/>
                </a:solidFill>
                <a:latin typeface="Garamond"/>
              </a:rPr>
              <a:t>2-тапсырма</a:t>
            </a:r>
            <a:endParaRPr b="0" lang="en-US" sz="25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5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kk-KZ" sz="2500" spc="-1" strike="noStrike">
                <a:solidFill>
                  <a:srgbClr val="ffffff"/>
                </a:solidFill>
                <a:latin typeface="Garamond"/>
              </a:rPr>
              <a:t>Х1  және Х2 дискретті кездейсоқ шамаларының мәні екі тиынды лақтырумен анықталады,  ал Y дискретті кездейсоқ шамасы осы тиындарды лақтыру кезінде түскен “гербтердің” санының қосындысына тең.Y- тен Х туралы қанша ақпарат алуға болады?</a:t>
            </a:r>
            <a:endParaRPr b="0" lang="en-US" sz="25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116000" y="2852640"/>
            <a:ext cx="655164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3T18:04:00Z</dcterms:created>
  <dc:creator>SamLab.ws</dc:creator>
  <dc:description/>
  <dc:language>en-US</dc:language>
  <cp:lastModifiedBy>SamLab.ws</cp:lastModifiedBy>
  <dcterms:modified xsi:type="dcterms:W3CDTF">2010-06-03T19:16:38Z</dcterms:modified>
  <cp:revision>2</cp:revision>
  <dc:subject/>
  <dc:title>Дискретті және үзіліссіз ақпаратты өлшеудің ықтималдық тәсілі.</dc:title>
</cp:coreProperties>
</file>