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3DAA-E4DF-4EF9-9D6B-0FB252A1A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6C70-E265-4F37-8CF1-EF9F2797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463D-A9BA-4E25-A6DD-3F9619F33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D901-26BD-46EA-A78A-26FAE5464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397C-1DAB-41FD-B306-C37C4AB09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B78C-62C2-4FFC-9E14-50E5CC14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DFF7-F9B8-4429-B9B8-97DAD4BA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A8DAF-6F86-4ECE-AA87-CC0F9A3C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C157-9083-4442-8106-B668961C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822B-596A-49C4-95E7-A7EEE138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0F0F-9919-4100-96CD-DE713E93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5325-2DE2-434C-A6A0-D36E262E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6E28-020E-4B51-8869-E9D0C6BF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326CC-1D9B-4E11-86AF-B0ACE4BB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AC50-0FA1-4C48-8070-ACC5C1B7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0FDA-8E20-4146-A120-9EAE62E9B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EDA5-8B65-42BC-8709-D006A88B3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9783-E840-44BE-A01C-E6EC450F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C705-BBEB-4A4E-89A5-61BE7494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46B8-19AD-4779-B1D9-D0F99544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CABD-79E1-4A53-901B-14F84409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8917-9B89-4A9C-A3FC-01007B4B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3E7D-623B-4022-A046-205F067C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F27B-2E03-471B-AF0B-5DFC14A5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9866-0428-4AA4-841A-8D71A4C73BA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BB23-02C1-4787-8EB4-5F9252EF657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6400800" cy="817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Презентация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PowerPoint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24000" y="2491920"/>
            <a:ext cx="88200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этой главе мы изучим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еимущества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crosoft Pow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нятие презентации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сновные типы мультимедийных презентац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рядок создания презентаций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Презентац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0578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Презентация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это уникальный и самый современный на сегодняшний день способ представления информаци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Это программный продукт, который может содержать текстовые материалы, фотографии, рисунки, слайд-шоу, звуковое оформление и дикторское сопровождение, видеофрагменты и анимацию, трехмерную графику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сновным отличием презентаций от остальных способов представления информации является их особая насыщенность содержанием и интерактивность, то есть способность определенным образом изменяться и реагировать на действия пользовател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687096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Multimedia технология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281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Multimedia технология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multi – много, media – среда) позволяет одновременно использовать различные способы представления информации: числа, текст, графику, анимацию, видео и звук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ажнейшей особенностью мультимедиа технологии является интерактивность – способность пользователя влиять на работу информационного средств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50560" y="1268280"/>
            <a:ext cx="8569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 преимуществам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crosoft Power Point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как инструментально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реды для разработки мультимедиа-приложений можно отнести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03d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оступность (пакет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crosoft Office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версии 97 и выше сегодня считается стандартным программным обеспечением практически для любого персонального компьютера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03d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легкость в освоении и простоту создания мультимедиа-презентаций (при достаточно широком наборе имеющихся возможностей, в частности, для реализации «оформительских» анимационных эффектов, особенно в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wer Point XP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03d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зможность переноса данных из других приложений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crosoft Office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что позволяет расширить для непрофессионального пользователя возможности подготовки содержательного наполнения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250560" y="476280"/>
            <a:ext cx="7993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Преимущества </a:t>
            </a: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Microsoft Power Poin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20872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Основные типы обучающих мультимедийных презентаций: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6960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703d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Со сценарием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Хорошо подходят для выступления на семинарах, лекциях. С их помощью можно постоянно поддерживать интерес аудитории к представляемой информаци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703d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Интерактивны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Позволяют пользователю осваивать материал самостоятельно, опытным и интерактивным путем, что усиливает эффективность обуч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703d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Самовыполняющиеся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Не столь мощные, как первые два типа. Но их тоже можно применить в целях обучения, чтобы в простой и интересной форме охватить ту или иную тему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7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Порядок создания презентаци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42472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Перед созданием презентации на компьютере важно определить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99"/>
              </a:spcBef>
              <a:buClr>
                <a:srgbClr val="703d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значение презентации, ее тему, примерное количество слайдов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99"/>
              </a:spcBef>
              <a:buClr>
                <a:srgbClr val="703d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ак представить информацию наиболее удачным образом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99"/>
              </a:spcBef>
              <a:buClr>
                <a:srgbClr val="703d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одержание слайдов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99"/>
              </a:spcBef>
              <a:buClr>
                <a:srgbClr val="703d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графическое оформление каждого слайд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Критерии оценки презентаци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Содержание презентации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аскрытие тем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дача материла (обоснованность разделения на слайды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личие и обоснованность графического оформления (фотографий, схем, рисунков, диаграмм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грамотность изложен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89308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Порядок создания презентаци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6407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личие интересной дополнительной информации по теме проект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сылки на источники информации (в т.ч. ресурсы Интернет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0504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формление презентаци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единство дизайна всей презентаци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боснованность применяемого дизай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единство стиля включаемых в презентацию рисунков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менение собственных (авторских) элементов оформлен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птимизация график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-52812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боснованное использование эффектов мультимедиа: графики, анимации, видео, зву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    Навигация: наличие оглавления, кнопок перемещения по слайдам или гиперссылок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.   Доклад на заданную тему с использованием презентаци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5T14:12:22Z</dcterms:created>
  <dc:creator>SamLab.ws</dc:creator>
  <dc:description/>
  <dc:language>en-US</dc:language>
  <cp:lastModifiedBy>SamLab.ws</cp:lastModifiedBy>
  <dcterms:modified xsi:type="dcterms:W3CDTF">2009-04-05T15:14:59Z</dcterms:modified>
  <cp:revision>2</cp:revision>
  <dc:subject/>
  <dc:title>Презентация PowerPoint </dc:title>
</cp:coreProperties>
</file>