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7EF9-D2A7-47D5-9B1D-A8F959E8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019E-C372-4BA2-87CA-51039997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50AF-5B2B-439C-BEB2-3F875469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61E3-ECF3-4AE3-A7A4-7775DB45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D4C5-D2DB-41A7-9A80-745C1FA8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FD59-3025-4EA7-B41C-9A4CFC35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6B26-9E08-4A9E-B9BC-E0CDB569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5C09-4D2B-428D-82F2-32FCB6F1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FF6B-B0CD-4FBF-A8FA-5768F7D6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543E-A371-44DD-BDEC-215E3281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8FD4-B930-42EC-931A-572FD72C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DFFB-DCB1-473C-8321-F5BD3738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4104-E5D2-44E4-8BD2-6A879A21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AD29-0229-4BFE-BE03-685837C0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4B0C-C3CD-4C4E-BBDB-B6D80FEB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7366-0970-46A4-A302-ED6A3A0C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8A44-8A5C-4FB4-A4EE-2DD0A25A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7BFB5-0500-4240-BD1E-36A47E09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6DBA0-EB27-497B-BA63-FCC97708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960CC-E21E-47D3-B640-19FEA9D5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A91BF-FAD2-4624-BE18-1D574483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944CD-3BEF-4576-B565-918DB608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51A5-1211-4726-AC31-9591B807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F247E-4405-4AAC-ABF9-AD65B312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4FEEE-86A9-4B35-A958-E1DC06A6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BC874-88FF-4364-96E5-B91DB16B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7CD7A-0751-4837-9202-3B0DAD08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34B6D-BA7B-4437-92B1-BD452FA7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1891E-5C7C-4C5B-AADC-07497230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193AD-63C2-46FC-ADF4-765069E5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3ADA9-203F-4F33-B690-BB187CFC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1A4FC-532A-49A6-BBF8-062EB6CB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9ACC7-0088-444F-A9CF-52DFE6D5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9300-7B3E-4832-84C8-1938930A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D5B39-33B4-4148-A897-D3FB5319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A0F42-99B8-4505-99D7-1966B610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24CD0-B37C-4DFD-A4DC-519CBB08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6E62E-2A59-4385-9928-7C78973B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04C76-9E7E-411A-9B61-4070B340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38E0B-77D7-4F96-87D0-0881C2E4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262B8-E20A-4BFC-BD10-9FD82C6A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AD272-B122-43F4-8414-BE3BB37B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373B6-EE10-4AF7-BC1A-CC297A7B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689EB-1F44-44E9-B417-E1B36743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4ED5-8394-414F-94A0-1C162428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456E2-6CB5-4B9A-AB65-45A10D79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743A2-55B4-4FE6-9572-1066F020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DD381-0954-4192-A09A-045AD3C1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B47E3-AA02-4956-960C-423BA7B6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70F2F-F792-4804-AB34-BA6DFBCD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6DB9F-6155-4B2C-9562-52241B35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26014-F570-425A-8075-01983626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6C649-AA0D-47EF-B8ED-9E02A4B3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B79BB-B50B-4C99-83C1-6B261755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3FFCA-0AD2-459B-891F-50A8A4F1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D5A5-52D5-41FD-AB8F-2ECE6909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DF380-617C-455F-AE3B-D082AC44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2F8A1-15BE-4B7E-A606-C23C2AA6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045B6-9D65-4627-B0B2-11607671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7DF12-5E3B-4F3E-A06A-41E20E42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CF4B9-3CF6-495E-A74C-C7148D75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6630D-6005-4CB7-B583-19A0DBBF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16A28-B97C-4825-AA2B-AF856041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3A58E-5B4A-4B40-AC8E-756C84C3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8A446-4691-46E1-A718-BBBBDE68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0799C-47F7-4D94-8433-EF56523B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D5F4-CBA4-4C57-9F58-E721404F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00CC0-2B4F-4CBA-9587-742757A6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1C1ED-2124-43EF-A271-640883D4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77C10-FB49-4E42-A367-FD62EB37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CDC23-C95D-4891-91F6-6B9247C2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3986A-D57F-46B8-9E8B-EEF93954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547D3-9781-4F8E-8957-84891730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BDA56-05E3-4E6A-98A6-6D735A12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A35B8-DF57-4AF9-B09A-E994E31B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EBBDB-EB6F-4894-AC65-05B5AF53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45054-4C51-45B0-BA48-9E5FE7F6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E807-6497-46F6-826C-D4EA82D9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1B4C9-2CAC-4181-BF68-6DDFA7FB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5777F-DFF5-4DF3-A143-4809D016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90C44-2503-4A82-9072-6A78D752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6D381-6B7F-4B72-A627-0DC60C7B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1C66C-C818-437D-B7CF-7557469F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E5C8D-616D-458D-A6EE-71484716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73248-5EEC-4B9C-AC20-6A232625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CD190-ACD7-4954-940D-D9639EF1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F2E15-D159-445D-A90F-EAD5E972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15EA4-5830-4C65-BA21-B9F7AA89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5EA7-23A6-4C00-9585-A3184FBF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FC7A4-57C9-41EC-8B21-905ABF34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78024-F53E-474F-8B77-DB3CEEB5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907B2-917A-49E7-A5FF-8C704587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2F2F8-B93B-4FF2-921B-64E34E87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B1571-7AFA-4E0C-9034-D16E6260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72231-4AB7-4D7F-AE07-B3099E53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C5F19-7153-4087-B530-C4E81C9C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9624-134C-421F-8BC5-CB6BD2ED1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95DD-27BA-4EE3-8AF0-A69B6BD43FD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6B63-23AD-4B8D-82A5-BFC8C9384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560A-7751-4018-902E-032D15B5F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6E70-ECE3-43B1-9480-6358FE7D1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5C8E-789E-4DFB-9D5E-228B6C300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AD28-26CA-47A9-9F5E-D8411345F4B8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C843-9A51-49DD-B592-34CD43B5912F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603360" y="1974960"/>
            <a:ext cx="8412120" cy="1481040"/>
          </a:xfrm>
          <a:prstGeom prst="rect">
            <a:avLst/>
          </a:prstGeom>
          <a:ln w="0">
            <a:noFill/>
          </a:ln>
        </p:spPr>
      </p:pic>
      <p:pic>
        <p:nvPicPr>
          <p:cNvPr id="346" name="Черно-белые Дни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Фигура, имеющая форму буквы L 4"/>
          <p:cNvSpPr/>
          <p:nvPr/>
        </p:nvSpPr>
        <p:spPr>
          <a:xfrm>
            <a:off x="1143000" y="1905120"/>
            <a:ext cx="914400" cy="914400"/>
          </a:xfrm>
          <a:prstGeom prst="pie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Прямая соединительная линия 10"/>
          <p:cNvSpPr/>
          <p:nvPr/>
        </p:nvSpPr>
        <p:spPr>
          <a:xfrm flipH="1">
            <a:off x="988560" y="1677960"/>
            <a:ext cx="3240" cy="4191120"/>
          </a:xfrm>
          <a:prstGeom prst="line">
            <a:avLst/>
          </a:prstGeom>
          <a:ln w="9360">
            <a:solidFill>
              <a:srgbClr val="a5b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Прямая соединительная линия 19"/>
          <p:cNvSpPr/>
          <p:nvPr/>
        </p:nvSpPr>
        <p:spPr>
          <a:xfrm flipV="1">
            <a:off x="8456760" y="3049560"/>
            <a:ext cx="2880" cy="2743200"/>
          </a:xfrm>
          <a:prstGeom prst="line">
            <a:avLst/>
          </a:prstGeom>
          <a:ln w="9360">
            <a:solidFill>
              <a:srgbClr val="a5b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Прямая соединительная линия 23"/>
          <p:cNvSpPr/>
          <p:nvPr/>
        </p:nvSpPr>
        <p:spPr>
          <a:xfrm flipH="1">
            <a:off x="8458200" y="1676520"/>
            <a:ext cx="1440" cy="915840"/>
          </a:xfrm>
          <a:prstGeom prst="line">
            <a:avLst/>
          </a:prstGeom>
          <a:ln w="9360">
            <a:solidFill>
              <a:srgbClr val="a5b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Прямая соединительная линия 25"/>
          <p:cNvSpPr/>
          <p:nvPr/>
        </p:nvSpPr>
        <p:spPr>
          <a:xfrm>
            <a:off x="8457480" y="2590920"/>
            <a:ext cx="304920" cy="380880"/>
          </a:xfrm>
          <a:prstGeom prst="line">
            <a:avLst/>
          </a:prstGeom>
          <a:ln w="9360">
            <a:solidFill>
              <a:srgbClr val="a5b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Прямоугольник 27"/>
          <p:cNvSpPr/>
          <p:nvPr/>
        </p:nvSpPr>
        <p:spPr>
          <a:xfrm>
            <a:off x="1752480" y="2057400"/>
            <a:ext cx="228600" cy="152280"/>
          </a:xfrm>
          <a:prstGeom prst="rect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Прямоугольник 28"/>
          <p:cNvSpPr/>
          <p:nvPr/>
        </p:nvSpPr>
        <p:spPr>
          <a:xfrm>
            <a:off x="2895480" y="1752480"/>
            <a:ext cx="3200400" cy="76320"/>
          </a:xfrm>
          <a:prstGeom prst="rect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56" name="Прямая со стрелкой 30"/>
          <p:cNvCxnSpPr/>
          <p:nvPr/>
        </p:nvCxnSpPr>
        <p:spPr>
          <a:xfrm>
            <a:off x="6171840" y="1752120"/>
            <a:ext cx="2515320" cy="2520"/>
          </a:xfrm>
          <a:prstGeom prst="straightConnector1">
            <a:avLst/>
          </a:prstGeom>
          <a:ln w="9360">
            <a:solidFill>
              <a:srgbClr val="a5b98e"/>
            </a:solidFill>
            <a:miter/>
            <a:tailEnd len="med" type="arrow" w="med"/>
          </a:ln>
        </p:spPr>
      </p:cxnSp>
      <p:sp>
        <p:nvSpPr>
          <p:cNvPr id="357" name="TextBox 31"/>
          <p:cNvSpPr/>
          <p:nvPr/>
        </p:nvSpPr>
        <p:spPr>
          <a:xfrm>
            <a:off x="8846280" y="1676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58" name="Прямая со стрелкой 33"/>
          <p:cNvCxnSpPr/>
          <p:nvPr/>
        </p:nvCxnSpPr>
        <p:spPr>
          <a:xfrm flipH="1">
            <a:off x="761760" y="2057400"/>
            <a:ext cx="305280" cy="76680"/>
          </a:xfrm>
          <a:prstGeom prst="straightConnector1">
            <a:avLst/>
          </a:prstGeom>
          <a:ln w="9360">
            <a:solidFill>
              <a:srgbClr val="a5b98e"/>
            </a:solidFill>
            <a:miter/>
            <a:tailEnd len="med" type="arrow" w="med"/>
          </a:ln>
        </p:spPr>
      </p:cxnSp>
      <p:sp>
        <p:nvSpPr>
          <p:cNvPr id="359" name="Блок-схема: процесс 35"/>
          <p:cNvSpPr/>
          <p:nvPr/>
        </p:nvSpPr>
        <p:spPr>
          <a:xfrm>
            <a:off x="1219320" y="2895480"/>
            <a:ext cx="228600" cy="83844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Блок-схема: процесс 36"/>
          <p:cNvSpPr/>
          <p:nvPr/>
        </p:nvSpPr>
        <p:spPr>
          <a:xfrm>
            <a:off x="1219320" y="3733920"/>
            <a:ext cx="228600" cy="8380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Блок-схема: процесс 37"/>
          <p:cNvSpPr/>
          <p:nvPr/>
        </p:nvSpPr>
        <p:spPr>
          <a:xfrm>
            <a:off x="1219320" y="4648320"/>
            <a:ext cx="228600" cy="8380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Блок-схема: процесс 45"/>
          <p:cNvSpPr/>
          <p:nvPr/>
        </p:nvSpPr>
        <p:spPr>
          <a:xfrm>
            <a:off x="7924680" y="4648320"/>
            <a:ext cx="228600" cy="8380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Блок-схема: процесс 47"/>
          <p:cNvSpPr/>
          <p:nvPr/>
        </p:nvSpPr>
        <p:spPr>
          <a:xfrm>
            <a:off x="7924680" y="3809880"/>
            <a:ext cx="228600" cy="83844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Блок-схема: процесс 48"/>
          <p:cNvSpPr/>
          <p:nvPr/>
        </p:nvSpPr>
        <p:spPr>
          <a:xfrm>
            <a:off x="1447920" y="5486400"/>
            <a:ext cx="914400" cy="22860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Блок-схема: процесс 49"/>
          <p:cNvSpPr/>
          <p:nvPr/>
        </p:nvSpPr>
        <p:spPr>
          <a:xfrm>
            <a:off x="3276720" y="5486400"/>
            <a:ext cx="914400" cy="22860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Блок-схема: процесс 50"/>
          <p:cNvSpPr/>
          <p:nvPr/>
        </p:nvSpPr>
        <p:spPr>
          <a:xfrm>
            <a:off x="4191120" y="5486400"/>
            <a:ext cx="914400" cy="22860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Блок-схема: процесс 51"/>
          <p:cNvSpPr/>
          <p:nvPr/>
        </p:nvSpPr>
        <p:spPr>
          <a:xfrm>
            <a:off x="5105520" y="5486400"/>
            <a:ext cx="914400" cy="22860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Блок-схема: процесс 52"/>
          <p:cNvSpPr/>
          <p:nvPr/>
        </p:nvSpPr>
        <p:spPr>
          <a:xfrm>
            <a:off x="2362320" y="5486400"/>
            <a:ext cx="914400" cy="22860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Блок-схема: процесс 53"/>
          <p:cNvSpPr/>
          <p:nvPr/>
        </p:nvSpPr>
        <p:spPr>
          <a:xfrm>
            <a:off x="6019920" y="5486400"/>
            <a:ext cx="914400" cy="22860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Блок-схема: процесс 54"/>
          <p:cNvSpPr/>
          <p:nvPr/>
        </p:nvSpPr>
        <p:spPr>
          <a:xfrm>
            <a:off x="6934320" y="5486400"/>
            <a:ext cx="914400" cy="22860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Прямая соединительная линия 56"/>
          <p:cNvSpPr/>
          <p:nvPr/>
        </p:nvSpPr>
        <p:spPr>
          <a:xfrm>
            <a:off x="990720" y="5867280"/>
            <a:ext cx="7467480" cy="1800"/>
          </a:xfrm>
          <a:prstGeom prst="line">
            <a:avLst/>
          </a:prstGeom>
          <a:ln w="9360">
            <a:solidFill>
              <a:srgbClr val="a5b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Прямая соединительная линия 58"/>
          <p:cNvSpPr/>
          <p:nvPr/>
        </p:nvSpPr>
        <p:spPr>
          <a:xfrm>
            <a:off x="990720" y="1676520"/>
            <a:ext cx="7467480" cy="1440"/>
          </a:xfrm>
          <a:prstGeom prst="line">
            <a:avLst/>
          </a:prstGeom>
          <a:ln w="9360">
            <a:solidFill>
              <a:srgbClr val="a5b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Блок-схема: процесс 61"/>
          <p:cNvSpPr/>
          <p:nvPr/>
        </p:nvSpPr>
        <p:spPr>
          <a:xfrm>
            <a:off x="1523880" y="3200400"/>
            <a:ext cx="15264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Блок-схема: процесс 62"/>
          <p:cNvSpPr/>
          <p:nvPr/>
        </p:nvSpPr>
        <p:spPr>
          <a:xfrm>
            <a:off x="1523880" y="4038480"/>
            <a:ext cx="152640" cy="15264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Блок-схема: процесс 63"/>
          <p:cNvSpPr/>
          <p:nvPr/>
        </p:nvSpPr>
        <p:spPr>
          <a:xfrm>
            <a:off x="1523880" y="4876920"/>
            <a:ext cx="15264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Блок-схема: процесс 64"/>
          <p:cNvSpPr/>
          <p:nvPr/>
        </p:nvSpPr>
        <p:spPr>
          <a:xfrm>
            <a:off x="1752480" y="5257800"/>
            <a:ext cx="15264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Блок-схема: процесс 65"/>
          <p:cNvSpPr/>
          <p:nvPr/>
        </p:nvSpPr>
        <p:spPr>
          <a:xfrm>
            <a:off x="2590920" y="5257800"/>
            <a:ext cx="15228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Блок-схема: процесс 66"/>
          <p:cNvSpPr/>
          <p:nvPr/>
        </p:nvSpPr>
        <p:spPr>
          <a:xfrm>
            <a:off x="3581280" y="5257800"/>
            <a:ext cx="15264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Блок-схема: процесс 67"/>
          <p:cNvSpPr/>
          <p:nvPr/>
        </p:nvSpPr>
        <p:spPr>
          <a:xfrm>
            <a:off x="4495680" y="5257800"/>
            <a:ext cx="15264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Блок-схема: процесс 68"/>
          <p:cNvSpPr/>
          <p:nvPr/>
        </p:nvSpPr>
        <p:spPr>
          <a:xfrm>
            <a:off x="5334120" y="5257800"/>
            <a:ext cx="15228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Блок-схема: процесс 69"/>
          <p:cNvSpPr/>
          <p:nvPr/>
        </p:nvSpPr>
        <p:spPr>
          <a:xfrm>
            <a:off x="6248520" y="5257800"/>
            <a:ext cx="15228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Блок-схема: процесс 70"/>
          <p:cNvSpPr/>
          <p:nvPr/>
        </p:nvSpPr>
        <p:spPr>
          <a:xfrm>
            <a:off x="7162920" y="5257800"/>
            <a:ext cx="15228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Блок-схема: процесс 71"/>
          <p:cNvSpPr/>
          <p:nvPr/>
        </p:nvSpPr>
        <p:spPr>
          <a:xfrm>
            <a:off x="7696080" y="5029200"/>
            <a:ext cx="15264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Блок-схема: процесс 72"/>
          <p:cNvSpPr/>
          <p:nvPr/>
        </p:nvSpPr>
        <p:spPr>
          <a:xfrm>
            <a:off x="7696080" y="4191120"/>
            <a:ext cx="15264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Box 77"/>
          <p:cNvSpPr/>
          <p:nvPr/>
        </p:nvSpPr>
        <p:spPr>
          <a:xfrm>
            <a:off x="459360" y="34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6" name="Прямая со стрелкой 79"/>
          <p:cNvCxnSpPr>
            <a:endCxn id="385" idx="3"/>
          </p:cNvCxnSpPr>
          <p:nvPr/>
        </p:nvCxnSpPr>
        <p:spPr>
          <a:xfrm flipH="1">
            <a:off x="756720" y="3505320"/>
            <a:ext cx="386640" cy="108720"/>
          </a:xfrm>
          <a:prstGeom prst="straightConnector1">
            <a:avLst/>
          </a:prstGeom>
          <a:ln w="9360">
            <a:solidFill>
              <a:srgbClr val="a5b98e"/>
            </a:solidFill>
            <a:miter/>
            <a:tailEnd len="med" type="arrow" w="med"/>
          </a:ln>
        </p:spPr>
      </p:cxnSp>
      <p:sp>
        <p:nvSpPr>
          <p:cNvPr id="387" name="TextBox 80"/>
          <p:cNvSpPr/>
          <p:nvPr/>
        </p:nvSpPr>
        <p:spPr>
          <a:xfrm>
            <a:off x="8534520" y="3352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8" name="Соединительная линия уступом 82"/>
          <p:cNvCxnSpPr>
            <a:endCxn id="384" idx="1"/>
          </p:cNvCxnSpPr>
          <p:nvPr/>
        </p:nvCxnSpPr>
        <p:spPr>
          <a:xfrm flipV="1" rot="10800000">
            <a:off x="7695360" y="3504960"/>
            <a:ext cx="915120" cy="762480"/>
          </a:xfrm>
          <a:prstGeom prst="bentConnector3">
            <a:avLst>
              <a:gd name="adj1" fmla="val 124990"/>
            </a:avLst>
          </a:prstGeom>
          <a:ln w="9360">
            <a:solidFill>
              <a:srgbClr val="a5b98e"/>
            </a:solidFill>
            <a:miter/>
            <a:tailEnd len="med" type="arrow" w="med"/>
          </a:ln>
        </p:spPr>
      </p:cxnSp>
      <p:sp>
        <p:nvSpPr>
          <p:cNvPr id="389" name="TextBox 90"/>
          <p:cNvSpPr/>
          <p:nvPr/>
        </p:nvSpPr>
        <p:spPr>
          <a:xfrm>
            <a:off x="0" y="6248520"/>
            <a:ext cx="93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-стол учителя, 2-доска, 3-парта, 4-стул ученика, 5-стул учителя,  6-дверь в кабин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TextBox 93"/>
          <p:cNvSpPr/>
          <p:nvPr/>
        </p:nvSpPr>
        <p:spPr>
          <a:xfrm>
            <a:off x="1905120" y="1523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91" name="Прямая со стрелкой 95"/>
          <p:cNvCxnSpPr>
            <a:endCxn id="354" idx="0"/>
          </p:cNvCxnSpPr>
          <p:nvPr/>
        </p:nvCxnSpPr>
        <p:spPr>
          <a:xfrm flipH="1">
            <a:off x="1866240" y="1828440"/>
            <a:ext cx="114840" cy="229320"/>
          </a:xfrm>
          <a:prstGeom prst="straightConnector1">
            <a:avLst/>
          </a:prstGeom>
          <a:ln w="9360">
            <a:solidFill>
              <a:srgbClr val="a5b98e"/>
            </a:solidFill>
            <a:miter/>
            <a:tailEnd len="med" type="arrow" w="med"/>
          </a:ln>
        </p:spPr>
      </p:cxnSp>
      <p:sp>
        <p:nvSpPr>
          <p:cNvPr id="392" name="TextBox 96"/>
          <p:cNvSpPr/>
          <p:nvPr/>
        </p:nvSpPr>
        <p:spPr>
          <a:xfrm>
            <a:off x="8763120" y="22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93" name="Прямая со стрелкой 98"/>
          <p:cNvCxnSpPr/>
          <p:nvPr/>
        </p:nvCxnSpPr>
        <p:spPr>
          <a:xfrm flipH="1">
            <a:off x="8534160" y="2513520"/>
            <a:ext cx="305280" cy="229320"/>
          </a:xfrm>
          <a:prstGeom prst="straightConnector1">
            <a:avLst/>
          </a:prstGeom>
          <a:ln w="9360">
            <a:solidFill>
              <a:srgbClr val="a5b98e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К работе в кабинете информатики допускаются лица, прошедшие медицинский осмотр и полный инструктаж.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Работать можно только на исправных компьютерах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Знать правила эксплуатации используемого оборудова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Необходимо знать порядок правильного включения и выключения оборудова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Перед включением общего электропитания нужно проверить исходное положение всех выключателей и выключить их, если они включены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Не допускать разборку аппаратуры, как во время работы, так и после нее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Не включать компьютеры без разрешения учител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После включения компьютера проверить стабильность и четкость изображения на экране монитора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72440" cy="14079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37872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для учащихся 1-х классов 10 минут;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для учащихся 2-5-х классов 15 минут;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для учащихся 6-7-х классов 20 минут;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для учащихся 8-9-х классов 25 минут;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для учащихся 10-11-х классов - при двух уроках информатики подряд, на первом - 30 мин., на втором - 20 мин., после чего на перемене выполнять специальные упражнения, снимающих зрительное утомление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5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304560"/>
            <a:ext cx="82296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В случае замыкания: появления искр, запаха гари, отключить электропитание и сообщить об этом учителю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При плохом самочувствии, появлении головной боли, головокружения и др. прекратить работу и сообщить об этом учителю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Запрещается трогать разъемы и соединительные кабели аппаратуры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Запрещается использовать воду и пенные огнетушители для тушения загоревшейся аппаратуры, так как эти средства являются проводниками тока и, следовательно, могут привести к короткому замыканию и к поражению током человека, производящего тушение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При возникновении пожара его надо тушить с помощью первичных средств, к которым относятся: песок, противопожарная ткань, ручные химические огнетушители (воздушно-пенные, углекислотные, бромэтиловые, порошковые) и противопожарный инвентарь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37160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мещение кабинета информатики должно удовлетворять следующим требованиям: на каждый компьютер - 6 кв. м. и 6 куб. м. общей площади кабинета. Размещение компьютеров задними стенками к глухим стенкам кабинета, по его периметру. Кабинет должен иметь окна на север или северо-запад , а также систему кондиционирования или возможность проветривания для обмена свежего воздуха. Температура воздуха в кабинете должна находиться в пределах 19...21°С. В кабинете каждый день необходимо проводить влажную уборку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spcBef>
                <a:spcPts val="4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омпьютерная техника должна размещаться на специальных столах, обеспечивающих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spcBef>
                <a:spcPts val="4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гол наклона и подставку для монитора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spcBef>
                <a:spcPts val="4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дставку для клавиатуры на уровне, комфортном для рук работающих учеников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spcBef>
                <a:spcPts val="4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ширину, достаточную для размещения всех устройств компьютера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spcBef>
                <a:spcPts val="4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остаточное расстояние (не менее 60 см.) от глаз учащихся до поверхности монитора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spcBef>
                <a:spcPts val="4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тулья, на которых должны работать учащиеся должны быть следующими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spcBef>
                <a:spcPts val="4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егулируемые по высоте сидения (учитывать рост учащихся)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spcBef>
                <a:spcPts val="4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ворачиваться (регуляция положения)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spcBef>
                <a:spcPts val="4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егулирующими по высоте спинки (регулируемая по роста опора для снятия нагрузки с поясничного отдела работающего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52000" cy="14079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Строго выполнять правила техники безопасности и санитарно-гигиенические нормы при работе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Выполнять команды учителя, во время возникновения чрезвычайных ситуаций действовать по правилам, изложенным выше и обязательно обращаться к учителю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Не бегать, не прыгать, не драться, находясь в данном помещении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Приходить в кабинет всегда только в сменной обуви и без верхней одежды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Работать только чистыми сухими руками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Не размещать ни каких предметов на устройствах компьютера (мониторе, системном блоке, клавиатуре, мыши и т.д.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Не есть в кабинете, в том числе и за рабочими местами у компьютеров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За компьютером выполнять только те задания, которые предложены учителем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Не устанавливать никаких конфигураций в компьютере без разрешения учителя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Не пользоваться своими дискетами и компакт-дисками, без разрешения учителя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Закрывать все компьютерные окна и программы перед завершением своей работы, выключением компьютер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5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иман</cp:lastModifiedBy>
  <dcterms:modified xsi:type="dcterms:W3CDTF">2009-02-13T03:34:57Z</dcterms:modified>
  <cp:revision>5</cp:revision>
  <dc:subject/>
  <dc:title>Кабинет информатики</dc:title>
</cp:coreProperties>
</file>