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41BE-F805-4975-B518-3C1ABD78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B703-C94C-4009-9A72-A491B115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F6F3-0259-4F62-A9A9-2263B148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FF49-A6FB-4C0E-A572-0766647E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3CFD-C48A-478F-8382-19097D61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F120-6CB5-40AA-ADEB-C10EC252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E91B-514A-4CE1-8039-F1015DB1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910A-8448-4BC3-AF58-8AD727C8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04C1-7991-47C0-A8DB-BE978803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D02C-185B-4DFC-A51B-E4B69FEE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F446-D808-44A5-B90B-03F5B849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85B8-92C0-4961-B5B9-0160D78C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7F32-740E-4B5E-9426-FEF259F7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7931-9913-4B81-9045-B0459DA7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7CBD-D210-45C8-B44E-43CBEAD8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B005-9B7F-4099-9322-3A4F978B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24EA-DCD3-410B-BB3C-87ED45DE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012-7A09-4F14-9151-BC562C3F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BEB-6933-4351-94E7-B2C16259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52E4-607E-484E-92AD-FE27854D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30D-7135-4FAC-8492-5697DFA0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990F-11B1-406C-8D59-CE07F362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73EA-7B11-47A9-BC62-451D2E54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59FF-3AC7-44AF-8763-CAB0CE0E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2a4a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FEF6-B0D9-41D9-B120-4B4D5242811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2D52-8AA9-4C2A-AB38-3306207C9BF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116000" y="260280"/>
            <a:ext cx="676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дирование информ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Представление информации посредством какого-либо алфави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называется </a:t>
            </a:r>
            <a:r>
              <a:rPr b="1" lang="en-US" sz="1800" spc="-1" strike="noStrike">
                <a:solidFill>
                  <a:srgbClr val="333300"/>
                </a:solidFill>
                <a:latin typeface="Tahoma"/>
              </a:rPr>
              <a:t>кодирование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Одна и та же информация может быть представлена различны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способ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00"/>
                </a:solidFill>
                <a:latin typeface="Tahoma"/>
              </a:rPr>
              <a:t>Кодом  </a:t>
            </a: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называется правило преобразования одного наб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знаков в друг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От того, как представлена информация, на практике зависи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очень многое: 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Tahoma"/>
              </a:rPr>
              <a:t>способы хранения, приемы, передачи и обработ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Tahoma"/>
              </a:rPr>
              <a:t>информации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Процесс </a:t>
            </a:r>
            <a:r>
              <a:rPr b="1" lang="en-US" sz="1800" spc="-1" strike="noStrike">
                <a:solidFill>
                  <a:srgbClr val="333300"/>
                </a:solidFill>
                <a:latin typeface="Tahoma"/>
              </a:rPr>
              <a:t>кодирования</a:t>
            </a: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 (его также называют шифрование)инфор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мации непосредственно связан с процессом </a:t>
            </a:r>
            <a:r>
              <a:rPr b="1" lang="en-US" sz="1800" spc="-1" strike="noStrike">
                <a:solidFill>
                  <a:srgbClr val="333300"/>
                </a:solidFill>
                <a:latin typeface="Tahoma"/>
              </a:rPr>
              <a:t>декодир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(расшифрование) информац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Чем больше букв алфавита, тем проще устройство, для его расшифров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В технике большое значение имеет кодирование информации с помощь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азбуки Морзе, набор знаков телеграфного кода, двоичного кода </a:t>
            </a:r>
            <a:r>
              <a:rPr b="0" lang="en-US" sz="2000" spc="-1" strike="noStrike">
                <a:solidFill>
                  <a:srgbClr val="3333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 rot="1560000">
            <a:off x="7331040" y="1125360"/>
            <a:ext cx="1812960" cy="432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 rot="21119400">
            <a:off x="250920" y="836280"/>
            <a:ext cx="2043000" cy="676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780000" y="692280"/>
                <a:ext cx="12967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3</m:t>
                        </m:r>
                        <m:r>
                          <m:t xml:space="preserve">С</m:t>
                        </m:r>
                        <m:sSub>
                          <m:e>
                            <m:r>
                              <m:t xml:space="preserve">7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5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500"/>
                            </p:stCondLst>
                            <p:childTnLst>
                              <p:par>
                                <p:cTn id="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500"/>
                            </p:stCondLst>
                            <p:childTnLst>
                              <p:par>
                                <p:cTn id="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81471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Двоичный алфавит.</a:t>
            </a:r>
            <a:endParaRPr b="0" lang="en-US" sz="32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31256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Двоичный алфавит представлен двумя знаками- 0 и 1, или 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просто называют двоичными знаками. В английском языке двоичный зна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называют бит, сокращение от слова </a:t>
            </a: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binary digit</a:t>
            </a: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. И далее мы один зна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двоичного алфавита (0 и 1) будем  называть </a:t>
            </a:r>
            <a:r>
              <a:rPr b="1" lang="ru-RU" sz="1800" spc="-1" strike="noStrike">
                <a:solidFill>
                  <a:srgbClr val="333300"/>
                </a:solidFill>
                <a:latin typeface="Tahoma"/>
              </a:rPr>
              <a:t>бит</a:t>
            </a: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.</a:t>
            </a:r>
            <a:r>
              <a:rPr b="1" lang="ru-RU" sz="1800" spc="-1" strike="noStrike">
                <a:solidFill>
                  <a:srgbClr val="33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Кодирование с помощью двух знаков максимально упрощает конструкц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устройств хранения и передачи информации. Ведь для представ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информации в двоичной кодировке устройство должно уметь различ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два состоя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Как же можно представить знаковую информацию с помощью двоич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алфавита?</a:t>
            </a: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Два знака «0» и «1» дают нам возможность закодировать только четы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символа: 00, 01, 10, 11, но этого очень мало. Ведь чтобы представи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только слова русского языка, необходимо 33 символа. Поэтому бы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решено взять для кодировки сочетание из 8 бит, т.е из 8 двоичных зна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и ей дали специальное название </a:t>
            </a:r>
            <a:r>
              <a:rPr b="1" lang="ru-RU" sz="1800" spc="-1" strike="noStrike">
                <a:solidFill>
                  <a:srgbClr val="333300"/>
                </a:solidFill>
                <a:latin typeface="Tahoma"/>
              </a:rPr>
              <a:t>байт</a:t>
            </a: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16000" y="189000"/>
            <a:ext cx="676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дирование информаци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500"/>
                            </p:stCondLst>
                            <p:childTnLst>
                              <p:par>
                                <p:cTn id="1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Коды 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ASCII</a:t>
            </a:r>
            <a:endParaRPr b="0" lang="en-US" sz="32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333300"/>
                </a:solidFill>
                <a:latin typeface="Tahoma"/>
              </a:rPr>
              <a:t>В вычислительной техник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333300"/>
                </a:solidFill>
                <a:latin typeface="Tahoma"/>
              </a:rPr>
              <a:t>наиболее употребляемыми являются коды </a:t>
            </a:r>
            <a:r>
              <a:rPr b="0" lang="en-US" sz="1600" spc="-1" strike="noStrike">
                <a:solidFill>
                  <a:srgbClr val="333300"/>
                </a:solidFill>
                <a:latin typeface="Tahoma"/>
              </a:rPr>
              <a:t>ASCII</a:t>
            </a:r>
            <a:r>
              <a:rPr b="0" lang="ru-RU" sz="1600" spc="-1" strike="noStrike">
                <a:solidFill>
                  <a:srgbClr val="333300"/>
                </a:solidFill>
                <a:latin typeface="Tahoma"/>
              </a:rPr>
              <a:t>, чт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Tahoma"/>
              </a:rPr>
              <a:t>означает американский стандартный код обмена информацие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333300"/>
                </a:solidFill>
                <a:latin typeface="Tahoma"/>
              </a:rPr>
              <a:t>Кодировочная таблиц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50920" y="2205000"/>
                <a:ext cx="4363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2" name=""/>
          <p:cNvSpPr txBox="1"/>
          <p:nvPr/>
        </p:nvSpPr>
        <p:spPr>
          <a:xfrm>
            <a:off x="1116000" y="260280"/>
            <a:ext cx="676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дирование информ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836640"/>
                <a:ext cx="72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8000" y="3284640"/>
                <a:ext cx="5745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08000" y="4292640"/>
                <a:ext cx="755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22:23:10Z</dcterms:created>
  <dc:creator>Admin</dc:creator>
  <dc:description/>
  <dc:language>en-US</dc:language>
  <cp:lastModifiedBy>Admin</cp:lastModifiedBy>
  <dcterms:modified xsi:type="dcterms:W3CDTF">2009-03-05T23:24:07Z</dcterms:modified>
  <cp:revision>3</cp:revision>
  <dc:subject/>
  <dc:title>Слайд 1</dc:title>
</cp:coreProperties>
</file>