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56B-4138-42C0-8AB7-59A1818E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BF2-430E-4576-9EC0-486E43B7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AFA-CD59-4469-9D2C-88371AA6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C94-52C2-4307-A6F5-FBEA5E41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DC83-0811-453A-9F70-49212D69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6778-C041-462B-AAAC-CCF19A0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049-C8DE-433B-B58B-A43641C7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A5E-C5E3-41A5-8ECC-1837B14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2A2-E824-47FD-8A48-621B47DC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EF00-FACE-4646-9330-82682428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41E-FB1E-48F4-ABA9-ECDAAD6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623-F016-4F8E-9809-2D5978A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1A8E-2298-48F3-A00F-530281AA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9BC7-84A5-46E0-B623-D0CD5467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ADF1-99E6-48E7-A605-BEC0E4AD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8289-2B9C-47BC-BC60-95306B85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B60-256E-45BF-B57C-424B38BF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52C-922D-48B1-AAD3-7B3C22BB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53D-CA81-4883-80FF-2C85B68F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0E2-A1FE-4F08-A86F-8D48B4C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4DA-2129-44E0-B281-04346E5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3F1-6182-4398-919F-011EBB3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35D-0F39-4F69-9B44-B7ABC26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857-6A21-45CF-8F26-F3C1BB6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C238-1535-4904-A6C2-3FFD1BA572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DC2E-5C12-42BF-930D-2BB98CF7A0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900" spc="-1" strike="noStrike">
                <a:solidFill>
                  <a:srgbClr val="95934b"/>
                </a:solidFill>
                <a:latin typeface="Garamond"/>
              </a:rPr>
              <a:t>Шеннон энтропиясының мәні. Семантикалық ақпарат. Энтропия түсінігі және оның негізгі қасиеттері. Шартты энтропия.</a:t>
            </a:r>
            <a:endParaRPr b="0" lang="en-US" sz="39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16000" y="836640"/>
                <a:ext cx="67309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908000" y="5084640"/>
                <a:ext cx="4978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kk-KZ" sz="2800" spc="-1" strike="noStrike">
                <a:solidFill>
                  <a:srgbClr val="000000"/>
                </a:solidFill>
                <a:latin typeface="Tahoma"/>
              </a:rPr>
              <a:t>Дискретті кездейсоқ шаманың энтропиясы – бұл берілген дискретті кездейсоқ шама мәнін байланыс каналы арқылы жіберетін биттің орташа көлемінің минимум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kk-KZ" sz="2800" spc="-1" strike="noStrike">
                <a:solidFill>
                  <a:srgbClr val="000000"/>
                </a:solidFill>
                <a:latin typeface="Tahoma"/>
              </a:rPr>
              <a:t>Мысалды қарастырайық(бәйге). Бәйгеге ұтыс ықтималдылықтары бірдей 4 ат қатысады, яғни әрбір аттың ұту ықтималдылығы 1/4-ке тең. Ұтатын аттың номеріне тең Х дискретті кездейсоқ шамасын енгіземіз. Мұна НХ=2. Әрбір айналым сайын байланыс каналы арқылы ұтқан ат номері туралы 2 биттік ақпарат жіберу жеткілікті. Ат номерін келесідей кодтаймыз:1-00,2-01,3-10,4-11.Егер Х-тің берілген мәнін кодтайтын мәлімет ұзындығын қайтаратын L(X) функциясын енгізсе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kk-KZ" sz="3000" spc="-1" strike="noStrike">
                <a:solidFill>
                  <a:srgbClr val="000000"/>
                </a:solidFill>
                <a:latin typeface="Tahoma"/>
              </a:rPr>
              <a:t>L-ді формальды түрде  L(X)= len(code(X)) 2 функциясы арқылы анықтауға болады, мұндағы Х-тің әр мәніне  code(X) сәйкесінше биттік код қояды және бірмәнді болады, ал len кез келген нақты кодқа ұзындығын бит түрінде қайтарады. L- бұл дискретті кездейсоқ шамадағы функция, яғни бұл да дискретті кездейсоқ шама. Бұл мысалда  ML(X)=HX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дискретті кездейсоқ шамасы келесідей үлестірілген болсы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яғни, 1-ші номерлі ат-озық. Онд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895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705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95934b"/>
                </a:solidFill>
                <a:latin typeface="Tahoma"/>
              </a:rPr>
              <a:t>Семантикалық ақпарат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Бұл функциялардың кейбір қасиеттері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Егер                        - ақиқат, он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Егер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– ақиқат, онда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яғни s1 және  s2 тәуелсіздіг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124000" y="2060640"/>
                <a:ext cx="2376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971640" y="2781360"/>
                <a:ext cx="25207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971640" y="3213000"/>
                <a:ext cx="1944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292720" y="3645000"/>
                <a:ext cx="2232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900000" y="4508640"/>
                <a:ext cx="712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Тапсырмалар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ahoma"/>
              </a:rPr>
              <a:t>1-тапсы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 дискретті кездейсоқ шамасының энтропиясын және әрбір келтірілген кодтың орташа ұзындығын табыңда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ahoma"/>
              </a:rPr>
              <a:t>2-тапсы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 дискретті кездейсоқ шамасы екі тиынан түскен “гербтің” санына тең. Х-тің энтропиясын табыңдар. Х үшін минималды кодты ойлап табыңдар, оның орташы ұзындығын есептеңдер және оның минималдылығын түсіндіріңд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91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ahoma"/>
              </a:rPr>
              <a:t>3-тапсы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Х  дискретті кездейсоқ шамасы P(X=2n)=1/2n, n=1,2…үлестірілімімен берілген. Бұл дискретті кездейсоқ шаманың энтропиясын табыңдар. Х үшін минималды кодты ойлап табыңдар, оның орташы ұзындығын есептеңдер және оның минималдылығын түсіндіріңд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ahoma"/>
              </a:rPr>
              <a:t>4-тапсы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Х  дискретті кездейсоқ шамасының мәні кирилица әріптері екені анық. Х-ті кезектестікпен өлшегенде, қорытындымыз- “ТЕОРИЯИНФОРМАЦИИ”-ға тең болады. Осы қорытынды негізінде  дискретті кездейсоқ шаманың ықтималдылық үлестірімінің заңын құрастыру және Х үшін минималды орташа код ұзындығын бағала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2:38:26Z</dcterms:created>
  <dc:creator>SamLab.ws</dc:creator>
  <dc:description/>
  <dc:language>en-US</dc:language>
  <cp:lastModifiedBy>SamLab.ws</cp:lastModifiedBy>
  <dcterms:modified xsi:type="dcterms:W3CDTF">2010-06-03T23:04:48Z</dcterms:modified>
  <cp:revision>2</cp:revision>
  <dc:subject/>
  <dc:title>Шеннон энтропиясының мәні. Семантикалық ақпарат. Энтропия түсінігі және оның негізгі қасиеттері. Шартты энтропия.</dc:title>
</cp:coreProperties>
</file>