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F1C1-24C4-4034-AC31-56FA179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4187-897C-4D70-9645-236A11C9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EDDA-295B-4CA3-99E4-AEA994B4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0616-2032-4B89-8AF1-202CC1A2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7F8-CD1C-465A-8637-E816EF21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9A89-86D4-4C93-9D43-FC85C78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5B4-7BB3-4606-86E3-5DAD77D7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A7D7-07D3-4F09-BBBE-0E9A23A8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3236-8D8B-47E9-8992-F0C9ABDE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9177-B296-4EBD-979B-CC6F83B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93B0-C4DC-41C4-8ECA-F1770AC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7BE0-2350-4764-8E86-6D9B333A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063-673A-4343-BAA6-54B2DF0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B19-2455-4621-9D90-2E67906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399-754A-4C1B-AAB6-EC998A2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20DD-7511-4EAD-A9DE-298532CC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2DE2-649A-42BE-AEE2-8AFEC21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2BD7-2A26-4624-8ADE-BFB9AB07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2367-9204-4362-8307-4A23F69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FF19-4245-4CB7-BBD8-531B4E9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489E-D10C-42E7-9849-3CCBC49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9958-8DB4-4692-8457-C565782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D421-7AEA-4774-9AD0-000AD1E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8C1E-A436-4546-9723-40990F2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E78A-2B43-47ED-B62E-CFE4E60BB7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26C6-2DE0-4630-867A-2CAB3659D2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72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1920" y="3789000"/>
            <a:ext cx="8451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700" spc="-1" strike="noStrike">
                <a:solidFill>
                  <a:srgbClr val="ffffff"/>
                </a:solidFill>
                <a:latin typeface="Arial"/>
              </a:rPr>
              <a:t>Жұмыстың мақсаты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виды информ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теорему о выборк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Рассмотреть использование теоремы на практи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Упражн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458040" y="1643040"/>
            <a:ext cx="2685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8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74640"/>
            <a:ext cx="9144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Ақпарат екі түрде, яғни :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дискретті (цифрлы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және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үздіксіз(аналогтық)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болад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  кейбір шаманың кезектескен нақты  мәні арқылы, ал үздіксіз – кейбір шаманың өзгеруінің үздіксіз процесі арқылы сипатталады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ты кез келген цифрлы индикатордан, яғни электорнды сағаттан, есептеуіш құрылығысынан және т.б. алуға бола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Үздіксіз ақпаратты атмосфералық қысымды немесе автокөліктің жылдамдығын  көрсететін құралдар береді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 ақпарат- адаммен жұмыс істе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ыңғайлы, бірақ үздіксіз ақпарат тәжірибелі жұмыст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 кездеседі, сондықтан үздіксіз ақпара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ке немесе керісінше аударуды білу керек. Модем осындай аударуға арналған құрылғы бол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саналады, ол компьютерден цифрлық деректер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ыбысқа және  электормагниттік тербеліске ауда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немесе керісін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Үздіксіз ақпаратты дискреттіге аударғанда, үздіксіз шаманың мәнін анықтайтын периодты анықтайтын 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искреттеу</a:t>
            </a:r>
            <a:r>
              <a:rPr b="0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жиілігі</a:t>
            </a:r>
            <a:r>
              <a:rPr b="0" i="1" lang="kk-K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өте қажет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5003640" y="1557360"/>
                <a:ext cx="1584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82292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564000" y="26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ығу 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5643720" cy="129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8"/>
          <p:cNvSpPr/>
          <p:nvPr/>
        </p:nvSpPr>
        <p:spPr>
          <a:xfrm>
            <a:off x="3635280" y="472428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искретті сиг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Таңдау туралы теор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1483920"/>
            <a:ext cx="8589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ез келген үздіксіз шама, гормоника деп аталат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ункциясымен анықталаты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амплитуд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лік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уақыт жә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аз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бір-бірімен қабаттасқан толқындық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ынымен анық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Таңдау туралы теоремада дискреттеу нақ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бол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үшін оның жиілігі дискреттеу шамаға ене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гармоника жиілігінен 2 есе үлкен болуы керек  д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айтылғ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07880" y="1989000"/>
                <a:ext cx="177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050920" y="256536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6084720" y="2565360"/>
                <a:ext cx="270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теор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ұл теореманың қолдануының мысалы ретінде дыбысты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ақпаратты цифрлы түрде сақталатын лазерлік компак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искілерді айтуға болады. Дискреттеу жиілігі жоғ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олған сайын, дыбыстың шығуы нақтырақ болады жә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оны бір дискіге жазуға болады, бірақ адам 20 КГц – 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ейінгі жиіліктегі дыбыстарды айыра алатындықтан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ыбыстарды үлкен жиілікпен дәл жазудың пайдасы жо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Таңдау туралы теоремаға сәйкес дискреттеу жиілігі 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КГц – тен аз болмауы керек(өнеркәсіптік стандартқ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сәйкес компакт-дискіде 44,1 КГц жиілік қолданылад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Тапсырма</a:t>
            </a: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ДАТ цифрлы магнитофонның дискреттеу жиілігі – 48КГц.  Мұндай магнитофонда нақты дыбыс толқынының максимальды жиілігі қандай бола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6:42:07Z</dcterms:created>
  <dc:creator>SamLab.ws</dc:creator>
  <dc:description/>
  <dc:language>en-US</dc:language>
  <cp:lastModifiedBy>SamLab.ws</cp:lastModifiedBy>
  <dcterms:modified xsi:type="dcterms:W3CDTF">2010-06-03T22:12:21Z</dcterms:modified>
  <cp:revision>3</cp:revision>
  <dc:subject/>
  <dc:title>Ақпарат түрлері</dc:title>
</cp:coreProperties>
</file>