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655A-5316-4329-BC26-49DAFF87E7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3CE5-9EBE-4D40-B437-34B2E1B43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08B1-9EC7-4CFB-AAD3-B2720E5D09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495D-1269-4AEF-9228-D3B07243F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AB93-E811-474B-8A67-37CC42720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933F-FCC7-430C-8E2E-916CBE75A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A44D-3C33-4B4F-BECB-39BC9BC005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359C-78BB-4AFF-9ECE-F1C8C40D3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E833-60B1-4800-BF5F-753156DE0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EA75-D674-4408-9FB4-18AAA1072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AE47-18DA-45D8-ACC6-EED29AE94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Т. Ізтілеу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2BA-DCEA-48F8-8539-28A1FFC1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027-02CE-4880-9C57-2B8F54BA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2E8-810B-4D7E-8F68-639B8B86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1C1-744A-4AC8-8772-FCA71FED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927-E3A9-447D-8C6A-D4F67686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C33-1542-43D2-A934-1DC8B4DE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BC7-5F14-45B1-9402-08DA9DB1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0E2-3D65-4CD5-8B5D-D0873A70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507-16F5-48E3-8058-59BE9935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5E2-4CD7-4FA0-B4CE-A08707B7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5DE-5768-4F03-A0DE-7C76410F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C7C-AB67-4EB3-B3B9-80BA347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53C6-4411-4400-AFFF-44381D407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lowergraphic1128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2"/>
          <p:cNvSpPr txBox="1"/>
          <p:nvPr/>
        </p:nvSpPr>
        <p:spPr>
          <a:xfrm>
            <a:off x="539640" y="189000"/>
            <a:ext cx="784872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басы және жаста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13" descr="happy%20family"/>
          <p:cNvPicPr/>
          <p:nvPr/>
        </p:nvPicPr>
        <p:blipFill>
          <a:blip r:embed="rId2"/>
          <a:stretch/>
        </p:blipFill>
        <p:spPr>
          <a:xfrm>
            <a:off x="179280" y="1773360"/>
            <a:ext cx="5040360" cy="466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appy-couple-on-beach"/>
          <p:cNvPicPr/>
          <p:nvPr/>
        </p:nvPicPr>
        <p:blipFill>
          <a:blip r:embed="rId3"/>
          <a:stretch/>
        </p:blipFill>
        <p:spPr>
          <a:xfrm>
            <a:off x="5219640" y="1989000"/>
            <a:ext cx="3460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appy-family-photo"/>
          <p:cNvPicPr/>
          <p:nvPr/>
        </p:nvPicPr>
        <p:blipFill>
          <a:blip r:embed="rId2"/>
          <a:stretch/>
        </p:blipFill>
        <p:spPr>
          <a:xfrm>
            <a:off x="4716360" y="692280"/>
            <a:ext cx="3959280" cy="5400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395280" y="1122120"/>
            <a:ext cx="388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Ері мен әйелінің  арасындағы қатынастардың мына жағдайда қалайша қалыптасатынына көңіл аударыңызда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а) әлеуметтік мәртебесі тең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ә) әлеуметтік мәртебесі тең ем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55280" y="23320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  <a:ea typeface="Arial"/>
              </a:rPr>
              <a:t>Назар қойып қарағандарыңыз үшін көп рахме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!!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  <a:ea typeface="Arial"/>
              </a:rPr>
              <a:t> Бұл презентациядан пайда алдыңыздар деген үміттемін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11"/>
          <p:cNvSpPr txBox="1"/>
          <p:nvPr/>
        </p:nvSpPr>
        <p:spPr>
          <a:xfrm>
            <a:off x="395280" y="0"/>
            <a:ext cx="5761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ан отбасынан бастала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2" descr="happy-family-photo"/>
          <p:cNvPicPr/>
          <p:nvPr/>
        </p:nvPicPr>
        <p:blipFill>
          <a:blip r:embed="rId2"/>
          <a:stretch/>
        </p:blipFill>
        <p:spPr>
          <a:xfrm>
            <a:off x="1763640" y="1052640"/>
            <a:ext cx="5977080" cy="4913280"/>
          </a:xfrm>
          <a:prstGeom prst="rect">
            <a:avLst/>
          </a:prstGeom>
          <a:ln w="0">
            <a:noFill/>
          </a:ln>
        </p:spPr>
      </p:pic>
      <p:sp>
        <p:nvSpPr>
          <p:cNvPr id="57" name="WordArt 15"/>
          <p:cNvSpPr txBox="1"/>
          <p:nvPr/>
        </p:nvSpPr>
        <p:spPr>
          <a:xfrm>
            <a:off x="1332000" y="5445000"/>
            <a:ext cx="74167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басы ең кішкентай қоғам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lowergraphic11280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0" name="WordArt 14"/>
          <p:cNvSpPr txBox="1"/>
          <p:nvPr/>
        </p:nvSpPr>
        <p:spPr>
          <a:xfrm>
            <a:off x="2916360" y="836640"/>
            <a:ext cx="273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басы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WordArt 15"/>
          <p:cNvSpPr txBox="1"/>
          <p:nvPr/>
        </p:nvSpPr>
        <p:spPr>
          <a:xfrm>
            <a:off x="395280" y="2708280"/>
            <a:ext cx="17287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олық</a:t>
            </a:r>
            <a:endParaRPr b="1" i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16"/>
          <p:cNvSpPr txBox="1"/>
          <p:nvPr/>
        </p:nvSpPr>
        <p:spPr>
          <a:xfrm>
            <a:off x="2700360" y="2708280"/>
            <a:ext cx="28288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олық емес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17"/>
          <p:cNvSpPr txBox="1"/>
          <p:nvPr/>
        </p:nvSpPr>
        <p:spPr>
          <a:xfrm>
            <a:off x="6300720" y="2565360"/>
            <a:ext cx="2087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үрделі</a:t>
            </a:r>
            <a:endParaRPr b="1" i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5076720" y="1484280"/>
            <a:ext cx="151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 flipH="1">
            <a:off x="1834920" y="1484280"/>
            <a:ext cx="1584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4211640" y="1557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395280" y="3790440"/>
            <a:ext cx="77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Толық- ата-анасы және балалары бар отб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50920" y="4435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Толық емес- ата-анасының біреуі ғана бар отб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331560" y="5083200"/>
            <a:ext cx="86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Күрделі- ата-анасы, балалары және туыстары бі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өмір сүретін отб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flowergraphic1128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3"/>
          <p:cNvSpPr txBox="1"/>
          <p:nvPr/>
        </p:nvSpPr>
        <p:spPr>
          <a:xfrm>
            <a:off x="1908000" y="404640"/>
            <a:ext cx="5478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басын құру қағидалары: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394920" y="1725120"/>
            <a:ext cx="853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еркек пен әйелдің некелік одағының еріктіліг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отбасындағы ерлі-зайыптылардың құқықтарыны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теңдіг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бөгде адамның отбасы ісіне араласуын болдырм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балалардың отбасында тәрбие алуына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олардың қамына көңіл бө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отбасының ішкі мәселелерін келісіп шеш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отбасындағы салауатты өмір салтын қол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отбасы мүшелерінің бір-бірінің қамын ойлау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92280"/>
            <a:ext cx="352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бас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826920" y="2852640"/>
            <a:ext cx="266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ногамды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WordArt 16"/>
          <p:cNvSpPr txBox="1"/>
          <p:nvPr/>
        </p:nvSpPr>
        <p:spPr>
          <a:xfrm>
            <a:off x="5435640" y="2781360"/>
            <a:ext cx="2521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лигамды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273240" y="3643200"/>
            <a:ext cx="39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бір еркек пен бі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әйелдің некелік отб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5022720" y="3642840"/>
            <a:ext cx="41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бір еркектің екі неме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одан да көп әйел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некелік отб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4500720" y="1341360"/>
            <a:ext cx="1800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H="1">
            <a:off x="1908000" y="1413000"/>
            <a:ext cx="144000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woman_and_baby"/>
          <p:cNvPicPr/>
          <p:nvPr/>
        </p:nvPicPr>
        <p:blipFill>
          <a:blip r:embed="rId2"/>
          <a:stretch/>
        </p:blipFill>
        <p:spPr>
          <a:xfrm>
            <a:off x="4932360" y="1413000"/>
            <a:ext cx="4017960" cy="5111640"/>
          </a:xfrm>
          <a:prstGeom prst="rect">
            <a:avLst/>
          </a:prstGeom>
          <a:ln w="0">
            <a:noFill/>
          </a:ln>
        </p:spPr>
      </p:pic>
      <p:sp>
        <p:nvSpPr>
          <p:cNvPr id="85" name="WordArt 14"/>
          <p:cNvSpPr txBox="1"/>
          <p:nvPr/>
        </p:nvSpPr>
        <p:spPr>
          <a:xfrm>
            <a:off x="1176480" y="189000"/>
            <a:ext cx="6791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басының атқаратын функциясы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179280" y="1623600"/>
            <a:ext cx="424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бала өсіріп, тәрбиелеу арқылы ұрпақ жалғастығын қамтамасыз 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баланы әлеуметтенуге, қоғамда өмір сүруге дайын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отбасы мүшелерін баспанамен, көлікпен, киіммен, тамақпен, материалдық құндылықтармен қамтамасыз 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flowergraphic1128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ring"/>
          <p:cNvPicPr/>
          <p:nvPr/>
        </p:nvPicPr>
        <p:blipFill>
          <a:blip r:embed="rId2"/>
          <a:stretch/>
        </p:blipFill>
        <p:spPr>
          <a:xfrm>
            <a:off x="4668840" y="1413000"/>
            <a:ext cx="4475160" cy="5256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17"/>
          <p:cNvSpPr txBox="1"/>
          <p:nvPr/>
        </p:nvSpPr>
        <p:spPr>
          <a:xfrm>
            <a:off x="395280" y="33336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ке-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692360" y="47520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басын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ұру мақсатын көзедег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ер мен әйелдің ерікті және тең одағ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9"/>
          <p:cNvSpPr txBox="1"/>
          <p:nvPr/>
        </p:nvSpPr>
        <p:spPr>
          <a:xfrm>
            <a:off x="1332000" y="1773360"/>
            <a:ext cx="15112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ке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WordArt 20"/>
          <p:cNvSpPr txBox="1"/>
          <p:nvPr/>
        </p:nvSpPr>
        <p:spPr>
          <a:xfrm>
            <a:off x="179280" y="3141720"/>
            <a:ext cx="1162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ңды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21"/>
          <p:cNvSpPr txBox="1"/>
          <p:nvPr/>
        </p:nvSpPr>
        <p:spPr>
          <a:xfrm>
            <a:off x="2050920" y="3213000"/>
            <a:ext cx="2467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заматтық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2698920" y="2492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1116000" y="2492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179280" y="364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құжа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іркел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2348640" y="378864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іркелм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4"/>
          <p:cNvSpPr txBox="1"/>
          <p:nvPr/>
        </p:nvSpPr>
        <p:spPr>
          <a:xfrm>
            <a:off x="395280" y="836640"/>
            <a:ext cx="532908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басын құрудың негізі-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324000" y="2133720"/>
            <a:ext cx="2735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нім-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5940360" y="54936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ххабат</a:t>
            </a:r>
            <a:endParaRPr b="1" i="1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3203640" y="207432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отбасы шеңберінде әрекет ететін азаматтық құндылықтардың маңыздыларының бі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84360" y="44348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Статистика бойынша, ажырасушылықтың елеулі бөлігі ерлі-зайыптылар арасында сенімнің болмауынан немесе сенімді ақтамаудан болатын көрін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u love_050041"/>
          <p:cNvPicPr/>
          <p:nvPr/>
        </p:nvPicPr>
        <p:blipFill>
          <a:blip r:embed="rId2"/>
          <a:stretch/>
        </p:blipFill>
        <p:spPr>
          <a:xfrm>
            <a:off x="1476360" y="836640"/>
            <a:ext cx="6481800" cy="49687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7"/>
          <p:cNvSpPr txBox="1"/>
          <p:nvPr/>
        </p:nvSpPr>
        <p:spPr>
          <a:xfrm>
            <a:off x="684360" y="260280"/>
            <a:ext cx="741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басын құра алмау құбылыс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8"/>
          <p:cNvSpPr txBox="1"/>
          <p:nvPr/>
        </p:nvSpPr>
        <p:spPr>
          <a:xfrm>
            <a:off x="468360" y="6093000"/>
            <a:ext cx="834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ұрмыс құрмаған жалғызбасты қыздар неге көп?</a:t>
            </a:r>
            <a:endParaRPr b="1" i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11:16Z</dcterms:created>
  <dc:creator>user</dc:creator>
  <dc:description/>
  <dc:language>en-US</dc:language>
  <cp:lastModifiedBy>6a316</cp:lastModifiedBy>
  <dcterms:modified xsi:type="dcterms:W3CDTF">2011-05-04T08:05:48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8000000000001024110</vt:lpwstr>
  </property>
</Properties>
</file>