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466D-7557-4630-A2AA-971664A4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10B0-DDF6-47FD-B15E-FA5A7CC6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1D89-3DFF-4912-9C4D-F506131D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9E6C-84C0-4ED1-857E-9313DF35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A801-3C16-4B16-B4D4-E4737D00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8BC2-81E0-465A-B23F-A3B71A51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FB91-7E8E-477E-80B0-486AF47C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B1D1-BB9B-49DB-88B0-CADAE069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303C-D8AA-4FFE-BBAF-DAAC53F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AB4E-A02A-4C45-A3EE-4D5CEBFF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970F-DF79-4AF3-A3A7-DEF28C6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8498-7E96-4AA6-9914-084B11C5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DD38-700D-4769-B227-8041F7B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A06E-4419-460D-9195-7776814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D9C3-B0E2-49FF-8F78-FA190708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EB65-8AE2-4692-9AF3-48477176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7332-E419-4366-A21E-02F3FACB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60B3-A01E-4E65-B324-C4CC695C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EB56-3E10-41BD-8719-74623C96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54DD-E62F-46F3-B69C-AA47CF20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B3FD-CCBA-4D00-AD85-63BC040A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4AA5-BE27-41DE-A9C7-B4BE761D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1253-576B-4CAA-A399-B0ACFC5F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16DE-04A7-4D37-B186-7C8ACA9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653F-1C82-41E4-845F-4B68DB697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BBCD-7837-4459-93AF-EE0D75940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28800"/>
            <a:ext cx="672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ма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ржинальный анализ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точки безубыто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Точка безубыточности может быть рассчитана тремя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ом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ом маржинального дох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фическим спосо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ческий спосо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нежные еди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042920" y="2349000"/>
            <a:ext cx="0" cy="324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5589720"/>
            <a:ext cx="748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5661000"/>
            <a:ext cx="66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ем производства в натуральных единиц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42920" y="3429000"/>
            <a:ext cx="691380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797360"/>
            <a:ext cx="727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42920" y="2636640"/>
            <a:ext cx="6913800" cy="2160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42920" y="1557000"/>
            <a:ext cx="6769080" cy="403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148428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ручка от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28464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ммар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3645000"/>
            <a:ext cx="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49228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ка безубы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92428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486900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400536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3933720"/>
            <a:ext cx="0" cy="1656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 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981080"/>
          <a:ext cx="8280360" cy="2676600"/>
        </p:xfrm>
        <a:graphic>
          <a:graphicData uri="http://schemas.openxmlformats.org/drawingml/2006/table">
            <a:tbl>
              <a:tblPr/>
              <a:tblGrid>
                <a:gridCol w="1582560"/>
                <a:gridCol w="289080"/>
                <a:gridCol w="1655640"/>
                <a:gridCol w="289080"/>
                <a:gridCol w="2448000"/>
                <a:gridCol w="287280"/>
                <a:gridCol w="172872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ы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у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ы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* (объем реа-лизац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ерем.изд.на ед) * ( объем реализац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95280" y="4365720"/>
            <a:ext cx="835344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чке безубыточности прибыль равна нулю.  Следователь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омый объем реализации  приравниваем к Х и составля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:  </a:t>
            </a:r>
            <a:r>
              <a:rPr b="0" lang="ru-RU" sz="2000" spc="-1" strike="noStrike">
                <a:solidFill>
                  <a:srgbClr val="993366"/>
                </a:solidFill>
                <a:latin typeface="Arial"/>
              </a:rPr>
              <a:t>0,9Х-0,5Х-200=0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66"/>
                </a:solidFill>
                <a:latin typeface="Arial"/>
              </a:rPr>
              <a:t>Х=500 (единиц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е. при объеме продаж в 500 штук значков Элиза не полу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и, но и не понесет убы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 маржинального д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безубыточности может быть определена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Точка, в которой суммарный доход от продаж равен сумме расходов (переменных и постоян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Точка в которой суммарный маржинальный доход равен сумме постоянных расходов,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Т б.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479736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869000"/>
            <a:ext cx="374328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Маржинальный д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на ед.прод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221000"/>
            <a:ext cx="38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Постоян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и, используемые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VP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дение общих затрат и выручки жестко определено и линейно в пределах области релев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Все затраты можно разделить на переменные и 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ые расходы остаются независимыми от объема, а переменные прямо пропорциональными объему в пределах области релев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Цена реализации, цены на материалы и услуги не ме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ительность не 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Отсутствуют структурные сдв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 производства равен объему прод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евантные уро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уровни, внутри которых многие нелинейные затраты могут быть оценены как линейные. На рис. красным цветом отмечено действительное поведение переменных зат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476360" y="350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5661000"/>
            <a:ext cx="4464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3716280"/>
            <a:ext cx="4836960" cy="1944720"/>
          </a:xfrm>
          <a:custGeom>
            <a:avLst/>
            <a:gdLst/>
            <a:ahLst/>
            <a:rect l="l" t="t" r="r" b="b"/>
            <a:pathLst>
              <a:path w="3047" h="1225">
                <a:moveTo>
                  <a:pt x="0" y="1225"/>
                </a:moveTo>
                <a:cubicBezTo>
                  <a:pt x="11" y="1187"/>
                  <a:pt x="22" y="1149"/>
                  <a:pt x="90" y="1089"/>
                </a:cubicBezTo>
                <a:cubicBezTo>
                  <a:pt x="158" y="1029"/>
                  <a:pt x="249" y="930"/>
                  <a:pt x="408" y="862"/>
                </a:cubicBezTo>
                <a:cubicBezTo>
                  <a:pt x="567" y="794"/>
                  <a:pt x="756" y="741"/>
                  <a:pt x="1043" y="681"/>
                </a:cubicBezTo>
                <a:cubicBezTo>
                  <a:pt x="1330" y="621"/>
                  <a:pt x="1821" y="597"/>
                  <a:pt x="2131" y="499"/>
                </a:cubicBezTo>
                <a:cubicBezTo>
                  <a:pt x="2441" y="401"/>
                  <a:pt x="2759" y="174"/>
                  <a:pt x="2903" y="91"/>
                </a:cubicBezTo>
                <a:cubicBezTo>
                  <a:pt x="3047" y="8"/>
                  <a:pt x="2978" y="15"/>
                  <a:pt x="2993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3573360"/>
            <a:ext cx="0" cy="20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350028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00000" y="4149360"/>
            <a:ext cx="583272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5805360"/>
            <a:ext cx="25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ласть релева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6360" y="5445000"/>
            <a:ext cx="208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м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068640"/>
            <a:ext cx="208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вни релеван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е постоянных зат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068640"/>
            <a:ext cx="208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76360" y="350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5661000"/>
            <a:ext cx="4464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5445000"/>
            <a:ext cx="208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м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3500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4797360"/>
            <a:ext cx="230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4076640"/>
            <a:ext cx="21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4869000"/>
            <a:ext cx="2519280" cy="360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евант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3645000"/>
            <a:ext cx="3672000" cy="288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ый релевант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4292640"/>
            <a:ext cx="2519640" cy="360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Постоя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211280" y="422100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924000" y="4508640"/>
            <a:ext cx="86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ная прибы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Задач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колько значков нужно продать Элизе, что бы получить прибыль в 2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1. Решение методом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ная прибыль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выручка–перемен.затр.– постоян.за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0,9Х-0,5Х-200=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Х= 10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начко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ная прибы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методом маржинальн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(200+200)/ (0,9-0,5)= 1000 знач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2492280"/>
            <a:ext cx="46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Arial"/>
              </a:rPr>
              <a:t>Прибыль + Постоян.рас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3357720"/>
            <a:ext cx="4248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Маржинальный д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на ед.прод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3213000"/>
            <a:ext cx="47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781360"/>
            <a:ext cx="3454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бходи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продаж.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эффициент маржинального до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1844640"/>
            <a:ext cx="230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МД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2421000"/>
            <a:ext cx="43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1844640"/>
            <a:ext cx="446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жинальный 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56536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ход от прод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3573360"/>
            <a:ext cx="8064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лизы КМД рав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0,4 / 0,9 * 100 % = 0,4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е. каждый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учки приносит 44 ц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а маржинального до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Arial"/>
              </a:rPr>
              <a:t>Если доход увеличится на 200</a:t>
            </a:r>
            <a:r>
              <a:rPr b="0" lang="en-US" sz="2000" spc="-1" strike="noStrike">
                <a:solidFill>
                  <a:srgbClr val="993366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993366"/>
                </a:solidFill>
                <a:latin typeface="Arial"/>
              </a:rPr>
              <a:t>на сколько увелич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66"/>
                </a:solidFill>
                <a:latin typeface="Arial"/>
              </a:rPr>
              <a:t>маржинальный дохо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628640"/>
            <a:ext cx="71280" cy="7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773360"/>
            <a:ext cx="7416720" cy="1295280"/>
          </a:xfrm>
          <a:prstGeom prst="rect">
            <a:avLst/>
          </a:prstGeom>
          <a:noFill/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Рассмотреть сущность и основные направления маржинального анали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Уметь определять точку безубыточности, маржу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Рассмотреть сущность операционного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ерационный рычаг (леверидж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ряет, насколько изменится прибыль при изменении объема прод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операционный рычаг означает, что небольшой (в %) рост дохода от продаж может привести к гораздо большему росту прибы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458136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Операционный рыча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494172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4365720"/>
            <a:ext cx="388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Маржинальный</a:t>
            </a: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д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00720" y="5084640"/>
            <a:ext cx="3960720" cy="5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Операционная прибы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ерационный рыч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читаем операционный рычаг для Элизы при продаже 1500 знач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(1500*0,4) / 400* = 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леверидж равен 1,5 ,то если Элиза увеличит продажи на 10 % прибыль вырастет на 15%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верим самостоятель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ж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евышение плановой или (фактической) выручки над безубыточным доходом от прод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бъем, на который продажи могут упасть, не приводя к убыт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Маржа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= выручка – Т безубыточности (в ден.е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ж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Задач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читать маржу безопасности (в денежных единицах и в %) для Элизы, при объеме реализации в 7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700 – 500*0,9 = 200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жа безопасности может быть выражена в % от объема прода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Маржа безоп./выручка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200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$ / 700$ * 100% = 28,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меры использования маржинального 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3716280"/>
            <a:ext cx="1854360" cy="2519280"/>
          </a:xfrm>
          <a:prstGeom prst="downArrow">
            <a:avLst>
              <a:gd name="adj1" fmla="val 50000"/>
              <a:gd name="adj2" fmla="val 3396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пределение критического объема продаж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еский объем продаж — это тот объем, при котором предприятие не получает ни прибыли или убытка, т.е. то количество продукции, которое необходимо предприятию, чтобы получать прибы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=а/(ц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ц - цена реализации конкретного вида (ассортимента) продукции (средняя цена реализации по конкретному рынку сбы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постоянные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 переменные затраты на единицу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 за минусом удельных переменных затрат (ц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маржинальный доход единицы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ит ли предприятию заниматься производством товара А, если: сумма постоянных затрат составит 1500 тыс. тенге, удельных переменных издержек — 85 тенге, средняя цена реализации на рынке сбыта — 90 тенге/кг. Производственная мощность рассчитана на 250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 объема прибыли для получения запланированной величины прибыл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=(а+П)/(ц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 П — прогнозируемая величина приб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предприятию необходимо продать продукции, чтобы получить 100 тыс. тенге прибыли? Цена реализации составляет 15 тенге; удельные переменные издержки — 12 тенге., постоянные затраты 80 тыс. те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ределение зоны финансовой безопас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на безопасности — разность между фактическим количеством реализованной продукции и безубыточным объемом прода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на безопасности показывает, на сколько процентов фактический объем продаж выше критического, при котором рентабельность равна нулю. Чем выше его значение, тем прочнее финансовое состояние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ну безопасности (ЗБ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в стоимостном и в количественном выражении (последнее — только для конкретного вида тов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Б = выручка (В) — критический объем продаж в стоимостном выражении делить на выручку. Для количественного выражения используют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Б = (к-х)/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де- к --фактическое количество реализуемой прод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зона безопасности для производства автомобилей, если объем продаж составляет 130 тыс. ед, а порог рентабельности на уровне 100 тыс. 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ределение критической цены реализа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ческая цена реализации — это тот уровень, при котором окупаемость затрат равна 100 %, т.е. цена реализации равна себестоимости единицы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а для определения критической цены выводится из основной и выглядит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кр=а/(к+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й уровень цены будет равен себестоимости единицы продукции, а прибыль и рентабельность — нулю. Установление цены ниже этого уровня невыгодно для предприятия, так как в результате будет получен убы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аком уровне должна быть установлена минимальная цена при объеме производства в 200 тыс. ед., сумме переменных затрат — 10 тенге.ед. и сумме постоянных затрат 400 тыс.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бор управленческого решения: повысить или снизить цену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ре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зации при изменении конъюнктуры рын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снование цены реализации проводят по следующим показателям: цена реализации, удельные переменные затраты, сумма постоянных затрат, маржинальный доход на единицу продукции, критический объем продаж, мощность предприятия, сумма прибыли (произведение маржинального дохода и мощности предприятия за минусом постоянных затрат)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оритет должен быть отдан варианту с меньшим порогом рентабельности и большей суммой при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й вариант цены следует выбрать предприятию, чтобы завоевать рынок сбыта: повысить цену до 300 тенге за счет качества продукции либо снизить цену продаж до 200 тенге. Конкурент продает аналогичный товар по цене 250 тен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я: постоянные затраты составляют 2400 тыс. тенге, переменные — 80 тенге/ед. При улучшении качества товара постоянные затраты возрастут до 3000 тыс. тенге., удельные переменные издержки — 100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 задачи привести в таб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и основные направления маржиналь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безубыточности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операционного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на основе разделения затрат на релевантные и нерелеван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блица 2 Обоснование цены реализац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1989000"/>
          <a:ext cx="8229600" cy="4260960"/>
        </p:xfrm>
        <a:graphic>
          <a:graphicData uri="http://schemas.openxmlformats.org/drawingml/2006/table">
            <a:tbl>
              <a:tblPr/>
              <a:tblGrid>
                <a:gridCol w="730080"/>
                <a:gridCol w="3384720"/>
                <a:gridCol w="2057400"/>
                <a:gridCol w="2057400"/>
              </a:tblGrid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реализации, те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 затраты на единицу продукции, те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затраты, тыс.те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жинальный доход на единицу продукции, тенге (1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ический объем продаж, ед (3/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 предприятия , 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прибыли, тыс.тенге (4*6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ыбор варианта приобретения конкретного вида активной части основных средств (машин, оборудования, технологии  производст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отдать  преимущество тому  или  иному  виду техники  и  оборудования, необходимо сопоставить их общие издержки при неизвестной величине критического объема прод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затраты по 1-му варианту (1В — ручное управление) составляют 1000 тыс. тенге, по 2-му (2В — полуавтоматическое управление) — 5000 тыс.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ельные переменные затраты по 1В = 2 тыс. тенге, 2В = 1 тыс. тен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сумма затрат для: 1 В (у,) = 1000 + 2Х, 2В(у2) = 5000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1=У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0 + 2Х = 5000+1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=4000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приятие будет производить в год более 4000 ед., то тогда выгоден 2-й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бор варианта производить или покупать (упаковочный материал, тару, запасные части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447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монта техники требуются соответствующие детали. Если их изготовить собственными силами, то постоянные затраты на содержание оборудования составят 100 тыс. тенге в год, а переменные расходы на единицу продукции — 50 тенге. Готовые детали можно купить в неограниченном количестве по 150 тенге за ед. Какое решение более выгод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имость покупных деталей будет равна произведению цены и количества приобретаемых деталей: ТП = Ц*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бестоимость производства (3) включает постоянные и переменные рас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.+В * 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еделим, при какой потребности в деталях стоимость их приобретения и производства совпад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Ц-Х=А+В*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50Х=100000+50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Х=1000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четы показывают, что при годовой потребности в 1000 ед. расходы на закупку деталей совпадут с себестоимостью их производства. При увеличении потребности свыше 1000 ед. в год более экономным является собственное производство, а при меньшей потребности для предприятия более выгодно их по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бор решения с учетом ограничения на ресурс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ы огранич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 реализ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овые ресур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ые ресур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сутствие финансовых ресурсов для оплаты необходимых производственных зат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ринятии решений с учетом ограничений определяют маржинальный доход, который позволяет получить единицу продукции на единицу недостающего рес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а производит товар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, В, С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 ограничивающий фактор — фонд рабочего времени — 3000 чел.-ч в мес. Постоянные затраты составляют 10 000 тенге в мес. Менеджеры хотят максимизировать прибыль, анализируя спрос на каждый вид продукции и маржинальную прибыль на единицу ограничивающего фак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маржиналь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этапы маржиналь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ение маржинального анализа для принятия управленческих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14400" y="475920"/>
            <a:ext cx="7834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ржинальный анализ направлен на выявление резервов роста прибыли во взаимосвязи трех показателей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держ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м прода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на реализации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жинальный анализ помогает руководителям организаций установить оптимальные, пропорции   между   переменными   и   постоянными   затратами,   ценой   и   объемом   продаж,   минимизировать предпринимательский  р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этапы маржинального ана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суммы постоянных и переменных издерж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льный и факторный анализ уровня исследуемых показа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ирование их величины в изменяющейся бизнес-сре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жинальный до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ица между выручкой (доходом от продаж) и переменными затратами называется – 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маржинальным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т термин имеет несколько синони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Маржинальный дох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Маржинальная прибы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Прибыль по переменным затрат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Вклад на покр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жинальный до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Задач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лиза планирует продавать значки на ярмарке. Она может купить их за 0.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продавать  0.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Единовремен-ная арендная плата за место составляет 2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маржинальный доход на единицу товара и найти точку безубыто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Arial"/>
              </a:rPr>
              <a:t>Маржинальный доход на единицу товара составит: 0.9 – 0.5 = 0.4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$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чка безубыто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такой объем производства при котором суммарный объем выручки от реализации равен суммарным затратам. Это точка, начиная с которой, предприятие получает 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прибы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е названия точки безубыточ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6271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Порог рентаб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6271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«Мертвая» 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6271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ритическая 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7T05:39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