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4ED-FB53-488A-9238-3E31D7A8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DF0-3AA8-41DF-8DCC-233D7E8B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FB0-A5B2-4836-A073-DF1FBCE8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1A3-0783-4BA0-9323-5F7A9EBE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40B9-F3A5-4453-B23B-F4097561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6A8-1DAB-42A9-8BAB-F00F2C8B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E38-528D-49FF-9974-FFDFB03C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15E-F380-445C-BE6B-2B86971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94B-4EB8-4708-80D4-1A0F7C73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EF60-B9E3-4B39-9577-A25DB59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8A1-4AB3-4B44-AF7A-59C2F37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D125-16BE-4192-ACD8-2D1E7487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1A51-C2F2-4810-9D76-C8BCE5C43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0" y="1916280"/>
            <a:ext cx="8918640" cy="240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Bluetooth\inbox\ир.gif"/>
          <p:cNvPicPr/>
          <p:nvPr/>
        </p:nvPicPr>
        <p:blipFill>
          <a:blip r:embed="rId2"/>
          <a:stretch/>
        </p:blipFill>
        <p:spPr>
          <a:xfrm>
            <a:off x="1143000" y="4857840"/>
            <a:ext cx="7156440" cy="1644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98100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9 - тақырып:</a:t>
            </a:r>
            <a:endParaRPr b="1" i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Выноска со стрелкой вниз 3"/>
          <p:cNvSpPr/>
          <p:nvPr/>
        </p:nvSpPr>
        <p:spPr>
          <a:xfrm>
            <a:off x="1643040" y="357120"/>
            <a:ext cx="5929200" cy="1785960"/>
          </a:xfrm>
          <a:prstGeom prst="downArrowCallout">
            <a:avLst>
              <a:gd name="adj1" fmla="val 50018"/>
              <a:gd name="adj2" fmla="val 51120"/>
              <a:gd name="adj3" fmla="val 25000"/>
              <a:gd name="adj4" fmla="val 64977"/>
            </a:avLst>
          </a:prstGeom>
          <a:solidFill>
            <a:srgbClr val="c00000"/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ью-Йорк Қор Биржасының индексі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SE Index</a:t>
            </a:r>
            <a:r>
              <a:rPr b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5"/>
          <p:cNvSpPr/>
          <p:nvPr/>
        </p:nvSpPr>
        <p:spPr>
          <a:xfrm>
            <a:off x="928800" y="2428920"/>
            <a:ext cx="7500960" cy="3714840"/>
          </a:xfrm>
          <a:prstGeom prst="roundRect">
            <a:avLst>
              <a:gd name="adj" fmla="val 16667"/>
            </a:avLst>
          </a:prstGeom>
          <a:solidFill>
            <a:srgbClr val="0000cc">
              <a:alpha val="49000"/>
            </a:srgbClr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ұл өз қағаздарын Нью-Йорк қор биржасында тіркеген барлық корпорацияның акциялары курсының қозғалысының нарықтық құны бойынша өлшенген көрсеткіші болып табылады. Доу-Джонс индексі пунктпен өрнектелсе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SE</a:t>
            </a:r>
            <a:r>
              <a:rPr b="1" i="1" lang="kk-K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ндексі доллармен өрнектел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Выноска со стрелкой вверх 3" descr=""/>
          <p:cNvPicPr/>
          <p:nvPr/>
        </p:nvPicPr>
        <p:blipFill>
          <a:blip r:embed="rId1"/>
          <a:stretch/>
        </p:blipFill>
        <p:spPr>
          <a:xfrm>
            <a:off x="762120" y="2120760"/>
            <a:ext cx="7540560" cy="4187880"/>
          </a:xfrm>
          <a:prstGeom prst="rect">
            <a:avLst/>
          </a:prstGeom>
          <a:ln w="0">
            <a:noFill/>
          </a:ln>
        </p:spPr>
      </p:pic>
      <p:pic>
        <p:nvPicPr>
          <p:cNvPr id="74" name="Волна 4" descr=""/>
          <p:cNvPicPr/>
          <p:nvPr/>
        </p:nvPicPr>
        <p:blipFill>
          <a:blip r:embed="rId2"/>
          <a:stretch/>
        </p:blipFill>
        <p:spPr>
          <a:xfrm>
            <a:off x="695160" y="347760"/>
            <a:ext cx="740124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Круглая лента лицом вниз 4"/>
          <p:cNvSpPr/>
          <p:nvPr/>
        </p:nvSpPr>
        <p:spPr>
          <a:xfrm>
            <a:off x="785880" y="214200"/>
            <a:ext cx="7715160" cy="1785960"/>
          </a:xfrm>
          <a:custGeom>
            <a:avLst/>
            <a:gdLst>
              <a:gd name="textAreaLeft" fmla="*/ 1056240 w 7715160"/>
              <a:gd name="textAreaRight" fmla="*/ 6658920 w 7715160"/>
              <a:gd name="textAreaTop" fmla="*/ 446400 h 1785960"/>
              <a:gd name="textAreaBottom" fmla="*/ 167256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544804"/>
                <a:lnTo>
                  <a:pt x="2957" y="20225"/>
                </a:lnTo>
                <a:arcTo wR="21600" hR="20153" stAng="6760152" swAng="-2720304"/>
                <a:lnTo>
                  <a:pt x="18643" y="17525"/>
                </a:lnTo>
                <a:arcTo wR="21600" hR="20153" stAng="4039848" swAng="-54480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021644"/>
                <a:lnTo>
                  <a:pt x="15943" y="4820"/>
                </a:lnTo>
                <a:arcTo wR="21600" hR="20153" stAng="4516688" swAng="1766625"/>
                <a:lnTo>
                  <a:pt x="5657" y="2120"/>
                </a:lnTo>
                <a:arcTo wR="21600" hR="20153" stAng="6283312" swAng="1021644"/>
                <a:lnTo>
                  <a:pt x="2700" y="9329"/>
                </a:lnTo>
                <a:close/>
              </a:path>
              <a:path fill="none" w="21600" h="21600">
                <a:moveTo>
                  <a:pt x="5657" y="4820"/>
                </a:moveTo>
                <a:arcTo wR="21600" hR="20153" stAng="6283312" swAng="476840"/>
                <a:lnTo>
                  <a:pt x="5657" y="2120"/>
                </a:lnTo>
              </a:path>
              <a:path fill="none" w="21600" h="21600">
                <a:moveTo>
                  <a:pt x="15943" y="4820"/>
                </a:moveTo>
                <a:arcTo wR="21600" hR="20153" stAng="4516688" swAng="-476840"/>
                <a:lnTo>
                  <a:pt x="15943" y="2120"/>
                </a:lnTo>
              </a:path>
              <a:path fill="none" w="21600" h="21600">
                <a:moveTo>
                  <a:pt x="2957" y="17525"/>
                </a:moveTo>
                <a:lnTo>
                  <a:pt x="2957" y="4025"/>
                </a:lnTo>
              </a:path>
              <a:path fill="none" w="21600" h="21600">
                <a:moveTo>
                  <a:pt x="18643" y="17525"/>
                </a:moveTo>
                <a:lnTo>
                  <a:pt x="18643" y="4025"/>
                </a:lnTo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Вертикальный свиток 5" descr=""/>
          <p:cNvPicPr/>
          <p:nvPr/>
        </p:nvPicPr>
        <p:blipFill>
          <a:blip r:embed="rId1"/>
          <a:stretch/>
        </p:blipFill>
        <p:spPr>
          <a:xfrm>
            <a:off x="1200240" y="2133720"/>
            <a:ext cx="6743520" cy="437652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6" descr=""/>
          <p:cNvPicPr/>
          <p:nvPr/>
        </p:nvPicPr>
        <p:blipFill>
          <a:blip r:embed="rId2"/>
          <a:stretch/>
        </p:blipFill>
        <p:spPr>
          <a:xfrm>
            <a:off x="1712880" y="804960"/>
            <a:ext cx="5651640" cy="1195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3" descr=""/>
          <p:cNvPicPr/>
          <p:nvPr/>
        </p:nvPicPr>
        <p:blipFill>
          <a:blip r:embed="rId1"/>
          <a:stretch/>
        </p:blipFill>
        <p:spPr>
          <a:xfrm>
            <a:off x="66600" y="615960"/>
            <a:ext cx="872352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189000" y="1663560"/>
            <a:ext cx="8400960" cy="142092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-211680" y="3286080"/>
            <a:ext cx="10004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cc"/>
                </a:solidFill>
                <a:latin typeface="Cambria"/>
              </a:rPr>
              <a:t>Акциялар бағасын өлше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cc"/>
                </a:solidFill>
                <a:latin typeface="Cambria"/>
              </a:rPr>
              <a:t>Акциялар құнын өлше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cc"/>
                </a:solidFill>
                <a:latin typeface="Cambria"/>
              </a:rPr>
              <a:t>Шамалардың арифметикалық орташасын өлше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cc"/>
                </a:solidFill>
                <a:latin typeface="Cambria"/>
              </a:rPr>
              <a:t>Шамалардың геометриялық орташасын өлше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Прямоугольник 3" descr=""/>
          <p:cNvPicPr/>
          <p:nvPr/>
        </p:nvPicPr>
        <p:blipFill>
          <a:blip r:embed="rId1"/>
          <a:stretch/>
        </p:blipFill>
        <p:spPr>
          <a:xfrm>
            <a:off x="212760" y="433440"/>
            <a:ext cx="8645400" cy="1944720"/>
          </a:xfrm>
          <a:prstGeom prst="rect">
            <a:avLst/>
          </a:prstGeom>
          <a:ln w="0">
            <a:noFill/>
          </a:ln>
        </p:spPr>
      </p:pic>
      <p:sp>
        <p:nvSpPr>
          <p:cNvPr id="82" name="7-конечная звезда 4"/>
          <p:cNvSpPr/>
          <p:nvPr/>
        </p:nvSpPr>
        <p:spPr>
          <a:xfrm>
            <a:off x="571680" y="2000160"/>
            <a:ext cx="8072280" cy="4357800"/>
          </a:xfrm>
          <a:custGeom>
            <a:avLst/>
            <a:gdLst/>
            <a:ahLst/>
            <a:rect l="l" t="t" r="r" b="b"/>
            <a:pathLst>
              <a:path w="8072438" h="4357688">
                <a:moveTo>
                  <a:pt x="-21" y="2802458"/>
                </a:moveTo>
                <a:lnTo>
                  <a:pt x="917255" y="1898190"/>
                </a:lnTo>
                <a:lnTo>
                  <a:pt x="799419" y="863097"/>
                </a:lnTo>
                <a:lnTo>
                  <a:pt x="2648164" y="696384"/>
                </a:lnTo>
                <a:lnTo>
                  <a:pt x="4036219" y="0"/>
                </a:lnTo>
                <a:lnTo>
                  <a:pt x="5424274" y="696384"/>
                </a:lnTo>
                <a:lnTo>
                  <a:pt x="7273019" y="863097"/>
                </a:lnTo>
                <a:lnTo>
                  <a:pt x="7155183" y="1898190"/>
                </a:lnTo>
                <a:lnTo>
                  <a:pt x="8072459" y="2802458"/>
                </a:lnTo>
                <a:lnTo>
                  <a:pt x="6537424" y="3396812"/>
                </a:lnTo>
                <a:lnTo>
                  <a:pt x="5832495" y="4357711"/>
                </a:lnTo>
                <a:lnTo>
                  <a:pt x="4036219" y="4063761"/>
                </a:lnTo>
                <a:lnTo>
                  <a:pt x="2239943" y="4357711"/>
                </a:lnTo>
                <a:lnTo>
                  <a:pt x="1535014" y="3396812"/>
                </a:lnTo>
                <a:lnTo>
                  <a:pt x="-21" y="2802458"/>
                </a:lnTo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2084400" y="3114720"/>
            <a:ext cx="545004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Круглая лента лицом вниз 3"/>
          <p:cNvSpPr/>
          <p:nvPr/>
        </p:nvSpPr>
        <p:spPr>
          <a:xfrm>
            <a:off x="1285920" y="500040"/>
            <a:ext cx="7000920" cy="1785960"/>
          </a:xfrm>
          <a:custGeom>
            <a:avLst/>
            <a:gdLst>
              <a:gd name="textAreaLeft" fmla="*/ 1009800 w 7000920"/>
              <a:gd name="textAreaRight" fmla="*/ 5991120 w 7000920"/>
              <a:gd name="textAreaTop" fmla="*/ 446400 h 1785960"/>
              <a:gd name="textAreaBottom" fmla="*/ 167724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573321"/>
                <a:lnTo>
                  <a:pt x="3116" y="20282"/>
                </a:lnTo>
                <a:arcTo wR="21600" hR="20153" stAng="6731635" swAng="-2663271"/>
                <a:lnTo>
                  <a:pt x="18484" y="17582"/>
                </a:lnTo>
                <a:arcTo wR="21600" hR="20153" stAng="4068365" swAng="-57332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049318"/>
                <a:lnTo>
                  <a:pt x="15784" y="4856"/>
                </a:lnTo>
                <a:arcTo wR="21600" hR="20153" stAng="4544361" swAng="1711278"/>
                <a:lnTo>
                  <a:pt x="5816" y="2156"/>
                </a:lnTo>
                <a:arcTo wR="21600" hR="20153" stAng="6255639" swAng="1049318"/>
                <a:lnTo>
                  <a:pt x="2700" y="9329"/>
                </a:lnTo>
                <a:close/>
              </a:path>
              <a:path fill="none" w="21600" h="21600">
                <a:moveTo>
                  <a:pt x="5816" y="4856"/>
                </a:moveTo>
                <a:arcTo wR="21600" hR="20153" stAng="6255639" swAng="475997"/>
                <a:lnTo>
                  <a:pt x="5816" y="2156"/>
                </a:lnTo>
              </a:path>
              <a:path fill="none" w="21600" h="21600">
                <a:moveTo>
                  <a:pt x="15784" y="4856"/>
                </a:moveTo>
                <a:arcTo wR="21600" hR="20153" stAng="4544361" swAng="-475997"/>
                <a:lnTo>
                  <a:pt x="15784" y="2156"/>
                </a:lnTo>
              </a:path>
              <a:path fill="none" w="21600" h="21600">
                <a:moveTo>
                  <a:pt x="3116" y="17582"/>
                </a:moveTo>
                <a:lnTo>
                  <a:pt x="3116" y="4082"/>
                </a:lnTo>
              </a:path>
              <a:path fill="none" w="21600" h="21600">
                <a:moveTo>
                  <a:pt x="18484" y="17582"/>
                </a:moveTo>
                <a:lnTo>
                  <a:pt x="18484" y="4082"/>
                </a:lnTo>
              </a:path>
            </a:pathLst>
          </a:custGeom>
          <a:solidFill>
            <a:srgbClr val="f2dcdb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гнутая вправо стрелка 4"/>
          <p:cNvSpPr/>
          <p:nvPr/>
        </p:nvSpPr>
        <p:spPr>
          <a:xfrm>
            <a:off x="7286760" y="1928880"/>
            <a:ext cx="1000080" cy="135720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245520 h 1357200"/>
              <a:gd name="textAreaBottom" fmla="*/ 9867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16" stAng="-5400000" swAng="5400000"/>
                <a:lnTo>
                  <a:pt x="21600" y="11794"/>
                </a:lnTo>
                <a:arcTo wR="21600" hR="7816" stAng="0" swAng="3269418"/>
                <a:lnTo>
                  <a:pt x="5400" y="21352"/>
                </a:lnTo>
                <a:lnTo>
                  <a:pt x="0" y="17621"/>
                </a:lnTo>
                <a:lnTo>
                  <a:pt x="5400" y="13394"/>
                </a:lnTo>
                <a:lnTo>
                  <a:pt x="5400" y="15384"/>
                </a:lnTo>
                <a:arcTo wR="21600" hR="7816" stAng="3269418" swAng="-2943066"/>
                <a:lnTo>
                  <a:pt x="20889" y="9805"/>
                </a:lnTo>
                <a:arcTo wR="21600" hR="7816" stAng="-326352" swAng="-5073648"/>
                <a:close/>
              </a:path>
              <a:path fill="darkenLess" w="21600" h="21600">
                <a:moveTo>
                  <a:pt x="0" y="0"/>
                </a:moveTo>
                <a:arcTo wR="21600" hR="7816" stAng="-5400000" swAng="5400000"/>
                <a:lnTo>
                  <a:pt x="21600" y="11794"/>
                </a:lnTo>
                <a:arcTo wR="21600" hR="7816" stAng="0" swAng="-326352"/>
                <a:lnTo>
                  <a:pt x="20889" y="9805"/>
                </a:lnTo>
                <a:arcTo wR="21600" hR="7816" stAng="-326352" swAng="-5073648"/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гнутая влево стрелка 5"/>
          <p:cNvSpPr/>
          <p:nvPr/>
        </p:nvSpPr>
        <p:spPr>
          <a:xfrm>
            <a:off x="1357200" y="1928880"/>
            <a:ext cx="928800" cy="1357200"/>
          </a:xfrm>
          <a:custGeom>
            <a:avLst/>
            <a:gdLst>
              <a:gd name="textAreaLeft" fmla="*/ 124200 w 928800"/>
              <a:gd name="textAreaRight" fmla="*/ 804600 w 928800"/>
              <a:gd name="textAreaTop" fmla="*/ 252000 h 1357200"/>
              <a:gd name="textAreaBottom" fmla="*/ 98892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29" stAng="-5400000" swAng="-5400000"/>
                <a:lnTo>
                  <a:pt x="0" y="11724"/>
                </a:lnTo>
                <a:arcTo wR="21600" hR="8029" stAng="10800000" swAng="-3312925"/>
                <a:lnTo>
                  <a:pt x="16200" y="21345"/>
                </a:lnTo>
                <a:lnTo>
                  <a:pt x="21600" y="17906"/>
                </a:lnTo>
                <a:lnTo>
                  <a:pt x="16200" y="13956"/>
                </a:lnTo>
                <a:lnTo>
                  <a:pt x="16200" y="15803"/>
                </a:lnTo>
                <a:arcTo wR="21600" hR="8029" stAng="7487075" swAng="3011553"/>
                <a:lnTo>
                  <a:pt x="580" y="9876"/>
                </a:lnTo>
                <a:arcTo wR="21600" hR="8029" stAng="-10498628" swAng="5098628"/>
                <a:close/>
              </a:path>
              <a:path fill="darkenLess" w="21600" h="21600">
                <a:moveTo>
                  <a:pt x="21600" y="0"/>
                </a:moveTo>
                <a:arcTo wR="21600" hR="8029" stAng="-5400000" swAng="-5400000"/>
                <a:lnTo>
                  <a:pt x="0" y="8029"/>
                </a:lnTo>
                <a:arcTo wR="21600" hR="8029" stAng="10800000" swAng="-301372"/>
                <a:lnTo>
                  <a:pt x="580" y="9876"/>
                </a:lnTo>
                <a:arcTo wR="21600" hR="8029" stAng="-10498628" swAng="5098628"/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Горизонтальный свиток 6"/>
          <p:cNvSpPr/>
          <p:nvPr/>
        </p:nvSpPr>
        <p:spPr>
          <a:xfrm>
            <a:off x="2340000" y="2637000"/>
            <a:ext cx="4929120" cy="3286080"/>
          </a:xfrm>
          <a:prstGeom prst="horizontalScroll">
            <a:avLst>
              <a:gd name="adj" fmla="val 12500"/>
            </a:avLst>
          </a:prstGeom>
          <a:solidFill>
            <a:srgbClr val="d7e4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қты баға индексі векторлар бағасының функциясын және сәйкес векторлар көлемін білдіреді. Аталмыш тақырып бойынша бұрынғы зерттеулер баға индексін баға қозғалысының тенденциясые өлшеуші құрал ретінде қарастыруға арналғ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7" descr=""/>
          <p:cNvPicPr/>
          <p:nvPr/>
        </p:nvPicPr>
        <p:blipFill>
          <a:blip r:embed="rId2"/>
          <a:stretch/>
        </p:blipFill>
        <p:spPr>
          <a:xfrm>
            <a:off x="2066760" y="969840"/>
            <a:ext cx="542448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Box 3" descr=""/>
          <p:cNvPicPr/>
          <p:nvPr/>
        </p:nvPicPr>
        <p:blipFill>
          <a:blip r:embed="rId1"/>
          <a:stretch/>
        </p:blipFill>
        <p:spPr>
          <a:xfrm>
            <a:off x="19080" y="328680"/>
            <a:ext cx="8929800" cy="1433520"/>
          </a:xfrm>
          <a:prstGeom prst="rect">
            <a:avLst/>
          </a:prstGeom>
          <a:ln w="0">
            <a:noFill/>
          </a:ln>
        </p:spPr>
      </p:pic>
      <p:sp>
        <p:nvSpPr>
          <p:cNvPr id="90" name="Двойная стрелка влево/вверх 4"/>
          <p:cNvSpPr/>
          <p:nvPr/>
        </p:nvSpPr>
        <p:spPr>
          <a:xfrm>
            <a:off x="7286760" y="1357200"/>
            <a:ext cx="1500120" cy="2357640"/>
          </a:xfrm>
          <a:custGeom>
            <a:avLst/>
            <a:gdLst/>
            <a:ahLst/>
            <a:rect l="l" t="t" r="r" b="b"/>
            <a:pathLst>
              <a:path w="1500188" h="2357437">
                <a:moveTo>
                  <a:pt x="0" y="2077637"/>
                </a:moveTo>
                <a:lnTo>
                  <a:pt x="375047" y="1797837"/>
                </a:lnTo>
                <a:lnTo>
                  <a:pt x="375047" y="1948178"/>
                </a:lnTo>
                <a:lnTo>
                  <a:pt x="1090929" y="1948178"/>
                </a:lnTo>
                <a:lnTo>
                  <a:pt x="1090929" y="375047"/>
                </a:lnTo>
                <a:lnTo>
                  <a:pt x="940588" y="375047"/>
                </a:lnTo>
                <a:lnTo>
                  <a:pt x="1220388" y="0"/>
                </a:lnTo>
                <a:lnTo>
                  <a:pt x="1500188" y="375047"/>
                </a:lnTo>
                <a:lnTo>
                  <a:pt x="1349847" y="375047"/>
                </a:lnTo>
                <a:lnTo>
                  <a:pt x="1349847" y="2207096"/>
                </a:lnTo>
                <a:lnTo>
                  <a:pt x="375047" y="2207096"/>
                </a:lnTo>
                <a:lnTo>
                  <a:pt x="375047" y="2357437"/>
                </a:lnTo>
                <a:lnTo>
                  <a:pt x="0" y="207763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лок-схема: альтернативный процесс 5"/>
          <p:cNvSpPr/>
          <p:nvPr/>
        </p:nvSpPr>
        <p:spPr>
          <a:xfrm>
            <a:off x="357120" y="2214720"/>
            <a:ext cx="6643800" cy="33573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гілі дәрежеде әлемнің қор биржаларындағы жағдайды көрсететін әртүрлі индекстер. Өткен кезеңдегі өзгерістерінің ерекшеліктерін талдау жуықтағы және ұзақ мерзімді келешектегі бұл процестердің жағдайын сипаттауға мүмкіндік бер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extBox 3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217000" cy="4383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Вертикальный свиток 3"/>
          <p:cNvSpPr/>
          <p:nvPr/>
        </p:nvSpPr>
        <p:spPr>
          <a:xfrm>
            <a:off x="1285920" y="285840"/>
            <a:ext cx="6715080" cy="62150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ор индексінің индикаторларын есептеу есептеу әдістемесін таңдаған кезде биржа қызметкерлері бірқатар қиындықтарға кездесті. Ол біздің еліміздегі дамымаған нарық жағдайына дүниежүзінің әдістемесін қоладану мүмкін емес екеніне байланысты. Осыған байланысты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AID </a:t>
            </a:r>
            <a:r>
              <a:rPr b="1" i="1" lang="kk-KZ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қызмекерлерінің ықпалымен биржа қызметкерлері қор нарығы индикаторларын есептеу әдістемесін жасады</a:t>
            </a: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6" descr=""/>
          <p:cNvPicPr/>
          <p:nvPr/>
        </p:nvPicPr>
        <p:blipFill>
          <a:blip r:embed="rId1"/>
          <a:stretch/>
        </p:blipFill>
        <p:spPr>
          <a:xfrm>
            <a:off x="-6480" y="901800"/>
            <a:ext cx="8272440" cy="2103480"/>
          </a:xfrm>
          <a:prstGeom prst="rect">
            <a:avLst/>
          </a:prstGeom>
          <a:ln w="0">
            <a:noFill/>
          </a:ln>
        </p:spPr>
      </p:pic>
      <p:pic>
        <p:nvPicPr>
          <p:cNvPr id="95" name="Скругленная прямоугольная выноска 7" descr=""/>
          <p:cNvPicPr/>
          <p:nvPr/>
        </p:nvPicPr>
        <p:blipFill>
          <a:blip r:embed="rId2"/>
          <a:stretch/>
        </p:blipFill>
        <p:spPr>
          <a:xfrm>
            <a:off x="2298600" y="2511360"/>
            <a:ext cx="6491520" cy="314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1"/>
          <a:stretch/>
        </p:blipFill>
        <p:spPr>
          <a:xfrm>
            <a:off x="146160" y="426960"/>
            <a:ext cx="4511520" cy="202428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4" descr=""/>
          <p:cNvPicPr/>
          <p:nvPr/>
        </p:nvPicPr>
        <p:blipFill>
          <a:blip r:embed="rId2"/>
          <a:stretch/>
        </p:blipFill>
        <p:spPr>
          <a:xfrm>
            <a:off x="30240" y="2425680"/>
            <a:ext cx="911376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нутый угол 3" descr=""/>
          <p:cNvPicPr/>
          <p:nvPr/>
        </p:nvPicPr>
        <p:blipFill>
          <a:blip r:embed="rId2"/>
          <a:stretch/>
        </p:blipFill>
        <p:spPr>
          <a:xfrm>
            <a:off x="1828800" y="249120"/>
            <a:ext cx="6267600" cy="625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26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Лента лицом вниз 3"/>
          <p:cNvGrpSpPr/>
          <p:nvPr/>
        </p:nvGrpSpPr>
        <p:grpSpPr>
          <a:xfrm>
            <a:off x="487440" y="628560"/>
            <a:ext cx="8096040" cy="1309680"/>
            <a:chOff x="487440" y="628560"/>
            <a:chExt cx="8096040" cy="1309680"/>
          </a:xfrm>
        </p:grpSpPr>
        <p:pic>
          <p:nvPicPr>
            <p:cNvPr id="47" name="Лента лицом вниз 3" descr=""/>
            <p:cNvPicPr/>
            <p:nvPr/>
          </p:nvPicPr>
          <p:blipFill>
            <a:blip r:embed="rId1"/>
            <a:stretch/>
          </p:blipFill>
          <p:spPr>
            <a:xfrm>
              <a:off x="487440" y="628560"/>
              <a:ext cx="809604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15960" y="857160"/>
              <a:ext cx="60404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292400" y="738360"/>
            <a:ext cx="6632280" cy="1560240"/>
          </a:xfrm>
          <a:prstGeom prst="rect">
            <a:avLst/>
          </a:prstGeom>
          <a:ln w="0">
            <a:noFill/>
          </a:ln>
        </p:spPr>
      </p:pic>
      <p:sp>
        <p:nvSpPr>
          <p:cNvPr id="50" name="Лента лицом вверх 5"/>
          <p:cNvSpPr/>
          <p:nvPr/>
        </p:nvSpPr>
        <p:spPr>
          <a:xfrm>
            <a:off x="571680" y="2357280"/>
            <a:ext cx="8143560" cy="3929400"/>
          </a:xfrm>
          <a:custGeom>
            <a:avLst/>
            <a:gdLst>
              <a:gd name="textAreaLeft" fmla="*/ 1064520 w 8143560"/>
              <a:gd name="textAreaRight" fmla="*/ 7079040 w 8143560"/>
              <a:gd name="textAreaTop" fmla="*/ 0 h 3929400"/>
              <a:gd name="textAreaBottom" fmla="*/ 3929760 h 3929400"/>
            </a:gdLst>
            <a:ahLst/>
            <a:rect l="textAreaLeft" t="textAreaTop" r="textAreaRight" b="textAreaBottom"/>
            <a:pathLst>
              <a:path w="21600" h="21600">
                <a:moveTo>
                  <a:pt x="5524" y="21600"/>
                </a:moveTo>
                <a:lnTo>
                  <a:pt x="5524" y="21600"/>
                </a:lnTo>
                <a:cubicBezTo>
                  <a:pt x="5524" y="21600"/>
                  <a:pt x="5104" y="21600"/>
                  <a:pt x="4684" y="21600"/>
                </a:cubicBezTo>
                <a:lnTo>
                  <a:pt x="0" y="21600"/>
                </a:lnTo>
                <a:lnTo>
                  <a:pt x="2750" y="10800"/>
                </a:lnTo>
                <a:lnTo>
                  <a:pt x="0" y="0"/>
                </a:lnTo>
                <a:lnTo>
                  <a:pt x="2824" y="0"/>
                </a:lnTo>
                <a:lnTo>
                  <a:pt x="2824" y="0"/>
                </a:lnTo>
                <a:cubicBezTo>
                  <a:pt x="2824" y="0"/>
                  <a:pt x="3244" y="0"/>
                  <a:pt x="3664" y="0"/>
                </a:cubicBezTo>
                <a:lnTo>
                  <a:pt x="17936" y="0"/>
                </a:lnTo>
                <a:cubicBezTo>
                  <a:pt x="18356" y="0"/>
                  <a:pt x="18776" y="0"/>
                  <a:pt x="18776" y="0"/>
                </a:cubicBezTo>
                <a:lnTo>
                  <a:pt x="18776" y="0"/>
                </a:lnTo>
                <a:lnTo>
                  <a:pt x="21600" y="0"/>
                </a:lnTo>
                <a:lnTo>
                  <a:pt x="18850" y="10800"/>
                </a:lnTo>
                <a:lnTo>
                  <a:pt x="21600" y="21600"/>
                </a:lnTo>
                <a:lnTo>
                  <a:pt x="16916" y="21600"/>
                </a:lnTo>
                <a:cubicBezTo>
                  <a:pt x="16496" y="21600"/>
                  <a:pt x="16076" y="21600"/>
                  <a:pt x="16076" y="21600"/>
                </a:cubicBezTo>
                <a:lnTo>
                  <a:pt x="16076" y="21600"/>
                </a:lnTo>
                <a:close/>
              </a:path>
              <a:path fill="darkenLess" w="21600" h="21600">
                <a:moveTo>
                  <a:pt x="5524" y="21600"/>
                </a:moveTo>
                <a:lnTo>
                  <a:pt x="5524" y="21600"/>
                </a:lnTo>
                <a:cubicBezTo>
                  <a:pt x="5524" y="21600"/>
                  <a:pt x="5104" y="21600"/>
                  <a:pt x="4684" y="21600"/>
                </a:cubicBezTo>
                <a:lnTo>
                  <a:pt x="3664" y="21600"/>
                </a:lnTo>
                <a:cubicBezTo>
                  <a:pt x="3244" y="21600"/>
                  <a:pt x="2824" y="21600"/>
                  <a:pt x="2824" y="21600"/>
                </a:cubicBezTo>
                <a:cubicBezTo>
                  <a:pt x="2824" y="21600"/>
                  <a:pt x="3244" y="21600"/>
                  <a:pt x="3664" y="21600"/>
                </a:cubicBezTo>
                <a:close/>
              </a:path>
              <a:path fill="darkenLess" w="21600" h="21600">
                <a:moveTo>
                  <a:pt x="16076" y="21600"/>
                </a:moveTo>
                <a:lnTo>
                  <a:pt x="16076" y="21600"/>
                </a:lnTo>
                <a:cubicBezTo>
                  <a:pt x="16076" y="21600"/>
                  <a:pt x="16496" y="21600"/>
                  <a:pt x="16916" y="21600"/>
                </a:cubicBezTo>
                <a:lnTo>
                  <a:pt x="17936" y="21600"/>
                </a:lnTo>
                <a:cubicBezTo>
                  <a:pt x="18356" y="21600"/>
                  <a:pt x="18776" y="21600"/>
                  <a:pt x="18776" y="21600"/>
                </a:cubicBezTo>
                <a:cubicBezTo>
                  <a:pt x="18776" y="21600"/>
                  <a:pt x="18356" y="21600"/>
                  <a:pt x="17936" y="21600"/>
                </a:cubicBezTo>
                <a:close/>
              </a:path>
              <a:path fill="darkenLess" w="21600" h="21600">
                <a:moveTo>
                  <a:pt x="2824" y="21600"/>
                </a:moveTo>
                <a:lnTo>
                  <a:pt x="2824" y="0"/>
                </a:lnTo>
              </a:path>
              <a:path fill="darkenLess" w="21600" h="21600">
                <a:moveTo>
                  <a:pt x="18776" y="21600"/>
                </a:moveTo>
                <a:lnTo>
                  <a:pt x="18776" y="0"/>
                </a:lnTo>
              </a:path>
            </a:pathLst>
          </a:cu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1609560" y="2298600"/>
            <a:ext cx="6132600" cy="377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311040" y="1249200"/>
            <a:ext cx="8156520" cy="288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D:\Меруерт\Рисунок1.png"/>
          <p:cNvPicPr/>
          <p:nvPr/>
        </p:nvPicPr>
        <p:blipFill>
          <a:blip r:embed="rId2"/>
          <a:stretch/>
        </p:blipFill>
        <p:spPr>
          <a:xfrm>
            <a:off x="5846760" y="4221000"/>
            <a:ext cx="2835360" cy="2492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трелка вправо с вырезом 4" descr=""/>
          <p:cNvPicPr/>
          <p:nvPr/>
        </p:nvPicPr>
        <p:blipFill>
          <a:blip r:embed="rId1"/>
          <a:stretch/>
        </p:blipFill>
        <p:spPr>
          <a:xfrm>
            <a:off x="847800" y="255600"/>
            <a:ext cx="7083360" cy="1407960"/>
          </a:xfrm>
          <a:prstGeom prst="rect">
            <a:avLst/>
          </a:prstGeom>
          <a:ln w="0">
            <a:noFill/>
          </a:ln>
        </p:spPr>
      </p:pic>
      <p:pic>
        <p:nvPicPr>
          <p:cNvPr id="55" name="Стрелка вправо с вырезом 6" descr=""/>
          <p:cNvPicPr/>
          <p:nvPr/>
        </p:nvPicPr>
        <p:blipFill>
          <a:blip r:embed="rId2"/>
          <a:stretch/>
        </p:blipFill>
        <p:spPr>
          <a:xfrm>
            <a:off x="914400" y="1517760"/>
            <a:ext cx="7089840" cy="1560240"/>
          </a:xfrm>
          <a:prstGeom prst="rect">
            <a:avLst/>
          </a:prstGeom>
          <a:ln w="0">
            <a:noFill/>
          </a:ln>
        </p:spPr>
      </p:pic>
      <p:pic>
        <p:nvPicPr>
          <p:cNvPr id="56" name="Стрелка вправо с вырезом 8" descr=""/>
          <p:cNvPicPr/>
          <p:nvPr/>
        </p:nvPicPr>
        <p:blipFill>
          <a:blip r:embed="rId3"/>
          <a:stretch/>
        </p:blipFill>
        <p:spPr>
          <a:xfrm>
            <a:off x="847800" y="2962440"/>
            <a:ext cx="7156440" cy="1554120"/>
          </a:xfrm>
          <a:prstGeom prst="rect">
            <a:avLst/>
          </a:prstGeom>
          <a:ln w="0">
            <a:noFill/>
          </a:ln>
        </p:spPr>
      </p:pic>
      <p:pic>
        <p:nvPicPr>
          <p:cNvPr id="57" name="Стрелка вправо с вырезом 9" descr=""/>
          <p:cNvPicPr/>
          <p:nvPr/>
        </p:nvPicPr>
        <p:blipFill>
          <a:blip r:embed="rId4"/>
          <a:stretch/>
        </p:blipFill>
        <p:spPr>
          <a:xfrm>
            <a:off x="914400" y="4400640"/>
            <a:ext cx="712620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Скругленная прямоугольная выноска 3" descr=""/>
          <p:cNvPicPr/>
          <p:nvPr/>
        </p:nvPicPr>
        <p:blipFill>
          <a:blip r:embed="rId1"/>
          <a:stretch/>
        </p:blipFill>
        <p:spPr>
          <a:xfrm>
            <a:off x="847800" y="517680"/>
            <a:ext cx="7521480" cy="549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рямоугольник 3" descr=""/>
          <p:cNvPicPr/>
          <p:nvPr/>
        </p:nvPicPr>
        <p:blipFill>
          <a:blip r:embed="rId1"/>
          <a:stretch/>
        </p:blipFill>
        <p:spPr>
          <a:xfrm>
            <a:off x="573120" y="573120"/>
            <a:ext cx="7832520" cy="175572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2"/>
          <a:stretch/>
        </p:blipFill>
        <p:spPr>
          <a:xfrm>
            <a:off x="792000" y="2846520"/>
            <a:ext cx="5334120" cy="329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Горизонтальный свиток 5"/>
          <p:cNvSpPr/>
          <p:nvPr/>
        </p:nvSpPr>
        <p:spPr>
          <a:xfrm>
            <a:off x="1714680" y="214200"/>
            <a:ext cx="5500440" cy="1428840"/>
          </a:xfrm>
          <a:prstGeom prst="horizontalScroll">
            <a:avLst>
              <a:gd name="adj" fmla="val 24351"/>
            </a:avLst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3" descr=""/>
          <p:cNvPicPr/>
          <p:nvPr/>
        </p:nvPicPr>
        <p:blipFill>
          <a:blip r:embed="rId1"/>
          <a:stretch/>
        </p:blipFill>
        <p:spPr>
          <a:xfrm>
            <a:off x="1500120" y="549360"/>
            <a:ext cx="5997600" cy="961920"/>
          </a:xfrm>
          <a:prstGeom prst="rect">
            <a:avLst/>
          </a:prstGeom>
          <a:ln w="0">
            <a:noFill/>
          </a:ln>
        </p:spPr>
      </p:pic>
      <p:sp>
        <p:nvSpPr>
          <p:cNvPr id="63" name="Вертикальный свиток 6"/>
          <p:cNvSpPr/>
          <p:nvPr/>
        </p:nvSpPr>
        <p:spPr>
          <a:xfrm>
            <a:off x="142920" y="1928880"/>
            <a:ext cx="2428920" cy="32148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у-Джонстың өнеркәсіптік индексі 30 ірі өнеркәсіптік корпорация акциялары курсының қозғалысының қарапайым орташа көрсеткіш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ертикальный свиток 7"/>
          <p:cNvSpPr/>
          <p:nvPr/>
        </p:nvSpPr>
        <p:spPr>
          <a:xfrm>
            <a:off x="2143080" y="2714760"/>
            <a:ext cx="2428920" cy="3214440"/>
          </a:xfrm>
          <a:prstGeom prst="verticalScroll">
            <a:avLst>
              <a:gd name="adj" fmla="val 12500"/>
            </a:avLst>
          </a:pr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у-Джонстың транспорттық индексі  - 20 транспорттық корпорация акциялары бағасының қозғалысын сипаттайтын орташа көрсеткі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Вертикальный свиток 8"/>
          <p:cNvSpPr/>
          <p:nvPr/>
        </p:nvSpPr>
        <p:spPr>
          <a:xfrm>
            <a:off x="4500720" y="1857240"/>
            <a:ext cx="2428560" cy="321480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у-Джонстың коммуналдық индексі – газ және электр таратумен айналысатын 15 компания акцияларын курсының орташа көрсеткіш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Вертикальный свиток 9"/>
          <p:cNvSpPr/>
          <p:nvPr/>
        </p:nvSpPr>
        <p:spPr>
          <a:xfrm>
            <a:off x="6500880" y="2500200"/>
            <a:ext cx="2428920" cy="3214800"/>
          </a:xfrm>
          <a:prstGeom prst="verticalScroll">
            <a:avLst>
              <a:gd name="adj" fmla="val 12500"/>
            </a:avLst>
          </a:pr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у-Джонстың құрамдық индексі  - Доу-Джонстың өнеркәсіптік, транспорттық және коммуналдық индекстері негізінде құралатын көрсеткіші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139840"/>
            <a:ext cx="7066080" cy="1548000"/>
          </a:xfrm>
          <a:prstGeom prst="rect">
            <a:avLst/>
          </a:prstGeom>
          <a:ln w="0">
            <a:noFill/>
          </a:ln>
        </p:spPr>
      </p:pic>
      <p:sp>
        <p:nvSpPr>
          <p:cNvPr id="68" name="Овальная выноска 4"/>
          <p:cNvSpPr/>
          <p:nvPr/>
        </p:nvSpPr>
        <p:spPr>
          <a:xfrm>
            <a:off x="5572080" y="357120"/>
            <a:ext cx="3286080" cy="1428840"/>
          </a:xfrm>
          <a:prstGeom prst="wedgeEllipseCallout">
            <a:avLst>
              <a:gd name="adj1" fmla="val -50324"/>
              <a:gd name="adj2" fmla="val 68597"/>
            </a:avLst>
          </a:prstGeom>
          <a:solidFill>
            <a:srgbClr val="ff00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Calibri"/>
              </a:rPr>
              <a:t>500 корпорация акциясы б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ьная выноска 5"/>
          <p:cNvSpPr/>
          <p:nvPr/>
        </p:nvSpPr>
        <p:spPr>
          <a:xfrm>
            <a:off x="500040" y="4643280"/>
            <a:ext cx="3357720" cy="1643400"/>
          </a:xfrm>
          <a:prstGeom prst="wedgeEllipseCallout">
            <a:avLst>
              <a:gd name="adj1" fmla="val 46606"/>
              <a:gd name="adj2" fmla="val -74268"/>
            </a:avLst>
          </a:prstGeom>
          <a:solidFill>
            <a:srgbClr val="ff00ff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Calibri"/>
              </a:rPr>
              <a:t>100 корпорация акциясы б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Box 6" descr=""/>
          <p:cNvPicPr/>
          <p:nvPr/>
        </p:nvPicPr>
        <p:blipFill>
          <a:blip r:embed="rId2"/>
          <a:stretch/>
        </p:blipFill>
        <p:spPr>
          <a:xfrm>
            <a:off x="1590840" y="3328920"/>
            <a:ext cx="6035400" cy="517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12:17Z</dcterms:created>
  <dc:creator>Admin</dc:creator>
  <dc:description/>
  <dc:language>en-US</dc:language>
  <cp:lastModifiedBy>Admin</cp:lastModifiedBy>
  <dcterms:modified xsi:type="dcterms:W3CDTF">2012-11-12T08:56:14Z</dcterms:modified>
  <cp:revision>29</cp:revision>
  <dc:subject/>
  <dc:title>Слайд 1</dc:title>
</cp:coreProperties>
</file>