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E2D-94DA-4059-B0F0-F57DC219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1160-C0A8-413E-AC99-233B2167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1AC-8F5B-4B91-9BE3-FF63B23B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930-9766-48BC-8F80-509ABBB4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6A6-A43F-4EB1-96BD-DB66D6EF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703-14EC-4EA9-9706-D439975D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EBC-A679-4485-8BD4-66B73C7C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1FCA-C6E4-464E-8B08-9D377D26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CD6-524F-45D6-B6F8-BCC67C39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9D9-BCC3-4652-A5F0-3D6AD109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E60-54E0-433B-B39E-3F608801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EC4-976C-4657-A477-11610B55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396F-A4C6-45D1-BF74-9F20B5732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2"/>
          <a:stretch/>
        </p:blipFill>
        <p:spPr>
          <a:xfrm>
            <a:off x="749160" y="1981080"/>
            <a:ext cx="7572600" cy="7812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047"/>
          <p:cNvPicPr/>
          <p:nvPr/>
        </p:nvPicPr>
        <p:blipFill>
          <a:blip r:embed="rId3"/>
          <a:stretch/>
        </p:blipFill>
        <p:spPr>
          <a:xfrm rot="10800000">
            <a:off x="1835280" y="188640"/>
            <a:ext cx="5688000" cy="7617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047"/>
          <p:cNvPicPr/>
          <p:nvPr/>
        </p:nvPicPr>
        <p:blipFill>
          <a:blip r:embed="rId4"/>
          <a:stretch/>
        </p:blipFill>
        <p:spPr>
          <a:xfrm>
            <a:off x="1857240" y="5857920"/>
            <a:ext cx="5688000" cy="7621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7"/>
          <p:cNvSpPr/>
          <p:nvPr/>
        </p:nvSpPr>
        <p:spPr>
          <a:xfrm>
            <a:off x="428760" y="2143080"/>
            <a:ext cx="835812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4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    </a:t>
            </a:r>
            <a:r>
              <a:rPr b="0" i="1" lang="kk-KZ" sz="4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Тақырыбы: </a:t>
            </a:r>
            <a:r>
              <a:rPr b="0" i="1" lang="kk-KZ" sz="5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блигация</a:t>
            </a:r>
            <a:br>
              <a:rPr sz="5400"/>
            </a:br>
            <a:br>
              <a:rPr sz="2800"/>
            </a:br>
            <a:br>
              <a:rPr sz="28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i="1" lang="kk-K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рындаған:Киялова А. Қаржы 10-500-41 тобы, 3 кур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4360" y="1413000"/>
            <a:ext cx="3038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4 - тақырып: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Овал 5"/>
          <p:cNvSpPr/>
          <p:nvPr/>
        </p:nvSpPr>
        <p:spPr>
          <a:xfrm>
            <a:off x="142920" y="2286000"/>
            <a:ext cx="3071880" cy="2071800"/>
          </a:xfrm>
          <a:prstGeom prst="ellipse">
            <a:avLst/>
          </a:prstGeom>
          <a:solidFill>
            <a:srgbClr val="7030a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тық нысанда шығарылған облигацияда мынадай деректемелер болуы тиіс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4429080" y="285840"/>
            <a:ext cx="4429080" cy="6215040"/>
          </a:xfrm>
          <a:prstGeom prst="rect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ғалы қағаздың атауы – «облигация»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ғалы қағаз түрі – «атаулы»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итенттің фирмалық атау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ңды мекен-жайы және банктік деректемелері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ы шығарылымды Қазақстан Республикасының бағалы қағаздар жөніндегі уәкілетті органында (қазір Қазақстан Республикасының Қаржы нарығын және қаржы ұйымдарын реттеу мен қадағалау агенттігі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Штриховая стрелка вправо 7"/>
          <p:cNvSpPr/>
          <p:nvPr/>
        </p:nvSpPr>
        <p:spPr>
          <a:xfrm>
            <a:off x="3500280" y="3214800"/>
            <a:ext cx="978120" cy="48420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a977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Выноска со стрелкой вверх 4"/>
          <p:cNvSpPr/>
          <p:nvPr/>
        </p:nvSpPr>
        <p:spPr>
          <a:xfrm>
            <a:off x="1428840" y="2071800"/>
            <a:ext cx="6638760" cy="4464000"/>
          </a:xfrm>
          <a:prstGeom prst="upArrowCallout">
            <a:avLst>
              <a:gd name="adj1" fmla="val 25931"/>
              <a:gd name="adj2" fmla="val 29406"/>
              <a:gd name="adj3" fmla="val 13167"/>
              <a:gd name="adj4" fmla="val 35219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шік иесі-заңды тұлғаның фирмалық атауы мен орналасқан жері (немесе меншік иесі-жеке тұлғаның тегі, аты, әкесінің аты және төлқұжат деректері 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ығарылым шарттарында көзделген тираждар мен ұтыстарды өткізу шартта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өтеу жасалатын оры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өтеудің басталуы мен аяқталу күндері нақты көрсетілген өтеу шартта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Круглая лента лицом вниз 3" descr=""/>
          <p:cNvPicPr/>
          <p:nvPr/>
        </p:nvPicPr>
        <p:blipFill>
          <a:blip r:embed="rId1"/>
          <a:stretch/>
        </p:blipFill>
        <p:spPr>
          <a:xfrm>
            <a:off x="755640" y="493560"/>
            <a:ext cx="7675560" cy="14385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5" descr=""/>
          <p:cNvPicPr/>
          <p:nvPr/>
        </p:nvPicPr>
        <p:blipFill>
          <a:blip r:embed="rId1"/>
          <a:stretch/>
        </p:blipFill>
        <p:spPr>
          <a:xfrm>
            <a:off x="96840" y="725400"/>
            <a:ext cx="8040600" cy="12366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2286000" y="35712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500040" y="35712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итент мынадай талаптарды сақтаған жағдайда ға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2286000" y="2136600"/>
            <a:ext cx="4572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1"/>
          <p:cNvSpPr/>
          <p:nvPr/>
        </p:nvSpPr>
        <p:spPr>
          <a:xfrm>
            <a:off x="285840" y="2143080"/>
            <a:ext cx="8286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ефолт фактiлерi болмаған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лигациялар шығару туралы шешім қабылдаған күні міндеттемелерді орындамау фактілері болмаға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оңғы үш жыл iшiнде қызметтi залал шекпей жүзеге асырған (арнайы қаржы компаниясын қоспағанда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лигациялық бағдарламалар шегiнде шығарылатын облигациялар қойған талаптарға сай келген жағдайлар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лигациялар шығаруды жүзеге асыруға құқыл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Прямая со стрелкой 13"/>
          <p:cNvCxnSpPr/>
          <p:nvPr/>
        </p:nvCxnSpPr>
        <p:spPr>
          <a:xfrm>
            <a:off x="2857320" y="1714320"/>
            <a:ext cx="1857960" cy="5720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179280" y="765000"/>
            <a:ext cx="8785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кругленная прямоугольная выноска 5" descr=""/>
          <p:cNvPicPr/>
          <p:nvPr/>
        </p:nvPicPr>
        <p:blipFill>
          <a:blip r:embed="rId1"/>
          <a:stretch/>
        </p:blipFill>
        <p:spPr>
          <a:xfrm>
            <a:off x="1103400" y="2401920"/>
            <a:ext cx="7735680" cy="3713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"/>
          <p:cNvSpPr/>
          <p:nvPr/>
        </p:nvSpPr>
        <p:spPr>
          <a:xfrm>
            <a:off x="2286000" y="17208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500720" y="1500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7"/>
          <p:cNvSpPr/>
          <p:nvPr/>
        </p:nvSpPr>
        <p:spPr>
          <a:xfrm flipV="1" rot="11358000">
            <a:off x="1851480" y="723600"/>
            <a:ext cx="652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лигацияларды эмитенттің мынадай активтері қамтамасыз ете ала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4"/>
          <p:cNvSpPr/>
          <p:nvPr/>
        </p:nvSpPr>
        <p:spPr>
          <a:xfrm>
            <a:off x="282600" y="2997360"/>
            <a:ext cx="88930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Волна 5"/>
          <p:cNvSpPr/>
          <p:nvPr/>
        </p:nvSpPr>
        <p:spPr>
          <a:xfrm>
            <a:off x="549360" y="692280"/>
            <a:ext cx="7848360" cy="1944720"/>
          </a:xfrm>
          <a:custGeom>
            <a:avLst/>
            <a:gdLst>
              <a:gd name="textAreaLeft" fmla="*/ 0 w 7848360"/>
              <a:gd name="textAreaRight" fmla="*/ 7848720 w 7848360"/>
              <a:gd name="textAreaTop" fmla="*/ 486000 h 1944720"/>
              <a:gd name="textAreaBottom" fmla="*/ 1458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лигацияның нақтылы құн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1476360" y="1052640"/>
            <a:ext cx="64803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642960" y="2550960"/>
            <a:ext cx="814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лигация құнының ол шығарылған кезде белгiленген, купондық облигация бойынша пайызбен көрсетiлген сыйақы есептелетiн ақшалай көрiнiсi, сондай-ақ облигацияны өтеген кезде оны ұстаушыға төленуге тиiстi со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3"/>
          <p:cNvSpPr/>
          <p:nvPr/>
        </p:nvSpPr>
        <p:spPr>
          <a:xfrm>
            <a:off x="1071720" y="571680"/>
            <a:ext cx="6357960" cy="114300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итенттің облигационер алдындағы міндеттемелер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Двойная стрелка вверх/вниз 8"/>
          <p:cNvSpPr/>
          <p:nvPr/>
        </p:nvSpPr>
        <p:spPr>
          <a:xfrm>
            <a:off x="3571920" y="1928880"/>
            <a:ext cx="1214280" cy="1714320"/>
          </a:xfrm>
          <a:prstGeom prst="upDownArrow">
            <a:avLst>
              <a:gd name="adj1" fmla="val 50000"/>
              <a:gd name="adj2" fmla="val 50001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2"/>
          <p:cNvSpPr/>
          <p:nvPr/>
        </p:nvSpPr>
        <p:spPr>
          <a:xfrm>
            <a:off x="357120" y="3786120"/>
            <a:ext cx="7715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Әрбір облигация бойынша процент төле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лигация және купондық парақтар иелеріне берілетін жерді анықта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епілдік затын және заңды титулды анықта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епілдік затын әртүрлі күтпеген оқиғалардан сақтандыр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лық төле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митент және оның іс әрекетінің құқықтық негіздері туралы ақпарат бер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Выноска со стрелкой влево 3"/>
          <p:cNvSpPr/>
          <p:nvPr/>
        </p:nvSpPr>
        <p:spPr>
          <a:xfrm>
            <a:off x="3857760" y="285840"/>
            <a:ext cx="4902120" cy="5904000"/>
          </a:xfrm>
          <a:prstGeom prst="leftArrowCallout">
            <a:avLst>
              <a:gd name="adj1" fmla="val 14342"/>
              <a:gd name="adj2" fmla="val 15919"/>
              <a:gd name="adj3" fmla="val 12958"/>
              <a:gd name="adj4" fmla="val 81767"/>
            </a:avLst>
          </a:prstGeom>
          <a:solidFill>
            <a:srgbClr val="fe7aee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митент пен облигационер арсындағы қарыздық қатынастарды білдіред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епілдендірілген пайда әкелед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митент өтеген мерзімге дейін қор нарығында айналыста болады және өз бағамы ба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Өтімділік, кірістілік, сенімділік деңгейі ба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іріс алуда акциямен салыстырғанда артықшылықтары ба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әсіпорын таратылған жағдайда акциямен салыстырмалы түрде оны ұстаушылардың  талаптары бірінші кезекте орындала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4"/>
          <p:cNvSpPr/>
          <p:nvPr/>
        </p:nvSpPr>
        <p:spPr>
          <a:xfrm>
            <a:off x="285840" y="2286000"/>
            <a:ext cx="330840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гациялардың келесі қасиеттері ба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кругленный прямоугольник 5"/>
          <p:cNvSpPr/>
          <p:nvPr/>
        </p:nvSpPr>
        <p:spPr>
          <a:xfrm>
            <a:off x="285840" y="2286000"/>
            <a:ext cx="330840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гациялардың келесі қасиеттері ба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3"/>
          <p:cNvSpPr/>
          <p:nvPr/>
        </p:nvSpPr>
        <p:spPr>
          <a:xfrm>
            <a:off x="304920" y="549360"/>
            <a:ext cx="8569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4"/>
          <p:cNvSpPr/>
          <p:nvPr/>
        </p:nvSpPr>
        <p:spPr>
          <a:xfrm>
            <a:off x="214200" y="928800"/>
            <a:ext cx="8572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гацияға пайыздарды төлеуге арналған купондық парақ тіркелуі мүмкін. </a:t>
            </a:r>
            <a:r>
              <a:rPr b="0" i="1" lang="kk-KZ" sz="4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Купондық төлемдер облигацияны ұстаушыға облигация айналымының бүкіл мерзімі бойы төленетін мерзімді пайыздық төлемдерді білдіреді</a:t>
            </a:r>
            <a:r>
              <a:rPr b="0" i="1" lang="kk-KZ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047"/>
          <p:cNvPicPr/>
          <p:nvPr/>
        </p:nvPicPr>
        <p:blipFill>
          <a:blip r:embed="rId1"/>
          <a:stretch/>
        </p:blipFill>
        <p:spPr>
          <a:xfrm>
            <a:off x="1357200" y="5929200"/>
            <a:ext cx="568800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Выноска со стрелкой вниз 3" descr=""/>
          <p:cNvPicPr/>
          <p:nvPr/>
        </p:nvPicPr>
        <p:blipFill>
          <a:blip r:embed="rId2"/>
          <a:stretch/>
        </p:blipFill>
        <p:spPr>
          <a:xfrm>
            <a:off x="1639800" y="585720"/>
            <a:ext cx="6010200" cy="1981440"/>
          </a:xfrm>
          <a:prstGeom prst="rect">
            <a:avLst/>
          </a:prstGeom>
          <a:ln w="0">
            <a:noFill/>
          </a:ln>
        </p:spPr>
      </p:pic>
      <p:sp>
        <p:nvSpPr>
          <p:cNvPr id="116" name="Двойная стрелка влево/вправо 6"/>
          <p:cNvSpPr/>
          <p:nvPr/>
        </p:nvSpPr>
        <p:spPr>
          <a:xfrm>
            <a:off x="1116000" y="2276640"/>
            <a:ext cx="7201080" cy="3889080"/>
          </a:xfrm>
          <a:prstGeom prst="leftRightArrow">
            <a:avLst>
              <a:gd name="adj1" fmla="val 70083"/>
              <a:gd name="adj2" fmla="val 31143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блигацияның нөмірі мен серияс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эмитенттің атау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айыздарды төлеу мерзімділігі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уәкілетті тұлғалардың қолдары мен эмитенттің мө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5"/>
          <p:cNvSpPr/>
          <p:nvPr/>
        </p:nvSpPr>
        <p:spPr>
          <a:xfrm>
            <a:off x="179280" y="1590840"/>
            <a:ext cx="87138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3"/>
          <p:cNvSpPr/>
          <p:nvPr/>
        </p:nvSpPr>
        <p:spPr>
          <a:xfrm>
            <a:off x="428760" y="2142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онерлік қоғам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онды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әне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онтты облигациялар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ығаруға құқы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642960" y="1000080"/>
            <a:ext cx="2928960" cy="5716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понды облигация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571680" y="2000160"/>
            <a:ext cx="3143160" cy="42865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ы ұстаушының  акционерлік қоғам облигациялардың шығарылым проспектісіне сәйкес төлейтін сыйақыны алу құқығын растайтын облигац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7"/>
          <p:cNvSpPr/>
          <p:nvPr/>
        </p:nvSpPr>
        <p:spPr>
          <a:xfrm>
            <a:off x="4572000" y="1000080"/>
            <a:ext cx="3214800" cy="64296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конт</a:t>
            </a:r>
            <a:r>
              <a:rPr b="1" lang="kk-K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 облигац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8"/>
          <p:cNvSpPr/>
          <p:nvPr/>
        </p:nvSpPr>
        <p:spPr>
          <a:xfrm>
            <a:off x="4572000" y="2000160"/>
            <a:ext cx="3357720" cy="428652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қтылы құнына төмен бағамен орналастырылатын және оны ұстаушының облигацияның нақтылы құнын көзделген өтеу мерзімінде алу құқығын куәландыратын </a:t>
            </a:r>
            <a:r>
              <a:rPr b="1" lang="kk-K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гац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cc"/>
                </a:solidFill>
                <a:latin typeface="KZ Decor"/>
              </a:rPr>
              <a:t> </a:t>
            </a:r>
            <a:r>
              <a:rPr b="1" lang="kk-KZ" sz="3600" spc="-1" strike="noStrike">
                <a:solidFill>
                  <a:srgbClr val="0000cc"/>
                </a:solidFill>
                <a:latin typeface="KZ Decor"/>
              </a:rPr>
              <a:t>«Болашақта өркениетті дамыған елдердің қатарына ену үшін заман талабына сай білім қажет. Қазақстанды дамыған 50 елдің қатарына жеткізетін, терезесін тең ететін – білім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cc"/>
                </a:solidFill>
                <a:latin typeface="KZ Decor"/>
              </a:rPr>
              <a:t>                                                    </a:t>
            </a:r>
            <a:r>
              <a:rPr b="1" lang="kk-KZ" sz="3600" spc="-1" strike="noStrike">
                <a:solidFill>
                  <a:srgbClr val="0000cc"/>
                </a:solidFill>
                <a:latin typeface="KZ Decor"/>
              </a:rPr>
              <a:t>Н.Ә .Назарбае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D:\клипарты\vinetki\vinetki\6562a75d0add.png"/>
          <p:cNvPicPr/>
          <p:nvPr/>
        </p:nvPicPr>
        <p:blipFill>
          <a:blip r:embed="rId1"/>
          <a:stretch/>
        </p:blipFill>
        <p:spPr>
          <a:xfrm>
            <a:off x="108000" y="3970440"/>
            <a:ext cx="9036000" cy="2852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004"/>
          <p:cNvPicPr/>
          <p:nvPr/>
        </p:nvPicPr>
        <p:blipFill>
          <a:blip r:embed="rId2"/>
          <a:stretch/>
        </p:blipFill>
        <p:spPr>
          <a:xfrm>
            <a:off x="0" y="0"/>
            <a:ext cx="9326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8"/>
          <p:cNvSpPr/>
          <p:nvPr/>
        </p:nvSpPr>
        <p:spPr>
          <a:xfrm>
            <a:off x="287280" y="3036960"/>
            <a:ext cx="511344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5141880" y="5229360"/>
            <a:ext cx="40021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26"/>
          <p:cNvGrpSpPr/>
          <p:nvPr/>
        </p:nvGrpSpPr>
        <p:grpSpPr>
          <a:xfrm>
            <a:off x="0" y="0"/>
            <a:ext cx="9143280" cy="6900480"/>
            <a:chOff x="0" y="0"/>
            <a:chExt cx="9143280" cy="6900480"/>
          </a:xfrm>
        </p:grpSpPr>
        <p:grpSp>
          <p:nvGrpSpPr>
            <p:cNvPr id="52" name="Group 27"/>
            <p:cNvGrpSpPr/>
            <p:nvPr/>
          </p:nvGrpSpPr>
          <p:grpSpPr>
            <a:xfrm>
              <a:off x="0" y="0"/>
              <a:ext cx="9143280" cy="6892200"/>
              <a:chOff x="0" y="0"/>
              <a:chExt cx="9143280" cy="6892200"/>
            </a:xfrm>
          </p:grpSpPr>
          <p:pic>
            <p:nvPicPr>
              <p:cNvPr id="53" name="Picture 28" descr="пгшлпгш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-3351960" y="3425040"/>
                <a:ext cx="6819120" cy="11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29" descr="пгшлпгш"/>
              <p:cNvPicPr/>
              <p:nvPr/>
            </p:nvPicPr>
            <p:blipFill>
              <a:blip r:embed="rId4"/>
              <a:stretch/>
            </p:blipFill>
            <p:spPr>
              <a:xfrm>
                <a:off x="34560" y="0"/>
                <a:ext cx="910764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Picture 30" descr="пгшлпгш"/>
              <p:cNvPicPr/>
              <p:nvPr/>
            </p:nvPicPr>
            <p:blipFill>
              <a:blip r:embed="rId5"/>
              <a:stretch/>
            </p:blipFill>
            <p:spPr>
              <a:xfrm rot="5400000">
                <a:off x="5676120" y="3425040"/>
                <a:ext cx="6819120" cy="114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" name="Picture 31" descr="пгшлпгш"/>
            <p:cNvPicPr/>
            <p:nvPr/>
          </p:nvPicPr>
          <p:blipFill>
            <a:blip r:embed="rId6"/>
            <a:stretch/>
          </p:blipFill>
          <p:spPr>
            <a:xfrm>
              <a:off x="0" y="6741720"/>
              <a:ext cx="910764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Прямоугольник 13"/>
          <p:cNvSpPr/>
          <p:nvPr/>
        </p:nvSpPr>
        <p:spPr>
          <a:xfrm>
            <a:off x="357120" y="285840"/>
            <a:ext cx="8572680" cy="56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оспар</a:t>
            </a:r>
            <a:br>
              <a:rPr sz="40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i="1" lang="kk-KZ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i="1" lang="kk-KZ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1.Облигациялардың жалпы сипаттамасы. </a:t>
            </a:r>
            <a:br>
              <a:rPr sz="3200"/>
            </a:br>
            <a:r>
              <a:rPr b="1" i="1" lang="kk-KZ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 2. Акция және облигация айырмашылығы. </a:t>
            </a:r>
            <a:br>
              <a:rPr sz="3200"/>
            </a:br>
            <a:r>
              <a:rPr b="1" i="1" lang="kk-KZ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 3.Облигациялардың жіктелуі.</a:t>
            </a:r>
            <a:br>
              <a:rPr sz="3200"/>
            </a:br>
            <a:r>
              <a:rPr b="1" i="1" lang="kk-KZ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 4.Облигацияларды шыгару тәртібі </a:t>
            </a:r>
            <a:br>
              <a:rPr sz="3200"/>
            </a:br>
            <a:r>
              <a:rPr b="1" i="1" lang="kk-KZ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 5.Облигациялар бойынша табысты төлеу әдістері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Скругленный прямоугольник 6"/>
          <p:cNvSpPr/>
          <p:nvPr/>
        </p:nvSpPr>
        <p:spPr>
          <a:xfrm>
            <a:off x="285840" y="2286000"/>
            <a:ext cx="330840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упонды облигациялардың түрлері</a:t>
            </a:r>
            <a:r>
              <a:rPr b="1" i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Выноска со стрелкой влево 7"/>
          <p:cNvSpPr/>
          <p:nvPr/>
        </p:nvSpPr>
        <p:spPr>
          <a:xfrm>
            <a:off x="3857760" y="285840"/>
            <a:ext cx="4902120" cy="5904000"/>
          </a:xfrm>
          <a:prstGeom prst="leftArrowCallout">
            <a:avLst>
              <a:gd name="adj1" fmla="val 14342"/>
              <a:gd name="adj2" fmla="val 15919"/>
              <a:gd name="adj3" fmla="val 12958"/>
              <a:gd name="adj4" fmla="val 81767"/>
            </a:avLst>
          </a:prstGeom>
          <a:solidFill>
            <a:srgbClr val="fe7aee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птелген немесе тұрақты пайыз мөлшерлемесімен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йыз мөлшері облигацияларды шығарған сәтте анықталады да, шығарылым шарттарында көрсетілген бірдей уақыт аралықтарында төленеді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згермелі пайыз мөлшерлемесімен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йыз мөлшерлемесі облигацияларды шығару шарттарында алдын-ала белгіленген ережелерге сәйкес өзгеруі мүмкін. Өзгермелі пайыз мөлшерлемесі инфляция деңгейіне, банктік сыйақы мөлшерлемелеріне, қайта қаржыландыру мөлшерлемелеріне байланысты болад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муляциялық пайыз мөлшерлемесімен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йыз мөлшері жинақталып, пайда түскен кезде төленеді. Бұл туралы шығарылым шарттарында көрсетіледі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Горизонтальный свиток 12" descr=""/>
          <p:cNvPicPr/>
          <p:nvPr/>
        </p:nvPicPr>
        <p:blipFill>
          <a:blip r:embed="rId2"/>
          <a:stretch/>
        </p:blipFill>
        <p:spPr>
          <a:xfrm>
            <a:off x="1017720" y="176040"/>
            <a:ext cx="7095960" cy="1768680"/>
          </a:xfrm>
          <a:prstGeom prst="rect">
            <a:avLst/>
          </a:prstGeom>
          <a:ln w="0">
            <a:noFill/>
          </a:ln>
        </p:spPr>
      </p:pic>
      <p:sp>
        <p:nvSpPr>
          <p:cNvPr id="59" name="Вертикальный свиток 13"/>
          <p:cNvSpPr/>
          <p:nvPr/>
        </p:nvSpPr>
        <p:spPr>
          <a:xfrm>
            <a:off x="1143000" y="2000160"/>
            <a:ext cx="6500880" cy="435780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итенттің қарыз нысанын білдіретін, инвесторлар арасында орналастырылған қаржы құрал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гациялар белгілі бір мерзімде өтелуі тиіс және мезгіл-мезгіл пайыздар төлеуді талап етеді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Горизонтальный свиток 3"/>
          <p:cNvSpPr/>
          <p:nvPr/>
        </p:nvSpPr>
        <p:spPr>
          <a:xfrm>
            <a:off x="285840" y="214200"/>
            <a:ext cx="8424720" cy="6121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000080" y="1131480"/>
            <a:ext cx="7215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6600"/>
                </a:solidFill>
                <a:latin typeface="Times New Roman"/>
                <a:ea typeface="Calibri"/>
              </a:rPr>
              <a:t>Облигациялық бағдарлама - эмитент бiрнеше облигациялар шығаруды, оның iшiнде шығарылымның тиiстi проспектiсi белгiлейтiн әртүрлi құрылыммен шығаруды жүзеге асыруға құқылы болатын шекте облигациялар шыға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047"/>
          <p:cNvPicPr/>
          <p:nvPr/>
        </p:nvPicPr>
        <p:blipFill>
          <a:blip r:embed="rId1"/>
          <a:stretch/>
        </p:blipFill>
        <p:spPr>
          <a:xfrm>
            <a:off x="1571760" y="5857920"/>
            <a:ext cx="568800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Скругленная прямоугольная выноска 4"/>
          <p:cNvGrpSpPr/>
          <p:nvPr/>
        </p:nvGrpSpPr>
        <p:grpSpPr>
          <a:xfrm>
            <a:off x="579600" y="1736640"/>
            <a:ext cx="7753320" cy="4797360"/>
            <a:chOff x="579600" y="1736640"/>
            <a:chExt cx="7753320" cy="4797360"/>
          </a:xfrm>
        </p:grpSpPr>
        <p:pic>
          <p:nvPicPr>
            <p:cNvPr id="64" name="Скругленная прямоугольная выноска 4" descr=""/>
            <p:cNvPicPr/>
            <p:nvPr/>
          </p:nvPicPr>
          <p:blipFill>
            <a:blip r:embed="rId1"/>
            <a:stretch/>
          </p:blipFill>
          <p:spPr>
            <a:xfrm>
              <a:off x="579600" y="1736640"/>
              <a:ext cx="77533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39880" y="2625840"/>
              <a:ext cx="7238880" cy="36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kk-KZ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Облигация ұстаушы қоғамға несие беруші, ал акционер қоғамды меншіктеуші;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kk-KZ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Облигация ұстаушыға процент түрінде бекітілген табыс төленеді, ал дивиденд мөлшері тіркелмейді;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kk-KZ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Акционердің дауыс беру құқығы бар, ал облигационердің бұндай құқығы жоқ;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kk-KZ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Облигация бойынша табыс төлеу қоғамның шығынын құрайды, ол салық төлегеннен қалған пайдадан төленеді. Ал дивиденд қоғамның таза пайдасынан өтеледі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3"/>
          <p:cNvSpPr/>
          <p:nvPr/>
        </p:nvSpPr>
        <p:spPr>
          <a:xfrm>
            <a:off x="1071720" y="285840"/>
            <a:ext cx="6500520" cy="1557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лигация да акция сияқты қоғамды инвестициялаудың негізгі көзі. Бірақ акция мен облигациялардың айырмашылықтары ба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трелка вниз 5"/>
          <p:cNvSpPr/>
          <p:nvPr/>
        </p:nvSpPr>
        <p:spPr>
          <a:xfrm>
            <a:off x="3857760" y="1857240"/>
            <a:ext cx="57132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928880" y="714240"/>
          <a:ext cx="6429240" cy="5959440"/>
        </p:xfrm>
        <a:graphic>
          <a:graphicData uri="http://schemas.openxmlformats.org/drawingml/2006/table">
            <a:tbl>
              <a:tblPr/>
              <a:tblGrid>
                <a:gridCol w="2433600"/>
                <a:gridCol w="3995640"/>
              </a:tblGrid>
              <a:tr h="63108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птастыру белгілері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</a:t>
                      </a:r>
                      <a:r>
                        <a:rPr b="1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лигация түрлер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Иелену тәртіб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ау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Ұсынба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Қамтамасыз етілу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епілдендіріл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епілдендірілме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Айырбасталымдылығ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йырбасталым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йырбасталмайты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Эмит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порация облигациял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млекет облигациял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Шығару мақс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аңа инвестициялық жобаларды қаржыланды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Өндірістік емес салаларды қаржыланды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Айналыс мерзім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Өтеу мерзімі бекітіл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Өтеу мерзімі бекітілмег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Шығару ныс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Құжат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Құжатсы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Кіріс төлеу форма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йызсыз (дисконтт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йыздық (өзгермелі мөлшерлемеме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a00"/>
            </a:gs>
            <a:gs pos="100000">
              <a:srgbClr val="ff0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Меруерт\Рисунок1.png"/>
          <p:cNvPicPr/>
          <p:nvPr/>
        </p:nvPicPr>
        <p:blipFill>
          <a:blip r:embed="rId1"/>
          <a:stretch/>
        </p:blipFill>
        <p:spPr>
          <a:xfrm>
            <a:off x="7093080" y="5084640"/>
            <a:ext cx="1850760" cy="1629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5"/>
          <p:cNvSpPr/>
          <p:nvPr/>
        </p:nvSpPr>
        <p:spPr>
          <a:xfrm>
            <a:off x="500040" y="571680"/>
            <a:ext cx="8001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млекеттік облигацияларды шығару мақсаттар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Қазақстан Республикасының Үкіметінің бюджет тапшылығын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қты жобаларды жүзеге асыруға жұмсалған нысаналы шығындары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басқа бағалы қағаздар бойынша қарызын жабуғ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Выгнутая вправо стрелка 27"/>
          <p:cNvSpPr/>
          <p:nvPr/>
        </p:nvSpPr>
        <p:spPr>
          <a:xfrm>
            <a:off x="3429000" y="1714680"/>
            <a:ext cx="4929120" cy="1643040"/>
          </a:xfrm>
          <a:custGeom>
            <a:avLst/>
            <a:gdLst>
              <a:gd name="textAreaLeft" fmla="*/ 660240 w 4929120"/>
              <a:gd name="textAreaRight" fmla="*/ 4268880 w 4929120"/>
              <a:gd name="textAreaTop" fmla="*/ 256680 h 1643040"/>
              <a:gd name="textAreaBottom" fmla="*/ 118116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4501128"/>
                <a:lnTo>
                  <a:pt x="1800" y="21577"/>
                </a:lnTo>
                <a:lnTo>
                  <a:pt x="0" y="16200"/>
                </a:lnTo>
                <a:lnTo>
                  <a:pt x="1800" y="10777"/>
                </a:lnTo>
                <a:lnTo>
                  <a:pt x="1800" y="13477"/>
                </a:lnTo>
                <a:arcTo wR="21600" hR="6750" stAng="4501128" swAng="-4035142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1"/>
          <p:cNvSpPr/>
          <p:nvPr/>
        </p:nvSpPr>
        <p:spPr>
          <a:xfrm>
            <a:off x="714240" y="3500280"/>
            <a:ext cx="3143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Rectangle 17" descr=""/>
          <p:cNvPicPr/>
          <p:nvPr/>
        </p:nvPicPr>
        <p:blipFill>
          <a:blip r:embed="rId1"/>
          <a:stretch/>
        </p:blipFill>
        <p:spPr>
          <a:xfrm>
            <a:off x="420840" y="457200"/>
            <a:ext cx="8229600" cy="828720"/>
          </a:xfrm>
          <a:prstGeom prst="rect">
            <a:avLst/>
          </a:prstGeom>
          <a:ln w="0">
            <a:noFill/>
          </a:ln>
        </p:spPr>
      </p:pic>
      <p:sp>
        <p:nvSpPr>
          <p:cNvPr id="74" name="Стрелка вниз 25"/>
          <p:cNvSpPr/>
          <p:nvPr/>
        </p:nvSpPr>
        <p:spPr>
          <a:xfrm>
            <a:off x="3071880" y="1428840"/>
            <a:ext cx="2357280" cy="1785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ff3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8"/>
          <p:cNvSpPr/>
          <p:nvPr/>
        </p:nvSpPr>
        <p:spPr>
          <a:xfrm flipV="1" rot="10800000">
            <a:off x="428760" y="3970440"/>
            <a:ext cx="8534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ҚР Үкіметі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ҚР Ұлттық Банкі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1" lang="kk-KZ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ммерциялық ұйымдар</a:t>
            </a:r>
            <a:r>
              <a:rPr b="1" lang="kk-KZ" sz="3200" spc="-1" strike="noStrike">
                <a:solidFill>
                  <a:srgbClr val="00206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047"/>
          <p:cNvPicPr/>
          <p:nvPr/>
        </p:nvPicPr>
        <p:blipFill>
          <a:blip r:embed="rId2"/>
          <a:stretch/>
        </p:blipFill>
        <p:spPr>
          <a:xfrm>
            <a:off x="1428840" y="5857920"/>
            <a:ext cx="568800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3"/>
          <p:cNvSpPr/>
          <p:nvPr/>
        </p:nvSpPr>
        <p:spPr>
          <a:xfrm>
            <a:off x="282600" y="560520"/>
            <a:ext cx="8353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Выгнутая вправо стрелка 5"/>
          <p:cNvSpPr/>
          <p:nvPr/>
        </p:nvSpPr>
        <p:spPr>
          <a:xfrm rot="1518000">
            <a:off x="3236400" y="1604880"/>
            <a:ext cx="951120" cy="2052720"/>
          </a:xfrm>
          <a:custGeom>
            <a:avLst/>
            <a:gdLst>
              <a:gd name="textAreaLeft" fmla="*/ 127440 w 951120"/>
              <a:gd name="textAreaRight" fmla="*/ 823680 w 951120"/>
              <a:gd name="textAreaTop" fmla="*/ 433800 h 2052720"/>
              <a:gd name="textAreaBottom" fmla="*/ 1461240 h 20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29" stAng="-5400000" swAng="5400000"/>
                <a:lnTo>
                  <a:pt x="21600" y="10810"/>
                </a:lnTo>
                <a:arcTo wR="21600" hR="9129" stAng="0" swAng="3850315"/>
                <a:lnTo>
                  <a:pt x="4329" y="21415"/>
                </a:lnTo>
                <a:lnTo>
                  <a:pt x="0" y="19099"/>
                </a:lnTo>
                <a:lnTo>
                  <a:pt x="4329" y="16412"/>
                </a:lnTo>
                <a:lnTo>
                  <a:pt x="4329" y="18073"/>
                </a:lnTo>
                <a:arcTo wR="21600" hR="9129" stAng="3850315" swAng="-3716043"/>
                <a:lnTo>
                  <a:pt x="21508" y="9970"/>
                </a:lnTo>
                <a:arcTo wR="21600" hR="9129" stAng="-134272" swAng="-5265728"/>
                <a:close/>
              </a:path>
              <a:path fill="darkenLess" w="21600" h="21600">
                <a:moveTo>
                  <a:pt x="0" y="0"/>
                </a:moveTo>
                <a:arcTo wR="21600" hR="9129" stAng="-5400000" swAng="5400000"/>
                <a:lnTo>
                  <a:pt x="21600" y="10810"/>
                </a:lnTo>
                <a:arcTo wR="21600" hR="9129" stAng="0" swAng="-134272"/>
                <a:lnTo>
                  <a:pt x="21508" y="9970"/>
                </a:lnTo>
                <a:arcTo wR="21600" hR="9129" stAng="-134272" swAng="-5265728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4682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Выгнутая вправо стрелка 6"/>
          <p:cNvSpPr/>
          <p:nvPr/>
        </p:nvSpPr>
        <p:spPr>
          <a:xfrm flipH="1" rot="20082000">
            <a:off x="5266080" y="1666800"/>
            <a:ext cx="919440" cy="2119680"/>
          </a:xfrm>
          <a:custGeom>
            <a:avLst/>
            <a:gdLst>
              <a:gd name="textAreaLeft" fmla="*/ 123120 w 919440"/>
              <a:gd name="textAreaRight" fmla="*/ 796320 w 919440"/>
              <a:gd name="textAreaTop" fmla="*/ 451800 h 2119680"/>
              <a:gd name="textAreaBottom" fmla="*/ 1547280 h 211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13" stAng="-5400000" swAng="5400000"/>
                <a:lnTo>
                  <a:pt x="21600" y="11158"/>
                </a:lnTo>
                <a:arcTo wR="21600" hR="9213" stAng="0" swAng="3550395"/>
                <a:lnTo>
                  <a:pt x="5328" y="21315"/>
                </a:lnTo>
                <a:lnTo>
                  <a:pt x="0" y="19399"/>
                </a:lnTo>
                <a:lnTo>
                  <a:pt x="5328" y="16912"/>
                </a:lnTo>
                <a:lnTo>
                  <a:pt x="5328" y="18141"/>
                </a:lnTo>
                <a:arcTo wR="21600" hR="9213" stAng="3550395" swAng="-3394853"/>
                <a:lnTo>
                  <a:pt x="21479" y="10186"/>
                </a:lnTo>
                <a:arcTo wR="21600" hR="9213" stAng="-155542" swAng="-5244458"/>
                <a:close/>
              </a:path>
              <a:path fill="darkenLess" w="21600" h="21600">
                <a:moveTo>
                  <a:pt x="0" y="0"/>
                </a:moveTo>
                <a:arcTo wR="21600" hR="9213" stAng="-5400000" swAng="5400000"/>
                <a:lnTo>
                  <a:pt x="21600" y="11158"/>
                </a:lnTo>
                <a:arcTo wR="21600" hR="9213" stAng="0" swAng="-155542"/>
                <a:lnTo>
                  <a:pt x="21479" y="10186"/>
                </a:lnTo>
                <a:arcTo wR="21600" hR="9213" stAng="-155542" swAng="-5244458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4682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182520" y="3132000"/>
            <a:ext cx="34974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5945040" y="3108240"/>
            <a:ext cx="3205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857160" y="64296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блигацияның шығару ныс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1214280" y="350028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тты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5357880" y="350028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тсы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047"/>
          <p:cNvPicPr/>
          <p:nvPr/>
        </p:nvPicPr>
        <p:blipFill>
          <a:blip r:embed="rId1"/>
          <a:stretch/>
        </p:blipFill>
        <p:spPr>
          <a:xfrm>
            <a:off x="1928880" y="5786280"/>
            <a:ext cx="568800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Admin</cp:lastModifiedBy>
  <dcterms:modified xsi:type="dcterms:W3CDTF">2012-11-12T09:06:39Z</dcterms:modified>
  <cp:revision>58</cp:revision>
  <dc:subject/>
  <dc:title>Презентация PowerPoint</dc:title>
</cp:coreProperties>
</file>