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928F-3BEB-4FDB-A18C-E16B76E8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23D1-1474-40D0-AFDB-EC58D7A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A232-C808-4DE5-987F-5F839F83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80F1-E264-4525-8C4E-5A092311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E7CA-46CB-4ED2-B802-346B69F4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423-FAD4-4220-807D-58FC6959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518-7861-4955-9F0D-AD3C661E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49F-807D-4339-BCD1-32BE3F6C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E4FA-928E-4720-A278-721405B3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A238-8E7B-491F-8F35-A35DF839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B9B-5DEF-4519-9B81-0F3D0B8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CB6A-9DE8-4A61-B229-675178D8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B73E-C3CF-4CC1-9331-F59B9FC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105-A182-459D-A9AC-8302914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A244-630B-4C77-A9C1-C70999A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01E-7C77-4611-B221-1B707B63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22B6-B6A4-4F3B-B1F8-F4CBC847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8A64-9D60-414C-8DA1-40B69BF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BC12-4C11-4618-BCAE-C0CBBB8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1437-01AA-4F92-B0B7-88D8E8D8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88BE-F380-4878-AC70-229B6707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FF0B-03F1-43A3-B1F7-DE9DAC6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FFF5-EAAB-4A42-AB41-D6ECC5CF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584F-E58E-4FFF-BC65-129F3BE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6E9-DE2B-4ECB-A64A-F86E67EA0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648-060D-4F86-9EE7-13DB32C62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620640"/>
            <a:ext cx="525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Социальный</a:t>
            </a:r>
            <a:r>
              <a:rPr b="0" lang="en-US" sz="2400" spc="-1" strike="noStrike">
                <a:solidFill>
                  <a:srgbClr val="9dc2d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н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Список использованных источников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ccccff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циальный налог исчисляется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1 проц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Частные нотариус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двокаты уплачивают социальный налог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-кратном размере месячного расчетного показателя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за себя 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-кратн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размере месячного расчетного показателя за каждого работн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ециализированные организации, в которых работают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нвалид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численность в организации не менее 51%)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,5 проц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вки социального налога для плательщиков, применяющие специальные налоговые режим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гл 62 НК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П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тоимости патент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юридич.л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1/2 от от исчисленной суммы налогов по упрощенной деклар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ельхоз.производител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умма соц.налога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меньшена на 70%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ерме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0% от МР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 каждого работника, а так же за главу и совершеннолетних членов крестьянского или фермерского хозяй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900" spc="-1" strike="noStrike" u="sng">
                <a:solidFill>
                  <a:srgbClr val="ff3300"/>
                </a:solidFill>
                <a:uFillTx/>
                <a:latin typeface="Arial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ься путем применения ставок к объекту налогообложения. Сумма соц. налога подлежит уменьшению на сумму соц.отчис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Уплата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Декларация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о социальному налогу предоставляется в налоговые органы ежекварт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13 %;  В) 15 %;С) 11 %;Д) 9 %;Е) 5 %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950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ый налог, заменил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ебюджетных платеж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язательное медицинск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9760" y="1980720"/>
            <a:ext cx="4576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test</cp:lastModifiedBy>
  <dcterms:modified xsi:type="dcterms:W3CDTF">2009-11-03T16:30:03Z</dcterms:modified>
  <cp:revision>12</cp:revision>
  <dc:subject/>
  <dc:title>Социальный налог</dc:title>
</cp:coreProperties>
</file>