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jpeg" ContentType="image/jpeg"/>
  <Override PartName="/ppt/media/image16.jpeg" ContentType="image/jpeg"/>
  <Override PartName="/ppt/media/image3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4.jpeg" ContentType="image/jpeg"/>
  <Override PartName="/ppt/media/image15.wmf" ContentType="image/x-wm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123-FB6E-47FE-8765-83F95370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4FB-AEB4-435C-AA72-C3E613DE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EA9-704A-45AF-B7A7-EB25A5BD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367-5F3E-49C2-81D1-05DEFC23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3661-6D75-4082-A2D8-E40F8C42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B7B2-98A4-466D-96C9-574231B5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15EA-9034-455D-BC54-8777BC97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6A1D-D43A-48EF-9B2F-4D62A02B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21C5-40C3-4CE2-922A-59F9D171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7DF9-F5CF-41B1-8053-0FC4D8FC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E087-DAAA-439B-B745-86AF25AA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A9E-60E8-4340-8B00-6EA2AB85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A1EF-147F-4A50-92D4-EEBC9A0B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D63B-1974-4265-AA28-8858EE22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2EF0-A198-4D3D-B03A-21BEAAAE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7A5B-19D6-45DC-9A84-D722B958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BAEB-30B2-4297-95E0-09AB35A6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3EC-9DBF-4307-B66F-1404E9F3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F74-F356-497A-ACD3-C67607CC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71FC-E394-48D8-AD42-2C232F52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462-BCFA-4FCC-B725-1B3AEC06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992-59AB-4F30-B728-E7234A8A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095-6F09-4779-A1E6-1F0E56EE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3F5-96C8-4850-8131-91EF211B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F826-E999-4430-B647-E92F2477B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0D56-FCBD-4B88-AD53-5BF942EF9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Налог на транспортные средст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5280" y="393372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84360" y="3933720"/>
            <a:ext cx="2087640" cy="1567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659640" y="3933720"/>
            <a:ext cx="2087640" cy="1567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572000" y="3914640"/>
            <a:ext cx="2087640" cy="156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80"/>
                </a:solidFill>
                <a:latin typeface="Tahoma"/>
              </a:rPr>
              <a:t>Катера, суда, буксиры, баржи, яхты (мощность двигателя в лошадиных силах)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3754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о 160 включите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ыше 160 по 5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ыше 500 по 1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ыше 1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427640" y="2276640"/>
            <a:ext cx="895320" cy="3666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,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,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2,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5,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1819080" cy="2158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372360" y="4076640"/>
            <a:ext cx="2771640" cy="25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Список используемой литературы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в Казахстане: учебное пособие/ под ред. Сейдахметовой Ф.С.- Алматы, 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удяков А.И. Налоговое право РК.-Алматы:200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декс Республики Казахстан «О налогах и других обязательных платежах в бюдже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онтрольные вопрос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субъекты не подлежат обложению налог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обенности применения став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числение уплаты налог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является плательщиком налога на транспортные сре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является объектом обло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лан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лательщики налога и объекты его облож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ядок исчисления, сроки уплаты налог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80008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лательщиками налога на транспортные средства являются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Юридические лица их филиалы представительства и иные обособленные структурные подразделения, имеющие объекты обложения на праве собственности, хозяйственного ведения или оперативного управ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изические лица также имеющие объекты обложения на праве собств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0755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Не являются плательщиками налога на транспортные средства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ательщики единого земельного налога, пределы нормативов устанавливаются правительством РК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. учреждения по объектам обложения не используемые в предпринимательской деятель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ники ВОВ и приравненные к ним лица, только по 1 транспортному средств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валиды по имеющимся в собственности мотоколяскам и автомобилям –по 1 автотранспортному средств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рои Советского Союза и Герои Социалистического Труда, многодетные матери, удостоенные звания «Мать героиня» по одному автотранспортному средст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Tahoma"/>
              </a:rPr>
              <a:t>Объектами налогообложения являютс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Транспортные средства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за исключением прицепов, подлежащие государственной регистрации и состоящие на учете в Республике Казахст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1862280" cy="13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732720" y="3429000"/>
            <a:ext cx="1942920" cy="1457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859280" y="4869000"/>
            <a:ext cx="1873440" cy="135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Не являются объектами налогообложени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рьерные автосамосвалы грузоподъемностью 40 тонн и выш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пециализированные медицинские транспортные сред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292720" y="4305240"/>
            <a:ext cx="3382920" cy="2075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867280" y="2060640"/>
            <a:ext cx="2087640" cy="16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00000" y="333360"/>
            <a:ext cx="727416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ll Sans Ultra Bold"/>
              </a:rPr>
              <a:t>Исчисление налога производится по следующим ставкам,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ll Sans Ultra Bold"/>
              <a:ea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ll Sans Ultra Bold"/>
              </a:rPr>
              <a:t>установленным в месячных расчетных показателях: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ll Sans Ultra Bold"/>
              <a:ea typeface="Gill Sans Ultra Bol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087280" cy="1751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659640" y="1341360"/>
            <a:ext cx="2160360" cy="1811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627280" y="1557360"/>
            <a:ext cx="374508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гковые автомобили с объемом 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вигателя (куб.см) 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88000" y="3429000"/>
            <a:ext cx="2125800" cy="406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логовая став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9280" y="4437000"/>
            <a:ext cx="230508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ыше 1100 по 15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4005360"/>
            <a:ext cx="2400480" cy="25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 1100 включительн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9280" y="4869000"/>
            <a:ext cx="2143080" cy="25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ыше 1500 по 20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9280" y="5373720"/>
            <a:ext cx="2143080" cy="25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ыше 2000 по 25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5805360"/>
            <a:ext cx="2143080" cy="25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ыше 2500 по 30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6267600"/>
            <a:ext cx="2143080" cy="590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ыше 3000 по 40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ыше 40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308720" y="4076640"/>
            <a:ext cx="561960" cy="25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4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6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7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2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7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2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17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Автобусы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33940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Tahoma"/>
              </a:rPr>
              <a:t>до 12 посадочных мес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Tahoma"/>
              </a:rPr>
              <a:t>включитель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Tahoma"/>
              </a:rPr>
              <a:t>Свыше 12 по 25 посадочных мест включитель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Tahoma"/>
              </a:rPr>
              <a:t>Свыше 25 посадочных ме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4720" y="2133720"/>
            <a:ext cx="42840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,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140360" y="3645000"/>
            <a:ext cx="718920" cy="426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,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40360" y="5373720"/>
            <a:ext cx="718920" cy="426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,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508720" y="1484280"/>
            <a:ext cx="324000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Мотоциклы, мотороллеры, мотосани, маломерные суда, мощность двигателя которых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346716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более 55 кВ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тоцикл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щность двигателя котор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вышает 55 кВ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140360" y="2060640"/>
            <a:ext cx="647640" cy="596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,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067280" y="5300640"/>
            <a:ext cx="720720" cy="615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,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16360" y="2637000"/>
            <a:ext cx="3816360" cy="24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5:29:21Z</dcterms:created>
  <dc:creator>User</dc:creator>
  <dc:description/>
  <dc:language>en-US</dc:language>
  <cp:lastModifiedBy>User</cp:lastModifiedBy>
  <dcterms:modified xsi:type="dcterms:W3CDTF">2008-11-19T16:15:06Z</dcterms:modified>
  <cp:revision>6</cp:revision>
  <dc:subject/>
  <dc:title>Налог на транспортные средства</dc:title>
</cp:coreProperties>
</file>