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9BE-1DFC-436B-8528-E9CD398E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C1E-9029-481E-9787-7F044293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1FD-B3F1-4288-BA08-2399F0B1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A47-34C0-44A7-A196-EB03D5CB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A302-8A18-4463-AED7-91566038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3ADA-6E26-493F-866D-7ECCE46B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453E-801F-4984-B020-B1C1FF57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C616-0E1F-42C6-922B-D99CB4EF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AFDF-B66B-4AF6-A25C-02DE6E03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7123-69B9-44F5-BCBC-3B7032E4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2B24-4C3F-4FC5-B85E-72883129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0A4-AED8-4548-9354-5624BE9A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BA78-F9BE-4584-9201-968EA044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284B-E44F-444C-B003-A7A5EE70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E208-51D8-4F48-B55C-BC240ED2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099E-19E6-401D-BABF-9F6E5938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CE3B-0915-4234-956C-5C16D292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0C13B-D182-4D89-9B2A-B97C1124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2ED4-0388-4507-A8FC-8FAC9204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69049-F2C3-4C99-BD81-A2FC5531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A082-B84A-4ACA-B5BA-A9502108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D34D3-488F-4F83-A44B-EBFE89BB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500-F9E5-4F24-B994-D4A423F0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CF01-44ED-40B6-89CB-2DCFD88E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FF10-3F7D-4BC9-A33D-208AA3E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33A1-4E70-45FB-B8C8-1921CF0B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37C3-688B-46C5-A658-9ED2E220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1268-7B73-454F-A218-912FE757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EE13-FDDF-4422-A8DB-56F184F1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58A7-5A6A-47CD-A074-E06AA133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9798A-19A2-4666-8673-3EE1ED00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ECC0F-72E3-4103-9C86-712E4E03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323C7-CDF5-432E-9B5D-918411CE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086-F918-4F6B-BDD8-73023DAC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04555-82F7-40CF-BDC4-01B0389F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BAA39-F9D8-4DA4-8ECC-DB1F50B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BF22-C1AF-413D-8F64-6C75DA21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9BAB-04D2-40FF-9EF5-28AFDF0F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80A70-4E66-4FA4-A869-46A2AE02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82B8B-233D-4810-B5BF-1937B107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0D9E-8C64-4FB6-9789-A89C47E2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55713-FCD5-41CD-83F5-83E447B7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2929-541A-4D66-9C35-A70607CF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5AC-DFC9-4FE9-A8EA-119A3E51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6C9-08B7-4ADC-91A7-8259FBCD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7C9-23BC-4D96-ABAB-A39D6789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D48-C75C-41FE-8847-BB82699E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52F-57CF-4D2A-ABCB-BCF74FD5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43B0-3C76-4324-91C5-B381D23225F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BD6D-906A-4F7F-9C87-DDADCE58503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17D0-918B-4615-9005-D0BB4E74694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5772-7C93-4735-ADB3-206179D306F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33240" y="1096920"/>
            <a:ext cx="7864560" cy="2011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86040" y="2356920"/>
            <a:ext cx="4286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4617b"/>
                </a:solidFill>
                <a:latin typeface="Calibri"/>
              </a:rPr>
              <a:t>КОНЕЦ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3" descr=""/>
          <p:cNvPicPr/>
          <p:nvPr/>
        </p:nvPicPr>
        <p:blipFill>
          <a:blip r:embed="rId1"/>
          <a:stretch/>
        </p:blipFill>
        <p:spPr>
          <a:xfrm>
            <a:off x="285840" y="208080"/>
            <a:ext cx="8572320" cy="615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Содержимое 7" descr=""/>
          <p:cNvPicPr/>
          <p:nvPr/>
        </p:nvPicPr>
        <p:blipFill>
          <a:blip r:embed="rId1"/>
          <a:stretch/>
        </p:blipFill>
        <p:spPr>
          <a:xfrm>
            <a:off x="438120" y="841320"/>
            <a:ext cx="8261280" cy="5492880"/>
          </a:xfrm>
          <a:prstGeom prst="rect">
            <a:avLst/>
          </a:prstGeom>
          <a:ln w="0">
            <a:noFill/>
          </a:ln>
        </p:spPr>
      </p:pic>
      <p:cxnSp>
        <p:nvCxnSpPr>
          <p:cNvPr id="198" name="Прямая со стрелкой 12"/>
          <p:cNvCxnSpPr/>
          <p:nvPr/>
        </p:nvCxnSpPr>
        <p:spPr>
          <a:xfrm flipH="1">
            <a:off x="6571440" y="1500120"/>
            <a:ext cx="2520" cy="215280"/>
          </a:xfrm>
          <a:prstGeom prst="straightConnector1">
            <a:avLst/>
          </a:prstGeom>
          <a:ln w="1908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99" name="Прямая со стрелкой 13"/>
          <p:cNvCxnSpPr/>
          <p:nvPr/>
        </p:nvCxnSpPr>
        <p:spPr>
          <a:xfrm flipH="1">
            <a:off x="2356560" y="1500120"/>
            <a:ext cx="1080" cy="215280"/>
          </a:xfrm>
          <a:prstGeom prst="straightConnector1">
            <a:avLst/>
          </a:prstGeom>
          <a:ln w="1908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0" name="Прямая со стрелкой 14"/>
          <p:cNvCxnSpPr/>
          <p:nvPr/>
        </p:nvCxnSpPr>
        <p:spPr>
          <a:xfrm flipH="1">
            <a:off x="2356560" y="2428560"/>
            <a:ext cx="1080" cy="214920"/>
          </a:xfrm>
          <a:prstGeom prst="straightConnector1">
            <a:avLst/>
          </a:prstGeom>
          <a:ln w="1908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1" name="Прямая со стрелкой 15"/>
          <p:cNvCxnSpPr/>
          <p:nvPr/>
        </p:nvCxnSpPr>
        <p:spPr>
          <a:xfrm flipH="1">
            <a:off x="6714360" y="2357280"/>
            <a:ext cx="2520" cy="286560"/>
          </a:xfrm>
          <a:prstGeom prst="straightConnector1">
            <a:avLst/>
          </a:prstGeom>
          <a:ln w="19080">
            <a:solidFill>
              <a:srgbClr val="065093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1867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Доходы, не подлежащие налогообложению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357200"/>
            <a:ext cx="8329680" cy="4967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1) адресная социальная помощь, пособия и компенсации, за исключением связанных с оплатой труда, выплачиваемые за счет средств государственного бюджета, в размерах, установленных законодательством Республики Казахстан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2) алименты, полученные на детей и иждивенцев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3) возмещение ущерба, причиненного работнику увечьем либо иным повреждением здоровья, связанным с исполнением им трудовых обязанностей, в соответствии с законодательством Республики Казахстан (кроме возмещения в части утраченного заработка)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4) вознаграждения, выплачиваемые физическим лицам по их вкладам в банках и организациях, осуществляющих отдельные виды банковских операций, имеющих лицензию Национального Банка Республики Казахстан, и вознаграждение по долговым ценным бумагам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5) доходы от операций с государственными ценными бумагами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6) все виды выплат военнослужащим и сотрудникам органов внутренних дел, получаемых ими в связи с исполнением обязанностей воинской службы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7) выигрыши по лотерее в пределах 5 месячных расчетных показателей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8) выплаты в связи с выполнением общественных работ и профессиональным обучением, осуществляемые за счет средств государственного бюджета и грантов, в размере минимальной заработной платы, установленной законодательным актом Республики Казахстан на соответствующий год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9) выплаты за счет средств грантов (кроме выплат в виде оплаты труда)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10) выплаты в случаях, когда постоянная работа протекает в пути или имеет разъездной характер либо в связи со служебными поездками в пределах обслуживаемых участков, в размерах, установленных законодательством Республики Казахстан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5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Декларацию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по индивидуальному подоходному налогу представляют следующие налогоплательщики-резиденты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меющие доходы, не облагаемые у источника выплат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изические лица, получающие доходы за пределами Республики Казахстан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изические лица, имеющие деньги на счетах в иностранных банках, находящихся за пределами Республики Казахстан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ца, на которых возложена обязанность по подаче декларации в соответствии с законодательным актом Республики Казахстан о борьбе с коррупци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путаты Парламента Республики Казахстан, судь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тавки налог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2" descr=""/>
          <p:cNvPicPr/>
          <p:nvPr/>
        </p:nvPicPr>
        <p:blipFill>
          <a:blip r:embed="rId1"/>
          <a:stretch/>
        </p:blipFill>
        <p:spPr>
          <a:xfrm>
            <a:off x="378000" y="1884240"/>
            <a:ext cx="8424720" cy="398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Налоговые вычеты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2" descr=""/>
          <p:cNvPicPr/>
          <p:nvPr/>
        </p:nvPicPr>
        <p:blipFill>
          <a:blip r:embed="rId1"/>
          <a:stretch/>
        </p:blipFill>
        <p:spPr>
          <a:xfrm>
            <a:off x="317520" y="1474920"/>
            <a:ext cx="8429760" cy="48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зюм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17143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лательщика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ПН являют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изические лиц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имеющие объекты налогооблож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ъекта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бложения являю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1) доходы, облагаемые у источника выплат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2) доходы, не облагаемые у источника выпла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вки налог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Доходы налогоплательщика подлежат обложению  по ставке 10 процен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писок используемой литератур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Кодекс Республики Казахстан «О налогах и других обязательных платежах в бюджет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«Налоги и налогообложение» - учебник под ред. Юткиной Т.Ф. 2001 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«Налоговое право РК» Худяков А.И., Алматы: 200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05:46Z</dcterms:created>
  <dc:creator>Aikashev</dc:creator>
  <dc:description/>
  <dc:language>en-US</dc:language>
  <cp:lastModifiedBy>Customer</cp:lastModifiedBy>
  <dcterms:modified xsi:type="dcterms:W3CDTF">2011-06-08T08:43:54Z</dcterms:modified>
  <cp:revision>25</cp:revision>
  <dc:subject/>
  <dc:title>Индивидуальный подоходный налог</dc:title>
</cp:coreProperties>
</file>