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6C64-3295-48F3-B1DB-D52A91A8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682E-87CA-4A04-94A6-981FA24E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1F28C-D039-45BD-8CBF-8632A1DF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D5D07-0C92-4F13-9051-407A855B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EEE93-283F-4EA2-A256-68EDF400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528A6-4795-4794-B9CF-3B7492CD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C7DA4-1948-487D-A383-21201C1E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9DCD4-563B-42DE-8F57-56563401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808D7-C8A9-49E7-8501-D819B4C3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47BFD-35F4-4B9A-8AC6-111CF7655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A0B3B-5F93-4755-9716-236C520A1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5B2AD-1B4B-4066-AFB7-D1CA3370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B19F-08EC-454A-9D04-AFAD08D95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7B5129-F139-4218-A3C4-6B10339F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1DF14-23EA-47D5-8844-406B96DF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12302-AA0C-44FD-BAAA-05412CC7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7EEDC-439C-47B1-AACB-C4073834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FC0E2-53E8-46F8-A9FA-D11921E6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A0D1F-1E8A-4943-B837-04532812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6C1F5-E15F-4E9D-8E3C-14B6ACA4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EC4C8F-882D-469B-AA13-12799912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88D84-8C9E-444F-B83D-CA84DCD6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04085-4BD5-4479-8A1B-BD65E101F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B80F-9464-440F-9564-8D921D277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EF6EB5-42D6-4703-81CD-BA16D373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BC395-E591-49EA-8F35-3337327A0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EC224-DB14-40FF-BEB1-3A74B53B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2FC5E-5063-4595-B440-C853D25C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4F79A-F867-4992-8C4C-528763C8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3DDC2-6B29-40E9-9A72-FE9AED9D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DA8E3-D8B6-4A40-8708-90FC60C2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573BB-6BD1-4D6E-877B-E0BFA643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8C93B-2924-4F57-8E5D-8173C548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C1F2F-656F-4E52-8089-FD632606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91BC-BEC0-40E5-8246-F60442BF4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1B346-B580-4D4E-98C2-8D36D081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46483-2525-4457-911D-18A4D15C5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B6939-4F4B-4847-B239-90E009276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BA98DA-B09F-4E9E-885F-97027497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D705D9-8405-483F-874B-5EC2CF63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68C2F-07E7-4E2C-B3D7-0EFDAD0A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E4136-4E9F-495A-92EB-8EA7C0BE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10D3D-1B5E-41C6-8758-DFABE352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3ACF2-D8E4-40AA-B83E-49FF8B6C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AD1E21-C3E6-44D4-841A-4FA5F5D1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E0A9-6AE2-4E8E-8503-EF5832F8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B4C783-3255-4535-9C73-0CBE6AA2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65EF6-E597-4CBD-8AE3-EE4AD1AD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52EE60-5B93-44A5-9A0D-F34B6952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74827-5DC1-4526-949E-FE732E3E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B99D9-20EA-4292-A904-FD1E732FA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2E26-1C78-4B82-A3C1-D30F5845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59D5-EDAE-4CCF-A3F5-373957A9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2982-1FC3-4A2B-B0A4-B751F9C3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3521-244B-4444-96EB-D98B40C4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8D93-FB62-4F2D-802D-186135DF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AF5E-DB0C-4F7C-B5E0-921904C3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EFB3-9279-4332-818F-E6143055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2819-FD1A-49F7-BBB6-6C78E51B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0AEB-2FF5-43F8-ABC9-0B7BEF2E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13EF-4E77-4EA2-9C46-2058DE7E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DFA9-7E99-45B4-90BF-41484681E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77E83-69B7-459F-940E-7E1D138A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62FE8-BE74-4D44-A568-09454B47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03ECC-48CE-43EF-AC11-2734BCDC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2297B-443B-4057-BC7A-891D786C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536AE-F384-4AEC-997F-30C4570E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1222-29E7-43A4-943C-9436B015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527AB-79E9-41F9-A6D7-507E3828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A90E2-F621-4B16-92DA-B96EB999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15ADA-F32F-4AFD-A845-CB33C5C4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A45DD-793C-42CA-B4A3-B7068849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FCD45-5BC9-4D3A-A367-9927D64D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AB945-6B41-4B82-9784-4F5929EE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B6316-09DC-4828-8E51-7A3181C90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15ABC-C6BF-432B-B8F8-32875D30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DC4D0-7ACA-4459-88AF-CBC3AE67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8AA36-A4CA-44E7-BDD7-111B9343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89AE-7E31-4DA1-9D4C-B4559B04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46560-0C7F-4965-9DBF-2E9EAFC7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BF70A-80C1-49A6-8F68-5B82E962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29C0F-1CFF-4AAD-ABA2-43E9E276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09147-BEEE-453D-BDF4-511AB89F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D50C5-0F7E-4A4D-B45D-AEFC811B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EC1D3-1C45-49FB-B075-DE1EFACC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EAB40-6488-41EA-A297-39CCE8EB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C4B14-CE89-46CC-A331-C35894EF9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EC2B4-9FF1-44DD-9883-C74F98AB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99C0C-7FEB-4FFF-8694-C4795BA1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D89D-8348-43DE-ADA6-C34DDFD8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1C9CF-2DFD-484F-B6D0-B23B457D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705C3-9AC1-4204-BD44-6D80FD12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F29B5-CDC6-4D3D-A1E3-69104120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5EE8A-5F8A-453A-AAE8-14B5B1CE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2303A-28B1-4DD1-B38B-41727864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E8AF6-DE50-4785-8351-6BE036BB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28F3F-9918-492D-9121-0E350ECC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3E80C-2ABC-4E8F-9905-AC4B4578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8CB3E-40B9-409C-9266-D9D8DA10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0E6CD-61E7-4951-80DC-3D1DFDCC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C027-A115-4E3A-9E77-2C4E8855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9FF9A-041E-446F-B4DF-DFD64E318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A271E-21FC-4210-9542-3FE31A572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FC9F8-A26F-41D5-B395-D4285113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9EB8E-0614-46C7-B3D1-CF239636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A54B9-0BE1-44E2-A15B-0315008A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6C838-73A9-4E34-87EB-B1C09E68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59D6C-9A59-4C66-825F-17D02165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DDD78-6B6A-4025-B54D-4BB582D7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51977-B494-48D7-8827-CC793F33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E2C30-467A-4D88-854B-2DE0F294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CE54-BE1B-43EC-AA97-A6E4F523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DFE5A-28E8-4453-8063-8612709B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0D16F-97F2-4047-AE61-1FF14074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380E2-71FD-4C72-A33B-3CB75CF11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DFA34-3990-4AFC-B73E-3E64BCA5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B481E-F01B-4442-900E-CDE00F7A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CDFF9-6D80-4725-BE66-8F75E180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E56DC-61FF-483B-B593-551AC34A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C6594-00A5-4593-BB4B-D5F79B2B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41C6B-151A-4812-966D-1DFA1F85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6E2E7-26F7-4DF0-BDEE-6FE2BFFF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7DED-91D3-49C7-A7B9-098AFFCA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93B33-F5BF-4800-A3EA-013369C5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82DD5-9082-4CD2-BB05-3038E4D2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0F2E3-A005-41CB-BD1F-8E010EBB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BB3FA-6F90-4C9E-81A3-17391FF2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AB43D-1FA9-4E94-AD7F-89D8B43C5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F9D4C-FA8D-4F9B-8530-73DC15809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98A64-D328-4ACA-9B4A-B23E5896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26F21-9A9D-44BD-9DAF-EA1C1819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D3F8F-2C23-4896-91E2-A2702E61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F181C-A879-4EE5-AA44-E0929AE9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646C-7C61-4BFA-9EE8-20BC81A6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C8734-2B95-44EE-9A34-29FC1C0B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98CB3-5743-4682-AD49-55B6C2F9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9E35A-ACE4-4749-BE12-9538C95D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9E9F6-FFE7-4D37-A67E-4E4E2E8A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40699-8CF9-4810-9C70-6B5E3159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80786-BF2A-4565-BEF1-960F0F19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8F709-BF60-4729-A826-29B60CA3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72D79-B7D5-43DA-97E7-80EA6439B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F4643-23FE-4388-8225-4F1036A9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A2305-69D6-4BC6-B8EF-7D400415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516F-86D7-43EA-9386-E08D09996F3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188C-7EA1-4BBF-AA2B-E86CFC1234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08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96DB-9917-4CB5-9F2C-0EB0134D2F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58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49A3-D003-49B2-AE5A-2A108F3D6E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DADE-30B5-416D-9BF1-4FF1B9BD3C8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F25B-FEC6-4D0A-AF58-E99A84720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0950-A3D1-4209-B381-930654961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234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237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61BC-47D4-496F-BCCA-A441D7FD58B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288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289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295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ftr" idx="17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9794-6A0F-44E6-9626-57BEBB37072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A0C8-20D2-4285-ADD7-6C738F5F13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BBB1-BA48-4785-B4A7-CCB897337F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23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2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5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7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5933-76AB-4908-9059-0C7448048D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23640" y="1767960"/>
            <a:ext cx="81342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dbbd71"/>
                </a:solidFill>
                <a:latin typeface="Arial"/>
              </a:rPr>
              <a:t>Налог на имущество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 advTm="100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68360" y="-5544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4360" y="476280"/>
            <a:ext cx="800712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Налоговая ставка налога на имущество с юридических лиц определена в размер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) 1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) 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) 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) 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Налоговая  ставка налога на имущество для индивидуальных предпринимателей определена в размер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) 1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) 0,5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) 1,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D) 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) 2,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8028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7720" y="1052280"/>
            <a:ext cx="800748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Налоговой базой для физических лиц являе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) стоимость объектов налогообложения установленный на 4.01. уполномоченным гос. орга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) стоимость объектов налогообложения установленный на 3.01. уполномоченным гос. орга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) стоимость объектов налогообложения установленный на 2.01. уполномоченным гос. орга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стоимость объектов налогообложения установленный на 1.01. уполномоченным гос. орга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) нет верного отв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b7"/>
                </a:solidFill>
                <a:latin typeface="Arial Black"/>
              </a:rPr>
              <a:t>Р Е З Ю М Е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755280" y="907920"/>
            <a:ext cx="800748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лог на имущество выступает разновидностью прямых налогов. По своей сути его исчисление осуществляется без учета уровня дохода налогоплательщ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логоплательщиками налога на имущество являются юридические лица, индивидуальные предприниматели и физические лиц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Юридические лица исчисляют налог на имущество по ставке 2% к среднегодовой стоимости объектов обложения. Индивидуальные предприниматели исчисляют налог на имущество по ставке 1% к среднегодовой стоимости объектов налогообложения. Юридические лица применяющие специальный налоговый режим применяют ставку 1%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плата налога производится в бюджет по месту нахождения объектов облож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логовый периодом для исчисления и уплаты налога на имущество является кварта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ъектом обложения для юридических лиц и ИП являются недвижимость, а для физических лиц объекты принадлежащие им на праве собствен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Список использованной литературы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Налоги и налогообложение в Республике Казахстан» Нурхалиева Д.М., Омирбаев С.М., Астана 2007 г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логовый Кодекс Республики Казахстан, 2009 г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Налоги в Казахстане» Сейдахметова Ф.С., Алматы 2002 г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Налоги развитых зарубежных государств» Ильясов К.К., Алматы 1997 г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124000" y="475920"/>
            <a:ext cx="489744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b7e7ff"/>
                </a:solidFill>
                <a:latin typeface="Cooper Black"/>
              </a:rPr>
              <a:t>План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9640" y="285264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Общая характеристика налога на имуще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Порядок исчисления и уплаты налога на имуще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Ставки налога на имуще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92929"/>
                </a:solidFill>
                <a:latin typeface="Times New Roman"/>
              </a:rPr>
              <a:t>1</a:t>
            </a:r>
            <a:r>
              <a:rPr b="0" i="1" lang="en-US" sz="4400" spc="-1" strike="noStrike">
                <a:solidFill>
                  <a:srgbClr val="292929"/>
                </a:solidFill>
                <a:latin typeface="Times New Roman"/>
              </a:rPr>
              <a:t>.</a:t>
            </a:r>
            <a:r>
              <a:rPr b="0" i="1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292929"/>
                </a:solidFill>
                <a:latin typeface="Times New Roman"/>
              </a:rPr>
              <a:t>Общая характеристика налога на</a:t>
            </a:r>
            <a:r>
              <a:rPr b="0" i="1" lang="en-US" sz="44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292929"/>
                </a:solidFill>
                <a:latin typeface="Times New Roman"/>
              </a:rPr>
              <a:t>имуществ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лательщики налога на имущество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Юридические лиц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Индивидуальные предпринимате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Физические лиц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1187280" y="2320920"/>
            <a:ext cx="3168720" cy="3413160"/>
          </a:xfrm>
          <a:prstGeom prst="rect">
            <a:avLst/>
          </a:prstGeom>
          <a:ln w="0">
            <a:noFill/>
          </a:ln>
        </p:spPr>
      </p:pic>
    </p:spTree>
  </p:cSld>
  <p:transition advTm="1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00"/>
                </a:solidFill>
                <a:latin typeface="Tahoma"/>
              </a:rPr>
              <a:t>Объекты налогообложения налога на имущество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21632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ля юридических лиц и индивидуальных предпринимателей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движим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54080" y="198108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ля физических лиц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жилые помещения, дачные строения, гаражи и иные строения, сооружения, находящиеся на территории РК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бъекты незавершенного строитель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Не являются объектами налогообложения: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земля, являющаяся объектом обложения земельным налого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транспортные средства, являющиеся объектом обложения налогом на транспортные средств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основные средства, находящиеся на консервации по решению Правительств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 государственные автомобильные дорог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основные средства, вновь вводимые в эксплуатацию в рамках инвестиционного проек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. объекты незавершенного строитель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2. Порядок исчисления  и уплаты налога  на имущество.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логовая ба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юридических лиц и индивидуа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принимателей – среднегод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лансовая стоимость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лож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физических лиц – сто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ектов налогооблож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анавливаемая по состоянию на 1январ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00"/>
                </a:solidFill>
                <a:latin typeface="Arial"/>
              </a:rPr>
              <a:t>Исчисление налога на имущество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3367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Для юридически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лиц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индивидуальны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предпринимателей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изводится самостоятельно путем применения соответствующей ставки налога к налоговой баз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932000" y="1628640"/>
            <a:ext cx="40165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Для физических лиц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изводится налоговыми органами по месту нахождения объекта налогообложения независимо от места жительства налогоплательщика путем применения соответствующей налоговой ставки к налоговой баз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>
            <a:off x="2411280" y="321300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948360" y="198900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38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00"/>
                </a:solidFill>
                <a:latin typeface="Arial Black"/>
              </a:rPr>
              <a:t>3. Ставки налога на имущество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250920" y="404640"/>
          <a:ext cx="8569080" cy="6494760"/>
        </p:xfrm>
        <a:graphic>
          <a:graphicData uri="http://schemas.openxmlformats.org/drawingml/2006/table">
            <a:tbl>
              <a:tblPr/>
              <a:tblGrid>
                <a:gridCol w="2139840"/>
                <a:gridCol w="2143080"/>
                <a:gridCol w="2144880"/>
                <a:gridCol w="21412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Субъек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налогообло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Объек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налогообло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Налоговая ба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Налоговая став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. юридические лиц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основные средства и нематериальные актив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среднегодовая остаточная стоимость объектов облож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. юридические лица, применяющие специальный налоговый режим на основе упрощенной декларации, индивидуальные предпринимат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основные средства и нематериальные актив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среднегодовая остаточная стоимость объектов облож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3. некоммерческие организации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- организации, осуществляющие деятельность в соц. сфере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- библиотечное обслуживание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- государственные предприятия, осуществляющие функции в области государственной аттестаци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основные средства и нематериальные актив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среднегодовая остаточная стоимость объектов облож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,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4. физические лиц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объекты, принадлежащие им на праве собствен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стоимость объектов обложения, устанавливаемая по состоянию на 1 январ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в зависимости от стоимости объектов налогооблож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00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851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b7"/>
                </a:solidFill>
                <a:latin typeface="Arial Black"/>
              </a:rPr>
              <a:t>Тестовые вопросы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7720" y="907560"/>
            <a:ext cx="800748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Объектом обложения налогом на имущество не являе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) оборудование, требующее монтажа  на объектах незавершенного производ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) основные сред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) нематериальные акти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ответы В и 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) правильного ответа 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логовой базой для исчисления налога на имущество являе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) прогрессивные ста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) годовая остаточная стои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) среднегодовая остаточная стои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усредненная остаточная стои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) нет верного отв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2:12:04Z</dcterms:created>
  <dc:creator>Saule</dc:creator>
  <dc:description/>
  <dc:language>en-US</dc:language>
  <cp:lastModifiedBy>к</cp:lastModifiedBy>
  <dcterms:modified xsi:type="dcterms:W3CDTF">2010-06-18T03:15:14Z</dcterms:modified>
  <cp:revision>18</cp:revision>
  <dc:subject/>
  <dc:title>Налог на имущество</dc:title>
</cp:coreProperties>
</file>