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C912-9B64-4678-AD85-04C1C73F2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34DB-902A-46FF-A52F-FBCB4443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8F33-EB67-4FB6-877E-DC8D67097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7743-2CCF-4F34-A2A6-7335164A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BBF9-504D-4767-A19E-A012AC517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F2A1-430F-4F82-9489-629286E0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F3B4-D06D-45B1-A74E-D70178BC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E511-1D0A-425D-A3C2-1526A1DA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9BC3-E848-45EE-9FF1-AFDA79A8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E14D-D68E-452C-9023-6425B503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3E89-BFDA-4D64-A415-6032E218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9787-E986-46D5-AB6F-582C25CE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07EB-AD93-4DED-8AEC-537374F1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3BC5-16C6-4FC1-8D44-B7BD6B51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7AC9-40FB-4746-A0C3-406AC317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50FE-6FCE-4DE6-8A4F-8308D125A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BA57-1B71-4359-BD86-168E1C906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A51DC-31D7-4784-8B18-AE3DC3614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47502-A4D3-4E9D-827B-B4FC0A14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D6C8D-1F0D-46E5-9394-4F3FBE8D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309DC-2CD4-4447-89DC-3E5BA4F5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08C31-1659-40F0-8B2D-BF08598C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CE16-98E0-4951-8E97-ED5A4009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3FCD1-7D44-4795-B3A7-31FF8C71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DB41A-E0A4-43BD-BA4E-0073E752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EFE96-260F-41A5-8AE2-029EC847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F2C6B-895A-4599-B651-0ADFC3DB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D0FF0-D81D-469B-8DA4-60A0AA61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30F8D-7D3B-45CF-9CB7-4B0D0DBD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C13E3-7FDD-4615-BF2F-7F1C17D06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63096-F6BD-4156-8C1F-71D89A40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6160C-18CB-42E5-A7D1-953B9E10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4577C-AD6A-4F3B-B380-B835FDBF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C7AC-F4DF-4168-A2F3-7D855410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BF941-A369-437B-A58B-19E6FA62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8902F-A036-48F3-AE8E-242C8C85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1F384-0E32-44D8-B580-10691412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3870E-8F5B-448A-A8A3-EAFAD92F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94F53-5643-4F2C-8FCF-9E9FE609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34628-EB67-4D9C-ACB6-8A1B6D87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A8055-91C3-49DF-A85A-C591BB1D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75067-9BE5-4C79-A040-A0BB40412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54999-4D5B-4A79-A7B4-67C0CE95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DA14B-04E1-41A4-AE08-A2AB8C26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CD17-15C4-49CA-A3F4-44D65BBD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A0885-9800-46EC-BF3A-5C1DF3D8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E904B-5201-4AAB-83FD-D5364520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24D97-E42E-41E9-BEEF-68C4D8D8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6AA63-CE4D-4B1B-A6BC-E8F6BB7D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2A86C-BA9B-474D-A50A-B899DD5F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72F5A-A3A0-4606-A2D7-31D1894C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30D8A-EAE5-4BB5-8D96-624DF840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1BB49-FA3B-44B1-9A04-4ABA548C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04B1C-73B0-4590-99C1-19230521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D14E1-2C85-43BF-81D2-CC0323DEA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F293-7464-4BAA-B864-A254E111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A7850-B164-44C0-BD7A-205C7AC65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6ECFF-8925-4B65-A1E2-7412ECBFB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BA9C8-937C-45E6-AC71-B2C382B5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C02C4-3C02-4EAD-83BC-5D568027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4C868-E16C-4DCE-9270-6DFD32B1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F990D-4384-44E9-AC67-AA04DC24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21286-A5CB-4704-AEE7-2B0EC064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7CD60-9AAC-4D5A-8060-7024C3EC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672DE-9C96-4A07-96D1-80C78A1C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70665-688E-4DC8-9170-82614258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B35D-5088-4B35-83DC-CDEEBC18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B4338-5E9C-4596-A1E4-BC7E99F7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F8E7E-4B06-4CAE-A194-C9115DA7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3CF42-1633-405D-8D56-6D46ABF3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A807-9929-4422-8C86-3FAC205F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B797-BA1D-4242-9C78-A10CF490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74D8-6B4B-436E-AB37-2348FC242B8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0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grpSp>
          <p:nvGrpSpPr>
            <p:cNvPr id="51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52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53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56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57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58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59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60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61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62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63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64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65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66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67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68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69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70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71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72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73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74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75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76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grpSp>
            <p:nvGrpSpPr>
              <p:cNvPr id="77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8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79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80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81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82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83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84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85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86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87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88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89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90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91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92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</p:grpSp>
          <p:grpSp>
            <p:nvGrpSpPr>
              <p:cNvPr id="93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94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95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</p:grpSp>
          <p:grpSp>
            <p:nvGrpSpPr>
              <p:cNvPr id="96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97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98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99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100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101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102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103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104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105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</p:grpSp>
          <p:sp>
            <p:nvSpPr>
              <p:cNvPr id="106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107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108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109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110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111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112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113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</p:grp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0803-74C0-40E0-BB02-791C5BD9244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536B-B3F4-4830-A2F1-D8050809BC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97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198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199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200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20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20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20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AF28-551F-4031-B895-BA7A297877E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46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grpSp>
          <p:nvGrpSpPr>
            <p:cNvPr id="247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48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49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50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51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52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53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54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55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56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57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58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59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60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61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62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63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64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65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66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67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68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69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70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71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72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grpSp>
            <p:nvGrpSpPr>
              <p:cNvPr id="273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74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75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76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77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78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79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80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81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82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83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84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85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86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87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88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</p:grpSp>
          <p:grpSp>
            <p:nvGrpSpPr>
              <p:cNvPr id="289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90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91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</p:grpSp>
          <p:grpSp>
            <p:nvGrpSpPr>
              <p:cNvPr id="292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93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94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95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96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97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98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99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300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301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</p:grpSp>
          <p:sp>
            <p:nvSpPr>
              <p:cNvPr id="302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303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304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305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306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307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308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309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</p:grp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BFB4-29BF-417C-AE93-E1048043713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1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A3D3-2DA1-4B9E-953B-518BB0E1142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23276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1" lang="ru-RU" sz="1000" spc="-1" strike="noStrike">
                <a:solidFill>
                  <a:srgbClr val="ff6600"/>
                </a:solidFill>
                <a:latin typeface="Arial"/>
              </a:rPr>
              <a:t>       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WordArt 13"/>
          <p:cNvSpPr txBox="1"/>
          <p:nvPr/>
        </p:nvSpPr>
        <p:spPr>
          <a:xfrm>
            <a:off x="395280" y="1125360"/>
            <a:ext cx="874872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Arial"/>
              </a:rPr>
              <a:t>Налог на добавленную стоимость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AutoShape 65"/>
          <p:cNvSpPr/>
          <p:nvPr/>
        </p:nvSpPr>
        <p:spPr>
          <a:xfrm>
            <a:off x="826920" y="333360"/>
            <a:ext cx="7490160" cy="612144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5454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i="1" lang="ru-RU" sz="1800" spc="-1" strike="noStrike" u="sng">
                <a:solidFill>
                  <a:srgbClr val="9900ff"/>
                </a:solidFill>
                <a:uFillTx/>
                <a:latin typeface="Arial"/>
              </a:rPr>
              <a:t>Порядок снятия с учета по НДС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1. Плательщик НДС вправе, не ранее, чем по истечении двух лет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с момента постановки его на учет НДС стоимость, подать в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налоговый орган по месту регистрации заявление о снятии его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с учета по НДС, если за последний двенадцатимесячный период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размер облагаемого оборота не превышал минимум облагаемого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оборота.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2. Если лицо являющееся плательщиком НДС, прекратило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деятельность, связанную с облагаемыми оборотами, такое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Лицо  обязано подать заявление о снятии его с учета по НДС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не позднее, чем по истечении шести месяцев после налогового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периода, в котором была прекращена такая деятельность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buClr>
                <a:srgbClr val="5454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</p:txBody>
      </p:sp>
    </p:spTree>
  </p:cSld>
  <p:transition advTm="5000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AutoShape 2"/>
          <p:cNvSpPr/>
          <p:nvPr/>
        </p:nvSpPr>
        <p:spPr>
          <a:xfrm>
            <a:off x="250920" y="260280"/>
            <a:ext cx="8496360" cy="616608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i="1" lang="ru-RU" sz="1800" spc="-1" strike="noStrike" u="sng">
                <a:solidFill>
                  <a:srgbClr val="9900ff"/>
                </a:solidFill>
                <a:uFillTx/>
                <a:latin typeface="Arial"/>
              </a:rPr>
              <a:t>Порядок снятия с учета по НДС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3. В случае ликвидации юридического лица, являющегося плательщиком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налога на добавленную стоимость, такое лицо подлежит снятию с учета по </a:t>
            </a:r>
            <a:r>
              <a:rPr b="1" i="1" lang="en-US" sz="1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НДС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со дня исключения из государственного реестра налогоплательщиков.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4. Налогоплательщики, указанные в пункте 1 статьи 207 настоящего Кодекса,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перестают быть плательщиками налога на добавленную стоимость с первого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дня налогового периода, следующего за периодом, в котором подано заявление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о снятии с учета по налогу на добавленную стоимость, соответствующее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положениям настоящей статьи.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5. При снятии лица с учета по налогу на добавленную стоимость остатки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его товаров (в том числе основных средств), по которым налог на добавленную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стоимость был  отнесен в зачет в соответствии со статьей 235 настоящего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Кодекса, рассматриваются в качестве облагаемого оборота.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</p:txBody>
      </p:sp>
    </p:spTree>
  </p:cSld>
  <p:transition advTm="5000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900000" y="404640"/>
            <a:ext cx="77724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1" i="1" lang="ru-RU" sz="2000" spc="-1" strike="noStrike">
                <a:solidFill>
                  <a:srgbClr val="ff6600"/>
                </a:solidFill>
                <a:latin typeface="Arial Black"/>
              </a:rPr>
              <a:t>Понятие и методика расчета облагаемого оборота и облагаемого импор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6600"/>
                </a:solidFill>
                <a:uFillTx/>
                <a:latin typeface="Comic Sans MS"/>
              </a:rPr>
              <a:t>Облагаемым оборото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является оборот по реализации товаров (работ, услуг), совершаемый плательщиком налога на добавленную стоимость, за исключением оборот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1) освобожденного от налога на добавленную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                 </a:t>
            </a: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стоимость в соответствии с Налоговым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                                             </a:t>
            </a: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кодекс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            </a:t>
            </a: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2) местом реализации которого не является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                              </a:t>
            </a: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Республика Казахст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6600"/>
                </a:solidFill>
                <a:uFillTx/>
                <a:latin typeface="Comic Sans MS"/>
              </a:rPr>
              <a:t>Облагаемым импорто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являются товары, ввозимые или ввезенные на территорию Республики Казахстан (за исключением освобожденных от налога на добавленную стоимость в соответствии с Налоговым Кодексом РК), подлежащие декларированию в соответствии с таможенным законодательством Республики Казахста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AutoShape 5"/>
          <p:cNvSpPr/>
          <p:nvPr/>
        </p:nvSpPr>
        <p:spPr>
          <a:xfrm>
            <a:off x="4500720" y="4653000"/>
            <a:ext cx="1655640" cy="217440"/>
          </a:xfrm>
          <a:prstGeom prst="pi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70" name="AutoShape 6"/>
          <p:cNvSpPr/>
          <p:nvPr/>
        </p:nvSpPr>
        <p:spPr>
          <a:xfrm>
            <a:off x="4313160" y="1312920"/>
            <a:ext cx="1656000" cy="217440"/>
          </a:xfrm>
          <a:prstGeom prst="pi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1" name=""/>
          <p:cNvGraphicFramePr/>
          <p:nvPr/>
        </p:nvGraphicFramePr>
        <p:xfrm>
          <a:off x="539640" y="333360"/>
          <a:ext cx="8064720" cy="6207120"/>
        </p:xfrm>
        <a:graphic>
          <a:graphicData uri="http://schemas.openxmlformats.org/drawingml/2006/table">
            <a:tbl>
              <a:tblPr/>
              <a:tblGrid>
                <a:gridCol w="689040"/>
                <a:gridCol w="7375680"/>
              </a:tblGrid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ОПРЕДЕЛЕНИЕ РАЗМЕРА ОБЛАГАЕМОГО ОБОРО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сли осуществляется реализация товара, как передача прав собственности, то размер облагаемого оборота определяют на основе стоимости реализуемых товаров (работ, услуг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безвозмездной передаче товаров размер облагаемого оборота определяется учетом уровня цен, сложившихся на дату совершения оборота по реализации, не включая НДС, но не ниже их балансовой стоимост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передаче залогового имущества (товара) размер облагаемого оборота у залогодателя определяется исходя из стоимости реализуемого залогового имущества (товара), но не ниже суммы заемных средств, полученных под залог данного имущества (товара), не включая НДС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реализации товара на условиях рассрочки платежа размер облагаемого оборота определяется с учетом всех причитающихся платежей, предусмотренных условиями договор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предоставлении услуг, связанных с оплатой за третьих лиц, в размер облагаемого оборота включается комиссионное вознаграждени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размер облагаемого оборота включаются суммы акциза по подакцизным товарам и видам деятельност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реализации товаров, по которым не предусмотрен зачет по НДС, размер облагаемого оборота определяется как положительная разница между стоимостью реализации и балансовой стоимостью товар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передаче имущества в финансовый лизинг, за исключением передачи по договору возвратного лизинга, размер облагаемого оборота определяется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ffffcc"/>
                        </a:buClr>
                        <a:buSzPct val="75000"/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основе размера лизингового платежа, установленного в соответствии с договором финансового лизинга, без включения в него суммы вознаграждения и налога на добавленную стоимость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ffffcc"/>
                        </a:buClr>
                        <a:buSzPct val="75000"/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дату совершения оборота, на основе суммы всех периодических лизинговых платежей без включения в них суммы вознаграждения иНДС, дата наступления срока получения которых в соответствии с договором финансового лизинга установлена до даты передачи имущества лизингополучателю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ffffcc"/>
                        </a:buClr>
                        <a:buSzPct val="75000"/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дату совершения оборота, как разница между общей суммой всех лизинговых платежей, подлежащих получению по договору финансового лизинга без включения в них суммы вознаграждения иНДС, и размером облагаемого оборота, определяемого как сумма размеров облагаемых оборотов, приходящихся на предыдущие даты совершения оборота по реализации по данному договору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передаче имущества по договору возвратного лизинга, подлежащего получению лизингополучателем (продавцом) в качестве основного средства, размер оборота по реализации определяется в соответствии с применяемыми сторонами сделки ценами и тарифами, без включения в них НДС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оказании услуг по договору транспортной экспедиции размер облагаемого оборота у экспедитора определяется на основе его вознаграждения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2" name=""/>
          <p:cNvGraphicFramePr/>
          <p:nvPr/>
        </p:nvGraphicFramePr>
        <p:xfrm>
          <a:off x="457200" y="260280"/>
          <a:ext cx="8229600" cy="25621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ОПРЕДЕЛЕНИЕ РАЗМЕРА ОБЛАГАЕМОГО ИМПОР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9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размер облагаемого импорта включается таможенная стоимость импортируемых товаров, определяемая в соответствии с таможенным законодательством Республики Казахстан, а также суммы налогов и других обязательных платежей, подлежащих уплате в бюджет при импорте товаров в Республику Казахстан, за исключением налога на добавленную стоимость на импор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3" name="Rectangle 13"/>
          <p:cNvSpPr/>
          <p:nvPr/>
        </p:nvSpPr>
        <p:spPr>
          <a:xfrm>
            <a:off x="826920" y="3141720"/>
            <a:ext cx="78710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Задача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пания получила оборудование, включенное в перечень таможенной декларации. Таможенная стоимость оборудования составляет 1250000 тенге, а таможенные платежи – 105000 тенге. Определите размер облагаемого оборота?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250000 + 105000=1355000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Oval 35"/>
          <p:cNvSpPr/>
          <p:nvPr/>
        </p:nvSpPr>
        <p:spPr>
          <a:xfrm>
            <a:off x="165240" y="3759120"/>
            <a:ext cx="2842920" cy="2710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При реализации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и импорте товаров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(работ, услуг)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установлена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ставка 12%.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75" name="Oval 37"/>
          <p:cNvSpPr/>
          <p:nvPr/>
        </p:nvSpPr>
        <p:spPr>
          <a:xfrm>
            <a:off x="5667480" y="3846600"/>
            <a:ext cx="2954160" cy="2708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При реализации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Товаров  на экспорт,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а также оказании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услуг по международным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перевозкам и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реализации товаров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на территории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СЭЗ установлена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нулевая ставка.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86800" cy="324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i="1" lang="ru-RU" sz="1900" spc="-1" strike="noStrike">
                <a:solidFill>
                  <a:srgbClr val="3399ff"/>
                </a:solidFill>
                <a:latin typeface="Arial Black"/>
              </a:rPr>
              <a:t>Порядок исчисления и сроки уплаты  налога на добавленную стоимость</a:t>
            </a:r>
            <a:br>
              <a:rPr sz="1900"/>
            </a:br>
            <a:br>
              <a:rPr sz="1900"/>
            </a:br>
            <a:r>
              <a:rPr b="0" i="1" lang="ru-RU" sz="1900" spc="-1" strike="noStrike">
                <a:solidFill>
                  <a:srgbClr val="b2b2b2"/>
                </a:solidFill>
                <a:latin typeface="Arial Black"/>
              </a:rPr>
              <a:t>  </a:t>
            </a:r>
            <a:r>
              <a:rPr b="0" lang="ru-RU" sz="1900" spc="-1" strike="noStrike">
                <a:solidFill>
                  <a:srgbClr val="3399ff"/>
                </a:solidFill>
                <a:latin typeface="Arial"/>
              </a:rPr>
              <a:t>Налог на добавленную стоимость, подлежащий уплате в бюджет по облагаемому обороту, определяется как разница между суммами налога на добавленную стоимость, начисленными за реализованные товары (работы, услуги) - и суммами налога на добавленную стоимость, подлежащими уплате за полученные товары (работы, услуги)</a:t>
            </a:r>
            <a:br>
              <a:rPr sz="1900"/>
            </a:br>
            <a:endParaRPr b="0" lang="en-US" sz="19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7" name="Rectangle 45"/>
          <p:cNvSpPr/>
          <p:nvPr/>
        </p:nvSpPr>
        <p:spPr>
          <a:xfrm>
            <a:off x="1764000" y="3213000"/>
            <a:ext cx="58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ffcc66"/>
                </a:solidFill>
                <a:latin typeface="Arial"/>
                <a:ea typeface="Arial"/>
              </a:rPr>
              <a:t>Σ</a:t>
            </a:r>
            <a:r>
              <a:rPr b="1" i="1" lang="ru-RU" sz="1800" spc="-1" strike="noStrike">
                <a:solidFill>
                  <a:srgbClr val="ffcc66"/>
                </a:solidFill>
                <a:latin typeface="Arial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ffcc66"/>
                </a:solidFill>
                <a:latin typeface="Arial"/>
              </a:rPr>
              <a:t>НДС в бюджет  =</a:t>
            </a:r>
            <a:r>
              <a:rPr b="1" i="1" lang="el-GR" sz="1800" spc="-1" strike="noStrike">
                <a:solidFill>
                  <a:srgbClr val="ffcc66"/>
                </a:solidFill>
                <a:latin typeface="Arial"/>
              </a:rPr>
              <a:t>Σ</a:t>
            </a:r>
            <a:r>
              <a:rPr b="1" i="1" lang="ru-RU" sz="1800" spc="-1" strike="noStrike">
                <a:solidFill>
                  <a:srgbClr val="ffcc66"/>
                </a:solidFill>
                <a:latin typeface="Arial"/>
              </a:rPr>
              <a:t> НДС полная  - </a:t>
            </a:r>
            <a:r>
              <a:rPr b="1" i="1" lang="el-GR" sz="1800" spc="-1" strike="noStrike">
                <a:solidFill>
                  <a:srgbClr val="ffcc66"/>
                </a:solidFill>
                <a:latin typeface="Arial"/>
              </a:rPr>
              <a:t>Σ</a:t>
            </a:r>
            <a:r>
              <a:rPr b="1" i="1" lang="ru-RU" sz="1800" spc="-1" strike="noStrike">
                <a:solidFill>
                  <a:srgbClr val="ffcc66"/>
                </a:solidFill>
                <a:latin typeface="Arial"/>
              </a:rPr>
              <a:t>НДС в зачет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78" name="AutoShape 46"/>
          <p:cNvSpPr/>
          <p:nvPr/>
        </p:nvSpPr>
        <p:spPr>
          <a:xfrm>
            <a:off x="2987640" y="4292640"/>
            <a:ext cx="2664000" cy="1800360"/>
          </a:xfrm>
          <a:prstGeom prst="leftRightArrow">
            <a:avLst>
              <a:gd name="adj1" fmla="val 50000"/>
              <a:gd name="adj2" fmla="val 29457"/>
            </a:avLst>
          </a:prstGeom>
          <a:solidFill>
            <a:srgbClr val="339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10199"/>
                </a:solidFill>
                <a:latin typeface="Arial"/>
              </a:rPr>
              <a:t>Ставки НДС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Organization Chart 9"/>
          <p:cNvGrpSpPr/>
          <p:nvPr/>
        </p:nvGrpSpPr>
        <p:grpSpPr>
          <a:xfrm>
            <a:off x="1979640" y="765000"/>
            <a:ext cx="5399640" cy="4462920"/>
            <a:chOff x="1979640" y="765000"/>
            <a:chExt cx="5399640" cy="4462920"/>
          </a:xfrm>
        </p:grpSpPr>
        <p:cxnSp>
          <p:nvCxnSpPr>
            <p:cNvPr id="480" name="_s4100"/>
            <p:cNvCxnSpPr>
              <a:stCxn id="481" idx="0"/>
              <a:endCxn id="482" idx="0"/>
            </p:cNvCxnSpPr>
            <p:nvPr/>
          </p:nvCxnSpPr>
          <p:spPr>
            <a:xfrm flipV="1">
              <a:off x="4678920" y="2549520"/>
              <a:ext cx="7560" cy="89316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482" name="_s4101"/>
            <p:cNvSpPr/>
            <p:nvPr/>
          </p:nvSpPr>
          <p:spPr>
            <a:xfrm>
              <a:off x="1979640" y="765000"/>
              <a:ext cx="5399640" cy="17852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cc"/>
                </a:gs>
                <a:gs pos="50000">
                  <a:srgbClr val="0000a4"/>
                </a:gs>
                <a:gs pos="100000">
                  <a:srgbClr val="0099cc"/>
                </a:gs>
              </a:gsLst>
              <a:lin ang="8100000"/>
            </a:gra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600" spc="-1" strike="noStrike">
                  <a:solidFill>
                    <a:srgbClr val="0099cc"/>
                  </a:solidFill>
                  <a:latin typeface="Arial"/>
                </a:rPr>
                <a:t>Налоговый </a:t>
              </a:r>
              <a:endParaRPr b="0" lang="en-US" sz="46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600" spc="-1" strike="noStrike">
                  <a:solidFill>
                    <a:srgbClr val="0099cc"/>
                  </a:solidFill>
                  <a:latin typeface="Arial"/>
                </a:rPr>
                <a:t>период по НДС</a:t>
              </a:r>
              <a:endParaRPr b="0" lang="en-US" sz="46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81" name="_s4102"/>
            <p:cNvSpPr/>
            <p:nvPr/>
          </p:nvSpPr>
          <p:spPr>
            <a:xfrm>
              <a:off x="1979640" y="3442680"/>
              <a:ext cx="5399640" cy="17852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cc99"/>
                </a:gs>
                <a:gs pos="50000">
                  <a:srgbClr val="0000a4"/>
                </a:gs>
                <a:gs pos="100000">
                  <a:srgbClr val="00cc99"/>
                </a:gs>
              </a:gsLst>
              <a:lin ang="8100000"/>
            </a:gradFill>
            <a:ln w="3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600" spc="-1" strike="noStrike">
                  <a:solidFill>
                    <a:srgbClr val="00cc99"/>
                  </a:solidFill>
                  <a:latin typeface="Arial"/>
                </a:rPr>
                <a:t>Квартал</a:t>
              </a:r>
              <a:endParaRPr b="0" lang="en-US" sz="4600" spc="-1" strike="noStrike">
                <a:solidFill>
                  <a:srgbClr val="ffffff"/>
                </a:solidFill>
                <a:latin typeface="Castellar"/>
              </a:endParaRPr>
            </a:p>
          </p:txBody>
        </p:sp>
      </p:grpSp>
    </p:spTree>
  </p:cSld>
  <p:transition advTm="5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-360" y="5660640"/>
            <a:ext cx="860436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00"/>
                </a:solidFill>
                <a:latin typeface="Arial"/>
              </a:rPr>
              <a:t>Уплата НДС производится за каждый налоговый период после предоставления декларации не позднее 15 числа каждого месяца или квартала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13640" y="602640"/>
            <a:ext cx="2484000" cy="3702960"/>
          </a:xfrm>
          <a:prstGeom prst="rect">
            <a:avLst/>
          </a:pr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Декларац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00"/>
                </a:solidFill>
                <a:latin typeface="Arial"/>
              </a:rPr>
              <a:t>по НД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808000"/>
                </a:solidFill>
                <a:latin typeface="Arial"/>
              </a:rPr>
              <a:t>предоставляетс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00"/>
                </a:solidFill>
                <a:latin typeface="Arial"/>
              </a:rPr>
              <a:t>за кажд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00"/>
                </a:solidFill>
                <a:latin typeface="Arial"/>
              </a:rPr>
              <a:t>налогов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00"/>
                </a:solidFill>
                <a:latin typeface="Arial"/>
              </a:rPr>
              <a:t>период не поздне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00"/>
                </a:solidFill>
                <a:latin typeface="Arial"/>
              </a:rPr>
              <a:t>15 числа месяц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00"/>
                </a:solidFill>
                <a:latin typeface="Arial"/>
              </a:rPr>
              <a:t>следующе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00"/>
                </a:solidFill>
                <a:latin typeface="Arial"/>
              </a:rPr>
              <a:t>за налоговы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00"/>
                </a:solidFill>
                <a:latin typeface="Arial"/>
              </a:rPr>
              <a:t>периодом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AutoShape 6"/>
          <p:cNvSpPr/>
          <p:nvPr/>
        </p:nvSpPr>
        <p:spPr>
          <a:xfrm>
            <a:off x="5076720" y="1413000"/>
            <a:ext cx="3168720" cy="4176720"/>
          </a:xfrm>
          <a:prstGeom prst="foldedCorner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Обязательным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документом для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всех плательщиков НДС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является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счет – фактура</a:t>
            </a: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При определении суммы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налога подлежащего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взносу в бюджет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получатель товара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(работ, услуг) имеет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право на зачет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сумм НДС по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выставленным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счет - фактурам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</p:spTree>
  </p:cSld>
  <p:transition advTm="5000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b2b2b2"/>
                </a:solidFill>
                <a:latin typeface="Arial"/>
              </a:rPr>
              <a:t>Контрольные вопросы: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 представляет собой налог на добавленную стоимость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то являются плательщиками НДС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 является объектом обложения НДС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зовите ставки НДС  существующие в Казахста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каком случае производится снятие с учета по НДС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зовите сроки предоставления декларации по НД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Тестовые зада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 НДС - это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) разновидность косвенн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лога на товары и услуг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) региональный налог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) местный налог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) социальный налог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) подоходный нало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 Кто является плательщиком НДС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) международные организаци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) иностранные граждане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) организации и предприятия, имеющие статус юридического лица;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) физические лиц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) лица без граждан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 Объектом налогообложения НДС являетс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) оборот  товаров (работ, услуг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) транспорт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) домашнее хозяйство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) оборудование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) стро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 Декларация по НДС предоставляетс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) 1 раз в год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) через каждые 2 недел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) не позднее 15 числа месяц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едующего за налоговым периодом;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) 2 раза в год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) через каждые 3 недел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 Налогоплательщик НДС при реализации товаров должен выставить покупателю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) доверенность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) счет-фактуру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) расходный кассовый ордер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) приходный кассовый ордер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) накладную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) С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) С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) 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 Black"/>
              </a:rPr>
              <a:t>Общая характеристика налога на добавленную стоим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 Black"/>
              </a:rPr>
              <a:t>Порядок постановки на учет и снятия с учета по налогу на добавленную стоимос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 Black"/>
              </a:rPr>
              <a:t>Понятие и методика расчета облагаемого оборота и облагаемого импор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 Black"/>
              </a:rPr>
              <a:t>Порядок исчисления и сроки уплаты  налога на добавленную стоим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 Black"/>
              </a:rPr>
              <a:t>Контрольные вопрос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 Black"/>
              </a:rPr>
              <a:t>Тестовые зад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 Black"/>
              </a:rPr>
              <a:t>Список использованной литерату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advTm="5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Список использованной литературы: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 Налоговый кодекс РК 2008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Нурхалиева Д.М., Омирбаев С.М., Омарова Ш.А. - Налоги и налогообложение в РК, Астана 2007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ttp//www tax.k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AutoShape 164"/>
          <p:cNvSpPr/>
          <p:nvPr/>
        </p:nvSpPr>
        <p:spPr>
          <a:xfrm>
            <a:off x="179280" y="476280"/>
            <a:ext cx="8964720" cy="1584360"/>
          </a:xfrm>
          <a:custGeom>
            <a:avLst/>
            <a:gdLst>
              <a:gd name="textAreaLeft" fmla="*/ 2241000 w 8964720"/>
              <a:gd name="textAreaRight" fmla="*/ 6723720 w 8964720"/>
              <a:gd name="textAreaTop" fmla="*/ 46800 h 1584360"/>
              <a:gd name="textAreaBottom" fmla="*/ 11883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80008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Налог на добавленную стоимость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397" name="Line 170"/>
          <p:cNvSpPr/>
          <p:nvPr/>
        </p:nvSpPr>
        <p:spPr>
          <a:xfrm flipH="1">
            <a:off x="4354560" y="1700280"/>
            <a:ext cx="1440" cy="52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398" name="Line 171"/>
          <p:cNvSpPr/>
          <p:nvPr/>
        </p:nvSpPr>
        <p:spPr>
          <a:xfrm flipH="1">
            <a:off x="1187280" y="2205000"/>
            <a:ext cx="3152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399" name="Line 174"/>
          <p:cNvSpPr/>
          <p:nvPr/>
        </p:nvSpPr>
        <p:spPr>
          <a:xfrm>
            <a:off x="4356000" y="2205000"/>
            <a:ext cx="324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00" name="Line 175"/>
          <p:cNvSpPr/>
          <p:nvPr/>
        </p:nvSpPr>
        <p:spPr>
          <a:xfrm>
            <a:off x="1187280" y="2205000"/>
            <a:ext cx="0" cy="868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01" name="Line 176"/>
          <p:cNvSpPr/>
          <p:nvPr/>
        </p:nvSpPr>
        <p:spPr>
          <a:xfrm>
            <a:off x="7596360" y="220500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02" name="Line 178"/>
          <p:cNvSpPr/>
          <p:nvPr/>
        </p:nvSpPr>
        <p:spPr>
          <a:xfrm>
            <a:off x="4788000" y="220500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03" name="AutoShape 179"/>
          <p:cNvSpPr/>
          <p:nvPr/>
        </p:nvSpPr>
        <p:spPr>
          <a:xfrm>
            <a:off x="468360" y="3112920"/>
            <a:ext cx="2914560" cy="3745080"/>
          </a:xfrm>
          <a:prstGeom prst="flowChartDocument">
            <a:avLst/>
          </a:prstGeom>
          <a:solidFill>
            <a:srgbClr val="993366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едставляет собой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тчисления в бюджет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части стоимости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благаемого оборота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о реализации,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добавленной в процессе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оизводства и обращения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товаров(работ, услуг),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а также отчисления при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мпорте  на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территорию РК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04" name="AutoShape 180"/>
          <p:cNvSpPr/>
          <p:nvPr/>
        </p:nvSpPr>
        <p:spPr>
          <a:xfrm>
            <a:off x="6291360" y="3135240"/>
            <a:ext cx="2700360" cy="3456000"/>
          </a:xfrm>
          <a:prstGeom prst="flowChartDocument">
            <a:avLst/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ямо связывает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алоговое поступление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 ростом цен и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является эффективным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рычагом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едотвращения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нфляционного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оцесса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бюджетных средств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05" name="AutoShape 182"/>
          <p:cNvSpPr/>
          <p:nvPr/>
        </p:nvSpPr>
        <p:spPr>
          <a:xfrm>
            <a:off x="3780000" y="3213000"/>
            <a:ext cx="2158920" cy="3645000"/>
          </a:xfrm>
          <a:prstGeom prst="flowChartOffpageConnector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первые был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веден во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ции в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1954 году П. Лоре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 Казахстане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ункционирует с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1992 года.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</p:spTree>
  </p:cSld>
  <p:transition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10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лательщиками НДС являются лица, вставшие на учет по НДС, и импортирующие НДС</a:t>
            </a:r>
            <a:br>
              <a:rPr sz="1800"/>
            </a:b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  <p:grpSp>
        <p:nvGrpSpPr>
          <p:cNvPr id="407" name="Organization Chart 7"/>
          <p:cNvGrpSpPr/>
          <p:nvPr/>
        </p:nvGrpSpPr>
        <p:grpSpPr>
          <a:xfrm>
            <a:off x="395280" y="907920"/>
            <a:ext cx="8569080" cy="5838840"/>
            <a:chOff x="395280" y="907920"/>
            <a:chExt cx="8569080" cy="5838840"/>
          </a:xfrm>
        </p:grpSpPr>
        <p:cxnSp>
          <p:nvCxnSpPr>
            <p:cNvPr id="408" name="_s1028"/>
            <p:cNvCxnSpPr>
              <a:stCxn id="409" idx="0"/>
              <a:endCxn id="410" idx="2"/>
            </p:cNvCxnSpPr>
            <p:nvPr/>
          </p:nvCxnSpPr>
          <p:spPr>
            <a:xfrm flipV="1" rot="16200000">
              <a:off x="5717520" y="2183040"/>
              <a:ext cx="1213560" cy="3287880"/>
            </a:xfrm>
            <a:prstGeom prst="bentConnector3">
              <a:avLst>
                <a:gd name="adj1" fmla="val 10029"/>
              </a:avLst>
            </a:prstGeom>
            <a:ln w="28440">
              <a:solidFill>
                <a:srgbClr val="4d4d4d"/>
              </a:solidFill>
              <a:miter/>
            </a:ln>
          </p:spPr>
        </p:cxnSp>
        <p:cxnSp>
          <p:nvCxnSpPr>
            <p:cNvPr id="411" name="_s1029"/>
            <p:cNvCxnSpPr>
              <a:stCxn id="412" idx="0"/>
              <a:endCxn id="410" idx="2"/>
            </p:cNvCxnSpPr>
            <p:nvPr/>
          </p:nvCxnSpPr>
          <p:spPr>
            <a:xfrm flipV="1" rot="16200000">
              <a:off x="4621680" y="3278880"/>
              <a:ext cx="1213560" cy="1095840"/>
            </a:xfrm>
            <a:prstGeom prst="bentConnector3">
              <a:avLst>
                <a:gd name="adj1" fmla="val 10029"/>
              </a:avLst>
            </a:prstGeom>
            <a:ln w="28440">
              <a:solidFill>
                <a:srgbClr val="4d4d4d"/>
              </a:solidFill>
              <a:miter/>
            </a:ln>
          </p:spPr>
        </p:cxnSp>
        <p:cxnSp>
          <p:nvCxnSpPr>
            <p:cNvPr id="413" name="_s1030"/>
            <p:cNvCxnSpPr>
              <a:stCxn id="414" idx="0"/>
              <a:endCxn id="410" idx="2"/>
            </p:cNvCxnSpPr>
            <p:nvPr/>
          </p:nvCxnSpPr>
          <p:spPr>
            <a:xfrm flipH="1" flipV="1" rot="5400000">
              <a:off x="3525840" y="3278160"/>
              <a:ext cx="1213560" cy="1098000"/>
            </a:xfrm>
            <a:prstGeom prst="bentConnector3">
              <a:avLst>
                <a:gd name="adj1" fmla="val 10029"/>
              </a:avLst>
            </a:prstGeom>
            <a:ln w="28440">
              <a:solidFill>
                <a:srgbClr val="4d4d4d"/>
              </a:solidFill>
              <a:miter/>
            </a:ln>
          </p:spPr>
        </p:cxnSp>
        <p:cxnSp>
          <p:nvCxnSpPr>
            <p:cNvPr id="415" name="_s1031"/>
            <p:cNvCxnSpPr>
              <a:stCxn id="416" idx="0"/>
              <a:endCxn id="410" idx="2"/>
            </p:cNvCxnSpPr>
            <p:nvPr/>
          </p:nvCxnSpPr>
          <p:spPr>
            <a:xfrm flipH="1" flipV="1" rot="5400000">
              <a:off x="2430360" y="2183040"/>
              <a:ext cx="1213560" cy="3287880"/>
            </a:xfrm>
            <a:prstGeom prst="bentConnector3">
              <a:avLst>
                <a:gd name="adj1" fmla="val 10029"/>
              </a:avLst>
            </a:prstGeom>
            <a:ln w="28440">
              <a:solidFill>
                <a:srgbClr val="4d4d4d"/>
              </a:solidFill>
              <a:miter/>
            </a:ln>
          </p:spPr>
        </p:cxnSp>
        <p:sp>
          <p:nvSpPr>
            <p:cNvPr id="410" name="_s1032"/>
            <p:cNvSpPr/>
            <p:nvPr/>
          </p:nvSpPr>
          <p:spPr>
            <a:xfrm>
              <a:off x="3683160" y="907920"/>
              <a:ext cx="1991880" cy="2313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cc00"/>
              </a:solidFill>
              <a:miter/>
            </a:ln>
            <a:effectLst>
              <a:outerShdw dist="63504" dir="19383909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ПЛАТЕЛЬЩИКИ 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16" name="_s1033"/>
            <p:cNvSpPr/>
            <p:nvPr/>
          </p:nvSpPr>
          <p:spPr>
            <a:xfrm>
              <a:off x="395280" y="4433760"/>
              <a:ext cx="1991880" cy="2313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ee941c"/>
              </a:solidFill>
              <a:miter/>
            </a:ln>
            <a:effectLst>
              <a:outerShdw dist="63504" dir="19383909" blurRad="0" rotWithShape="0">
                <a:srgbClr val="ee94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Индивидуальные 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предприниматели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14" name="_s1034"/>
            <p:cNvSpPr/>
            <p:nvPr/>
          </p:nvSpPr>
          <p:spPr>
            <a:xfrm>
              <a:off x="2587680" y="4433760"/>
              <a:ext cx="1991880" cy="2313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ee941c"/>
              </a:solidFill>
              <a:miter/>
            </a:ln>
            <a:effectLst>
              <a:outerShdw dist="63504" dir="19383909" blurRad="0" rotWithShape="0">
                <a:srgbClr val="ee94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Юридические 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лица, за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исключением 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государственных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учреждений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12" name="_s1035"/>
            <p:cNvSpPr/>
            <p:nvPr/>
          </p:nvSpPr>
          <p:spPr>
            <a:xfrm>
              <a:off x="4780440" y="4433760"/>
              <a:ext cx="1991880" cy="2313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ee941c"/>
              </a:solidFill>
              <a:miter/>
            </a:ln>
            <a:effectLst>
              <a:outerShdw dist="63504" dir="19383909" blurRad="0" rotWithShape="0">
                <a:srgbClr val="ee94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Структурные 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подразделения 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юридического 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лица, признанные  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самостоятельными 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плательщиками 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НДС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09" name="_s1036"/>
            <p:cNvSpPr/>
            <p:nvPr/>
          </p:nvSpPr>
          <p:spPr>
            <a:xfrm>
              <a:off x="6972480" y="4433760"/>
              <a:ext cx="1991880" cy="2313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ee941c"/>
              </a:solidFill>
              <a:miter/>
            </a:ln>
            <a:effectLst>
              <a:outerShdw dist="63504" dir="19383909" blurRad="0" rotWithShape="0">
                <a:srgbClr val="ee94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Нерезиденты, 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осуществляющие 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деятельность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в РК через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постоянное 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учреждение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</p:grpSp>
    </p:spTree>
  </p:cSld>
  <p:transition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Organization Chart 63"/>
          <p:cNvGrpSpPr/>
          <p:nvPr/>
        </p:nvGrpSpPr>
        <p:grpSpPr>
          <a:xfrm>
            <a:off x="539640" y="260280"/>
            <a:ext cx="8208000" cy="5544000"/>
            <a:chOff x="539640" y="260280"/>
            <a:chExt cx="8208000" cy="5544000"/>
          </a:xfrm>
        </p:grpSpPr>
        <p:cxnSp>
          <p:nvCxnSpPr>
            <p:cNvPr id="418" name="_s2052"/>
            <p:cNvCxnSpPr>
              <a:stCxn id="419" idx="0"/>
              <a:endCxn id="420" idx="3"/>
            </p:cNvCxnSpPr>
            <p:nvPr/>
          </p:nvCxnSpPr>
          <p:spPr>
            <a:xfrm flipV="1" rot="16200000">
              <a:off x="6506640" y="4010040"/>
              <a:ext cx="693720" cy="122400"/>
            </a:xfrm>
            <a:prstGeom prst="bentConnector3">
              <a:avLst>
                <a:gd name="adj1" fmla="val 20508"/>
              </a:avLst>
            </a:prstGeom>
            <a:ln w="28440">
              <a:solidFill>
                <a:srgbClr val="4d4d4d"/>
              </a:solidFill>
              <a:miter/>
            </a:ln>
          </p:spPr>
        </p:cxnSp>
        <p:cxnSp>
          <p:nvCxnSpPr>
            <p:cNvPr id="421" name="_s2053"/>
            <p:cNvCxnSpPr>
              <a:stCxn id="422" idx="0"/>
              <a:endCxn id="423" idx="3"/>
            </p:cNvCxnSpPr>
            <p:nvPr/>
          </p:nvCxnSpPr>
          <p:spPr>
            <a:xfrm flipV="1" rot="16200000">
              <a:off x="2086920" y="4010040"/>
              <a:ext cx="693720" cy="122400"/>
            </a:xfrm>
            <a:prstGeom prst="bentConnector3">
              <a:avLst>
                <a:gd name="adj1" fmla="val 20508"/>
              </a:avLst>
            </a:prstGeom>
            <a:ln w="28440">
              <a:solidFill>
                <a:srgbClr val="4d4d4d"/>
              </a:solidFill>
              <a:miter/>
            </a:ln>
          </p:spPr>
        </p:cxnSp>
        <p:cxnSp>
          <p:nvCxnSpPr>
            <p:cNvPr id="424" name="_s2054"/>
            <p:cNvCxnSpPr>
              <a:stCxn id="420" idx="0"/>
              <a:endCxn id="425" idx="3"/>
            </p:cNvCxnSpPr>
            <p:nvPr/>
          </p:nvCxnSpPr>
          <p:spPr>
            <a:xfrm flipV="1" rot="16200000">
              <a:off x="5401440" y="825840"/>
              <a:ext cx="693720" cy="2333160"/>
            </a:xfrm>
            <a:prstGeom prst="bentConnector3">
              <a:avLst>
                <a:gd name="adj1" fmla="val 20404"/>
              </a:avLst>
            </a:prstGeom>
            <a:ln w="28440">
              <a:solidFill>
                <a:srgbClr val="4d4d4d"/>
              </a:solidFill>
              <a:miter/>
            </a:ln>
          </p:spPr>
        </p:cxnSp>
        <p:cxnSp>
          <p:nvCxnSpPr>
            <p:cNvPr id="426" name="_s2055"/>
            <p:cNvCxnSpPr>
              <a:stCxn id="423" idx="0"/>
              <a:endCxn id="425" idx="3"/>
            </p:cNvCxnSpPr>
            <p:nvPr/>
          </p:nvCxnSpPr>
          <p:spPr>
            <a:xfrm flipH="1" flipV="1" rot="5400000">
              <a:off x="3191760" y="948960"/>
              <a:ext cx="693720" cy="2087280"/>
            </a:xfrm>
            <a:prstGeom prst="bentConnector3">
              <a:avLst>
                <a:gd name="adj1" fmla="val 20404"/>
              </a:avLst>
            </a:prstGeom>
            <a:ln w="28440">
              <a:solidFill>
                <a:srgbClr val="4d4d4d"/>
              </a:solidFill>
              <a:miter/>
            </a:ln>
          </p:spPr>
        </p:cxnSp>
        <p:sp>
          <p:nvSpPr>
            <p:cNvPr id="425" name="_s2056"/>
            <p:cNvSpPr/>
            <p:nvPr/>
          </p:nvSpPr>
          <p:spPr>
            <a:xfrm>
              <a:off x="2750040" y="260280"/>
              <a:ext cx="3788280" cy="1386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cc">
                    <a:alpha val="40000"/>
                  </a:srgbClr>
                </a:gs>
                <a:gs pos="100000">
                  <a:srgbClr val="0000a4"/>
                </a:gs>
              </a:gsLst>
              <a:lin ang="5400000"/>
            </a:gra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808000"/>
                  </a:solidFill>
                  <a:latin typeface="Arial"/>
                </a:rPr>
                <a:t>Объекты</a:t>
              </a:r>
              <a:endParaRPr b="0" lang="en-US" sz="30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808000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808000"/>
                  </a:solidFill>
                  <a:latin typeface="Arial"/>
                </a:rPr>
                <a:t>обложения</a:t>
              </a:r>
              <a:endParaRPr b="0" lang="en-US" sz="30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23" name="_s2057"/>
            <p:cNvSpPr/>
            <p:nvPr/>
          </p:nvSpPr>
          <p:spPr>
            <a:xfrm>
              <a:off x="539640" y="2339280"/>
              <a:ext cx="3788280" cy="1386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cc99">
                    <a:alpha val="40000"/>
                  </a:srgbClr>
                </a:gs>
                <a:gs pos="100000">
                  <a:srgbClr val="0000a4"/>
                </a:gs>
              </a:gsLst>
              <a:lin ang="5400000"/>
            </a:gra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e941c"/>
                  </a:solidFill>
                  <a:latin typeface="Arial"/>
                </a:rPr>
                <a:t>Облагаемый </a:t>
              </a:r>
              <a:endParaRPr b="0" lang="en-US" sz="24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e941c"/>
                  </a:solidFill>
                  <a:latin typeface="Arial"/>
                </a:rPr>
                <a:t>оборот</a:t>
              </a:r>
              <a:endParaRPr b="0" lang="en-US" sz="24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20" name="_s2058"/>
            <p:cNvSpPr/>
            <p:nvPr/>
          </p:nvSpPr>
          <p:spPr>
            <a:xfrm>
              <a:off x="4959360" y="2339280"/>
              <a:ext cx="3788280" cy="1386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cc99">
                    <a:alpha val="40000"/>
                  </a:srgbClr>
                </a:gs>
                <a:gs pos="100000">
                  <a:srgbClr val="0000a4"/>
                </a:gs>
              </a:gsLst>
              <a:lin ang="5400000"/>
            </a:gra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e941c"/>
                  </a:solidFill>
                  <a:latin typeface="Arial"/>
                </a:rPr>
                <a:t>Облагаемый </a:t>
              </a:r>
              <a:endParaRPr b="0" lang="en-US" sz="24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e941c"/>
                  </a:solidFill>
                  <a:latin typeface="Arial"/>
                </a:rPr>
                <a:t>импорт</a:t>
              </a:r>
              <a:endParaRPr b="0" lang="en-US" sz="24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22" name="_s2059"/>
            <p:cNvSpPr/>
            <p:nvPr/>
          </p:nvSpPr>
          <p:spPr>
            <a:xfrm>
              <a:off x="539640" y="4418280"/>
              <a:ext cx="3788280" cy="1386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cc00">
                    <a:alpha val="40000"/>
                  </a:srgbClr>
                </a:gs>
                <a:gs pos="100000">
                  <a:srgbClr val="0000a4"/>
                </a:gs>
              </a:gsLst>
              <a:lin ang="54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оборот по реализации товаров</a:t>
              </a:r>
              <a:endParaRPr b="0" lang="en-US" sz="16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работ, услуг) совершаемый</a:t>
              </a:r>
              <a:endParaRPr b="0" lang="en-US" sz="16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плательщиком НДС.</a:t>
              </a:r>
              <a:endParaRPr b="0" lang="en-US" sz="16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19" name="_s2060"/>
            <p:cNvSpPr/>
            <p:nvPr/>
          </p:nvSpPr>
          <p:spPr>
            <a:xfrm>
              <a:off x="4959360" y="4418280"/>
              <a:ext cx="3788280" cy="1386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cc00">
                    <a:alpha val="40000"/>
                  </a:srgbClr>
                </a:gs>
                <a:gs pos="100000">
                  <a:srgbClr val="0000a4"/>
                </a:gs>
              </a:gsLst>
              <a:lin ang="54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товары, ввозимые или ввезенные </a:t>
              </a:r>
              <a:endParaRPr b="0" lang="en-US" sz="16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на территорию РК, подлежащие </a:t>
              </a:r>
              <a:endParaRPr b="0" lang="en-US" sz="16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декларированию в соответствии с</a:t>
              </a:r>
              <a:endParaRPr b="0" lang="en-US" sz="16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таможенным законодательством РК</a:t>
              </a:r>
              <a:endParaRPr b="0" lang="en-US" sz="1600" spc="-1" strike="noStrike">
                <a:solidFill>
                  <a:srgbClr val="ffffff"/>
                </a:solidFill>
                <a:latin typeface="Castellar"/>
              </a:endParaRPr>
            </a:p>
          </p:txBody>
        </p:sp>
      </p:grpSp>
    </p:spTree>
  </p:cSld>
  <p:transition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63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Arial"/>
              </a:rPr>
              <a:t>Порядок постановки на учет и снятия с учета по налогу на добавленную стоимость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8" name="AutoShape 79"/>
          <p:cNvSpPr/>
          <p:nvPr/>
        </p:nvSpPr>
        <p:spPr>
          <a:xfrm>
            <a:off x="755640" y="1052640"/>
            <a:ext cx="8064360" cy="122400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5b2ff"/>
                </a:solidFill>
                <a:latin typeface="Arial"/>
              </a:rPr>
              <a:t>Постановка на учет по НДС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29" name="Oval 91"/>
          <p:cNvSpPr/>
          <p:nvPr/>
        </p:nvSpPr>
        <p:spPr>
          <a:xfrm>
            <a:off x="7270920" y="2997360"/>
            <a:ext cx="1873080" cy="1584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5b2ff"/>
                </a:solidFill>
                <a:latin typeface="Arial"/>
              </a:rPr>
              <a:t>Добровольная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30" name="Oval 92"/>
          <p:cNvSpPr/>
          <p:nvPr/>
        </p:nvSpPr>
        <p:spPr>
          <a:xfrm>
            <a:off x="468360" y="2852640"/>
            <a:ext cx="1835280" cy="1441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5b2ff"/>
                </a:solidFill>
                <a:latin typeface="Arial"/>
              </a:rPr>
              <a:t>Обязательная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31" name="Oval 96"/>
          <p:cNvSpPr/>
          <p:nvPr/>
        </p:nvSpPr>
        <p:spPr>
          <a:xfrm>
            <a:off x="2700360" y="2565360"/>
            <a:ext cx="4319640" cy="40323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бует от организаций подачи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явления в налоговый орган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позднее 15 календарных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ней со дня окончания любого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иода, но не более 12-месячного,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итогам которого размер оборота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реализации продукции(работ,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луг) превысил минимальный,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.е 15000МРП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32" name="AutoShape 99"/>
          <p:cNvSpPr/>
          <p:nvPr/>
        </p:nvSpPr>
        <p:spPr>
          <a:xfrm>
            <a:off x="1187280" y="4292640"/>
            <a:ext cx="360360" cy="2565360"/>
          </a:xfrm>
          <a:prstGeom prst="downArrow">
            <a:avLst>
              <a:gd name="adj1" fmla="val 50000"/>
              <a:gd name="adj2" fmla="val 17797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33" name="AutoShape 100"/>
          <p:cNvSpPr/>
          <p:nvPr/>
        </p:nvSpPr>
        <p:spPr>
          <a:xfrm>
            <a:off x="1476360" y="4869000"/>
            <a:ext cx="1295280" cy="288720"/>
          </a:xfrm>
          <a:prstGeom prst="rightArrow">
            <a:avLst>
              <a:gd name="adj1" fmla="val 50000"/>
              <a:gd name="adj2" fmla="val 11215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34" name="AutoShape 101"/>
          <p:cNvSpPr/>
          <p:nvPr/>
        </p:nvSpPr>
        <p:spPr>
          <a:xfrm>
            <a:off x="1187280" y="1700280"/>
            <a:ext cx="360360" cy="1152360"/>
          </a:xfrm>
          <a:prstGeom prst="downArrow">
            <a:avLst>
              <a:gd name="adj1" fmla="val 50000"/>
              <a:gd name="adj2" fmla="val 7994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35" name="AutoShape 102"/>
          <p:cNvSpPr/>
          <p:nvPr/>
        </p:nvSpPr>
        <p:spPr>
          <a:xfrm>
            <a:off x="8028000" y="170028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</p:spTree>
  </p:cSld>
  <p:transition advTm="5000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7" name="AutoShape 32"/>
          <p:cNvSpPr/>
          <p:nvPr/>
        </p:nvSpPr>
        <p:spPr>
          <a:xfrm>
            <a:off x="1547640" y="333360"/>
            <a:ext cx="3311640" cy="3097080"/>
          </a:xfrm>
          <a:prstGeom prst="flowChartConnector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ганизации становятся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тельщиками НДС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ервый день месяца,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едующего за месяцем,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отором они подали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явление  постановке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учет по НДС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38" name="Oval 38"/>
          <p:cNvSpPr/>
          <p:nvPr/>
        </p:nvSpPr>
        <p:spPr>
          <a:xfrm>
            <a:off x="95400" y="3749760"/>
            <a:ext cx="3311280" cy="3070080"/>
          </a:xfrm>
          <a:prstGeom prst="ellipse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.П. становится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тельщиком  НДС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 дня государственной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гистрации, если  подал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явление о постановке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учет по НДС не позднее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рабочих дней после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сударственной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гистрации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39" name="Oval 39"/>
          <p:cNvSpPr/>
          <p:nvPr/>
        </p:nvSpPr>
        <p:spPr>
          <a:xfrm>
            <a:off x="5651640" y="0"/>
            <a:ext cx="3492360" cy="3502080"/>
          </a:xfrm>
          <a:prstGeom prst="ellipse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Юр.лица и нерезиденты,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авшие заявления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постановке на учет по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ДС не позднее 10 рабочих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ней после их 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осударственной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гистрации становятся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лательщиками НДС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 дня их гос.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гистрации в качестве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логоплательщиков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40" name="Oval 44"/>
          <p:cNvSpPr/>
          <p:nvPr/>
        </p:nvSpPr>
        <p:spPr>
          <a:xfrm>
            <a:off x="4500720" y="3716280"/>
            <a:ext cx="3311280" cy="3141720"/>
          </a:xfrm>
          <a:prstGeom prst="ellipse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руктурные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разделения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р. лица-плательщика НДС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новятся плательщиками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ДС в первый месяц,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едующий за месяцем,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отором поданы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явления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 постановке на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ет по НДС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41" name="AutoShape 48"/>
          <p:cNvSpPr/>
          <p:nvPr/>
        </p:nvSpPr>
        <p:spPr>
          <a:xfrm rot="10800000">
            <a:off x="3419280" y="5013360"/>
            <a:ext cx="1152360" cy="503280"/>
          </a:xfrm>
          <a:prstGeom prst="leftArrow">
            <a:avLst>
              <a:gd name="adj1" fmla="val 50000"/>
              <a:gd name="adj2" fmla="val 57242"/>
            </a:avLst>
          </a:prstGeom>
          <a:solidFill>
            <a:srgbClr val="99cc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42" name="AutoShape 49"/>
          <p:cNvSpPr/>
          <p:nvPr/>
        </p:nvSpPr>
        <p:spPr>
          <a:xfrm rot="1878000">
            <a:off x="6643440" y="3331800"/>
            <a:ext cx="447480" cy="647640"/>
          </a:xfrm>
          <a:prstGeom prst="upArrow">
            <a:avLst>
              <a:gd name="adj1" fmla="val 50000"/>
              <a:gd name="adj2" fmla="val 36183"/>
            </a:avLst>
          </a:prstGeom>
          <a:solidFill>
            <a:srgbClr val="99cc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43" name="AutoShape 50"/>
          <p:cNvSpPr/>
          <p:nvPr/>
        </p:nvSpPr>
        <p:spPr>
          <a:xfrm rot="16200000">
            <a:off x="5042520" y="948240"/>
            <a:ext cx="498600" cy="1150920"/>
          </a:xfrm>
          <a:prstGeom prst="upArrow">
            <a:avLst>
              <a:gd name="adj1" fmla="val 50000"/>
              <a:gd name="adj2" fmla="val 57708"/>
            </a:avLst>
          </a:prstGeom>
          <a:solidFill>
            <a:srgbClr val="99cc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44" name="AutoShape 52"/>
          <p:cNvSpPr/>
          <p:nvPr/>
        </p:nvSpPr>
        <p:spPr>
          <a:xfrm rot="1618800">
            <a:off x="2017440" y="3074760"/>
            <a:ext cx="444240" cy="855360"/>
          </a:xfrm>
          <a:prstGeom prst="downArrow">
            <a:avLst>
              <a:gd name="adj1" fmla="val 50000"/>
              <a:gd name="adj2" fmla="val 48136"/>
            </a:avLst>
          </a:prstGeom>
          <a:solidFill>
            <a:srgbClr val="99cc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45" name="AutoShape 53"/>
          <p:cNvSpPr/>
          <p:nvPr/>
        </p:nvSpPr>
        <p:spPr>
          <a:xfrm rot="5400000">
            <a:off x="617760" y="-222840"/>
            <a:ext cx="11383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</p:spTree>
  </p:cSld>
  <p:transition advTm="5000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При постановке на учет по НДС налоговый орган выдает организации свидетельство о его постановке на учет, в котором указываются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47" name="Diagram 7"/>
          <p:cNvGrpSpPr/>
          <p:nvPr/>
        </p:nvGrpSpPr>
        <p:grpSpPr>
          <a:xfrm>
            <a:off x="2399760" y="1924200"/>
            <a:ext cx="4728600" cy="4095360"/>
            <a:chOff x="2399760" y="1924200"/>
            <a:chExt cx="4728600" cy="4095360"/>
          </a:xfrm>
        </p:grpSpPr>
        <p:sp>
          <p:nvSpPr>
            <p:cNvPr id="448" name="_s3076"/>
            <p:cNvSpPr/>
            <p:nvPr/>
          </p:nvSpPr>
          <p:spPr>
            <a:xfrm>
              <a:off x="3321000" y="1924200"/>
              <a:ext cx="2886120" cy="2884320"/>
            </a:xfrm>
            <a:custGeom>
              <a:avLst/>
              <a:gdLst>
                <a:gd name="textAreaLeft" fmla="*/ 0 w 2886120"/>
                <a:gd name="textAreaRight" fmla="*/ 2886480 w 2886120"/>
                <a:gd name="textAreaTop" fmla="*/ 0 h 2884320"/>
                <a:gd name="textAreaBottom" fmla="*/ 2884680 h 288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65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49" name="_s3077"/>
            <p:cNvSpPr/>
            <p:nvPr/>
          </p:nvSpPr>
          <p:spPr>
            <a:xfrm rot="7200000">
              <a:off x="3715200" y="2605680"/>
              <a:ext cx="2884320" cy="2886120"/>
            </a:xfrm>
            <a:custGeom>
              <a:avLst/>
              <a:gdLst>
                <a:gd name="textAreaLeft" fmla="*/ 0 w 2884320"/>
                <a:gd name="textAreaRight" fmla="*/ 2884680 w 2884320"/>
                <a:gd name="textAreaTop" fmla="*/ 0 h 2886120"/>
                <a:gd name="textAreaBottom" fmla="*/ 2886480 h 288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65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50" name="_s3078"/>
            <p:cNvSpPr/>
            <p:nvPr/>
          </p:nvSpPr>
          <p:spPr>
            <a:xfrm rot="14400000">
              <a:off x="2928240" y="2605680"/>
              <a:ext cx="2884320" cy="2885760"/>
            </a:xfrm>
            <a:custGeom>
              <a:avLst/>
              <a:gdLst>
                <a:gd name="textAreaLeft" fmla="*/ 0 w 2884320"/>
                <a:gd name="textAreaRight" fmla="*/ 2884680 w 2884320"/>
                <a:gd name="textAreaTop" fmla="*/ 0 h 2885760"/>
                <a:gd name="textAreaBottom" fmla="*/ 2885760 h 28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65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51" name="_s3079"/>
            <p:cNvSpPr/>
            <p:nvPr/>
          </p:nvSpPr>
          <p:spPr>
            <a:xfrm>
              <a:off x="5554800" y="2451240"/>
              <a:ext cx="115704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i="1" lang="en-US" sz="1800" spc="-1" strike="noStrike">
                  <a:solidFill>
                    <a:srgbClr val="65b2ff"/>
                  </a:solidFill>
                  <a:latin typeface="Arial"/>
                </a:rPr>
                <a:t>РНН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5b2ff"/>
                  </a:solidFill>
                  <a:latin typeface="Arial"/>
                </a:rPr>
                <a:t>             </a:t>
              </a:r>
              <a:r>
                <a:rPr b="1" i="1" lang="en-US" sz="1800" spc="-1" strike="noStrike">
                  <a:solidFill>
                    <a:srgbClr val="65b2ff"/>
                  </a:solidFill>
                  <a:latin typeface="Arial"/>
                </a:rPr>
                <a:t>налогоплательщика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52" name="_s3080"/>
            <p:cNvSpPr/>
            <p:nvPr/>
          </p:nvSpPr>
          <p:spPr>
            <a:xfrm>
              <a:off x="4187880" y="4824360"/>
              <a:ext cx="1157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5b2ff"/>
                  </a:solidFill>
                  <a:latin typeface="Arial"/>
                </a:rPr>
                <a:t>Дата, с которой налогоплательщик 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5b2ff"/>
                  </a:solidFill>
                  <a:latin typeface="Arial"/>
                </a:rPr>
                <a:t>становится плательщиком НДС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53" name="_s3081"/>
            <p:cNvSpPr/>
            <p:nvPr/>
          </p:nvSpPr>
          <p:spPr>
            <a:xfrm>
              <a:off x="2814480" y="2452680"/>
              <a:ext cx="1157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5b2ff"/>
                  </a:solidFill>
                  <a:latin typeface="Arial"/>
                </a:rPr>
                <a:t>Наименование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5b2ff"/>
                  </a:solidFill>
                  <a:latin typeface="Arial"/>
                </a:rPr>
                <a:t>налогоплательщика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5b2ff"/>
                  </a:solidFill>
                  <a:latin typeface="Arial"/>
                </a:rPr>
                <a:t>и его реквизиты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AutoShape 23"/>
          <p:cNvSpPr/>
          <p:nvPr/>
        </p:nvSpPr>
        <p:spPr>
          <a:xfrm>
            <a:off x="0" y="4365720"/>
            <a:ext cx="2987640" cy="2060640"/>
          </a:xfrm>
          <a:prstGeom prst="flowChartDecision">
            <a:avLst/>
          </a:prstGeom>
          <a:solidFill>
            <a:srgbClr val="8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c0099"/>
                </a:solidFill>
                <a:uFillTx/>
                <a:latin typeface="Arial"/>
              </a:rPr>
              <a:t>Место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c0099"/>
                </a:solidFill>
                <a:uFillTx/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cc0099"/>
                </a:solidFill>
                <a:uFillTx/>
                <a:latin typeface="Arial"/>
              </a:rPr>
              <a:t>постановки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c0099"/>
                </a:solidFill>
                <a:uFillTx/>
                <a:latin typeface="Arial"/>
              </a:rPr>
              <a:t>на учет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c0099"/>
                </a:solidFill>
                <a:uFillTx/>
                <a:latin typeface="Arial"/>
              </a:rPr>
              <a:t>по НДС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55" name="AutoShape 24"/>
          <p:cNvSpPr/>
          <p:nvPr/>
        </p:nvSpPr>
        <p:spPr>
          <a:xfrm>
            <a:off x="3708360" y="4653000"/>
            <a:ext cx="5435640" cy="18716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При осуществлении юридическим лицом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деятельности по строительству объектов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На  территории СЭЗ постановка на учет по НДС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такого юридического  лица либо его структурного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подразделения осуществляется в налоговом органе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на территории СЭЗ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56" name="AutoShape 26"/>
          <p:cNvSpPr/>
          <p:nvPr/>
        </p:nvSpPr>
        <p:spPr>
          <a:xfrm>
            <a:off x="324000" y="333360"/>
            <a:ext cx="4356000" cy="19432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Постановка на учет по налогу на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добавленную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стоимость осуществляется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по месту государственной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регистрации в качестве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налогоплательщика, если иное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не предусмотрено настоящей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статьей.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57" name="AutoShape 27"/>
          <p:cNvSpPr/>
          <p:nvPr/>
        </p:nvSpPr>
        <p:spPr>
          <a:xfrm>
            <a:off x="2484360" y="2565360"/>
            <a:ext cx="5400720" cy="17287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Если юридическое лицо не заявило о своей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постановке на учет по НДС, то его структурное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подразделение, осуществляющее деятельность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по строительству объектов на территории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СЭЗ, рассматривается в качестве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самостоятельного плательщика НДС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без заявления указанного юридического лица</a:t>
            </a: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58" name="Line 32"/>
          <p:cNvSpPr/>
          <p:nvPr/>
        </p:nvSpPr>
        <p:spPr>
          <a:xfrm flipV="1">
            <a:off x="1476360" y="2276280"/>
            <a:ext cx="0" cy="2089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59" name="Line 33"/>
          <p:cNvSpPr/>
          <p:nvPr/>
        </p:nvSpPr>
        <p:spPr>
          <a:xfrm>
            <a:off x="2987640" y="5373720"/>
            <a:ext cx="7207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60" name="Line 34"/>
          <p:cNvSpPr/>
          <p:nvPr/>
        </p:nvSpPr>
        <p:spPr>
          <a:xfrm>
            <a:off x="1476360" y="3429000"/>
            <a:ext cx="10796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61" name="Line 54"/>
          <p:cNvSpPr/>
          <p:nvPr/>
        </p:nvSpPr>
        <p:spPr>
          <a:xfrm>
            <a:off x="5651640" y="1484280"/>
            <a:ext cx="0" cy="1081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62" name="Line 55"/>
          <p:cNvSpPr/>
          <p:nvPr/>
        </p:nvSpPr>
        <p:spPr>
          <a:xfrm>
            <a:off x="8675640" y="1484280"/>
            <a:ext cx="0" cy="2160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63" name="Line 56"/>
          <p:cNvSpPr/>
          <p:nvPr/>
        </p:nvSpPr>
        <p:spPr>
          <a:xfrm flipH="1">
            <a:off x="7884720" y="3645000"/>
            <a:ext cx="8636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64" name="Line 57"/>
          <p:cNvSpPr/>
          <p:nvPr/>
        </p:nvSpPr>
        <p:spPr>
          <a:xfrm>
            <a:off x="8675640" y="3429000"/>
            <a:ext cx="0" cy="1224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65" name="Line 58"/>
          <p:cNvSpPr/>
          <p:nvPr/>
        </p:nvSpPr>
        <p:spPr>
          <a:xfrm>
            <a:off x="4629240" y="1469880"/>
            <a:ext cx="4032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</p:spTree>
  </p:cSld>
  <p:transition advTm="5000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3:44:00Z</dcterms:created>
  <dc:creator>Admin</dc:creator>
  <dc:description/>
  <dc:language>en-US</dc:language>
  <cp:lastModifiedBy>Windows XP Professional SP3</cp:lastModifiedBy>
  <dcterms:modified xsi:type="dcterms:W3CDTF">2011-06-07T18:43:04Z</dcterms:modified>
  <cp:revision>16</cp:revision>
  <dc:subject/>
  <dc:title>Налог на добавленную стоимость </dc:title>
</cp:coreProperties>
</file>