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131-6710-4385-ACF5-DC3FE4A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9F8-CF15-4671-84ED-34897C3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314-1D2C-4D8A-84EC-F55C516A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18B-4965-435E-9539-B19D172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D05B-C19C-49FB-92C8-AF9B28F8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D114-36C5-4299-BCCF-863AF2D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00C-7F69-46A5-BDC6-BDBFC39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966-17AC-4680-AF72-06AC8CA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9B38-3ED1-464F-AB79-2BDB65E7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3279-2A98-40C2-9550-F16DE56D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BBFB-F450-4C99-876E-4C4702A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02E-E88A-4C87-B587-7E0EEA6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E10A-9F55-431E-81C1-F2E6299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C565-1E7E-4EF4-9A88-254A3C3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B7B2-2D50-4258-8E2B-2E7753D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842E-4B6E-4A60-8193-AD455170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CB28-E4C4-4129-A386-ED35CB18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178F-3A94-4F48-B4C4-5CC0902B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D2DE-DF5E-4F0B-A7AA-6B6AA2FD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76FB-C0F2-432C-B189-F2EEEED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10BE-059D-4AB2-AB0A-E4C8B14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AEF0-1308-49EB-BFBC-76BE0FF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46A-D9CC-4F74-AA29-01D903B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3A7D-AF4E-419D-BFF9-43DA463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291E-8B97-4385-85BC-5FCEBC20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9EDA-A960-4ACA-A66A-9E6A27E0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2D85-7C2E-4FE0-BCE4-BF583A1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7C01-5028-4A7D-B43E-E65A996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D7C4-40C9-49EF-8906-BB894A11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B5A3-2E3E-46B1-BFCC-450089DF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BDB9-FCDB-4A04-83B5-2521B92F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0BA1-6EC4-4C3C-8AC8-61FC34B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F097-7ED2-4C1F-88BE-CB930D6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B50-128F-4F0E-B02E-9B1F072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A43B-42F2-4D35-AEC3-AB7CBF8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1892-BD04-4343-AB16-163CD4F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42AF-8442-49F0-906D-0913B4FE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8FAE-E2FD-472B-9A57-56D75BD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F4C3-EB62-4AD0-A9F5-032BD82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4FE1-9E84-4073-8BDA-22FD151F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EAA0-146D-4FC8-800D-F042F49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1753-0E8E-4982-A786-4301AE9C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1EE8-2C4C-4233-B9C1-55603517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963-CA44-4D08-B469-5EF9DDF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47C-EF99-4988-9E33-F7542784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483-6857-4447-B6C1-A1D89CA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57E-A4F0-4D13-91B4-C60B20C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849-C457-47C7-83F2-8BC8ABE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21A8-214B-4AB6-9047-6DE7BFC2F2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906-7F9D-48CB-8A6B-A553A556CC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A629-FC41-41A5-8C33-6D8A7BB2BD3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4B7C-FBD1-49B9-A626-B8BD39D77B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l:1026672.0%201001000099.0%2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l:1008705.1%201001000099.0%20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06320" y="92088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логовый пери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Налоговым периодом по уплате роялти является календарный месяц, за исключением случаев, предусмотренных в пункте 2 настоящей стать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Если среднемесячные платежи за предыдущий квартал по роялти составляют менее тысяч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есячных расчетных показател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 налоговым периодом является кварт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с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К специальным платежам и налогам с недропользователей относитс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земе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акциз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НД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социа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Роялти- это…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доход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Ставка роялти по общераспространенным полезным ископаемым и подземным водам установлен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фиксированном процентном выражении за весь период действия контракт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1% до 10%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о скользящей шкале в зависимости от объемов добы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0,5% до 2 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5% до 25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Налог на сверхприбыль недропользователя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доход, полученный сверх норматива, установленного Налоговым Кодексом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Ставка роялти на нерудное сырье для металлургии составля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4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0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16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дропользов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облажение недропользов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бъ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ял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оки уплаты роял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вый перио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с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оговый Кодекс РК за 2008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 операции по недропльзованию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– работы, относящиеся к государственному геологическому изучению недр, разведке и добыче, в том числе работы, связанные с разведкой и добычей подземных вод, лечебных грязей, разведкой недр для сброса сточных вод, а также работы по строительству и эксплуатации подземных сооружений, не связанные с добыч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дропользовател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существляющие добычу полезных ископаемых до заключения контракта на недропользование, производят отчисления за пользование недрами в доход республиканского бюджета в виде роялти в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азмерах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устанавливаемых Правительством Республики Казахстан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 этом определение объектов обложения и сроков уплаты данных отчислений производится в порядке, установленном настоящим Кодексом для уплаты роял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логообложение недропользователей разделяется на две модели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85688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едусматривает уплату недропользователем налогов и других обязательных платежей, установленных настоящим Кодексом, за исключением доли Республики Казахстан по разделу продукци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едусматривает уплату (передачу) недропользователем доли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исключением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нтного налога на экспортируемую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ял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иза на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сверхприбыл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ельного налог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имуще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Субъектами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рава недропользования могут быть физические и юридические лица, в том числе иностранные, а также иностранные государства, международные организации.</a:t>
            </a:r>
            <a:br>
              <a:rPr sz="24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циональные недроис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граждане Республики Казахстан и казахстанские юридические ли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остра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иностранные граждане, иностранные юридические лица, иностранные государства, международные орган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тоя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лица, право недропльзования которых носит бессрочный характ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менные недропльзовател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лица, право недропльзования которых ограниченно определенным сро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екты 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дропользователь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подрядчик) – гражданин или юридическое лицо, государство и (или) международная организация, получившие право осуществлять операции по недропользован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уплачивается недропользователем в отдельности по каждому виду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и уплаты 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по всем видам полезных ископаемых уплачивается не позднее 20 числа месяца, следующего за налоговым период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5:33:37Z</dcterms:created>
  <dc:creator>050208</dc:creator>
  <dc:description/>
  <dc:language>en-US</dc:language>
  <cp:lastModifiedBy>Windows XP Professional SP3</cp:lastModifiedBy>
  <dcterms:modified xsi:type="dcterms:W3CDTF">2011-06-07T18:43:21Z</dcterms:modified>
  <cp:revision>8</cp:revision>
  <dc:subject/>
  <dc:title>Недропользование</dc:title>
</cp:coreProperties>
</file>