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ADB3-EC02-46CA-A719-1BDAE18D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9A55-3449-4A03-B97C-B27FD4B1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AEAC-1E3E-4997-88B2-73D62C70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DA2D-F06D-4DD9-A6C5-CBFCE50E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633B-B535-4265-B5CB-D6A88102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9FD3-5D90-492D-B4DE-CF20D400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3F50-91ED-45E4-8FC9-CB4314E6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5245-3CB7-43B2-92C0-4C62ED18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D714-D8C6-4CB0-91F7-5516C22E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974F-18CE-4B15-811A-69F965E0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91C2-AF59-4878-A140-A2F126B3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6181-A71C-40BD-8587-180000FE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A211-0A9C-4FBB-9B22-051C3A94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F448-5698-4FCC-9C4C-9F31513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5AD6-E261-4101-B5A8-F0E7FFF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7AF1-804B-4EB8-B294-C00C3A46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C3D8-EFA7-44F2-B716-14BE7654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464B-19C1-49A5-B803-D668305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4AE4-D34B-4CCC-B3DE-ED054776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EC2F-05F7-4828-8675-A8681285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0E20-BC64-48B3-BFB6-EB8164B0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8B6C-9FBE-4A41-A3BE-1F3040FD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B05F-9BE4-4BA1-A3E6-62A9CEA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2408-F27F-4646-A576-B3D80340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91A2-D558-49EB-848E-F64C5ED496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C33C-5457-4AAA-93FF-CA3769FB7D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69884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Корпоративный подоходный нало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69400" y="82152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тавки корпоративного подоходного нал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557360"/>
          <a:ext cx="8217720" cy="4568400"/>
        </p:xfrm>
        <a:graphic>
          <a:graphicData uri="http://schemas.openxmlformats.org/drawingml/2006/table">
            <a:tbl>
              <a:tblPr/>
              <a:tblGrid>
                <a:gridCol w="6314040"/>
                <a:gridCol w="19036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охода, подлежащего облож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вка нал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ооблагаемый доход налогоплательщика с учетом корректировок, уменьшенный на сумму убыт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ооблагаемый доход налогоплательщика, для которого земля является основным средством производ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, облагаемые у источника выпл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тый доход юридического лица-нерезидента, осуществляющего деятельность в Республике Казахстан через постоянное учрежд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6000" y="259200"/>
            <a:ext cx="71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ля корпоративного подоходного налога налоговым периодом является календарный г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104328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лательщики корпоративного подоходного налога представляют налоговым органам декларацию по корпоративному подоходному налогу не позднее 31 марта года, следующего за отчетным налоговым период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 rot="10811400">
            <a:off x="1042560" y="2401920"/>
            <a:ext cx="76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екларация по корпоративному подоходному налогу  состоит из декларации и приложений к ней по раскрытию информации об объектах налогообложения и объектах, связанных с налогообложением по корпоративному подоходному нало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399636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орпоративный подоходный налог исчисляется за налоговый период путем применения ставки к налогооблагаемому доходу с учетом корректировок, уменьшенному на сумму убыт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5146920"/>
            <a:ext cx="77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логоплательщик осуществляет окончательный расчет (уплату) по корпоративному подоходному налогу по итогам налогового периода не позднее десяти рабочих дней после срока, установленного для сдачи декла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11280" y="587700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925360" y="404280"/>
            <a:ext cx="36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Резюм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404000"/>
            <a:ext cx="729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орпоративный подоходный налог является одним из наиболее существенных видов налога, уплачиваемых предприятием. Введен Законом РК от 14.02.1991 г. «О подоходном налоге с предприятий, объединений и организаций». Основным объектом налогообложения корпоративным подоходным налогом является налогооблагаемый дох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79848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 плательщикам корпоративного подоходного налога относя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) юридические лица- резиденты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) Национальный Банк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) государственные учре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) ответы В и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) правильного ответа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865800"/>
            <a:ext cx="8218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Совокупный годовой доход юридического лица – резидента состоит и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 доходов, получаемых им в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доходов, получаемых им в РК и за ее пределами в течении налогового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) доходов, получаемых им в течении последних 2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) доходов, от прироста стоимости при реализации зд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) доходов, получаемых в странах С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1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1280" y="86616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Налогооблагаемый доход – э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 совокупный годовой до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прибыль плюс другие виды до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) нормы, установленные законодательством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) разница между совокупным годовым доходом и выче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) доход, полученный в течении налогового периода в РК и за рубеж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93852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 Расчет сумм авансовых платежей, подлежащих уплате за период до сдачи декларации по корпоративному подоходному налогу, составляется и предоставляется налогоплательщиком д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1 январ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20 январ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) 1 феврал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) 15 феврал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) 10 марта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9640" y="104904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Для корпоративного подоходного налога налоговым периодом являетс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) календар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) 12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) 6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) 9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) 3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5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07480" y="835560"/>
            <a:ext cx="207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059200"/>
            <a:ext cx="760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сновы построения корпоративног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доходног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00" y="3356640"/>
            <a:ext cx="28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авки на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8600" y="436464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рядок исчисления и сроки упл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60840" y="83556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писок используемой литерат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0800000">
            <a:off x="1402920" y="18334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декс РК «О налогах и других обязательны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тежах в бюджет» по состоянию на 01.01.200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00000" y="299736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00000" y="51577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2852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рхалиева Д.М. Налоги и налогообложение в Республике Казахстан, Астана –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39254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рмекбаева Б.Ж., Лесбеков Г.А. Основы налогообложения / учебное пособие. Алматы, 200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946760"/>
            <a:ext cx="55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удяков А.И. «Налоговое право РК». Алматы 199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24000" y="981000"/>
            <a:ext cx="468000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Корпоратив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одоходный нал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3860640"/>
            <a:ext cx="3672000" cy="2089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является прямым налог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оторый соглас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Бюджетному Кодек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одлежит зачислению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Республиканский бюдж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860640"/>
            <a:ext cx="3600360" cy="2089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был введен Законом Р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т 14.02.1991 г. «О подоходн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логе с предприят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бъединений и организаций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43280" y="2205000"/>
            <a:ext cx="936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2205000"/>
            <a:ext cx="936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404640"/>
            <a:ext cx="763272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Корпоративный</a:t>
            </a: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подоходный нал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133720"/>
            <a:ext cx="295272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лательщики нал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2133720"/>
            <a:ext cx="295092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Объекты об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2997360"/>
            <a:ext cx="22320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д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ица – резиденты Р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3933720"/>
            <a:ext cx="223200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д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ица – нерезиден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учающие до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з источников в 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5157720"/>
            <a:ext cx="2232000" cy="11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дические лиц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имен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пеци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логовый реж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2997360"/>
            <a:ext cx="302436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логооблагаемый до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3645000"/>
            <a:ext cx="302436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оход, облагаемый 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сточника вы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4581360"/>
            <a:ext cx="302436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Чистый доход нерезиден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существляющего 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РК через постоя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23640" y="1268280"/>
            <a:ext cx="208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1268280"/>
            <a:ext cx="26654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637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3429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4508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508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566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44000" y="2637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740720" y="321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44000" y="3213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740720" y="4076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44000" y="4076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740720" y="5229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71640" y="692280"/>
            <a:ext cx="7272360" cy="172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Не являются плательщика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корпоративного подоходн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налог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357720"/>
            <a:ext cx="2952720" cy="71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циональный Банк Р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3357720"/>
            <a:ext cx="3673440" cy="71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осударственные учреж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4941720"/>
            <a:ext cx="4751640" cy="64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екоммерческие орган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95280" y="2421000"/>
            <a:ext cx="208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421000"/>
            <a:ext cx="1944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421000"/>
            <a:ext cx="0" cy="25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7650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сновным объектом налогообложения корпоративным подоходным  налогом является налогооблагаемый доход, величина которого определяется как разница между совокуп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одовым доходом и вычетам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8400" y="2707560"/>
            <a:ext cx="35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алогооблагаемый доход =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3080" y="270756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Совокупный годовой доход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-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2760" y="27075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Вычеты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515400"/>
            <a:ext cx="4037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вокупный годовой доход юридического лица – 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стоит из доходов, подлежащих получению им в РК и за ее пределами в течение налогового периода. В совокупный годовой доход включаются все виды доходов налогоплательщ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00000" y="2997360"/>
            <a:ext cx="259236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3933720"/>
            <a:ext cx="332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асходы налогоплательщика, связанные с получением совокупного годового доход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одлежат вычету при определении налогооблагаемого дох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8720" y="299736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276120" y="836280"/>
            <a:ext cx="981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Вычету подлежат уплаченные в государств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бюджет налоги в пределах начисленных, кроме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1160" y="2275560"/>
            <a:ext cx="100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) налогов, исключаемых до определения совокупного годового доход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915280"/>
            <a:ext cx="75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) корпоративного подоходного налога и налогов на доход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плаченных на территории Республики Казахстан и в других государств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960" y="4364640"/>
            <a:ext cx="39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) налога на сверхприбы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715400"/>
            <a:ext cx="273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Из налогооблагаемого дохода налогоплательщика подлеж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исключению в пределах трех процентов от налогооблагаемого дохода следующие расходы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33948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ходы, фактически понесенные налогоплательщиком на содержание объектов социальной сферы, в пределах суммы превышения расходов над доходами, полученными при эксплуатации объектов социальной сф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31467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 безвозмездно переданное имущество                некоммерческим организаци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804560"/>
            <a:ext cx="44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адресная социальная помощь, предоставленная физическим лиц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соответствии с законодательством  Республики Казахс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3429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16000" y="1125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12536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87700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7:49:01Z</dcterms:created>
  <dc:creator>SamLab.ws</dc:creator>
  <dc:description/>
  <dc:language>en-US</dc:language>
  <cp:lastModifiedBy>к</cp:lastModifiedBy>
  <dcterms:modified xsi:type="dcterms:W3CDTF">2010-10-20T17:12:26Z</dcterms:modified>
  <cp:revision>4</cp:revision>
  <dc:subject/>
  <dc:title>Слайд 1</dc:title>
</cp:coreProperties>
</file>