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EB5CB-2CCC-4831-9A94-3F6AC90E5A4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6EF61-A773-4FCD-909D-01F2C512D50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3D5C-5917-41D8-834D-D0981A89A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6324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E761-ADCC-45BD-B9DD-1F9F84044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6324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47912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ADD8-9879-49F6-8BE5-786D86BEE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6324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1112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6504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1112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6504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2359-9D29-4672-A852-1EE818F07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05B95-1C10-49C4-808D-6872D1F69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6324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128C0-B66C-45D5-829A-3CA12FF8B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6324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246A5-A75C-4253-A24C-19686EFEB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6324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C2576-1574-4A57-B92C-3C92B17ED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6324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90C64-10FF-4CEB-A579-A8BFF0D7B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6324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16F5B-07FE-47C4-B096-EA77E404F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6324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DEC47-D31D-41D6-B727-D9764B438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6324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9E34-7FAC-44BF-BFD5-BA64D7D65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6324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47912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0CD9C-9DB6-4A48-807B-9F252621C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6324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8AAC8-5DCC-4A2E-AF1F-5EE241ECF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6324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4108F-6A4B-4451-94CF-971284DCA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6324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47912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16509-7911-42BC-8DC7-0C4A82944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6324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1112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76504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1112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76504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D6DB1-B00E-48C0-AABB-6E1C17B86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6324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2E57-4319-40F1-802D-C90B367D5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6324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DBC4-3F56-4A04-8AF1-CECBA947A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6324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D9FF-1976-4E0D-A51F-40B96795F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6324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7471-8BF7-43C0-91E1-ECA782B1D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6324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05BB-55E8-42B7-A2F4-E7D630C8D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6324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47912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1371-1431-4882-982D-647D329C8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6324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9627-637F-49F7-95F1-4BE05348A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367F3-718E-4AD4-BDF0-593D1B5CFF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8" descr="0minfin2"/>
          <p:cNvPicPr/>
          <p:nvPr/>
        </p:nvPicPr>
        <p:blipFill>
          <a:blip r:embed="rId3"/>
          <a:stretch/>
        </p:blipFill>
        <p:spPr>
          <a:xfrm>
            <a:off x="7315200" y="103320"/>
            <a:ext cx="1676520" cy="1268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8" descr="0minfin2"/>
          <p:cNvPicPr/>
          <p:nvPr/>
        </p:nvPicPr>
        <p:blipFill>
          <a:blip r:embed="rId3"/>
          <a:stretch/>
        </p:blipFill>
        <p:spPr>
          <a:xfrm>
            <a:off x="2057400" y="3137040"/>
            <a:ext cx="990720" cy="7491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86906-FE61-43F1-8DB4-B0E6B10481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429000" y="2666880"/>
            <a:ext cx="54100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Специальные налоговые режимы</a:t>
            </a:r>
            <a:br>
              <a:rPr sz="4000"/>
            </a:b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 с 1 января 2009 года</a:t>
            </a:r>
            <a:endParaRPr b="1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Специальные налоговые режимы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7848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1 Специальный налоговый режим для </a:t>
            </a:r>
            <a:r>
              <a:rPr b="1" lang="ru-RU" sz="2000" spc="-1" strike="noStrike" u="sng">
                <a:solidFill>
                  <a:srgbClr val="333399"/>
                </a:solidFill>
                <a:uFillTx/>
                <a:latin typeface="Arial"/>
              </a:rPr>
              <a:t>субъектов малого  бизнес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на основе разового талона до 2011 год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на основе патент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на основе упрощенной декларации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2   Специальный налоговый режим для </a:t>
            </a:r>
            <a:r>
              <a:rPr b="1" lang="ru-RU" sz="2000" spc="-1" strike="noStrike" u="sng">
                <a:solidFill>
                  <a:srgbClr val="333399"/>
                </a:solidFill>
                <a:uFillTx/>
                <a:latin typeface="Arial"/>
              </a:rPr>
              <a:t>крестьянских или фермерских хозяйств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3   Специальный налоговый режим для </a:t>
            </a:r>
            <a:r>
              <a:rPr b="1" lang="ru-RU" sz="2000" spc="-1" strike="noStrike" u="sng">
                <a:solidFill>
                  <a:srgbClr val="333399"/>
                </a:solidFill>
                <a:uFillTx/>
                <a:latin typeface="Arial"/>
              </a:rPr>
              <a:t>юридических лиц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–</a:t>
            </a:r>
            <a:r>
              <a:rPr b="1" lang="ru-RU" sz="2000" spc="-1" strike="noStrike" u="sng">
                <a:solidFill>
                  <a:srgbClr val="333399"/>
                </a:solidFill>
                <a:uFillTx/>
                <a:latin typeface="Arial"/>
              </a:rPr>
              <a:t>производителей сельскохозяйственной продукции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и сельских потребительских кооперативов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Специальный налоговый режим для субъектов малого бизнеса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из перечня видов деятельности, на которые не распространяется СНР, исключены лицензируемые виды деятельност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в дополнение к действовавшим ограничениям по применению СНР,  введено положение, согласно которому  СНР также не вправе применять юридические лица, в которых доля участия других юридических лиц составляет более 25 %, а также юридические лица , у которых учредитель одновременно является учредителем другого юридического лица, применяющего СНР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ограничение по применению СНР в случае наличия иных обособленных структурных подразделений и объектов налогообложения в разных населенных пунктах не будет распространяться на налогоплательщиков, осуществляющих деятельность по сдаче в аренду имуществ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Специальный налоговый режим на основе </a:t>
            </a: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патента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 используют труд работников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существляют деятельность в форме личного предпринимательства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оход не превышает   200 –кратного миним. размера заработной платы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счисление патента: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%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от доход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плата в бюджет в виде: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Индивид. под. налог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– ½ части стоимости патента;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Социального налог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– ½ части стоимости патента за минусом социальных отчислений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3962520" y="3429000"/>
            <a:ext cx="2743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3809880" y="3429000"/>
            <a:ext cx="2667240" cy="376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9"/>
          <p:cNvSpPr/>
          <p:nvPr/>
        </p:nvSpPr>
        <p:spPr>
          <a:xfrm>
            <a:off x="1371600" y="6019920"/>
            <a:ext cx="58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логовый период –календарный 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Специальный налоговый режим для субъектов малого бизнеса применяющий СНР на основе упрощенной декларации</a:t>
            </a:r>
            <a:br>
              <a:rPr sz="1800"/>
            </a:br>
            <a:endParaRPr b="1" i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2" name="Organization Chart 10"/>
          <p:cNvGrpSpPr/>
          <p:nvPr/>
        </p:nvGrpSpPr>
        <p:grpSpPr>
          <a:xfrm>
            <a:off x="4876920" y="1600200"/>
            <a:ext cx="3428640" cy="3199320"/>
            <a:chOff x="4876920" y="1600200"/>
            <a:chExt cx="3428640" cy="3199320"/>
          </a:xfrm>
        </p:grpSpPr>
        <p:cxnSp>
          <p:nvCxnSpPr>
            <p:cNvPr id="103" name="_s1028"/>
            <p:cNvCxnSpPr>
              <a:stCxn id="104" idx="0"/>
              <a:endCxn id="105" idx="2"/>
            </p:cNvCxnSpPr>
            <p:nvPr/>
          </p:nvCxnSpPr>
          <p:spPr>
            <a:xfrm flipV="1" rot="16200000">
              <a:off x="6732360" y="2737800"/>
              <a:ext cx="640440" cy="923400"/>
            </a:xfrm>
            <a:prstGeom prst="bentConnector3">
              <a:avLst>
                <a:gd name="adj1" fmla="val 1777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6" name="_s1029"/>
            <p:cNvCxnSpPr>
              <a:stCxn id="107" idx="0"/>
              <a:endCxn id="105" idx="2"/>
            </p:cNvCxnSpPr>
            <p:nvPr/>
          </p:nvCxnSpPr>
          <p:spPr>
            <a:xfrm flipH="1" flipV="1" rot="5400000">
              <a:off x="5809680" y="2737800"/>
              <a:ext cx="640440" cy="923760"/>
            </a:xfrm>
            <a:prstGeom prst="bentConnector3">
              <a:avLst>
                <a:gd name="adj1" fmla="val 1777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05" name="_s1030"/>
            <p:cNvSpPr/>
            <p:nvPr/>
          </p:nvSpPr>
          <p:spPr>
            <a:xfrm>
              <a:off x="5799960" y="1600200"/>
              <a:ext cx="1582560" cy="12798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Юридическ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лица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_s1031"/>
            <p:cNvSpPr/>
            <p:nvPr/>
          </p:nvSpPr>
          <p:spPr>
            <a:xfrm>
              <a:off x="4876920" y="3519720"/>
              <a:ext cx="1582560" cy="12798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50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челове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_s1032"/>
            <p:cNvSpPr/>
            <p:nvPr/>
          </p:nvSpPr>
          <p:spPr>
            <a:xfrm>
              <a:off x="6723000" y="3519720"/>
              <a:ext cx="1582560" cy="12798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25 000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тысяч тенг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Organization Chart 20"/>
          <p:cNvGrpSpPr/>
          <p:nvPr/>
        </p:nvGrpSpPr>
        <p:grpSpPr>
          <a:xfrm>
            <a:off x="457200" y="1600200"/>
            <a:ext cx="3580920" cy="3276000"/>
            <a:chOff x="457200" y="1600200"/>
            <a:chExt cx="3580920" cy="3276000"/>
          </a:xfrm>
        </p:grpSpPr>
        <p:cxnSp>
          <p:nvCxnSpPr>
            <p:cNvPr id="109" name="_s1035"/>
            <p:cNvCxnSpPr>
              <a:stCxn id="110" idx="0"/>
              <a:endCxn id="111" idx="2"/>
            </p:cNvCxnSpPr>
            <p:nvPr/>
          </p:nvCxnSpPr>
          <p:spPr>
            <a:xfrm flipV="1" rot="16200000">
              <a:off x="2401560" y="2756160"/>
              <a:ext cx="655560" cy="964440"/>
            </a:xfrm>
            <a:prstGeom prst="bentConnector3">
              <a:avLst>
                <a:gd name="adj1" fmla="val 1780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2" name="_s1036"/>
            <p:cNvCxnSpPr>
              <a:stCxn id="113" idx="0"/>
              <a:endCxn id="111" idx="2"/>
            </p:cNvCxnSpPr>
            <p:nvPr/>
          </p:nvCxnSpPr>
          <p:spPr>
            <a:xfrm flipH="1" flipV="1" rot="5400000">
              <a:off x="1437840" y="2756160"/>
              <a:ext cx="655560" cy="964800"/>
            </a:xfrm>
            <a:prstGeom prst="bentConnector3">
              <a:avLst>
                <a:gd name="adj1" fmla="val 1780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11" name="_s1037"/>
            <p:cNvSpPr/>
            <p:nvPr/>
          </p:nvSpPr>
          <p:spPr>
            <a:xfrm>
              <a:off x="1421280" y="1600200"/>
              <a:ext cx="1652760" cy="13104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ИП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_s1038"/>
            <p:cNvSpPr/>
            <p:nvPr/>
          </p:nvSpPr>
          <p:spPr>
            <a:xfrm>
              <a:off x="457200" y="3565800"/>
              <a:ext cx="1652760" cy="13104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25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челове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_s1039"/>
            <p:cNvSpPr/>
            <p:nvPr/>
          </p:nvSpPr>
          <p:spPr>
            <a:xfrm>
              <a:off x="2385360" y="3565800"/>
              <a:ext cx="1652760" cy="13104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10 000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тысяч тенг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Text Box 32"/>
          <p:cNvSpPr/>
          <p:nvPr/>
        </p:nvSpPr>
        <p:spPr>
          <a:xfrm>
            <a:off x="304920" y="5791320"/>
            <a:ext cx="7848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лог. период –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лендарный         кварт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Исчисление и корректировка СНР на основе упрощенной декларации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счисление налогов производится самостоятельно путем применения к объекту налогообложения за отчетный налоговый период ставки в размере </a:t>
            </a: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3%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умма налогов подлежит корректировке в сторону уменьшения на сумму в размере </a:t>
            </a: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1,5%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т суммы налога за каждого работника, исходя из среднесписочной численности работников, если среднемесячная заработная плата работников по итогам отчетного периода составила у ИП не менее </a:t>
            </a: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2-х кратного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юридических лиц – не менее </a:t>
            </a: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2,5-кратного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инимального размера заработной платы, установленного на соответствующий финансовый год законом о республиканском бюджете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9T07:59:13Z</dcterms:created>
  <dc:creator>edurmagambetov</dc:creator>
  <dc:description/>
  <dc:language>en-US</dc:language>
  <cp:lastModifiedBy>Customer</cp:lastModifiedBy>
  <dcterms:modified xsi:type="dcterms:W3CDTF">2011-06-08T08:42:46Z</dcterms:modified>
  <cp:revision>113</cp:revision>
  <dc:subject/>
  <dc:title>Специальные налоговые режимы  с 1 января 2009 год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Документ</vt:lpwstr>
  </property>
  <property fmtid="{D5CDD505-2E9C-101B-9397-08002B2CF9AE}" pid="3" name="Об утверждении Перечня товаров">
    <vt:lpwstr/>
  </property>
</Properties>
</file>