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463-6EEA-43A4-A221-0DB3F4FD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A1B-C768-4156-9C42-C360CCB5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266-8B52-450B-AA9F-8AFED4C4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707-46D5-483B-9093-3AC92656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FA8D-797E-4169-BD08-D99F57F0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ED0F-74F6-49F8-B6A8-04A9840D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27C0-0796-4FE2-A460-21419822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4C06-E2EC-4CA6-B3A5-28452FFE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0B33-04B2-4A60-ACE4-188670C6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BE92-3752-42FC-8933-FDA118E7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CFD1-8470-414D-9FEC-36695491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BE0-6DEC-42C2-BA7E-E2305434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74E2-5D80-476A-B0F2-85B7659B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2B1C-6E17-4489-9CED-AF70603E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700D-374A-4A8B-8D59-0EB0AA12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9448-2CD0-4C68-8C20-9B18F480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9AC6-F569-45CE-8D67-B1671B71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3C9-CB02-4879-9294-FC483E79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A8CE-9806-47A8-AE6B-DFED25D2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3A8-B1D3-420D-9A87-4868041E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359-4840-455C-A4AF-EED978AC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D49-C60F-41BB-9B8D-97967908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A66-E014-4546-8F27-B11B4E2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D84-090A-4D5D-92F0-19956A4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2AE0-D704-4791-9A78-96E9233589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3D28-A52D-43FE-99F4-D4CC29E66A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484280"/>
            <a:ext cx="91440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пециальные платежи и налог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 недропользова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щие положения о роял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оялти уплачивается недропользователем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в отдельности по каждому виду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добываемых на территории Республики Казахстан полезных ископаемых, независимо от того, были ли они реализованы (отгружены) покупателям или использованы на собственные нужд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Плательщикам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роялти являются недропользователи, осуществляющи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добычу полезных ископаемых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включая извлечение полезных ископаемых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из техногенных минеральных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бразований, независимо от того, имела ли место их реализация в отчетном период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змер роялти определяется исходя из объекта налогообложения, базы исчисления и став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роки уплаты : роялти по всем видам полезных ископаемых уплачивается не позднее </a:t>
            </a:r>
            <a:r>
              <a:rPr b="0" lang="ru-RU" sz="1800" spc="-1" strike="noStrike">
                <a:solidFill>
                  <a:srgbClr val="ff6600"/>
                </a:solidFill>
                <a:latin typeface="Georgia"/>
              </a:rPr>
              <a:t>20 числа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месяца, следующего за налоговым периодо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Налоговым периодом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по уплате роялти является календарный </a:t>
            </a:r>
            <a:r>
              <a:rPr b="0" lang="ru-RU" sz="1800" spc="-1" strike="noStrike">
                <a:solidFill>
                  <a:srgbClr val="ff6600"/>
                </a:solidFill>
                <a:latin typeface="Georgia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екларация: не позднее 20-числа месяца, следующего за налоговым период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оялти не уплачивае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физическими лицами по </a:t>
            </a:r>
            <a:r>
              <a:rPr b="0" lang="ru-RU" sz="2000" spc="-1" strike="noStrike">
                <a:solidFill>
                  <a:srgbClr val="ff6699"/>
                </a:solidFill>
                <a:latin typeface="Georgia"/>
              </a:rPr>
              <a:t>подземным вода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добываемым на земельных участках, принадлежащих им на праве частной собственности, при условии, что данные воды не реализуются на сторону и не используются на производство и технологические нужды при осуществлении предпринимательской деятельн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государственными учреждениями, осуществляющими добычу подземных вод для собственных хозяйственных нужд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недропользователями при обратной закачке попутно добытых подземных вод для поддержания пластового давл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Ставки роялти по нефти, включая газовый конденса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до 500000 тонн - 2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500000 до 1000000 тонн - 2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1000000 до 1500000 тонн - 3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1500000 до 2000000 тонн - 3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2000000 до 2500000 тонн - 4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2500000 до 3500000 тонн - 4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3500000 до 4500000 тонн - 5 проценто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4500000 до 5000000 тонн - 5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свыше 5000000 тонн - 6 процент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56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пределение стоимост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В целях исчисления роялти стоимость добытых нефти, общераспространенных полезных ископаемых, подземных вод и полезных ископаемых, за исключением золота, серебра и платины, определяется исходя из средневзвешенной цены реализации за налоговый период первого товарного продукта, полученного из добытых полезных ископаемых, без учета косвенных налогов и сумм фактических расходов на их транспортировку до пункта продажи (отгрузки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Стоимость добытых недропользователем за налоговый период золота, серебра и платины исчисляется исходя из средних цен этих металлов, сложившихся за налоговый период на Международной (Лондонской) бирж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В случае отсутствия реализации первого товарного продукта стоимость добытых нефти, подземных вод и полезных ископаемых, за исключением золота, серебра, платины и общераспространенных полезных ископаемых, определяется исходя из средневзвешенной цены реализации первого товарного продукта последнего налогового периода, в котором имела место такая реализац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690480"/>
          <a:ext cx="9144000" cy="6167520"/>
        </p:xfrm>
        <a:graphic>
          <a:graphicData uri="http://schemas.openxmlformats.org/drawingml/2006/table">
            <a:tbl>
              <a:tblPr/>
              <a:tblGrid>
                <a:gridCol w="2987640"/>
                <a:gridCol w="4897440"/>
                <a:gridCol w="12589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именование полезного ископаемо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авка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оялти в 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рудное сырье для металлург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овочные пески, глиноземосодержащи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полевой шпат, пегматит), известняки, доломи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стняково - доломитовые пор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стняки для пищевой промышленн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очее нерудное сырь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гнеупорные глины, каолин, вермикули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ль поварен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1295280" cy="1155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1297080" cy="1206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1225440" cy="1139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79280" y="4788000"/>
            <a:ext cx="1368360" cy="1220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692360" y="5516640"/>
            <a:ext cx="1008000" cy="942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5" name=""/>
          <p:cNvSpPr/>
          <p:nvPr/>
        </p:nvSpPr>
        <p:spPr>
          <a:xfrm>
            <a:off x="1332000" y="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тавки роялти по общераспространенным полезным ископаемым и подземным вод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476360"/>
                <a:gridCol w="6912000"/>
                <a:gridCol w="755640"/>
              </a:tblGrid>
              <a:tr h="16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стные строительные материал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,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улканические пористые породы, вулканическ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одосодержащие стекла и стекловидны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перлит, обсидиан), галька и гравий, гравийно -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есчаная смесь, гипс, гипсовый камень, ангидр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ажа, глина и глинистые породы (тугоплавкие 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егкоплавкие глины, суглинки, аргилли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алевролиты, глинистые сланцы), мел, мергель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ргельно - меловые породы, кремнисты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трепел, опоки, диатомит), кварцево -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левошпатные породы, камень бутовый, осадочные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рженные и метаморфические породы (гран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азальт, диабаз, мрамор), песок (строительный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варцевый, кварцево - полевошпатный), кром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овочного, песчаник, природные пигмен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кушеч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,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дземные в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511280" cy="1320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440000" cy="1312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1079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6740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бщие положения о налоге н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сверхприбы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лательщикам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а на сверхприбыль являются недропользователи, за исключением осуществляющих деятельность по контрактам о разделе продукции, на добычу общераспространенных полезных ископаемых и подземных вод, а также строительство и эксплуатацию подземных сооружений, не связанных с разведкой и добыч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Объектом обложени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ом на сверхприбыль является часть чистого дохода недропользователя по каждому отдельному контракту за налоговый период, в котором отношение накопленных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доходов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 накопленны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расхода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ыше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1,2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Налоговой базой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является часть чистого дохода недропользователя по каждому отдельному контракту за налоговый период, превышающая 20 процентов от суммы вычетов, предусмотренных статьями Налогового Кодекса Р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Налог на сверхприбыл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уплачивается не позднее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15 апрел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года, следующего за налоговым период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68360" y="1268280"/>
          <a:ext cx="8280360" cy="5152680"/>
        </p:xfrm>
        <a:graphic>
          <a:graphicData uri="http://schemas.openxmlformats.org/drawingml/2006/table">
            <a:tbl>
              <a:tblPr/>
              <a:tblGrid>
                <a:gridCol w="5720040"/>
                <a:gridCol w="2560320"/>
              </a:tblGrid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олученное значение отношения накопленных доходов к накопленным расхода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Став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ее 1,2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2 до 1,3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3 до 1,4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4 до 1,5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5 до 1,6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6 до 1,7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свыше 1,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2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3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4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5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60 процент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Georgia"/>
              </a:rPr>
              <a:t>Ставки налога на сверхприбыль</a:t>
            </a: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Налоговым периодом по платежам доли Республики Казахстан по разделу продукции является календарный 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месяц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 уплачивается не позднее 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20 числа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месяца, следующего за налоговым периодо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онтракт о разделе продукции -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договор, в соответствии с которым Республика Казахстан предоставляет недропользователю на платной основе на определенный срок право на проведение операций по недропользованию, включая нефтяные операции на контрактной территории, и ведение связанных с этим работ за его счет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Контракт о разделе продукции должен содержать следующие основные условия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общего объема добытой продукции, прошедшей пункт замера, и ее стоим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части добытой продукции, которая передается в собственность недропользователю для возмещения затрат на выполнение работ по контракту (компенсационная продукция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части добытой продукции, подлежащей разделу после вычета компенсационной продукции (прибыльной продукции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и раздела (процента) между Республикой Казахстан и недропользователе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доли Республики Казахстан в прибыльной продукции в порядке, установленном Налоговым Кодексом Р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484280"/>
            <a:ext cx="91440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 л а 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Характеристика специальных налоговых режимов для недропользова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латежи и налоги с недропользователей: бонусы, роялти, налог на сверхприбы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ентный налог на экспортируемую нефть и газовый конденс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пределение доли Республики Казахстан по разделу продук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 определяется как суммарная стоимость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прибыльной продукци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подлежащей разделу между Республикой Казахстан и недропользователем, за вычетом доли недропользователя в прибыльной продук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я недропользователя в прибыльной продукции определяется как наименьшее из процентных значений, соответствующих нижеследующим трем триггерам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R-фактор (показатель доходности) - отношение накопленных доходов недропользователя к накопленным расходам по проекту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внутренняя норма рентабельности (ВНР) подрядчика - ставка дисконтирования, при которой реальный чистый дисконтированный доход достигает своего нулевого значен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Р-фактор (ценовой коэффициент) - отношение дохода недропользователя к объему добычи за отчетный перио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51440"/>
                <a:gridCol w="4178160"/>
              </a:tblGrid>
              <a:tr h="147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Значение R-фактора (показател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доходности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ьше или равно 1,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больше или равно 1,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50920" y="189000"/>
            <a:ext cx="856908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47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Значение внутренней нормы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рентабельности (ВНР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ее или равно 12 процент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более или равно 20 процент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250920" y="189000"/>
            <a:ext cx="8137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2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начение P-фактора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ценового коэффициента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нее или равно 12 долларам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 за 1 бар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олее или равно 27 долларам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 за 1 бар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50920" y="189000"/>
            <a:ext cx="8137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озмещаемые затра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аемые затраты - обоснованные и документально подтвержденные затраты недропользователя, фактически произведенные им при выполнении работ в рамках заключенного контракта о разделе продукции в соответствии с программой работ и бюджетам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аемые затраты недропользователя уменьшаются на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сумму операционных доходов, связанных с получением арендной платы за сдачу в аренду имущества, созданного либо приобретенного по контракту, за вычетом затрат, связанных с их получение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сумму прочих доходов (неустойки (штрафа, пени) и других), полученных от деятельности в рамках контрак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ение затрат недропользователю осуществляется с момента начала пробной эксплуатации и (или) добычи полезных ископаемых в коммерческих в размере, не превышающем предельную долю компенсационной продук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 состав возмещаемых затрат включаются следующие затраты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роизведенные недропользователем до вступления в силу контракта, в том числ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на подготовку и разработку технико - экономического обоснования на стадии, предшествующей заключению контракт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на оценку и разведку, произведенные до вступления в силу контракта и непосредственно связанные с его исполнением, которые должны быть отражены в смете затрат недропользователя на первый год работ по контракту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фактически произведенные с даты вступления контракта в силу и в течение всего периода его действ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 затратам, не возмещаемым за счет компенсационной продукции, относятся следующие виды затрат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о уплате взноса на участие в конкурсе инвестиционных программ на получение права недропользования на условиях раздела продук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по приобретению геологической информа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по статьям затрат в части их превышения, по которым соглашением установлены ограничения, в том числе административные расход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4) по уплате платы за эмиссии в окружающую среду сверх установленных лимито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5) связанные с реализацией принадлежащей недропользователю компенсационной продукции и доли прибыльной продук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6) связанные с ревизией (аудитом) финансово - хозяйственной деятельности, осуществленной по требованию акционеров (учредителей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7) возникшие в связи с неисполнением или ненадлежащим исполнением недропользователем своих обязательств, установленных контракто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8) связанные с оплатой стоимости путевок на экскурсии и путешеств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9) выплаты вознаграждения за кредит (заем) и использование заемных средств, а также комиссионные выплаты и другие расходы, связанные с привлечением и использованием заемных средст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0) убытки, причиненные вследствие аварий, допущенных по вине недропользователя, в результате несоблюдения технологий и техники безопасн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1) затраты по социальным проекта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2) расходы по добровольному страхованию работнико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3) затраты, понесенные в связи с судебными разбирательства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4) штрафы и пени, взимаемые государственными органами с недропользовател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5) затраты, связанные с оплатой расходов на личное потребление работников, не предусмотренное законодательством Республики Казахстан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6) разовые фиксированные платежи за пользование недрами или бонусы коммерческого обнаружен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7) уплаченные налоги и обязательные платежи в бюдже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9) другие затраты, непосредственно не относящиеся к деятельности по контрак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ительный платеж недропользовате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лательщиками дополнительного платежа недропользователя, осуществляющего деятельность по контракту о разделе продукции, являются недропользователи, заключившие контракты о разделе продук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и исполнении контракта о разделе продукции доля поступлений государства в каждом налоговом периоде с момента начала добычи до момента возврата вложенных инвестиций не должна быть менее значения, установленного контрактом о разделе продукции в интервале от пяти до десяти процентов, и менее сорока процентов от объема продукции, полученной недропользователем в налоговом периоде, в последующих период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логовым периодом по дополнительному платежу недропользователя, осуществляющего деятельность по контракту о разделе продукции, является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календарный го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Налоговый Кодекс РК устанавливает порядок исчисления и уплаты следующих налогов и специальных платежей недропользователей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174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лога на сверхприбыль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174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пециальных платежей недропользователе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онусов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оял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ли Республики Казахстан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по разделу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оду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ительного платежа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недропользователя,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существляющего деятельность по контракту о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зделе продук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1916280"/>
            <a:ext cx="3384360" cy="366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5805360"/>
            <a:ext cx="2521080" cy="3668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3. Рентный налог на экспортируемую нефть и газовый конденса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413000"/>
            <a:ext cx="7921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лательщиками данного вида налога являются физические и юридические лица, реализующие на экспорт сырую нефть, газовый конденсат, за исключением недропользователей, заключивших контракты о разделе про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ъектом обложения рентным налогом на экспортируемую сырую нефть, газовый конденсат является объем сырой нефти, газового конденсата, реализуемый на экспор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508640"/>
            <a:ext cx="7272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логовый период –календарный меся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плата- не позднее 20 числа месяца следующего за налоговым период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логовая декларация – не позднее 20-числа месяца, следующего за налоговым пери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Georgia"/>
              </a:rPr>
              <a:t>Ставки рентного налог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5640" y="1119240"/>
          <a:ext cx="7354800" cy="5580000"/>
        </p:xfrm>
        <a:graphic>
          <a:graphicData uri="http://schemas.openxmlformats.org/drawingml/2006/table">
            <a:tbl>
              <a:tblPr/>
              <a:tblGrid>
                <a:gridCol w="6335640"/>
                <a:gridCol w="101916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нее 19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19 до 2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0 до 21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1 до 22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2 до 23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3 до 24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………………………………………………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38 до 4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олее 4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естовые вопросы по теме: «Недропользование»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. Раздел налогообложения недропользователей регулирует особенности налогообложения деятельности по проведению операций по недропользованию, и устанавливает порядок исчисления и уплаты следующих налогов и специальных платежей недропользователей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налога на сверхприбыл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специальных платежей недропользователе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бонусов (подписного, коммерческого обнаружения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роялт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се ответы вер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. Все контракты на недропользование до их подписания должны проходить обязательную налоговую экспертизу в порядке и сроки, определяем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Правительством Республики Казахстан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Президентом Р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Директором предприят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Налоговым органо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нет правильного отве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. Недропользователь, исходя из индивидуальных условий проведения недропользования, выплачивает следующие виды бонусов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подписно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коммерческого обнару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некоммерческ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личны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ерны A) и 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. Декларация по бонусу коммерческого обнаружения представляется недропользователем в налоговый орган по месту регистрации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до 1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до 10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до 2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до 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до 30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. Стартовые размеры подписных бонусов определяются Правительством Республики Казахстан на основе расчета с учет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количества постоянных издерже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объема полезных ископаемы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площади месторож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экономической ценности месторож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ерны B) и D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писок рекомендуемой литератур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Кодекс Республики Казахстан от 12.06.2001 N 209-2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"О НАЛОГАХ И ДРУГИХ ОБЯЗАТЕЛЬНЫХ ПЛАТЕЖАХ В БЮДЖЕТ (НАЛОГОВЫЙ КОДЕКС)" с исправлениями и дополнениями от от 05.07.2008 N 66-4 (c введением в действие с 01.01.200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. Юткина Т.Ф. «Налоги и нологообложение», 2001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3. Карагусова Г. Т. «Налоги: сущность и практика», г. Алматы, 2004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Модели налогового режима контрактов на недропользова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логообложение недропользователей разделяется на </a:t>
            </a:r>
            <a:r>
              <a:rPr b="1" lang="ru-RU" sz="2000" spc="-1" strike="noStrike" u="sng">
                <a:solidFill>
                  <a:srgbClr val="ff6600"/>
                </a:solidFill>
                <a:uFillTx/>
                <a:latin typeface="Georgia"/>
              </a:rPr>
              <a:t>две моде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ервая - предусматривает уплату недропользователем налогов и других обязательных платежей, установленных настоящим Кодексом, за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исключени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до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Республики Казахстан по разделу продук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Вторая - предусматривает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уплату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(передачу) недропользователем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до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Республики Казахстан по разделу продукции, а также уплату всех видов налогов и других обязательных платежей в бюджет, установленных настоящим Кодексом, з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исключением: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рентного налога на экспортируемую сырую нефть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газовый  конденса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акциза на сырую нефть, газовый конденса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роялт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налога на сверхприбыль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земельного налог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налога на имуще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Налогообложение деятельности по проведению операций по недропользовани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989000"/>
            <a:ext cx="8280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 1-й модели исчисление налоговых обязательств производится в соответствии с НК РК, действующим на момент появления обязательств по их упла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логовый режим, определенный в контрактах между Правительством РК отечественными или иностранными недропользователями заключенных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до 1 января 2009 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, сохраняется и действует в течение всего установленного срока их действия, и м.б. скорректирована в связи с изменением налогового законодательства РК по соглашению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логовый режим по второй модели определяется только в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контракте о разделе продук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заключенном в порядке, установленном законодательством Р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Georgia"/>
              </a:rPr>
              <a:t>2. </a:t>
            </a:r>
            <a:r>
              <a:rPr b="1" lang="en-US" sz="3200" spc="-1" strike="noStrike">
                <a:solidFill>
                  <a:srgbClr val="ccecff"/>
                </a:solidFill>
                <a:latin typeface="Georgia"/>
              </a:rPr>
              <a:t>Общие положения о бонусах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7588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122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220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онусы являются фиксированными платежами недропользовател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22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763640" y="3284640"/>
            <a:ext cx="5976360" cy="2890080"/>
            <a:chOff x="1763640" y="3284640"/>
            <a:chExt cx="5976360" cy="2890080"/>
          </a:xfrm>
        </p:grpSpPr>
        <p:cxnSp>
          <p:nvCxnSpPr>
            <p:cNvPr id="166" name="_s6154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266440" y="3924000"/>
              <a:ext cx="578520" cy="1609920"/>
            </a:xfrm>
            <a:prstGeom prst="bentConnector3">
              <a:avLst>
                <a:gd name="adj1" fmla="val 125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6153"/>
            <p:cNvCxnSpPr>
              <a:stCxn id="170" idx="0"/>
              <a:endCxn id="168" idx="2"/>
            </p:cNvCxnSpPr>
            <p:nvPr/>
          </p:nvCxnSpPr>
          <p:spPr>
            <a:xfrm flipH="1" flipV="1" rot="5400000">
              <a:off x="3657960" y="3924720"/>
              <a:ext cx="578520" cy="1609200"/>
            </a:xfrm>
            <a:prstGeom prst="bentConnector3">
              <a:avLst>
                <a:gd name="adj1" fmla="val 125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8" name="_s6149"/>
            <p:cNvSpPr/>
            <p:nvPr/>
          </p:nvSpPr>
          <p:spPr>
            <a:xfrm>
              <a:off x="3372120" y="328464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18787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b76"/>
                  </a:solidFill>
                  <a:latin typeface="Georgia"/>
                </a:rPr>
                <a:t>Бонусы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6150"/>
            <p:cNvSpPr/>
            <p:nvPr/>
          </p:nvSpPr>
          <p:spPr>
            <a:xfrm>
              <a:off x="1763640" y="501876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b76"/>
                  </a:solidFill>
                  <a:latin typeface="Georgia"/>
                </a:rPr>
                <a:t>Подписно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6151"/>
            <p:cNvSpPr/>
            <p:nvPr/>
          </p:nvSpPr>
          <p:spPr>
            <a:xfrm>
              <a:off x="4981680" y="501876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3b76"/>
                  </a:solidFill>
                  <a:latin typeface="Georgia"/>
                </a:rPr>
                <a:t>Коммерческого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3b76"/>
                  </a:solidFill>
                  <a:latin typeface="Georgia"/>
                </a:rPr>
                <a:t>обнаруж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одписной бону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дписной бонус является разовым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фиксированным платеж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едропользователя </a:t>
            </a:r>
            <a:r>
              <a:rPr b="1" i="1" lang="ru-RU" sz="2000" spc="-1" strike="noStrike">
                <a:solidFill>
                  <a:srgbClr val="ff6600"/>
                </a:solidFill>
                <a:latin typeface="Georgia"/>
              </a:rPr>
              <a:t>за право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существления деятельности по недропользованию на контрактной территор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тартовые размеры подписных бонусов определяются Правительством Республики Казахстан на основе расчета с учетом объема полезных ископаемых и экономической ценности месторожд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кончательный размер подписного бонуса устанавливается комиссией по результатам проведенного конкурса инвестиционных программ на получение права недропользования и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закрепляется в контракт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с учетом экономической ценности передаваемых для недропользования месторождений (контрактных территорий), но не ниже стартовых размер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дписной бонус уплачивается в бюджет не поздне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алендарных дней с даты вступления контракта в сил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Бонус коммерческого обнаруж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ctr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Коммерческое обнаружение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- это запасы определенного вида полезных ископаемых, открытые в пределах контрактной территории, которые являются экономически эффективными для добыч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Бонус коммерческого обнаружения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- плата за каждое коммерческое обнаружение на контрактной территории, в том числе за обнаружение полезных ископаемых в ходе проведения дополнительной разведки месторождений, приводящей к увеличению первоначально установленных извлекаемых запа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Размер бонуса коммерческого обнаружения определяется исходя из объекта налогообложения, базы исчисления и став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Для исчисления размера бонуса коммерческого обнаружен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268280"/>
            <a:ext cx="806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Объект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ообложения явля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объ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утвержденных уполномоченным для этих целей гос.органом извлекаемых полезных ископаемых на месторо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Базой исчислени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платежа явля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стоимост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бъема утвержденных извлекаемых полезных ископаем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Бонус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оммерческого обнаружения уплачи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о ставк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0,1 %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от базы исчисления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рок уплаты: не позднее 90 дней со дня утверждения гос.органа объема извлекаемых зап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екларация: до 15-го числа месяца, следующего за месяцем, в которм наступил срок упл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6:10:07Z</dcterms:created>
  <dc:creator>TVMUR</dc:creator>
  <dc:description/>
  <dc:language>en-US</dc:language>
  <cp:lastModifiedBy>к</cp:lastModifiedBy>
  <dcterms:modified xsi:type="dcterms:W3CDTF">2011-01-31T15:58:40Z</dcterms:modified>
  <cp:revision>9</cp:revision>
  <dc:subject/>
  <dc:title>Слайд 1</dc:title>
</cp:coreProperties>
</file>