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E56-8415-4054-A77A-47BEAA9B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4EB-1D19-43AB-9E1E-878786C7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B0301-43C5-4728-A22C-4DDB6E7A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2DFDB-BC11-4FC9-9224-91D3360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DFF98-C6FB-4296-916F-104B446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A234F-2E65-4969-8C0B-3011DAF6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7F241-0930-49C8-B82B-2DAF6F1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D484C4-3034-47AD-9142-1540559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EDB10-D09B-4653-984D-E706890A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C8643-16AA-48EA-99CC-30D6BA4E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2749AF-E6B6-4C3B-AE61-9436EA0B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DCD40-89F0-42DE-AA3B-5297A3C9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E70-AA75-4652-AC87-D7A601DA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F8657-83C6-4456-8788-D7C7EE3B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DC290-ABB6-42B8-A9B2-77FB3CA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BD379-8FF8-4BCE-9F4C-BF98D38C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BB473-5DD6-49FD-B46A-3502FD2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1F711-70BB-492F-84D0-8F93E57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C7421-2F00-4E40-A460-F6DFA87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9B0E-3482-4EC9-AB6B-BB5C5D20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84403-5F99-4940-AD5D-1A93EEA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08330-67C9-4600-A351-B549A90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C415D-871A-42BC-BCFA-892BD8B9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6CA-05B2-459D-81A0-7D334F31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749FD-DC2E-4CE4-86E7-BC627747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1CFC50-3E8A-4FF6-82BA-02DFB6D0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B7F18E-5DB5-4A06-8C7A-CBADF90C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DD60A9-B425-4B50-9883-075EE57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1C5E4-FD9F-432E-835D-EDA3CE8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616A15-BDAD-4EF2-A965-A6B52CF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D62F1D-87C0-429E-A29E-798CD87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6D006-1897-48F9-AFB2-FF44EF5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230E31-EC8D-47B4-92E3-6E2DF16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3F6539-665B-456E-BB64-9D62B1D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9B36-8DD4-4C41-B9B7-7334F3CA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444430-21BA-4972-82A5-FBB75E9E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0021C-05FA-4237-8689-FB76B7F1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E588C7-280B-4AD1-8EE8-B3D5FA4D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C5A69-036B-42CB-881D-51550F19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A637-141B-40D7-B9F8-78ACE7EB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10709-1543-445D-ADB5-7B8F0C64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D8417-A069-41C6-9D7C-8C6F3DA6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F88F0-E91B-4F4A-907B-101B700A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0C249-8378-4CE4-9967-1855070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B47D-B68F-40D1-A014-C24C6C9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B33E-7418-4954-BE84-2348115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051D5-C9DF-45CB-BFF9-7151E7E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1DD26-C4EC-446E-BD05-6333EA6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BB37B-16D6-4F6B-9288-C154513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01AD2-FBFB-4BCB-997C-830C1B84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ADE94-8A71-45B7-B5C9-80FD3FF9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1BA01-E114-4C09-9F23-CA7AFA36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B23E4-BCA8-40DA-983F-7D1D2494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6BBF5-3C1D-47F7-AF13-4AE6A408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88D0B-4DAD-4B72-880B-0BFFD5AF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62CB7-5EC7-4C57-984F-4EDB992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F87-E7D8-4DAB-9478-AB891106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9A9FF-FB03-45B1-838F-FAF4F66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1B83F-BA20-45B6-BCD2-B3154E4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76F9B-8F7F-41FD-8C8F-DF739BC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7C5F7-E3F6-4D12-8B5F-4AA5F74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4D85B-DA73-4FC8-BD6A-C5841DE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60E9B-3E67-4924-8F04-903D9C26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64EAA-0834-4DBA-8BA8-43EBDA9C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BF64E-7074-423A-A0F6-F2368C03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68723-0B61-4E0A-AE6E-6839A35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64C32-48CF-4E15-938A-8399B6C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6723-6891-45AD-A1BF-68945616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20CDF-427A-449A-84A2-F512561C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46659-0F1A-42EF-92D5-60F1F72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E17C6-F46F-48C8-8A93-0D095C4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6258F-84E5-447E-8C99-AB58D0E4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5237D-8693-45D3-8E8B-31227DD5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471C8-B2A1-4046-95EB-B3FDDC6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58503-2EE3-4E5D-83F5-F0B57F7E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693E3-C82F-45B0-80FD-4AE91977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2710F-ED86-4943-933E-D15C15FA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1AD34-B222-44F9-8504-A4F28277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635B-D24F-4DC0-A572-B9CBF539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370CE-7B93-48E6-A1B3-9146AE41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CAB12-FBE0-4F5F-8601-EBBDAE5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CDFD8-8E67-4DE0-92BD-DD12B8C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2BCC0-CF95-4494-B196-966DE9F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D2BCF-0163-4D6C-8D3A-357D469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93DE0-9763-4AA5-B031-6C6D5BB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A9982-2B2E-4667-A707-53B2465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B3F7B-FDFB-4F6A-A98D-DD415D8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ADD66-8FEF-4991-A3A2-3A9F53C1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AE57A-01BD-44D5-91EF-16F492C6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319D-55E2-4BD4-BA91-AEBCABD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738BC-E636-41FC-8FB2-C1C65277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F26BA-567C-4F26-B6C6-DE460C81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C5775-3C17-43F9-85ED-95CE9B4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30258-A075-403D-8019-A8F7FD43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7E09B-4A0F-4C43-AF49-7C77E82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1512A-890A-4769-A0FA-FDCB62C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91528-F2D6-481F-ACAB-701C3B4C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BFB4B-2F3B-4108-8399-5EBFD54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93B9D-0FEF-474D-AC8D-8BEE650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0F366-0F0D-44D3-BC9F-CA0E2E5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BE6A-5989-450E-86B6-91B2F13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2F07D-D12A-489D-8629-F856562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AD120-E762-4333-9276-3A1EB1A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4BABC-B505-4972-89AD-92919650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D62-B332-47C6-94DB-9E0C4D96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D89B-24E8-4679-A0DA-144890F0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A4A-C5ED-4377-B32D-871C06B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90D1-4190-4532-B790-CD98D82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CA6-F443-42CE-920A-14E5A117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B58-8B28-442D-9C13-02E60986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6234-E7E8-4E48-BCAE-39DB9696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06BC-D468-4BB9-BE1C-64BC572C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6516-9B4A-45D4-98B5-C524C61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26D1-0FAA-49CA-8EBE-53E4BDCD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9278-22C0-4ED1-B645-A33FA51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77C-9A35-43A6-87B1-7CDD87B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57BB-FD20-4C04-AFB6-413FD7B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B435-D8CA-4B46-9242-774F01B8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B584-4FDE-4496-9997-537DA9D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EEC0E-F1C3-4EB3-87B0-389A9366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9097-CD5B-46A0-B60B-286B7F5F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D2D0-3B0B-4992-A06D-5E2868EB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4CCD-9791-4D99-AAB9-5BCA74FC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6689-4739-429B-95EB-EC40CE85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51BB-F639-4799-AA99-28B6C757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A9B0-2A70-4A79-BAAC-788F807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4B7-4A98-4DAA-A2F9-55106064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4CDF-AF93-40AA-827E-AF204C42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3DF0-EC0B-41BD-BC43-C63C83F2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4BC57-9E08-4435-A540-4BF4FBB8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55E0-2170-436C-8E51-072EC83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D915-35B3-40E6-A88C-0BC73E4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3C86-9C3A-4162-AF98-4C28626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D6EB-A66C-4881-AFF8-451CCFCE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2CA5-B9CE-48C9-BC59-B07703FE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D9B4-3EEC-4340-8686-BD6C95C8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0629E-7AF3-477A-948B-FCF162F0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2D4-D315-46C1-A7B5-F325DEB6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C09385-2C21-4DA7-9529-16FBF40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8BA2D1-7C17-4D68-BE6F-296D6E67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2C119E-730C-4110-A8D3-09A7F58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407D41-1E52-44EF-9960-15AE745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C9844-5905-4E7F-8A49-B6B76E64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DB32F-AA3A-490F-87AD-20FB6D1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9A132-D544-4518-AD37-D1FCE34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BC27A-10BB-492F-9A18-D4736C5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30AF4-90E0-49F0-8141-B0FE8B43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D2492-2498-4990-9B8E-96D6CFA6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3FB-AF28-4F62-B3E9-E21FCE6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0B26C-DC3D-4464-8A50-D3D74335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55F7-302E-4A1B-A2BF-EF276A3A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006B-F189-4F16-B344-8C81848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8FAB-99B7-41B3-AA0C-718405AA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197E-C244-45CE-98E9-3E85C923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574A-30C7-4303-901F-89C9FFD2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6504-53C6-44BC-87C4-7CFFFFDD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B56A-4C2A-439B-B4A7-735F051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1EA7-85F0-487F-A5F7-F6AF5555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F14E-3480-446A-92D8-65DE31D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FBF-95FE-4A23-A380-8983E16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A100D-B752-46BC-9C2D-0E51B6C2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0494-B9D2-47EC-809C-13080297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CC54B-E097-490D-AF42-2F021CDF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BA8B-18EC-4E28-8D18-F7E3750B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B03B-CB33-4E6E-AF1D-D6E142B3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5DA0-E621-43A5-A44A-9A0656D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F665-0F65-42E9-A218-D67AA729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77FC-B56E-4EFF-BAFE-1F8081E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2885B-CF56-40F4-B9EA-60D1D3D3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5D5C7-C45D-4C4B-BB3B-D014A28C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55A-1C00-4EB5-9466-51AA807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CD288-9CB7-44D3-8110-0583E5C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AE362-64ED-4105-B73D-3D48C76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D0CF-B397-4A71-B2F4-CAAD2FD7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1173-5470-48CD-9963-E316F9E6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DC2C-AE59-42D5-B859-16BDD0D6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5DE8-1D49-423F-B51E-E6D40380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B3C4C-C132-476D-9B7E-DA887990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432AD-8BEE-48C6-B849-77F625F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8C01F-2FEE-40EF-A183-80069B42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D22C-39A2-4E2A-81ED-FA4C17CA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C83-6941-4CE2-A36E-43366AE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3E03-D688-4199-A98E-25818BC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44314-7434-47E7-9F1C-77DE4972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7C52-C22A-4779-953E-DDA3B4B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B83A1-8610-480D-A664-AF0C201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B3AD-B058-49A4-A998-03EE3E5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0A40F-82DC-4ACA-9CA6-2BF09F76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0F37-48FE-444A-8B05-4571FE19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CBF12-D7A0-4914-BA3B-373418BB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F7894-50DE-43FD-AFAF-D8DF6D93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1F58B-0729-4220-AC2C-17836F1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70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2E19-DBEE-47C8-924A-3DF5959E1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3C01-F477-4149-A897-FD6DCE55F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DCA6-5E04-4385-88BD-C60336DCAC1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0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905-1986-406D-807A-45F5D0C31BE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6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1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2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90CA-A19B-407F-BFAE-C0BA10CEB7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6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6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8AB5-26AC-449E-A21E-CF080CC881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00F-F498-491E-8BDB-D9D63D2AF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FCF-E0CC-473A-903A-231FCEE62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2182-DE9B-46A7-ACFA-A64CD8AFA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D36F-BCF4-4F05-9AF0-D7AB5BDD5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3FE-05D1-4388-AF2B-A1327FB9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7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9A7-6340-45A7-BF57-198190EC96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2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1605-19EA-4688-B74E-049B2F0AF3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8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AA75-0B42-4CA5-B86C-F5B227CBF6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5953-5768-4117-901A-3280CE0725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2CD-96BB-4482-8BC5-45580F83D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x.kz/" TargetMode="External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5256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Социальный</a:t>
            </a:r>
            <a:r>
              <a:rPr b="1" lang="en-US" sz="6600" spc="-1" strike="noStrike">
                <a:solidFill>
                  <a:srgbClr val="00cc00"/>
                </a:solidFill>
                <a:latin typeface="Arial Black"/>
              </a:rPr>
              <a:t> </a:t>
            </a:r>
            <a:r>
              <a:rPr b="0" lang="en-US" sz="6600" spc="-1" strike="noStrike">
                <a:solidFill>
                  <a:srgbClr val="00cc00"/>
                </a:solidFill>
                <a:latin typeface="Arial Black"/>
              </a:rPr>
              <a:t>налог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1116000" y="476280"/>
          <a:ext cx="22320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6280"/>
                    <a:ext cx="22320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91984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Резюм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Социальный налог, заменил 3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внебюджетных платежа: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Социальное страхование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Обязательное медицинское страхование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Занятость населения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88000" y="198108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Преимуществом социального налога, является то, что он не зависит от форм собственности хозяйствующего субъекта и конечного финансового результата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Методика расчета социального налога производится согласно применениям ставки налога- 11%,  к облагаемому доходу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entury Schoolbook"/>
              </a:rPr>
              <a:t>Список использованных источников</a:t>
            </a:r>
            <a:r>
              <a:rPr b="0" lang="en-US" sz="3600" spc="-1" strike="noStrike">
                <a:solidFill>
                  <a:srgbClr val="006666"/>
                </a:solidFill>
                <a:latin typeface="Century Schoolbook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Налоговый кодекс РК».(10 февраля 2008г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«Налоги и налогообложение в РК» Нурхалиева Д.М., Омирбаев С.М., Омарова Ш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tax.k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Новый «Налоговый Кодекс РК» 2009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8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нятие социального нал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лательщики социального нал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Объекты налогооб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Ставки обложения налог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рядок исчисления и порядок уплаты налога, налоговая деклар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 u="sng">
                <a:solidFill>
                  <a:srgbClr val="ff3300"/>
                </a:solidFill>
                <a:uFillTx/>
                <a:latin typeface="Arial"/>
              </a:rPr>
              <a:t>Социальный налог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50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4800" spc="-1" strike="noStrike">
                <a:solidFill>
                  <a:srgbClr val="85b3b1"/>
                </a:solidFill>
                <a:latin typeface="Estrangelo Edessa"/>
              </a:rPr>
              <a:t>Один из видов прямых налогов, которые уплачивают организации, как работодатели, за своих работник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лательщики социального нало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Индивидуальные предприниматели, за исключением осуществляющих расчеты с бюджета на основе разового тало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астные нотариусы, адвок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Юридические лица – резиденты РК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Нерезиденты, осуществляющих деятельность в РК через постоянн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бъекты налогообло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Расходы работодателя, выплачиваемые работникам – резидентам в виде доход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Доходы иностранного персона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Численность работников, включая самих работни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Ставки обложения налого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оциальный налог исчисляется по ставке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1 процент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Индивидуальные предприниматели, за исключением применяющих специальные налоговые режимы, частные нотариусы, адвокаты уплачивают социальный налог в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2-кратном размере месячного расчетного показателя,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установленного законом о республиканском бюджете на соответствующий финансовый год, за себя и однократном размере месячного расчетного показателя за каждого работни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пециализированные организации, в которых работают инвалиды с нарушениями опорно-двигательного аппарата, по потере слуха, речи, зрения, уплачивают социальный налог по ставке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4,5 процента.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7958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2900" spc="-1" strike="noStrike" u="sng">
                <a:solidFill>
                  <a:srgbClr val="ff3300"/>
                </a:solidFill>
                <a:uFillTx/>
                <a:latin typeface="Arial Black"/>
              </a:rPr>
              <a:t>Порядок исчисления и порядок уплаты налога, налоговая декларация.</a:t>
            </a:r>
            <a:br>
              <a:rPr sz="4000"/>
            </a:br>
            <a:endParaRPr b="1" lang="en-US" sz="2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Исчисление социального налога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роизводиться ежемесячно с нарастающим итогом в порядке, установленным уполномоченным государственным орга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Уплата социального налога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роизводится не позднее 25 числа месяца, следующего за отчетным месяц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Декларация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о социальному налогу предоставляется в налоговые органы ежекварталь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не позднее 15  числа второго месяца, следующего за отчетным кварта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cc"/>
                </a:solidFill>
                <a:uFillTx/>
                <a:latin typeface="Arial"/>
              </a:rPr>
              <a:t>Плательщиками социального налога являются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Индивидуальные предприниматели, за исключением осуществляющих расчеты с бюджета на основе разового тал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Частные нотариусы, адвок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Юридические лица – резиденты Р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Нерезиденты, осуществляющих деятельность в РК через постоян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все варианты вер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66"/>
                </a:solidFill>
                <a:uFillTx/>
                <a:latin typeface="Times New Roman"/>
              </a:rPr>
              <a:t>Что является объектом налогообложения для плательщ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расходы работодателя, выплачиваемые работникам- резидентам в виде до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алименты на детей и иждивен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диновременные выплаты из государственного бюдже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социальные выплаты граждан, пострадавших вследствие экологического б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адресная социальная помощь, пособия и компен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счисление социального налога произ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ежекварт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ежего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жедека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еженед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ежемесяч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Times New Roman"/>
              </a:rPr>
              <a:t>Декларация по социальному налогу предоста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)  не позднее 5  числа месяца, следующего за кварт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) не позднее 20  числа месяца, следующего за кварт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) не позднее 5 числа месяца, следующего за отчетным год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</a:rPr>
              <a:t>не поздне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</a:rPr>
              <a:t>числа второго месяца, следующего за отчетным кварталом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) в люб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Чему будет равна ставка социального нало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) 13 %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) 15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) 11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) 9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) 5 %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9:49Z</dcterms:created>
  <dc:creator>User</dc:creator>
  <dc:description/>
  <dc:language>en-US</dc:language>
  <cp:lastModifiedBy>к</cp:lastModifiedBy>
  <dcterms:modified xsi:type="dcterms:W3CDTF">2010-06-18T03:10:27Z</dcterms:modified>
  <cp:revision>8</cp:revision>
  <dc:subject/>
  <dc:title>Социальный налог</dc:title>
</cp:coreProperties>
</file>