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1063-7DA3-4B4E-BBEE-40DAB702C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D894-4249-48AC-85D2-5B6A34350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D6CF-3C8E-433D-A05F-1CCEB2C24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7322-AFC7-4993-A085-EC6CBCB87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835C-8228-42CD-8DA1-562B6456A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5E1D-D1F1-44FE-B863-7E9B965D7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1B07-E1D9-4E2C-A921-41EEA5B29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8D45-EDD1-447F-9A31-C7EFB2F4E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6B79-440D-4235-B04D-D96DFAA83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7088-3F51-454C-8B67-144A1052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5589-8339-4E43-BBAA-21C5603B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DC61-71A6-423D-A935-B314C91F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95CE4-183E-47B0-9CBD-E040E730E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осударственный бюдж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513480" y="476280"/>
            <a:ext cx="2630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екция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лан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Понятие бюджета. Экономическое содержание государственного бюдже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Характерные черты бюджета. Экономические и организационные формы         функционирования бюдж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Бюджет как финансовый план государ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Функции государственного бюджета, границы их действия и особе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Бюдже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централизованный денежный фонд государства, предназначенный для финансового обеспечения реализации его задач и функций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юджет представляет собо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7200" y="1600200"/>
          <a:ext cx="8229240" cy="2115720"/>
        </p:xfrm>
        <a:graphic>
          <a:graphicData uri="http://schemas.openxmlformats.org/drawingml/2006/table">
            <a:tbl>
              <a:tblPr/>
              <a:tblGrid>
                <a:gridCol w="2057040"/>
                <a:gridCol w="2057400"/>
                <a:gridCol w="2057400"/>
                <a:gridCol w="2057400"/>
              </a:tblGrid>
              <a:tr h="105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фор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атериальной сущ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экономической сущ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юридическому оформлению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8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ый пл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лизованный фон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окупность экономических отнош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Экономическая сущность бюдж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26920" y="234720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изводственные отношения, выраженные в денежной форме (бюджетные отношения) и имеющие соответствующее им материально-вещественное воплощ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осударственный бюдж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 экономические отношения между государством и субъектами всех форм собственности и отдельными гражданами по поводу формирования централизованного фонда денежных средств, направленных на выполнение общегосударственных задач и функц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14:19:06Z</dcterms:created>
  <dc:creator>к</dc:creator>
  <dc:description/>
  <dc:language>en-US</dc:language>
  <cp:lastModifiedBy>к</cp:lastModifiedBy>
  <dcterms:modified xsi:type="dcterms:W3CDTF">2011-03-24T12:30:01Z</dcterms:modified>
  <cp:revision>3</cp:revision>
  <dc:subject/>
  <dc:title>Государственный бюджет</dc:title>
</cp:coreProperties>
</file>