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6ADD-60D2-4752-84EF-4CB3D8FD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2B4-D4B0-4663-A7E3-F70C2C60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DA1-E82E-405F-99B8-BE5C9296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0FC-B281-475F-8A07-1BEE68FD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9136-5D0D-429D-A4E3-B39A59E1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1A9-F565-4A70-92BB-26BF3CAD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3403-19DD-4EB2-A2FF-44778627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46E-7B33-4ED2-BC4C-F719AF8F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322-2C93-4F32-AA99-CEC23DDA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AF0E-3910-40F7-8B2B-4609061D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5EE-61A8-4087-9A61-EC479326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877-605F-4B5D-923A-07863F80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2139-5CB5-4538-B28C-B733992E09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ЭКОНОМИЧЕСКОЕ СОДЕРЖАНИЕ И ХАРАКТЕРИСТИКА ОТДЕЛЬНЫХ ВИДОВ БЮДЖЕТ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4"/>
          <p:cNvGrpSpPr/>
          <p:nvPr/>
        </p:nvGrpSpPr>
        <p:grpSpPr>
          <a:xfrm>
            <a:off x="0" y="260280"/>
            <a:ext cx="9144000" cy="1223640"/>
            <a:chOff x="0" y="260280"/>
            <a:chExt cx="9144000" cy="1223640"/>
          </a:xfrm>
        </p:grpSpPr>
        <p:sp>
          <p:nvSpPr>
            <p:cNvPr id="66" name="Rectangle 5"/>
            <p:cNvSpPr/>
            <p:nvPr/>
          </p:nvSpPr>
          <p:spPr>
            <a:xfrm>
              <a:off x="0" y="260280"/>
              <a:ext cx="2771640" cy="12236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Вид бюджета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5651640" y="260280"/>
              <a:ext cx="3492360" cy="12236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Документ,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утверждающи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бюджет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771640" y="260280"/>
              <a:ext cx="2880000" cy="12236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Уполномоченны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орган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0" y="1844640"/>
            <a:ext cx="9144000" cy="2304360"/>
            <a:chOff x="0" y="1844640"/>
            <a:chExt cx="9144000" cy="2304360"/>
          </a:xfrm>
        </p:grpSpPr>
        <p:sp>
          <p:nvSpPr>
            <p:cNvPr id="70" name="Rectangle 9"/>
            <p:cNvSpPr/>
            <p:nvPr/>
          </p:nvSpPr>
          <p:spPr>
            <a:xfrm>
              <a:off x="0" y="1844640"/>
              <a:ext cx="2771640" cy="230436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Бюджет района,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города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областного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значения)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5651640" y="1844640"/>
              <a:ext cx="3492360" cy="230436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Решение Маслихата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района, города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областного значения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на соответствующи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финансовый год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2771640" y="1844640"/>
              <a:ext cx="2880000" cy="230436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Маслихат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района,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города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областного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значения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12"/>
          <p:cNvGrpSpPr/>
          <p:nvPr/>
        </p:nvGrpSpPr>
        <p:grpSpPr>
          <a:xfrm>
            <a:off x="0" y="4508640"/>
            <a:ext cx="9144000" cy="2015280"/>
            <a:chOff x="0" y="4508640"/>
            <a:chExt cx="9144000" cy="2015280"/>
          </a:xfrm>
        </p:grpSpPr>
        <p:sp>
          <p:nvSpPr>
            <p:cNvPr id="74" name="Rectangle 13"/>
            <p:cNvSpPr/>
            <p:nvPr/>
          </p:nvSpPr>
          <p:spPr>
            <a:xfrm>
              <a:off x="0" y="4508640"/>
              <a:ext cx="2771640" cy="201528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Чрезвычайны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государственны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бюджет</a:t>
              </a:r>
              <a:r>
                <a:rPr b="0" lang="ru-RU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651640" y="4508640"/>
              <a:ext cx="3492360" cy="201528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Указ Президента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Республики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Казахстан</a:t>
              </a:r>
              <a:r>
                <a:rPr b="0" lang="ru-RU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2771640" y="4508640"/>
              <a:ext cx="2880000" cy="201528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Центральны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уполномоченны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орган по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бюджетному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планированию</a:t>
              </a:r>
              <a:r>
                <a:rPr b="0" lang="ru-RU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4"/>
          <p:cNvSpPr/>
          <p:nvPr/>
        </p:nvSpPr>
        <p:spPr>
          <a:xfrm>
            <a:off x="395280" y="0"/>
            <a:ext cx="8424720" cy="43164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ход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1258920" y="431640"/>
            <a:ext cx="7561080" cy="36036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логовые поступл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395280" y="1871640"/>
            <a:ext cx="8424720" cy="43200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траты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395280" y="2303640"/>
            <a:ext cx="8424720" cy="43164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ционное сальд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1258920" y="792000"/>
            <a:ext cx="7561080" cy="36036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еналоговые поступ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1258920" y="1150920"/>
            <a:ext cx="7561080" cy="36036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ступления от продажи 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1258920" y="1511280"/>
            <a:ext cx="7561080" cy="36036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ступления официал. трансферт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395280" y="2735280"/>
            <a:ext cx="8424720" cy="43164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истое бюджетное кредит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12"/>
          <p:cNvSpPr/>
          <p:nvPr/>
        </p:nvSpPr>
        <p:spPr>
          <a:xfrm>
            <a:off x="1258920" y="3166920"/>
            <a:ext cx="7561080" cy="36036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юджетные креди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13"/>
          <p:cNvSpPr/>
          <p:nvPr/>
        </p:nvSpPr>
        <p:spPr>
          <a:xfrm>
            <a:off x="1258920" y="3527280"/>
            <a:ext cx="7561080" cy="36036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гашение бюджетных креди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14"/>
          <p:cNvSpPr/>
          <p:nvPr/>
        </p:nvSpPr>
        <p:spPr>
          <a:xfrm>
            <a:off x="395280" y="3887640"/>
            <a:ext cx="8424720" cy="43200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льдо по операциям в фин.актив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5"/>
          <p:cNvSpPr/>
          <p:nvPr/>
        </p:nvSpPr>
        <p:spPr>
          <a:xfrm>
            <a:off x="1258920" y="4319640"/>
            <a:ext cx="7561080" cy="36036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обретение фин.актив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6"/>
          <p:cNvSpPr/>
          <p:nvPr/>
        </p:nvSpPr>
        <p:spPr>
          <a:xfrm>
            <a:off x="1258920" y="4680000"/>
            <a:ext cx="7561080" cy="36036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ступления от продажи фин.актив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395280" y="5040360"/>
            <a:ext cx="8424720" cy="43164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фицит (профицит) бюдж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8"/>
          <p:cNvSpPr/>
          <p:nvPr/>
        </p:nvSpPr>
        <p:spPr>
          <a:xfrm>
            <a:off x="395280" y="5445000"/>
            <a:ext cx="8424720" cy="43200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инан-ние дефицита (использ-е проф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9"/>
          <p:cNvSpPr/>
          <p:nvPr/>
        </p:nvSpPr>
        <p:spPr>
          <a:xfrm>
            <a:off x="1258920" y="5877000"/>
            <a:ext cx="7561080" cy="36036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ступление займ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1258920" y="6237360"/>
            <a:ext cx="7561080" cy="28728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гашение займ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21"/>
          <p:cNvSpPr/>
          <p:nvPr/>
        </p:nvSpPr>
        <p:spPr>
          <a:xfrm>
            <a:off x="1258920" y="6524640"/>
            <a:ext cx="7561080" cy="33336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вижение остатков бюджет. сред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Times New Roman"/>
              </a:rPr>
              <a:t>1 раздел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3800" spc="-1" strike="noStrike">
                <a:solidFill>
                  <a:srgbClr val="990000"/>
                </a:solidFill>
                <a:latin typeface="Times New Roman"/>
              </a:rPr>
              <a:t>Доходами бюджета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выступают налоговые и другие обязательные платежи, официальные трансферты, деньги, передаваемые государству на безвозмездной основе, не носящие характера возвратности и не связанные с продажей финансовых активов государства, подлежащие зачислению в бюджет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поступления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включают в себя налоги и другие обязательные платежи в бюджет;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поступления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представлены в виде обязательных,  невозвратных платежей в бюджет, грантов и денег, передаваемых в бюджет на безвозмездной основе;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ями от продажи основного капитала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являются деньги: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-от продажи государственного имущества;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-от продажи товаров из гос. материального резерва;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-поступающие от продажи земельных участков;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-от продажи гос. нематериальных активов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я официальных трансфертов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включают поступления трансфертов из одного уровня бюджета в другой, из Национального фонда РК в бюджет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2 раздел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Затраты бюджета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представляют собой бюджетные средства, выделяемые на невозвратной основе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) затраты, обеспечивающие деятельность государственных учреждений;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2) затраты, связанные с организацией и проведением мероприятий, не носящих постоянного характера;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3)затраты на государственный заказ;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4) денежные выплаты физическим лицам;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5) субсидии юридическим лицам;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6) официальные трансферты - выплаты трансфертов из одного уровня бюджета в другой, а также в Национальный фонд Республики Казахстан;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7) иные виды затрат на выполнение обязательств государства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84872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3 раздел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Операционное сальдо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– есть разница между доходами и затратами бюдже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ри этом: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- операционное сальдо может быть как </a:t>
            </a:r>
            <a:r>
              <a:rPr b="1" lang="ru-RU" sz="2900" spc="-1" strike="noStrike">
                <a:solidFill>
                  <a:srgbClr val="990000"/>
                </a:solidFill>
                <a:latin typeface="Times New Roman"/>
              </a:rPr>
              <a:t>положительным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, так и </a:t>
            </a:r>
            <a:r>
              <a:rPr b="1" lang="ru-RU" sz="2900" spc="-1" strike="noStrike">
                <a:solidFill>
                  <a:srgbClr val="990000"/>
                </a:solidFill>
                <a:latin typeface="Times New Roman"/>
              </a:rPr>
              <a:t>отрицательным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- отрицательное операционное сальдо в структуре бюджета допускается при двух условиях: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1) присутствие в затратах бюджета бюджетных программ развития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2) соответствие объемов текущих бюджетных программ размеру доходов бюджета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- в обязательном порядке определяются пределы размера отрицательного операционного сальдо, отражаемые в среднесрочной фискальной политике государства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34200" cy="49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4 раздел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Чистое бюджетное кредитование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определяется как разница между бюджетными кредитами и погашением бюджетных кредит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0908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ные кредит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представляют собой деньги, выделяемые из бюджета на возвратной, срочной и платной основе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огашение бюджетных кредитов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есть погашение заемщиком основного долга по бюджетному кредиту в соответствии с кредитным договором и законодательством Республики Казахстан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ЛАН ЛЕ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35164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иды бюджетов и их характеристи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руктура бюджета и характеристика его разделов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ы распределения и закрепления доходных полномоч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ы распределения и закрепления расходных полномоч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89840" cy="562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5 раздел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Сальдо по операциям с финансовыми активам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определяется как разница между приобретением финансовых активов и поступлениями от продажи финансовых активов государств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приобретение финансовых активов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– это расходы бюджета, связанные с операциями по приобретению в гос.собственность долей участия, ценных бумаг юр.лиц, в том числе международных организаций;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я от продажи финансовых активов государства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- поступления в бюджет, связанные с операциями по продаже долей участия, ценных бумаг юр.лиц, в том числе международных организаций, находящихся в гос.собственности, гос.учреждений и гос.предприятий в виде имущественного комплекса, а также иного гос.имущества, находящегося в управлении гос.предприятий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89840" cy="49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6 раздел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Дефицит (профицит) бюджета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определяется как разница трех итоговых разделов бюдже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46920" cy="562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7 разде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Финансирование дефицита (использование профицита) бюджет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, прежде всего, основывается на принятии финансовых решений в части привлечения и распределения государством финансовых ресурсов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18560" cy="541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спределение доходов и расходов в бюджетной системе осуществляется в соответствии со специальными принципами закрепления доходных полномочий и расходных полномочи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8036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Распределение полномочий по обеспечению бюджетных поступлений между уровнями государственной структуры должно строиться с учетом таких факторов, как:</a:t>
            </a:r>
            <a:br>
              <a:rPr sz="3800"/>
            </a:b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1) экономическая эффективность;</a:t>
            </a:r>
            <a:br>
              <a:rPr sz="3800"/>
            </a:b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2) высокий уровень администрирования;</a:t>
            </a:r>
            <a:br>
              <a:rPr sz="3800"/>
            </a:b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3) оптимальное распределение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налогового бремени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 этом круг решаемых вопросов основывается на достижении таких условий, как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ертикальная сбалансированност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то есть соответствие доходной части бюджета и объема расходов всех уровней государственной власти;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горизонтальная сбалансированност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то есть это границы колебаний неравномерности финансового потенциала органов власти одного уровня управлен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0000"/>
                </a:solidFill>
                <a:latin typeface="Times New Roman"/>
              </a:rPr>
              <a:t>Основные принципы распределения доходных полномочий: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ное соответствие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– расходные обязательства должны соответствовать налоговому потенциалу региона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</a:rPr>
              <a:t>контроль распределения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– налоговые поступления в целях эффективности финансового перераспределения и макроэкономической стабильности должны контролироваться высшими органами власти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</a:rPr>
              <a:t>стабильность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– разумнее закреплять налоговые поступления за органами с большей ответственностью и властью с целью использования налогов для стабилизации экономики страны;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39528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</a:rPr>
              <a:t>экспортируемость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– налоги не должны поддаваться экспорту и должны уплачиваться на закрепленной территории; 5) внутренние рынки – это эффективное распределение финансовых ресурсов за счет управления налогами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</a:rPr>
              <a:t>международная торговля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– контроль за международными торговыми операциями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7)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</a:rPr>
              <a:t>уклонение от уплаты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– условия администрирования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8)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</a:rPr>
              <a:t>миграция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– фактор мобильности населения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9)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</a:rPr>
              <a:t>административные возможности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– соответствие уровня администрирования и налоговых полномочий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5344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В РК распределение доходов осуществляется в двух порядках: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</a:rPr>
              <a:t>закрепления определенных видов доходов за бюджетами разных уровней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(закрепляющий метод, основной)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ного регулирования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, включающего такие группы, как: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-установление и распределение регулирующих источников доходов бюджета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-перераспределение самих бюджетных источников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-безвозмездная помощь нижестоящим бюджетам за счет вышестоящих бюджетов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-ссуды, выделяемые бюджетам из других бюджетов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3300"/>
                </a:solidFill>
                <a:latin typeface="Times New Roman"/>
              </a:rPr>
              <a:t>В РК  утверждаются, исполняются и являются самостоятельными бюджеты следующих уровней: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828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республиканский бюджет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бластной бюджет,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бюджет города республиканского значения, столицы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бюджет района (города областного значения);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чрезвычайный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государственный бюджет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82000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90000"/>
                </a:solidFill>
                <a:latin typeface="Times New Roman"/>
              </a:rPr>
              <a:t>Основные принципы распределения расходных полномочий: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соответствие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– должна соблюдаться эффективность предоставляемых услуг; неэффективность услуг приведет к недофинансированию других услуг и к неоправданным тратам ресурсов;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«нижний уровень»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- полномочия и ответственность возлагаются на самый низший уровень власти; низшие ступени государственной пирамиды эффективнее решают поставленные задачи;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эффект масштаба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– проявляется в объединении нескольких местных органов власти в один региональный и наделении его полномочиями; такое распределение обязанностей снижает общие затраты государства за счет масштабности охвата лиц, которым предоставляется услуга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82000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экономия в результате диверсификации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– универсальный характер предоставляемых услуг одним органом власти; снижение затрат государства; экономия регионов; эффективная координация услуг по их предоставлению;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фискальное неравенство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– поступления налогов в бюджет не совпадает с расходами государства по объему и по времени; не пропорциональность развития разных регионов в силу неравномерности их благосостояния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миграция населения и конкуренция между органами власти на горизонтальном уровне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– освоение новых видов деятельности; привлечение на свою территорию более налогоспособных предприятий, финансово и политически социально выгодных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c3300"/>
                </a:solidFill>
                <a:latin typeface="Times New Roman"/>
              </a:rPr>
              <a:t>Республиканским бюджетом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 является централизованный денежный фонд, формируемый за счет налоговых и других поступлений и предназначенный для финансового обеспечения задач и функций </a:t>
            </a:r>
            <a:r>
              <a:rPr b="1" lang="ru-RU" sz="3500" spc="-1" strike="noStrike" u="sng">
                <a:solidFill>
                  <a:srgbClr val="000000"/>
                </a:solidFill>
                <a:uFillTx/>
                <a:latin typeface="Times New Roman"/>
              </a:rPr>
              <a:t>центральных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государственных органов, подведомственных им государственных учреждений и реализации общереспубликанских направлений государственной политики. 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Областным бюджетом, бюджетом города республиканского значения, столицы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является централизованный денежный фонд, формируемый за счет налоговых и других поступлений и предназначенный для финансового обеспечения задач и функций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естных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ых органо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бластног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ровня, города республиканского значения, столицы, подведомственных им государственных учреждений и реализации государственной политики в соответствующей административно-территориальной единиц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260280"/>
            <a:ext cx="835344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Бюджетом района (города областного значения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является централизованный денежный фонд, формируемый за счет налоговых и других поступлений и предназначенный для финансового обеспечения задач и функций местных государственных органо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йо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города областного значе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, подведомственных им государственных учреждений и реализации государственной политики в соответствующем районе (городе областного значения)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395280" y="260280"/>
            <a:ext cx="835344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Чрезвычайный государственный бюдже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формируется на основе республиканского и местных бюджетов и вводится в случаях чрезвычайного или военного положения в Республике Казахстан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3300"/>
                </a:solidFill>
                <a:latin typeface="Times New Roman"/>
              </a:rPr>
              <a:t>Чрезвычайный госбюджет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5080" y="620640"/>
            <a:ext cx="41022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разрабатывается центральным уполномоченным органом по бюджетному планированию и утверждается Указом Президента РК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основанием для введения и прекращения действия чрезвычайного госбюджета является Указ Президента РК о введении и отмене на всей территории РК чрезвычайного или военного положени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7280" y="620640"/>
            <a:ext cx="4392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на время действия чрезвычайного госбюджета действие закона о республиканском бюджете и решений маслихатов о местных бюджетах приостанавливаетс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с прекращением действия чрезвычайного госбюджета исполнение республик. и местного бюджетов осуществляется в соответствии с утвержденными документам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1"/>
          <p:cNvGrpSpPr/>
          <p:nvPr/>
        </p:nvGrpSpPr>
        <p:grpSpPr>
          <a:xfrm>
            <a:off x="0" y="260280"/>
            <a:ext cx="9144000" cy="1223640"/>
            <a:chOff x="0" y="260280"/>
            <a:chExt cx="9144000" cy="1223640"/>
          </a:xfrm>
        </p:grpSpPr>
        <p:sp>
          <p:nvSpPr>
            <p:cNvPr id="54" name="Rectangle 4"/>
            <p:cNvSpPr/>
            <p:nvPr/>
          </p:nvSpPr>
          <p:spPr>
            <a:xfrm>
              <a:off x="0" y="260280"/>
              <a:ext cx="2771640" cy="12236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1f1f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Вид бюджета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5651640" y="260280"/>
              <a:ext cx="3492360" cy="12236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1f1f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Документ,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утверждающи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бюджет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2771640" y="260280"/>
              <a:ext cx="2880000" cy="12236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1f1f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Уполномоченны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орган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2"/>
          <p:cNvGrpSpPr/>
          <p:nvPr/>
        </p:nvGrpSpPr>
        <p:grpSpPr>
          <a:xfrm>
            <a:off x="0" y="1844640"/>
            <a:ext cx="9144000" cy="1655280"/>
            <a:chOff x="0" y="1844640"/>
            <a:chExt cx="9144000" cy="1655280"/>
          </a:xfrm>
        </p:grpSpPr>
        <p:sp>
          <p:nvSpPr>
            <p:cNvPr id="58" name="Rectangle 13"/>
            <p:cNvSpPr/>
            <p:nvPr/>
          </p:nvSpPr>
          <p:spPr>
            <a:xfrm>
              <a:off x="0" y="1844640"/>
              <a:ext cx="2771640" cy="165528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Республикански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бюджет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14"/>
            <p:cNvSpPr/>
            <p:nvPr/>
          </p:nvSpPr>
          <p:spPr>
            <a:xfrm>
              <a:off x="5651640" y="1844640"/>
              <a:ext cx="3492360" cy="165528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Закон РК о РБ на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соответствующи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финансовый год</a:t>
              </a:r>
              <a:r>
                <a:rPr b="0" lang="ru-RU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5"/>
            <p:cNvSpPr/>
            <p:nvPr/>
          </p:nvSpPr>
          <p:spPr>
            <a:xfrm>
              <a:off x="2771640" y="1844640"/>
              <a:ext cx="2880000" cy="165528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Парламент РК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16"/>
          <p:cNvGrpSpPr/>
          <p:nvPr/>
        </p:nvGrpSpPr>
        <p:grpSpPr>
          <a:xfrm>
            <a:off x="0" y="3860640"/>
            <a:ext cx="9144000" cy="2662920"/>
            <a:chOff x="0" y="3860640"/>
            <a:chExt cx="9144000" cy="2662920"/>
          </a:xfrm>
        </p:grpSpPr>
        <p:sp>
          <p:nvSpPr>
            <p:cNvPr id="62" name="Rectangle 17"/>
            <p:cNvSpPr/>
            <p:nvPr/>
          </p:nvSpPr>
          <p:spPr>
            <a:xfrm>
              <a:off x="0" y="3860640"/>
              <a:ext cx="2771640" cy="266292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Областно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бюджет,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бюджет города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Times New Roman"/>
                </a:rPr>
                <a:t>республиканского</a:t>
              </a: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значения,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столицы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18"/>
            <p:cNvSpPr/>
            <p:nvPr/>
          </p:nvSpPr>
          <p:spPr>
            <a:xfrm>
              <a:off x="5651640" y="3860640"/>
              <a:ext cx="3492360" cy="266292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Решение Маслихата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области, города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республиканского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значения, столицы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на соответствующи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финансовый год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9"/>
            <p:cNvSpPr/>
            <p:nvPr/>
          </p:nvSpPr>
          <p:spPr>
            <a:xfrm>
              <a:off x="2771640" y="3860640"/>
              <a:ext cx="2880000" cy="266292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Маслихат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области,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города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Times New Roman"/>
                </a:rPr>
                <a:t>республиканского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значения,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столицы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06-08T07:36:22Z</dcterms:modified>
  <cp:revision>46</cp:revision>
  <dc:subject/>
  <dc:title>PowerPoint Presentation</dc:title>
</cp:coreProperties>
</file>