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034-1878-4E14-9421-3D29AA509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4E13-292C-4829-975E-389C15316E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D23-4409-4F31-8C8E-063CC1F480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бюджет объединяет республиканский и местные бюджеты, консолидированный бюджетвключает республиканский бюджет, бюджеты областей, города республиканского значения, столицы и посту-пления, направляемые в Национальный фонд РК, а бюджет области6 состоит из областного бюджета, бюджетоврайонов (городов областного значения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Дата 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7C5C-9255-4AB7-A3BB-1C46C2C6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B6AF-7CE8-48FD-8A8E-A468ECE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0CAE-2C4F-49E4-B152-FF6247BE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B676-C6D0-47A3-AF45-C21B2AF2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97BB-81EA-4C91-A731-C3C29C38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39DF-1172-4F9D-B4BE-494060E1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E215-AC53-4497-A1AA-BDAA8BB6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9916-B646-4DF8-847C-815D4465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0B52-F7DA-4836-BB28-24B5602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684-3F6B-415C-BACD-ADB1666D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1BC3-B222-40E9-AA84-3B4522B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598E-67C9-4050-8F0B-C4D1905A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19C-CD47-423C-B891-FCD2397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0FB4-2AC5-4B51-9170-A314F28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9E83-C1BB-4D05-A12B-C1E8AE3B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A174-DCDC-4B99-AEB5-DBFA28E7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E9DA-83A4-46B1-A5FE-27B3A47B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DD82-BD86-4B04-A306-07EA4C0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8298-DE91-4C96-A292-F2DA5A74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50F7-6FB6-449B-9E49-ED8BE8E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856F-F747-4B91-B462-9FF536EF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4E95-A826-4ED5-A740-97B7B55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8468-EDC5-4656-A259-AD778809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B38E-D765-41B0-BABC-69FD6648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9079-1C0F-4944-8889-528D9F1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62BE-4E6A-4E93-916C-A901F91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3C16-7F20-4244-80C9-BDDAB58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F955-72CB-4331-AAC8-8A4687D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746A-D254-4C65-A39C-E0C65D34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55DE-FB17-4BAD-AEB2-60AA4451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BF2F-1211-4DEB-A5AD-6EA5A22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F300-B2ED-42AE-A94E-FE92B69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EA53-994C-4E6D-A408-8318F3AB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B60B-924D-4FDD-BDA8-11AC259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DA7E-1210-461C-A419-107A67E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6122-4B78-4FE3-9C4B-9119321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DB16-B359-4ED6-BCF1-7D13103BB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6AA-F1B1-41A4-9EEB-2ED34F85C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A0CF-73D8-496F-88AE-8ADD5E785F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Бюджетная система и принципы  ее организации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48836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бюджетного устройства и бюджет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инципы построения бюджетной системы Казахст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еспубликанский бюджет и его роль в решение общегосударственны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естные бюджеты и их значение в социаль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ческом развитии территориальных 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250920" y="333360"/>
            <a:ext cx="856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2. принцип полнот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отражение в бюджетах Республики Казахстан всех поступлений и расходов, предусмотренных законодательством Республики Казахстан, недопущение зачетов взаимных требований  с использованием бюджетных средств, равно как и уступок прав требований по бюджетным средства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24000" y="476280"/>
            <a:ext cx="84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3. принцип реалистичност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соответствие параметров бюджета показателям текущего состояния экономики, а также параметрам и направлениям социально-экономического развития Республики Казахстан  и регионо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50920" y="40464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4. принцип транспарент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обязательное опубликование нормативных правовых актов в области бюджетного законодательства, утвержденных (уточненных, скорректированных) бюджетов и отчетов об их исполнении, другой информации, касающейся фискальной политики государства, открытость бюджетного процесса, проведение государственного финансового контрол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250920" y="1341360"/>
            <a:ext cx="849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5. принцип последовательнос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соблюдение органами государственного управления принятых ранее решений в сфере бюджетных отношени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395280" y="476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6. принцип эффективности и результатив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разработка и исполнение бюджетов, исходя из необходимости достижения определенных результатов с использованием оптимального объема бюджетных средств, необходимого для достижения этих результатов, предусмотренных паспортом бюджетных программ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50920" y="404640"/>
            <a:ext cx="86421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7. принцип самостоятельности бюджетов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установление стабильного распределения поступлений между бюджетами разных уровней и определение направлений их расходования , право всех уровней государственного управления самостоятельно осуществлять бюджетный процесс, недопустимость изъятия доходов, дополнительно полученных в ходе исполнения местных бюджетов, свободных остатков средств местных бюджетов в вышестоящий бюджет, недопустимость возложения на нижестоящие бюджеты дополнительных расходов без соответствующей компенсац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8. Принцип приоритет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9. Принцип ответств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3. Республиканский бюджет и его роль в решение общегосударственных задач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спубликанский бюджет представ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бой централизованный фонд денежных средств, формируемый за счет налоговых и иных поступлений и предназначенный для финансирования республиканских бюджетных программ и меропри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спубликанская бюджетная програм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юджетная программа, направленная на выполнение функций государственного управления и реализацию на республиканском уровне государственной политики. Рес­публиканская бюджетная программа утверждается Парламентом Рес­публики Казахстан на финансовый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1187280" y="693360"/>
            <a:ext cx="70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 Бюджетным кодексом Республики Казахстан поступления в республиканский бюджет включ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ходы республиканского бюдж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лученные официальные трансфер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озврат кредитов, выданных из республиканского бюдж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br>
              <a:rPr sz="32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900000" y="1032480"/>
            <a:ext cx="781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юджетный кодекс Р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мирбаев С.М.Бюджетная система РК., - Учебник для вузов. - Астана: ИД «Сарыарка», 2007. - С. 47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Утибаев Б.С., Жунусова Р.М., Саткалиева В.А.,Государственный бюджет: Учебник. Под общ. ред. к.э.н., доцента Б.С. Утибаева – Алматы: Экономика, 2006. – С.28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Бюджетное устройство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государственного бюджета, как с экономической, так и организационно-правовой точки зр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.е состав и структура внутренних подразделений государственного бюджета, функциональное разграничение сфер их использования, соподчиненность, взаимодействие, а также правовая и процедурная сторона организации бюджета. Или бюджетное устройство - это организация бюджетной системы, принципы ее по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Бюджетная система Республики Казахста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6880" y="2355480"/>
            <a:ext cx="79297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есть «совокупность бюджетов и Национального фонда, а также бюджетных процесса и отношений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ый бюджет объединяет республиканский и местные бюджеты, консолидированный бюджет включает республиканский бюджет, бюджеты областей, города республиканского значения, столицы и поступления, направляемые в Национальный фонд РК, а бюджет области состоит из областного бюджета, бюджетов районов (городов областного значения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7" descr=""/>
          <p:cNvPicPr/>
          <p:nvPr/>
        </p:nvPicPr>
        <p:blipFill>
          <a:blip r:embed="rId1"/>
          <a:srcRect l="0" t="44332" r="7225" b="6479"/>
          <a:stretch/>
        </p:blipFill>
        <p:spPr>
          <a:xfrm>
            <a:off x="468360" y="1125360"/>
            <a:ext cx="8207280" cy="51832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8"/>
          <p:cNvSpPr/>
          <p:nvPr/>
        </p:nvSpPr>
        <p:spPr>
          <a:xfrm>
            <a:off x="1116000" y="1557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сударственный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1332000" y="2205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спубликанский  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133200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ый 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4067280" y="3645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924360" y="436572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 района, города областного зна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3995640" y="537372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ы г.Алматы, Аста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6372360" y="148428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солидирова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948360" y="234936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пл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правляемый в национальный фо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3995640" y="2708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8"/>
          <p:cNvSpPr/>
          <p:nvPr/>
        </p:nvSpPr>
        <p:spPr>
          <a:xfrm>
            <a:off x="111600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ная система Республики Казах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ый фонд Республики Казахстан, ранее находящийся в составе государственного бюджет РК, с 1 июля 2006 года выделен  как самостоятельный, стабилизационный, денежный фонд стра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ления, направляемые в Национальный фонд, являются частью консолидированного бюджета, однако,сам Национальный фонд РК представляет собой активы государства в виде финансовых активов, сосредотачиваемых на счете Правительства РК в Национальном Банке РК, а также в виде иного имущества, за исключениемнематериальных активов . Фонд предназначен для обеспечения стабильного социально-экономического развития государства, накопления финансовых активов и иного имущества, за исключением нематериальных активов,снижения зависимости экономики от нефтяного сектора и воздействия неблагоприятных внешних фактор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468360" y="981000"/>
            <a:ext cx="8351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2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ая система Республики Казахстан основывается на следующих  принципах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539640" y="476280"/>
            <a:ext cx="81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. принцип  единств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обеспечение применения единого бюджетного законодательства, в том числе использование единой бюджетной классификации, единых процедур осуществления бюджетного процесс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55:57Z</dcterms:created>
  <dc:creator>к</dc:creator>
  <dc:description/>
  <dc:language>en-US</dc:language>
  <cp:lastModifiedBy>Customer</cp:lastModifiedBy>
  <dcterms:modified xsi:type="dcterms:W3CDTF">2011-06-08T08:37:22Z</dcterms:modified>
  <cp:revision>12</cp:revision>
  <dc:subject/>
  <dc:title>Бюджетная система и принципы  ее организации </dc:title>
</cp:coreProperties>
</file>