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8219-DD5A-41E7-96F0-3F08B060AAD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A69B-82C3-44BF-8924-957C4F9E7C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139-C9BA-4757-A31E-685CF396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C59-8AC5-4F18-A056-38D28627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7B6-114A-41F6-ADFA-7AA862D2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56A-2979-4FF1-9FDB-71280BD0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4DB-3BCB-46BC-8DD0-023D7F43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439-3DE3-4D77-B688-7BF48160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576-B68A-4B15-BB39-91804F4F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701-A93D-459D-8A1B-B887B65C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16C-F02D-4B41-9765-47DB4541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359-5C39-4FBF-A63B-CE0E1701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2A4-A447-4880-B36B-8408E809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8F1-E4F8-46A7-A967-60B9B0D4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74D1-BC37-4603-BC64-B4F0AFEB0D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Управление бюджетной системой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2565360"/>
            <a:ext cx="7416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ятие и структура государственного  управления в области регулирования межбюдже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етенция органов государственного управления в области межбюдже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Задачи республиканской бюджетной комиссии являются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основных прогнозных показателей государственного и республиканского бюджетов на трехлетний период на основе среднесрочного плана социально-экономического развития РК на среднесрочный пери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отрение и определение показателей проекта республиканского бюджета на соответствующий финансовый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соответствия основных прогнозных показателей государственного, республиканского бюджета на предстоящий трехлетний период, проекта республиканского бюджета на соответствующий финансовый год государственным и отраслевым (секторальным) программам и среднесрочному плану социально-экономического развития РК на соответствующий пери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работка предложений по уточнению республиканского бюджета на соответствующий финансовый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отрение результатов мониторинга за ходом реализации республиканских бюджетных программ и выработка предложений по н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 Бюджетной комиссии: председатель, его заместители, секретарь и члены комисс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чим органом бюджетных комиссий являются соответственно центральный или местный уполномоченные органы по бюджетному планирован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ункции рабочего органа комиссии возлагаются на Министерство Финансов Р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нистерство разрабатывает прогнозные показатели социально-экономического развития страны и государственного бюджета на предстоящий трехлетний период и вносит на рассмотрение в Бюджетную комисс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4"/>
          <p:cNvGrpSpPr/>
          <p:nvPr/>
        </p:nvGrpSpPr>
        <p:grpSpPr>
          <a:xfrm>
            <a:off x="395280" y="476280"/>
            <a:ext cx="8228880" cy="4525920"/>
            <a:chOff x="395280" y="476280"/>
            <a:chExt cx="8228880" cy="452592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>
              <a:off x="6154920" y="4032000"/>
              <a:ext cx="3240" cy="324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4" idx="1"/>
              <a:endCxn id="56" idx="2"/>
            </p:cNvCxnSpPr>
            <p:nvPr/>
          </p:nvCxnSpPr>
          <p:spPr>
            <a:xfrm rot="10800000">
              <a:off x="2863080" y="1122120"/>
              <a:ext cx="823680" cy="258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1"/>
              <a:endCxn id="56" idx="2"/>
            </p:cNvCxnSpPr>
            <p:nvPr/>
          </p:nvCxnSpPr>
          <p:spPr>
            <a:xfrm rot="10800000">
              <a:off x="2863080" y="1122120"/>
              <a:ext cx="82368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31"/>
            <p:cNvCxnSpPr>
              <a:stCxn id="60" idx="1"/>
              <a:endCxn id="56" idx="2"/>
            </p:cNvCxnSpPr>
            <p:nvPr/>
          </p:nvCxnSpPr>
          <p:spPr>
            <a:xfrm rot="10800000">
              <a:off x="2863080" y="1122120"/>
              <a:ext cx="823680" cy="64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1032"/>
            <p:cNvSpPr/>
            <p:nvPr/>
          </p:nvSpPr>
          <p:spPr>
            <a:xfrm>
              <a:off x="395280" y="476280"/>
              <a:ext cx="4937400" cy="64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Законодательная база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_s1033"/>
            <p:cNvSpPr/>
            <p:nvPr/>
          </p:nvSpPr>
          <p:spPr>
            <a:xfrm>
              <a:off x="3686760" y="1445760"/>
              <a:ext cx="4937400" cy="64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99"/>
                  </a:solidFill>
                  <a:latin typeface="Arial"/>
                </a:rPr>
                <a:t>Конституция РК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34"/>
            <p:cNvSpPr/>
            <p:nvPr/>
          </p:nvSpPr>
          <p:spPr>
            <a:xfrm>
              <a:off x="3686760" y="2415960"/>
              <a:ext cx="4937400" cy="64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9999"/>
                  </a:solidFill>
                  <a:latin typeface="Arial"/>
                </a:rPr>
                <a:t>Бюджетный кодекс</a:t>
              </a: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_s1035"/>
            <p:cNvSpPr/>
            <p:nvPr/>
          </p:nvSpPr>
          <p:spPr>
            <a:xfrm>
              <a:off x="3686760" y="3385440"/>
              <a:ext cx="4937400" cy="64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Закон РК «О республиканском бюджете (на соответствующий год)»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_s1036"/>
            <p:cNvSpPr/>
            <p:nvPr/>
          </p:nvSpPr>
          <p:spPr>
            <a:xfrm>
              <a:off x="3686760" y="4355640"/>
              <a:ext cx="4937400" cy="64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Закон РК «О местном государственном управлени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2838960" y="3637800"/>
              <a:ext cx="0" cy="136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2838960" y="4974120"/>
              <a:ext cx="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" name="_s1088"/>
          <p:cNvSpPr/>
          <p:nvPr/>
        </p:nvSpPr>
        <p:spPr>
          <a:xfrm>
            <a:off x="3708360" y="5300640"/>
            <a:ext cx="49672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Закон РК «О налогах и других обязательных платежах в бюджет (Налоговый кодекс)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2843280" y="494172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2771640" y="57340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22"/>
          <p:cNvSpPr/>
          <p:nvPr/>
        </p:nvSpPr>
        <p:spPr>
          <a:xfrm>
            <a:off x="7281720" y="84740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2771640" y="465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Дата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2920" y="2026800"/>
            <a:ext cx="7479360" cy="85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Tahoma"/>
              </a:rPr>
              <a:t>Закон РК «О контроле исполнения республиканского и местных бюджетов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_s1088"/>
          <p:cNvSpPr/>
          <p:nvPr/>
        </p:nvSpPr>
        <p:spPr>
          <a:xfrm>
            <a:off x="539640" y="3141720"/>
            <a:ext cx="7417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решений маслихатов о местном бюджете (на соответствующий год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_s1088"/>
          <p:cNvSpPr/>
          <p:nvPr/>
        </p:nvSpPr>
        <p:spPr>
          <a:xfrm>
            <a:off x="684360" y="4653000"/>
            <a:ext cx="74167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иных нормативных правовых актов по вопросам бюджет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492360" y="47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онодательная ба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Дата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нистерство Финансов Р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нтральный исполнительный орган,    осуществляющий функ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ние и реализацию государственной политики в области исполнения бюджета, бухгалтерского и бюджетного учета, финансовой и бюджетной отчетности, аудиторской деятельности, накопления финансовых активов государ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ие в прогнозировании поступлений в бюджет и определении целей и приоритетов государственной политики в сфере поступления доходов в государственный бюдж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нистерство финансов Р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 центральным исполнительным органом, осуществляющим 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фере исполнения, ведения бюджетного учета и отчетност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его государственного финансового контро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нижестоящих уровнях бюджетной системы функции местных уполномоченных органов осуществляют соответствующие структуры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слихатов и местных исполнительных орга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2. Министерство имеет ведомств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итет казначейства, Комитет таможенного контроля, Налоговый комитет, Комитет финансового контроля, Комитет по работе с несостоятельными должниками, Комитет государственного имущества и приватизации, Комитет по финансовому мониторинг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руктура Министерства финансов РК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929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партамент бюджетной политики и планир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партамент анализа, отчетности и статистики государственных финан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партамент налоговой и таможенной политики, анализа и прогнозир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партамент планирования, анализа исполнения и оценки реализации бюджетных программ социальной сф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партамент планирования, анализа исполнения и оценки реализации бюджетных программ в сфере обороны, правоохранительной системы и государствен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139200" y="6381720"/>
            <a:ext cx="58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 см. сайт министерство финансов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fin.k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целях обеспечения своевременной и качественной разработки проекта бюджета на соответствующий финансовый год и выработки предложений по его уточнению и исполнению на всех уровнях бюджетной системы на постоянной основе создаютс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юджетные коми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5:27:47Z</dcterms:created>
  <dc:creator>к</dc:creator>
  <dc:description/>
  <dc:language>en-US</dc:language>
  <cp:lastModifiedBy>Windows XP Professional SP3</cp:lastModifiedBy>
  <dcterms:modified xsi:type="dcterms:W3CDTF">2011-06-07T16:45:01Z</dcterms:modified>
  <cp:revision>7</cp:revision>
  <dc:subject/>
  <dc:title>Управление бюджетной системой </dc:title>
</cp:coreProperties>
</file>