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D358-D024-412B-97AC-648DB9C3BF14}"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E139-511D-43B9-B10C-A74FA88BAB1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62" name="Дата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A105-8BB9-45D5-A235-975323EB494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 является обязательным условием функционирования любого государства.</a:t>
            </a:r>
            <a:endParaRPr b="0" lang="en-US" sz="1200" spc="-1" strike="noStrike">
              <a:solidFill>
                <a:srgbClr val="000000"/>
              </a:solidFill>
              <a:latin typeface="Arial"/>
            </a:endParaRPr>
          </a:p>
        </p:txBody>
      </p:sp>
      <p:sp>
        <p:nvSpPr>
          <p:cNvPr id="66" name="Дата 7"/>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76846-52D7-439B-A1FE-100F10670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02D51-F336-4C79-BA13-97367974E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2BB2B-17B7-416F-9A5A-A0EF7484A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1F4B2-30DA-4857-8D2A-476F44878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3B8C4-28EA-4B45-98BA-EBE297123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5C8D0-F3FD-41D8-AFC4-E772103F3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82F2B-E75E-44C5-A522-18CB49C7D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13444-9F90-4CD3-BFEC-126AC03EF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07A15-E55F-4F18-8F3A-CD07D108A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700B8-8083-445A-9E41-95A94CDA0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002E6-59FA-4630-84C4-1F7CCB8DF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3DF7-833D-4D49-B34B-6B62F53C9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2011</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579C-9AAE-4F2D-B79B-9AF107ED2FC3}"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98100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Экономическое содержание государственного бюджета</a:t>
            </a:r>
            <a:br>
              <a:rPr sz="4000"/>
            </a:br>
            <a:endParaRPr b="0" lang="en-US" sz="4000" spc="-1" strike="noStrike">
              <a:solidFill>
                <a:srgbClr val="e5ffff"/>
              </a:solidFill>
              <a:latin typeface="Tahoma"/>
            </a:endParaRPr>
          </a:p>
        </p:txBody>
      </p:sp>
      <p:sp>
        <p:nvSpPr>
          <p:cNvPr id="49" name="PlaceHolder 2"/>
          <p:cNvSpPr>
            <a:spLocks noGrp="1"/>
          </p:cNvSpPr>
          <p:nvPr>
            <p:ph type="subTitle"/>
          </p:nvPr>
        </p:nvSpPr>
        <p:spPr>
          <a:xfrm>
            <a:off x="1187280" y="2637000"/>
            <a:ext cx="6400800" cy="2304720"/>
          </a:xfrm>
          <a:prstGeom prst="rect">
            <a:avLst/>
          </a:prstGeom>
          <a:noFill/>
          <a:ln w="0">
            <a:noFill/>
          </a:ln>
        </p:spPr>
        <p:txBody>
          <a:bodyPr anchor="t">
            <a:no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 Сущность государственного бюджета</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 Функции государственного бюджета</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3. Структурно-сущностная характеристика государственного бюджета</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4. Бюджетный дефицит, его причины и способы финансирования</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5. Бюджетная политика государств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620280"/>
            <a:ext cx="8229600" cy="550548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Термин «бюджет» произошел от английского слова </a:t>
            </a:r>
            <a:r>
              <a:rPr b="1" lang="en-US" sz="3200" spc="-1" strike="noStrike">
                <a:solidFill>
                  <a:srgbClr val="ffffff"/>
                </a:solidFill>
                <a:latin typeface="Tahoma"/>
              </a:rPr>
              <a:t>budget</a:t>
            </a:r>
            <a:r>
              <a:rPr b="0" lang="ru-RU" sz="3200" spc="-1" strike="noStrike">
                <a:solidFill>
                  <a:srgbClr val="ffffff"/>
                </a:solidFill>
                <a:latin typeface="Tahoma"/>
              </a:rPr>
              <a:t> — сумка казначея, мешок с деньгами. Первые попытка формирования бюджета была осуществлена в </a:t>
            </a:r>
            <a:r>
              <a:rPr b="0" lang="en-US" sz="3200" spc="-1" strike="noStrike">
                <a:solidFill>
                  <a:srgbClr val="ffffff"/>
                </a:solidFill>
                <a:latin typeface="Tahoma"/>
              </a:rPr>
              <a:t>XVII</a:t>
            </a:r>
            <a:r>
              <a:rPr b="0" lang="ru-RU" sz="3200" spc="-1" strike="noStrike">
                <a:solidFill>
                  <a:srgbClr val="ffffff"/>
                </a:solidFill>
                <a:latin typeface="Tahoma"/>
              </a:rPr>
              <a:t> в. в Англии и представляла собой смету доходов и расходов.</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С расширением функций государства значительно увеличивается количество доходных источников, расходов, усложняются структура бюджета, его взаимные связи с другими плана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Бюджет</a:t>
            </a:r>
            <a:r>
              <a:rPr b="0" lang="ru-RU" sz="2800" spc="-1" strike="noStrike">
                <a:solidFill>
                  <a:srgbClr val="ffffff"/>
                </a:solidFill>
                <a:latin typeface="Tahoma"/>
              </a:rPr>
              <a:t> как экономическая категория выражает основную содержательную составляющую часть </a:t>
            </a:r>
            <a:r>
              <a:rPr b="1" lang="ru-RU" sz="2800" spc="-1" strike="noStrike">
                <a:solidFill>
                  <a:srgbClr val="ffffff"/>
                </a:solidFill>
                <a:latin typeface="Tahoma"/>
              </a:rPr>
              <a:t>государственных финансов.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0" lang="ru-RU" sz="2800" spc="-1" strike="noStrike">
                <a:solidFill>
                  <a:srgbClr val="ffffff"/>
                </a:solidFill>
                <a:latin typeface="Tahoma"/>
              </a:rPr>
              <a:t>Экономическое значение бюджета заключается  в том, что он через систему доходов, объем и направление финансовых средств воздействует на социально-экономическое процессы — деловую активность, занятость, рынок капитала и потребительских товаров, объем валового национального продукт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уют различные экономические модели и системы, но что важно знать, ни одна экономика не будет действовать эффективно, влияя на повышение благосостояния каждого человека, если в ней не будет выстроена </a:t>
            </a:r>
            <a:r>
              <a:rPr b="1" lang="ru-RU" sz="2000" spc="-1" strike="noStrike" u="sng">
                <a:solidFill>
                  <a:srgbClr val="ffffff"/>
                </a:solidFill>
                <a:uFillTx/>
                <a:latin typeface="Tahoma"/>
              </a:rPr>
              <a:t>оптимальная бюджетная систем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Бюджетная политика</a:t>
            </a:r>
            <a:r>
              <a:rPr b="0" lang="ru-RU" sz="2000" spc="-1" strike="noStrike">
                <a:solidFill>
                  <a:srgbClr val="ffffff"/>
                </a:solidFill>
                <a:latin typeface="Tahoma"/>
              </a:rPr>
              <a:t> отражает меры государственных органов, в частности Президента и его администрации, а также в большей степени Правительства и соответствующих Министерств по поддержанию экономической стабильности, сохранению темпов производства, занятости населения, различных эконо-мических параметров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юджетная политика государства в зависимости от экономической ситуации можетиметь стимулирующий характер – во время экономического спада, либо сдерживающий характер – во время роста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Признаки бюджета:</a:t>
            </a: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нежная форма отношений (опосредуется движение финансовых ресурсов);</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ограничение сферы действия рамками бюджетного процесса, который регламентируется соответствующим законодательством (Бюджетным кодексом,  Налоговым кодексом и др.);</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участниками отношений всегда являются, с одной стороны - государство, а с другой стороны - предприятия, учреждения и население, их взаимоотношения регламентируются соответствующим законодательством;</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безвозмездность движения стоимост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исторический характер возникновения совместно с государством и объективную форму функционирования совместно с развитием товарно-денежных отношени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Бюджет представляет собой </a:t>
            </a:r>
            <a:endParaRPr b="0" lang="en-US" sz="2400" spc="-1" strike="noStrike">
              <a:solidFill>
                <a:srgbClr val="e5ffff"/>
              </a:solidFill>
              <a:latin typeface="Tahoma"/>
            </a:endParaRPr>
          </a:p>
        </p:txBody>
      </p:sp>
      <p:graphicFrame>
        <p:nvGraphicFramePr>
          <p:cNvPr id="56" name=""/>
          <p:cNvGraphicFramePr/>
          <p:nvPr/>
        </p:nvGraphicFramePr>
        <p:xfrm>
          <a:off x="457200" y="1981080"/>
          <a:ext cx="8229600" cy="4211640"/>
        </p:xfrm>
        <a:graphic>
          <a:graphicData uri="http://schemas.openxmlformats.org/drawingml/2006/table">
            <a:tbl>
              <a:tblPr/>
              <a:tblGrid>
                <a:gridCol w="2057400"/>
                <a:gridCol w="2057400"/>
                <a:gridCol w="2057400"/>
                <a:gridCol w="2057400"/>
              </a:tblGrid>
              <a:tr h="542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 форме</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 материальной сущности</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 экономической сущности</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 </a:t>
                      </a:r>
                      <a:r>
                        <a:rPr b="1" lang="ru-RU" sz="1200" spc="-1" strike="noStrike">
                          <a:solidFill>
                            <a:srgbClr val="ffffff"/>
                          </a:solidFill>
                          <a:latin typeface="Times New Roman"/>
                          <a:ea typeface="Times New Roman"/>
                        </a:rPr>
                        <a:t>по юридическому оформлению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финансовый план</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централизованный фонд</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совокупность экономических отношений</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Закон</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7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основной финансовый план государства, определяющий его доходы и расходы, движение основной части централизованных финансовых ресурсов на конкретный период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Консолидирование денежных средств всех уровней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выражает денежные отношения, возникающие между государством и другими участниками общественного производс­тва в процессе распределения и перераспределения стоимости внутреннего продукта.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Республиканский бюджет на соответствующий финансовый год утверждается законом Республики Казахстан, а местные бюджеты – решениями  маслихатов соответствующей административно-территориальной единицы.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Формирование государственного бюджета Республики Казахстан основано на нормативно- правовых актах и программах развития, влияющих на поступления и расходы бюджета:</a:t>
            </a:r>
            <a:br>
              <a:rPr sz="2000"/>
            </a:br>
            <a:endParaRPr b="0" lang="en-US" sz="20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кон о республиканском бюджете  (ежегодный);</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реднесрочная фискальная политика</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юджетный кодекс Республики Казахстан (2008 год);</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жегодное послание Президента народу Республики Казахстан;</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ограммы стратегического развития Республики Казахстан;</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алоговый кодекс Республики Казахстан;</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ложения проектов законов Республики Казахстан, предусматривающие увеличение расходов или сокращение поступлений республиканского или местных бюджетов, могут быть внесены лишь при наличии положительного заключения Правительства Республики Казахстан. Заключение Правительства Республики Казахстан формируется с учетом предложений Республиканской бюджетной комиссии.</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оекты решений местных представительных органов, предусматривающие увеличение расходов или сокращение поступлений местных бюджетов, могут быть внесены на рассмотрение маслихатов лишь при наличии положительного заключения акимата. Заключение акимата формируется с учетом предложений соответствующей бюджетной комиссии.</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2:35:28Z</dcterms:created>
  <dc:creator>к</dc:creator>
  <dc:description/>
  <dc:language>en-US</dc:language>
  <cp:lastModifiedBy>Windows XP Professional SP3</cp:lastModifiedBy>
  <dcterms:modified xsi:type="dcterms:W3CDTF">2011-06-07T16:50:13Z</dcterms:modified>
  <cp:revision>10</cp:revision>
  <dc:subject/>
  <dc:title>Слайд 1</dc:title>
</cp:coreProperties>
</file>