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968-C4A3-49DE-AE0F-526650C6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2A4-0B8A-47BE-91E2-304E4C4D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829-2950-446F-B57D-592CF893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11F-963E-49B0-9BDD-15E662A5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E4F-7FEB-44CF-936C-2764C10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277-444C-4521-BB81-9A365FC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5D8-11B7-469E-BB98-A0CAEB3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EC4-8148-4A09-AC46-CF492D7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E1B-0EB4-4103-8ED1-DE413E4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6D6-ADBD-441A-9284-D23CB9D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E93-9DBA-4398-A821-A4CD59D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FE5-410B-44C7-BD68-BA0255A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604-60A8-4BE1-BB74-775E5836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300" t="42109" r="1509" b="10792"/>
          <a:stretch/>
        </p:blipFill>
        <p:spPr>
          <a:xfrm>
            <a:off x="611280" y="1628640"/>
            <a:ext cx="79930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629" t="39172" r="6463" b="38419"/>
          <a:stretch/>
        </p:blipFill>
        <p:spPr>
          <a:xfrm>
            <a:off x="468360" y="1197000"/>
            <a:ext cx="806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4:14:46Z</dcterms:created>
  <dc:creator>к</dc:creator>
  <dc:description/>
  <dc:language>en-US</dc:language>
  <cp:lastModifiedBy>к</cp:lastModifiedBy>
  <dcterms:modified xsi:type="dcterms:W3CDTF">2011-03-01T15:32:44Z</dcterms:modified>
  <cp:revision>2</cp:revision>
  <dc:subject/>
  <dc:title>Слайд 1</dc:title>
</cp:coreProperties>
</file>