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E02-5804-4A0D-A73F-33CBE8A5E7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631-20D4-423A-BB5E-597E5A5F6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1D98-AC9E-436C-AFD7-0B8A2D2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C8BA-A939-4AE3-9922-8DF624F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CBBD-75BD-41FB-A8F0-F5066936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5EBA-0882-4D40-A4BF-EFAFCBF8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22A-195C-4E0F-B13C-077D7A19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6D08-DA2B-491B-B3A1-02969CD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BAB6-E538-4356-AB21-4C1F59F9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E915-70ED-484A-B8CB-FA55E1E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774-293C-4214-BBCC-105B4C2B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F05C-5690-47AD-AF8F-E95A380C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B4F-B9EA-4A4D-B5B4-2367E3A6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ECC7-568F-4FED-8968-F5BA964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B99-C3DD-41D9-897F-9712E0D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164C-8DA7-4CEA-9F25-6DF280F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7EC5-A284-4E4B-9C63-6E4C361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FF99-CB41-43D4-84FF-ABA2C3A0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643C-981B-408B-802A-12605FDA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2C09-81A6-4DB0-AA36-FC5EC884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1DB3-28F0-49CA-A5AE-916AB009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3F56-2C00-4C6D-8FAF-FD5D6816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2C92-B701-45D5-84D5-16B0AD2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E6DC-59CF-4C01-BCEE-E055151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AD57-894C-4BA0-A70D-D99785B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55E0-329C-45CD-A964-E4F73EC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CC6-B169-4371-BBE1-B13C1C66E0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770C-E574-4568-8494-7D895EB5DB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Межбюджетные отноше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Транзакции трансфертов общего характер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Picture 7" descr=""/>
          <p:cNvPicPr/>
          <p:nvPr/>
        </p:nvPicPr>
        <p:blipFill>
          <a:blip r:embed="rId1"/>
          <a:srcRect l="11820" t="38759" r="7955" b="34617"/>
          <a:stretch/>
        </p:blipFill>
        <p:spPr>
          <a:xfrm>
            <a:off x="1187280" y="1600200"/>
            <a:ext cx="7129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мы трансфертов общего характера устанавливаются в абсолютном выражении на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хлетний пери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разбивкой по годам и подлежат изменению каждые три года . Эти трансферты направлены на выравнивание уровня бюджетной обеспеченности регионов и обеспечение равных фискальных возможностей для предоставления гарантированных государством услуг в соответствии с направлениями расходов, закрепленными за каждым уровнем бюджет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пределении трансфертов общего характера учитываются налоговый потенциал региона, численность потребителей государственных услуг в регионе, утвержденные стандарты государственных услуг  и факторы, влияющие на расходы по предоставлению государственных услуг в зависимости от специфики того или иного регион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rcRect l="15372" t="35472" r="21620" b="5451"/>
          <a:stretch/>
        </p:blipFill>
        <p:spPr>
          <a:xfrm>
            <a:off x="1116000" y="907920"/>
            <a:ext cx="7488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rcRect l="15007" t="13340" r="19368" b="19961"/>
          <a:stretch/>
        </p:blipFill>
        <p:spPr>
          <a:xfrm>
            <a:off x="68436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Organization Chart 5"/>
          <p:cNvGrpSpPr/>
          <p:nvPr/>
        </p:nvGrpSpPr>
        <p:grpSpPr>
          <a:xfrm>
            <a:off x="684360" y="549360"/>
            <a:ext cx="8063640" cy="5110200"/>
            <a:chOff x="684360" y="549360"/>
            <a:chExt cx="8063640" cy="5110200"/>
          </a:xfrm>
        </p:grpSpPr>
        <p:cxnSp>
          <p:nvCxnSpPr>
            <p:cNvPr id="544" name="_s1028"/>
            <p:cNvCxnSpPr>
              <a:stCxn id="545" idx="0"/>
              <a:endCxn id="546" idx="2"/>
            </p:cNvCxnSpPr>
            <p:nvPr/>
          </p:nvCxnSpPr>
          <p:spPr>
            <a:xfrm flipV="1" rot="16200000">
              <a:off x="5289480" y="2018160"/>
              <a:ext cx="1022760" cy="2171880"/>
            </a:xfrm>
            <a:prstGeom prst="bentConnector3">
              <a:avLst>
                <a:gd name="adj1" fmla="val 12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1029"/>
            <p:cNvCxnSpPr>
              <a:stCxn id="548" idx="0"/>
              <a:endCxn id="546" idx="2"/>
            </p:cNvCxnSpPr>
            <p:nvPr/>
          </p:nvCxnSpPr>
          <p:spPr>
            <a:xfrm flipH="1" flipV="1" rot="5400000">
              <a:off x="3119040" y="2018520"/>
              <a:ext cx="1022760" cy="2171160"/>
            </a:xfrm>
            <a:prstGeom prst="bentConnector3">
              <a:avLst>
                <a:gd name="adj1" fmla="val 12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6" name="_s1030"/>
            <p:cNvSpPr/>
            <p:nvPr/>
          </p:nvSpPr>
          <p:spPr>
            <a:xfrm>
              <a:off x="2854800" y="54936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1031"/>
            <p:cNvSpPr/>
            <p:nvPr/>
          </p:nvSpPr>
          <p:spPr>
            <a:xfrm>
              <a:off x="684360" y="361548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екущи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1032"/>
            <p:cNvSpPr/>
            <p:nvPr/>
          </p:nvSpPr>
          <p:spPr>
            <a:xfrm>
              <a:off x="5026320" y="361548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на развит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онятие и принципы межбюджетных 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Методы регулирования межбюджетных 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Распределение поступлений и расходов между уровнями бюджет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бюджетными отношениями принято считать отношения, которые складываются в бюджетном процессе между вышестоящим и нижестоящим уровнями бюдже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истема межбюджетных отношений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дин из главных механизмов, посредством которых происходит взаимодействие субъектов управления, а именно взаимодействие межд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ерархически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внями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нским и областны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астным и район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енство бюджетов областей, городов республиканского значения, столицы во взаимоотношениях с республиканским бюджетом, бюджетов районов (городов областного значения) с областным бюдже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ффективное распределение поступлений с соблюдением критериев их разгранич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равнивание уровней минимальной бюджетной обеспеченности административно-территориальных единиц Р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обеспечение  предоставления  местными  исполнительными органами одинакового уровня государственных услу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аксимальная эффективность и результативность предоставления бюджетных услу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максимальное приближение уровня предоставления бюджетной услуги к ее получателям за счет передачи исполнения услуг на возможно более низкий уровень бюджетной сист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тветственность каждого уровня бюджета за эффективное и целевое использование полученных официальных трансфертов и креди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. Формы межбюджетных отношен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республиканским и областным бюджетом, бюджетом города республиканского значения, столицы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ициальные трансфер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юджетные кред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областным бюджетом и бюджетом района (города областного значения) - официальные трансферты, бюджетные кредиты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тивы рас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етоды регулиров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о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средства, которые передаются из вышестоящего бюджета в твердо установленной сумме для сбалансирования дефицита нижестоящих бюдж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убвенци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средства, которые передаются из вышесто­ящего бюджета нижестоящим бюджетам на финансирование ме­роприятий со строго целевым назнач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редитные ресурс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средства, которые передаются из вышестоящих бюджетов нижестоящим бюджетам в виде кредитов с обязательным возвратом без процентов или с проц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фициальные трансфер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безвозмездные и невозвратные поступления в бюджет или затраты бюджета, кроме гра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рансфер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езвозмездные и невозвратные поступления в бюджет или затрат из бюджета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грантов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ициальные трансферты подразделяются на трансферты общего характ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екущие трансфер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рансферты на развит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рансферты и кредитные ресурсы используются местными исполнительными органами только в соответствии с их целевым назнач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ыми трансфертами общего характера являются бюджетные субвенции и бюджетные изъятия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ные субвенц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это финансовые средства, передаваемые из вышестоящих бюджетов в нижестоящие бюджеты в пределах сумм, утвержденных в республиканском или областном бюдж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51:15Z</dcterms:created>
  <dc:creator>к</dc:creator>
  <dc:description/>
  <dc:language>en-US</dc:language>
  <cp:lastModifiedBy>Customer</cp:lastModifiedBy>
  <dcterms:modified xsi:type="dcterms:W3CDTF">2011-06-08T08:37:57Z</dcterms:modified>
  <cp:revision>8</cp:revision>
  <dc:subject/>
  <dc:title>Межбюджетные отношения</dc:title>
</cp:coreProperties>
</file>