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FB4F-93E5-49E3-9DBD-CC38E7EAC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A7DB-99F6-4C2F-B5FA-6C2B7AFA3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301-DED9-4CE4-AC62-0EF1E22E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ACB-70E4-4FA9-9BAE-08F8CA5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AC9-8166-48F5-9CCA-C745478C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FFD-660E-493B-A71F-6E4F9C55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79D-9A26-4745-B087-59FE717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C74-73A2-4E75-BD56-49C6463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5AE-A613-4B8D-AE10-F972B2DD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CD6-ED22-4F99-92B2-DA91658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FBF-2380-4809-9731-320A086B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50E-CA3E-4D12-B7F2-20D5959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279-4AEF-4B62-8D96-AF1D29C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C5D-A4DB-4597-8D18-14AF1EA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3DC-7BE6-47B5-A904-2CE3117F5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ние налоговых поступл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6920" y="2276280"/>
            <a:ext cx="70167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нозирование налоговых поступлений. Характеристика методики расчета налоговых поступ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ирование поступлений по  внутренним налогам на товары, работы и услуги (косвенные нало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нозирование поступлений по налогам на международную торговлю и внешни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 по КПН определяется несколькими вариантами расчетов. По первому варианту используются сводные данные налоговых деклараций за отчетный период. По данным налоговых деклараций, в первую очередь, определяется налогооблагаемый доход на прогнозируемый период. При этом учитываются изменения в прогнозируемом году размеров вычетов, т.е. налогооблагаемый доход по отчетному период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ектиру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уровень инф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ущего года и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гнозируемый уровень инф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логовый год. В процессе анализа структуры вычетов, взятых из налоговых деклараций отдельных крупных налогоплательщиков, определя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азмеры вычетов и прогнозируются оптимальные размеры на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редстоящий год. Также должны быть учтены следующие факторы - изменение переноса размеров убытков или прекращение сроков переноса убы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ноз по корпоративно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ходному нал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нозная сумма корпоративного подоходного налога   определяется по формуле: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т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I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/100%*In/100%*S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Рп - прогноз корпоративного подоходного нало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тч - налогооблагаемый доход за отчетный период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ек - индекс потребительских цен на текущий год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индекс потребительских цен на планируемый г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 - средняя ставка налога за отчетный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341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.Использование  сводных данных налоговых деклараций за отчетный пери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Ро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/100%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Рп - прогнозируемая сумма корпоративного подоходного нал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 - ожидаемое поступление налога за текущий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  - индекс потребительских цен в планируемом году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декс объема производства в планируемо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формации о начисленной и уплаченной сумме корпоративного подоходного налога в разрезе крупных налогоплательщиков каждого региона, результаты годовых перерасчетов по налоговым деклар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 корпоративного подоходного налога с юридических лиц по организациям сырьевого сектора определяется по отдельному расчету в разрезе налогоплательщиков, входящих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ечень организаций сырьевого секто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верхплановые поступления по которым зачисляются в Национальный фонд 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прогноза поступлений КПН от организаций сырьевого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 = (Овн   х Цвн) + (Оэ х Цэ)+ (Оснг  х Цснг  ) х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    — доход от реализации продукции (тыс. тенге)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н - объем поставок на внутренний рынок (тыс. тонн); Оэ   - объем поставок на экспорт (тыс. тонн);                 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г - объем поставок в страны СНГ (тыс. тонн); Цвн - цена реализации на внутренний рынок, скорректированная на постоянную среднюю мировую цену (доллар за тонну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н - цена реализации на экспорт, скорректированная на постоянную среднюю мировую цену (доллар за тонну); Цснг - цена реализации в страны СНГ, скорректированная на постоянную среднюю мировую цену (доллар за тонн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- курс тенге к доллару США;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 = (Др + Дпр)-В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Дн - налогооблагаемый дох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 - доход от основной реализации;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п — доход от прочей реализации;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- выч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Н = ДнхСтавка%/100%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КПН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поративный подоходный налог;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 - налогооблагаемый дохо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вка% - ставка корпоративного подоходного нал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прогноз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дивидуального подоходного нало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доходов, облагаемых у источника выплаты, используются данны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х декла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едставляемых налогоплательщиками в налоговые орг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нозируя ИПН с доходов, не облагаемых у источника выплаты, используются данные налоговых деклараций за предыдущий год по доходу индивидуального предпринимателя, имущественному и прочим доходам, доходам адвокатов и частных нотари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 налога н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анспорт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считыва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ямому сче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сновании сведений об их количестве в разрезе видов и групп транспортных средств по объемам двигателей, грузоподъемности, посадочных мест, предоставляемы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рганами внутренних дел Р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обеспечи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ный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ладель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53:08Z</dcterms:created>
  <dc:creator>к</dc:creator>
  <dc:description/>
  <dc:language>en-US</dc:language>
  <cp:lastModifiedBy>Customer</cp:lastModifiedBy>
  <dcterms:modified xsi:type="dcterms:W3CDTF">2011-06-08T08:36:25Z</dcterms:modified>
  <cp:revision>12</cp:revision>
  <dc:subject/>
  <dc:title>Прогнозирование налоговых поступлений </dc:title>
</cp:coreProperties>
</file>