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500-CB29-46E5-BD30-9D9779F2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46D-12D3-45E5-BA32-B898B80D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E2F-6B3C-4C70-B095-60D3F9F2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208-20ED-4720-B0C7-D700A9AF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BF1-8615-491C-8A18-222CC05E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8AD-9CB5-47CC-A047-1DB6A0AA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4D9-5DE0-45B4-910F-9086497E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F45-F6F0-45FA-848E-A621C4AD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2CE-1604-455F-9A6F-511AFF54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551-D8C3-4327-B7FD-956A1284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5A1-EB65-4364-A930-11A46BD0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CD2-72E2-491A-899D-DD65177B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865D-3820-4829-AE39-9EA573EFC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нятие бюджет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 бюджет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ое регу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ие в области бюдж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3. Управление в области бюдж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в области бюджета - это институт представляющий собой совокупность правовых норм, определяющих компетенцию общественно-территориальных образований в области бюджета, а также правомочий государственных органов, реализующих эту компетен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ые права общественно-территориальных образований реализуются через компетенцию соответствующих представительных и исполнительных органов государствен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ые права РК реализуется через компетенцию Президента РК, Парламента РК, Правительства РК и другие центральные государственные орг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идент Р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пределяет бюджетную политику государства, что, в частности, осуществляется им через ежегодное послание к народу Казахстана о положении в стране и основных направлениях внутренней и внешней политики Р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водит при определенных обстоятельствах чрезвычайный бюджет Р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 случае, если Парламентом РК не будет принят в установленный срок закон о республиканском бюджете на очередной фин. год, вправе издать Указ «О республиканском финансовом плане на 1 квартал предстоящего фин. года», который действует до утверждения Парламентом республиканского бюдж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ламент Р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пределяет бюджетную систему Р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обсуждает и утверждает республиканский бюджет и отчеты о его исполн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устанавливает государственные налоги и сборы, решает вопросы о государственных займах, т.е. определяет источники доходов бюдж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распределяет государственные доходы и расходы между различными звеньями бюджетной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устанавливает долговременные размеры субвенций, передаваемых из республиканского бюджета в бюджеты областей, и бюджетных изъятий из бюджетов областей, городов Астаны и Алматы в республиканский бюдж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тельство Р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разрабатывает и представляет Парламенту республиканский бюджет и отчет о его исполн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обеспечивает исполнение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дает заключение на проекты законов, предусматривающих сокращение госдоходов или увеличение госрасходов, которые могут быть внесены лишь при наличии положительного заключения Правительства Р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разрабатывает республик. бюджетные программы, а также утверждает программу госинвестиций, т.е. программу инвестирования правительственных и привлекаемых Правительством средств, в т.ч. под правительственные гарантии, по приоритетным секторам экономики. Все эти программы в конечном счете формируют состав расходов республиканского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устанавливает лимит заимствования бюджетов областей и г.г. Астаны и Алматы на соответствующий финансовый год (т.е. устанавливает размеры местных государственных займов); определяет порядок заключения договоров займа и выпуска государственных эмиссионных ценных бумаг местных исполнительных орга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) устанавливает порядок и периодичность бюджетных изъятий из бюджетов областей и г.г. Астана и Алм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) распоряжается резервом Правительства РК, образуемого в составе республиканского бюджета для финансирования непредвиденных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112760"/>
            <a:ext cx="7848720" cy="33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стерства (ведомства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2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ыступают в качестве администраторов республиканских бюджетн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2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распределяют между подведомственными организациями полученные в централизованном порядке бюджетные ассигн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2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осуществляют контроль за законным и эффективным использованием подведомственными организациями полученных бюджетных ассигн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2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енную роль в сфере бюджета игр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стерство финансов Р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ные исполнительные орга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разрабатывают проекты местных бюджетов и представляют их на утверждение соответствующего маслиха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обеспечивают исполнение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разрабатывают местные бюджетные программы, утверждаемые местными представительными органами и финансируемые из местных бюджетов. При этом местные исполнительные органы по решению маслихатов вправе самостоятельно вводить бюджетные программы по направлениям, не противоречащим законодательству и не затрагивающим республиканских бюджетн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образуют в составе местных бюджетов резервы местных исполнительных органов для финансирования непредвиденных расх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предоставляют кредиты в пределах сумм, предусмотренных в местном бюдже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) осуществляют заимствование в соответствии с установленным поряд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2209680" y="1981080"/>
          <a:ext cx="502920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81080"/>
                    <a:ext cx="50292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дяков А.И. Учебник Финансовое право Республики Казахстан. Алматы. 200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манбаев С.М. Учебник Финансовое право Республики Казахстан. Алматы. 200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дяков А.И. Основы теории финансового права. Алматы. 19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итуция Республики Казахстан от 30.08.1995 года, с последующими изменениями и дополн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1. Понятие бюджетной сист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юджетная систе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совокупность бюджетов различных видов, организованных в определенную систему. Бюджетные системы могут быть 2 вид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стемы, основанные на принципе бюджетного централизма, когда каждый нижестоящий бюджет входит в состав вышестоящего бюдже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юджетные системы, основанные на принц. автономности бюджетов административно-территориальных еди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Бюджетный Кодекс РК», устанавливает, что бюджетная система РК основывается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ах единства, полноты, реальности, гласности и самостоятельности всех бюдже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ство бюдже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ивается использованием единой правовой бюджетной классификации, утверждаемой МФ РК, единством форм государственной финансовой статистики, передаваемой с одного уровня бюджета на другой, принципами бюджетной процедуры, единством денежной системы. Оно основано на взаимодействии бюджетов через перераспределение поступ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ота бюдже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ивается обязательным и полным отражением в бюджетах всех поступлений, в т.ч. поступлений от национальных компаний, и расходов, определяемых налоговым и бюджетным законодательством Р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ьность бюдже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игается проведением их в соответствии с параметрами индикативного плана социально-экономического развития РК с учетом ежегодного послания Президента РК народу Казахст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сность бюдже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ивается публикацией отчетов об их исполн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ость бюдже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ивается установлением стабильных нормативов распределения доходов между бюджетов различных уровней и правом определения направления расходования бюджетных сре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касается строения бюджетной системы РК, то она, как и у большинства унитарных государств, представлена бюджетами 2 уровней: республиканским и местными бюдж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публиканский бюджет предназнач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финансирования мероприятий, имеющих общегосударственное значение. За счет него содержатся центральные органы государственной власти: Президент, его аппарат, Парламент, Правительство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ные бюджеты предназнач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финансирования нужд административно-территориальных образований. За счет этих бюджетов содержатся местные представительные и исполнительные органы государственной власти, осуществляется финансирование деятельности на местном уровне, программы занятости населения, жилищные программы, промышленности и строительства объектов на местном уровн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2. Бюджетное регу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юджетное регул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обеспечение бездефицитности бюджетов, входящих в состав бюджетной системы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бюджетного регулир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беспечение надлежащего взаимодействия всех компонентов бюджетной системы, сбалансирование каждого его элемента и всей системы в целом с тем, чтобы данный механиззм нормально функционировал и бесперебойно работ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тод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юджетного регулир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спределение расходов между отдельными видами бюджетов, входящих в бюджетн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установление постоянно закрепленных доходов для каждого звена бюджетной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установление доходов, передаваемых из вышестоящих бюджетов в нижестоящие в целях сбалансирования последни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суб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бюджетная до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юджетная ссу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бюджетное кредит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юджетные изъят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кращение бюджетных расход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ключа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квест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граничение – специальный механизм, предусматривающий запрет на расходование средств в определенных пределах, который вводится в случаях, когда при исполнении бюджета происходит превышение установленного уровня бюджетного дефицита, либо сокращаются поступления от доходных источников, в результате чего становится невозможным финансирование в полном объеме предусмотренных бюджетом расход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XP Professional SP3</cp:lastModifiedBy>
  <dcterms:modified xsi:type="dcterms:W3CDTF">2011-06-05T17:06:18Z</dcterms:modified>
  <cp:revision>2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