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101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61344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961344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53BAA8C9-E505-41AF-8E93-6FE374BD3E8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15DC5AAE-D1D8-4FAC-B244-523060CD9A21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8B79792-9BB1-42B8-A983-192505F8CD0C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5C81608-A1F3-4708-A508-D08DEFAD28B5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394D4781-2885-4D01-883F-D81D14E8F314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90686EC-085E-4D92-AA58-C2F6D0D64791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A243806-A880-4B8C-B6DB-72619DB7DB1E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66F-D247-4383-A804-C21E781F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AD9-E56D-4C78-BE59-8C9B36F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C6C-E43A-412D-A9AF-291132C4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830-E8AF-4535-9BAE-33D97ABA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537-C25E-418D-BB25-329D45A7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910-2C03-4B2B-9643-6CE6910C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BEE-BDD5-4D50-B28F-90DC5EBC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F99-5722-4DA8-B616-B3B8F320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39C-C82C-48EC-86A5-E34ECB0C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2DA-7D8D-43DB-B1F5-40066B1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AA4-266B-4B38-9953-469705F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E5E-5BC4-4CED-8743-DA7677CB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33CB-A11C-450C-B73D-54E63D999E72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944"/>
                </a:solidFill>
                <a:latin typeface="Arial"/>
              </a:rPr>
              <a:t>Новый бюджетный кодекс: </a:t>
            </a:r>
            <a:br>
              <a:rPr sz="2000"/>
            </a:br>
            <a:r>
              <a:rPr b="1" lang="ru-RU" sz="2000" spc="-1" strike="noStrike">
                <a:solidFill>
                  <a:srgbClr val="1d4944"/>
                </a:solidFill>
                <a:latin typeface="Arial"/>
              </a:rPr>
              <a:t>бюджет ориентированный на результат </a:t>
            </a:r>
            <a:endParaRPr b="1" lang="en-US" sz="2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D512-6FD1-4E68-976F-33ED689A7648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14240" y="178596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1d433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Фискальная политика – государственный регулятор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buClr>
                <a:srgbClr val="1d433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Проблемные вопросы среднесрочного планировани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buClr>
                <a:srgbClr val="1d433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A178-5235-4A9C-871C-59FFDAF5E55B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Фискальная политика –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государственный регулятор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348000" y="1989000"/>
            <a:ext cx="2519280" cy="581400"/>
          </a:xfrm>
          <a:prstGeom prst="rect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Фискальная политика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1989000"/>
            <a:ext cx="25196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84720" y="1989000"/>
            <a:ext cx="25196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8360" y="3429000"/>
            <a:ext cx="1224000" cy="110484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Гос. Расход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908000" y="3429000"/>
            <a:ext cx="1151280" cy="107964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Налоги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419640" y="3429000"/>
            <a:ext cx="1728720" cy="14400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337"/>
                </a:solidFill>
                <a:latin typeface="Times New Roman"/>
              </a:rPr>
              <a:t>Индустриальное развитие, диверсификация экономики</a:t>
            </a:r>
            <a:endParaRPr b="0" lang="en-US" sz="15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203640" y="5589720"/>
            <a:ext cx="5256000" cy="759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Устойчивый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экономический рост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364000" y="3429000"/>
            <a:ext cx="1657440" cy="14400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337"/>
                </a:solidFill>
                <a:latin typeface="Times New Roman"/>
              </a:rPr>
              <a:t>Увеличение поступлений в бюджет без увеличения налоговой нагрузки</a:t>
            </a:r>
            <a:endParaRPr b="0" lang="en-US" sz="15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7236000" y="3429000"/>
            <a:ext cx="1441440" cy="14400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337"/>
                </a:solidFill>
                <a:latin typeface="Times New Roman"/>
              </a:rPr>
              <a:t>Сдержанная, сбалансиро-ванная фискальная политика</a:t>
            </a:r>
            <a:endParaRPr b="0" lang="en-US" sz="15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116000" y="2997360"/>
            <a:ext cx="144000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1835280" y="2367000"/>
            <a:ext cx="0" cy="61128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111600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255600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4140360" y="2997360"/>
            <a:ext cx="388764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7308720" y="2367000"/>
            <a:ext cx="0" cy="61128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414036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601200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802800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8101080" y="4869000"/>
            <a:ext cx="0" cy="72072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3059280" y="2133720"/>
            <a:ext cx="28872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867280" y="2133720"/>
            <a:ext cx="21744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>
            <a:off x="4284720" y="4869000"/>
            <a:ext cx="0" cy="71892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6227640" y="4869000"/>
            <a:ext cx="0" cy="68400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016-FC52-46B3-B2E4-D662E2E372B8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Фискальная политика –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государственный регулятор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348000" y="1628640"/>
            <a:ext cx="2519280" cy="581400"/>
          </a:xfrm>
          <a:prstGeom prst="rect">
            <a:avLst/>
          </a:prstGeom>
          <a:gradFill rotWithShape="0">
            <a:gsLst>
              <a:gs pos="0">
                <a:srgbClr val="71ad49">
                  <a:alpha val="59215"/>
                </a:srgbClr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Фискальная политика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6156360" y="1989000"/>
            <a:ext cx="2401920" cy="825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Times New Roman"/>
              </a:rPr>
              <a:t>регулируемая стабилизаци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539640" y="1989000"/>
            <a:ext cx="2519640" cy="825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Times New Roman"/>
              </a:rPr>
              <a:t>автоматическая стабилизаци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324000" y="3068640"/>
            <a:ext cx="122364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Бюджетны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1692360" y="3068640"/>
            <a:ext cx="115236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Налоговы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250920" y="4437000"/>
            <a:ext cx="2160360" cy="94644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Концепция формирования и использования средств Национального фонда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2484360" y="3789360"/>
            <a:ext cx="151308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Трудово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2987640" y="3068640"/>
            <a:ext cx="129708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Таможенны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2484360" y="4437000"/>
            <a:ext cx="1800360" cy="105768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Кодекс об административных правонарушениях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755640" y="3789360"/>
            <a:ext cx="144000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Граждански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179280" y="2924280"/>
            <a:ext cx="4248360" cy="2592360"/>
          </a:xfrm>
          <a:prstGeom prst="rect">
            <a:avLst/>
          </a:prstGeom>
          <a:noFill/>
          <a:ln w="25560">
            <a:solidFill>
              <a:srgbClr val="1d433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250920" y="5734080"/>
            <a:ext cx="410508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Нормативно-правовые акты в их реализацию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0" name="Text Box 37"/>
          <p:cNvSpPr/>
          <p:nvPr/>
        </p:nvSpPr>
        <p:spPr>
          <a:xfrm>
            <a:off x="4716360" y="3068640"/>
            <a:ext cx="1368360" cy="7333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Сдерживание текущих расход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1" name="Text Box 38"/>
          <p:cNvSpPr/>
          <p:nvPr/>
        </p:nvSpPr>
        <p:spPr>
          <a:xfrm>
            <a:off x="6156360" y="3068640"/>
            <a:ext cx="1512720" cy="7333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Регулирование инфляционных процесс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2" name="Text Box 39"/>
          <p:cNvSpPr/>
          <p:nvPr/>
        </p:nvSpPr>
        <p:spPr>
          <a:xfrm>
            <a:off x="4643280" y="5734080"/>
            <a:ext cx="424980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Корректировка фискальной политики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4643280" y="6237360"/>
            <a:ext cx="424980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Уточнение республиканского бюджет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4" name="Text Box 41"/>
          <p:cNvSpPr/>
          <p:nvPr/>
        </p:nvSpPr>
        <p:spPr>
          <a:xfrm>
            <a:off x="7740720" y="3068640"/>
            <a:ext cx="1079280" cy="7333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Снижение ставок налогов 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5" name="Text Box 42"/>
          <p:cNvSpPr/>
          <p:nvPr/>
        </p:nvSpPr>
        <p:spPr>
          <a:xfrm>
            <a:off x="6588000" y="3933720"/>
            <a:ext cx="2232000" cy="7333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Повышение размера пенсионных выплат и пособий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3"/>
          <p:cNvSpPr/>
          <p:nvPr/>
        </p:nvSpPr>
        <p:spPr>
          <a:xfrm>
            <a:off x="6588000" y="4797360"/>
            <a:ext cx="223200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Ребалансирование тариф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4716360" y="3933720"/>
            <a:ext cx="1728720" cy="14839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Изменение размеров гарантированного трансферта из Нац.фонда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8" name="Rectangle 45"/>
          <p:cNvSpPr/>
          <p:nvPr/>
        </p:nvSpPr>
        <p:spPr>
          <a:xfrm>
            <a:off x="4572000" y="2924280"/>
            <a:ext cx="4392720" cy="2592360"/>
          </a:xfrm>
          <a:prstGeom prst="rect">
            <a:avLst/>
          </a:prstGeom>
          <a:noFill/>
          <a:ln w="25560">
            <a:solidFill>
              <a:srgbClr val="1d433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BD4F-FB45-4039-988C-107A85DE57CF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Закон Республики Казахстан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«О бюджетной системе» </a:t>
            </a:r>
            <a:r>
              <a:rPr b="1" lang="kk-KZ" sz="2800" spc="-1" strike="noStrike">
                <a:solidFill>
                  <a:srgbClr val="1d4944"/>
                </a:solidFill>
                <a:latin typeface="Arial"/>
              </a:rPr>
              <a:t>с 1996 по 2004 годы</a:t>
            </a: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324000" y="198900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Times New Roman"/>
              </a:rPr>
              <a:t>Статья 2. Основа для разработки бюджета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    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Основой для разработки проектов бюджетов на предстоящий финансовый год и долгосрочного планирования прогнозных показателей государственного бюджета являются индикативный план социально-экономического развития Республики Казахстан, утверждаемый Правительством Республики Казахстан, экономические и социальные программы развития территорий, утверждаемые местными представительными органами, на соответствующий период с учетом ежегодного послания Президента Республики Казахстан к народу Казахстана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42A-B637-467C-B3B5-E1760BBCF34F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Фискальная политика, как элемент средне-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и долгосрочного планирования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971640" y="5950080"/>
            <a:ext cx="71294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Среднесрочная  фискальная политик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5" name="Text Box 38"/>
          <p:cNvSpPr/>
          <p:nvPr/>
        </p:nvSpPr>
        <p:spPr>
          <a:xfrm>
            <a:off x="971640" y="2781360"/>
            <a:ext cx="70578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Среднесрочный план социально-экономического развития Республики Казахстан и регион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3419640" y="1628640"/>
            <a:ext cx="2160360" cy="848160"/>
          </a:xfrm>
          <a:prstGeom prst="rect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Стратеги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Казахстан – 2030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971640" y="3789360"/>
            <a:ext cx="705780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Государственные, отраслевые и региональные программ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971640" y="4508640"/>
            <a:ext cx="7129440" cy="10101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Закон об объемах официальных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трансфертов общего характер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9" name="Rectangle 45"/>
          <p:cNvSpPr/>
          <p:nvPr/>
        </p:nvSpPr>
        <p:spPr>
          <a:xfrm>
            <a:off x="611280" y="2565360"/>
            <a:ext cx="7848360" cy="3888000"/>
          </a:xfrm>
          <a:prstGeom prst="rect">
            <a:avLst/>
          </a:prstGeom>
          <a:noFill/>
          <a:ln w="25560">
            <a:solidFill>
              <a:srgbClr val="1d433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324000" y="1484280"/>
            <a:ext cx="8496000" cy="4105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1" name="Line 47"/>
          <p:cNvSpPr/>
          <p:nvPr/>
        </p:nvSpPr>
        <p:spPr>
          <a:xfrm>
            <a:off x="4572000" y="558972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2" name="Line 48"/>
          <p:cNvSpPr/>
          <p:nvPr/>
        </p:nvSpPr>
        <p:spPr>
          <a:xfrm flipH="1">
            <a:off x="2626920" y="2060640"/>
            <a:ext cx="792360" cy="504720"/>
          </a:xfrm>
          <a:prstGeom prst="line">
            <a:avLst/>
          </a:prstGeom>
          <a:ln w="63360">
            <a:solidFill>
              <a:srgbClr val="1d4337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5586120" y="2051280"/>
            <a:ext cx="781200" cy="521640"/>
          </a:xfrm>
          <a:prstGeom prst="line">
            <a:avLst/>
          </a:prstGeom>
          <a:ln w="63360">
            <a:solidFill>
              <a:srgbClr val="1d4337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55640" y="1557360"/>
            <a:ext cx="2160720" cy="642600"/>
          </a:xfrm>
          <a:prstGeom prst="rect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Послания Президента</a:t>
            </a: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6227640" y="1628640"/>
            <a:ext cx="2160720" cy="580680"/>
          </a:xfrm>
          <a:prstGeom prst="rect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Программа Правительства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0EE-0ABB-4BCB-BE1E-372406B58574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Место фискальной политики в системе бюджетного планирования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672000" y="1268280"/>
            <a:ext cx="1539720" cy="987480"/>
          </a:xfrm>
          <a:prstGeom prst="triangle">
            <a:avLst>
              <a:gd name="adj" fmla="val 49167"/>
            </a:avLst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Республиканский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бюджет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0800000">
            <a:off x="1785600" y="2387160"/>
            <a:ext cx="5311800" cy="236880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Среднесрочная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фискальная политика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rot="10800000">
            <a:off x="1187280" y="4941000"/>
            <a:ext cx="6492960" cy="59220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Прогнозные показатели государственного бюджета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10800000">
            <a:off x="495000" y="5743080"/>
            <a:ext cx="7893000" cy="65736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Среднесрочный план социально-экономического развития Республики Казахстан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2595600" y="3579840"/>
            <a:ext cx="3670200" cy="118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литика доход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литика расход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литика межбюджетных отношений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литика в сфере государственного долга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3" name="AutoShape 13"/>
          <p:cNvSpPr/>
          <p:nvPr/>
        </p:nvSpPr>
        <p:spPr>
          <a:xfrm rot="18609000">
            <a:off x="232920" y="5200200"/>
            <a:ext cx="906480" cy="27792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8394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4" name="AutoShape 14"/>
          <p:cNvSpPr/>
          <p:nvPr/>
        </p:nvSpPr>
        <p:spPr>
          <a:xfrm rot="18609000">
            <a:off x="1298880" y="3940560"/>
            <a:ext cx="898560" cy="27792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8394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5" name="AutoShape 15"/>
          <p:cNvSpPr/>
          <p:nvPr/>
        </p:nvSpPr>
        <p:spPr>
          <a:xfrm rot="18609000">
            <a:off x="2382840" y="2653920"/>
            <a:ext cx="871560" cy="27756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8394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AutoShape 16"/>
          <p:cNvSpPr/>
          <p:nvPr/>
        </p:nvSpPr>
        <p:spPr>
          <a:xfrm rot="13771800">
            <a:off x="7824240" y="5174640"/>
            <a:ext cx="868680" cy="27756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323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AutoShape 17"/>
          <p:cNvSpPr/>
          <p:nvPr/>
        </p:nvSpPr>
        <p:spPr>
          <a:xfrm rot="13770600">
            <a:off x="6652440" y="3940560"/>
            <a:ext cx="869760" cy="27792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323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 rot="13848600">
            <a:off x="5572080" y="2571840"/>
            <a:ext cx="868320" cy="27792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3152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39E3-AC4F-400C-B02B-437153ED4D3E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Проблемные вопросы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среднесрочного планирования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971640" y="1557360"/>
            <a:ext cx="720072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Необходимость количественного выражения как целей, так и необходимых ресурсов в многолетней перспективе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971640" y="2708280"/>
            <a:ext cx="720072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Нарушение принципа «от общего к частному»  -                                            от стратегии к бюджетным расходам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395280" y="1700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395280" y="2852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395280" y="3789360"/>
            <a:ext cx="4537080" cy="2808360"/>
          </a:xfrm>
          <a:prstGeom prst="flowChartExtract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6" name="AutoShape 18"/>
          <p:cNvSpPr/>
          <p:nvPr/>
        </p:nvSpPr>
        <p:spPr>
          <a:xfrm rot="10800000">
            <a:off x="4140000" y="3789000"/>
            <a:ext cx="4392360" cy="2808360"/>
          </a:xfrm>
          <a:prstGeom prst="flowChartExtract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2124000" y="4508640"/>
            <a:ext cx="107964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1547640" y="5229360"/>
            <a:ext cx="223236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971640" y="5950080"/>
            <a:ext cx="338436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4643280" y="4437000"/>
            <a:ext cx="338472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5219640" y="5157720"/>
            <a:ext cx="223200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5796000" y="5877000"/>
            <a:ext cx="108108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3" name="WordArt 30"/>
          <p:cNvSpPr txBox="1"/>
          <p:nvPr/>
        </p:nvSpPr>
        <p:spPr>
          <a:xfrm>
            <a:off x="1835280" y="393372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публиканский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юджет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31"/>
          <p:cNvSpPr txBox="1"/>
          <p:nvPr/>
        </p:nvSpPr>
        <p:spPr>
          <a:xfrm>
            <a:off x="5508720" y="386064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публиканский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юджет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WordArt 32"/>
          <p:cNvSpPr txBox="1"/>
          <p:nvPr/>
        </p:nvSpPr>
        <p:spPr>
          <a:xfrm>
            <a:off x="1763640" y="530064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сударственные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аслевые программы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34"/>
          <p:cNvSpPr txBox="1"/>
          <p:nvPr/>
        </p:nvSpPr>
        <p:spPr>
          <a:xfrm>
            <a:off x="1403280" y="5950080"/>
            <a:ext cx="251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есрочный план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циально-экономического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вития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WordArt 35"/>
          <p:cNvSpPr txBox="1"/>
          <p:nvPr/>
        </p:nvSpPr>
        <p:spPr>
          <a:xfrm>
            <a:off x="5076720" y="5877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есрочный план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циально-экономического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вития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WordArt 36"/>
          <p:cNvSpPr txBox="1"/>
          <p:nvPr/>
        </p:nvSpPr>
        <p:spPr>
          <a:xfrm>
            <a:off x="5508720" y="5229360"/>
            <a:ext cx="17431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сударственные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аслевые программы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37"/>
          <p:cNvSpPr txBox="1"/>
          <p:nvPr/>
        </p:nvSpPr>
        <p:spPr>
          <a:xfrm>
            <a:off x="1763640" y="465300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есрочная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скальная политика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38"/>
          <p:cNvSpPr txBox="1"/>
          <p:nvPr/>
        </p:nvSpPr>
        <p:spPr>
          <a:xfrm>
            <a:off x="5435640" y="458136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есрочная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скальная политика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AutoShape 40"/>
          <p:cNvSpPr/>
          <p:nvPr/>
        </p:nvSpPr>
        <p:spPr>
          <a:xfrm rot="18852000">
            <a:off x="250560" y="4941360"/>
            <a:ext cx="1655640" cy="34128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8148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2" name="AutoShape 41"/>
          <p:cNvSpPr/>
          <p:nvPr/>
        </p:nvSpPr>
        <p:spPr>
          <a:xfrm rot="7890000">
            <a:off x="7370280" y="4878000"/>
            <a:ext cx="1656000" cy="34128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911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0:22:41Z</dcterms:created>
  <dc:creator> </dc:creator>
  <dc:description/>
  <cp:keywords/>
  <dc:language>en-US</dc:language>
  <cp:lastModifiedBy>Customer</cp:lastModifiedBy>
  <dcterms:modified xsi:type="dcterms:W3CDTF">2011-06-08T08:38:49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