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2BA-7A89-4C8A-933F-28364647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DA4-3737-4159-B629-0190E649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0BF-68DD-4CD1-8ADF-14F29E0D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5D8-53D4-4AE7-969C-3AE2A55D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B75-E5AE-4B02-BC79-2F13DE1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B57-4A9F-4128-9E32-B7AAF0FA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5138-F45A-42B3-B9EB-FC50194D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ED52-11E4-47D4-962C-1EA2846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5CF0-B72F-42B0-87D3-D8CDFDC8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124C-C684-4A93-99ED-3542B8A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ABA-6DD8-4B85-B807-9A11BD4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3B3-F21D-4081-9B0A-D36E644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05C9-FD90-4350-A35A-1BE2090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2E83-98B2-4DA0-8901-50A0B2E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816-D954-43D8-BB9F-7B6625C0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F3D9-9C0E-43DF-9FD6-1031F5F7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8005-610B-4D74-8EE4-BA566A9A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EDC-AB3B-4531-8B87-95238AFF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0F1-3CC9-4927-A84F-B2CB3BE9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B11-D7A1-49E3-99AB-16D4242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E10-FDA1-4C03-8458-16AC8632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7B5-A17E-441F-B688-3D5A114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CBD-75F8-4D62-9FBF-C67DD86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881-8AFB-4BB9-9BCF-F32E8E8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FE59-EE57-4EFE-8E12-547533D33D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48B-F8E6-417F-BB20-EB0513D9E2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Финансовая система СШ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560" y="1988640"/>
            <a:ext cx="7885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нежная и кредитная системы СШ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юджетная и финансовая системы СШ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логовая система СШ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временное состояние экономики государств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024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. Денежная и кредитная системы США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рвые частные акционерные банки были созданы в 1784 г. В 1791 г. возник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rst Bank of United States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торый открыл филиалы во всех важных портовых городах. В 1913 г. в США функционировало 20 000 банков, из которых 7000 были эмиссионными национальными банк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результате банковского кризиса в период 1907-1913 гг. была создан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деральная резервная система СШ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РС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едеральная резервная система США (ФРС) –уникальная система центральных банков, число которых составляет 12.  Они называются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федеральными резервными банками (ФРБ)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и имеют ряд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8360" y="290520"/>
            <a:ext cx="71280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Уровни ФРС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Text Box 132"/>
          <p:cNvSpPr/>
          <p:nvPr/>
        </p:nvSpPr>
        <p:spPr>
          <a:xfrm>
            <a:off x="1258920" y="1197000"/>
            <a:ext cx="6842160" cy="520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управляющ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3"/>
          <p:cNvSpPr/>
          <p:nvPr/>
        </p:nvSpPr>
        <p:spPr>
          <a:xfrm>
            <a:off x="2916360" y="306864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4"/>
          <p:cNvSpPr/>
          <p:nvPr/>
        </p:nvSpPr>
        <p:spPr>
          <a:xfrm>
            <a:off x="2411280" y="292428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35"/>
          <p:cNvSpPr/>
          <p:nvPr/>
        </p:nvSpPr>
        <p:spPr>
          <a:xfrm>
            <a:off x="4788000" y="342900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36"/>
          <p:cNvSpPr/>
          <p:nvPr/>
        </p:nvSpPr>
        <p:spPr>
          <a:xfrm>
            <a:off x="3492360" y="321300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37"/>
          <p:cNvSpPr/>
          <p:nvPr/>
        </p:nvSpPr>
        <p:spPr>
          <a:xfrm>
            <a:off x="4140360" y="335772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138"/>
          <p:cNvSpPr/>
          <p:nvPr/>
        </p:nvSpPr>
        <p:spPr>
          <a:xfrm>
            <a:off x="1908000" y="270828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1332000" y="256536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41"/>
          <p:cNvSpPr/>
          <p:nvPr/>
        </p:nvSpPr>
        <p:spPr>
          <a:xfrm>
            <a:off x="5219640" y="321300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42"/>
          <p:cNvSpPr/>
          <p:nvPr/>
        </p:nvSpPr>
        <p:spPr>
          <a:xfrm>
            <a:off x="6300720" y="299736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43"/>
          <p:cNvSpPr/>
          <p:nvPr/>
        </p:nvSpPr>
        <p:spPr>
          <a:xfrm>
            <a:off x="5796000" y="314172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44"/>
          <p:cNvSpPr/>
          <p:nvPr/>
        </p:nvSpPr>
        <p:spPr>
          <a:xfrm>
            <a:off x="6804000" y="292428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5"/>
          <p:cNvSpPr/>
          <p:nvPr/>
        </p:nvSpPr>
        <p:spPr>
          <a:xfrm>
            <a:off x="7380360" y="285264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6"/>
          <p:cNvSpPr/>
          <p:nvPr/>
        </p:nvSpPr>
        <p:spPr>
          <a:xfrm>
            <a:off x="2627280" y="4653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ал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6000 бан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47"/>
          <p:cNvSpPr/>
          <p:nvPr/>
        </p:nvSpPr>
        <p:spPr>
          <a:xfrm>
            <a:off x="2484360" y="371628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48"/>
          <p:cNvSpPr/>
          <p:nvPr/>
        </p:nvSpPr>
        <p:spPr>
          <a:xfrm>
            <a:off x="1763640" y="364500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49"/>
          <p:cNvSpPr/>
          <p:nvPr/>
        </p:nvSpPr>
        <p:spPr>
          <a:xfrm>
            <a:off x="1187280" y="357336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0"/>
          <p:cNvSpPr/>
          <p:nvPr/>
        </p:nvSpPr>
        <p:spPr>
          <a:xfrm>
            <a:off x="493236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1"/>
          <p:cNvSpPr/>
          <p:nvPr/>
        </p:nvSpPr>
        <p:spPr>
          <a:xfrm>
            <a:off x="3276720" y="436572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2"/>
          <p:cNvSpPr/>
          <p:nvPr/>
        </p:nvSpPr>
        <p:spPr>
          <a:xfrm>
            <a:off x="2556000" y="4076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3"/>
          <p:cNvSpPr/>
          <p:nvPr/>
        </p:nvSpPr>
        <p:spPr>
          <a:xfrm>
            <a:off x="536400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54"/>
          <p:cNvSpPr/>
          <p:nvPr/>
        </p:nvSpPr>
        <p:spPr>
          <a:xfrm>
            <a:off x="594036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55"/>
          <p:cNvSpPr/>
          <p:nvPr/>
        </p:nvSpPr>
        <p:spPr>
          <a:xfrm>
            <a:off x="6372360" y="414972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56"/>
          <p:cNvSpPr/>
          <p:nvPr/>
        </p:nvSpPr>
        <p:spPr>
          <a:xfrm>
            <a:off x="7236000" y="400536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57"/>
          <p:cNvSpPr/>
          <p:nvPr/>
        </p:nvSpPr>
        <p:spPr>
          <a:xfrm>
            <a:off x="5580000" y="4365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58"/>
          <p:cNvSpPr/>
          <p:nvPr/>
        </p:nvSpPr>
        <p:spPr>
          <a:xfrm>
            <a:off x="6877080" y="4221000"/>
            <a:ext cx="28872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59"/>
          <p:cNvSpPr/>
          <p:nvPr/>
        </p:nvSpPr>
        <p:spPr>
          <a:xfrm>
            <a:off x="5940360" y="393372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0"/>
          <p:cNvSpPr/>
          <p:nvPr/>
        </p:nvSpPr>
        <p:spPr>
          <a:xfrm>
            <a:off x="2771640" y="429264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1"/>
          <p:cNvSpPr/>
          <p:nvPr/>
        </p:nvSpPr>
        <p:spPr>
          <a:xfrm>
            <a:off x="3132000" y="386064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2"/>
          <p:cNvSpPr/>
          <p:nvPr/>
        </p:nvSpPr>
        <p:spPr>
          <a:xfrm>
            <a:off x="2124000" y="386064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3"/>
          <p:cNvSpPr/>
          <p:nvPr/>
        </p:nvSpPr>
        <p:spPr>
          <a:xfrm>
            <a:off x="2124000" y="422100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64"/>
          <p:cNvSpPr/>
          <p:nvPr/>
        </p:nvSpPr>
        <p:spPr>
          <a:xfrm>
            <a:off x="3492360" y="458136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65"/>
          <p:cNvSpPr/>
          <p:nvPr/>
        </p:nvSpPr>
        <p:spPr>
          <a:xfrm>
            <a:off x="3924360" y="4292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66"/>
          <p:cNvSpPr/>
          <p:nvPr/>
        </p:nvSpPr>
        <p:spPr>
          <a:xfrm>
            <a:off x="4284720" y="4292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67"/>
          <p:cNvSpPr/>
          <p:nvPr/>
        </p:nvSpPr>
        <p:spPr>
          <a:xfrm>
            <a:off x="7451640" y="364500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168"/>
          <p:cNvSpPr/>
          <p:nvPr/>
        </p:nvSpPr>
        <p:spPr>
          <a:xfrm>
            <a:off x="6588000" y="371628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71"/>
          <p:cNvSpPr/>
          <p:nvPr/>
        </p:nvSpPr>
        <p:spPr>
          <a:xfrm>
            <a:off x="2700360" y="2421000"/>
            <a:ext cx="4033800" cy="504720"/>
          </a:xfrm>
          <a:prstGeom prst="flowChartPunchedTap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ьные резервные бан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73"/>
          <p:cNvSpPr/>
          <p:nvPr/>
        </p:nvSpPr>
        <p:spPr>
          <a:xfrm>
            <a:off x="324000" y="2349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74"/>
          <p:cNvSpPr/>
          <p:nvPr/>
        </p:nvSpPr>
        <p:spPr>
          <a:xfrm>
            <a:off x="395280" y="537372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деральны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митет по открытому рынк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75"/>
          <p:cNvSpPr/>
          <p:nvPr/>
        </p:nvSpPr>
        <p:spPr>
          <a:xfrm>
            <a:off x="5867280" y="551664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деральный консультационный сове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78"/>
          <p:cNvSpPr/>
          <p:nvPr/>
        </p:nvSpPr>
        <p:spPr>
          <a:xfrm rot="16200000">
            <a:off x="7273080" y="3896280"/>
            <a:ext cx="2698560" cy="468360"/>
          </a:xfrm>
          <a:custGeom>
            <a:avLst/>
            <a:gdLst>
              <a:gd name="textAreaLeft" fmla="*/ 471960 w 2698560"/>
              <a:gd name="textAreaRight" fmla="*/ 1956600 w 269856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80"/>
          <p:cNvSpPr/>
          <p:nvPr/>
        </p:nvSpPr>
        <p:spPr>
          <a:xfrm rot="11221800">
            <a:off x="250920" y="2491920"/>
            <a:ext cx="466560" cy="2808360"/>
          </a:xfrm>
          <a:custGeom>
            <a:avLst/>
            <a:gdLst>
              <a:gd name="textAreaLeft" fmla="*/ 62280 w 466560"/>
              <a:gd name="textAreaRight" fmla="*/ 404280 w 46656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вет управляющи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нахождение – Вашингтон, округ Колумб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ая функция –формирование монетарной поли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 - 7 членов, назначаемых президентом США с одобрения сената сроком на 14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1280" y="357336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т обладает исключительным правом установления уров­ня обязательных резервов депозитных учреждений, а также раз­деляет ответственность с федеральными резервными банками по проведению операций на открытом рынке и определению наи­более приемлемых банковских учетных 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eec94"/>
                </a:solidFill>
                <a:latin typeface="Times New Roman"/>
              </a:rPr>
              <a:t>Размещение федеральных резервных банков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3630600"/>
        </p:xfrm>
        <a:graphic>
          <a:graphicData uri="http://schemas.openxmlformats.org/drawingml/2006/table">
            <a:tbl>
              <a:tblPr/>
              <a:tblGrid>
                <a:gridCol w="1306440"/>
                <a:gridCol w="2386080"/>
                <a:gridCol w="1285920"/>
                <a:gridCol w="3251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с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к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ью-Йор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-Лу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ладель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неапол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ивле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нзас-С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чм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л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ла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н-Францис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едеральный резервный бан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свой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остоящий из девяти директоров, не являющихся служащими бан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е резервные банки получают прибыль в основном из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оценто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оответствующих доле вкладов ФРС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нные бума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, в меньшей степени, из доходов от процентов на имеющуюся у ФРС валюту, а также от процентов по ссудам депозитным учреждениям и от валютного контро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ступления в ФРС каждый банк обязан приобрести в федеральном резервном банке своего округа некое количество акций на сумму, равную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%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собственного акционерного капитала и нераспределенной прибы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гресс уполномочил федеральные резервные банки осуществлять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ыпуск наличных денег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ec94"/>
                </a:solidFill>
                <a:latin typeface="Times New Roman"/>
              </a:rPr>
              <a:t>Федеральный комитет по открытому рынку</a:t>
            </a:r>
            <a:r>
              <a:rPr b="0" lang="ru-RU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eec94"/>
                </a:solidFill>
                <a:latin typeface="Times New Roman"/>
              </a:rPr>
              <a:t>(ФКОР).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ит из 12 по­стоянных членов: 7 членов Совета управляющих ФРС;   5 президентов федеральных резервных банков; президент Нью-йоркского банка является постоянным членом ФКО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иденты резервных банков обязаны присутствовать на ФКОР и проводить заседания восемь - девять раз в год. Ими разрабатывается стратегия операций на открытом рынке ценных бумаг. Комитет разрабатывает и прогнозирует экономические и финансовые решения. Решения комитета реализуются подразделением внешней торговли Нью-йоркского регионального ба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едеральный консультационный совет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ординационный консультативный орган для связи всей банковской сферы с ФР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оит из 12 членов, делегируемых региональными банками ФРС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Четыре ра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год совет собирается на совместное заседание с управляющими ФРС для обмена мнениями по широкому спектру вопросов финансово-кредитных отношен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равляет национальной монетарной политикой путем влияния на денежное и кредитное обращение с целью достижения полной занятости и стабильных ц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олирует банковские учреждения и регулирует их деятельность для обеспечения безопасности и прочности бан­ковской и финансовой сист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ивает стабильность финансовой системы и уменьшает риск на финансовых рынк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оставляет финансовые услуги правительству США, общественности, финансовым учреждениям, играя также важную роль в управлении национальной системой расч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eec94"/>
                </a:solidFill>
                <a:latin typeface="Times New Roman"/>
              </a:rPr>
              <a:t>2. Бюджетная и финансовая системы США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юджетное у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американской федерации регламентируется Конституцией СШ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яет три основны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держание государственной маш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аппарат управления, армия, суды и п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доходов между социальными слоями населения и территориями в целя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лагоприятного социального клима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предотвращения возможных очагов напряжен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бюджета в качестве инструмента дл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тимулирования экономического ро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ддержания условий развития предприниматель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7:46Z</dcterms:created>
  <dc:creator>д</dc:creator>
  <dc:description/>
  <dc:language>en-US</dc:language>
  <cp:lastModifiedBy>Customer</cp:lastModifiedBy>
  <dcterms:modified xsi:type="dcterms:W3CDTF">2011-06-08T08:49:10Z</dcterms:modified>
  <cp:revision>16</cp:revision>
  <dc:subject/>
  <dc:title>Финансовая система США</dc:title>
</cp:coreProperties>
</file>