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6999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47920" y="4588200"/>
            <a:ext cx="6999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4240" y="210132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47920" y="458820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34240" y="458820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2253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2101320"/>
            <a:ext cx="2253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81200" y="2101320"/>
            <a:ext cx="2253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347920" y="4588200"/>
            <a:ext cx="2253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14560" y="4588200"/>
            <a:ext cx="2253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81200" y="4588200"/>
            <a:ext cx="2253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347920" y="2101320"/>
            <a:ext cx="6999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6999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53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34240" y="2101320"/>
            <a:ext cx="34153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34960" y="626760"/>
            <a:ext cx="7011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1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34240" y="2101320"/>
            <a:ext cx="34153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347920" y="458820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53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4240" y="210132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34240" y="458820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4240" y="2101320"/>
            <a:ext cx="34153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47920" y="4588200"/>
            <a:ext cx="6999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0"/>
            <a:ext cx="1011564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47920" y="2101320"/>
            <a:ext cx="6999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137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1295280" indent="-215640"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1727280" indent="-216000"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2158920" indent="-215640"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2158920" indent="-215640"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2158920" indent="-215640"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0960" y="5396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051760"/>
                <a:tab algn="l" pos="9058320"/>
                <a:tab algn="l" pos="1006488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Финансовая система Франции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50960" y="1800000"/>
            <a:ext cx="860904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1. Макроэкономическое положение Франции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2. Денежная и кредитная система Франции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3. Бюджетная и финансовая система Франции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4. Налоговая система Франции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0000" y="24876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8051760"/>
                <a:tab algn="l" pos="9058320"/>
                <a:tab algn="l" pos="1006488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Денежное обращение Франции</a:t>
            </a:r>
            <a:br>
              <a:rPr sz="3600"/>
            </a:b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-181080" y="900000"/>
            <a:ext cx="10080720" cy="66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Структура денежного обращения во Франции разделяется на два основных понятия: денежная масса (la masse mondtaire) и ликвидные средства в экономике (la liquiditе lie l 'economic}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Денежная масса — 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агрегат М1 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— включает в себя наличные деньги (la monnaie fiduciaire) т.е. банкноты и разменную монету, и записанные на счета деньги (la monnaie scripturale), т.е. банковские деньги, которые выпускаются на базе вкладов до востребования в банках, бюро почтовых переводов, казначействе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Агрегат М2 состоит из агрегата М1 и денег, созданных банками и другими кредитно-финансовыми институтами на основе срочных вкладов и специальных счетов (сберегательные вклады, кассовые боны, накопительные счета для жилищного строительства, боны национальной кассы сельскохозяйственного кредита)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Все это называется подобием денег или квазиденьгами (la quasi monetaire)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В свою очередь 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агрегат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M2 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включает агрегат MI и вклады в сберегательных кассах, казначейские боны, которые, как правило, размещаются среди населения.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480" y="360360"/>
            <a:ext cx="1005840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Немного о Фран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Территория - 551 500 кв.к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Население - около 64 млн.че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Государственный язык — француз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Большинство верующих – катол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Столица – Париж / Pa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Крупные города – Париж, Марсель, Лион, Лилль, Тулу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Глава государства – президент (Николя Саркози / Nicolas Sarkozy)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Популярные курорты – Лазурный берег (французская Ривьера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Куршевель, Дьеп, Гранвиль, Аркашон, Ницца, Кан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00" y="-360"/>
            <a:ext cx="8099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051760"/>
                <a:tab algn="l" pos="9058320"/>
                <a:tab algn="l" pos="1006488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Макроэкономическое положение Франции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0720" y="539280"/>
            <a:ext cx="953748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Французская экономика играет одну из ведущих ролей в мировом хозяйстве.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Франция классифицируется как очень богатая страна, ВНП на душу населения в 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1999 году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составил 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22 380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долларов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США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 По размеру ВВП Франция стабильно занимает </a:t>
            </a:r>
            <a:r>
              <a:rPr b="0" lang="en-GB" sz="2600" spc="-1" strike="noStrike" u="sng">
                <a:solidFill>
                  <a:srgbClr val="e6e6ff"/>
                </a:solidFill>
                <a:uFillTx/>
                <a:latin typeface="Times New Roman"/>
              </a:rPr>
              <a:t>четвертое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 место в мире.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Важный позитивный фактор французской экономики последнего десятилетия — низкий уровень инфляции.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Теоретически такой низкий уровень инфляции чреват стагнационными  процессами в экономике, но Франции это пока не угрожает, благодаря начавшемуся инвестиционному подъему. Он связан с предельно высокой загрузкой  производственных мощностей, низким уровнем процентных ставок по долгосрочным кредитам и т.д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Благоприятная экономическая конъюнктура способствовала снижению уровня безработицы, сокращению числа безработных  способствовали и усилия правительства по созданию новых рабочих мест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0" y="539640"/>
            <a:ext cx="9888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Экономическое стечение обстоятельств стало самым благоприятным для страны за последние 10 лет, вырос внутренний спрос, а также экспорт и заказы: французская промышленность работает на 87 % от своей промышленной мощ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0" y="2879640"/>
            <a:ext cx="100141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Продолжающийся низкий уровень инфляции делает французские продукты более конкурентоспособными и способствует росту внутренней покупательной способности. В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000 год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за весь период времени было создано 500 000 рабочих мест. Потребление, достигшее свыше 5 000 миллиардов франков (55 % валового внутреннего продукта), и недостаток бензина (с повышением цен), которые привели к снижению покупательной способности, будут постепенно рассеивать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5580000"/>
            <a:ext cx="989964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Высокий уровень производительности, центральное положение Франции на западе Европы и ее эффективная система связи привлекает зарубежных инвесторов.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Все эти успешные результаты облегчают управление экономикой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360" y="-181080"/>
            <a:ext cx="93600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686800"/>
                <a:tab algn="l" pos="9058320"/>
                <a:tab algn="l" pos="1006488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В XX в. эволюция денежно-кредитных отношений во Франции развивалась в следующей хронологии: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900000"/>
            <a:ext cx="10080720" cy="69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20 марта 1903 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был принят закон, согласно которому стоимость франка приравнивалась к определенному количеству драгоценного металла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5 августа 1914 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был принят закон, отменивший размен банкнот  Банка Франции на золото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1939 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оформлена зона франка, куда вошли французские колонии, во главе которых стала Франция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1957 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Франция является членом  общего рынка, т.е. ЕЭС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август 1969 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Франция вынуждена была девальвировать франк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август 1971-1974 г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был создан двойной валютный рынок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1984 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28 специализированных кредитных институтов, сгруппировались в Объединение специализированных финансовых учреждений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</a:rPr>
              <a:t>4 августа 1993 г.</a:t>
            </a:r>
            <a:r>
              <a:rPr b="0" lang="en-GB" sz="2600" spc="-1" strike="noStrike">
                <a:solidFill>
                  <a:srgbClr val="e6e6ff"/>
                </a:solidFill>
                <a:latin typeface="Times New Roman"/>
              </a:rPr>
              <a:t>- проведена реформа, согласно которой, стабилизировалась национальная единица,   ей  присвоен независимый статус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Times New Roman"/>
              </a:rPr>
              <a:t>В 2004 году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</a:rPr>
              <a:t> Министр финансов стремится к "нулевому дефициту в бюджете", чего не случалось во Франции за последние двадцать лет.</a:t>
            </a:r>
            <a:endParaRPr b="0" lang="en-US" sz="21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82080"/>
            <a:ext cx="989964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686800"/>
                <a:tab algn="l" pos="9407520"/>
                <a:tab algn="l" pos="1006488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Функционирование кредитно - финансовой системы Франции</a:t>
            </a:r>
            <a:r>
              <a:rPr b="0" lang="en-GB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700"/>
            </a:br>
            <a:r>
              <a:rPr b="0" lang="en-GB" sz="2700" spc="-1" strike="noStrike">
                <a:solidFill>
                  <a:srgbClr val="e6e6ff"/>
                </a:solidFill>
                <a:latin typeface="Times New Roman"/>
              </a:rPr>
              <a:t>регулируется  законом от 1984г.  </a:t>
            </a:r>
            <a:r>
              <a:rPr b="0" lang="en-GB" sz="2700" spc="-1" strike="noStrike" u="sng">
                <a:solidFill>
                  <a:srgbClr val="e6e6ff"/>
                </a:solidFill>
                <a:uFillTx/>
                <a:latin typeface="Times New Roman"/>
              </a:rPr>
              <a:t>Она включает 3 уровня: </a:t>
            </a:r>
            <a:endParaRPr b="0" lang="en-US" sz="2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720720" y="1563840"/>
            <a:ext cx="8640720" cy="1188720"/>
          </a:xfrm>
          <a:prstGeom prst="rect">
            <a:avLst/>
          </a:prstGeom>
          <a:noFill/>
          <a:ln w="108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ЦЕНТРАЛЬНЫЙ БАНК (Банк Франции)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20720" y="3726000"/>
            <a:ext cx="8640720" cy="1133280"/>
          </a:xfrm>
          <a:prstGeom prst="rect">
            <a:avLst/>
          </a:prstGeom>
          <a:noFill/>
          <a:ln w="108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КОММЕРЧЕСКИЕ БА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20720" y="5580000"/>
            <a:ext cx="8640720" cy="1812960"/>
          </a:xfrm>
          <a:prstGeom prst="rect">
            <a:avLst/>
          </a:prstGeom>
          <a:noFill/>
          <a:ln w="108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4000" rIns="144000" tIns="9900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СПЕЦИАЛИЗИРОВАННЫЕ КРЕДИТНО-ФИНАНСОВ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-27000"/>
            <a:ext cx="862812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Генеральный совет банка состоит: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. Управляющий;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. Заместители;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3. 12 членов (советников) из которых 7 назначаются министром финансов; 4 директорских поста занимают генеральные директора или президенты государственных кредитных институтов.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4. Учетные комитеты. 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0" y="3995640"/>
            <a:ext cx="953928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ff"/>
                </a:solidFill>
                <a:latin typeface="Times New Roman"/>
              </a:rPr>
              <a:t>Во Франции существуют 28 специализированных кредитных институтов, сгруппированных 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в 1984 г.</a:t>
            </a:r>
            <a:r>
              <a:rPr b="0" lang="en-GB" sz="2200" spc="-1" strike="noStrike">
                <a:solidFill>
                  <a:srgbClr val="e6e6ff"/>
                </a:solidFill>
                <a:latin typeface="Times New Roman"/>
              </a:rPr>
              <a:t> в Объединение  специализированных финансовых учреж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ff"/>
                </a:solidFill>
                <a:latin typeface="Times New Roman"/>
              </a:rPr>
              <a:t>Важнейшую роль в регулировании деятельности кредитных учреждений Франции играют </a:t>
            </a:r>
            <a:r>
              <a:rPr b="0" lang="en-GB" sz="2200" spc="-1" strike="noStrike" u="sng">
                <a:solidFill>
                  <a:srgbClr val="e6e6ff"/>
                </a:solidFill>
                <a:uFillTx/>
                <a:latin typeface="Times New Roman"/>
              </a:rPr>
              <a:t>Министерство экономики и финансов и Банк Франции.</a:t>
            </a:r>
            <a:r>
              <a:rPr b="0" lang="en-GB" sz="2200" spc="-1" strike="noStrike">
                <a:solidFill>
                  <a:srgbClr val="e6e6ff"/>
                </a:solidFill>
                <a:latin typeface="Times New Roman"/>
              </a:rPr>
              <a:t> Министерство осуществляет скорее политическое руководство, Центральный Банк — контроль за деятельностью кредитных учреж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9640" y="360000"/>
            <a:ext cx="7559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8051760"/>
                <a:tab algn="l" pos="9058320"/>
                <a:tab algn="l" pos="1006488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Государственные кредитные учреждения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1800000"/>
            <a:ext cx="9899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К государственным кредитным учреждениям относятся также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Депозитно-сохранная касса, сберегательные кассы, Французский банк внешней торговли</a:t>
            </a: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Государство участвует в капитале ряда банков. Такого рода кредитные учреждения можно считать </a:t>
            </a:r>
            <a:r>
              <a:rPr b="0" lang="en-GB" sz="2400" spc="-1" strike="noStrike" u="sng">
                <a:solidFill>
                  <a:srgbClr val="e6e6ff"/>
                </a:solidFill>
                <a:uFillTx/>
                <a:latin typeface="Times New Roman"/>
              </a:rPr>
              <a:t>«полугосударственными»</a:t>
            </a: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Удельный вес государственного и полугосударственного сектора в сводном балансе кредитных учреждений Франции составляет около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0%</a:t>
            </a: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Государственное регулирование банковского дела осуществляется как через Банк Франции, так и через Национальный кредитный совет, президентом которого является министр финансов, а вице-президентом — управляющий Банком Франции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В совет, состоящий из 46 членов, входят 8 представителей различных министерств, а большинство других членов, представляющих различные отрасли хозяйства, утверждаются министром финансов. 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81080"/>
            <a:ext cx="9720360" cy="73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Национальный кредитный совет</a:t>
            </a: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 наделен правом контроля над кредитом и банками (определение условий кредита, минимальных обязательных банковских резервов и т.д.). Кроме того, существует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банковская контрольная комиссия</a:t>
            </a: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 в составе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 членов, являющихся главным образом представителями правительственных органов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Государство проводит кредитную политику, регулируя учетные ставки, нормы банковских резервов и т.д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Государственный контроль и регулирование распределения кредитных ресурсов играют важную роль в осуществлении во Франции государственного программирования экономики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ff"/>
                </a:solidFill>
                <a:latin typeface="Times New Roman"/>
              </a:rPr>
              <a:t>Здесь банковский кредит срастается с государственным бюджетом и активно содействует мобилизации средств, которые тратятся государством на оплату заказов и своих расходов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6-08T08:45:55Z</dcterms:modified>
  <cp:revision>15</cp:revision>
  <dc:subject/>
  <dc:title>Финансовая система Франции</dc:title>
</cp:coreProperties>
</file>