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FF4-E7EE-4376-8952-0BC98323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B3B-551A-4B59-BC54-06B76F1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A95-02AD-48CA-B8CC-F2B05DCC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99D-FFFC-445E-A2DF-4C6B4F40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8E57-8515-4742-9112-A34DFD06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19B-32ED-44D5-BC7E-6C90A7A1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DEB-0260-429B-AF37-0A653440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664-94A0-4514-B345-95FE4176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DCD-8D67-403D-8BD5-4873DA91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39AE-DC1C-4E7C-AB2B-C1A635E0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A4DB-DF18-4F98-A77A-0662325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847-395E-4F49-B14A-CC8A3CB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B410-BBC6-48BD-B299-0ACF9C1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8E5D-9FA7-41FB-B0E2-47687A09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6F98-DC42-4D60-BF2D-E1201CC8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13A4-09A2-45EA-A1BB-73916583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83E-AA3A-4A25-A5F1-92980521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797-3701-40F4-943B-6EAFCBF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071-C917-4E6F-8542-AD5CF35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8B6-C623-45B2-BE57-083DFEE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627-8FD9-48C0-9515-7148DDFB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446-2A04-4493-B1BC-50A254D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5C6-45E5-43E2-A0E1-AB2D58B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F15-8596-47F6-B891-F15B68B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4195-C41C-4CA4-AB3E-714D5FB89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9F24-BB69-4904-B141-30964A810D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sd"/>
          <p:cNvPicPr/>
          <p:nvPr/>
        </p:nvPicPr>
        <p:blipFill>
          <a:blip r:embed="rId1"/>
          <a:stretch/>
        </p:blipFill>
        <p:spPr>
          <a:xfrm rot="21085800">
            <a:off x="3747600" y="1919160"/>
            <a:ext cx="2880000" cy="192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71592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оссийская Федер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4" descr="ol"/>
          <p:cNvPicPr/>
          <p:nvPr/>
        </p:nvPicPr>
        <p:blipFill>
          <a:blip r:embed="rId2"/>
          <a:stretch/>
        </p:blipFill>
        <p:spPr>
          <a:xfrm rot="21079200">
            <a:off x="250560" y="47628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5"/>
          <p:cNvPicPr/>
          <p:nvPr/>
        </p:nvPicPr>
        <p:blipFill>
          <a:blip r:embed="rId3"/>
          <a:stretch/>
        </p:blipFill>
        <p:spPr>
          <a:xfrm rot="646200">
            <a:off x="5435640" y="404280"/>
            <a:ext cx="336564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"/>
          <p:cNvPicPr/>
          <p:nvPr/>
        </p:nvPicPr>
        <p:blipFill>
          <a:blip r:embed="rId4"/>
          <a:stretch/>
        </p:blipFill>
        <p:spPr>
          <a:xfrm>
            <a:off x="1547640" y="4941720"/>
            <a:ext cx="626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0351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720" y="2421000"/>
            <a:ext cx="468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ие сведения. Макроэкономическая ситу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нежно-кредитная сист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юджетн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говая сист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кризиса и антикризис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78"/>
          <p:cNvPicPr/>
          <p:nvPr/>
        </p:nvPicPr>
        <p:blipFill>
          <a:blip r:embed="rId1"/>
          <a:stretch/>
        </p:blipFill>
        <p:spPr>
          <a:xfrm rot="20807400">
            <a:off x="394920" y="2205000"/>
            <a:ext cx="3475080" cy="252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4SQTCA9CPATXCAO4MX66CAA2D9HDCAZ4K67NCAU3MCMKCA3MVXLVCASKAZ5VCAKRHTVHCA672P9JCAX19RXZCAN1BFDVCAEXCITPCA3Z9BYACAYAZH3TCAOGEV04CA9ELHG6CAH1QO2LCA52HB53"/>
          <p:cNvPicPr/>
          <p:nvPr/>
        </p:nvPicPr>
        <p:blipFill>
          <a:blip r:embed="rId2"/>
          <a:stretch/>
        </p:blipFill>
        <p:spPr>
          <a:xfrm rot="21235200">
            <a:off x="4784400" y="266400"/>
            <a:ext cx="39607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1ICRCAXPDBOJCABQ3UFZCAKWT7WNCAXYFBKICAYY5GIICAN3KDAVCAEZZPUOCAH71XXUCAWVA888CA00XKVECA8WNNCTCA5BRHKBCA2MPHT9CALLZCKCCAN663C1CAS6NA4HCAC2QZURCANW0O17"/>
          <p:cNvPicPr/>
          <p:nvPr/>
        </p:nvPicPr>
        <p:blipFill>
          <a:blip r:embed="rId1"/>
          <a:stretch/>
        </p:blipFill>
        <p:spPr>
          <a:xfrm rot="1372200">
            <a:off x="6347880" y="4148280"/>
            <a:ext cx="2448000" cy="196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1.Общие сведения.  Макроэкономическая ситуация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0ZHZQCAN8DC39CA19O58YCAYFT05KCAWNGPU1CAAK7WC1CAOFG0MSCAYXYQ2VCACFTAITCAC8VDSSCAM2MNNACA295U05CAAV4FR6CAO2H5S5CA39YZJOCAVL3I2ACA0HSQ26CAS37DO0CAL1BNPL"/>
          <p:cNvPicPr/>
          <p:nvPr/>
        </p:nvPicPr>
        <p:blipFill>
          <a:blip r:embed="rId2"/>
          <a:stretch/>
        </p:blipFill>
        <p:spPr>
          <a:xfrm rot="20460000">
            <a:off x="5830920" y="155052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6697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Россия (Российская Федерац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самое крупное по площади государство на земном шаре. Россия занимает 32,5% материка Евразия, располагаясь в его северной ч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 равна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17,1 млн. км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составляет около 1/6 части суши мира (без Антарктиды и Гренланд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лица -  город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-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146 млн. челов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занимает 7-е место в мире, пропустив вперёд США (272 млн. человек),  Индонезию (212 млн. человек), Бразилию (168 млн. человек) и Пакистан (147 млн. челове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населения России (88%) принадлежит к народам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индоевропейской языковой семь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сновном к её славянской группе. Русские составляют 82,5% всего населения России (120 млн. человек), ещё 4% приходится на украинцев  (4,4 млн. человек) и белорусов (1,2 млн. челове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0U2T5CA4F2MV4CATDXZ0YCA32ZJ1VCARCLZOOCAM78WIECA7N2C0XCA2P0HCNCA8EG0VXCA5ZV3NOCAASDULBCABML3LHCA3BKE22CAT2OY75CA1S11MACARK373TCA1VDJ4YCA9HCMOICAA9G6V1"/>
          <p:cNvPicPr/>
          <p:nvPr/>
        </p:nvPicPr>
        <p:blipFill>
          <a:blip r:embed="rId3"/>
          <a:stretch/>
        </p:blipFill>
        <p:spPr>
          <a:xfrm>
            <a:off x="179280" y="168120"/>
            <a:ext cx="14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c_01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472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 Black"/>
              </a:rPr>
              <a:t>Население Ро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WSW3FCA8VJML1CAHNZRJJCA0A4HABCA7US0KJCAGHYPL9CAUK5UANCALW9SNOCA92WL8WCA9FYRZRCAVWMN33CAKHC6FJCAC7L3FDCAF8KE9XCAB31F7RCAC5F570CAFUM7MLCA5XM6EDCA7GV40T"/>
          <p:cNvPicPr/>
          <p:nvPr/>
        </p:nvPicPr>
        <p:blipFill>
          <a:blip r:embed="rId1"/>
          <a:stretch/>
        </p:blipFill>
        <p:spPr>
          <a:xfrm rot="756600">
            <a:off x="5724000" y="2852640"/>
            <a:ext cx="3152880" cy="237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m,"/>
          <p:cNvPicPr/>
          <p:nvPr/>
        </p:nvPicPr>
        <p:blipFill>
          <a:blip r:embed="rId2"/>
          <a:stretch/>
        </p:blipFill>
        <p:spPr>
          <a:xfrm flipH="1" rot="21166800">
            <a:off x="323280" y="3716280"/>
            <a:ext cx="287316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я располагает огромными и разнообразными природными ресурсами. В ее недрах сосредоточено до 57% от бывших общемировых запасов углей, или 70% от бывших общесоюзных запасов, 37% природного газа, 41% железных руд, 54% калийных солей, до 30% фосфоритов, 11% гидроэнергоресурсов и до 9% ресурсов пресных вод. На территории сосредоточено до 92% от бывших общесоюзных запасов торфа и 75% потенциальных запасов гидроэнергоресур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 занимает первое место в мире по размерам земельных ресурсов - около 137 млн. га и по размерам посевных площа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m,"/>
          <p:cNvPicPr/>
          <p:nvPr/>
        </p:nvPicPr>
        <p:blipFill>
          <a:blip r:embed="rId3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,"/>
          <p:cNvPicPr/>
          <p:nvPr/>
        </p:nvPicPr>
        <p:blipFill>
          <a:blip r:embed="rId4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,"/>
          <p:cNvPicPr/>
          <p:nvPr/>
        </p:nvPicPr>
        <p:blipFill>
          <a:blip r:embed="rId5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m,"/>
          <p:cNvPicPr/>
          <p:nvPr/>
        </p:nvPicPr>
        <p:blipFill>
          <a:blip r:embed="rId6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m,"/>
          <p:cNvPicPr/>
          <p:nvPr/>
        </p:nvPicPr>
        <p:blipFill>
          <a:blip r:embed="rId7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m,"/>
          <p:cNvPicPr/>
          <p:nvPr/>
        </p:nvPicPr>
        <p:blipFill>
          <a:blip r:embed="rId8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,"/>
          <p:cNvPicPr/>
          <p:nvPr/>
        </p:nvPicPr>
        <p:blipFill>
          <a:blip r:embed="rId9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5"/>
          <p:cNvSpPr/>
          <p:nvPr/>
        </p:nvSpPr>
        <p:spPr>
          <a:xfrm>
            <a:off x="2752560" y="4508640"/>
            <a:ext cx="63914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опокрытая площадь достигает 700 млн. га (больше, чем в США, Канаде, Швеции и Финляндии вместе взятых). В мировых запасах наиболее ценной хвойной древесины на долю России приходится свыше 50%, или 20% “лесного фонда мира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итуция Российской Федерации 1993 года провозглашает Россию федеративным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государства – Медведев Дмитрий Анатольевич, который был избран в 2008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ВВП по итогам 2007 года составит $1 трлн. 250 млрд. Это одиннадцатое место в мире. А к 2020 году при сохранении темпов роста ВВП на уровне 6–7% в год Россия может войти уже в пятерку ведущих стр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07 году ВВП на душу населения достиг $12 ты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объем ВВП по ППС за 2005 год  1,7 тр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внешний долг  на конец 2007г. состави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33%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П. 4% ВВП составляет внешний государственный долг, остальное - банковский и корпоративный се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i"/>
          <p:cNvPicPr/>
          <p:nvPr/>
        </p:nvPicPr>
        <p:blipFill>
          <a:blip r:embed="rId1"/>
          <a:stretch/>
        </p:blipFill>
        <p:spPr>
          <a:xfrm>
            <a:off x="684360" y="160200"/>
            <a:ext cx="2808000" cy="15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FKM3RCA582IBQCAMWSKK8CA1MIK5LCA7HTVB1CAULIJW6CAQGRH7HCAG2G2MTCAEX0HX9CAN2NV00CA4QGNICCAEPX9A0CAGE4Z7QCAMBPL9ACATL1IFFCAZBDE3UCAPEVBBECACO63WICAP9BB00"/>
          <p:cNvPicPr/>
          <p:nvPr/>
        </p:nvPicPr>
        <p:blipFill>
          <a:blip r:embed="rId1"/>
          <a:stretch/>
        </p:blipFill>
        <p:spPr>
          <a:xfrm rot="2152800">
            <a:off x="5879880" y="2231640"/>
            <a:ext cx="2950920" cy="1822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6408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нежная система РФ функционирует в соответствии с Федеральным законом о Банке России (ЦБ РФ) от 12 апреля 1995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ициальная денежная единица – рубль. Введение на территории страны других денежных единиц запрещено. Соотношение между рублем и золотом или другими драгоценными металлами Законом не установлено. Официальный курс рубля к иностранным денежным единицам определяется ЦБ РФ и публикуется в печа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2.Денежно-кредитная систем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780000" y="4724280"/>
            <a:ext cx="48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лючительным правом эмиссии наличных дене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и их обращ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ъятие на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Ф обладает ЦБ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iu"/>
          <p:cNvPicPr/>
          <p:nvPr/>
        </p:nvPicPr>
        <p:blipFill>
          <a:blip r:embed="rId2"/>
          <a:stretch/>
        </p:blipFill>
        <p:spPr>
          <a:xfrm>
            <a:off x="587520" y="5041800"/>
            <a:ext cx="307152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771640" y="2637000"/>
            <a:ext cx="3672000" cy="1150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ЦБ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68360" y="5229360"/>
            <a:ext cx="3024000" cy="1296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прав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я, перевозк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кассации налич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г д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651640" y="5229360"/>
            <a:ext cx="3024000" cy="1296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призн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еспособ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жных знак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 зам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режденных ден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68360" y="260280"/>
            <a:ext cx="3024000" cy="12970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нозирование выпус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я и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нот и мо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5651640" y="260280"/>
            <a:ext cx="3024000" cy="12970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я кассов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и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ых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2627280" y="4005360"/>
            <a:ext cx="93672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5364000" y="4005360"/>
            <a:ext cx="1008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H="1" flipV="1">
            <a:off x="2987280" y="1700280"/>
            <a:ext cx="86364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V="1">
            <a:off x="5435640" y="1700280"/>
            <a:ext cx="57456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4"/>
          <p:cNvSpPr/>
          <p:nvPr/>
        </p:nvSpPr>
        <p:spPr>
          <a:xfrm>
            <a:off x="2411280" y="1773360"/>
            <a:ext cx="4032360" cy="26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ИНСТРУ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ЦБ Р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468360" y="47628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тавки учетного проц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(дисконтная поли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796000" y="54936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рмы обяз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езервов креди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режд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68360" y="4508640"/>
            <a:ext cx="2881440" cy="129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Операции на отр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ы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651640" y="4508640"/>
            <a:ext cx="3025800" cy="129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егламент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экономических норм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ля креди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режд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 flipH="1">
            <a:off x="2771280" y="4221000"/>
            <a:ext cx="287640" cy="28764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 flipH="1" flipV="1">
            <a:off x="2987280" y="1628640"/>
            <a:ext cx="289080" cy="21456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5867280" y="1700280"/>
            <a:ext cx="216000" cy="28872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940360" y="4221000"/>
            <a:ext cx="216000" cy="28764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68360" y="47628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тавки учетного проц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(дисконтная поли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5796000" y="54936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рмы обяз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езервов креди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режд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0:59:33Z</dcterms:created>
  <dc:creator>student</dc:creator>
  <dc:description/>
  <dc:language>en-US</dc:language>
  <cp:lastModifiedBy>Customer</cp:lastModifiedBy>
  <dcterms:modified xsi:type="dcterms:W3CDTF">2011-06-08T08:46:36Z</dcterms:modified>
  <cp:revision>10</cp:revision>
  <dc:subject/>
  <dc:title>                            1.Общие сведения.             Макроэкономическая ситуация.</dc:title>
</cp:coreProperties>
</file>