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9112-91A0-444F-8635-AC5C863C4D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банки-депозитная деятельно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ые креди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ир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средствами вкладч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е банки –возникли на торговых предприятия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постепенно освоили банковские операции. Долгое время основой их деятельности являлись акцептные операции, что позволяет относить торговые банки к числу акцептных домов. Некоторые современные торговые бан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яду с банковскими операциями выполняют промышленные и торговые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E4AF-32EA-4284-9C9E-9C04E2A8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7DC0-7266-452B-83BB-FD2C04D7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9B5-3A8C-4935-9393-170DAA76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F42-435A-4F0B-BC3B-FF3ADE27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27E8-EC68-41BB-AF8C-1808B5CA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5EC1-5F8F-48CF-A2A3-8C730453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69A5-4350-4B2C-96F6-0CCB90A1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55D5-5B93-42E7-AB8D-4F67F999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1E13-32D8-460A-896A-7835110C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1F36-B53F-47EA-9802-8C2A98E0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4437-92B0-460A-956B-68E32F51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401-89DA-44CF-BF7A-1D2AE3FB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F6E6-9E7E-4CAE-A0BF-66850207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8529-2E24-4FC0-A4C8-BD400CC7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95EF-7336-498C-8787-C8448955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525B-F955-48D1-8434-0AA42D25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0F09-6B50-483F-B655-66561E11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D78-4946-4244-8CD7-01A8F9F2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ACF-26D3-4D34-9278-3096F719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091-188A-4A79-A226-961F8A1B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2D6-B546-4941-9E52-5BF95E2F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21E-0961-4CD5-8A1F-E64A5D8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053-EF4B-43A5-9DF0-6E7025FC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344-0864-4615-9F57-81C0B4B7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5D8E-6219-40B6-A19A-137A2720C22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41FB-F581-4785-8F19-6ED923B707E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Union_flag_1606_(Kings_Colors).sv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368360" cy="649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2987640" y="1341360"/>
            <a:ext cx="1440000" cy="11397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5292720" y="836640"/>
            <a:ext cx="2987640" cy="27097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971640" y="3552840"/>
            <a:ext cx="3529080" cy="25956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403280" y="6308640"/>
            <a:ext cx="273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олева Елизаве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651640" y="3789360"/>
            <a:ext cx="3168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арламент Великобрита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8360" y="26028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ъединенное Королевство Великобритании и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еверной Ирланд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жную роль в развитии кредитной системы Великобритании играют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ностран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анки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сло которых стремительно увеличилось во второй половин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. и к концу столетия составило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олее 5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Их совокупные активы превышают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ов всех банков Соединенного Королевства. На долю иностранных банков приходится почти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80 % всех депозит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иностранной валют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Великобритании наибольшее количество банков из США, Японии, Франции и Германии. Их основными функциями являются финансирование внешней торговли, кредитование инвестиций, консультации и друг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ебанковские кредитно-финансовые институты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берегательные институ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раховые компа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вестиционные трес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оверительные паевые фон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инансовые корпо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ирмы венчурного финанс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3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Бюджетная и финансовая системы Великобритан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826920" y="1844640"/>
            <a:ext cx="6985080" cy="5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Финансовая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24000" y="2492280"/>
            <a:ext cx="331164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судар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юдж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24000" y="3573360"/>
            <a:ext cx="3311640" cy="86544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юдж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24000" y="4581360"/>
            <a:ext cx="331164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еци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небюджетные фон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24000" y="5734080"/>
            <a:ext cx="331164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инан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сударстве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прия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42920" y="2349360"/>
            <a:ext cx="0" cy="4248360"/>
          </a:xfrm>
          <a:prstGeom prst="line">
            <a:avLst/>
          </a:prstGeom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2920" y="2997360"/>
            <a:ext cx="1081080" cy="0"/>
          </a:xfrm>
          <a:prstGeom prst="line">
            <a:avLst/>
          </a:prstGeom>
          <a:ln w="93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42920" y="4005360"/>
            <a:ext cx="1081080" cy="0"/>
          </a:xfrm>
          <a:prstGeom prst="line">
            <a:avLst/>
          </a:prstGeom>
          <a:ln w="93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042920" y="5013360"/>
            <a:ext cx="1081080" cy="0"/>
          </a:xfrm>
          <a:prstGeom prst="line">
            <a:avLst/>
          </a:prstGeom>
          <a:ln w="93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042920" y="6165720"/>
            <a:ext cx="1081080" cy="0"/>
          </a:xfrm>
          <a:prstGeom prst="line">
            <a:avLst/>
          </a:prstGeom>
          <a:ln w="93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332000" y="549360"/>
            <a:ext cx="6408720" cy="1150920"/>
          </a:xfrm>
          <a:prstGeom prst="rect">
            <a:avLst/>
          </a:prstGeom>
          <a:solidFill>
            <a:srgbClr val="333399"/>
          </a:solidFill>
          <a:ln w="2232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осударственный бюдж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1916280"/>
            <a:ext cx="3889440" cy="2160360"/>
          </a:xfrm>
          <a:prstGeom prst="ellipse">
            <a:avLst/>
          </a:prstGeom>
          <a:solidFill>
            <a:srgbClr val="333399"/>
          </a:solidFill>
          <a:ln w="2232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нсолидированный фон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еку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ступления средств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х расход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24360" y="2060640"/>
            <a:ext cx="2808360" cy="2017800"/>
          </a:xfrm>
          <a:prstGeom prst="ellipse">
            <a:avLst/>
          </a:prstGeom>
          <a:solidFill>
            <a:srgbClr val="333399"/>
          </a:solidFill>
          <a:ln w="2232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ациональный фон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займ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доходы и расходы государств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вязанные с движ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капитал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105800">
            <a:off x="178920" y="549360"/>
            <a:ext cx="785880" cy="2168280"/>
          </a:xfrm>
          <a:custGeom>
            <a:avLst/>
            <a:gdLst>
              <a:gd name="textAreaLeft" fmla="*/ 105120 w 785880"/>
              <a:gd name="textAreaRight" fmla="*/ 680760 w 785880"/>
              <a:gd name="textAreaTop" fmla="*/ 379440 h 2168280"/>
              <a:gd name="textAreaBottom" fmla="*/ 1572120 h 216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051830"/>
                <a:lnTo>
                  <a:pt x="5565" y="19105"/>
                </a:lnTo>
                <a:lnTo>
                  <a:pt x="21600" y="17280"/>
                </a:lnTo>
                <a:lnTo>
                  <a:pt x="5565" y="10465"/>
                </a:lnTo>
                <a:lnTo>
                  <a:pt x="5565" y="12625"/>
                </a:lnTo>
                <a:arcTo wR="21600" hR="7560" stAng="9748170" swAng="69439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378600">
            <a:off x="7885080" y="620280"/>
            <a:ext cx="1008000" cy="180180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03480 h 1801800"/>
              <a:gd name="textAreaBottom" fmla="*/ 1324800 h 18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83" stAng="-5400000" swAng="5400000"/>
                <a:lnTo>
                  <a:pt x="21600" y="12241"/>
                </a:lnTo>
                <a:arcTo wR="21600" hR="7283" stAng="0" swAng="1195404"/>
                <a:lnTo>
                  <a:pt x="14712" y="19649"/>
                </a:lnTo>
                <a:lnTo>
                  <a:pt x="0" y="17045"/>
                </a:lnTo>
                <a:lnTo>
                  <a:pt x="14712" y="10539"/>
                </a:lnTo>
                <a:lnTo>
                  <a:pt x="14712" y="12615"/>
                </a:lnTo>
                <a:arcTo wR="21600" hR="7283" stAng="1195404" swAng="-777869"/>
                <a:lnTo>
                  <a:pt x="20310" y="9762"/>
                </a:lnTo>
                <a:arcTo wR="21600" hR="7283" stAng="-417535" swAng="-4982465"/>
                <a:close/>
              </a:path>
              <a:path fill="darkenLess" w="21600" h="21600">
                <a:moveTo>
                  <a:pt x="0" y="0"/>
                </a:moveTo>
                <a:arcTo wR="21600" hR="7283" stAng="-5400000" swAng="5400000"/>
                <a:lnTo>
                  <a:pt x="21600" y="12241"/>
                </a:lnTo>
                <a:arcTo wR="21600" hR="7283" stAng="0" swAng="-417535"/>
                <a:lnTo>
                  <a:pt x="20310" y="9762"/>
                </a:lnTo>
                <a:arcTo wR="21600" hR="7283" stAng="-417535" swAng="-4982465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00000" y="4653000"/>
            <a:ext cx="3672000" cy="133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говые поступления -9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налоговые  - доходы от продажи гос.собственности, административные взыскания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92720" y="4653000"/>
            <a:ext cx="36720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 счет процентов поступающих от корпораций и местных органов власти как плата за кредит, часть прибыли Банка Англии, средства некоторых спец.фондов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7451640" y="414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916360" y="414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7437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Структура расходов местных органов влас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94920" y="4076640"/>
            <a:ext cx="4103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настоящее время из местных бюджетов финансируется всего 36 % всех государственных расхо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684360" y="5805360"/>
            <a:ext cx="4562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Бюджетный год в Великобритании начинается 1 апреля и заканчивается 31 мар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276720" y="549360"/>
          <a:ext cx="560844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560844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пециальные фонд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е количество спец.фондов –более 8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ущее место занимает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нд национального страхов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Создается за счет взносов населения, гос.предприятий и дотаций правительства. Аккумулированные средства идут на выплату пенсий, пособий по безработице и боле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финансовую систему также входят и другие фонды, такие как пенсионные фонды, уравнительный валютный фонд, фонды гарантий экспортных кредитов. Они создаются за счет средств и дотаций предприятий и осуществляют расходы в соответствии со своим функциональным назнач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416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4 Налоговая система Великобритании</a:t>
            </a:r>
            <a:br>
              <a:rPr sz="28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 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временная налоговая система Великобритании продолжает реформироваться. Существенным изменениям она подверглась в 1965, 1973, 1990-х  гг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2411280" y="1989000"/>
            <a:ext cx="410544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логовая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9640" y="3716280"/>
            <a:ext cx="3456000" cy="194472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щегосударств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076720" y="3716280"/>
            <a:ext cx="3456000" cy="194472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стные нало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56000" y="2997360"/>
            <a:ext cx="360360" cy="576000"/>
          </a:xfrm>
          <a:prstGeom prst="downArrow">
            <a:avLst>
              <a:gd name="adj1" fmla="val 50000"/>
              <a:gd name="adj2" fmla="val 3996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51640" y="2997360"/>
            <a:ext cx="360360" cy="576000"/>
          </a:xfrm>
          <a:prstGeom prst="downArrow">
            <a:avLst>
              <a:gd name="adj1" fmla="val 50000"/>
              <a:gd name="adj2" fmla="val 3996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9640" y="57340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олее 90 % всех налогов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12720" y="58118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коло 10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налогов общегосударственного значения наибольшее распространение получили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рямые налог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49 % всех общегосударственных налоговых поступлений):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одоходный налог, налог на капитал, налог на наследство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расчета подоходного налога доход делится на 6 часте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от имущества: земли, строений и сооружений сдаваемых внаем жилых домов или кварти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от лесных массивов, используемых в коммерческих цел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от государственных ценных бума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от производственной коммерческой 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работная плата, пенсии, пособия и прочие трудовые дох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виденды и другие выплаты, осуществляемые компаниями Великобрита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оходный налог взимается за год начиная с 6 апре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нимальная ставка подоходного налога - 20 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лог на капита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зимается при реализации некоторых видов капитальных активов, которая приносит прибы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целях улучш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вестиционного климата в марте 2000 г. с 40 до 10 % снижен налог на прирост капитала по активам, приобретенным не менее 4-х лет назад, уменьшены ставки по активам с более коротким сроком владения. Введена система "0%-ного амортизационного списания в первый год использования информационного оборуд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лог на наследство и др. налог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лагается имущество, полученное по завещанию, а также завещанные дары, переданные в течение 7-ми лет после смерти. Другие перемещения имущества налогом не облагаются. Не подлежат налогу на наследство переход собственности от супруга к супругу и дары и пожертвования британским благотворительным фондам и основным политическим партиям. Ставка налога на наследство — 40 %. Но только около 3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%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х случаев наследования облагаются этим налог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 прямым налогам можно отнести взносы на нужды социального страхования, расходуемые на выплату пенсий и пособий.Эти взносы уплачиваю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♦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ца наемного труда и работодатели по дифференцированным ставк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♦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амозанятые», т.е. лица, не состоящие в отношениях найма, уплачивают взносы по твердой ставке — 5,35 ф. ст. в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дел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♦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аботающие граждане или граждане, которые не могут быть причислены к первым двум классам, — 5,25 ф. ст. в недел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♦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амозанятые», если их доход превышает некоторую сумму, по ставке 6,3 %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Финансовая система Великобрит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Особенности экономического развития Великобритании на современном этап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Денежная и кредитная система Великобрита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Бюджетная и финансовая система Великобрита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225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Налоговая система Великобрита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640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Косвенные налог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системе налогообложения Великобритании составляют меньшую долю, чем прямые . Главное место среди косвенных налогов занимает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лог на добавленную стоимость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 доле 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оходах он стоит на втором месте после подоходного налога и формирует примерно 17 % бюджета страны. Налог на добавленную стоимость был введен 1 апреля 1973 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азой обложения НДС является стоимость, добавленная на каждой стадии производства и реализации товаров и услуг. Стандартная ставка НДС -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17,5 %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Пониженная ставка, 5 %, применяется для домашнего топлива и энергии, а также энергосберегающих материал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торое место в группе косвенных налогов Великобритании занимают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акцизы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ефтепродукты, используемые как топливо, облагаются более высокими акцизами, чем идущие на другие цел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екоторые переходы собственности из рук в руки облагаются еще одним косвенным налогом -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ербовым сбором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то самые старые налоги в Великобритании. Впервые они были введены в 1694 г. как налоги на документы, а не на сделки. По закону 1891 г., который действует с некоторыми изменениями и поныне, налог взимается при оформлении гражданско-правовых сделок. Передача акций облагается гербовым сбором в размере 0;5 % стоимости передаваемой собствен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 косвенным также относятся налог с игорного бизнеса, сборы с бегов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конные скачки, собачьи бег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692360" y="3716280"/>
            <a:ext cx="6048360" cy="72072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ы местного самоуправления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ва основных источников дох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42920" y="4941720"/>
            <a:ext cx="302436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убсидии прави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76720" y="4941720"/>
            <a:ext cx="3025800" cy="5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стные нало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10800000">
            <a:off x="2339640" y="4508280"/>
            <a:ext cx="360360" cy="360360"/>
          </a:xfrm>
          <a:prstGeom prst="downArrow">
            <a:avLst>
              <a:gd name="adj1" fmla="val 55074"/>
              <a:gd name="adj2" fmla="val 40532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10800000">
            <a:off x="6443280" y="45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сновным местным налогом является налог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 имущество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н взимается с собственников или арендаторов недвижимого имущества. Плательщиками налога являются лица, снимающие жилье и вносящие квартирную плату. Оценка стоимости недвижимого имущества проводится раз в 10 лет. Она представляет собой предполагаемую сумму годового дохода от сдачи имущества в аренду. Ставки налогообложения устанавливаются муниципалитетами в зависимости от степени потребности в финансовых ресурсах, поэтому заметно колеблются по графствам и городам Великобрита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56000" y="188640"/>
            <a:ext cx="29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логовые орган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азначейств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750600" y="2565360"/>
            <a:ext cx="44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Управление внутренних доходо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292720" y="25653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Управление пошлин и акциз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96000" y="177336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348000" y="1773360"/>
            <a:ext cx="5032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900000" y="33577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тора главного налогового инспектора в Лондоне +700 контор по всей стр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72360" y="3284640"/>
            <a:ext cx="20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еспечение процесса функционирования всех косвенных налогов стр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3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3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собенности экономического развития Великобритании на современном этап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7640" y="1025280"/>
            <a:ext cx="8783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749"/>
              </a:spcAft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ликобритания (Объединенное Королевство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островное государство, большая часть территории которого расположена на двух крупных островах, разделенных водами Ирландского мор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749"/>
              </a:spcAft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фициально страна называется Объединенное Королевство Великобритании и Северной Ирландии. В его состав  входят четыре страны: Англия, Шотландия и  Уэльс, расположенные на острове Британия, и Северная Ирландия. Последняя расположена на одном острове с Независимой Республикой Ирландия. Таким образом, общую сухопутную границу Великобритания имеет только с Ирландие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749"/>
              </a:spcAft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толиц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Королевства –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.Лонд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749"/>
              </a:spcAft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щая площад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оставляет 244 820 кв.км., из которой суши – 241 590 кв.к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воды – 3 290 кв.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749"/>
              </a:spcAft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июль 2008 г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селен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Британии оценивается в 60 776 238 чел., из них англичан – 80%, шотландцев – 15%. Экономически активного населения 67%;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редний возрас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жителя Великобритании – 39 лет и 4 меся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Times New Roman"/>
              </a:rPr>
              <a:t>Форма правления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– парламентская 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Times New Roman"/>
              </a:rPr>
              <a:t>монархия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. Глава правительства – премьер-министр (Энтони Блэр, лейборист), глава государства – монарх (Великобританией правит королева Елизавета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с 6 февраля 1952г.)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арламент состоит из палаты лордов и палаты общин. Исполнительная власть распределена между кабинетом министров (20 человек) и правительством (100 человек)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Times New Roman"/>
              </a:rPr>
              <a:t>Общий ВВП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– 859,1 млрд. ф.ст., </a:t>
            </a:r>
            <a:r>
              <a:rPr b="0" lang="ru-RU" sz="2300" spc="-1" strike="noStrike" u="sng">
                <a:solidFill>
                  <a:srgbClr val="ffffff"/>
                </a:solidFill>
                <a:uFillTx/>
                <a:latin typeface="Times New Roman"/>
              </a:rPr>
              <a:t>ВВП на душу населения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равен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30 721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$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ВНП – 16 070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$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о уровню социально-экономического развития Великобритания относиться к наиболее благополучным странам мира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В рейтинге стран по индексу развития человеческого потенциала Королевство стоит на 18-м мест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роцент </a:t>
            </a:r>
            <a:r>
              <a:rPr b="0" lang="ru-RU" sz="2300" spc="-1" strike="noStrike" u="sng">
                <a:solidFill>
                  <a:srgbClr val="ffffff"/>
                </a:solidFill>
                <a:uFillTx/>
                <a:latin typeface="Times New Roman"/>
              </a:rPr>
              <a:t>экономически активного населения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(люди в возрасте от 15 до 64 лет) на 2008 г. – 67% или 30,07 млн.человек. Из них в сфере промышленности занято 23,7%, сфере услуг – 75,8% и в сельском хозяйстве до 0,5%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Times New Roman"/>
              </a:rPr>
              <a:t>Безработиц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составляет –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5,4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Times New Roman"/>
              </a:rPr>
              <a:t>Внешний долг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$10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450 000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млн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5760" y="188640"/>
            <a:ext cx="8292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2 Денежная и кредитная системы Великобритан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нежная единица Великобритании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фунт стерлинг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явилась на Британских островах и из одного фунта серебра чеканили 240 пенсов, вследствие чего и появилось название «фунт стерлингов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ществовавшая на протяжении четырех веков биметаллическая денежная система, была прекращена законом о золотом стандарте от 1816 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25 по 1931 г. просуществовал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золотослитковый стандарт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оторый сменила существующая ныне система неразменных кредитных денег. В 1925—1928 гг. была проведена денежная реформа, во время которой из обращения изымались казначейские биле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931 г. Великобритания возглавила стерлинговый блок, преобразованный в начале Второй мировой войны в стерлинговую зону, на которую приходилось около 1/6 мирового товарного оборот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 концу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века Англия оказалась на грани финансового краха. 50 лет почти непрерывных войн с Францией истощили экономику страны. Тогда правительственные чиновники решили создать банк Англии, который основан актом парламента 27 июля 1694 г. Капитал Банка представлял собой первый Государственный долг Великобритани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Банк функционировал как акционерная компания, включавшая 1268 акционеров. Банкноты Банка Англии могли свободно обмениваться на обращавшиеся металлические монеты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1987 г. Банк Англии получил дополнительные права и обязанности по надзору за банковской деятельностью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566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Банк Англии осуществляет свою деятельность исходя из трех приоритетных целе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ддержка стоимости национальной валют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беспечение стабильности финансовой систем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беспечение и повышение эффективности и конкурентоспособности финансовой системы внутри страны и на международной аре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анк Англии выполняет следующие функции: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лужит банком для коммерческих и других центральных банков, а также для правитель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ализует монетарную политик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вляется эмитентом банкнот и друг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рвая функция Банка Англии обслуживает три крупные группы клиент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ммерческие бан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центральные банки других стра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авительств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лавной целью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нетарной политики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ликобрита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вляется достижение ценовой стаби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Банковская система Великобритан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9080" y="1197000"/>
            <a:ext cx="8584200" cy="4839480"/>
            <a:chOff x="289080" y="1197000"/>
            <a:chExt cx="8584200" cy="4839480"/>
          </a:xfrm>
        </p:grpSpPr>
        <p:cxnSp>
          <p:nvCxnSpPr>
            <p:cNvPr id="410" name="_s176182"/>
            <p:cNvCxnSpPr/>
            <p:nvPr/>
          </p:nvCxnSpPr>
          <p:spPr>
            <a:xfrm flipV="1" rot="16200000">
              <a:off x="5412240" y="2936880"/>
              <a:ext cx="838080" cy="1224360"/>
            </a:xfrm>
            <a:prstGeom prst="bentConnector3">
              <a:avLst>
                <a:gd name="adj1" fmla="val 14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1" name="_s176180"/>
            <p:cNvCxnSpPr>
              <a:stCxn id="412" idx="3"/>
            </p:cNvCxnSpPr>
            <p:nvPr/>
          </p:nvCxnSpPr>
          <p:spPr>
            <a:xfrm flipH="1" flipV="1">
              <a:off x="6947280" y="3756600"/>
              <a:ext cx="1812240" cy="673200"/>
            </a:xfrm>
            <a:prstGeom prst="bentConnector3">
              <a:avLst>
                <a:gd name="adj1" fmla="val -62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3" name="_s176176"/>
            <p:cNvCxnSpPr>
              <a:stCxn id="414" idx="0"/>
              <a:endCxn id="415" idx="2"/>
            </p:cNvCxnSpPr>
            <p:nvPr/>
          </p:nvCxnSpPr>
          <p:spPr>
            <a:xfrm flipH="1" flipV="1" rot="5400000">
              <a:off x="4332960" y="3214440"/>
              <a:ext cx="702720" cy="1018080"/>
            </a:xfrm>
            <a:prstGeom prst="bentConnector3">
              <a:avLst>
                <a:gd name="adj1" fmla="val 1629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6" name="_s176174"/>
            <p:cNvCxnSpPr>
              <a:stCxn id="417" idx="3"/>
              <a:endCxn id="418" idx="2"/>
            </p:cNvCxnSpPr>
            <p:nvPr/>
          </p:nvCxnSpPr>
          <p:spPr>
            <a:xfrm flipV="1">
              <a:off x="2250720" y="3371760"/>
              <a:ext cx="388800" cy="904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9" name="_s176172"/>
            <p:cNvCxnSpPr/>
            <p:nvPr/>
          </p:nvCxnSpPr>
          <p:spPr>
            <a:xfrm flipV="1">
              <a:off x="6801480" y="3356640"/>
              <a:ext cx="127800" cy="2230920"/>
            </a:xfrm>
            <a:prstGeom prst="bentConnector4">
              <a:avLst>
                <a:gd name="adj1" fmla="val 113841"/>
                <a:gd name="adj2" fmla="val 598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20" name="_s176170"/>
            <p:cNvCxnSpPr>
              <a:stCxn id="421" idx="0"/>
            </p:cNvCxnSpPr>
            <p:nvPr/>
          </p:nvCxnSpPr>
          <p:spPr>
            <a:xfrm flipH="1" flipV="1" rot="5400000">
              <a:off x="1748520" y="4277880"/>
              <a:ext cx="1730160" cy="27720"/>
            </a:xfrm>
            <a:prstGeom prst="bentConnector3">
              <a:avLst>
                <a:gd name="adj1" fmla="val 65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22" name="_s176168"/>
            <p:cNvCxnSpPr>
              <a:stCxn id="423" idx="0"/>
              <a:endCxn id="415" idx="2"/>
            </p:cNvCxnSpPr>
            <p:nvPr/>
          </p:nvCxnSpPr>
          <p:spPr>
            <a:xfrm flipH="1" flipV="1" rot="5400000">
              <a:off x="4299120" y="4262760"/>
              <a:ext cx="1784880" cy="3240"/>
            </a:xfrm>
            <a:prstGeom prst="bentConnector3">
              <a:avLst>
                <a:gd name="adj1" fmla="val 63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24" name="_s176166"/>
            <p:cNvCxnSpPr>
              <a:stCxn id="425" idx="0"/>
              <a:endCxn id="426" idx="2"/>
            </p:cNvCxnSpPr>
            <p:nvPr/>
          </p:nvCxnSpPr>
          <p:spPr>
            <a:xfrm flipV="1" rot="16200000">
              <a:off x="6078240" y="1188720"/>
              <a:ext cx="416160" cy="2191320"/>
            </a:xfrm>
            <a:prstGeom prst="bentConnector3">
              <a:avLst>
                <a:gd name="adj1" fmla="val 274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27" name="_s176165"/>
            <p:cNvCxnSpPr>
              <a:stCxn id="415" idx="0"/>
              <a:endCxn id="426" idx="2"/>
            </p:cNvCxnSpPr>
            <p:nvPr/>
          </p:nvCxnSpPr>
          <p:spPr>
            <a:xfrm flipV="1" rot="16200000">
              <a:off x="4983480" y="2282760"/>
              <a:ext cx="416160" cy="3240"/>
            </a:xfrm>
            <a:prstGeom prst="bentConnector3">
              <a:avLst>
                <a:gd name="adj1" fmla="val 274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28" name="_s176164"/>
            <p:cNvCxnSpPr>
              <a:stCxn id="418" idx="0"/>
              <a:endCxn id="426" idx="2"/>
            </p:cNvCxnSpPr>
            <p:nvPr/>
          </p:nvCxnSpPr>
          <p:spPr>
            <a:xfrm flipH="1" flipV="1" rot="5400000">
              <a:off x="3706560" y="1008360"/>
              <a:ext cx="416160" cy="2552400"/>
            </a:xfrm>
            <a:prstGeom prst="bentConnector3">
              <a:avLst>
                <a:gd name="adj1" fmla="val 274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26" name="_s176160"/>
            <p:cNvSpPr/>
            <p:nvPr/>
          </p:nvSpPr>
          <p:spPr>
            <a:xfrm>
              <a:off x="4209480" y="1197000"/>
              <a:ext cx="19616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Банк Англи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_s176161"/>
            <p:cNvSpPr/>
            <p:nvPr/>
          </p:nvSpPr>
          <p:spPr>
            <a:xfrm>
              <a:off x="1764360" y="2492640"/>
              <a:ext cx="175032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Розничные бан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_s176162"/>
            <p:cNvSpPr/>
            <p:nvPr/>
          </p:nvSpPr>
          <p:spPr>
            <a:xfrm>
              <a:off x="4284720" y="2492640"/>
              <a:ext cx="18158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Оптовые бан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_s176163"/>
            <p:cNvSpPr/>
            <p:nvPr/>
          </p:nvSpPr>
          <p:spPr>
            <a:xfrm>
              <a:off x="6586920" y="2492640"/>
              <a:ext cx="15872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Заграничные бан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_s176167"/>
            <p:cNvSpPr/>
            <p:nvPr/>
          </p:nvSpPr>
          <p:spPr>
            <a:xfrm>
              <a:off x="4209480" y="5156640"/>
              <a:ext cx="19616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Эмиссионны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дом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_s176169"/>
            <p:cNvSpPr/>
            <p:nvPr/>
          </p:nvSpPr>
          <p:spPr>
            <a:xfrm>
              <a:off x="1619280" y="5156640"/>
              <a:ext cx="19616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Депозитные бан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_s176171"/>
            <p:cNvSpPr/>
            <p:nvPr/>
          </p:nvSpPr>
          <p:spPr>
            <a:xfrm>
              <a:off x="6823080" y="5156640"/>
              <a:ext cx="19616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Британские бан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за границе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_s176173"/>
            <p:cNvSpPr/>
            <p:nvPr/>
          </p:nvSpPr>
          <p:spPr>
            <a:xfrm>
              <a:off x="289080" y="3836880"/>
              <a:ext cx="19616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Сберегатель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бан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_s176175"/>
            <p:cNvSpPr/>
            <p:nvPr/>
          </p:nvSpPr>
          <p:spPr>
            <a:xfrm>
              <a:off x="3419640" y="4075200"/>
              <a:ext cx="15116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Торгов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бан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_s176179"/>
            <p:cNvSpPr/>
            <p:nvPr/>
          </p:nvSpPr>
          <p:spPr>
            <a:xfrm>
              <a:off x="7163280" y="3989880"/>
              <a:ext cx="1595880" cy="879840"/>
            </a:xfrm>
            <a:prstGeom prst="roundRect">
              <a:avLst>
                <a:gd name="adj" fmla="val 50000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Загранич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бан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Великобритан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_s176181"/>
            <p:cNvSpPr/>
            <p:nvPr/>
          </p:nvSpPr>
          <p:spPr>
            <a:xfrm>
              <a:off x="5362920" y="3989880"/>
              <a:ext cx="12236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Акцептны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дом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33:35Z</dcterms:created>
  <dc:creator>COMP</dc:creator>
  <dc:description/>
  <dc:language>en-US</dc:language>
  <cp:lastModifiedBy>test</cp:lastModifiedBy>
  <dcterms:modified xsi:type="dcterms:W3CDTF">2009-03-30T16:54:21Z</dcterms:modified>
  <cp:revision>35</cp:revision>
  <dc:subject/>
  <dc:title>Слайд 1</dc:title>
</cp:coreProperties>
</file>