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03C-60D6-4114-BFB0-5E909FAB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094-AAD2-4E99-B866-04FBD89F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9DD-13B4-4C34-B954-1AD85F20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10F-F02E-4515-9BB4-44DC6207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0ED5-EA46-4974-835F-8652861B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FBE8-2CE7-42F9-80D1-706BF20A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8E6C-FFA5-4DA9-B384-FCB057BA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A332-83D1-4D90-ABC2-F2E63151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ED56-F9E5-4BBC-A4E6-29B5C780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8E6D-E194-4EB1-9F3F-73880D14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169E-99E4-4B3C-897B-A5BBE9E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2F3-8E18-4D7D-93A9-0A03AB8E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4605-4C6E-4486-9C53-B9CAC137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E6A1-4633-43BF-ADC9-00A9E59F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A34B-B783-472D-9A91-9FE9BE47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CDEE-8DF3-497B-BE7E-0D035560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43C9-34F9-4A65-A4F1-CB4B087D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D5A-0D1F-4FBD-B6AA-07B20FC7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7AA-D95C-4547-A087-68A92311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05F-B994-47CC-A365-DE7BD769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918-1234-4AC4-92CA-3125BF9B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BDE-6BA2-4526-AA2E-CC8558BA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399-3C4F-4F33-AC82-1654358A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405-DFAB-40DD-BB16-F1E6D3B9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673F-1CEB-4B6E-B025-2837B2FE5B8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D118-1F17-4E6B-A749-D262C4AA188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633240" y="2139840"/>
            <a:ext cx="7871040" cy="286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201600" y="493560"/>
            <a:ext cx="8588520" cy="4559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523800" y="993600"/>
            <a:ext cx="77850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6360" y="493560"/>
            <a:ext cx="8869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36360" y="493560"/>
            <a:ext cx="87537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13840" y="500040"/>
            <a:ext cx="8643960" cy="614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Япония -   высокоразвитая  страна.  Располагая  2,5%  населения земли и 0,3%  площади,  она к настоящему времени по  своему экономическому потенциалу прочно закрепилась на 2-м после США месте в капиталистическом мире.  ВНП  страны (около  2,4 трлн.  $ в 1987) превышает 11%  мирового ВНП, по объему ВНП на душу населения Япония опередила США. На долю  Японии приходится около 12%  мирового промышленного производства.  Страна занимает первое место по производству судов, автомобилей, тракторов, металлообрабатывающего оборудования,  бытовой электронной техники,  роботов. Статистические данные  свидетельствуют  о  том,  что несмотря на значительное ухудшение конъюнктуры  в  мировом  капиталистическом хозяйстве, японская экономика в 80-е годы развивалась более высокими темпами, чем экономика стран Западной Европы и США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71680" y="714240"/>
            <a:ext cx="8248320" cy="41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на по прежнему лидирует в темпах роста;  ее валовый национальный продукт превзошел  ВНП Англии  и Франции,  вместе взятых;  в 1984 г.  он составил 1233,5 млрд.  $.  Огромных масштабов достигла внешняя торговля Японии: экспорт в 1984 г. составил более 146 млн. $, импорт - более 126 млрд. $.  Японские товары все  прочнее  занимают ведущие позиции на мировом рынке, вытесняя традиционно лидировавшие американские и западноевропейские  изделия  и  зачастую вызывая почти паническую реакцию конкурент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682560" y="1066680"/>
            <a:ext cx="79488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2:00:39Z</dcterms:created>
  <dc:creator>Admin</dc:creator>
  <dc:description/>
  <dc:language>en-US</dc:language>
  <cp:lastModifiedBy>Customer</cp:lastModifiedBy>
  <dcterms:modified xsi:type="dcterms:W3CDTF">2011-06-08T08:47:39Z</dcterms:modified>
  <cp:revision>41</cp:revision>
  <dc:subject/>
  <dc:title>Слайд 1</dc:title>
</cp:coreProperties>
</file>