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9BC-6E3E-48D4-A096-A9CD99F4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135-DC24-4D5F-B927-551A4A0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89B-404D-401E-9ADB-06553B14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36F-90BA-4123-9B0B-EDB9697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DDE5-0C5E-4F75-AC62-F2283868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A143-AE30-43AE-B0DB-9371882C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2F0-82AD-48F1-8300-0F934CE9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878B-CB27-405B-8A1A-2F75618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D51-9ECE-489E-8D1A-0BECC32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825-33F6-4A65-A5AA-D427C3E4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7EA-6C03-426E-84B8-284E6154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0DE-49B3-42F4-8036-CE24720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C638-FE41-4900-9A0C-C8661D4A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6BCF-1B05-4519-A716-DA7636D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7BE-4B17-4A42-8740-371155B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5B2F-2394-4996-84AB-27FF74FD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71E2-8175-440C-BB50-F74E247E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2F057-437F-4C9A-ADE8-E39B8540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0F2BC-0796-4134-B09A-05BCE0E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6370D-698C-4224-9A69-418EF1E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ED187-30F7-42B0-9023-BDEF2CA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FF1FE-0B3C-456F-9F0D-103E546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7E7-6E47-4B0A-9333-228C68A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325BF-DA25-4F88-8987-C37A061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5906F-9A1C-42E0-81BF-0743ADC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1EFDC-639F-4A02-BA69-50391C32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C4A54-B788-4023-8222-E7B37F7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645EA-3AC9-4F4E-B772-6C46A8C5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12B2B-162D-40AF-B606-6B274C6B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EC437-75A9-45D6-9CCD-28E763C1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F45B-3BC1-4ABE-A28F-E72D8CFC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CC9A-BA56-4B87-89D5-CD07BEB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1D66-96D7-4FB1-B0C7-838FC2A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F10-12AB-4408-9751-218DD15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FB80-FED5-4797-9448-2B224CD0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FEE5-7535-43AB-9F19-E3549BB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43A0-5B23-4762-9E6F-55CBC0EE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CCD9-7D13-4046-86D8-2B309C9D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1FC9-5E5D-4B68-B436-05C2604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C880-32E0-4C89-A0C4-E3A2B5C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866C-914B-45B4-B8A9-2B7C0957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F97F-D80B-4191-B232-C3A4E75C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1F14-2ADF-4FDF-932D-1C8CFEE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F851-CD37-46FB-A5CA-DE43C54E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3B4-CA22-4602-BA59-5FA12B7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02BD-C95E-4C9F-AD5F-E2BE885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9F22-557F-41EE-A061-F911555A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3AC3-17D7-49D5-912E-E67CCBF5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7628-8A29-4469-B4E6-46D7B9C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90AA-5711-4E66-8DB9-D8C00CE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E6D8-2CEE-4973-94F8-B63B601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E5FE-24EB-4585-B617-06F131E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A3D3-39F5-4994-9AC9-0089C2E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5519-F69E-497D-896E-C8132C96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DE10-4F08-4202-B5FD-819A0DC0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08D-B0DB-4BAD-9479-7116487F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0F1E-1B3D-4CDC-AF9F-F8F58407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02B7-3DE5-4494-B6AB-516E4074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BC25-8B93-4CA0-8F80-8695043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4C6E-C177-45E0-8AA7-758CDFC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2495A-AA3B-4E4A-ADBE-ED02E1A3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ED4E-A8CE-47D1-BFE1-AB36506F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D07B-C12A-4312-ABE8-BAFE519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E1F5-7FE9-4D49-A5EB-EBACF2F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7502-EACF-46B1-A686-DF9934A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CB99-0567-4572-84C3-CCD69B3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9AF-762D-4082-9303-54E3471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A933-354E-4BA6-9240-17A39A6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195D-80B8-438C-B2CE-B6E91DD6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6D5D-BD13-4482-AF78-D4AE7DC1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083-EA53-4C42-B808-D6FA82F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6FB-DAD3-426F-9E95-2F7C74F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5B66-DB69-4DF4-84A6-33134BC9C9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B625-2C06-4E95-90EE-A2CD01BA682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5D4-590E-45A9-94B2-915166807F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0AC5-A32B-47B5-B692-1E21722A5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4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5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B6C4-0CFA-4101-81E1-690A79AA297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83AC-4FB7-4072-9A95-6D6817D284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ZG/files/Book/Tema5.htm#z1#z1" TargetMode="External"/><Relationship Id="rId2" Type="http://schemas.openxmlformats.org/officeDocument/2006/relationships/hyperlink" Target="file:///FZG/files/Book/Tema5.htm#z2#z2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3;&#1086;&#1089;&#1091;&#1076;&#1072;&#1088;&#1089;&#1090;&#1074;&#1086;" TargetMode="External"/><Relationship Id="rId3" Type="http://schemas.openxmlformats.org/officeDocument/2006/relationships/hyperlink" Target="http://ru.wikipedia.org/wiki/&#1047;&#1077;&#1084;&#1083;&#1080;_&#1043;&#1077;&#1088;&#1084;&#1072;&#1085;&#1080;&#1080;" TargetMode="External"/><Relationship Id="rId4" Type="http://schemas.openxmlformats.org/officeDocument/2006/relationships/hyperlink" Target="http://ru.wikipedia.org/wiki/&#1045;&#1074;&#1088;&#1086;&#1087;&#1077;&#1081;&#1089;&#1082;&#1080;&#1081;_&#1089;&#1086;&#1102;&#1079;" TargetMode="External"/><Relationship Id="rId5" Type="http://schemas.openxmlformats.org/officeDocument/2006/relationships/hyperlink" Target="http://ru.wikipedia.org/wiki/&#1053;&#1040;&#1058;&#1054;" TargetMode="External"/><Relationship Id="rId6" Type="http://schemas.openxmlformats.org/officeDocument/2006/relationships/hyperlink" Target="http://ru.wikipedia.org/wiki/&#1042;&#1086;&#1081;&#1085;&#1072;_&#1053;&#1040;&#1058;&#1054;_&#1087;&#1088;&#1086;&#1090;&#1080;&#1074;_&#1070;&#1075;&#1086;&#1089;&#1083;&#1072;&#1074;&#1080;&#1080;" TargetMode="External"/><Relationship Id="rId7" Type="http://schemas.openxmlformats.org/officeDocument/2006/relationships/hyperlink" Target="http://ru.wikipedia.org/wiki/&#1041;&#1086;&#1083;&#1100;&#1096;&#1072;&#1103;_&#1074;&#1086;&#1089;&#1100;&#1084;&#1105;&#1088;&#1082;&#1072;" TargetMode="External"/><Relationship Id="rId8" Type="http://schemas.openxmlformats.org/officeDocument/2006/relationships/hyperlink" Target="http://ru.wikipedia.org/wiki/&#1057;&#1086;&#1074;&#1077;&#1090;_&#1041;&#1077;&#1079;&#1086;&#1087;&#1072;&#1089;&#1085;&#1086;&#1089;&#1090;&#1080;_&#1054;&#1054;&#1053;" TargetMode="External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43" TargetMode="External"/><Relationship Id="rId2" Type="http://schemas.openxmlformats.org/officeDocument/2006/relationships/hyperlink" Target="http://ru.wikipedia.org/wiki/18_&#1103;&#1085;&#1074;&#1072;&#1088;&#1103;" TargetMode="External"/><Relationship Id="rId3" Type="http://schemas.openxmlformats.org/officeDocument/2006/relationships/hyperlink" Target="http://ru.wikipedia.org/wiki/187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49" TargetMode="External"/><Relationship Id="rId6" Type="http://schemas.openxmlformats.org/officeDocument/2006/relationships/hyperlink" Target="http://ru.wikipedia.org/wiki/3_&#1086;&#1082;&#1090;&#1103;&#1073;&#1088;&#1103;" TargetMode="External"/><Relationship Id="rId7" Type="http://schemas.openxmlformats.org/officeDocument/2006/relationships/hyperlink" Target="http://ru.wikipedia.org/wiki/1990" TargetMode="External"/><Relationship Id="rId8" Type="http://schemas.openxmlformats.org/officeDocument/2006/relationships/hyperlink" Target="http://ru.wikipedia.org/wiki/&#1057;&#1090;&#1086;&#1083;&#1080;&#1094;&#1072;" TargetMode="External"/><Relationship Id="rId9" Type="http://schemas.openxmlformats.org/officeDocument/2006/relationships/hyperlink" Target="http://ru.wikipedia.org/wiki/&#1041;&#1077;&#1088;&#1083;&#1080;&#1085;" TargetMode="External"/><Relationship Id="rId10" Type="http://schemas.openxmlformats.org/officeDocument/2006/relationships/hyperlink" Target="http://ru.wikipedia.org/wiki/&#1060;&#1077;&#1076;&#1077;&#1088;&#1072;&#1094;&#1080;&#1103;" TargetMode="External"/><Relationship Id="rId11" Type="http://schemas.openxmlformats.org/officeDocument/2006/relationships/hyperlink" Target="http://ru.wikipedia.org/wiki/&#1055;&#1072;&#1088;&#1083;&#1072;&#1084;&#1077;&#1085;&#1090;&#1072;&#1088;&#1085;&#1072;&#1103;_&#1088;&#1077;&#1089;&#1087;&#1091;&#1073;&#1083;&#1080;&#1082;&#1072;" TargetMode="External"/><Relationship Id="rId12" Type="http://schemas.openxmlformats.org/officeDocument/2006/relationships/hyperlink" Target="http://ru.wikipedia.org/wiki/&#1041;&#1091;&#1085;&#1076;&#1077;&#1089;&#1082;&#1072;&#1085;&#1094;&#1083;&#1077;&#1088;" TargetMode="External"/><Relationship Id="rId13" Type="http://schemas.openxmlformats.org/officeDocument/2006/relationships/hyperlink" Target="http://ru.wikipedia.org/wiki/&#1052;&#1077;&#1088;&#1082;&#1077;&#1083;&#1100;,_&#1040;&#1085;&#1075;&#1077;&#1083;&#1072;" TargetMode="External"/><Relationship Id="rId14" Type="http://schemas.openxmlformats.org/officeDocument/2006/relationships/hyperlink" Target="http://ru.wikipedia.org/wiki/&#1058;&#1077;&#1088;&#1088;&#1080;&#1090;&#1086;&#1088;&#1080;&#1103;" TargetMode="External"/><Relationship Id="rId15" Type="http://schemas.openxmlformats.org/officeDocument/2006/relationships/hyperlink" Target="http://ru.wikipedia.org/wiki/&#1053;&#1072;&#1089;&#1077;&#1083;&#1077;&#1085;&#1080;&#1077;" TargetMode="External"/><Relationship Id="rId16" Type="http://schemas.openxmlformats.org/officeDocument/2006/relationships/hyperlink" Target="http://ru.wikipedia.org/wiki/2008" TargetMode="External"/><Relationship Id="rId17" Type="http://schemas.openxmlformats.org/officeDocument/2006/relationships/hyperlink" Target="http://ru.wikipedia.org/wiki/&#1055;&#1083;&#1086;&#1090;&#1085;&#1086;&#1089;&#1090;&#1100;_&#1085;&#1072;&#1089;&#1077;&#1083;&#1077;&#1085;&#1080;&#1103;" TargetMode="External"/><Relationship Id="rId18" Type="http://schemas.openxmlformats.org/officeDocument/2006/relationships/hyperlink" Target="http://ru.wikipedia.org/wiki/&#1057;&#1087;&#1080;&#1089;&#1086;&#1082;_&#1089;&#1090;&#1088;&#1072;&#1085;_&#1087;&#1086;_&#1042;&#1042;&#1055;" TargetMode="External"/><Relationship Id="rId1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Frankfurt_Germany_0407[1]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gerb[1]"/>
          <p:cNvPicPr/>
          <p:nvPr/>
        </p:nvPicPr>
        <p:blipFill>
          <a:blip r:embed="rId2"/>
          <a:stretch/>
        </p:blipFill>
        <p:spPr>
          <a:xfrm>
            <a:off x="0" y="0"/>
            <a:ext cx="1390680" cy="1628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flag[1]"/>
          <p:cNvPicPr/>
          <p:nvPr/>
        </p:nvPicPr>
        <p:blipFill>
          <a:blip r:embed="rId3"/>
          <a:stretch/>
        </p:blipFill>
        <p:spPr>
          <a:xfrm>
            <a:off x="6300720" y="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8244000" cy="29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Финансовая система и финансовая политика Германи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. Макроэкономическая ситуация единой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2. Денежная и кредитная системы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3. Бюджетная и финансовая системы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4. Налоговая система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089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ла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6400" y="612720"/>
            <a:ext cx="773748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1. Макроэкономическая ситуация единой Германии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3" name="Picture 8" descr="R09SLCAQXMPAVCAAQ3NPJCAE22CRRCAHLZQ07CAFJBHVCCA83BAV2CA8BB4YACAF1UGR6CA4V9TGNCAYUTOGNCAG9FZFOCA4ER2STCA6JLEARCAR49WCACAM90P2DCABBRDLVCAUYPIY4"/>
          <p:cNvPicPr/>
          <p:nvPr/>
        </p:nvPicPr>
        <p:blipFill>
          <a:blip r:embed="rId1"/>
          <a:stretch/>
        </p:blipFill>
        <p:spPr>
          <a:xfrm>
            <a:off x="250920" y="260280"/>
            <a:ext cx="1001520" cy="10526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осударств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остоит из 16 частично независимых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земел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рмания является членом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Европей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ринимает активное участие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НАТ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первые боевые действия после 1945-го — бомбардировк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Югослав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, входит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«Большую восьмёрку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ретендует на постоянное членство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Совете Безопасности ОО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сновано</a:t>
            </a:r>
            <a:r>
              <a:rPr b="1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843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18 январ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1871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1949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3 октябр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1990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толиц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Берли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а правления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Федеративна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арламентарная республ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Федеральный канцле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Ангела Мерк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Территор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Всего-357 022 км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Насел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Всего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2008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- 82 060 000 че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Плотност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230 чел./км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ВП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4-й в мир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того ВВП (2008) $3 322 147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• На душу населения $40 4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алю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вро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96760" y="612720"/>
            <a:ext cx="773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1. Макроэкономическая ситуация единой Герма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87"/>
          <p:cNvSpPr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мания является локомотивом монетарной и политической интеграции Европейского союза. Развитие этого интеграционного объединения в большой степени зависит от динамики экономической системы ФРГ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ой занятости здесь рассчитывают достичь путем большей дифференциации заработной платы, что вполне совместимо с целями и принципами социального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ельный вес промышленных и торговых предприятий с     участием иностранного капитала равен 18 %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10_germany_photo_3[1]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2. Денежная и кредитная система Германии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ая денежно-кредитная система Германии сложилась в 1870-е гг., когда после провозглашения империи была введена денежная единица 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рейхсмарка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золотым содержанием 0,358423 г, что ознаменовало начало золотого монометалл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76 г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олотой паритет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был отменен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 июля 1957 г., вступившего в силу 1 августа, была образована единая структура 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Немецкий федеральный банк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eutsche Bundesbank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cc"/>
                </a:solidFill>
                <a:latin typeface="Garamond"/>
              </a:rPr>
              <a:t>Немецкий федеральный банк</a:t>
            </a:r>
            <a:r>
              <a:rPr b="1" lang="ru-RU" sz="4400" spc="-1" strike="noStrike">
                <a:solidFill>
                  <a:srgbClr val="0099cc"/>
                </a:solidFill>
                <a:latin typeface="Garamond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Штаб-квартира во Франкфурте-на-Майне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Rectangle 148"/>
          <p:cNvSpPr/>
          <p:nvPr/>
        </p:nvSpPr>
        <p:spPr>
          <a:xfrm>
            <a:off x="468360" y="476280"/>
            <a:ext cx="3672000" cy="1224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тральные бан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49"/>
          <p:cNvSpPr/>
          <p:nvPr/>
        </p:nvSpPr>
        <p:spPr>
          <a:xfrm>
            <a:off x="5292720" y="476280"/>
            <a:ext cx="3240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нк немецк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ел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50"/>
          <p:cNvSpPr/>
          <p:nvPr/>
        </p:nvSpPr>
        <p:spPr>
          <a:xfrm>
            <a:off x="468360" y="2133720"/>
            <a:ext cx="3887640" cy="1150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ые управл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ойче Бундесбанк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2"/>
          <p:cNvSpPr/>
          <p:nvPr/>
        </p:nvSpPr>
        <p:spPr>
          <a:xfrm>
            <a:off x="2268360" y="1700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153"/>
          <p:cNvSpPr/>
          <p:nvPr/>
        </p:nvSpPr>
        <p:spPr>
          <a:xfrm>
            <a:off x="2268360" y="335772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154"/>
          <p:cNvSpPr/>
          <p:nvPr/>
        </p:nvSpPr>
        <p:spPr>
          <a:xfrm>
            <a:off x="6948360" y="162864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структуру Немецкого федерального банка входят: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уководящий орган - Центральный совет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торый определяет монетарную политику страны. Возглавляет президент «Бундесбанка», в состав входят  также вице-президент и девять глав центральных банков земел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ление Немецкого федерального бан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 правлений центральных банков земел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30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вных отделений и филиа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7:46Z</dcterms:created>
  <dc:creator>д</dc:creator>
  <dc:description/>
  <dc:language>en-US</dc:language>
  <cp:lastModifiedBy>Customer</cp:lastModifiedBy>
  <dcterms:modified xsi:type="dcterms:W3CDTF">2011-06-08T08:48:10Z</dcterms:modified>
  <cp:revision>27</cp:revision>
  <dc:subject/>
  <dc:title>Финансовая система США</dc:title>
</cp:coreProperties>
</file>