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38E1-8ACF-4E61-8B28-46A754DF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4C6-19F8-4D1C-9A2A-14803670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33A9-D8B6-4E53-AB55-15137141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14FD-E13E-4B9F-A6BB-443EA268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522-8561-4CF9-8358-14E928B1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2262-674C-4FA7-9FDB-4C7F6A26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E4F2-C5D9-411D-BE5D-81DD6B45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75C2-E5EB-42A5-A3C6-A4912CE4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D253-7727-4DDE-A51A-78BEEA7E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EE43-A120-4B1C-8F74-B0325C52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446-9191-468C-B4AD-43E1D0F6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61DF-2DCE-40CC-9B8C-60BD2934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C58C-5397-4EE5-9AAA-3A57B7B5140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правление дивидендной политикой капитала - предпочтения инвесто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кция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imes New Roman"/>
              </a:rPr>
              <a:t>Источники дивидендных выплат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истая прибыль отчетного пери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imes New Roman"/>
              </a:rPr>
              <a:t>нераспределенная прибыль прошлых период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imes New Roman"/>
              </a:rPr>
              <a:t>специальные фонды, созданные для этой ц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699920" y="352260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арианты дивидендных выплат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тодика постоянного процентного распределения прибы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тодика фиксированных дивидендных выплат, или называют политикой компромисс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дель выплаты дивидендов по остаточному принцип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виденд в форме акц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обление акц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уск акци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Дивидендная политика -</a:t>
            </a:r>
            <a:r>
              <a:rPr b="0" lang="ru-RU" sz="2400" spc="-1" strike="noStrike">
                <a:solidFill>
                  <a:srgbClr val="e5ffff"/>
                </a:solidFill>
                <a:latin typeface="Times New Roman"/>
              </a:rPr>
              <a:t> принятие решения о том, выплачивать ли заработанные средства в виде дивидендов или оставлять их и реинвестировать в активы фирмы.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видендная политика, как и управление структурой капитала, оказывает существенное влияние на цену акций предприятия. Если компания увеличивает дивиденды, то это приведет к уменьшению объема реинвестиций, ожидаемый темп роста масштабов деятельности снижается, что, скорее всего, приведет к снижению цены акций. Ведь реинвестирование прибыли – более приемлемая и относительно дешевая форма финансирования предприятия, развивающего свою деятельность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b5481"/>
                </a:solidFill>
                <a:latin typeface="Tahoma"/>
              </a:rPr>
              <a:t>Существует различные подходы в теории дивидендной полити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042920" y="2205000"/>
            <a:ext cx="76327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b5481"/>
                </a:solidFill>
                <a:latin typeface="Times New Roman"/>
              </a:rPr>
              <a:t>- Теория иррелевантности дивиденд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5481"/>
                </a:solidFill>
                <a:latin typeface="Times New Roman"/>
              </a:rPr>
              <a:t>(Ф. Модильяни и М. Миллер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548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b5481"/>
                </a:solidFill>
                <a:latin typeface="Times New Roman"/>
              </a:rPr>
              <a:t>- Теория «синицы в руках»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5481"/>
                </a:solidFill>
                <a:latin typeface="Times New Roman"/>
              </a:rPr>
              <a:t>(М. Гордон и Д. Линтнер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548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b5481"/>
                </a:solidFill>
                <a:latin typeface="Times New Roman"/>
              </a:rPr>
              <a:t>- Теория, основанная на налоговых эффекта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5481"/>
                </a:solidFill>
                <a:latin typeface="Times New Roman"/>
              </a:rPr>
              <a:t>(Р. Литценбергером и К. Рамасван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Теория иррелевантности дивидендов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 (Ф. Модильяни и М. Миллера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итика выплат дивидендов не влияет на стоимость фирмы или цену ее капитала. По их мнению, стоимость фирмы определяется ее общей способностью приносить прибыль и степенью риска; более того, стоимость фирмы в большей степени зависит от инвестиционной политики, нежели от того, какая часть прибыли выплачивается в виде дивидендов, а какая реинвестируется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сновной вывод этих ученых – дивидендная политика не нуж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Теория «синицы в руках»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(М. Гордон и Д. Линтнер)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соглашаясь с Модельяни и Миллер, они доказывают, что дивиденды менее рисковые, чем доход от прироста капитала, поэтому фирма должна устанавливать высокий удельный вес дивидендных выплат в прибыли и предлагать высокую дивидендную доходность с тем, чтобы максимизировать свою стоим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Третья теория, основанная на налоговых эффектах, была преложена Р. Литценбергером и К. Рамасвани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иция противоположна позиции Гордона и литера. Они утверждают, что, поскольку дивиденды облагаются налогами по значительно большей ставке, чем доход от прироста капитала, инвесторы должны требовать более выгодного дохода на акции с высокими ставками дивидендов. В соответствии с этой теорией фирма должна платить низкие (или нулевые) дивиденды в целях максимизации своей стоим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ение оптимальной политики выплаты дивидендов чрезвычайно затруднительно. Отсюда, каждое предприятие должно выбирать свою субъективную политику исходя прежде всего из присущих ему особенностей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Факторы, влияющие на дивидендную политику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ловия займ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граничения, связанные с привилегированными акциям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о эрозии капита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ичие денежных средст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трафной налог на неправильно накапливаемую прибыл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тро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оцедура выплаты дивидендов стандартна и проходит в несколько этап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ата объявл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ата регистрации держателей акци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Экс-дивидендная да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ата выпла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8:22:27Z</dcterms:created>
  <dc:creator>Admin</dc:creator>
  <dc:description/>
  <dc:language>en-US</dc:language>
  <cp:lastModifiedBy>Customer</cp:lastModifiedBy>
  <dcterms:modified xsi:type="dcterms:W3CDTF">2011-06-08T06:35:58Z</dcterms:modified>
  <cp:revision>4</cp:revision>
  <dc:subject/>
  <dc:title>Управление дивидендной политикой</dc:title>
</cp:coreProperties>
</file>