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DF7E-C043-4EC7-B08F-19BE3A6F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41EA-700F-4103-B57A-D447AAEF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1D2E-AD03-4FEE-B43C-72714B83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99EB-4633-4507-9C64-9A5C656F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CE57-BD29-4ED6-A640-266A30BC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74C5-9243-4A3E-9832-4F08049F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E5A4-7628-4B67-A200-93713419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3250-2387-4D5E-9BBE-3855CB1E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12EA-FE34-4F46-A152-C5C1DF42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C77D-F285-4093-BEA9-BCDF89FD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7655-7C11-46BE-B69F-41608D7E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D31C-26F9-4B92-8CD1-1AB3A7B7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A38B-7BF2-4202-980E-185E5634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3F75-A275-4729-9EE8-31D6EDDC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7501-DDAB-4BA8-BDDA-7B2A4BC0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A30C-6D5D-4C15-9E4C-1FA0267A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E9C6-5BCC-4945-94D2-93BCA996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1E70-41C8-40CE-9360-B59C40FE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3822-6202-4A8B-885C-A4E4EC2A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2363-A64B-463A-9152-191B97D5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D71E-376F-419A-97F7-DB40BC5A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E1C1-CAEC-40B3-ACB8-47DEA0B3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DE07-E0E7-4651-B236-47F5901C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99B8-20D6-4FEF-9A42-0904F152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74B4-B09E-40B2-BAAB-7E19DA6C5E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4259-1012-42C3-93DB-5F981A5D55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920" y="1916280"/>
            <a:ext cx="77025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otype Corsiva"/>
              </a:rPr>
              <a:t>Методы анализа инвестиционных проектов. Анализ риск проек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27280" y="4869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екция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86d1ec"/>
                </a:solidFill>
                <a:uFillTx/>
                <a:latin typeface="Monotype Corsiva"/>
              </a:rPr>
              <a:t>Анализ рисков проек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(</a:t>
            </a: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risk project analysis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) — методы оценки рисков проек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ыделяют 3 типа риск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Единичный риск, когда риск проекта рассматривается изолированно, вне связи с другими проектами предприят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нутрифирменный риск, когда риск проекта рассматривается в его связи с портфелем проектов предприят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ыночный риск, когда риск проекта рассматривается в контексте диверсификации капитала акционеров предприятия на фондовом рын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Три метода проведения анализа риска проек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d1ec"/>
                </a:solidFill>
                <a:latin typeface="Monotype Corsiva"/>
              </a:rPr>
              <a:t>Анализ чувствительности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(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sensitivity analysis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) — методика выявления критических показателей проекта. В ходе анализа происходит проверка критериев эффективности проекта (чистой текущей стоимости и (или) внутренней нормы прибыли) в связи с изменениями исходной информации (инвестиционных и эксплуатационных издержек, цен на продукцию или услуг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d1ec"/>
                </a:solidFill>
                <a:latin typeface="Monotype Corsiva"/>
              </a:rPr>
              <a:t>Анализ сценариев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(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scenario analysis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) — методика проведения А.р.п., в соответствии с которой с базовым сценарием сравниваются значения чистой текущей стоимости лучшей и худшей ситуац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Имитационное моделирование по </a:t>
            </a:r>
            <a:r>
              <a:rPr b="0" lang="ru-RU" sz="2400" spc="-1" strike="noStrike">
                <a:solidFill>
                  <a:srgbClr val="86d1ec"/>
                </a:solidFill>
                <a:latin typeface="Monotype Corsiva"/>
              </a:rPr>
              <a:t>методу Монте-Карло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(simulation modeling on MONTE-CARLO method) — методика А.р.п., основанная на анализе распределений вероятностей входных переменных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Процедура оценки и управления риск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7200" y="1600200"/>
          <a:ext cx="8075520" cy="5083200"/>
        </p:xfrm>
        <a:graphic>
          <a:graphicData uri="http://schemas.openxmlformats.org/drawingml/2006/table">
            <a:tbl>
              <a:tblPr/>
              <a:tblGrid>
                <a:gridCol w="4038480"/>
                <a:gridCol w="403704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Этапы жизненного цикла проект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Этапы планирования и управления инвестиционными рисками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Планирование проект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Качественный анали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Количественный анали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Реализация 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Управление выявленными рискам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Завершение проекта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Подведение итогов проекта, анализ реализовавшихся рис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В практике управление проектами существует три способа снижения рис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распределение риска между участниками проект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страховани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резервирование средств на покрытие непредвиденных расход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Распределение риска между участниками проект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ущность распределения риска заключается в том, чтобы сделать ответственным за риск того участника проекта, который в состоянии лучше всех рассчитывать и контролировать рис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Распределение риска реализуется при разработке финансового плана проекта и контрактных доку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Для качественного распределения риска в проектах предлагается использовать так называемую концептуальную моде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6d1ec"/>
                </a:solidFill>
                <a:uFillTx/>
                <a:latin typeface="Monotype Corsiva"/>
              </a:rPr>
              <a:t>Концептуальная модель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базируется на стандартных методах решений, основой которых является дерево «вероятностей и решений», используемое для установления последовательности решений по выбору того или иного заказа определяется на стадии формирования портфеля заказ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рибыль исполнителя, т.е. </a:t>
            </a:r>
            <a:r>
              <a:rPr b="1" i="1" lang="ru-RU" sz="2400" spc="-1" strike="noStrike" u="sng">
                <a:solidFill>
                  <a:srgbClr val="86d1ec"/>
                </a:solidFill>
                <a:uFillTx/>
                <a:latin typeface="Monotype Corsiva"/>
              </a:rPr>
              <a:t>оценка портфеля заказов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, может быть рассчитана по следующей формул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 = (К + У1)Р(У1) * (К + У2)Р(У2)...(К + Уn)Р(Уn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где П прибыль фирмы с учетом неопределен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К - первоначальный капитал фир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Уi - возможная прибыль фирмы (i = 1,2,3,...,n); n - число возможных исходов событий при выполнении проек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Р(Уi) - вероятность каждого исх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Страхование рис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6d1ec"/>
                </a:solidFill>
                <a:uFillTx/>
                <a:latin typeface="Monotype Corsiva"/>
              </a:rPr>
              <a:t>Страхование риска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есть по существу передача определенных рисков страховой компан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Рассмотрим на примере возведения крупного строительного комплекса. Могут быть применены два основных способа страхования: имущественное страхование и страхование от несчастных случа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6d1ec"/>
                </a:solidFill>
                <a:uFillTx/>
                <a:latin typeface="Monotype Corsiva"/>
              </a:rPr>
              <a:t>Имущественное страхование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может иметь следующие фор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страхование риска подрядного строитель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страхование морских груз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страхование оборудования, принадлежащего подрядчи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6d1ec"/>
                </a:solidFill>
                <a:uFillTx/>
                <a:latin typeface="Monotype Corsiva"/>
              </a:rPr>
              <a:t>Страхование от несчастных случаев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включа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страхование общей гражданской ответствен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страхование профессиональной ответств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Резервирование средств на покрытие непредвиденных расход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6d1ec"/>
                </a:solidFill>
                <a:uFillTx/>
                <a:latin typeface="Monotype Corsiva"/>
              </a:rPr>
              <a:t>Создание резерва средств на покрытие непредвиденных расходов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представляет собой способ борьбы с риском, предусматривающий установление соотношения между потенциальными рисками, влияющими на стоимость проекта, и размером расходов, необходимых для преодоления сбоев в выполнении проек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Определение структуры резерва на покрытие непредвиденных расходов может производиться на базе </a:t>
            </a:r>
            <a:r>
              <a:rPr b="1" i="1" lang="ru-RU" sz="2400" spc="-1" strike="noStrike" u="sng">
                <a:solidFill>
                  <a:srgbClr val="86d1ec"/>
                </a:solidFill>
                <a:uFillTx/>
                <a:latin typeface="Monotype Corsiva"/>
              </a:rPr>
              <a:t>двух подход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6d1ec"/>
                </a:solidFill>
                <a:uFillTx/>
                <a:latin typeface="Monotype Corsiva"/>
              </a:rPr>
              <a:t>При первом подходе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резерв делится на две части: на общий и специальн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6d1ec"/>
                </a:solidFill>
                <a:uFillTx/>
                <a:latin typeface="Monotype Corsiva"/>
              </a:rPr>
              <a:t>Второй подход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к созданию структуры резерва предполагает определение непредвиденных расходов по видам затрат, например, на заработную плату, материалы, субконтрак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Анализ риск проекта позволя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выбрать проект по критерию наименьшего риск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равнить степень вероятности получения выгод для всех участников проекта и сопоставить значения дохода и риска по принципу — чем больше риск, тем больше доход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проработать на стадии подготовки документы, обслуживающие проект, например, сравнить выгоды от различных типов контрактов — сервисного контракта, контракта с постоянной долей продукции, контракта с изменяющимся масштабом доли продукции, контракта с фиксированной платой за единицу продукции и т.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1440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Понятие инвестиционного проекта трактуется двояк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как деятельность (мероприятие), предполагающая осуществление комплекса каких-либо действий, обеспечивающих достижение определенных це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как система, включающая определенный набор организационно-правовых и расчетно-финансовых документов, необходимых для осуществления каких-либо действий или описывающих эти дей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К основным методам анализа инвестиционных проектов относятс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35280" y="256500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Monotype Corsiva"/>
              </a:rPr>
              <a:t>Динамически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Monotype Corsiva"/>
              </a:rPr>
              <a:t>Статистическ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Статистические мето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6d1ec"/>
                </a:solidFill>
                <a:uFillTx/>
                <a:latin typeface="Monotype Corsiva"/>
              </a:rPr>
              <a:t>Статистические методы базируются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 на допущение равной значимости доходов и расходов в инвестиционной деятельности и не учитывают временную стоимость дене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6d1ec"/>
                </a:solidFill>
                <a:uFillTx/>
                <a:latin typeface="Monotype Corsiva"/>
              </a:rPr>
              <a:t>К статистическим  методам относя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рок окупаемости инвестиций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(PP)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коэффициент эффективности инвестиций (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ARR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Наиболее важным из статистических методов является </a:t>
            </a:r>
            <a:r>
              <a:rPr b="1" lang="ru-RU" sz="2800" spc="-1" strike="noStrike" u="sng">
                <a:solidFill>
                  <a:srgbClr val="86d1ec"/>
                </a:solidFill>
                <a:uFillTx/>
                <a:latin typeface="Monotype Corsiva"/>
              </a:rPr>
              <a:t>срок окупаемости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, который показывает ликвидность данного проек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Недостатком статистических методов является </a:t>
            </a:r>
            <a:r>
              <a:rPr b="1" lang="ru-RU" sz="2800" spc="-1" strike="noStrike" u="sng">
                <a:solidFill>
                  <a:srgbClr val="86d1ec"/>
                </a:solidFill>
                <a:uFillTx/>
                <a:latin typeface="Monotype Corsiva"/>
              </a:rPr>
              <a:t>отсутствие учета фактора времени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6d1ec"/>
                </a:solidFill>
                <a:uFillTx/>
                <a:latin typeface="Century Schoolbook"/>
              </a:rPr>
              <a:t>Срок окупаемости инвестиций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 – это время, которое требуется чтобы инвестиция обеспечила достаточное поступление денег для возмещения инвестиционных расход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PP = 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∑CF&gt;J</a:t>
            </a:r>
            <a:r>
              <a:rPr b="0" lang="en-US" sz="1000" spc="-1" strike="noStrike">
                <a:solidFill>
                  <a:srgbClr val="ffffff"/>
                </a:solidFill>
                <a:latin typeface="Century Schoolbook"/>
                <a:ea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                PP =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CF – 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приток денежных средств в период 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J</a:t>
            </a:r>
            <a:r>
              <a:rPr b="0" lang="en-US" sz="1000" spc="-1" strike="noStrike">
                <a:solidFill>
                  <a:srgbClr val="ffffff"/>
                </a:solidFill>
                <a:latin typeface="Century Schoolbook"/>
                <a:ea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  - 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величина исходных инвестиций на начало пери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n – 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число пери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6d1ec"/>
                </a:solidFill>
                <a:uFillTx/>
                <a:latin typeface="Monotype Corsiva"/>
                <a:ea typeface="Arial"/>
              </a:rPr>
              <a:t>Коэффициент эффективности инвестиций</a:t>
            </a:r>
            <a:r>
              <a:rPr b="0" lang="ru-RU" sz="2000" spc="-1" strike="noStrike">
                <a:solidFill>
                  <a:srgbClr val="ffffff"/>
                </a:solidFill>
                <a:latin typeface="Century Schoolbook"/>
                <a:ea typeface="Arial"/>
              </a:rPr>
              <a:t> показывает какая часть инвестиционных затрат возмещается в виде прибыли в течение одного интервала планир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ARR = P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б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/JC 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JC 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- инвестиции, 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P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б – чистая прибыль от про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Динамические мето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Динамические (дисконтные) методы учитывают временную стоимость денег отражают наиболее современные подходы к оценке эффективности инвестиций и преобладают в практике крупных и средних предприят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К динамическим методам относят расчет таких показателе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Чистая приведенная стоимость (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NPV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ндекс рентабельности инвестиций (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PJ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нутренняя норма прибыли (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JRR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Модифицированная норма прибыли (М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JRR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Дисконтированный срок окупаемости инвестиций (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DPP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6d1ec"/>
                </a:solidFill>
                <a:uFillTx/>
                <a:latin typeface="Monotype Corsiva"/>
              </a:rPr>
              <a:t>Чистая приведенная стоимость  </a:t>
            </a:r>
            <a:r>
              <a:rPr b="1" lang="en-US" sz="2000" spc="-1" strike="noStrike" u="sng">
                <a:solidFill>
                  <a:srgbClr val="86d1ec"/>
                </a:solidFill>
                <a:uFillTx/>
                <a:latin typeface="Monotype Corsiva"/>
              </a:rPr>
              <a:t>NP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Этот метод основан на сопоставлении величины исходной инвестиций с общей суммой дисконтированных чистых денежных поступлений генерируемые его в течение прогнозируемого сро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PV = ∑ _CF</a:t>
            </a:r>
            <a:r>
              <a:rPr b="0" lang="en-US" sz="1000" spc="-1" strike="noStrike">
                <a:solidFill>
                  <a:srgbClr val="ffffff"/>
                </a:solidFill>
                <a:latin typeface="Monotype Corsiva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__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(1+r)</a:t>
            </a:r>
            <a:r>
              <a:rPr b="0" lang="en-US" sz="1000" spc="-1" strike="noStrike">
                <a:solidFill>
                  <a:srgbClr val="ffffff"/>
                </a:solidFill>
                <a:latin typeface="Monotype Corsiva"/>
              </a:rPr>
              <a:t>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NPV = ∑ _CFt__ -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  <a:ea typeface="Arial"/>
              </a:rPr>
              <a:t>J</a:t>
            </a:r>
            <a:r>
              <a:rPr b="0" lang="en-US" sz="1000" spc="-1" strike="noStrike">
                <a:solidFill>
                  <a:srgbClr val="ffffff"/>
                </a:solidFill>
                <a:latin typeface="Monotype Corsiva"/>
                <a:ea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(1+r)</a:t>
            </a:r>
            <a:r>
              <a:rPr b="0" lang="en-US" sz="1000" spc="-1" strike="noStrike">
                <a:solidFill>
                  <a:srgbClr val="ffffff"/>
                </a:solidFill>
                <a:latin typeface="Monotype Corsiva"/>
              </a:rPr>
              <a:t>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Если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NPV&gt;0,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то проект следует принима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NPV&lt;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0, то проект следует отвергну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NPV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=0, то проект неприбыльный и неубыточ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2000" spc="-1" strike="noStrike" u="sng">
                <a:solidFill>
                  <a:srgbClr val="86d1ec"/>
                </a:solidFill>
                <a:uFillTx/>
                <a:latin typeface="Monotype Corsiva"/>
              </a:rPr>
              <a:t>Индекс рентабельности </a:t>
            </a:r>
            <a:r>
              <a:rPr b="1" lang="en-US" sz="2000" spc="-1" strike="noStrike" u="sng">
                <a:solidFill>
                  <a:srgbClr val="86d1ec"/>
                </a:solidFill>
                <a:uFillTx/>
                <a:latin typeface="Monotype Corsiva"/>
              </a:rPr>
              <a:t>PJ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Он удобен при выборе проекта из ряда альтернативных имеющие значение чистой приведенной стоимости, либо при комплектации инвестиции с максимальным суммарным значением чистой приведенной стои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PJ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∑ _CFt__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PJ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PV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/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  <a:ea typeface="Arial"/>
              </a:rPr>
              <a:t> J</a:t>
            </a:r>
            <a:r>
              <a:rPr b="0" lang="en-US" sz="1000" spc="-1" strike="noStrike">
                <a:solidFill>
                  <a:srgbClr val="ffffff"/>
                </a:solidFill>
                <a:latin typeface="Monotype Corsiva"/>
                <a:ea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(1+r)</a:t>
            </a:r>
            <a:r>
              <a:rPr b="0" lang="en-US" sz="1000" spc="-1" strike="noStrike">
                <a:solidFill>
                  <a:srgbClr val="ffffff"/>
                </a:solidFill>
                <a:latin typeface="Monotype Corsiva"/>
              </a:rPr>
              <a:t>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Если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Если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PJ &gt; 1,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то проект следует принима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PJ &lt; 1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, то проект следует отвергну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PJ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1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, то проект неприбыльный и неубыточ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9280" y="1052280"/>
            <a:ext cx="8507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6d1ec"/>
                </a:solidFill>
                <a:uFillTx/>
                <a:latin typeface="Monotype Corsiva"/>
              </a:rPr>
              <a:t>Внутренняя норма прибыли инвестиций </a:t>
            </a:r>
            <a:r>
              <a:rPr b="1" lang="en-US" sz="2400" spc="-1" strike="noStrike" u="sng">
                <a:solidFill>
                  <a:srgbClr val="86d1ec"/>
                </a:solidFill>
                <a:uFillTx/>
                <a:latin typeface="Monotype Corsiva"/>
              </a:rPr>
              <a:t>JRR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– показатель максимально допустимый относительный уровень расходов, которые могут ассоциируемые с данным проек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Если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JRR &gt;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СК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то проект следует принима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JRR &lt;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СК, то проект следует отвергну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JRR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0, то проект неприбыльный и неубыточн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6d1ec"/>
                </a:solidFill>
                <a:uFillTx/>
                <a:latin typeface="Monotype Corsiva"/>
              </a:rPr>
              <a:t>Модифицированная норма прибыли (М</a:t>
            </a:r>
            <a:r>
              <a:rPr b="1" i="1" lang="en-US" sz="2400" spc="-1" strike="noStrike" u="sng">
                <a:solidFill>
                  <a:srgbClr val="86d1ec"/>
                </a:solidFill>
                <a:uFillTx/>
                <a:latin typeface="Monotype Corsiva"/>
              </a:rPr>
              <a:t>JRR</a:t>
            </a:r>
            <a:r>
              <a:rPr b="1" i="1" lang="ru-RU" sz="2400" spc="-1" strike="noStrike" u="sng">
                <a:solidFill>
                  <a:srgbClr val="86d1ec"/>
                </a:solidFill>
                <a:uFillTx/>
                <a:latin typeface="Monotype Corsiva"/>
              </a:rPr>
              <a:t>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озволяет устранить  существенный недостаток внутренней нормы рентабельности проекта, который возникает в случае неоднократного оттока денежных сред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Основное отличие данного метода в том, что реинвестирование производится по безрисковой ставке, величина которой определяется на основе анализа финансового ры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Monotype Corsiva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Дисконтированный срок окупаемости инвестиций (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Monotype Corsiva"/>
              </a:rPr>
              <a:t>DPP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)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устраняет  недостаток статистического метода срока окупаемости инвестиций и учитывает стоимость денег во времени, а соответствующая формула для расчета дисконтированного срока окупаемости имеет ви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DPP = min 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ри котором, очевидно, что, в случае дисконтирования срок окупаемости увеличивается, т.е. всегда </a:t>
            </a:r>
            <a:r>
              <a:rPr b="1" lang="en-US" sz="2400" spc="-1" strike="noStrike">
                <a:solidFill>
                  <a:srgbClr val="86d1ec"/>
                </a:solidFill>
                <a:latin typeface="Monotype Corsiva"/>
              </a:rPr>
              <a:t>DPP&gt;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ри использовании критериев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PP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и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DPP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в оценке инвестиционных проектов решения могут приниматься исходя из следующих  </a:t>
            </a:r>
            <a:r>
              <a:rPr b="1" lang="ru-RU" sz="2400" spc="-1" strike="noStrike" u="sng">
                <a:solidFill>
                  <a:srgbClr val="86d1ec"/>
                </a:solidFill>
                <a:uFillTx/>
                <a:latin typeface="Monotype Corsiva"/>
              </a:rPr>
              <a:t>услов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а) проект принимается, если окупаемость  имеет мест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б) проект принимается, только в том случае если срок окупаемости не превышает  установленного для конкретной компании предельного с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07:23:33Z</dcterms:created>
  <dc:creator>user</dc:creator>
  <dc:description/>
  <dc:language>en-US</dc:language>
  <cp:lastModifiedBy>Komp</cp:lastModifiedBy>
  <dcterms:modified xsi:type="dcterms:W3CDTF">2011-06-07T10:49:16Z</dcterms:modified>
  <cp:revision>7</cp:revision>
  <dc:subject/>
  <dc:title>М инвестиционных проетов</dc:title>
</cp:coreProperties>
</file>