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EEED1-4F4D-4CC6-A37E-2B3AAACCA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3"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54C56-A901-464E-A468-518881B1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992F5-E15D-4F88-91AE-143170A45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41"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4F09-A44C-48AC-B00F-60A611104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A0AB5-426E-4006-9677-1387563C5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59"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C9F2-9B15-40AF-BAE6-35AD00E9F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1"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686C4-DBB7-4DC8-BE8B-64CDCC361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3"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E90BD-1862-4464-8A88-CDB15E524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9B99F-2A77-421E-AA6C-925B8C60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1C62C-C730-4253-8FF8-C2E506D72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8"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D0140-6143-40E2-AC15-E51193BB9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2"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3D99-19CF-43F5-9F3D-5C5DE114D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2"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C5659-4A65-42ED-8252-D4026140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5BBFF-9AC8-4261-8DFA-2F822B070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0"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8A222-BA7C-4677-8630-53718F187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3"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406EE-AD28-406D-A8FF-2C00B91A3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8"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2663E-DD0F-49A1-8425-2A79094E5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4"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7A72-9B15-4DD5-B19F-77B69F3DF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6"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AF83-1846-4B56-A9B9-587B2B93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F84F6-3109-4A5B-B441-A4DF9E66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A0B5-EBAA-4369-AE81-984B7B70D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1"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9A8F-BEAC-405B-BA52-6364877C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5"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422D-FAA5-4AEC-8E66-29442146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9"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F0D8-244F-4B6D-851E-33602CF05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6858000"/>
          </a:xfrm>
          <a:custGeom>
            <a:avLst/>
            <a:gdLst/>
            <a:ahLst/>
            <a:rect l="l" t="t" r="r" b="b"/>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000000"/>
              </a:gs>
              <a:gs pos="100000">
                <a:srgbClr val="2c7f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0" y="914400"/>
            <a:ext cx="9144000" cy="351000"/>
            <a:chOff x="0" y="914400"/>
            <a:chExt cx="9144000" cy="351000"/>
          </a:xfrm>
        </p:grpSpPr>
        <p:sp>
          <p:nvSpPr>
            <p:cNvPr id="2" name=""/>
            <p:cNvSpPr/>
            <p:nvPr/>
          </p:nvSpPr>
          <p:spPr>
            <a:xfrm>
              <a:off x="0" y="917640"/>
              <a:ext cx="2290680" cy="347760"/>
            </a:xfrm>
            <a:prstGeom prst="parallelogram">
              <a:avLst>
                <a:gd name="adj" fmla="val 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276640" y="917640"/>
              <a:ext cx="2295360" cy="347760"/>
            </a:xfrm>
            <a:prstGeom prst="parallelogram">
              <a:avLst>
                <a:gd name="adj" fmla="val 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4565520" y="917640"/>
              <a:ext cx="2300400" cy="347760"/>
            </a:xfrm>
            <a:prstGeom prst="parallelogram">
              <a:avLst>
                <a:gd name="adj" fmla="val 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6861240" y="914400"/>
              <a:ext cx="2282760" cy="347760"/>
            </a:xfrm>
            <a:prstGeom prst="parallelogram">
              <a:avLst>
                <a:gd name="adj" fmla="val 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Arial"/>
              </a:rPr>
              <a:t>Click to edit the title text format</a:t>
            </a:r>
            <a:endParaRPr b="1" lang="en-US" sz="3200" spc="-1" strike="noStrike">
              <a:solidFill>
                <a:srgbClr val="f0f7bd"/>
              </a:solidFill>
              <a:latin typeface="Arial"/>
            </a:endParaRPr>
          </a:p>
        </p:txBody>
      </p:sp>
      <p:sp>
        <p:nvSpPr>
          <p:cNvPr id="7"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4760-CF7C-43FC-95BC-72F940144B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f7bd"/>
                </a:solidFill>
                <a:latin typeface="Arial"/>
              </a:rPr>
              <a:t>Click to edit the title text format</a:t>
            </a:r>
            <a:endParaRPr b="1" lang="en-US" sz="4400" spc="-1" strike="noStrike">
              <a:solidFill>
                <a:srgbClr val="f0f7bd"/>
              </a:solidFill>
              <a:latin typeface="Arial"/>
            </a:endParaRPr>
          </a:p>
        </p:txBody>
      </p:sp>
      <p:sp>
        <p:nvSpPr>
          <p:cNvPr id="48" name="PlaceHolder 2"/>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552720"/>
            <a:ext cx="2895840" cy="171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2720" y="6552720"/>
            <a:ext cx="2133720" cy="171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FF51-A597-406D-83CD-C787688B6F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rot="20584200">
            <a:off x="-141120" y="5376600"/>
            <a:ext cx="2541600" cy="573120"/>
          </a:xfrm>
          <a:prstGeom prst="parallelogram">
            <a:avLst>
              <a:gd name="adj" fmla="val 3005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20584200">
            <a:off x="2153880" y="4676400"/>
            <a:ext cx="2546280" cy="573120"/>
          </a:xfrm>
          <a:prstGeom prst="parallelogram">
            <a:avLst>
              <a:gd name="adj" fmla="val 3011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20584200">
            <a:off x="4448160" y="3975120"/>
            <a:ext cx="2552760" cy="573120"/>
          </a:xfrm>
          <a:prstGeom prst="parallelogram">
            <a:avLst>
              <a:gd name="adj" fmla="val 30189"/>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20584200">
            <a:off x="6751800" y="3273120"/>
            <a:ext cx="2533320" cy="573120"/>
          </a:xfrm>
          <a:prstGeom prst="parallelogram">
            <a:avLst>
              <a:gd name="adj" fmla="val 29959"/>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3481560"/>
            <a:ext cx="9155160" cy="3376440"/>
          </a:xfrm>
          <a:custGeom>
            <a:avLst/>
            <a:gdLst/>
            <a:ahLst/>
            <a:rect l="l" t="t" r="r" b="b"/>
            <a:pathLst>
              <a:path w="5767" h="2127">
                <a:moveTo>
                  <a:pt x="0" y="1760"/>
                </a:moveTo>
                <a:lnTo>
                  <a:pt x="5767" y="0"/>
                </a:lnTo>
                <a:lnTo>
                  <a:pt x="5760" y="2127"/>
                </a:lnTo>
                <a:lnTo>
                  <a:pt x="0" y="2127"/>
                </a:lnTo>
                <a:lnTo>
                  <a:pt x="0" y="1760"/>
                </a:lnTo>
                <a:close/>
              </a:path>
            </a:pathLst>
          </a:custGeom>
          <a:gradFill rotWithShape="0">
            <a:gsLst>
              <a:gs pos="0">
                <a:srgbClr val="b2b838"/>
              </a:gs>
              <a:gs pos="100000">
                <a:srgbClr val="5254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115520" y="56386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0f7bd"/>
                </a:solidFill>
                <a:latin typeface="Arial"/>
              </a:rPr>
              <a:t>Теория структуры капитала: </a:t>
            </a:r>
            <a:br>
              <a:rPr sz="3600"/>
            </a:br>
            <a:r>
              <a:rPr b="1" lang="ru-RU" sz="3600" spc="-1" strike="noStrike">
                <a:solidFill>
                  <a:srgbClr val="f0f7bd"/>
                </a:solidFill>
                <a:latin typeface="Arial"/>
              </a:rPr>
              <a:t>модели Модильяни-Миллера. Компромиссные модели.</a:t>
            </a:r>
            <a:endParaRPr b="1" lang="en-US" sz="3600" spc="-1" strike="noStrike">
              <a:solidFill>
                <a:srgbClr val="f0f7bd"/>
              </a:solidFill>
              <a:latin typeface="Arial"/>
            </a:endParaRPr>
          </a:p>
        </p:txBody>
      </p:sp>
      <p:sp>
        <p:nvSpPr>
          <p:cNvPr id="95" name=""/>
          <p:cNvSpPr/>
          <p:nvPr/>
        </p:nvSpPr>
        <p:spPr>
          <a:xfrm>
            <a:off x="1258920" y="4292640"/>
            <a:ext cx="18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кция 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1963г. Модильяни и Миллер опубликовали вторую статью, посвященную структуре капитала, в которой было учтено наличие налога на прибыль организаций. В этом случае структура капитала уже оказывает влияние на рыночную стоимость организации: использование заемных источников увеличивает стоимость организации, так как проценты по займам вычитаются   из налогооблагаемой прибыли, в результате чего увеличивается величина операционной прибыл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точненная теория структуры капитала представлена, как и первая, в виде двух доказанных утверждений.</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Рыночная стоимость финансово зависимой организации равна сумме рыночной стоимости финансово независимой организации той же группы риска и эффекта финансового левериджа, равного произведению ставки налога на прибыль (Т) и величины заемного капитала в рыночной оценке:</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90000"/>
              </a:lnSpc>
              <a:spcBef>
                <a:spcPts val="7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VL=VU+T·Z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ель, описанную данной формулой, называют идеальной моделью Модильяни-Миллера рыночной стоимости финансово зависимой организации.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 умноженной (скорректированной) на поправку, учитывающую налогообложение прибыли:</a:t>
            </a:r>
            <a:endParaRPr b="0" lang="en-US" sz="2000" spc="-1" strike="noStrike">
              <a:solidFill>
                <a:srgbClr val="ffffff"/>
              </a:solidFill>
              <a:latin typeface="Arial"/>
            </a:endParaRPr>
          </a:p>
          <a:p>
            <a:pPr marL="343080" indent="-343080" algn="ctr">
              <a:lnSpc>
                <a:spcPct val="90000"/>
              </a:lnSpc>
              <a:spcBef>
                <a:spcPts val="60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CCSL=CCSU+(Прем-риск)·(1-Т)=CCSU+(CCSU-CCZ)·(Z/S)·(1-Т)</a:t>
            </a:r>
            <a:r>
              <a:rPr b="1" lang="ru-RU" sz="2400" spc="-1" strike="noStrike">
                <a:solidFill>
                  <a:srgbClr val="0f4334"/>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2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а основании двух последних формул, доказывается, что:</a:t>
            </a:r>
            <a:endParaRPr b="0" lang="en-US" sz="2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VL=(NOI·(1-T))/WACC</a:t>
            </a:r>
            <a:r>
              <a:rPr b="0" lang="ru-RU" sz="1800" spc="-1" strike="noStrike">
                <a:solidFill>
                  <a:srgbClr val="f0f7bd"/>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 организации с долговыми обязательствами);</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 </a:t>
            </a:r>
            <a:r>
              <a:rPr b="0" lang="ru-RU" sz="1600" spc="-1" strike="noStrike">
                <a:solidFill>
                  <a:srgbClr val="ffffff"/>
                </a:solidFill>
                <a:latin typeface="Arial"/>
              </a:rPr>
              <a:t>-операционная прибыль (прибыль до выплаты процентов и налогов);</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Т</a:t>
            </a:r>
            <a:r>
              <a:rPr b="0" lang="ru-RU" sz="1600" spc="-1" strike="noStrike">
                <a:solidFill>
                  <a:srgbClr val="ffffff"/>
                </a:solidFill>
                <a:latin typeface="Arial"/>
              </a:rPr>
              <a:t> - ставка налога на прибыль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анная  формула дает наглядное представление о ключевых факторах, определяющих рыночную стоимость организации. Таковыми являются: прибыль до выплаты процентов и налогов, средневзвешенная стоимость капитала и уровень налогов. Из этих факторов первые два поддаются прямому регулированию со стороны организации, а последний - лишь косвенному. Повышение прибыли и снижение затрат на поддержание источников капитала способствуют повышению рыночной стоимости организации, а значит и росту благосостояния ее владельце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 налогов</a:t>
            </a:r>
            <a:br>
              <a:rPr sz="2400"/>
            </a:br>
            <a:r>
              <a:rPr b="1" lang="ru-RU" sz="2400" spc="-1" strike="noStrike">
                <a:solidFill>
                  <a:srgbClr val="f0f7bd"/>
                </a:solidFill>
                <a:latin typeface="Arial"/>
              </a:rPr>
              <a:t>на доходы юридических и физических лиц (1976г.)</a:t>
            </a:r>
            <a:endParaRPr b="1" lang="en-US" sz="2400" spc="-1" strike="noStrike">
              <a:solidFill>
                <a:srgbClr val="f0f7bd"/>
              </a:solidFill>
              <a:latin typeface="Arial"/>
            </a:endParaRPr>
          </a:p>
        </p:txBody>
      </p:sp>
      <p:sp>
        <p:nvSpPr>
          <p:cNvPr id="22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1976г. М.Мильнер разработал модель, отражающую влияние заемного капитала  (финансового левериджа) на рыночную стоимость организации с учетом налогов как на юридических, так и на физических лиц. В расчет были приняты налог на личный доход от владения акциями (Ta) и налог на личный доход от предоставления займов (To). Миллер показал, что в этом случае рыночные стоимости финансово независимой и финансово зависимой организаций могут быть найдены соответственно по формулам:</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U=(NOI·(1-T) ·(1-Ta))/CCSU; </a:t>
            </a:r>
            <a:endParaRPr b="0" lang="en-US" sz="20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L=VU+(1-((1-T) ·(1-Ta))/(1-To)) ·Z</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торая  формула известна как модель Миллера. Главный вывод из модели Миллера заключается в том, что учет налогов на личные доходы уменьшает выгоду от привлечения заемных источников, так как введение налогов снижает доход, остающийся в распоряжении инвесторов, и стоимость организации уменьшаетс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едовать рекомендациям теории Модильяни-Миллера в строгом смысле практически невозможно. Поэтому в дальнейшем был предложен подход, позволяющий учесть влияние затрат, связанных с возможным банкротством, и агентские издержки, что привело к появлению компромиссной модели. Эта модель не дает каких-либо формализованных зависимостей и основана на субъективных оценках возможных расходов.</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общем виде она может быть</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ставлена следующим образом:</a:t>
            </a:r>
            <a:endParaRPr b="0" lang="en-US" sz="28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0f7bd"/>
                </a:solidFill>
                <a:latin typeface="Arial"/>
              </a:rPr>
              <a:t>VL=VU+T·Z-PVfz-PVa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де:</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L</a:t>
            </a:r>
            <a:r>
              <a:rPr b="1" lang="ru-RU" sz="1800" spc="-1" strike="noStrike">
                <a:solidFill>
                  <a:srgbClr val="ffffff"/>
                </a:solidFill>
                <a:latin typeface="Arial"/>
              </a:rPr>
              <a:t> - рыночная стоимость финансово 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U</a:t>
            </a:r>
            <a:r>
              <a:rPr b="1" lang="ru-RU" sz="1800" spc="-1" strike="noStrike">
                <a:solidFill>
                  <a:srgbClr val="ffffff"/>
                </a:solidFill>
                <a:latin typeface="Arial"/>
              </a:rPr>
              <a:t> -рыночная стоимость финансово не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Т</a:t>
            </a:r>
            <a:r>
              <a:rPr b="1" lang="ru-RU" sz="1800" spc="-1" strike="noStrike">
                <a:solidFill>
                  <a:srgbClr val="ffffff"/>
                </a:solidFill>
                <a:latin typeface="Arial"/>
              </a:rPr>
              <a:t> - ставка налога на прибыль;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Z</a:t>
            </a:r>
            <a:r>
              <a:rPr b="1" lang="ru-RU" sz="1800" spc="-1" strike="noStrike">
                <a:solidFill>
                  <a:srgbClr val="ffffff"/>
                </a:solidFill>
                <a:latin typeface="Arial"/>
              </a:rPr>
              <a:t> - рыночная оценка заемного капитала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fz</a:t>
            </a:r>
            <a:r>
              <a:rPr b="1" lang="ru-RU" sz="1800" spc="-1" strike="noStrike">
                <a:solidFill>
                  <a:srgbClr val="ffffff"/>
                </a:solidFill>
                <a:latin typeface="Arial"/>
              </a:rPr>
              <a:t> - приведенная стоимость ожидаемых затрат финансовых затруднений;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ao</a:t>
            </a:r>
            <a:r>
              <a:rPr b="1" lang="ru-RU" sz="1800" spc="-1" strike="noStrike">
                <a:solidFill>
                  <a:srgbClr val="ffffff"/>
                </a:solidFill>
                <a:latin typeface="Arial"/>
              </a:rPr>
              <a:t> - приведенная стоимость ожидаемых затрат, связанных с агентскими отношениям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9"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птимальная структура капитала достигается в результате компромисса между получением определенной экономии за счет налогов в результате привлечения заемных средств и увеличением затрат, связанных с потенциальными финансовыми трудностями и агентскими расходами, вызванными ростом доли заемного капитала в общей структуре капитала. Основу концепции составляет положение о том, что структура капитала формируется под воздействием ряда противоречивых условий, определяющих соотношение уровня доходности и риска использования капитала, которые в процессе оптимизации его структуры должны быть учтены путем соответствующего компромисса их комплексного воздействи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1"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концепция, основанная на исследованиях М.Миллера, Х.Де-Анжело, Р.Масюлиса, Дж.Уорнера и др., включает в механизм формирования структуры капитала ряд реальных условий функционирования экономики и рынка, которые не учитывались в предшествующих концепциях.</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ромиссные модели могут использоваться при принятии решения о целесообразности привлечения заемных средств, так как позволяют сопоставить затраты, связанные с финансовыми трудностями и агентскими расходами, с суммой экономии средств на налогах, возникающей в результате привлечения заемных средств.</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ганизациям с высоким уровнем риска, у которых выше вероятность финансовых затруднений, следует использовать заемный капитал в меньших объемах, чем низко рискованным организациям, которые могут привлекать заемный капитал в больших объемах; естественным ограничителем здесь является величина налоговой эконом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3"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использовании компромиссных моделей необходимо также учитывать, что организации с преобладанием материальных активов имеют больше возможностей привлекать заемные средства, чем те, у которых преобладают нематериальные активы. Это связано с тем, что величина затрат на преодоление финансовых затруднений зависит не только от вероятности их наступления, но и от возможного ущерба, который определяется формой активов организации  (нематериальные активы обесцениваются быстрее, чем материальные).</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жное значение при выборе источников финансового обеспечения имеет размер ставки налогообложения: организации с высокой налоговой ставкой имеют больший размер экономии на использовании заемного капитала, чем организации с небольшой ставкой  (поэтому первые могут привлекать больше заемных средст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Понятие «структура капитала»</a:t>
            </a:r>
            <a:endParaRPr b="1" lang="en-US" sz="2800" spc="-1" strike="noStrike">
              <a:solidFill>
                <a:srgbClr val="f0f7bd"/>
              </a:solidFill>
              <a:latin typeface="Arial"/>
            </a:endParaRPr>
          </a:p>
        </p:txBody>
      </p:sp>
      <p:sp>
        <p:nvSpPr>
          <p:cNvPr id="97" name="PlaceHolder 2"/>
          <p:cNvSpPr>
            <a:spLocks noGrp="1"/>
          </p:cNvSpPr>
          <p:nvPr>
            <p:ph/>
          </p:nvPr>
        </p:nvSpPr>
        <p:spPr>
          <a:xfrm>
            <a:off x="755640" y="1628280"/>
            <a:ext cx="7772400" cy="43434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 наиболее общем виде понятие «структура капитала» характеризуется как соотношение собственного и заемного капитала организации, но при этом в понятия  «собственные средства» и  «заемные средства» может вкладываться различное содержание.</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значально понятие  «структура капитала» рассматривалось исключительно как соотношение используемого организацией уставного капитала и долгосрочного заемного капитала. Исходя из такой трактовки содержания этого понятия, практически все классические теории структуры капитала построены на исследовании соотношения акций  (представляющих собственный капитал) и облигаций  (представляющих заемный капитал) в составе капитала организации.</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5"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а модель уже в большей степени приближена к реальным условиям, однако на практике она сложна в применении. Несмотря на привлекательность, компромиссные модели не всегда находят практическое применение. Так, профессор Г.Дональдсон, исследуя практику формирования структуры капитала, установил, что организации предпочитают финансировать свою деятельность за счет нераспределенной прибыли и акционерного (собственного) капитала. В случае нехватки средств для финансирования новых проектов они, в первую очередь, прибегают к займам и выпуску конвертируемых долговых обязательств, не выпуская новых обыкновенных акций. Таким образом, источники собственного капитала Г.Дональдсон разделил на две неравнозначные части - нераспределенную прибыль и новые обыкновенные акции,  что противоречит компромиссным моделя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886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0f7bd"/>
                </a:solidFill>
                <a:latin typeface="Arial"/>
              </a:rPr>
              <a:t>Теория структуры капитала Модильяни-Миллера</a:t>
            </a:r>
            <a:endParaRPr b="1" lang="en-US" sz="2700" spc="-1" strike="noStrike">
              <a:solidFill>
                <a:srgbClr val="f0f7bd"/>
              </a:solidFill>
              <a:latin typeface="Arial"/>
            </a:endParaRPr>
          </a:p>
        </p:txBody>
      </p:sp>
      <p:sp>
        <p:nvSpPr>
          <p:cNvPr id="9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50-х годов ХХ века Модильяни и Миллер разработали модель структуры капитала, которая показывает, что при некоторых условиях рыночная стоимость организации и стоимость капитала не зависят от его структуры; следовательно, их нельзя оптимизировать, нельзя и наращивать рыночную стоимость организации за счет изменения структуры капитал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101"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1989000" y="2344680"/>
            <a:ext cx="642960" cy="642960"/>
            <a:chOff x="1989000" y="2344680"/>
            <a:chExt cx="642960" cy="642960"/>
          </a:xfrm>
        </p:grpSpPr>
        <p:sp>
          <p:nvSpPr>
            <p:cNvPr id="106"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8"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9"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10"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11"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ffffff"/>
              </a:solidFill>
              <a:latin typeface="Arial"/>
            </a:endParaRPr>
          </a:p>
        </p:txBody>
      </p:sp>
      <p:sp>
        <p:nvSpPr>
          <p:cNvPr id="112" name=""/>
          <p:cNvSpPr/>
          <p:nvPr/>
        </p:nvSpPr>
        <p:spPr>
          <a:xfrm>
            <a:off x="1403280" y="2924280"/>
            <a:ext cx="2098800" cy="24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едполагается наличие эффективного рынка капитала , что подразумевает бесплатность и равнодоступнос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информации о его конъюнктуре для всех заинтересованных лиц.</a:t>
            </a:r>
            <a:r>
              <a:rPr b="0" lang="ru-RU" sz="1500" spc="-1" strike="noStrike">
                <a:solidFill>
                  <a:srgbClr val="0f4334"/>
                </a:solidFill>
                <a:latin typeface="Arial"/>
              </a:rPr>
              <a:t> </a:t>
            </a:r>
            <a:endParaRPr b="0" lang="en-US" sz="1500" spc="-1" strike="noStrike">
              <a:solidFill>
                <a:srgbClr val="ffffff"/>
              </a:solidFill>
              <a:latin typeface="Arial"/>
            </a:endParaRPr>
          </a:p>
        </p:txBody>
      </p:sp>
      <p:sp>
        <p:nvSpPr>
          <p:cNvPr id="113"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6713640" y="2344680"/>
            <a:ext cx="642960" cy="642960"/>
            <a:chOff x="6713640" y="2344680"/>
            <a:chExt cx="642960" cy="642960"/>
          </a:xfrm>
        </p:grpSpPr>
        <p:sp>
          <p:nvSpPr>
            <p:cNvPr id="118"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9"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0"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1"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2"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23"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Arial"/>
            </a:endParaRPr>
          </a:p>
        </p:txBody>
      </p:sp>
      <p:sp>
        <p:nvSpPr>
          <p:cNvPr id="124" name=""/>
          <p:cNvSpPr/>
          <p:nvPr/>
        </p:nvSpPr>
        <p:spPr>
          <a:xfrm>
            <a:off x="6045120" y="3106800"/>
            <a:ext cx="205740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е ожидания величины и рискованности будущих доходов для</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ех инвесторов;</a:t>
            </a:r>
            <a:r>
              <a:rPr b="0" lang="ru-RU" sz="1800" spc="-1" strike="noStrike">
                <a:solidFill>
                  <a:srgbClr val="0f4334"/>
                </a:solidFill>
                <a:latin typeface="Arial"/>
              </a:rPr>
              <a:t> </a:t>
            </a:r>
            <a:endParaRPr b="0" lang="en-US" sz="1800" spc="-1" strike="noStrike">
              <a:solidFill>
                <a:srgbClr val="ffffff"/>
              </a:solidFill>
              <a:latin typeface="Arial"/>
            </a:endParaRPr>
          </a:p>
        </p:txBody>
      </p:sp>
      <p:sp>
        <p:nvSpPr>
          <p:cNvPr id="125"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0"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1"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2"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4"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ffffff"/>
              </a:solidFill>
              <a:latin typeface="Arial"/>
            </a:endParaRPr>
          </a:p>
        </p:txBody>
      </p:sp>
      <p:sp>
        <p:nvSpPr>
          <p:cNvPr id="135" name=""/>
          <p:cNvSpPr/>
          <p:nvPr/>
        </p:nvSpPr>
        <p:spPr>
          <a:xfrm>
            <a:off x="368316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й уровень производственного риска для всех организаций, т.е.</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считается, что все организации находятся в одной группе риск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37"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1989000" y="2344680"/>
            <a:ext cx="642960" cy="642960"/>
            <a:chOff x="1989000" y="2344680"/>
            <a:chExt cx="642960" cy="642960"/>
          </a:xfrm>
        </p:grpSpPr>
        <p:sp>
          <p:nvSpPr>
            <p:cNvPr id="142"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4"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5"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6"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47"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a:t>
            </a:r>
            <a:endParaRPr b="0" lang="en-US" sz="2400" spc="-1" strike="noStrike">
              <a:solidFill>
                <a:srgbClr val="ffffff"/>
              </a:solidFill>
              <a:latin typeface="Arial"/>
            </a:endParaRPr>
          </a:p>
        </p:txBody>
      </p:sp>
      <p:sp>
        <p:nvSpPr>
          <p:cNvPr id="148" name=""/>
          <p:cNvSpPr/>
          <p:nvPr/>
        </p:nvSpPr>
        <p:spPr>
          <a:xfrm>
            <a:off x="1258920" y="2997360"/>
            <a:ext cx="205740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процентная ставка по займам  (на рынке действует 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рассматриваемый период времени единая для всех инвесторов и кредиторо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ставка процента).</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49"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6713640" y="2344680"/>
            <a:ext cx="642960" cy="642960"/>
            <a:chOff x="6713640" y="2344680"/>
            <a:chExt cx="642960" cy="642960"/>
          </a:xfrm>
        </p:grpSpPr>
        <p:sp>
          <p:nvSpPr>
            <p:cNvPr id="154"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6"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7"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8"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59"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a:t>
            </a:r>
            <a:endParaRPr b="0" lang="en-US" sz="2400" spc="-1" strike="noStrike">
              <a:solidFill>
                <a:srgbClr val="ffffff"/>
              </a:solidFill>
              <a:latin typeface="Arial"/>
            </a:endParaRPr>
          </a:p>
        </p:txBody>
      </p:sp>
      <p:sp>
        <p:nvSpPr>
          <p:cNvPr id="160" name=""/>
          <p:cNvSpPr/>
          <p:nvPr/>
        </p:nvSpPr>
        <p:spPr>
          <a:xfrm>
            <a:off x="604512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ссрочный характер всех потоков денежных средств  (т.е. темпы</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ироста равны нулю, а доходы имеют постоянную величин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61"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6"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7"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8"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9"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0"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a:t>
            </a:r>
            <a:endParaRPr b="0" lang="en-US" sz="2400" spc="-1" strike="noStrike">
              <a:solidFill>
                <a:srgbClr val="ffffff"/>
              </a:solidFill>
              <a:latin typeface="Arial"/>
            </a:endParaRPr>
          </a:p>
        </p:txBody>
      </p:sp>
      <p:sp>
        <p:nvSpPr>
          <p:cNvPr id="171" name=""/>
          <p:cNvSpPr/>
          <p:nvPr/>
        </p:nvSpPr>
        <p:spPr>
          <a:xfrm>
            <a:off x="3683160" y="3106800"/>
            <a:ext cx="20574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физические лица могут осуществлять ссудно-заемные операции по</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е;</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73"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
          <p:cNvGrpSpPr/>
          <p:nvPr/>
        </p:nvGrpSpPr>
        <p:grpSpPr>
          <a:xfrm>
            <a:off x="1989000" y="2344680"/>
            <a:ext cx="642960" cy="642960"/>
            <a:chOff x="1989000" y="2344680"/>
            <a:chExt cx="642960" cy="642960"/>
          </a:xfrm>
        </p:grpSpPr>
        <p:sp>
          <p:nvSpPr>
            <p:cNvPr id="178"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0"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1"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83"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a:t>
            </a:r>
            <a:endParaRPr b="0" lang="en-US" sz="2400" spc="-1" strike="noStrike">
              <a:solidFill>
                <a:srgbClr val="ffffff"/>
              </a:solidFill>
              <a:latin typeface="Arial"/>
            </a:endParaRPr>
          </a:p>
        </p:txBody>
      </p:sp>
      <p:sp>
        <p:nvSpPr>
          <p:cNvPr id="184" name=""/>
          <p:cNvSpPr/>
          <p:nvPr/>
        </p:nvSpPr>
        <p:spPr>
          <a:xfrm>
            <a:off x="1320840" y="3106800"/>
            <a:ext cx="2057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я прибыль организаций идет на выплату дивидендов;</a:t>
            </a:r>
            <a:endParaRPr b="0" lang="en-US" sz="1400" spc="-1" strike="noStrike">
              <a:solidFill>
                <a:srgbClr val="ffffff"/>
              </a:solidFill>
              <a:latin typeface="Arial"/>
            </a:endParaRPr>
          </a:p>
        </p:txBody>
      </p:sp>
      <p:sp>
        <p:nvSpPr>
          <p:cNvPr id="185"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9" name=""/>
          <p:cNvGrpSpPr/>
          <p:nvPr/>
        </p:nvGrpSpPr>
        <p:grpSpPr>
          <a:xfrm>
            <a:off x="6713640" y="2344680"/>
            <a:ext cx="642960" cy="642960"/>
            <a:chOff x="6713640" y="2344680"/>
            <a:chExt cx="642960" cy="642960"/>
          </a:xfrm>
        </p:grpSpPr>
        <p:sp>
          <p:nvSpPr>
            <p:cNvPr id="190"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1"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2"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3"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4"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95"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a:t>
            </a:r>
            <a:endParaRPr b="0" lang="en-US" sz="2400" spc="-1" strike="noStrike">
              <a:solidFill>
                <a:srgbClr val="ffffff"/>
              </a:solidFill>
              <a:latin typeface="Arial"/>
            </a:endParaRPr>
          </a:p>
        </p:txBody>
      </p:sp>
      <p:sp>
        <p:nvSpPr>
          <p:cNvPr id="196" name=""/>
          <p:cNvSpPr/>
          <p:nvPr/>
        </p:nvSpPr>
        <p:spPr>
          <a:xfrm>
            <a:off x="6045120" y="3106800"/>
            <a:ext cx="2057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тсутствую налоги, т.е. полное отсутствие налогов.</a:t>
            </a:r>
            <a:endParaRPr b="0" lang="en-US" sz="1400" spc="-1" strike="noStrike">
              <a:solidFill>
                <a:srgbClr val="ffffff"/>
              </a:solidFill>
              <a:latin typeface="Arial"/>
            </a:endParaRPr>
          </a:p>
        </p:txBody>
      </p:sp>
      <p:sp>
        <p:nvSpPr>
          <p:cNvPr id="197"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3"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4"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5"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6"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a:t>
            </a:r>
            <a:endParaRPr b="0" lang="en-US" sz="2400" spc="-1" strike="noStrike">
              <a:solidFill>
                <a:srgbClr val="ffffff"/>
              </a:solidFill>
              <a:latin typeface="Arial"/>
            </a:endParaRPr>
          </a:p>
        </p:txBody>
      </p:sp>
      <p:sp>
        <p:nvSpPr>
          <p:cNvPr id="207" name=""/>
          <p:cNvSpPr/>
          <p:nvPr/>
        </p:nvSpPr>
        <p:spPr>
          <a:xfrm>
            <a:off x="3683160" y="3106800"/>
            <a:ext cx="2057400" cy="22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рганизации эмитируют только два вида обязательств: долговые с</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ой и акции (рисковый капитал); - отсутствуют затраты, связанные с банкротство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0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Основываясь на сделанных допущениях, Модильяни и Миллер доказали два утверждения:</a:t>
            </a:r>
            <a:r>
              <a:rPr b="1" lang="ru-RU" sz="3200" spc="-1" strike="noStrike">
                <a:solidFill>
                  <a:srgbClr val="ffffff"/>
                </a:solidFill>
                <a:latin typeface="Arial"/>
              </a:rPr>
              <a:t> </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При отсутствии налогов рыночная стоимость организации не зависит от структуры капитала  (т.е. способа ее финансирования). </a:t>
            </a:r>
            <a:r>
              <a:rPr b="1" lang="ru-RU" sz="3200" spc="-1" strike="noStrike">
                <a:solidFill>
                  <a:srgbClr val="f0f7bd"/>
                </a:solidFill>
                <a:latin typeface="Arial"/>
              </a:rPr>
              <a:t>VU=VL=NOI/CCSU</a:t>
            </a:r>
            <a:endParaRPr b="0" lang="en-US" sz="3200" spc="-1" strike="noStrike">
              <a:solidFill>
                <a:srgbClr val="ffffff"/>
              </a:solidFill>
              <a:latin typeface="Arial"/>
            </a:endParaRPr>
          </a:p>
          <a:p>
            <a:pPr marL="343080" indent="-343080">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0f7bd"/>
                </a:solidFill>
                <a:latin typeface="Arial"/>
              </a:rPr>
              <a:t> </a:t>
            </a:r>
            <a:r>
              <a:rPr b="1" lang="ru-RU" sz="1600" spc="-1" strike="noStrike">
                <a:solidFill>
                  <a:srgbClr val="f0f7bd"/>
                </a:solidFill>
                <a:latin typeface="Arial"/>
              </a:rPr>
              <a:t>VU</a:t>
            </a:r>
            <a:r>
              <a:rPr b="0" lang="ru-RU" sz="1600" spc="-1" strike="noStrike">
                <a:solidFill>
                  <a:srgbClr val="ffffff"/>
                </a:solidFill>
                <a:latin typeface="Arial"/>
              </a:rPr>
              <a:t> - рыночная стоимость финансово независимой организации U (стоимости организации без долговых обязательств);</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рганизации с долговыми обязательствами).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a:t>
            </a:r>
            <a:r>
              <a:rPr b="0" lang="ru-RU" sz="1600" spc="-1" strike="noStrike">
                <a:solidFill>
                  <a:srgbClr val="f0f7bd"/>
                </a:solidFill>
                <a:latin typeface="Arial"/>
              </a:rPr>
              <a:t> </a:t>
            </a:r>
            <a:r>
              <a:rPr b="0" lang="ru-RU" sz="1600" spc="-1" strike="noStrike">
                <a:solidFill>
                  <a:srgbClr val="ffffff"/>
                </a:solidFill>
                <a:latin typeface="Arial"/>
              </a:rPr>
              <a:t>-операционная прибыль (прибыль до выплаты процентов и налогов);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a:t>
            </a:r>
            <a:r>
              <a:rPr b="0" lang="ru-RU" sz="1600" spc="-1" strike="noStrike">
                <a:solidFill>
                  <a:srgbClr val="ffffff"/>
                </a:solidFill>
                <a:latin typeface="Arial"/>
              </a:rPr>
              <a:t> - стоимость источника  ´собственный капиталª финансово независимой организации (требуемая доходность акционерного капитала);</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a:t>
            </a:r>
            <a:endParaRPr b="0" lang="en-US" sz="1800" spc="-1" strike="noStrike">
              <a:solidFill>
                <a:srgbClr val="ffffff"/>
              </a:solidFill>
              <a:latin typeface="Arial"/>
            </a:endParaRPr>
          </a:p>
          <a:p>
            <a:pPr marL="343080" indent="-343080" algn="ctr">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0f7bd"/>
                </a:solidFill>
                <a:latin typeface="Arial"/>
              </a:rPr>
              <a:t>CCSL= CCSU +Премия за риск =CCSU+(CCSU-CCZ)·(Z/S)</a:t>
            </a:r>
            <a:r>
              <a:rPr b="1" lang="ru-RU" sz="3200" spc="-1" strike="noStrike">
                <a:solidFill>
                  <a:srgbClr val="f0f7bd"/>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Z/S</a:t>
            </a:r>
            <a:r>
              <a:rPr b="0" lang="ru-RU" sz="1600" spc="-1" strike="noStrike">
                <a:solidFill>
                  <a:srgbClr val="f0f7bd"/>
                </a:solidFill>
                <a:latin typeface="Arial"/>
              </a:rPr>
              <a:t> </a:t>
            </a:r>
            <a:r>
              <a:rPr b="0" lang="ru-RU" sz="1600" spc="-1" strike="noStrike">
                <a:solidFill>
                  <a:srgbClr val="ffffff"/>
                </a:solidFill>
                <a:latin typeface="Arial"/>
              </a:rPr>
              <a:t>- коэффициент финансового левериджа  (соотношение заемного и собственного капитала);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CCZ)·(Z/S)</a:t>
            </a:r>
            <a:r>
              <a:rPr b="1" lang="ru-RU" sz="1600" spc="-1" strike="noStrike">
                <a:solidFill>
                  <a:srgbClr val="ffffff"/>
                </a:solidFill>
                <a:latin typeface="Arial"/>
              </a:rPr>
              <a:t> - </a:t>
            </a:r>
            <a:r>
              <a:rPr b="0" lang="ru-RU" sz="1600" spc="-1" strike="noStrike">
                <a:solidFill>
                  <a:srgbClr val="ffffff"/>
                </a:solidFill>
                <a:latin typeface="Arial"/>
              </a:rPr>
              <a:t>премия за риск.</a:t>
            </a:r>
            <a:r>
              <a:rPr b="1" lang="ru-RU"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и два утверждения показывают, что увеличение доли заемных источников в структуре капитала (т.е. изменение структуры источников путем привлечения более дешевых заемных средств) не увеличивает рыночную стоимость организации, так как выгода от привлечения более дешевого заемного капитала уравновешивается увеличением стоимости ее собственного капитала в связи с увеличением степени риска  (т.е. привлечение дешевого источника сопровождается повышением степени риска и соответственно стоимости собственного капитала). Таким образом, согласно выводам теории Модильяни-Миллера при отсутствии налогов стоимость капитала, а также стоимость самой организации, не зависят от структуры источников капита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2:24:42Z</dcterms:created>
  <dc:creator>USER</dc:creator>
  <dc:description/>
  <dc:language>en-US</dc:language>
  <cp:lastModifiedBy>Komp</cp:lastModifiedBy>
  <dcterms:modified xsi:type="dcterms:W3CDTF">2011-06-08T09:49:56Z</dcterms:modified>
  <cp:revision>7</cp:revision>
  <dc:subject/>
  <dc:title>Структура капитала.  Модели Модильяни-Миллера. Компромиссные модели.</dc:title>
</cp:coreProperties>
</file>