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C83-9A86-466E-BD43-4D3875E6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BEF-B39F-40AB-A1A0-986860BD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36A-5087-4989-B3D0-577A9723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F4E-5720-44CD-907D-3BB119F4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52DD-2FE6-409F-A0C9-982877F2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0D4C-6614-4C8D-A030-540E7869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30C9-EF9D-48EE-802E-A106C301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CC3B-6DC2-4733-87F2-91E7FEA5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7114-3560-42FD-B7BC-30FB9B40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F4BE-2F6F-4B11-AE4F-7E484800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FAC5-C5B7-4F6C-B5EA-B49580F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577-923F-4134-ACA4-C90A0F82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5B59-854A-4497-9100-8CADE9E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8207-84FC-4960-B362-B2F64202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43E1-1F73-42DD-88C4-7784F6F1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F78F-2B06-4FB3-9623-C26EAC41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4EB5-ED64-4398-BD51-106242FC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41CC-9021-4AFA-9E97-76A76054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08D0-87DC-44CD-9691-EB5108BF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F4A1-31D2-44E9-A125-97E08FDD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0B1B-EF6C-4254-891C-06DCADAC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37DE-1FC1-407E-958D-E76D6E51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74C-6045-465D-BCED-D722D6A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8A49-53F4-461C-9DE0-98EE3CBE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8B06-A7DB-464E-8367-09DF023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1079-9474-4AA9-962D-671310F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74BD-81AF-454F-82BB-89B18D43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A546-7DFA-47D1-8571-F94F04EC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BD31-88CF-4656-8CFB-537237C6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EF07-AECD-47E5-8715-CF7B1284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BEE88-55D9-48EE-858B-1AF24AC9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A30C-16BF-4224-A753-3272D9F1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A9C3-120F-4372-BD32-C9DD59A4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103-3BDC-4DBF-8294-93F021BC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2C36-163A-4D8B-907E-91F89222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3CBE-E311-4E06-9653-F81965D5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BE13-C7B1-448F-923A-2EF33C81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EB90F-CF7C-467C-B7AA-B607D9B5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C24A-BC80-46A2-B633-964006F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CD70-438F-4FB5-B311-A92B36C0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A66AD-3332-4A07-B6F9-4DACBF92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C73C-4AD8-471F-AB62-A9E9AFA9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1207-F266-4D0E-A270-5B77C6B9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69394-46FC-4D38-B5ED-E20F8DBF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5CD-C450-432A-8AF0-0E257257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0460-0634-4E94-A57F-B4F9D894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24F8-5C7F-40A5-A773-ABB92D0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C3D82-6450-4B97-834D-E867622F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6C524-83EC-4416-A60E-7E5C6F27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4C58E-2E90-4974-A033-9A0CAE8E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1B79C-57A2-4C6C-B7C0-FDD9D41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DF1A1-C224-4946-8BCC-5A2D3E1E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18840-BCF3-4DD0-ABB1-B251F127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E789D-35A0-4805-A35A-C50BF492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EC30A-B4E9-4E6D-B027-BE47CEF1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BB5-81C9-4140-A727-ACE5AF13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DA5BA-DE1C-4A66-A79B-D694CC36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513C7-48F1-40E6-B6F2-8E10F052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E03CA-1482-4D53-BC14-5485D0B7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86AB-4CB1-4BA3-9B3D-A51ADC4A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55F4-CB53-4074-981C-2210AECD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41249-7A01-4095-8A8D-DFB7B962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5C81-7A67-43AF-A3F0-C0985FA0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3E1B4-6E89-40E9-8401-C1E9A024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E8F3F-C64E-47C3-8E1E-8A10A5B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C692E-00B8-4C48-9DA8-3CC22604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EC4-D906-4207-9431-952E513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EAA9-0D26-4A18-8EE6-6B3C072A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B14E7-353B-4700-9E03-8B64BB7C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6B372-9C7D-40A0-A786-3942A166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15D-B5D1-401D-B7B9-0F2490B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12F-74D4-467F-ACB6-E7050C0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70F7-60FE-4E52-8C9D-708721EF4E8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48D5-80E8-460C-9BB6-2D05E797679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E437-5FE7-4EBC-BC75-FB1246334B8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B2A1-A51F-43BD-B470-051CE68429F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0C0A-469F-47AD-91D0-61F621D016B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507D-D39D-4C3D-A5CE-DF1A728F2EB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856800" y="1856880"/>
            <a:ext cx="6480360" cy="19321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 операционного рычаг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515772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кция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213840"/>
            <a:ext cx="8329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ющий показатель –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с финансовой проч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с фин.прочности = выручка от реализации – порог рентабе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ер финансовой прочности показывает, что у предприятия есть запас финансовой устойчивости, а значит, и прибыль. Но чем ниже разница между выручкой и порогом рентабельности, тем  больше риск получить убыт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840" y="285840"/>
            <a:ext cx="85723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еременным затрата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торые изменяются от изменения объема выпуска  продукции, относятся сырье и материалы, топливо и энергия для технологических целей, покупные изделия и полуфабрикаты и т.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остоянным (общефирменным) затратам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амортизационные отчисления, арендная плата, заработная плата административно-управленческого аппарата, %-ы за кредит и т.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атривая поведение переменных и постоянных затрат, следует анализировать состав и структуру затрат на единицу продукции в определенном периоде времени  и при определенном количестве продаж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так характеризуется поведение переменных и постоянных затрат при изменении объема производства (сбыта)  (таблица 1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500040"/>
            <a:ext cx="81867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временных условиях на предприятиях вопросы регулирования массы и динамики прибыли выходят на одно из первых мест в управлении финансовыми ресурсами. Решение данных вопросов входит в рамки операционного (производственного) финансового менеджмента. Известно, что предпринимательская деятельность связана со многими факторами, влияющими на ее результат. Все их можно разделить на две группы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группа факторов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зана с максимизацией прибыли за счет спроса и предложения, ценовой политики, рентабельности продукции, ее конкурентоспособност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я группа факторов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зана с выявлением критических показателей по объему реализуемой продукции, наилучшим сочетанием предельной выручки и предельных затрат, с делением затрат на переменные и постоянны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115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1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дение переменных и постоянных затрат при изменении объема производства (сбыта)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4200" y="1857240"/>
          <a:ext cx="8715600" cy="2286000"/>
        </p:xfrm>
        <a:graphic>
          <a:graphicData uri="http://schemas.openxmlformats.org/drawingml/2006/table">
            <a:tbl>
              <a:tblPr/>
              <a:tblGrid>
                <a:gridCol w="2133720"/>
                <a:gridCol w="1835280"/>
                <a:gridCol w="1512720"/>
                <a:gridCol w="1469880"/>
                <a:gridCol w="1764000"/>
              </a:tblGrid>
              <a:tr h="39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роизвод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бы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 издерж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 издерж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единицу проду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единицу проду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а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ваю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  <p:sp>
        <p:nvSpPr>
          <p:cNvPr id="260" name="Заголовок 1"/>
          <p:cNvSpPr/>
          <p:nvPr/>
        </p:nvSpPr>
        <p:spPr>
          <a:xfrm>
            <a:off x="642960" y="4214880"/>
            <a:ext cx="79725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14200" y="45720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издержек не столько количественное отношение, сколько качественное. Тем не менее влияние динамики переменных и постоянных затрат на формирование финансовых результатов при изменении объема производства весьма существ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500040"/>
            <a:ext cx="7467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но со структурой затрат тесно связан операционный рыча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онный рычаг или производственный леверидж (leverage в дословном переводе - рычаг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механизм управления прибылью предприятия, основанный на оптимизации соотношения постоянных и переменных затрат. С его помощью можно прогнозировать изменение прибыли предприятия в зависимости от изменения объема продаж, а также определить точку безубыточ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285480"/>
            <a:ext cx="7467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онный анализ работает с такими параметрами деятельности предприятия, как затраты, объем реализации и прибыль. Большое значение для операционного анализа имеет разделение затрат на постоянные и переменные. Основными величинами, используемыми в операционном анализе, являются: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аловая маржа (сумма покрытия), сила операционного левериджа, порог рентабельности (точка безубыточности),  запас финансовой проч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Валовая марж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прибыль от реализации + постоянные затр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лад (сумма покрытия)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ыручка от реализации – переменные затр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 рычаг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выручка от реализации – переменные затраты(вклад)) / прибыль от реализ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571320"/>
            <a:ext cx="8400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рактовать эффект воздействия операционного рычага как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валовой марж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ее расчет позволит ответить на вопрос на сколько изменяется прибыль от увеличения объема (производства, сбыта)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яется выручка, изменяется сила рычага.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если сила рычага равна 8,5, а рост выручки планируется на 3%, то прибыль вырастет на: 8,5*3%=25,5%. Если выручка падает на 10%, то прибыль уменьшается на: 8,5*10%=8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ко при каждом росте выручки от реализации сила рычага меняется, а прибыль раст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428760"/>
            <a:ext cx="8472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следующий показатель, который вытекает из операционного анализа, -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г рентабельности (или точка безубыточност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г рентабельности рассчитывается как отношение постоянных затрат к коэффициенту валовой мар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овой маржи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аловая маржа / выручка от реал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г рентабельности = постоянные расходы / К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овой марж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2:31:43Z</dcterms:created>
  <dc:creator>Users</dc:creator>
  <dc:description/>
  <dc:language>en-US</dc:language>
  <cp:lastModifiedBy>User</cp:lastModifiedBy>
  <dcterms:modified xsi:type="dcterms:W3CDTF">2011-06-07T10:01:41Z</dcterms:modified>
  <cp:revision>14</cp:revision>
  <dc:subject/>
  <dc:title>Слайд 1</dc:title>
</cp:coreProperties>
</file>