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932-14E9-4B78-AE82-D232F006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247-B526-46CF-90DF-217B9480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88D-44CB-4F27-8600-B67193FD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6DA-3BE9-4E8D-AF29-E9C39BD2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5243-E914-4B7F-A8C6-30F948E5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7868-4CAC-465F-A7CA-FE6DF3F1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519A-F974-4E41-ADD6-0A707183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3466-B528-4B67-9DB1-BEF4358D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3151-4E85-481B-BE28-4BBCC7CB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7BF2-18DF-4F83-8C97-30404380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8D7E-49F6-4165-861C-2479D545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A01-1776-4707-9C8D-8B0AA8B9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2ABF-D259-47D9-AF3D-A641796B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A4C9-31EB-4A0A-937F-D68148AE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68C5-B257-4938-BC36-F8C3129B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F798-8701-4D9F-8745-BC7B7A2E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117E-4789-49E6-89D3-EF0FD88A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9D1-4951-4FA9-A129-D8639085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312-F8CB-42C4-B2DF-369029E7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0DD-332E-4A57-82E6-A6833120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A44-98CB-4002-8F60-67DA37EB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D62-388E-4935-AC65-138CFCE9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8F6-0076-4B65-BBB9-EC1D7B24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ED0-8A6B-4D81-9647-1AAAE682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90D7-D8A9-4C9D-BC83-39AE403E3F0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CC23-AC42-436E-802A-6AF01467CBB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оимость капитал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4071600"/>
            <a:ext cx="218448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Лекция 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реимуще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зможность мобилизации значительных объемов денежных средств и финансирования крупномасштабных инвестиционных проектов и программ на экономически выгодных для предприятия условиях без угрозы вмешательства инвесторов в управление его текущей финансово-хозяйственной деятельностью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зможность маневрирования при определении характеристик выпуска: все параметры облигационного займа (объем эмиссии, процентная ставка, сроки, условия обращения и погашения и т.д.) определяются эмитентом самостоятельно с учетом характера осуществляемого за счет привлекаемых средств инвестиционного проекта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зможность аккумулирования денежных средств частных инвесторов, привлечения финансовых ресурсов юридических лиц на достаточно длительный срок (продолжительнее срока кредитов, предоставляемых коммерческими банками) и на более выгодных условиях с учетом реальной экономической обстановки и состояния финансового рынка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еспечение оптимального сочетания уровня доходности для инвесторов, с одной стороны, и уровня затрат предприятия-эмитента на подготовку и обслуживание облигационного займа, с другой сторон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744480" y="75240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реимуществ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оимость капита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b* = [ N q*  + (N – P)/n] / [(N + 2 P)/3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P – сумма, получаемая от размещения одной облигации с учетом расходов на эмисс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q*  -  купонная ставка, скорректированная  учетом «эффекта налогового щита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Гордон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s   =   D1 / Pm (1 – L) + g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s - стоимость акционерного капитала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 m - рыночная цена одной акции (цена размещения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D1 - дивиденд, выплачиваемый в первый год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g – ставка роста дивиденда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L – ставка, характеризующая расходы на эмиссию (в относительной величине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дель определения стоимости финансовых активов(САРМ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нимается решение о вложении капитала инвесторы учитывают два фактора – уровень доходности и уровень риска, связанный с данным финансовым активом. При этом их оценки данных параметров совпадают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 всех инвесторов один и тот же инвестиционный горизонт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 всех инвесторов одинаковое отношение к риску (это не инвесторы – спекулянты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рынке существуют безрисковые активы и возможность брать и давать капитал взаймы под безрисковую процентную ставку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финансовые возможности инвесторов не влияют на их инвестиционные реш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цены активов не влияет поведение отдельных инвесто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рынке отсутствуют операционные издерж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АР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E = f + B (Em  - f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C s = 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E  - требуемая доходность акций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f   - доходность безрискового актива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Em  - средняя доходность на рынке акц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дель использования стоимости облиг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C s = YTM + (Em  - Emb)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YTM – доходность к погашению облигационного займа, рассчитанная на полный срок жизни облиг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прибыли на акци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Cs =  EPS / Pm 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де EPS - величина прибыли на одну акцию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m - рыночная цена одной ак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ценка стоимости нераспределенной  прибыл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p   =   D1 / Pm + 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 использовании других методов эмиссионные издержки не учитываются и формулы расчета не претерпевают никаких изменен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755640" y="76500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редняя и предельная цена капитал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WACC = ∑ Ck wk, гд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Ck  - стоимость каждого источника средств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wk  - доля данного источника в общей сумме инвестируемого капит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пита́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вокупность товаров, имущества, активов, используемых для получения прибыли, богатстваВ более узком смысле это источник дохода в виде средств производства (физический капитал). Под денежным капиталом понимают деньги, с помощью которых приобретается физический капитал. Направление материальных и денежных средств в экономику, в производство, называют также капиталовложениями или инвестициями. Направленные на потребление ресурсы капиталом не являютс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капита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921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ой капитал — переносит свою стоимость на продукт производства по частям за относительно большое время (например, станок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оротный капитал — переносит свою стоимость на продукт производства всю сразу (например, мука для выпечки хлеба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стоянный капитал — не изменяет размер стоимости, а лишь переносит её на результат производства сразу или по частям (все затраты, кроме заработной платы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менный капитал — используется для найма рабочей силы, имеет форму заработной платы, изменяет размер стоим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бочий капитал — финансовый показатель, характеризующий ликвидность компан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оимость капита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ена, которую предприятие платит за его использование, т.е. годовые расходы по обслуживанию задолженности перед инвесторами и кредиторами. Количественно она измеряется в виде процентной ставки, характеризующей отношение общей суммы данных расходов к сумме всего капит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оимость капитал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характеризует тот уровень доходности инвестированного капитала, который должно обеспечить предприятие, чтобы не уменьшить свою рыночную стоим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асто используется в качестве ставки дисконтирования, в процессе анализа будущих денежных потоков и оценки эффективности производственных инвестиц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является также критерием принятия управленческих решений относительно использования лизинга  или  банковского кредита для приобретения основных производственных средст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казатель стоимости капитала в разрезе отдельных его элементов (стоимости заемных средств) используется в процессе управления структурой капитала на основе механизма финансового рычаг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0160" y="983880"/>
            <a:ext cx="8345160" cy="30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Источники </a:t>
            </a:r>
            <a:br>
              <a:rPr sz="5400"/>
            </a:b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средств компании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сточники краткосрочных средст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3933360"/>
            <a:ext cx="40212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едиторская задолжен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43280" y="3933720"/>
            <a:ext cx="40212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ткосрочные ссуды и зай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 flipH="1">
            <a:off x="2124000" y="2421000"/>
            <a:ext cx="1224000" cy="14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5076720" y="2421000"/>
            <a:ext cx="863640" cy="14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сточники долгосрочного капитал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26920" y="3933360"/>
            <a:ext cx="294192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бственный капита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750960" y="74916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сточники долгосрочного капитал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5867280" y="4005360"/>
            <a:ext cx="2305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емный капита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 flipH="1">
            <a:off x="1834920" y="2421000"/>
            <a:ext cx="1368360" cy="1584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5796000" y="2421000"/>
            <a:ext cx="1081080" cy="165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2000" y="2853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Оценка стоимости облигационного займ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5:39:02Z</dcterms:created>
  <dc:creator>Пользователь</dc:creator>
  <dc:description/>
  <dc:language>en-US</dc:language>
  <cp:lastModifiedBy>Admin</cp:lastModifiedBy>
  <dcterms:modified xsi:type="dcterms:W3CDTF">2011-06-07T10:41:12Z</dcterms:modified>
  <cp:revision>3</cp:revision>
  <dc:subject/>
  <dc:title>стоимость капитала</dc:title>
</cp:coreProperties>
</file>