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071-C8E0-477E-975B-813BA1D9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80F-0A4C-4577-A35D-029BF71A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B73-953B-46A9-A289-F1DD51C4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64C-6AF3-440D-B6A8-5ACFD148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0EF-485A-469C-A447-5E29FC7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2C9-85AF-415F-9BF1-314A324C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2070-A49D-4468-81AC-64BFBC43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500-9F63-4775-BBBB-0DE670F4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019-8D54-40DE-A6A3-8352513C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35F-2204-4D1D-B59C-094F9AD2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60B-0F56-44A0-9E98-DDD3B52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F55-83A4-4659-9E27-3AE3C0E6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133D-77B1-4D2F-BB22-4EB7FE34BF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8076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600" spc="-1" strike="noStrike">
                <a:solidFill>
                  <a:srgbClr val="ffff00"/>
                </a:solidFill>
                <a:latin typeface="Times New Roman"/>
              </a:rPr>
              <a:t>ЕЖЕЛГІ ДҮНИЕ ЖӘНЕ ОРТА ҒАСЫРДАҒЫ ЭКОНОМИКАЛЫҚ ІЛІМД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295280" y="0"/>
            <a:ext cx="6172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ЖОСПАР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523880"/>
            <a:ext cx="86104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cc00"/>
                </a:solidFill>
                <a:latin typeface="Times New Roman"/>
              </a:rPr>
              <a:t>Экономикалық ойлардың және олардың таптық табиғатының пайда болуына әсер ететін әлеуметтік – экономикалық тарихи жағдайла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cc00"/>
                </a:solidFill>
                <a:latin typeface="Times New Roman"/>
              </a:rPr>
              <a:t>Ежелгі Шығыс және көне дәуірдегі экономикалық ой-пікірл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cc00"/>
                </a:solidFill>
                <a:latin typeface="Times New Roman"/>
              </a:rPr>
              <a:t>Орта ғасырдағы экономикалық ілімде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380880"/>
            <a:ext cx="84582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Ежелгі Шығыс. Ежелгі Египет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752480"/>
            <a:ext cx="8534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3300"/>
                </a:solidFill>
                <a:latin typeface="Times New Roman"/>
              </a:rPr>
              <a:t>Әлемдік өркениеттің бесігі. Біздің эрамызға дейінгі 4 мыңжылдықта осы елдерде алғашқы мемлекеттік құрылымдардың пайда болуы құл иеленушілік қоғамда экономикалық басқарудың мемлекеттік формасына әкелді. Міне осы кезеңде Ежелгі Египетте экономикалық ой-пікірлердің ішінде негізінен мынадай мәселелер тұр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3300"/>
                </a:solidFill>
                <a:latin typeface="Times New Roman"/>
              </a:rPr>
              <a:t>Мемлекеттік шаруашылықты ұйымдастыру мен басқа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3300"/>
                </a:solidFill>
                <a:latin typeface="Times New Roman"/>
              </a:rPr>
              <a:t>Мемлекетті жұмыс күшімен және өндіріс құралдарымен жабдықт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3300"/>
                </a:solidFill>
                <a:latin typeface="Times New Roman"/>
              </a:rPr>
              <a:t>Жұмысшыларды азық-түлікпен қамтамасыз 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3300"/>
                </a:solidFill>
                <a:latin typeface="Times New Roman"/>
              </a:rPr>
              <a:t>Жекеменшікті қорға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358"/>
          <p:cNvPicPr/>
          <p:nvPr/>
        </p:nvPicPr>
        <p:blipFill>
          <a:blip r:embed="rId2"/>
          <a:stretch/>
        </p:blipFill>
        <p:spPr>
          <a:xfrm rot="5400000">
            <a:off x="-1376280" y="2900160"/>
            <a:ext cx="35816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358"/>
          <p:cNvPicPr/>
          <p:nvPr/>
        </p:nvPicPr>
        <p:blipFill>
          <a:blip r:embed="rId3"/>
          <a:stretch/>
        </p:blipFill>
        <p:spPr>
          <a:xfrm rot="16200000">
            <a:off x="6875280" y="3004920"/>
            <a:ext cx="3673440" cy="86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04920" y="3049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ЖЕЛГІ АЗИЯ. ВАВИЛОНИЯ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889280"/>
            <a:ext cx="84582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d60093"/>
                </a:solidFill>
                <a:latin typeface="Times New Roman"/>
              </a:rPr>
              <a:t>Вавилония патшасы Хаммурапидің (билік еткен жылдары 1792-1750 б.э.д.) заңдар жүйесі мына мәселелерді қарастырд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buClr>
                <a:srgbClr val="d6009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d60093"/>
                </a:solidFill>
                <a:latin typeface="Times New Roman"/>
              </a:rPr>
              <a:t>Жоғары моралды этикалық нормалар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buClr>
                <a:srgbClr val="d6009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d60093"/>
                </a:solidFill>
                <a:latin typeface="Times New Roman"/>
              </a:rPr>
              <a:t>Біреудің жеке меншігіне қол сұқпа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buClr>
                <a:srgbClr val="d6009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d60093"/>
                </a:solidFill>
                <a:latin typeface="Times New Roman"/>
              </a:rPr>
              <a:t>Материалдық шығынды өтеу жауапкершілігі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buClr>
                <a:srgbClr val="d60093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d60093"/>
                </a:solidFill>
                <a:latin typeface="Times New Roman"/>
              </a:rPr>
              <a:t>Еркін адамның құлға айналуын қорға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76520" y="304920"/>
            <a:ext cx="5867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ҚЫТА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1" name="Picture 7" descr="Уголок3"/>
          <p:cNvPicPr/>
          <p:nvPr/>
        </p:nvPicPr>
        <p:blipFill>
          <a:blip r:embed="rId2"/>
          <a:stretch/>
        </p:blipFill>
        <p:spPr>
          <a:xfrm>
            <a:off x="0" y="4243320"/>
            <a:ext cx="2971800" cy="261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Уголок3"/>
          <p:cNvPicPr/>
          <p:nvPr/>
        </p:nvPicPr>
        <p:blipFill>
          <a:blip r:embed="rId3"/>
          <a:stretch/>
        </p:blipFill>
        <p:spPr>
          <a:xfrm>
            <a:off x="6461280" y="3809880"/>
            <a:ext cx="268272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Уголок3"/>
          <p:cNvPicPr/>
          <p:nvPr/>
        </p:nvPicPr>
        <p:blipFill>
          <a:blip r:embed="rId4"/>
          <a:stretch/>
        </p:blipFill>
        <p:spPr>
          <a:xfrm>
            <a:off x="0" y="0"/>
            <a:ext cx="2614680" cy="2971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Уголок3"/>
          <p:cNvPicPr/>
          <p:nvPr/>
        </p:nvPicPr>
        <p:blipFill>
          <a:blip r:embed="rId5"/>
          <a:stretch/>
        </p:blipFill>
        <p:spPr>
          <a:xfrm>
            <a:off x="6172200" y="0"/>
            <a:ext cx="2971800" cy="2614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1752480"/>
            <a:ext cx="76201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d60093"/>
                </a:solidFill>
                <a:latin typeface="Times New Roman"/>
              </a:rPr>
              <a:t>Мұндағы экономикалық ой пікірлер Конфуций (552-479 жж б.э.д) идеялары негізінде қалыптас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d60093"/>
                </a:solidFill>
                <a:latin typeface="Times New Roman"/>
              </a:rPr>
              <a:t>Саяси – экономикалық трактат Гуан-цзы (І</a:t>
            </a:r>
            <a:r>
              <a:rPr b="1" i="1" lang="en-US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V</a:t>
            </a:r>
            <a:r>
              <a:rPr b="1" i="1" lang="kk-KZ" sz="28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– ІІІ  ғ.б.э.д.). Бұл трактат бойынша қоғам мүшелері әлеуметтік принциптерге сай бөлінеді. Мемлекетті билеушілердің бәрі бірдей атақты бола алмайды,  олай болған жағдайда ед жұмысшыларсыз, табыссыз қалған болар 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523880" y="228600"/>
            <a:ext cx="594360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ҮНДІ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89548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00"/>
                </a:solidFill>
                <a:latin typeface="Times New Roman"/>
              </a:rPr>
              <a:t>Үнді тарихында экономикалық ойларды білдіретін ұлы ескерткіштердің бірі Артхашастра трактаты. Бұл трактаттың авторы Каутилья Виннигупта – император Чандрагупта 1 – ң кеңесшісі әрі министрі. Трактат бірнеше бөлімнен тұрады, соның ішінде ІІІ бөлімі – мемлекетті басқар, І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</a:t>
            </a:r>
            <a:r>
              <a:rPr b="1" i="1" lang="kk-K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бөлімі – ел байлығы туралы яғни ежелгі үнді мемлекетінің шаруашылық жағынан дамуы мен оны басқару туралы экономикалық жағынан кеңес беруші нормативтер жиынты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447920"/>
            <a:ext cx="1143000" cy="1447560"/>
          </a:xfrm>
          <a:prstGeom prst="downArrow">
            <a:avLst>
              <a:gd name="adj1" fmla="val 50000"/>
              <a:gd name="adj2" fmla="val 316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Табличка 3"/>
          <p:cNvSpPr/>
          <p:nvPr/>
        </p:nvSpPr>
        <p:spPr>
          <a:xfrm>
            <a:off x="857160" y="642960"/>
            <a:ext cx="7358040" cy="1000080"/>
          </a:xfrm>
          <a:custGeom>
            <a:avLst/>
            <a:gdLst>
              <a:gd name="textAreaLeft" fmla="*/ 117720 w 7358040"/>
              <a:gd name="textAreaRight" fmla="*/ 7240320 w 7358040"/>
              <a:gd name="textAreaTop" fmla="*/ 117720 h 1000080"/>
              <a:gd name="textAreaBottom" fmla="*/ 882360 h 1000080"/>
            </a:gdLst>
            <a:ahLst/>
            <a:rect l="textAreaLeft" t="textAreaTop" r="textAreaRight" b="textAreaBottom"/>
            <a:pathLst>
              <a:path w="1588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5272" y="21600"/>
                </a:lnTo>
                <a:arcTo wR="3600" hR="3600" stAng="10800000" swAng="5400000"/>
                <a:lnTo>
                  <a:pt x="158872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ff3300"/>
                </a:solidFill>
                <a:latin typeface="Times New Roman"/>
              </a:rPr>
              <a:t>ЕЖЕЛГІ   ГРЕ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гнутая влево стрелка 6"/>
          <p:cNvSpPr/>
          <p:nvPr/>
        </p:nvSpPr>
        <p:spPr>
          <a:xfrm>
            <a:off x="2500200" y="1785960"/>
            <a:ext cx="1143000" cy="142884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49840 h 1428840"/>
              <a:gd name="textAreaBottom" fmla="*/ 103608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3215003"/>
                <a:lnTo>
                  <a:pt x="16200" y="21360"/>
                </a:lnTo>
                <a:lnTo>
                  <a:pt x="21600" y="17280"/>
                </a:lnTo>
                <a:lnTo>
                  <a:pt x="16200" y="12720"/>
                </a:lnTo>
                <a:lnTo>
                  <a:pt x="16200" y="14880"/>
                </a:lnTo>
                <a:arcTo wR="21600" hR="7560" stAng="7584997" swAng="2857569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ыгнутая вправо стрелка 5"/>
          <p:cNvSpPr/>
          <p:nvPr/>
        </p:nvSpPr>
        <p:spPr>
          <a:xfrm>
            <a:off x="5072040" y="1785960"/>
            <a:ext cx="1160640" cy="1428840"/>
          </a:xfrm>
          <a:custGeom>
            <a:avLst/>
            <a:gdLst>
              <a:gd name="textAreaLeft" fmla="*/ 155520 w 1160640"/>
              <a:gd name="textAreaRight" fmla="*/ 1005120 w 1160640"/>
              <a:gd name="textAreaTop" fmla="*/ 248400 h 1428840"/>
              <a:gd name="textAreaBottom" fmla="*/ 103536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1" stAng="-5400000" swAng="5400000"/>
                <a:lnTo>
                  <a:pt x="21600" y="11897"/>
                </a:lnTo>
                <a:arcTo wR="21600" hR="7511" stAng="0" swAng="3204205"/>
                <a:lnTo>
                  <a:pt x="5400" y="21362"/>
                </a:lnTo>
                <a:lnTo>
                  <a:pt x="0" y="17214"/>
                </a:lnTo>
                <a:lnTo>
                  <a:pt x="5400" y="12590"/>
                </a:lnTo>
                <a:lnTo>
                  <a:pt x="5400" y="14783"/>
                </a:lnTo>
                <a:arcTo wR="21600" hR="7511" stAng="3204205" swAng="-2840636"/>
                <a:lnTo>
                  <a:pt x="20659" y="9704"/>
                </a:lnTo>
                <a:arcTo wR="21600" hR="7511" stAng="-363569" swAng="-5036431"/>
                <a:close/>
              </a:path>
              <a:path fill="darkenLess" w="21600" h="21600">
                <a:moveTo>
                  <a:pt x="0" y="0"/>
                </a:moveTo>
                <a:arcTo wR="21600" hR="7511" stAng="-5400000" swAng="5400000"/>
                <a:lnTo>
                  <a:pt x="21600" y="11897"/>
                </a:lnTo>
                <a:arcTo wR="21600" hR="7511" stAng="0" swAng="-363569"/>
                <a:lnTo>
                  <a:pt x="20659" y="9704"/>
                </a:lnTo>
                <a:arcTo wR="21600" hR="7511" stAng="-363569" swAng="-5036431"/>
                <a:close/>
              </a:path>
            </a:pathLst>
          </a:cu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108240"/>
            <a:ext cx="7162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cc00"/>
                </a:solidFill>
                <a:latin typeface="Times New Roman"/>
              </a:rPr>
              <a:t>Құл иеленушілік қоғамның үстемдік құруы кезіндегі Ежелгі Грецияның экономикалық құрылымының сипаттамасын сол дәуірдің ойшылдары Ксенофонт, Платон, Аристотельдің еңбектерінен білуге  бола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хметжанова</cp:lastModifiedBy>
  <dcterms:modified xsi:type="dcterms:W3CDTF">2009-10-04T20:28:3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