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gif" ContentType="image/gif"/>
  <Override PartName="/ppt/media/image12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275-0635-4819-8BB5-9442DE0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569-FA75-435B-8F99-4287FA8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7C682-05CB-4246-A4A3-778BADB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3416A-B0C3-4FF7-AD16-9274280C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F3902-B0A9-4BEA-8539-F02C568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42CE0-DCB5-4EE9-BEE5-3EDC315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CEDC1-E5D6-496B-986A-BE5884D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F5D9B-03D3-4694-B415-8E689CCF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97C3-CFB1-41C9-972A-F7B3CBFF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8B297-5249-4E98-BB08-9D1C63D3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1F9BC-CC74-4E5A-A799-D31F8099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AF0-D5C8-437B-AB1E-58F86948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D80-65B2-4F9B-9831-FF43BD37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D82A-6961-4C80-8EBD-049750AF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64C-5673-4C26-A5C8-A399ADBE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3997-77D9-438B-8B0F-07D52636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1BCB-5AE9-4115-9A20-47B246C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6532-DC4C-4C5D-92CE-FE35F093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C36D-3B48-49F4-B5A3-C5F85F0C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7E4A-C939-40BC-86E0-A4CC38EC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783-5E48-4644-A63F-EECE4E4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28C2-D256-4C4C-B566-9700F7C8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7AB2-AA5D-4AA0-8975-CF82021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EAB0-F4DB-41C5-A96F-57BAE612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377-F807-4837-A782-42622E16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48A-95AD-4404-8F52-6DE98806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DA0C-55B6-4280-AC63-9827A517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32AF-2BCA-45EB-A359-FBB341A5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0F64-5BA1-4D30-80E0-A650BAF8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FA4B-A286-404E-A05C-5DDE97CE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C218-50BC-414A-AB4F-F9E42A55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F22-A084-4EF3-83CC-8571B317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CB1A-0EF0-4A91-AFB5-FF02F2BA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4456-32FC-4C20-83A8-B7E05AE0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D133-B56A-49C5-A919-29CE114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66E4-3A9E-4825-A2B0-B72DCA16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B66B-BEAB-4017-94B6-BF0E7CEB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9E8E-A546-467C-B9B8-E3E4DD8D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60C5B-EAA8-41A6-BA1B-E89803B1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8FBC-EF57-4F23-B6F9-0B475910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47EA-48A6-4248-BD31-4B21FF41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51A6-49CB-4169-A768-773AD26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3A5-DA42-4322-9DC2-2A8A3E6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2FF03-5443-4A99-A34E-229A866F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D1D4-ACE3-4BE2-9CD1-10057A7E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58B77-70B6-4FC5-873B-F13CDA5D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ECA6-36FE-44A3-8D80-62B940CE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AB612-3CFF-4D79-BCAD-A8FC7540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74A5A-8D31-41BF-A71A-CB75F3D1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1BD4-C974-4E9B-A9B5-B7EAD367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6CCD-AC2F-4596-9DCB-B1E084BB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6B01B-94A1-4439-A797-FF869289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0E35-2C97-4759-BA9A-35D6CD52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3BB-6A31-471F-9500-3444F81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0C850-9F18-402A-99E2-E670DC28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8D68-3FA7-406C-A70A-BC48F7D7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9780B-E2CF-4A0B-9518-93BDC4C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B717-FD51-4E96-8FBC-5B64C996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BE81B-74AD-42E5-9A79-C51F46A5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10F63-4D3B-47A2-AF56-46669D5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B7624-503C-4928-883E-8D44BC9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4C382-CB7C-4357-9E46-42914A02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27F54-393B-4774-9246-02972F7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E57A-C7E4-4D6F-9AC1-3060A4EA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5DC-6DDF-47A0-9705-4C9CABF8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A05A6-DDBC-484E-9629-43601C68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5EDCB-A8FF-42CE-A416-DBE8424A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C4DC2-AFE2-49AB-9AC8-7C964D17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19B2B-C7BB-40AA-B5C3-4213130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94AC0-2E1D-420B-9A64-9472CA4B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2171-9BA5-4F59-8937-3A255A86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5E2DA-8E45-4517-8AA8-FA570CDE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59579-06A7-4043-BF60-73067044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F0F0-E8F8-4DBD-82D7-0F6B3F1C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9DBA-6679-4766-9E10-F13439C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F5B-0C07-47D8-A679-3A672EE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1BA7-0579-431F-A35D-71FD1B24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26F9-6F4E-4EA2-B217-244CA569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D7F95-2C6B-456E-A304-6E45FB83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0DB8-2D16-42D7-8104-7E862AE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2CAE1-90E2-42AA-A459-62C5254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AF61-6033-4257-BF70-B65CBB30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A1468-D521-4513-9111-D4FE8E6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0604-36AC-44DF-AE2B-D7E193BB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7581B-D641-4643-89F3-E05C2A4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9CC84-E9FF-4200-9498-E1AFC72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9D2-1171-48EF-A7E1-7BD8249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90F5E-97B4-42CD-AC8D-51DC4F98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837B-BB87-4945-A7DE-D714070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99A84-0E00-4E93-9061-DCB4C8EE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A259E-F91F-45D2-BED9-21540698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1881-8316-4985-913A-28A13144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A43D5-13E5-45A0-A452-9680A35E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BC9A2-2E03-4A17-8065-5C0CB2A4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03FF-C458-4265-AD34-233F1C10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1E50D-8819-4549-8892-BD1F5D0A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6AE7A-09DA-4650-99EC-28570794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E0D-018D-45D8-9284-BA87E4F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F2376-4855-4E85-BF1B-B4A5F4B4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DBA4F-F891-4CCF-8AA2-2A5C469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FE955-A23B-4E37-8538-8B56546C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EE448-6594-4A5E-8F0B-3B0665C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0A33C-178E-4E61-9AB7-D32AFD79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02CFB-2639-4907-A9B6-748EC79D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73CB5-8864-44B2-A1FF-9536BC8F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1FC23-32F5-435E-844D-2DC200FB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8D0A-EAFA-4FCC-9523-FEB06E0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234AD-3F23-431F-8B43-3A4EF225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5FC4-8718-4531-8C2D-D4D37D94F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ECE-6F88-4659-8CF1-5E2F02CF95A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FA25-DDE5-45CA-8F80-793901A42F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7F2D-CB58-4960-80D7-3137736C9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748-80D9-41EA-AC4F-6A286F51E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9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172-5CB4-449B-BFE5-1806CFCDA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F6C-259C-414F-AF9B-A6694BB15A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8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8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F1CB-7329-4E41-8C49-87B094A95F02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6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6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3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2DA-0A63-49D3-B495-89633EA542C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395280" y="692280"/>
            <a:ext cx="842472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ЭКОНОМИКАЛЫҚ 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ІЛІМДЕР ТАРИХЫ 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ЕНІ ЗЕРТТЕЙДІ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 rot="54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1224000" y="836640"/>
            <a:ext cx="79200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66"/>
                </a:solidFill>
                <a:latin typeface="Times New Roman"/>
              </a:rPr>
              <a:t>Экономикалық ілімдер тарихының пән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66"/>
                </a:solidFill>
                <a:latin typeface="Times New Roman"/>
              </a:rPr>
              <a:t>Экономикалық ілімдер тарихының әдістер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66"/>
                </a:solidFill>
                <a:latin typeface="Times New Roman"/>
              </a:rPr>
              <a:t>Экономикалық ілім тарихының дамуының жалпы сипаттамас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6" descr="Уголок3"/>
          <p:cNvPicPr/>
          <p:nvPr/>
        </p:nvPicPr>
        <p:blipFill>
          <a:blip r:embed="rId1"/>
          <a:stretch/>
        </p:blipFill>
        <p:spPr>
          <a:xfrm>
            <a:off x="0" y="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5" descr="Уголок3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261468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" descr="Уголок3"/>
          <p:cNvPicPr/>
          <p:nvPr/>
        </p:nvPicPr>
        <p:blipFill>
          <a:blip r:embed="rId3"/>
          <a:stretch/>
        </p:blipFill>
        <p:spPr>
          <a:xfrm>
            <a:off x="0" y="4243320"/>
            <a:ext cx="2971800" cy="2614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8" descr="Уголок3"/>
          <p:cNvPicPr/>
          <p:nvPr/>
        </p:nvPicPr>
        <p:blipFill>
          <a:blip r:embed="rId4"/>
          <a:stretch/>
        </p:blipFill>
        <p:spPr>
          <a:xfrm>
            <a:off x="6461280" y="3809880"/>
            <a:ext cx="2682720" cy="30481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468360" y="0"/>
            <a:ext cx="82962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Экономикалық ілімдер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тарихының пәні-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4360" y="29973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ff"/>
                </a:solidFill>
                <a:latin typeface="Times New Roman"/>
              </a:rPr>
              <a:t>бұл экономикалық ілімдердің пайда болуының, қалыптасуының, дамуының, күресуінің және ауысуының тарихи проц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4" descr="358"/>
          <p:cNvPicPr/>
          <p:nvPr/>
        </p:nvPicPr>
        <p:blipFill>
          <a:blip r:embed="rId1"/>
          <a:stretch/>
        </p:blipFill>
        <p:spPr>
          <a:xfrm rot="5400000">
            <a:off x="-1887480" y="2903400"/>
            <a:ext cx="5105520" cy="8287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" descr="358"/>
          <p:cNvPicPr/>
          <p:nvPr/>
        </p:nvPicPr>
        <p:blipFill>
          <a:blip r:embed="rId2"/>
          <a:stretch/>
        </p:blipFill>
        <p:spPr>
          <a:xfrm rot="16200000">
            <a:off x="5901480" y="2964600"/>
            <a:ext cx="5181840" cy="782640"/>
          </a:xfrm>
          <a:prstGeom prst="rect">
            <a:avLst/>
          </a:prstGeom>
          <a:ln w="0">
            <a:noFill/>
          </a:ln>
        </p:spPr>
      </p:pic>
      <p:sp>
        <p:nvSpPr>
          <p:cNvPr id="746" name="Овал 10"/>
          <p:cNvSpPr/>
          <p:nvPr/>
        </p:nvSpPr>
        <p:spPr>
          <a:xfrm>
            <a:off x="2819520" y="2514600"/>
            <a:ext cx="3456000" cy="16002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ffff99"/>
              </a:gs>
              <a:gs pos="100000">
                <a:srgbClr val="ff9900"/>
              </a:gs>
            </a:gsLst>
            <a:lin ang="5400000"/>
          </a:gra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5050"/>
                </a:solidFill>
                <a:latin typeface="Times New Roman"/>
                <a:ea typeface="Arial Unicode MS"/>
              </a:rPr>
              <a:t>Экономикалық ілімдер тарихының әдістер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оугольник 41"/>
          <p:cNvSpPr/>
          <p:nvPr/>
        </p:nvSpPr>
        <p:spPr>
          <a:xfrm>
            <a:off x="1187280" y="333360"/>
            <a:ext cx="3299040" cy="1079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Ғылыми абстракция әді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41"/>
          <p:cNvSpPr/>
          <p:nvPr/>
        </p:nvSpPr>
        <p:spPr>
          <a:xfrm rot="16200000">
            <a:off x="5802840" y="-321480"/>
            <a:ext cx="1040040" cy="364464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Анализ, синтез тәс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оугольник 41"/>
          <p:cNvSpPr/>
          <p:nvPr/>
        </p:nvSpPr>
        <p:spPr>
          <a:xfrm>
            <a:off x="1143000" y="1752480"/>
            <a:ext cx="990720" cy="3429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тикалық әді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оугольник 41"/>
          <p:cNvSpPr/>
          <p:nvPr/>
        </p:nvSpPr>
        <p:spPr>
          <a:xfrm>
            <a:off x="5003640" y="4149720"/>
            <a:ext cx="3156120" cy="1008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Жалпы, ерекше және жекенің бірлесті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оугольник 41"/>
          <p:cNvSpPr/>
          <p:nvPr/>
        </p:nvSpPr>
        <p:spPr>
          <a:xfrm>
            <a:off x="2050920" y="5300640"/>
            <a:ext cx="3816360" cy="108108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66"/>
                </a:solidFill>
                <a:latin typeface="Times New Roman"/>
                <a:ea typeface="Arial Unicode MS"/>
              </a:rPr>
              <a:t>Тарихи зерттеудің тарихи және логикалық әдістерінің бірліг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08360" y="4292640"/>
            <a:ext cx="533520" cy="990720"/>
          </a:xfrm>
          <a:prstGeom prst="downArrow">
            <a:avLst>
              <a:gd name="adj1" fmla="val 50000"/>
              <a:gd name="adj2" fmla="val 464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5400000">
            <a:off x="2216880" y="3047400"/>
            <a:ext cx="533520" cy="576000"/>
          </a:xfrm>
          <a:prstGeom prst="downArrow">
            <a:avLst>
              <a:gd name="adj1" fmla="val 50000"/>
              <a:gd name="adj2" fmla="val 2699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rot="10800000">
            <a:off x="3563640" y="1557360"/>
            <a:ext cx="533160" cy="990720"/>
          </a:xfrm>
          <a:prstGeom prst="downArrow">
            <a:avLst>
              <a:gd name="adj1" fmla="val 50000"/>
              <a:gd name="adj2" fmla="val 4645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rot="13795800">
            <a:off x="6312960" y="2047320"/>
            <a:ext cx="533160" cy="990720"/>
          </a:xfrm>
          <a:prstGeom prst="downArrow">
            <a:avLst>
              <a:gd name="adj1" fmla="val 50000"/>
              <a:gd name="adj2" fmla="val 4645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940360" y="3716280"/>
            <a:ext cx="5335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95280" y="333360"/>
            <a:ext cx="8353440" cy="14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ЭКОНОМИКАЛЫҚ ІЛІМ </a:t>
            </a:r>
            <a:endParaRPr b="1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758" name="Picture 7" descr="book20"/>
          <p:cNvPicPr/>
          <p:nvPr/>
        </p:nvPicPr>
        <p:blipFill>
          <a:blip r:embed="rId1"/>
          <a:stretch/>
        </p:blipFill>
        <p:spPr>
          <a:xfrm>
            <a:off x="0" y="4581360"/>
            <a:ext cx="2665440" cy="227664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826920" y="2349360"/>
            <a:ext cx="76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600" spc="-1" strike="noStrike">
                <a:solidFill>
                  <a:srgbClr val="ffe103"/>
                </a:solidFill>
                <a:latin typeface="Times New Roman"/>
              </a:rPr>
              <a:t>ертедегі ең ескі және бай тарихы бар ғылымдардың бірі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24000" y="333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33cc"/>
                </a:solidFill>
                <a:latin typeface="Times New Roman"/>
              </a:rPr>
              <a:t>Экономикалық ілімдер тарихы мынадай төрт ірі ағымдармен сипаттала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68360" y="2060640"/>
            <a:ext cx="8209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kk-KZ" sz="2000" spc="-1" strike="noStrike">
                <a:solidFill>
                  <a:srgbClr val="cc3300"/>
                </a:solidFill>
                <a:latin typeface="Times New Roman"/>
              </a:rPr>
              <a:t>бірінші ағым “неоклассикалық” деп аталып, ол өзіне қазіргі “монетаризм” және “неолиберализм” теорияларымен жұптас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c3300"/>
                </a:solidFill>
                <a:latin typeface="Times New Roman"/>
              </a:rPr>
              <a:t>Екінші ағым “капитализмді реттеу” теориясымен айқындалады. Оның негізін қалаушы ағылшын экономисі Дж. Кейнс (1883-1946) болып табыла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c3300"/>
                </a:solidFill>
                <a:latin typeface="Times New Roman"/>
              </a:rPr>
              <a:t>Үшінші ағым “институционализм” теориясымен айқындалады. Оның негізін қалаушы американ ғалым-экономисі Торстейн Веблон (1857-1929) болып табы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cc3300"/>
                </a:solidFill>
                <a:latin typeface="Times New Roman"/>
              </a:rPr>
              <a:t>Төртінші ағым әлеуметтік бағытталған нарықтық шаруашылық теориясымен айқындалады.Осы теорияның негізін қалаушылар неміс ғалымы, мемлекеттік қайраткер Людвиг Эрхард (1897-1977) және германияның ғалым экономисі Вальтер Ойкен (1891-1950) болып табы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7:54:10Z</dcterms:created>
  <dc:creator>Ахметжанова</dc:creator>
  <dc:description/>
  <dc:language>en-US</dc:language>
  <cp:lastModifiedBy>Ахметжанова</cp:lastModifiedBy>
  <dcterms:modified xsi:type="dcterms:W3CDTF">2009-10-04T20:27:48Z</dcterms:modified>
  <cp:revision>11</cp:revision>
  <dc:subject/>
  <dc:title>Слайд 1</dc:title>
</cp:coreProperties>
</file>