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47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5C43-B35F-48EC-A1B9-32940C1C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0BA2-1CF5-41BB-861E-68A6421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902A8-CCEC-4D40-A238-3B0D8BAB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771CB-34F0-47C1-9495-989363F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54C60-55E1-49FC-9BD5-AD8A5F4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17F1D-413B-41E9-BBDC-ABC47C1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749D6-6D04-4776-BBF5-C9898FD4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9BD48-98A2-415B-8CB8-A408467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C9CCC-D503-4B23-9563-81BEF8B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63E9D-9182-4860-91CC-F7DC1C3B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42416-E9FD-45CC-8868-862B821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CA63B-2F42-4885-BB49-983AA23E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0F7C-7E87-43C4-8D7B-C843596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7728B-46A0-4528-A5C4-955D4262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5C31-54C1-4B04-BB7A-08992E6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4080C-F8DA-4057-93FC-297CCD1A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03A53-39D1-4569-9863-C45A539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561DD-A35B-40DE-A678-A42CF7F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4C38A-F37F-4E9F-9704-1B0A230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69071-5CA0-4704-95DA-775CC9C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FBB5F-3702-4912-8D50-0E1F027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AB71E-5057-4DDF-8EDC-7609CEDC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1E402-D23C-4F2E-8709-FCE3B324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5C0A-5A5C-4B5B-947C-8F5D23CB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65BC1-F63D-4AC4-9C41-050096F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465ADD-993C-43BD-8FD6-5D0AB687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4A5C88-D0A2-4ACB-8FF7-A5E3FE2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4E8726-13B0-4925-9303-71B4BBA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060961-05A9-407A-AEAD-FDA5AC5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35BA37-1157-4ECE-9BB3-E0EA71BA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88F97A-B178-4989-A227-56422D50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3B32E4-BF43-462F-A648-BA358D6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AE271-4356-4264-A33B-ADAF5437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6C4E08-D82E-4095-B8BA-5FB290F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172-1634-4A9F-BDC0-44E3497B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C170E5-8D7E-4558-A7E0-6867A34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E5F87A-7BAA-4FF3-8BA7-FC48F582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3F5B9C-FDF3-49E3-B10D-2E232663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6E25F-C5DC-480A-9CBD-D132AD05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9F633-FE34-4B95-83AA-C0B5F8E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2B570-3C1C-4996-8160-71197DA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FE2C4-031E-4FB4-8D41-C1A79862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B267F-C035-449B-B373-A3AC60D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F4468-D653-41C2-87D4-CE760C5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EB6AF-2FD2-4EBA-BB05-B53CC9F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F38F-2F77-411D-9E40-5A2FE97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43AE1-DE67-418F-B09B-48123F9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3CFF5-16E5-4CAE-8B43-CB01FD0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02230-A285-4E12-BA8D-524DE27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34CD7-42D9-462C-9604-88FE30AA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83DE2-0C71-421D-A4FF-E7F09C1A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10D-0A82-4522-A87A-8BBDBD2B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A92-5C9B-4753-BAAB-4C9FE0FC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958-51CF-4448-81F9-5623E09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42E-C0A5-4944-A0BE-03B9871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75F-6668-44D5-996C-9731945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805B-5F16-4F1F-BA88-DED656C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CD64-04AE-402E-8D23-D8B5B28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35F3-120A-4152-8D5F-B953492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5E7-DEF4-4FDA-A63E-F84E1C1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409-DCA7-451E-9A91-2F8EB47A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7D8-A611-4ABD-8177-7DADE432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F2384-32A6-489A-90A0-EFDC5AEE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E9F77-BBE0-4160-9F28-49F8A555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26749-B8BD-4724-93C9-AAA6AC7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138B8-34A9-4F44-BC61-79E9B424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A9057-64E3-48BD-BD83-54480B5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ED61-FE5C-4A66-86DE-F413AE7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B130B-B893-43CF-A520-0FDEB22E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2D4B7-2594-47C4-8DC3-94D87C6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ABAFA-3E8C-40E1-AB8A-F7B685B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66620-EC9D-445E-9364-02621A0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AE75B-1143-4009-99A1-DAEA62F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AE6BA-A229-436D-A5CE-2E1300C9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A8C55C-3692-487E-92B2-90B941A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2A00C-173E-427D-A11F-607145E4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9368F-600A-4B01-A9EB-27695B7D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BF04F-D34B-468E-8C84-D4BB52F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221B-7C1A-44D2-AED7-AC3E4E7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19F61-D8E3-4F60-834C-E9EE6724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14D46-AA55-4010-980F-D2B1210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5AA4F-A450-4068-A074-9D54DCD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69061-6F20-4BE7-8341-8200C4BE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A93B2-D476-4E7F-9F6F-22766DD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0E7BC-5495-41B6-AFCB-C0AE9A5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A8454-46DE-4BB1-BD82-A40D2FAF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1E8B8-12A3-41C2-B3A4-8564F81D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92C5B-CE5E-4AA1-85C3-A8806A02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ADA96-0DCD-41DD-A4BE-B4D5C963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0C99-CBF4-4841-AB16-B73379E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3F377-0C00-4C1D-9A65-D5D4E45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637D3-29A5-40AE-8078-4A76B19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8F529-4D78-470E-A547-666BEAED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ABB59-7595-44E2-85C0-70655F6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40DE4-16F5-47DC-A236-F5F0D80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DEACF8-C762-48D1-A5C8-227CEC4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314446-C5C7-4CA5-8EBE-BCC16778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72533-60CE-4C9B-B8BB-860286D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0611E0-2751-4E9F-8064-333AED1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95FB4-6512-461C-A006-0DC5F211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548F-356C-4444-87C7-87F62CE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7096C-FE80-47D9-ABA4-0A426B66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80BC9-B37A-441E-99EA-B888E78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2778A-BFE1-4A18-86C5-3294B428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C622E7-49D8-4BB8-A410-1344C87B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BD075-1104-4317-943F-E3027121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A83F6-383F-4638-9432-1D5C314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B209E-F98D-4B23-8422-209D94FF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5240A-1FBA-4B7A-A507-E70B40A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5CA6D3-113C-4E23-8E99-8FC2A86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10B07-688F-4F87-BBF8-D5D7E77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050A-FC22-4DBF-8E20-4371B36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AA287-DA08-4D0A-8C37-9F58B6B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0465F-6593-477E-AD31-9C8A81FB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BC7FE-A5FF-4356-ABAB-E7566B0D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53C82-7399-4C44-9349-C9129669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CE4A8-103C-4EBF-A2F7-62822F2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8E1B8-AE96-486D-94EC-657B4EA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3BD5C-C57A-43BE-8037-A8FD1AD6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2AC2C2-7219-46F1-A1EC-91A321CA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2B3D0C-581E-42FC-83D6-CAAA121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46F2CB-E2A7-4C86-80B5-9923CED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791F-3427-4198-90E0-562796E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54303B-A61F-4B21-BE23-4D97D0A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EE762-708C-44AF-B9E1-BD5106FD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EF924-EC20-49ED-9FD1-98B6F53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1F99B-70BF-455F-BA0E-7EFC2614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1EB4B-1AC0-435C-BF1C-870F92E8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121B2C-0770-4DD7-ABA3-7ECD8472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824D90-A2B7-46FA-A3E4-BF4C724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A3D1E7-FBEB-4B4C-805F-9A37CB60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7E592-C762-4C07-90B5-6D9E3AF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DFFA9-124F-4E1A-9A19-4D475D2C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A5C2-184B-4250-9C97-14C5ABD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8B9A9-AC6C-4A90-9678-16D6903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1D5FA-4AE5-40AC-901C-1BF762E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7E36B1-DF3C-41F4-9E6C-591F968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EE154-4F8F-4444-A89B-664EBE3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6D6C0-439B-4EBB-B346-3E418D2F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578F62-5B7C-4075-908A-D5191178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D8B9D-709B-415E-BECE-8360CAB2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DA253-5A09-40FD-92CF-4EDF38EB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9D235-6D88-4D24-BEAB-4FECAA5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CA551-C464-4669-9E4D-AC800FC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7a79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6DE0-A380-4A1B-A46F-262D699FA6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CCD-526C-4A98-A19B-6D6C74696D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642-9BD8-47D9-B164-71B4CA35F3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5b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AB9-77CD-4BE7-A87D-C0686793D2FE}" type="slidenum">
              <a:rPr b="0" lang="ru-RU" sz="1200" spc="-1" strike="noStrike">
                <a:solidFill>
                  <a:srgbClr val="5b5b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7a79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3C7-1BBF-4A93-BA6E-316226E3B5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A82-593F-455A-B815-35C96499A6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027A-9D91-4ABF-84A7-396FD7BF58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E21A-1B9F-49BF-8B8F-4E6564348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063C-10C0-4CFC-861A-220080C2C8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DA18-C69E-48C1-B300-D7CB5787E4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4B2-EB66-4DDB-ACA0-28DC60817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1B4D-0F38-4419-AFA5-821DB4226C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b0a25"/>
                </a:solidFill>
                <a:uFillTx/>
                <a:latin typeface="Arial"/>
              </a:rPr>
              <a:t>Лабораторная посуда общего назначения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имические воронки стеклянные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1" name="Содержимое 3" descr="компоненты для косметики магазин, как сделать крем своими руками, самодельный крем инструменты"/>
          <p:cNvPicPr/>
          <p:nvPr/>
        </p:nvPicPr>
        <p:blipFill>
          <a:blip r:embed="rId1"/>
          <a:stretch/>
        </p:blipFill>
        <p:spPr>
          <a:xfrm>
            <a:off x="1523880" y="161928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имические воронки пластиков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3" name="Содержимое 3" descr="http://www.hemltd.ru/export/sites/HemLtd/catalog/general_labware/funnels0.jpg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8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апельная и делительные воронки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5" name="Содержимое 3" descr="Капельная и делительные воронки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Капельная воронка с компенсатором давления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7" name="Содержимое 3" descr="Капельная воронка с компенсатором давления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Колба</a:t>
            </a:r>
            <a:r>
              <a:rPr b="0" lang="ru-RU" sz="4000" spc="-1" strike="noStrike">
                <a:solidFill>
                  <a:srgbClr val="5b5b89"/>
                </a:solidFill>
                <a:latin typeface="Arial"/>
              </a:rPr>
              <a:t>  — стеклянный сосуд с круглым или плоским дном, обычно с узким длинным горлом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9" name="Picture 5" descr="про"/>
          <p:cNvPicPr/>
          <p:nvPr/>
        </p:nvPicPr>
        <p:blipFill>
          <a:blip r:embed="rId1"/>
          <a:stretch/>
        </p:blipFill>
        <p:spPr>
          <a:xfrm>
            <a:off x="5638680" y="1260360"/>
            <a:ext cx="3505320" cy="4530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5720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Воронка с перегородкой из пористого стекла</a:t>
            </a:r>
            <a:r>
              <a:rPr b="1" lang="ru-RU" sz="2800" spc="-1" strike="noStrike">
                <a:solidFill>
                  <a:srgbClr val="5b5b8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64832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b0a25"/>
                </a:solidFill>
                <a:latin typeface="Arial"/>
              </a:rPr>
              <a:t>Воронка фильтрующая Шотт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62" name="Рисунок 4" descr="Воронка с перегородкой из пористого стекла 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5" descr="http://aqualog.ru/uploads/images/1/3/2/e/6/c26f72f0ec.jpg"/>
          <p:cNvPicPr/>
          <p:nvPr/>
        </p:nvPicPr>
        <p:blipFill>
          <a:blip r:embed="rId2"/>
          <a:stretch/>
        </p:blipFill>
        <p:spPr>
          <a:xfrm>
            <a:off x="4724280" y="2286000"/>
            <a:ext cx="392436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Воронка для порошков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65" name="Содержимое 3" descr="http://www.fisherscientific.ru/UserFiles/Image/Laboratornaya_posuda_vitlab_iz_plastika/27995_1_big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518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Химические стаканы </a:t>
            </a:r>
            <a:r>
              <a:rPr b="0" lang="ru-RU" sz="4000" spc="-1" strike="noStrike">
                <a:solidFill>
                  <a:srgbClr val="0b0a25"/>
                </a:solidFill>
                <a:latin typeface="Arial"/>
              </a:rPr>
              <a:t>- применяются для разнообразных химических работ: перемешивания, нагревания при помощи водяной бани, песочной бани или газовой горелки через асбестовую прокладку и т. п</a:t>
            </a:r>
            <a:r>
              <a:rPr b="0" i="1" lang="ru-RU" sz="4000" spc="-1" strike="noStrike">
                <a:solidFill>
                  <a:srgbClr val="0b0a25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Химические стаканы фарфоровые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68" name="Содержимое 3" descr="http://www.laborkomplekt.ru/img/cat/item/5024-01_big.jpg"/>
          <p:cNvPicPr/>
          <p:nvPr/>
        </p:nvPicPr>
        <p:blipFill>
          <a:blip r:embed="rId1"/>
          <a:stretch/>
        </p:blipFill>
        <p:spPr>
          <a:xfrm>
            <a:off x="723960" y="12952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Стаканы лабораторные стеклянные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0" name="Содержимое 3" descr="http://www.turbohefe.eu/catalogus/fotos/20875_1.jpg"/>
          <p:cNvPicPr/>
          <p:nvPr/>
        </p:nvPicPr>
        <p:blipFill>
          <a:blip r:embed="rId1"/>
          <a:stretch/>
        </p:blipFill>
        <p:spPr>
          <a:xfrm>
            <a:off x="800280" y="12952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0a25"/>
                </a:solidFill>
                <a:latin typeface="Arial"/>
              </a:rPr>
              <a:t>Цель занятия:</a:t>
            </a:r>
            <a:br>
              <a:rPr sz="4400"/>
            </a:br>
            <a:r>
              <a:rPr b="0" lang="ru-RU" sz="4400" spc="-1" strike="noStrike">
                <a:solidFill>
                  <a:srgbClr val="0b0a25"/>
                </a:solidFill>
                <a:latin typeface="Arial"/>
              </a:rPr>
              <a:t>Ознакомиться с лабораторной посудой общего назначения.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457200" y="304920"/>
            <a:ext cx="403848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Стакан химический термостойки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648320" y="304920"/>
            <a:ext cx="403848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Химический стакан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73" name="Рисунок 4" descr="http://www.biokont-med.ru/im.xp/052054050052124050052048048056052048054048.html"/>
          <p:cNvPicPr/>
          <p:nvPr/>
        </p:nvPicPr>
        <p:blipFill>
          <a:blip r:embed="rId1"/>
          <a:stretch/>
        </p:blipFill>
        <p:spPr>
          <a:xfrm>
            <a:off x="838080" y="1600200"/>
            <a:ext cx="3009960" cy="4724280"/>
          </a:xfrm>
          <a:prstGeom prst="rect">
            <a:avLst/>
          </a:prstGeom>
          <a:ln w="0">
            <a:noFill/>
          </a:ln>
        </p:spPr>
      </p:pic>
      <p:pic>
        <p:nvPicPr>
          <p:cNvPr id="974" name="Рисунок 5" descr="http://www.maxima-npk.ru/upload/image/veterinariy/rezervuari/himstakan.jpg"/>
          <p:cNvPicPr/>
          <p:nvPr/>
        </p:nvPicPr>
        <p:blipFill>
          <a:blip r:embed="rId2"/>
          <a:srcRect l="24001" t="10670" r="18001" b="17334"/>
          <a:stretch/>
        </p:blipFill>
        <p:spPr>
          <a:xfrm>
            <a:off x="45720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Стаканы химические с ручкой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6" name="Содержимое 4" descr="http://www.hlr.com.ua/upload/iblock/4b8/4b8c24447312cd4d12175eec6fa57d21_300300.jpg"/>
          <p:cNvPicPr/>
          <p:nvPr/>
        </p:nvPicPr>
        <p:blipFill>
          <a:blip r:embed="rId1"/>
          <a:stretch/>
        </p:blipFill>
        <p:spPr>
          <a:xfrm>
            <a:off x="685800" y="1981080"/>
            <a:ext cx="3657600" cy="3733920"/>
          </a:xfrm>
          <a:prstGeom prst="rect">
            <a:avLst/>
          </a:prstGeom>
          <a:ln w="0">
            <a:noFill/>
          </a:ln>
        </p:spPr>
      </p:pic>
      <p:pic>
        <p:nvPicPr>
          <p:cNvPr id="977" name="Содержимое 5" descr="http://www.termolab-ufa.ru/netcat_files/155/70/stakany.jpg"/>
          <p:cNvPicPr/>
          <p:nvPr/>
        </p:nvPicPr>
        <p:blipFill>
          <a:blip r:embed="rId2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78" name="TextBox 6"/>
          <p:cNvSpPr/>
          <p:nvPr/>
        </p:nvSpPr>
        <p:spPr>
          <a:xfrm>
            <a:off x="685800" y="1066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пластиковые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79" name="TextBox 7"/>
          <p:cNvSpPr/>
          <p:nvPr/>
        </p:nvSpPr>
        <p:spPr>
          <a:xfrm>
            <a:off x="4724280" y="10666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фарфоровые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лассификация колб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форме: круглодонные, плоскодонные, остродонны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типу горла: с коническими шлифами, с цилиндрическими шлифами, с простым горлом под резиновую пробку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емкости: от 5 мл до 50 000 мл (50 литров)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виду материала: стеклянные, кварцевые, металлически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термической устойчивости стекла: термостойкие, нетермостойки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назначению: мерные колбы, колбы-реакторы, колбы-приемники.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олбы плоскодо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3" name="Содержимое 3" descr="Комплект колб (демонстрационный)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Колба Бунзена для фильтрования в вакууме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5" name="Содержимое 3" descr="http://www.laborkomplekt.ru/img/cat/item/2742-01_big.jpg"/>
          <p:cNvPicPr/>
          <p:nvPr/>
        </p:nvPicPr>
        <p:blipFill>
          <a:blip r:embed="rId1"/>
          <a:srcRect l="12707" t="13051" r="0" b="11590"/>
          <a:stretch/>
        </p:blipFill>
        <p:spPr>
          <a:xfrm>
            <a:off x="2324160" y="1676520"/>
            <a:ext cx="4495680" cy="48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а кристаллизационная с носиком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7" name="Содержимое 4" descr="http://www.mirlab.ru/d/187304/d/843845401_6.jpg"/>
          <p:cNvPicPr/>
          <p:nvPr/>
        </p:nvPicPr>
        <p:blipFill>
          <a:blip r:embed="rId1"/>
          <a:stretch/>
        </p:blipFill>
        <p:spPr>
          <a:xfrm>
            <a:off x="609480" y="1752480"/>
            <a:ext cx="3353040" cy="4114800"/>
          </a:xfrm>
          <a:prstGeom prst="rect">
            <a:avLst/>
          </a:prstGeom>
          <a:ln w="0">
            <a:noFill/>
          </a:ln>
        </p:spPr>
      </p:pic>
      <p:pic>
        <p:nvPicPr>
          <p:cNvPr id="988" name="Содержимое 5" descr="http://www.mentor-lab.ru/pic/chasha_kristall1.jpg"/>
          <p:cNvPicPr/>
          <p:nvPr/>
        </p:nvPicPr>
        <p:blipFill>
          <a:blip r:embed="rId2"/>
          <a:stretch/>
        </p:blipFill>
        <p:spPr>
          <a:xfrm>
            <a:off x="4495680" y="198108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Чашки кристаллизацио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90" name="Содержимое 4" descr="http://www.uchmarket.ru/catalog/photo/11322.jpg"/>
          <p:cNvPicPr/>
          <p:nvPr/>
        </p:nvPicPr>
        <p:blipFill>
          <a:blip r:embed="rId1"/>
          <a:stretch/>
        </p:blipFill>
        <p:spPr>
          <a:xfrm>
            <a:off x="380880" y="2209680"/>
            <a:ext cx="4000680" cy="3086280"/>
          </a:xfrm>
          <a:prstGeom prst="rect">
            <a:avLst/>
          </a:prstGeom>
          <a:ln w="0">
            <a:noFill/>
          </a:ln>
        </p:spPr>
      </p:pic>
      <p:pic>
        <p:nvPicPr>
          <p:cNvPr id="991" name="Содержимое 5" descr="http://him.1september.ru/2006/02/7-3.jpg"/>
          <p:cNvPicPr/>
          <p:nvPr/>
        </p:nvPicPr>
        <p:blipFill>
          <a:blip r:embed="rId2"/>
          <a:stretch/>
        </p:blipFill>
        <p:spPr>
          <a:xfrm>
            <a:off x="4876920" y="22096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мывалк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925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0a25"/>
                </a:solidFill>
                <a:latin typeface="Arial"/>
              </a:rPr>
              <a:t>Полипропилен.</a:t>
            </a: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0a25"/>
                </a:solidFill>
                <a:latin typeface="Arial"/>
              </a:rPr>
              <a:t>Закручивающиеся крышки. Цветная кодировка</a:t>
            </a: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a25"/>
                </a:solidFill>
                <a:latin typeface="Arial"/>
              </a:rPr>
              <a:t>Цельные промывалки</a:t>
            </a: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95" name="Содержимое 6" descr="http://www.laborkomplekt.ru/img/cat/item/5344-01_sml.jpg"/>
          <p:cNvPicPr/>
          <p:nvPr/>
        </p:nvPicPr>
        <p:blipFill>
          <a:blip r:embed="rId1"/>
          <a:stretch/>
        </p:blipFill>
        <p:spPr>
          <a:xfrm>
            <a:off x="380880" y="2438280"/>
            <a:ext cx="3657600" cy="3218040"/>
          </a:xfrm>
          <a:prstGeom prst="rect">
            <a:avLst/>
          </a:prstGeom>
          <a:ln w="0">
            <a:noFill/>
          </a:ln>
        </p:spPr>
      </p:pic>
      <p:pic>
        <p:nvPicPr>
          <p:cNvPr id="996" name="Содержимое 7" descr="http://old.bioscorp.ru/UserFiles/Image/Laboratornaya_posuda_vitlab_iz_plastika/27820_1_big.jpg"/>
          <p:cNvPicPr/>
          <p:nvPr/>
        </p:nvPicPr>
        <p:blipFill>
          <a:blip r:embed="rId2"/>
          <a:stretch/>
        </p:blipFill>
        <p:spPr>
          <a:xfrm>
            <a:off x="4645080" y="2295360"/>
            <a:ext cx="4041720" cy="3710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мывалки стекля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98" name="Содержимое 3" descr="http://www.rup-su.ru/Content/ProductImages/Product2159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олодильник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0" name="Содержимое 3" descr="http://www.yarmarka-ryazan.ru/site_img/img1298497879_0_.JPG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Применение колб</a:t>
            </a:r>
            <a:br>
              <a:rPr sz="3600"/>
            </a:br>
            <a:r>
              <a:rPr b="0" lang="ru-RU" sz="3600" spc="-1" strike="noStrike">
                <a:solidFill>
                  <a:srgbClr val="0b0a25"/>
                </a:solidFill>
                <a:latin typeface="Arial"/>
              </a:rPr>
              <a:t>Колбы применяются в лабораториях в качестве реакционных сосудов. Существуют также специальные мерные колбы для приготовления с высокой точностью аналитических растворов.</a:t>
            </a:r>
            <a:br>
              <a:rPr sz="3600"/>
            </a:br>
            <a:r>
              <a:rPr b="0" lang="ru-RU" sz="3600" spc="-1" strike="noStrike">
                <a:solidFill>
                  <a:srgbClr val="0b0a25"/>
                </a:solidFill>
                <a:latin typeface="Arial"/>
              </a:rPr>
              <a:t>Для подогревания колб в лабораториях и в химических производствах используют специализированные и универсальные колбонагреватели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олодильник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2" name="Содержимое 4" descr="http://www.spekulyant-ru.ru/equipment/equipment_sale/foto/1408684_2.jpg"/>
          <p:cNvPicPr/>
          <p:nvPr/>
        </p:nvPicPr>
        <p:blipFill>
          <a:blip r:embed="rId1"/>
          <a:stretch/>
        </p:blipFill>
        <p:spPr>
          <a:xfrm>
            <a:off x="457200" y="2527200"/>
            <a:ext cx="4038480" cy="2679840"/>
          </a:xfrm>
          <a:prstGeom prst="rect">
            <a:avLst/>
          </a:prstGeom>
          <a:ln w="0">
            <a:noFill/>
          </a:ln>
        </p:spPr>
      </p:pic>
      <p:pic>
        <p:nvPicPr>
          <p:cNvPr id="1003" name="Содержимое 5" descr="http://glass-blower.ru/files/images/%20%D1%82%D1%80%D0%B5%D1%85%D0%BA%D0%BE%D0%BD%D1%82%D1%83%D1%80%D0%BD%D1%8B%D0%B9.JPG"/>
          <p:cNvPicPr/>
          <p:nvPr/>
        </p:nvPicPr>
        <p:blipFill>
          <a:blip r:embed="rId2"/>
          <a:stretch/>
        </p:blipFill>
        <p:spPr>
          <a:xfrm>
            <a:off x="4724280" y="25146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Лоток лабораторный-кювета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5" name="Содержимое 4" descr="http://www.labsklad.ru/images/instruments/8700_1_b.jpg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1006" name="Содержимое 5" descr="http://files.ub.ua/goods/goods-photos/12/115445_1346205547.jpg"/>
          <p:cNvPicPr/>
          <p:nvPr/>
        </p:nvPicPr>
        <p:blipFill>
          <a:blip r:embed="rId2"/>
          <a:stretch/>
        </p:blipFill>
        <p:spPr>
          <a:xfrm>
            <a:off x="304920" y="205740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6"/>
          <p:cNvSpPr/>
          <p:nvPr/>
        </p:nvSpPr>
        <p:spPr>
          <a:xfrm>
            <a:off x="380880" y="1219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пластиковый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08" name="TextBox 7"/>
          <p:cNvSpPr/>
          <p:nvPr/>
        </p:nvSpPr>
        <p:spPr>
          <a:xfrm>
            <a:off x="5029200" y="1143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металлический 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0a25"/>
                </a:solidFill>
                <a:latin typeface="Arial"/>
              </a:rPr>
              <a:t>Посуда специального назначения</a:t>
            </a:r>
            <a:endParaRPr b="0" lang="en-US" sz="5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Колба Къельдаля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304920"/>
            <a:ext cx="4041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ы круглодонные для перегонки с шлифом (Вюрца) 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12" name="Содержимое 6" descr="http://www.mentor-lab.ru/pic/12_13_4_1.jpg"/>
          <p:cNvPicPr/>
          <p:nvPr/>
        </p:nvPicPr>
        <p:blipFill>
          <a:blip r:embed="rId1"/>
          <a:stretch/>
        </p:blipFill>
        <p:spPr>
          <a:xfrm>
            <a:off x="380880" y="2590920"/>
            <a:ext cx="4040280" cy="2679480"/>
          </a:xfrm>
          <a:prstGeom prst="rect">
            <a:avLst/>
          </a:prstGeom>
          <a:ln w="0">
            <a:noFill/>
          </a:ln>
        </p:spPr>
      </p:pic>
      <p:pic>
        <p:nvPicPr>
          <p:cNvPr id="1013" name="Содержимое 7" descr="http://www.klinlab.ru/KATALOG/himiko_posyda/ris_posyda/kolba67.jpg"/>
          <p:cNvPicPr/>
          <p:nvPr/>
        </p:nvPicPr>
        <p:blipFill>
          <a:blip r:embed="rId2"/>
          <a:stretch/>
        </p:blipFill>
        <p:spPr>
          <a:xfrm>
            <a:off x="4645080" y="1919160"/>
            <a:ext cx="4041720" cy="4192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40399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а Клайзена с холодильником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47960" y="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а Арбузов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16" name="Содержимое 6" descr="http://www.ormet.ru/ImagesDir/1293_Image1.jpg"/>
          <p:cNvPicPr/>
          <p:nvPr/>
        </p:nvPicPr>
        <p:blipFill>
          <a:blip r:embed="rId1"/>
          <a:stretch/>
        </p:blipFill>
        <p:spPr>
          <a:xfrm>
            <a:off x="609480" y="1600200"/>
            <a:ext cx="3130560" cy="4456080"/>
          </a:xfrm>
          <a:prstGeom prst="rect">
            <a:avLst/>
          </a:prstGeom>
          <a:ln w="0">
            <a:noFill/>
          </a:ln>
        </p:spPr>
      </p:pic>
      <p:pic>
        <p:nvPicPr>
          <p:cNvPr id="1017" name="Содержимое 7" descr="http://gorod.tomsk.ru/uploads/20766/1274422987/no36_01.gif"/>
          <p:cNvPicPr/>
          <p:nvPr/>
        </p:nvPicPr>
        <p:blipFill>
          <a:blip r:embed="rId2"/>
          <a:stretch/>
        </p:blipFill>
        <p:spPr>
          <a:xfrm>
            <a:off x="5257800" y="11430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Аллонж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19" name="Содержимое 3" descr="http://s56.radikal.ru/i153/0906/69/d40223230832.jpg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Дефлегматоры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1" name="Содержимое 3" descr="дефлегматоры различных конструкций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4960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4"/>
          <p:cNvSpPr/>
          <p:nvPr/>
        </p:nvSpPr>
        <p:spPr>
          <a:xfrm>
            <a:off x="0" y="5943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a25"/>
                </a:solidFill>
                <a:latin typeface="Arial"/>
              </a:rPr>
              <a:t>а,б - шариковые, в - елочные,  г - с насадкой, д - Арбузова, е - Ганна</a:t>
            </a: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Елочные дефлегматоры и дефлегматор Видмара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4" name="Содержимое 3" descr=" "/>
          <p:cNvPicPr/>
          <p:nvPr/>
        </p:nvPicPr>
        <p:blipFill>
          <a:blip r:embed="rId1"/>
          <a:stretch/>
        </p:blipFill>
        <p:spPr>
          <a:xfrm>
            <a:off x="1028880" y="167652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Эксикаторы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6" name="Содержимое 4" descr="http://labposuda.narod.ru/images/ehksikatory_bez_krana.jpeg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1027" name="Содержимое 5" descr="http://www.akvadistilljator.ru/UserFiles/Image/Laboratornaya_posuda_vitlab_iz_plastika/12049_1_big.jpg"/>
          <p:cNvPicPr/>
          <p:nvPr/>
        </p:nvPicPr>
        <p:blipFill>
          <a:blip r:embed="rId2"/>
          <a:stretch/>
        </p:blipFill>
        <p:spPr>
          <a:xfrm>
            <a:off x="4648320" y="1523880"/>
            <a:ext cx="3733560" cy="4486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Вакуум- эксикатор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9" name="Содержимое 4" descr="http://www.medshoppnz.ru/image/cache/data/laboratornay%20posuda/ehksikatory%20s_kranom-500x500.jpg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1030" name="Содержимое 5" descr="http://www.areometer.ru/UserFiles/Image/Laboratornaya_posuda_vitlab_iz_plastika/27452_1_big.jpg"/>
          <p:cNvPicPr/>
          <p:nvPr/>
        </p:nvPicPr>
        <p:blipFill>
          <a:blip r:embed="rId2"/>
          <a:stretch/>
        </p:blipFill>
        <p:spPr>
          <a:xfrm>
            <a:off x="4724280" y="13716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бирки химически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30" name="Рисунок 8" descr="http://www.carlroth.com/media/_de-de/Graphics/00001390_0.jpg"/>
          <p:cNvPicPr/>
          <p:nvPr/>
        </p:nvPicPr>
        <p:blipFill>
          <a:blip r:embed="rId1"/>
          <a:stretch/>
        </p:blipFill>
        <p:spPr>
          <a:xfrm>
            <a:off x="876240" y="114300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Бутыль Вульфа (склянка-аспиратор)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2" name="Содержимое 4" descr="http://images.prom.ua/10230649_w200_h200_butyl_vulfa.jpg"/>
          <p:cNvPicPr/>
          <p:nvPr/>
        </p:nvPicPr>
        <p:blipFill>
          <a:blip r:embed="rId1"/>
          <a:stretch/>
        </p:blipFill>
        <p:spPr>
          <a:xfrm>
            <a:off x="533520" y="14479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1033" name="Содержимое 5" descr="http://www.akvadistilljator.ru/UserFiles/Image/Laboratornaya_posuda_simax_iz_chehii/28936_1_big.jpg"/>
          <p:cNvPicPr/>
          <p:nvPr/>
        </p:nvPicPr>
        <p:blipFill>
          <a:blip r:embed="rId2"/>
          <a:stretch/>
        </p:blipFill>
        <p:spPr>
          <a:xfrm>
            <a:off x="4724280" y="15238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Бутыль Вульфа (склянка-аспиратор)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5" name="Содержимое 4" descr="http://www.bioscorp.ru/UserFiles/Image/Butyl_vulfa/28946_1_big.jpg"/>
          <p:cNvPicPr/>
          <p:nvPr/>
        </p:nvPicPr>
        <p:blipFill>
          <a:blip r:embed="rId1"/>
          <a:stretch/>
        </p:blipFill>
        <p:spPr>
          <a:xfrm>
            <a:off x="817560" y="1600200"/>
            <a:ext cx="3317760" cy="4533840"/>
          </a:xfrm>
          <a:prstGeom prst="rect">
            <a:avLst/>
          </a:prstGeom>
          <a:ln w="0">
            <a:noFill/>
          </a:ln>
        </p:spPr>
      </p:pic>
      <p:pic>
        <p:nvPicPr>
          <p:cNvPr id="1036" name="Содержимое 5" descr="http://www.akvadistilljator.ru/UserFiles/Image/Laboratornaya_posuda_simax_iz_chehii/28942_1.jpg"/>
          <p:cNvPicPr/>
          <p:nvPr/>
        </p:nvPicPr>
        <p:blipFill>
          <a:blip r:embed="rId2"/>
          <a:stretch/>
        </p:blipFill>
        <p:spPr>
          <a:xfrm>
            <a:off x="464832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Склянка Дрекселя, для промывания газов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8" name="Содержимое 3" descr="http://www.mentor-lab.ru/pic/12_21_1.jpg"/>
          <p:cNvPicPr/>
          <p:nvPr/>
        </p:nvPicPr>
        <p:blipFill>
          <a:blip r:embed="rId1"/>
          <a:srcRect l="33650" t="1567" r="30658" b="4691"/>
          <a:stretch/>
        </p:blipFill>
        <p:spPr>
          <a:xfrm>
            <a:off x="762120" y="1143000"/>
            <a:ext cx="3886200" cy="5334120"/>
          </a:xfrm>
          <a:prstGeom prst="rect">
            <a:avLst/>
          </a:prstGeom>
          <a:ln w="0">
            <a:noFill/>
          </a:ln>
        </p:spPr>
      </p:pic>
      <p:pic>
        <p:nvPicPr>
          <p:cNvPr id="1039" name="Рисунок 4" descr="http://www.bioscorp.ru/UserFiles/Image/Laboratornaya_posuda_simax_iz_chehii/28332_1.jpg"/>
          <p:cNvPicPr/>
          <p:nvPr/>
        </p:nvPicPr>
        <p:blipFill>
          <a:blip r:embed="rId2"/>
          <a:srcRect l="15217" t="0" r="15217" b="0"/>
          <a:stretch/>
        </p:blipFill>
        <p:spPr>
          <a:xfrm>
            <a:off x="5410080" y="1219320"/>
            <a:ext cx="2971800" cy="52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Склянка Тищенко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1" name="Содержимое 4" descr="http://img.board.com.ua/a/1043446148/wm/1-sklyanka-tischenko-250-ml-spzh.jpg"/>
          <p:cNvPicPr/>
          <p:nvPr/>
        </p:nvPicPr>
        <p:blipFill>
          <a:blip r:embed="rId1"/>
          <a:stretch/>
        </p:blipFill>
        <p:spPr>
          <a:xfrm>
            <a:off x="533520" y="1676520"/>
            <a:ext cx="4114800" cy="4419360"/>
          </a:xfrm>
          <a:prstGeom prst="rect">
            <a:avLst/>
          </a:prstGeom>
          <a:ln w="0">
            <a:noFill/>
          </a:ln>
        </p:spPr>
      </p:pic>
      <p:pic>
        <p:nvPicPr>
          <p:cNvPr id="1042" name="Содержимое 5" descr="http://chemistry-chemists.com/N2_2012/U3/glass-1.jpg"/>
          <p:cNvPicPr/>
          <p:nvPr/>
        </p:nvPicPr>
        <p:blipFill>
          <a:blip r:embed="rId2"/>
          <a:stretch/>
        </p:blipFill>
        <p:spPr>
          <a:xfrm>
            <a:off x="4967280" y="1600200"/>
            <a:ext cx="3400560" cy="45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Аппарат Киппа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4" name="Содержимое 4" descr="http://www.baltalab.lv/img/labtex_kipp.jpg"/>
          <p:cNvPicPr/>
          <p:nvPr/>
        </p:nvPicPr>
        <p:blipFill>
          <a:blip r:embed="rId1"/>
          <a:stretch/>
        </p:blipFill>
        <p:spPr>
          <a:xfrm>
            <a:off x="457200" y="1447920"/>
            <a:ext cx="3692520" cy="4476600"/>
          </a:xfrm>
          <a:prstGeom prst="rect">
            <a:avLst/>
          </a:prstGeom>
          <a:ln w="0">
            <a:noFill/>
          </a:ln>
        </p:spPr>
      </p:pic>
      <p:pic>
        <p:nvPicPr>
          <p:cNvPr id="1045" name="Содержимое 5" descr="http://www.nimr.mrc.ac.uk/images/multimedia/mill_hill_essays/kipps-large.jpg"/>
          <p:cNvPicPr/>
          <p:nvPr/>
        </p:nvPicPr>
        <p:blipFill>
          <a:blip r:embed="rId2"/>
          <a:stretch/>
        </p:blipFill>
        <p:spPr>
          <a:xfrm>
            <a:off x="5181480" y="14479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2538"/>
                </a:solidFill>
                <a:latin typeface="Arial"/>
              </a:rPr>
              <a:t>Принцип действия аппарата Киппа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7" name="Содержимое 4" descr="Аппарат Киппа"/>
          <p:cNvPicPr/>
          <p:nvPr/>
        </p:nvPicPr>
        <p:blipFill>
          <a:blip r:embed="rId1"/>
          <a:stretch/>
        </p:blipFill>
        <p:spPr>
          <a:xfrm>
            <a:off x="609480" y="1143000"/>
            <a:ext cx="3792600" cy="4991040"/>
          </a:xfrm>
          <a:prstGeom prst="rect">
            <a:avLst/>
          </a:prstGeom>
          <a:ln w="0">
            <a:noFill/>
          </a:ln>
        </p:spPr>
      </p:pic>
      <p:pic>
        <p:nvPicPr>
          <p:cNvPr id="1048" name="Содержимое 5" descr="Аппарат Киппа"/>
          <p:cNvPicPr/>
          <p:nvPr/>
        </p:nvPicPr>
        <p:blipFill>
          <a:blip r:embed="rId2"/>
          <a:stretch/>
        </p:blipFill>
        <p:spPr>
          <a:xfrm>
            <a:off x="4876920" y="1143000"/>
            <a:ext cx="3733560" cy="499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04028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–дозатор из темного стекл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47960" y="30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 Шустер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51" name="Содержимое 6" descr="http://www.nordlab.net/kapelnica-dozator.jpeg"/>
          <p:cNvPicPr/>
          <p:nvPr/>
        </p:nvPicPr>
        <p:blipFill>
          <a:blip r:embed="rId1"/>
          <a:stretch/>
        </p:blipFill>
        <p:spPr>
          <a:xfrm>
            <a:off x="304920" y="1600200"/>
            <a:ext cx="3581280" cy="4191120"/>
          </a:xfrm>
          <a:prstGeom prst="rect">
            <a:avLst/>
          </a:prstGeom>
          <a:ln w="0">
            <a:noFill/>
          </a:ln>
        </p:spPr>
      </p:pic>
      <p:pic>
        <p:nvPicPr>
          <p:cNvPr id="1052" name="Содержимое 7" descr="http://www.farmsteklo.ru/images/kat_kapelnitsy01.jpg"/>
          <p:cNvPicPr/>
          <p:nvPr/>
        </p:nvPicPr>
        <p:blipFill>
          <a:blip r:embed="rId2"/>
          <a:stretch/>
        </p:blipFill>
        <p:spPr>
          <a:xfrm>
            <a:off x="4419720" y="2362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402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Банка-капельница с крышкой-капельнице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723920" y="380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-дозатор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55" name="Содержимое 6" descr="http://www.karteltrade.ru/files/prodimage/pvl-prod-39785-4da42d3cdcec6.jpg"/>
          <p:cNvPicPr/>
          <p:nvPr/>
        </p:nvPicPr>
        <p:blipFill>
          <a:blip r:embed="rId1"/>
          <a:stretch/>
        </p:blipFill>
        <p:spPr>
          <a:xfrm>
            <a:off x="609480" y="1905120"/>
            <a:ext cx="3810240" cy="4267080"/>
          </a:xfrm>
          <a:prstGeom prst="rect">
            <a:avLst/>
          </a:prstGeom>
          <a:ln w="0">
            <a:noFill/>
          </a:ln>
        </p:spPr>
      </p:pic>
      <p:pic>
        <p:nvPicPr>
          <p:cNvPr id="1056" name="Содержимое 7" descr="Капельница-дозатор"/>
          <p:cNvPicPr/>
          <p:nvPr/>
        </p:nvPicPr>
        <p:blipFill>
          <a:blip r:embed="rId2"/>
          <a:stretch/>
        </p:blipFill>
        <p:spPr>
          <a:xfrm>
            <a:off x="4648320" y="1905120"/>
            <a:ext cx="3962160" cy="41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аплеуловител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58" name="Содержимое 3" descr="http://www.ormet.ru/ImagesDir/1652_Image1.jpg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059" name="Рисунок 4" descr="http://spectralsystems.ru/images/cms/catalog/labware/kapleulov-286x283.png"/>
          <p:cNvPicPr/>
          <p:nvPr/>
        </p:nvPicPr>
        <p:blipFill>
          <a:blip r:embed="rId2"/>
          <a:stretch/>
        </p:blipFill>
        <p:spPr>
          <a:xfrm>
            <a:off x="441972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и Петри </a:t>
            </a:r>
            <a:br>
              <a:rPr sz="3600"/>
            </a:b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двух-, трех- и четырехсекционные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61" name="Содержимое 3" descr="&lt;br&gt;&lt;b&gt;Чашки Петри стерильные&lt;/b&gt;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Такими являются: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Колб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Пробирк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Воронк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Стакан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Кристаллизатор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33" name="Picture 7" descr="лшогр"/>
          <p:cNvPicPr/>
          <p:nvPr/>
        </p:nvPicPr>
        <p:blipFill>
          <a:blip r:embed="rId6"/>
          <a:stretch/>
        </p:blipFill>
        <p:spPr>
          <a:xfrm>
            <a:off x="3733920" y="18288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Чашка Петр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495320" y="533520"/>
            <a:ext cx="4343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Чашка Петр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с литой сеткой в нижней част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64" name="Содержимое 6" descr="http://www.entheoflora.org/products_pictures/chashki.jpg"/>
          <p:cNvPicPr/>
          <p:nvPr/>
        </p:nvPicPr>
        <p:blipFill>
          <a:blip r:embed="rId1"/>
          <a:stretch/>
        </p:blipFill>
        <p:spPr>
          <a:xfrm>
            <a:off x="457200" y="2809800"/>
            <a:ext cx="4040280" cy="2681280"/>
          </a:xfrm>
          <a:prstGeom prst="rect">
            <a:avLst/>
          </a:prstGeom>
          <a:ln w="0">
            <a:noFill/>
          </a:ln>
        </p:spPr>
      </p:pic>
      <p:pic>
        <p:nvPicPr>
          <p:cNvPr id="1065" name="Содержимое 7" descr="http://www.sks-science.com/images/D210-17LRG.jpg"/>
          <p:cNvPicPr/>
          <p:nvPr/>
        </p:nvPicPr>
        <p:blipFill>
          <a:blip r:embed="rId2"/>
          <a:stretch/>
        </p:blipFill>
        <p:spPr>
          <a:xfrm>
            <a:off x="4645080" y="2743200"/>
            <a:ext cx="4041720" cy="267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а Конвея для определения щелочногидролизируемого азота по Корнфилду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67" name="Содержимое 4" descr="чашка Конвея для определения щелочногидролизируемого азота по Корнфилду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1068" name="Содержимое 5" descr="Чашка Конвея"/>
          <p:cNvPicPr/>
          <p:nvPr/>
        </p:nvPicPr>
        <p:blipFill>
          <a:blip r:embed="rId2"/>
          <a:stretch/>
        </p:blipFill>
        <p:spPr>
          <a:xfrm>
            <a:off x="5029200" y="2362320"/>
            <a:ext cx="3581280" cy="3276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6699"/>
                </a:solidFill>
                <a:latin typeface="Arial"/>
              </a:rPr>
              <a:t>Спасибо за внимание!!!</a:t>
            </a:r>
            <a:endParaRPr b="0" lang="en-US" sz="8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Содержимое 4" descr="http://board.medprof.ru/images/normal/4578.jpg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4648320"/>
          </a:xfrm>
          <a:prstGeom prst="rect">
            <a:avLst/>
          </a:prstGeom>
          <a:ln w="0">
            <a:noFill/>
          </a:ln>
        </p:spPr>
      </p:pic>
      <p:pic>
        <p:nvPicPr>
          <p:cNvPr id="935" name="Содержимое 5" descr="http://www.nn.ru/data/forum/images/2012-04/49045753-image005.jpg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4419720"/>
          </a:xfrm>
          <a:prstGeom prst="rect">
            <a:avLst/>
          </a:prstGeom>
          <a:ln w="0">
            <a:noFill/>
          </a:ln>
        </p:spPr>
      </p:pic>
      <p:sp>
        <p:nvSpPr>
          <p:cNvPr id="936" name="TextBox 6"/>
          <p:cNvSpPr/>
          <p:nvPr/>
        </p:nvSpPr>
        <p:spPr>
          <a:xfrm>
            <a:off x="380880" y="304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вакуумная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37" name="TextBox 7"/>
          <p:cNvSpPr/>
          <p:nvPr/>
        </p:nvSpPr>
        <p:spPr>
          <a:xfrm>
            <a:off x="4343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одноразовая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304560" y="456840"/>
            <a:ext cx="4190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руглодонные с  завинчивающимися крышками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647960" y="380520"/>
            <a:ext cx="419076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онические из пластик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0" name="Рисунок 5" descr="http://www.volosov.se-ua.net/images/probirki_s_krishkami_noviy_razmer.jpg"/>
          <p:cNvPicPr/>
          <p:nvPr/>
        </p:nvPicPr>
        <p:blipFill>
          <a:blip r:embed="rId1"/>
          <a:stretch/>
        </p:blipFill>
        <p:spPr>
          <a:xfrm>
            <a:off x="457200" y="2362320"/>
            <a:ext cx="3971880" cy="2857320"/>
          </a:xfrm>
          <a:prstGeom prst="rect">
            <a:avLst/>
          </a:prstGeom>
          <a:ln w="0">
            <a:noFill/>
          </a:ln>
        </p:spPr>
      </p:pic>
      <p:pic>
        <p:nvPicPr>
          <p:cNvPr id="941" name="Рисунок 6" descr="http://www.volosov.se-ua.net/images/kon_noviy_razmer.jpg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281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45720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онические (фальконы) с градуировкой и винтовой крышко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495680" y="380520"/>
            <a:ext cx="419112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пластиковые центрифужные конические ПП и ПС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4" name="Рисунок 4" descr="http://www.volosov.se-ua.net/images/2_noviy_razmer.jpg"/>
          <p:cNvPicPr/>
          <p:nvPr/>
        </p:nvPicPr>
        <p:blipFill>
          <a:blip r:embed="rId1"/>
          <a:stretch/>
        </p:blipFill>
        <p:spPr>
          <a:xfrm>
            <a:off x="380880" y="32767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945" name="Рисунок 5" descr="http://medprom.ru/pictures/8317/3.jpg"/>
          <p:cNvPicPr/>
          <p:nvPr/>
        </p:nvPicPr>
        <p:blipFill>
          <a:blip r:embed="rId2"/>
          <a:stretch/>
        </p:blipFill>
        <p:spPr>
          <a:xfrm>
            <a:off x="5181480" y="2514600"/>
            <a:ext cx="2667240" cy="3733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04560" y="456840"/>
            <a:ext cx="4190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двустенная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64832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центрифужная градуированная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8" name="Рисунок 4" descr="http://www.klinlab.ru/KATALOG/himiko_posyda/ris_posyda/probirka606a.jpg"/>
          <p:cNvPicPr/>
          <p:nvPr/>
        </p:nvPicPr>
        <p:blipFill>
          <a:blip r:embed="rId1"/>
          <a:stretch/>
        </p:blipFill>
        <p:spPr>
          <a:xfrm>
            <a:off x="533520" y="1447920"/>
            <a:ext cx="3417840" cy="486540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5" descr="Пробирка центрифужная градуированная 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40:50Z</dcterms:created>
  <dc:creator>User</dc:creator>
  <dc:description/>
  <dc:language>en-US</dc:language>
  <cp:lastModifiedBy>Пользователь</cp:lastModifiedBy>
  <dcterms:modified xsi:type="dcterms:W3CDTF">2013-09-26T04:53:5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