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BFB-24EE-4282-A4EF-E286AFC7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877-EE8D-49AA-AF25-0B5134A5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291-3AB0-42F2-AC84-BDB71F6E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8144-9D1E-4348-9E8A-033DC6D6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3085-1888-43E9-8E08-CD7A0966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3C96-782E-4833-8800-B57886B9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B218-758A-41A7-B041-A0D8633A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DD82-9FB6-45BF-A2D2-68DACBFE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1523-8203-49B0-851F-AE0265E1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5A42-0087-4607-898B-BC16C35B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2A9C-F908-4A41-9A1D-A76EB8C1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5C6-6EC9-4DD1-BF02-2FF39688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93FF-52C9-4BDF-B81C-765B391C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2316-0D32-47DF-BEE4-17440820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5F4E-987D-43C7-82E0-2E572CF6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FD65-F911-47B8-89A3-B6A71900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1307-843C-4970-8D09-7BE16FF9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2EA-44DD-4EED-B627-BB095B11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309-E7FC-4E2C-8C7E-82370015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568-72E2-49DF-BB09-5D87AF6C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A9E-8138-40AC-9D14-77455299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002-EC7E-4BC7-8FC0-CC359755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D82-0966-406C-B536-BBD29B39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540-DA37-4813-AD00-7EEA64E5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C12D-C770-45D3-BA6F-60F4939FC1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D126-AE69-4D73-8276-519DAB7AF5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79280" y="1557360"/>
            <a:ext cx="8964720" cy="13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ние ионизирующего излучения на кожные покровы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жа различных видов животных реагирует на излучение соответственно своей структуре. Например, наиболее клинически выраженным радиационным изменениям кожи при внешним общем гамма-облучени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овец является эпиляция и образование складо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&amp;Vcy;&amp;lcy;&amp;icy;&amp;yacy;&amp;ncy;&amp;icy;&amp;iecy; &amp;icy;&amp;ocy;&amp;ncy;&amp;icy;&amp;zcy;&amp;icy;&amp;rcy;&amp;ucy;&amp;yucy;&amp;shchcy;&amp;icy;&amp;khcy; &amp;icy;&amp;zcy;&amp;lcy;&amp;ucy;&amp;chcy;&amp;iecy;&amp;ncy;&amp;icy;&amp;jcy; &amp;ncy;&amp;acy; &amp;kcy;&amp;ocy;&amp;zhcy;&amp;ucy; (&amp;chcy;&amp;acy;&amp;scy;&amp;tcy;&amp;softcy; 1)"/>
          <p:cNvPicPr/>
          <p:nvPr/>
        </p:nvPicPr>
        <p:blipFill>
          <a:blip r:embed="rId1"/>
          <a:stretch/>
        </p:blipFill>
        <p:spPr>
          <a:xfrm>
            <a:off x="4788000" y="907920"/>
            <a:ext cx="38066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свиней — множественные кровоизлияния по всей поверхности кож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&amp;Vcy;&amp;lcy;&amp;icy;&amp;yacy;&amp;ncy;&amp;icy;&amp;iecy; &amp;icy;&amp;ocy;&amp;ncy;&amp;icy;&amp;zcy;&amp;icy;&amp;rcy;&amp;ucy;&amp;yucy;&amp;shchcy;&amp;icy;&amp;khcy; &amp;icy;&amp;zcy;&amp;lcy;&amp;ucy;&amp;chcy;&amp;iecy;&amp;ncy;&amp;icy;&amp;jcy; &amp;ncy;&amp;acy; &amp;kcy;&amp;ocy;&amp;zhcy;&amp;ucy; (&amp;chcy;&amp;acy;&amp;scy;&amp;tcy;&amp;softcy; 1)"/>
          <p:cNvPicPr/>
          <p:nvPr/>
        </p:nvPicPr>
        <p:blipFill>
          <a:blip r:embed="rId1"/>
          <a:stretch/>
        </p:blipFill>
        <p:spPr>
          <a:xfrm>
            <a:off x="4211640" y="1773360"/>
            <a:ext cx="4608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ее чувствительными к облучению являются клетки базального слоя кожи, волосяных луковиц и сосочков. При местном облучении дозой до 500 P необратимых изменений в коже не наступает. Более высокие дозы прекращают митоз эпителиальных клеток, вызывают набухание и пикноз их ядер, атрофию сальных желез, волосяных фолликулов и луковиц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&amp;Vcy;&amp;lcy;&amp;icy;&amp;yacy;&amp;ncy;&amp;icy;&amp;iecy; &amp;icy;&amp;ocy;&amp;ncy;&amp;icy;&amp;zcy;&amp;icy;&amp;rcy;&amp;ucy;&amp;yucy;&amp;shchcy;&amp;icy;&amp;khcy; &amp;icy;&amp;zcy;&amp;lcy;&amp;ucy;&amp;chcy;&amp;iecy;&amp;ncy;&amp;icy;&amp;jcy; &amp;ncy;&amp;acy; &amp;kcy;&amp;ocy;&amp;zhcy;&amp;ucy; (&amp;chcy;&amp;acy;&amp;scy;&amp;tcy;&amp;softcy; 1)"/>
          <p:cNvPicPr/>
          <p:nvPr/>
        </p:nvPicPr>
        <p:blipFill>
          <a:blip r:embed="rId1"/>
          <a:stretch/>
        </p:blipFill>
        <p:spPr>
          <a:xfrm>
            <a:off x="4500720" y="404640"/>
            <a:ext cx="446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 овец, перенесших тяжелую форму острой лучевой болезни, ухудшается качество шерсти, снижается ее настриг, сокращается выделение кожного сала, уменьшается количество цистина и цистеина в волосах. Качество такой шерсти низкое и ее не подразделяют на классы. Товарная ценность шкур тоже снижается. Шкуры животных, убитых в разгар острой лучевой болезни и павших, относят к низким сортам или к несортовы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032360" cy="2160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403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воздействии больших количеств радиоактивных веществ (PB) у животных появляются лучевые ожоги кож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19076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68360" y="1268280"/>
            <a:ext cx="4025880" cy="2581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643280" y="1268280"/>
            <a:ext cx="4032360" cy="252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468360" y="3933720"/>
            <a:ext cx="4032360" cy="2668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4643280" y="3860640"/>
            <a:ext cx="41054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6:42:42Z</dcterms:created>
  <dc:creator>Александр</dc:creator>
  <dc:description/>
  <dc:language>en-US</dc:language>
  <cp:lastModifiedBy>Александр</cp:lastModifiedBy>
  <dcterms:modified xsi:type="dcterms:W3CDTF">2013-02-21T17:30:59Z</dcterms:modified>
  <cp:revision>2</cp:revision>
  <dc:subject/>
  <dc:title>Слайд 1</dc:title>
</cp:coreProperties>
</file>