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46D-BD50-49F1-A93C-6089E4AB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67E-D827-4126-BDD4-20A6489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F5A-0331-4DFC-AA68-3350A641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0D2-1975-4CB5-8E45-BFB6899E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828-7338-4BB1-94E2-8F38ECC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1B4-6BDE-48E1-B750-B400662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3D1-97CD-40EC-ADCD-C6456FD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936-069B-4763-86DE-3FD10FC4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F36-9CC8-4BDF-90CC-919893EF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D28-398F-459D-BD90-7E4B6F9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730-BF24-405A-AED1-64949B7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FBE-6180-499A-8D75-B95D122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4DF-F38F-4491-A6C8-46F684BD6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«Организация внешнеэкономическ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00040" y="2071800"/>
            <a:ext cx="8286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ма: Виды внешнеторговой докумен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4920" y="620280"/>
            <a:ext cx="833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Инструкция по банковскому переводу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выдается клиентом своему банку и содержит требование произвести выплату определенной суммы в указанной валюте названной стороне, находящейся в другой стране, либо оговоренным способом, либо способом, оставленным на усмотрение ба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Заявление на открытие товарного аккредитива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у поручается открыть товарный аккредитив на условиях, указанных в этом докумен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Товарный аккредитив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говор между плательщиком и его банком, в котором банк обязуется открыть товарный аккредитив, по которому бенефициар должен получить платеж, подтверждение или учет тратт в соответствии с определенными условиями и после представления обусловленных докум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177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4920" y="499680"/>
            <a:ext cx="833436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принятии документов к оплате по товарному аккредитив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ринятии документов к оплате по товарному аккредити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платеже по товарному аккредитив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латеже по товарному аккредити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инкассовом платеж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банк сообщает о произведенном платеже по инкассо. В нем приводятся подробные данные и методы реализации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Банковская тратт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тратта, выставляемая в пользу третьей стороны, либо одним банком на другой, либо отделением банка на центральное отделение или на другое отделение того же ба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2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Страхов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785880"/>
            <a:ext cx="83358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Данная документация отражает взаимоотношения между страховщиком и страхователем. Роль страховщика заключается в возмещении убытков, понесенных страхователем от несчастного случая, против уплаты страховой прем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траховой полис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щиком и подтверждающий договор страхования. В полисе указываются условия заключен­ного договора, в котором страховщик обязуется за конкретную плату возместить страхователю убытки, связанные с рисками и несчастными случаями, указанными в догово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траховое объявление (бордеро)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документ, используемый в случае, когда страхователь сообщает своему страховщику подробные сведения об отдельных отправках, на которые распространяется договор страхования, заключенный между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177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560" y="403200"/>
            <a:ext cx="833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траховой сертифика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ым общест­вом страхователю, удостоверяющий, что страхование было произведено и что был выдан полис. Такой сертификат на конкретный груз используется в основном в том случае, если товары застрахованы в соответствии с условиями генерального или невалютированного полиса; по требованию страхователя он может обмениваться на страховой полис, поскольку во многих странах законодательство признает в качестве документа страхования только страховой поли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вернот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траховщиком для извещения страхователя о том, что его инструкции по страхованию выполнены, или для удостоверения, совершенного агентом страхования в пользу страхов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4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ранспортные и отгрузочн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14264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 готовности товара к отгруз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ведомляет покупателя о том, что заказанные товары изготовлены и готовы к отправ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Заявка на фрахтование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тправляется поставщиком перевозчику для резервирования места с указанием желательного средства транспорта, время отправки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тгрузочная инструк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одробные сведения о грузе и требованиях эксперта в связи с его перевоз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Разрешение на поставку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разрешает отправку товаров после получения от продавца извещения о готовности товара к отгруз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отгруз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средством которого продавец или грузополучатель информирует грузополучателя об отправке тов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0" indent="17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з всех документов следует выделить </a:t>
            </a: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осамент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ыдаваемый судовладельцем грузоотправителю в удостоверение принятия груза к перевозке морским пу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Выноска со стрелкой вниз 4"/>
          <p:cNvSpPr/>
          <p:nvPr/>
        </p:nvSpPr>
        <p:spPr>
          <a:xfrm>
            <a:off x="2714760" y="2143080"/>
            <a:ext cx="3714480" cy="1143000"/>
          </a:xfrm>
          <a:prstGeom prst="downArrowCallout">
            <a:avLst>
              <a:gd name="adj1" fmla="val 25007"/>
              <a:gd name="adj2" fmla="val 25005"/>
              <a:gd name="adj3" fmla="val 25000"/>
              <a:gd name="adj4" fmla="val 6497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ункции конос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714240" y="3429000"/>
            <a:ext cx="7786800" cy="292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достоверяет принятие судовладельцем (перевозчиком) груза к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Является товарораспорядительным документом. Дает право владельцу оригинала распоряжаться груз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идетельствует о заключении договора на перевозку груза морски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ранспортно-экспедиторск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им видом документов оформляют выполнение экспортером различного рода операций по экспедированию, обработке, складированию грузов, организации перевозки, включая перевозку товара, его хранение, предоставление местных транспортных средств, проверку состояния упаковки и маркировки товара, оформление необходимых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тгрузочное поручени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который в зависимости от условий поставки выписывается грузоотправителем либо грузополучателем и содержит перечень операций, поручаемых экспедитору, и подробные инструкции по их выпол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звещение об отправке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дается получателю, содержит информацию об экспортных грузах, представленных к отправке, и включает необходимые расписки и заявления об ответств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кладская расписка экспедитора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в котором подтверждается получение складируемого товара и указываются условия хранения товара на складе и его вы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Ордер на выдачу това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который выдается стороной, имеющей право давать распоряжения о выдаче указанных в нем товаров названному грузополучателю, и передается хранителю тов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аможенны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Экспортные и импортные лицензии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ы, которые выдаются специальными государственными органами при наличии в стране контроля над ввозом или вывозом конкретных това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Экспортная лиценз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разрешение на экспорт указанных в ней товаров в течение определенного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Импортная лиценз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оставляет разрешение ввезти либо ограниченное количество указанных товаров, либо неограниченное количество таких товаров в течение ограниченного периода времени на условиях, оговоренных в этом докумен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00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Таможенная деклара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едставляет собой заявление распорядителя груза, представленное им таможне при импорте или экспорте това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ертификат (свидетельство) о происхождении това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собый документ, выдаваемый компетентным органом в стране экспортера, который позволяет определить товары и в котором органы власти или орган, уполномоченный выдавать его, четко удостоверяют, что товары, к которым относится данный сертификат, происходят из конкретной стр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Консульская фактура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— документ, подготовленный экспортером в своей стране и представляемый в дипломатическое представительство страны импортера для его утверждения против уплаты консульского сбора и затем представляемый импортером в связи с ввозом указанного в счете тов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428760" y="5716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Внешнеторговые документы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– это документы,  подтверждающие исполнение внешнеторговой сделки на всех этапах ее реализации от поставки продавцом товара, его транспортировки, хранения на складах, прохождения через тамож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Стандартизация и унификация внешнеторговых док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международной практике широкое распространение получили унифицированные формы внешнеторговых документов. Стандартизация в этой сфере не только облегчает всю процедуру осуществления внешнеторговых операций, но и позволяет использовать системы автоматической обработки данных и методов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результате многолетней работы по унификации в рамках ЕЭК ООН был разработан образец — исходная схема бланка ЕЭК, который был взят за основу для разработки стандартных документов. На основе этой схемы впоследствии были разработаны стандартные формы основных внешнеторговых док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428760" y="57168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28760" y="35208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В зависимости от выполняемых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функций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внешнеторговые документы можно разделить на следующи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оварные и расчет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 платежно-банковским операц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страх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ранспортные и отгруз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ранспортно-экспедитор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71280"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тамож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83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окументы, которые следуют с грузом от пункта отправления до пункта назначения, называют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товаросопроводитель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окументы, составляемые в связи с отгрузкой товара (обычно они перечислены в контракте), называются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</a:rPr>
              <a:t>отгрузо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Товарные и расчетные докуме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b3d7"/>
                </a:solidFill>
                <a:latin typeface="Book Antiqua"/>
              </a:rPr>
              <a:t>Эта группа документов дает стоимостную, качественную и количественную характеристики товаров. Документы оформляет на своем бланке продавец, а покупатель против них производит опл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ажнейшим расчетным документом является </a:t>
            </a: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коммерческий счет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нем содержится требование продавца к покупателю об уплате указанной в нем суммы причитающегося платежа за поставленный това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4"/>
          <p:cNvCxnSpPr>
            <a:endCxn id="50" idx="0"/>
          </p:cNvCxnSpPr>
          <p:nvPr/>
        </p:nvCxnSpPr>
        <p:spPr>
          <a:xfrm flipH="1">
            <a:off x="1749240" y="4642920"/>
            <a:ext cx="82296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1" name="Прямая со стрелкой 5"/>
          <p:cNvCxnSpPr>
            <a:stCxn id="48" idx="2"/>
            <a:endCxn id="52" idx="0"/>
          </p:cNvCxnSpPr>
          <p:nvPr/>
        </p:nvCxnSpPr>
        <p:spPr>
          <a:xfrm flipH="1">
            <a:off x="4536720" y="4642920"/>
            <a:ext cx="720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Прямая со стрелкой 6"/>
          <p:cNvCxnSpPr>
            <a:endCxn id="54" idx="0"/>
          </p:cNvCxnSpPr>
          <p:nvPr/>
        </p:nvCxnSpPr>
        <p:spPr>
          <a:xfrm>
            <a:off x="6571080" y="4642920"/>
            <a:ext cx="894600" cy="100116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Скругленный прямоугольник 7"/>
          <p:cNvSpPr/>
          <p:nvPr/>
        </p:nvSpPr>
        <p:spPr>
          <a:xfrm>
            <a:off x="50004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чет-фактура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8"/>
          <p:cNvSpPr/>
          <p:nvPr/>
        </p:nvSpPr>
        <p:spPr>
          <a:xfrm>
            <a:off x="328608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чет-спец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9"/>
          <p:cNvSpPr/>
          <p:nvPr/>
        </p:nvSpPr>
        <p:spPr>
          <a:xfrm>
            <a:off x="6215040" y="5643720"/>
            <a:ext cx="25002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редваритель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чет-фактура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ыписывается обычно после окончательной приемки товара покупателем. Счет-фактура совмещает в себе два документа — документ, указывающий суммы причитающего за товар платежа, и накладную, направляемую при това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чет-спецификация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ъединяет реквизиты счета и спецификации. В нем указывается цена за единицу товара по видам и сортам, а также об­щая стоимость всей партии товара. Выписывается в тех случаях, когда партия содержит разные по ассортименту тов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Предварительный сче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дтверждает произведенные экспертом поставки, но не всегда является требованием к оплате. Часто он выписывается в тех случаях, когда приемка товара производится в стране назначения или при частичных постав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4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Документы, дающие </a:t>
            </a:r>
            <a:r>
              <a:rPr b="1" lang="ru-RU" sz="2900" spc="-1" strike="noStrike">
                <a:solidFill>
                  <a:srgbClr val="ffff00"/>
                </a:solidFill>
                <a:latin typeface="Book Antiqua"/>
              </a:rPr>
              <a:t>количественную характеристику </a:t>
            </a: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товара или партии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Спецификация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еречень ассортимента товаров, входящих в данную партию, с указанием для каждого места количества и рода товара, его сорта и ма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Техническая документация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буется при поставках оборудования и технических потребительских товаров длительного пользования и необходима для обеспечения их своевременной наладки и правильной эксплуат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 Antiqua"/>
              </a:rPr>
              <a:t>Упаковочный лист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держит перечень всех видов и сортов товара, находящихся в каждом товарном месте. Он необходим обычно в тех случаях, когда в одной упаковке содержатся разные по ассортименту тов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Документы, свидетельствующие о </a:t>
            </a:r>
            <a:r>
              <a:rPr b="1" lang="ru-RU" sz="2900" spc="-1" strike="noStrike">
                <a:solidFill>
                  <a:srgbClr val="ffff00"/>
                </a:solidFill>
                <a:latin typeface="Book Antiqua"/>
              </a:rPr>
              <a:t>качестве</a:t>
            </a:r>
            <a:r>
              <a:rPr b="1" lang="ru-RU" sz="2900" spc="-1" strike="noStrike">
                <a:solidFill>
                  <a:srgbClr val="ffffff"/>
                </a:solidFill>
                <a:latin typeface="Book Antiqua"/>
              </a:rPr>
              <a:t> поставленных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Сертификат качества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— свидетельство, удостоверяющее качество фактически поставленного товара и его соответствие условиям контракта. В нем дается характеристика товара либо подтверждается соответствие качества товара определенным стандартам или техническим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Протокол испытаний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составляется после проведения продавцом совместно с представителем покупателя полных испытаний. Содержит подробное изложение результатов испытаний с указанием о соответствии изготовленного товара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Book Antiqua"/>
              </a:rPr>
              <a:t>Разрешение на отгрузку </a:t>
            </a: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выдается представителем покупателя после проведения приемочных испытаний оборудования на предприятии поставщика с целью установить соответствие товара условиям заказ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Документы по платежно-банковским операци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заиморасчеты между сторонами сделки осуществляются в той форме, которую они оговорили в контракте, с использованием услуг банков как страны продавца, так и страны покупателя, а иногда и третьей страны. Все этапы этих расчетов документируются, и в целом платежные документы представляют собой либо инструкции банку об осуществлении определенной формы платежа, либо отчет банка об исполнении инструкций кли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29:09Z</dcterms:created>
  <dc:creator>Пользователь</dc:creator>
  <dc:description/>
  <dc:language>en-US</dc:language>
  <cp:lastModifiedBy>Оля</cp:lastModifiedBy>
  <dcterms:modified xsi:type="dcterms:W3CDTF">2012-05-26T05:34:41Z</dcterms:modified>
  <cp:revision>23</cp:revision>
  <dc:subject/>
  <dc:title>Презентация по предмету  «Организация внешнеэкономической деятельности»</dc:title>
</cp:coreProperties>
</file>