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213-650C-4F0C-BD78-A0CF5202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689-4270-488A-B155-28FEAC57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3732-6718-4D7A-9F47-081B308B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429-007C-4B08-86D0-EE82E2E2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15D-9D36-43A3-80FD-8C0F92B5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73FD-334D-4E3F-98BD-32A743D2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1F2-8C43-4451-B7F6-4CD86F26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CEA-936A-48F6-9C43-4BF9076E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D7D7-3CA5-4971-AC00-3017F3EB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51A-C0DF-4820-80E6-F6DEDAF6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65A-9881-4D69-95D5-A0380F25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C91-6D8A-43F9-8D22-C1E8ED72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9CD0-2308-4084-86BB-630F86E702AB}" type="slidenum">
              <a:rPr b="0" lang="ru-RU" sz="1200" spc="-1" strike="noStrike">
                <a:solidFill>
                  <a:srgbClr val="898989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501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Презентация по предмету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«Организация внешнеэкономической деятельности»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500040" y="2071800"/>
            <a:ext cx="8286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Тема: Основные условия внешнеторговых контра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2876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статье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"Качество товара"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тороны могут также предусмотреть метод проверки качества продавцом, а также вид документа, подтверждающего соответствие качества поставленного товара контрактным требованиям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сновным документом, подтверждающим качество товара, является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сертификат качества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ыдаваемый либо фирмой-изготовителем, либо нейтральной организацией, осуществляющей проверку качества товара. В практике международной торговли известны случаи, когда крупные фирмы с мировым именем брали дополнительную плату за предоставление сертификата качества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 Antiqua"/>
              </a:rPr>
              <a:t>Срок и дата поставки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Срок поставки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согласованные сторонами и предусмотренные в контракте временные периоды, в течение которых продавец должен передать предмет сделки покупателю. При этом предмет сделки может быть поставлен как единовременно, так и в течение какого-то периода по частям. При единовременной поставке стороны указывают один срок поставки, при поставке в течение какого-то определенного периода — сроки поставки для каждой парти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77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0004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Сроки поставки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контракте могут быть установлены следующими способами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пределением фиксированной даты поставки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пределением периода, в течение которого должна быть произведена поставка (месяц, квартал, год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рименением специальных терминов ("немедленная поставка", "со склада" и т. д.)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о внешнеторговой практике наиболее широко используют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календарные периоды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для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пределения сроков поставки (месяц, квартал)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Немедленная поставка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– это поставка в течение определенного срока после заключения сделки. Этот срок определяется торговыми обычаями и составляет от 1 до 14 рабочих дней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2876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озможность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досрочной поставки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товара продавцом должна специально оговариваться в контракте. Если это не оговорено, то по обычаю досрочная поставка возможна только с согласия покупателя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о многих случаях в контракт купли-продажи вносится и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оговорка о дате поставки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позволит сторонам сделки в дальнейшем избежать споров о точности соблюдения сроков поставки. Дата поставки определяется в зависимости от способов перевозки товара и может быть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45800"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датой транспортного документа, свидетельствующего о принятии товара к перевозке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45800"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датой складского свидетельства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45800" algn="just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датой подписания приемо-сдаточного акта представителями продавца и покупателя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4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 Antiqua"/>
              </a:rPr>
              <a:t>Базисные условия поставки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Book Antiqua"/>
              </a:rPr>
              <a:t>Базисные условия поставки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пределяют обязанности продавца и покупателя по доставке товаров, устанавливают момент перехода риска случайной гибели или порчи товара с продавца на покупателя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Book Antiqua"/>
              </a:rPr>
              <a:t>Базисными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эти условия называются потому, что они устанавливают базис (основу) цены в зависимости от того, включаются расходы по доставке в цену товара или нет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Базисные условия упрощают операции, связанные с поставкой товаров, являются общепризнанными в международной торговле и определяются, как правило, торговыми обычаями, сложившимися в коммерческой практике отдельных стран, портов, отраслей торговли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287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Базисные условия торговых сделок устанавливают основные обязанности продавца и покупателя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Так,</a:t>
            </a:r>
            <a:r>
              <a:rPr b="0" lang="ru-RU" sz="18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Book Antiqua"/>
              </a:rPr>
              <a:t>продавец независимо от применяемых базисных условий обязан</a:t>
            </a:r>
            <a:r>
              <a:rPr b="0" lang="ru-RU" sz="1800" spc="-1" strike="noStrike">
                <a:solidFill>
                  <a:srgbClr val="ffff00"/>
                </a:solidFill>
                <a:latin typeface="Book Antiqu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оставить товар в соответствии с условиям контракта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своевременно уведомить покупателя о готовности товара к отгрузке или об отгрузке товара, о дате предоставления товара в распоряжение покупателя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оплатить расходы на проверку товара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обеспечить за свой счет обычную упаковку товара, за исключением случаев, когда в данной отрасли торговли принято отправлять товар без упаковки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редоставить покупателю принятый в практике "чистый" документ, удостоверяющий поставку товара на согласованных условиях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оплатить таможенные пошлины и налоги, взимаемые при экспорте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олучить за свой счет экспортную лицензию или другое правительст­венное разрешение, необходимое для экспорта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редоставить покупателю по его просьбе и за его счет свидетельство о происхождении товара и консульскую фактуру;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1404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нести риск и расходы до момента предоставления товара в распоряжение покупателя в месте, установленном базисным условием, и в срок, обусловленный в контракте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140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00040" y="760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52640" indent="-1526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Book Antiqua"/>
              </a:rPr>
              <a:t>Покупатель при всех базисных условиях обязан: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152640" indent="-15264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ринять товар, предоставленный в его распоряжение, в месте и в срок, обозначенные в договоре, или документах на товар и уплатить за товар по цене в соответствии с контрактом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152640" indent="-15264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нести все расходы и риск, которому может подвергаться товар после истечения срока поставки в связи с несвоевременным принятием товара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152640" indent="-15264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оплатить все расходы и сборы при получении документов, выдаваемых в стране отправления или в стране происхождения товара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152640" indent="-15264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оплатить все таможенные пошлины, а также другие пошлины и налоги, взимаемые при ввозе товара или начисляемые на ввозимый товар, если иное не оговорено в условиях поставки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152640" indent="-15264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обеспечить на свой риск и за свой счет получение импортной лицензии и иного разрешения, которые могут потребоваться для ввоза в страну назначения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152640" indent="-15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 Antiqua"/>
              </a:rPr>
              <a:t>Цена товар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214200" y="1214280"/>
            <a:ext cx="864396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Цена в контракте указывается в денежных единицах определенной валюты за количественную единицу товара по согласованному базису поставки. При этом стороны оговаривают, как понимается установленная цена, т. е. входят ли в нее расходы, связанные с отправкой груза, за тару, упаковку, маркировку и д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В контракте могут применяться различные цен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твердая цен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цена с последующей фиксацией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скользящая це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Book Antiqua"/>
              </a:rPr>
              <a:t>     </a:t>
            </a:r>
            <a:r>
              <a:rPr b="1" lang="ru-RU" sz="1900" spc="-1" strike="noStrike">
                <a:solidFill>
                  <a:srgbClr val="ffff00"/>
                </a:solidFill>
                <a:latin typeface="Book Antiqua"/>
              </a:rPr>
              <a:t>Твердая цена</a:t>
            </a:r>
            <a:r>
              <a:rPr b="1" i="1" lang="ru-RU" sz="1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вносится в контракт после согласования между сторонами на переговорах и не подлежит изменению в ходе исполнения контракта. Твердые цены находят весьма широкое применение в практике внешнеторговых операций. Однако, используя этот способ установления цены, следует помнить, что он лучше подходит для краткосрочных сделок (1 — 1,5 года). Фиксация твердой цены в контрактах с более длительным сроком исполнения может привести к тому, что контрактная цена будет существенно отличаться от текущей рыночной цены, а это невыгодно для одной из сторо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285840" y="214200"/>
            <a:ext cx="86439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Book Antiqua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Book Antiqua"/>
              </a:rPr>
              <a:t>Цены с последующей фиксацией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в контракте не указываются. В этом случае в статье "Цена товара" описывается способ установления цены в будущем, т.е. на момент исполнения договора. Так, может быть предусмотрено установление контрактных цен по уровню биржевых котировок на день поставки или платежа либо по другим достоверным справочным це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ри установлении в контракте цены с последующей фиксацией покупателю может быть предоставлено право выбора момента фиксации цены в течение срока исполнения сделки с оговоркой, какими источниками информации о ценах ему следует пользоваться для определения уровня цены. Такие сделки называются 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Book Antiqua"/>
              </a:rPr>
              <a:t>онкольными</a:t>
            </a:r>
            <a:r>
              <a:rPr b="0" i="1" lang="ru-RU" sz="1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Book Antiqua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Book Antiqua"/>
              </a:rPr>
              <a:t>Скользящая цена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редусматривает фиксацию исходной (базисной) цены в контракте, которая в течение исполнения соглашения может измениться по согласованному сторонами методу при изменении ценообразующих элементов. Такой способ установления цены может применяться при поставках как сырьевых, так и машинотехнических издел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одобный способ установления цены при поставке сырьевых товаров иногда называют также 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Book Antiqua"/>
              </a:rPr>
              <a:t>подвижной ценой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В этом случае цена товара, указанного в контракте, увязывается с изменениями рыночной цены данного товара к моменту его поставки. В контракте обязательно указывается источник, по которому следует судить об изменении цен, а также оговариваются допустимые минимум и максимум отклонения рыночной цены от контракт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 Antiqua"/>
              </a:rPr>
              <a:t>Условия платеж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214200" y="1214280"/>
            <a:ext cx="8572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Book Antiqua"/>
              </a:rPr>
              <a:t>Условия платежа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устанавливают вид валюты платежа, способ и порядок расчетов за поставленный товар, перечень документов, представляемых к оплате, и защитные меры против необоснованной задержки платежа либо других нарушений платежных условий контра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равильно выбранные условия и формы расчетов в контрактах во многом определяют быстроту оборачиваемости средств в каждой внешнеторговой операции, а также ее эффе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ри выборе условий платежа учитыв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характер товара (сырье, продовольствие, оборудование, услуги, ноу-ха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конъюнктура рынка соответствующего това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торговые обычаи и сложившаяся практика отно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наличие межправительственных платежных согла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нормы национального валютного контроля стран-контраг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сложившиеся в банковской практике единообразные правила по применению различных форм расч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2876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оглашение об основных условиях взаимных обязательств, достигнутое в ходе переговоров участниками внешнеторговой сделки, оформляется, как правило, письменным документом —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контрактом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ли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 договором</a:t>
            </a:r>
            <a:r>
              <a:rPr b="1" i="1" lang="ru-RU" sz="24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Контракт купли-продажи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редставляет собой документ, свидетельствующий о том, что одна сторона сделки (продавец) обязуется передать указанный в контракте товар (или иной предмет соглашения) в собственность другой стороне (покупателю), которая, в свою очередь, обязуется принять его и уплатить за него установленную цену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59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 Antiqua"/>
              </a:rPr>
              <a:t>Гарантии и рекламации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214200" y="928800"/>
            <a:ext cx="8643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ри поставках машин и оборудования в контракте формулируются обязательства продавца относительно </a:t>
            </a:r>
            <a:r>
              <a:rPr b="1" lang="ru-RU" sz="1800" spc="-1" strike="noStrike">
                <a:solidFill>
                  <a:srgbClr val="ffff00"/>
                </a:solidFill>
                <a:latin typeface="Book Antiqua"/>
              </a:rPr>
              <a:t>гарантии качества и технических характеристик товара</a:t>
            </a: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ри этом стороны согласуют сроки гарантий, обязанности продавца в течение гарантийного периода, порядок предъявления претензий и удовлетворения реклам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1800" spc="-1" strike="noStrike">
                <a:solidFill>
                  <a:srgbClr val="ffff00"/>
                </a:solidFill>
                <a:latin typeface="Book Antiqua"/>
              </a:rPr>
              <a:t>Гарантийные сроки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устанавливаются сторонами сделки с учетом сложившейся международной практики и вида товара. В пределах согласованного срока продавец несет ответственность за качество поставленного товара и его эффективную эксплуатацию. В контракте перечисляются также случаи, когда гарантии не распространяются (неправильное хранение, ненадлежащая эксплуатация и т.д.). Гарантия может не распространяться на быстроизнашивающиеся детали и запасные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ри обнаружении дефектов покупатель в течение гарантийного периода имеет право предъявить продавцу претензии по качеству. В контракте стороны указывают возможные способы удовлетворения обоснованных рекламаций: устранение дефекта, частичная или полная замена товара, уценка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ru-RU" sz="1800" spc="-1" strike="noStrike">
                <a:solidFill>
                  <a:srgbClr val="ffff00"/>
                </a:solidFill>
                <a:latin typeface="Book Antiqua"/>
              </a:rPr>
              <a:t>Порядок предъявления рекламаций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предусматривает установление сроков для предъявления рекламаций, определяет виды представляемых при этом документов, сроки ответа на рекла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2876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зависимости от характера поставки и специфики взаимоотношений контрагентов различают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58040" algn="just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контракт с разовой поставкой товар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после исполнения которого юридические отношения между сторонами сделки прекращаются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58040" algn="just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контракт с периодической регулярной поставкой товаров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т продавца к покупателю в течение определенного срока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5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а вида контракта могут иметь как короткий, так и длительный срок исполнения, а основное отличие состоит в специфике взаимоотношений партнеров сделк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3"/>
          <p:cNvSpPr/>
          <p:nvPr/>
        </p:nvSpPr>
        <p:spPr>
          <a:xfrm>
            <a:off x="785880" y="2214720"/>
            <a:ext cx="3071880" cy="785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уще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Трапеция 4"/>
          <p:cNvSpPr/>
          <p:nvPr/>
        </p:nvSpPr>
        <p:spPr>
          <a:xfrm>
            <a:off x="2143080" y="428760"/>
            <a:ext cx="4857840" cy="100008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Условия контр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5"/>
          <p:cNvSpPr/>
          <p:nvPr/>
        </p:nvSpPr>
        <p:spPr>
          <a:xfrm>
            <a:off x="5214960" y="2214720"/>
            <a:ext cx="3286080" cy="785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Несуще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Прямая со стрелкой 7"/>
          <p:cNvCxnSpPr>
            <a:stCxn id="46" idx="4"/>
            <a:endCxn id="45" idx="0"/>
          </p:cNvCxnSpPr>
          <p:nvPr/>
        </p:nvCxnSpPr>
        <p:spPr>
          <a:xfrm flipH="1">
            <a:off x="2320200" y="1428480"/>
            <a:ext cx="2251800" cy="786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" name="Прямая со стрелкой 8"/>
          <p:cNvCxnSpPr>
            <a:stCxn id="46" idx="5"/>
            <a:endCxn id="47" idx="0"/>
          </p:cNvCxnSpPr>
          <p:nvPr/>
        </p:nvCxnSpPr>
        <p:spPr>
          <a:xfrm>
            <a:off x="4572000" y="1428480"/>
            <a:ext cx="2286720" cy="786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0" name="Скругленный прямоугольник 24"/>
          <p:cNvSpPr/>
          <p:nvPr/>
        </p:nvSpPr>
        <p:spPr>
          <a:xfrm>
            <a:off x="785880" y="3857760"/>
            <a:ext cx="3071880" cy="2786040"/>
          </a:xfrm>
          <a:prstGeom prst="roundRect">
            <a:avLst>
              <a:gd name="adj" fmla="val 981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статьи контракта, при невыполнении которых одним из партнеров другая сторона может отказаться от принятия товара, расторгнуть сделку и взыскать понесенные убы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25"/>
          <p:cNvSpPr/>
          <p:nvPr/>
        </p:nvSpPr>
        <p:spPr>
          <a:xfrm>
            <a:off x="5286240" y="3857760"/>
            <a:ext cx="3214800" cy="2786040"/>
          </a:xfrm>
          <a:prstGeom prst="roundRect">
            <a:avLst>
              <a:gd name="adj" fmla="val 981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при нарушении этого условия другая сторона не имеет права отказаться от принятия товара и расторгнуть сделку, а может только требовать исполнения обязательства и взыскания убы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26"/>
          <p:cNvCxnSpPr>
            <a:stCxn id="45" idx="2"/>
            <a:endCxn id="50" idx="0"/>
          </p:cNvCxnSpPr>
          <p:nvPr/>
        </p:nvCxnSpPr>
        <p:spPr>
          <a:xfrm flipH="1">
            <a:off x="2320560" y="3000240"/>
            <a:ext cx="2160" cy="859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3" name="Прямая со стрелкой 29"/>
          <p:cNvCxnSpPr>
            <a:stCxn id="47" idx="2"/>
            <a:endCxn id="51" idx="0"/>
          </p:cNvCxnSpPr>
          <p:nvPr/>
        </p:nvCxnSpPr>
        <p:spPr>
          <a:xfrm>
            <a:off x="6856920" y="3000240"/>
            <a:ext cx="37080" cy="8582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2876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зависимости от характера поставки и специфики взаимоотношений контрагентов различают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58040" algn="just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контракт с разовой поставкой товар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после исполнения которого юридические отношения между сторонами сделки прекращаются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58040" algn="just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контракт с периодической регулярной поставкой товаров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т продавца к покупателю в течение определенного срока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5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а вида контракта могут иметь как короткий, так и длительный срок исполнения, а основное отличие состоит в специфике взаимоотношений партнеров сделк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ffff00"/>
                </a:solidFill>
                <a:latin typeface="Book Antiqua"/>
              </a:rPr>
              <a:t>Определение сторон и предмета контракт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170640" algn="just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Текст контракта начинается с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преамбулы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в которой указывается полное юридическое наименование сторон, заключивших договор. Традиционно первым указывается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Book Antiqua"/>
              </a:rPr>
              <a:t>наименование продавца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 вторым —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Book Antiqua"/>
              </a:rPr>
              <a:t>наименование фирмы-покупател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70640" algn="just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Предметом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контракта могут быт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Book Antiqua"/>
              </a:rPr>
              <a:t>продажа и поставка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того или иного товара, оказание каких-либо услуг, а также передача того или иного вида технологии. Поэтому в соответствующей статье контракта в краткой форме определяется вид внешнеторговой сделки (купля-продажа, аренда, подряд), а далее указывается сам объект операци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7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2876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158040" algn="just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Если по контракту поставляется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неоднородный товар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то в этом случае подробный перечень всех поставляемых сортов, видов, марок указывается в отдельном документе — спецификации, которая оформляется как приложение к контракту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58040" algn="just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Если предметом сделки выступает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один товар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н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Book Antiqua"/>
              </a:rPr>
              <a:t>со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Book Antiqua"/>
              </a:rPr>
              <a:t>сложными техническими характеристиками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то подробное описание предмета соглашения дается в специальных разделах, которые называются "технические условия" или "технические спецификации", а в самом разделе о предмете контракта дается краткое определение товара и делается ссылка на соответствующий раздел или приложения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 Antiqua"/>
              </a:rPr>
              <a:t>Количественные и качественные характеристики предмета контракт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176040"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ри определении количества товара в контракте стороны должны согласоват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Book Antiqua"/>
              </a:rPr>
              <a:t>единицу измерения количества, систему мер и весов, порядок установления количества товар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76040"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ри поставках массовых товаров обозначение количества обычно дополняется оговоркой, допускающей отклонение фактически поставляемого продавцом количества товара от количества, обусловленного в контракте. Эта оговорка называется оговоркой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"около"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ли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опционом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 может осуществляться по предложению продавца или по выбору покупателя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8760" y="571320"/>
            <a:ext cx="8229600" cy="21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татья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"Качество товара"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язательна для каждого контракта. Согласно торговым обычаям некоторых стран, контракты, в которых отсутствует оговорка о качестве товара, могут быть признаны недействительным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Способы определения качества товара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контрактах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cxnSp>
        <p:nvCxnSpPr>
          <p:cNvPr id="61" name="Прямая со стрелкой 4"/>
          <p:cNvCxnSpPr>
            <a:endCxn id="62" idx="0"/>
          </p:cNvCxnSpPr>
          <p:nvPr/>
        </p:nvCxnSpPr>
        <p:spPr>
          <a:xfrm flipH="1">
            <a:off x="1356480" y="3356640"/>
            <a:ext cx="2001240" cy="1143720"/>
          </a:xfrm>
          <a:prstGeom prst="straightConnector1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" name="Прямая со стрелкой 5"/>
          <p:cNvCxnSpPr>
            <a:endCxn id="64" idx="0"/>
          </p:cNvCxnSpPr>
          <p:nvPr/>
        </p:nvCxnSpPr>
        <p:spPr>
          <a:xfrm>
            <a:off x="6000840" y="3428640"/>
            <a:ext cx="1715040" cy="1072440"/>
          </a:xfrm>
          <a:prstGeom prst="straightConnector1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" name="Прямая со стрелкой 6"/>
          <p:cNvCxnSpPr>
            <a:endCxn id="66" idx="0"/>
          </p:cNvCxnSpPr>
          <p:nvPr/>
        </p:nvCxnSpPr>
        <p:spPr>
          <a:xfrm flipH="1">
            <a:off x="4571280" y="3429000"/>
            <a:ext cx="1080" cy="1643760"/>
          </a:xfrm>
          <a:prstGeom prst="straightConnector1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2" name="Скругленный прямоугольник 7"/>
          <p:cNvSpPr/>
          <p:nvPr/>
        </p:nvSpPr>
        <p:spPr>
          <a:xfrm>
            <a:off x="285840" y="4500720"/>
            <a:ext cx="214308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о стандар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8"/>
          <p:cNvSpPr/>
          <p:nvPr/>
        </p:nvSpPr>
        <p:spPr>
          <a:xfrm>
            <a:off x="3143160" y="5072040"/>
            <a:ext cx="277668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о техническим условиям (описани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9"/>
          <p:cNvSpPr/>
          <p:nvPr/>
        </p:nvSpPr>
        <p:spPr>
          <a:xfrm>
            <a:off x="6643800" y="4500720"/>
            <a:ext cx="214308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о образц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8:29:09Z</dcterms:created>
  <dc:creator>Пользователь</dc:creator>
  <dc:description/>
  <dc:language>en-US</dc:language>
  <cp:lastModifiedBy>Компьютер</cp:lastModifiedBy>
  <dcterms:modified xsi:type="dcterms:W3CDTF">2012-05-27T15:01:07Z</dcterms:modified>
  <cp:revision>21</cp:revision>
  <dc:subject/>
  <dc:title>Презентация по предмету  «Организация внешнеэкономической деятельности»</dc:title>
</cp:coreProperties>
</file>