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370-D6E0-4A2E-ACFC-B0D829485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3E2-7A75-4D24-993F-F3E49D5B44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F12C-34DD-4765-B6E0-B7BCD12B2C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240-4C1C-40ED-BE05-039CB87E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EA6-0E97-498E-870E-364DEF9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454-52E8-4F92-8C38-4A83365B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0B3-69DE-4366-9D65-A4903E52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7B6-769B-40BD-9937-4350929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ACF-C0F0-4C56-BF81-4B8E98CF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8FD-EC9F-4008-B6F8-EDE1A06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7C0-024C-4E27-9EF1-60B8A5D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FCB-DD9F-4467-AFCB-5BAAE295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8F2-423E-4F07-939D-126B808C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E99-5576-49D5-A90A-279C12E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36E-AE4C-455D-BEBD-67EC3F1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093-EBAD-469C-B7CA-61C80B4C4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24.jpg"/>
          <p:cNvPicPr/>
          <p:nvPr/>
        </p:nvPicPr>
        <p:blipFill>
          <a:blip r:embed="rId1"/>
          <a:stretch/>
        </p:blipFill>
        <p:spPr>
          <a:xfrm>
            <a:off x="1214280" y="2357280"/>
            <a:ext cx="6572520" cy="450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РАХОВЫЕ РИСКИ и УСЛОВИЯ СТРАХОВАНИЯ ГРУ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strahovanie-gruzov.jpg"/>
          <p:cNvPicPr/>
          <p:nvPr/>
        </p:nvPicPr>
        <p:blipFill>
          <a:blip r:embed="rId1"/>
          <a:stretch/>
        </p:blipFill>
        <p:spPr>
          <a:xfrm>
            <a:off x="0" y="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44173.jpg"/>
          <p:cNvPicPr/>
          <p:nvPr/>
        </p:nvPicPr>
        <p:blipFill>
          <a:blip r:embed="rId2"/>
          <a:stretch/>
        </p:blipFill>
        <p:spPr>
          <a:xfrm>
            <a:off x="5929200" y="4714920"/>
            <a:ext cx="321480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 ответственностью за все рис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По договору страхования, заключенному на этом условии, возмещ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бытки от повреждений или полной гибели всего или части груза, происшедшие по любой причи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се необходимые и целесообразно произведенные расходы по спасанию и сохранению груза, а также по предупреждению дальнейших его повреж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«Без ответственности за поврежд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Book Antiqua"/>
              </a:rPr>
              <a:t>По договору страхования, заключенному на этом условии, возмещаются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бытки от полной гибели всего или части груза, причиненные пожаром, молнией, бурей, вихрем и другими стихийными бедствиями, крушением или столкновением поездов, судов, самолетов и других перевозочных средств между собой, или ударом их о неподвижные или плавучие предмет, посадкой судна на мель, провалом мостов, взрывом, повреждением судна льдом, подмочкой забортной водой, аварией при погрузке, укладке, выгрузке и приеме судном топлива, а также вследствие мер, принятых для спасения или для тушения пожа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бытки вследствие пропажи транспортного средства без ве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се необходимые и целесообразно произведенные расходы по спасению и сохранению груза, а также по предупреждению дальнейших его повреж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тветственность по договору страхования начинается с момента, когда груз будет взят со склада в пункте отправления для первозки, и продолжается в течении всей перевозки (включая перегрузки и перевалки, а также хранения на складах в пунктах перегрузок и перевалок) до тех пор, пока груз не будет доставлен на склад грузополучателя или другой конечный склад в пункте назначения, указанном в страховом свидетель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Не возмещаются убытки, происшедшие вследств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всякого рода военных мероприятий и их последствий, повреждения или уничтожения минами, торпедами, бомбами и другими орудиями войны, пиратских действий, а также вследствие народных волнений и забастовок, конфискации, реквизации, арес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прямого или косвенного воздействия атомного взрыва, радиоктивного заражения, связанного с любым применением атомной энергии и использованием расщепляемых материал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умысла или грубой неосторожности страхователя или его представителя, а также вследствие нарушения кем-либо из них установленных правил перевозки, пересылки и хранения груз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влияние температуры, трюмного воздуха или особых и естественных свойств груза, включая усуш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упаковки или укупорки грузов с нарушением ГОСТов и отправления грузов в поврежденном состоян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жара или взрыва, вследствии погрузки с ведома страхователя или представителя, но без ведома страховщика самовозгорающихся и взрывоопасных веществ и предме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едостачи груза при целости наружной упако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вреждения груза червями, грызунами, насеком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Договор заключается на основании письменного заявления страхователя, составляемого в двух экземплярах. Заявление должно содержать следующие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точное название, род упаковки, число мест и вес груз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омер и дата коносаментов или других перевозочных докумен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ид транспорта (при морской перевозке, - название, год постройки и тоннаж судн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1274809322_59-3.jpg"/>
          <p:cNvPicPr/>
          <p:nvPr/>
        </p:nvPicPr>
        <p:blipFill>
          <a:blip r:embed="rId1"/>
          <a:stretch/>
        </p:blipFill>
        <p:spPr>
          <a:xfrm>
            <a:off x="4667400" y="238140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особ отправки груза (в трюме или на палубе, навалом, насыпью, наливом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нкты отправления, пергрузки и назначения гру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ту отправки гру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траховую сумм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ид условий страх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J1-5.jpg"/>
          <p:cNvPicPr/>
          <p:nvPr/>
        </p:nvPicPr>
        <p:blipFill>
          <a:blip r:embed="rId1"/>
          <a:stretch/>
        </p:blipFill>
        <p:spPr>
          <a:xfrm>
            <a:off x="271476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оме того, страхователь обязан сообщить и все другие, известные ему сведения об обстоятельствах, имеющих существенное значение для определения степени риска. При необходимости (по усмотрению страховщика) договор страхования заключается с осмотром и составлением описи иму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Страховщик имеет право отказать в выплате страхового возмещения, если страхова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ообщил неправильные сведения об обстоятельствах, имеющих существенное значение для суждения о страховом рис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е сообщил страховщику о существенных изменениях в рис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траховой риск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— это событие, наступление которого не определено во времени и в пространстве, независимое от волеизъявления сторон, опасное и создающее вследствие этого стимул для страхования; это тот риск, который может быть оценен с точки зрения вероятности наступления страхового случая и размеров возможного ущер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3.cargo_insurance.jpg"/>
          <p:cNvPicPr/>
          <p:nvPr/>
        </p:nvPicPr>
        <p:blipFill>
          <a:blip r:embed="rId1"/>
          <a:stretch/>
        </p:blipFill>
        <p:spPr>
          <a:xfrm>
            <a:off x="6072120" y="485784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5429_1_strahovaniegruza.jpg"/>
          <p:cNvPicPr/>
          <p:nvPr/>
        </p:nvPicPr>
        <p:blipFill>
          <a:blip r:embed="rId1"/>
          <a:stretch/>
        </p:blipFill>
        <p:spPr>
          <a:xfrm>
            <a:off x="2500200" y="3290760"/>
            <a:ext cx="4214880" cy="35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принял мер к спасению и сохранению груза и не известил страховщика в установленные настоящими Правилами сроки о страховом случа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представил документов, подтверждающих факт страхового случая и необходимых для установления убыт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Страховой риск - понятие, имеющее несколько знач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как вероятность наступления события, находящегося вне контрол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вероятность наступления ущерба жизни, здоровью, имуществу страхователя (застрахованного) в результате страхового случа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ответственность страховщика, вид ответственности страховщи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риск - предполагаемое событие, на случай наступления которого проводится страхова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3"/>
          <p:cNvSpPr/>
          <p:nvPr/>
        </p:nvSpPr>
        <p:spPr>
          <a:xfrm>
            <a:off x="3000240" y="50004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еждународные правила страхования гру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357120" y="1928880"/>
            <a:ext cx="328608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от всех рисков, за исключением определенного перечня, которые прописывается в до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2928960" y="3357720"/>
            <a:ext cx="3500280" cy="15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только от тех рисков, которые указаны в до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5500800" y="4857840"/>
            <a:ext cx="321444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Груз страхуется только от полной гибели. При этом частичные повреждения не возмещ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 flipH="1" flipV="1">
            <a:off x="1428480" y="1071720"/>
            <a:ext cx="15714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3"/>
          <p:cNvCxnSpPr/>
          <p:nvPr/>
        </p:nvCxnSpPr>
        <p:spPr>
          <a:xfrm flipH="1">
            <a:off x="1426320" y="1071360"/>
            <a:ext cx="2520" cy="857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15"/>
          <p:cNvSpPr/>
          <p:nvPr/>
        </p:nvSpPr>
        <p:spPr>
          <a:xfrm>
            <a:off x="5572080" y="1071720"/>
            <a:ext cx="23576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7"/>
          <p:cNvCxnSpPr/>
          <p:nvPr/>
        </p:nvCxnSpPr>
        <p:spPr>
          <a:xfrm flipH="1">
            <a:off x="7929360" y="1071360"/>
            <a:ext cx="2160" cy="378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2" name="Прямая со стрелкой 19"/>
          <p:cNvCxnSpPr>
            <a:stCxn id="54" idx="2"/>
          </p:cNvCxnSpPr>
          <p:nvPr/>
        </p:nvCxnSpPr>
        <p:spPr>
          <a:xfrm flipH="1">
            <a:off x="4284360" y="1642680"/>
            <a:ext cx="2160" cy="1715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risk1.jpg"/>
          <p:cNvPicPr/>
          <p:nvPr/>
        </p:nvPicPr>
        <p:blipFill>
          <a:blip r:embed="rId1"/>
          <a:stretch/>
        </p:blipFill>
        <p:spPr>
          <a:xfrm>
            <a:off x="4886280" y="1866960"/>
            <a:ext cx="4257720" cy="4991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трахование грузов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— один из видов имущественного страхования, имеющий целью защиту имущественных интересов владельцев грузов на случай наступления убытков вызванных различного рода происшествиями (страховыми событиями) в процессе транспортировки гру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з страхуется от всех рисков, за исключением определенного перечня, которые прописывается в договоре. Обычно исключения состав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йна и ее последств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томный взры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мысел или грубая небрежность Страховщ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лияние температуры, трюмного воздуха или особых свойств груза, вызвавших его поврежд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соответствия упаковки, вызвавшей повреждение гру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жар, взры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реждение насекомыми, червями и т.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достача груза при целостности упаков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т.п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з страхуется только от тех рисков, которые указаны в договоре. Обычно их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йные бедствия, огонь, пожар, молния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пажа транспорта (и груза) без в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частные случая при погрузочно-разгрузочных рабо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сообразные расходы по спасению груза или уменьшения убы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iStock_Umbrella.jpg"/>
          <p:cNvPicPr/>
          <p:nvPr/>
        </p:nvPicPr>
        <p:blipFill>
          <a:blip r:embed="rId1"/>
          <a:stretch/>
        </p:blipFill>
        <p:spPr>
          <a:xfrm>
            <a:off x="1643040" y="1073160"/>
            <a:ext cx="5789520" cy="5784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з страхуется только от полной гибели. При этом частичные повреждения не возмещ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Условия страхования груз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1714680"/>
            <a:ext cx="378612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«С ответственностью за все рис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4786200" y="1714680"/>
            <a:ext cx="378648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Book Antiqua"/>
              </a:rPr>
              <a:t>«Без ответственности за поврежд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09Z</dcterms:created>
  <dc:creator>SamLab.ws</dc:creator>
  <dc:description/>
  <dc:language>en-US</dc:language>
  <cp:lastModifiedBy>Компьютер</cp:lastModifiedBy>
  <dcterms:modified xsi:type="dcterms:W3CDTF">2012-05-27T15:16:18Z</dcterms:modified>
  <cp:revision>15</cp:revision>
  <dc:subject/>
  <dc:title>СТРАХОВЫЕ РИСКИ и УСЛОВИЯ СТРАХОВАНИЯ ГРУЗОВ</dc:title>
</cp:coreProperties>
</file>