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20B-DAC5-43B6-83F7-E60F3946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7EE-9C46-4C80-BEC1-A9EEA78F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0B7-1937-4D6F-8ADB-AF6C253B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039-D6EF-415A-9EB2-F001DF26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4D72-58C2-4FFA-9A42-BDADD2E3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15A7-75E4-46C3-96C0-A071D400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A414-2020-42A0-A12D-9BE2DB54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2F10-B905-401B-9618-63D748D9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304A-B760-489A-881A-F5173BF0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6CFB-CC40-47DC-AF51-93B2549F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6374-8A22-4588-B5F5-06F25B74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842-E43F-4973-B25C-317D8AC8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B126-C53B-450B-B213-2F12E5BD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FFC8-0242-4D78-8A8E-2289160C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4EEE-24AD-487A-8E6C-58B90E2B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A715-8D8A-4177-9977-2C3314E0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5150-1415-4BA1-AE4D-CCEC982D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87BA-6722-4E5C-995C-3A5996D3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E2E8-7925-4F2D-8365-7C879935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8C9-D61D-415D-9DA4-589D25F8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4C2-516F-4932-BEB7-F15A9968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0D84-C868-432F-8E37-2CF3EF2D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84AA-FF60-4C75-A1E0-3D11A280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2B4-A0F8-41DB-B5A7-E4D24E5B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5186-0C05-43B8-B94F-9853B53FB1A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2FE6-7BFD-423A-9628-A6E565FC97E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03360" y="255600"/>
            <a:ext cx="857088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317520" y="158760"/>
            <a:ext cx="8435880" cy="2071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611280" y="21492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устанавливается машине или рабочему месту по операциям поток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353880" y="396720"/>
            <a:ext cx="8193240" cy="1090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71320" y="2857680"/>
            <a:ext cx="35002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читывает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1"/>
              <p:cNvSpPr txBox="1"/>
              <p:nvPr/>
            </p:nvSpPr>
            <p:spPr>
              <a:xfrm>
                <a:off x="4071960" y="2714760"/>
                <a:ext cx="428616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пл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93560" y="523800"/>
            <a:ext cx="8474400" cy="3054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"/>
              <p:cNvSpPr txBox="1"/>
              <p:nvPr/>
            </p:nvSpPr>
            <p:spPr>
              <a:xfrm>
                <a:off x="571680" y="4000680"/>
                <a:ext cx="7929360" cy="17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м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r>
                              <m:t xml:space="preserve">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е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93560" y="450720"/>
            <a:ext cx="8193240" cy="3267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"/>
              <p:cNvSpPr txBox="1"/>
              <p:nvPr/>
            </p:nvSpPr>
            <p:spPr>
              <a:xfrm>
                <a:off x="428760" y="3929040"/>
                <a:ext cx="8286480" cy="23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нп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353880" y="487440"/>
            <a:ext cx="8272440" cy="32065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"/>
              <p:cNvSpPr txBox="1"/>
              <p:nvPr/>
            </p:nvSpPr>
            <p:spPr>
              <a:xfrm>
                <a:off x="428760" y="4286160"/>
                <a:ext cx="8072280" cy="21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79200" y="566640"/>
            <a:ext cx="9210960" cy="2725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"/>
              <p:cNvSpPr txBox="1"/>
              <p:nvPr/>
            </p:nvSpPr>
            <p:spPr>
              <a:xfrm>
                <a:off x="357120" y="4143240"/>
                <a:ext cx="8429760" cy="24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пл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311040" y="195120"/>
            <a:ext cx="8613720" cy="2133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28760" y="2356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ширение сферы применения ПЛ на предприятиях, создание сквозных потоко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ход (там, где это возможно) к более совершенным организационным формам поточного производства, в частности от ППЛ к НПЛ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ециализация ПЛ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уровня механизации и автоматизации производственных процесс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395280" y="875880"/>
            <a:ext cx="8569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MS Mincho"/>
              </a:rPr>
              <a:t>При характеристике поточного производства на перерабатывающих предприятиях необходимо рассматривать и анализировать следующие </a:t>
            </a:r>
            <a:r>
              <a:rPr b="1" i="1" lang="ru-RU" sz="2800" spc="-1" strike="noStrike">
                <a:solidFill>
                  <a:srgbClr val="0d0d0d"/>
                </a:solidFill>
                <a:latin typeface="Times New Roman"/>
                <a:ea typeface="MS Mincho"/>
              </a:rPr>
              <a:t>показатели работы НПЛ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MS Mincho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d0d0d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MS Mincho"/>
              </a:rPr>
              <a:t>такт (ритм) поточной лин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d0d0d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MS Mincho"/>
              </a:rPr>
              <a:t>производственное задание П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d0d0d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MS Mincho"/>
              </a:rPr>
              <a:t>потребное количество рабочих мест (оборудования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d0d0d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MS Mincho"/>
              </a:rPr>
              <a:t>число рабочих на П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d0d0d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MS Mincho"/>
              </a:rPr>
              <a:t>скорость конвейе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d0d0d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MS Mincho"/>
              </a:rPr>
              <a:t>длина конвей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24000" y="-489960"/>
            <a:ext cx="8424720" cy="35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Главной особенностью НПЛ является полная согласованность 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t</a:t>
            </a:r>
            <a:r>
              <a:rPr b="1" lang="en-US" sz="1800" spc="-1" strike="noStrike" baseline="-30000">
                <a:solidFill>
                  <a:srgbClr val="0d0d0d"/>
                </a:solidFill>
                <a:latin typeface="Times New Roman"/>
                <a:ea typeface="MS Mincho"/>
              </a:rPr>
              <a:t>i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 ритму линии. Приведение технологического процесса к такому условию 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t</a:t>
            </a:r>
            <a:r>
              <a:rPr b="1" lang="en-US" sz="1800" spc="-1" strike="noStrike" baseline="-30000">
                <a:solidFill>
                  <a:srgbClr val="0d0d0d"/>
                </a:solidFill>
                <a:latin typeface="Times New Roman"/>
                <a:ea typeface="MS Mincho"/>
              </a:rPr>
              <a:t>i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= или кратны 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R</a:t>
            </a:r>
            <a:r>
              <a:rPr b="1" lang="ru-RU" sz="1800" spc="-1" strike="noStrike" baseline="-30000">
                <a:solidFill>
                  <a:srgbClr val="0d0d0d"/>
                </a:solidFill>
                <a:latin typeface="Times New Roman"/>
                <a:ea typeface="MS Mincho"/>
              </a:rPr>
              <a:t>пл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называется </a:t>
            </a:r>
            <a:r>
              <a:rPr b="1" i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синхронизацией,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 которая бывает: полной, т.е. выравнивание длительности всех операций техпроцесса; частичной, т.е. выравнивание только тех операций, перед которыми образуются заде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Однако целесообразность проведения синхронизации должна быть обоснованной. Рассчитывают </a:t>
            </a:r>
            <a:r>
              <a:rPr b="1" i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средний коэффициент синхронизации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"/>
              <p:cNvSpPr txBox="1"/>
              <p:nvPr/>
            </p:nvSpPr>
            <p:spPr>
              <a:xfrm>
                <a:off x="3419640" y="3357720"/>
                <a:ext cx="1650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х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*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пр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2" name="Rectangle 3"/>
          <p:cNvSpPr/>
          <p:nvPr/>
        </p:nvSpPr>
        <p:spPr>
          <a:xfrm>
            <a:off x="343080" y="1811160"/>
            <a:ext cx="8476920" cy="32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где Σ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t</a:t>
            </a:r>
            <a:r>
              <a:rPr b="1" lang="en-US" sz="1800" spc="-1" strike="noStrike" baseline="-30000">
                <a:solidFill>
                  <a:srgbClr val="0d0d0d"/>
                </a:solidFill>
                <a:latin typeface="Times New Roman"/>
                <a:ea typeface="MS Mincho"/>
              </a:rPr>
              <a:t>i</a:t>
            </a:r>
            <a:r>
              <a:rPr b="1" lang="ru-RU" sz="1800" spc="-1" strike="noStrike" baseline="-30000">
                <a:solidFill>
                  <a:srgbClr val="0d0d0d"/>
                </a:solidFill>
                <a:latin typeface="Times New Roman"/>
                <a:ea typeface="MS Mincho"/>
              </a:rPr>
              <a:t>       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- сумма операций технологического процесс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     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Σ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Q</a:t>
            </a:r>
            <a:r>
              <a:rPr b="1" lang="en-US" sz="1800" spc="-1" strike="noStrike" baseline="-30000">
                <a:solidFill>
                  <a:srgbClr val="0d0d0d"/>
                </a:solidFill>
                <a:latin typeface="Times New Roman"/>
                <a:ea typeface="MS Mincho"/>
              </a:rPr>
              <a:t>i</a:t>
            </a:r>
            <a:r>
              <a:rPr b="1" lang="ru-RU" sz="1800" spc="-1" strike="noStrike" baseline="30000">
                <a:solidFill>
                  <a:srgbClr val="0d0d0d"/>
                </a:solidFill>
                <a:latin typeface="Times New Roman"/>
                <a:ea typeface="MS Mincho"/>
              </a:rPr>
              <a:t>пр  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- количество рабочих мест (машин, оборудования) на П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      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t</a:t>
            </a:r>
            <a:r>
              <a:rPr b="1" lang="en-US" sz="1800" spc="-1" strike="noStrike" baseline="-30000">
                <a:solidFill>
                  <a:srgbClr val="0d0d0d"/>
                </a:solidFill>
                <a:latin typeface="Times New Roman"/>
                <a:ea typeface="MS Mincho"/>
              </a:rPr>
              <a:t>max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     - максимальная по времени операция технологического проце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48420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роизводственное зада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устанавливается машине или рабочему месту по операциям потока. Производственное задание рассчитывае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"/>
              <p:cNvSpPr txBox="1"/>
              <p:nvPr/>
            </p:nvSpPr>
            <p:spPr>
              <a:xfrm>
                <a:off x="4211640" y="2781360"/>
                <a:ext cx="799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3"/>
          <p:cNvSpPr/>
          <p:nvPr/>
        </p:nvSpPr>
        <p:spPr>
          <a:xfrm>
            <a:off x="468360" y="3671640"/>
            <a:ext cx="8351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гд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N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R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- возможная или заданная выработка главной ведущей машины в единицу времен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К   - коэффициент, учитывающий объективные расхождения в качестве обрабатываемого сыр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93560" y="390600"/>
            <a:ext cx="8193240" cy="1541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500040" y="20714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ключается в создании условий для эффективного сочетания и использования всех его элементов (средств труда, предметов труда и рабочей силы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611280" y="26028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ершенствование организации производства позволяет увеличить выработку на тех же производственных площадях. Тем самым улучшается использование основных фондов, повышаются важнейшие технико-экономические показа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536400" y="268200"/>
            <a:ext cx="8193240" cy="1573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84360" y="1773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то способ осуществления производственного процесса, представляющий собой совокупность средств и приемов его реализаци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8808840" cy="2011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00040" y="2285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заимосвязь последовательности выполнения операций технологического процесса с порядком размещения оборудования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епень непрерывности производственного процесс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уществуют следующие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методы организации производства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оточный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очный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втоматизированный и други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63680" y="457200"/>
            <a:ext cx="8192880" cy="101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меняется в основном в единичном мелкосерийном производстве. Характерен для ремонтно-механических и экспериментальных цехов. Это производство в организационном отношении довольно сложно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83260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то когда операции технологических процессов выполняют машины без участия рабочего. Функции рабочих - наладка, надзор, контроль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62080" y="182520"/>
            <a:ext cx="8583480" cy="1895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500040" y="2356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язательное разделение общего производственного процесса на отдельные операц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репление каждой операции за отдельным рабочим местом (оборудованием), т.е. наличие четкой специализац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мещение во времени выполнения операц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едленная передача предметов труда с операции на операцию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оложение технологического оборудования и рабочих мест в порядке последовательности выполнения операций по ходу технологического процесс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07880" y="176040"/>
            <a:ext cx="8412120" cy="2043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00040" y="2356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готавливаемый продукт должен отвечать особенностям организации  выполняемых здесь операц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ческий процесс при любой форме потока должен предусматривать высокопроизводительные методы работ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бильность процесса и соблюдение технологического и трудового режи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93560" y="219240"/>
            <a:ext cx="8193240" cy="1858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57120" y="2356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учшаются экономические показатели, т.е. лучше используются основные и оборотные средства, сокращается Т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ециализация рабочих мест и бесперебойное их обслуживани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очному производству свойственна ритмичность выпуска продукции, а это способствует лучшему использованию материальных ресурс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3:24:17Z</dcterms:created>
  <dc:creator>Колмурзин</dc:creator>
  <dc:description/>
  <dc:language>en-US</dc:language>
  <cp:lastModifiedBy>Оля</cp:lastModifiedBy>
  <dcterms:modified xsi:type="dcterms:W3CDTF">2012-05-29T05:28:37Z</dcterms:modified>
  <cp:revision>8</cp:revision>
  <dc:subject/>
  <dc:title>Типы и формы организации производства</dc:title>
</cp:coreProperties>
</file>