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F19-DCA9-45D5-A362-E5B2F702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076-6015-4D79-B3E5-D91BE21F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42F-7058-4389-AD6E-CF1884C0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86A-F59E-4053-B489-55F3EFE6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6D84-4AC5-4510-8C41-1DD8BCAF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FC8-643A-481E-8880-123C2A6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F8D-C8C1-4212-95CB-53B1AFE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F851-2187-4655-97A6-15743C4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FEED-1932-4803-8252-F8CE9A5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717B-9297-4AAC-8163-C27047F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89A-3F02-4FDE-A8A6-69A4269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1D9-0D52-4D68-A903-39E810D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76D9-19CC-4E1C-97DA-4B0C899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D47-ED74-43F8-BA94-5F4F5D1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CCA4-B8C1-4A3A-B01F-05932C6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7654-32D6-4F1D-8B10-AB32910D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C3C3-393E-4821-9C39-B790F9A9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662F5-39B4-42B6-928C-06B9F05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CA562-B51F-4132-977C-47B96D1A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CC26A-63ED-4427-A3E3-959497C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07353-85D1-4C60-A642-10755B5C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74AE3-97E1-4821-8115-8EB6BF8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CE6-1929-4385-BA27-AD3DF1A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DC90E-59E3-410C-BE94-D81FFEB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AB51E-D0ED-41DB-9648-9D189D3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2CCF7-DD5A-466F-8F2B-DA254C4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5BE1E-6F79-4F01-8B30-CC83599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5304F-76D0-4211-8BE9-6534EE7A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8D89E-9CCE-4A3B-ADF6-E578C425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513FB-60F1-4BBB-816A-AD8E64E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4A05-B8F8-42A4-9B6A-C64B6F66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5054-3795-483F-8C65-064105EE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A2D6-B21D-4EEB-93B5-08EABAE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12F-BDC7-4A85-999E-D964523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E852-AE8B-45D4-980E-1D279A37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F4FE-1887-4851-B4F0-C131C01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B032-751A-48DD-A289-99C9035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3D33-718F-41DC-8F17-17B36F9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D076-18F8-496E-A77D-21A8AB8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F6889-7A65-4B7D-A033-8C7431E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BB81-4FD8-47F3-A2D4-0D48213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7D46-EE23-47BA-9B6E-BC59452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5AD9-8440-40FA-99AE-A11B720B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F2E3-9B9C-4871-8612-CF76A7D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6B2-BF9E-48BF-BB15-B0529BE4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BF9D7-1D9F-4BE1-A275-33A2DF6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F460-5394-4648-8265-6436CF2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1A2A-2151-4A5E-815A-3E63DBB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6BED-5C94-4F21-B115-B4C77AC7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7DE4-F674-41BB-996E-63288BE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8AC2-78EA-4EE2-A715-441DD58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EB64-C03E-43CD-BBA1-712D01E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E275-1F74-473C-A4AF-6D414F3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FDF67-F2AD-4BD8-BCAA-2EF5D7D5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7975-A13B-4C64-9A2E-5230B510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796-123C-48A5-86E3-875AF75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A0F0-2F31-4DE5-981B-D0CDEFF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060-1774-4235-8950-24BFB28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E4D-54C5-421E-8225-830C4F60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AC7-F9C9-41E1-BF9A-E10BCB1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726-3A25-4929-85CD-757104E48CB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1BA-013F-4A54-A03D-2A6BBB8517C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6DD-E228-428B-ACAD-67572FBEA53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E92-C160-49B7-9ACD-3676637E61D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4A6-8412-4C7E-B30D-9EBD0FC53B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оизводственная инфраструктура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отдела МТС (смешанный тип)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0" y="843120"/>
            <a:ext cx="8964720" cy="5465520"/>
            <a:chOff x="0" y="843120"/>
            <a:chExt cx="8964720" cy="5465520"/>
          </a:xfrm>
        </p:grpSpPr>
        <p:sp>
          <p:nvSpPr>
            <p:cNvPr id="296" name="AutoShape 7"/>
            <p:cNvSpPr/>
            <p:nvPr/>
          </p:nvSpPr>
          <p:spPr>
            <a:xfrm>
              <a:off x="0" y="843120"/>
              <a:ext cx="8964720" cy="54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2793960" y="843120"/>
              <a:ext cx="3259440" cy="1038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уководство отд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Т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232920" y="2404800"/>
              <a:ext cx="2095200" cy="169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ановое бюро (групп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6519240" y="2404800"/>
              <a:ext cx="2212560" cy="169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испетчерское бюро (групп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2561040" y="2404800"/>
              <a:ext cx="3842280" cy="169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варные группы (бюр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видам проду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                     Б               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2561040" y="3315240"/>
              <a:ext cx="38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>
              <a:off x="3725280" y="331524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5239080" y="3315240"/>
              <a:ext cx="108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5"/>
            <p:cNvSpPr/>
            <p:nvPr/>
          </p:nvSpPr>
          <p:spPr>
            <a:xfrm>
              <a:off x="1862640" y="4096800"/>
              <a:ext cx="174672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№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6"/>
            <p:cNvSpPr/>
            <p:nvPr/>
          </p:nvSpPr>
          <p:spPr>
            <a:xfrm>
              <a:off x="3609360" y="4096800"/>
              <a:ext cx="162972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№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7"/>
            <p:cNvSpPr/>
            <p:nvPr/>
          </p:nvSpPr>
          <p:spPr>
            <a:xfrm>
              <a:off x="5239080" y="4096800"/>
              <a:ext cx="174564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 №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4423680" y="1883880"/>
              <a:ext cx="108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1281240" y="2013840"/>
              <a:ext cx="65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1281240" y="201384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7800480" y="201384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 flipV="1">
              <a:off x="3725280" y="3705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 flipV="1">
              <a:off x="5239080" y="3575520"/>
              <a:ext cx="0" cy="52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хема организационной структуры службы снабж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0" y="836640"/>
            <a:ext cx="8964720" cy="5832360"/>
            <a:chOff x="0" y="836640"/>
            <a:chExt cx="8964720" cy="5832360"/>
          </a:xfrm>
        </p:grpSpPr>
        <p:sp>
          <p:nvSpPr>
            <p:cNvPr id="315" name="AutoShape 5"/>
            <p:cNvSpPr/>
            <p:nvPr/>
          </p:nvSpPr>
          <p:spPr>
            <a:xfrm>
              <a:off x="0" y="836640"/>
              <a:ext cx="89647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6"/>
            <p:cNvSpPr/>
            <p:nvPr/>
          </p:nvSpPr>
          <p:spPr>
            <a:xfrm>
              <a:off x="1697040" y="1060920"/>
              <a:ext cx="5087160" cy="6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редприятия (объединения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484200" y="2182320"/>
              <a:ext cx="193788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уководство ОМТ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"/>
            <p:cNvSpPr/>
            <p:nvPr/>
          </p:nvSpPr>
          <p:spPr>
            <a:xfrm>
              <a:off x="4482360" y="2182320"/>
              <a:ext cx="1695600" cy="89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чальник цеха №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6662520" y="2182320"/>
              <a:ext cx="1695960" cy="89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чальник цеха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0" y="3640320"/>
              <a:ext cx="10893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лановое 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"/>
            <p:cNvSpPr/>
            <p:nvPr/>
          </p:nvSpPr>
          <p:spPr>
            <a:xfrm>
              <a:off x="1211040" y="3640320"/>
              <a:ext cx="121104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оварное бю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(группа) по вид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роду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2"/>
            <p:cNvSpPr/>
            <p:nvPr/>
          </p:nvSpPr>
          <p:spPr>
            <a:xfrm>
              <a:off x="2544120" y="3640320"/>
              <a:ext cx="8481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испетчерское бюро (групп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3513240" y="3640320"/>
              <a:ext cx="14547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 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кладского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4"/>
            <p:cNvSpPr/>
            <p:nvPr/>
          </p:nvSpPr>
          <p:spPr>
            <a:xfrm>
              <a:off x="5209200" y="3640320"/>
              <a:ext cx="1575000" cy="201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наб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Товар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руппы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идам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дукция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"/>
            <p:cNvSpPr/>
            <p:nvPr/>
          </p:nvSpPr>
          <p:spPr>
            <a:xfrm>
              <a:off x="6904800" y="3640320"/>
              <a:ext cx="1695600" cy="201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набжение Исполн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о вид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д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5573160" y="5996520"/>
              <a:ext cx="1331640" cy="55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"/>
            <p:cNvSpPr/>
            <p:nvPr/>
          </p:nvSpPr>
          <p:spPr>
            <a:xfrm>
              <a:off x="7268760" y="5996520"/>
              <a:ext cx="1211040" cy="55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5209200" y="4538520"/>
              <a:ext cx="157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>
              <a:off x="6904800" y="4538520"/>
              <a:ext cx="169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121680" y="5884200"/>
              <a:ext cx="968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V="1">
              <a:off x="121680" y="6333120"/>
              <a:ext cx="9687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"/>
            <p:cNvSpPr/>
            <p:nvPr/>
          </p:nvSpPr>
          <p:spPr>
            <a:xfrm>
              <a:off x="1937880" y="1733400"/>
              <a:ext cx="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>
              <a:off x="72648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726480" y="3416040"/>
              <a:ext cx="35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"/>
            <p:cNvSpPr/>
            <p:nvPr/>
          </p:nvSpPr>
          <p:spPr>
            <a:xfrm>
              <a:off x="169560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290664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424008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6057720" y="3080520"/>
              <a:ext cx="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>
              <a:off x="7753320" y="3080520"/>
              <a:ext cx="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>
              <a:off x="6420600" y="56599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1"/>
            <p:cNvSpPr/>
            <p:nvPr/>
          </p:nvSpPr>
          <p:spPr>
            <a:xfrm>
              <a:off x="7995600" y="56599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2"/>
            <p:cNvSpPr/>
            <p:nvPr/>
          </p:nvSpPr>
          <p:spPr>
            <a:xfrm>
              <a:off x="2422440" y="2631240"/>
              <a:ext cx="181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4240080" y="2631240"/>
              <a:ext cx="0" cy="56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>
              <a:off x="4240080" y="3192480"/>
              <a:ext cx="314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5"/>
            <p:cNvSpPr/>
            <p:nvPr/>
          </p:nvSpPr>
          <p:spPr>
            <a:xfrm>
              <a:off x="569376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6"/>
            <p:cNvSpPr/>
            <p:nvPr/>
          </p:nvSpPr>
          <p:spPr>
            <a:xfrm>
              <a:off x="738936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7"/>
            <p:cNvSpPr/>
            <p:nvPr/>
          </p:nvSpPr>
          <p:spPr>
            <a:xfrm>
              <a:off x="1211040" y="5659920"/>
              <a:ext cx="3755520" cy="44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дминистративное подчи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8"/>
            <p:cNvSpPr/>
            <p:nvPr/>
          </p:nvSpPr>
          <p:spPr>
            <a:xfrm>
              <a:off x="1211040" y="6221160"/>
              <a:ext cx="3755520" cy="447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ункциональное подчи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50920" y="189000"/>
            <a:ext cx="8713800" cy="158436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озяйственные свя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экономиче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х и правовых взаимоотношений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ают между поставщиками и потребите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547640" y="1773360"/>
            <a:ext cx="107964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5867280" y="177336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971640" y="2781360"/>
            <a:ext cx="2232000" cy="647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5148360" y="2781360"/>
            <a:ext cx="2808360" cy="72072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осред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1763640" y="3429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6443640" y="350028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0" y="4221000"/>
            <a:ext cx="4176720" cy="2087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и, при которых отношени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вкам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ются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ми-изготов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едприятиями-поставщ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о, непосред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4427640" y="4221000"/>
            <a:ext cx="4716360" cy="2303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и, когда между эт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ми имеется хотя 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посредник. Поставки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ителю могут осуществля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шанным путем, т. е. как напрям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и через посредников(дистрибьюто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обберов, агентов, брокер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47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Схемы хозяйственных связей МТС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0" y="907920"/>
            <a:ext cx="8964720" cy="4680000"/>
            <a:chOff x="0" y="907920"/>
            <a:chExt cx="8964720" cy="4680000"/>
          </a:xfrm>
        </p:grpSpPr>
        <p:sp>
          <p:nvSpPr>
            <p:cNvPr id="360" name="AutoShape 7"/>
            <p:cNvSpPr/>
            <p:nvPr/>
          </p:nvSpPr>
          <p:spPr>
            <a:xfrm>
              <a:off x="0" y="907920"/>
              <a:ext cx="8964720" cy="46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118800" y="907920"/>
              <a:ext cx="251100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3710160" y="907920"/>
              <a:ext cx="227052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8600" y="2219040"/>
              <a:ext cx="1673280" cy="73548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ред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5139360" y="2219040"/>
              <a:ext cx="1673280" cy="7340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0" y="2219040"/>
              <a:ext cx="2032560" cy="7340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78080" y="4843080"/>
              <a:ext cx="2032920" cy="7322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2270520" y="3531960"/>
              <a:ext cx="1673280" cy="7322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сред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2629800" y="1199520"/>
              <a:ext cx="1076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031480" y="2656440"/>
              <a:ext cx="71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421880" y="2510640"/>
              <a:ext cx="717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V="1">
              <a:off x="1314000" y="3969000"/>
              <a:ext cx="956160" cy="87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3943800" y="3823560"/>
              <a:ext cx="71712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2509560" y="5282280"/>
              <a:ext cx="11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1"/>
            <p:cNvSpPr/>
            <p:nvPr/>
          </p:nvSpPr>
          <p:spPr>
            <a:xfrm>
              <a:off x="6933240" y="907920"/>
              <a:ext cx="203148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связ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2"/>
            <p:cNvSpPr/>
            <p:nvPr/>
          </p:nvSpPr>
          <p:spPr>
            <a:xfrm>
              <a:off x="6933240" y="2219040"/>
              <a:ext cx="2031480" cy="87516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посредованная связ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3"/>
            <p:cNvSpPr/>
            <p:nvPr/>
          </p:nvSpPr>
          <p:spPr>
            <a:xfrm>
              <a:off x="6933240" y="3969360"/>
              <a:ext cx="2031480" cy="87516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мешанная (гибкая) связ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3710160" y="4858560"/>
              <a:ext cx="179352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2843280" y="333360"/>
            <a:ext cx="3240000" cy="50472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 поста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H="1">
            <a:off x="2124000" y="54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 flipH="1">
            <a:off x="6084720" y="549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2124000" y="549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6732720" y="549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042920" y="1700280"/>
            <a:ext cx="2592360" cy="64908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нзи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5508720" y="1700280"/>
            <a:ext cx="2519280" cy="72072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ла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2124000" y="2349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6804000" y="24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79280" y="2924280"/>
            <a:ext cx="5113440" cy="302580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ресурсы перемещаются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вщика к потребителю прямо, мин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ежуточные базы и скла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реднических организаций. Так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бжения для материалов с не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ью приводит к увели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асов и связанных с этим рас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5614920" y="2924280"/>
            <a:ext cx="3529080" cy="230508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ресу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озятся на склады и ба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реднических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затем с них отгруж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средственно потреб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092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хнико-экономического об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ора формы снаб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уется форму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 максимальное количество материала, которое экономичес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сообразно подучить от складских организаций, натур, е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коэффициент использования производственных фондов 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я производственных запасов, %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 и 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редняя величина партии поставки соответственно пр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зитной и складской формах снабжения, натур, е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 и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величина расходов по доставке и хранению материал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при транзитной и складской формах снабжения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% к цен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1187280" y="1413000"/>
                <a:ext cx="6985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K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П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ТР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П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КЛ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КЛ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ТР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250920" y="189000"/>
            <a:ext cx="8569080" cy="1368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материальными ресурсами производ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хов, участков и других подразделений пред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лагает выполнение следующих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64000" y="1557360"/>
            <a:ext cx="1655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250920" y="2205000"/>
            <a:ext cx="8424720" cy="4390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количественных и качественных заданий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бжению (лимитир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материальных ресурсов к производ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уск и доставку материальных ресурсов со склада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бжения на место ее непосредственного потреблен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лад цеха,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ое регулирование снаб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и контроль за использованием материаль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дразделениях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79280" y="259920"/>
            <a:ext cx="8663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ми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    - лимит данной номенклатуры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   - потребность цеха в материалах для выпол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изводственной программы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 -  потребность цеха в материалах для изме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езавершенного производства (+ увеличение, - уменьшение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 - норматив цехового запа­са данной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 - расчетный ожидаемый остаток данной продукции в цехе на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ачало планового период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ный лимит фиксируется 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-карте, лимитной карте, лимитной или заборной ведо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правляются складу и цеху-потребител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2340000" y="907920"/>
                <a:ext cx="4248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Л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п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Н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лан-кар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применяется в массовом и крупносерийном производстве, т. е. в условиях стабильной потребности и четкой регламентации производст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имитная ка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тся в тех случаях, когда жесткая регламентация поставок внутри месяца по срокам и объемам затруднительна (серийное и индивидуальное производство). В лимитной карте указываются месячная потребность в материале, величина запаса и месячный лимит расх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имитную ведо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ются обычно группа однородных материалов или все получаемые с данного склада материал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борные ведомости (ка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водятся при лимитировании расхода вспомогательных материалов, обычно в случаях, когда потребность в них неравномерная и отсутствуют достаточно точные нормы расход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Раскройно-транспортная задач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задача оптимизации поставок рулонных материалов, учитывающая величину транспортных издержек и затраты, вызванные образованием технологических отход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ение задачи сводится к минимизации совокупных затрат на отходы при раскрое и транспортировке. Используется математическая модель вид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3132000" y="2781360"/>
                <a:ext cx="3311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2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250920" y="4292640"/>
                <a:ext cx="23050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8"/>
              <p:cNvSpPr txBox="1"/>
              <p:nvPr/>
            </p:nvSpPr>
            <p:spPr>
              <a:xfrm>
                <a:off x="3059280" y="4365720"/>
                <a:ext cx="3313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6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0"/>
              <p:cNvSpPr txBox="1"/>
              <p:nvPr/>
            </p:nvSpPr>
            <p:spPr>
              <a:xfrm>
                <a:off x="7020000" y="4221000"/>
                <a:ext cx="18716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8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2"/>
              <p:cNvSpPr txBox="1"/>
              <p:nvPr/>
            </p:nvSpPr>
            <p:spPr>
              <a:xfrm>
                <a:off x="1042920" y="5805360"/>
                <a:ext cx="1584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4"/>
              <p:cNvSpPr txBox="1"/>
              <p:nvPr/>
            </p:nvSpPr>
            <p:spPr>
              <a:xfrm>
                <a:off x="4932360" y="5516640"/>
                <a:ext cx="3456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Рассматриваемы вопрос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1916280"/>
            <a:ext cx="8724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задачи производственной инфраструкту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 и функции материально-технического обеспечения на предприят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поставок материальных ресурсов на предприят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снабжения производственных цехов и участ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- индекс пункта производств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1,2, …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индекс пункта потребления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,2,.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  - ширина рулона (формат) материала, вырабатываем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ем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 - ширина рулона (фор­мат) материала, необходим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у потребителю,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индекс возможного способа раскроя полосы формат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ительские форматы 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1,2, …,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количество способов раскроя руло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ом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- число полос продукции форма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краиваем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способом из руло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Р 0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величина краевого отхода, образующегося при раскрое рулона формато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полосы форматом Н способом  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бъем производства продукции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объем потребления продукции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-  оптовая цена 1 т про­дук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го предприят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- тариф за перевозку продукции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тавщика 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оличество продукции в услов­ных единицах, раскраиваемой по способ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эффициент, учитывающий совокупные затраты, связанные 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­нием отходов при -м способе раскроя и транспортировк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3" name="Рисунок 126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6120" cy="5763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27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216000" cy="5047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32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35856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36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77560" cy="4330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39" descr=""/>
          <p:cNvPicPr/>
          <p:nvPr/>
        </p:nvPicPr>
        <p:blipFill>
          <a:blip r:embed="rId5"/>
          <a:stretch/>
        </p:blipFill>
        <p:spPr>
          <a:xfrm>
            <a:off x="250920" y="5373720"/>
            <a:ext cx="403200" cy="5047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41" descr=""/>
          <p:cNvPicPr/>
          <p:nvPr/>
        </p:nvPicPr>
        <p:blipFill>
          <a:blip r:embed="rId6"/>
          <a:stretch/>
        </p:blipFill>
        <p:spPr>
          <a:xfrm>
            <a:off x="324000" y="6021360"/>
            <a:ext cx="3441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0560" y="260280"/>
            <a:ext cx="8591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ым условием нормального бесперебойного хода производства является четкая организация производственной инфраструктур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огательные                  Обслуживающ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ы                             проце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1763280" y="2060640"/>
            <a:ext cx="187164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4859280" y="2133720"/>
            <a:ext cx="122724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6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Требования к организации вспомогательного и обслуживающих процессов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ть профилактический характер 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упреждать возможные нарушения нормально производс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вать условия для организации специализированного выполнения рабо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ся на основе технико-экономической, технологической и организационной регламентации вспомогательных и обслуживающих процессов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ивать условия выпуска максимума высококачественной продукции при минимуме затрат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ивать гибкость, преемственность и минимальную перестройку при переходе в основном производстве с одной продукции на другу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бесперебойного функционирования производства необходимо хорошо налаженное материально-техническое обеспечение (МТО), которое на предприятиях осуществляется через органы материально-технического снабж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й задачей органов снабжения предприятия является своевременное и оптимальное обеспечение производств необходимыми материальными ресурсами соответствующей комплектности и качес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я эту задачу, работники органов снабжения должны изучать и учитывать спрос и предложение на все потребляемые предприятием материальные ресурсы, уровень и изменение цен на них и на услуги посреднических организаций, выбирать наиболее экономичную форму товародвижения, оптимизировать запасы, снижать транспортно-заготовительные и складские расхо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Organization Chart 6"/>
          <p:cNvGrpSpPr/>
          <p:nvPr/>
        </p:nvGrpSpPr>
        <p:grpSpPr>
          <a:xfrm>
            <a:off x="250920" y="333360"/>
            <a:ext cx="8496000" cy="5830560"/>
            <a:chOff x="250920" y="333360"/>
            <a:chExt cx="8496000" cy="5830560"/>
          </a:xfrm>
        </p:grpSpPr>
        <p:cxnSp>
          <p:nvCxnSpPr>
            <p:cNvPr id="278" name="_s1028"/>
            <p:cNvCxnSpPr>
              <a:stCxn id="279" idx="0"/>
              <a:endCxn id="280" idx="3"/>
            </p:cNvCxnSpPr>
            <p:nvPr/>
          </p:nvCxnSpPr>
          <p:spPr>
            <a:xfrm flipV="1" rot="16200000">
              <a:off x="5400000" y="1635480"/>
              <a:ext cx="1166760" cy="32248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cxnSp>
          <p:nvCxnSpPr>
            <p:cNvPr id="281" name="_s1029"/>
            <p:cNvCxnSpPr>
              <a:stCxn id="282" idx="0"/>
              <a:endCxn id="280" idx="3"/>
            </p:cNvCxnSpPr>
            <p:nvPr/>
          </p:nvCxnSpPr>
          <p:spPr>
            <a:xfrm flipV="1" rot="16200000">
              <a:off x="3914640" y="3120840"/>
              <a:ext cx="1166760" cy="2541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cxnSp>
          <p:nvCxnSpPr>
            <p:cNvPr id="283" name="_s1030"/>
            <p:cNvCxnSpPr>
              <a:stCxn id="284" idx="0"/>
              <a:endCxn id="280" idx="3"/>
            </p:cNvCxnSpPr>
            <p:nvPr/>
          </p:nvCxnSpPr>
          <p:spPr>
            <a:xfrm flipH="1" flipV="1" rot="5400000">
              <a:off x="2428200" y="1887840"/>
              <a:ext cx="1166760" cy="2720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sp>
          <p:nvSpPr>
            <p:cNvPr id="280" name="_s1031"/>
            <p:cNvSpPr/>
            <p:nvPr/>
          </p:nvSpPr>
          <p:spPr>
            <a:xfrm>
              <a:off x="3224520" y="33336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3548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Функции орган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набж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2"/>
            <p:cNvSpPr/>
            <p:nvPr/>
          </p:nvSpPr>
          <p:spPr>
            <a:xfrm>
              <a:off x="2509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ланир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33"/>
            <p:cNvSpPr/>
            <p:nvPr/>
          </p:nvSpPr>
          <p:spPr>
            <a:xfrm>
              <a:off x="32245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Организацион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034"/>
            <p:cNvSpPr/>
            <p:nvPr/>
          </p:nvSpPr>
          <p:spPr>
            <a:xfrm>
              <a:off x="61981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нтролирующ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ординирующ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2627280" y="260280"/>
            <a:ext cx="4176720" cy="7207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 план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4211640" y="981000"/>
            <a:ext cx="1081080" cy="1224000"/>
          </a:xfrm>
          <a:prstGeom prst="downArrow">
            <a:avLst>
              <a:gd name="adj1" fmla="val 50000"/>
              <a:gd name="adj2" fmla="val 2500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24000" y="2276640"/>
            <a:ext cx="8569080" cy="4392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внешней и внутренней среды предприятия, а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нка отдельных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нозирование и определение потребности всех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х ресурсов, планирование оптим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зяйственных свя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ацию производственных запа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е потребности материалов и установление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ита на отпуск цех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ое планирование снаб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2268360" y="189000"/>
            <a:ext cx="4465800" cy="718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924360" y="907920"/>
            <a:ext cx="115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50920" y="1700280"/>
            <a:ext cx="8713800" cy="49687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о потребной продукции, участие в ярмар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авках-продажах, аукционах и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всех источников удовлетворения потребност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х ресурсах с целью выбора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ючение с поставщиками хозяйственных договор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вку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и организацию завоза реаль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ю складского хозяйства, входящего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ов снабж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цехов, участков, рабочих мест необходим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ми ресур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24000" y="189000"/>
            <a:ext cx="8496000" cy="863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ирующая или координирующ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4067280" y="1052640"/>
            <a:ext cx="10094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24000" y="1989000"/>
            <a:ext cx="8569080" cy="46800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выполнением договорных обязатель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вщиков, выполнение ими сроков поставки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расходованием материальных ресурсо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ной контроль над качеством и комплект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упающих материаль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производственными запа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вижение претензий поставщикам и транспорт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действенности снабженческой службы, разрабо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оприятий по координации снабженческой деятель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ю ее эффе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49:10Z</dcterms:created>
  <dc:creator>User</dc:creator>
  <dc:description/>
  <dc:language>en-US</dc:language>
  <cp:lastModifiedBy>Оля</cp:lastModifiedBy>
  <dcterms:modified xsi:type="dcterms:W3CDTF">2012-05-26T05:07:01Z</dcterms:modified>
  <cp:revision>6</cp:revision>
  <dc:subject/>
  <dc:title>«Производственная инфраструктура» </dc:title>
</cp:coreProperties>
</file>