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E0B-0EE9-43ED-8370-F071DAB9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DC9-DBBA-49D7-B93D-FD45259F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BD4B-BE49-4FF7-9982-3B2D230A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9A4-DAAE-4B92-B593-785E0905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55E2-207B-43B3-A57A-E01C0E3A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85B6-01F8-4DDE-BC8D-B9351216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82B1-0A92-41E4-8CC1-F44F5496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57DE-7F81-4042-A664-9A56A16A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B8C5-F916-4A5E-AF84-AD4B150D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4135-0703-43E1-A634-5424F9E9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142E-CB96-4456-9D09-92E7F5AB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D65-29B9-48A2-917F-1043DEF2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0A2A-9ABF-4B03-B31A-51EFCF66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6423-0540-48C7-871B-8D602121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525F-C656-491C-A054-89172C72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0E33-6B77-4D9C-AE6F-D7B4BB9E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DE6A-2568-4CDF-8BC0-85F78666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DFDD3-3BE2-46CD-A16B-A7BC15A0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2C582-8C92-4F5F-AEEA-56625578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7057C-CA9F-47E6-ADBD-092F2F75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6FCDF-EC39-48D7-A265-D347DD58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A2AC2-5CB4-46C0-A8B0-511FD4EC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D99-13C5-404A-97E9-DB212229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8F800-A3E9-4138-B449-557A23F7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5B7E6-39F8-420F-95CA-374F3A70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E8CAE-7AC4-4D39-A06E-20104A39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EDAA6-9404-4258-A00D-CC113947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7D1C8-A909-4638-8D85-8BACEECF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21A4E-2F71-4341-A6FD-7A6281C3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F6377-9900-44AD-A537-D0F158D3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3B0C6-75FB-453F-9FF3-6805014D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4FE8C-62C4-4E01-9BB6-A1EF37B2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742D1-BB71-4AFF-A9E4-7CBEA2B7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BE7-260A-4F1A-8851-B9E42065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B1567-68B1-4A03-B926-98E8574D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71B34-3E72-4D96-A4AD-A9415513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0E70C-BD51-4313-A2D3-BB08E74F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AF116-8BAC-4961-A253-479B4B74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06CEF-FB0A-4134-94B2-AA0AFA21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0FA45-3076-49E6-8E0B-7C6E2A6C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D94D2-9743-4634-9C79-4D053959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8FC1-23C1-4377-A4C3-B3CFD725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654DB-2CCB-44C7-A06B-084467E9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724-7C4B-4704-BF1F-4FDD2930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512-C984-4B17-89DB-2DE923F1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4D6-B4F2-4BE7-8B37-5C60468B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77E-BB48-4C85-826D-6944DF43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B6C-7910-45AC-BF1B-C9FE58D2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0E05-556D-484D-9026-D0EC748D9C8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5084-C120-4BF2-B0AA-3E0DD98205F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9BB6-6780-48DF-A9CB-F0B2DF5FD29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10C2-5C69-41E0-9AAF-A25DE63BF94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Организация инструментального хозяйства 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Универсальный инструмент -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инструмент, применяемый на всех предприятиях данной отрасли (подотрасли) производства при выполнении применяемый на данном предприятии для выполнения определенной операции при изготовлении конкретных деталей продукци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4456"/>
                </a:solidFill>
                <a:latin typeface="Trebuchet MS"/>
              </a:rPr>
              <a:t>Инструмент классифицируют на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брабатывающий,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онтрольно-измерительный,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технологическую оснастку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Основная часть запасов инструмента находится в центральном инструментальном складе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rebuchet MS"/>
              </a:rPr>
              <a:t>«Точка заказа» 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то величина переходящего запаса, достаточная для обеспечения производства инструментом на время нормального его изготовления или приобретения на стороне, плюс минимальный запас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Величина же всего складского запаса (в стоимостной форме) будет равна сумме средних запасов по каждому наименованию инструмента и минимального запаса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4456"/>
                </a:solidFill>
                <a:latin typeface="Trebuchet MS"/>
              </a:rPr>
              <a:t>Инструментальное хозяйство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окупность общезаводских и цеховых подразделений предприятия (отделов, групп, цехов, участков), занятых определением потребности, приобретением, проектированием, изготовлением, ремонтом и восстановлением инструмента и оснастки, ее учетом, хранением, выдачей в цехи и на рабочие места, техническим надзор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нструментальное хозяйство предприятия состоит из следующих подразделений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421000"/>
            <a:ext cx="836280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струментальный отдел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струментальный цех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ентральный инструментальный склад (ЦИС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еховые инструментально-раздаточные кладовые (ИРК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аза восстановления инструмент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монтные отделени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точные отделения в цех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611280" y="765000"/>
            <a:ext cx="8075520" cy="58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альный отдел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занимается определением потребности в инструменте, устанавливает нормы его износа, расхода и запаса, составляет график производства инструмента, организует его ремонт, осуществляет технический надзор за его эксплуатацией и руководит всеми инструментальными службам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альный це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осуществляет изготовление (при необходимости ремонт и восстановление) инструмент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611280" y="765000"/>
            <a:ext cx="8075520" cy="58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нтральный инструментальный склад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ЦИС) - осуществляет прием, хранение, подготовку и выдачу инструмента в инструментально-раздаточные кладовы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ховые инструментально-раздаточные кладовые (ИРК)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получают инструмент из ЦИСа, осуществляют его хранение, выдачу на рабочие места, в заточку и ремонт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база восстановления инструмента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занимается сортировкой и восстановлением инструмент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Формы организации инструментального хозяйства на предприятии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708280"/>
            <a:ext cx="822960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централизованная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ецентрализованная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мешанная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214200" y="1090440"/>
            <a:ext cx="8501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Инструментальное хозяйство должно решать ряд задач, основными из которых являются: обоснование потребности в различных видах инструмента; определение степени удовлетворения потребности в инструментах и обоснование необходимости проектирования нового инструмента; проектирование специального инструмента; выбор форм обеспечения инструментом (получение со стороны, собственное производство); организация материально-технического снабжения инструментом; организация хранения инструмента; выбор форм инструменто-обеспечения рабочих мест; организация производства инструмента, его ремонта и заточки; определение возможности восстановления и модернизации инструмент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20908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нструментальное хозяйство в ПХК включает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421000"/>
            <a:ext cx="822960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изводственные звенья по изготовлению инструмента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кладские и комплектующие подразделен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разделения по восстановлению и ремонту инструментов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разделения по инструментообеспечению рабочих мес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642960" y="668880"/>
            <a:ext cx="80722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р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централизованной форм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создается инструментальный отдел предприятия, который руководит всеми инструментальными службами предприятия. В его состав входит инструментальный цех, изготавливающий инструмент для всех подразделений предприятия. Пр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децентрализованной форм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каждый цех предприятия самостоятельно обеспечивает свое производство необходимым инструментом. Пр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смешанной форм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организации происходит перераспределение работ между подразделениями инструментального хозяйства; изготовление инструмента осуществляет инструментальный цех, его хранение и распределение - ЦИС, а ремонт и восстановление - цехи основного и вспомогательного производств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85840" y="1336680"/>
          <a:ext cx="8286840" cy="4735440"/>
        </p:xfrm>
        <a:graphic>
          <a:graphicData uri="http://schemas.openxmlformats.org/drawingml/2006/table">
            <a:tbl>
              <a:tblPr/>
              <a:tblGrid>
                <a:gridCol w="1912680"/>
                <a:gridCol w="2378160"/>
                <a:gridCol w="1751040"/>
                <a:gridCol w="2244960"/>
              </a:tblGrid>
              <a:tr h="123660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бщее количество работающих в инструментальном хозяйстве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Руко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9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дчин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9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о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Группа инструментального хозяйства (ГИХ) или отдельные исполн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нженер по инструмен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 катег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9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чальнику технологического отдела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выше 100 до 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юро инструментального хозяйства (БИ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чальник бю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9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Главному технологу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288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выше 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нструментальный отдел (И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чальник отд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9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Заместителю главного инженера по подготовке производства - главному техноло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1"/>
          <p:cNvSpPr/>
          <p:nvPr/>
        </p:nvSpPr>
        <p:spPr>
          <a:xfrm>
            <a:off x="1999080" y="-31320"/>
            <a:ext cx="514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Органы управления инструментальным хозяйством предпри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Rectangle 2"/>
          <p:cNvSpPr/>
          <p:nvPr/>
        </p:nvSpPr>
        <p:spPr>
          <a:xfrm flipV="1" rot="10800000">
            <a:off x="0" y="615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Органы управления инструментальным хозяйством предприят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Задачи и объем работ по организации инструментального хозяйства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421000"/>
            <a:ext cx="822960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пределяются особенностями основного производства - сложностью выпускаемой продукции, используемым оборудованием, масштабами изготовления однотипной продукции и степенью ее новизны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сновные задачи ИХ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снование потребности в различных видах инструмента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степени удовлетворения потребности в инструментах и обоснование необходимости проектирования нового инструмента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ектирование специального инструмента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бор форм обеспечения инструментом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зация материально-технического снабжения инструментом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зация хранения инструмент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бор форм инструменто-обеспечения рабочих мест; организация производства инструмента, его ремонта и заточки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возможности восстановления и модернизации инструмен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4456"/>
                </a:solidFill>
                <a:latin typeface="Trebuchet MS"/>
              </a:rPr>
              <a:t>Важнейшая задача инструментального хозяйства: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63700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бесперебойное обеспечение производства необходимыми инструментами и создание их комплектных запасо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9:07:01Z</dcterms:created>
  <dc:creator>Анастасия</dc:creator>
  <dc:description/>
  <dc:language>en-US</dc:language>
  <cp:lastModifiedBy>Компьютер</cp:lastModifiedBy>
  <dcterms:modified xsi:type="dcterms:W3CDTF">2012-05-28T16:10:47Z</dcterms:modified>
  <cp:revision>5</cp:revision>
  <dc:subject/>
  <dc:title>Организация инструментального хозяйства</dc:title>
</cp:coreProperties>
</file>