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gif" ContentType="image/gif"/>
  <Override PartName="/ppt/media/image6.png" ContentType="image/png"/>
  <Override PartName="/ppt/media/image7.gif" ContentType="image/gif"/>
  <Override PartName="/ppt/media/image8.gif" ContentType="image/gif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970A-955F-4409-A0DD-7257A80B70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CE97-F0E2-4AB4-BA99-C14B50D347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BED0-6D44-49C1-8D36-1781208172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FC32-AFB5-4695-9199-727BAFDCA0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3CE1-7422-4225-BEE0-9073941794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D31E-5657-445A-A9A4-01D2A9293C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BAB5-A0AC-4899-8DF1-585ABAA1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68D-843E-416E-8158-3847584E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AB6-41BD-4A82-941B-24C44A09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3B94-A0B3-40AA-9544-CF9B8697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90088-CEB4-477D-AFD5-7DE4CAB4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5ACFE-EF18-4DEE-A737-6927B5FD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966D8-659C-4E65-94C0-B78085B4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CE3A5-6B44-4FC1-8229-6B6EF383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0A2C7-7086-4022-8490-3D4D83CB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D96DA-9AA8-4EF0-A386-3CC3C4CE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9A942-A795-4B56-8E4B-64B90D56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6113-4D91-49A7-84EC-EE08ADC6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C689D-88F6-4241-BF6A-8B245D49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9F040-653F-4C32-95C1-0C9CE94E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29BCB-FBF1-4E67-8F4A-9D4C24B5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208D1-26EF-4BEB-8964-9427F80B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56A55-B737-4E60-A776-A3B4E151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290E0-E8C0-4D00-950C-14CDE29B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1E4A1-8ECD-41A7-8C6E-F9DC6B06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6E364-78B3-45A3-83EE-7CA73EB6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8D1B7-79D3-40A6-AE85-923FA68A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D163F-1006-4D4C-89C3-B788D4AF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B02-9CCD-4DAC-BDD5-96EE0AB5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F68BF-B66A-43A2-95FB-414BB8E1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0DFC0-8132-46FC-9D56-736D5CD9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8D7FA-7C60-455F-B772-DF148175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7E8EA-72A4-4966-B5EB-F31C2C29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E9189-9B4A-4376-9AA5-560FAAC9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530E-DC78-4215-9BD4-CCCC70F2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FC1B1-12E6-4362-A4CE-C8D850A0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F18BBE-ECA5-4B2A-9BBC-301FE759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6514A3-3429-4AA8-8E08-5385B8E6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6E4EA6-7123-4AB2-8445-FA8CD527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292-A723-48BF-9E0D-D3696192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D817E6-3033-4B46-9D42-E3F0EA7D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301612-1DDF-4655-8315-C1C04259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93409A-D6FF-45E7-9BDF-06068BC1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AAA4BA-5F30-4A28-8274-6FA30274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E82CAF-76A8-428C-B980-01E27B2D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92F90-361B-4E70-94F0-887324FA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F4EDDB-BCF2-4D26-95CB-D0A190B7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A4B8E-4595-429F-BFD4-36C130D4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A2603C-E4AD-4C4E-ABF6-DEA3DD0B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C80-3B08-48A9-B84B-01A28F4C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63F-7289-4018-BCE9-5FC48DAF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CED-FB9A-4A14-9033-243F477D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2C3-4D6A-4C22-A1A4-E080B428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B40-24A7-474B-B540-E88CC320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41E3-0FF0-45C6-A3EB-3654FA8AD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9CCE-0D82-48BD-B4EC-12D135563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B7DA-B02A-4C6B-BC65-884F87932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D970-0CA9-443C-8806-04C9149D0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9"/>
          <p:cNvSpPr/>
          <p:nvPr/>
        </p:nvSpPr>
        <p:spPr>
          <a:xfrm>
            <a:off x="228600" y="304920"/>
            <a:ext cx="8763120" cy="2895480"/>
          </a:xfrm>
          <a:prstGeom prst="downArrowCallout">
            <a:avLst>
              <a:gd name="adj1" fmla="val -57843"/>
              <a:gd name="adj2" fmla="val 75662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Monotype Corsiva"/>
              </a:rPr>
              <a:t>Экономический рост: основные фак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Monotype Corsiva"/>
              </a:rPr>
              <a:t>и государственные меры по е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Monotype Corsiva"/>
              </a:rPr>
              <a:t>обеспечени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image[1]"/>
          <p:cNvPicPr/>
          <p:nvPr/>
        </p:nvPicPr>
        <p:blipFill>
          <a:blip r:embed="rId1"/>
          <a:stretch/>
        </p:blipFill>
        <p:spPr>
          <a:xfrm>
            <a:off x="1371600" y="3429000"/>
            <a:ext cx="6095880" cy="2790720"/>
          </a:xfrm>
          <a:prstGeom prst="rect">
            <a:avLst/>
          </a:prstGeom>
          <a:ln w="0">
            <a:noFill/>
          </a:ln>
        </p:spPr>
      </p:pic>
      <p:pic>
        <p:nvPicPr>
          <p:cNvPr id="173" name="enigma_-_june.mp3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120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7201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Сравнительная характеристика возможных вариантов темпов экономического рос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39640" y="1216080"/>
          <a:ext cx="7777440" cy="4525920"/>
        </p:xfrm>
        <a:graphic>
          <a:graphicData uri="http://schemas.openxmlformats.org/drawingml/2006/table">
            <a:tbl>
              <a:tblPr/>
              <a:tblGrid>
                <a:gridCol w="2303640"/>
                <a:gridCol w="547380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характерис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е тем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еют положительное значение при сбалансированном развитии всех секторов экономики и обеспечении высокого жизненного уровня нас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улевые тем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еют положительный характер при снижении  материалоемкости и капиталоемкости производства, а также в результате структурной перестройки эконом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ицательные тем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идетельствуют о кризисе национальной эконом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имальные тем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бывают ни слишком высокими, ни слишком низкими. Они должны быть такими, чтобы обеспечить макроэкономическое равновес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Picture 45" descr="AG00049_"/>
          <p:cNvPicPr/>
          <p:nvPr/>
        </p:nvPicPr>
        <p:blipFill>
          <a:blip r:embed="rId1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0907"/>
                </a:solidFill>
                <a:latin typeface="Calibri"/>
              </a:rPr>
              <a:t>Проблем</a:t>
            </a:r>
            <a:r>
              <a:rPr b="0" lang="en-US" sz="3200" spc="-1" strike="noStrike">
                <a:solidFill>
                  <a:srgbClr val="090907"/>
                </a:solidFill>
                <a:latin typeface="Arial"/>
              </a:rPr>
              <a:t>ы</a:t>
            </a:r>
            <a:r>
              <a:rPr b="0" lang="en-US" sz="3200" spc="-1" strike="noStrike">
                <a:solidFill>
                  <a:srgbClr val="090907"/>
                </a:solidFill>
                <a:latin typeface="Calibri"/>
              </a:rPr>
              <a:t> темпов экономического рост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ышение капиталовооруженности тру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ресс науки и техни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ышение образовательного уровня работник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лучшение методов распределения ограниченных ресурс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явление эффекта масштаба производ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4"/>
          <p:cNvSpPr/>
          <p:nvPr/>
        </p:nvSpPr>
        <p:spPr>
          <a:xfrm>
            <a:off x="468360" y="333360"/>
            <a:ext cx="8496360" cy="5745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324000" y="1413000"/>
            <a:ext cx="3744720" cy="503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5148360" y="1413000"/>
            <a:ext cx="3744720" cy="503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ТЕНЦИ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250920" y="2133720"/>
            <a:ext cx="3816360" cy="280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611280" y="2501280"/>
            <a:ext cx="31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альное ежегодное увеличение ВНП или других макроэконо­мических показателей, которые периодически улавливаются статисти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148360" y="2205000"/>
            <a:ext cx="381636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5364000" y="242028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орость, с которой экономика могла бы р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5003640" y="3573360"/>
            <a:ext cx="3672000" cy="180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1258920" y="5589720"/>
            <a:ext cx="7489800" cy="100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1476360" y="5661000"/>
            <a:ext cx="731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2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Увеличение ресурсов (труда, капитала, природных ресурс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2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Увеличение эффективности, с которой используются эти ресурс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ели экономического ро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0040" y="78588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ссматривая экономический рост с точки зрения интересов всего общества, можно выделить две его основные цел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овышение материального благосостояния населения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оддержание национальной безопас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вышение материального благосостояния как главная цель экономического роста конкретизируется в следующих основных составляющих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величение среднедушевых доходов насел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величение свободного време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лучшение распределения национального дохода среди различных слоев насел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вышение качества и рост разнообразия выпускаемых товаров и услу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Эффективностью экономического ро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од эффективностью экономического роста понимается улучшение всех составляющих многогранного понятия "эффективность производства". К ним относятс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улучшение качества товаров и услуг, повышение их конкурентоспособности на отечественном и мировом рынках; освоение производства новых товаров, позволяющих удовлетворять ранее неудовлетворенные потребности или создавать возможность для их удовлетворения наилучшим образом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углубление специализации и кооперирования производства с учетом территориальных преимуществ страны в системе международного разделения труд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улучшение структуры распределения производственных ресурсов по отраслям и регионам стран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увеличение отдачи от использования производственных ресурсов за счет повышения управленческого мастерства и использования эффективных мотиваций для стимулирования роста производительности труда внутри фирм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освоение новых технологий, позволяющих минимизировать затраты ограниченных производственных ресурсов для выпуска данного объема производств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чество экономического ро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571400"/>
            <a:ext cx="80150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нятие "качество экономического роста" в экономической теории связывается с усилением социальной направленности экономического развития стран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сновными составляющими качества экономического роста являютс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лучшение материального благосостояния населен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величение свободного времени как основы гармоничного развития личност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вышение уровня развития отраслей социальной инфраструктуры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ост инвестиций в человеческий капита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беспечение безопасности условий труда и жизни люде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оциальная защищенность безработных и нетрудоспособных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ддержание полной занятости в условиях растущего объема предложения на рынке тру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тиворечие темпов ро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жду темпами экономического роста, с одной стороны, и повышением качества - с другой, существует определенное противоречи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сокие темпы могут достигаться за счет ухудшения качества роста. Например, повышение продолжительности рабочего дня или увеличение интенсивности труда, ведущие к росту трудозатрат и тем самым способствующие увеличению темпов экономического роста, на качестве экономического роста будут сказываться негативно вследствие снижения свободного времен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отив, низкие и даже отрицательные темпы роста могут сопровождаться повышением потребительской удовлетворенности в результате выпуска более качественной продукц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этому многие экономисты считают, что наиболее предпочтительны невысокие (2-3% в год), но устойчивые темпы экономического рос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месте с тем в условиях глубокого экономического спада, высокой неэффективности, выражаемой в низкой производительности труда и широком распространении немаксимизирующего поведения фирм, для обеспечения наиболее эффективного развития страны наиболее предпочтительным может оказаться максимальный экономический рос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 2. Классификация основных факторов экономического роста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сурсы экономического ро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Diagram 2"/>
          <p:cNvGrpSpPr/>
          <p:nvPr/>
        </p:nvGrpSpPr>
        <p:grpSpPr>
          <a:xfrm>
            <a:off x="579240" y="1651320"/>
            <a:ext cx="8416440" cy="4889880"/>
            <a:chOff x="579240" y="1651320"/>
            <a:chExt cx="8416440" cy="4889880"/>
          </a:xfrm>
        </p:grpSpPr>
        <p:sp>
          <p:nvSpPr>
            <p:cNvPr id="240" name="_s3076"/>
            <p:cNvSpPr/>
            <p:nvPr/>
          </p:nvSpPr>
          <p:spPr>
            <a:xfrm flipV="1">
              <a:off x="4087440" y="1651320"/>
              <a:ext cx="1401120" cy="815760"/>
            </a:xfrm>
            <a:custGeom>
              <a:avLst/>
              <a:gdLst>
                <a:gd name="textAreaLeft" fmla="*/ 502560 w 1401120"/>
                <a:gd name="textAreaRight" fmla="*/ 898560 w 1401120"/>
                <a:gd name="textAreaTop" fmla="*/ 292680 h 815760"/>
                <a:gd name="textAreaBottom" fmla="*/ 523080 h 81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3077"/>
            <p:cNvSpPr/>
            <p:nvPr/>
          </p:nvSpPr>
          <p:spPr>
            <a:xfrm flipV="1">
              <a:off x="3385080" y="2466360"/>
              <a:ext cx="2805480" cy="813240"/>
            </a:xfrm>
            <a:custGeom>
              <a:avLst/>
              <a:gdLst>
                <a:gd name="textAreaLeft" fmla="*/ 616680 w 2805480"/>
                <a:gd name="textAreaRight" fmla="*/ 2188800 w 2805480"/>
                <a:gd name="textAreaTop" fmla="*/ 178560 h 813240"/>
                <a:gd name="textAreaBottom" fmla="*/ 634680 h 81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Трудов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ресурс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3078"/>
            <p:cNvSpPr/>
            <p:nvPr/>
          </p:nvSpPr>
          <p:spPr>
            <a:xfrm flipV="1">
              <a:off x="2683080" y="3280320"/>
              <a:ext cx="4209840" cy="815400"/>
            </a:xfrm>
            <a:custGeom>
              <a:avLst/>
              <a:gdLst>
                <a:gd name="textAreaLeft" fmla="*/ 730800 w 4209840"/>
                <a:gd name="textAreaRight" fmla="*/ 3479040 w 4209840"/>
                <a:gd name="textAreaTop" fmla="*/ 141480 h 815400"/>
                <a:gd name="textAreaBottom" fmla="*/ 673920 h 81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Природные ресурс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3079"/>
            <p:cNvSpPr/>
            <p:nvPr/>
          </p:nvSpPr>
          <p:spPr>
            <a:xfrm flipV="1">
              <a:off x="1980720" y="4096080"/>
              <a:ext cx="5610600" cy="815760"/>
            </a:xfrm>
            <a:custGeom>
              <a:avLst/>
              <a:gdLst>
                <a:gd name="textAreaLeft" fmla="*/ 844200 w 5610600"/>
                <a:gd name="textAreaRight" fmla="*/ 4766400 w 5610600"/>
                <a:gd name="textAreaTop" fmla="*/ 122760 h 815760"/>
                <a:gd name="textAreaBottom" fmla="*/ 693000 h 81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Основной капитал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3080"/>
            <p:cNvSpPr/>
            <p:nvPr/>
          </p:nvSpPr>
          <p:spPr>
            <a:xfrm flipV="1">
              <a:off x="1281600" y="4911480"/>
              <a:ext cx="7011720" cy="813240"/>
            </a:xfrm>
            <a:custGeom>
              <a:avLst/>
              <a:gdLst>
                <a:gd name="textAreaLeft" fmla="*/ 957600 w 7011720"/>
                <a:gd name="textAreaRight" fmla="*/ 6054120 w 7011720"/>
                <a:gd name="textAreaTop" fmla="*/ 110880 h 813240"/>
                <a:gd name="textAreaBottom" fmla="*/ 702360 h 81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НТП и использование его достижен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3081"/>
            <p:cNvSpPr/>
            <p:nvPr/>
          </p:nvSpPr>
          <p:spPr>
            <a:xfrm flipV="1">
              <a:off x="579240" y="5725080"/>
              <a:ext cx="8416440" cy="815400"/>
            </a:xfrm>
            <a:custGeom>
              <a:avLst/>
              <a:gdLst>
                <a:gd name="textAreaLeft" fmla="*/ 1071360 w 8416440"/>
                <a:gd name="textAreaRight" fmla="*/ 7345080 w 8416440"/>
                <a:gd name="textAreaTop" fmla="*/ 103680 h 815400"/>
                <a:gd name="textAreaBottom" fmla="*/ 711720 h 81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Предпринимательские способност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5"/>
          <p:cNvSpPr/>
          <p:nvPr/>
        </p:nvSpPr>
        <p:spPr>
          <a:xfrm>
            <a:off x="468360" y="189000"/>
            <a:ext cx="8207280" cy="934920"/>
          </a:xfrm>
          <a:prstGeom prst="horizontalScroll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1617480" y="370440"/>
            <a:ext cx="63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кторы экономического ро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539640" y="1268280"/>
            <a:ext cx="2087640" cy="13669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685800" y="169956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.-Б. Сэ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2916360" y="1844640"/>
            <a:ext cx="2447640" cy="289080"/>
          </a:xfrm>
          <a:custGeom>
            <a:avLst/>
            <a:gdLst>
              <a:gd name="textAreaLeft" fmla="*/ 306000 w 2447640"/>
              <a:gd name="textAreaRight" fmla="*/ 2142000 w 2447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5651640" y="1413000"/>
            <a:ext cx="3313080" cy="1368360"/>
          </a:xfrm>
          <a:prstGeom prst="foldedCorner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5940360" y="1557360"/>
            <a:ext cx="273528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 Р У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5940360" y="1916280"/>
            <a:ext cx="273528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 Е М Л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5940360" y="2278080"/>
            <a:ext cx="273528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А П И Т А 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250920" y="3357720"/>
            <a:ext cx="8497800" cy="0"/>
          </a:xfrm>
          <a:prstGeom prst="line">
            <a:avLst/>
          </a:prstGeom>
          <a:ln w="117360">
            <a:solidFill>
              <a:srgbClr val="ddddd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4"/>
          <p:cNvSpPr/>
          <p:nvPr/>
        </p:nvSpPr>
        <p:spPr>
          <a:xfrm>
            <a:off x="1547640" y="3573360"/>
            <a:ext cx="5688360" cy="2951280"/>
          </a:xfrm>
          <a:prstGeom prst="foldedCorner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979640" y="3716280"/>
            <a:ext cx="460836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 Р У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1979640" y="4149720"/>
            <a:ext cx="460836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 Е М Л 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1979640" y="4581360"/>
            <a:ext cx="4608360" cy="289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А П И Т А 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1979640" y="5013360"/>
            <a:ext cx="460836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ПРИНИМАТЕЛЬ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1979640" y="5877000"/>
            <a:ext cx="4608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О-ТЕХНИЧЕСКИЙ ПРОГР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5"/>
          <p:cNvSpPr/>
          <p:nvPr/>
        </p:nvSpPr>
        <p:spPr>
          <a:xfrm>
            <a:off x="395280" y="189000"/>
            <a:ext cx="8207280" cy="934920"/>
          </a:xfrm>
          <a:prstGeom prst="horizontalScroll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1269720" y="403920"/>
            <a:ext cx="63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кторы экономического ро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539640" y="1628640"/>
            <a:ext cx="3527640" cy="792360"/>
          </a:xfrm>
          <a:prstGeom prst="hexagon">
            <a:avLst>
              <a:gd name="adj" fmla="val 111302"/>
              <a:gd name="vf" fmla="val 1154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"/>
          <p:cNvSpPr/>
          <p:nvPr/>
        </p:nvSpPr>
        <p:spPr>
          <a:xfrm>
            <a:off x="5292720" y="1628640"/>
            <a:ext cx="3240000" cy="792360"/>
          </a:xfrm>
          <a:prstGeom prst="hexagon">
            <a:avLst>
              <a:gd name="adj" fmla="val 102226"/>
              <a:gd name="vf" fmla="val 1154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8"/>
          <p:cNvSpPr/>
          <p:nvPr/>
        </p:nvSpPr>
        <p:spPr>
          <a:xfrm flipH="1">
            <a:off x="2410920" y="1125360"/>
            <a:ext cx="1513080" cy="35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"/>
          <p:cNvSpPr/>
          <p:nvPr/>
        </p:nvSpPr>
        <p:spPr>
          <a:xfrm>
            <a:off x="4788000" y="1125360"/>
            <a:ext cx="1728720" cy="35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0"/>
          <p:cNvSpPr/>
          <p:nvPr/>
        </p:nvSpPr>
        <p:spPr>
          <a:xfrm>
            <a:off x="395280" y="2565360"/>
            <a:ext cx="8207280" cy="934920"/>
          </a:xfrm>
          <a:prstGeom prst="horizontalScroll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1330200" y="2707560"/>
            <a:ext cx="63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кторы экономического ро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2"/>
          <p:cNvSpPr/>
          <p:nvPr/>
        </p:nvSpPr>
        <p:spPr>
          <a:xfrm>
            <a:off x="539640" y="4076640"/>
            <a:ext cx="3527640" cy="792360"/>
          </a:xfrm>
          <a:prstGeom prst="hexagon">
            <a:avLst>
              <a:gd name="adj" fmla="val 111302"/>
              <a:gd name="vf" fmla="val 1154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НС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3"/>
          <p:cNvSpPr/>
          <p:nvPr/>
        </p:nvSpPr>
        <p:spPr>
          <a:xfrm>
            <a:off x="5364000" y="4076640"/>
            <a:ext cx="3527640" cy="792360"/>
          </a:xfrm>
          <a:prstGeom prst="hexagon">
            <a:avLst>
              <a:gd name="adj" fmla="val 111302"/>
              <a:gd name="vf" fmla="val 1154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ТЕНС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 flipH="1">
            <a:off x="2916000" y="3500280"/>
            <a:ext cx="143964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5292720" y="3573360"/>
            <a:ext cx="136692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1071720" y="845280"/>
            <a:ext cx="750096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ь для себ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ть определение понятию «экономический рост» и раскрыть е го сущ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аскрыть 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оры, показатели и методы  измерения экономического роста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ить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ознавать экономический 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обрать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направления государственной деятельности по обеспечению экономического роста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ь для студен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усвоить и запомнить основные терм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оспроизвести полученные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формулировать основные направления регулирования экономического ро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ереработать полученный 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ть привести приме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00"/>
                </a:solidFill>
                <a:uFillTx/>
                <a:latin typeface="Arial"/>
              </a:rPr>
              <a:t>План ле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Экономический рост: сущность, показатели, цел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Классификация основных факторов экономического ро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Основные направления государственной деятельности по обеспечению экономического ро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5"/>
          <p:cNvSpPr/>
          <p:nvPr/>
        </p:nvSpPr>
        <p:spPr>
          <a:xfrm>
            <a:off x="250920" y="404640"/>
            <a:ext cx="4176720" cy="1152720"/>
          </a:xfrm>
          <a:prstGeom prst="hexagon">
            <a:avLst>
              <a:gd name="adj" fmla="val 90584"/>
              <a:gd name="vf" fmla="val 1154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НС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4643280" y="404640"/>
            <a:ext cx="3961080" cy="1224000"/>
          </a:xfrm>
          <a:prstGeom prst="hexagon">
            <a:avLst>
              <a:gd name="adj" fmla="val 80904"/>
              <a:gd name="vf" fmla="val 1154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ТЕНС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395280" y="2421000"/>
            <a:ext cx="3889440" cy="4248000"/>
          </a:xfrm>
          <a:custGeom>
            <a:avLst/>
            <a:gdLst>
              <a:gd name="textAreaLeft" fmla="*/ 189720 w 3889440"/>
              <a:gd name="textAreaRight" fmla="*/ 3699720 w 3889440"/>
              <a:gd name="textAreaTop" fmla="*/ 189720 h 4248000"/>
              <a:gd name="textAreaBottom" fmla="*/ 4058280 h 4248000"/>
            </a:gdLst>
            <a:ahLst/>
            <a:rect l="textAreaLeft" t="textAreaTop" r="textAreaRight" b="textAreaBottom"/>
            <a:pathLst>
              <a:path w="21600" h="23591">
                <a:moveTo>
                  <a:pt x="3600" y="0"/>
                </a:moveTo>
                <a:arcTo wR="3600" hR="3600" stAng="16200000" swAng="-5400000"/>
                <a:lnTo>
                  <a:pt x="0" y="19991"/>
                </a:lnTo>
                <a:arcTo wR="3600" hR="3600" stAng="10800000" swAng="-5400000"/>
                <a:lnTo>
                  <a:pt x="18000" y="235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539640" y="2576160"/>
            <a:ext cx="360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ускорение   научно-технического   прогресса  (внедрение   новой   техники, технологий, путем обновления основных фондов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повышение квалификации рабо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улучшение использования основных и оборотных фон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повышение эффективности хозяйственной деятельности за счет лучшей ее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859280" y="2421000"/>
            <a:ext cx="3889440" cy="4248000"/>
          </a:xfrm>
          <a:custGeom>
            <a:avLst/>
            <a:gdLst>
              <a:gd name="textAreaLeft" fmla="*/ 189720 w 3889440"/>
              <a:gd name="textAreaRight" fmla="*/ 3699720 w 3889440"/>
              <a:gd name="textAreaTop" fmla="*/ 189720 h 4248000"/>
              <a:gd name="textAreaBottom" fmla="*/ 4058280 h 4248000"/>
            </a:gdLst>
            <a:ahLst/>
            <a:rect l="textAreaLeft" t="textAreaTop" r="textAreaRight" b="textAreaBottom"/>
            <a:pathLst>
              <a:path w="21600" h="23591">
                <a:moveTo>
                  <a:pt x="3600" y="0"/>
                </a:moveTo>
                <a:arcTo wR="3600" hR="3600" stAng="16200000" swAng="-5400000"/>
                <a:lnTo>
                  <a:pt x="0" y="19991"/>
                </a:lnTo>
                <a:arcTo wR="3600" hR="3600" stAng="10800000" swAng="-5400000"/>
                <a:lnTo>
                  <a:pt x="18000" y="235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5219640" y="2918520"/>
            <a:ext cx="324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увеличение объема инвестиции при сохранении существующего уровня техноло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увеличение числа занятых рабо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рост   объемов   потребляемого   сырья,   материалов,   топлю   и   других элементов оборотного капит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0"/>
          <p:cNvSpPr/>
          <p:nvPr/>
        </p:nvSpPr>
        <p:spPr>
          <a:xfrm>
            <a:off x="1908000" y="1700280"/>
            <a:ext cx="576360" cy="649080"/>
          </a:xfrm>
          <a:prstGeom prst="downArrow">
            <a:avLst>
              <a:gd name="adj1" fmla="val 50000"/>
              <a:gd name="adj2" fmla="val 2815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1"/>
          <p:cNvSpPr/>
          <p:nvPr/>
        </p:nvSpPr>
        <p:spPr>
          <a:xfrm>
            <a:off x="6516720" y="1700280"/>
            <a:ext cx="576360" cy="649080"/>
          </a:xfrm>
          <a:prstGeom prst="downArrow">
            <a:avLst>
              <a:gd name="adj1" fmla="val 50000"/>
              <a:gd name="adj2" fmla="val 2815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4"/>
          <p:cNvSpPr/>
          <p:nvPr/>
        </p:nvSpPr>
        <p:spPr>
          <a:xfrm>
            <a:off x="250920" y="115920"/>
            <a:ext cx="4176720" cy="433440"/>
          </a:xfrm>
          <a:prstGeom prst="hexagon">
            <a:avLst>
              <a:gd name="adj" fmla="val 240905"/>
              <a:gd name="vf" fmla="val 1154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ТЕНС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4643280" y="115920"/>
            <a:ext cx="3961080" cy="504720"/>
          </a:xfrm>
          <a:prstGeom prst="hexagon">
            <a:avLst>
              <a:gd name="adj" fmla="val 196202"/>
              <a:gd name="vf" fmla="val 1154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НС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1908000" y="549360"/>
            <a:ext cx="576360" cy="649080"/>
          </a:xfrm>
          <a:prstGeom prst="downArrow">
            <a:avLst>
              <a:gd name="adj1" fmla="val 50000"/>
              <a:gd name="adj2" fmla="val 2815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6227640" y="620640"/>
            <a:ext cx="576360" cy="649440"/>
          </a:xfrm>
          <a:prstGeom prst="downArrow">
            <a:avLst>
              <a:gd name="adj1" fmla="val 50000"/>
              <a:gd name="adj2" fmla="val 281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395280" y="1197000"/>
            <a:ext cx="3889440" cy="35290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714920" y="1268280"/>
            <a:ext cx="3889440" cy="35290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684360" y="1244520"/>
            <a:ext cx="3313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ширение объема производства достигается за счет дополнительного вовлечения факторов производства (рабочей силы, земли, сырья, топлива и т.д.). В данном случае увеличение объема выпуска не сопровож­дается снижением издержек производства. Более того, в ряде случаев рост издержек может опережать динамику объема произво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4859280" y="1417320"/>
            <a:ext cx="3673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ширение производства происходит за счет качествен­ного совершенствования прямых факторов роста производства: применение новейших технологий, переквалификации рабочей силы и т.п. В данном случае рост объемов сопровождается изменениями совокупных издержек, а также снижением их на единицу бла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2"/>
          <p:cNvSpPr/>
          <p:nvPr/>
        </p:nvSpPr>
        <p:spPr>
          <a:xfrm>
            <a:off x="250920" y="4941720"/>
            <a:ext cx="8713800" cy="16560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468360" y="5163120"/>
            <a:ext cx="820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нятно, что в реальной действительности не существует исключительно экстенсивного и интенсивного развития, тем не менее каждое государство на той или иной ступени своей истории развивается, скорее, экстенсивно или - скорее, интенсивно и, как правило, успешность такого развития определяется тем, какой тип роста преобладает. Принято относить к тому или иному типу в зависимости от удельного прироста реального ВНП: если за счет интенсивных факторов производится более половины ВНП, то такая экономика развивается преимущественно интенсив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072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Особенности преимущественно экстенсивного и преимущественно интенсивного типов экономического ро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755640" y="1600200"/>
          <a:ext cx="7931160" cy="4559400"/>
        </p:xfrm>
        <a:graphic>
          <a:graphicData uri="http://schemas.openxmlformats.org/drawingml/2006/table">
            <a:tbl>
              <a:tblPr/>
              <a:tblGrid>
                <a:gridCol w="3965760"/>
                <a:gridCol w="3965400"/>
              </a:tblGrid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имущественно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тенсивный ти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имущественно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нсивный ти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ичественное наращивание объемов производственных ресурсов, определяющее более 50% прирост производимого продук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00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Качественное совершенствование факторов производства, повышение их эффективности, определяющее более 50% приро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99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порадическое введение ресурсов повышенной эффектив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00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епрерывное введение ресурсов повышенной эффектив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99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витие традиционных технологий и производственных ресурс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00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именение прогрессивных технологий и производственных ресурс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99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294" name="Picture 40" descr="AG00049_"/>
          <p:cNvPicPr/>
          <p:nvPr/>
        </p:nvPicPr>
        <p:blipFill>
          <a:blip r:embed="rId3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utoShape 6"/>
          <p:cNvSpPr/>
          <p:nvPr/>
        </p:nvSpPr>
        <p:spPr>
          <a:xfrm>
            <a:off x="1295280" y="228600"/>
            <a:ext cx="6248520" cy="990720"/>
          </a:xfrm>
          <a:prstGeom prst="cloudCallout">
            <a:avLst>
              <a:gd name="adj1" fmla="val -43824"/>
              <a:gd name="adj2" fmla="val 1945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Факторы экономического рост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1"/>
          <p:cNvSpPr/>
          <p:nvPr/>
        </p:nvSpPr>
        <p:spPr>
          <a:xfrm>
            <a:off x="1143000" y="1600200"/>
            <a:ext cx="7086600" cy="2133720"/>
          </a:xfrm>
          <a:prstGeom prst="pi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прямые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косвен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2"/>
          <p:cNvSpPr/>
          <p:nvPr/>
        </p:nvSpPr>
        <p:spPr>
          <a:xfrm>
            <a:off x="152280" y="3809880"/>
            <a:ext cx="4267440" cy="2895840"/>
          </a:xfrm>
          <a:prstGeom prst="upArrowCallout">
            <a:avLst>
              <a:gd name="adj1" fmla="val 36844"/>
              <a:gd name="adj2" fmla="val 36841"/>
              <a:gd name="adj3" fmla="val 16667"/>
              <a:gd name="adj4" fmla="val 6666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Monotype Corsiva"/>
              </a:rPr>
              <a:t>1. 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Увеличение численности и повыш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качества трудовых ресурс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2. Рост объема и улучшение качествен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состава основного капитал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3. Совершенствование технологий и ор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производ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4. Рост предпринимательской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>
            <a:off x="4952880" y="3809880"/>
            <a:ext cx="4038840" cy="2895840"/>
          </a:xfrm>
          <a:prstGeom prst="upArrowCallout">
            <a:avLst>
              <a:gd name="adj1" fmla="val 34871"/>
              <a:gd name="adj2" fmla="val 34868"/>
              <a:gd name="adj3" fmla="val 16667"/>
              <a:gd name="adj4" fmla="val 6666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1. Снижение степени монопо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рынк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2. Уменьшение цен на произв. ресурс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3. Снижение налогов на прибыл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4. Расширение возможности пол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прибы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52280" y="1600200"/>
            <a:ext cx="381024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факторы предложения делают рост производства физически возможным: лишь доступность большего количества лучших по качеству ресурсов позволяет увеличивать производство реального продукта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28840" y="1600200"/>
            <a:ext cx="3886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К факторам спроса относятся такие, которые повышают совокупный спрос общества на производимую продукцию (заработная плата, налоговая политика государства, склонность населения к сбережению) и этим стимулируют ее рос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3962520" y="304920"/>
            <a:ext cx="1066680" cy="34671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2"/>
          <p:cNvSpPr/>
          <p:nvPr/>
        </p:nvSpPr>
        <p:spPr>
          <a:xfrm>
            <a:off x="0" y="3886200"/>
            <a:ext cx="9144000" cy="2286000"/>
          </a:xfrm>
          <a:prstGeom prst="upArrowCallout">
            <a:avLst>
              <a:gd name="adj1" fmla="val -62752"/>
              <a:gd name="adj2" fmla="val 90833"/>
              <a:gd name="adj3" fmla="val 16667"/>
              <a:gd name="adj4" fmla="val 6666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К факторам распределения относят распределение природных, трудовы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финансовых ресурсов страны, которое должно быть организованно так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образом, что бы в большей степени способствовать экономическому рос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смотря на огромную значимость экономического роста, этот процесс имеет свои плюсы и минус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оследствия экономического ро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971640" y="3213000"/>
            <a:ext cx="7127280" cy="2521080"/>
            <a:chOff x="971640" y="3213000"/>
            <a:chExt cx="7127280" cy="2521080"/>
          </a:xfrm>
        </p:grpSpPr>
        <p:sp>
          <p:nvSpPr>
            <p:cNvPr id="306" name="Text Box 10"/>
            <p:cNvSpPr/>
            <p:nvPr/>
          </p:nvSpPr>
          <p:spPr>
            <a:xfrm>
              <a:off x="971640" y="3213000"/>
              <a:ext cx="3394080" cy="2521080"/>
            </a:xfrm>
            <a:prstGeom prst="rect">
              <a:avLst/>
            </a:prstGeom>
            <a:solidFill>
              <a:srgbClr val="00ccff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«+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рирост производства и богатства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ост международного престижа стран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овышение жизненного уровня людей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лучшение условий их труд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4874760" y="3213000"/>
              <a:ext cx="3224160" cy="2521080"/>
            </a:xfrm>
            <a:prstGeom prst="rect">
              <a:avLst/>
            </a:prstGeom>
            <a:solidFill>
              <a:srgbClr val="00ccff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entury"/>
                </a:rPr>
                <a:t>«-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худшение среды обитания людей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исчерпание невосполнимых ресурсов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еренаселенность больших городов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роблема безработицы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2"/>
            <p:cNvSpPr/>
            <p:nvPr/>
          </p:nvSpPr>
          <p:spPr>
            <a:xfrm>
              <a:off x="4368960" y="4182480"/>
              <a:ext cx="509040" cy="58176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cc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14" descr="J0095688"/>
          <p:cNvPicPr/>
          <p:nvPr/>
        </p:nvPicPr>
        <p:blipFill>
          <a:blip r:embed="rId1"/>
          <a:stretch/>
        </p:blipFill>
        <p:spPr>
          <a:xfrm>
            <a:off x="2340000" y="3213000"/>
            <a:ext cx="371520" cy="333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5" descr="J0095689"/>
          <p:cNvPicPr/>
          <p:nvPr/>
        </p:nvPicPr>
        <p:blipFill>
          <a:blip r:embed="rId2"/>
          <a:stretch/>
        </p:blipFill>
        <p:spPr>
          <a:xfrm>
            <a:off x="6084720" y="3213000"/>
            <a:ext cx="371520" cy="333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6" descr="AG00049_"/>
          <p:cNvPicPr/>
          <p:nvPr/>
        </p:nvPicPr>
        <p:blipFill>
          <a:blip r:embed="rId3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"/>
          <p:cNvSpPr/>
          <p:nvPr/>
        </p:nvSpPr>
        <p:spPr>
          <a:xfrm>
            <a:off x="544680" y="47412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дель Е.Домар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395280" y="1268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ь  Домара исходит из того, что на рынке труда существует избыточное  предложение, что обуславливает постоянство уровня цен. Выбытие капитала отсутствует, отношение K/Y и норма сбережений - постоянны. Выпуск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вис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фактически от одного ресурса- капит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1476360" y="3789360"/>
                <a:ext cx="5832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I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ΔI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ΔI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Rectangle 7"/>
          <p:cNvSpPr/>
          <p:nvPr/>
        </p:nvSpPr>
        <p:spPr>
          <a:xfrm>
            <a:off x="-2994120" y="3559320"/>
            <a:ext cx="210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-456264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1116000" y="2642760"/>
            <a:ext cx="698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актором увеличения спроса и предложения в экономике служит прирост инвестиций, если в данном периоде инвестиции выросли на DI, то, в соответствие с эффектом мультипликатора, совокупный спрос возрастет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755640" y="4527720"/>
            <a:ext cx="7920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m- мультипликатор расход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- предельная склонность к потреблению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- предельная склонность к сбереж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ь Е. Домара не претендовала на роль теории роста. Это была попытка расширить условия краткосрочного кейнсианского равновесия на более длительный период и выяснить, какими будут эти условия для развивающейся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542520" y="475560"/>
            <a:ext cx="31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одель Харрод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395280" y="10522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род построил специальную модель экономического роста (1939г.), включив в нее эндогенннную функцию инвестиций на основе принципа акселератора и ожиданий предприним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2484360" y="2997360"/>
                <a:ext cx="4392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Rectangle 7"/>
          <p:cNvSpPr/>
          <p:nvPr/>
        </p:nvSpPr>
        <p:spPr>
          <a:xfrm>
            <a:off x="-54000" y="3465360"/>
            <a:ext cx="146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468360" y="2029680"/>
            <a:ext cx="8280360" cy="47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инципу акселератора, любой рост (сокращение) дохода вызывает рост (сокращение) капиталовложений, пропорциональный изменению дох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v – акселера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весный экономический рост предлагает равенство совокупного спроса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и Харрода и Домара неплохо описывали реальные процессы экономического роста 1920 – 1950 гг., но для более поздних наблюдений (1950 – 1970 гг.) наиболее успешно использовалась неоклассическая модель Р. Солоу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251640" y="332280"/>
            <a:ext cx="61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классическая  модель роста Р. Сол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84360" y="105228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.Солоу показал, что нестабильность динамического равновесия в кейнсианских моделях была следствием невзаимозаменяемости факторов произво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3387600" cy="34560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7"/>
          <p:cNvSpPr/>
          <p:nvPr/>
        </p:nvSpPr>
        <p:spPr>
          <a:xfrm>
            <a:off x="4284720" y="2781720"/>
            <a:ext cx="403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вестиции зависят от фондовооруженности и нормы накопления, что следует из условия равенства спроса и предложения в экономике: i=sƒ(k). Норма накопления определяет деление продукта на инвестиции и потребление при любом значении  k  (рис. 1): у=ƒ(k),   i=sƒ(k),  с=(1-s)ƒ(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опрос 3.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Государственное регулирование экономического рос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о играет значительную роль в регулировании экономического роста и следует рассмотреть такие меры государственного регулирования, которые наилучшем образом могут стимулировать этот процес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ейнсианцы рассматривают экономический рост преимущественно с точки зрения факторов спро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ычно они объясняют низкие темпы роста неадекватным уровнем совокупных расходов, которые не обеспечивают необходимого прироста ВНП. Поэтому они проповедуют низкие ставки процента (политику “дешевых денег”) как средство стимулирования капиталов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еобходимости финансово-бюджетная политика может использоваться для ограничения правительственных расходов и потребления, с тем, чтобы высокий уровень капиталовложений не приводил к инфля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5"/>
          <p:cNvSpPr/>
          <p:nvPr/>
        </p:nvSpPr>
        <p:spPr>
          <a:xfrm>
            <a:off x="971640" y="907920"/>
            <a:ext cx="7199280" cy="1441440"/>
          </a:xfrm>
          <a:prstGeom prst="flowChartPunchedTap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кономический рост- это количественное и каче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овершенствование обществе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одукта за определенный период врем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597960" y="2621520"/>
            <a:ext cx="799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ое выражение экономический рост находит в увелич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324000" y="4292640"/>
            <a:ext cx="3816360" cy="1368360"/>
          </a:xfrm>
          <a:prstGeom prst="octagon">
            <a:avLst>
              <a:gd name="adj" fmla="val 2928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тенциального и ре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ло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ционального продукта (ВН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4716360" y="4365720"/>
            <a:ext cx="3816360" cy="1368360"/>
          </a:xfrm>
          <a:prstGeom prst="octagon">
            <a:avLst>
              <a:gd name="adj" fmla="val 2928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ой мощи на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аны, рег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"/>
          <p:cNvSpPr/>
          <p:nvPr/>
        </p:nvSpPr>
        <p:spPr>
          <a:xfrm flipH="1">
            <a:off x="2123640" y="3068640"/>
            <a:ext cx="2016360" cy="1081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>
            <a:off x="4716360" y="3141720"/>
            <a:ext cx="1800360" cy="107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20520" y="260280"/>
            <a:ext cx="78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Вопрос 1. Экономический рост: сущность, показатели, цел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В противоположность кейнсианцам, сторонники “экономики предложения” делают упор на факторы, повышающие производственный потенциал экономической систем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ни призывают к снижению налогов как к средству, стимулирующему сбережения и капиталовложения, поощряющему трудовые усилия и предпринимательский риск. Например, снижение или отмена налога на доход от процентов приведет к увеличению отдачи от сбережений. Аналогичным образом, если облагать подоходным налогом суммы, идущие на выплаты по процентам, это приведет к ограничению потребления и стимулированию сбережен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которые экономисты выступают за введение единого налога на потребление в качестве полной или частичной замены личного подоходного налога. Смысл этого предложения состоит в ограничении потребления и стимулировании сбережен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отношении капиталовложений эти экономисты обычно предлагают уменьшить или отменить налог на прибыли корпораций, в частности предоставить значительные налоговые льготы на инвестиц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ронники “экономики предложения” отдают предпочтения долгосрочным перспективам, делая упор на факторы, обеспечивающие рост общественного продукта при полной занятости и полной загрузке производственных мощнос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Экономисты разных теоретических направлений рекомендуют и другие возможные методы стимулирования экономического рос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пример, некоторые ученые пропагандируют индустриальную политику, посредством которой правительство взяло бы на себя прямую активную роль в формировании структуры промышленности для поощрения экономического рос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авительство могло бы принять меры, ускоряющие развитие высокопроизводительных отраслей и способствующие перемещению ресурсов из низко производительных отрас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авительство также могло бы увеличить свои расходы на фундаментальные исследования и разработки, стимулируя технический прогресс. Рост расходов на образования также может способствовать повышению качества рабочей силы и росту производительности тру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и всей многочисленности и сложности возможных методов стимулирования экономического роста большинство экономистов едины в том, что увеличение темпов экономического роста является весьма непростой задачей, - капиталоемкость и склонность к сбережениям нелегко поддаются мерам регулир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 целях стимулирования экономического роста, государство использует методы бюджетно-налоговой (снижая налоги и увеличивая государственные расходы) и денежно-кредитной политики (увеличивая денежную массу и снижая процентные ставки), то есть осуществляет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политик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управления спрос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Политика управления предложен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3" name="Diagram 2"/>
          <p:cNvGrpSpPr/>
          <p:nvPr/>
        </p:nvGrpSpPr>
        <p:grpSpPr>
          <a:xfrm>
            <a:off x="1619640" y="2700360"/>
            <a:ext cx="6046920" cy="3212640"/>
            <a:chOff x="1619640" y="2700360"/>
            <a:chExt cx="6046920" cy="3212640"/>
          </a:xfrm>
        </p:grpSpPr>
        <p:sp>
          <p:nvSpPr>
            <p:cNvPr id="334" name="_s9220"/>
            <p:cNvSpPr/>
            <p:nvPr/>
          </p:nvSpPr>
          <p:spPr>
            <a:xfrm>
              <a:off x="3880440" y="3157560"/>
              <a:ext cx="1526040" cy="13071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9221"/>
            <p:cNvSpPr/>
            <p:nvPr/>
          </p:nvSpPr>
          <p:spPr>
            <a:xfrm>
              <a:off x="3880440" y="2700360"/>
              <a:ext cx="15260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Меры по уменьшению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налогооблож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9222"/>
            <p:cNvSpPr/>
            <p:nvPr/>
          </p:nvSpPr>
          <p:spPr>
            <a:xfrm>
              <a:off x="4290120" y="3302640"/>
              <a:ext cx="1526040" cy="13071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9223"/>
            <p:cNvSpPr/>
            <p:nvPr/>
          </p:nvSpPr>
          <p:spPr>
            <a:xfrm>
              <a:off x="5702040" y="3074760"/>
              <a:ext cx="1526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Обуздание власти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профсоюзов для увеличени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гибкости рынков труд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9224"/>
            <p:cNvSpPr/>
            <p:nvPr/>
          </p:nvSpPr>
          <p:spPr>
            <a:xfrm>
              <a:off x="4459680" y="3653280"/>
              <a:ext cx="1526040" cy="13071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9225"/>
            <p:cNvSpPr/>
            <p:nvPr/>
          </p:nvSpPr>
          <p:spPr>
            <a:xfrm>
              <a:off x="6140520" y="4143960"/>
              <a:ext cx="15260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Снижение налоговых ставок и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реформирование системы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пособий по социальному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обеспечению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9226"/>
            <p:cNvSpPr/>
            <p:nvPr/>
          </p:nvSpPr>
          <p:spPr>
            <a:xfrm>
              <a:off x="4290120" y="4003920"/>
              <a:ext cx="1526040" cy="130716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9227"/>
            <p:cNvSpPr/>
            <p:nvPr/>
          </p:nvSpPr>
          <p:spPr>
            <a:xfrm>
              <a:off x="5702040" y="5212080"/>
              <a:ext cx="15260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Содействие регионально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политик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9228"/>
            <p:cNvSpPr/>
            <p:nvPr/>
          </p:nvSpPr>
          <p:spPr>
            <a:xfrm>
              <a:off x="3880440" y="4149000"/>
              <a:ext cx="1526040" cy="130716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46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9229"/>
            <p:cNvSpPr/>
            <p:nvPr/>
          </p:nvSpPr>
          <p:spPr>
            <a:xfrm>
              <a:off x="3880440" y="5587560"/>
              <a:ext cx="1526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Garamond"/>
                </a:rPr>
                <a:t>Приватизация и сокращени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Garamond"/>
                </a:rPr>
                <a:t>гос. контрол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9230"/>
            <p:cNvSpPr/>
            <p:nvPr/>
          </p:nvSpPr>
          <p:spPr>
            <a:xfrm>
              <a:off x="3470400" y="4003920"/>
              <a:ext cx="1526040" cy="13071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9231"/>
            <p:cNvSpPr/>
            <p:nvPr/>
          </p:nvSpPr>
          <p:spPr>
            <a:xfrm>
              <a:off x="2058480" y="5212080"/>
              <a:ext cx="15260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Стимулирование конкуренции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в финансовом сектор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9232"/>
            <p:cNvSpPr/>
            <p:nvPr/>
          </p:nvSpPr>
          <p:spPr>
            <a:xfrm>
              <a:off x="3301200" y="3653280"/>
              <a:ext cx="1526040" cy="13071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9233"/>
            <p:cNvSpPr/>
            <p:nvPr/>
          </p:nvSpPr>
          <p:spPr>
            <a:xfrm>
              <a:off x="1619640" y="4143960"/>
              <a:ext cx="15260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Меры по образованию и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переподготовке кадр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9234"/>
            <p:cNvSpPr/>
            <p:nvPr/>
          </p:nvSpPr>
          <p:spPr>
            <a:xfrm>
              <a:off x="3470400" y="3302640"/>
              <a:ext cx="1526040" cy="13071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9235"/>
            <p:cNvSpPr/>
            <p:nvPr/>
          </p:nvSpPr>
          <p:spPr>
            <a:xfrm>
              <a:off x="2058480" y="3074760"/>
              <a:ext cx="1526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Финансовое стимулировани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инвестиц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ономический рост по всем показателям в Костанайской области за 2009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роизведено продукции: на 12,6 млрд.т или 114,9% к соответствующ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уровню прошлого г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горнодобывающей промышленности производство увеличено на 26,8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Обрабатывающей промышленности на 9,0%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нвестиции в основной капитал составили 1217,0 млн. тенге, что на 6,7% выше прошлого уровн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нешнеторговый оборот составил 117,7 млн. дол., что на 19,6% выше прошлого уровн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Экспортировано товаров на 78,2 млн. т. Или 106,8% к прошлому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альдо торгового баланса сложилось положительное в размере 38,7 млн. до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Объем розничного товарооборота составил 4,1 млрд. т. Или 101,8 % к уровню прошлого г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ры, направленные на реализацию экономического рос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Модифицирование налогового законодательства с целью поощрения сбережений и инвестиций; освобождение сбережений от подоходного налога; налоговые скидки на инвестиции; увеличение начислений на амортизацию капита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Изменение государственного регулирования в направлении использования экономических стимулов, а не административных метод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Введение новых показателей, которые стимулировали бы расходы на НИОК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Модифицирование государственной политики, с тем чтобы способствовать повышению квалификации и адаптации работников: обеспечение возможности для переподготовки тех, кто теряет работу; замена программ, предусматривающих предоставление рабочих мест, которые не требуют квалификации, программами профессиональной подготов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Поощрение развития отраслей промышленности с высокой производительность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сновные показатели качества жизни за последние 10 лет в средн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нежные доходы казахстанцев выросли в 5 р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месячная заработная плата увеличилась в 6 р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нимальная заработная плата  выросла в 25 р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месячный размер пенсии увеличился в 4,6 р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позиты физических лиц в банках и объем вкладов на одного жителя возросли в 35 и 37 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ответствен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ходы государства  на гарантированный объем бесплатной медицинской помощи только в 2008 г выросли более чем в 1,8 раза по сравнению с 200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Экономика развивающихся стран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растет опережающими темп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698480" y="1619280"/>
          <a:ext cx="5651640" cy="3608280"/>
        </p:xfrm>
        <a:graphic>
          <a:graphicData uri="http://schemas.openxmlformats.org/drawingml/2006/table">
            <a:tbl>
              <a:tblPr/>
              <a:tblGrid>
                <a:gridCol w="5651640"/>
              </a:tblGrid>
              <a:tr h="36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1547640" y="907920"/>
          <a:ext cx="6912000" cy="2481480"/>
        </p:xfrm>
        <a:graphic>
          <a:graphicData uri="http://schemas.openxmlformats.org/drawingml/2006/table">
            <a:tbl>
              <a:tblPr/>
              <a:tblGrid>
                <a:gridCol w="6912000"/>
              </a:tblGrid>
              <a:tr h="2487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оследние 15 лет темпы роста развивающихся стран в 2-3 раза опережают показатели развитых стр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звитых странах в 2008 г., по данным МВР, ожидается спад деловой активности, темпы роста ВВП могут снизиться до уровня 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развивающихся стран замедляется в меньшей степени (до уровня 6-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ценарный прогноз МВР предполагает стабилизацию цен на нефть в диапазоне 90-100 долл./бар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9" name="Picture 62" descr="clip_image001"/>
          <p:cNvPicPr/>
          <p:nvPr/>
        </p:nvPicPr>
        <p:blipFill>
          <a:blip r:embed="rId1"/>
          <a:stretch/>
        </p:blipFill>
        <p:spPr>
          <a:xfrm>
            <a:off x="1908000" y="3068640"/>
            <a:ext cx="5658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Экономический рост как основа экономической стратегии Республики Казахстан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Обзор макроэкономических показателей экономического роста Республики Казахстан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В 2006 году, как и в предыдущие годы, сохранялись достаточно высокие и устойчивые темпы роста экономики. Причем в 2006 году экономика развивалась более ускоренными темпами, чем в 2005 году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Нет сомнений, в последние годы в Казахстане сложились исключительно хорошие экономические условия. Республику признают одним из лидеров по макроэкономическим параметрам роста не только среди государств СНГ, но и среди стран, в которых осуществляется системная трансформация экономических систем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28760" y="3714840"/>
          <a:ext cx="8229600" cy="2343240"/>
        </p:xfrm>
        <a:graphic>
          <a:graphicData uri="http://schemas.openxmlformats.org/drawingml/2006/table">
            <a:tbl>
              <a:tblPr/>
              <a:tblGrid>
                <a:gridCol w="4351320"/>
                <a:gridCol w="777600"/>
                <a:gridCol w="852480"/>
                <a:gridCol w="774720"/>
                <a:gridCol w="774720"/>
                <a:gridCol w="69876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ВП,  млрд долларов 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,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,6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,8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0,7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6,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ндекс физического объема, в процентах к предыдущему год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ВП на душу населения, в долларах СШ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9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5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4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0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70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нфля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иржевой обменный курс KZT/US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3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9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5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5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2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ubRRectCallout"/>
          <p:cNvSpPr/>
          <p:nvPr/>
        </p:nvSpPr>
        <p:spPr>
          <a:xfrm>
            <a:off x="152280" y="304920"/>
            <a:ext cx="8763120" cy="5867280"/>
          </a:xfrm>
          <a:prstGeom prst="pie">
            <a:avLst/>
          </a:prstGeom>
          <a:solidFill>
            <a:srgbClr val="3c8c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 части обеспечения устойчивого экономического роста Казахстана предстоит решить ряд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задач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путем реформирования системы государственного планирования, бюджетно-налоговой и денежно-кредитной политики, развития финансового сектора, регулирования деятельности естественных монополий, развития конкуренции и предпринимательства, а также внедрения принципов корпоративного управления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овышение эффективности экономической политики будет осуществляться через внедрение системы управления, ориентированной на результаты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равительство разработает и внедрит целевые индикаторы результативности и эффективности государственных, отраслевых (секторальных), региональных и бюджетных программ, а также каждого государственного органа. На это будет направлена система планирования, координации и контроля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Будут приняты нормативные правовые акты, которые позволят эффективно функционировать системе государственного планирования в условиях рыночных отношений, повысить качество государственных услуг, ориентировать деятельность государственных органов на достижение стратегических целей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равительство обеспечит условия создания благоприятного налогового и инвестиционного климата, развития бизнеса, активизирует работу по снижению административных барьеров, повышению производительности экономики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Будут совершенствоваться методы государственного регулирования экономики с акцентом на уменьшение бюрократического вмешательства в вопросы развития бизнеса. Отношения с предпринимательством будут выстроены на принципах партнерства, честности и прозрачности. Наряду с этим, планируется принять меры по укреплению института частной собственности как основы гарантий прав и свобод граждан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Государственное планирование будет направлено на сопровождение и управление процессами по обеспечению роста конкурентоспособности страны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 связи с этим будут разработаны Стратегия устойчивого роста конкурентоспособности Республики Казахстан, а также ряд нормативных правовых актов по государственному планированию, регламентирующих вопросы стратегического, среднесрочного и бюджетного планирования, мониторинга, контроля и ответственности всех субъектов планирования, направления деятельности органов государственного управления на конечные результаты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8" descr="j0283209"/>
          <p:cNvPicPr/>
          <p:nvPr/>
        </p:nvPicPr>
        <p:blipFill>
          <a:blip r:embed="rId1"/>
          <a:stretch/>
        </p:blipFill>
        <p:spPr>
          <a:xfrm>
            <a:off x="4191120" y="5181480"/>
            <a:ext cx="1828800" cy="15242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79280" y="765000"/>
            <a:ext cx="896472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Благодарю за внимание!!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849880" y="-4154760"/>
            <a:ext cx="585720" cy="67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Экономический рос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относится к числу сложных и многогранных явлений. Категория экономического роста является важнейшей характеристикой общественного производства при любых хозяйственных системах. Может измеряться как в физическом выражении (тонны, метры, штуки и т. д.), так и в стоимостном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Экономический рос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означает, что на каждом данном отрезке времени в какой-то степени облегчается решение проблемы ограниченности ресурсов и становится возможным удовлетворение более широкого круга потребностей челове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 сути, экономический рост является результатом общественного воспроизводства, который, пройдя через стадии распределения и обмена проявляется в потреблении. Однако, при всей важности производства, экономический рост имеет смысл лишь тогда, когда служит потреблению. Следовательно, экономический рост, зародившийся в недрах производственного процесса, обретает свое настоящее содержание и сущность только в конце воспроизводственной цепочки, когда произведенный продукт становится и реализованным, и потреблен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широком смысле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экономический р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является показателем экономического развития и является главной траекторией развития общества. В совокупности с социальными, политическими, демографическими и другими признаками, он определяет направление движения общества, устанавливая характер общественного развития в це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уальность экономического ро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7" descr="j0205462"/>
          <p:cNvPicPr/>
          <p:nvPr/>
        </p:nvPicPr>
        <p:blipFill>
          <a:blip r:embed="rId1"/>
          <a:stretch/>
        </p:blipFill>
        <p:spPr>
          <a:xfrm>
            <a:off x="755640" y="1989000"/>
            <a:ext cx="3384720" cy="3672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явление факторов , повышающих темпы роста ВВП  на душу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иск способов устранения негативного влияния ряда макроэкономических переменны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Главные приоритеты экономического ро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Diagram 2"/>
          <p:cNvGrpSpPr/>
          <p:nvPr/>
        </p:nvGrpSpPr>
        <p:grpSpPr>
          <a:xfrm>
            <a:off x="897840" y="1695600"/>
            <a:ext cx="7202160" cy="4079880"/>
            <a:chOff x="897840" y="1695600"/>
            <a:chExt cx="7202160" cy="4079880"/>
          </a:xfrm>
        </p:grpSpPr>
        <p:sp>
          <p:nvSpPr>
            <p:cNvPr id="191" name="_s1028"/>
            <p:cNvSpPr/>
            <p:nvPr/>
          </p:nvSpPr>
          <p:spPr>
            <a:xfrm flipV="1">
              <a:off x="4498200" y="27525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029"/>
            <p:cNvSpPr/>
            <p:nvPr/>
          </p:nvSpPr>
          <p:spPr>
            <a:xfrm>
              <a:off x="3582000" y="1695600"/>
              <a:ext cx="1833840" cy="1058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Аграрные вопро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030"/>
            <p:cNvSpPr/>
            <p:nvPr/>
          </p:nvSpPr>
          <p:spPr>
            <a:xfrm flipV="1">
              <a:off x="5212800" y="3151080"/>
              <a:ext cx="72324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31"/>
            <p:cNvSpPr/>
            <p:nvPr/>
          </p:nvSpPr>
          <p:spPr>
            <a:xfrm>
              <a:off x="5735520" y="2293920"/>
              <a:ext cx="1833840" cy="1058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Развитие финансово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секто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32"/>
            <p:cNvSpPr/>
            <p:nvPr/>
          </p:nvSpPr>
          <p:spPr>
            <a:xfrm>
              <a:off x="5388480" y="3930480"/>
              <a:ext cx="902160" cy="1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33"/>
            <p:cNvSpPr/>
            <p:nvPr/>
          </p:nvSpPr>
          <p:spPr>
            <a:xfrm>
              <a:off x="6266160" y="3638520"/>
              <a:ext cx="1833840" cy="1058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Развитие малого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среднего бизнес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34"/>
            <p:cNvSpPr/>
            <p:nvPr/>
          </p:nvSpPr>
          <p:spPr>
            <a:xfrm>
              <a:off x="4894200" y="4287960"/>
              <a:ext cx="400680" cy="48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35"/>
            <p:cNvSpPr/>
            <p:nvPr/>
          </p:nvSpPr>
          <p:spPr>
            <a:xfrm>
              <a:off x="4775760" y="4716360"/>
              <a:ext cx="1833840" cy="1059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Индустриально-инновацион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развит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36"/>
            <p:cNvSpPr/>
            <p:nvPr/>
          </p:nvSpPr>
          <p:spPr>
            <a:xfrm flipH="1">
              <a:off x="3700080" y="4287960"/>
              <a:ext cx="401400" cy="48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37"/>
            <p:cNvSpPr/>
            <p:nvPr/>
          </p:nvSpPr>
          <p:spPr>
            <a:xfrm>
              <a:off x="2388240" y="4716360"/>
              <a:ext cx="1834560" cy="1059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Ускоренный экономическ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и социальный рос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38"/>
            <p:cNvSpPr/>
            <p:nvPr/>
          </p:nvSpPr>
          <p:spPr>
            <a:xfrm flipH="1">
              <a:off x="2704320" y="3930480"/>
              <a:ext cx="904680" cy="1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039"/>
            <p:cNvSpPr/>
            <p:nvPr/>
          </p:nvSpPr>
          <p:spPr>
            <a:xfrm>
              <a:off x="897840" y="3638520"/>
              <a:ext cx="1834560" cy="1058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Модель конкурентно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экономи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1040"/>
            <p:cNvSpPr/>
            <p:nvPr/>
          </p:nvSpPr>
          <p:spPr>
            <a:xfrm flipH="1" flipV="1">
              <a:off x="3059280" y="3151080"/>
              <a:ext cx="72576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1041"/>
            <p:cNvSpPr/>
            <p:nvPr/>
          </p:nvSpPr>
          <p:spPr>
            <a:xfrm>
              <a:off x="1428480" y="2293920"/>
              <a:ext cx="1834560" cy="1058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Создание инновацион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экономики и развит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не сырьевого секто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042"/>
            <p:cNvSpPr/>
            <p:nvPr/>
          </p:nvSpPr>
          <p:spPr>
            <a:xfrm>
              <a:off x="3582000" y="3286080"/>
              <a:ext cx="1833840" cy="1058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Главные приорите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экономического рос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9280" y="33300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 западной экономической литературе, проводя аналогию с ростом и развитием в природе, выделяют недифференцированный и дифференцированный (органический) рост. Недифференцированный экономический рост связан с количественным ростом экономики. Органический рост представляет собой многоаспектное развитие, включающее координацию целей и задач, мобильность и гибкость факторов экономического роста, приоритет качественных показателей роста. В силу множества природно-климатических, исторических, политических и социально-экономических причин в Казахстане сохраняется преимущественно экстенсивный недифференцированный тип экономического рос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Экономический рост есть составляющая экономического развития. Он выражается непосредственно в количественном увеличении ВНП и его составляющих. На макроэкономическом уровне ведущими показателями количественной динамики экономического роста являются годовой темп прироста ВНП, годовые темпы роста ВНП на душу населения, годовой рост ВНП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1116000" y="4365720"/>
                <a:ext cx="70581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годовой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емп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рост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НП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НП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НП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НП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1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3"/>
              <p:cNvSpPr txBox="1"/>
              <p:nvPr/>
            </p:nvSpPr>
            <p:spPr>
              <a:xfrm>
                <a:off x="1116000" y="5229360"/>
                <a:ext cx="6985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годовы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емпы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ост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НП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душу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селения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годов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емп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рост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НП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оличеств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селения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Rectangle 1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2340000" y="6021360"/>
                <a:ext cx="4464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годовой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ос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НП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НП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НП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4" name="Picture 14" descr="AG00049_"/>
          <p:cNvPicPr/>
          <p:nvPr/>
        </p:nvPicPr>
        <p:blipFill>
          <a:blip r:embed="rId1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5:08:09Z</dcterms:created>
  <dc:creator>SamLab.ws</dc:creator>
  <dc:description/>
  <dc:language>en-US</dc:language>
  <cp:lastModifiedBy>User</cp:lastModifiedBy>
  <dcterms:modified xsi:type="dcterms:W3CDTF">2010-02-22T06:24:26Z</dcterms:modified>
  <cp:revision>42</cp:revision>
  <dc:subject/>
  <dc:title>Слайд 1</dc:title>
</cp:coreProperties>
</file>