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A1B-EF67-48D1-9B74-1D55B2BF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2F5-D62D-4C6B-9CD4-5527137C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D45-A034-4797-A87C-7DAB9439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66F-C599-4BD1-B7B1-887BAEAA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3E3-E48E-4034-80D3-577541FD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F26-6DE0-4C31-B111-B0B95C7A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E37-BEA5-4E69-B316-1CEBBB77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E59-279B-455D-8849-A1D50B28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4DA-F7C6-4F5C-87DC-458722FD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25B-21AB-44BF-9109-1F3A6943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2F3-EAD6-4684-BD7D-43EB4893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361-78FF-4D7F-8B7D-EBEC997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CB80-641C-433F-A013-9012A9692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43640549_ris.jpg"/>
          <p:cNvPicPr/>
          <p:nvPr/>
        </p:nvPicPr>
        <p:blipFill>
          <a:blip r:embed="rId1"/>
          <a:stretch/>
        </p:blipFill>
        <p:spPr>
          <a:xfrm>
            <a:off x="127080" y="1285920"/>
            <a:ext cx="7885080" cy="485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капитал предприя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50720" y="554040"/>
            <a:ext cx="82425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ериальные основные фонды (основные средства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д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оруж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илищ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шины и оборудование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вентарь производственный и хозяйственны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кот рабочий, продуктивный и племенн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териальные основные фонды не включенные в другие группиров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материальные основные фонды (нематериальные актив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ьютерное программное обеспе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ы да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коемкие промышленные технолог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е нематериальные основные фонды, являющиеся объектами интеллектуальной собственности, использование которых ограничено установленными на них правами вла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ОЦЕНКИ ОСНОВНЫХ СРЕДС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4"/>
          <p:cNvSpPr/>
          <p:nvPr/>
        </p:nvSpPr>
        <p:spPr>
          <a:xfrm>
            <a:off x="500040" y="1785960"/>
            <a:ext cx="3000240" cy="21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 первоначальной сто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5"/>
          <p:cNvSpPr/>
          <p:nvPr/>
        </p:nvSpPr>
        <p:spPr>
          <a:xfrm>
            <a:off x="3214800" y="3214800"/>
            <a:ext cx="2928960" cy="21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 восстановительной сто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6"/>
          <p:cNvSpPr/>
          <p:nvPr/>
        </p:nvSpPr>
        <p:spPr>
          <a:xfrm>
            <a:off x="6000840" y="4643280"/>
            <a:ext cx="285732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 остаточной стоим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оме этого можно выделить два вида оценки основных средс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1. Ликвидационная стоимос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это стоимость возможной реализации, выбывающих, полностью изношенных основных средст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2. Амортизируемая стоимос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это стоимость, которую необходимо перенести на готовую продукцию. В Казахстанской экономической практике - это первоначальная (восстановительная) стоимость, в мировой практике - разность между первоначальной и ликвидационной стоимость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НЕГОДОВАЯ СТОИМОСТЬ ОСНОВНЫХ СРЕД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642960" y="2357280"/>
            <a:ext cx="778968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642960" y="4500720"/>
            <a:ext cx="8143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мi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уммарная стоимость основных средств на первое число каждого месяца (с февраля по декабрь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э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число полных месяцев эксплуатации основных средст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пост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стоимость поступивших в течение года основных сред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выб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стоимость выбывших в течение года основных сред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071720" y="714240"/>
            <a:ext cx="6967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изн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Физический изно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это потеря стоимости в результате изменения физических, механических и т.п. свойств основных сред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оральный износ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лится 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ральный износ I-го рода - это удешевление новых средств труда и потеря стоимости у действующих средств тру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ральный износ II-го рода - это потеря стоимости из-за появления более производительных и технически совершенных новых средств тру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циальный износ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потеря стоимости в результате того, что новые основные средства обеспечивают более высокий уровень социальных требований (комфортность, безопасность, эргономичность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Экологический износ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это потеря стоимости в результате ужесточения стандартов в области охраны окружающей сре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мортизац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оцесс переноса стоимости основных средств на готовую продукцию и возмещение этой стоимости в процессе реализации проду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енежное выражение размера амортизации, которое должно соответствовать степени износа основных средств. Амортизационные отчисления включаются в себестоимость проду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начисления АМОРТ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) линейный мет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пособ равномерного, пропорционального списания стоимости основных средств),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яется исходя из первоначальной стоимости объекта основных средств и нормой амортизации, исчисленной исходя из срока полезного использования этого объ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000240" y="5072040"/>
            <a:ext cx="3143520" cy="1330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image_thumb.png"/>
          <p:cNvPicPr/>
          <p:nvPr/>
        </p:nvPicPr>
        <p:blipFill>
          <a:blip r:embed="rId1"/>
          <a:stretch/>
        </p:blipFill>
        <p:spPr>
          <a:xfrm>
            <a:off x="4214880" y="2058840"/>
            <a:ext cx="4929120" cy="479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капитал предприя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часть производительного капитала, который полностью и многократно принимает участие в производстве товара, переносит свою стоимость на новый продукт по частям, в течение ряда пери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) способ уменьшения остат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яется, исходя из остаточной стоимости объекта основных средств на начало года, нормы амортизации, определенной на основе срока полезного использования и коэффициента уск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эффициент уско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лин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орма амортизации, исчисленная при линейном спосо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500200" y="3643200"/>
            <a:ext cx="4070520" cy="895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3) способ списания стоимости по сумме чисел лет срока полезного использования (куммулятивный способ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пределяется, исходя из первоначальной стоимости и соотношения между n и S: n/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n - число лет до окончания нормативного срока эксплуатации объекта, включая год, за который начисляется амортиз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 - сумма чисел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214800" y="2714760"/>
            <a:ext cx="2428920" cy="1172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3000240" y="4929120"/>
            <a:ext cx="2786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4) способ списания стоимости пропорционально объему продукции (рабо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ф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фактический объем продукции в отчетном пери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предполагаемый объем продукции за весь срок полезного исполь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000240" y="1857240"/>
            <a:ext cx="3351240" cy="1643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средства учитываются ежемесячно в натуральных и стоимостных показателях. При этом стоимость основных средств на конец года определяется по балансовой формуле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7764480" cy="9284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казатели движения основных средств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оэффициент поступления (ввода)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2571840" y="3214800"/>
            <a:ext cx="3879720" cy="1712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57120" y="356760"/>
            <a:ext cx="83296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Коэффициент выбытия основных средст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Коэффициент обновления основных средст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3214440" cy="1500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2786040" y="4214880"/>
            <a:ext cx="3143160" cy="1525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оэффициент ликвидации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оэффициент прироста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643120" y="1714680"/>
            <a:ext cx="3044880" cy="1285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2214720" y="4786200"/>
            <a:ext cx="4458960" cy="1357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казатели степени годности основных средств: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оэффициент износа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пер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первоначальная стоим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357280" y="2428920"/>
            <a:ext cx="3500640" cy="1492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коэффициент годности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714760" y="1785960"/>
            <a:ext cx="3038400" cy="1449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6000" y="4286160"/>
            <a:ext cx="4925880" cy="1000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казатель фондоот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Q ­ - объем произведенной проду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 - средний показатель стоимости основны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2928960" y="2500200"/>
            <a:ext cx="3103560" cy="1441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0001pte8.jpeg"/>
          <p:cNvPicPr/>
          <p:nvPr/>
        </p:nvPicPr>
        <p:blipFill>
          <a:blip r:embed="rId1"/>
          <a:stretch/>
        </p:blipFill>
        <p:spPr>
          <a:xfrm>
            <a:off x="2286000" y="1500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реализации товара основной капитал по частям возвращается в денежной форме предпринимат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казатель фондоемк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5435280" cy="1428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астные показатели используются для оценки эффективности использования отдельных элементов основных средст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 загрузки площад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 сменности работы оборудо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 интенсивной, экстенсивной и интегральной загрузки обору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хема 3" descr=""/>
          <p:cNvPicPr/>
          <p:nvPr/>
        </p:nvPicPr>
        <p:blipFill>
          <a:blip r:embed="rId1"/>
          <a:stretch/>
        </p:blipFill>
        <p:spPr>
          <a:xfrm>
            <a:off x="523800" y="324000"/>
            <a:ext cx="8407440" cy="611316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5"/>
          <p:cNvCxnSpPr/>
          <p:nvPr/>
        </p:nvCxnSpPr>
        <p:spPr>
          <a:xfrm flipH="1">
            <a:off x="3141360" y="1428840"/>
            <a:ext cx="21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Прямая со стрелкой 7"/>
          <p:cNvCxnSpPr/>
          <p:nvPr/>
        </p:nvCxnSpPr>
        <p:spPr>
          <a:xfrm flipH="1">
            <a:off x="5928480" y="1428840"/>
            <a:ext cx="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9"/>
          <p:cNvCxnSpPr/>
          <p:nvPr/>
        </p:nvCxnSpPr>
        <p:spPr>
          <a:xfrm flipH="1">
            <a:off x="2141280" y="25002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1"/>
          <p:cNvCxnSpPr/>
          <p:nvPr/>
        </p:nvCxnSpPr>
        <p:spPr>
          <a:xfrm flipH="1">
            <a:off x="6786360" y="25002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1314272077_moneyok.jpg"/>
          <p:cNvPicPr/>
          <p:nvPr/>
        </p:nvPicPr>
        <p:blipFill>
          <a:blip r:embed="rId1"/>
          <a:stretch/>
        </p:blipFill>
        <p:spPr>
          <a:xfrm>
            <a:off x="1857240" y="1500120"/>
            <a:ext cx="7286760" cy="535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денежные средства, вложенные в основные фон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капитал меняет свою вещественную форму и проходит следующие стад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рование (денежная форма - основные фонды) - в реальные активы - здания, сооружения, машины и оборудование и пр., а не в финансовые активы - акции, облиг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(материально - вещественная форма), потребление в виде амортизации. Процесс постепенного перенесения стоимости средств труда по мере их физического и морального износа на производимый с их помощью продукт; использование специальных денежных средств - амортизационных отчислений, включаемых в издержки производства и обращения, для простого и расширенного воспроизводства основных фонд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щение: начисленная амортизация превращается в денежную форму (себестоимость, выручка). За счёт этих денег происходит вновь закупка обору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О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хема 7" descr=""/>
          <p:cNvPicPr/>
          <p:nvPr/>
        </p:nvPicPr>
        <p:blipFill>
          <a:blip r:embed="rId1"/>
          <a:stretch/>
        </p:blipFill>
        <p:spPr>
          <a:xfrm>
            <a:off x="566640" y="1206360"/>
            <a:ext cx="82962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1:08:09Z</dcterms:created>
  <dc:creator>SamLab.ws</dc:creator>
  <dc:description/>
  <dc:language>en-US</dc:language>
  <cp:lastModifiedBy>SamLab.ws</cp:lastModifiedBy>
  <dcterms:modified xsi:type="dcterms:W3CDTF">2012-01-24T16:29:25Z</dcterms:modified>
  <cp:revision>17</cp:revision>
  <dc:subject/>
  <dc:title>Основной капитал предприятия</dc:title>
</cp:coreProperties>
</file>