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BFD7-557F-40D6-83FA-6869E99E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06A9-5678-4E7A-B548-11ABFC62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DCBE4-21C7-4645-BE3C-6CBA3A16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BAC3-AD7E-4D14-A57B-B941DA8B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42C4-DC75-4F9E-9158-400E3E3E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0D7C-6E10-476D-A745-8F728B04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A0C5-F0F6-4767-A1B7-32DC1BB7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DA11-4863-4A59-8E75-FB6EF96D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D6B0-79F7-410F-8997-36D8BA0A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EA1E-DB19-4230-8702-04550806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E753-A597-4382-8F13-BDE9D301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FD2A-DB8B-4CC0-8B35-31551F45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5F1B-6CE5-491E-B74A-FDC51ED5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0291-4104-4D66-B718-2634F83B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84C2-3CD7-4985-AF29-6102C963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F252-10A5-403D-8B3E-5E058035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7744-196A-4C8D-BBBA-71242A13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4E47-19F6-48D0-B9FE-B5EB41A8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A694-5F69-4386-A007-B0E28F4D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DF9D3-70E8-4C62-9FB3-8DF0BEFF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98540-2595-4257-A519-E694B262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62C8-BC9D-4EAF-A7EC-121DB810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8F37-F71A-4245-A7B8-F43EF297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9456-1824-45C2-90E9-83FE4143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388E-D429-4352-A05F-C8AB55622A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2723-A255-446D-8912-7051B69610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«Экономика предприят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250920" y="207180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70014"/>
                </a:solidFill>
                <a:latin typeface="Book Antiqua"/>
              </a:rPr>
              <a:t>Тема: Оплата труда на предприяти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179280" y="0"/>
            <a:ext cx="8748720" cy="1828800"/>
          </a:xfrm>
          <a:prstGeom prst="leftRightArrow">
            <a:avLst>
              <a:gd name="adj1" fmla="val 50000"/>
              <a:gd name="adj2" fmla="val 952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Повременная форма оплаты труда включает две систе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844640"/>
            <a:ext cx="4248360" cy="47512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4751280"/>
              <a:gd name="textAreaBottom" fmla="*/ 4543920 h 4751280"/>
            </a:gdLst>
            <a:ahLst/>
            <a:rect l="textAreaLeft" t="textAreaTop" r="textAreaRight" b="textAreaBottom"/>
            <a:pathLst>
              <a:path w="21600" h="24157">
                <a:moveTo>
                  <a:pt x="3600" y="0"/>
                </a:moveTo>
                <a:arcTo wR="3600" hR="3600" stAng="16200000" swAng="-5400000"/>
                <a:lnTo>
                  <a:pt x="0" y="20557"/>
                </a:lnTo>
                <a:arcTo wR="3600" hR="3600" stAng="10800000" swAng="-5400000"/>
                <a:lnTo>
                  <a:pt x="18000" y="241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При </a:t>
            </a:r>
            <a:r>
              <a:rPr b="1" i="1" lang="ru-RU" sz="1800" spc="-1" strike="noStrike">
                <a:solidFill>
                  <a:srgbClr val="070014"/>
                </a:solidFill>
                <a:latin typeface="Book Antiqua"/>
              </a:rPr>
              <a:t>простой повременной</a:t>
            </a: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 системе размер заработной платы зависит от тарифной ставки работника и количества отработанного време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Зп = Тч *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где Зп — повременная заработная плата, т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Тч — часовая (дневная) тарифная ставка рабочего соответствующего разря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В — фактически отработанное время, часы (д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844640"/>
            <a:ext cx="4249800" cy="4751280"/>
          </a:xfrm>
          <a:custGeom>
            <a:avLst/>
            <a:gdLst>
              <a:gd name="textAreaLeft" fmla="*/ 207360 w 4249800"/>
              <a:gd name="textAreaRight" fmla="*/ 4042440 w 4249800"/>
              <a:gd name="textAreaTop" fmla="*/ 207360 h 4751280"/>
              <a:gd name="textAreaBottom" fmla="*/ 4543920 h 4751280"/>
            </a:gdLst>
            <a:ahLst/>
            <a:rect l="textAreaLeft" t="textAreaTop" r="textAreaRight" b="textAreaBottom"/>
            <a:pathLst>
              <a:path w="21600" h="24149">
                <a:moveTo>
                  <a:pt x="3600" y="0"/>
                </a:moveTo>
                <a:arcTo wR="3600" hR="3600" stAng="16200000" swAng="-5400000"/>
                <a:lnTo>
                  <a:pt x="0" y="20549"/>
                </a:lnTo>
                <a:arcTo wR="3600" hR="3600" stAng="10800000" swAng="-5400000"/>
                <a:lnTo>
                  <a:pt x="18000" y="24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70014"/>
                </a:solidFill>
                <a:latin typeface="Book Antiqua"/>
              </a:rPr>
              <a:t>Повременно-премиальная</a:t>
            </a:r>
            <a:r>
              <a:rPr b="1" lang="en-US" sz="1800" spc="-1" strike="noStrike">
                <a:solidFill>
                  <a:srgbClr val="070014"/>
                </a:solidFill>
                <a:latin typeface="Book Antiqua"/>
              </a:rPr>
              <a:t> система оплаты труда применяется с целью повышения качественных или количественных показателей (безаварийная работа, повышение качества продукц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014"/>
                </a:solidFill>
                <a:latin typeface="Book Antiqua"/>
              </a:rPr>
              <a:t>Эти показатели премирования должны точно учитываться и отражать особенности работы тех или иных рабочих. По каждому показателю в отдельности устанавливается размер премии в зависимости от его знач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0014"/>
                </a:solidFill>
                <a:latin typeface="Book Antiqua"/>
              </a:rPr>
              <a:t>Существуют различные системы сдельной заработной платы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прямая индивидуальн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косвенно-сдельн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сдельно-прогрессивную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аккордно-сдельн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сдельно-премиальн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3 Социальная защита работник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70014"/>
                </a:solidFill>
                <a:latin typeface="Book Antiqua"/>
              </a:rPr>
              <a:t>В республике сформирована </a:t>
            </a:r>
            <a:r>
              <a:rPr b="1" i="1" lang="en-US" sz="3000" spc="-1" strike="noStrike">
                <a:solidFill>
                  <a:srgbClr val="070014"/>
                </a:solidFill>
                <a:latin typeface="Book Antiqua"/>
              </a:rPr>
              <a:t>трехуровневая система социальной защиты</a:t>
            </a:r>
            <a:r>
              <a:rPr b="0" lang="en-US" sz="3000" spc="-1" strike="noStrike">
                <a:solidFill>
                  <a:srgbClr val="070014"/>
                </a:solidFill>
                <a:latin typeface="Book Antiqua"/>
              </a:rPr>
              <a:t> с распределением ответственности за состояние и устойчивость социального обеспечения между государством, работодателями и работником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70014"/>
                </a:solidFill>
                <a:latin typeface="Book Antiqua"/>
              </a:rPr>
              <a:t>Система обязательного социального страхования Казахстана является дополнительной формой социальной защиты участников системы, т.е. работающего населения республик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Первый уровень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 - гарантированные Конституцией Республики Казахстан социальные выплаты из республиканского бюджета, т.е. выплаты всем гражданам на одинаковом уровне без учета персонального вклада гражданина в развитие обществ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Второй уровень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 - дополнительное социальное обеспечение работающих граждан, учитывающее их персональный вклад в развитие общества, социальные выплаты из АО «Государственный фонд социального страхования»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700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на случай утраты трудоспособ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700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на случай потери кормильц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700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на случай потери работ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700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на случай потери дохода в связи с беременностью и родам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700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на случай ухода за ребенком по достижении им возраста одного го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Третий уровень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 - социальные выплаты за счет добровольных видов страхова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14"/>
                </a:solidFill>
                <a:latin typeface="Book Antiqua"/>
              </a:rPr>
              <a:t>Одними из участников системы обязательного социального страхования являются физические лица, за которых производились социальные отчисления и которые имеют право на получение социальных выплат при наступлении социальных рис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</a:rPr>
              <a:t>Плательщиками социальных отчислений</a:t>
            </a:r>
            <a:r>
              <a:rPr b="0" lang="en-US" sz="2800" spc="-1" strike="noStrike">
                <a:solidFill>
                  <a:srgbClr val="070014"/>
                </a:solidFill>
                <a:latin typeface="Book Antiqua"/>
              </a:rPr>
              <a:t> являются работодатель или самостоятельно занятое лицо (индивидуальный предприниматель, частный нотариус, адвокат, обеспечивающий себя работой, приносящий им доход), осуществляющие исчисление и уплату социальных отчисл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14"/>
                </a:solidFill>
                <a:latin typeface="Book Antiqua"/>
              </a:rPr>
              <a:t>Следует отметить, что сегодня система социального страхования стала важнейшим и необходимым элементом социально-экономических отношений современного Казахстана. Разработана законодательная база, определяющая основы системы обязательного социального страхования республики. Ее принципиальное отличие от других видов страхования (страхования имущества, транспортных средств и т.д.) состоит в том, что она обеспечивает защиту человека от материальной необеспеченности в связи с невозможностью участия в трудовой деятель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4 Зарубежный опыт организации заработной пла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Следует рассмотреть методики оплаты труда, разработанные отдельными крупными зарубежными фирм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014"/>
                </a:solidFill>
                <a:latin typeface="Book Antiqua"/>
              </a:rPr>
              <a:t>1) Оплата труда в компании «Siemens».</a:t>
            </a:r>
            <a:r>
              <a:rPr b="0" i="1" lang="ru-RU" sz="24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Использование тарифной сетки при формировании окладов - жесткая система тарифных сеток, дифференцированная для различных подразделений. Для каждой должности существует шесть категорий и семь градац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Увеличение оклада происходит в зависимости от стажа работы и успехов. Гибкая система премий, зависящих от показателей работы группы, отдела и индивидуальных результатов плюс ежегодная премия, выплачиваемая в некоторых подразделениях два раза в год. Общий размер премий имеет верхнюю границ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Подразделения, связанные с реализацией, и некоммерческие имеют тариф и премию, в первом случае зависящую от объема продаж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70014"/>
                </a:solidFill>
                <a:latin typeface="Book Antiqua"/>
              </a:rPr>
              <a:t>2) Компания «Маркой».</a:t>
            </a:r>
            <a:r>
              <a:rPr b="0" i="1" lang="en-US" sz="26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070014"/>
                </a:solidFill>
                <a:latin typeface="Book Antiqua"/>
              </a:rPr>
              <a:t>Унифицированная тарифная сетка, для каждой категории специалистов введены 18 разрядов и классы. В тарифной системе отражен уровень занятости, сложности и ответственности. Увеличение оклада происходит в зависимости от профессионального роста, стажа работы, отсутствия нарушений трудовой дисциплины. Премия варьируется от нижней фиксированной границы до верхней, определяемой эффективностью деятельности подразделения. Для отдела реализации - процент от реализации. Продавцы - тариф + премия +3,5% от прибыл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70014"/>
                </a:solidFill>
                <a:latin typeface="Book Antiqua"/>
              </a:rPr>
              <a:t>Должностные оклады строятся от официальной минимальной оплаты труда. Сверх этого работник получает премии в зависимости от показателей его работы и работы его подразделения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3) Расчет премиального фонда в компаниях Франции.</a:t>
            </a:r>
            <a:r>
              <a:rPr b="0" i="1" lang="en-US" sz="24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В стране законодательно установлено, что в компаниях с числом работников более 100 человек происходит обязательное формирование премиального фонда из прибыли по формул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где: Р      - премиальный фонд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В     - прибыль, подлежащая налогообложению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J      - налог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С     - капитал предприят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S     - сумма заработной пла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VA - величина добавленной стоим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Формула показывает, что премиальный фонд формируется при условии, что чистая прибыль компании В - J больше чем 5% стоимости капитала и тем самым защищает долю собственников. Эти 5% стоимости капитала вычитаются из чистой прибыли, образуя обусловленную плату акционерам. Доля работников составляет х/2 норматива S/VA, т.е. соответствующей доли заработной платы в добавленной стоим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0014"/>
                </a:solidFill>
                <a:latin typeface="Book Antiqua"/>
              </a:rPr>
              <a:t>4) Бестарифная система оплаты труда. Методика оценки труда в компании ЗМ.</a:t>
            </a:r>
            <a:r>
              <a:rPr b="0" i="1" lang="ru-RU" sz="26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600" spc="-1" strike="noStrike">
                <a:solidFill>
                  <a:srgbClr val="070014"/>
                </a:solidFill>
                <a:latin typeface="Book Antiqua"/>
              </a:rPr>
              <a:t>Первый шаг - четкое описание трудовых функций работника. Их анализ основывается на инвентаризации требований рабочего места и трудового процесса, способностей и потенциальных возможностей самого работника, на интервью при приеме на работу, и его собственных оценках и ожиданиях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0014"/>
                </a:solidFill>
                <a:latin typeface="Book Antiqua"/>
              </a:rPr>
              <a:t>Описание должностных функций в письменной форме составляется непосредственным руководителем при участии исполнителя. Полученный документ утверждается аттестационной комиссией и становится основным для последующих аттестаций, установления оплаты труда, принятия решений о продвижении и пересмотре должностных функций. Агрегированная оценка должностных функций, полученная на основе их формального описания, позволяет определить место работника в иерархии фирмы и установить базовую оплату его труда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1 Сущность и формы мотивации труд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70014"/>
                </a:solidFill>
                <a:latin typeface="Book Antiqua"/>
              </a:rPr>
              <a:t>Мотивация</a:t>
            </a:r>
            <a:r>
              <a:rPr b="0" lang="ru-RU" sz="3100" spc="-1" strike="noStrike">
                <a:solidFill>
                  <a:srgbClr val="070014"/>
                </a:solidFill>
                <a:latin typeface="Book Antiqua"/>
              </a:rPr>
              <a:t> - одна из основных функций деятельности любого менеджера, и именно с ее помощью оказывается воздействие на персонал предприятия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70014"/>
                </a:solidFill>
                <a:latin typeface="Book Antiqua"/>
              </a:rPr>
              <a:t>Главная задача</a:t>
            </a:r>
            <a:r>
              <a:rPr b="0" lang="ru-RU" sz="3100" spc="-1" strike="noStrike">
                <a:solidFill>
                  <a:srgbClr val="070014"/>
                </a:solidFill>
                <a:latin typeface="Book Antiqua"/>
              </a:rPr>
              <a:t> с точки зрения мотивационного процесса работников - это сделать их не столько обладателями средств производства, сколько владельцами своей собственной рабочей силы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4316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Для производственного персонала: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знания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офессиональный опыт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способность работника к самостоятельному принятию решения в нестандартных ситуациях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доля ручного труда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ответственность за инструменты, оборудование, материалы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сихологическая нагрузка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физические усилия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условия труда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вредность, риск травматизм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557360"/>
            <a:ext cx="42447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Для служащих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знания и профессиональная подготовка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опыт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сложность обязанностей; ответственность за возможные ошибки: сотрудничество с другими работниками, сохранение конфиденциальной информа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условия тру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5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Если работник занимается управленческим трудом, то к этим функциям добавляются вид управленческой работы и число подчиненных работ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Оценка складывается на основе следующих факторов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549360"/>
            <a:ext cx="3097080" cy="1844640"/>
          </a:xfrm>
          <a:prstGeom prst="rightArrow">
            <a:avLst>
              <a:gd name="adj1" fmla="val 50000"/>
              <a:gd name="adj2" fmla="val 4197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Сущность мотив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789360"/>
            <a:ext cx="3241440" cy="2087640"/>
          </a:xfrm>
          <a:prstGeom prst="rightArrow">
            <a:avLst>
              <a:gd name="adj1" fmla="val 50000"/>
              <a:gd name="adj2" fmla="val 388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Функция мо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189000"/>
            <a:ext cx="5472360" cy="2376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заключается в том, чтобы персонал фирмы выполнял работу в соответствии с делегированными ему правами и обязанностями, сообразуясь с принятыми управленческими реше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852640"/>
            <a:ext cx="5329440" cy="3816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70014"/>
                </a:solidFill>
                <a:latin typeface="Book Antiqua"/>
              </a:rPr>
              <a:t>заключается в том, что она оказывает влияние на трудовой коллектив предприятия в форме побудительных мотивов к эффективному труду, общественного воздействия, коллективных и индивидуальных поощрительных мер. Указанные формы воздействия активизируют работу субъектов управления, повышают эффективность всей системы управления предприятием, организацие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7249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70014"/>
                </a:solidFill>
                <a:latin typeface="Book Antiqua"/>
              </a:rPr>
              <a:t>Мотивация труда</a:t>
            </a:r>
            <a:r>
              <a:rPr b="0" lang="ru-RU" sz="2900" spc="-1" strike="noStrike">
                <a:solidFill>
                  <a:srgbClr val="070014"/>
                </a:solidFill>
                <a:latin typeface="Book Antiqua"/>
              </a:rPr>
              <a:t> - это стремление работника удовлетворить потребности (получить определенные блага) посредством трудовой деятельности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70014"/>
                </a:solidFill>
                <a:latin typeface="Book Antiqua"/>
              </a:rPr>
              <a:t>Формирование мотива</a:t>
            </a:r>
            <a:r>
              <a:rPr b="0" lang="ru-RU" sz="29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1" i="1" lang="ru-RU" sz="2900" spc="-1" strike="noStrike">
                <a:solidFill>
                  <a:srgbClr val="070014"/>
                </a:solidFill>
                <a:latin typeface="Book Antiqua"/>
              </a:rPr>
              <a:t>труда</a:t>
            </a:r>
            <a:r>
              <a:rPr b="0" lang="ru-RU" sz="2900" spc="-1" strike="noStrike">
                <a:solidFill>
                  <a:srgbClr val="070014"/>
                </a:solidFill>
                <a:latin typeface="Book Antiqua"/>
              </a:rPr>
              <a:t> происходит в том случае, если в распоряжении субъекта управления имеется необходимый набор благ, соответствующий социально обусловленным потребностям человека. Для получения благ требуются личные трудовые усилия работника. Трудовая деятельность позволяет работнику получить эти блага с меньшими материальными и моральными издержками, чем любые другие виды деятельности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Система мотивации на уровне предприятия должна гарантировать: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014"/>
                </a:solidFill>
                <a:latin typeface="Book Antiqua"/>
              </a:rPr>
              <a:t>занятость всех работников трудом;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014"/>
                </a:solidFill>
                <a:latin typeface="Book Antiqua"/>
              </a:rPr>
              <a:t>предоставление равных возможностей для профессионального и служебного роста;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014"/>
                </a:solidFill>
                <a:latin typeface="Book Antiqua"/>
              </a:rPr>
              <a:t>согласованность уровня оплаты с результатами труда;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014"/>
                </a:solidFill>
                <a:latin typeface="Book Antiqua"/>
              </a:rPr>
              <a:t>создание условий безопасности труда;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014"/>
                </a:solidFill>
                <a:latin typeface="Book Antiqua"/>
              </a:rPr>
              <a:t>поддержание в коллективе благоприятного психологического климата и др.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014"/>
                </a:solidFill>
                <a:latin typeface="Book Antiqua"/>
              </a:rPr>
              <a:t>Основными формами мотивации работников предприятия являются: 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1. Заработная плата, как объективная оценка вклада работника в результаты деятельности предприятия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2. Система внутрифирменных льгот работникам: эффективное премирование, доплаты за стаж, страхование здоровья за счет предприятия, оплата расходов на проезд к месту работы и обратно, предоставление права выхода на работу в более удобное для работников время и т.д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3. Мероприятия, повышающие привлекательность и содержательность труда, самостоятельность и ответственность работника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4. Устранение статусных, административных и психологических барьеров между работниками, развитие доверия и взаимопонимания в коллективе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5. Моральное поощрение работников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6. Повышение квалификации и продвижение работников по службе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014"/>
                </a:solidFill>
                <a:latin typeface="Book Antiqua"/>
              </a:rPr>
              <a:t>Формы и системы заработной платы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 представляют собой способы установления зависимости величины заработной платы от количества и качества затраченного труда с помощью совокупности количественных и качественных показателей, отражающих результаты труд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014"/>
                </a:solidFill>
                <a:latin typeface="Book Antiqua"/>
              </a:rPr>
              <a:t>Основное их назначение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 — обеспечение правильного соотношения между мерой труда и мерой его оплаты, а также повышение заинтересованности рабочих в эффективном труд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0014"/>
                </a:solidFill>
                <a:latin typeface="Garamond"/>
              </a:rPr>
              <a:t>2 Формы и системы заработной платы рабочих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179280" y="0"/>
            <a:ext cx="8748720" cy="1828800"/>
          </a:xfrm>
          <a:prstGeom prst="leftRightArrow">
            <a:avLst>
              <a:gd name="adj1" fmla="val 50000"/>
              <a:gd name="adj2" fmla="val 952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Основные формы заработной пл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332000" y="1601640"/>
            <a:ext cx="3166920" cy="5256360"/>
          </a:xfrm>
          <a:prstGeom prst="downArrow">
            <a:avLst>
              <a:gd name="adj1" fmla="val 50000"/>
              <a:gd name="adj2" fmla="val 414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4572000" y="1700280"/>
            <a:ext cx="3240000" cy="5157720"/>
          </a:xfrm>
          <a:prstGeom prst="downArrow">
            <a:avLst>
              <a:gd name="adj1" fmla="val 50000"/>
              <a:gd name="adj2" fmla="val 3979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0014"/>
                </a:solidFill>
                <a:latin typeface="Book Antiqua"/>
              </a:rPr>
              <a:t>Повременная оплата труд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применяется, если невозможно или трудно нормировать труд, при строго регламентированных, высокомеханизированных и автоматизированных производственных процессах, в производствах, требующих высокого качества и точности выполнения работ, и там, где, нет надобности стимулировать интенсивность тру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014"/>
                </a:solidFill>
                <a:latin typeface="Book Antiqua"/>
              </a:rPr>
              <a:t>Главное преимущество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 для рабочего при повременной оплате труда состоит в том, что он имеет гарантированный ежемесячный заработок, не зависящий от возможного снижения уровня производства в данный период времени. </a:t>
            </a:r>
            <a:r>
              <a:rPr b="1" i="1" lang="ru-RU" sz="2400" spc="-1" strike="noStrike">
                <a:solidFill>
                  <a:srgbClr val="070014"/>
                </a:solidFill>
                <a:latin typeface="Book Antiqua"/>
              </a:rPr>
              <a:t>Недостатком</a:t>
            </a:r>
            <a:r>
              <a:rPr b="1" i="1" lang="ru-RU" sz="24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является то, что рабочий не имеет возможности повысить свой заработок путем увеличения личной доли участия в производственном процесс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6:11:20Z</dcterms:created>
  <dc:creator>User</dc:creator>
  <dc:description/>
  <dc:language>en-US</dc:language>
  <cp:lastModifiedBy>User</cp:lastModifiedBy>
  <dcterms:modified xsi:type="dcterms:W3CDTF">2012-01-17T08:43:28Z</dcterms:modified>
  <cp:revision>95</cp:revision>
  <dc:subject/>
  <dc:title>Слайд 1</dc:title>
</cp:coreProperties>
</file>