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10C3-621F-4990-AB10-6AFCDA69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66BD9-F334-4C9B-8973-05118860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36A06-ACA2-41B8-9EBB-FC3C991F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732B1-168E-449C-88F9-B74CA777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85A0-353B-4D83-B4B3-DEF03DE5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2449-A4F9-42C1-AA7D-25AE95EA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1469-6BCA-4434-BB1F-8A0AD43A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4AA1-CA7D-401B-B99A-6E39D329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6D39-4AFE-4AB7-9CDC-69C056D1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8984-34DF-449C-8454-90D2D8A6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AE12-3887-44C6-B384-9FE6925D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47D7D-3865-40B3-8C3F-650032E2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2619-BDE7-46BD-8ADE-702387E4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F672-5B78-4B86-9AF8-5D8B350E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5DBF-C74D-4F14-814B-6A2CA59D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A8B5-486C-47F2-A160-FD8435A7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6E66-87BD-448B-8FCC-A11854DC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63547-5CAD-4C4D-80DE-450D61D9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DCFB2-673C-4E66-A9C9-58A66F67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37851-2937-481C-A9BA-C5D8433E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3A55A-99D5-4C51-AB26-B31109FC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03B66-5C09-47B2-A85C-43DF5C58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96E26-4BCA-46B4-AB36-868D61D4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3B8A5-915F-42EB-A0F8-1685055A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A951-D3A2-43AC-90F0-E545AEE161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6cd0"/>
                  </a:gs>
                  <a:gs pos="100000">
                    <a:srgbClr val="ae8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ae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5ff"/>
                  </a:gs>
                  <a:gs pos="100000">
                    <a:srgbClr val="9874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e85ff"/>
                </a:gs>
                <a:gs pos="100000">
                  <a:srgbClr val="927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93ff"/>
                </a:gs>
                <a:gs pos="100000">
                  <a:srgbClr val="ae8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6cd0"/>
                  </a:gs>
                  <a:gs pos="100000">
                    <a:srgbClr val="ae8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ae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5ff"/>
                  </a:gs>
                  <a:gs pos="100000">
                    <a:srgbClr val="9874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e85ff"/>
                </a:gs>
                <a:gs pos="100000">
                  <a:srgbClr val="927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93ff"/>
                </a:gs>
                <a:gs pos="100000">
                  <a:srgbClr val="ae8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205A-7C4D-4614-86CC-7438EEF272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014"/>
                </a:solidFill>
                <a:latin typeface="Book Antiqua"/>
              </a:rPr>
              <a:t>Презентация по предмету </a:t>
            </a:r>
            <a:br>
              <a:rPr sz="3200"/>
            </a:br>
            <a:r>
              <a:rPr b="1" lang="en-US" sz="3200" spc="-1" strike="noStrike">
                <a:solidFill>
                  <a:srgbClr val="070014"/>
                </a:solidFill>
                <a:latin typeface="Book Antiqua"/>
              </a:rPr>
              <a:t>«Экономика предприят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70014"/>
                </a:solidFill>
                <a:latin typeface="Book Antiqua"/>
              </a:rPr>
              <a:t>Тема: </a:t>
            </a:r>
            <a:r>
              <a:rPr b="1" lang="en-US" sz="4400" spc="-1" strike="noStrike">
                <a:solidFill>
                  <a:srgbClr val="070014"/>
                </a:solidFill>
                <a:latin typeface="Arial"/>
              </a:rPr>
              <a:t>Финансы предприят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Garamond"/>
              </a:rPr>
              <a:t>Основное направление использования финансовых средств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557360"/>
          <a:ext cx="7848720" cy="4373640"/>
        </p:xfrm>
        <a:graphic>
          <a:graphicData uri="http://schemas.openxmlformats.org/drawingml/2006/table">
            <a:tbl>
              <a:tblPr/>
              <a:tblGrid>
                <a:gridCol w="1536480"/>
                <a:gridCol w="63122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инвестирование в капитальные вложения на расширение производств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инвестирование в ценные бумаг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I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платежи в бюджет, банковскую систему, взносы во внебюджетные фонд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I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образование денежных фондов и резерв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Garamond"/>
              </a:rPr>
              <a:t>Налог</a:t>
            </a:r>
            <a:r>
              <a:rPr b="0" lang="ru-RU" sz="3200" spc="-1" strike="noStrike">
                <a:solidFill>
                  <a:srgbClr val="292929"/>
                </a:solidFill>
                <a:latin typeface="Garamond"/>
              </a:rPr>
              <a:t> </a:t>
            </a: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- </a:t>
            </a:r>
            <a:r>
              <a:rPr b="0" lang="ru-RU" sz="3200" spc="-1" strike="noStrike">
                <a:solidFill>
                  <a:srgbClr val="292929"/>
                </a:solidFill>
                <a:latin typeface="Garamond"/>
              </a:rPr>
              <a:t>это обязательный, индивидуально безвозмездный платеж, взимаемый органами государственной власти различных уровней с организаций и физических лиц в целях финансового обеспечения деятельности государства и (или) муниципальных образовани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2929"/>
                </a:solidFill>
                <a:latin typeface="Garamond"/>
              </a:rPr>
              <a:t>Сущность налогов проявляется в их функциях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1700280"/>
            <a:ext cx="6697800" cy="4897440"/>
          </a:xfrm>
          <a:prstGeom prst="verticalScroll">
            <a:avLst>
              <a:gd name="adj" fmla="val 18606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292929"/>
                </a:solidFill>
                <a:latin typeface="Garamond"/>
              </a:rPr>
              <a:t>I   </a:t>
            </a:r>
            <a:r>
              <a:rPr b="1" i="1" lang="ru-RU" sz="3700" spc="-1" strike="noStrike">
                <a:solidFill>
                  <a:srgbClr val="292929"/>
                </a:solidFill>
                <a:latin typeface="Garamond"/>
              </a:rPr>
              <a:t>фискальная</a:t>
            </a:r>
            <a:r>
              <a:rPr b="1" lang="ru-RU" sz="3700" spc="-1" strike="noStrike">
                <a:solidFill>
                  <a:srgbClr val="292929"/>
                </a:solidFill>
                <a:latin typeface="Garamond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292929"/>
                </a:solidFill>
                <a:latin typeface="Garamond"/>
              </a:rPr>
              <a:t>II  </a:t>
            </a:r>
            <a:r>
              <a:rPr b="1" i="1" lang="ru-RU" sz="3700" spc="-1" strike="noStrike">
                <a:solidFill>
                  <a:srgbClr val="292929"/>
                </a:solidFill>
                <a:latin typeface="Garamond"/>
              </a:rPr>
              <a:t>регулирующая</a:t>
            </a:r>
            <a:r>
              <a:rPr b="1" lang="ru-RU" sz="3700" spc="-1" strike="noStrike">
                <a:solidFill>
                  <a:srgbClr val="292929"/>
                </a:solidFill>
                <a:latin typeface="Garamond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292929"/>
                </a:solidFill>
                <a:latin typeface="Garamond"/>
              </a:rPr>
              <a:t>III  </a:t>
            </a:r>
            <a:r>
              <a:rPr b="1" i="1" lang="ru-RU" sz="3700" spc="-1" strike="noStrike">
                <a:solidFill>
                  <a:srgbClr val="292929"/>
                </a:solidFill>
                <a:latin typeface="Garamond"/>
              </a:rPr>
              <a:t>стимулирующая</a:t>
            </a:r>
            <a:r>
              <a:rPr b="1" lang="ru-RU" sz="3700" spc="-1" strike="noStrike">
                <a:solidFill>
                  <a:srgbClr val="292929"/>
                </a:solidFill>
                <a:latin typeface="Garamond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292929"/>
                </a:solidFill>
                <a:latin typeface="Garamond"/>
              </a:rPr>
              <a:t>IV </a:t>
            </a:r>
            <a:r>
              <a:rPr b="1" i="1" lang="ru-RU" sz="3700" spc="-1" strike="noStrike">
                <a:solidFill>
                  <a:srgbClr val="292929"/>
                </a:solidFill>
                <a:latin typeface="Garamond"/>
              </a:rPr>
              <a:t>распределительная</a:t>
            </a:r>
            <a:r>
              <a:rPr b="1" lang="ru-RU" sz="3700" spc="-1" strike="noStrike">
                <a:solidFill>
                  <a:srgbClr val="292929"/>
                </a:solidFill>
                <a:latin typeface="Garamond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292929"/>
                </a:solidFill>
                <a:latin typeface="Garamond"/>
              </a:rPr>
              <a:t>V  </a:t>
            </a:r>
            <a:r>
              <a:rPr b="1" i="1" lang="ru-RU" sz="3700" spc="-1" strike="noStrike">
                <a:solidFill>
                  <a:srgbClr val="292929"/>
                </a:solidFill>
                <a:latin typeface="Garamond"/>
              </a:rPr>
              <a:t>контрольная</a:t>
            </a:r>
            <a:r>
              <a:rPr b="1" lang="ru-RU" sz="4000" spc="-1" strike="noStrike">
                <a:solidFill>
                  <a:srgbClr val="29292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Фискальная функция налогообложения — основная функция налогообложения. Реализация функции осуществляется за счёт налогового контроля и налоговых санкций, которые обеспечивают максимальную собираемость установленных налогов и создают препятствия к уклонению от уплаты налогов. Благодаря данной функции реализуется главное предназначение налогов: формирование и мобилизация финансовых ресурсов государств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Регулирующая функция налогообложения — направлена на достижение посредством налоговых механизмов тех или иных задач экономической политики государств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Стимулирующая функция налогообложения — направлена на поддержку развития тех или иных экономических процессов. Она реализуется через систему льгот и освобождений. Нынешняя система налогообложения предоставляет широкий набор налоговых льгот малым предприятиям, предприятиям инвалидов, сельскохозяйственным производителям, организациям, осуществляющим капитальные вложения в производство и благотворительную деятельность, и т. д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Распределительная  функция налогообложения — состоит в перераспределении общественных доходов (происходит передача средств в пользу более слабых и незащищенных категорий граждан за счёт возложения налогового бремени на более сильные категории населения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Контрольная функция налогообложения — позволяет государству отслеживать своевременность и полноту поступлений в бюджет денежных средств и сопоставлять их величину финансовых ресурсов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929"/>
                </a:solidFill>
                <a:latin typeface="Garamond"/>
              </a:rPr>
              <a:t>Виды налог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1773360"/>
            <a:ext cx="3600360" cy="1224000"/>
          </a:xfrm>
          <a:prstGeom prst="rect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Garamond"/>
              </a:rPr>
              <a:t>Пря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1773360"/>
            <a:ext cx="3887640" cy="1225440"/>
          </a:xfrm>
          <a:prstGeom prst="rect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Garamond"/>
              </a:rPr>
              <a:t>Косвен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2997360"/>
            <a:ext cx="3600360" cy="3313080"/>
          </a:xfrm>
          <a:prstGeom prst="rect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налог, котор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взим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государств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непосредствен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с до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или имущ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налогоплательщи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997360"/>
            <a:ext cx="3887640" cy="3313080"/>
          </a:xfrm>
          <a:prstGeom prst="rect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налог на товары и услуг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устанавливаем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в виде надб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к цене или тариф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в отличие от прям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налог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определяемых дохо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налогоплательщи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55640" y="1268280"/>
            <a:ext cx="3959280" cy="5040360"/>
          </a:xfrm>
          <a:prstGeom prst="rect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Аккорд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налог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устанавливаем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государств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на уровн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не зависящ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от разме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доходов и покупок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2565360"/>
            <a:ext cx="338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16360" y="1268280"/>
            <a:ext cx="3672000" cy="5040360"/>
          </a:xfrm>
          <a:prstGeom prst="rect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Подоход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основной ви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прямых налог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взимаемый с дох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физическ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и юридических л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(заработной пла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прибыли и т.д.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256536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250920" y="1600200"/>
          <a:ext cx="8569080" cy="4060800"/>
        </p:xfrm>
        <a:graphic>
          <a:graphicData uri="http://schemas.openxmlformats.org/drawingml/2006/table">
            <a:tbl>
              <a:tblPr/>
              <a:tblGrid>
                <a:gridCol w="2905200"/>
                <a:gridCol w="2928600"/>
                <a:gridCol w="2735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Прогрессивные налог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Регрессивные налог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Пропорциональные налог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4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налоги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у которых средняя налоговая ставка зависима прямо пропорционально от уровня дохода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налоги, чья средняя ставка налога обратно пропорциональна уровн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дохода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налоги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ставка которых не завис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от величины облагаемого доход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Garamond"/>
              </a:rPr>
              <a:t>Принципы налогообложения - это базовые идеи, правила и положения, применяемые в сфере налогообложения, т.е. принципы налогообложения - это принципы построения налоговой системы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Garamond"/>
              </a:rPr>
              <a:t>Эти принципы являются ориентиром при формировании налогово-правовой политики государст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2929"/>
                </a:solidFill>
                <a:latin typeface="Garamond"/>
              </a:rPr>
              <a:t>Комплекс принципиальных установок для системы налогообложени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3933360"/>
            <a:ext cx="468000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Garamond"/>
              </a:rPr>
              <a:t>Классические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Garamond"/>
              </a:rPr>
              <a:t>принцип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"/>
          <p:cNvSpPr/>
          <p:nvPr/>
        </p:nvSpPr>
        <p:spPr>
          <a:xfrm rot="1696200">
            <a:off x="1692360" y="1989000"/>
            <a:ext cx="1728720" cy="172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0177400">
            <a:off x="5866920" y="2565360"/>
            <a:ext cx="1727280" cy="1800360"/>
          </a:xfrm>
          <a:prstGeom prst="downArrow">
            <a:avLst>
              <a:gd name="adj1" fmla="val 50000"/>
              <a:gd name="adj2" fmla="val 26058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56680" y="4581360"/>
            <a:ext cx="571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Garamond"/>
              </a:rPr>
              <a:t>Внутринациональны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Garamond"/>
              </a:rPr>
              <a:t>принцип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929"/>
                </a:solidFill>
                <a:latin typeface="Garamond"/>
              </a:rPr>
              <a:t>Классические принципы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628640"/>
          <a:ext cx="8229600" cy="512316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Garamond"/>
                        </a:rPr>
                        <a:t>население всякого государства обязаны участвовать в покрытии расходов правительства каждый, по возможности, сообразно своей относительной платежеспособности, т.е. соразмерно доходу, которым он пользуется под охраной правительства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Garamond"/>
                        </a:rPr>
                        <a:t>налог, который обязан уплачивать каждый, должен быть точно определен, а не произволен. Размер налога, время и способ его уплаты должны быть ясны и известны как самому плательщику, так и всякому другому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Garamond"/>
                        </a:rPr>
                        <a:t>каждый налог должен взиматься в такое время и таким способом, какие наиболее удобны для плательщика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Garamond"/>
                        </a:rPr>
                        <a:t>каждый налог должен быть так устроен, чтобы он извлекал из кармана плательщика возможно меньше сверх того, что поступает в кассы государства.</a:t>
                      </a: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Финансы предприятия представляют соб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систему денежных отношений, выражающ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формирование и использование денежны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фондов в процессе кругооборота ресурсов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предприятия, формирование его денежны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доходов и накоплени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292929"/>
                </a:solidFill>
                <a:latin typeface="Garamond"/>
              </a:rPr>
              <a:t>Внутринациональные </a:t>
            </a:r>
            <a:br>
              <a:rPr sz="4400"/>
            </a:br>
            <a:r>
              <a:rPr b="1" lang="en-US" sz="4400" spc="-1" strike="noStrike">
                <a:solidFill>
                  <a:srgbClr val="292929"/>
                </a:solidFill>
                <a:latin typeface="Garamond"/>
              </a:rPr>
              <a:t>принципы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600200"/>
          <a:ext cx="8229600" cy="4705200"/>
        </p:xfrm>
        <a:graphic>
          <a:graphicData uri="http://schemas.openxmlformats.org/drawingml/2006/table">
            <a:tbl>
              <a:tblPr/>
              <a:tblGrid>
                <a:gridCol w="1019160"/>
                <a:gridCol w="7210440"/>
              </a:tblGrid>
              <a:tr h="102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нцип законности: каждое лицо должно уплачивать законно установленные налоги и сборы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нцип не дискриминации: налоги и сборы не могут иметь дискриминационный характер и различно применяться исходя из социальных, расовых, национальных, религиозных и иных подобных критериев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нцип единого экономического пространства: не допускается устанавливать налоги и сборы, нарушающие единое экономическое простран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2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нцип ясности и определенности правового регулирования: при установлении налогов должны быть определены все элементы налогообложения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Финансовые ресурсы предприяти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1086120" y="13705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254840" y="14421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134480" y="14421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492280"/>
            <a:ext cx="2590920" cy="3961080"/>
          </a:xfrm>
          <a:prstGeom prst="rect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Образуемые за сч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обственн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риравненных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. Прибыль от основ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. Прибыль от реал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выбывшего имуще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3. Аморт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4. Устойчивые пасс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5. Целевые поступ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92360" y="2492280"/>
            <a:ext cx="2592360" cy="3816360"/>
          </a:xfrm>
          <a:prstGeom prst="rect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Мобилизу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на финансовый рын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.Продажа собствен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ценных бума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. Дивиденды и проц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о ценным бумаг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других эмитен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3. Кред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4. Доходы по операци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 иностранной валют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2492280"/>
            <a:ext cx="2592360" cy="3816360"/>
          </a:xfrm>
          <a:prstGeom prst="rect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оступающие в порядк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ерераспред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.Страховые возмещ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. Финансовые ресурс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оступающие от друг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трукту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3. Бюджетные субсид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378936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789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72360" y="3789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Функции финансов предприят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1413000"/>
            <a:ext cx="1584360" cy="1800000"/>
          </a:xfrm>
          <a:prstGeom prst="downArrow">
            <a:avLst>
              <a:gd name="adj1" fmla="val 50000"/>
              <a:gd name="adj2" fmla="val 28403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2349360"/>
            <a:ext cx="1657440" cy="1800360"/>
          </a:xfrm>
          <a:prstGeom prst="downArrow">
            <a:avLst>
              <a:gd name="adj1" fmla="val 50000"/>
              <a:gd name="adj2" fmla="val 27156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00720" y="1341360"/>
            <a:ext cx="1654200" cy="1800360"/>
          </a:xfrm>
          <a:prstGeom prst="downArrow">
            <a:avLst>
              <a:gd name="adj1" fmla="val 50000"/>
              <a:gd name="adj2" fmla="val 27209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3789360"/>
            <a:ext cx="3241440" cy="1368360"/>
          </a:xfrm>
          <a:prstGeom prst="ellipse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ВОСПРОИЗВОДСТВ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8000" y="4724280"/>
            <a:ext cx="2952720" cy="1440000"/>
          </a:xfrm>
          <a:prstGeom prst="ellipse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РАСПРЕДЕЛИТ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56360" y="3645000"/>
            <a:ext cx="2340000" cy="1224000"/>
          </a:xfrm>
          <a:prstGeom prst="ellipse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КОНТРО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Воспроизводственная функц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Обеспечивает постоянный кругооборо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редств как на отдельном предприятии, так и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экономике в целом. Посредством выполнен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этой функции финансы предприятий влияю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на темпы развития экономики, складывающие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пропорции, изменение отраслевой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территориальной структуры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Распределительная функц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Связана с формированием, распределением и использованием фондов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денежных средств. Распределение является связующим звеном между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производством и потреблением. В рыночных условиях распределение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совокупного общественного продукта и национального доход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осуществляется с  помощью финансов. Этот процесс начинается с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распределения выручки от реализации, часть которой идет н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Возмещение израсходованных средств производства, другая поступает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в фонды: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централизованные (бюджет и внебюджетные фонды)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децентрализованные (фонд оплаты труда, фонды экономического стимулирования и финансирования затрат на расширение и развитие производства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Контрольная функц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Проявляется в контроле над формированием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распределением и использованием фондов денежны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средств. Как и во всех других случаях, контрольна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функция финансов предприятий возникает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действует только одновременно с распределительн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В контрольной функции финансов предприяти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проявляется внутренне присущая им способнос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объективно отражать и контролировать финансово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состояние предприятия, отрасли, экономики в цел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Принципы организации финансовой деятельности предприяти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1628640"/>
            <a:ext cx="2772000" cy="2397240"/>
          </a:xfrm>
          <a:prstGeom prst="irregularSeal1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ЛАВ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6360" y="1484280"/>
            <a:ext cx="3240000" cy="2806560"/>
          </a:xfrm>
          <a:prstGeom prst="irregularSeal1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ФИНАНСОВ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ООТНО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РО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43640" y="1628640"/>
            <a:ext cx="2556000" cy="2376720"/>
          </a:xfrm>
          <a:prstGeom prst="irregularSeal1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ГИБК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860640"/>
            <a:ext cx="3492360" cy="2737080"/>
          </a:xfrm>
          <a:prstGeom prst="irregularSeal1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МИНИМИЗАЦ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ФИНАНСОВ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ИЗДЕРЖ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19640" y="3860640"/>
            <a:ext cx="3313080" cy="2664000"/>
          </a:xfrm>
          <a:prstGeom prst="irregularSeal1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РАЦИОНА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00720" y="3357720"/>
            <a:ext cx="2843280" cy="2997000"/>
          </a:xfrm>
          <a:prstGeom prst="irregularSeal1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ФИНАНСОВ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УСТОЙЧИВ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1. Принцип плановости. Обеспечивает соответствие объема продаж и издержек, объем инвестиций, потребности сбыта. Этот принцип наиболее полно реализуется при внедрении современных методов внутрифирменного финансового планирования, а так же контрол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2. Принцип финансового соотношения сроков. Необходим минимальный разрыв времени между получением и использованием средств. Особенно важно при инфляции и меняющемся валютном курсе. Использование – размещение актив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3. Гибкости или маневрирования. Должны обеспечивать возможность маневра при не достижении планового объема продаж, или если происходит превышение плановых затрат при текучей инвестиционной деятельнос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4. Минимизация финансовых издержек. Что означает, финансирование любых инвестиций и других затрат должно осуществляться самым дешевым способо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5. Принцип рациональности. Вложение капитала должно иметь более высокую эффективность по сравнению с достигнутым ею уровнем и обеспечивать минимальные рис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6. Принцип финансовой устойчивости. Должны обеспечивать финансовую независимость, должны поддерживать удельный вес собственного удельного капитала, не ниже определенного уровня, и обеспечить платежеспособность предприятия (возможность погасить свои краткосрочные обязательства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6:11:20Z</dcterms:created>
  <dc:creator>User</dc:creator>
  <dc:description/>
  <dc:language>en-US</dc:language>
  <cp:lastModifiedBy>Customer</cp:lastModifiedBy>
  <dcterms:modified xsi:type="dcterms:W3CDTF">2012-01-30T16:35:26Z</dcterms:modified>
  <cp:revision>9</cp:revision>
  <dc:subject/>
  <dc:title>Слайд 1</dc:title>
</cp:coreProperties>
</file>