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6260-5944-4B1E-B739-D2BFC3C2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82CB-4F32-4771-B96F-8875C1B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0E3A-D760-4A6A-87AC-06AEE7C5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ABE1-00C8-4F91-871C-98BD2ED9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FAD-E92F-46B3-A806-28BF394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ABF-16F6-41A8-8A06-2A6877C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B29-DF19-486F-AC41-7D1FA26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0EF4-CE4B-429E-8805-FC023C2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565-243E-43DD-BF6F-149AA46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485-1EE9-47CC-A04F-F6F5140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A1A-CE71-4A2D-8AC3-C43EFC3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FB05-3260-4C9C-A3EE-BC305801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D884-E7E7-4656-AC8C-00895AF1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1478-EA4B-4EFB-8DB0-06F97A0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3211-EB36-4FA2-9E06-9272D4F0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3BCA-4439-48C5-A47D-95B437B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FE3-20E4-4A24-828E-E81D291B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C8C3-4EA6-4DAE-9D02-220C5A9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DFF4-901B-4764-8520-C8A203D0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994E-EC2A-4058-9821-362F6B0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3743-71E3-41B1-A09F-7D5E1FA0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E4EF-9A3A-47C3-9B84-45E9763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E67C-D779-442E-B939-6911939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5B8C-24B2-461F-B44D-BE831D5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5B9-C36B-47E5-B806-73C473051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8f6dd1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9975e0"/>
                  </a:gs>
                  <a:gs pos="100000">
                    <a:srgbClr val="ae85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9371d8"/>
                </a:gs>
                <a:gs pos="100000">
                  <a:srgbClr val="ae8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8f6dd1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9975e0"/>
                  </a:gs>
                  <a:gs pos="100000">
                    <a:srgbClr val="ae85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9371d8"/>
                </a:gs>
                <a:gs pos="100000">
                  <a:srgbClr val="ae8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C06-690E-497C-B94D-02F8636CD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70014"/>
                </a:solidFill>
                <a:latin typeface="Book Antiqua"/>
              </a:rPr>
              <a:t>Тема: Трудовые ресурс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31840" y="77760"/>
            <a:ext cx="891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Схема 6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610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58760" y="3213000"/>
            <a:ext cx="8985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58760" y="357120"/>
            <a:ext cx="89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14200" y="26280"/>
            <a:ext cx="864396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Номинальная заработная пла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это сумма денег, полученная за час, день или неделю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Реальная заработная пла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это количество товаров и услуг, которые можно приобрести на номинальную заработную плату. Это покупательная способность полученных денег. Реальная заработная плата зависит от номинальной и цен на приобретаемые товары и усл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Изменения реальной заработной платы в процентном отношении можно определить путем вычитания процентного изменения в уровне цен из процентного изменения в номинальной заработной плате. Номинальная и реальная заработная плата не обязательно изменяются в одном и том же направлении. Во времена нашей перестройки номинальная заработная плата растет, а реальная в то же самое время падает из-за более быстрого роста цен на товары и усл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8760" y="149400"/>
            <a:ext cx="89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58760" y="230976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8760" y="317340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58760" y="403704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58760" y="171468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214200" y="285840"/>
            <a:ext cx="86439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Структура кадров предприя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обеспечении эффективности производства большое значение имеет структура кадров предприят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Персонал предприятия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(кадры, трудовой коллектив) - это совокупность работников, входящих в его списочный соста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мировой практике чаще всего используется классификация, при которой работники делятся на менеджеров и исполнител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Менеджеры - это организаторы производства различных уровн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ерсонал промышленных предприятий делится, прежде всего, на промышленно-производственный и непромышленный персонал. К промышленно-производственному персоналу относятся работники, которые непосредственно связаны с производством и его обслуживанием: рабочие производственных цехов и участков, заводских лабораторий, управленческий персонал. К непромышленному персоналу относятся работники, занятые в непроизводственной сфере: жилищно-коммунальных хозяйствах, детских садах, столовых, принадлежащих предприятию и т.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928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4200" y="6480"/>
            <a:ext cx="878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рабочим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относятся лица, непосредственно занятые в процессе создания материальных ценностей, а также занятые ремонтом, перемещением грузов, перевозкой пассажиров, оказанием материальных услуг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Схема 8" descr=""/>
          <p:cNvPicPr/>
          <p:nvPr/>
        </p:nvPicPr>
        <p:blipFill>
          <a:blip r:embed="rId1"/>
          <a:stretch/>
        </p:blipFill>
        <p:spPr>
          <a:xfrm>
            <a:off x="633240" y="1914480"/>
            <a:ext cx="7804440" cy="474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14200" y="-278280"/>
            <a:ext cx="8786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 уровню, занимаемому в общей системе управления, все руководители подразделяются на руководителей низового звена, среднего и высшего зве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К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ителям</a:t>
            </a:r>
            <a:r>
              <a:rPr b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низового звена</a:t>
            </a: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носят мастеров, старших мастеров, прорабов, начальников небольших цехов, а также руководителей подразделений внутри функциональных отделов и служб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ители среднего звена</a:t>
            </a:r>
            <a:r>
              <a:rPr b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директора предприятий, генеральные директора объединений, начальники крупных цех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ящие работники высшего звена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руководители финансово-промышленных групп, генеральные директора крупных объединений, руководители функциональных отделов министерств, ведомств и их заместите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К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специалистам</a:t>
            </a: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носятся работники, интеллектуального труда (бухгалтеры, экономисты, инжене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Служащие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работники, осуществляющие подготовку и оформление документации, учет и контроль, хозяйственное обслуживание. К ним относятся агенты по снабжению, машинистки, кассиры, делопроизводители, табельщики, экспедито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8760" y="77760"/>
            <a:ext cx="898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14200" y="28080"/>
            <a:ext cx="8715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В зависимости от характера трудовой деятельности персонал предприятия подразделяют п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ям, специальностям и уровню квалифика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я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вид деятельности, требующий определенных знаний и трудовых навыков, которые приобретаются путем общего или специального образования и практического опы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Специальность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вид деятельности в рамках той или иной профессии, который имеет специфические особенности и требует от работников дополнительных специальных знаний и навыков. Например: экономист-плановик, экономист-бухгалтер, экономист-финансист, экономист-трудовик в рамках профессии экономиста. Или: слесарь-наладчик, слесарь-монтажник, слесарь-сантехник в рамках рабочей профессии слесар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я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пределяет уровень знаний и трудовых навыков работника по специальности, который отображается в квалификационных (тарифных) разрядах и категория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7480" y="77760"/>
            <a:ext cx="90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60200" y="257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60200" y="29304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60200" y="3290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357120" y="214200"/>
            <a:ext cx="842976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Производительность труда и методы ее измер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Производительность труд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характеризует эффективность труда в материальном производстве. Это не только один из важнейших показателей эффективности производства, но и показатель, имеющий большое экономическое и социальное значение на макроуров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Производительность труда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это количество продукции, произведенное за определенный период в расчете на одного работника или затраты рабочего времени на единицу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Следует различать понятия производительности и интенсивности труда. При повышении интенсивности труда повышается количество физических и умственных усилий в единицу времени и за счет этого увеличивается количество производимой в единицу времени продукции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Повышение интенсивности труда требует повышения его оплаты. Производительность труда повышается в результате изменения технологии, применения более совершенного оборудования, применения новых приемов труда и не всегда требует повышения заработной плат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9280" y="1494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31840" y="1085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31840" y="2093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31840" y="3749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428760" y="3105000"/>
            <a:ext cx="75722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Рис 1. Производительность и интенсивность труд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1065" descr="http://econpredpr.narod.ru/Pict/Image501.gif"/>
          <p:cNvPicPr/>
          <p:nvPr/>
        </p:nvPicPr>
        <p:blipFill>
          <a:blip r:embed="rId1"/>
          <a:stretch/>
        </p:blipFill>
        <p:spPr>
          <a:xfrm>
            <a:off x="1285920" y="214200"/>
            <a:ext cx="621504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2920" y="149400"/>
            <a:ext cx="900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Трудоемкость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то количество труда, необходимое для выработки единицы продукции. Трудоемкость является характеристикой затратности труда (расходования рабочей сил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качестве измерителей количества произведенной продукции используют натуральные (т, м, м3, шт. и т.д.) и стоимостные показате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ыработка определяется в расчете на одного основного рабочего, на одного рабочего и одного работающ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ри определении выработки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основного рабочего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количество произведенной продукции делится на численность основных рабоч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Если рассчитывается выработка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рабочего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,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количество произведенной продукции делится на суммарную численность основных и вспомогательных рабоч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Для определения выработки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работающего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количество произведенной продукции делится на численность всего промышленно- производственного персонал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357280" y="485784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0" y="5435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где В    - выработка продукции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К     - количество произведенной за период продукции в натуральных или стоимостных измерителях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Ч - численность работников (основных рабочих, основных и вспомогательных, промышленно-производственного персонал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31840" y="365040"/>
            <a:ext cx="891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57120" y="2340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Трудоемкость продукции, как и выработка, может быть рассчитана в разных вариантах. Различают технологическую, производственную и полную трудоемк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Технологическую трудоемкость продукци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находят путем деления затрат труда основных рабочих на количество произведенной ими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изводственную трудоемкость продукци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рассчитывают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делением затрат труда основных и вспомогательных рабочих на количество произведенной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лную трудоемкость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пределяют делением затрат труда промышленно-производственного персонала на количество произведенной продукци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8760" y="149400"/>
            <a:ext cx="898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</a:rPr>
              <a:t>Рынок труда: сущность и механизм функционир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70014"/>
                </a:solidFill>
                <a:uFillTx/>
                <a:latin typeface="Book Antiqua"/>
              </a:rPr>
              <a:t>Труд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 это вклад в процесс производства, осуществляемый людьми в форме непосредственного расходования умственных и физических усил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В условиях рыночных отношений 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«способность к труду»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делает рабочую силу товаром. Этот товар отличается следующими признакам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создает стоимость большую, чем он стои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без его привлечения невозможно осуществлять любое производств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от него во многом зависит эффективность использования основных и оборотн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2920" y="142920"/>
            <a:ext cx="900108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Кадровая политика на предприятии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Управление персоналом связано с разработкой и реализацией кадровой политики, основными целями которой являются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удовлетворение потребности предприятия в кадрах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еспечение рациональной расстановки, профессионально-квалификационного и должностного продвижения кадров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ффективное использование трудового потенциала предприят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Реализация этих целей предполагает выполнение многих функций, а именно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планирование, наем и размещение рабочей силы, включая отбор, ориентацию и адаптац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учение, подготовку и переподготовку работников, повышение квалифика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ценку персонала (проведение аттестации работников, продвижение по службе и организация карьеры)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пределение условий найма, труда и его оплат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мотивацию труда и соблюдение дисциплин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еспечение формальных и неформальных связей, создание благоприятного психологического климата в коллективе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1840" y="293760"/>
            <a:ext cx="891216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Рынок труда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устойчивый социальный институт, результат длительного исторического процесса, в основе которого лежат непрерывный количественный рост и усложнение производительных си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Основные сегменты рынка труда.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дин рынок охватывает рабочие места специалистов с высшим образованием, управляющих и администраторов всех звеньев, высококвалифицированных рабочих. Это высокооплачиваемые группы рабочей силы, имеющие высокий уровень квалификации, надежные гарантии занятости. К нему также относятся рабочие места техников, административно-вспомогательного персонала и работников средней квалифика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Другой рынок охватывает рабочие места, как правило, не требующие специальной подготовки и значительной квалификации. Их занимают работники обслуживания (к ним относят поваров, официантов, медицинский обслуживающий персонал, полицейских, пожарников, прислугу, уборщиков и т.д.), неквалифицированные рабочие, низшие категории служащ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8760" y="0"/>
            <a:ext cx="8985240" cy="76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Трудовой потенциал и трудовые ресурсы, их состав и структура, источники формир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о статистике к рабочей силе в развитых странах относят всех занятых (включая военнослужащих) и безработных. Синонимом понятия является категория «экономически активное население». В статистике под ней обычно подразумевается гражданская рабочая сила, т.е. за исключением военнослужащ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Занятыми являются лица обоего пола, которые в рассматриваемый период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ыполняли работу по найму за вознаграждение на условиях полного либо неполного рабочего времени, а также приносящую доход работу не по найму самостоятельно или с компаньонами, как с привлечением, так и без привлечения наемных работник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ыполняли работу без оплаты на семейном предприят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ременно отсутствовали на работе из-за болезни, ухода за больными, ежегодного отпуска или выходных дней, обучения, учебного отпуска, отпуска без сохранения или с частичным сохранением содержания по инициативе администрации, забастовки, других подобных причи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31840" y="214200"/>
            <a:ext cx="83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14200" y="133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раслевая и профессионально-квалификационная структура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.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В изменениях, происходящих в отраслевой структуре рабочей силы развитых стран в последние десятилетия, прослеживаются две важнейшие тенденции: резкое сокращение численности занятых в сельском хозяйстве и существенное увеличение их в сфере услуг в связи с ее расширением и превращением в ведущую сферу приложения общественного тру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Calibri"/>
              </a:rPr>
              <a:t>Заметна эволюция и в профессионально-квалификационном составе рабочей силы. Само понятие «профессионально-квалификационная структура рабочей силы» неоднозначн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Схема 9" descr=""/>
          <p:cNvPicPr/>
          <p:nvPr/>
        </p:nvPicPr>
        <p:blipFill>
          <a:blip r:embed="rId1"/>
          <a:stretch/>
        </p:blipFill>
        <p:spPr>
          <a:xfrm>
            <a:off x="341280" y="1390680"/>
            <a:ext cx="839484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31840" y="22068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7480" y="2381400"/>
            <a:ext cx="90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5840" y="-181440"/>
            <a:ext cx="8643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и этом под </a:t>
            </a: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ональной структурой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нимается совокупность представителей различных профессий и профессиональных груп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д </a:t>
            </a: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онной структурой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совокупность работников различных уровней квалифик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Содержание квалификации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различных профессий представляет набор требуемых для выполнения данной работы навыков, знаний, опыта, других компонентов квалифик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Говоря о 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онной структуре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, необходимо отметить, что характерной чертой качественной эволюции современной рабочей силы является рост ее образовательного уровн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7480" y="77760"/>
            <a:ext cx="90565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Инвестиции, как источник спроса на труд.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Рыночный спрос на труд есть сумма спроса фирм. Эластичность спроса на труд зависит от эластичности спроса на продукцию фирмы, от производительности труда и от легкости и эффективности замены живого труда машинами.        Спрос на труд отдельной фирмы связан обратной зависимостью с уровнем реальной заработной пла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редложение труда строится рабочими на основе сопоставления привлекательности дохода, который они получают за час труда, и удовлетворения, получаемого за час досуга. Досуг только тогда приносит удовлетворение, когда есть что потреблять. Спрос на досуг определяет предложение труда. Чем выше реальная заработная плата, тем выше потери, связанные с отказом работ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Единого для всей экономики рынка труда не существует. Он делится по профессиям, отраслям, территориям. Работники разных профессий и квалификаций получают разную заработную плату. Зависит она и от места работы. Существуют опасные, неприятные, малопривлекательные виды труда. Условия равновесия на рынке труда в значительной степени определяются государственным вмешательством, а его функционирование связано с профсоюзами и союзами предпринимателей. На предложение труда влияет наличие пособий по безработице, установление минимальных ставок заработной пла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3120" y="285840"/>
            <a:ext cx="88408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       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В ходе накопления происходят существенные изменения в структуре капитала, которые связаны с научно-техническим прогрессом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ти изменения имеют свои последств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о-перв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часть занятых рабочих в данном виде производства может оказаться излишней и уволенной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о-втор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рост технической вооруженности опирается на более сложный по своей квалификации и уровню подготовки труд. Новая техника требует и новых рабочих, умеющих ее использова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третьи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возникают новые рабочие места в отраслях, выпускающих эту новую технику и осваивающих новые технолог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четверт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растет по этой причине занятость населения в посреднических фирмах, оказывающих услуги производству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пят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всем этим процессом вносятся существенные коррективы в систему подготовки и переподготовки кадров специалистов и рабочих основных професси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Заголовок 1"/>
          <p:cNvSpPr/>
          <p:nvPr/>
        </p:nvSpPr>
        <p:spPr>
          <a:xfrm>
            <a:off x="0" y="214200"/>
            <a:ext cx="91440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87480" y="353376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87480" y="50004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285840" y="285840"/>
            <a:ext cx="8286840" cy="68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Заработная плата как категория рынка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Заработная плата как плата за труд выдвигается на первый план потому, что среди всех экономических ресурсов это наиболее дорогостоящий элемент, но и по той причине, что для большинства населения это, по существу, единственный или по крайне мере, главный источник дох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современной экономической теории заработная плата определяется как цена, выплачиваемая за использование труда, при этом термин «труд» рассматривается как широкое понятие.     Он включает в себя оплату труда рабочих самых разных профессий, специалистов всех профилей и владельцев мелких предприятий в сфере обслуживания населения. С последней категорией трудно согласиться. Владелец мастерской по ремонту бытовой техники или парикмахерской является предпринимателем, и поэтому его доход не может принимать форму заработной платы. Ставку платы за единицу времени, объем работы или услуг они определяют сами, исходя из сложившейся конъюнктур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Компьютер</cp:lastModifiedBy>
  <dcterms:modified xsi:type="dcterms:W3CDTF">2012-05-27T15:39:02Z</dcterms:modified>
  <cp:revision>18</cp:revision>
  <dc:subject/>
  <dc:title>Слайд 1</dc:title>
</cp:coreProperties>
</file>