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43D-D1A3-4E5D-BA07-C215778A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F9E-6749-49F7-95B7-7A17CB9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6B0-06E2-4E8B-AED0-9B4F5907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C31-62EF-480E-8B54-AA246EEB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474D-FABA-4EF3-85EC-F4FC0007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5516-ED05-40AB-9221-40A75FBE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0039-3788-4770-97ED-F7158F6D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FC55-13F5-44F0-9AA9-158F1A6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24A7-1661-43F5-8F8E-4AB71E7C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EE9E-F678-4608-BC8E-FF40812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4BB0-8FAF-4373-A953-B315DD2F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8FD-3D32-4E61-B30A-BAA84837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FBB3-01C7-4738-B5F4-30C39CD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B3F0-DFF4-4875-AE83-6DF021B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37FB-63E8-4ED6-B3A6-EFDFEFB6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5DD-DF1E-4893-B297-0F7F5E9D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151F-50E8-4586-94C3-BD493395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3EB-324D-4E7A-8304-F0A3D87E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286-8F14-478C-83DC-CA45D715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DFD-32BE-4D70-97C6-755AF36A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06D-B2B6-4512-8971-9438134D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2FD-3ED2-4BB0-AE7D-968517C0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D65-A1F5-4F74-8C99-C5621BE0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7AA-E997-4E51-ACD0-41A929A0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A11B-B662-48D8-BD56-931337786E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E952-37E1-40B6-91F6-71B3CFE96A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Enterovirus" TargetMode="External"/><Relationship Id="rId2" Type="http://schemas.openxmlformats.org/officeDocument/2006/relationships/hyperlink" Target="http://ru.wikipedia.org/wiki/Enterovirus" TargetMode="External"/><Relationship Id="rId3" Type="http://schemas.openxmlformats.org/officeDocument/2006/relationships/hyperlink" Target="http://ru.wikipedia.org/wiki/Rhinovirus" TargetMode="External"/><Relationship Id="rId4" Type="http://schemas.openxmlformats.org/officeDocument/2006/relationships/hyperlink" Target="http://ru.wikipedia.org/wiki/&#1056;&#1080;&#1085;&#1086;&#1074;&#1080;&#1088;&#1091;&#1089;&#1099;" TargetMode="External"/><Relationship Id="rId5" Type="http://schemas.openxmlformats.org/officeDocument/2006/relationships/hyperlink" Target="http://ru.wikipedia.org/w/index.php?title=Cardiovirus&amp;action=edit&amp;redlink=1" TargetMode="External"/><Relationship Id="rId6" Type="http://schemas.openxmlformats.org/officeDocument/2006/relationships/hyperlink" Target="http://ru.wikipedia.org/w/index.php?title=&#1050;&#1072;&#1088;&#1076;&#1080;&#1086;&#1074;&#1080;&#1088;&#1091;&#1089;&#1099;&amp;action=edit&amp;redlink=1" TargetMode="External"/><Relationship Id="rId7" Type="http://schemas.openxmlformats.org/officeDocument/2006/relationships/hyperlink" Target="http://ru.wikipedia.org/wiki/Aphthovirus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00000" y="1773360"/>
            <a:ext cx="684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корнавирус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84360" y="5950080"/>
            <a:ext cx="646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готовила: Ярмолич Е.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ойчивость к условиям окружающей сре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ус гепатита 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ительно устойчив к внешним услови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ключая тепло, холод, кислотность и воздействие растворителей. Однако его можно инактивировать кипячением в течение как минимум 5 минут, автоклавированием, ультрафиолетовым облучением или воздействием высоких концентраций хлора или формальдег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1600200"/>
          <a:ext cx="4038480" cy="4529880"/>
        </p:xfrm>
        <a:graphic>
          <a:graphicData uri="http://schemas.openxmlformats.org/drawingml/2006/table">
            <a:tbl>
              <a:tblPr/>
              <a:tblGrid>
                <a:gridCol w="1812240"/>
                <a:gridCol w="222624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−70° С до −20°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 в течение нескольких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°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 в течение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°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 в течение одного ч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° С в течение одного час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енно устойч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° С в течение 10 ча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енно инактивиру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° С в течение 5 мину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стью инактивиру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ТНОС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 при высококислотных значениях PH (pH 3) в течение более четырех часов, поэтому не подвержен инактивирующему воздействию желудочного сока после попадания внутрь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ИТЕ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створим в липидах. Устойчив после обработки 20-процентным эфиром при 4° С в течение 24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ЬТРАФИОЛЕТОВОЕ ОБЛУЧ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активир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активируется при обработке хлором в концентрациях выше 1 мг/л в течение 3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ЛЬДЕГИ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активируется при обработке раствором при концентрации 250 мкг/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ини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дром воспаления слизистой оболочки носа. Инфекционный ринит вызывается различными микробами и вирусами; развитию ринита способствует переохлаждение, сильная запыленность и загазованность возду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86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5410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рый рин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озникает как следствие воздействия на слизистую оболочку полости носа вирусной или бактериальной инфекции. Он может сопутствовать острым инфекционным болезням (грипп, корь, скарлатина, дифтерия, гоно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ронический рин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жет быть исходом острого ринита или длительного воздействия неблагоприятных факторов окружающей среды и профессиональных вредностей, а также местного нарушения кровооб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зомоторный рин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бусловлен нарушением нервно-рефлекторных механизмов реакции на рефлекторные раздражения (холодный воздух, резкий запах), что ведет к бурной реакции со стороны слизистой оболочки н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лергический рин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язан с повышенной чувствительностью слизистой оболочки носа к различным экзогенным аллергенам, а также сенсибилизацией к бактериальным и вирусным агентам (инфекционно-аллергическая фор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2781360"/>
            <a:ext cx="32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Патогенез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546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тром рин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вивается катаральное воспаление слизистой оболочки, проявляющееся отечностью тканей, наиболее выраженной в области носовых раковин. Поражение распространяется на обе половины н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роническом катаральном рин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обладают метаплазия и пролиферация слизистой оболочки в области передних концов носовых раковин. В дальнейшем может наблюдаться пролиферация соединительнотканных элементов, гипертрофия стенок сосудов и расширение просвета с вовлечением в процесс надкостницы и 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азомоторном рин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виваются приступы без видимых на то причин, характеризуется утолщением слизистой оболочки, метаплазией эпителия в многослойный плоский, обилием бокаловидных клеток с накоплением в них слизи, отечностью стро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4067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Ящур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330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́щу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трое вирусное заболевание из группы антропозоонозов (инфекционных болезней животных, которыми болеет также и человек), характеризующееся интоксикацией и везикулезно-эрозивным (пузырьково-язвенным) поражением слизистых оболочек ротовой и носовой полостей, а также кожи межпальцевых складок и околоногтевого лож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88000" y="1333440"/>
            <a:ext cx="40957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ство: Пикорнавиру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ании плотности частиц, нуклеотидного состава РНК и стабильности вирусов при разных рН семейство разделено на 6 ро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: 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Enterovir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Энтеровиру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: 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Rhinovir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Риновиру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: 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Cardiovir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Кардиовиру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: 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Aphthovir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Афтовиру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Hepatovir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гепатовиру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Parechovir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арэховиру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588000" y="3500280"/>
            <a:ext cx="240372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194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о, объединяющее маленькие икосаэдрические вирусы высших позвоночных, содержащих одноцепочечную геномную РНК положительной полярности ,устойчивых к эфиру. Размер капсида составляет около 27—30 нм, размер генома — около 7—8 тысяч осн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корнавирус  не имеют суперкапсидной оболочки, их капсид с кубическим типом симметрии построен из 32 капсомеров, не содержит лип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35640" y="1268280"/>
            <a:ext cx="34574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504036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генная структура пикорнавируса характеризуется как типоспецифичными, так и гетеротипичными антиг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корнавирус устойчивы к действию спиртов и 5%-ного р-ра лизола, инактивируются препаратами со свободным остаточным хлором (0,3—0.5 мг/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ча пикорнавируса горизонтальная, в основном через контаминирование  корма, воду и посредством конта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32176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продукция пикорнавиру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икорнавиру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змножаются подобно большинству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+РНК-содержащих виру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Среди них наиболее хорошо изучен полиовирус (возбудитель полиомиелита), имеющий небольшие размеры, голый капсид и однонитевую молекулу +РНК. Адсорбционные возможности полиовиру-са ограничены клетками приматов, имеющих специфические рецепторы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пликация +РН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лностью происходит в цитоплазме клетки. Репродуктивный цикл подразделяют на раннюю и позднюю стад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6651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няя стадия ре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ключает процессы, происходящие после проникновения вируса в клетку до образования большого количества копий +РНК в процессе реплик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дняя стадия ре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ключает синтез белков капсида. Образованные в репликативном синтезе молекулы +РНК функционируют как мРНК, транслируясь в один гигантский полипептид, нарезаемый протеазами на капсидные белки. После самосборки капсидов формируется зрелая дочерняя популяция. Поскольку пикорнавирусы лишены суперкапсида, то высвобождение популяции сопровождается массивным повреждением клеточной мембраны с последующим лизисом инфицированной кле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27640" y="4292640"/>
            <a:ext cx="45306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ножение пикорнавирусов происходит в цитоплазме зараженной клетки. К пикорнавирусам относятся возбудители таких заболеваний как полиомиелит, ринит, ящур, гепатит А ,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арактеристика вируса гепатита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ус гепатита А относится к семейству пикорнавирусы, род гепарнавиру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щательные морфологические исследования показали, что вирус гепатита А не имеет наружной оболочки, но состоит из наружной белковой капсулы,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си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щего внутри положительн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цепочечную РН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структура вируса гепатита A"/>
          <p:cNvPicPr/>
          <p:nvPr/>
        </p:nvPicPr>
        <p:blipFill>
          <a:blip r:embed="rId1"/>
          <a:stretch/>
        </p:blipFill>
        <p:spPr>
          <a:xfrm>
            <a:off x="4859280" y="2205000"/>
            <a:ext cx="428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4186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сид состоит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протоме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ждый из которых составлен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х одинаковых вирусных бел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VP1, VP2, VP3 и VP4. Эти белки имеют различную форму и вес. Когда они связаны между собой, они придают вирусу гепатита А его отличительный тычиночнообразный вид: VP4 с поверхности не ви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схема вируса гепатита A"/>
          <p:cNvPicPr/>
          <p:nvPr/>
        </p:nvPicPr>
        <p:blipFill>
          <a:blip r:embed="rId1"/>
          <a:stretch/>
        </p:blipFill>
        <p:spPr>
          <a:xfrm>
            <a:off x="4643280" y="1628640"/>
            <a:ext cx="41022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Репликация вирус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епатита А трудно вырастить в клеточной культуре, и его репликация происходит медленно. Впервые он был адаптирован к выращиванию в клеточной культуре в 1979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in vivo показали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ус гепатита А не оказывает цитолитического воздействия на клетки печ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иболее вероятной причиной поражения клеток печени при заражении вирусом гепатита А представляется активация цитотоксических опосредованных Т-клетками клеточных иммунных реакций на инвазию и репликацию вир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4:36:00Z</dcterms:created>
  <dc:creator>rorschach</dc:creator>
  <dc:description/>
  <dc:language>en-US</dc:language>
  <cp:lastModifiedBy>rorschach</cp:lastModifiedBy>
  <dcterms:modified xsi:type="dcterms:W3CDTF">2012-09-30T15:11:45Z</dcterms:modified>
  <cp:revision>3</cp:revision>
  <dc:subject/>
  <dc:title>Слайд 1</dc:title>
</cp:coreProperties>
</file>