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353F5-0AA4-4E78-922D-BDCA78419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56231-99A7-4E91-AC3C-6C949ABD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A295D-B57C-4BE6-86D9-11543972C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2D87F-DAC3-4B73-A95C-0C75E25C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C93D-E908-4123-93CB-D2F53459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950F-DC4B-4BD3-88EC-897FDEBB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0DB2-7955-4FB6-8317-7AE5FE37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2525-060E-4795-A08C-CE248F99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1AA5-029B-43A8-AB26-438A84E0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0A72-79A5-4EC7-B317-0747FB8E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FBA0-18C2-4F42-9CA1-531B7989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AD3D6-551E-41A8-A1C1-4028D76A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CB1B-F150-4CD9-BAE0-8AAB90B3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8639-9FF1-4A93-815F-5695E9B2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D53B-5C6C-4AB9-B0E4-C00DF3F9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4C0D-6899-493B-82BC-1137ABC10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1F04-7619-4CD5-862E-8A1282FE2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2D9A4-7C25-4F4C-A0F9-0F2B8C66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10FCF-7474-4FEF-BEC8-9D791367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2E6FA-DE2B-4996-B76C-26DF5260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3651C-8980-4D5D-A638-004BF122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64B17-25F1-4915-A230-C8F9FCC9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73E71-4E80-4E93-B168-2B90D0E1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00F74-FED5-48F5-A99D-71B599FF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DB85-D1BF-49D0-B3CC-234478DE28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4292-61BF-4818-88E7-3879AA74A9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403280" y="1916280"/>
            <a:ext cx="6624720" cy="189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Бешенств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195640" y="6021360"/>
            <a:ext cx="6673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дготовил: Утятников А.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пизоотологические данные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штаммов рабического вируса, поддерживаемых в организме собак или волков, харак­терна высокая тропность к центральной нерв­ной системе и низкая —к висцеральным органам. Поэтому вирус выделяется со слюной, но он отсутствует вкрови, моче, молоке больных живот­ных. Соответственно естественноераспространение бе­шенства среди собак почти полностью зави­сит от классическойцепи передачи укус — ра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лиментарный и аэрогенный пути заражения в принципевозможны, но имеют очень небольшое значение, чаще вообще не играют никакойроли. Почти все случаи передачи бешенства от собак и волков человеку исельскохозяйственным жи­вотных также объясняются попаданием вируссодержащейслюны в раны, нане­сенные при укусах. Однако возможно заражение и при ослюненииповрежденной кож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рус обнаруживают в слюнных железах 54 — 90 % погибших от бешенства собак.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атогенез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заражении восприимчивого животного вирус непро­должительное время сохраняется у места внедрения, а затем по центростремительным нервнымволокнам проникает в спинной и голов­ной моз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множение вируса в серомвеществе мозга обусловливает развитие диффузного негнойного энцефалита. Из мозга по центробеж­ным нервным путям вирус попадает в слюнные железы. Здесь он репродуцирует в нервных узлах и после дегенерации нервных клеток выходит впротоки желез, инфицируя слюну. Из мозга вирус нейрогенным путем транспортиру­ется также в сетчатку и роговую оболочку паз, надпочечники, где, видимо, тоже репродуцируется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линические признаки и течение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кубационный период может варьировать в пределах от несколь­ких дней до года и более, но чаще всего сос­тавляет 3—6 недель. Его продолжительность зависит от места и силы укусов, количества и вирулентности внесенного в рану вируса, степени устойчиво­сти покусанного животного. Срок инкубации у молодняка обычно короче, чем у взрослых живот­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бешенства характерно острое течение. Клинические признаки в принципесходны у животных всех видов, но лучше всего изучены . собак. Бешенство у нихобычно проявляется в буйной или тихой форме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  крупного  рогатого скот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640" y="2707920"/>
            <a:ext cx="7632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обладает паралитическая форма бешенства,   при   которой  признаки   возбуждения   отсутствуют. Животные   отстают  от   стада,   прекращается   жвачка,   затрудняется глотание (это может  стать  поводом для  обследования  полости рта глотки), появля­ется слюнотечение, мычание становится слабым, хриплым,походка шаткой. Часто отмечают ато­нию преджелудков, запор. тем развиваются параличи конечностей. При буйном бешенстве жи­тное  рвется с  привязи,  хрипло ревет,   подняв  вверх  голову,   роет огами землю,бросается на стены, ломает изгороди. Агрессивность   особенно  выражена   по   отношению  к   собакам и   кошкам, отмечают слюнотечение, потливость, частые позывы к мочеотделению дефекации,   не­редко — признаки   полового  возбуждения.   Обессилев, животное   лежит,  совершая   плаватель­ные   движения   конечностями. Следовательно, развиваются параличи мышц нижней челюсти,языка, язык   свисает  изо   рта,   непрерывно  течет  слюна,   задних,  а   затем передних конечностей.На 3 —6-й день болезни наступает смер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&amp;Vcy; &amp;Dcy;&amp;ocy;&amp;ncy;&amp;iecy;&amp;tscy;&amp;kcy;&amp;ocy;&amp;jcy; &amp;ocy;&amp;bcy;&amp;lcy;&amp;acy;&amp;scy;&amp;tcy;&amp;icy; &amp;kcy;&amp;ocy;&amp;rcy;&amp;ocy;&amp;vcy;&amp;ycy; &amp;ucy;&amp;mcy;&amp;icy;&amp;rcy;&amp;acy;&amp;yucy;&amp;tcy; &amp;ocy;&amp;tcy; &amp;bcy;&amp;iecy;&amp;shcy;&amp;iecy;&amp;ncy;&amp;scy;&amp;tcy;&amp;vcy;&amp;acy;"/>
          <p:cNvPicPr/>
          <p:nvPr/>
        </p:nvPicPr>
        <p:blipFill>
          <a:blip r:embed="rId1"/>
          <a:stretch/>
        </p:blipFill>
        <p:spPr>
          <a:xfrm>
            <a:off x="6516720" y="836640"/>
            <a:ext cx="23032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 овец и коз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буйной форме бешенства также отмечают агрессив­ность,особенно по от­но­шению к собакам. Жи­вотные скрежещут зуба­ми, топают ногами,бо­даются. Обычно появля­ются признаки полового возбуждения. Заметнослюнотечение. Быстро развиваются параличи. Со второго дня бо­лезни отмечаютшаткость зада, внезапные падения. На 3 —5-й день болезни живот­ное погибает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 лошадей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е признаки буйной формы болезни — пугли­вость,беспокойство, иногда — расчесывание места укуса. Отмечают час­тые позывы кмочеиспусканию, сильные тенезмы, возможны приступы колик. Приступы буйствахарактеризуются стремлением сорваться с при­вязи, убежать, агрессивностью;иногда появляются признаки полового возбуждения. Буйство сменяется депрессией. Затрудняется глотание, ржание становится хриплым, появляется слюнотечение.Отмечают спазматические сокращения лицевых мышц (особенно жева­тельных). На 2—3-й день болезни становится заметной шаткость зада, а затем развиваются пара­личи мышц задних конечностей и всего тела. Смерть обычно наступает на 3 — 4-й день смомента появления первых признаков заболевания, но иногда — через сутки. Припаралити­ческой форме болезни, которая бывает нередко в случаях заражениялошадей от диких плотоядных, стадия воз­буждения выпадает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ешенство свиней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5770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большинстве случаев протекает в буйной форме. Быстронарастает возбуждение. Свиньи мечутся в станке, хрипло хрюкают, разбрасываютподстилку, становятся агрессивными (иногда свиноматки набрасываются насобственных поросят), появляется сильное слюнотечение. Иногда отмечают рвоту,зуд в местах укусов. Затем развиваются параличи. Общая продолжительность болезни —1—4, редко —6 —7 дней. При паралитическом бешенстве возбуж­дения неотмечают. Больные свиньи становятся вялыми, нарушается координа­ция движений.Вскоре развиваются параличи.</a:t>
            </a:r>
            <a:br>
              <a:rPr sz="2100"/>
            </a:br>
            <a:br>
              <a:rPr sz="24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372360" y="1484280"/>
            <a:ext cx="2381040" cy="190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372360" y="3860640"/>
            <a:ext cx="23810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атологоанатомические измене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пецифичны и имеют определен­ное диагностиче­ское значение лишь с учетом клинических наблюдений. При осмотре трупов часто отмечают исто­щение, находят следы укусов, иногда — расчесов. Шерсть головы и шеи обычно смочена слюной. При вскрытии отмечают застойное полнокровие внутренних органов Желудок обычно пуст, но у плотоядных в нем могут быть различные несъедобные предметы. У жвачных животных обнаружи­вают сухие и плотные кормовые массы в сетке и книжке. Нередко слизистые оболочки желудка и тонких кишок катарально воспалены, местами с кровоизлияниями. Головной мозг и его оболочки отечные, часто — с мелкими кровоизлияниям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иагноз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619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едварительный диагноз ставят с учетом эпизоотологических и клинических показателей Принимают во внимание особенности эпизоотической ситуации в данной местности и соседних районах, учитывают сезонность болезни и данные -анамнеза, свидетельствующие о нападе­нии (или появлении) подозрительных позаболеваний диких животных, собак. Из клинических признаков наиболее важны агрессивность животных, развитие парезов и параличей. Клинико-эпизоотолоческий диагноз дает основания для немедленного проведения мероприятий, предупреждающих возможность заражения людей и животных, но он должен быть уточнен дальнейшими исследованиями.</a:t>
            </a:r>
            <a:br>
              <a:rPr sz="1700"/>
            </a:b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219640" y="2421000"/>
            <a:ext cx="36831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лабораторию направляют труп (или голову) мелкого животного, и   от  крупных — голову   или   головной  мозг.   Труп,   голову  посылают   в   двойных полиэтилено­вых мешках, в металлическом контейнере или в другой влагонепроницаем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ешенств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Lyssavir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емейства Rhabdovirida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будитель бешенства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Rabies viru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32000" y="3789360"/>
            <a:ext cx="6375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офилактика и меры борьб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филактика бешенства сельскохозяйственных животных бази­руется на предохранении от нападения на них диких хищников на пастбищах и фермах. Для охраны используют иммунизи­рованных собак. В районах развитого отгонного и пастбищного животноводства прово­дится мас­совая профилактическая вакцинация крупного рогатого ско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4762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511308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шенств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одобоязнь, гидрофобия (Rabies) — это остро протекающая инфекционная болезнь, характеризующаяся признаками диссеминированного полиоэнцефаломиелит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жным этапом дальнейших научных исследований было открытиеспецифических  включений в нейронах головногомозга (В. Бабеш, 1887, и А. Негри 1903). Мик­роскопическое исследованиеголовного мозга на наличие телец Бабеша -Негри стало основным методомдиагностики бешенств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ёные - исследователи: Н. А. Михин, А. В. Дедюлин, С. Н. Муромцев, Е. В. Туревич Ю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651640" y="620640"/>
            <a:ext cx="2857320" cy="2076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724360" y="314172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50515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и другие рабдовирусы, он имеет пулевидную форму. Длина вирионов — 180 нм, диаметр — 75 — 80 н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рус удается культивировать в развивающихся куриных и утиных эмбрионах, в культурах некоторых клет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таммы возбудителя бешенства, циркулирующие в природе (улич­ный вирус), патогенны для всех теплокровных животн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иболее высоких титрах вирус накап­ливается в центральной нервной системе зараженных животных, особенно в аммоновых рогах икоре больших полушарий головного мозга, в мозжечке и продолговатом мозге. Высокий титр воз­будителя бешенства и в слюнных и слезных железах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67200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920" y="691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личают природный тип бешенства, очаги которого формируются дикими животными (волк, лисица, енотовидная собака, шакал, песец, скунс, мангуст, летучие мыши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родской тип бешенства (собаки, кошки, сельскохозяйственные животные). Большинство случаев смерти людей происходит в результате укуса инфицированной собак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42920" y="4365720"/>
            <a:ext cx="4321080" cy="2376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88000" y="3860640"/>
            <a:ext cx="224964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яются три формы проявления бешенства – буйная, тихая и атипичная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14716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уйная форма протекает в несколько стадий: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На первой стадии животное избегает людей, прячется в темном месте или наоборот очень дружелюбное. При этом возможно проявление зуда на месте укуса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На второй стадии появляется агрессия. Нарастает беспокойство, склонность к поеданию инородных предметов, нападение на других животных и даже на хозяина. Животное не может глотать воду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На третьей стадии появляются судороги, и прогрессирует паралич. Животное почти постоянно лежит и в итоге погибает в коматозном состоянии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300720" y="4629240"/>
            <a:ext cx="2228760" cy="2228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835280" y="4797360"/>
            <a:ext cx="26636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5627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хая форма характеризуется развитием паралича, слюнотечением, неспособностью принимать пищу. Через 2 – 4 дня животное гибнет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типичная форма (сложная в диагностике) – может длиться до 3-х месяцев или даже больше. Вначале может проявляться диареей или наоборот атонией кишечника, депрессией, после чего могут наступать временные улучшени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мертный диагноз устанавливается обнаружением специфических включений – телец Бабеша-Негри при гистологическом исследовании моз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156360" y="2565360"/>
            <a:ext cx="285732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стойчивость.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5699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60 °С вирус инактивируется через 10 мин, при 100 °С — мгновенн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 устойчив к низкимтемпературам и месяцами сохраняется в заморо­женном мозге; в гниющем мате­риале остается жизнеспособным в течение 2 — 3 недел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ирус быстро инактивируется привоздейст­вии обычно используемых дезинфицирующих растворов лизола (1—2 %-ный),щелочей, форма­лина, хлорамина (2 — 3 %-ные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651640" y="4221000"/>
            <a:ext cx="3382920" cy="2428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012000" y="1197000"/>
            <a:ext cx="284292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5:36:54Z</dcterms:created>
  <dc:creator>rorschach</dc:creator>
  <dc:description/>
  <dc:language>en-US</dc:language>
  <cp:lastModifiedBy>rorschach</cp:lastModifiedBy>
  <dcterms:modified xsi:type="dcterms:W3CDTF">2012-09-30T16:53:28Z</dcterms:modified>
  <cp:revision>3</cp:revision>
  <dc:subject/>
  <dc:title>Слайд 1</dc:title>
</cp:coreProperties>
</file>