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46C-AC9D-434A-9B92-D30204CF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719-E6A1-4255-8546-E491D760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7D5-1BF7-439F-BD0F-54FF681C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D73-61FF-4260-9947-8DE75560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E1D6-6365-4A2A-AF3A-D8C58E2C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BDD8-F98E-4A78-96A7-76B4B549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20E7-3C26-48E2-BB18-D9EB784C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1399-77B7-4990-8861-5C97AA0D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02EA-A6F2-450B-9885-16F4F76F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82D8-75A0-4C21-8C10-02EF3C05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3B3B-AE70-47FB-8B02-E4D8E762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F25-BE6E-40F7-B142-0A6C245F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3107-EB79-4831-875B-206B649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0283-02AD-4724-B25C-E8A6DEFF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8947-2BC1-4723-A5EE-C31DEB71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197A-70AF-469C-9E98-00FE52ED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4F35-26D0-4F81-AE6A-3B883B4D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84D-BA31-46DF-B796-D6787CC1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FFB-D294-4863-A94C-1ECC4971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B12-7C91-4A93-801D-F2469DF7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954-914A-432A-9022-2BFB2C2C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3E4-C6DD-4664-93B9-A371142C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789-413C-495C-BD40-3B796BC3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373-E10C-4998-A49F-549EEEA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7563-F244-4408-A8DF-2163A69B185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F01-A14A-46B9-ADC4-44755FD9E6C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Georgia"/>
              </a:rPr>
              <a:t>Парагрипп крупного рогатого скота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995640" y="4724280"/>
            <a:ext cx="48895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: Казбаева З. 10-701-13 Ветеринарная медицина 3 курс Проверила: Орынтаева М.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59328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ражение телят происходит воздушно-капельным путем, перорально, так как установлено выделение вируса с молоком, фекалиями и вагинальными истечениями. Не исключается передача возбудителя половым путем. У стельных коров инфекция может привести к внутриутробному заражению плода, абортам или рождению нежизнеспособных теля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ханизмы передач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горизонтальный, вертикальный. Заболевание чаще возникает в холодное время года. Эпизоотические вспышки болезни возникают после каждого нового поступления животных независимо от сезона года. При неблагоприятных условиях содержания заболеваемость в сравнительно короткие сроки достигает более 70 %, летальность — в среднем 2 %, но может быть значительно выше при смешанных инфекциях (до 20 %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47592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эпизоотолог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гриппозн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нфекции особое значение имеют предрасполагающие (так называемые стрессовые) факторы: перемещение, транспортировка, вакцинация, высокая влажность, сквозняки и т. д., а также наличие в стаде животных-носителей (вирусов — инфекционного ринотрахеита, вирусной диареи, аденовирусной инфекции; бактерий — пастерелл, стрептококков, стафиллококков, протея, микоплазм и хлами-дий). По этой причин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грипп-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упного рогатого ско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ак моно-инфекция практически не регистрируется, а проявляется в виде острой эпизоотии смешанных инфек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-243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imes New Roman"/>
              </a:rPr>
              <a:t>          </a:t>
            </a:r>
            <a:r>
              <a:rPr b="1" lang="ru-RU" sz="4800" spc="-1" strike="noStrike">
                <a:solidFill>
                  <a:srgbClr val="ff99ff"/>
                </a:solidFill>
                <a:latin typeface="Times New Roman"/>
              </a:rPr>
              <a:t>Патогенез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2800" y="1125000"/>
            <a:ext cx="8431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рус, попав на слизистые оболочки дыхательных путей, активно, за счет фермента нейраминидазы и гемагглютинина, внедряется в эпителиальные клетки, где быстро размножается. Затем большое число вирионов выделяется на поверхность слизистых оболочек и поступает в слизь, тем самым разрушая важный защитный барьер — слизистую оболочку, что создает благоприятные условия для секундарной микрофлоры. Движение слизи и воздуха способствует распространению вирусных частиц по всей дыхательной системе с последующим заражением других эпителиальных клето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Основные инфекционные агенты и их 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                  распространённость среди КРС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збудитель                   Распространённость (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анным литературы), 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аны СНГ         Евро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русы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екцион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нотрахеита                     50-67                   35-8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агриппа-3                    60-100                    8-1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русной диареи              45-70                  8-1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птоспиры                       20-25                  9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66ff66"/>
                </a:solidFill>
                <a:latin typeface="Times New Roman"/>
              </a:rPr>
              <a:t>Течение и клиническое </a:t>
            </a:r>
            <a:br>
              <a:rPr sz="4400"/>
            </a:br>
            <a:r>
              <a:rPr b="1" lang="ru-RU" sz="4400" spc="-1" strike="noStrike">
                <a:solidFill>
                  <a:srgbClr val="66ff66"/>
                </a:solidFill>
                <a:latin typeface="Times New Roman"/>
              </a:rPr>
              <a:t>               прояв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нкубационный период болезни 1... 5 дней. Болезнь протекает сверхостро, остро, подостро, хронически, с разнообразными симптомами: от легких ринитов или бронхитов до тяжелой бронхопневмони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Больных животных при эпидемии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убивают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9640" y="1981080"/>
            <a:ext cx="820908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5675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66ff33"/>
                </a:solidFill>
                <a:latin typeface="Times New Roman"/>
              </a:rPr>
              <a:t>Сверхострое течени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наблюдается у телят до 6-месячного возраста и характеризуется резким угнетением животного, коматозным состоянием и гибелью в течение первых суто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7854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Острое теч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опровождается ухудшением аппетита, общим угнетением, учащением дыхания (до 84 дыхательных движений в минуту), пульса (до 130 ударов). Температура тела повышается до 41,6 "С, наиболее высокой она бывает в первые 4 дня болезни. Животные быстро худеют, шерстный покров их становится взъерошенным, тусклым. Со 2...3-го дня болезни у телят появляются кашель и хрипы, из носовых отверстий выделяется серозно-слизистый экссудат, который в дальнейшем может стать слизисто-гнойным. Нередко отмечают слезотечение, возможно обильное слюноотделение. При благоприятном исходе указанные симптомы стихают к 6... 14-му дню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42560" y="907560"/>
            <a:ext cx="7567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 </a:t>
            </a:r>
            <a:r>
              <a:rPr b="0" lang="ru-RU" sz="4000" spc="-1" strike="noStrike">
                <a:solidFill>
                  <a:srgbClr val="cc9900"/>
                </a:solidFill>
                <a:latin typeface="Times New Roman"/>
              </a:rPr>
              <a:t>подостром течен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отмечают те же признаки, что и при остром, но они менее выражены; температура повышается незначительно. Выздоровление наступает к 7... 10-му дню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01120" y="764640"/>
            <a:ext cx="86425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арагрипп КРС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стро протекающая контагиозная вирусная болезнь крупного рогатого скота, главным образом телят, характеризующаяся лихорадкой и поражением органов дыхания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449280"/>
            <a:ext cx="8425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Хроническое теч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результат осложнения острого или подострог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рагрипп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опутствующей инфекцией. Больные малоподвижны, истощены. При передвижении кашляют, из носовых отверстий выделяется тягучий густой экссудат; в легких прослушиваются хрипы. У отдельных телят развиваются энтериты, сопровождающиеся диареей. Развившаяся хроническая бронхопневмония трудно поддается лечению. У взрослых животных болезнь, как правило, не сопровождается симптомами респираторного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33cc"/>
                </a:solidFill>
                <a:latin typeface="Times New Roman"/>
              </a:rPr>
              <a:t>Патологоанатомические </a:t>
            </a:r>
            <a:br>
              <a:rPr sz="4000"/>
            </a:br>
            <a:r>
              <a:rPr b="1" lang="ru-RU" sz="4000" spc="-1" strike="noStrike">
                <a:solidFill>
                  <a:srgbClr val="ff33cc"/>
                </a:solidFill>
                <a:latin typeface="Times New Roman"/>
              </a:rPr>
              <a:t>               признаки</a:t>
            </a: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072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Патолого-анатомические изменения. Обнаруживают подкожные отеки, гиперемию легких, участки уплотнения красного цвета, окруженные зоной эмфиземы. Слизистая трахеи, бронхов, бронхиол гиперемирована и покрыта слизистогнойным экссудатом. Между долями легкого обнаруживают фибринозную ткань. Отмечают отечность, гиперемию или некроз заглоточных, шейных, бронхиальных и средостенных лимфоузлов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иагностика</a:t>
            </a:r>
            <a:r>
              <a:rPr b="0" lang="ru-RU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В лабораторию направляют слизистую носовой полости, бронхи, трахею, легкие, селезенку; у больных со 2 по 5й день стерильным тампоном отбирают серозные истечения из носовой полости и конъюнктивы. Для серологического исследования направляют кровь, которую исследуют в РТГА, РНГА, РИ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Лечени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ля лечения используют гипериммунные сыворотки и сыворотки реконвалесцентов, в которых  имеются антитела  к вирусу ПГ-3  одновременно с антибактериаль -ными и иммуностимулирующими ми    препаратами. Применяют также симптоматические методы лечения. 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219640" y="1989000"/>
            <a:ext cx="3924360" cy="4869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0" y="1989000"/>
            <a:ext cx="4500720" cy="4869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684360" y="37188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и из применяемых препаратов для лечения «Комбовак», «Хипрабовис» и «Таурус». Комплексные препараты для профилактики  значимых вирусных болезней крупного рогатого ско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-243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Times New Roman"/>
              </a:rPr>
              <a:t>Профилактика и меры борьб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Лечение проводят сывороткой крови реконвалесцентов, используют также антибиотики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ля профилактики используют: живую лиофилизированную вакцину «Паравак»; сухую культуральную ассоциированную вакцину против ПГ3 и ИРТ крупного рогатого скота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етеринарно-санитарная экспертиза. Продукты убоя крупного рогатого скота с клиническими признаками болезни выпускать в сыром виде запрещаетс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Историческая справка, распространение, степень опасности и ущерб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первые заболевание описали в США в 1932 г. Скот и Фарлей, установив при этом роль пастерелл в этиологии болезни. Представление о возбудителе болезни изменилось в 1959 г., когда от больных телят был изолирован вирус, сходный по антигенной структуре с вирусом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гриппа-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ПГ-3) человека. В СССР ПГ-3 обнаружен в 1968 г. В настоящее время болезнь зарегистрирована во всех странах мира, где развито промышленное животноводство. Экономический ущерб при ПГ-3 складывается из недополучения потомства и затрат на проведение ветеринарных и лечебно-профилактических мероприят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66ff99"/>
                </a:solidFill>
                <a:latin typeface="Times New Roman"/>
              </a:rPr>
              <a:t>Возбудитель болезн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60128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НК- содержащий вирус из сем. парамиксовирусов. Вирус слегка овальной формы. Инактивируется эфиром, хлороформом, растворами кислот и щелочей, ультрафиолетовыми лучами и нагреванием, но хорошо сохраняется при низких температурах и в лиофилизированном состоянии.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Устойчив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рус не обладает высокой устойчивостью. Он быстро разрушается под действием высокой температуры и УФ-излучения. Прогревание до 56 "С в течение 30 мин ведет к утрате инфекционной и гемагглютинирую-щей активности. Вирус инактивируется при 60 "С в течение 30 мин, при 50 °С — за 120 мин; при обработке раствором формалина и                    р-пропиолактона. На вирус губительно действуют низкие значения р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Эпизоотолог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9520" y="1413000"/>
            <a:ext cx="8934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агриппом обычно заболевают телята в возрасте от 10 дней до 1 года, реже — молодняк старше 1 года. Восприимчивы и взрослые животные, но у них болезнь протекает бессимптомно. </a:t>
            </a: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Источник возбудителя инфекц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больные телята, которые в острой стадии болезни выделяют вирус с выдыхаемым воздухом, носовой слизью, а также с вагинальными истечениями. Наиболее интенсивно вирус выделяется в первые дни болезни, в период выраженных клинических симптомов. </a:t>
            </a: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Резервуаром возбудител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природе служит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рупный рогат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к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761760"/>
            <a:ext cx="8286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рологическими исследованиями установлена широкая циркуляция вируса среди здорового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рупного рогатого скот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всех возрастных групп (80... 100 %), а также у овец, свиней, лошадей, буйволов и птицы многих видов. Наличие широкого носительства возбудителя определяет постоянное и повсеместное сохранение его в природ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2:28Z</dcterms:created>
  <dc:creator>Komp</dc:creator>
  <dc:description/>
  <dc:language>en-US</dc:language>
  <cp:lastModifiedBy>user</cp:lastModifiedBy>
  <dcterms:modified xsi:type="dcterms:W3CDTF">2012-10-11T19:17:20Z</dcterms:modified>
  <cp:revision>7</cp:revision>
  <dc:subject/>
  <dc:title>Парагрипп</dc:title>
</cp:coreProperties>
</file>