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2.jpeg" ContentType="image/jpeg"/>
  <Override PartName="/ppt/media/image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11.png" ContentType="image/pn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7.jpeg" ContentType="image/jpeg"/>
  <Override PartName="/ppt/media/image30.png" ContentType="image/png"/>
  <Override PartName="/ppt/media/image5.png" ContentType="image/png"/>
  <Override PartName="/ppt/media/image35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png" ContentType="image/png"/>
  <Override PartName="/ppt/media/image8.png" ContentType="image/png"/>
  <Override PartName="/ppt/media/image18.png" ContentType="image/png"/>
  <Override PartName="/ppt/media/image6.jpeg" ContentType="image/jpeg"/>
  <Override PartName="/ppt/media/image3.png" ContentType="image/png"/>
  <Override PartName="/ppt/media/image26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D4C-2325-49B8-8A3D-B6714D2C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2CC-0FD2-45F9-9EF8-786B525C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E60-5B44-4ECF-A45E-A1665F1D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AD3C-AE7E-445A-B84A-6F13BAE2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CAE0-700B-4595-A460-9F94E396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7D86-1BC3-4332-BC61-398A2483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54F4-EBE5-4193-B207-8B84582D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B717-542C-4CCA-981B-1ED14B8E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ED65-82C8-4D5C-98D3-ED7C0700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A535-0CEC-4787-B52C-F1BF0F5C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37D1-52DF-47FC-A919-AC82AA07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D612-9714-4DDC-B45D-7A290C9F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1128-7BEE-4739-ABB5-6CD42D23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5FAA-0368-49D9-AB03-D77CEA12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91CB-035F-4503-91D4-3C99480A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E0BB-BC7D-45EB-946F-5C8538EE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9E90-27EE-4ADA-A971-FD7C0F1B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11858-DB59-4C71-887B-E8D1BCDB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88F03-E7C5-4386-B64E-D670A95E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D5B8B-068B-4382-83FA-8ECA58EA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946AD-6FFD-42F3-9713-F5FDB851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9C447-5636-4EFC-B734-E5CE090B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6CF-B8CF-4CAE-9D2E-B24C64DC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9EBC2-64BB-420C-9D68-2EFEC621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EE1BB-4BF8-44EC-B066-8990143D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5DA75-F5D9-4038-8E1B-0D60189B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EE0EB-897E-4FB0-98A3-9F72EEA5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0AAAA-A6F8-47EA-A138-3BF94352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BD70F-D01C-43ED-9E03-B3B96317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77AA7-CCAC-4FD6-90FA-D09D274D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C6A78-D2F6-476D-9A85-C9990F3C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9DC0D-F020-426C-99FB-A49E24E3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6EF57-9126-4040-945E-FB4D6BDD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BD4F-CACD-4F10-B422-2D1675BC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0E37F-C015-4E50-A6EF-51924CDD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0C64E-5FB0-42A8-9CC5-4CEE5308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584A0-E66D-47A2-BCBA-BD53DD94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7B420-4F3F-4D74-9FC5-0A8D408D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16D76-03F2-4950-A98B-C38FD327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466EF-962B-4907-B5B9-BD1F85CD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4E733-3118-4554-8E2D-5E1C911E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DB81C-3613-4160-9572-78E35970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92D5D-D763-4B0A-81AD-85F5DFBD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5A6E4-808F-40CE-A334-089CF8D2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D514-0D12-41E7-B104-640C2DB0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16D15-C142-4B12-BD71-78693DC6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EFBEC-0A63-47C4-8C1A-6C781DDE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8F2C7-D9B9-463E-B265-F1A10A3E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74EB2-3BE9-44AA-B24D-B8EB9A46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10570-7E7F-473F-9D09-79AB3C7E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A2455-2992-46D3-A3C9-F6BAA20A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378A1-3D08-4A02-914D-A1353761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91D8E-5C35-4898-8240-6E2BB04E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D476A-0670-49CD-A7BE-0591F5FD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79C62-26FA-481D-A132-21D458DB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30D-C0F1-4C69-89A9-CC0E8AF1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9E3D4-EB5A-4D5F-8C03-2B592502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1CB4-BFEC-435B-B43E-3DA14E9A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875-7C0F-4505-A0AC-3653B871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5129-F80F-403D-BD40-674C3F01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323C-2DFE-4C27-B921-13174F857CB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11DC-E487-4430-AB2A-74ECF7F7EC9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F5A2-A4CC-4979-9BBB-918957EA9C3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552C-243E-4E6A-BF02-2BD41AAB1328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B5DD-5DA5-4927-919D-9643D160B3C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755800" y="285840"/>
            <a:ext cx="6418440" cy="528624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2" descr="20718_original.jpg"/>
          <p:cNvPicPr/>
          <p:nvPr/>
        </p:nvPicPr>
        <p:blipFill>
          <a:blip r:embed="rId2"/>
          <a:stretch/>
        </p:blipFill>
        <p:spPr>
          <a:xfrm>
            <a:off x="4286160" y="1429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убационный период при экспериментальном заражении- 3-4, при естественном течении - 2-7 дней, реже - до 15. Болезнь может протекать в сверхострой, острой, подострои и хронических формах. Сверхострое течение характеризуется высокой лихорадкой (до 42°С), сильным угнетением, одышкой, полным истощением. Животные больше лежат. Гибель наступает через 24-72 ч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Рисунок 3" descr="pigs_meat36.jpg"/>
          <p:cNvPicPr/>
          <p:nvPr/>
        </p:nvPicPr>
        <p:blipFill>
          <a:blip r:embed="rId2"/>
          <a:stretch/>
        </p:blipFill>
        <p:spPr>
          <a:xfrm>
            <a:off x="785880" y="3571920"/>
            <a:ext cx="714384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 острой форме наблюдают повышение температуры тела до 40,5-42,0° С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гнетенное состояние, шаткую походку, иногда парез задней части туловища, больных животных отмечают выраженную лейкопению, а также признаки поражения органов дыхания: дыхание становится коротким, учащенным, прерывистым и сопровождается кашлем. Иногда развивается гнойно-слизистый конъюнктивит. Часто наблюдают обильные кровотечения из носа, а также сбразование обширных гематом в области паха, лопаток, т. е. в местах наиболее подвижных групп мышц. Передвигаться такие животные не могут, они больше лежат, при понуждении встают, но при этом у них отмечают хромоту. Нередко наблюдают цианоз кожи ушных раковин, конечностей, подгрудка и живота. У свиней появляется запор или понос, иногда с примесью крови. Супоросные свиноматки абортируют. За день до гибели животного температура тела снижается. Гибель обычно наступает на 3-5-й день после повышения температуры тела. Выздоравливают свиньи редко (1-2%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иагноз ставят на основе эпизоотологических, клинических, патологоанатомических данных, а также результатов лабораторных исследований. По клиническим и патологоанатомическим признакам очень трудно дифференцировать африканскую чуму свиней от классической. Постановку предположительного диагноза на африканскую чуму может облегчить то обстоятельство, если заболевание с высокой лихорадкой и ярко выраженным геморрагическим диатезом протекает среди поголовья, иммунизированного против классической чумы. Окончательный диагноз может быть поставлен только после проведения всесторонних лабораторных исследовани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357360" y="928440"/>
            <a:ext cx="442908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rebuchet MS"/>
              </a:rPr>
              <a:t>В качестве лабораторных методов диагностики используют реакции гемадсорбции, угнетения гемадсорбции и иммунофлуоресценции. При необходимости проводят биологическую пробу на свиньях, иммунизированных против классической чумы. 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При африканской чуме с положительными результатами испытание и такие методы диагностики, как РДП, РСК и РН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Рисунок 3" descr="drug-screenings.jpg"/>
          <p:cNvPicPr/>
          <p:nvPr/>
        </p:nvPicPr>
        <p:blipFill>
          <a:blip r:embed="rId1"/>
          <a:stretch/>
        </p:blipFill>
        <p:spPr>
          <a:xfrm>
            <a:off x="1000080" y="1857240"/>
            <a:ext cx="20620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Содержимое 3" descr="c8i1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457200" y="298440"/>
            <a:ext cx="7242120" cy="14209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5114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снована на способности сыворотки крови переболевших свиней ингибировать гемадсорбцию. В зараженных культурах клеток в присутствии положительной сыворотки, как и в контрольных, происходят образования включений, цитолиз и одинаковое накопление вируса, но наблюдается задержка гемадсорбц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5572080" y="1928880"/>
            <a:ext cx="25718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57200" y="298440"/>
            <a:ext cx="7242120" cy="1420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едложена для обнаружения антигена вируса африканской чумы в культуре ткани почек свиней. Через 10 ч после инокуляции культуры вирусный антиген обнаруживают с помощью метода флуоресцирующих антите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Цитопатический эффект проявляется на 86-м часу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457200" y="298440"/>
            <a:ext cx="7242120" cy="142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ущность метода заключается  в соединений специфических иммуноглобулинов африканской чумы свиней, меченных флуроесценнзотицианатом со специфическим антигеном вируса АЧС в зараженных клетках и обнаружении комплекса антигена- антитело люминесцентной микроскопи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сходным патологическим материалом, используемым в реакции гемадсорбции, является дефибринированная кровь или 10-процентная суспензия селезенки и лимфоузлов от свиней, подозреваемых в заболевании. Контролем служит дефибринированная кровь или суспензия 1 : 10 селезенки или лимфоузлов от заведомо здоровых свиней. Испытуемым материалом заражают культуры лейкоцитов с нормальной морфологией. Гемадсорбция характеризуется прочным прикреплением эритроцитов к поверхности лейкоцитов, которые при инкубировании в течение 48-72 ч и более отслаиваются от стек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еакция считается положительной, если в культурах лейкоцитов, инокулированных испытуемым материалом, гемадсорбция проявляется на 2-5-е сутки после заражения, а ЦПД •- через 3-7 суток при отсутствии гемадсорбции и цитопатогенного действия в контрол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заражении культур лейкоцитов вирусом классической чумы гемадсорбции не наступает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ля дифференциальной диагностики африканской чумы от классической ставят биологическую пробу на подсвинках, не восприимчивых к вирусу классической чумы. Для опыта отбирают три группы подсвинков, по 4 головы в каждой: I группа - подсвинки, вакцинированные против классической чумы вакциной АСВ (не ранее двух недель после вакцинации); II группа - подсвинки, привитые противочумной гипериммунной сывороткой в увеличенных доеах; III группа - контроль. Всех животных заражают суспензией испытуемого патологического материала. Если заболевание вызвано вирусом африканской чумы, то заболевают и гибнут животные всех трех групп. Если заболевание вызвано вирусом классической чумы, то заболевают лишь контрольные свиньи III группы, а животные I и II групп остаются здоровым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1785960" y="50004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Биологическая проб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АФРИКАНСКАЯ ЧУМА (Pestis africana suum)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высококонтагиозное инфекционное заболевание, проявляющееся высокой лихорадкой, явлениями острого токсикоза, геморрагического диатеза в органах и тканях и большой летальностью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Рисунок 3" descr="1292507280_svinya7-1.jpg"/>
          <p:cNvPicPr/>
          <p:nvPr/>
        </p:nvPicPr>
        <p:blipFill>
          <a:blip r:embed="rId1"/>
          <a:stretch/>
        </p:blipFill>
        <p:spPr>
          <a:xfrm>
            <a:off x="500040" y="4214880"/>
            <a:ext cx="72867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становку биологической пробы проводят в специально оборудованных изоляторах научно-исследовательских учреждений и только с разрешения Главного управления ветеринарии Министерства сельского хозяйств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Рисунок 4" descr="afrikanskaja-chuma-svinej.jpg"/>
          <p:cNvPicPr/>
          <p:nvPr/>
        </p:nvPicPr>
        <p:blipFill>
          <a:blip r:embed="rId1"/>
          <a:stretch/>
        </p:blipFill>
        <p:spPr>
          <a:xfrm>
            <a:off x="2786040" y="4071960"/>
            <a:ext cx="38577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308720" cy="13953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проведения исследований от вынужденно убитых больных и павших свиней берут пробы органов и тканей – лимфатических узлов( подчелюстной, протальный), селезенки, легкого, крови и костного мозга. Пробы берут не позднее чем через  10 ч  после гибели. Пробы органов и крови хранят и транспортируют в термосе при 4-8 С не более24 ч после отбора. При более длительном хранении пробы замораживают. Мазки со слизистой оболочки рта и носоглотки рекомендована брать с помощью универсальных одноразовых зондо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6840" y="1609200"/>
            <a:ext cx="55436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Летальность при африканской чуме свиней довольно высокая и иногда доходит до 100%. Единичные животные, которые выздоравливают, приобретают невосприимчивость к повторному заражению гомологичным штаммом вируса, но заболевают при заражении гетерологичными штаммами. В сыворотке крови переболевших свиней образуются комплементсвязывающие и преципитирующие антитела, а также антитела, ингибирующие реакцию гемадсорб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8" name="Рисунок 3" descr="79031_20080515123601.jpg"/>
          <p:cNvPicPr/>
          <p:nvPr/>
        </p:nvPicPr>
        <p:blipFill>
          <a:blip r:embed="rId2"/>
          <a:stretch/>
        </p:blipFill>
        <p:spPr>
          <a:xfrm>
            <a:off x="5929200" y="2143080"/>
            <a:ext cx="30481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ффективных средств лечения не разработано. Переболевшие свиньи длительное время остаются носителями и выделителями вируса. В связи с этим лечение больных африканской чумой свиней запрещен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Рисунок 3" descr="afrikanskaya_chuma_svinei.jpg"/>
          <p:cNvPicPr/>
          <p:nvPr/>
        </p:nvPicPr>
        <p:blipFill>
          <a:blip r:embed="rId2"/>
          <a:stretch/>
        </p:blipFill>
        <p:spPr>
          <a:xfrm>
            <a:off x="2143080" y="4071960"/>
            <a:ext cx="42768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631280" cy="1395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ероприятия по предупреждению и ликвидации африканской чумы свиней регламентированы инструкцией, утвержденной Главным управлением ветеринарии Министерства сельского хозяйства . Они направлены на предупреждение заноса возбудителя болезни в нашу страну, а также на своевременную и быструю ликвидацию ее в случае появле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28400" y="428760"/>
            <a:ext cx="77151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Если возникает подозрение на африканскую чуму свиней, руководитель и ветеринарный специалист хозяйства обязаны: 1) изолировать больных и подозреваемых в заболевании свиней в том же помещении, где они находились, закрепить за ними отдельный обслуживающий персонал и запретить доступ в помещение посторонним лицам; 2) запретить выезд транспорта, выход обслуживающего персонала без санитарной обработки, вывоз всех видов животных, а также продуктов ил убоя с территории хозяйства и фермы; 3) немедленно поставить в известность о возникновении подозрения на заболевание главного ветврача района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Рисунок 5" descr="1240302427-Vspyshkaafrikanskoi4umysvineivRostovskoioblastipodavlena.jpg"/>
          <p:cNvPicPr/>
          <p:nvPr/>
        </p:nvPicPr>
        <p:blipFill>
          <a:blip r:embed="rId1"/>
          <a:stretch/>
        </p:blipFill>
        <p:spPr>
          <a:xfrm>
            <a:off x="1928880" y="3929040"/>
            <a:ext cx="4500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7" name="Содержимое 3" descr="115_sv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9" name="Содержимое 3" descr="r2hwu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Содержимое 3" descr="1x6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айте определение болезни АЧС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ирус содержит ДНК или РНК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ие методы диагностики используют для выявление вируса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уществует ли эффективные средства лечения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является пат материалом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457200" y="298440"/>
            <a:ext cx="7242120" cy="1165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олезнь известна с начала XX века, с первых попыток интродукции свиней культурных пород в колониальные страны субэкваториальной и южной Африки. Впервые зарегистрирована в 1903 году в Южной Африк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6840" y="1609200"/>
            <a:ext cx="754380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rebuchet MS"/>
              </a:rPr>
              <a:t>Возбудитель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африканской чумы свиней —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rebuchet MS"/>
              </a:rPr>
              <a:t>ДНК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-содержащий вирус семейства </a:t>
            </a:r>
            <a:r>
              <a:rPr b="0" i="1" lang="ru-RU" sz="2200" spc="-1" strike="noStrike">
                <a:solidFill>
                  <a:srgbClr val="000000"/>
                </a:solidFill>
                <a:latin typeface="Trebuchet MS"/>
              </a:rPr>
              <a:t>Asfarviridae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, рода </a:t>
            </a:r>
            <a:r>
              <a:rPr b="0" i="1" lang="ru-RU" sz="2200" spc="-1" strike="noStrike">
                <a:solidFill>
                  <a:srgbClr val="000000"/>
                </a:solidFill>
                <a:latin typeface="Trebuchet MS"/>
              </a:rPr>
              <a:t>Asfivirus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; размер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rebuchet MS"/>
              </a:rPr>
              <a:t>вириона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175—215 нм. Установлено несколько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rebuchet MS"/>
              </a:rPr>
              <a:t>сероиммуно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- и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rebuchet MS"/>
              </a:rPr>
              <a:t>генотипов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вируса африканской чумы свиней. Его обнаруживают в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rebuchet MS"/>
              </a:rPr>
              <a:t>крови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rebuchet MS"/>
              </a:rPr>
              <a:t>лимфе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, во внутренних органах,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rebuchet MS"/>
              </a:rPr>
              <a:t>секретах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и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rebuchet MS"/>
              </a:rPr>
              <a:t>экскретах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больных животных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Рисунок 3" descr="67_812-1213702232.jpg"/>
          <p:cNvPicPr/>
          <p:nvPr/>
        </p:nvPicPr>
        <p:blipFill>
          <a:blip r:embed="rId2"/>
          <a:stretch/>
        </p:blipFill>
        <p:spPr>
          <a:xfrm>
            <a:off x="2500200" y="3929040"/>
            <a:ext cx="3286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6867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заболеванию чумы восприимчивы домашние свиньи всех пород и возрастных групп, а также дикие свиньи. Лабораторные животные и другие виды сельскохозяйственных животных к вирусу африканской чумы не восприимчивы. В экспериментальных условиях заражение свиней легко удается при подкожном, внутримышечном, интраназальном и аэрогенном методах введения вируса. В естественных условиях наиболее вероятен алиментарный путь заражения. Чаще всего заражение происходит при непосредственном контакте больных животных со здоровыми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 передачи возбудителя — корм, пастбища, транспортные средства, загрязнённые выделениями больных животных. Использование в корм необезвреженных столовых отходов способствует распространению возбудителя. Резервуарами вируса в природе являются африканские дикие свиньи и клещи рода орнитодорос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Важнейшей эпизоотологической особенностью («коварством») африканской чумы свиней является чрезвычайно быстрое изменение форм течения инфекции среди домашних свиней от острого со 100 % летальностью до хронического и бессимптомного носительства и непредсказуемого распространени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Содержимое 3" descr="ach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Содержимое 3" descr="81a3048332b9dfb679c6d1e706da0c3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ирус хорошо сохраняется при высушивании и замораживании, а также в условиях гниения. При температуре 5° С вирус остается жизнеспособным до семи  лет, при комнатной температуре - от 2 до 18 мес, при 37° С до 30 дней, при 55° С- 15 мин. Во внешней среде вирус может сохраняться до 18 мес, в почве- 190 дней, в фекалиях - до 160 дней, в летнее время в недезинфицированных свинарниках - до трех недель. При рН 5,3 вирус снижает свою инфекционную активность на 99%. Наиболее благоприятной средой для сохранения и размноже ия вируса является рН 7,3-9,0. В дефибринированной крови он сохраняет свою 1Ктивность при 4° С в течение 6 лет, культуральный вирус при этих же услови1- з года. В замороженном и копченом мясе вирус остается вирулентным до 5 мес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озбудитель африканской чумы довольно устойчив к некоторым химическим веществам: 1-процентный раствор толуола при 4° С инактивирует вирус за 98, В-процентный раствор хлороформа - за 85 дней; формалин, добавленный к вирулентной крови в концентрации 1%, инактивирует вирус в течение 6 дней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Рисунок 3" descr="___20120222050.png"/>
          <p:cNvPicPr/>
          <p:nvPr/>
        </p:nvPicPr>
        <p:blipFill>
          <a:blip r:embed="rId2"/>
          <a:stretch/>
        </p:blipFill>
        <p:spPr>
          <a:xfrm>
            <a:off x="6072120" y="214200"/>
            <a:ext cx="283068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3" descr="14658.jpeg"/>
          <p:cNvPicPr/>
          <p:nvPr/>
        </p:nvPicPr>
        <p:blipFill>
          <a:blip r:embed="rId1"/>
          <a:stretch/>
        </p:blipFill>
        <p:spPr>
          <a:xfrm>
            <a:off x="5786280" y="2071800"/>
            <a:ext cx="2998800" cy="3387600"/>
          </a:xfrm>
          <a:prstGeom prst="rect">
            <a:avLst/>
          </a:prstGeom>
          <a:ln w="0">
            <a:noFill/>
          </a:ln>
        </p:spPr>
      </p:pic>
      <p:pic>
        <p:nvPicPr>
          <p:cNvPr id="239" name="Заголовок 1" descr=""/>
          <p:cNvPicPr/>
          <p:nvPr/>
        </p:nvPicPr>
        <p:blipFill>
          <a:blip r:embed="rId2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785600"/>
            <a:ext cx="51148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ри интраназальном заражении поросят вирус через 24 ч обнаруживают в подчелюстных лимфатических узлах и миндалинах, через 48 ч в селезенке, эритроцитах и клетках белой крови, а через 3-7 дней - почти во всех органах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Характерными в патогенезе африканской чумы являются кариорексис лимфоцитов, ранняя лейкопения и значительное накопление вируса в лимфридной ткани. Эти явления обусловливают поражения кровеносной системы, что проявляется в появлении многочисленных кровоизлияний и геморраги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20:21:21Z</dcterms:created>
  <dc:creator>Admin</dc:creator>
  <dc:description/>
  <dc:language>en-US</dc:language>
  <cp:lastModifiedBy>Windows 7</cp:lastModifiedBy>
  <dcterms:modified xsi:type="dcterms:W3CDTF">2012-10-03T10:42:00Z</dcterms:modified>
  <cp:revision>43</cp:revision>
  <dc:subject/>
  <dc:title>АФРИКАНСКАЯ ЧУМА (Pestis africana suum)</dc:title>
</cp:coreProperties>
</file>