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move the slide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53A-D0B5-406C-AF90-561BFB2B54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1D73-80DB-4EBA-AC2D-7B2C1AEB7E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908-9ACF-4167-B7A5-E5603821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A3F-4177-4F6E-8D62-25A7E58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77B-D2DE-4691-84E9-72FD22EE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CA7-F048-4A65-A9DE-69A21234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458-E440-4020-8100-659F31DF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6C0F-6A36-4DE8-8AAC-1B921F1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BE2-1B17-41D6-905D-BB3AFAEC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AB85-EE4A-470A-96A7-0E599B32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77A4-DF5F-445C-9CF3-A324AA21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0B80-11A7-4F46-A549-AEE2384D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3459-1308-4108-86E5-651A6D03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7B5-208B-4331-ADAB-5538F47D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2972-BD9C-4087-9CC2-A475513C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93CB-93B5-4D63-9CC2-F9E611EE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2E2A-C01D-43E7-BBA2-0B7D9D83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6FDC-EAD1-41A2-BC7E-2C4BF3EF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5521-14BD-4B41-99E3-DFFAB7D8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0329-1E51-4FEE-B6DA-4C8A7192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1728-8C6C-4511-899E-60F0B52E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5C84-B88A-46D4-8B48-66D5532C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242E-4FFE-44FA-9467-D20B45DA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7789-19F1-4148-ACB0-C2F2875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DAD-74B2-4B1A-901D-1D9348FC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8A1E-0A82-4648-8066-4763FEC1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4CCF-F6AE-4951-9631-117EBE4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E301-7AFF-4D14-88B6-E61E7B5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3E1E-AB29-4E74-8C12-3145546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4DB3-B05F-40FC-AA6B-E53F76F9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003E-B769-4A31-A151-EA914F33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5730-06E0-4BE1-8DD6-B1CD7AB9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E5DF5-2DD3-4CBC-BA6F-2E4BA114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31F8-566E-40BA-8126-75B97C62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16BC-72CB-4D4B-8E75-2E48E877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331-E1AB-4319-B5D1-98809E50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7D87-BCE8-4CD0-A0FC-695EB04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D730-1359-4288-9926-E6145CFF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AA3A-D233-467B-B1B4-44ACB5CF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CE48-515C-4F89-8175-5A133B20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1A9C-01B3-4A00-B1D3-862A5A40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879C-39E2-4001-87E0-E691D08C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ECFEE-782D-46C3-80D2-93350912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10AF-C9DF-42E4-93B3-89788B17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84B9-4CB3-49EF-A639-7E1E8D58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8518B-C1A8-4BFE-8F76-7F98C78E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849-6607-44FC-8B96-8E744D94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5D9D-5FA0-49CD-A43F-15C3D6AD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A097-3FC9-448B-88DF-13D1D44C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624BA-1A17-423E-84F6-45A397F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1827-5942-46E9-A830-65DFEF2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3F28-8527-4E3E-90FF-70FFC133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B910D-050D-49BD-AFDE-05FF00B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BAD9-3C6D-44F2-8858-1DE3AAA1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A939-27D3-4423-A494-ACE19C6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9495-798E-4703-B6AA-4DADCE3E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39D4-B196-427E-8157-E3AADC97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721-7D01-4046-A0E0-B0AF8131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899B-E157-4C11-9728-10F8A962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A560-9CD7-4F6F-A663-482C2C70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D752-0ED3-4091-8BED-9A7FBC95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C884-9C6A-494C-A59B-2CDE7AF5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07A3-9DDD-46F3-BC8F-173E52D9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36ADF-D8E0-4DC8-B4D7-08E81056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58DA0-ADAC-46C2-88DF-BF794EF3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B4A5F-798B-4699-9CD5-A90BC2F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BB743-ACF6-465F-A934-8CEEEFF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AE25-E3C1-4254-B5C6-A341652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631-209D-484A-BC25-9CF742D0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2EB5-566F-4D83-92F7-6C428DDB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12E6E-EBD0-4AC3-B828-0B3915FD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4D08-A1B1-4C5A-BC7C-14FFCFF0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8472-509A-45B7-A2BD-1DEF9FAC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6AE3-FC0F-4223-A8B4-4604C89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6DC2-D1E7-4F77-A436-FB201DD5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4BE3-C9F2-453B-A55A-2EB35B31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DC699-6B7D-424E-BF62-F0038C8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EB10-C006-46C5-AA36-5EE9113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B9A0-CDC9-4726-A235-0AE9DDD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50A-BD85-4993-8D58-2E6855C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2919D-89C1-4D7C-BBA4-6F0C4E8C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8A2B5-177F-45AE-8077-5CC868D2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349EA-3862-4694-8C9D-C6F9EFA6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0DD4C-A1F2-49BB-AD13-278F9588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4151F-A8EE-4542-BD8C-E696E355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AA8-34B9-497C-AD6C-B672ACF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A5F5-A55A-4A74-94B3-D85148D801A5}" type="slidenum">
              <a:rPr b="0" lang="ru-RU" sz="12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DF02-2FEC-42EF-904C-D2A9F8079825}" type="slidenum">
              <a:rPr b="0" lang="ru-RU" sz="12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cb40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67729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65709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67729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772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20E-FD47-4BCA-BB04-4D727E6B6DA6}" type="slidenum">
              <a:rPr b="0" lang="ru-RU" sz="12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8B6F-9EF9-42C0-B33B-69F330A245CE}" type="slidenum">
              <a:rPr b="0" lang="ru-RU" sz="12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772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9347-0D52-454A-9F2D-68C146E0CCB9}" type="slidenum">
              <a:rPr b="0" lang="ru-RU" sz="12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22BA-BDEE-42F7-8D4A-518CB6BE5A71}" type="slidenum">
              <a:rPr b="0" lang="ru-RU" sz="12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274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d4e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9800" indent="-285840">
              <a:spcBef>
                <a:spcPts val="700"/>
              </a:spcBef>
              <a:buClr>
                <a:srgbClr val="ccb40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95400" indent="-228600">
              <a:spcBef>
                <a:spcPts val="700"/>
              </a:spcBef>
              <a:buClr>
                <a:srgbClr val="ccb4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260360" indent="-228600">
              <a:spcBef>
                <a:spcPts val="700"/>
              </a:spcBef>
              <a:buClr>
                <a:srgbClr val="8cadae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81040" indent="-209520">
              <a:spcBef>
                <a:spcPts val="700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D4CE-90ED-4A24-8C91-72C32967437A}" type="slidenum">
              <a:rPr b="0" lang="ru-RU" sz="12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175280"/>
            <a:ext cx="8210520" cy="2146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cd4e0"/>
                </a:solidFill>
                <a:latin typeface="Century Schoolbook"/>
              </a:rPr>
              <a:t>Патоморфология</a:t>
            </a:r>
            <a:r>
              <a:rPr b="0" lang="ru-RU" sz="4000" spc="-1" strike="noStrike">
                <a:solidFill>
                  <a:srgbClr val="bcd4e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строй форме болезни отмечают септицемию и гемостаз внутренних органов: кровоизлияния в паренхиматозные органы, серозные оболочки кишечника, особенно часто по выводным протокам желез. Характерным для данного заболевания являются кровоизлияния на границе железистого желудка с мышечным, а также на слизистой илеоцекального соединения.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bm_10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1500120" y="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Поражение сердца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bm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4"/>
          <p:cNvSpPr/>
          <p:nvPr/>
        </p:nvSpPr>
        <p:spPr>
          <a:xfrm>
            <a:off x="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ражение поджелудочной железы и двенадцатиперстной кишки 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bm_3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4"/>
          <p:cNvSpPr/>
          <p:nvPr/>
        </p:nvSpPr>
        <p:spPr>
          <a:xfrm>
            <a:off x="21420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Поражение печени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bm_1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"/>
          <p:cNvSpPr/>
          <p:nvPr/>
        </p:nvSpPr>
        <p:spPr>
          <a:xfrm>
            <a:off x="0" y="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дулярный опухолевый процесс в печени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cd4e0"/>
                </a:solidFill>
                <a:latin typeface="Century Schoolbook"/>
              </a:rPr>
              <a:t>Эпизоотология 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В</a:t>
            </a:r>
            <a:r>
              <a:rPr b="1" lang="ru-RU" sz="3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естественных условиях к болезни Марека наиболее чувствительны куры. Могут заражаться индейки, фазаны, лебеди, щеглы, горлицы, которые служат резервуаром вируса и принимают участие в распространении болезни. 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928440"/>
            <a:ext cx="77724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Болезнь Марека относится к числу высококонтагиозных инфекций, но протяженность и степень развития патологического процесса зависят от возраста, пола, генетической предрасположенности, принадлежности птицы к определенным линиям и семействам, состояния пассивного иммунитета, вирулентности штамма, дозы вируса и способа заражения.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4e0"/>
                </a:solidFill>
                <a:latin typeface="Century Schoolbook"/>
              </a:rPr>
              <a:t>Устойчивость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entury Schoolbook"/>
              </a:rPr>
              <a:t>В пере больной птицы и в пыли, взятой из птичника, неблагополучного по заболеванию, вирус остается жизнеспособным при 37 °С в течение 190 дней, при комнатной температуре и температуре бытового холодильника — 316 дней. В пыли, хранившейся при температуре от —12 до 37 °С, вирус сохраняет активность до 459 дней, в перьевых фолликулах — до 445 дней. 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entury Schoolbook"/>
              </a:rPr>
              <a:t>При воздействии 3%-ного раствора гидроксида натрия, креолина, лизола, 1%-ного раствора формальдегида, осветленной хлорной извести, содержащей 3 % активного хлора, и других дезинфицирующих средств вирус инактивируется за 20 мин. 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cd4e0"/>
                </a:solidFill>
                <a:latin typeface="Century Schoolbook"/>
              </a:rPr>
              <a:t>Диагностика.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В лабораторию направляют трупы птиц. Проводят: биопробу на цыплятах, биопробу на куриных эмбрионах, пробу в культуре клеток, МФА для экспресс-диагностики, позволяющей обнаружить возбудителя в первичном пат. материале. Из серологических реакций используют РДП, РИГА, РНФ.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785880" y="42876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Диагноз ставят на основании эпизоотологических данных, клинической картины, патоморфологии, гистологии, серологии (преципитации в агаровый гель и иммунофлуоресценции). При дифференциальном диагнозе необходимо исключить лейкоз, энцефаломиелит, инфекционный синовит, гиповитаминоз В, гиповитаминоз Е, перозис.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4e0"/>
                </a:solidFill>
                <a:latin typeface="Century Schoolbook"/>
              </a:rPr>
              <a:t>Историческая справка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Впервые болезнь описана в 1907 г. венгерским профессором </a:t>
            </a:r>
            <a:r>
              <a:rPr b="1" lang="ru-RU" sz="2100" spc="-1" strike="noStrike">
                <a:solidFill>
                  <a:srgbClr val="ffffff"/>
                </a:solidFill>
                <a:latin typeface="Century Schoolbook"/>
              </a:rPr>
              <a:t>Й. Мареком 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как </a:t>
            </a:r>
            <a:r>
              <a:rPr b="0" lang="ru-RU" sz="2100" spc="-1" strike="noStrike">
                <a:solidFill>
                  <a:srgbClr val="ff0000"/>
                </a:solidFill>
                <a:latin typeface="Century Schoolbook"/>
              </a:rPr>
              <a:t>полиневрит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. В последующие годы болезнь была зарегистрирована в различных странах под другими названиями (</a:t>
            </a:r>
            <a:r>
              <a:rPr b="0" lang="ru-RU" sz="2100" spc="-1" strike="noStrike">
                <a:solidFill>
                  <a:srgbClr val="ff0000"/>
                </a:solidFill>
                <a:latin typeface="Century Schoolbook"/>
              </a:rPr>
              <a:t>нейролимфатоз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0" lang="ru-RU" sz="2100" spc="-1" strike="noStrike">
                <a:solidFill>
                  <a:srgbClr val="ff0000"/>
                </a:solidFill>
                <a:latin typeface="Century Schoolbook"/>
              </a:rPr>
              <a:t>паралич птиц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0" lang="ru-RU" sz="2100" spc="-1" strike="noStrike">
                <a:solidFill>
                  <a:srgbClr val="ff0000"/>
                </a:solidFill>
                <a:latin typeface="Century Schoolbook"/>
              </a:rPr>
              <a:t>неврит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0" lang="ru-RU" sz="2100" spc="-1" strike="noStrike">
                <a:solidFill>
                  <a:srgbClr val="ff0000"/>
                </a:solidFill>
                <a:latin typeface="Century Schoolbook"/>
              </a:rPr>
              <a:t>инфекционный нейрогрануломатоз 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и др.). Несколько позже (1926—1929 гг.) амер. исследователи </a:t>
            </a:r>
            <a:r>
              <a:rPr b="1" lang="ru-RU" sz="2100" spc="-1" strike="noStrike">
                <a:solidFill>
                  <a:srgbClr val="ffffff"/>
                </a:solidFill>
                <a:latin typeface="Century Schoolbook"/>
              </a:rPr>
              <a:t>Паппенгеймер, Дан и Зэйдлин 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установили, что кроме параличей и парезов у птиц возникают лимфоидные опухоли, сходные с опухолями, развивающимися при лимфоидном лейкозе. Это дало повод к объединению болезни Марека и разных форм лейкоза птиц в так называемый </a:t>
            </a:r>
            <a:r>
              <a:rPr b="0" lang="ru-RU" sz="2100" spc="-1" strike="noStrike">
                <a:solidFill>
                  <a:srgbClr val="ff0000"/>
                </a:solidFill>
                <a:latin typeface="Century Schoolbook"/>
              </a:rPr>
              <a:t>нейролимфоматоз</a:t>
            </a: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В настоящее время доказано, что болезнь Марека и лимфоидный лейкоз различают как с точки зрения патологии, так и в этиологическом отношении. </a:t>
            </a:r>
            <a:br>
              <a:rPr sz="2100"/>
            </a:br>
            <a:r>
              <a:rPr b="0" lang="ru-RU" sz="21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914400" y="857160"/>
            <a:ext cx="7772400" cy="54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В органах цыплят антиген вируса БМ методом ИФА можно выявить в сыворот­ке крови через 72 часа после заражения, в селезенке через 7 дней, в почках и печени через 14 дней, в коже, периферических нервах, сердце, легких и перьевых фоллику­лах через 21 день, в головном мозге через 35 дней, в мышечной ткани через 63 дня. Указанным методом вирус можно определить в организме цыплят в течение 4-5 ме­сяцев после заражения.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cd4e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bcd4e0"/>
                </a:solidFill>
                <a:latin typeface="Century Schoolbook"/>
              </a:rPr>
              <a:t>Профилактика и лечение.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Schoolbook"/>
              </a:rPr>
              <a:t>Лечение не проводят.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Schoolbook"/>
              </a:rPr>
              <a:t>Иммунитет:</a:t>
            </a:r>
            <a:r>
              <a:rPr b="0" lang="ru-RU" sz="2600" spc="-1" strike="noStrike">
                <a:solidFill>
                  <a:srgbClr val="ffffff"/>
                </a:solidFill>
                <a:latin typeface="Century Schoolbook"/>
              </a:rPr>
              <a:t> с профилактической целью применяют сухую культуральную вакцину из штамма ФС-126 вируса герпеса индеек; вакцину против болезни Марека «Полимарек»; вакцину против болезни Марека жидкую, бивалентную, культуральную.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Schoolbook"/>
              </a:rPr>
              <a:t>Профилактика: </a:t>
            </a:r>
            <a:r>
              <a:rPr b="0" lang="ru-RU" sz="2600" spc="-1" strike="noStrike">
                <a:solidFill>
                  <a:srgbClr val="ffffff"/>
                </a:solidFill>
                <a:latin typeface="Century Schoolbook"/>
              </a:rPr>
              <a:t>соблюдение ветеринарно-санитарных правил в инкубаторе и птичниках.Малопродуктивная и подозрительная по заболеванию птица подлежит выбраковке и уничтожению.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F:\презинтация\вакцинация цыплят против болезни маре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5463000" y="50004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кцинация  цыплят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cd4e0"/>
                </a:solidFill>
                <a:latin typeface="Century Schoolbook"/>
              </a:rPr>
              <a:t>Возбудитель</a:t>
            </a:r>
            <a:endParaRPr b="0" lang="en-US" sz="6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ДНК-содержащий вирус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Herpes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virus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galli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 -2 из рода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Herpesvirus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, сем.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Herpetoviridae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4e0"/>
                </a:solidFill>
                <a:latin typeface="Century Schoolbook"/>
              </a:rPr>
              <a:t>Антигенная структура вируса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ная структура вируса сложная. В его основе выделено шесть антигенов, из которых А, В и С считаются наиболее важными. Антиген А содержится как в надосадочной жидкости инфицированной культуры клеток, так и в экстракте зараженных клеток. Антигены В и С связаны с зараженными клетками и обнаруживаются только в экстракте инфицированных клеток. Антиген В является общим для вируса болезни Марека и вируса герпеса индеек, в то время как антигены этих вирусов родственны, но не идентичны. Антигены А и В представляют собой гликопротеиды</a:t>
            </a:r>
            <a:r>
              <a:rPr b="0" lang="ru-RU" sz="26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cd4e0"/>
                </a:solidFill>
                <a:latin typeface="Times New Roman"/>
                <a:ea typeface="Times New Roman"/>
              </a:rPr>
              <a:t>Выделенные вирусы болезни Марека подразделены на 3 серотипа:</a:t>
            </a:r>
            <a:br>
              <a:rPr sz="3600"/>
            </a:br>
            <a:endParaRPr b="0" lang="en-US" sz="36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  серотип объединяет патогенные (или онкогенные) вирусы болезни Марека и аттенуированные штаммы этих вирусов;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  серотип включает естественно аттенуированные штаммы вируса БМ;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   серотип — герпес вирус индеек.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cd4e0"/>
                </a:solidFill>
                <a:latin typeface="Century Schoolbook"/>
              </a:rPr>
              <a:t>Клиническая картина</a:t>
            </a:r>
            <a:endParaRPr b="0" lang="en-US" sz="40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онный период зависит от возраста птицы и варьирует от 2-х до 16 недель. Возникают прогрессирующий парез или паралич ног, крыльев, шеи, зоба, некоординированные движения, затрудненная походка до полного паралича и скручивания пальцев ног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ледствие паралича отмечают скованные движения, слабость, исхудание. Заболеваемость и смертность достигают 10%, при тяжелом течении болезни - 50% более. В случае поражения нервов мышечного желудка происходит его атрофия, что ведёт к быстрой гибели птицы. У взрослых кур характерным признаком является иридоциклит с деформацией глазного зрачка, депигментация радужной оболочки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cd4e0"/>
                </a:solidFill>
                <a:latin typeface="Century Schoolbook"/>
              </a:rPr>
              <a:t>Различают  три клинические формы болезни: </a:t>
            </a:r>
            <a:endParaRPr b="0" lang="en-US" sz="3200" spc="-1" strike="noStrike">
              <a:solidFill>
                <a:srgbClr val="bcd4e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1) </a:t>
            </a:r>
            <a:r>
              <a:rPr b="1" lang="ru-RU" sz="3000" spc="-1" strike="noStrike">
                <a:solidFill>
                  <a:srgbClr val="ffffff"/>
                </a:solidFill>
                <a:latin typeface="Century Schoolbook"/>
              </a:rPr>
              <a:t>невральную 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с поражением периферической нервной системы;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398520" indent="-33228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2) </a:t>
            </a:r>
            <a:r>
              <a:rPr b="1" lang="ru-RU" sz="3000" spc="-1" strike="noStrike">
                <a:solidFill>
                  <a:srgbClr val="ffffff"/>
                </a:solidFill>
                <a:latin typeface="Century Schoolbook"/>
              </a:rPr>
              <a:t>окулярную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, протекающую с изменением цвета радужной оболочки и просвета зрачка; 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marL="398520" indent="-332280">
              <a:spcBef>
                <a:spcPts val="700"/>
              </a:spcBef>
              <a:buClr>
                <a:srgbClr val="c5d1d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3) </a:t>
            </a:r>
            <a:r>
              <a:rPr b="1" lang="ru-RU" sz="3000" spc="-1" strike="noStrike">
                <a:solidFill>
                  <a:srgbClr val="ffffff"/>
                </a:solidFill>
                <a:latin typeface="Century Schoolbook"/>
              </a:rPr>
              <a:t>висцеральную</a:t>
            </a: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, характеризующуюся образованием опухолей в паренхиматозных органах. 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F:\презинтация\k9494-1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ормация глазного зрачка, депигментация радужной оболочки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F:\презинтация\паралитическая форма болезни маре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500040" y="285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алич ног, скручивание пальцев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15:13Z</dcterms:created>
  <dc:creator>User</dc:creator>
  <dc:description/>
  <dc:language>en-US</dc:language>
  <cp:lastModifiedBy>Windows 7</cp:lastModifiedBy>
  <dcterms:modified xsi:type="dcterms:W3CDTF">2012-10-03T10:42:27Z</dcterms:modified>
  <cp:revision>23</cp:revision>
  <dc:subject/>
  <dc:title>Болезнь Марека</dc:title>
</cp:coreProperties>
</file>