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5.jpeg" ContentType="image/jpeg"/>
  <Override PartName="/ppt/media/image24.wmf" ContentType="image/x-wmf"/>
  <Override PartName="/ppt/media/image22.wmf" ContentType="image/x-wmf"/>
  <Override PartName="/ppt/media/image20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jpeg" ContentType="image/jpeg"/>
  <Override PartName="/ppt/media/image35.wmf" ContentType="image/x-wmf"/>
  <Override PartName="/ppt/media/image15.wmf" ContentType="image/x-wmf"/>
  <Override PartName="/ppt/media/image41.jpeg" ContentType="image/jpeg"/>
  <Override PartName="/ppt/media/image10.jpeg" ContentType="image/jpeg"/>
  <Override PartName="/ppt/media/image8.jpeg" ContentType="image/jpeg"/>
  <Override PartName="/ppt/media/image6.wmf" ContentType="image/x-wmf"/>
  <Override PartName="/ppt/media/image32.wmf" ContentType="image/x-wmf"/>
  <Override PartName="/ppt/media/image12.wmf" ContentType="image/x-wmf"/>
  <Override PartName="/ppt/media/image30.wmf" ContentType="image/x-wmf"/>
  <Override PartName="/ppt/media/image33.jpeg" ContentType="image/jpeg"/>
  <Override PartName="/ppt/media/image7.wmf" ContentType="image/x-wmf"/>
  <Override PartName="/ppt/media/image37.wmf" ContentType="image/x-wmf"/>
  <Override PartName="/ppt/media/image38.jpeg" ContentType="image/jpeg"/>
  <Override PartName="/ppt/media/image31.jpeg" ContentType="image/jpeg"/>
  <Override PartName="/ppt/media/image40.wmf" ContentType="image/x-wmf"/>
  <Override PartName="/ppt/media/image42.jpeg" ContentType="image/jpeg"/>
  <Override PartName="/ppt/media/image9.wmf" ContentType="image/x-wmf"/>
  <Override PartName="/ppt/media/image39.wmf" ContentType="image/x-wmf"/>
  <Override PartName="/ppt/media/image11.wmf" ContentType="image/x-wmf"/>
  <Override PartName="/ppt/media/image5.jpeg" ContentType="image/jpeg"/>
  <Override PartName="/ppt/media/image34.wmf" ContentType="image/x-wmf"/>
  <Override PartName="/ppt/media/image4.wmf" ContentType="image/x-wmf"/>
  <Override PartName="/ppt/media/image27.wmf" ContentType="image/x-wmf"/>
  <Override PartName="/ppt/media/image13.jpeg" ContentType="image/jpeg"/>
  <Override PartName="/ppt/media/image3.wmf" ContentType="image/x-wmf"/>
  <Override PartName="/ppt/media/image26.wmf" ContentType="image/x-wmf"/>
  <Override PartName="/ppt/media/image36.jpeg" ContentType="image/jpeg"/>
  <Override PartName="/ppt/media/image2.jpeg" ContentType="image/jpeg"/>
  <Override PartName="/ppt/media/image23.jpeg" ContentType="image/jpeg"/>
  <Override PartName="/ppt/media/image29.wmf" ContentType="image/x-wmf"/>
  <Override PartName="/ppt/media/image1.png" ContentType="image/png"/>
  <Override PartName="/ppt/media/image1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5996-F460-4CE0-A6C5-5FEECA370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7773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79640" y="4057920"/>
            <a:ext cx="7773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1259-DB58-49EA-B44B-EFCE7F761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63040" y="17683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79640" y="40579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63040" y="40579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F9F7-6708-4E70-9EE4-69B1B0E08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25030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8360" y="1768320"/>
            <a:ext cx="25030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36720" y="1768320"/>
            <a:ext cx="25030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79640" y="4057920"/>
            <a:ext cx="25030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8360" y="4057920"/>
            <a:ext cx="25030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36720" y="4057920"/>
            <a:ext cx="25030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7C90-312A-4461-AB56-44A71100E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83A04-B368-4ABA-B138-514EA823B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79640" y="1768320"/>
            <a:ext cx="7773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4B29A-F0D5-486A-93E6-97F411A85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7773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8668D-943E-401B-A992-276DB0659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379332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63040" y="1768320"/>
            <a:ext cx="379332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2A2F0-0B47-40F3-9272-069C0CB76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AA359-9704-4C9C-A0C6-A99885E04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634920" y="301320"/>
            <a:ext cx="6154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B01EA-DF80-4F60-92CA-959557874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63040" y="1768320"/>
            <a:ext cx="379332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79640" y="40579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AE92F-9E6A-4D4C-BB05-DD20C6E6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79640" y="1768320"/>
            <a:ext cx="7773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2C50-3FBF-4801-B02F-601AB726F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379332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63040" y="17683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63040" y="40579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448A6-C56A-496C-B90E-35E3D1D5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63040" y="17683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79640" y="4057920"/>
            <a:ext cx="7773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31801-2E79-444B-BDE3-92E0E060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7773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79640" y="4057920"/>
            <a:ext cx="7773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FDCE9-8962-4292-8A3F-09CFCB15B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63040" y="17683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79640" y="40579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63040" y="40579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413AC-4AFA-4EA0-B94D-B95801171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25030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08360" y="1768320"/>
            <a:ext cx="25030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236720" y="1768320"/>
            <a:ext cx="25030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79640" y="4057920"/>
            <a:ext cx="25030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08360" y="4057920"/>
            <a:ext cx="25030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236720" y="4057920"/>
            <a:ext cx="25030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91417-8ADF-43EE-A71F-C911EC7FE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7773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2040-2934-45AF-ADBD-A2908D062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379332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63040" y="1768320"/>
            <a:ext cx="379332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176F-E419-4AEA-BDAA-FFDE9677C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8644-C21A-40DB-B259-FBE2572C6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34920" y="301320"/>
            <a:ext cx="6154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6943-2F31-466F-B452-5AF032505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63040" y="1768320"/>
            <a:ext cx="379332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79640" y="40579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496F-5B23-4180-9F74-59C24AE7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379332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63040" y="17683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63040" y="40579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FAFD-84DC-4825-BC63-D94067D7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63040" y="17683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79640" y="4057920"/>
            <a:ext cx="7773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02CD-75EB-44BF-A4AE-DAC077A6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14E942-0107-49A9-92BC-1F8F7DD1449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79640" y="1768320"/>
            <a:ext cx="7773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763640" y="6094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203720" y="670716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515000" y="670716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70BE89-FCC5-4760-8E6C-D7E9324E89F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wmf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wmf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wmf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wmf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wmf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wmf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jpeg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wmf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484200"/>
            <a:ext cx="9575640" cy="62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24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c5000b"/>
                </a:solidFill>
                <a:latin typeface="Arial"/>
                <a:ea typeface="Arial Unicode MS"/>
              </a:rPr>
              <a:t>Презент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 Unicode MS"/>
              </a:rPr>
              <a:t>На тему:лейкоз крупного рогатого ск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76360" y="431640"/>
            <a:ext cx="5975280" cy="3168720"/>
          </a:xfrm>
          <a:prstGeom prst="rect">
            <a:avLst/>
          </a:prstGeom>
          <a:solidFill>
            <a:srgbClr val="ffffff"/>
          </a:solidFill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78840" bIns="63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 КРС может встречаться кожная форма лейко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 теле животного появляются узелков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пухлости диаметром до 2,5 см, хорош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аметные на шее, спине,крестце и бедр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 течение нескольких недель происходи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блысение припухлости, ее поверх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крывается корочкой, состоящей из эпител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 экссуд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87640" y="3816360"/>
            <a:ext cx="5904000" cy="3168720"/>
          </a:xfrm>
          <a:prstGeom prst="rect">
            <a:avLst/>
          </a:prstGeom>
          <a:solidFill>
            <a:srgbClr val="ffffff"/>
          </a:solidFill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77040" bIns="63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Затем корочки отпадают, а облысевшие участ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новь покрываются шерстью. Однако чере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есколько месяцев после кажущегося выздоровл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аступает рецидив с появлением тех же признак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Болезни . Происходит инфильтратив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оражение висцеральных органов, и живот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огиба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76360" y="1224000"/>
            <a:ext cx="914400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008000" y="4392720"/>
            <a:ext cx="8783640" cy="1728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095640" y="1295280"/>
            <a:ext cx="4248000" cy="26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152360" y="1871640"/>
            <a:ext cx="8423280" cy="1368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2376360" y="3600360"/>
            <a:ext cx="5543640" cy="360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440000" y="1008000"/>
            <a:ext cx="8135640" cy="2016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2303640" y="3384720"/>
            <a:ext cx="5903640" cy="34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079640" y="2448000"/>
            <a:ext cx="8351640" cy="23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008000" y="2448000"/>
            <a:ext cx="8496360" cy="8636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2376360" y="3959280"/>
            <a:ext cx="468000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079640" y="863640"/>
            <a:ext cx="8928000" cy="6119640"/>
          </a:xfrm>
          <a:prstGeom prst="hexagon">
            <a:avLst>
              <a:gd name="adj" fmla="val 36473"/>
              <a:gd name="vf" fmla="val 115470"/>
            </a:avLst>
          </a:prstGeom>
          <a:solidFill>
            <a:srgbClr val="ffffff"/>
          </a:solidFill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511280" y="3168720"/>
            <a:ext cx="7920000" cy="14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384720" y="1008000"/>
            <a:ext cx="3958920" cy="3384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295280" y="4896000"/>
            <a:ext cx="8568000" cy="20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511280" y="1800360"/>
            <a:ext cx="8280360" cy="1584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2952720" y="4132440"/>
            <a:ext cx="5040360" cy="321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635280" y="301680"/>
            <a:ext cx="6156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Arial"/>
                <a:ea typeface="Arial Unicode MS"/>
              </a:rPr>
              <a:t>Лейкоз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311640" y="1224000"/>
            <a:ext cx="4751280" cy="2952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152360" y="4751280"/>
            <a:ext cx="8568000" cy="20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008000" y="2376360"/>
            <a:ext cx="8640720" cy="37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079640" y="4248000"/>
            <a:ext cx="8712000" cy="2664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3456000" y="936720"/>
            <a:ext cx="468000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152360" y="2735280"/>
            <a:ext cx="8783640" cy="3600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4248000" y="503280"/>
            <a:ext cx="460872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224000" y="1800360"/>
            <a:ext cx="8567640" cy="499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224000" y="4248000"/>
            <a:ext cx="8640720" cy="2664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3600360" y="1152360"/>
            <a:ext cx="453564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576360" y="1152360"/>
            <a:ext cx="9215280" cy="5759640"/>
          </a:xfrm>
          <a:prstGeom prst="ellipse">
            <a:avLst/>
          </a:prstGeom>
          <a:solidFill>
            <a:srgbClr val="ffffff"/>
          </a:solidFill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008000" y="3360600"/>
            <a:ext cx="8352000" cy="211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743280" y="4751280"/>
            <a:ext cx="4032360" cy="23767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1295280" y="1800360"/>
            <a:ext cx="8712360" cy="25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936720" y="2160720"/>
            <a:ext cx="8280360" cy="4824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152360" y="3672000"/>
            <a:ext cx="7991640" cy="2016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7108920" y="12240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630360" y="5688000"/>
            <a:ext cx="260964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224000" y="301680"/>
            <a:ext cx="8567640" cy="63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1) Что такое лейкоз?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2) Назовите возбудитель лейкоза КРС?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3) Находясь в клетке вирус лейкоза сразу вызывает гибел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4) В развитии лейкозного процесса у КРС различают сколько стадей , назовите и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016000" y="301680"/>
            <a:ext cx="777564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5) Лимфоидные лейкозы подразделяют на какие 2 основные групп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6) Если в хозяйстве выявлено до 10% зараженных и больных лейкозом животных какие меры нужно предприня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47640" y="1008000"/>
            <a:ext cx="9288360" cy="51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197080" y="627120"/>
            <a:ext cx="615636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5000b"/>
                </a:solidFill>
                <a:latin typeface="Arial"/>
                <a:ea typeface="Arial Unicode MS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 Unicode MS"/>
              </a:rPr>
              <a:t>Выполнила: Аусиилова М.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 Unicode MS"/>
              </a:rPr>
              <a:t>Вет.мед 3 кур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543640" y="144360"/>
            <a:ext cx="4032000" cy="2808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440000" y="3168720"/>
            <a:ext cx="8423280" cy="38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76360" y="720720"/>
            <a:ext cx="9144000" cy="655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60360" y="2033640"/>
            <a:ext cx="2646360" cy="2574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095640" y="1871640"/>
            <a:ext cx="6912000" cy="33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879640" y="5111640"/>
            <a:ext cx="3527640" cy="20876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47640" y="792000"/>
            <a:ext cx="8928000" cy="366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31640" y="2016000"/>
            <a:ext cx="9215640" cy="3024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76320" bIns="63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При развернутой стадии лейкозного процесса отмечают лейкемическую картину кров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(40 тыс. и более лейкоцитов в 1 мкл крови)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величение числа молодых,  недифференцированных клеток  в лейкоцитарно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Формуле (доля таких клеток может достигать 5%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Продолжительность этой стадии варьируется от нескольких месяцев д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1..2, иногда и 3 лет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925640" y="1565280"/>
            <a:ext cx="6048360" cy="4967280"/>
          </a:xfrm>
          <a:prstGeom prst="ellipse">
            <a:avLst/>
          </a:prstGeom>
          <a:solidFill>
            <a:srgbClr val="ffffff"/>
          </a:solidFill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20720" y="144360"/>
            <a:ext cx="8423280" cy="6767640"/>
          </a:xfrm>
          <a:prstGeom prst="ellipse">
            <a:avLst/>
          </a:prstGeom>
          <a:solidFill>
            <a:srgbClr val="ffffff"/>
          </a:solidFill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152360" y="2232000"/>
            <a:ext cx="7775640" cy="2808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184720" y="5184720"/>
            <a:ext cx="3672000" cy="2160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7T15:32:07Z</dcterms:created>
  <dc:creator/>
  <dc:description/>
  <dc:language>en-US</dc:language>
  <cp:lastModifiedBy/>
  <cp:revision>0</cp:revision>
  <dc:subject/>
  <dc:title/>
</cp:coreProperties>
</file>