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A16-20EE-4819-8570-B0496FBC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3BE7-2699-41ED-A61C-638CCC32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5925-77A2-4D14-A267-83725CC0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8DA-2B64-485C-A0F2-A923BF14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B9E0-8394-468F-9BA1-B28796BC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32C0-D024-4B38-BB8E-ABDB0BE8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D7D-0F25-4E43-8DBE-E23F3F7B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E83-B16E-4145-80CE-64AA2905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33A7-3E4B-4147-93DF-390002AE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5EE4-3640-43C2-8AF5-715A0C1F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C85-F2FD-46AC-8F94-F13F2675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7405-4BD9-4410-9E8E-4AB7BA4B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333399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5671-864B-479B-A3A7-E91E530B28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146240" y="2513880"/>
            <a:ext cx="745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Болезнь Ньюкас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962520" y="5943600"/>
            <a:ext cx="47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ла:Шинкина    Е.      13 гр.3 курс Вет.м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2160"/>
            <a:ext cx="586728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Диагностика и дифференциальная диагностик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гноз устанавливается комплексно. Окончательное заключение в постановке диагноза основывается на лабораторных методах диагности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) выделении вируса из головного и костного мозга в начале заболевания в стадии вирусемии (3...5 дней после начала заболевания) на куриных эмбрионах и культуре клеток фибробласт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) биопробе (заражение 30-дневных цыплят); 3) титровании вируса на куриных эмбрионах; 4) серологической идентификации вируса в РГА, РТГА, ИФА, РСК и других методах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ретроспективной диагностики используют РИГА с сывороткой крови от больной и переболевшей птицы. Желательно проводить двукратное исследование с интервалом 20...30 дней (метод парных сывороток)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:\Users\1\Pictures\imgpreviewрарке.jpg"/>
          <p:cNvPicPr/>
          <p:nvPr/>
        </p:nvPicPr>
        <p:blipFill>
          <a:blip r:embed="rId1"/>
          <a:stretch/>
        </p:blipFill>
        <p:spPr>
          <a:xfrm>
            <a:off x="5562720" y="1295280"/>
            <a:ext cx="32004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457200" y="380880"/>
            <a:ext cx="7924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Иммунитет, специфическая профилактик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болевшая и вакцинированная птица приобретает иммунитет. В сыворотке крови накапливаются антитела, которые зависят от возраста птицы, сроков, кратности и способа вакцинации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вакцины, используемые против БН, можно разделить на три основные группы: инактивированные; живые, ослабленные лабораторными методами; живые природно-ослабленные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C:\Users\1\Pictures\Новая папка\imgpreview.jpg"/>
          <p:cNvPicPr/>
          <p:nvPr/>
        </p:nvPicPr>
        <p:blipFill>
          <a:blip r:embed="rId1"/>
          <a:stretch/>
        </p:blipFill>
        <p:spPr>
          <a:xfrm>
            <a:off x="3532320" y="2895480"/>
            <a:ext cx="2030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609480" y="685440"/>
            <a:ext cx="77724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Профилактика </a:t>
            </a:r>
            <a:br>
              <a:rPr sz="24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профилактики заболевания соблюдают мероприятия, предусмотренные действующими правилами (инструкциями) и ветеринарно-санитарными правилами для птицеводческих хозяйств (ферм). В основе лежат проведение профилактической вакцинации и контроль за напряженностью иммунит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:\Users\1\Pictures\Новая папка\iCATFSERI.jpg"/>
          <p:cNvPicPr/>
          <p:nvPr/>
        </p:nvPicPr>
        <p:blipFill>
          <a:blip r:embed="rId1"/>
          <a:stretch/>
        </p:blipFill>
        <p:spPr>
          <a:xfrm>
            <a:off x="1676520" y="2666880"/>
            <a:ext cx="56386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457200" y="609120"/>
            <a:ext cx="81532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Лечение </a:t>
            </a:r>
            <a:br>
              <a:rPr sz="24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ффективных средств лечения нет. В промышленных птицеводческих хозяйствах вся больная птица ввиду угрозы разноса инфекции подлежит уничтожению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C:\Users\1\Pictures\Новая папка\iаара.jpg"/>
          <p:cNvPicPr/>
          <p:nvPr/>
        </p:nvPicPr>
        <p:blipFill>
          <a:blip r:embed="rId1"/>
          <a:stretch/>
        </p:blipFill>
        <p:spPr>
          <a:xfrm>
            <a:off x="1219320" y="2209680"/>
            <a:ext cx="6381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304920" y="320400"/>
            <a:ext cx="84582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Меры борьбы </a:t>
            </a:r>
            <a:br>
              <a:rPr sz="24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 подозрении на заболевание в ветеринарно-диагностическую лабораторию направляют три—пять свежих трупов и не менее 20 проб сыворотки крови от больной птицы. В случае подтверждения диагноза на хозяйство накладывают карантин, согласно которому запрещаются посещение хозяйства посторонними лицами, торговля птицей и птицепродуктами; убой птицы проводят с соблюдением ветеринарно-санитарных правил с последующей дезинфекцией мест убоя и инвентаря. До снятия карантина запрещают инкубацию яиц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х и перо дезинфицируют, пищевое яйцо проваривают не менее 10 мин или дезинфицируют и вывозят на переработку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C:\Users\1\Pictures\imgpreviewнеканкенг.jpg"/>
          <p:cNvPicPr/>
          <p:nvPr/>
        </p:nvPicPr>
        <p:blipFill>
          <a:blip r:embed="rId1"/>
          <a:stretch/>
        </p:blipFill>
        <p:spPr>
          <a:xfrm>
            <a:off x="2590920" y="3581280"/>
            <a:ext cx="35049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609480" y="38088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рупных птицехозяйствах разрешаются: вывоз птицы для убоя на мясоперерабатывающие предприятия; инкубация яиц для внутренних целей; вывоз продезинфицированного пуха и пера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рантин с неблагополучного хозяйства снимают через 30 дней после последнего случая заболевания, санации птичников и территории хозяйства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 ликвидации всего поголовья карантин снимают через 5 дней после заключительной дезинфекции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1\Pictures\imgpreviewмчмичси.jpg"/>
          <p:cNvPicPr/>
          <p:nvPr/>
        </p:nvPicPr>
        <p:blipFill>
          <a:blip r:embed="rId1"/>
          <a:stretch/>
        </p:blipFill>
        <p:spPr>
          <a:xfrm>
            <a:off x="1905120" y="2895480"/>
            <a:ext cx="525780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685800" y="838080"/>
            <a:ext cx="8153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Список используемой литературы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Бакулов И.А. Эпизоотология с микробиологией Москва: "Агропромиздат", 1987. - 415с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Инфекционные болезни животных / Б. Ф. Бессарабов, А. А., Е. С. Воронин и др.; Под ред. А. А. Сидорчука. — М.: КолосС, 2007. — 671 с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Алтухов Н.Н. Краткий справочник ветеринарного врача Москва: "Агропромиздат", 1990. - 574с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244080" y="60948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1 Болезнь Ньюкасла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166680" y="121932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2 Историческая спр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155880" y="167652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3 Возбудитель болез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228240" y="2057400"/>
            <a:ext cx="21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4 Эпизоот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152280" y="2514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5 Патогенез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158400" y="3048120"/>
            <a:ext cx="27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6Течение и симпто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243000" y="358128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7 Патологоанатомические призна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8"/>
          <p:cNvSpPr/>
          <p:nvPr/>
        </p:nvSpPr>
        <p:spPr>
          <a:xfrm>
            <a:off x="228600" y="4114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8Диагностика и дифференциальная диагност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228600" y="4800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9 Иммунитет, специфическая профилакт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42640" y="548640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10 Профилакт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229320" y="5867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11 Ле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239400" y="6248520"/>
            <a:ext cx="21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12Меры борьб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3"/>
          <p:cNvSpPr/>
          <p:nvPr/>
        </p:nvSpPr>
        <p:spPr>
          <a:xfrm>
            <a:off x="3200400" y="3049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80880" y="455760"/>
            <a:ext cx="8763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Болезнь Ньюкасла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лат. — Morbus Newcastl; англ. — Newcastle Disease; псевдочума, атипичная чума, азиатская чума, псевдоэнцефалит, болезнь Дойля, болезнь Филарета, болезнь Ранкхета, брауншвейгская чума; ньюкаслская болезнь, БН) — высококонтагиозная болезнь птиц из отряда куриных, проявляющаяся поражением органов дыхания, желудочно-кишечного тракта и центральной нервной системы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Users\1\Pictures\Новая папка\i.jpg"/>
          <p:cNvPicPr/>
          <p:nvPr/>
        </p:nvPicPr>
        <p:blipFill>
          <a:blip r:embed="rId1"/>
          <a:stretch/>
        </p:blipFill>
        <p:spPr>
          <a:xfrm>
            <a:off x="1905120" y="3124080"/>
            <a:ext cx="5438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04920" y="854640"/>
            <a:ext cx="8534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Историческая справ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распространение, степень опасности и ущерб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лезнь, отличающаяся от классической чумы птиц, была впервые зарегистрирована на острове Ява Краневельдом в 1926 г. С 1927 г. заболевание стали регистрировать в различных странах Азии, Америки и Европы. Английский исследователь Дойль в 1927 г. обнаружил болезнь в окрестностях г. Ньюкасла и дал ей соответствующее название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ША заболевание описано в 1935 г. как пневмоэнцефалит цыплят. Во Вторую мировую войну болезнь широко распространилась в европейских странах и была занесена на территорию нашей стран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380880" y="24516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озбудитель болезн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будитель — РНК-содержащий вирус из рода Paramixovirus семейства Paramixo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dae. Размер вириона 120...380нм. Вирус обладает гемагглютинирующими свойствами, репродуцируется в 9... 12-дневных куриных эмбрионах, вызывая их гибель, развивается во многих первичных и перевиваемых культурах клеток с образованием ЦПД. Различают девять серологических вариантов возбудителя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ойчивость вируса БН к действию физических и химических факторов зависит от наличия белка и рН среды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1\Pictures\imgpreviewанркен.gif"/>
          <p:cNvPicPr/>
          <p:nvPr/>
        </p:nvPicPr>
        <p:blipFill>
          <a:blip r:embed="rId1"/>
          <a:stretch/>
        </p:blipFill>
        <p:spPr>
          <a:xfrm>
            <a:off x="2743200" y="3429000"/>
            <a:ext cx="3381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533520" y="1219320"/>
            <a:ext cx="7772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рус устойчив при рН в диапазоне 2,0...10,0; в высушенных органах при температуре 17...18°С — 2 года; в птичниках в зимнее время — 140 дней, летом — 7 дней. В гниющих трупах инактивируется через 3 нед. В замороженных тушках кур не погибает свыше 800 дней. При кипячении вирус в тушках птиц погибает лишь через 40...60 мин. Биотермические процессы, развивающиеся при хранении помета, инактивируют вирус через 20 дней. Вирус нестоек к действию дезинфицирующих средств в общепринятых концентрациях (растворы формалина 1...2%-ные, хлорной извести 3%-ный, гидроксида натрия 2%-ный, ксилонафта-5 4...5%-ны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304920" y="30600"/>
            <a:ext cx="8839080" cy="68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Эпизоотология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естественных условиях болезнь Ньюкасла чаще регистрируют у птиц из отряда куриных (куры, индейки, цесарки, фазаны, павлины). Источники возбудителя инфекции — больная и находящаяся в инкубационном периоде птица. Из организма вирус выделяется с секретами, пометом, яйцами. Факторами передачи возбудителя могут быть инвентарь, подстилка, корм, перо и пух, полученные от больных птиц, тушки вынужденно убитой птицы. Вирус также может находиться внутри и на скорлупе яиц, собранных от больной птицы. В птичниках, в которых содержатся больные, вирус циркулирует в воздухе при работе вентиляторов, а также выбрасывается в окружающую среду и разносится на расстояние до 1600 м, а при ветреной погоде — до 3...5 км. Заражение птицы происходит алиментарным и аэрогенным путями, через корм, воду, воздух, при тесном контакте здоровых и больных особей. Вирус способен выделяться в инкубационном периоде через 24 ч после заражения птицы, обнаружить его в организме переболевшей птицы удается в течение 2...4мес после клинического выздоровления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зервуаром возбудителя могут быть перелетные дикие птицы, а также домашние утки, гус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80880" y="-9720"/>
            <a:ext cx="8305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Патогенез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 попадания вируса болезни Ньюкасла с кормом, водой, воздухом в организм восприимчивой птицы он быстро проникает в кровь (уже через 96 ч после заражения). Под действием вируса нарушается проницаемость гематоэнцефалического барьера и развивается вирусемия, поэтому главным признаком заболевания являются обширные и локализованные кровоизлияния в различные системы и органы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кровяному руслу вирус может попадать в различные органы и ткани, вызывая поражения центральной нервной системы, органов дыхания, пищеварения, что обусловливает широкий спектр клинических проявлений болезни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:\Users\1\Pictures\Новая папка\iCA85GRUO.jpg"/>
          <p:cNvPicPr/>
          <p:nvPr/>
        </p:nvPicPr>
        <p:blipFill>
          <a:blip r:embed="rId1"/>
          <a:stretch/>
        </p:blipFill>
        <p:spPr>
          <a:xfrm>
            <a:off x="3733920" y="4038480"/>
            <a:ext cx="2314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228600" y="304920"/>
            <a:ext cx="86868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Течение и симпто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кубационный период 2—7 суток, реже 9—12. Течение болезни молниеносное, острое, подострое и хроническ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При молниеносном течен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тица погибает внезапно без выраженных клинических призна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При остром течении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велогенная)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петит у птиц резко падает, температура повышается до 44 °C. Появляются угнетение, малоподвижность, симптомы поражения дыхательной и нервной систем, развивается конъюнктивит (роговица мутнеет). В ротовой и носовой полостях скапливается много слизи. Птицы кашляют, чихают, издают каркающие звуки и дышат с открытым клювом. Частый признак — понос, иногда с примесью крови. При поражении центральной нервной системы походка становится шаткой, птицы совершают круговые движения, появляются параличи шеи, крыльев, ног, эпистотонус, смерть наступает через 3—12 суток после начала боле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При подостром и хроническом течении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мезогенная, лентогенная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блюдают повышенную возбудимость птиц, судороги, парезы и параличи конечностей, дрожание головы, перекручивание шеи, сильное исто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Атипичная (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симптоматическая) </a:t>
            </a:r>
            <a:r>
              <a:rPr b="1" i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форм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езни Ньюкасла характеризуется отсутствием симптомов или нехарактерными симптомами и невысоким процентом гибели (до 15—30%)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09-16T15:52:0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