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0A6-334D-44BF-B78A-5387CDE7BC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7CD-A5F8-487E-BF3C-8382F07B7C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B97E-695B-4E8F-83D2-1C73AF150A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576-F91D-4F6C-80A7-1EE29D19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4B8-B4BD-4503-9791-EA1E3A6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7F3-CB20-46C7-B06A-D9D45264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347-EAA4-4356-9707-1616ABA4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4A85-3B2A-43D6-B160-2AB48A94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9588-D6D8-457E-966B-A36720A4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62B-5A4E-4881-8548-3FCD224C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6E0-21FF-4692-8CA2-6839E74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130-3159-4EEA-BC90-DDC79A44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DD1-20EB-450C-BB3A-823FF8D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1162-9A1A-4133-9C3E-763E68C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4B9-445D-439F-AAC0-4390BF57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ACA-8780-4CEE-912F-85AD8AE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826-C232-47E1-9885-5AF1B88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3F91-8747-48E2-8D0D-01FEF9B8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3122-EA10-4022-BE8A-BBE73F4F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9D4C-F2D8-4BF6-A4D2-A7456CF4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DE9-7029-4AB6-8CB9-A9F8894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8D1-D0ED-4A7C-B2A9-03F9F88C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B89-34B8-4AB8-9A9E-39F452C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46E-EE0C-4D6A-B751-73557A0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AB6-6ED4-4AE3-9D3C-B350CCC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4A9-0E7E-4EEF-945A-A1CE466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531-028D-4404-97C2-3E4C8B4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ACE7-DCC1-4F03-B910-C9E6509A7FE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F427-CA2D-4452-A79A-4B6AFC1499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171360" y="1292400"/>
            <a:ext cx="882648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images.jpeg"/>
          <p:cNvPicPr/>
          <p:nvPr/>
        </p:nvPicPr>
        <p:blipFill>
          <a:blip r:embed="rId2"/>
          <a:stretch/>
        </p:blipFill>
        <p:spPr>
          <a:xfrm>
            <a:off x="5524560" y="40006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images555.jpeg"/>
          <p:cNvPicPr/>
          <p:nvPr/>
        </p:nvPicPr>
        <p:blipFill>
          <a:blip r:embed="rId3"/>
          <a:stretch/>
        </p:blipFill>
        <p:spPr>
          <a:xfrm>
            <a:off x="214200" y="4000680"/>
            <a:ext cx="300060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96840"/>
            <a:ext cx="9455040" cy="2116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71680" y="17859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освете гортани плотные казеозные наложения, в дыхательных путях – слизисто-геморрагических сгусток, заполняющий просвет трахеи и крупных бронхов. Паренхиматозные органы застойно-гиперемированы, сердце увеличено, слизистая оболочка кишечника воспал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914400" y="-171360"/>
            <a:ext cx="73026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428760" y="1000080"/>
            <a:ext cx="82152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иболее восприимчивы куры (в возрасте 5 мес — 1 года) и фазаны. Индейки, утки, голуби болеют редко. Источник возбудителя инфекции — больные и переболевшие птицы, долгое время остающиеся вирусоносителями. Факторы передачи — корм и вода, инвентарь. Вирус может переносить обслуживающий персонал. Путями проникновения вируса являются носовые ходы, конъюнктива и трахея. Болезнь проявляется в виде эпизоотий. Возникновению болезни способствуют влажность помещений, скученность птицы и неполноценное кормле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Фото1428.jpg"/>
          <p:cNvPicPr/>
          <p:nvPr/>
        </p:nvPicPr>
        <p:blipFill>
          <a:blip r:embed="rId1"/>
          <a:stretch/>
        </p:blipFill>
        <p:spPr>
          <a:xfrm>
            <a:off x="428760" y="571680"/>
            <a:ext cx="7786440" cy="4929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642960" y="5572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ая птица ларинготрахеи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images565.jpeg"/>
          <p:cNvPicPr/>
          <p:nvPr/>
        </p:nvPicPr>
        <p:blipFill>
          <a:blip r:embed="rId1"/>
          <a:stretch/>
        </p:blipFill>
        <p:spPr>
          <a:xfrm>
            <a:off x="668160" y="714240"/>
            <a:ext cx="790452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7797960" cy="1816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2214720" y="20001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стр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остр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роническо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109440"/>
            <a:ext cx="7340400" cy="2646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642960" y="1928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стром течении (ларинготрахеальная форма) птицы угнетены, отказываются от корма, сидят с закрытыми глазами. Дыхание затруднено, клюв открыт; птицы издают своеобразные каркающие звуки. В гортани видны фибринозные наложения, которые могут вызвать асфиксию. Наблюдаются также слезотечение и истечение из носовых отверсти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42840"/>
            <a:ext cx="8845560" cy="26398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1000080" y="2286000"/>
            <a:ext cx="72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острое течение характеризуется также поражениями респираторных органов только в более слабой степени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777160" cy="23158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500040" y="24130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хроническом  течении наблюдают конъюнктивит, а также отёк век, слезотечение, светобоязнь, геморрагии на третьем веке, скопления казеозной массы в конъюнктивальном мешке, кератит, панофтальмию. Инфекционный ларинготрахеит птиц часто осложняется микоплазмозом и др. болезн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2163600" y="42840"/>
            <a:ext cx="4249800" cy="1816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357200" y="1643040"/>
            <a:ext cx="671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авят на основании эпизоотологических и клинических данных, патолого-анатомических изменений и лабораторных исследован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42840"/>
            <a:ext cx="7978680" cy="2639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000080" y="242892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ологическим материалом служи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жизненно – это кровь, экссудат из трахе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трупов- слизистые оболочки гортани, трахеи, конъюктивы носовых проходов и кусочки легки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642960" y="857160"/>
            <a:ext cx="792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ЕКЦИОННЫЙ ЛАРИНГОТРАХЕИТ ПТИЦ (Laryngotracheitis infectiosa avium), контагиозная вирусная болезнь, характеризующаяся геморрагичным воспалением глотки и трахеи. Болезнь распространена в США, Канаде, Австралии, ФРГ, Италии, Индии и др. странах.Смертельность в среднем 15%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42840"/>
            <a:ext cx="9387000" cy="2639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571680" y="185724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пресс - методы: РИФ,РГА, обнаружение телец – включ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ологические исслед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выделение вируса в  культуре клеток почек эмбриона и цыплят, на куриных эмбрионах и цыплят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идентификация выделенного вируса в РН,РДП,ИФ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   Ретроспективная диагностика: РН,РДП,ИФ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1530360" y="109440"/>
            <a:ext cx="565632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1214280" y="2500200"/>
            <a:ext cx="6572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ереболевшая птица приобретает пожизненный иммунитет, котрый передается потомству через яйц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1"/>
          <a:stretch/>
        </p:blipFill>
        <p:spPr>
          <a:xfrm>
            <a:off x="2243160" y="255600"/>
            <a:ext cx="4329000" cy="1817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000080" y="1928880"/>
            <a:ext cx="707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ециальных средств нет. Применяют аэрозоли йодистых препаратов, хлорскипидар, антибиотики широкого спектра действ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1"/>
          <a:stretch/>
        </p:blipFill>
        <p:spPr>
          <a:xfrm>
            <a:off x="890640" y="182520"/>
            <a:ext cx="6978600" cy="1822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785880" y="1571760"/>
            <a:ext cx="7500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именяют сухую вирусвакцину. Иммунизацию проводят путем втирания вакцины стеклянным шпателем в слизистую оболочку верхнего свода клоак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14240" y="1000080"/>
            <a:ext cx="771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лезнь впервые зарегистрирована в США Меем и Тителером в 1925 г. Бигс (1930—1931 гг.) дифференцировал болезнь от инфекционного бронхи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1474920" y="42840"/>
            <a:ext cx="5797440" cy="1816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1643040"/>
            <a:ext cx="70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збудитель ДНК содержащий вирус, семейства Herpesviridae. Вирионы имеют кубическую симметрию, состоят из нуклеокапсида и наружной оболочки, содержащей 162 капсомера, размеры 50-90 н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1395360" y="42840"/>
            <a:ext cx="6548400" cy="18162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071720" y="1714680"/>
            <a:ext cx="7143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рус устойчив к высушиванию; в лиофилизированном виде сохраняет активность до 12 лет, в замороженном до 2 лет. Он мало устойчив к 1 %-му раствору щелочи и 3 %-му раствору крезола, полностью инактивируется в них через 30 секунд. Под прямыми солнечными лучами вирус утрачивает вирулентность в течение 7 час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109440"/>
            <a:ext cx="8058240" cy="1822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785880" y="1571760"/>
            <a:ext cx="7643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о культивируется на хорион-алантоисной оболочке эмбрионов кур, индеек, уток, на которой вирус вызывает 2 типа пор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ние круглых бляшек с не прозрачной белой периферией и некротическим центр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ние мелких бляшек без нек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 хорошо культивируется в культуре клеток фибробластов, почек и легких куриных эмбрионов, вызывая ЦПД в клет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642960" y="428760"/>
            <a:ext cx="7858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скопические изменения у зараженных эмбрионов появляются через 2,5-3 суток и к 5-6-му дню наиболее выражены. Установлено, что образование на хорион-аллантоисной оболочке мелкоузелковых поражений вызвано слабовирулентными вирусами, которые плохо поддаются взаимодействию со специфической сывороткой в реакции нейтрализации. При острых вспышках заболевания выделяются сильновирулеитные штаммы вирусов, вызывающие крупноочаговые образования на хорион-аллантоисной оболочке. В дальнейшем для типизации вируса используют экстраэмбриональные жидк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9326520" cy="1585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28760" y="12142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кубационный период составляет от 2 до 30 суток. Клинические признаки отличаются разнообразием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Ларинготрахеальная форм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является остро и характеризуется общим угнетением, вялостью, отсутствием аппетита, малоподвижностью. Дыхание затруднено, клюв открыт, слезоточение и изтечение из носовых отверстий. Птица откашливает эксудат, иногда с примесью крови. Смертность достигает 60%. При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нъюктивной форм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е клинические признаки- гиперемия слизистых оболочек глаз, дифотмация глазной щели, отечность век, светобоязнь и слезоточ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Фото1430.jpg"/>
          <p:cNvPicPr/>
          <p:nvPr/>
        </p:nvPicPr>
        <p:blipFill>
          <a:blip r:embed="rId1"/>
          <a:stretch/>
        </p:blipFill>
        <p:spPr>
          <a:xfrm>
            <a:off x="1071720" y="428760"/>
            <a:ext cx="7122960" cy="4287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50012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доровая и больная птица с пораженной конъюктив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3:17:15Z</dcterms:created>
  <dc:creator>Кристина</dc:creator>
  <dc:description/>
  <dc:language>en-US</dc:language>
  <cp:lastModifiedBy>Кристина</cp:lastModifiedBy>
  <dcterms:modified xsi:type="dcterms:W3CDTF">2012-09-27T16:22:08Z</dcterms:modified>
  <cp:revision>19</cp:revision>
  <dc:subject/>
  <dc:title>Слайд 1</dc:title>
</cp:coreProperties>
</file>