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B04-377C-41E8-8FC5-4BB64870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CF5-DAC3-4F71-B552-AAD6007B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1F84-A8A1-457B-84E8-F5940837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6A8-897D-49C3-8875-BBA0C1B8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5F77-A74D-47C4-861B-5E66E2AD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32B5-8E74-4B91-9A09-7D7D7B1E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25EA-8460-4588-A690-A0EE873C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DCCB-BD29-4C5F-B3F1-71CA8B3C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0214-D80F-46D4-9A9F-CDADED4C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BA35-0955-43D3-B5C6-DA6E9521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0147-8166-48EF-AA02-3496007A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255-40ED-43CD-98CC-82DCADEA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C95F-7A82-4110-BAAC-FFDC1D1B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06DF-A3BD-4980-9FA0-FB4114C2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DAAF-A161-4CF9-BC74-FA3EF5D9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7E85-280B-4D06-BB2D-0FFF7222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ED00-12E4-4DDB-9D95-293C390E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649-18E1-4823-90D6-37CD09C4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FF6-110E-48DD-9106-7587B52A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BF1-2BAE-4CC3-9B7A-CEE57030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0192-14BD-417F-841C-C6C8258B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8FA-4904-4886-A268-E08354F1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264-3A99-497C-B838-2135329B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4ED-597B-4A99-89D0-80DE69FB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9F29-160B-4AB0-9C1C-A97F15A4E3A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CEAE-928E-4B9B-862A-39C1C6C4EB3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1116000" y="2133720"/>
            <a:ext cx="714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нение ПЦР в диагностике инфекционный заболеваний животны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227240" y="0"/>
            <a:ext cx="668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324000" y="476280"/>
          <a:ext cx="8569080" cy="5688000"/>
        </p:xfrm>
        <a:graphic>
          <a:graphicData uri="http://schemas.openxmlformats.org/drawingml/2006/table">
            <a:tbl>
              <a:tblPr/>
              <a:tblGrid>
                <a:gridCol w="3159000"/>
                <a:gridCol w="5410080"/>
              </a:tblGrid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рогенитальные патогены  КР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следовательности праймер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hlamydophila abortus</a:t>
                      </a: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TG AAA CAT CCA GTC TAC TG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TG TGT AGT AAT ATT ATC AA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ritrichomonas foe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GG GTC TTC CTA TAT GAG ACA GAA C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CT GCC GTT GGA TCA GTT TCG TTA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ycoplasma bovigenitali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GT AGA TGC CGC ATG GCA TTT ACG 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AT TCA ATA TAG TGG CAT TTC CTA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ycoplasma bov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TA CGC AAG AGA ATG CTT 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AG GAA AGC ACC CTA TTG 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253440" y="115920"/>
            <a:ext cx="906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мерческие ПЦР тест-систем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выявления бактериальных патогено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574200" y="1700280"/>
            <a:ext cx="8647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явление возбудителя бруцеллеза «БРУ-КОМ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-------------------туберкулеза птиц «АВИУМ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--------------------туберкулеза КРС «МТБ-КОМ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-----------------кампилобактериоза «КАМ-БАК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----------------------------листериоза «ЛИСТЕР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------------------микоплазмоза КРС «МИК-КОМ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микоплазмоза птиц «МИК-СИН» и «МИК-ГАЛ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------------------------сальмонеллеза «САЛ-КОМ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----------------------------хламидиоза «ХЛА-КОМ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-----------------------------иерсиниоза «ЭНТЕРКОЛ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179280" y="1159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мерческие ПЦР тест-системы   для выявления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ных и протозойных  патоген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580680" y="1628640"/>
            <a:ext cx="85284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явление ротавирусной инфекции «РОТАВИР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--------------------------гриппа птиц «ГРИПП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---------------------лейкемии кошек «ЛЕЙКИС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--------африканской чумы свиней «АЧС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-------классической чумы свиней «КЧС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-----------иммунодефицита кошек «ВИК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--------------------------лейкоза КРС «Лейкоз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-------------------чумы плотоядных «ПОЛИЧУМ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-------------------ринотрахеита КРС «РИНОКОР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----------------------------иерсиниоза «ЭНТЕРКОЛ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---------------------------токсоплазмоза «ТОКС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мик05"/>
          <p:cNvPicPr/>
          <p:nvPr/>
        </p:nvPicPr>
        <p:blipFill>
          <a:blip r:embed="rId1"/>
          <a:srcRect l="20042" t="2749" r="47093" b="32363"/>
          <a:stretch/>
        </p:blipFill>
        <p:spPr>
          <a:xfrm>
            <a:off x="1403280" y="1413000"/>
            <a:ext cx="5972400" cy="4103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239480" y="981000"/>
            <a:ext cx="58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      2      3      4      5      6      7      8      9      10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К   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690920" y="3716280"/>
            <a:ext cx="54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   16   17   18   19   20    21   22   27   28   ПК    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09840" y="5618160"/>
            <a:ext cx="799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Шушары: 1-1, 2-2, 3-3, 4-4, 5-5, 6-6, 7-7, 8-8, 9-б/№, 10-10.   Торосово: 15 - Нутрия 1230, 16 - Игра 598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17 – Бегунья 488, 18 – Евразия 831, 19 – Дереза 1632, 20 – Лебедка 9682, 21 – Бархатная 503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22 – Верба 2111, 27 – Бронза 1345, 28 – Немка 1677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69320" y="189000"/>
            <a:ext cx="83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ыявление микоплазмы у коров Шушары и Торосов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микопл"/>
          <p:cNvPicPr/>
          <p:nvPr/>
        </p:nvPicPr>
        <p:blipFill>
          <a:blip r:embed="rId1"/>
          <a:stretch/>
        </p:blipFill>
        <p:spPr>
          <a:xfrm>
            <a:off x="309600" y="1139760"/>
            <a:ext cx="8524800" cy="49719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63720" y="746280"/>
            <a:ext cx="719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2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3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4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5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M        -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Б      2Б       ОК      П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Микоплазма лошади"/>
          <p:cNvPicPr/>
          <p:nvPr/>
        </p:nvPicPr>
        <p:blipFill>
          <a:blip r:embed="rId1"/>
          <a:stretch/>
        </p:blipFill>
        <p:spPr>
          <a:xfrm>
            <a:off x="611280" y="476280"/>
            <a:ext cx="7129440" cy="4081320"/>
          </a:xfrm>
          <a:prstGeom prst="rect">
            <a:avLst/>
          </a:prstGeom>
          <a:ln w="0">
            <a:noFill/>
          </a:ln>
        </p:spPr>
      </p:pic>
      <p:sp>
        <p:nvSpPr>
          <p:cNvPr id="186" name="Line 2"/>
          <p:cNvSpPr/>
          <p:nvPr/>
        </p:nvSpPr>
        <p:spPr>
          <a:xfrm>
            <a:off x="7740720" y="2637000"/>
            <a:ext cx="342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8064360" y="2421000"/>
            <a:ext cx="10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509 п.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79280" y="236520"/>
            <a:ext cx="842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Verdana"/>
                <a:ea typeface="Times New Roman"/>
              </a:rPr>
              <a:t>1     2  </a:t>
            </a: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Verdana"/>
                <a:ea typeface="Times New Roman"/>
              </a:rPr>
              <a:t>  3     4    5    6      7    М    8    9   10  </a:t>
            </a: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Verdana"/>
                <a:ea typeface="Times New Roman"/>
              </a:rPr>
              <a:t> 11   12   13 </a:t>
            </a: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Times New Roman"/>
              </a:rPr>
              <a:t>  </a:t>
            </a:r>
            <a:r>
              <a:rPr b="1" lang="ru-RU" sz="1200" spc="-1" strike="noStrike">
                <a:solidFill>
                  <a:srgbClr val="ffff00"/>
                </a:solidFill>
                <a:latin typeface="Verdana"/>
                <a:ea typeface="Times New Roman"/>
              </a:rPr>
              <a:t>  М   14   15         ПК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79280" y="4661640"/>
            <a:ext cx="882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лектрофореграмма продуктов полимеразной цепной реакции на  выявление носительства микоплазменной инфекции у 15 лошадей ФХ «Маланичевых» (1- Бессарабия, 2-Альянс, 3-Баллада, 4-Дельба, 5-Варвара, 6-Румба, 7-Графита, 8-Улыбка) и ООО «Ковбой» (9-Пихта, 10-Дзинтари, 11-Капля, 12-Малахия, 13-Лия, 14-Хибара, 15-Лолита). ПК – положительный контроль. М – маркер. Наличие полосы на уровне полосы у положительного контроля (509 пар оснований ДНК, указано стрелкой) означает присутствие микоплазменной ДНК в образц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8160" y="0"/>
            <a:ext cx="90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2400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имера́зная цепна́я реа́кция (ПЦР) — экспериментальный метод молекулярной биологии, позволяющий добиться значительного увеличения малых концентраций определённых фрагментов нуклеиновой кислоты (ДНК) в биологическом материале (пробе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333000" y="1197000"/>
            <a:ext cx="8441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ямое определение наличия возбудмтел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сокая чувствитель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сокая специфич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ыстрота получения результа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ьзование любого биологического материал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можность количественного учета реак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зопасность работы с биологическим материало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можность мультиплекс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можность автоматиза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12400" y="260280"/>
            <a:ext cx="87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имущества ПЦР в ветеринарной диагности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918720" y="115920"/>
            <a:ext cx="735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граничения метода ПЦР в диагностик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онных заболева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181080" y="1484280"/>
            <a:ext cx="8962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мплифицируется ДНК как живого, так и погибшег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кроорганизм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можность перекрестной реак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менчивость микроорганизм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обходимость специального оборудован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помеще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Не все инфекционные заболевания можн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агностировать с помощью ПЦ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0" y="18900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ры использования ПЦР в диагности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йкоз крупного рогатого ско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 лейкоза полиморфен, поэтому праймеры должны быть сконструированы к консервативным участкам генома вирус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v1 5980  5’-AATGAGCCTTGCTGTTTCCTGC-3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v2 6325  5’-CCCGTCAAACCCGATTACATCA-3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2"/>
          <p:cNvSpPr/>
          <p:nvPr/>
        </p:nvSpPr>
        <p:spPr>
          <a:xfrm>
            <a:off x="1116000" y="2205000"/>
            <a:ext cx="184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90600" y="18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Arial"/>
              </a:rPr>
              <a:t>Brucella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spp.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90600" y="1509840"/>
            <a:ext cx="822960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9c04b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ам-отрицательная бактер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9c04b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9c04b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культативная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нутриклеточная бактер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9c04b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9c04b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стойчивость во внешней сред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9c04b"/>
              </a:buClr>
              <a:buSzPct val="80000"/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мпература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pH,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лаж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9c04b"/>
              </a:buClr>
              <a:buSzPct val="80000"/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мороженный материа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9c04b"/>
              </a:buClr>
              <a:buSzPct val="80000"/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9c04b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ного разновидност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2556000" y="189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емейство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rucellacea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од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rucel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55640" y="1413000"/>
          <a:ext cx="7561440" cy="5445000"/>
        </p:xfrm>
        <a:graphic>
          <a:graphicData uri="http://schemas.openxmlformats.org/drawingml/2006/table">
            <a:tbl>
              <a:tblPr/>
              <a:tblGrid>
                <a:gridCol w="2397240"/>
                <a:gridCol w="1844640"/>
                <a:gridCol w="331956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ид бруце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Кол-во биовар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сновной хозяин возбуд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. melitens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козы и ов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. abort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крупный рогатый ско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. su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винь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. ov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в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. neotoma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кустарниковые кры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. can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оба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1794600" y="260280"/>
            <a:ext cx="59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ЦР диагностика бруцеллез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1629720"/>
            <a:ext cx="856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ЦР выполняется с праймерами к межгенной последовательности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16S-23S rRNA  Brucella spp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CATAGATCGCAGGCCAGTC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ATACCGACGCAAACGCTA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Размер продукта амплификации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214 bp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196920" y="260280"/>
            <a:ext cx="89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ЦР диагностика бруцеллеза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родолжение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27680" y="1268280"/>
            <a:ext cx="8366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ген белка внешней мембраны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B. abortus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omp-2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CG CTC AGG CTG CCG ACG CA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C AGC CAT TGC GGT CGG TA      - 193 b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Ген антигена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B. abortu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GG CTC GGT TGC CAA TAT CA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GC GCT TGC CTT TCA GGT CTG     - 223 b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42:33Z</dcterms:created>
  <dc:creator>Devilry</dc:creator>
  <dc:description/>
  <dc:language>en-US</dc:language>
  <cp:lastModifiedBy>Alina</cp:lastModifiedBy>
  <dcterms:modified xsi:type="dcterms:W3CDTF">2012-12-06T14:44:03Z</dcterms:modified>
  <cp:revision>63</cp:revision>
  <dc:subject/>
  <dc:title>ДНК</dc:title>
</cp:coreProperties>
</file>