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F40-F9D8-4B86-B09B-F7D845DD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147-651C-4DE2-A3D3-FFDD10D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1C2-D618-4E87-BCE8-C829ADC9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6AB-78E1-4344-ADB3-28AA1047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40F-D0A6-4D00-AEE9-6E8C2C98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2CB-2E9B-4F1F-BCC3-DF1D78E1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499-F5E1-4814-88F1-BEDD514E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828-3E4F-4243-8EE8-2E7F029F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D71-75C1-406A-A876-79AD5E28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1F5-FB52-4774-99D3-EDE14FC3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9A4-BAE4-4637-B4B1-275BEF3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58D-B321-42B4-A2BB-A3BEBD9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8996-B8CE-4E3E-922A-D54A2D7E3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zhivotnovodstvo.net.ru/m/temperaturnaya-lejkocintarnaya-krivye-11.jp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zhivotnovodstvo.net.ru/m/Virus-vydelyayut-na-kulturah-kletok-pochek-telenka-il-yagnenka-harakternye-citopatogennye-izmeneniya-12.jpg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РУСНАЯ ДИАРЕЯ КРУПНОГО РОГАТОГО СКОТА DIARRHOEA VIROSA BOVU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тогене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ав в организм, вирус поступает в кровеносную (лимфатическую) систему и, размножаясь, вызывает септицемию и изменения в стенках кровеносных сосудов. Иногда можно наблюдать дегенерацию мышечной оболочки артериол в подслизистой сычуга, тонкого и толстого отделов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фологический состав крови, как ответная реакция на внедрение и размножение вируса, изменяется раньше, чем появляются первые клинические признаки болезни. Уже в первые 1-2 дня после введения вируса отмечается резкая лейкопения (до 2-3 тыс.), выражающаяся в уменьшении нейтрофилов и эозинофилов. Морфологические изменения крови указывают на патологические и воспалительные процессы в кроветворных органах. В это время отмечается незначительный подъем температуры и удается обнаруживать в крови вирус, который может сохраняться в организме длительное время после переболе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имфатических узлах субкапуслярный синус обычно растянут и заполнен лейкоцитами, а иногда во внешнем участке коры отмечается интенсивная инфильтрация нейтрофилов. Это ведет к заметному увеличению лимфатических узлов. Подобные изменения бывают в селезенке и кроветворных орган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вязи с повреждением кровеносных сосудов происходит гиперемия и набухание слизистых оболочек, особенно пищеварительного тракта. Под действием вируса слизистые некротизируются, вследствие чего образуются мелкие эрозии. В дальнейшем процессе разрушения слизистых оболочек и в образовании эрозий и язв принимает участие различная микрофлора пищеварительного тракта (бактерии, грибы). Эти вторичные процессы на слизистых ведут к интоксикации организма и его истощ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мптомат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кубационный период продолжается 6-9, а иногда 2-14 дней. Клиническая картина болезни очень разнообразна. Различают латентное, подострое, острое и хроническое течение боле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ентное течение. Болезнь протекает без видимых клинических признаков, и переболевание устанавливают, обнаруживая в сыворотке крови специфические антитела. При этом антитела часто находят также и у клинически здорового крупного рогатого скота неблагополучных хозяйств, где ни разу не регистрировали данное заболевание. Например, Смит и сотр. (Smith et al., 1961) обнаруживали антитела у животных 31 хозяйства, в то время как болезнь клинически была зарегистрирована только в двух. Подобные результаты получил Либерман (Liebermann, 1966), который в при-балтийской области ГДР у 23,8% здоровых животных обнаружил антитела к вирусу диареи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строе течение, характеризуется внезапностью, подъемом температуры тела па 1-2°, учащенными сердцебиением и дыханием и частичным или полным отсутствием аппетита. У животных могут незначительно поражаться слизистые оболочки ротовой полости, а у некоторых появляются носовые истечения, кашель и кратковременная (12-24 часа) диарея. Джиллеспи и сотр. (Gillespie et al., 1961) наблюдали вирусную диарею, сопровождающуюся лихорадкой и лейкопенией. Понос и поражение слизистых оболочек отсутствовали. Иногда у больных животных наблюдают повышение температуры тела, гиперемию и цианоз слизистых оболочек носовой и ротовой полостей, атонию и понос. Флинн (Flinn, 1959) описал вирусную диарею, продолжавшуюся 2-4 дня и выражавшуюся проявлением поноса и снижением удо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://zhivotnovodstvo.net.ru/m/Pri-oslozhnenii-sekundar-noj-infekciej-obrazuyutsya-yazvy-kotorye-pokryvayutsya-gnojnym-10.jpg"/>
          <p:cNvPicPr/>
          <p:nvPr/>
        </p:nvPicPr>
        <p:blipFill>
          <a:blip r:embed="rId1"/>
          <a:stretch/>
        </p:blipFill>
        <p:spPr>
          <a:xfrm>
            <a:off x="1619280" y="260280"/>
            <a:ext cx="474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роническое т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линические признаки развиваются медленно, и болезнь трудно диагностировать. Животные постепенно истощаются, у них появляется постоянная или перемежающаяся ди-аоея. У некоторых животных она отсутствует. Другие признаки болезни чаще всего не проявляются. Животные могут долго болеть (до шести месяцев) и, как правило, погибают. Хронически болезнь протекает у животных при недостаточном кормлении, неудовлетворительных условиях содержания, у пораженных желудочно-кишечными гельминтами, а также в хозяйствах, где раньше болезнь протекала ост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ериментально воспроизведенное заболевание протекает с характерными, хотя и слабо выраженными клиническими, гематологическими и патологоанато-мическими признаками, наблюдаемыми при естественном течении болезни. Болезнь обычно протекает легко, принимая иногда хроническое течение и редко обусловливая гибель животного. Для экспериментально вызванной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русной диареи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ы двухфазная температурная реакция, которая отмечается па 2- 4-й и 7-10-й дни после заражения, и резкая лейкопения в период между температурными взлетами (рис. 2). Некоторые штаммы не вызывают заметного повышения температуры. Иногда экспериментально зараженные животные перебо-левают без видимых клинических призна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738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zhivotnovodstvo.net.ru/m/temperaturnaya-lejkocintarnaya-krivye-11.jpg"/>
          <p:cNvPicPr/>
          <p:nvPr/>
        </p:nvPicPr>
        <p:blipFill>
          <a:blip r:embed="rId1"/>
          <a:stretch/>
        </p:blipFill>
        <p:spPr>
          <a:xfrm>
            <a:off x="2050920" y="260280"/>
            <a:ext cx="44290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ологоанатомические из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рактерными патологическими изменениями являются геморрагии, гиперемия, отек, эрозии и язвы слизистых оболочек на всем пути пищеварительного тракта. На слизистых оболочках пищевода, тонкого отдела кишечника и сычуга иногда отмечаются обширные некр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рганах дыхания изменения незначительны и выражаются в появлении эрозий в области ноздрей и носовых ходов, а также в скоплении слизистого экссудата в гортани и трахее. Иногда на слизистой оболочке трахеи встречаются геморрагии в виде потехий и кровоподтеков. В легких выражена эмфиз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овеносных сосудах отмечают субэпикардиальные и субэндо-кардиальные геморрагии. Лимфатические узлы чаще без видимых изменений, но иногда они сильно увеличены и отечны. Почки увеличены, отечны, анемичны, под капсулой видны точечные кровоизлияния; часто наблюдается гиперемия и жировое перерождение мозгового слоя почек. В печени отчетливо выражены различной величины очаги некроза или жировой дегенерации, вследствие чего она увеличена и имеет оранжево-желтый цвет. Желчный пуз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7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агн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русная диарея может протекать с преобладанием признаков диареи или поражения слизистых оболочек. Симптомы болезни, данные гематологического исследования, характер патологических изменений и эпизоотологические данные позволяют поставить только предварительный диагноз, поскольку вирусная диарея может напоминать многие другие болезни: чуму, инфекционный ринотрахеит, инфекционный язвенный стоматит, грибковый стоматит, транспортную лихорадку, ящур, алиментарные отравления и др. Эти данные необходимо подтверждать объективными методами лабораторного исследования. К вирусу диареи не чувствительны морские свинки, золотистые хомяки, белые мыши и куриные эмбрионы независимо от метода заражения. Некоторые штаммы вызывают заболевание крольчат в возрасте до одного месяца. В организме взрослых кроликов вирус размножается, не вызывая появления клинически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деление и идентификация вир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я проведения вирусологических исследований берут кровь от больных животных, а от трупов- селезенку, мезентериальные лимфатические узлы, пораженные участки слизистых, оболочек и другие органы и ткани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рус выделяют на культурах клеток почек теленка или ягненка, в которых он вызывает характерные цитопатогенные измен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рис. 3). Можно использовать культуру клеток тестикулов крупного рогатого скота. Идентификацию возбудителя проводят в реакции нейтрализации на. культурах клеток со специфическими сыворотками к эталонному или известному штамму вируса диареи. Диагностические сыворотки преимущественно получают па кроликах и реже на теля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ножение слабовирулентных или нецитопатогенных штаммов обнаруживают при помощи метода иммунофлуоресценции или заражая исследуемым материалом телят, от которых в реакции нейтрализации на культуре клеток исследуют парные сыворотки с известным цитопатогенным штаммом. Сыворотки получают до заражения и примерно через 3 недели после заражения. Таким же-образом испытывают сыворотки от животных в неблагополучном очаге. Диагностическим признаком положительной реакции является наличие или повышение титра антител во второй пробе сыворотки. Этот метод облегчает постановку диагноза при легком течении боле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им из быстрых и простых методов лабораторной диагностики вирусной диареи является реакция диффузионной преципитации в агаровом геле (РДП). Для исследования берут в первую очередь измененные участки слизистых оболочек пищеварительного тракта и мезентериальные лимфатические узлы. Однако этим методом не всегда удается обнаружить антиген. Например, Дарбишайр (Derbyshire, 1962) при летальном исходе обнаруживал антиген в 86% случаев, при вынужденном убое- в 14, а клинически переболевшие животные реагировали в пределах 25-30%. Поэтому РДП может быть использована для групповой диагностики боле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http://zhivotnovodstvo.net.ru/m/Virus-vydelyayut-na-kulturah-kletok-pochek-telenka-il-yagnenka-harakternye-citopatogennye-izmeneniya-12.jpg"/>
          <p:cNvPicPr/>
          <p:nvPr/>
        </p:nvPicPr>
        <p:blipFill>
          <a:blip r:embed="rId1"/>
          <a:stretch/>
        </p:blipFill>
        <p:spPr>
          <a:xfrm>
            <a:off x="971640" y="692280"/>
            <a:ext cx="710568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1311572330_cow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их средств лечения нет. Иногда целесообразно применение симптоматических средств. При диарее используют вяжущие средства, позволяющие уменьшить потерю воды и солей и таким образом значительно снизить потерю в весе. Применение антибиотиков и сульфаниламидных препаратов позволяет бороться с микроорганизмами, которые могут проникать в организм через поврежденный эпителий пищеварительного трак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мунит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ирусной диарее иммунитет мало изучен. Установлено наличие иммунологически различных штаммов ее возбудителя. Наблюдения отдельных исследователей показали, что пере-болевание создает длительный иммунитет и повторное заражение наступает редко. В частности, Лейнен и Веллеманс (Leunen, Welle-mans, 1065), а также Притчард (Pritchard, 1963) сообщили, что телята, перенесшие экспериментальную инфекцию, были резистентны к повторному заражению в течение 12-16 месяцев. Другие сообщения свидетельствуют, что даже при заражении животных гомологичным штаммом иммунитет не превышает 4-5 месяцев, рецидивы болезни отмечаются даже через 3-4 месяца. Видимо, иммунитет при вирусной диарее чаще продолжитель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илактика и меры борь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неблагополучных хозяйствах и угрожаемых районах в некоторых странах с целью специфической профилактики рекомендуют использовать вакцину, изготовленную из вируса диареи, ослабленного на кроликах или аттенуи-рованного в культуре клеток. При двукратном внутримышечном введении она создает надежный иммунитет до шести месяц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дельных случаях рекомендуют применять специфическую лечебную сыворотку или кровь переболевших животных. В частности, Шимони и сотр. (Simoni et al., 1965) в Венгрии изготовили на телятах эффективную сыворотку, которая в разведении 1 : 1024 нейтрализовала не менее 1500 ТЦД50 вируса. Однако до настоящего времени вакцины и сыворотки против вирусной диареи применяют редко, в основном для защиты цен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е значение в проведении мероприятий при данной болезни имеет опыт ветеринарных специалистов, так как единых правил ни в одной стране пока нет. Если диарея протекает остро, злокачественно, профилактика и меры борьбы основываются на изо-.ляции и убое больных животных и дезинфекции мест их содержания и средств транспортировки щелочью или фенолом. В неблагополучных и угрожаемых районах ограничиваются движение скота и его перегруппировка. Карантинные мероприятия не разработ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Image660"/>
          <p:cNvPicPr/>
          <p:nvPr/>
        </p:nvPicPr>
        <p:blipFill>
          <a:blip r:embed="rId1"/>
          <a:stretch/>
        </p:blipFill>
        <p:spPr>
          <a:xfrm>
            <a:off x="826920" y="476280"/>
            <a:ext cx="669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tab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kr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л: студент 3 кур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аров Андр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ография боле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стоящее время болезнь распространена .во многих странах почти всех континентов земного шара. Отдельные вспышки вирусной диареи в последние годы зарегистрированы на территории Советского Союза (К. Н. Бучнев с сотр. ,1967; В. Г. Макаревич с сотр., 1967; В. С. Белоконь, 197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будител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НК-содержащий вирус, обладающий спиральным типом симметрии с величиной хода витка около 180 А. По сообщениям Гермодсона и Динтера (Hermodson, Dinter, 1962), Xaka (Huck, 1961), Шоопа и Вахендорфера (Schoop, Wachendorfer, 1963), величина вирусных частиц равна 30-40 ммк. По данным Бюрки (Btirki, 1965) и Лейнена с Веллемансом (Leunen, Wel-lemans, 1965), она равна 50 ммк, а вирус, выделенный в Италии Цилли (СПИ, 1967), имел величину вирионов около 57-58 ммк, Дутта и сотр. (Dutta et al., 1965), изучая вирус диареи под электронным микроскопом, установили, что он имеет сферическую форму, величина его равна 75-85 ммк. Однако, учитывая сообщения большинства исследователей, необходимо принять во внимание, что величина частиц вируса диареи колеблется в пределах 30-50 мм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29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ойчив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рус диареи может годами сохраняться при температуре ниже минус 20°. В культуральной жидкости при температуре минус 15° он сохраняет биологическую активность до года, а в крови, лимфатических узлах, селезенке и другом патологическом материале-до шести месяц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устойчив возбудитель при положительных температурах. При 25° в течение суток он практически не снижает свою биологическую активность, а при 35° остается активным в течение 72 часов. По сообщениям Эндрюса (Andrewes, 1964) и Тейлора с сотр. (Taylor et al., 1963), прогревание при 56° приводит к полной инактивации вируса в течение 35 минут. Грачек (Grat-zek, 1961) считает, что существуют теплоустойчивые варианты этого возбуд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даря содержанию в вирионах липидов, вирус чувствителен к эфиру, хлороформу, трипсину и дезоксихолату. По да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йлора и Хака, имеются и эфироустойчивые штаммы. В кислой среде вирус быстро инактивируется. Так, в опытах Дитчфиль-да (Ditchfield, 1964) при рН 3,0 он погибал в течение четырех часов. Во внешних условиях возбудитель диареи, по-видимому, довольно устойчив, о чем свидетельствует его сохранение в экскретах до пяти месяц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пизоотология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естественных условиях к вирусной диарее восприимчив крупный рогатый скот. Панди с сотр. (Рап-dey et al., 1961) установили вирусную диарею среди буйволов, а Ричард и сотр. (Richards et al., 1956) и Цилли наблюдали заболевание оленей, характеризовавшееся обильным выделением слюны, носовыми истечениями и изъязвлениями слизистых оболочек пищеварительного тракта. Ромвари (Romvary, 1965) в Венгрии зарегистрировал данную болезнь среди косуль и выделил от них вирус диареи. О восприимчивости других животных сведений нет, хотя Френч (French, 1962) в Австралии обнаружил антитела к вирусу диареи в крови овец (16%) и свиней (20%). Шиотт и Хильдгард (Schiott, Hyldgaard, 1962) выделили вирус диареи от крупного рогатого скота и человека и обнаружили у них антитела к данному вирусу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вирусной диарее наиболее восприимчивы животные в возрасте от шести месяцев до двух лет независимо от пола. Более молодые телята и животные старше двух лет болеют значительно реже. Ремсей и Чиверс (Ramsey, Chivers, 1957) наблюдали заболевание среди 3-7-летних коров, а Шиппер и Эвелет (Schipper, Eve-leth, 1957) зарегистрировали данную инфекцию среди телят в возрасте 16-96 часов. В отдельных случаях даже 8-месячные плоды имели поражения слизистых обол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krs_4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точником 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ат больные животные. Бэгель (Bogel, 1964) считает, что в ГДР резервуаром вируса диареи являются овцы, так как в их сыворотках часто обнаруживают специфические антитела к вирусу диареи. В зависимости от стадии болезни возбудитель из организма выделяется с калом, мочой, слюной, носовыми и глазными секретами, а также с экссудатом воспаленных очагов. При этом вирусоносительство может быть довольно продолжительным. Гутекунсту и Малмквисту (Gutekunst, Malmquist, 1963) удавалось выделять вирус из крови телят в течение четырех месяцев после их переболевания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мотря на широкое распространение, пути и способы передачи инфекции в естественных условиях мало изучены. Причиной эпизоотии часто является скопление животных, среди которых есть вирусоносители или животные в инкубационном периоде болезни. Шиппер с сотр. считают, что распространению инфекции может способствовать обслуживающий персон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знь чаще протекает в виде энзоотии. Бюрки и Герман (Biirki, Germann, 1964) установили, что при высоком проценте инфицирования животных в стаде болезнь протекает без видимых клинических признаков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русную диарею можно наблюдать в течение всего года и в озникновении вспышек не отмечено определенной сезонности, хотя в холодное время года число их увеличивается. В одних случаях большинство вспышек зарегистрировано осенью и зимой, в других - весной. Возможно, это объясняется климатическими условиями страны. Существенную роль в исходе болезни играют содержание животных, биологическая характеристика штамма, степень инфицирования стада и другие факт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7:59:16Z</dcterms:created>
  <dc:creator>Студент</dc:creator>
  <dc:description/>
  <dc:language>en-US</dc:language>
  <cp:lastModifiedBy>Студент</cp:lastModifiedBy>
  <dcterms:modified xsi:type="dcterms:W3CDTF">2012-10-18T08:23:50Z</dcterms:modified>
  <cp:revision>3</cp:revision>
  <dc:subject/>
  <dc:title>ВИРУСНАЯ ДИАРЕЯ КРУПНОГО РОГАТОГО СКОТА DIARRHOEA VIROSA BOVUM </dc:title>
</cp:coreProperties>
</file>