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86D-24EB-487D-B2CB-6A284C64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24B-4B63-4ADD-AFBA-C9EED657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BD6-D59B-4CEF-87CE-C98C7A00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283-256C-4C8C-B8A6-E5DE0C49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FF0F-9079-4D2C-9DFE-770DAD77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42E1-1A36-4066-AAB9-D28B1169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15A2-5EC4-4CB7-88A1-81ED67F7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04FE-C327-4D4A-B553-47E3C78E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CC51-992F-4846-A7DA-7BE60CD1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5400-807F-4E62-B272-32FA773D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8C50-E6A4-439C-9BEB-CD10C6B1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B22A-4676-439D-B36F-2EDCF173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A160-1C65-483A-8EFA-DFECD8DB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CB26-3DF1-4930-AF6B-1BA6FF7A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7293-A6A0-4848-A462-B3B48D57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6DBC-D2F3-43C4-BA76-0769A74E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457C-EE75-41D1-8580-A4672CAD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E4D-6670-4056-B452-03C6C220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61F8-87B5-4C40-8416-20F52511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1CAB-F2C8-4C1F-84D3-E2AC2A70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8AE-051D-49A1-B292-9F829B01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686-0846-4E8A-9846-74BAC629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EFD4-AEC5-4BE2-B76D-1972B515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B04B-173D-4958-9ED6-CE3EF7BA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DBFE-8B59-44C8-B5C0-1B675E50A5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4B4D-BC58-481C-B73D-C31E058A26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b2b2b2"/>
                </a:solidFill>
                <a:latin typeface="Comic Sans MS"/>
              </a:rPr>
              <a:t>Ящур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omic Sans MS"/>
              </a:rPr>
              <a:t>Эпизоотологические данные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аиболее восприимчивы к ящуру крупный рогатый скот и свиньи; овцы и козы, а также дикие парнокопытные животные менее чувствительны. Имеются наблюдения об адаптации вируса к отдельным видам животных, например к свиньям или овц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Заражение животных происходит преимущественно через слизистые оболочки ротовой полости при поедании кормов и питья, облизывании различных инфицированных предметов. Вирус может проникать в организм через поврежденную кожу вымени и конечностей (чаще) и аэрогенно при совместном содержа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атогене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ходными воротами для вируса служат в первую очередь слизистые оболочки ротовой полости и дыхательных путей. Первичная репродукция вируса происходит уже через 18 ч после заражения в слизистой оболочке глотки, лимфоузлах и миндалинах головы и шеи. В местах внедрения вируса образуются первичные афты. Отсюда вирус по лимфатическим путям попадает в кровь и затем в органы лимфоидно-микрофагальной системы, где имеются оптимальные условия для обильного накопления его и образования очага инфекции, предшествовавшего развитию повторной виремии. Клинически эта фаза болезни проявляется повышением температуры тела, быстрым образованием вторичных или генерализованных афт и экзантемы на не покрытых волосами участках кожи (носовое зеркало, носовые отверстия, кожа вымени, иногда мошонка и корни рога), на слизистых оболочках (ротовой полости, пищевода, рубца, влагалища) и на коже вокруг копыт (венчика, межкопытной щели, мякишей). Обычно это происходит через 48 ч после заражения или несколько позж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omic Sans MS"/>
              </a:rPr>
              <a:t>Течение и симптомы.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Наиболее характерно признаки болезни выражены у взрослого крупного рогатого скота. У других восприимчивых животных, особенно у ягнят, поросят и телят, они могут быть менее типичными. Возможно доброкачественное и злокачественное проявление ящура. Инкубационный период длится от 36 ч до 7 дней, очень редко — до 21 д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ервый признак заболевания — повышение температуры тела животного до 41 °С и выше. У больных отмечают состояние прострации, учащение пульса, покраснение слизистой оболочки ротовой полости и конъюнктивы, нарушение жвачки и уменьшение выделения молока, сухость носового зеркальца, отечность венчика копыт. Голова у животных опущена, они часто стонут. Затем начин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тся обильное слюноотделение, которое сопровождается скрежетом зубов и равномерным причмокиванием. Животные очень осторожно пережевывают корм, глотание болезненно. У них возникает жажда, появляется хромота. На коже венчика копыт и межкопытной щели заметны отечность, отмечается повышенная чувствительность. Животные стараются не наступать на пораженную конечность, часто переступают с ноги на ногу. Через 3 дня заболевания температура тела снижается и появляется экзантема. При осмотре полости рта находят значительные пора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окраснение слизистой оболочки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ротовой пол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46213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Дегенеративные изменения в мышце сердца («тигровое сердце»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5356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оражение дес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4825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а внутренней поверхности языка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оявляются  аф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5472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2b2b2"/>
                </a:solidFill>
                <a:latin typeface="Arial"/>
              </a:rPr>
              <a:t>Ящур у свиней протекает с образованием афт на «пятачке», вымени и на венчике копытец. Животные много лежат, передвигаются ползком, опираясь на запястные суставы. При развитии экссудативного процесса и травмировании больных конечностей происходит отслоение и спадение рогового башмака. В неблагополучном стаде от ящура обычно погибают все поросята-сосуны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2421000"/>
            <a:ext cx="835164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3529080" cy="3384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356000" y="2708280"/>
            <a:ext cx="35989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тслоение и спадение рогового башмака у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ви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219640" y="907920"/>
            <a:ext cx="2808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3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Ящур (Aphtae epizooticae) — высококонтагиозная, остропротекающая вирусная болезнь домашних и диких парнокопытных животных, характеризующаяся лихорадкой и афтозными поражениями слизистой оболочки ротовой полости, кожи вымени и конечност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omic Sans MS"/>
              </a:rPr>
              <a:t>Диагноз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тавят его на основании анализа эпизоотических данных, клинических признаков и результатов лабораторных исследований. Разработан ряд методов, позволяющих в течение короткого времени исследовать патологический материал с целью установления или исключения ящура. В лабораторию направляют кровь, стенки и содержимое афт, кусочки сердечной мышцы, на вирусоносительство – соскобы со слизистой оболочки глотки или пищев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omic Sans MS"/>
              </a:rPr>
              <a:t>Лабораторная диагност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. Экспресс- методы: РИФ, РС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. Вирусологические исследовани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а) Выделение вируса на мышатах- сосунах, морских свинках, культуре клеток свиной почки и щитовидной железы, естественно – восприимчивых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б) идентификация выделенного вируса в РСК, РДП, РПГА, Р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. Ретроспективная диагностика : РПСК, РДП, РИД, РНИФ, РН, РУС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omic Sans MS"/>
              </a:rPr>
              <a:t>Иммуните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Продолжительность иммунитета у КРС, переболевшего ящуром составляет 8-12 мес, у свиней 10-12, у овец около 18 мес.При ящуре возникает тканевый и гуморальный иммуните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omic Sans MS"/>
              </a:rPr>
              <a:t>Лечение.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Больных животных выделяют из стада в изолированное помещение (летний лагерь, навес) и лечат иммунолактоном, лактоглобулином, сывороткой (кровью) реконвалесцентов. Животным дают мягкие питательные корма и чистую воду. Ротовую полость промывают вяжущими и антисептическими препаратами. Пораженные участки конечностей и вымени обрабатывают хирургическим способом и затем применяют различные лечебные мази, обезболивающие средства и антибиотики. При необходимости больным животным вводят сердечные препараты и внутривенно растворы глюкозы, хлорида кальция и хлорида натр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ервое сообщение о заболевании животных ящуром сделано в Италии (Fracastro, 1546). Болезнь животных, сопровождающуюся обильным слюнотечением, неоднократно отмечали в ряде стран Европы в XVII—XIX вв. Вирусную природу ящура установили Леффлер и Фрош (1898), а плюралитет (множественность) возбудителя — Балле и Карре (1922), что имело большое практическое значение в разработке средств специфической диагностики и профилактики боле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озбудитель — РНК-содержащий вирус, относящийся к роду риновирусов семейства Picornaviridae. Размер вириона 20—25 нм. Вирус имеет сложный белковый (антигенный) состав. По антигенным свойствам его подразделяют на 7 серологических тип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троение вируса ящура под электронным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микроскоп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97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Модель виру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537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ирус хорошо репродуцируется в культурах клеток эпителиальных тканей восприимчивых животных с проявлением ЦПД. Обладает высокой вирулентностью — 104,5 — 106ИД50/мл для мышат-сосунов. Пассирование вируса легко осуществляется на лабораторных животных (морских свинках, мышатах и крольчатах). В организме животных вирус индуцирует образование вируснейтрализующих, комплементфиксирующих и преципитирующих антител, специфических для каждого серотипа возбудителя. Поэтому РПГА, РН, PCK, реакция серозащиты и перекрестного иммунитета используются для дифференциации серотипов и вариантов вируса ящ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omic Sans MS"/>
              </a:rPr>
              <a:t>Устойчивость.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ирус устойчив к эфиру и хлороформу, не инактивируется 1 %-ным раствором фенола, 75 %-ным этиловым спиртом, выдерживает действие лизола и толуола в концентрациях, убивающих ряд других вирусов и бактерий. Он чувствителен к изменению рН среды (при рН ниже 6 и выше 10 инфицированность среды быстро теряется). Устойчивость вируса значительно повышается, если он содержится в отторгнутых стенках афт. На горных пастбищах может сохраняться до следующего пастбищного сезона; в сточных водах в холодное время года выживает до 103 дней, в летнее — 21 день, осенью — 49 дней. На шерстном покрове животного вирус сохраняется до 50 дней, на одежде — до 100, в помещениях —до 70 дней. Вирус обладает большой устойчивостью к химическим веществам, и широко применяемые для дезинфекции растворы хлорной извести, фенола и креолина убивают его лишь через несколько часов. Лучшими дезинфицирующими средствами являются растворы формальдегида (2 %-ный) и гидроокиси натрия (1—2 %-ный), губительно действующие на вирус ящура в первые 10—30 ми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Comic Sans MS"/>
              </a:rPr>
              <a:t>Культивирование</a:t>
            </a:r>
            <a:br>
              <a:rPr sz="6000"/>
            </a:b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ирус культивируется на естественно – восприимчивых и лабораторных животных: новорожденных мышатах и крольчатах, морских свинках, хомяках 60-суточного возраста. Хорошо репродуцируются в культуре клеток почек чувствительных животных, в культуре эксплантантов эпителия языка КРС и в некоторых перевиваемых линиях клеток с выраженным ЦП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1:22:57Z</dcterms:created>
  <dc:creator>Клиент</dc:creator>
  <dc:description/>
  <dc:language>en-US</dc:language>
  <cp:lastModifiedBy>Admin</cp:lastModifiedBy>
  <dcterms:modified xsi:type="dcterms:W3CDTF">2012-04-24T10:46:15Z</dcterms:modified>
  <cp:revision>13</cp:revision>
  <dc:subject/>
  <dc:title>Листериоз</dc:title>
</cp:coreProperties>
</file>