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05C71-4224-49D4-8A09-7240773F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A7F5E-609B-434A-B528-1D2E6E98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A75D-D7DE-42E5-B5AB-01B88167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432A4-F888-42A6-AA45-804C4D49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D086-D525-4D1D-AE96-174D6B0B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8F84-537F-4794-AD1B-5D7667CE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B622-1C96-4426-ACEC-23BF6CBE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67B0-99B9-476F-A8D8-78D34F8F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45CA-99B8-4F9C-A507-2CD360ED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CBCF-8F28-46F4-8D2B-0B16DE69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9960-354C-49C7-ADDD-EFD98C2E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32F7-73FA-4100-BC31-D1385CCF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7209-D79B-47F6-AA37-B2D8BAFF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DEA6-4FC1-4A6A-B47F-3F52FFF0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9E1C-CE9A-4746-906D-66A72A4E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DD36-3208-4AF2-9568-6143E8B0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9842-DDE5-4D21-9A0C-6C2E902B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83A6E-F45B-42DB-B9FC-9FDBF1AC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526B5-DB5A-4E6F-B8D4-331E1346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DDBC2-0CCF-41A4-81CA-5C9968E5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2721D-241D-4580-B381-3B4F0ED6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5E36B-5313-4D67-9BF7-70134496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D305-22F4-4358-A97F-684E255C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77963-DC99-479F-AB60-E0B024E1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6FDA-C06F-4ECB-A0DF-7B83BBC93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D80D-05D7-4B0C-9B47-68A6AEBA71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403280" y="1916280"/>
            <a:ext cx="662472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Бешенств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пизоотологические данны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штаммов рабического вируса, поддерживаемых в организме собак или волков, харак­терна высокая тропность к центральной нерв­ной системе и низкая —к висцеральным органам. Поэтому вирус выделяется со слюной, но он отсутствует вкрови, моче, молоке больных живот­ных. Соответственно естественноераспространение бе­шенства среди собак почти полностью зави­сит от классическойцепи передачи укус — р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иментарный и аэрогенный пути заражения в принципевозможны, но имеют очень небольшое значение, чаще вообще не играют никакойроли. Почти все случаи передачи бешенства от собак и волков человеку исельскохозяйственным жи­вотных также объясняются попаданием вируссодержащейслюны в раны, нане­сенные при укусах. Однако возможно заражение и при ослюненииповрежденной кож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рус обнаруживают в слюнных железах 54 — 90 % погибших от бешенства собак.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тогене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заражении восприимчивого животного вирус непро­должительное время сохраняется у места внедрения, а затем по центростремительным нервнымволокнам проникает в спинной и голов­ной моз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ножение вируса в серомвеществе мозга обусловливает развитие диффузного негнойного энцефалита. Из мозга по центробеж­ным нервным путям вирус попадает в слюнные железы. Здесь он репродуцирует в нервных узлах и после дегенерации нервных клеток выходит впротоки желез, инфицируя слюну. Из мозга вирус нейрогенным путем транспортиру­ется также в сетчатку и роговую оболочку паз, надпочечники, где, видимо, тоже репродуцируетс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инические признаки и течени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кубационный период может варьировать в пределах от несколь­ких дней до года и более, но чаще всего сос­тавляет 3—6 недель. Его продолжительность зависит от места и силы укусов, количества и вирулентности внесенного в рану вируса, степени устойчиво­сти покусанного животного. Срок инкубации у молодняка обычно короче, чем у взрослых живот­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бешенства характерно острое течение. Клинические признаки в принципесходны у животных всех видов, но лучше всего изучены . собак. Бешенство у нихобычно проявляется в буйной или тихой форм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  крупного  рогатого ско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обладает паралитическая форма бешенства,   при   которой  признаки   возбуждения   отсутствуют. Животные   отстают  от   стада,   прекращается   жвачка,   затрудняется глотание (это может  стать  поводом для  обследования  полости рта глотки), появля­ется слюнотечение, мычание становится слабым, хриплым,походка шаткой. Часто отмечают ато­нию преджелудков, запор. тем развиваются параличи конечностей. При буйном бешенстве жи­тное  рвется с  привязи,  хрипло ревет,   подняв  вверх  голову,   роет огами землю,бросается на стены, ломает изгороди. Агрессивность   особенно  выражена   по   отношению  к   собакам и   кошкам, отмечают слюнотечение, потливость, частые позывы к мочеотделению дефекации,   не­редко — признаки   полового  возбуждения.   Обессилев, животное   лежит,  совершая   плаватель­ные   движения   конечностями. Следовательно, развиваются параличи мышц нижней челюсти,языка, язык   свисает  изо   рта,   непрерывно  течет  слюна,   задних,  а   затем передних конечностей.На 3 —6-й день болезни наступает смер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&amp;Vcy; &amp;Dcy;&amp;ocy;&amp;ncy;&amp;iecy;&amp;tscy;&amp;kcy;&amp;ocy;&amp;jcy; &amp;ocy;&amp;bcy;&amp;lcy;&amp;acy;&amp;scy;&amp;tcy;&amp;icy; &amp;kcy;&amp;ocy;&amp;rcy;&amp;ocy;&amp;vcy;&amp;ycy; &amp;ucy;&amp;mcy;&amp;icy;&amp;rcy;&amp;acy;&amp;yucy;&amp;tcy; &amp;ocy;&amp;tcy; &amp;bcy;&amp;iecy;&amp;shcy;&amp;iecy;&amp;ncy;&amp;scy;&amp;tcy;&amp;vcy;&amp;acy;"/>
          <p:cNvPicPr/>
          <p:nvPr/>
        </p:nvPicPr>
        <p:blipFill>
          <a:blip r:embed="rId1"/>
          <a:stretch/>
        </p:blipFill>
        <p:spPr>
          <a:xfrm>
            <a:off x="6516720" y="836640"/>
            <a:ext cx="2303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овец и ко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буйной форме бешенства также отмечают агрессив­ность,особенно по от­но­шению к собакам. Жи­вотные скрежещут зуба­ми, топают ногами,бо­даются. Обычно появля­ются признаки полового возбуждения. Заметнослюнотечение. Быстро развиваются параличи. Со второго дня бо­лезни отмечаютшаткость зада, внезапные падения. На 3 —5-й день болезни живот­ное погибает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 лошад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признаки буйной формы болезни — пугли­вость,беспокойство, иногда — расчесывание места укуса. Отмечают час­тые позывы кмочеиспусканию, сильные тенезмы, возможны приступы колик. Приступы буйствахарактеризуются стремлением сорваться с при­вязи, убежать, агрессивностью;иногда появляются признаки полового возбуждения. Буйство сменяется депрессией. Затрудняется глотание, ржание становится хриплым, появляется слюнотечение.Отмечают спазматические сокращения лицевых мышц (особенно жева­тельных). На 2—3-й день болезни становится заметной шаткость зада, а затем развиваются пара­личи мышц задних конечностей и всего тела. Смерть обычно наступает на 3 — 4-й день смомента появления первых признаков заболевания, но иногда — через сутки. Припаралити­ческой форме болезни, которая бывает нередко в случаях заражениялошадей от диких плотоядных, стадия воз­буждения выпадае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ешенство свин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5770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большинстве случаев протекает в буйной форме. Быстронарастает возбуждение. Свиньи мечутся в станке, хрипло хрюкают, разбрасываютподстилку, становятся агрессивными (иногда свиноматки набрасываются насобственных поросят), появляется сильное слюнотечение. Иногда отмечают рвоту,зуд в местах укусов. Затем развиваются параличи. Общая продолжительность болезни —1—4, редко —6 —7 дней. При паралитическом бешенстве возбуж­дения неотмечают. Больные свиньи становятся вялыми, нарушается координа­ция движений.Вскоре развиваются параличи.</a:t>
            </a:r>
            <a:br>
              <a:rPr sz="2100"/>
            </a:br>
            <a:br>
              <a:rPr sz="24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372360" y="148428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372360" y="3860640"/>
            <a:ext cx="2381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тологоанатомические измен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пецифичны и имеют определен­ное диагностиче­ское значение лишь с учетом клинических наблюдений. При осмотре трупов часто отмечают исто­щение, находят следы укусов, иногда — расчесов. Шерсть головы и шеи обычно смочена слюной. При вскрытии отмечают застойное полнокровие внутренних органов Желудок обычно пуст, но у плотоядных в нем могут быть различные несъедобные предметы. У жвачных животных обнаружи­вают сухие и плотные кормовые массы в сетке и книжке. Нередко слизистые оболочки желудка и тонких кишок катарально воспалены, местами с кровоизлияниями. Головной мозг и его оболочки отечные, часто — с мелкими кровоизлияниям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агноз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619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едварительный диагноз ставят с учетом эпизоотологических и клинических показателей Принимают во внимание особенности эпизоотической ситуации в данной местности и соседних районах, учитывают сезонность болезни и данные -анамнеза, свидетельствующие о нападе­нии (или появлении) подозрительных позаболеваний диких животных, собак. Из клинических признаков наиболее важны агрессивность животных, развитие парезов и параличей. Клинико-эпизоотолоческий диагноз дает основания для немедленного проведения мероприятий, предупреждающих возможность заражения людей и животных, но он должен быть уточнен дальнейшими исследованиями.</a:t>
            </a:r>
            <a:br>
              <a:rPr sz="1700"/>
            </a:b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683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лабораторию направляют труп (или голову) мелкого животного, и   от  крупных — голову   или   головной  мозг.   Труп,   голову  посылают   в   двойных полиэтилено­вых мешках, в металлическом контейнере или в другой влагонепроницае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шенст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Lyssavir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мейства Rhabdovirida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будитель бешенств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abies viru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637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филактика и меры борьб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филактика бешенства сельскохозяйственных животных бази­руется на предохранении от нападения на них диких хищников на пастбищах и фермах. Для охраны используют иммунизи­рованных собак. В районах развитого отгонного и пастбищного животноводства прово­дится мас­совая профилактическая вакцинация крупного рогатого ск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762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51130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шен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одобоязнь, гидрофобия (Rabies) — это остро протекающая инфекционная болезнь, характеризующаяся признаками диссеминированного полиоэнцефаломиели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ым этапом дальнейших научных исследований было открытиеспецифических  включений в нейронах головногомозга (В. Бабеш, 1887, и А. Негри 1903). Мик­роскопическое исследованиеголовного мозга на наличие телец Бабеша -Негри стало основным методомдиагностики бешенств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ёные - исследователи: Н. А. Михин, А. В. Дедюлин, С. Н. Муромцев, Е. В. Туревич 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2857320" cy="2076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5051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 другие рабдовирусы, он имеет пулевидную форму. Длина вирионов — 180 нм, диаметр — 75 — 80 н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рус удается культивировать в развивающихся куриных и утиных эмбрионах, в культурах некоторых клет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таммы возбудителя бешенства, циркулирующие в природе (улич­ный вирус), патогенны для всех теплокровных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иболее высоких титрах вирус накап­ливается в центральной нервной системе зараженных животных, особенно в аммоновых рогах икоре больших полушарий головного мозга, в мозжечке и продолговатом мозге. Высокий титр воз­будителя бешенства и в слюнных и слезных железа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67200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ичают природный тип бешенства, очаги которого формируются дикими животными (волк, лисица, енотовидная собака, шакал, песец, скунс, мангуст, летучие мыши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одской тип бешенства (собаки, кошки, сельскохозяйственные животные). Большинство случаев смерти людей происходит в результате укуса инфицированной соба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42920" y="4365720"/>
            <a:ext cx="4321080" cy="237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588000" y="3860640"/>
            <a:ext cx="22496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ются три формы проявления бешенства – буйная, тихая и атипична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йная форма протекает в несколько стадий: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На первой стадии животное избегает людей, прячется в темном месте или наоборот очень дружелюбное. При этом возможно проявление зуда на месте укуса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На второй стадии появляется агрессия. Нарастает беспокойство, склонность к поеданию инородных предметов, нападение на других животных и даже на хозяина. Животное не может глотать воду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На третьей стадии появляются судороги, и прогрессирует паралич. Животное почти постоянно лежит и в итоге погибает в коматозном состоянии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00720" y="4629240"/>
            <a:ext cx="2228760" cy="2228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35280" y="4797360"/>
            <a:ext cx="2663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5627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хая форма характеризуется развитием паралича, слюнотечением, неспособностью принимать пищу. Через 2 – 4 дня животное гибне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ипичная форма (сложная в диагностике) – может длиться до 3-х месяцев или даже больше. Вначале может проявляться диареей или наоборот атонией кишечника, депрессией, после чего могут наступать временные улучш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ертный диагноз устанавливается обнаружением специфических включений – телец Бабеша-Негри при гистологическом исследовании моз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56360" y="2565360"/>
            <a:ext cx="28573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тойчивость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5699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60 °С вирус инактивируется через 10 мин, при 100 °С — мгновен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устойчив к низкимтемпературам и месяцами сохраняется в заморо­женном мозге; в гниющем мате­риале остается жизнеспособным в течение 2 — 3 недел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рус быстро инактивируется привоздейст­вии обычно используемых дезинфицирующих растворов лизола (1—2 %-ный),щелочей, форма­лина, хлорамина (2 — 3 %-ны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651640" y="4221000"/>
            <a:ext cx="3382920" cy="2428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12000" y="1197000"/>
            <a:ext cx="28429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5:36:54Z</dcterms:created>
  <dc:creator>rorschach</dc:creator>
  <dc:description/>
  <dc:language>en-US</dc:language>
  <cp:lastModifiedBy>Admin</cp:lastModifiedBy>
  <dcterms:modified xsi:type="dcterms:W3CDTF">2012-10-20T04:33:58Z</dcterms:modified>
  <cp:revision>4</cp:revision>
  <dc:subject/>
  <dc:title>Слайд 1</dc:title>
</cp:coreProperties>
</file>