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31F-BAFA-4253-9A44-34A43E7B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6BD-02F8-44D5-BDA0-BCBD7D2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CC6-DA60-423B-B0A8-A2CE0196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5AD-3DA9-4141-9A00-CAE5D576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833-9051-4E49-A221-316032B0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64B0-ADEC-4BA5-8AA2-5965FCF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9D5-EA1F-49AF-82A0-43B02C2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C301-D969-495A-A05F-D1884548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5A23-3C1E-401B-9BFB-A3D55F89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4A6-1FCA-4FB6-95CF-6482A3DF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851C-0F31-4DDE-BA51-626E1B7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575-99F0-4E7F-920C-12470F22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DEAA-0378-4926-9C5F-4F7AD93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B367-9636-46DF-BECD-014D836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682A-4434-440E-82AE-033B8B8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39C-2027-4F3E-AC48-B4222518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22B-ED80-4942-B154-ED849C0F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1D6D-44E9-4610-80EE-2596891D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E662-286A-4605-A773-C752092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248E-32FC-4D95-9B1D-D33F3FE6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5CA8-7CD1-4739-81C2-06B1B2F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D15D-B556-46D5-A602-9893945F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02B-C77E-4B93-B816-99894446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40D3-0B3C-4A1D-BB40-27F7128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C154-8A7A-4BB0-BEF6-B28C4D9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EB10-8342-4084-BD02-F482D4E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EE03-41A1-4A35-8140-8E1337A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264F-CE16-420C-A93F-94E4509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BC1E-BD49-47CE-9573-AA9575DD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33EE-E6B4-4E9C-94E0-D35448ED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A003-87B5-4699-B10C-808B7F3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8280-A2BE-4D64-938A-B7786A5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6796-D3B7-4A2F-A461-5FE5E78D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011-262E-4821-914E-A4C000AD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5BEC-F664-4386-8B85-CC4C990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1232-C9D6-41CB-93EE-59F7D9D5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AEF9-246F-4BC7-A56A-B5103C9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4196-F903-491B-A4A1-CE52A4A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037B-7B0C-4EE9-9109-9173F58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9E83-3E0A-454A-ABF4-163BB1C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53C8-B2BE-41BD-AAB3-ACF721D1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4EAA-7378-4FAA-A8E8-C797BDE9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B3CD-F936-4F1B-A5E8-35063847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AF7-AB2A-4D4B-80A1-9E874E5B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1EA-1E80-426D-A5B1-66E01582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1FB-5193-42C8-BCCD-F026B0E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71A-B46F-4CD6-B771-D908746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F3A-B9FA-419C-BFF2-A9204C53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6281-7520-4311-BA10-14D453F524A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CE4-55FC-4FB7-9ED5-4EBC541063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FD1D-7A4D-420A-99E3-0E8F383AFEF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EC33-0A58-417E-9D49-C6C758AB58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9094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4723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: Малышев А.С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В120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5562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768600" y="533520"/>
            <a:ext cx="78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Дифференциальная диагно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609480" y="158256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крупного рогатого скота оспенные поражения иногда схожи с экзантемой при ящуре, но при ящуре пузыри находятся в ротовой полости и области межкопытной щ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ша и чесотка протекают без лихорад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пу свиней дифференцируют от сальмонеллеза, стрептококкоза, лептоспироза по отсутствию при этих заболеваниях контагиозности, стадийности, развития кожных пораж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368360" y="53352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Профилактика и лече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52280" y="15238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чение. Применение сыворотки реконвалесцентов и гипериммунных животных слабо эффективны. Лучшее действие оказывает у-глобулин. Антибиотики применяют для предупреждения осложнений, оспины на коже размягчают нейтральными жирами, мазями или глицерином, а язвенные поверхности обрабатывают прижигающими средствами (раствор иода), 3—5%-ным раствором хлорамина и другими антисептическими жидкостями. Носовую полость и конъюнктиву промывают теплой водой, орошают 2—3%-ными растворами борной кислоты, настоем ромашки и др. Животным дают воду без ограничений, добавляя в нее иодид кал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специфической профилактики применяют гидроокисьалюминиевую формол-вакцину против оспы овец, сухую культуральную вирус-вакцину против оспы овец из штамма НИИС-ХИ, гидроокисьалюминиевую формолглицериновую вакцину против оспы коз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07520" y="533520"/>
            <a:ext cx="88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етеринарно-санитарная экспертиз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457200" y="144792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уши крупного рогатого скота, овец, коз, свиней и лошадей при доброкачественной форме оспы и полном заживлении пустул после зачистки измененных отечных тканей выпускают без ограничений после удаления патологически измененных тка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уши овец, коз, свиней и других животных при сливной геморрагической и гангренозной формах оспы направляют на техническую утилизац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уры дезинфицирую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ерсть, щетину, волос, козий пух от животных, подозреваемых в заболевании оспой, дезинфицируют текучим паром при 109—11 ГС в течение получаса. Для дезинфекции помещений, оборудования применяют горячий 2%-ный растворедкого натрия, осветленный раствор хлорной извести с 2% активного хлора, 2%-ный раствор формальдеги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4905360" cy="3676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500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33520" y="91440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па - остро протекающая контагиозная болезнь млекопитающих животных и птиц, характеризующаяся лихорадкой и папулезно-пустулезной сыпью в эпителии кожи и слизистых оболочек. Восприимчив и челове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екционную природу болезни установил в 1766 г. Буржеля. Оспу коров описал Э. Дженнер в 1896 г. и предложил вакцину (коровью оспу) для прививки люд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40482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352680" y="685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озбудител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83808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НК-содержащий вирус из сем. Poxviridae, подсем. Chordopoxviridae, имеющий форму куба с округлыми краями размером  170-350 н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2485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533520" y="160020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рус оспы овец устойчив, может сохраняться в темном прохладном месте до 2 лет. Вирус оспы коров жизнеспособен во внешней среде при температуре 4°С до 18 мес, при температуре 20°С — 6 мес. При гниении погибают быстро. Очень чувствителен к высоким температурам — кипячение убивает их моментально, 70°С — за 5 мин, кислая среда (рН 3,0—3,6) — в течение часа, 2—5%-ные растворы серной, соляной и карболовой кислот, 1 %-ные растворы формальдегида и хлорамина, 3%-ный раствор гидроокиси натрия — в течение часа. Биотермическое обезвреживание инфицированного навоза (помета) проводят через 28 д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2944440" y="38088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Устойчив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2778480" y="53352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Эпизоотолог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609480" y="167652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чение и симптомы. Восприимчивы: овцы, козы, свиньи, крупный рогатый скот, лошади, верблюды, кролики, птиц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чник возбудителя: больные животные и вирусоносит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ти передачи возбудителя инфекции: аэрогенный; через поврежденную кожу и слизистые оболоч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акторы передачи: предметы ухода, корм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кубационный период: 3—14 суто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549080" y="533520"/>
            <a:ext cx="68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Симптомы и пат. изменен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52280" y="122544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птомы: кратковременное повышение температуры тела, вялость, снижение аппетита, катаральный конъюнктивит, ринит, отеки. У овец — опухание век, гнойно-слизистые истечения из глаз и носа, экзантема на малошерстных участках кожи, розеолы, быстро переходящие в папулы, которые некротизируются; если некроз охватывает глубокие слои кожи — появляются толстые струпья, такие струпья отпадают на 5—6-е сутки. Наиболее тяжелое течение — обширная экзантема, а также геморрагическое истощение, поражение глаз, суставов. Летальность до 100%. У коров — оспины на коже вымени и сосков, иногда головы, шеи, спины, бедер у быков — папулы и везикулы на мошонке. У свиней — розеолы, которые превращаются в папулы, нагнаиваются, некротизируются; оспины, сливаясь, достигают диаметра 2—2,5 см, образуются корочки; при сливной форме летальность 40—80%. У лошадей — папулезно-пустулезный стоматит, везикулярно-пустулезный дерматит, течение благоприятное. У птиц при кожной форме — оспины в области клюва, век, на гребне, сережках и др., при дифтериозной форме — сыпь в виде пленок на слизистой оболочке органов дыхания, у птицы — рот крыт, дыхание со свистящими зву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тологоанатомические изменения. Характерная сыпь на коже и слизистых оболочках. В паренхиматозных органах — участки некроза, селезенка и лимфатические узлы увеличе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6228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210200" cy="3808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6576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224160" y="5335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Диагно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533520" y="19051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русоскопия мазков, выделение вируса, РН, РДП, метод флюоресцирующих антител, электронная микроскоп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микроскопического исследования отбирают содержимое везикул и пустул после предварительной очистки их поверхности спиртом, а также папулы и оспенные корки. Папулы соскабливают скальпелем, корки собирают пинцет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1:10:26Z</dcterms:created>
  <dc:creator>UserLib</dc:creator>
  <dc:description/>
  <dc:language>en-US</dc:language>
  <cp:lastModifiedBy>UserLib</cp:lastModifiedBy>
  <dcterms:modified xsi:type="dcterms:W3CDTF">2013-10-28T11:40:36Z</dcterms:modified>
  <cp:revision>4</cp:revision>
  <dc:subject/>
  <dc:title>ОСПА       </dc:title>
</cp:coreProperties>
</file>