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213B-518E-423A-B6AB-2F1F6CE4B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CC12-4E7F-476A-B36C-56A20126E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2675-4C14-47D6-830E-4795D5931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F49F-DDF3-4489-8FCE-53420E7A0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48339-6F70-4D4B-836D-816FD78C0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A153C-DCF3-4F5F-B5EB-ADD4D493E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D023B-C9B3-4EBA-8070-B5BDCB542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2BF4B-36AB-4AAD-83F7-2E6EFB520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90A71-5605-4258-AA8C-C27B340D8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22732-D5E2-47A7-827B-897948A32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90380-E6E0-4117-8D83-EEDCF0EE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168E-1AE1-42DF-A2A0-DC8146B07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01845-BF10-4476-BF2A-68AFFDDA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F5456-387C-4834-BC33-2A001041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797DA-9087-4343-A736-2A1A81853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8414F-18DD-4D0D-AB32-534B77EFA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756CC-489D-4DCA-9481-B622DC145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DFE8-B6E8-447F-AFD3-DF180E682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C895-EBB8-42D1-8CDD-C00C43B1D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2847-F8BF-43A5-A246-FE1347E9B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4774-F6BD-4C28-A0A0-48E2C9CD4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87B2-7B4D-4C0D-AFAB-A0F55A22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74E5-DA46-4B9C-8CE0-3C28B7BCC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F653-DB73-4053-AA86-91CDF74B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A1822-C0E4-4272-9CDB-83F6BC583D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E3875-0BF9-481F-9E97-1F33ED4084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4;&#1089;&#1090;&#1088;&#1099;&#1077;_&#1083;&#1077;&#1081;&#1082;&#1086;&#1079;&#1099;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1;&#1088;&#1086;&#1085;&#1080;&#1095;&#1077;&#1089;&#1082;&#1080;&#1077;_&#1083;&#1077;&#1081;&#1082;&#1086;&#1079;&#1099;" TargetMode="External"/><Relationship Id="rId2" Type="http://schemas.openxmlformats.org/officeDocument/2006/relationships/hyperlink" Target="http://ru.wikipedia.org/wiki/&#1061;&#1088;&#1086;&#1085;&#1080;&#1095;&#1077;&#1089;&#1082;&#1080;&#1081;_&#1084;&#1080;&#1077;&#1083;&#1086;&#1094;&#1080;&#1090;&#1072;&#1088;&#1085;&#1099;&#1081;_&#1083;&#1077;&#1081;&#1082;&#1086;&#1079;" TargetMode="External"/><Relationship Id="rId3" Type="http://schemas.openxmlformats.org/officeDocument/2006/relationships/hyperlink" Target="http://ru.wikipedia.org/wiki/&#1061;&#1088;&#1086;&#1085;&#1080;&#1095;&#1077;&#1089;&#1082;&#1080;&#1081;_&#1084;&#1080;&#1077;&#1083;&#1086;&#1094;&#1080;&#1090;&#1072;&#1088;&#1085;&#1099;&#1081;_&#1083;&#1077;&#1081;&#1082;&#1086;&#1079;" TargetMode="External"/><Relationship Id="rId4" Type="http://schemas.openxmlformats.org/officeDocument/2006/relationships/hyperlink" Target="http://ru.wikipedia.org/wiki/&#1061;&#1088;&#1086;&#1085;&#1080;&#1095;&#1077;&#1089;&#1082;&#1080;&#1081;_&#1084;&#1080;&#1077;&#1083;&#1086;&#1094;&#1080;&#1090;&#1072;&#1088;&#1085;&#1099;&#1081;_&#1083;&#1077;&#1081;&#1082;&#1086;&#1079;" TargetMode="External"/><Relationship Id="rId5" Type="http://schemas.openxmlformats.org/officeDocument/2006/relationships/hyperlink" Target="http://ru.wikipedia.org/w/index.php?title=&#1061;&#1088;&#1086;&#1085;&#1080;&#1095;&#1077;&#1089;&#1082;&#1080;&#1081;_&#1085;&#1077;&#1081;&#1090;&#1088;&#1086;&#1092;&#1080;&#1083;&#1100;&#1085;&#1099;&#1081;_&#1083;&#1077;&#1081;&#1082;&#1086;&#1079;&amp;action=edit&amp;redlink=1" TargetMode="External"/><Relationship Id="rId6" Type="http://schemas.openxmlformats.org/officeDocument/2006/relationships/hyperlink" Target="http://ru.wikipedia.org/w/index.php?title=&#1061;&#1088;&#1086;&#1085;&#1080;&#1095;&#1077;&#1089;&#1082;&#1080;&#1081;_&#1085;&#1077;&#1081;&#1090;&#1088;&#1086;&#1092;&#1080;&#1083;&#1100;&#1085;&#1099;&#1081;_&#1083;&#1077;&#1081;&#1082;&#1086;&#1079;&amp;action=edit&amp;redlink=1" TargetMode="External"/><Relationship Id="rId7" Type="http://schemas.openxmlformats.org/officeDocument/2006/relationships/hyperlink" Target="http://ru.wikipedia.org/w/index.php?title=&#1061;&#1088;&#1086;&#1085;&#1080;&#1095;&#1077;&#1089;&#1082;&#1080;&#1081;_&#1085;&#1077;&#1081;&#1090;&#1088;&#1086;&#1092;&#1080;&#1083;&#1100;&#1085;&#1099;&#1081;_&#1083;&#1077;&#1081;&#1082;&#1086;&#1079;&amp;action=edit&amp;redlink=1" TargetMode="External"/><Relationship Id="rId8" Type="http://schemas.openxmlformats.org/officeDocument/2006/relationships/hyperlink" Target="http://ru.wikipedia.org/w/index.php?title=&#1061;&#1088;&#1086;&#1085;&#1080;&#1095;&#1077;&#1089;&#1082;&#1080;&#1081;_&#1101;&#1086;&#1079;&#1080;&#1085;&#1086;&#1092;&#1080;&#1083;&#1100;&#1085;&#1099;&#1081;_&#1083;&#1077;&#1081;&#1082;&#1086;&#1079;&amp;action=edit&amp;redlink=1" TargetMode="External"/><Relationship Id="rId9" Type="http://schemas.openxmlformats.org/officeDocument/2006/relationships/hyperlink" Target="http://ru.wikipedia.org/w/index.php?title=&#1061;&#1088;&#1086;&#1085;&#1080;&#1095;&#1077;&#1089;&#1082;&#1080;&#1081;_&#1073;&#1072;&#1079;&#1086;&#1092;&#1080;&#1083;&#1100;&#1085;&#1099;&#1081;_&#1083;&#1077;&#1081;&#1082;&#1086;&#1079;&amp;action=edit&amp;redlink=1" TargetMode="External"/><Relationship Id="rId10" Type="http://schemas.openxmlformats.org/officeDocument/2006/relationships/hyperlink" Target="http://ru.wikipedia.org/w/index.php?title=&#1061;&#1088;&#1086;&#1085;&#1080;&#1095;&#1077;&#1089;&#1082;&#1080;&#1081;_&#1073;&#1072;&#1079;&#1086;&#1092;&#1080;&#1083;&#1100;&#1085;&#1099;&#1081;_&#1083;&#1077;&#1081;&#1082;&#1086;&#1079;&amp;action=edit&amp;redlink=1" TargetMode="External"/><Relationship Id="rId11" Type="http://schemas.openxmlformats.org/officeDocument/2006/relationships/hyperlink" Target="http://ru.wikipedia.org/w/index.php?title=&#1061;&#1088;&#1086;&#1085;&#1080;&#1095;&#1077;&#1089;&#1082;&#1080;&#1081;_&#1073;&#1072;&#1079;&#1086;&#1092;&#1080;&#1083;&#1100;&#1085;&#1099;&#1081;_&#1083;&#1077;&#1081;&#1082;&#1086;&#1079;&amp;action=edit&amp;redlink=1" TargetMode="External"/><Relationship Id="rId12" Type="http://schemas.openxmlformats.org/officeDocument/2006/relationships/hyperlink" Target="http://ru.wikipedia.org/w/index.php?title=&#1052;&#1080;&#1077;&#1083;&#1086;&#1089;&#1082;&#1083;&#1077;&#1088;&#1086;&#1079;&amp;action=edit&amp;redlink=1" TargetMode="External"/><Relationship Id="rId13" Type="http://schemas.openxmlformats.org/officeDocument/2006/relationships/hyperlink" Target="http://ru.wikipedia.org/w/index.php?title=&#1069;&#1089;&#1089;&#1077;&#1085;&#1094;&#1080;&#1072;&#1083;&#1100;&#1085;&#1072;&#1103;_&#1090;&#1088;&#1086;&#1084;&#1073;&#1086;&#1094;&#1080;&#1090;&#1077;&#1084;&#1080;&#1103;&amp;action=edit&amp;redlink=1" TargetMode="External"/><Relationship Id="rId14" Type="http://schemas.openxmlformats.org/officeDocument/2006/relationships/hyperlink" Target="http://ru.wikipedia.org/w/index.php?title=&#1069;&#1089;&#1089;&#1077;&#1085;&#1094;&#1080;&#1072;&#1083;&#1100;&#1085;&#1072;&#1103;_&#1090;&#1088;&#1086;&#1084;&#1073;&#1086;&#1094;&#1080;&#1090;&#1077;&#1084;&#1080;&#1103;&amp;action=edit&amp;redlink=1" TargetMode="External"/><Relationship Id="rId15" Type="http://schemas.openxmlformats.org/officeDocument/2006/relationships/hyperlink" Target="http://ru.wikipedia.org/wiki/&#1061;&#1088;&#1086;&#1085;&#1080;&#1095;&#1077;&#1089;&#1082;&#1080;&#1081;_&#1083;&#1080;&#1084;&#1092;&#1086;&#1083;&#1077;&#1081;&#1082;&#1086;&#1079;" TargetMode="External"/><Relationship Id="rId16" Type="http://schemas.openxmlformats.org/officeDocument/2006/relationships/hyperlink" Target="http://ru.wikipedia.org/wiki/&#1061;&#1088;&#1086;&#1085;&#1080;&#1095;&#1077;&#1089;&#1082;&#1080;&#1081;_&#1083;&#1080;&#1084;&#1092;&#1086;&#1083;&#1077;&#1081;&#1082;&#1086;&#1079;" TargetMode="External"/><Relationship Id="rId17" Type="http://schemas.openxmlformats.org/officeDocument/2006/relationships/hyperlink" Target="http://ru.wikipedia.org/wiki/&#1052;&#1080;&#1077;&#1083;&#1086;&#1084;&#1085;&#1072;&#1103;_&#1073;&#1086;&#1083;&#1077;&#1079;&#1085;&#1100;" TargetMode="External"/><Relationship Id="rId18" Type="http://schemas.openxmlformats.org/officeDocument/2006/relationships/hyperlink" Target="http://ru.wikipedia.org/wiki/&#1052;&#1080;&#1077;&#1083;&#1086;&#1084;&#1085;&#1072;&#1103;_&#1073;&#1086;&#1083;&#1077;&#1079;&#1085;&#1100;" TargetMode="External"/><Relationship Id="rId19" Type="http://schemas.openxmlformats.org/officeDocument/2006/relationships/hyperlink" Target="http://ru.wikipedia.org/w/index.php?title=&#1055;&#1077;&#1088;&#1074;&#1080;&#1095;&#1085;&#1072;&#1103;_&#1084;&#1072;&#1082;&#1088;&#1086;&#1075;&#1083;&#1086;&#1073;&#1091;&#1083;&#1080;&#1085;&#1077;&#1084;&#1080;&#1103;_&#1042;&#1072;&#1083;&#1100;&#1076;&#1077;&#1085;&#1089;&#1090;&#1088;&#1077;&#1084;&#1072;&amp;action=edit&amp;redlink=1" TargetMode="External"/><Relationship Id="rId20" Type="http://schemas.openxmlformats.org/officeDocument/2006/relationships/hyperlink" Target="http://ru.wikipedia.org/w/index.php?title=&#1055;&#1077;&#1088;&#1074;&#1080;&#1095;&#1085;&#1072;&#1103;_&#1084;&#1072;&#1082;&#1088;&#1086;&#1075;&#1083;&#1086;&#1073;&#1091;&#1083;&#1080;&#1085;&#1077;&#1084;&#1080;&#1103;_&#1042;&#1072;&#1083;&#1100;&#1076;&#1077;&#1085;&#1089;&#1090;&#1088;&#1077;&#1084;&#1072;&amp;action=edit&amp;redlink=1" TargetMode="External"/><Relationship Id="rId21" Type="http://schemas.openxmlformats.org/officeDocument/2006/relationships/hyperlink" Target="http://ru.wikipedia.org/w/index.php?title=&#1055;&#1077;&#1088;&#1074;&#1080;&#1095;&#1085;&#1072;&#1103;_&#1084;&#1072;&#1082;&#1088;&#1086;&#1075;&#1083;&#1086;&#1073;&#1091;&#1083;&#1080;&#1085;&#1077;&#1084;&#1080;&#1103;_&#1042;&#1072;&#1083;&#1100;&#1076;&#1077;&#1085;&#1089;&#1090;&#1088;&#1077;&#1084;&#1072;&amp;action=edit&amp;redlink=1" TargetMode="External"/><Relationship Id="rId22" Type="http://schemas.openxmlformats.org/officeDocument/2006/relationships/hyperlink" Target="http://ru.wikipedia.org/w/index.php?title=&#1055;&#1077;&#1088;&#1074;&#1080;&#1095;&#1085;&#1072;&#1103;_&#1084;&#1072;&#1082;&#1088;&#1086;&#1075;&#1083;&#1086;&#1073;&#1091;&#1083;&#1080;&#1085;&#1077;&#1084;&#1080;&#1103;_&#1042;&#1072;&#1083;&#1100;&#1076;&#1077;&#1085;&#1089;&#1090;&#1088;&#1077;&#1084;&#1072;&amp;action=edit&amp;redlink=1" TargetMode="External"/><Relationship Id="rId23" Type="http://schemas.openxmlformats.org/officeDocument/2006/relationships/hyperlink" Target="http://ru.wikipedia.org/w/index.php?title=&#1041;&#1086;&#1083;&#1077;&#1079;&#1085;&#1100;_&#1090;&#1103;&#1078;&#1077;&#1083;&#1099;&#1093;_&#1094;&#1077;&#1087;&#1077;&#1081;_&#1060;&#1088;&#1072;&#1085;&#1082;&#1083;&#1080;&#1085;&#1072;&amp;action=edit&amp;redlink=1" TargetMode="External"/><Relationship Id="rId24" Type="http://schemas.openxmlformats.org/officeDocument/2006/relationships/hyperlink" Target="http://ru.wikipedia.org/w/index.php?title=&#1051;&#1080;&#1084;&#1092;&#1086;&#1084;&#1072;&#1090;&#1086;&#1079;_&#1082;&#1086;&#1078;&#1080;&amp;action=edit&amp;redlink=1" TargetMode="External"/><Relationship Id="rId25" Type="http://schemas.openxmlformats.org/officeDocument/2006/relationships/hyperlink" Target="http://ru.wikipedia.org/w/index.php?title=&#1051;&#1080;&#1084;&#1092;&#1086;&#1084;&#1072;&#1090;&#1086;&#1079;_&#1082;&#1086;&#1078;&#1080;&amp;action=edit&amp;redlink=1" TargetMode="External"/><Relationship Id="rId26" Type="http://schemas.openxmlformats.org/officeDocument/2006/relationships/hyperlink" Target="http://ru.wikipedia.org/w/index.php?title=&#1041;&#1086;&#1083;&#1077;&#1079;&#1085;&#1100;_&#1057;&#1077;&#1079;&#1072;&#1088;&#1080;&amp;action=edit&amp;redlink=1" TargetMode="External"/><Relationship Id="rId27" Type="http://schemas.openxmlformats.org/officeDocument/2006/relationships/hyperlink" Target="http://ru.wikipedia.org/w/index.php?title=&#1041;&#1086;&#1083;&#1077;&#1079;&#1085;&#1100;_&#1057;&#1077;&#1079;&#1072;&#1088;&#1080;&amp;action=edit&amp;redlink=1" TargetMode="External"/><Relationship Id="rId28" Type="http://schemas.openxmlformats.org/officeDocument/2006/relationships/hyperlink" Target="http://ru.wikipedia.org/w/index.php?title=&#1061;&#1088;&#1086;&#1085;&#1080;&#1095;&#1077;&#1089;&#1082;&#1080;&#1081;_&#1084;&#1086;&#1085;&#1086;&#1094;&#1080;&#1090;&#1072;&#1088;&#1085;&#1099;&#1081;_&#1083;&#1077;&#1081;&#1082;&#1086;&#1079;&amp;action=edit&amp;redlink=1" TargetMode="External"/><Relationship Id="rId29" Type="http://schemas.openxmlformats.org/officeDocument/2006/relationships/hyperlink" Target="http://ru.wikipedia.org/w/index.php?title=&#1061;&#1088;&#1086;&#1085;&#1080;&#1095;&#1077;&#1089;&#1082;&#1080;&#1081;_&#1084;&#1080;&#1077;&#1083;&#1086;&#1084;&#1086;&#1085;&#1086;&#1094;&#1080;&#1090;&#1072;&#1088;&#1085;&#1099;&#1081;_&#1083;&#1077;&#1081;&#1082;&#1086;&#1079;&amp;action=edit&amp;redlink=1" TargetMode="External"/><Relationship Id="rId30" Type="http://schemas.openxmlformats.org/officeDocument/2006/relationships/hyperlink" Target="http://ru.wikipedia.org/w/index.php?title=&#1061;&#1088;&#1086;&#1085;&#1080;&#1095;&#1077;&#1089;&#1082;&#1080;&#1081;_&#1084;&#1080;&#1077;&#1083;&#1086;&#1084;&#1086;&#1085;&#1086;&#1094;&#1080;&#1090;&#1072;&#1088;&#1085;&#1099;&#1081;_&#1083;&#1077;&#1081;&#1082;&#1086;&#1079;&amp;action=edit&amp;redlink=1" TargetMode="External"/><Relationship Id="rId31" Type="http://schemas.openxmlformats.org/officeDocument/2006/relationships/hyperlink" Target="http://ru.wikipedia.org/w/index.php?title=&#1061;&#1088;&#1086;&#1085;&#1080;&#1095;&#1077;&#1089;&#1082;&#1080;&#1081;_&#1084;&#1080;&#1077;&#1083;&#1086;&#1084;&#1086;&#1085;&#1086;&#1094;&#1080;&#1090;&#1072;&#1088;&#1085;&#1099;&#1081;_&#1083;&#1077;&#1081;&#1082;&#1086;&#1079;&amp;action=edit&amp;redlink=1" TargetMode="External"/><Relationship Id="rId32" Type="http://schemas.openxmlformats.org/officeDocument/2006/relationships/hyperlink" Target="http://ru.wikipedia.org/wiki/&#1043;&#1080;&#1089;&#1090;&#1080;&#1086;&#1094;&#1080;&#1090;&#1086;&#1079;_&#1061;" TargetMode="External"/><Relationship Id="rId33" Type="http://schemas.openxmlformats.org/officeDocument/2006/relationships/hyperlink" Target="http://ru.wikipedia.org/wiki/&#1043;&#1080;&#1089;&#1090;&#1080;&#1086;&#1094;&#1080;&#1090;&#1086;&#1079;_&#1061;" TargetMode="External"/><Relationship Id="rId3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41;&#1083;&#1072;&#1089;&#1090;&#1099;&amp;action=edit&amp;redlink=1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85;&#1077;&#1084;&#1080;&#1103;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Symptoms_of_leukemia_ru.pn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77;&#1090;&#1072;&#1089;&#1090;&#1072;&#1079;&#1080;&#1088;&#1086;&#1074;&#1072;&#1085;&#1080;&#1077;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4;&#1089;&#1090;&#1088;&#1099;&#1077;_&#1083;&#1077;&#1081;&#1082;&#1086;&#1079;&#1099;" TargetMode="External"/><Relationship Id="rId2" Type="http://schemas.openxmlformats.org/officeDocument/2006/relationships/hyperlink" Target="http://ru.wikipedia.org/wiki/&#1061;&#1088;&#1086;&#1085;&#1080;&#1095;&#1077;&#1089;&#1082;&#1080;&#1077;_&#1083;&#1077;&#1081;&#1082;&#1086;&#1079;&#1099;" TargetMode="External"/><Relationship Id="rId3" Type="http://schemas.openxmlformats.org/officeDocument/2006/relationships/hyperlink" Target="http://ru.wikipedia.org/w/index.php?title=&#1062;&#1080;&#1090;&#1086;&#1075;&#1077;&#1085;&#1077;&#1079;&amp;action=edit&amp;redlink=1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2708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ffb7"/>
                </a:solidFill>
                <a:latin typeface="Arial Black"/>
              </a:rPr>
              <a:t>      </a:t>
            </a:r>
            <a:r>
              <a:rPr b="1" i="1" lang="ru-RU" sz="7200" spc="-1" strike="noStrike">
                <a:solidFill>
                  <a:srgbClr val="ffffb7"/>
                </a:solidFill>
                <a:latin typeface="Arial Black"/>
              </a:rPr>
              <a:t>Лейкоз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Острые лейкозы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по цитогенезу подразделяются на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имфобластны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иелобластны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нобластны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иеломонобластны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ритромиелобластны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егакариобластны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дифференцированны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11280" y="259920"/>
            <a:ext cx="813744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Хронические лейкоз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едставлены лейкозами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елоцитарного происхождения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хронический </a:t>
            </a:r>
            <a:r>
              <a:rPr b="0" lang="ru-RU" sz="18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миелоцитарный</a:t>
            </a:r>
            <a:r>
              <a:rPr b="0" lang="ru-RU" sz="1800" spc="-1" strike="noStrike" u="sng">
                <a:solidFill>
                  <a:srgbClr val="99ff66"/>
                </a:solidFill>
                <a:uFillTx/>
                <a:latin typeface="Arial"/>
                <a:hlinkClick r:id="rId4"/>
              </a:rPr>
              <a:t> лейко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ff66"/>
                </a:solidFill>
                <a:uFillTx/>
                <a:latin typeface="Arial"/>
                <a:hlinkClick r:id="rId5"/>
              </a:rPr>
              <a:t>хронический </a:t>
            </a:r>
            <a:r>
              <a:rPr b="0" lang="ru-RU" sz="1800" spc="-1" strike="noStrike" u="sng">
                <a:solidFill>
                  <a:srgbClr val="99ff66"/>
                </a:solidFill>
                <a:uFillTx/>
                <a:latin typeface="Arial"/>
                <a:hlinkClick r:id="rId6"/>
              </a:rPr>
              <a:t>нейтрофильный</a:t>
            </a:r>
            <a:r>
              <a:rPr b="0" lang="ru-RU" sz="1800" spc="-1" strike="noStrike" u="sng">
                <a:solidFill>
                  <a:srgbClr val="99ff66"/>
                </a:solidFill>
                <a:uFillTx/>
                <a:latin typeface="Arial"/>
                <a:hlinkClick r:id="rId7"/>
              </a:rPr>
              <a:t> лейко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ff66"/>
                </a:solidFill>
                <a:uFillTx/>
                <a:latin typeface="Arial"/>
                <a:hlinkClick r:id="rId8"/>
              </a:rPr>
              <a:t>хронический эозинофильный лейко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ff66"/>
                </a:solidFill>
                <a:uFillTx/>
                <a:latin typeface="Arial"/>
                <a:hlinkClick r:id="rId9"/>
              </a:rPr>
              <a:t>хронический </a:t>
            </a:r>
            <a:r>
              <a:rPr b="0" lang="ru-RU" sz="1800" spc="-1" strike="noStrike" u="sng">
                <a:solidFill>
                  <a:srgbClr val="99ff66"/>
                </a:solidFill>
                <a:uFillTx/>
                <a:latin typeface="Arial"/>
                <a:hlinkClick r:id="rId10"/>
              </a:rPr>
              <a:t>базофильный</a:t>
            </a:r>
            <a:r>
              <a:rPr b="0" lang="ru-RU" sz="1800" spc="-1" strike="noStrike" u="sng">
                <a:solidFill>
                  <a:srgbClr val="99ff66"/>
                </a:solidFill>
                <a:uFillTx/>
                <a:latin typeface="Arial"/>
                <a:hlinkClick r:id="rId11"/>
              </a:rPr>
              <a:t> лейко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ff66"/>
                </a:solidFill>
                <a:uFillTx/>
                <a:latin typeface="Arial"/>
                <a:hlinkClick r:id="rId12"/>
              </a:rPr>
              <a:t>миелосклеро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ритремия/истинная полицитемия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ff66"/>
                </a:solidFill>
                <a:uFillTx/>
                <a:latin typeface="Arial"/>
                <a:hlinkClick r:id="rId13"/>
              </a:rPr>
              <a:t>эссенциальная</a:t>
            </a:r>
            <a:r>
              <a:rPr b="0" lang="ru-RU" sz="1800" spc="-1" strike="noStrike" u="sng">
                <a:solidFill>
                  <a:srgbClr val="99ff66"/>
                </a:solidFill>
                <a:uFillTx/>
                <a:latin typeface="Arial"/>
                <a:hlinkClick r:id="rId14"/>
              </a:rPr>
              <a:t> тромбоцитем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мфоцитарного происхождения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ff66"/>
                </a:solidFill>
                <a:uFillTx/>
                <a:latin typeface="Arial"/>
                <a:hlinkClick r:id="rId15"/>
              </a:rPr>
              <a:t>хронический </a:t>
            </a:r>
            <a:r>
              <a:rPr b="0" lang="ru-RU" sz="1800" spc="-1" strike="noStrike" u="sng">
                <a:solidFill>
                  <a:srgbClr val="99ff66"/>
                </a:solidFill>
                <a:uFillTx/>
                <a:latin typeface="Arial"/>
                <a:hlinkClick r:id="rId16"/>
              </a:rPr>
              <a:t>лимфолейко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апротеинемические лейкозы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ff66"/>
                </a:solidFill>
                <a:uFillTx/>
                <a:latin typeface="Arial"/>
                <a:hlinkClick r:id="rId17"/>
              </a:rPr>
              <a:t>миеломная</a:t>
            </a:r>
            <a:r>
              <a:rPr b="0" lang="ru-RU" sz="1800" spc="-1" strike="noStrike" u="sng">
                <a:solidFill>
                  <a:srgbClr val="99ff66"/>
                </a:solidFill>
                <a:uFillTx/>
                <a:latin typeface="Arial"/>
                <a:hlinkClick r:id="rId18"/>
              </a:rPr>
              <a:t> болезн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ff66"/>
                </a:solidFill>
                <a:uFillTx/>
                <a:latin typeface="Arial"/>
                <a:hlinkClick r:id="rId19"/>
              </a:rPr>
              <a:t>первичная </a:t>
            </a:r>
            <a:r>
              <a:rPr b="0" lang="ru-RU" sz="1800" spc="-1" strike="noStrike" u="sng">
                <a:solidFill>
                  <a:srgbClr val="99ff66"/>
                </a:solidFill>
                <a:uFillTx/>
                <a:latin typeface="Arial"/>
                <a:hlinkClick r:id="rId20"/>
              </a:rPr>
              <a:t>макроглобулинемия</a:t>
            </a:r>
            <a:r>
              <a:rPr b="0" lang="ru-RU" sz="1800" spc="-1" strike="noStrike" u="sng">
                <a:solidFill>
                  <a:srgbClr val="99ff66"/>
                </a:solidFill>
                <a:uFillTx/>
                <a:latin typeface="Arial"/>
                <a:hlinkClick r:id="rId21"/>
              </a:rPr>
              <a:t> </a:t>
            </a:r>
            <a:r>
              <a:rPr b="0" lang="ru-RU" sz="1800" spc="-1" strike="noStrike" u="sng">
                <a:solidFill>
                  <a:srgbClr val="99ff66"/>
                </a:solidFill>
                <a:uFillTx/>
                <a:latin typeface="Arial"/>
                <a:hlinkClick r:id="rId22"/>
              </a:rPr>
              <a:t>Вальденстрем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ff66"/>
                </a:solidFill>
                <a:uFillTx/>
                <a:latin typeface="Arial"/>
                <a:hlinkClick r:id="rId23"/>
              </a:rPr>
              <a:t>болезнь тяжелых цепей Франкли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ff66"/>
                </a:solidFill>
                <a:uFillTx/>
                <a:latin typeface="Arial"/>
                <a:hlinkClick r:id="rId24"/>
              </a:rPr>
              <a:t>лимфоматоз</a:t>
            </a:r>
            <a:r>
              <a:rPr b="0" lang="ru-RU" sz="1800" spc="-1" strike="noStrike" u="sng">
                <a:solidFill>
                  <a:srgbClr val="99ff66"/>
                </a:solidFill>
                <a:uFillTx/>
                <a:latin typeface="Arial"/>
                <a:hlinkClick r:id="rId25"/>
              </a:rPr>
              <a:t> кож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— </a:t>
            </a:r>
            <a:r>
              <a:rPr b="0" lang="ru-RU" sz="1800" spc="-1" strike="noStrike" u="sng">
                <a:solidFill>
                  <a:srgbClr val="99ff66"/>
                </a:solidFill>
                <a:uFillTx/>
                <a:latin typeface="Arial"/>
                <a:hlinkClick r:id="rId26"/>
              </a:rPr>
              <a:t>болезнь </a:t>
            </a:r>
            <a:r>
              <a:rPr b="0" lang="ru-RU" sz="1800" spc="-1" strike="noStrike" u="sng">
                <a:solidFill>
                  <a:srgbClr val="99ff66"/>
                </a:solidFill>
                <a:uFillTx/>
                <a:latin typeface="Arial"/>
                <a:hlinkClick r:id="rId27"/>
              </a:rPr>
              <a:t>Сезар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ноцитарного происхождения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ff66"/>
                </a:solidFill>
                <a:uFillTx/>
                <a:latin typeface="Arial"/>
                <a:hlinkClick r:id="rId28"/>
              </a:rPr>
              <a:t>хронический моноцитарный лейко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ff66"/>
                </a:solidFill>
                <a:uFillTx/>
                <a:latin typeface="Arial"/>
                <a:hlinkClick r:id="rId29"/>
              </a:rPr>
              <a:t>хронический </a:t>
            </a:r>
            <a:r>
              <a:rPr b="0" lang="ru-RU" sz="1800" spc="-1" strike="noStrike" u="sng">
                <a:solidFill>
                  <a:srgbClr val="99ff66"/>
                </a:solidFill>
                <a:uFillTx/>
                <a:latin typeface="Arial"/>
                <a:hlinkClick r:id="rId30"/>
              </a:rPr>
              <a:t>миеломоноцитарный</a:t>
            </a:r>
            <a:r>
              <a:rPr b="0" lang="ru-RU" sz="1800" spc="-1" strike="noStrike" u="sng">
                <a:solidFill>
                  <a:srgbClr val="99ff66"/>
                </a:solidFill>
                <a:uFillTx/>
                <a:latin typeface="Arial"/>
                <a:hlinkClick r:id="rId31"/>
              </a:rPr>
              <a:t> лейко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ff66"/>
                </a:solidFill>
                <a:uFillTx/>
                <a:latin typeface="Arial"/>
                <a:hlinkClick r:id="rId32"/>
              </a:rPr>
              <a:t>гистиоцитоз</a:t>
            </a:r>
            <a:r>
              <a:rPr b="0" lang="ru-RU" sz="1800" spc="-1" strike="noStrike" u="sng">
                <a:solidFill>
                  <a:srgbClr val="99ff66"/>
                </a:solidFill>
                <a:uFillTx/>
                <a:latin typeface="Arial"/>
                <a:hlinkClick r:id="rId33"/>
              </a:rPr>
              <a:t> 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26560" y="4762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 точки зрения данной классификации можно говорить об относительном переходе хронических лейкозов в острые лейкозы при продолжающемся, длительном действии этиологических факторов (действие вирусов, ионизирующего излучения, химических в-в и т. д.). То есть кроме нарушений клеток-предшественниц миело- или лимфопоэза развиваются нарушения, характерные для острых лейкозов; происходит «осложнение» течения хронического лейкоз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b7"/>
                </a:solidFill>
                <a:latin typeface="Arial Black"/>
              </a:rPr>
              <a:t>По общему числу лейкоцитов и наличию бластных клеток в периферической крови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лейкемические (более 50—80×109/л лейкоцитов, в том числе </a:t>
            </a:r>
            <a:r>
              <a:rPr b="0" lang="ru-RU" sz="28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бласты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ублейкемические (50—80×109/л лейкоцитов, в том числе бласты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лейкопенические (содержание лейкоцитов в периферической крови ниже нормы, но есть бласты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алейкемические (содержание лейкоцитов в периферической крови ниже нормы, бласты отсутствуют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Морфологические </a:t>
            </a: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                   </a:t>
            </a:r>
            <a:br>
              <a:rPr sz="3600"/>
            </a:b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особенности 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ри высоком блоке дифференцировки лейкозные клетки могут напоминать стволовые и бластные клетки первых четырёх классов клеток-предшественниц. Поэтому по степени дифференцировки эти лейкозы называют бластными и недифференцированными. Поскольку они протекают остро, то можно говорить, что острые лейкозы — это бластные и недифференцированные лейкоз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ри низком блоке дифференцировки лейкозные клетки напоминают процитарные и цитарные клетки-предшественницы, лейкозы протекают менее злокачественно, хронически и называются цитарны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b7"/>
                </a:solidFill>
                <a:latin typeface="Arial Black"/>
              </a:rPr>
              <a:t>Основные клинические признаки острых лейкозов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большое количество бластных клеток и их преимущество (более 30 %, чаще 60-90 %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«лейкемический провал» — исчезновение промежуточных форм клеток на фоне большого количества бласт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одновременное наличие абазофилии и анэозинофили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быстропрогрессирующая анем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Основные клинические признаки хронических лейкозов (признаки те же, но с точностью наоборот)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небольшое количество бластных клеток или их отсутствие (менее 30 %, чаще 1-2 %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отсутствие «лейкемического провала», то есть наличие промежуточных форм клеток (промиелоциты и миелоциты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базофильно-эозинофильная ассоциация, то есть одновременное наличие базофилии и эозинофил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медленнопрогрессирующая анемия с увеличением скорости своего развития в период своего обостр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2" name="Рисунок 20" descr="Хронический миелогенный лейкоз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755280" y="62064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ейкоз (от греческого leukós — белый) (далее по тексту — “Л.”) — это лейкемия, белокровие, опухолевое системное заболевание кроветворной ткани. При Л. происходит нарушение кроветворения, выражающееся в разрастании незрелых патологических клеточных элементов как в собственно кроветворных органах, так и в других органах (почках, стенке сосудов, по ходу нервов, в коже и т. п.). Л. — редкое заболевание, и встречается 1 на 50 тысяч человек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b7"/>
                </a:solidFill>
                <a:latin typeface="Arial Black"/>
              </a:rPr>
              <a:t>Течение 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лейкозе опухолевая ткань первоначально разрастается в месте локализации костного мозга и постепенно замещает нормальные ростки кроветворения. В результате этого процесса у больных лейкозом закономерно развиваются различные варианты цитопений — </a:t>
            </a:r>
            <a:r>
              <a:rPr b="0" lang="ru-RU" sz="28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анеми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тромбоцитопения, лимфоцитопения, гранулоцитопения, что приводит к повышенной кровоточивости, кровоизлияниям, подавлению иммунитета с присоединением инфекционных осложнени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4360" y="90792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Различают спонтанные лейкозы, причина которых не установлена, радиационные (лучевые) Л., возникающие под воздействием ионизирующих излучений, и Л., возникающие под влиянием некоторых химических, так называемых лейкозогенных (бластомогенных), веществ. У ряда животных (кур, мышей, крыс, собак, кошек, крупного рогатого скота), больных Л., удалось выделить лейкозогенные вирусы. Вирусная этиология Л. человека не доказана. В зависимости от клеточной морфологии (преобладания тех или иных элементов) Л. разделяют на ретикулёз, гемоцитобластоз, миелолейкоз, эритромиелоз, мегакариоцитарный Л. и д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23640" y="620280"/>
            <a:ext cx="852156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 зависимости от степени увеличения общего числа лейкоцитов и «наводнения» крови молодыми, патологическими клетками (в норме не встречающимися в крови) различают следующие формы Л.: лейкемические (количество патологических лейкоцитов в 1 мм3 крови достигает десятков, иногда сотен тысяч и даже миллионов вместо 6-10 тысяч в норме), сублейкемические (количество патологических лейкоцитов не превышает 15 — 25 тысяч в 1 мм3), лейкопенические (количество лейкоцитов в крови уменьшено, но при этом могут быть патологические, «лейкозные» клетки) и а лейкемические (количество лейкоцитов в крови не увеличено, и при этом совершенно не отмечается молодых, патологических форм). Алейкемические Л., протекающие с выраженным опухолевым ростом, принято обозначать как ретикулёз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Рисунок 5" descr="http://upload.wikimedia.org/wikipedia/commons/thumb/e/e9/Symptoms_of_leukemia_ru.png/300px-Symptoms_of_leukemia_ru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0"/>
            <a:ext cx="8317080" cy="674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Метастазирование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при лейкозе сопровождается появлением лейкозных инфильтратов в различных органах — печени, селезенке, лимфатических узлах и др. В органах могут развиваться изменения, обусловленные обтурацией сосудов опухолевыми клетками — инфаркты, язвенно-некротические осложн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b7"/>
                </a:solidFill>
                <a:latin typeface="Arial Black"/>
              </a:rPr>
              <a:t>Принципы классификации лейкозов 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жно выделить 5 основных принципов классификаци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 характеру теч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остры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из незрелых клеток (бластов), 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хронически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, созревающие и зрелые клет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днако необходимо отметить, что острый лейкоз никогда не переходит в хронический, а хронический никогда не обостряется — таким образом, термины «острый» и «хронический» используются только из-за удобства; значение этих терминов в гематологии отличается от значения в других медицинских дисциплина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 степени дифференцировки опухолевых клет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дифференцированные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ластные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итарные лейкоз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соответствии с </a:t>
            </a:r>
            <a:r>
              <a:rPr b="0" lang="ru-RU" sz="18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цитогенез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та классификация основывается на представлениях о кроветворен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6T19:51:03Z</dcterms:created>
  <dc:creator>Paradise</dc:creator>
  <dc:description/>
  <dc:language>en-US</dc:language>
  <cp:lastModifiedBy>Paradise</cp:lastModifiedBy>
  <dcterms:modified xsi:type="dcterms:W3CDTF">2011-10-26T20:09:37Z</dcterms:modified>
  <cp:revision>2</cp:revision>
  <dc:subject/>
  <dc:title>      Лейкоз</dc:title>
</cp:coreProperties>
</file>