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93A-DC2F-4A32-B368-AA8362CF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EA2-E863-49AC-BBCD-79B9E1BF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338-2736-4EB6-8CD2-34D57847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37D-364A-4E3A-903F-02F01708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3F71-00C0-4164-9DC0-90A80631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2F85-73B6-4D3D-8C9A-2F7851F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D89C-500D-4344-A261-BC2306BA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9E18-9017-4D9E-868B-F11124A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D45A-2DFF-435E-B287-7F6ED6C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6E4A-E2D8-415F-B996-8EE4E60A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E69-AA5B-4E05-99E4-CE2D7A2B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61F-4F0F-4589-95B0-6A79B21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3327-7A78-4806-8746-44AD72B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C8D1-FD14-4163-87B8-6BC9B03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16B7-D29B-4433-86C8-0FEAF76A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BFDD-B3A7-4BA5-AFC9-A384A50A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1680-19A7-461D-95D6-3CF6EDC0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8FCE-2B34-4FC8-9A48-912A6E2D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D881-8A63-45D4-B70B-58A257FA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5864-4759-4445-AEA9-F1D2F17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E4F6-132A-4083-9C69-531976E5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A89B-CA4E-4BD3-9F0D-3153FAE2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727-C645-462C-A22D-C7D13169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40D6-E2A5-4F4C-9D80-22108D63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4D98-8C07-45B6-A928-7F52F254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1E59-74E4-43EE-AED6-88D59E9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54B2-C592-4585-932E-626DE6A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06F5-D754-4827-9B39-4A45F513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8804-FDE8-4C3C-9BEB-C00261BC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F5E6-77A6-47A8-8BC3-41BF162E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9964F-683F-4402-B43E-832DCD6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6062-0B78-4A11-A03C-C5EB7FE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8570-D1B9-49EA-B30D-6A0E2403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1F4-6437-4AD3-B246-A8A13A7E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7580-BBFC-40B9-AA31-BC8E784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047F-8DD1-49F4-98EA-0D023F3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2EAE-3C02-4EC2-8460-A5812A5B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143E-6780-4EE1-BE9B-92FD9CB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AEB9-3F36-4908-B3AD-E3AB367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8F8D-C6EB-4179-A0C4-43A4F5B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CA6F-4956-4EE4-8B04-9CBCDB3A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5C84-7324-4B75-971D-E4A905C0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5A30-364C-40D2-ACB8-CF022940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497-E4CD-4E93-A862-53D02433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39C-D8BB-4EA3-B920-452A8D6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016-69AC-404B-A187-2238735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C9F-20B7-4654-9CC0-04C28F1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ED3-5F04-4E9E-B655-E9CC8E6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2551-A291-4D18-9F07-0FD7DE119BD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0C8E-B84B-401E-83C2-18E355B3E24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7046-BB4C-4460-87C2-D6C577AEC74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A18B-12DA-46AE-9C13-8459EBC4151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dc9e1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692000" y="2421000"/>
            <a:ext cx="5722920" cy="19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 Narrow"/>
              </a:rPr>
              <a:t>САП ЛОШАДЕЙ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09480" y="1844280"/>
            <a:ext cx="792504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ка и меры борьбы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п неизлечим.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ля своевременного выявления болезни однокопытных животных один раз в год подвергают маллеинизации. Всех восприимчивых животных за 2 недели до передачи другим хозяйствам, отправки на выставки, спортивные состязания, перед убоем на мясо исследуют аллергическим методом. Вновь поступившее поголовье карантинируют и также подвергают маллеинизац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торическая справк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линические признаки сапа впервые описал Аристотель в IV в. до н. э. Культуру возбудителя получили Лёффлер и Шютц (1882).У человека он впервые обнаружен Н. П. Васильевым в 1883 году. Русские ученые X. И. Гельман и О. И. Кальнинг в 1891 г. приготовили маллеин, который применяется для аллергической диагностики сапа до настоящего времен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62160" y="549360"/>
            <a:ext cx="4647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Возбудитель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seudomonas mallei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— прямая или изогнутая, с закругленными концами, неподвижная бактерия, длиной 1—5 мкм, шириной 0,3 — 0,8 мк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Культивирование –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бактерии сапа факультативные анаэробы. Оптимальная температура их роста 37 °С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райние границы 20 …42 °С. Они хорошо развиваются на обычных средах, но лучше на свернутой сыворотке или глицериновом агаре при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H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6,4 – 6,8. Колонии серовато – белого цвета, прозрачные с влажной поверхностью, слизистой консистенции. На бульоне растут с помутнением или осадком на дне, на картофельной среде дают пышный рост, образуя прозрачный медообразный  налет янтарно – коричневого цвета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360" y="1447560"/>
            <a:ext cx="2971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c9e1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2360" y="2547720"/>
            <a:ext cx="29718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8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9718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Устойчивость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Нестойкий микроб;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в высушенном виде погибает в 8—14 дней. Во влажных помещениях сохраняет жизнеспособность до тридцати дней, кипячение убивает его моментально; при температуре 70° гибнет в течение 0,5—1 часа. Дезинфицирующие вещества — креолин, лизол, карболовая кислота, известковое молоко в средних концентрациях (3-5%) - убивают его в несколько минут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Патогенность –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апом болеют лошади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слы и муллы. Описаны случаи заболевания сапом хищных животных: льва, барсука, леопарда, барса, рыси, степной кошки. Также сапом болеют и люди. Крупный рогатый скот, овцы, козы, птицы сапом не болеют.  Болезнь протекает у лошадей в хронической и острой формах, по локализации сап подразделяют на легочный, носовой и кожный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50920" y="18864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Легочный сап.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Развивается очень медленно и часто протекает незамеченным. Болезнь затягивается на месяцы и даже годы. Первые признаки болезни состоят в периодическом подъеме температуры тела, особенно в вечерние часы. Постепенно развивается общая слабость, которая сопровождается понижением работоспособности, быстрой утомляемостью, одышкой, нарастающим исхуданием. Появляется кашель, иногда в легких прослушиваются хрипы. Все это приводит к общему упадку сил и кончается смертью.</a:t>
            </a:r>
            <a:br>
              <a:rPr sz="1700"/>
            </a:br>
            <a:br>
              <a:rPr sz="17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осовой сап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Начинается умеренным покраснением слизистой оболочки носовой полости, из одной или обеих ноздрей появляется слизистое беловато- или серовато-желтое истечение (иногда с примесью крови), которое засыхает корочками вокруг крыльев носа и затрудняет дыхание. На слизистой оболочке носовой перегородки с одной или обеих сторон видны очень мелкие сапные узелки (бугорки) серовато-желтого цвета. Сапные узелки постепенно распадаются и превращаются в язвы с острыми неровными краями (рис. 152) и желтым саловидным дном. Отдельные язвы могут сливаться вместе и вызывать прободение носовой перегородки. Заживление сапных язв происходит очень медленно, и на их месте образуются звездчатые рубцы. Осматривать носовую полость лошади на сап следует всегда с рефлектором. При хронической форме сапа подчелюстные лимфатические узлы резко увеличиваются в объеме (до куриного яйца и больше), становятся плотными, бугристыми, малоподвижными, на ощупь холодными и неболезпенными; нагноения их не бывает.</a:t>
            </a:r>
            <a:br>
              <a:rPr sz="1700"/>
            </a:br>
            <a:br>
              <a:rPr sz="17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Кожный сап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 ходу воспаленных лимфатических сосудов в коже или под кожей образуются сапные узлы, которые разрушаются (без нагноения) и образуют глубокие язвы с саловидным дном. Чаще всего поражаются задние конечности. В результате длительного течения болезни происходит значительное утолщение больной ноги - слоновость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сапные узелки и язвы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260280"/>
            <a:ext cx="5905440" cy="5047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жение кожи головы при сап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Объект 5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62160" y="188640"/>
            <a:ext cx="50022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САП ЧЕЛОВЕКА </a:t>
            </a:r>
            <a:br>
              <a:rPr sz="1600"/>
            </a:b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Человек обычно заражается при соприкосновении с больными животными, их трупами, шерстью, фуражом, подстилкой, загрязненными выделениями. Возбудитель проникает в организм через микротравмы на коже и слизистых или через рот посредством загрязненных возбудителем рук, а также аспирационным путем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Естественная восприимчивость людей невысокая, заболевание возникает в основном на фоне нарушения иммунного статуса организма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Обычно заражения носят профессиональный характер: болеют работники животноводства, лица, связанные с уходом за лошадьми, ослами, мулами, ветеринарные специалисты. Известны случаи внутри лабораторного заражения воздушно-пылевым путем. </a:t>
            </a:r>
            <a:br>
              <a:rPr sz="1500"/>
            </a:b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Инкубационный период </a:t>
            </a: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длится 1 - 5 дней, иногда может затягиваться до 14 дней. </a:t>
            </a:r>
            <a:br>
              <a:rPr sz="1500"/>
            </a:b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Основные клинические признаки</a:t>
            </a: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: острое начало заболевания. Отмечаются озноб, головная боль, мышечные и суставные боли. На месте внедрения возбудителя образуется покраснение, быстро переходящее в язву. Затем возникают абсцессы в легких, мягких тканях. Характерны лихорадка, падение артериального давления. Острая форма длится 7 - 14 дней. Возможно хроническое течение </a:t>
            </a:r>
            <a:r>
              <a:rPr b="1" lang="ru-RU" sz="1500" spc="-1" strike="noStrike">
                <a:solidFill>
                  <a:srgbClr val="ffffff"/>
                </a:solidFill>
                <a:latin typeface="Arial Narrow"/>
              </a:rPr>
              <a:t>сапа</a:t>
            </a: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 с лихорадкой, множественными язвами, гнойными процессами во внутренних органах.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Рисунок 9" descr=""/>
          <p:cNvPicPr/>
          <p:nvPr/>
        </p:nvPicPr>
        <p:blipFill>
          <a:blip r:embed="rId1"/>
          <a:stretch/>
        </p:blipFill>
        <p:spPr>
          <a:xfrm>
            <a:off x="344520" y="404640"/>
            <a:ext cx="3527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ап распознают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выявлением клинических признаков болезни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применением маллеиновой пробы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исследованием сыворотки крови методом реакции связывания комплемента (РСК) для выявления активных форм сапа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ная маллеинизац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ключается в нанесении 2-3 капель маллеина пипеткой на неизмененную конъюнктиву глаза. Реакцию учитывают через 3-6-9-12 и 24 час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тельная реак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краснение и набухание конъюнктивы глаза, слезотечение и выделение гноя (в виде шнура) из внутреннего угла глаз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мнительная реак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краснение конъюнктивы, припухлость и слезотечение, без образования гноя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тельная реак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изистая оболочка глаз остается без изменен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омнительной реакции глазную пробу повторяют на 5 - 6-й день в тот же глаз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петка для введения в глаз маллеина должна быть стерильной. Маллеинизацию следует проводить рано утром и в течение дня следить за реакцией. До окончания реакции лошадей не кормят и не поят. Лошадь ставят на развязке головой к проходу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кожную маллеинизацию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дят так же, как и туберкулинизацию, в том же порядке учитывают реакцию. Подкожную маллеинизацию проводят в ветеринарной лечебнице под непосредственным наблюдением ветеринарного врач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6:14:25Z</dcterms:created>
  <dc:creator>080811</dc:creator>
  <dc:description/>
  <dc:language>en-US</dc:language>
  <cp:lastModifiedBy>080811</cp:lastModifiedBy>
  <dcterms:modified xsi:type="dcterms:W3CDTF">2011-10-16T07:47:11Z</dcterms:modified>
  <cp:revision>9</cp:revision>
  <dc:subject/>
  <dc:title>Сап лошадей</dc:title>
</cp:coreProperties>
</file>