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E59-653D-44A4-B123-F9DB1577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456-4F53-4CFA-B12B-561AD34E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382-407C-407F-AFB4-763517F0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6A3-F7EF-43F8-85AE-AFCAD1C0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D507-3A28-4F4D-98B3-240C2F16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B505-7A86-43B8-A41B-67B5112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D932-8060-4ACA-85B8-A8A6D0F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325-8894-4C0E-8F94-48204A3B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ACF3-D8DF-4C0E-B240-EF3B670F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739D-F6FF-4E6A-93BD-B38E6741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F1F-F4A2-460B-9198-A7CA5F6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51E-D428-4A94-A6A3-F883D719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2E32-6C34-4110-ABFB-322ED51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E8F0-B2F2-44AF-BEE0-D85FC5C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7A35-5025-41AE-AB04-01D9C3F0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55EA-FCC0-4F88-BEF6-756C93D9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8D47-4548-42F0-A808-11028B80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5CE-B4AF-44F0-A9AF-CB0640C6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ECA-91F8-4E3A-8B20-0B107987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432-FAB2-40FF-B349-2CE26DF8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D7C-560F-4709-9C6C-1070A2A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CCE-F77B-41FB-9536-DFCF2BD1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3B3-FA6C-4C57-940E-13F70FF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E9D-6B09-43AC-A046-6C41DCE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F41-05ED-48F8-8EB6-A5BB81B0731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5DB7-4F17-4BC0-B480-2C1D26599E2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971640" y="2565360"/>
            <a:ext cx="7543800" cy="14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олибактериоз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нтиге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– сома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– капсу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 – жгутик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images[23]"/>
          <p:cNvPicPr/>
          <p:nvPr/>
        </p:nvPicPr>
        <p:blipFill>
          <a:blip r:embed="rId1"/>
          <a:stretch/>
        </p:blipFill>
        <p:spPr>
          <a:xfrm>
            <a:off x="5580000" y="227664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атогенн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реде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брюшинным заражением молодых белых мышей, массой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3 – 15 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 патогенных штаммов отмеч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уц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рмолабильного экзотокс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рмостабильного эндотокс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бактериоз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бактериоз (colibacteriosis) (эшерихиоз, колидиарея, колисепсис) – остропротекающая болезнь молодняка сельскохозяйственных животных, проявляющаяся септицемией, токсемией и энтерит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рфоло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3695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мотрицательная палочка с закругленными конца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 и капсул не образует, за исключением отдельных штаммов серогрупп 08, 09, 0101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вижные бактерии, чаще перетр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полагается одиноч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Безымянный[1]"/>
          <p:cNvPicPr/>
          <p:nvPr/>
        </p:nvPicPr>
        <p:blipFill>
          <a:blip r:embed="rId1"/>
          <a:stretch/>
        </p:blipFill>
        <p:spPr>
          <a:xfrm>
            <a:off x="4788000" y="2060640"/>
            <a:ext cx="410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ультуральные свойств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типу дыхания – аэро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тимальная температура роста – 37 – 3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тимально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реды -   7,0 – 7,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images[21]"/>
          <p:cNvPicPr/>
          <p:nvPr/>
        </p:nvPicPr>
        <p:blipFill>
          <a:blip r:embed="rId1"/>
          <a:stretch/>
        </p:blipFill>
        <p:spPr>
          <a:xfrm>
            <a:off x="5435640" y="2133720"/>
            <a:ext cx="3043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ясо – пептонный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бульо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утнение среды, с образованием легко разбивающегося ос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Рисунок4"/>
          <p:cNvPicPr/>
          <p:nvPr/>
        </p:nvPicPr>
        <p:blipFill>
          <a:blip r:embed="rId1"/>
          <a:stretch/>
        </p:blipFill>
        <p:spPr>
          <a:xfrm>
            <a:off x="5219640" y="1916280"/>
            <a:ext cx="36003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ясо – пептонный ага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16 – 20 часов вырастают влажные, круглые колонии, с ровными краями и гладкой поверхностью, серовато – белого ц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8" descr="images[55]"/>
          <p:cNvPicPr/>
          <p:nvPr/>
        </p:nvPicPr>
        <p:blipFill>
          <a:blip r:embed="rId1"/>
          <a:stretch/>
        </p:blipFill>
        <p:spPr>
          <a:xfrm>
            <a:off x="5580000" y="2349360"/>
            <a:ext cx="3024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реда Энд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ферментации глюкозы – малиново – красные коло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сутсвии ферментации – желтое окрашивание, т.е. отрицательный результ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image2[1]"/>
          <p:cNvPicPr/>
          <p:nvPr/>
        </p:nvPicPr>
        <p:blipFill>
          <a:blip r:embed="rId1"/>
          <a:stretch/>
        </p:blipFill>
        <p:spPr>
          <a:xfrm>
            <a:off x="5003640" y="2133720"/>
            <a:ext cx="3600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атологический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материа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бчатая 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я печени с желчным пузыр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дце у аорты, перевязанное лигатур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ловной моз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езок тонкого отдела кишеч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езе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Рисунок3"/>
          <p:cNvPicPr/>
          <p:nvPr/>
        </p:nvPicPr>
        <p:blipFill>
          <a:blip r:embed="rId1"/>
          <a:stretch/>
        </p:blipFill>
        <p:spPr>
          <a:xfrm>
            <a:off x="4915080" y="2044800"/>
            <a:ext cx="36954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стойчив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очве, навозе, воде и в животноводческих помещениях возбудитель сохраняется 1-2 меся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убительно действуют на эшерихий: 4 % горячий раствор гидроокиси натрия, осветленный раствор хлорной извести с содержанием 3 % активного хлора, 20 % взвесь свежегашеной изве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Рисунок2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27:03Z</dcterms:created>
  <dc:creator>Студент</dc:creator>
  <dc:description/>
  <dc:language>en-US</dc:language>
  <cp:lastModifiedBy>Ошакбаева</cp:lastModifiedBy>
  <dcterms:modified xsi:type="dcterms:W3CDTF">2013-11-07T13:20:52Z</dcterms:modified>
  <cp:revision>3</cp:revision>
  <dc:subject/>
  <dc:title> Колибактериоз</dc:title>
</cp:coreProperties>
</file>