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E2B-E23A-4B52-B7A4-53514564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368-B018-43AC-B342-EB00CD42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3B8-7099-448E-973E-A9B1625F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E7C-09A6-41CD-8C0F-C2BB7720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20D6-7910-4254-9A63-E5A25575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A862-0617-4617-A147-C42118B6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B03-F732-4749-8E6C-D258FA6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7EB5-9A9E-4ACE-8E5B-E606C2B3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F18-85B2-4DB8-A319-F12E845D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31FD-967C-493C-9793-6114780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209-9F4C-47E0-9037-6F13ACD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AAF-95BE-4ECB-8DF0-E7453DB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FBE7-78AE-4ABE-9BC0-F587A2E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708D-5208-4527-8479-157A9DC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EE21-28A7-42BC-A162-98740CC2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8E01-F1E9-4A60-819C-AA24C176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496F-6086-4938-B0BD-2454A9DC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7DD-5698-4197-94B1-6A454673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026-5331-4D24-AF1A-95057277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4F2-FDCC-4ED5-8FA8-71575E3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B74-CC45-410A-80BB-93B16E5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0FF-89A0-459E-BD92-612657F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9B4-C5AB-475F-B043-583F8BFB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423-005F-4A53-B61C-2A04CDF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B1F-AB77-4D6A-BBF5-56DFDD81C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418A-715F-4625-AF5D-F29F6908F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5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129440" cy="4606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6966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олезнь Ньюкасла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3024360" cy="198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67440" y="0"/>
            <a:ext cx="307656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акторы пере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0920" y="76500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3095640" cy="1933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435640" y="4437000"/>
            <a:ext cx="340848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79280" y="2205000"/>
            <a:ext cx="277200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276720" y="2205000"/>
            <a:ext cx="2908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67360" y="189000"/>
            <a:ext cx="4076640" cy="3295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ражение происходи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иментар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эроген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46920" y="3645000"/>
            <a:ext cx="3097080" cy="244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3933720"/>
            <a:ext cx="34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линические призна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форм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елогенную (острую)- угнетение, слабость,растр-во дыхания, паралич лап, смертность до 90 %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7718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2200" y="-1411560"/>
            <a:ext cx="103032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381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мезогенную (подострую) -  поражение органов дыхания, и нервной с-мы, кашель,удушье погибает от 10 до 50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7960" y="260280"/>
            <a:ext cx="3414600" cy="374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476244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51400" y="-3619080"/>
            <a:ext cx="47124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160" y="620640"/>
            <a:ext cx="322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лентогенную (хроническую)-проявляющуюся незначительными поражениями кишечника, органов размножения ее вызывают лентогенные штам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95640" y="115920"/>
            <a:ext cx="4751640" cy="590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50403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71840" y="-320760"/>
            <a:ext cx="1614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160" y="549360"/>
            <a:ext cx="37321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асимптоматическую (атипичную) - болезнь протекает без клинических признаков, заболевание определяют серологиче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201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т.материа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309564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2448000" cy="169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580000" y="378936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66544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3851280" y="4221000"/>
            <a:ext cx="15127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аб.диагнос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проба на куринных эмбри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- мелкоузелковые по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 очаговые по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369720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024360" cy="2879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5545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проба на цыпля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356000" y="335772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35640" y="404640"/>
            <a:ext cx="4608360" cy="3529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етоды РИФ, РГА, РСК, РЗГ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71640" y="3716280"/>
            <a:ext cx="4033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дрозд.jpg"/>
          <p:cNvPicPr/>
          <p:nvPr/>
        </p:nvPicPr>
        <p:blipFill>
          <a:blip r:embed="rId2"/>
          <a:stretch/>
        </p:blipFill>
        <p:spPr>
          <a:xfrm>
            <a:off x="755640" y="3284640"/>
            <a:ext cx="4753080" cy="322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5616360" cy="302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Болезнь Ньюкасла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псевдочума, атипичная чума, азиатская чума ……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высококонтагиозная болезнь птиц из отряда куриных, проявляющаяся поражением органов дыхания, желудочно-кишечного тракта и центральной нервной систем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рофилактик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8000" cy="453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313080" cy="2924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508720" y="189000"/>
            <a:ext cx="345600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еры борьб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484360" cy="165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443640" y="4824360"/>
            <a:ext cx="2408400" cy="20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635280" y="2065320"/>
            <a:ext cx="2880000" cy="4792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50920" y="3068640"/>
            <a:ext cx="2305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5580000" cy="6127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. Историческая справк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259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а впервые зарегистрирована на острове Ява Краневельдом в 1926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24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77528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Возбудитель болезн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НК-содержащий вирус из рода Paramixovirus семейства Paramixovmda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рфология     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3084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ет овальную форму, содержит РНК и устроен весьма сложно, размеры вирионов 120-300 нм. Капсомеры расположены по спиральному типу укладки имеет сферическую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95640" y="1916280"/>
            <a:ext cx="4537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064360" cy="609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 степени патогенности штаммов вируса БН различаю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огенные -- высокопатогенны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зогенные -- средней степени патогеннос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тогенные -- низкой степени патогенности, или авирулент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280" y="380520"/>
            <a:ext cx="360036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тойчив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Н в диапазоне 2,0...10,0; в высушенных органах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...18°С -2 года; в птичниках зимой -140 дней, летом - 7 дней. В гниющих трупах инактивируется через 3 нед. В замороженных тушках кур не погибает свыше 800 дней. При кипячении вирус в тушках птиц погибает лишь через 40...60 мин,нестоек к растворам формалина 1...2%-ные, хлорной извести 3%-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244800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372120" cy="3305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пизоот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4" descr="дрозд.jpg"/>
          <p:cNvPicPr/>
          <p:nvPr/>
        </p:nvPicPr>
        <p:blipFill>
          <a:blip r:embed="rId4"/>
          <a:stretch/>
        </p:blipFill>
        <p:spPr>
          <a:xfrm>
            <a:off x="5940360" y="4076640"/>
            <a:ext cx="2971800" cy="243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403280" y="462600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900000" y="2349360"/>
            <a:ext cx="374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0640" y="380880"/>
            <a:ext cx="73692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743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чник инфек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537080" cy="2565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3529080" cy="360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64000" y="3357720"/>
            <a:ext cx="2686320" cy="20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22:42Z</dcterms:created>
  <dc:creator>Студент</dc:creator>
  <dc:description/>
  <dc:language>en-US</dc:language>
  <cp:lastModifiedBy>Бухгалтер</cp:lastModifiedBy>
  <dcterms:modified xsi:type="dcterms:W3CDTF">2010-04-13T09:39:33Z</dcterms:modified>
  <cp:revision>11</cp:revision>
  <dc:subject/>
  <dc:title>Болезнь Ньюкасла                                                                                 (ньюкаслская болезнь) </dc:title>
</cp:coreProperties>
</file>