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B1F7-C878-46B8-8CD3-E4C706D2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5AA6-19DC-45D9-BC57-282A2E9D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87E5-29D6-4993-89B6-02C486E0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1691-717C-43D8-AECC-EF43C72B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EFFE-8516-4A44-84A3-6A6DE0F0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FAB4-2A9D-4F69-9CE9-257CF1BB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045A-C91B-4C9C-9CE3-5EE93DCB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AE66-E5F8-44E2-B4B9-890366AE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EA94-C41D-4E9F-B72F-D4C9C32C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7D74-1B67-4E75-9E2E-4903BD5C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D51F-71F1-4DEB-A6A5-A6467DDF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43F6-AC16-4390-885C-1C751B30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A5B6-A76D-4824-824E-5EAE3742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0CDE-BE90-49E0-BD34-81A11FA3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2B6F-F66D-433F-A46D-B1D2993D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333B-5268-41B6-95C2-252D3917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9915-616E-4DEA-B509-818FC82D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55C5-B85F-429D-95B1-45D37173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7046-A814-4477-86E5-E5815078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E481-00DE-46BC-8173-4E7FA974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15B8-B5FD-4652-9F34-3646FF7B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848E-24AE-43F4-89AD-CA189084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42C3-65CD-4843-8D1E-946C1E89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E197-3FE4-4700-85B5-CCD2F23C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6AFC-9BBC-4472-B2EB-BD6C607FA8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7524-9661-4A03-905A-6D6FA23783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ума крупного рогатого скота (pestes bovina)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ирусная диарея крупного рогатого скота (Diarrhea viralis bovum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Возбудитель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НКсодержащий вирус, относится к сем. Togaviridae, роду Pestivirus; имеет сферическую форму (Гиллепси, 1961 г.). Вирус сохраняется годами при — 20°С, в культуральной жидкости не теряет биологическую активность до 1 года, в крови, в лимфатических узлах, селезенке и др. патологическом материале — до 6 мес. При температуре 25°С в течение 1 сут вирус практически не снижает биологическую активность, при 37°С погибает через 5 сут. Вирус чувствителен к эфиру, хлороформу, трипсину и дезоксихолату натр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кубационный период: 6—9 суток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чник инфекции: больные животные и вирусоносител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ти передачи: алиментарный, через обслуживающий персонал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мптомы: при остром течении температура повышается до 40—42°С, депрессия, потеря аппетита, истечение из носа, эрозии и язвы на слизистой носовой полости, изъязвления кожи на венчике, кал зловонный, жидкой консистенции, с пеной и слизью; гибель на 2—3 сутки. У коров и молодняка старшего возраста — абортивная форма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атолого-анатомические изменения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аруживают подкожные студенистые отеки, гиперемию легких, участки уплотнения красного цвета, окруженные зоной эмфиземы. Слизистая трахеи, бронхов и бронхиол гиперемирована и покрыта слизистогнойным экссудатом. Между долями легкого иногда находят фиброзную ткань. Отмечают также отечность, гиперемию или некроз заглоточных, шейных, бронхиальных и средостепенных лимфоузлов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Диагностик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лаборатории проводят РП в агаровом геле, РН в культуре тканей, иммунофлюоресценцию, биопробу на телятах. От больных животных в ранней'стадии болезни отбирают кровь, смывы с носовой полости, фекалии, от вынужденно убитых или павших животных направляют часть различных отделов кишечника, носовой перегородки трахеи, легких, селезенки, лимфоузлы; от абортированных плодов берут кусочки паренхиматозных органов, околоплодную жидкос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рофилактика и лечение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чение: средства специфической терапии не предложены, проводят симптоматическое лечени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филактика: рекомендуется убой больного скота и проведение ограничительных мероприяти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теринарно-санитарная экспертиза. Туши и все субпродукты от крупного рогатого скота, больного или подозрительного по этому заболеванию, выпускать в сыром виде запрещаетс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ясо и субпродукты, признанные по результатам ветеринарно-санитарной экспертизы пригодными в пищу, направляют для переработки на вареные и варено-копченые колбас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наличии патологических изменений в туше и внутренних органах проводят бактериологическое исследование. Если положительный результат — внутренние органы в утиль, а туши выпускают после провариван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уры дезинфицируют в насыщенном растворе поваренной соли с добавлением 1 % хлористого калия. Волосы дезинфицируют в паровых дезинфекционных камерах при температуре 109— 111 °С в течение 30 м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489040" y="457200"/>
            <a:ext cx="4008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ма крупного рогатого скота (pestes bovina) остро протекающая,  чрезвычайно контагиозная  болезнь крупного рогатого скота, характеризующаяся постоянной высокой лихорадкой, геморрагическим диатезом, воспалительно-некротическими изменениями слизистых оболочек преимущественно пищеварительного тракта,  системным поражением лимфоидной ткани.  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будитель относится к семейству Paramyxoviridae, 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семейству Paramyxovirus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оду Morbillivir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57150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Течение и симптомы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кубационный период  при чуме крупного рогатого скота  составляет от 3 до 17 дней. Течение бывает острое, подострое и сверхострое. Проявляется в типичной, абортивной и латентной форм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Диагноз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гноз ставят на  основании эпизоотологических данных, симптомов болезни, патологоанатомических изменений и результатов лабораторных исследований. Вирус выделяют на культуре клеток почки крупного рогатого скота. В крови определяют антитела с помощью РСК, РН, РТГА,  ИФА.  Идентификацию культурального вируса и возбудителя в биологическом материале    проводят с использованием РСК, РТНГА, РИФ, ИФА, ПЦ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919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прещено ветеринарным законодательством. Их убивают бескровным методом с последующим сжиганием труп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Профилактика и меры борьбы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специфической   профилактики чумы крупного рогатого скота  используют живые культуральные вакцины из штаммов ЛТ, К37/70, TCRV, инактивированные сапонин-вакцины  из штамма ЛТ ВЧ КРС. В США и Японии используются генноинженерные рекомбинантные вакцины. Для ликвидации заболевания используют  общие противоэпизоотические мероприятия – карантин, вакцинация животных в местах возникновения болезни,  убой больных и подозрительных в заболевании животных, ограничение движения скота, дезинфекц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2-17T17:37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