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9B-D867-416B-A4F8-FB4E3BDF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D93-5017-49AF-822C-31E6790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376-A963-488F-BEC4-A77F5C58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C60-0CCE-46D0-B746-610C7716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16DC-1CCF-414A-80B4-D187515A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6819-F996-41F5-8182-599B3CC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747-E69C-4D21-832B-C57DF5A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317A-7420-4366-AC58-E522044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BC65-5A94-436B-8101-B258F7B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FBD-7816-4474-9B89-2AA5D7F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884-8BB0-493B-9438-205C18B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698-96DF-48AB-95B6-55C2371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AFF-A1DA-46AF-A7FA-8091558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3D24-B8F5-4B8B-A915-C2743E6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C6E7-2FDD-4B23-8C2E-652E6AE5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5D06-C9EF-4999-AF6F-37DC98B3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D46F-3C8D-42FA-8C65-3E89FD37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B3CD-1E85-4C48-BD9E-30668EF8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6297-657A-49A4-830C-88B80B0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32AD-28D9-47AB-B885-5FAC1450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DDC3-6C1A-4541-A91D-0939C7D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A235-E270-424A-AD87-FC5F7098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274-2B04-4F2C-AA9F-AA8F91F1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1FF3-3A85-46F7-A310-D9F6E8F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E01B-B18F-423A-A82E-0B0FD53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CD8E-CC1D-46F0-84C2-F6861DA4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2C4E-BB28-497E-85A5-BD637B7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ACAB-3107-4E99-9B73-B9151A59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E527-86EE-4B3A-A4B8-3D5EA0F1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2345-E0D5-4992-9E19-C1EC6059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E609-F891-4DF5-B656-99E30151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C3F1-6C12-4D30-ADA4-13A7CC96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ABF7-1613-4A62-94AF-1993C9E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8B9-EA39-4DFB-9DBA-2EC2F67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0DE4-F4B4-4D88-9365-5CD4325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A784-3D77-4F90-B48E-3E66871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FF14-BF9B-4CA2-A29F-87E05D9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6604-FF90-450B-B4AA-AC4FDC0D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D271-0A91-43EC-97B0-100B605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C0E3-4026-48BC-9852-CF4BFC0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5609-99CB-4234-8690-1F30FAE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F591-EA0B-449A-B446-F0B18C29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10E0-A81B-48D0-85BB-260B795B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86A2-72A4-438C-8554-7236395D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24E-2325-448D-A7F6-C0C7C06B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6780-B907-4BDE-867B-63E60BEA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C428-77F6-4D31-957E-8DF00075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8A8D-9C4F-454F-BE58-8EC7BD2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2E3C-2C2A-483F-8CC7-1E2630E9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7690-2352-4543-AFC4-058D1BE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B68E-8592-4BA7-82B8-3954434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C2C4-4BA6-4D89-9332-1654F0B7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E6FF-94E3-4774-BF82-BDEE282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78ECE-6C1F-479A-9FD6-FF01C2B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1B02-C596-4DB1-B077-E6BFFCE9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FD7-4EBD-45D9-BE5D-FC9F639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D8001-DBD4-4F14-B894-10514416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E9AE-5158-45EC-95E5-8D7040CE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5139-D639-497E-8F4D-4F61E9A7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AE13-7070-4837-9C5C-42141D0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52CB-1D1E-4BE1-B25A-C06C138C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DF89-9112-40F4-BA52-0E0FC05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EE57B-80AA-4A12-B9B3-75EFEFD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3477-8085-4191-ADF8-9F8AF22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7DD80-93EB-46C2-8A75-8676C93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353D-A8BE-4204-9613-3860A4C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8C5-8985-4218-8372-4AE0970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8B3E-51C2-4811-8978-0FD091D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5719-944B-40DF-968F-FECCC846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ADB2-8C23-4BBB-9B73-83004CC3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C20E-65F6-4CD1-9090-705D5CA8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AD11-C262-477D-982F-1CE19E9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77BE-B80F-4479-A2C3-A5F51A3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E0B8-4017-4719-B7CF-2E5E9B07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2715-2886-438A-A07C-919F954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F735-8BBF-4E33-AB68-2F46D2BE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6347-CF12-44CC-892B-2EC250C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913-56A7-48DB-AE18-DE33D43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5A49-2C9C-44D7-94A7-E2F8D35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0D96-3C8D-4C15-A19A-4624FE2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2B76D-6896-4F43-ABB1-39565163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B796-9633-4F1E-BD03-28A7CC63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29FF-8F6E-4F3F-9973-41772E1F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AD0-2942-4DA9-ADE4-556DAEA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AED-F83E-4E5E-8BF1-C9381E5743E8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568C-DD6F-4600-813F-666C4DCCA539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8BF-AC6F-4BFE-8688-A1A34E571F36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B89-DFF8-4CC6-8475-1FA57E31F017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705-FF1D-43E2-BD69-1DD69C1652DE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9D3-25A4-44D1-B888-431CF9195305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6AC-20F9-4975-9836-6F28F56E25C3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4"/>
          <p:cNvSpPr/>
          <p:nvPr/>
        </p:nvSpPr>
        <p:spPr>
          <a:xfrm>
            <a:off x="1476360" y="40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станайский Государственный университ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А.Байту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Прямоугольник 6" descr=""/>
          <p:cNvPicPr/>
          <p:nvPr/>
        </p:nvPicPr>
        <p:blipFill>
          <a:blip r:embed="rId1"/>
          <a:stretch/>
        </p:blipFill>
        <p:spPr>
          <a:xfrm>
            <a:off x="1700280" y="1249200"/>
            <a:ext cx="6529320" cy="20242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7" descr=""/>
          <p:cNvPicPr/>
          <p:nvPr/>
        </p:nvPicPr>
        <p:blipFill>
          <a:blip r:embed="rId2"/>
          <a:stretch/>
        </p:blipFill>
        <p:spPr>
          <a:xfrm>
            <a:off x="1719360" y="2511360"/>
            <a:ext cx="706428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0"/>
          <p:cNvSpPr/>
          <p:nvPr/>
        </p:nvSpPr>
        <p:spPr>
          <a:xfrm>
            <a:off x="364320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станай,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Биологические свойства возбудителя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) морф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P. muitocida в мазках-отпечатках из крови и органов представляет собой неподвижную, грамотрицательную, короткую, овальной или яйцевидной формы бактерию, эндоспоры не образовывает. Длина составляет 0,4...1,2 мкм, ширина - 0,3...0,4мк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43280" y="285480"/>
            <a:ext cx="45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краска.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стерелл окрашиваются хорошо всеми растворами основных анилиновых красок. Биполярность пастерелл хорошо видна при окраске лефлеровской метиленовой синькой, карбол-фуксином, по Романовскому-Гимзе, Мурамцеву. Капсулу у капсульных вариантов пастерелл можно выявить окраской водным раствором сафранина с подогреванием (способ Ольта). Но наиболее отчетливо ее видно при изготовлении мазков по Бурри с дополнительной окраской по способу Ребирг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plague-cdc4.jpg"/>
          <p:cNvPicPr/>
          <p:nvPr/>
        </p:nvPicPr>
        <p:blipFill>
          <a:blip r:embed="rId1"/>
          <a:stretch/>
        </p:blipFill>
        <p:spPr>
          <a:xfrm>
            <a:off x="1000080" y="0"/>
            <a:ext cx="4000680" cy="31431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1304781321_1.png"/>
          <p:cNvPicPr/>
          <p:nvPr/>
        </p:nvPicPr>
        <p:blipFill>
          <a:blip r:embed="rId2"/>
          <a:stretch/>
        </p:blipFill>
        <p:spPr>
          <a:xfrm>
            <a:off x="1214280" y="3071880"/>
            <a:ext cx="350064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2680" y="213840"/>
            <a:ext cx="66438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б) культуральные свойств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Pasteurella muitocida является факультативным анаэробом, температура ее жизнедеятельности 22-42ºс, оптимум температуры 37-38ºс. Оптимальное значение рН среды 7,2-7,4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3" descr="Pasteurella-multocida-1021205.png"/>
          <p:cNvPicPr/>
          <p:nvPr/>
        </p:nvPicPr>
        <p:blipFill>
          <a:blip r:embed="rId1"/>
          <a:stretch/>
        </p:blipFill>
        <p:spPr>
          <a:xfrm>
            <a:off x="2214720" y="2786040"/>
            <a:ext cx="507204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Рост на жидких питательных средах. 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ПБ в первые сутки роста пастерелл  слегка мутнеет, причем помутнение равномерное. На дне пробирки образуется слизистый осадок, который поднимается при встряхивании в виде косички (муаровые волны). Затем помутнение несколько усиливается, а через 4-8 дней роста бульон в пробирке светлеет, на дне более выраженный слизистый осад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Рост на плотных питательных средах. На МПА: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S-формы образуют мелкие, выпуклые, прозрачные, округлой формы колонии серого цвета. Они в косо проходящем свете флюоресцируют, что связано с капсулообразованием, сильно вирулентны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M-формы - более крупные слизистой консистенции с непрозрачным центром, серовато-белые, с ровными краями, имеют капсулу, средней степени вирулентны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R-формы - шероховатые непрозрачны колонии, капсул не имеют, авирулент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285560" y="8568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МПЖ при посеве уколом пастереллы растут в виде отдельных колоний, а затем беловатого стержня, никаких отростков, а также разжижения желатины не наблюдается, так как эти бактерии лишены протеолитической актив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ост на куриных эмбрионах. Пастереллы могут расти на развивающихся куриных эмбрионах. Картер (1950) даже получил и испытывал эмбрионвакцину против пастерелле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3" descr=""/>
          <p:cNvPicPr/>
          <p:nvPr/>
        </p:nvPicPr>
        <p:blipFill>
          <a:blip r:embed="rId1"/>
          <a:stretch/>
        </p:blipFill>
        <p:spPr>
          <a:xfrm>
            <a:off x="1200240" y="189000"/>
            <a:ext cx="7589880" cy="14572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65413bf515eb9fcf8841b952d5d9b5fd.jpg"/>
          <p:cNvPicPr/>
          <p:nvPr/>
        </p:nvPicPr>
        <p:blipFill>
          <a:blip r:embed="rId2"/>
          <a:stretch/>
        </p:blipFill>
        <p:spPr>
          <a:xfrm>
            <a:off x="1714680" y="1714680"/>
            <a:ext cx="650052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                   </a:t>
            </a: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Пастереллез </a:t>
            </a:r>
            <a:br>
              <a:rPr sz="3900"/>
            </a:b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(геморрагическая септицемия) 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00080" y="1571400"/>
            <a:ext cx="4286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острая инфекционная болезнь, характеризующаяся лихорадкой, общей интоксикацией, воспалением кожи, подкожной клетчатки, артритами, остеомиелитами. Относится к зооноза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4" descr="paster3_l.jpg"/>
          <p:cNvPicPr/>
          <p:nvPr/>
        </p:nvPicPr>
        <p:blipFill>
          <a:blip r:embed="rId1"/>
          <a:stretch/>
        </p:blipFill>
        <p:spPr>
          <a:xfrm>
            <a:off x="5072040" y="1714680"/>
            <a:ext cx="3786120" cy="3719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42960" y="428760"/>
            <a:ext cx="48578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фекционная природа болезни установлена Риволтом( 1877), Бол-лингером в 1878 году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. Пастер выделил чистую культуру возбудителя и сделал первую попытку приготовить убитую вакцину. В честь его в 1910 г. этот микроб был назван пастереллой, а вызываемое им заболевание — пастереллез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pasteur1ce9.gif"/>
          <p:cNvPicPr/>
          <p:nvPr/>
        </p:nvPicPr>
        <p:blipFill>
          <a:blip r:embed="rId1"/>
          <a:stretch/>
        </p:blipFill>
        <p:spPr>
          <a:xfrm>
            <a:off x="5357880" y="714240"/>
            <a:ext cx="35719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астереллы устойчивы в навозе, крови, холодной воде в течение 2...3 нед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трупах —до 4мес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замороженном мясе—в течение 1 год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ямые солнечные лучи убивают их в течение нескольких минут, при температуре 70...90 "С они погибают в течение 5...10 мин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бработка 5%-ным раствором карболовой кислоты обезвреживает пастереллы через 1 мин, 3%-ным раствором — через 2 мин, 5%-ным раствором известкового молока (гидроксид кальция) — через 4...5 мин, 3%-ным горячим раствором (50 °С) гидрокарбоната натрия и 1%-ным раствором хлорной извести — через 3 мин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71360" y="356760"/>
            <a:ext cx="74977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збудитель: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Pasteurella multocida и Pasteurella haemolytica — небольшая, Г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еподвижная и не образующая спор бактерия, располагающаяся изолированно, парами и реже в виде цепоче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Pasteurella_multocida.jpg"/>
          <p:cNvPicPr/>
          <p:nvPr/>
        </p:nvPicPr>
        <p:blipFill>
          <a:blip r:embed="rId1"/>
          <a:stretch/>
        </p:blipFill>
        <p:spPr>
          <a:xfrm>
            <a:off x="2286000" y="3071880"/>
            <a:ext cx="54291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Эпизоотология.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28440" y="1356840"/>
            <a:ext cx="477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приимчивы все виды домашних и диких животных, в том числе птицы и человек.Устойчивы плотоядные и лошад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кубационный период: от нескольких часов до нескольких сут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сточник возбудителя: больные и переболевшие животны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1Cf2qLlHu4.jpg"/>
          <p:cNvPicPr/>
          <p:nvPr/>
        </p:nvPicPr>
        <p:blipFill>
          <a:blip r:embed="rId1"/>
          <a:stretch/>
        </p:blipFill>
        <p:spPr>
          <a:xfrm>
            <a:off x="5595840" y="285840"/>
            <a:ext cx="3262320" cy="28573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4" descr="911210-2.jpg"/>
          <p:cNvPicPr/>
          <p:nvPr/>
        </p:nvPicPr>
        <p:blipFill>
          <a:blip r:embed="rId2"/>
          <a:stretch/>
        </p:blipFill>
        <p:spPr>
          <a:xfrm>
            <a:off x="5643720" y="3357720"/>
            <a:ext cx="32144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Image947.gif"/>
          <p:cNvPicPr/>
          <p:nvPr/>
        </p:nvPicPr>
        <p:blipFill>
          <a:blip r:embed="rId1"/>
          <a:stretch/>
        </p:blipFill>
        <p:spPr>
          <a:xfrm>
            <a:off x="2000160" y="57168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Патогенез и факторы вирулентности: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ражение животных происходит алиментарным и воздушно-капельным путям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будитель размножается и проникает в кровь и лимфу, вызывая септицем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дотоксины и агрессины повреждают стенки сосудов, вызывая массовые кровоизлияния, появляются отеки. Все это приводит к омертвлению ткан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Диагностика пастереллеза.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928800"/>
            <a:ext cx="42865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лабораторию направляют селезенку, печень, почки, пораженные части легких с лимфоузлами и трубчатую кость. Трупы мелких животных отправляют целиком. Для исследования берут материал из паренхиматозных органов, из пораженных легких, лимфоузлы из отечных тканей. Делают мазки-отпечатки и окрашивают по Граму или Романовскому-Гимзе, с целью обнаружения типичных, биполярно окрашенных овоидных палоче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4" descr="4239201411.jpg"/>
          <p:cNvPicPr/>
          <p:nvPr/>
        </p:nvPicPr>
        <p:blipFill>
          <a:blip r:embed="rId1"/>
          <a:stretch/>
        </p:blipFill>
        <p:spPr>
          <a:xfrm>
            <a:off x="5257800" y="1714680"/>
            <a:ext cx="3886200" cy="32144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2357280" y="55720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ажное диагностическое значение имеет микроскопия свежей крови. Проводят бактериологическое исследование и биопро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05:33:22Z</dcterms:created>
  <dc:creator>Admin</dc:creator>
  <dc:description/>
  <dc:language>en-US</dc:language>
  <cp:lastModifiedBy>Ошакбаева</cp:lastModifiedBy>
  <dcterms:modified xsi:type="dcterms:W3CDTF">2013-11-07T13:11:00Z</dcterms:modified>
  <cp:revision>10</cp:revision>
  <dc:subject/>
  <dc:title>Слайд 1</dc:title>
</cp:coreProperties>
</file>