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34.png" ContentType="image/png"/>
  <Override PartName="/ppt/media/image38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40.jpeg" ContentType="image/jpeg"/>
  <Override PartName="/ppt/media/image13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8F4-2CCD-4E14-937E-D2CF3747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96F4-6118-4B59-8165-F6E090A0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F4F-AA83-433B-AE08-441F1F43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90F-8E9A-44EA-B0BC-B7E14861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F35E-197B-4E92-A196-1FA2E39F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E243-2132-44D6-AEA6-773992C4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8E31-F0D3-425B-B04A-AA4A1FBC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1E57-2A09-4B92-AA2E-6A618413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1D2D-757C-451C-979D-B86001FF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3C20-DB5F-48D9-9EE4-456C0715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C554-37D4-431F-9622-92CA9990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9C1-92E1-42D2-9BA6-55C33242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2C34-F3B3-4966-9AC3-04B26BC7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96A1-AEA2-4038-96F3-ED0839EC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E1D5-9D20-47A3-9B33-4E84905A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D9E5-98CC-4AB0-B9FB-CBA3EB53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6EEE-DD94-44CF-AA89-0E3A6E17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F8A-80E7-4EDB-88F2-5D585306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C916-607E-4164-9F9D-380E6B66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345-9E9F-4E3D-BDA5-EA56EBDF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E84-19FC-4842-8841-BA75BA51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205-8B8F-4DE5-BBF9-1DB902C3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EE6-1497-4AF7-80C2-8CF83FC8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389-1D03-4E5E-9FF0-0D6CCE13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856F-8E4A-4090-A539-D68428B109B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2271-ACD1-4B70-B66B-87D354E4A34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8;&#1085;&#1092;&#1077;&#1082;&#1094;&#1080;&#1103;" TargetMode="External"/><Relationship Id="rId3" Type="http://schemas.openxmlformats.org/officeDocument/2006/relationships/hyperlink" Target="http://ru.wikipedia.org/wiki/&#1042;&#1080;&#1088;&#1091;&#1089;" TargetMode="External"/><Relationship Id="rId4" Type="http://schemas.openxmlformats.org/officeDocument/2006/relationships/hyperlink" Target="http://ru.wikipedia.org/wiki/&#1041;&#1086;&#1083;&#1077;&#1079;&#1085;&#1100;" TargetMode="External"/><Relationship Id="rId5" Type="http://schemas.openxmlformats.org/officeDocument/2006/relationships/hyperlink" Target="http://ru.wikipedia.org/wiki/&#1055;&#1090;&#1080;&#1094;&#1072;" TargetMode="External"/><Relationship Id="rId6" Type="http://schemas.openxmlformats.org/officeDocument/2006/relationships/hyperlink" Target="http://ru.wikipedia.org/wiki/&#1051;&#1077;&#1090;&#1072;&#1083;&#1100;&#1085;&#1086;&#1089;&#1090;&#1100;" TargetMode="External"/><Relationship Id="rId7" Type="http://schemas.openxmlformats.org/officeDocument/2006/relationships/hyperlink" Target="http://ru.wikipedia.org/wiki/&#1040;&#1085;&#1090;&#1080;&#1075;&#1077;&#1085;" TargetMode="External"/><Relationship Id="rId8" Type="http://schemas.openxmlformats.org/officeDocument/2006/relationships/hyperlink" Target="http://ru.wikipedia.org/w/index.php?title=&#1042;&#1072;&#1088;&#1080;&#1072;&#1073;&#1077;&#1083;&#1100;&#1085;&#1086;&#1089;&#1090;&#1100;&amp;action=edit&amp;redlink=1" TargetMode="External"/><Relationship Id="rId9" Type="http://schemas.openxmlformats.org/officeDocument/2006/relationships/hyperlink" Target="http://ru.wikipedia.org/wiki/&#1042;&#1080;&#1088;&#1091;&#1083;&#1077;&#1085;&#1090;&#1085;&#1086;&#1089;&#1090;&#1100;" TargetMode="External"/><Relationship Id="rId10" Type="http://schemas.openxmlformats.org/officeDocument/2006/relationships/hyperlink" Target="http://ru.wikipedia.org/wiki/&#1064;&#1090;&#1072;&#1084;&#1084;" TargetMode="External"/><Relationship Id="rId11" Type="http://schemas.openxmlformats.org/officeDocument/2006/relationships/hyperlink" Target="http://ru.wikipedia.org/wiki/&#1045;&#1089;&#1090;&#1077;&#1089;&#1090;&#1074;&#1077;&#1085;&#1085;&#1099;&#1081;_&#1088;&#1077;&#1079;&#1077;&#1088;&#1074;&#1091;&#1072;&#1088;" TargetMode="External"/><Relationship Id="rId12" Type="http://schemas.openxmlformats.org/officeDocument/2006/relationships/hyperlink" Target="http://ru.wikipedia.org/w/index.php?title=&#1052;&#1080;&#1075;&#1088;&#1080;&#1088;&#1091;&#1102;&#1097;&#1080;&#1077;_&#1087;&#1090;&#1080;&#1094;&#1099;&amp;action=edit&amp;redlink=1" TargetMode="External"/><Relationship Id="rId13" Type="http://schemas.openxmlformats.org/officeDocument/2006/relationships/hyperlink" Target="http://ru.wikipedia.org/wiki/&#1059;&#1090;&#1082;&#1072;" TargetMode="External"/><Relationship Id="rId14" Type="http://schemas.openxmlformats.org/officeDocument/2006/relationships/hyperlink" Target="http://ru.wikipedia.org/wiki/&#1055;&#1086;&#1087;&#1091;&#1083;&#1103;&#1094;&#1080;&#1103;" TargetMode="External"/><Relationship Id="rId15" Type="http://schemas.openxmlformats.org/officeDocument/2006/relationships/hyperlink" Target="http://ru.wikipedia.org/wiki/&#1048;&#1090;&#1072;&#1083;&#1080;&#1103;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hyperlink" Target="http://kalininskaya.ucoz.ru/kriminal/Ptichii_gripp.jpg" TargetMode="External"/><Relationship Id="rId19" Type="http://schemas.openxmlformats.org/officeDocument/2006/relationships/image" Target="../media/image13.jpeg"/><Relationship Id="rId20" Type="http://schemas.openxmlformats.org/officeDocument/2006/relationships/image" Target="../media/image14.jpeg"/><Relationship Id="rId2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53;&#1050;" TargetMode="External"/><Relationship Id="rId2" Type="http://schemas.openxmlformats.org/officeDocument/2006/relationships/hyperlink" Target="http://ru.wikipedia.org/w/index.php?title=&#1056;&#1080;&#1073;&#1086;&#1085;&#1091;&#1082;&#1083;&#1077;&#1086;&#1087;&#1088;&#1086;&#1090;&#1077;&#1080;&#1076;&amp;action=edit&amp;redlink=1" TargetMode="External"/><Relationship Id="rId3" Type="http://schemas.openxmlformats.org/officeDocument/2006/relationships/hyperlink" Target="http://ru.wikipedia.org/wiki/&#1042;&#1080;&#1088;&#1091;&#1089;_&#1075;&#1088;&#1080;&#1087;&#1087;&#1072;" TargetMode="External"/><Relationship Id="rId4" Type="http://schemas.openxmlformats.org/officeDocument/2006/relationships/hyperlink" Target="http://ru.wikipedia.org/wiki/&#1042;&#1080;&#1088;&#1080;&#1086;&#1085;" TargetMode="External"/><Relationship Id="rId5" Type="http://schemas.openxmlformats.org/officeDocument/2006/relationships/hyperlink" Target="http://ru.wikipedia.org/wiki/&#1053;&#1072;&#1085;&#1086;&#1084;&#1077;&#1090;&#1088;" TargetMode="External"/><Relationship Id="rId6" Type="http://schemas.openxmlformats.org/officeDocument/2006/relationships/hyperlink" Target="http://ru.wikipedia.org/wiki/&#1051;&#1080;&#1087;&#1086;&#1087;&#1088;&#1086;&#1090;&#1077;&#1080;&#1076;" TargetMode="External"/><Relationship Id="rId7" Type="http://schemas.openxmlformats.org/officeDocument/2006/relationships/hyperlink" Target="http://ru.wikipedia.org/wiki/&#1043;&#1077;&#1085;&#1086;&#1084;" TargetMode="External"/><Relationship Id="rId8" Type="http://schemas.openxmlformats.org/officeDocument/2006/relationships/hyperlink" Target="http://ru.wikipedia.org/w/index.php?title=&#1043;&#1077;&#1084;&#1072;&#1075;&#1075;&#1083;&#1102;&#1090;&#1080;&#1085;&#1072;&#1094;&#1080;&#1103;&amp;action=edit&amp;redlink=1" TargetMode="External"/><Relationship Id="rId9" Type="http://schemas.openxmlformats.org/officeDocument/2006/relationships/hyperlink" Target="http://ru.wikipedia.org/wiki/&#1069;&#1084;&#1073;&#1088;&#1080;&#1086;&#1085;" TargetMode="External"/><Relationship Id="rId10" Type="http://schemas.openxmlformats.org/officeDocument/2006/relationships/hyperlink" Target="http://ru.wikipedia.org/wiki/&#1040;&#1083;&#1083;&#1072;&#1085;&#1090;&#1086;&#1080;&#1089;" TargetMode="External"/><Relationship Id="rId11" Type="http://schemas.openxmlformats.org/officeDocument/2006/relationships/hyperlink" Target="http://ru.wikipedia.org/wiki/&#1069;&#1088;&#1080;&#1090;&#1088;&#1086;&#1094;&#1080;&#1090;" TargetMode="External"/><Relationship Id="rId12" Type="http://schemas.openxmlformats.org/officeDocument/2006/relationships/hyperlink" Target="http://ru.wikipedia.org/w/index.php?title=&#1043;&#1077;&#1084;&#1072;&#1076;&#1089;&#1086;&#1088;&#1073;&#1094;&#1080;&#1103;&amp;action=edit&amp;redlink=1" TargetMode="External"/><Relationship Id="rId13" Type="http://schemas.openxmlformats.org/officeDocument/2006/relationships/hyperlink" Target="http://ru.wikipedia.org/wiki/&#1042;&#1080;&#1088;&#1091;&#1083;&#1077;&#1085;&#1090;&#1085;&#1086;&#1089;&#1090;&#1100;" TargetMode="External"/><Relationship Id="rId14" Type="http://schemas.openxmlformats.org/officeDocument/2006/relationships/hyperlink" Target="http://ru.wikipedia.org/wiki/&#1056;&#1072;&#1089;&#1090;&#1074;&#1086;&#1088;" TargetMode="External"/><Relationship Id="rId15" Type="http://schemas.openxmlformats.org/officeDocument/2006/relationships/hyperlink" Target="http://ru.wikipedia.org/wiki/&#1043;&#1080;&#1076;&#1088;&#1086;&#1082;&#1089;&#1080;&#1076;_&#1085;&#1072;&#1090;&#1088;&#1080;&#1103;" TargetMode="External"/><Relationship Id="rId16" Type="http://schemas.openxmlformats.org/officeDocument/2006/relationships/hyperlink" Target="http://ru.wikipedia.org/wiki/&#1060;&#1077;&#1085;&#1086;&#1083;" TargetMode="External"/><Relationship Id="rId17" Type="http://schemas.openxmlformats.org/officeDocument/2006/relationships/hyperlink" Target="http://ru.wikipedia.org/wiki/&#1060;&#1086;&#1088;&#1084;&#1072;&#1083;&#1100;&#1076;&#1077;&#1075;&#1080;&#1076;" TargetMode="External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hyperlink" Target="http://img.oboz.obozrevatel.com/files/NewsPhoto/2009/02/04/284032/145158_image_large.jpg" TargetMode="External"/><Relationship Id="rId21" Type="http://schemas.openxmlformats.org/officeDocument/2006/relationships/image" Target="../media/image16.jpeg"/><Relationship Id="rId22" Type="http://schemas.openxmlformats.org/officeDocument/2006/relationships/hyperlink" Target="http://5an.ru/wp-content/uploads/2009/07/d0b3d180d0b8d0bf.jpg" TargetMode="External"/><Relationship Id="rId23" Type="http://schemas.openxmlformats.org/officeDocument/2006/relationships/image" Target="../media/image17.jpeg"/><Relationship Id="rId2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80;&#1072;&#1085;&#1086;&#1079;" TargetMode="External"/><Relationship Id="rId2" Type="http://schemas.openxmlformats.org/officeDocument/2006/relationships/hyperlink" Target="http://ru.wikipedia.org/wiki/&#1069;&#1082;&#1089;&#1089;&#1091;&#1076;&#1072;&#1090;" TargetMode="External"/><Relationship Id="rId3" Type="http://schemas.openxmlformats.org/officeDocument/2006/relationships/hyperlink" Target="http://ru.wikipedia.org/wiki/&#1044;&#1080;&#1072;&#1088;&#1077;&#1103;" TargetMode="External"/><Relationship Id="rId4" Type="http://schemas.openxmlformats.org/officeDocument/2006/relationships/hyperlink" Target="http://ru.wikipedia.org/wiki/&#1055;&#1086;&#1084;&#1105;&#1090;" TargetMode="External"/><Relationship Id="rId5" Type="http://schemas.openxmlformats.org/officeDocument/2006/relationships/hyperlink" Target="http://ru.wikipedia.org/wiki/&#1053;&#1077;&#1074;&#1088;&#1086;&#1079;" TargetMode="External"/><Relationship Id="rId6" Type="http://schemas.openxmlformats.org/officeDocument/2006/relationships/hyperlink" Target="http://ru.wikipedia.org/wiki/&#1057;&#1091;&#1076;&#1086;&#1088;&#1086;&#1075;&#1080;" TargetMode="External"/><Relationship Id="rId7" Type="http://schemas.openxmlformats.org/officeDocument/2006/relationships/hyperlink" Target="http://ru.wikipedia.org/w/index.php?title=&#1052;&#1072;&#1085;&#1077;&#1078;&#1085;&#1099;&#1077;_&#1076;&#1074;&#1080;&#1078;&#1077;&#1085;&#1080;&#1103;&amp;action=edit&amp;redlink=1" TargetMode="External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hyperlink" Target="http://images.mopoto.com/5/56/569/56927.jpg" TargetMode="External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ru.wikipedia.org/wiki/&#1057;&#1077;&#1088;&#1086;&#1090;&#1080;&#1087;" TargetMode="External"/><Relationship Id="rId5" Type="http://schemas.openxmlformats.org/officeDocument/2006/relationships/hyperlink" Target="http://gerovital.ru/uploads/posts/2009-08/1250842524_virus-ah1n1-svinoj-gripp.jpg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re-actor.net/uploads/posts/2009-10/1256866598_luke-jerram6.jpg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0;&#1072;&#1075;&#1085;&#1086;&#1079;" TargetMode="External"/><Relationship Id="rId2" Type="http://schemas.openxmlformats.org/officeDocument/2006/relationships/hyperlink" Target="http://ru.wikipedia.org/wiki/&#1057;&#1077;&#1088;&#1086;&#1083;&#1086;&#1075;&#1080;&#1103;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shanghaiist.com/attachments/shang_kenneth/virus.jpg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img.kiyany.obozrevatel.com/files/4/_Picture_file_path_4724.jpg" TargetMode="External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54;&#1047;" TargetMode="External"/><Relationship Id="rId2" Type="http://schemas.openxmlformats.org/officeDocument/2006/relationships/slide" Target=""/><Relationship Id="rId3" Type="http://schemas.openxmlformats.org/officeDocument/2006/relationships/hyperlink" Target="http://ru.wikipedia.org/wiki/&#1042;&#1077;&#1090;&#1077;&#1088;&#1080;&#1085;&#1072;&#1088;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www.fotokonkurs.ru/project/images/fotos/5001_6000/5799/foto_5799.jpeg" TargetMode="External"/><Relationship Id="rId7" Type="http://schemas.openxmlformats.org/officeDocument/2006/relationships/image" Target="../media/image25.jpeg"/><Relationship Id="rId8" Type="http://schemas.openxmlformats.org/officeDocument/2006/relationships/image" Target="../media/image26.pn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aif.ru/application/public/news/507/32257bf837703122acdcb644283aae19_big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pochtimes.ru/images/stories/05/health/156_28_11_09_virus11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klerk.ru/images/news/virus_2434.jpg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48;&#1085;&#1092;&#1077;&#1082;&#1094;&#1080;&#1086;&#1085;&#1085;&#1099;&#1077;_&#1079;&#1072;&#1073;&#1086;&#1083;&#1077;&#1074;&#1072;&#1085;&#1080;&#1103;" TargetMode="External"/><Relationship Id="rId3" Type="http://schemas.openxmlformats.org/officeDocument/2006/relationships/hyperlink" Target="http://ru.wikipedia.org/wiki/&#1054;&#1056;&#1042;&#1048;" TargetMode="External"/><Relationship Id="rId4" Type="http://schemas.openxmlformats.org/officeDocument/2006/relationships/hyperlink" Target="http://ru.wikipedia.org/wiki/&#1069;&#1087;&#1080;&#1076;&#1077;&#1084;&#1080;&#1103;" TargetMode="External"/><Relationship Id="rId5" Type="http://schemas.openxmlformats.org/officeDocument/2006/relationships/hyperlink" Target="http://ru.wikipedia.org/wiki/&#1055;&#1072;&#1085;&#1076;&#1077;&#1084;&#1080;&#1103;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16.radikal.ru/i190/0910/22/941009ba7aca.jp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cripo.com.ua/i/pig_gripp_04.jpg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hyperlink" Target="http://www.sanatate.md/data/pic/news/5767/1600.jpeg" TargetMode="External"/><Relationship Id="rId6" Type="http://schemas.openxmlformats.org/officeDocument/2006/relationships/image" Target="../media/image39.jpeg"/><Relationship Id="rId7" Type="http://schemas.openxmlformats.org/officeDocument/2006/relationships/hyperlink" Target="http://vlg.aif.ru/application/public/news/390/a57ead5873160a54e334f109d61b5777_medium.jpg" TargetMode="External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vgavt-nn.ru/newspaper/archive/80/15.jpg" TargetMode="External"/><Relationship Id="rId5" Type="http://schemas.openxmlformats.org/officeDocument/2006/relationships/image" Target="../media/image41.jpeg"/><Relationship Id="rId6" Type="http://schemas.openxmlformats.org/officeDocument/2006/relationships/hyperlink" Target="http://www.kipov.ru/upload/id38680.jpg" TargetMode="External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53;&#1050;" TargetMode="External"/><Relationship Id="rId2" Type="http://schemas.openxmlformats.org/officeDocument/2006/relationships/hyperlink" Target="http://ru.wikipedia.org/wiki/&#1051;&#1080;&#1087;&#1086;&#1087;&#1088;&#1086;&#1090;&#1077;&#1080;&#1076;" TargetMode="External"/><Relationship Id="rId3" Type="http://schemas.openxmlformats.org/officeDocument/2006/relationships/hyperlink" Target="http://ru.wikipedia.org/wiki/&#1040;&#1085;&#1090;&#1080;&#1090;&#1077;&#1083;&#1086;" TargetMode="External"/><Relationship Id="rId4" Type="http://schemas.openxmlformats.org/officeDocument/2006/relationships/hyperlink" Target="http://ru.wikipedia.org/wiki/&#1043;&#1077;&#1084;&#1072;&#1075;&#1075;&#1083;&#1102;&#1090;&#1080;&#1085;&#1080;&#1085;" TargetMode="External"/><Relationship Id="rId5" Type="http://schemas.openxmlformats.org/officeDocument/2006/relationships/hyperlink" Target="http://ru.wikipedia.org/wiki/&#1048;&#1084;&#1084;&#1091;&#1085;&#1080;&#1090;&#1077;&#1090;_(&#1073;&#1080;&#1086;&#1083;&#1086;&#1075;&#1080;&#1103;)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olimed.lviv.ua/rus/general_img/Grypp_ru2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56;&#1042;&#1048;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gigamir.net/upload/cache/290xs/img/content/originnal_5abe28697600b7f77894f890781f7e3a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orks.tarefer.ru/10/100358/pics/image006.gif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helny-city.ru/uploads/posts/2009-05/1242929919_132410_01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pics.vesti.ru/p/b_385023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how.com/images/GlobalPhoto/Articles/5180716/276294-main_Full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geliomar.ru/upload/Image/new/myanma_med.jpg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ccecff"/>
                </a:solidFill>
                <a:latin typeface="Times New Roman"/>
              </a:rPr>
              <a:t>Грипп (от </a:t>
            </a:r>
            <a:r>
              <a:rPr b="0" lang="ru-RU" sz="8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фр.</a:t>
            </a:r>
            <a:r>
              <a:rPr b="1" i="1" lang="ru-RU" sz="8800" spc="-1" strike="noStrike">
                <a:solidFill>
                  <a:srgbClr val="ccecff"/>
                </a:solidFill>
                <a:latin typeface="Times New Roman"/>
              </a:rPr>
              <a:t> </a:t>
            </a:r>
            <a:r>
              <a:rPr b="1" i="1" lang="fr-FR" sz="8800" spc="-1" strike="noStrike">
                <a:solidFill>
                  <a:srgbClr val="ccecff"/>
                </a:solidFill>
                <a:latin typeface="Times New Roman"/>
              </a:rPr>
              <a:t>grippe</a:t>
            </a:r>
            <a:r>
              <a:rPr b="1" i="1" lang="ru-RU" sz="8800" spc="-1" strike="noStrike">
                <a:solidFill>
                  <a:srgbClr val="ccecff"/>
                </a:solidFill>
                <a:latin typeface="Times New Roman"/>
              </a:rPr>
              <a:t>) 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5228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Verdana"/>
              </a:rPr>
              <a:t>Специфические лабораторные диагностические методы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предназначены для ранней (экстренной) или ретроспективной диагностики гриппа. По скорости получения результатов первоочередными методами являются следующие: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иммунофлюоресцентный метод (РИФ),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с помощью которого в поле зрения люминесцентного микроскопа в клетках верхних дыхательных путей выявляют вирусные антигены после их взаимодействия со специфическими антителами, меченными флюорохромом; образование специфического комплекса антиген— антитело проявляется ярким красным свечением в поле зрения микроскопа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ыявление адсорбции груженных антителами эритроцитов поверхности клеток, пораженных вирусом (РНГ)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ыявление агглютинации обработанных противовирусными антителами эритроцитов под действием вируса гриппа, который содержится в опытном материале в лунках панели микротитратора Такачи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(РСНГА);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гемадсорбции (PIT),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реакции связывания комплемента (РСК) и др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i-main-pic" descr="Картинка 11 из 168"/>
          <p:cNvPicPr/>
          <p:nvPr/>
        </p:nvPicPr>
        <p:blipFill>
          <a:blip r:embed="rId2"/>
          <a:stretch/>
        </p:blipFill>
        <p:spPr>
          <a:xfrm>
            <a:off x="4800600" y="1828800"/>
            <a:ext cx="3886200" cy="358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Птичий грип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рипп птиц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лат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Grippus avium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классическая чума птиц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— острая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инфекционна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вирусна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болезнь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птиц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характеризующаяся поражением органов пищеварения, дыхания, высокой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летальностью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Антигенна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8"/>
              </a:rPr>
              <a:t>вариабельность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вируса гриппа птиц и наличие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9"/>
              </a:rPr>
              <a:t>высоковирулентных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0"/>
              </a:rPr>
              <a:t>штаммов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позволяют отнести его к особо опасным болезням, способным причинить большой экономический ущерб. Различные штаммы вируса гриппа птиц могут вызывать от 10 до 100% гибели среди заболевших и поражать одновременно от одного до трёх видов птиц.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1"/>
              </a:rPr>
              <a:t>Природным резервуаром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вируса являются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2"/>
              </a:rPr>
              <a:t>мигрирующие птицы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чаще всего дикие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3"/>
              </a:rPr>
              <a:t>утк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 В диких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4"/>
              </a:rPr>
              <a:t>популяциях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птиц, в отличие от домашних, высока устойчивость к вирусу гриппа. Впервые грипп птиц был выявлен в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5"/>
              </a:rPr>
              <a:t>Итали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более ста лет назад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6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7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Картинка 1 из 11068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791320" y="3886200"/>
            <a:ext cx="2743200" cy="2819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Картинка 72 из 110"/>
          <p:cNvPicPr/>
          <p:nvPr/>
        </p:nvPicPr>
        <p:blipFill>
          <a:blip r:embed="rId20"/>
          <a:stretch/>
        </p:blipFill>
        <p:spPr>
          <a:xfrm>
            <a:off x="4724280" y="1523880"/>
            <a:ext cx="3962520" cy="21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68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68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6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6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Вот как выглядит вирус птичьего гриппа под микроскопом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" descr="Картинка 20 из 110"/>
          <p:cNvPicPr/>
          <p:nvPr/>
        </p:nvPicPr>
        <p:blipFill>
          <a:blip r:embed="rId1"/>
          <a:stretch/>
        </p:blipFill>
        <p:spPr>
          <a:xfrm>
            <a:off x="1600200" y="1600200"/>
            <a:ext cx="6324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1920" y="609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збудитель гриппа птиц —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РНК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содержащий вирус 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Influenza virus 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, относящийся к семейству 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Orthomyxoviridae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, по комплемент-связывающему антигену (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РНП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) родственен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вирусу грипп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A человека и животных. Для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вирион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характерны полиморфность, преобладающая сферическая форма, размер 60—180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нм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 Вирион имеет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липопротеидную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оболочку с радиально расположенными на ней шипиками, которая заключает в себе свёрнутое кольцо РНП.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Геном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вириона состоит из 6 или более типов РНК. Вирус обладает инфекционной,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8"/>
              </a:rPr>
              <a:t>гемагглютинирующей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и нейраминидазной активностью. Хорошо размножается в развивающихся 10—11-суточных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9"/>
              </a:rPr>
              <a:t>эмбрионах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кур. Вируссодержащая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0"/>
              </a:rPr>
              <a:t>аллантоисная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жидкость обладает способностью агглютинировать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1"/>
              </a:rPr>
              <a:t>эритроциты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многих видов животных. При культивировании вируса в культуре тканей многие штаммы обладают цитопатическим действием и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2"/>
              </a:rPr>
              <a:t>гемадсорбирующими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войствами. Штаммы вируса гриппа птиц, выделенные от различных видов птиц, могут отличаться по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3"/>
              </a:rPr>
              <a:t>вирулентности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, спектру патогенности и структуре поверхностных антигенов (гемагглютинина и нейраминидазы). Вирус быстро инактивируется под действием 3%-ного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4"/>
              </a:rPr>
              <a:t>раствор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5"/>
              </a:rPr>
              <a:t>едкого натр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6"/>
              </a:rPr>
              <a:t>фенол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, 0,1%-ного раствора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7"/>
              </a:rPr>
              <a:t>формальдегид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 Длительно сохраняется при низких температурах и высушивани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8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9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Картинка 4 из 11068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4343400" y="4191120"/>
            <a:ext cx="4267080" cy="2438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Картинка 43 из 11068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4419720" y="60948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имптомы и течени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нкубационный период от 20—30 часов до 2 суток. Болезнь проявляется резким снижением яйценоскости, поедания корма, жаждой, угнетением. У больной птицы перья взъерошены, незадолго перед гибелью —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цианоз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гребня и серёжек. Куры стоят с опущенной головой и закрытыми глазами; слизистые оболочки у них гиперемированы; носовые отверстия заклеены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экссудатом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 Дыхание хриплое, учащённое, температура тела 43—44°C. Наблюдают также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диарею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помёт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окрашен в коричнево-зелёный цвет,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неврозы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судорог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манежные движени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Картинка 55 из 11068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648320" y="1143000"/>
            <a:ext cx="4114800" cy="2665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Картинка 133 из 11068"/>
          <p:cNvPicPr/>
          <p:nvPr/>
        </p:nvPicPr>
        <p:blipFill>
          <a:blip r:embed="rId12"/>
          <a:stretch/>
        </p:blipFill>
        <p:spPr>
          <a:xfrm>
            <a:off x="4572000" y="396252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Диагностик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линически течение данного заболевания в целом совпадает с течением заболевания при инфицировании другими штаммами вируса гриппа. Достоверный диагноз устанавливается при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сертотипирован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вирус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Картинка 10 из 84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1219320"/>
            <a:ext cx="4038480" cy="2361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Картинка 15 из 84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00600" y="3809880"/>
            <a:ext cx="39625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иагностик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Диагноз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снован на выделении вируса из свежего патматериала (лёгкие, печень, головной мозг и др.), а также парны́х сывороток крови в различные периоды болезни, и идентификации его в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серологических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реакциях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Картинка 38 из 1106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1600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Картинка 56 из 1106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880" y="3886200"/>
            <a:ext cx="3962520" cy="2265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Картинка 39 из 110"/>
          <p:cNvPicPr/>
          <p:nvPr/>
        </p:nvPicPr>
        <p:blipFill>
          <a:blip r:embed="rId9"/>
          <a:stretch/>
        </p:blipFill>
        <p:spPr>
          <a:xfrm>
            <a:off x="4648320" y="3962520"/>
            <a:ext cx="4038480" cy="2232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Меры личной защит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Рекомендации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ВОЗ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по личной защите от птичьего гриппа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[1]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Не разрешайте детям играть с дикими птицами или с больной домашней птицей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Не трогайте руками и не используйте в пищу погибших или больных птиц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При обнаружении трупа мертвой птицы следует ограничить к нему доступ других людей, по возможности его нужно закопать, при этом необходимо защитить рот и нос маской или респиратором, а руки перчатками. После окончания работы тщательно вымойте руки и лицо с мылом и смените одежду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Нельзя употреблять сырое или плохо приготовленное мясо или яйца птиц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Мясо или яйца птиц нужно хранить в холодильнике отдельно от других продуктов питания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При обнаружении больной птицы нужно срочно известить местного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ветеринарного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врача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Если после контакта с птицей у вас возникло какое-либо острое респираторное (гриппоподобное) заболевание, нужно срочно обратиться к врачу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Картинка 69 из 1106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76920" y="152280"/>
            <a:ext cx="3886200" cy="2144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Картинка 72 из 11068"/>
          <p:cNvPicPr/>
          <p:nvPr/>
        </p:nvPicPr>
        <p:blipFill>
          <a:blip r:embed="rId8"/>
          <a:stretch/>
        </p:blipFill>
        <p:spPr>
          <a:xfrm>
            <a:off x="4724280" y="2362320"/>
            <a:ext cx="2033640" cy="24476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Картинка 95 из 11068"/>
          <p:cNvPicPr/>
          <p:nvPr/>
        </p:nvPicPr>
        <p:blipFill>
          <a:blip r:embed="rId9"/>
          <a:stretch/>
        </p:blipFill>
        <p:spPr>
          <a:xfrm>
            <a:off x="6705720" y="4648320"/>
            <a:ext cx="2200320" cy="1933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0"/>
          <a:stretch/>
        </p:blipFill>
        <p:spPr>
          <a:xfrm>
            <a:off x="6781680" y="2514600"/>
            <a:ext cx="2210040" cy="198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Свиной грипп – новая чума 21 века!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виной грипп (англ. Swine influenza) — заболевание, вызываемый теми штаммами вируса гриппа, для которых характерно эпидемическое распространение в популяциях свиней. К нашему несчастью, после мутации вируса гриппа, которым болели свиньи, болезнь приобрела новые свойства и качества, благодаря чему стала крайне опасна для всех окружающих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знаки свиного грипп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оловная боль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оли в мышцах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вышение температуры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ашель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вота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арея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сморк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" descr="Swine influenza"/>
          <p:cNvPicPr/>
          <p:nvPr/>
        </p:nvPicPr>
        <p:blipFill>
          <a:blip r:embed="rId1"/>
          <a:stretch/>
        </p:blipFill>
        <p:spPr>
          <a:xfrm>
            <a:off x="5638680" y="4114800"/>
            <a:ext cx="2716200" cy="2590920"/>
          </a:xfrm>
          <a:prstGeom prst="rect">
            <a:avLst/>
          </a:prstGeom>
          <a:ln w="0">
            <a:noFill/>
          </a:ln>
        </p:spPr>
      </p:pic>
      <p:pic>
        <p:nvPicPr>
          <p:cNvPr id="244" name="i-main-pic" descr="Картинка 21 из 1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295280"/>
            <a:ext cx="3390840" cy="2549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Свиной грипп, вирус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7" name="" descr="Картинка 50 из 84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752480"/>
            <a:ext cx="4038840" cy="3962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1752480"/>
            <a:ext cx="3886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ипп (от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фр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gripp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 — остро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инфекционное заболевани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дыхательных путей, вызываемое вирусом гриппа. Входит в группу острых респираторных вирусных инфекций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ОРВ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. Периодически распространяется в вид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эпидеми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пандеми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В настоящее время выявлено более 2000 вариантов вируса гриппа, различающиеся между собой антигенным спектр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EM of influenza virus.jpg"/>
          <p:cNvPicPr/>
          <p:nvPr/>
        </p:nvPicPr>
        <p:blipFill>
          <a:blip r:embed="rId6"/>
          <a:stretch/>
        </p:blipFill>
        <p:spPr>
          <a:xfrm>
            <a:off x="4800600" y="1600200"/>
            <a:ext cx="4114800" cy="4419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0440" y="2525760"/>
            <a:ext cx="389088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Свиной грипп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– это вирусное заболевание, вызываемое разновидностями вируса гриппа, которые распространяются в популяциях свиней. Свиной грипп распространен среди свиней почти по всему миру, исключением являются следующие страны: Антарктида, Австралия и большая часть Африки. Свиной грипп распространен в Северной и Южной Америке, Японии, Китае, Европе, Тайване и других странах Азии, а также в отдельных районах Африки. Вирус H1N1 циркулирует как среди популяций свиней, так и среди прочих млекопитающих, а также среди птиц и людей. Вирус H1N1 при распространении может мутировать. Свиной грипп крайне редко может передаваться от животного к человеку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025800" cy="2185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В Чебоксарах бушует свиной грипп"/>
          <p:cNvPicPr/>
          <p:nvPr/>
        </p:nvPicPr>
        <p:blipFill>
          <a:blip r:embed="rId2"/>
          <a:stretch/>
        </p:blipFill>
        <p:spPr>
          <a:xfrm>
            <a:off x="4648320" y="1143000"/>
            <a:ext cx="4267080" cy="4952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" descr="Картинка 20 из 84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Морфология вируса свиного грипп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77600"/>
            <a:ext cx="38098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Вирионы вирусов гриппа А имеют диаметр 120 нм и строение, типичное для семейства ортомиксовирусов </a:t>
            </a: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(Ortomнxoviridae)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. Гемагглютинины суперкапсида являются основными поверхностными антигенами и могут быть представлены только одним из 16 типов гемагглютининов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" descr="Морфология вируса свиного гриппа"/>
          <p:cNvPicPr/>
          <p:nvPr/>
        </p:nvPicPr>
        <p:blipFill>
          <a:blip r:embed="rId1"/>
          <a:stretch/>
        </p:blipFill>
        <p:spPr>
          <a:xfrm>
            <a:off x="4724280" y="198108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Картинка 144 из 84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809880"/>
            <a:ext cx="4495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Свиной грипп профилактика и лечени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57200" y="3938400"/>
            <a:ext cx="4038480" cy="21920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648320" y="3938400"/>
            <a:ext cx="403848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 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семирная Организация Здравоохранения рекомендует для профилактики и лечения свиного гриппа такие препараты, как «Озельтамивир» и «Занамивир», так как они эффективны против большинства разновидностей вируса H1N1. В России наиболее известное средство борьбы со свиным гриппом имеет название «Тамифлю». Однако эффективность применения данных препаратов не подтверждена, а различные «рекомендации» многими расцениваются как маркетинговый ход фармацевтических компаний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" descr="Эпидемия свиного гриппа на Западной Украине.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Картинка 367 из 833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3886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Картинка 78 из 84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" y="152388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68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68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68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68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80520" y="1294920"/>
            <a:ext cx="4038840" cy="21862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800600" y="9144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Как передается свиной грипп?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виной грипп передается воздушно-капельным путем, то есть, чтобы заразиться свиным гриппом достаточно просто находиться рядом с инфицированным человеком и дышать с ним одним воздухом. Для заражения свиным гриппом достаточно просто вдохнуть в легкие воздух, в парах которого находится вирус H1N1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57200" y="3938400"/>
            <a:ext cx="4038480" cy="21920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609480"/>
            <a:ext cx="8153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05840"/>
            <a:ext cx="39625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Как долго носитель свиного гриппа может заражать окружающих?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Человек, инфицированный вирусом свиного гриппа, может заражать окружающих его людей в течение 7 дней. Свиной грипп у детей развивается немного дольше, поэтому дети, инфицированные свиным гриппом, могут передавать его в течение 10-15 дней с момента зараж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2818800"/>
            <a:ext cx="41148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Как возник новый вирус свиного грипп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виньи могут быть переносчиками разных типов вируса гриппа: свиного, птичьего и вируса гриппа человека. Иногда одно животное может одновременно страдать от нескольких типов вируса, что позволяет генам этих различных вирусов смешиваться в организме животного и создавать новый вирус гриппа. Давно известно, что свиньи могут быть потенциальным источником нового вируса гриппа, опасного для человек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екущая вспышка свиного гриппа в Мексике в апреле 2009 года вызвана новым вирусом, который является сочетанием генов вирусов человеческого, птичьего и свиного гриппа. Именно из-за того, что этот вирус новый и является результатом смешения генов различных вирусов, очень сложно создать эффективную вакцину против нег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Картинка 35 из 3243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590920"/>
            <a:ext cx="2971800" cy="17334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Картинка 46 из 3243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4495680"/>
            <a:ext cx="2819160" cy="1791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ирусы гриппа относятся к семейству Ortomyxoviridae, которое включает роды Influenza A, B, С. Антигенные свойства внутренних белков вириона (M1 и NP) определяют принадлежность вируса гриппа к роду А, В или С (Букринская, 1986; Mackie, 2004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ирус гриппа имеет сферическую форму диаметром 80—120 нм, в центре находятся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РНК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фрагменты, заключённые в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липопротеидную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болочку, на поверхности которой имеются «шипы» состоящие из гемагглютинина (H) и из нейраминидазы (N).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Антител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вырабатываемые в ответ на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гемагглютинин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(H), составляют основу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иммунитет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против определённого подтипа возбудителя грипп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50773326_1257411774_hiv_virus_400_thumb" descr=""/>
          <p:cNvPicPr/>
          <p:nvPr/>
        </p:nvPicPr>
        <p:blipFill>
          <a:blip r:embed="rId7"/>
          <a:stretch/>
        </p:blipFill>
        <p:spPr>
          <a:xfrm>
            <a:off x="4648320" y="2039760"/>
            <a:ext cx="3962160" cy="3446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800" y="3571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629400" cy="6477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Картинка 17 из 201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8001000" cy="6248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Times New Roman"/>
              </a:rPr>
              <a:t>Выделение вируса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ирус гриппа может быть выделен из мазков горла и носоглотки в течение 3 дней после начала заболевания. Культурирование производится на 10-11 дневных куриных эмбрионах (в амниотической или аллантоисной жидкости) в течение 48 часов (для достижения необходимого для обнаружения количества вируса). Для определения типа вируса требуется 1-2 дня. Ввиду сложности и длительности процедуры, такая диагностика имеет смысл только для определения этиологии локальной эпидем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Клиническая картин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имптомы гриппа не являются специфическими, то есть без особых лабораторных исследований (выделение вируса из мазков горла, прямая и непрямая иммунофлуоресценция на мазках эпителия слизистой оболочки носа, серологический тест на наличие анти-гриппозных антител в крови….) невозможно наверняка отличить грипп от других 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ОРВИ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. На практике диагноз «грипп» устанавливается на основании лишь эпидемических данных, когда наблюдается повышение заболеваемости ОРВИ среди населения данной местности. Различие диагнозов «грипп» и «ОРВИ» не является принципиальным, так как лечение и последствия обоих заболеваний идентичны, различия заключаются лишь в названии вируса, вызвавшего болезнь. Сам грипп входит в число Острых Респираторных Вирусных Инфекций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Картинка 19 из 2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60020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Картинка 14 из 2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24280" y="3975120"/>
            <a:ext cx="3962520" cy="2349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Диагностик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120" y="1371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8200"/>
            <a:ext cx="3581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Лабораторная диагностик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состоит из клинических и специфических методов. Следует отметить, что в межэпидемический период диагноз гриппа должен быть подтвержден лабораторно (специфическими диагностическими тестами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705200"/>
            <a:ext cx="35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i-main-pic" descr="Картинка 20 из 1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9160"/>
          </a:xfrm>
          <a:prstGeom prst="rect">
            <a:avLst/>
          </a:prstGeom>
          <a:ln w="0">
            <a:noFill/>
          </a:ln>
        </p:spPr>
      </p:pic>
      <p:pic>
        <p:nvPicPr>
          <p:cNvPr id="186" name="i-main-pic" descr="Картинка 55 из 1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92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линическая диагностика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Грипп диагностируют на основании внезапного начала с повышения температуры тела до высоких цифр, значительной интоксикации в виде лихорадки, адинамии, головной боли, миалгий, сухого кашля с болью за грудиной при слабо выраженных катаральных явлениях со стороны ротоглотки. Во время эпидемии гриппа в типичных случаях диагноз устанавливается без затруднения на основании клинико-эпидемиологических данных (возникновение массовых однотипных заболеваний в окружении больного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Картинка 23 из 2017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2152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Картинка 14 из 5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3962520"/>
            <a:ext cx="403848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етСан</cp:lastModifiedBy>
  <dcterms:modified xsi:type="dcterms:W3CDTF">2010-02-22T15:45:3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