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B3D2-AB21-4454-B392-5D5D97CC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7FD2-C5D9-4432-B822-1D7D3542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C41-CA31-4046-BEEC-6D62B04D3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0681-F5D1-4249-B6BE-FC29666F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C3BF-7296-4C16-BCE6-CAF826046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D60B-FAEC-4AFD-8769-EE6B20E4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759A-2EE4-493D-ACA1-5415C44AA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4E6E-8540-4ADD-9D40-4669234E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F1C1-D1B1-4FF7-BBE5-E804DDE1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C4E3A-5887-4565-8AE8-00B400E6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12BD-0E91-4B17-B179-5FA8B86E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9AB0-E0F7-49E8-9797-7DB45E096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7927-1266-458F-A607-F09E3E7D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20BE-2F01-4C29-8064-2BC341EB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2C2A-E9E4-4179-8213-EE60D9DD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AC57-780C-43C5-AE69-0F6D8C15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A21A-B9C7-4C03-A453-C6A5696D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C7F37-43EA-41D1-8528-64EA5D4D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DA038-F30E-4AFE-AFD3-B32186E6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CF107-BCC1-4266-BFB0-E1A5F8EA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CB5DC-C365-4FC2-A8B4-A5E72E84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FED4F-C6C2-4B58-AEC6-9059D39E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56A4-ADEA-4223-AC48-1D1FA8865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7C78E-28D5-4723-BBEE-2A4EB425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D5AF9-D61A-4175-8160-14FFB643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DA9DD-4B3C-474B-A6A4-B03D889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F74C2-6595-4C5E-BB00-443331A5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024AE-5BBF-4E39-A2CC-0AC7E226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084B1-EB69-4760-AC34-96230110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08C7-0FA1-4832-A678-4071AC22D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9FE0C-A6D4-4D4D-B0A1-CAEBCB1FB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CF710-5FDB-4F0C-AE4C-904198AD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9DB1C-39D7-44AB-B5BF-93B349A1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3AC-AD50-47E5-9ABF-B45B1227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DB7C9-8AE8-4D1A-9025-745A00E4D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C13CA-A53D-41BE-8433-23DD4961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4C3FF-44CB-4A85-9F3F-AD316923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C88D4-F61E-4860-AA54-AFF434F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BA9B0-D805-47A5-A7AD-2E08464E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0F04C-F9C4-48B7-9BC6-5243E68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8B518-8CDD-4573-AA82-C1FE8A3D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BE047-72C2-44DD-9C8F-7058EE7F7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9FE61D-5722-4DB3-88D0-561DB4B06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6F6F54-4AF2-4783-976A-AE14427A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5ACF-283C-473C-BF1B-771CDD94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9C2329-9B26-45D9-A189-A163E4BE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B1F4E0-17E7-4BD1-8066-6472C67E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FE741-BA72-4A7B-8F69-C820976E0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B1E7EA-080E-4494-95F5-9201974D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5D32FC-E85B-4CE2-B044-2F5959A6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16EF5E-747F-485A-9E28-A0DBF9E9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63683-FE57-47BF-9E2F-F1E98DEE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676467-123C-4713-A8A8-C82C70EA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DA8CE9-84B5-49E9-BBAB-2003BDDD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40F356-3BFA-41C0-A2DF-0F4463F0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8491-3BE6-4ED5-9CA9-A4F91C62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4EE939-A36C-42BD-AF54-E99756A78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D240C-59C2-4A6F-AB86-34924CB77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A08E2-912E-4B30-9860-FB77C10D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0124C-4028-4C91-9992-8E4A1011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E93AD-4BE8-432B-BACA-BD863D46A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313C7-30B2-4EF5-A876-DDADDCD4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926A9-C901-4E81-98AE-FFD46A133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9D33C-5EFF-4F76-92E5-D0C5CF495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2273C-46B3-433B-8538-8668728B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BFF9B-BE8B-4500-AFC0-91BA74A4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2A94-920A-466B-9256-10B028FC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C476DA-85CE-402B-ACD3-D3B9CA14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7DCCF-C7C8-49CA-8955-66F9E2970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334C1-FD77-4495-BA82-B0677BF7C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F37-58C5-4E0B-B2D0-7844B39A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7A7A-BA2E-4776-B1AD-4945DCAD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B838D-4AA5-43F3-BAE1-F70BF7903D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F3E1-2D77-4F06-9D1B-4E8591C1CEBD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0885-D16C-4CD5-AB87-10A54DEB18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7632-4B81-4BA3-95FC-008985DB0C1F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27A0-542A-4912-9E08-98C9FA35292B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ftr" idx="1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F31B-2BBF-4BA5-9D79-B3E1150C7BE9}" type="slidenum">
              <a:rPr b="0" lang="en-US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de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36572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rebuchet MS"/>
              </a:rPr>
              <a:t>Адренэргические средства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685440" y="8377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бщемедицинской и ветеринарной практике применяют вещества действующие на рецептор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а, возбуждающие рецепторы – называют миметик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щества, блокирующие рецепторы – называют блокаторами, или литик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Адренэргические средств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 андренэргическим средствам относятся препараты, чьи фармакологические эффекты обусловлены стимуляцией или блокадой рецепторов адреналина и норадренали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цепторы норадреналина локализуются в центральной нервной системе на внутренних органах, регулирующихся симпатической нервной системо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личают следующие разновидности адрено-рецепторов: α1 и α2 (альфа-1 и альфа-2), β1 и β2 (бета-1 и бета-2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152280" y="38088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бщемедицинской и ветеринарной практик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рименяются следующие лекарственные средства, влияющие на адренорецептор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мешанные α – и β- адреномиметики: адреналин, норадреналин, дофам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α1 - адреномиметики: мезатонин, нафтизин, галазол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α2 - адреномиметики: клофел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β1- адреномиметики: добумат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β2- адреномиметики: изадрин, сальбуматол, орципреналин, беротек и т.д.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α1- адреноблокаторы: дигидроэрготамин, дигидроэрготоксин, дигидроэргокристин, фентоламин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β1- адреноблокаторы: пропраноло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метапролол, 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атенол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т.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мешанные α- и β- адреномим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этой группе принадлежат три основных препарата: адреналин, норадреналин, дофамин, добуматин. Адреналин в одинаковой степени стимулирует все подтипы адренорецепторов. Для норадреналина характерна преимущественная стимуляци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α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адренорецеп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Это гормон мозгового слоя надпочечников, по химической структуре представляющий собой кахетоламин. В общемедицинской и ветеринарной практике в настоящее время используется синтетический адреналина гидрохлорид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армакодинам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по механизму действия адреналин является смешанным адреномиметик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304560" y="304560"/>
            <a:ext cx="83055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тимуляция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α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дренорецепторов опосредует такие его фармакологические эффекты, ка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езкое повышение артериального давления (даже нормального и повышенного АД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умеренное расширение зрачка и повышение внутриглазного давления при инстилляции в глаз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за счет сужения сосудов кожи – уменьшение отеков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 противоаллергическое действие и остановка капиллярного кровотечения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 счет стимуляци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α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дренорецепторов проявляются такие эффекты, ка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бронходилятац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вышение всех показателей работы сердца (тахикардия, повышение возбудимости, проводимости и сократимости миокарда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     повышение потребности миокарда в кислороде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окращение селезенк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нижение секреции бронхиальных и пищеварительных желез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окращение сфинктеров желудочно-кишечного трак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бще уменьшение перистальтики кишечни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228600" y="6094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яние адреналина на мускулатуру матки. Гладкая мускулатура матки содержит как альфа-, так и бета-адренорецепторы, количество и локализация которых могут изменяться в зависимости от состояния матки (беременной или небеременной) и от биологического вида животных. Так, например, в первом и втором триместрах беременности  преобладают бета-адренорецепторы, вследствие чего у большинства животных в эти сроки наблюдается расслабление матки, однако в последнем триместре преобладают альфа- адренорецепторы, поэтому внутреннее введение адреналина в конце беременности у большинства животных стимулирует родовую деятельность. Однако у коров отмечается угнетение сократительной активности беременной матки. У свиней также первоначально может отмечаться угнетение сократительной активности, но при продолжении инфузии наблюдается отчетливая стимуляция этого эффек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У беременных сук, свиней и крольчих после внутривенного введения адреналина часто происходят аборты; у кобыл абортов не отмечено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дреналин стимулирует  бета-адренорецепторы поджелудочной железы и жировой ткани. Вследствие этого наблюдается усиление синтеза и выброса глюкагона (антагонист инсулина) и повышение уровня сахара в крови. Одновременно адреналин усиливает распад гликогена в печени и скелетной мускулатуре и усиливает выброс эндогенной глюкозы в кровь, что также способствует развитию гипергликем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реналин также улучшает микроциркуляцию в скелетной мускулатуре. Одновременно мембраны миоцитов становятся более тропными к циркулирующей глюкозе, в результате чего резко возрастает работоспособность скелетной мускулатуры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80520" y="228240"/>
            <a:ext cx="853452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 усиливает липолиз и препятствует липонеогенезу, вследствие этого наблюдается быстрое утончение жировой прослой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быстром внутривенном введении адреналина может наблюдаться расслабление сфинктера мочевого пузыря и мочеиспуск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догенный (не введенный извне) адреналин оказывает стимулирующее влияние на центральную нервную систему обезболивающее действи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Адренали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гидрохлорид не преодолевает биологические барьеры, в организме быстро гидролизуется моноаминококсидазой, вследствие этого оказывает кратковременное действие (5-10 минут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дреналин препятствует всасыванию всех других препаратов при совместном введении из-за способности к сужению прекапилляров. Указанное свойство адреналина с успехом используется при местной анестезии: комплексные рецептуры менее токсичны, действуют эффективнее и длительнее, так как местные а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етики при этом практически не всасываются в организм и локализуются в основном в месте их действия, однако следует отметить, что передозировка адреналина может привести к некрозу ткан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04920" y="7621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9320" y="1523880"/>
          <a:ext cx="644832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644832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 txBox="1"/>
          <p:nvPr/>
        </p:nvSpPr>
        <p:spPr>
          <a:xfrm>
            <a:off x="762120" y="1600200"/>
            <a:ext cx="76197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ь: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знакомиться с действие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дренали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Дозы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реналина гидрохлорид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0,1%, Список 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/в  коровам – 1-3 мл, овцам -0,2-1 мл, лошадям -1-3 мл, собакам 0,1-0,5 мл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/к мл/гол лошадям и коровам – 4, свиньям, овцам -0,6, мелким жив-м -0,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228600" y="2286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 комбинации с местными анастетиками для уменьшения их всасывания и потенцирования действ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естно – в качестве кровоостанавливающего на кожу, мочевой пузырь, рот, в желудок, матку (за исключением легких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острой сердечной и сосудистой недостаточности внутривенно и внутрисердечно (в том числе и при остановке сердца во время наркотизации), 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аллергическом шоке и подкожно – при бронхоспазм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5228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орадреналин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основной эндогенный стимулятор α- адренорецепто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рмакодинамика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  не влияет на β2 – адренорецепторы и значительно ме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чем адреналин стимулирует β1 – адренорецепто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этому введение норадреналина приводит к следующим фармакологическим эффектам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быстрому и резкому повышению артериального д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ефлекторной тахикард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ужению сосудов скелетной мускулатуры (не повышает физическую работоспособность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расслаблению кишечника и мочевого пузыр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 стимуляции матки во второй половине беремен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орадреналин практически не влияет на проницаемость капилляров, не повышает потребность миокарда в кислороде, не стимулирует миокард, не влияет на центральную нервную систему, не расширяет бронхи и мало влияет на уровень глюкозы в кров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04920" y="685440"/>
            <a:ext cx="86104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Не преодолевает биологические барьеры, быстро расщепляется моноаминооксидазой, препятствует всасыванию других лекарственных средств при совместном введен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Местно – для остановки кровотечения, внутривенно – при шоке, коллапсе, анафилактическом шо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Дофамин (допамин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По фармакологическим эффектам сходен с норадреналином, но несколько уступает последнему по активности. Рекомендован к внутривенному введению при сосудистом шок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457200" y="4572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α1- адреномиме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та группа препаратов включает в себя мезатон, нафтизин и галазоли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езато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интетический препарат. В физико-химическом отношении представляет собой белый кристаллический порошок, хорошо растворимый в во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ой фармакологический эффек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резкое и длительное сужение сосудов и значительное повышение артериального давл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Умеренно всасывается из желудочно-кишечного тракта, выводится из организма в измененном виде в течение первых суток. Препятствует всасыванию местных ан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тиков и других лекарственных средств, вводимых с ним в одной рецепту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: Местно – в форме 0,2% растворов для остановки кровотечений, совместно с местными ан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етиками для потенцирования их действия и внутривенно – при сосудистом коллапсе, шоковых состоян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афтизин и галазол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начительно превосходят мезатон по сосудосуживающей активности, поэтому параэнтерально не вводятся. Эти препараты используются лишь местно для остановки кровотечений с кожи и слизистых и уменьшения экссудации при мокнущих воспалениях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0520" y="533160"/>
            <a:ext cx="86108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95000"/>
              </a:lnSpc>
              <a:spcBef>
                <a:spcPts val="6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α2- адреномимет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К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α2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реномиметикам относится препарат клофелин (клонидин, гемитон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Оно стимулирует пресинаптическ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α2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ренорецепторы и препятствует синтезу и выбросу адреналина и норадреналина в межсинаптическую щель, препятствует стимуляци</a:t>
            </a: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тсинаптических адренорецептор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Основным фармакологическим эффек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клофелина является снижение артериального давления. Он также умеренно снижает все показатели работы сердца, снижает потребность миокарда в кислоро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парат хорошо преодолевает гемато-энцефалический барьер. В центральной нервной системе повышает тонус высшего тормозного сосудодвигательного центра, что также способствует снижению артериального давления, оказывает выраженное анал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етическое дей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Клофелин  потенцирует анал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тический эффект наркотических анал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ь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гетиков и местных а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тиков, поэтому в общемедицинской практике часто используется в хирургии для обезболивания совместно с морфином или местными ан</a:t>
            </a:r>
            <a:r>
              <a:rPr b="0" lang="kk-KZ" sz="2800" spc="-1" strike="noStrike">
                <a:solidFill>
                  <a:srgbClr val="000000"/>
                </a:solidFill>
                <a:latin typeface="Calibri"/>
                <a:ea typeface="Calibri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стетик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епарат улучшает почечное кровообращение, поэтому эффективен при гипертонии, вызванной воспалением поч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и повторном применении клофелин вызывает толерантность и лекарственную зависимость у людей, поэтому в последнее время отнесен к списку 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– адреномим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 этой группе отнесен препара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обутам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Являетмя кардиотоническим средств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парат избирательно действует на сердце, практически не повышая артериальное давление.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сновная область применения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острая сердечная недостаточность. Однако следует помнить, что препарат действует очень коротко – 2-5 минут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нтральная нерв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головной и спиной мозг)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ферическая нерв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(нервы и ганглии) проявляют неодинаковую чувствительность к фармакологическим веществам. Поэтому в отдельные группы выделяют вещества, которые воздействуют на ЦНС и вещества, влияющие на периферическую нервную систем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иферическая нервная система представлен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рвами и ганглия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ериферической нервной системе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ферент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фферентну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ее части. Нервные волокна, которые проводят возбуждение от органов и тканей к ЦНС,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фферент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или чувствительными. Нервные волокна, проводящие возбуждение от ЦНС к органам и тканям, называются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фферентным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В соответствии с этим различают фармакологические вещества, действующие на афферентную часть периферической нервной системы, и вещества влияющие на эфферентную иннервацию.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– адреномиме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этой группе относятся такие препараты, как изадрин, сальбутамол, фен</a:t>
            </a: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рол, тербуталин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основе действия этих препаратов лежит способность стимулировать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дренорецепторы. В результате этого для них характерны такие фармакологичсекие эффекты, ка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сслабление гладкой мускулатуры бронхов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спазм гладкой мускулатуры шейки матки и расслабление мускулатуры тела матк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расширение просвета сосудов органов грудной полости и печени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ренное снижение артериального давления (за исключением изадрина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ветеринарной практике могут быть использованы такие препараты, как изадрин, сальбутамол, тербутал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Изадрин.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Это смешанный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β1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-адреномиметик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Фармакодинамика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задрин стимулирует все показатели работы сердца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овышает потребность миокарда в кислороде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пособствует повышению артериального давления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казывает бронхорасширяющее действие,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расслабляет гладкую мускулатуру матки,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3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при многократном приеме повышает уровень сахара в крови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1" lang="ru-RU" sz="23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 Изадрин может быть использован у домашних животных (собак и кошек) для лечения бронхиальной астмы и для профилактики  преждевременных родов. Следует отметить, что изадрин противопоказан при гипертонии и тяжелой сердечной недостаточности, так как он резко повышает потребность миокарда в кислороде. Нежелательно его назначение и при тяжелых печеночных заболеваниях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альбутамо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Является специфическим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β2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адреномиметиком. Выпускается в лекарственных формах для приема внутрь, для инъекции и для ингаляций. Для него не характерно кардиотоническое действие, более четко, чем у изадрина, выражен бронходилятирующий эффект, но возможно снижение артериального давления. Он также достаточно эффективно расслабляет мускулатуру тела беременной мат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Препарат довольно хорошо всасывается с дыхательных путей и желудочно-кишечного тракта. При ингаляции всасывается в организм около 20% от введенной дозы, вследствие чего при первом введении возможно снижение артериального дав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Применение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Сальбутамол может быть использован у домашних животных для лечения приступов бронхиальной астмы и для профилактики преждевременных родов. В последнем случае он назначается внутрь, в таблетках, по 1-2 мг, четыре раза в де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α1-адреноблок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эту группу входят такие препараты, как дигидрированные алкалоиды спорыньи (дигидроэрготоксин, дигидроэрготамин, дигидроэргокристин) и синтетический препарат фентолами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основе механизма действия этой группы лежит их способность блокировать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α1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дренорецепторы внутренних органов. Поэтому для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α1-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дреноблокаторов характерны такие эффекты, как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зкое и быстрое снижение артериального давления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ефлекторная тахикардия,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Calibri"/>
              </a:rPr>
              <a:t>-кровенаполняемость периферических сосудов, покраснение склер и т.д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1792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Фентоламин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о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интетический аналог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игидрированных алкалоидов спорыньи. Его используют внутривенно, медленно при резком повышении артериального давления и как антагонист адреналина при передозировке рецептур местных анестетиков, содержащих адреналин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Дигидрированные  алкалоиды спорынь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 Основным фармакологическим эффектом  является быстрое и эффектное снижение артериального давления. В низких дозах они также могут улучшить обмен веществ в головном мозгу и мозговое кровообращение без существенного изменения системного артериального давления. В ветеринарной практике эти препараты могут быть использованы для улучшения мозгового кровообращения после травм головного мозга и при воспалительных заболеваниях периферических сосуд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492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β  - адреноблокатор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228240" y="7621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а группа включает в себя такие препараты, как пропранолол, метапролол, атенолол и т.д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Фармакологические эффекты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β  -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адреноблокаторов основаны на их способности препятствовать взаимодействию норадреналина с 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β  -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адренорецептор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казанный механизм действия обусловливает такие эффекты, как снижение всех показателей работы сердца, снижение артериального давл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днако, такой препарат, как пропранолол потенцирует бронхоспазм, поэтому не разрешен к применению при бронхиальной астм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ветеринарной практике рассматриваемые препараты могут быть использованы у домашних животных при гипертонии во время острых воспалительных заболеваний поче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04560" y="685800"/>
            <a:ext cx="830556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Эфферентная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центробежная) иннервация представлен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двигательными нервными волокнам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иннервируют скелетные мышцы)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вегетативными нервами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(иннервируют внутренние органы, кровеносные сосуды, железы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рвными волокнам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000000"/>
                </a:solidFill>
                <a:uFillTx/>
                <a:latin typeface="Calibri"/>
              </a:rPr>
              <a:t>Двигательные нервные волокн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представляют собой длинные отростки (аксоны) двигательных нервных клеток, расположенных в спинном и головном мозге. Возбуждение двигательных клеток в ЦНС по нервным волокнам передается к скелетным мышцам, и вызывают их сокращ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вегетативной иннервации различают ее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мпатическую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арасимпатическую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част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нутренние органы и железы иннервируются как симпатическими,  так и парасимпатически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5228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импатические нервные волокн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берут начало от специальных клеток грудного и поясничного отделов спинного мозга. Покинув спинной мозг, эти волокна оканчиваются в симпатических ганглиях (симпатические ганглии расположены вне иннервируемых органах). В ганглиях окончания нервных волокон (их называют преганглионарными симпатическими) контактируют с нервными клетками (ганглионарные клетки). Аксоны ганглионарных клеток (постганглионарные симпатические волокна) выходят за пределы ганглиев и оканчиваются на клетках иннервируемых органов и ткане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арасимпатические нервные волок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берут начало от клеток стволовой части мозга и от клеток крестцовой части спинного мозга. Эти волокна (преганглионарные парасимпатические волокна) оканчиваются в парасимпатических ганглиях, которые в отличие от симпатических ганглиев расположены в толще иннервируемых органов. В парасимпатических ганглиях окончания преганглионарных волокон контактируют с ганглионарными нервными клетками. Аксоны ганглионарных клеток (постганглионарные парасимпатические волокна) оканчиваются на клетках иннервируемых орган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80520" y="609120"/>
            <a:ext cx="8458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 всех синапсах эфферентной иннерва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возбуждение передается с помощью химических веществ -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диаторов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Медиаторы выделяются окончаниями нервных волокон и воздействуют на рецепторы клеток. Действие медиатора кратковременно. Следующее возбуждение нервных волокон вызывает выделение новых порции медиатора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Постганглионарны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импатические волокна в качестве медиатора выделяю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норадренали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с помощью которого передается возбуждение с симпатических нервных волокон на клетки органов и тканей. Нервные волокна, выделяющие норадреналин,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адренергическ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В остальных синапсах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фферентной иннервации передатчиком возбуждения (медиатором)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цетилхолин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С помощью ацетилхолина передается     возбуждение в вегетативных ганглиях ( как в симпатических так и в парасимпатических). Нервные волокна, выделяющие ацетилхолин, называют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олинергически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йствие ацетилхолина очень кратковременно, т.к. он быстро разрушается специальным ферментом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ацетилхолинэстераз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2-02-02T05:10:46Z</dcterms:modified>
  <cp:revision>4</cp:revision>
  <dc:subject/>
  <dc:title>Адренэргические средства</dc:title>
</cp:coreProperties>
</file>