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D05B-A738-443A-A90A-7A48D275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698B5-2634-485B-A920-F6C631B5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1402C-ADF6-42F5-8BB4-4BA99B89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E0C63-62C1-4199-B0FB-851F9739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EFFD-E2B6-4B26-8BCC-E159A58E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89C2-6CE5-449C-A39E-D1195574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C5ED-84B6-4314-9A07-30413A37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4EDE-11B8-44DF-A4EC-82734F4E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58DD-A4D3-46CB-8660-9309C45D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6903-DA86-4D62-9685-C7CF6CDA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B1C5-F985-476C-BF9B-BCDD4192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4B7C0-9DC6-4404-99EE-28911ABF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C627-F45D-438B-A1F3-44FAE612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9A37F-C7F3-4CF3-B5A3-FE369FAE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0171-B1DE-43E8-8D0F-3714494A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76FC1-6933-47EC-BC1E-2E7E9212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03D6-71A5-4385-8361-61C84268E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2FA5-58CC-425E-B2F1-7B0AD993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CFD60-2D6D-4813-9930-D8C94BED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8ACCA-E824-4BF8-8AA9-D8B9330B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045DC-A561-482C-8689-D8E963A3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15172-461A-4895-810A-A04CE514D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A2FE-1700-4EF7-B242-5A5245B1B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6F084-1409-4FD5-9803-8B38AA79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5F9F-F6D0-4C21-AD9E-C691FF6B721E}" type="slidenum"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ebc5c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a503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5a503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ebc5c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a503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5a503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60AD-09E7-4E59-9096-CD9986625F4F}" type="slidenum"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5a503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1844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5a5034"/>
                </a:solidFill>
                <a:latin typeface="Garamond"/>
              </a:rPr>
              <a:t>СТРИХНИН и его препараты</a:t>
            </a:r>
            <a:endParaRPr b="1" lang="en-US" sz="8800" spc="-1" strike="noStrike">
              <a:solidFill>
                <a:srgbClr val="5a5034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5256000" cy="603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5034"/>
                </a:solidFill>
                <a:latin typeface="Garamond"/>
              </a:rPr>
              <a:t>По воздействию на организм стрихнин относится к I классу опасности (чрезвычайно опасные вещества). Входит в список ядовитых веществ.</a:t>
            </a:r>
            <a:r>
              <a:rPr b="1" lang="en-US" sz="4400" spc="-1" strike="noStrike">
                <a:solidFill>
                  <a:srgbClr val="5a5034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1413000"/>
            <a:ext cx="2867040" cy="396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На продолговатый мозг стрихнин  действует возбуждающе. Дыхание учащается и становится более глубоким еще задолго до наступления тетануса. Вследствие возбуждения сосудодвигательного центра кровяное давление повышается. Вследствие возбуждения центра п. vagi ритм сердца замедляется. Кровяное давление может повышаться на 18—35 </a:t>
            </a:r>
            <a:r>
              <a:rPr b="0" i="1" lang="ru-RU" sz="2400" spc="-1" strike="noStrike">
                <a:solidFill>
                  <a:srgbClr val="4b2500"/>
                </a:solidFill>
                <a:latin typeface="Garamond"/>
              </a:rPr>
              <a:t>мм </a:t>
            </a: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при одновременном урежении ритма. В опытах на курарезированных животных каждое раздражение чувствительных путей ведет к значительному подъему кровяного давления и урежению пульса.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На некурарезированных животных этому способствует еще тетаническое сокращение мышц.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222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Действие на головной мозг у людей выражается в чувстве страха, пугливости у животных.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В опытах Зольмана поглаживание животного (кролика) задерживало появление судорог, из чего можно заключить, что чувство страха может провоцировать, ускорять наступление тетануса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1896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По некоторым исследованиям (Baglioni, Amantea и др.) С. ведет к повышению возбудимости двигательных отделов коры головного мозга. С. уже в терапевтических дозах вызывает обострение органов чувств. Наблюдается обострение вкуса, тактильных ощущений, обоняния, слуха и зрения. Под влиянием впрыскивания С. минут через 15 острота зрения с 20/20 увеличивается до 2%5; поле зрения увеличивается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4b2500"/>
                </a:solidFill>
                <a:latin typeface="Garamond"/>
              </a:rPr>
              <a:t>        </a:t>
            </a: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Распространено мнение, что улучшение зрения есть результат' действия С. на сетчатку глаза и потому впрыскивание с лечебной целью производили в висок больной стороны. Однако есть основание считать, что улучшение зрения есть результат действия С. на центральную нервную систему,.т. к  отток лимфы идет не от височной области к сетчатке, а обратно, и улучшение зрения наступает независимо от места впрыскивания. На глаз с ослабленным зрением С. производит' большее действие, чем на здоровый: это связано с обычным правилом большого воздействия яда на органы, находящиеся в условиях патобиоза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     </a:t>
            </a: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Обострение органов вкуса также центрального происхождения. 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4b2500"/>
                </a:solidFill>
                <a:latin typeface="Garamond"/>
              </a:rPr>
              <a:t>Проводимость двигательных нервов под влиянием доз С, значительно превышающих необходимые для развития судорог, повышается; под влиянием обычных доз проводимость двигательных нервов не меняется.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На саму мышцу С. в переносимых дозах влияния не оказывает, при непосредственном действии в больших дозах наблюдается небольшое угнетение поперечнополосатой мышцы, а также угнетение окончаний двигательных нервов. Наблюдающееся улучшение работы под влиянием небольших доз С. должно объясняться центральными причинами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9484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Из органов с гладкой мускулатурой под влиянием С. возможны сокращения матки, кишечника. Эти сокращения могут быть записаны также на изолированных органах (5 </a:t>
            </a:r>
            <a:r>
              <a:rPr b="0" i="1" lang="ru-RU" sz="2800" spc="-1" strike="noStrike">
                <a:solidFill>
                  <a:srgbClr val="4b2500"/>
                </a:solidFill>
                <a:latin typeface="Garamond"/>
              </a:rPr>
              <a:t>мг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С. на 200 см3 Рингеровского раствора). Сокращения сосудов наблюдаются гл. обр. вследствие рефлекторных причин и возбуждения сосудодвигательного центра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тмечается усиление тонуса сердечной мышцы; усиление' маятникообразных движений кишечника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При развитии судорог увеличивается количество Са в крови, число молодых форм красных кровяных шариков в крови, формула крови сдвигается влево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сновной обмен при даче доз, не вызывающих судорог, при С. изменяется мало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Температура тела может повышаться, но так как при этом обычно повышается и теплоотдача, то t чаще остается без изменений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В опытах на зимних лягушках установлено, что С. вызывает гликозурию.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У летних лягушек гликозурия получается, если их посадить на лед; для развития гликозурии необходимы запасы гликогена в печени.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На теплокровных животных гликозурия получалась авторами лишь на молодых животных. 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2500"/>
                </a:solidFill>
                <a:latin typeface="Garamond"/>
              </a:rPr>
              <a:t>Стрихнин</a:t>
            </a:r>
            <a:r>
              <a:rPr b="1" lang="ru-RU" sz="4000" spc="-1" strike="noStrike">
                <a:solidFill>
                  <a:srgbClr val="4b2500"/>
                </a:solidFill>
                <a:latin typeface="Garamond"/>
              </a:rPr>
              <a:t> в малых дозах стимулирует центры кровообращения и дыхания, усиливает рефлекторные реакции (аналептик). </a:t>
            </a:r>
            <a:r>
              <a:rPr b="1" lang="ru-RU" sz="4000" spc="-1" strike="noStrike">
                <a:solidFill>
                  <a:srgbClr val="4b2500"/>
                </a:solidFill>
                <a:latin typeface="Garamond"/>
              </a:rPr>
              <a:t>Бруцин</a:t>
            </a:r>
            <a:r>
              <a:rPr b="1" lang="ru-RU" sz="4000" spc="-1" strike="noStrike">
                <a:solidFill>
                  <a:srgbClr val="4b2500"/>
                </a:solidFill>
                <a:latin typeface="Garamond"/>
              </a:rPr>
              <a:t> менее ядовит, обладает курареподобным действием. Используется для разделения рацемических карбоновых кислот.</a:t>
            </a:r>
            <a:br>
              <a:rPr sz="4000"/>
            </a:br>
            <a:endParaRPr b="1" lang="en-US" sz="4000" spc="-1" strike="noStrike">
              <a:solidFill>
                <a:srgbClr val="5a5034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034"/>
                </a:solidFill>
                <a:latin typeface="Garamond"/>
              </a:rPr>
              <a:t>В терапевтических дозах стрихнин оказывает стимулирующее действие на органы чувств (обостряет зрение, вкус, слух, тактильное чувство), возбуждает сосудодвигательный и дыхательный центры, тонизирует скелетную мускулатуру, а также мышцу сердца, стимулирует процессы обмена, повышает чувствительность сетчатки глаза.</a:t>
            </a:r>
            <a:endParaRPr b="1" lang="en-US" sz="32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916360" y="4653000"/>
            <a:ext cx="3240000" cy="1965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5034"/>
                </a:solidFill>
                <a:latin typeface="Garamond"/>
              </a:rPr>
              <a:t>Стрихнин и другие препараты чилибухи возбуждают ЦНС и в первую очередь повышают рефлекторную возбудимость. Под влиянием стрихнина рефлекторные реакции становятся более генерализованными, при больших дозах стрихнина различные раздражители вызывают появление сильных болезненных тетанических судорог.</a:t>
            </a:r>
            <a:endParaRPr b="1" lang="en-US" sz="28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3357720"/>
            <a:ext cx="3313080" cy="2668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64000" y="3357720"/>
            <a:ext cx="3311640" cy="266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2500"/>
                </a:solidFill>
                <a:latin typeface="Garamond"/>
              </a:rPr>
              <a:t>ЦЕЛЬ: 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b2500"/>
                </a:solidFill>
                <a:latin typeface="Garamond"/>
              </a:rPr>
              <a:t>Изучить действие стрихнина</a:t>
            </a:r>
            <a:r>
              <a:rPr b="0" lang="en-US" sz="4000" spc="-1" strike="noStrike">
                <a:solidFill>
                  <a:srgbClr val="4b25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15832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5034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5a5034"/>
                </a:solidFill>
                <a:latin typeface="Garamond"/>
              </a:rPr>
              <a:t>Применяют стрихнин как тонизирующее средство при общем понижении процессов обмена, быстрой утомляемости, гипотонической болезни, ослаблении сердечной деятельности на почве интоксикаций и инфекций, при некоторых функциональных нарушениях зрительного аппарата (амблиопия, амавроз и др.); при парезах и параличах (в частности, дифтерийного происхождения у детей), при атонии желудка и т.п. Ранее им широко пользовались для лечения острых отравлений барбитуратами; теперь для этой цели в основном применяется бемегрид</a:t>
            </a:r>
            <a:r>
              <a:rPr b="1" lang="ru-RU" sz="4000" spc="-1" strike="noStrike">
                <a:solidFill>
                  <a:srgbClr val="5a5034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5a5034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034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5a5034"/>
                </a:solidFill>
                <a:latin typeface="Garamond"/>
              </a:rPr>
              <a:t>Назначают внутрь (часто в пилюлях) и под кожу (0,1 % раствор). Обычная доза для взрослых 0,0005 - 0,001 г (0,5 - 1 мг) 2 - 3 раза в день. Детям старше 2 лет назначают по 0,0001 г (0,1 мг) - 0,0005 г (0,5 мг) на прием в зависимости от возраста; до 2 лет не назначают. </a:t>
            </a:r>
            <a:endParaRPr b="1" lang="en-US" sz="32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3573360"/>
            <a:ext cx="3743280" cy="2994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508720" y="3573360"/>
            <a:ext cx="3024000" cy="3024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a5034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4b2500"/>
                </a:solidFill>
                <a:latin typeface="Garamond"/>
              </a:rPr>
              <a:t>Противопоказания:</a:t>
            </a:r>
            <a:r>
              <a:rPr b="1" lang="en-US" sz="4000" spc="-1" strike="noStrike">
                <a:solidFill>
                  <a:srgbClr val="5a5034"/>
                </a:solidFill>
                <a:latin typeface="Garamond"/>
              </a:rPr>
              <a:t> гипертоническая болезнь, бронхиальная астма, стенокардия, атеросклероз, острый и хронический нефрит, гепатиты, склонность к судорожным реакциям, беременность, базедова болезнь.</a:t>
            </a:r>
            <a:endParaRPr b="1" lang="en-US" sz="4000" spc="-1" strike="noStrike">
              <a:solidFill>
                <a:srgbClr val="5a5034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a5034"/>
                </a:solidFill>
                <a:latin typeface="Garamond"/>
              </a:rPr>
              <a:t>Отравление стрихнином - одно из самых тяжелых. Его сопровождают рвота, страшные боли под ложечкой, общие судороги, слепота. При отравлении стрихнином надо немедленно вызвать доктора. До его прихода дать сильное слабительное и стакан воды, в которой размешать столовую ложку очищенного древесного угля.</a:t>
            </a:r>
            <a:br>
              <a:rPr sz="2800"/>
            </a:br>
            <a:br>
              <a:rPr sz="4000"/>
            </a:br>
            <a:endParaRPr b="1" lang="en-US" sz="28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2227320" cy="3456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211640" y="3573360"/>
            <a:ext cx="4032360" cy="267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5034"/>
                </a:solidFill>
                <a:latin typeface="Garamond"/>
              </a:rPr>
              <a:t>Алкалоиды стрихнин и бруцин (диметоксильное производное стрихнина )  были выделены Пеллетье и Каванту (1818 ) из  « рвотных орешков » - семян одного ядовитого индонезийского растения. Систематические структурные исследования этих алкалоидов начались с работ Тафеля (с 1890г.) и Лейкса(с 1908г.). К 1910г. относится первая работа по  изучению строения  этих алкалоидов Перкина-младшего и Робинсона. В этой работе уже была предложена  формула стрихнина, содержащая шесть циклов. Правда, оба атома азота у Перкина и Робинсона оказались ошибочно в одном и том же, притом шестичленном,цикле.</a:t>
            </a:r>
            <a:r>
              <a:rPr b="1" lang="ru-RU" sz="2400" spc="-1" strike="noStrike">
                <a:solidFill>
                  <a:srgbClr val="5a5034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5a5034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5034"/>
                </a:solidFill>
                <a:latin typeface="Garamond"/>
              </a:rPr>
              <a:t>После смерти Перкина в 1924г. исследование стрихнина продолжал Робинсон, который наконец в 1945г. пришел к правильной структурной формуле этого алкалоида.</a:t>
            </a:r>
            <a:endParaRPr b="1" lang="en-US" sz="28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697800" cy="490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034"/>
                </a:solidFill>
                <a:latin typeface="Garamond"/>
              </a:rPr>
              <a:t>Главный алкалоид семян чилибухи (Strychnos nux-vomica), семейства логаниевых (Loganiaceae), произрастающей в тропических районах Азии и Африки.</a:t>
            </a:r>
            <a:r>
              <a:rPr b="1" lang="en-US" sz="2800" spc="-1" strike="noStrike">
                <a:solidFill>
                  <a:srgbClr val="5a5034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76360" y="3068640"/>
            <a:ext cx="2973240" cy="3382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435640" y="3068640"/>
            <a:ext cx="2206440" cy="3382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a5034"/>
                </a:solidFill>
                <a:latin typeface="Garamond"/>
              </a:rPr>
              <a:t>Семя чилибухи —рвотный орех (лат. semen Strychni; Nux vomica) содержит </a:t>
            </a:r>
            <a:br>
              <a:rPr sz="3600"/>
            </a:br>
            <a:r>
              <a:rPr b="1" lang="en-US" sz="3600" spc="-1" strike="noStrike">
                <a:solidFill>
                  <a:srgbClr val="5a5034"/>
                </a:solidFill>
                <a:latin typeface="Garamond"/>
              </a:rPr>
              <a:t>стрихнина и бруцина не менее 2,5 %.</a:t>
            </a:r>
            <a:endParaRPr b="1" lang="en-US" sz="36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2914560" cy="33130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284720" y="2924280"/>
            <a:ext cx="4103640" cy="334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Препараты из чилибухи:</a:t>
            </a:r>
            <a:br>
              <a:rPr sz="4400"/>
            </a:br>
            <a:r>
              <a:rPr b="1" lang="ru-RU" sz="4400" spc="-1" strike="noStrike">
                <a:solidFill>
                  <a:srgbClr val="4b2500"/>
                </a:solidFill>
                <a:latin typeface="Garamond"/>
              </a:rPr>
              <a:t>1. </a:t>
            </a:r>
            <a:r>
              <a:rPr b="1" lang="ru-RU" sz="4000" spc="-1" strike="noStrike">
                <a:solidFill>
                  <a:srgbClr val="5a5034"/>
                </a:solidFill>
                <a:latin typeface="Garamond"/>
              </a:rPr>
              <a:t>Экстракт чилибухи сухой. Экстракт рвотного ореха сухой (Extractum Strychni siccum; Extractum nucis vomicae siccum). </a:t>
            </a:r>
            <a:br>
              <a:rPr sz="4000"/>
            </a:br>
            <a:r>
              <a:rPr b="1" lang="ru-RU" sz="4000" spc="-1" strike="noStrike">
                <a:solidFill>
                  <a:srgbClr val="4b2500"/>
                </a:solidFill>
                <a:latin typeface="Garamond"/>
              </a:rPr>
              <a:t>2.</a:t>
            </a:r>
            <a:r>
              <a:rPr b="1" lang="ru-RU" sz="4000" spc="-1" strike="noStrike">
                <a:solidFill>
                  <a:srgbClr val="5a5034"/>
                </a:solidFill>
                <a:latin typeface="Garamond"/>
              </a:rPr>
              <a:t> Настойка чилибухи. Настойка рвотного ореха (Tinctura Strychni; Tinctura nucis vomicae).</a:t>
            </a:r>
            <a:r>
              <a:rPr b="1" lang="ru-RU" sz="4400" spc="-1" strike="noStrike">
                <a:solidFill>
                  <a:srgbClr val="5a5034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5a5034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27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2500"/>
                </a:solidFill>
                <a:latin typeface="Garamond"/>
              </a:rPr>
              <a:t>Использовались в качестве яда для наконечников стрел. Сильные судорожные яды, поражают спинной мозг, затем ЦНС, зрение, слух и обоняние. Смерть наступает от удушья.</a:t>
            </a:r>
            <a:br>
              <a:rPr sz="3600"/>
            </a:br>
            <a:endParaRPr b="1" lang="en-US" sz="3600" spc="-1" strike="noStrike">
              <a:solidFill>
                <a:srgbClr val="5a5034"/>
              </a:solidFill>
              <a:latin typeface="Garamond"/>
            </a:endParaRPr>
          </a:p>
        </p:txBody>
      </p:sp>
      <p:graphicFrame>
        <p:nvGraphicFramePr>
          <p:cNvPr id="113" name="Object 14"/>
          <p:cNvGraphicFramePr/>
          <p:nvPr/>
        </p:nvGraphicFramePr>
        <p:xfrm>
          <a:off x="684360" y="3500280"/>
          <a:ext cx="784836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500280"/>
                    <a:ext cx="784836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a5034"/>
                </a:solidFill>
                <a:latin typeface="Garamond"/>
              </a:rPr>
              <a:t>Нитрат стрихнина представляет собой бесцветные блестящие игольчатые кристаллы или белый кристаллический порошок. Имеет чрезвычайно горький вкус.</a:t>
            </a:r>
            <a:r>
              <a:rPr b="1" lang="en-US" sz="4000" spc="-1" strike="noStrike">
                <a:solidFill>
                  <a:srgbClr val="5a5034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5a5034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3357720"/>
            <a:ext cx="3527640" cy="2809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716360" y="3284640"/>
            <a:ext cx="3743280" cy="289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4:11:17Z</dcterms:created>
  <dc:creator>Paradise</dc:creator>
  <dc:description/>
  <dc:language>en-US</dc:language>
  <cp:lastModifiedBy>1</cp:lastModifiedBy>
  <dcterms:modified xsi:type="dcterms:W3CDTF">2012-02-02T04:18:47Z</dcterms:modified>
  <cp:revision>5</cp:revision>
  <dc:subject/>
  <dc:title>СТРИХНИН</dc:title>
</cp:coreProperties>
</file>