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12.jpeg" ContentType="image/jpeg"/>
  <Override PartName="/ppt/media/image50.jpeg" ContentType="image/jpeg"/>
  <Override PartName="/ppt/media/image52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34.jpeg" ContentType="image/jpeg"/>
  <Override PartName="/ppt/media/image18.png" ContentType="image/png"/>
  <Override PartName="/ppt/media/image31.jpeg" ContentType="image/jpeg"/>
  <Override PartName="/ppt/media/image23.png" ContentType="image/png"/>
  <Override PartName="/ppt/media/image5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6E9-8139-490E-89BA-2CEF3158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922-6050-4AB0-BF13-6475AE52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36E-E87B-4CEA-BD3B-228132F6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B93-242D-472F-869F-E7C993EB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D6C6-1CC9-4B3A-B116-1BDA95E5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D20-3ED2-4531-8146-B326FB4B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FFE5-E286-4692-A538-8F8DF79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24AE-771B-494E-B183-E608388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9F5-639E-4030-BDD4-073B90C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18D-A1AE-413A-9DE0-4C501C6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CED-35D4-4381-9533-7C99081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698-3EF9-4840-8C90-A136F793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9F3E-48A0-4BD2-A987-9AAB381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098-1B20-427B-AB10-E6011CB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AED9-B375-47FA-AAD3-E831D631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57EC-0BB8-4D7C-9728-4E5636B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62AF-BB38-4D20-B662-C613C066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836-2CF1-4B07-9781-31015031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777-B968-4109-A351-DBF4FC75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973-10B9-4B64-B704-357B5F52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E0E-7A48-4A76-AC33-6932FACB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610-B837-421B-9D99-AFA1AC4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B4C-F9B1-4159-A725-81DF242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86E-6F6A-48CD-A408-0C17092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8BA-B490-4E45-AF2F-A3A491D275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2B8-49B6-48D0-81A7-94A1F58C60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7675560" cy="585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 1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мет и задачи дисциплин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мероприятий по защите сельскохозяйственных культур от вредителей и болезней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85840" y="13572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 Основные группы вредных организ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секом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ле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из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ли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грызу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мато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олезни: грибы, бактерии, вироиды, актиномицеты, микоплазмы, фитоплазмы, растения парази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5840" y="1571400"/>
            <a:ext cx="8540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основной таксономической единицей в систематики является ви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это целостная система сходных особей занимающий определенный географический ареал и дающий при скрещивании плодовитое потомство которое удерживает сходство с родител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 насеком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1680" y="1285560"/>
            <a:ext cx="8540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рям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rth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 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линн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роткоусые прям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знеч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вер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медвед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стоящие   саранчо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4" descr="Orth_4.jpg"/>
          <p:cNvPicPr/>
          <p:nvPr/>
        </p:nvPicPr>
        <p:blipFill>
          <a:blip r:embed="rId1"/>
          <a:srcRect l="2494" t="0" r="249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пной сверчо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Melanogryllus desertus Pall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5" descr="medvedka_obyknovennaja_1.jpg"/>
          <p:cNvPicPr/>
          <p:nvPr/>
        </p:nvPicPr>
        <p:blipFill>
          <a:blip r:embed="rId1"/>
          <a:srcRect l="10558" t="0" r="10558" b="0"/>
          <a:stretch/>
        </p:blipFill>
        <p:spPr>
          <a:xfrm>
            <a:off x="1792440" y="5716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785960" y="500040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ка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ryllotalpa Latreille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5" descr="IMG_1041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Зеленый кузнечик (Tettigonia viridissima), самец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,подотряд длинноус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шествие саранчовых (подвид итальянский прус) подотряд короткоусые прям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Рисунок 7" descr="images.jpeg"/>
          <p:cNvPicPr/>
          <p:nvPr/>
        </p:nvPicPr>
        <p:blipFill>
          <a:blip r:embed="rId1"/>
          <a:srcRect l="0" t="3592" r="0" b="359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713880"/>
            <a:ext cx="85406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равн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o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цикадо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листобло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елокры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ц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3" descr="26-350x217.jpg"/>
          <p:cNvPicPr/>
          <p:nvPr/>
        </p:nvPicPr>
        <p:blipFill>
          <a:blip r:embed="rId1"/>
          <a:srcRect l="8672" t="0" r="867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осатая цикад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sammotettix striatus L.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цикад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блонная медяниц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sylla mali Schmid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листобло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rcRect l="2197" t="0" r="219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285840" y="157176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мет и задачи дисциплины «Защита сельскохозяйственных культур от вредителей и болезней». Система мероприятий по защите сельскохозяйственных культур от вредителей и болез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5" descr="images.jpeg"/>
          <p:cNvPicPr/>
          <p:nvPr/>
        </p:nvPicPr>
        <p:blipFill>
          <a:blip r:embed="rId1"/>
          <a:srcRect l="8544" t="0" r="854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устная белокрыл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eurodes brassicae) 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дитель капусты, подотряд белокрыл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4" descr="2.jpg"/>
          <p:cNvPicPr/>
          <p:nvPr/>
        </p:nvPicPr>
        <p:blipFill>
          <a:blip r:embed="rId1"/>
          <a:srcRect l="0" t="21877" r="0" b="2187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71468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ловичная тля(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phis fabae Scop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подотряд т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4" descr="123_html_m588493f1.jpg"/>
          <p:cNvPicPr/>
          <p:nvPr/>
        </p:nvPicPr>
        <p:blipFill>
          <a:blip r:embed="rId1"/>
          <a:srcRect l="0" t="1208" r="0" b="120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лифорнийская щитов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aspidiotus pernicios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тряд кокци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85840" y="1428480"/>
            <a:ext cx="854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олужесткокрылые (клопы)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mi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епн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щитники черепа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хищники - кро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3" descr="img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ловичный клоп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. vulneratus Pz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слепня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Щитн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urydema oleracea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псовый кло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4688" r="0" b="468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4" descr="18465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п Черепашка,Маврский клоп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 maura L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785960" y="47862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п антокорис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thocoris nemorum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семейство хищники - крош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Рисунок 9" descr="anthocoris2.jpg"/>
          <p:cNvPicPr/>
          <p:nvPr/>
        </p:nvPicPr>
        <p:blipFill>
          <a:blip r:embed="rId1"/>
          <a:srcRect l="30" t="0" r="3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71760" y="471492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яд Бахромчатокрылые </a:t>
            </a: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Thysanoptera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трипс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6" name="Рисунок 4" descr="Taeniothrips_pre.jpg"/>
          <p:cNvPicPr/>
          <p:nvPr/>
        </p:nvPicPr>
        <p:blipFill>
          <a:blip r:embed="rId1"/>
          <a:srcRect l="2712" t="0" r="2712" b="0"/>
          <a:stretch/>
        </p:blipFill>
        <p:spPr>
          <a:xfrm>
            <a:off x="1071720" y="428760"/>
            <a:ext cx="6200640" cy="41148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85960" y="5571720"/>
            <a:ext cx="5486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дии развития трипса Taeniothrips: личинка, пронимфа, нимф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реждение трипсам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3000240" y="150012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3214800" y="3571920"/>
            <a:ext cx="2381040" cy="1409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4"/>
          <a:stretch/>
        </p:blipFill>
        <p:spPr>
          <a:xfrm>
            <a:off x="500040" y="3643200"/>
            <a:ext cx="2381400" cy="1162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"/>
          <p:cNvPicPr/>
          <p:nvPr/>
        </p:nvPicPr>
        <p:blipFill>
          <a:blip r:embed="rId5"/>
          <a:stretch/>
        </p:blipFill>
        <p:spPr>
          <a:xfrm>
            <a:off x="5786280" y="1428840"/>
            <a:ext cx="2381400" cy="18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6"/>
          <a:stretch/>
        </p:blipFill>
        <p:spPr>
          <a:xfrm>
            <a:off x="6000840" y="3357720"/>
            <a:ext cx="1952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56760"/>
            <a:ext cx="854064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редмет, значение и задачи «Защита сельскохозяйственных культур от вредителей и болезней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Закон о защите растен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Принципы построения комплексных систем по защите сельскохозяйственных культур от вредителей и болезне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Систематические группы вредителей и возбудителей болезней сельскохозяйственных груп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01680" y="428400"/>
            <a:ext cx="8540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жестк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e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отоя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ноядные жу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жужелицы                                   - листо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астинчатоусые                        - усачи или дровосе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щелкуны                                      - зерн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цинеллиды                             - долгонос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чернотелки                                   - трубковер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856880" y="5143320"/>
            <a:ext cx="557244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ыкновенная хлебная жужелиц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Zabrus tenebrio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Рисунок 14" descr="Zabrus.tenebrioides.-.calwer.06.10.jpg"/>
          <p:cNvPicPr/>
          <p:nvPr/>
        </p:nvPicPr>
        <p:blipFill>
          <a:blip r:embed="rId1"/>
          <a:srcRect l="0" t="11491" r="0" b="11491"/>
          <a:stretch/>
        </p:blipFill>
        <p:spPr>
          <a:xfrm>
            <a:off x="2119320" y="214200"/>
            <a:ext cx="5159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4" descr="GDI015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овый долгоносик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urculionida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долгонос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785960" y="514332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пной медляк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laps halophil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чернотел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rcRect l="0" t="5361" r="0" b="5361"/>
          <a:stretch/>
        </p:blipFill>
        <p:spPr>
          <a:xfrm>
            <a:off x="1785960" y="500040"/>
            <a:ext cx="5486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яд сетчатокрылые </a:t>
            </a: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Neuroptera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5960" y="514332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латоглазк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hrysopa carn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, семейство златогла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rcRect l="6195" t="0" r="6195" b="0"/>
          <a:stretch/>
        </p:blipFill>
        <p:spPr>
          <a:xfrm>
            <a:off x="1785960" y="1071720"/>
            <a:ext cx="52149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латоглазк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hrysopa carn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, семейство златоглаз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rcRect l="3970" t="0" r="397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85840" y="213840"/>
            <a:ext cx="85406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чешуе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pid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люс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авн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азнокры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овертки                          - воля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орностаевые моли             - с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гневки                                - медвед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янки                                - пяде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конопря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7712.jpg"/>
          <p:cNvPicPr/>
          <p:nvPr/>
        </p:nvPicPr>
        <p:blipFill>
          <a:blip r:embed="rId1"/>
          <a:srcRect l="6047" t="0" r="604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ка хмелевого тонкопряд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pialus humuli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отряд равн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5717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aspeyresia nigricana F.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оховая плодожорка, семейство разнокры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rcRect l="5602" t="0" r="5602" b="0"/>
          <a:stretch/>
        </p:blipFill>
        <p:spPr>
          <a:xfrm>
            <a:off x="1428840" y="612720"/>
            <a:ext cx="600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4" descr="0214477407.gif"/>
          <p:cNvPicPr/>
          <p:nvPr/>
        </p:nvPicPr>
        <p:blipFill>
          <a:blip r:embed="rId1"/>
          <a:srcRect l="0" t="920" r="0" b="92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еблевой мотылек: 1 — самка; 2 — самец; 3 — гусеница; 4 — яйца на листе, семейство огнев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дные организмы, представляющие опасность для высокого урожая сельскохозяйственных культур, чрезвычайно распространены, они встречаются всюду: на полях, в садах, в лесу, в хранилищ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и задачами, стоящими перед студентами, является изучение биологии вредных организмов и составление на ее основе рациональных и эффективных защитных мероприятий, отвечающих современным требованиям науки и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4" descr="1255543576_pieris_rapae.jpg"/>
          <p:cNvPicPr/>
          <p:nvPr/>
        </p:nvPicPr>
        <p:blipFill>
          <a:blip r:embed="rId1"/>
          <a:srcRect l="0" t="1029" r="0" b="102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пная белян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P. rapae L.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белян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ка-гамма: 1 - бабочка, 2 - яйцо (увеличено), 3 - гусеница, 4 - кукол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rcRect l="0" t="1699" r="0" b="169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Рисунок 4" descr="59.jpg"/>
          <p:cNvPicPr/>
          <p:nvPr/>
        </p:nvPicPr>
        <p:blipFill>
          <a:blip r:embed="rId1"/>
          <a:srcRect l="0" t="163" r="0" b="16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деница зимняя —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perophthera brumata (L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ериканская белая бабочка: 1 - бабочка, откладывающая яйца, 2 – гусеница, семейство медвед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rcRect l="0" t="6582" r="0" b="658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85840" y="71424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перепончато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ymeno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дячебрюх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ебельч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ездники                              - сцелион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ездники ихнеуманиды    - трихограммат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еблевые пилильщики      - мурав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ракониды                           - тлевые наезд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4" descr="default.jpeg"/>
          <p:cNvPicPr/>
          <p:nvPr/>
        </p:nvPicPr>
        <p:blipFill>
          <a:blip r:embed="rId1"/>
          <a:srcRect l="58" t="0" r="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85724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лебный пилильщ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 Cephus pygmaeus 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емейство стеблевые пилильщ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4" descr="87430614.jpg"/>
          <p:cNvPicPr/>
          <p:nvPr/>
        </p:nvPicPr>
        <p:blipFill>
          <a:blip r:embed="rId1"/>
          <a:srcRect l="7497" t="0" r="749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- яблонный пилильщик; 2 - личинка; 3 - поврежденный плод ( в разрезе); 4 -  поврежденные плоды: а - личинка первого возраста, б – личинка старшего возраста; 5 – переход личинки из одного плода в другой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пантелес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panteles glomerat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семейство бракони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Рисунок 6" descr="contbiol4.jpg"/>
          <p:cNvPicPr/>
          <p:nvPr/>
        </p:nvPicPr>
        <p:blipFill>
          <a:blip r:embed="rId1"/>
          <a:srcRect l="0" t="992" r="0" b="992"/>
          <a:stretch/>
        </p:blipFill>
        <p:spPr>
          <a:xfrm>
            <a:off x="1785960" y="7142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хограмма обыкновенная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ichogramma evanescens Westw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rcRect l="1867" t="0" r="18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ряд двукрылые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ipt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отря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линн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роткоус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мейст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долгонож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галл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журча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лаковые мух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цветочн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ах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540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о защите растений, от 3 июля 2002 года № 331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защите растений. Настоящий Закон определяет правовые, экономические и организационные основы осуществления деятельности в области защиты растений от вредителей, сорняков и болезней растений направлен на сохранение урожая, его качества и предотвращения вредного воздействия на здоровье людей и окружающую среду при осуществлении фитосанитарных мероприятий на территории Р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4" descr="images.jpeg"/>
          <p:cNvPicPr/>
          <p:nvPr/>
        </p:nvPicPr>
        <p:blipFill>
          <a:blip r:embed="rId1"/>
          <a:srcRect l="0" t="21917" r="0" b="2191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устная долгоножк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ipula olerace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долгонож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4" descr="y4011e26.jpg"/>
          <p:cNvPicPr/>
          <p:nvPr/>
        </p:nvPicPr>
        <p:blipFill>
          <a:blip r:embed="rId1"/>
          <a:srcRect l="0" t="24326" r="0" b="243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колка гессенской мухи скрытая, пупарий каштаново-бу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ессенская муха 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Mayetiola destructor Sa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емейство галл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rcRect l="0" t="9104" r="0" b="91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ведская муха (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scinella frit L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ство злаковые мух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0" t="4594" r="0" b="459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ызу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ызуны относятся к широко распросраненным многоядным вредителям. Они повреждают многие полевые, овощные, плодовые культуры, наносят ущерб растениям в теплицах и парниках, сырью и кормам в складских и животноводческих помещения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ый суслик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 Citellus pygmaeus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ciu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rcRect l="103" t="0" r="10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ая крыса, или водяная полевка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rvicola terrestri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cet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rcRect l="0" t="1458" r="0" b="145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5" descr="124733.jpg"/>
          <p:cNvPicPr/>
          <p:nvPr/>
        </p:nvPicPr>
        <p:blipFill>
          <a:blip r:embed="rId1"/>
          <a:srcRect l="0" t="11188" r="0" b="1118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евая мышь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podemus agrarius Pall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odenti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емейство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яд Зайцеобразные — Lagomorpha, Семейство Зайцев — Leporid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rcRect l="0" t="21876" r="0" b="2187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57120" y="1214280"/>
            <a:ext cx="85406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ряд клещи (Acar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чень мелкие животные, часто микроскопические паукообразные, разнообразные по внешнему строению и образу жиз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клещей относится к свободно живущим обитателям почвы, травянистых и древесных рас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состоит из 5 глав и 21 стать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щие положения (статьи 1-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осударственное регулирование в области защиты растений (статьи 4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Государственный фитосанитарный контроль (статьи 11-1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Требования по защите растений (статьи 15-1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а 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Финансирование мероприятий по защите растений и ответственность за нарушение законодательства о защите растений (статьи 20-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 ягодных раст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rcRect l="0" t="7387" r="0" b="738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клещ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rcRect l="5635" t="0" r="56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зни и улит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5840" y="2357280"/>
            <a:ext cx="8540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изни и улитки относятся к отряду стебельчатоглазых, подкласса легочных улиток, класса брюхоногих моллюсков, или улиток, типа моллюс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реждения картофеля улит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rcRect l="0" t="7696" r="0" b="7696"/>
          <a:stretch/>
        </p:blipFill>
        <p:spPr>
          <a:xfrm>
            <a:off x="1792440" y="612720"/>
            <a:ext cx="5486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785960" y="482580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реждения вызванные слизнями и улит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 болезне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85840" y="2357280"/>
            <a:ext cx="854064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иболее удобная классификация болезней по этиологическому принципу, т.е. в зависимости от причин вызывающих заболева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инфек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неинфек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285840" y="1500120"/>
            <a:ext cx="8540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неинфекционным относится не способные распространяться болезни от растения к растению. Причина их в основе неблагоприятные условия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будителям инфекционных заболеваний могут быть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ы, бактерии, вирусы, вироиды,  актиномицеты, фитоплазмы и растения парази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топатогенные гриб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840" y="1214280"/>
            <a:ext cx="8541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у систематики положены их морфологические и биологические особенности – строение, размножение, цикл развит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бы разделяются на шесть класс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хитриди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иг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ск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азиди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утеромиц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71468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тридиомице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rcRect l="0" t="20813" r="0" b="2081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57120" y="2643120"/>
            <a:ext cx="8540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ктерии – одноклеточные прокариотные организмы, размножающиеся простым делением кл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85840" y="785520"/>
            <a:ext cx="85406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Законе РК О защите растений в статье 4       Государственная система защиты растений РК говорится: в государственную систему защиты растений РК входят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Правительство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Уполномоченный орган и его территориальные подразд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Органы местного государственного у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Государственные организации, осуществляющие деятельность в области защиты раст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Физические и юридические лица, использующие объекты. Подлежащие государственному фитосанитарному контрол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85724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вядание растений вызванное бактери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rcRect l="5635" t="0" r="56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6" descr="images.jpeg"/>
          <p:cNvPicPr/>
          <p:nvPr/>
        </p:nvPicPr>
        <p:blipFill>
          <a:blip r:embed="rId1"/>
          <a:srcRect l="0" t="15857" r="0" b="1585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нистость растений вызванное бактери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85840" y="2500200"/>
            <a:ext cx="8540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усные болезни широко распространены на злаковых и бобовых культурах, многих видах плодовых и ягодных. Очень большой вред  вирусы причиняют растениям из семейства пасленовые – томату, картофелю, таба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14680" y="485784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ы вирусных болезней раст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лист малины, пораженный вирусом кольцевой пятнистости; 2 – нитевидность томата, вызванная вирусом табачной мозаики; 3 – морщинистая мозаика картоф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Picture 6" descr=""/>
          <p:cNvPicPr/>
          <p:nvPr/>
        </p:nvPicPr>
        <p:blipFill>
          <a:blip r:embed="rId1"/>
          <a:srcRect l="0" t="4996" r="0" b="499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коплазменные организм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ементарные тельца микоплазменных организм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rcRect l="9112" t="0" r="911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коплазменные заболевания раст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столбур томата (вверху цветок здорового растения); 2 – курчавая мелколистность шелков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rcRect l="8211" t="0" r="821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парази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7120" y="2571480"/>
            <a:ext cx="85406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ичный стеблевой паразит – повилика. Многие виды повилик – очень серьезные паразиты полевых, овощных и других культу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корневым паразитам относится заразиха на подсолнечнике, табаке и др. культ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вил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rcRect l="0" t="12025" r="0" b="120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6" descr="Orobanche_cumana.jpg"/>
          <p:cNvPicPr/>
          <p:nvPr/>
        </p:nvPicPr>
        <p:blipFill>
          <a:blip r:embed="rId1"/>
          <a:srcRect l="0" t="9595" r="0" b="959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8596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разиха подсолн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785960" y="49291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ме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rcRect l="0" t="130" r="0" b="13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540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тегрированная защита растен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это борьба с вредными организмами, учитывающая пороги их вредоносности и использующая в первую очередь природные ограничивающие факторы наряду с применением всех других методов, удовлетворяющих экономическим, экологическим и токсикологическим требованиям. Интегрированную борьбу в связи с этим следует понимать как идеальную комбинацию биологических, агротехнических, химических, физических и других методов защиты растений против комплекса вредителей и болезней в определенной зоне и на определенной куль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оид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7120" y="2142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оиды — патогенны растений, которые состоят из короткого фрагмента (несколько сотен нуклеотидов) высококомплементарной, кольцевой, одноцепочечной РНК, не покрытой белковой оболочкой, характерной для виру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571760" y="4643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убни картофеля: здоровые (слева) и пораженные вироидом веретеновид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rcRect l="17072" t="0" r="17072" b="0"/>
          <a:stretch/>
        </p:blipFill>
        <p:spPr>
          <a:xfrm>
            <a:off x="1862280" y="642960"/>
            <a:ext cx="4995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4" descr="file.jpeg"/>
          <p:cNvPicPr/>
          <p:nvPr/>
        </p:nvPicPr>
        <p:blipFill>
          <a:blip r:embed="rId1"/>
          <a:srcRect l="0" t="4497" r="0" b="449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14680" y="485748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держки верхушечного роста томатов из за вироида (Tomato apic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541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В чем заключается сущность и значение дисциплины «Защита с/х культур от вредителей и болезне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аковы задачи дисциплины «Защита с/х культур от вредителей и болезне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Назовите главы и статьи Закона о защите растений, от 3 июля 2002 года № 331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защите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В чем заключается концепция интегрированной защиты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Дайте определение понятию интегрированная защита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28760" y="1928520"/>
            <a:ext cx="85406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Какие вопросы решаются при разработке интегрированных систем защиты растен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К систематическим группам вредителей и возбудителей болезней относя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Бондаренко Н.В., Глущенко А.Ф. Практикум по общей энтомологии. –Л.: Колос, 1972.-с 3-8, с 135-1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 Осмоловский Г.Е., Бондаренко Н.В. Энтомология. -Л.: Колос, 1980.-с 3-6, с 139-1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Сельскохозяйственная энтомология\ А.А. Мигулина.-М.: Колос, 1983.-3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Пересыпкин В.П. Сельскохозяйственная фитопатология.- М.: Агропромиздат, 1982.-с 19-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57120" y="1143000"/>
            <a:ext cx="85406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ированную борьбу следует понимать как идеальную комбинацию биологических, агротехнических, химических, физических, механических, карантина  и др. методов защиты растений против комплексных вредителей и болезней в конкретной эколого-географической зоне на определенной территории при котором осуществляется регулирование численности вредных организмов до хозяй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21:33:18Z</dcterms:created>
  <dc:creator>XTreme</dc:creator>
  <dc:description/>
  <dc:language>en-US</dc:language>
  <cp:lastModifiedBy>XTreme</cp:lastModifiedBy>
  <dcterms:modified xsi:type="dcterms:W3CDTF">2011-12-12T05:39:58Z</dcterms:modified>
  <cp:revision>119</cp:revision>
  <dc:subject/>
  <dc:title>БОЛЕЗНИ ЗЕРНОВЫХ КУЛЬТУР</dc:title>
</cp:coreProperties>
</file>