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7D477-1571-4D25-8ED3-A9CBA848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0DE5C-224B-4FBD-8CB3-4CBE0D68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89041-37B0-4CE1-8A24-237211662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B73E2-7EF5-461B-8627-3A7DE21CA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2B880-C2C4-4749-BA1A-18B0B270B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1F306-3348-49F5-A111-FD03C952A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6793-9E34-48C4-BE2E-58A6AE037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F1A92-0BCD-4D0E-B898-1F36AC16A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B09CD-AC5F-4D68-9EB8-635CE16D6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FB467-8DE0-47F4-A617-ECF59E083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2CDCD-25F2-4036-8789-445493F3E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1279-D298-476C-A620-E2F45B8C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BA67E-BA84-407F-AC90-604287D8E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290C0-E04C-49F1-B2C9-39DE0DB09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DCF0E-4757-4494-823D-379CC8268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28F9F-9DEB-45FE-BCC0-388E54BD9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ADF66-1009-4F34-A01C-9D362149D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B05A-4FFF-4F32-A833-6941AAAD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298B-DCC2-4D83-B5D4-7DB2AA032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59FA7-FA58-42A0-AF7A-3548C005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F22F-4826-4404-8385-CA94A682A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6974-3000-4DFB-943E-787A10BCC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1C0D-D26F-4A6F-8880-EE8EE75F5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37BF3-C7FC-4DCB-A7B7-92734A858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1AEF-CE36-4664-BCC5-AD140AFEBCD4}" type="slidenum">
              <a:rPr b="0" lang="ru-RU" sz="1000" spc="-1" strike="noStrike">
                <a:solidFill>
                  <a:srgbClr val="292929"/>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9292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929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92929"/>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929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067D-904B-4B6C-9CD1-B77682C5D95D}" type="slidenum">
              <a:rPr b="0" lang="ru-RU" sz="1000" spc="-1" strike="noStrike">
                <a:solidFill>
                  <a:srgbClr val="292929"/>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dist-cons.ru/modules/qualmanage/section2.html#1#1" TargetMode="External"/><Relationship Id="rId2" Type="http://schemas.openxmlformats.org/officeDocument/2006/relationships/hyperlink" Target="http://www.dist-cons.ru/modules/qualmanage/section2.html#2#2" TargetMode="External"/><Relationship Id="rId3" Type="http://schemas.openxmlformats.org/officeDocument/2006/relationships/hyperlink" Target="http://www.dist-cons.ru/modules/qualmanage/section2.html#3#3" TargetMode="External"/><Relationship Id="rId4" Type="http://schemas.openxmlformats.org/officeDocument/2006/relationships/hyperlink" Target="http://www.dist-cons.ru/modules/qualmanage/section2.html#4#4" TargetMode="External"/><Relationship Id="rId5" Type="http://schemas.openxmlformats.org/officeDocument/2006/relationships/hyperlink" Target="http://www.dist-cons.ru/modules/qualmanage/section2.html#5#5"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13560" y="1773360"/>
            <a:ext cx="62280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Понятие качества</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2. Объекты качества</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3. Качество и удовлетворенность потребителя </a:t>
            </a:r>
            <a:endParaRPr b="0" lang="en-US" sz="2000" spc="-1" strike="noStrike">
              <a:solidFill>
                <a:srgbClr val="292929"/>
              </a:solidFill>
              <a:latin typeface="Arial"/>
            </a:endParaRPr>
          </a:p>
        </p:txBody>
      </p:sp>
      <p:sp>
        <p:nvSpPr>
          <p:cNvPr id="92" name=""/>
          <p:cNvSpPr/>
          <p:nvPr/>
        </p:nvSpPr>
        <p:spPr>
          <a:xfrm>
            <a:off x="2208600" y="907920"/>
            <a:ext cx="460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Тема: Управление качеством</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15200" y="1628640"/>
            <a:ext cx="81374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Тема 2. Современные концепции и модели управления качеством </a:t>
            </a:r>
            <a:endParaRPr b="0" lang="en-US" sz="20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1. </a:t>
            </a:r>
            <a:r>
              <a:rPr b="0" lang="en-US" sz="2000" spc="-1" strike="noStrike" u="sng">
                <a:solidFill>
                  <a:srgbClr val="999933"/>
                </a:solidFill>
                <a:uFillTx/>
                <a:latin typeface="Arial"/>
                <a:hlinkClick r:id="rId1"/>
              </a:rPr>
              <a:t>Управление качеством в системе общего менеджмента</a:t>
            </a:r>
            <a:r>
              <a:rPr b="0" lang="en-US" sz="2000" spc="-1" strike="noStrike" u="sng">
                <a:solidFill>
                  <a:srgbClr val="292929"/>
                </a:solidFill>
                <a:uFillTx/>
                <a:latin typeface="Arial"/>
              </a:rPr>
              <a:t>. </a:t>
            </a:r>
            <a:br>
              <a:rPr sz="2000"/>
            </a:br>
            <a:r>
              <a:rPr b="0" lang="en-US" sz="2000" spc="-1" strike="noStrike" u="sng">
                <a:solidFill>
                  <a:srgbClr val="292929"/>
                </a:solidFill>
                <a:uFillTx/>
                <a:latin typeface="Arial"/>
              </a:rPr>
              <a:t>2.2. </a:t>
            </a:r>
            <a:r>
              <a:rPr b="0" lang="en-US" sz="2000" spc="-1" strike="noStrike" u="sng">
                <a:solidFill>
                  <a:srgbClr val="999933"/>
                </a:solidFill>
                <a:uFillTx/>
                <a:latin typeface="Arial"/>
                <a:hlinkClick r:id="rId2"/>
              </a:rPr>
              <a:t>Всеобщее управление качеством (TQM)</a:t>
            </a:r>
            <a:r>
              <a:rPr b="0" lang="en-US" sz="2000" spc="-1" strike="noStrike" u="sng">
                <a:solidFill>
                  <a:srgbClr val="292929"/>
                </a:solidFill>
                <a:uFillTx/>
                <a:latin typeface="Arial"/>
              </a:rPr>
              <a:t>. </a:t>
            </a:r>
            <a:br>
              <a:rPr sz="2000"/>
            </a:br>
            <a:r>
              <a:rPr b="0" lang="en-US" sz="2000" spc="-1" strike="noStrike" u="sng">
                <a:solidFill>
                  <a:srgbClr val="292929"/>
                </a:solidFill>
                <a:uFillTx/>
                <a:latin typeface="Arial"/>
              </a:rPr>
              <a:t>2.3. </a:t>
            </a:r>
            <a:r>
              <a:rPr b="0" lang="en-US" sz="2000" spc="-1" strike="noStrike" u="sng">
                <a:solidFill>
                  <a:srgbClr val="999933"/>
                </a:solidFill>
                <a:uFillTx/>
                <a:latin typeface="Arial"/>
                <a:hlinkClick r:id="rId3"/>
              </a:rPr>
              <a:t>Японские модели управления качеством</a:t>
            </a:r>
            <a:r>
              <a:rPr b="0" lang="en-US" sz="2000" spc="-1" strike="noStrike" u="sng">
                <a:solidFill>
                  <a:srgbClr val="292929"/>
                </a:solidFill>
                <a:uFillTx/>
                <a:latin typeface="Arial"/>
              </a:rPr>
              <a:t>. </a:t>
            </a:r>
            <a:br>
              <a:rPr sz="2000"/>
            </a:br>
            <a:r>
              <a:rPr b="0" lang="en-US" sz="2000" spc="-1" strike="noStrike" u="sng">
                <a:solidFill>
                  <a:srgbClr val="292929"/>
                </a:solidFill>
                <a:uFillTx/>
                <a:latin typeface="Arial"/>
              </a:rPr>
              <a:t>2.4. </a:t>
            </a:r>
            <a:r>
              <a:rPr b="0" lang="en-US" sz="2000" spc="-1" strike="noStrike" u="sng">
                <a:solidFill>
                  <a:srgbClr val="999933"/>
                </a:solidFill>
                <a:uFillTx/>
                <a:latin typeface="Arial"/>
                <a:hlinkClick r:id="rId4"/>
              </a:rPr>
              <a:t>Европейские модели управления качеством (EFQM)</a:t>
            </a:r>
            <a:r>
              <a:rPr b="0" lang="en-US" sz="2000" spc="-1" strike="noStrike" u="sng">
                <a:solidFill>
                  <a:srgbClr val="292929"/>
                </a:solidFill>
                <a:uFillTx/>
                <a:latin typeface="Arial"/>
              </a:rPr>
              <a:t>. </a:t>
            </a:r>
            <a:br>
              <a:rPr sz="2000"/>
            </a:br>
            <a:r>
              <a:rPr b="0" lang="en-US" sz="2000" spc="-1" strike="noStrike" u="sng">
                <a:solidFill>
                  <a:srgbClr val="292929"/>
                </a:solidFill>
                <a:uFillTx/>
                <a:latin typeface="Arial"/>
              </a:rPr>
              <a:t>2.5. </a:t>
            </a:r>
            <a:r>
              <a:rPr b="0" lang="en-US" sz="2000" spc="-1" strike="noStrike" u="sng">
                <a:solidFill>
                  <a:srgbClr val="999933"/>
                </a:solidFill>
                <a:uFillTx/>
                <a:latin typeface="Arial"/>
                <a:hlinkClick r:id="rId5"/>
              </a:rPr>
              <a:t>Российский опыт управления качеством</a:t>
            </a:r>
            <a:r>
              <a:rPr b="0" lang="en-US" sz="2000" spc="-1" strike="noStrike" u="sng">
                <a:solidFill>
                  <a:srgbClr val="292929"/>
                </a:solidFill>
                <a:uFillTx/>
                <a:latin typeface="Arial"/>
              </a:rPr>
              <a:t>.</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1322640"/>
            <a:ext cx="7704000" cy="314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	</a:t>
            </a:r>
            <a:r>
              <a:rPr b="0" lang="ru-RU" sz="2000" spc="-1" strike="noStrike">
                <a:solidFill>
                  <a:srgbClr val="292929"/>
                </a:solidFill>
                <a:latin typeface="Arial"/>
                <a:ea typeface="Times New Roman"/>
              </a:rPr>
              <a:t>Модель Всеобщего контроля качества (Total Quality Control) была предложена Армандом Фейгенбаумом в начале 50х годов</a:t>
            </a:r>
            <a:r>
              <a:rPr b="0" lang="ru-RU" sz="2000" spc="-1" strike="noStrike">
                <a:solidFill>
                  <a:srgbClr val="292929"/>
                </a:solidFill>
                <a:latin typeface="Arial"/>
              </a:rPr>
              <a:t> 20 века</a:t>
            </a:r>
            <a:r>
              <a:rPr b="0" lang="ru-RU" sz="2000" spc="-1" strike="noStrike">
                <a:solidFill>
                  <a:srgbClr val="292929"/>
                </a:solidFill>
                <a:latin typeface="Arial"/>
                <a:ea typeface="Times New Roman"/>
              </a:rPr>
              <a:t>. </a:t>
            </a:r>
            <a:endParaRPr b="0" lang="en-US" sz="20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	</a:t>
            </a:r>
            <a:r>
              <a:rPr b="0" lang="ru-RU" sz="2000" spc="-1" strike="noStrike">
                <a:solidFill>
                  <a:srgbClr val="292929"/>
                </a:solidFill>
                <a:latin typeface="Arial"/>
                <a:ea typeface="Times New Roman"/>
              </a:rPr>
              <a:t>Под Всеобщим контролем качества Фейгенбаум понимал такую систему, которая позволяла решать проблему качества продукции, и ее цены в зависимости от выгоды потребителей, производителей и дистрибьютеров. Фейгенбаум предложил рассматривать качество не как конечный результат производства изделия, а на каждом этапе его создания.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s1" descr=""/>
          <p:cNvPicPr/>
          <p:nvPr/>
        </p:nvPicPr>
        <p:blipFill>
          <a:blip r:embed="rId1"/>
          <a:stretch/>
        </p:blipFill>
        <p:spPr>
          <a:xfrm>
            <a:off x="1084320" y="765000"/>
            <a:ext cx="4782960" cy="4896000"/>
          </a:xfrm>
          <a:prstGeom prst="rect">
            <a:avLst/>
          </a:prstGeom>
          <a:ln w="0">
            <a:noFill/>
          </a:ln>
        </p:spPr>
      </p:pic>
      <p:sp>
        <p:nvSpPr>
          <p:cNvPr id="105" name=""/>
          <p:cNvSpPr/>
          <p:nvPr/>
        </p:nvSpPr>
        <p:spPr>
          <a:xfrm>
            <a:off x="684360" y="5884200"/>
            <a:ext cx="784836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Созданная Фейгенбаумом система Всеобщего контроля качества была внедрена в практику работы японских предприятий Э. Демингом.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4360" y="2922840"/>
            <a:ext cx="763272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Благодаря человеку-легенде Эдварду У. Демингу (W. Edwards Deming), одному из создателей «японского экономического чуда», теория управления качеством получила свое дальнейшее развитие. Считается, что именно деятельность Деминга во многом способствовала появлению высококачественных и недорогих японских товаров. </a:t>
            </a:r>
            <a:endParaRPr b="0" lang="en-US" sz="2000" spc="-1" strike="noStrike">
              <a:solidFill>
                <a:srgbClr val="292929"/>
              </a:solidFill>
              <a:latin typeface="Arial"/>
            </a:endParaRPr>
          </a:p>
        </p:txBody>
      </p:sp>
      <p:sp>
        <p:nvSpPr>
          <p:cNvPr id="107" name=""/>
          <p:cNvSpPr/>
          <p:nvPr/>
        </p:nvSpPr>
        <p:spPr>
          <a:xfrm>
            <a:off x="1042920" y="1627560"/>
            <a:ext cx="755964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92929"/>
                </a:solidFill>
                <a:latin typeface="Arial"/>
              </a:rPr>
              <a:t>Какова роль Деминга в формировании современной системы управления качеством?</a:t>
            </a:r>
            <a:r>
              <a:rPr b="0" lang="ru-RU"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55640" y="1629720"/>
            <a:ext cx="7488360" cy="36601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92929"/>
                </a:solidFill>
                <a:latin typeface="Arial"/>
              </a:rPr>
              <a:t>14 принципов совершенствования качества: </a:t>
            </a:r>
            <a:endParaRPr b="0" lang="en-US" sz="1800" spc="-1" strike="noStrike">
              <a:solidFill>
                <a:srgbClr val="292929"/>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блюдайте постоянство целей.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имите новую философию: откажитесь от низкого качества во всем.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ткажитесь от повсеместного контроля.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ткажитесь от партнерства, основанного только на цене продукции; установите долгосрочные партнерские отношения; уменьшите количество поставщиков.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остоянно совершенствуйте систему производства и обслуживания.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актикуйте в организации наставничество и обучение.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1268280"/>
            <a:ext cx="691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недрите современные методы руководства: функции управления должны смещаться от контроля количественных показателей к качественным.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Устраните страх: способствуйте тому, чтобы сотрудники высказывались открыто.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Устраните барьеры между подразделениями и сотрудниками организации.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ткажитесь от лозунгов, транспарантов и наставлений для рабочих.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ткажитесь от количественных оценок работы.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оддерживайте чувство профессиональной гордости в сотрудниках.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недрите в организации систему образования и самосовершенствования сотрудников.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Добейтесь приверженности руководства организации идее качества.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42920" y="1106640"/>
            <a:ext cx="691380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В то время как Деминг основное внимание сосредоточил на улучшении качества применительно в первую очередь к процессам и системам, Джозеф М. Джуран выделил необходимость для каждого менеджера индивидуальной деятельности, приводящей к повышению качества. </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Джуран является сторонником подхода, который предусматривает вовлеченность персонала в процедуры, обеспечивающие высокое качество. </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Этот подход содержит 10 составляющих повышения качества: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776520"/>
            <a:ext cx="72010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Формирование осознания потребности в качественной работе и создание возможностей для улучшения качества.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Установление целей для постоянного совершенствования деятельности.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здание организации, способной эффективно работать над достижением целей, сформировав команды и выбрав координаторов.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едоставление возможности обучения всем сотрудникам организации.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ыполнение проектов, для решения проблем.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Информирование сотрудников организации о достигнутых успехах.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ыражение признания сотрудникам, внесшим наибольший вклад в улучшение качества.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Информирование о  постоянно функционирующие в организации. результатах.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Регистрация достижений.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недрение и закрепление достижений, которых удалось добиться за год, в системы и процессы,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461600"/>
            <a:ext cx="712944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бственный план, состоящий из 14 компонентов совершенствования качества, был предложен и Филиппом Б. Кросби: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Четкое определение приверженности руководства организации идее качества.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Использование командной работы для улучшения качества, для привлечения и информирования о качестве всех членов организации.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ценка качества и определение текущих и потенциальных проблем с качеством.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пределение стоимости качества.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пределение стоимости некачественной работы и доведение этой информации до подчиненных.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рректировка действий.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403280" y="1341360"/>
            <a:ext cx="6985080" cy="475740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здание специального комитета по работе с программой «нулевого брака».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бучение специалистов, которые будут внедрять программу «нулевого брака».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оведение «Дня нулевого брака» для объяснения программы и отношение организации к проблеме качества.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Мотивация персонала к установлению целей, подразумевающих улучшение качества.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тимулирование подчиненных к сообщению о проблемах, не позволяющих им работать без брака.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бщественное признание тех, кто достигает поставленных целей и отлично выполняет работу.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рганизация Советов качества, состоящих из профессионалов и руководителей коллективов, которые будут регулярно общаться друг с другом. </a:t>
            </a:r>
            <a:endParaRPr b="0" lang="en-US" sz="1800" spc="-1" strike="noStrike">
              <a:solidFill>
                <a:srgbClr val="292929"/>
              </a:solidFill>
              <a:latin typeface="Arial"/>
            </a:endParaRPr>
          </a:p>
          <a:p>
            <a:pPr marL="343080" indent="-343080" algn="ctr">
              <a:buClr>
                <a:srgbClr val="29292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Неоднократное повторение пунктов 1—13, так как процесс совершенствования качества бесконечен.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26920" y="911160"/>
            <a:ext cx="7417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Что мы понимаем под качеством?</a:t>
            </a:r>
            <a:r>
              <a:rPr b="0" lang="en-US"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ачество — понятие субъективное.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 быту понятие «качество» часто используется для обозначения соответствия продукции или услуг определенным требованиям. В современном менеджменте в понятие «качество» должны быть включены истинные запросы потребителя — текущие и перспективные.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и этом нужно понимать, что одно из наиболее распространенных определений качества как «удовлетворение потребностей покупателя» не ограничивается функциональными характеристиками продукта или услуги.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42920" y="1323000"/>
            <a:ext cx="712944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7 факторов Всеобщего качества: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риентация на потребителя.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риентация на процесс и его результаты.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Управление участием в работе и ответственностью.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Непрерывное совершенствование.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облемы, зависящие от работников, должны составлять не более 20 %.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оведение измерений.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мандная организация работ по улучшению качества (постоянно действующие сквозные функциональные Советы).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554840"/>
            <a:ext cx="705672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29"/>
                </a:solidFill>
                <a:latin typeface="Arial"/>
              </a:rPr>
              <a:t>	</a:t>
            </a:r>
            <a:r>
              <a:rPr b="0" lang="ru-RU" sz="2400" spc="-1" strike="noStrike">
                <a:solidFill>
                  <a:srgbClr val="292929"/>
                </a:solidFill>
                <a:latin typeface="Arial"/>
              </a:rPr>
              <a:t>Всеобщее управление качеством (Total Quality Management) — это философия организации, которая основана на стремлении к качеству и практике управления, приводящей к всеобщему качеству. </a:t>
            </a:r>
            <a:endParaRPr b="0" lang="en-US" sz="2400" spc="-1" strike="noStrike">
              <a:solidFill>
                <a:srgbClr val="29292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2929"/>
                </a:solidFill>
                <a:latin typeface="Arial"/>
              </a:rPr>
              <a:t>	</a:t>
            </a:r>
            <a:r>
              <a:rPr b="0" lang="ru-RU" sz="2400" spc="-1" strike="noStrike">
                <a:solidFill>
                  <a:srgbClr val="292929"/>
                </a:solidFill>
                <a:latin typeface="Arial"/>
              </a:rPr>
              <a:t>Таким образом, качество — это не то, что Вам приходится отслеживать или добавлять на каком-то этапе производственного процесса, это сама сущность организации.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22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17" name="s2" descr=""/>
          <p:cNvPicPr/>
          <p:nvPr/>
        </p:nvPicPr>
        <p:blipFill>
          <a:blip r:embed="rId1"/>
          <a:stretch/>
        </p:blipFill>
        <p:spPr>
          <a:xfrm>
            <a:off x="684360" y="765000"/>
            <a:ext cx="7632720" cy="5040360"/>
          </a:xfrm>
          <a:prstGeom prst="rect">
            <a:avLst/>
          </a:prstGeom>
          <a:ln w="0">
            <a:noFill/>
          </a:ln>
        </p:spPr>
      </p:pic>
      <p:sp>
        <p:nvSpPr>
          <p:cNvPr id="118" name=""/>
          <p:cNvSpPr/>
          <p:nvPr/>
        </p:nvSpPr>
        <p:spPr>
          <a:xfrm>
            <a:off x="2196720" y="188280"/>
            <a:ext cx="47361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292929"/>
                </a:solidFill>
                <a:latin typeface="Arial"/>
              </a:rPr>
              <a:t>Элементы современной модели TQM?</a:t>
            </a:r>
            <a:r>
              <a:rPr b="1"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1414080"/>
            <a:ext cx="770436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Управление качеством — это динамично развивающаяся концепция. На сегодня существует несколько основных «школ» ТQМ (японская, американская, европейская). Возможно, поэтому в среде специалистов нет единого мнения о количестве принципов, на которых базируется ТQМ. Основными же признаны следующие восемь: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риентация организации на потребителя.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Роль руководства.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овлечение сотрудников.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оцессный подход.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истемный подход к управлению.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остоянное совершенствование.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инятие решений, основанное на фактах.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заимовыгодные отношения с поставщиками.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1326960"/>
            <a:ext cx="691200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92929"/>
                </a:solidFill>
                <a:latin typeface="Arial"/>
              </a:rPr>
              <a:t>Какие проблемы при внедрении TQM у нас могут возникyть?</a:t>
            </a:r>
            <a:r>
              <a:rPr b="0" lang="ru-RU"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С чего же сегодня российская организация должна начинать внедрение в свою деятельность методологии ТQМ? Во-первых, необходимо взять за основу стандарты ИСО- 9000. Во-вторых, создать и затем совершенствовать систему управления качества, используя методы ТQМ. В-третьих, систематически проводить самооценку в целях сокращения отставания от лидеров — победителей конкурса на премию по качеству. При этом в качестве оценочных показателей можно использовать критерии премии по качеству.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Основные проблемы при внедрении концепции «Всеобщего управления качеством» обычно возникают в сфере управления персоналом. Любая организация, решившая заняться совершенствованием качества, сталкивается, как минимум, с четырьмя препятствиями: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835280" y="0"/>
            <a:ext cx="617364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противление персонала нововведениям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граниченное понимание менеджерами разных уровней взаимосвязи качества продукции с эффективностью деятельности организации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одход к новомодной кампании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идание совершенствованию качества статуса не управленческого, а  совершенствованию качества как к разовому мероприятию или очередной статистического мероприятия.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недрение процедур уделить менеджерам среднего звена, их квалификации повышения качества зачастую требует коренного изменения корпоративной культуры. Особое внимание при этом необходимо и приверженности концепции ТQМ. Именно от этого управленческого уровня зависит, удастся или нет вовлечь рядовых сотрудников организации в процессы всестороннего совершенствования производства и контроля качества, внедрить в сознание рядовых работников понимание обратной связи между уровнем качества и уровнем затрат.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87280" y="2011680"/>
            <a:ext cx="7272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сновные подходы к управлению качеством в японских моделях сводятся к следующим моментам: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Узнать запросы потребителей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Узнать, что будут покупать потребители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пределить затраты, необходимые для достижения качества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редупредить возможные дефекты и претензии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редусмотреть корректирующие воздействие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Исключить необходимость проверки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87280" y="1633680"/>
            <a:ext cx="7490160" cy="31431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a:t>
            </a:r>
            <a:r>
              <a:rPr b="0" lang="en-US" sz="2000" spc="-1" strike="noStrike">
                <a:solidFill>
                  <a:srgbClr val="292929"/>
                </a:solidFill>
                <a:latin typeface="Arial"/>
              </a:rPr>
              <a:t> 1967 г на 7-м Симпозиуме по управлению качеством были названы 6 особенностей японской модели управления качеством: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Участие всех звеньев в управлении качеством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одготовка кадров и обучение методам качества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Деятельность кружков качества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Инспектирование деятельности по управлению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Использование статистических методов </a:t>
            </a:r>
            <a:endParaRPr b="0" lang="en-US" sz="20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бщенациональные программы по управлению качеством</a:t>
            </a:r>
            <a:r>
              <a:rPr b="0" lang="en-US"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58920" y="2149920"/>
            <a:ext cx="69850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Что мешает внедрению методов управления качеством в практику работы с точки зрения японских специалистов?</a:t>
            </a:r>
            <a:r>
              <a:rPr b="0" lang="en-US" sz="1800" spc="-1" strike="noStrike">
                <a:solidFill>
                  <a:srgbClr val="292929"/>
                </a:solidFill>
                <a:latin typeface="Arial"/>
              </a:rPr>
              <a:t>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ассивные руководители высшего звена, их желание уйти от ответственности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Те, кто считает, что самыми простыми путями достижения целей являются такие, которые хорошо им известны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Те, кто не желает выслушивать мнения других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Те, кто продолжает жить в феодальном прошлом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55640" y="1325520"/>
            <a:ext cx="734544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 Японии были разработаны и применены свои инструменты управления качеством.</a:t>
            </a:r>
            <a:endParaRPr b="0" lang="en-US" sz="1800" spc="-1" strike="noStrike">
              <a:solidFill>
                <a:srgbClr val="292929"/>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Сегодня всем хорошо известны эти «семь инструментов»: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овлечение в процесс обеспечения качества каждого сотрудника фирмы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Использование статистических методов контроля над качеством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здание системы мотивации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оощрение обучения, повышения квалификации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рганизация кружков качества, поддерживающих низшую иерархическую ступень управления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оздание команд (временных коллективов) из специалистов, заинтересованных в решении конкретной проблемы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евращение проблемы обеспечения качества в общенациональную задачу.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55640" y="2163960"/>
            <a:ext cx="838836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сновными составляющими качества, на которые производитель должен обращать внимание являются: </a:t>
            </a:r>
            <a:endParaRPr b="0" lang="en-US" sz="2000" spc="-1" strike="noStrike">
              <a:solidFill>
                <a:srgbClr val="292929"/>
              </a:solidFill>
              <a:latin typeface="Arial"/>
            </a:endParaRPr>
          </a:p>
          <a:p>
            <a:pPr algn="ctr">
              <a:buClr>
                <a:srgbClr val="292929"/>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пределение потребностей рынка (качество выбора Вашего потребителя) </a:t>
            </a:r>
            <a:endParaRPr b="0" lang="en-US" sz="2000" spc="-1" strike="noStrike">
              <a:solidFill>
                <a:srgbClr val="292929"/>
              </a:solidFill>
              <a:latin typeface="Arial"/>
            </a:endParaRPr>
          </a:p>
          <a:p>
            <a:pPr algn="ctr">
              <a:buClr>
                <a:srgbClr val="292929"/>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Качество проектирования продукта </a:t>
            </a:r>
            <a:endParaRPr b="0" lang="en-US" sz="2000" spc="-1" strike="noStrike">
              <a:solidFill>
                <a:srgbClr val="292929"/>
              </a:solidFill>
              <a:latin typeface="Arial"/>
            </a:endParaRPr>
          </a:p>
          <a:p>
            <a:pPr algn="ctr">
              <a:buClr>
                <a:srgbClr val="292929"/>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Качество процесса производства </a:t>
            </a:r>
            <a:endParaRPr b="0" lang="en-US" sz="2000" spc="-1" strike="noStrike">
              <a:solidFill>
                <a:srgbClr val="292929"/>
              </a:solidFill>
              <a:latin typeface="Arial"/>
            </a:endParaRPr>
          </a:p>
          <a:p>
            <a:pPr algn="ctr">
              <a:buClr>
                <a:srgbClr val="292929"/>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Соответствие качества конечной продукции проекту </a:t>
            </a:r>
            <a:endParaRPr b="0" lang="en-US" sz="2000" spc="-1" strike="noStrike">
              <a:solidFill>
                <a:srgbClr val="292929"/>
              </a:solidFill>
              <a:latin typeface="Arial"/>
            </a:endParaRPr>
          </a:p>
          <a:p>
            <a:pPr algn="ctr">
              <a:buClr>
                <a:srgbClr val="292929"/>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Качество послепродажного обслуживания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27" name="s3" descr=""/>
          <p:cNvPicPr/>
          <p:nvPr/>
        </p:nvPicPr>
        <p:blipFill>
          <a:blip r:embed="rId1"/>
          <a:stretch/>
        </p:blipFill>
        <p:spPr>
          <a:xfrm>
            <a:off x="611280" y="2421000"/>
            <a:ext cx="7848360" cy="3384360"/>
          </a:xfrm>
          <a:prstGeom prst="rect">
            <a:avLst/>
          </a:prstGeom>
          <a:ln w="0">
            <a:noFill/>
          </a:ln>
        </p:spPr>
      </p:pic>
      <p:sp>
        <p:nvSpPr>
          <p:cNvPr id="128" name=""/>
          <p:cNvSpPr/>
          <p:nvPr/>
        </p:nvSpPr>
        <p:spPr>
          <a:xfrm>
            <a:off x="971640" y="549360"/>
            <a:ext cx="727236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 японских системах управления качеством впервые была использована четырехуровневая иерархия качества, в которой угадывается основной принцип будущей концепции ТQМ — ориентации на удовлетворение текущих и потенциальных запросов потребителей. Эта структура выглядела следующим образом: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9800" y="2697120"/>
            <a:ext cx="8925840" cy="1465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92929"/>
                </a:solidFill>
                <a:latin typeface="Arial"/>
              </a:rPr>
              <a:t>Какие японские модели управления качеством наиболее известны?</a:t>
            </a:r>
            <a:r>
              <a:rPr b="1" lang="ru-RU" sz="1800" spc="-1" strike="noStrike">
                <a:solidFill>
                  <a:srgbClr val="292929"/>
                </a:solidFill>
                <a:latin typeface="Arial"/>
              </a:rPr>
              <a:t>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КРУЖКИ КАЧЕСТВА (Quality Сircle)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Программа «ПЯТИ НУЛЕЙ»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Система</a:t>
            </a:r>
            <a:r>
              <a:rPr b="1" lang="en-US" sz="1800" spc="-1" strike="noStrike">
                <a:solidFill>
                  <a:srgbClr val="292929"/>
                </a:solidFill>
                <a:latin typeface="Arial"/>
              </a:rPr>
              <a:t> JIT (Just-In-Time) </a:t>
            </a:r>
            <a:endParaRPr b="0" lang="en-US" sz="1800" spc="-1" strike="noStrike">
              <a:solidFill>
                <a:srgbClr val="292929"/>
              </a:solidFill>
              <a:latin typeface="Arial"/>
            </a:endParaRPr>
          </a:p>
          <a:p>
            <a:pPr marL="343080" indent="-343080" algn="ctr">
              <a:buClr>
                <a:srgbClr val="292929"/>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Система КАНБАН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31" name="s4" descr=""/>
          <p:cNvPicPr/>
          <p:nvPr/>
        </p:nvPicPr>
        <p:blipFill>
          <a:blip r:embed="rId1"/>
          <a:stretch/>
        </p:blipFill>
        <p:spPr>
          <a:xfrm>
            <a:off x="539640" y="1773360"/>
            <a:ext cx="7777440" cy="4065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755640" y="1463040"/>
            <a:ext cx="74167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Европейские подходы к управлению качеством.</a:t>
            </a:r>
            <a:r>
              <a:rPr b="0" lang="ru-RU"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Каждая компания по-своему уникальна. Методика, предложенная Европейским фондом управления качеством (European Foundation for Quality Management), предлагает структурированное множество критериев управления качеством, которые могут эффективно применяться для совершенствования деятельности любой компании или ее подразделения.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92929"/>
                </a:solidFill>
                <a:latin typeface="Arial"/>
              </a:rPr>
              <a:t>Какие основные цели и задачи ставит перед собой EFQM?</a:t>
            </a:r>
            <a:r>
              <a:rPr b="0" lang="ru-RU"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Методика ЕFQМ используется при проведении конкурса на присуждение Европейской Премии Качества и преследует следующие цели: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удовлетворение потребностей клиентов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удовлетворение интересов персонала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влияние на общество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96480" y="2011680"/>
            <a:ext cx="7154280" cy="2838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Модель EFQM базируется на следующих положениях</a:t>
            </a:r>
            <a:r>
              <a:rPr b="0" lang="en-US" sz="2000" spc="-1" strike="noStrike">
                <a:solidFill>
                  <a:srgbClr val="292929"/>
                </a:solidFill>
                <a:latin typeface="Arial"/>
              </a:rPr>
              <a:t>: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В центре внимания — клиент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Сотрудничество с поставщиками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овышение квалификации и участия персонала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роцессы и факты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Непрерывное совершенствование и новаторство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Руководство и последовательность в достижении целей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Взаимная ответственность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Распределение результатов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26920" y="1706760"/>
            <a:ext cx="720108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Какие инструменты используются для реализации этих положений?</a:t>
            </a:r>
            <a:r>
              <a:rPr b="0" lang="en-US" sz="2000" spc="-1" strike="noStrike">
                <a:solidFill>
                  <a:srgbClr val="292929"/>
                </a:solidFill>
                <a:latin typeface="Arial"/>
              </a:rPr>
              <a:t> </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Реализация перечисленных положений достигаются посредством эффективного Руководства, осуществляемого в отношении Политики и Стратегии, Кадровой Политики, Ресурсов и Процессов, и приводящего в конечном счете к Достижению Результатов. Каждый из девяти элементов, лежащих в основе модели ЕFQМ, представляет собой критерий, который можно использовать для оценивания прогресса, достигнутого компанией на пути развития бизнеса.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292929"/>
              </a:solidFill>
              <a:latin typeface="Arial"/>
            </a:endParaRPr>
          </a:p>
        </p:txBody>
      </p:sp>
      <p:pic>
        <p:nvPicPr>
          <p:cNvPr id="136" name="s5" descr=""/>
          <p:cNvPicPr/>
          <p:nvPr/>
        </p:nvPicPr>
        <p:blipFill>
          <a:blip r:embed="rId1"/>
          <a:stretch/>
        </p:blipFill>
        <p:spPr>
          <a:xfrm>
            <a:off x="468360" y="836640"/>
            <a:ext cx="8064360" cy="554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16000" y="2012040"/>
            <a:ext cx="70563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a:t>
            </a:r>
            <a:r>
              <a:rPr b="1" lang="en-US" sz="1800" spc="-1" strike="noStrike">
                <a:solidFill>
                  <a:srgbClr val="292929"/>
                </a:solidFill>
                <a:latin typeface="Arial"/>
              </a:rPr>
              <a:t>Российский опыт управления качеством.</a:t>
            </a:r>
            <a:r>
              <a:rPr b="0" lang="en-US"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Какие концепции повышения качества существовали в нашей стране?</a:t>
            </a:r>
            <a:r>
              <a:rPr b="0" lang="en-US" sz="1800" spc="-1" strike="noStrike">
                <a:solidFill>
                  <a:srgbClr val="292929"/>
                </a:solidFill>
                <a:latin typeface="Arial"/>
              </a:rPr>
              <a:t>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нцепция БИП (Бездефектного Изготовления Продукции)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нцепция КАНАРСПИ (Качество, Надежность, Ресурс с Первых Изделий)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нцепция НОРМ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нцепция КСУКП (Комплексная система управления качеством продукции)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55640" y="1325520"/>
            <a:ext cx="756144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Что такое БИП?</a:t>
            </a:r>
            <a:r>
              <a:rPr b="0" lang="en-US"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БИП — это концепция бездефектной работы, которая нашла свое отражение в Саратовской системе бездефектного изготовления продукции, внедрённой на предприятиях Саратовской области в 1955 г.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В основу этой системы был положен механизм активизации участников производственного процесса, стимулирующий их к выявлению и устранению не дефектов продукции, а их причин. После повторного предъявления продукции рабочий лишался премии.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Неотвратимость наказания заставляла рабочего строже соблюдать технологическую дисциплину и предъявлять претензии мастеру, инструментальной службе, службе главного механика, если причиной дефекта были некачественные материалы, инструмент или оборудование.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55640" y="1461600"/>
            <a:ext cx="727236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истема КАНАРСПИ была внедрена на Горьковском авиационном заводе. Признанная лучшей в стране, система базировалась на следующих принципах: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универсальность (возможность использования в других отраслях промышленности)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мплексное обеспечение качества продукции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оведение исследований, направленных на повышение качества продукции и развитие опытно-конструкторских служб предприятия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организация всестороннего учета качества выпускаемой продукции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концентрация внимания на качестве продукции на стадии ее разработки </a:t>
            </a:r>
            <a:endParaRPr b="0" lang="en-US" sz="18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ивлечение к совершенствованию продукции потребителей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00000" y="571320"/>
            <a:ext cx="7272360" cy="5582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омимо вышеперечисленных составляющих качества для правильного понимания проблем качества необходимо учитывать следующие положения: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качество должно быть ориентировано на потребителя;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беспечение качества — не только техническая функция, реализуемая каким-то одним подразделением, а систематический процесс, пронизывающий всю организационную структуру компании;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вопросы качества актуальны не только в рамках производственного процесса, но и в сфере разработки продукции, маркетинга, послепродажного обслуживания и т.п.;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овышение качества продукции неразрывно связано с обновлением технологии;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бщее повышение качества достигается только с помощью экономически заинтересованного участия всех, кто задействован в создании продукции или услуги.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Как можно измерить качество?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71640" y="1706760"/>
            <a:ext cx="7416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В середине 1960-х гг. на Ярославском моторном заводе «Автодизель» была внедрена система НОРМ, в которой за критерий качества был принят один из важнейших технических параметров — ресурс до первого капитального ремонта. </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Особое внимание уделялось разработке конструкции и технологии, обеспечивающих повышение технического уровня и качества двигателя. В системе НОРМ были использованы и развиты основные элементы Саратовской и Горьковской систем управления качеством выпускаемой продукции</a:t>
            </a:r>
            <a:r>
              <a:rPr b="0" lang="ru-RU"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71640" y="1555920"/>
            <a:ext cx="734544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В чем заключалась специфика Российского опыта управления качеством?</a:t>
            </a:r>
            <a:r>
              <a:rPr b="0" lang="en-US" sz="2000" spc="-1" strike="noStrike">
                <a:solidFill>
                  <a:srgbClr val="292929"/>
                </a:solidFill>
                <a:latin typeface="Arial"/>
              </a:rPr>
              <a:t> </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Специфика управления качеством в России заключалась в том, что эффективные системы управления качеством создавались на предприятиях военно-промышленного комплекса (ВПК). Именно в ВПК были распространены методы обеспечения качества на стадиях исследования и проектирования новой продукции, статистический контроль качества с применением контрольных карт, специальные стандарты. В недрах ВПК родились КСУКП (комплексные системы управления качеством продукции, в том числе автоматизированные).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26920" y="912960"/>
            <a:ext cx="72741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А какие недостатки были у отечественных систем управления качеством?</a:t>
            </a:r>
            <a:r>
              <a:rPr b="0" lang="en-US" sz="1800" spc="-1" strike="noStrike">
                <a:solidFill>
                  <a:srgbClr val="292929"/>
                </a:solidFill>
                <a:latin typeface="Arial"/>
              </a:rPr>
              <a:t>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рактика использования в советской промышленности комплексных систем управления качеством выявила их многочисленные недостатки, которые не позволяли изготавливать конкурентоспособную продукцию. К числу таких недостатков следует отнести: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слабое методическое руководство со стороны отраслевых и головных организаций по стандартизации и управлению качеством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пассивность руководителей предприятий в вопросах создания и совершенствования систем управления качеством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формальное отношение к организации систем управления качеством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недооценку роли обучения персонала методам управления качеством </a:t>
            </a:r>
            <a:endParaRPr b="0" lang="en-US" sz="18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работу по управлению качеством возглавляли отделы технического контроля,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71640" y="1324080"/>
            <a:ext cx="73454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а не первые руководители предприятия, что создавало противоречия между руководителями и ОТК при работе «на план» и «за качество»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недостаточность стимулирования производства высококачественной продукции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недостаточный уровень материально-технического, технологического и метрологического обеспечения производства </a:t>
            </a:r>
            <a:endParaRPr b="0" lang="en-US" sz="18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Главным же недостатком российских систем управления качеством следует считать то, что они не были ориентированы на потребителя.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830960" y="892800"/>
            <a:ext cx="60742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Что такое «объект» в управлении качеством?</a:t>
            </a:r>
            <a:r>
              <a:rPr b="0" lang="en-US" sz="2000" spc="-1" strike="noStrike">
                <a:solidFill>
                  <a:srgbClr val="292929"/>
                </a:solidFill>
                <a:latin typeface="Arial"/>
              </a:rPr>
              <a:t> </a:t>
            </a:r>
            <a:endParaRPr b="0" lang="en-US" sz="2000" spc="-1" strike="noStrike">
              <a:solidFill>
                <a:srgbClr val="292929"/>
              </a:solidFill>
              <a:latin typeface="Arial"/>
            </a:endParaRPr>
          </a:p>
        </p:txBody>
      </p:sp>
      <p:sp>
        <p:nvSpPr>
          <p:cNvPr id="97" name=""/>
          <p:cNvSpPr/>
          <p:nvPr/>
        </p:nvSpPr>
        <p:spPr>
          <a:xfrm>
            <a:off x="611280" y="2411640"/>
            <a:ext cx="7848360" cy="2838240"/>
          </a:xfrm>
          <a:prstGeom prst="rect">
            <a:avLst/>
          </a:prstGeom>
          <a:noFill/>
          <a:ln w="0">
            <a:noFill/>
          </a:ln>
        </p:spPr>
        <p:style>
          <a:lnRef idx="0"/>
          <a:fillRef idx="0"/>
          <a:effectRef idx="0"/>
          <a:fontRef idx="minor"/>
        </p:style>
        <p:txBody>
          <a:bodyPr lIns="90000" rIns="90000" tIns="46800" bIns="46800" anchor="ctr">
            <a:spAutoFit/>
          </a:bodyPr>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деятельность или процесс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продукция (результат деятельности или процессов), которая, в свою очередь, может быть материальной (как, например, приобретенная Вами вещь в виде материального продукта, который мы в дальнейшем иногда будем называть изделием), или нематериальной (например, информация или понятия), или комбинацией из них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организация, система или отдельное лицо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любая комбинация из них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1401840"/>
            <a:ext cx="741708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От чего зависит степень удовлетворенности потребителя качеством продукции или услуг?</a:t>
            </a:r>
            <a:r>
              <a:rPr b="1" lang="en-US" sz="2000" spc="-1" strike="noStrike">
                <a:solidFill>
                  <a:srgbClr val="292929"/>
                </a:solidFill>
                <a:latin typeface="Arial"/>
              </a:rPr>
              <a:t> </a:t>
            </a:r>
            <a:endParaRPr b="0" lang="en-US" sz="2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Удовлетворенность качеством предлагаемой продукции или услуг будет зависеть от того, в какой степени, по мнению потребителя, они соответствуют своему назначению. При этом к каждому конкретному виду продукции или услуг потребитель будет предъявлять свои специфические требования (надежность, безопасность, удобство, функциональность и др.). Требования потребителя к качеству продукта в общем виде можно определить как выражение определенных потребностей, которые участвуют в формировании отношений пригодности продукта для целей потребителя.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4360" y="1857600"/>
            <a:ext cx="741672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92929"/>
                </a:solidFill>
                <a:latin typeface="Arial"/>
              </a:rPr>
              <a:t>Каковы основные характеристики качества </a:t>
            </a:r>
            <a:r>
              <a:rPr b="1" i="1" lang="ru-RU" sz="2000" spc="-1" strike="noStrike" u="sng">
                <a:solidFill>
                  <a:srgbClr val="292929"/>
                </a:solidFill>
                <a:uFillTx/>
                <a:latin typeface="Arial"/>
              </a:rPr>
              <a:t>продуктов</a:t>
            </a:r>
            <a:r>
              <a:rPr b="0" i="1" lang="ru-RU" sz="2000" spc="-1" strike="noStrike">
                <a:solidFill>
                  <a:srgbClr val="292929"/>
                </a:solidFill>
                <a:latin typeface="Arial"/>
              </a:rPr>
              <a:t> с точки зрения потребител</a:t>
            </a:r>
            <a:r>
              <a:rPr b="0" lang="ru-RU" sz="2000" spc="-1" strike="noStrike">
                <a:solidFill>
                  <a:srgbClr val="292929"/>
                </a:solidFill>
                <a:latin typeface="Arial"/>
              </a:rPr>
              <a:t>я :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функциональные характеристики — соответствие изделия назначению;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надежность — количество ремонтопригодных отказов за срок службы;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долговечность (срок службы) — показатель, связанный с надежностью;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бездефектность — количество обнаруженных потребителем дефектов.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26920" y="2316600"/>
            <a:ext cx="7274160" cy="22284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Дополнительные показатели качества:  </a:t>
            </a:r>
            <a:endParaRPr b="0" lang="en-US" sz="2000" spc="-1" strike="noStrike">
              <a:solidFill>
                <a:srgbClr val="292929"/>
              </a:solidFill>
              <a:latin typeface="Arial"/>
            </a:endParaRPr>
          </a:p>
          <a:p>
            <a:pPr marL="343080" indent="-343080"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43080" indent="-343080"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безопасность </a:t>
            </a:r>
            <a:endParaRPr b="0" lang="en-US" sz="2000" spc="-1" strike="noStrike">
              <a:solidFill>
                <a:srgbClr val="292929"/>
              </a:solidFill>
              <a:latin typeface="Arial"/>
            </a:endParaRPr>
          </a:p>
          <a:p>
            <a:pPr marL="343080" indent="-343080"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эстетические свойства (дизайн) </a:t>
            </a:r>
            <a:endParaRPr b="0" lang="en-US" sz="2000" spc="-1" strike="noStrike">
              <a:solidFill>
                <a:srgbClr val="292929"/>
              </a:solidFill>
              <a:latin typeface="Arial"/>
            </a:endParaRPr>
          </a:p>
          <a:p>
            <a:pPr marL="343080" indent="-343080"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экологичность </a:t>
            </a:r>
            <a:endParaRPr b="0" lang="en-US" sz="2000" spc="-1" strike="noStrike">
              <a:solidFill>
                <a:srgbClr val="292929"/>
              </a:solidFill>
              <a:latin typeface="Arial"/>
            </a:endParaRPr>
          </a:p>
          <a:p>
            <a:pPr marL="343080" indent="-343080"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наличие дополнительных услуг — дореализационное и послереализационное обслуживание.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55640" y="738000"/>
            <a:ext cx="79567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92929"/>
                </a:solidFill>
                <a:latin typeface="Arial"/>
              </a:rPr>
              <a:t>А как потребители судят о качестве услуг?</a:t>
            </a:r>
            <a:r>
              <a:rPr b="0" lang="ru-RU" sz="2000" spc="-1" strike="noStrike">
                <a:solidFill>
                  <a:srgbClr val="292929"/>
                </a:solidFill>
                <a:latin typeface="Arial"/>
              </a:rPr>
              <a:t> </a:t>
            </a:r>
            <a:endParaRPr b="0" lang="en-US" sz="2000" spc="-1" strike="noStrike">
              <a:solidFill>
                <a:srgbClr val="29292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Основными показателями качества услуг, с точки зрения потребителя, являются: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окружающая среда — обстановка, удобства, оборудование и персонал на сервисе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надежность — совокупность исполнительности и доверия к результатам выполнения работы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психологические свойства эмпатия) — возможность нахождения контакта; вежливость; отзывчивость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коммуникабельность — способность такого общения, чтобы потребитель Вас понял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доступность — легкость установления связи с поставщиком (например, при вызове мастера на дом потребитель не должен весь день ждать его прихода) </a:t>
            </a:r>
            <a:endParaRPr b="0" lang="en-US" sz="2000" spc="-1" strike="noStrike">
              <a:solidFill>
                <a:srgbClr val="292929"/>
              </a:solidFill>
              <a:latin typeface="Arial"/>
            </a:endParaRPr>
          </a:p>
          <a:p>
            <a:pPr algn="ctr">
              <a:buClr>
                <a:srgbClr val="29292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2929"/>
                </a:solidFill>
                <a:latin typeface="Arial"/>
              </a:rPr>
              <a:t>гарантия (страховка) того, что, если произведена плохая услуга, можно получить другую, более качественную.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14:37:29Z</dcterms:created>
  <dc:creator>1</dc:creator>
  <dc:description/>
  <dc:language>en-US</dc:language>
  <cp:lastModifiedBy>ASI2</cp:lastModifiedBy>
  <dcterms:modified xsi:type="dcterms:W3CDTF">2013-08-09T18:12:13Z</dcterms:modified>
  <cp:revision>4</cp:revision>
  <dc:subject/>
  <dc:title>Слайд 1</dc:title>
</cp:coreProperties>
</file>