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8.jpeg" ContentType="image/jpeg"/>
  <Override PartName="/ppt/media/image44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6.wmf" ContentType="image/x-wmf"/>
  <Override PartName="/ppt/media/image3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11.png" ContentType="image/png"/>
  <Override PartName="/ppt/media/image9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2516-FF77-450A-8458-90857E3F1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E763-0AD9-4FA2-908B-B044EDE28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фер Н.А. СОС http://lib.prm.ru/books/os/8/conte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BE6E-8EC4-4025-B4D3-47D5B0F52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опулярны системы, поддерживающие двойную бухгалтерию (чёрную и белую), например: Фрег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масы внедрения: внедряют отдельный модул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– базовый кадровый или бухучёт), а рапортуют «у на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ее было бы в этом случае обойтись системой 1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AP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я предприятий числен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On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о 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елов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ByDesign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100 до 500 человек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in-One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500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тать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е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сех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sp.ru/cw/2007/37/439428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SAP для предприятий среднего и малого бизнес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p.com/cis/solutions/smb/index.e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AP Business 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usinessone.ru/hom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acle лицом к SM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one.ru/scripts/events.asp?ID=20178&amp;Sort=&amp;Page=&amp;Choice=&amp;day=200608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/04/0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виняе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винут иск с обвинениями в «краже корпоративной собственности»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sp.ru/cw/2007/13/410389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/03/2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роста (Качественные изменения в отношении к ИТ внутри укрупняющихся компаний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sp.ru/cw/2007/12/409802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/03/20 Каждому – св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(Microsof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ирует свой пакет бизнес-приложений под вертикальные рынки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sp.ru/cw/2007/09/406919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097-F91C-4EC5-879E-DFC026C16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сточни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 ИС #04/2007 Решает ли открытый код проблемы ERP? http://www.osp.ru/cio/2007/04/415196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, стать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ERP/CRM системы Compiere http://www.bi-grouplabs.ru/Compiere/technology/archite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pen Source ERP/CRM - система Compiere: внедрение, настройка, консультирование, техподдержка ERP http://www.zarealye.ru/index.php/ru/content/view/full/3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6C52-1A6B-4069-B007-7C367BD19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u.wikipedia.org/wiki/SAPhttp://ru.wikipedia.org/wiki/S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EC9-0A6E-44F7-9C99-623685F5B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rp-online.ru/s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, SAP R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rcb.ru/kpk.html?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021-1FF1-409F-9F28-A87A79CB8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сточник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xpert-sibir.ru/journal/read/159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02C-37C7-44C5-A030-456B0D547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исная систе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BASI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возможность работы в многоуровневой распределенной архитектуре клиент-сервер. Система SAP R/3 функционирует на серверах UNIX, AS/400, Windows NT, S/390 и с различными СУБД (Informix, Oracle, Microsoft SQL Server, DB2). Пользователи могут работать в среде Windows, OSF/Motif, OS/2 или Macinto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ы только основные функции системы SAP R/3 и не упомянуты обширные возможности работы в Internet/intranet, доступ внешних систем к логике SAP R/3 через интерфейсы BAPI (Business Application Programming Interface)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компании выбираю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for Wholesale Distribut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news.ru/news/line/index.shtml?2008/12/03/3303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72B-508F-40E3-8D74-20B0C42B3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395-985A-4EB7-B836-6534F028B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внедрения – самые сложные! Как правило, сопровождаются реинжинирингом бизнес-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рипк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тр.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4AC9-BFA2-43E6-86CB-7CF6F7CA1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C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упнейший центр разработ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Евро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 на базе аналогичной структуры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ion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ion, Axapta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ённой в 2002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900 сотрудников (200 разработчиков, 600 инжен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40 национа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/08/1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датском дом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семейство программных продуктов, предназначенных для автоматизации бизнеса, Microsoft развивает на их исторической род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sp.ru/cw/2007/29/430465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avisionfreak.blogspot.com/2008/05/visit-to-microsoft-development-cent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658-E440-4139-8CB7-4F7FEC3F4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/11/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11g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дарок (Ключевыми темами конференции Oracle TechForum 2007 стали 30-летняя годовщина компании и выпуск новой версии СУБД) http://www.osp.ru/cw/2007/42/450160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DE60-3C25-41A1-9693-0596D1979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тивно-техн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я контроля и отражения хозяйственных операций, даёт производственно-технические характерис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хгалтер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редство отражения и управления финансово-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редство получения финансовых отчётных документов как по показателям системного бухучёта, так и по сопутствующим д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редство воздействия на хозяйственную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редство обобщения информации, определения налоговой базы и предоставления отчётности в соотв. с Налоговым кодек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т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ает и контролирует массовые явления хозяйственной деятельности и используется для изучения количественных и качественных показателей экономики регионов/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читай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тр.12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учёт – лишь элемент управленческого учё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F26E-BEEA-40B9-9E0C-27EE5CD52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ка добавилась поз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потребности в материалах (Material Requirements Planning, MRP) — система производственного планирования и управления материально-техническим снабжением, служащая для управления производственными процессами. Внедряется с целью гарантии наличия материалов для производства и поставки выходов бизнес-процессов клиентам, минимизации производственных запасов, планирования производственной деятельности, графиков отгрузок и за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глоссарий из http://www.osp.ru/cw/2007/02/390349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9051-0DC8-4BD7-AE8F-3C92A8346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ресурсов производства (Manufacturing Resource Planning, MRP II) развивает понятие MRP, охватывая более широкий круг вопросов, чем фабричное производство и потребность в материалах. Эффективный метод планирования всех ресурсов производственной компании, охватывающий операционное планирование в натуральных единицах, финансовое планирование в денежных единицах; обладает имитационными возможно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P II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писывает не столько программное обеспечение, сколько определённую модель бизнес-процессов, которую должна поддерживаться программным обеспечени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овшество, внесённое в плановый процесс стандартом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P II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ормализация и автоматизация определения спецификации, объёма и сроков поставки сырья, материалов и комплектующих, необходимых для выполнения основного производственного пл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тот процесс именуется развёрткой общих потребностей, или формированием зависимых потребност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ходные данные: таблица потребност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 расчёта: график производства промежуточных продук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ожение двух графиков (основного ПП и графика ППП) = Полный производственный план (полные потребности), + Пакет заказов на производство и закупку сырья, материалов и комплектующих. Эта процедура называе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P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P I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теративная процедура (возможен полный пересчёт либо «чистое изменение», в зависимости от масштаба изменения основного ПП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жно рассчитать несколько вариантов ППП, что важно на этапах подготовки основного П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716-96DB-464A-A5BE-3A5BB955C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рипк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тр.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5B1-F6EA-4A3F-8954-449FD315D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зать, что такое настояща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ац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она стоит, какова её эффективность, когда она необходима/неизбе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т «Открытых технологий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ирование ресурсов предпри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термин ERP в обиход ввела компания Gartner, признанный эксперт в области информационных технологий. Согласно Gartner, ERP-системы позволяют автоматизировать все циклы управления предприятием: получение ресурсов, изготовление продукции, ее транспортировка и расчеты по заказам клиентов ) http://www.dotsoft.ru/?d=public&amp;s=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rp-online.ru/erp/introduction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98-973A-440A-B617-6710763E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DA5-B93D-4C49-9A0C-2CAF5F93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47C-EC13-4035-96A0-D4FCEA53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D8C-B9D8-4415-A00D-4FE29D4E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31F-1120-4276-B5B3-77D582A1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05B-E3C6-4CF7-9732-3FD8B622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8E3-7321-4A8D-A0EF-DE92BF30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94D-17A2-4549-B733-21BD772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BC5-D74F-4275-AA15-800CB3B0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1C6-7862-44B2-B3F1-C1F968D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F0C-75BA-465C-B50D-F4C41018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13B-1099-44DC-AD69-5C5BA64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1C97-7964-47D6-98C8-05D3C3EDD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fbins.com/scfbins/News/OpenForBusinessRegister.aspx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investic.interzonas.info/resserver.php?blogId=6&amp;resource=logo_left_openbravo.gif" TargetMode="External"/><Relationship Id="rId5" Type="http://schemas.openxmlformats.org/officeDocument/2006/relationships/image" Target="../media/image11.png"/><Relationship Id="rId6" Type="http://schemas.openxmlformats.org/officeDocument/2006/relationships/hyperlink" Target="http://www.weberp.org/" TargetMode="Externa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upload.wikimedia.org/wikipedia/commons/0/06/SAP_AG_Headquarter_1200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www.pcweek.com.ua/images_np/np118337317424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otki.yandex.ru/users/greygusin/view/7152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1c.ru/rus/products/1c/default.jsp" TargetMode="External"/><Relationship Id="rId2" Type="http://schemas.openxmlformats.org/officeDocument/2006/relationships/hyperlink" Target="http://v8.1c.ru/" TargetMode="External"/><Relationship Id="rId3" Type="http://schemas.openxmlformats.org/officeDocument/2006/relationships/hyperlink" Target="http://www.1c.ru/rus/products/1c/predpr/default.jsp" TargetMode="External"/><Relationship Id="rId4" Type="http://schemas.openxmlformats.org/officeDocument/2006/relationships/hyperlink" Target="http://www.1c.ru/rus/products/1c/inform.jsp" TargetMode="External"/><Relationship Id="rId5" Type="http://schemas.openxmlformats.org/officeDocument/2006/relationships/hyperlink" Target="http://www.1c.ru/rus/products/1c/econom.jsp" TargetMode="External"/><Relationship Id="rId6" Type="http://schemas.openxmlformats.org/officeDocument/2006/relationships/hyperlink" Target="http://www.1c.ru/rus/products/1c/telecom.jsp" TargetMode="External"/><Relationship Id="rId7" Type="http://schemas.openxmlformats.org/officeDocument/2006/relationships/hyperlink" Target="http://www.1c.ru/rus/products/1c/multim/default.jsp" TargetMode="External"/><Relationship Id="rId8" Type="http://schemas.openxmlformats.org/officeDocument/2006/relationships/hyperlink" Target="http://www.1c.ru/rus/products/1c/metod/default.jsp" TargetMode="External"/><Relationship Id="rId9" Type="http://schemas.openxmlformats.org/officeDocument/2006/relationships/hyperlink" Target="http://www.1c.ru/rus/products/1c/dopprod/dopprod.htm" TargetMode="External"/><Relationship Id="rId10" Type="http://schemas.openxmlformats.org/officeDocument/2006/relationships/hyperlink" Target="http://www.1c.ru/" TargetMode="External"/><Relationship Id="rId11" Type="http://schemas.openxmlformats.org/officeDocument/2006/relationships/image" Target="../media/image39.png"/><Relationship Id="rId12" Type="http://schemas.openxmlformats.org/officeDocument/2006/relationships/image" Target="../media/image40.jpeg"/><Relationship Id="rId13" Type="http://schemas.openxmlformats.org/officeDocument/2006/relationships/hyperlink" Target="http://www.pcweek.ru/upload/iblock/702/801240sL.jpg" TargetMode="External"/><Relationship Id="rId14" Type="http://schemas.openxmlformats.org/officeDocument/2006/relationships/image" Target="../media/image41.jpeg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arus.ru/index.php?page=298&amp;UID=db4ed7f8968c4be0750a716dad917e68" TargetMode="External"/><Relationship Id="rId2" Type="http://schemas.openxmlformats.org/officeDocument/2006/relationships/hyperlink" Target="http://www.parus.ru/index.php?page=32&amp;UID=db4ed7f8968c4be0750a716dad917e68" TargetMode="External"/><Relationship Id="rId3" Type="http://schemas.openxmlformats.org/officeDocument/2006/relationships/hyperlink" Target="http://www.parus.ru/index.php?page=33&amp;UID=db4ed7f8968c4be0750a716dad917e68" TargetMode="External"/><Relationship Id="rId4" Type="http://schemas.openxmlformats.org/officeDocument/2006/relationships/hyperlink" Target="http://www.parus.ru/index.php?page=43&amp;UID=db4ed7f8968c4be0750a716dad917e68" TargetMode="External"/><Relationship Id="rId5" Type="http://schemas.openxmlformats.org/officeDocument/2006/relationships/hyperlink" Target="http://www.parus.ru/index.php?page=31&amp;UID=db4ed7f8968c4be0750a716dad917e68" TargetMode="External"/><Relationship Id="rId6" Type="http://schemas.openxmlformats.org/officeDocument/2006/relationships/hyperlink" Target="http://www.parus.ru/index.php?page=16&amp;UID=db4ed7f8968c4be0750a716dad917e68" TargetMode="External"/><Relationship Id="rId7" Type="http://schemas.openxmlformats.org/officeDocument/2006/relationships/hyperlink" Target="http://www.parus.ru/index.php?page=124&amp;UID=db4ed7f8968c4be0750a716dad917e68" TargetMode="External"/><Relationship Id="rId8" Type="http://schemas.openxmlformats.org/officeDocument/2006/relationships/hyperlink" Target="http://www.parus.ru/index.php?page=211&amp;UID=db4ed7f8968c4be0750a716dad917e68" TargetMode="External"/><Relationship Id="rId9" Type="http://schemas.openxmlformats.org/officeDocument/2006/relationships/hyperlink" Target="http://www.parus.ru/index.php?page=126&amp;UID=db4ed7f8968c4be0750a716dad917e68" TargetMode="External"/><Relationship Id="rId10" Type="http://schemas.openxmlformats.org/officeDocument/2006/relationships/hyperlink" Target="http://www.parus.ru/index.php?page=161&amp;UID=db4ed7f8968c4be0750a716dad917e68" TargetMode="External"/><Relationship Id="rId11" Type="http://schemas.openxmlformats.org/officeDocument/2006/relationships/hyperlink" Target="http://www.parus.ru/index.php?page=125&amp;UID=db4ed7f8968c4be0750a716dad917e68" TargetMode="External"/><Relationship Id="rId12" Type="http://schemas.openxmlformats.org/officeDocument/2006/relationships/hyperlink" Target="http://www.parus.ru/index.php?page=240&amp;UID=db4ed7f8968c4be0750a716dad917e68" TargetMode="External"/><Relationship Id="rId13" Type="http://schemas.openxmlformats.org/officeDocument/2006/relationships/hyperlink" Target="http://www.parus.ru/index.php?page=120&amp;UID=db4ed7f8968c4be0750a716dad917e68" TargetMode="External"/><Relationship Id="rId14" Type="http://schemas.openxmlformats.org/officeDocument/2006/relationships/hyperlink" Target="http://www.parus.ru/index.php?page=292&amp;UID=db4ed7f8968c4be0750a716dad917e68" TargetMode="External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17/1775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stol.ru/images/content/buhgalter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ews.appsoweek.ru/media/basic_errors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220932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MRP / ERP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RP vs 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ированы на промышленные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граничены сферой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ют планировать затраты на ппроекты обновления оборудования и инвестиции в производство нов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ют управлять Т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часовых поя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системах бухучёта и отчё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колько вал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колько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hiva"/>
          <p:cNvPicPr/>
          <p:nvPr/>
        </p:nvPicPr>
        <p:blipFill>
          <a:blip r:embed="rId1"/>
          <a:stretch/>
        </p:blipFill>
        <p:spPr>
          <a:xfrm>
            <a:off x="7440480" y="4495680"/>
            <a:ext cx="1703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нок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RP/ER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371600"/>
          <a:ext cx="8229600" cy="5203800"/>
        </p:xfrm>
        <a:graphic>
          <a:graphicData uri="http://schemas.openxmlformats.org/drawingml/2006/table">
            <a:tbl>
              <a:tblPr/>
              <a:tblGrid>
                <a:gridCol w="1066680"/>
                <a:gridCol w="1981440"/>
                <a:gridCol w="5181480"/>
              </a:tblGrid>
              <a:tr h="1254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мент ры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и/Пак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54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Office Home Offi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С:Бухгалтерия, Инфо-Бухгалтер, БЭСТ, Фрегат, Оазис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and Medium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С: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Dynamics AX (Axapt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Business One, SAP Business ByDesign, mySAP-All-in-On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С, Парус, Галактик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Dynamics NAV (Na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Business Suite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pen source 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9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Compier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ибольшее число внедрений, высокий уровень функциональности. Лучше всего подходит для использования в области продаж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розничной торговли. Для использования в промышленности системе недостает возможностей управления на уровне производственного подраз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5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Open For Busines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ходит в группу проекто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Apach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одходит для онлайновой коммерческ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Openbrav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дукт для настройки под потребителя, не для конкретной отрасли. Базируется 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ях, поэтому компании с удаленными офисами и разъездными сотрудниками могут пользоваться доступом через браузер, что значительно упрощает внедрение и работу с клие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ebE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ERP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OFB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4952880"/>
            <a:ext cx="1981080" cy="116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4724280" y="4495680"/>
            <a:ext cx="2590920" cy="1239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logo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5791320"/>
            <a:ext cx="2057400" cy="64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WebER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10280" y="6161040"/>
            <a:ext cx="21337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fe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SAP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saptomorrow2"/>
          <p:cNvPicPr/>
          <p:nvPr/>
        </p:nvPicPr>
        <p:blipFill>
          <a:blip r:embed="rId1"/>
          <a:stretch/>
        </p:blipFill>
        <p:spPr>
          <a:xfrm>
            <a:off x="1143000" y="4648320"/>
            <a:ext cx="1523880" cy="142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0" y="2097000"/>
            <a:ext cx="2800440" cy="476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Изображение:SAP AG Headquarter 1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111400"/>
            <a:ext cx="63244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SAP R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48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ду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F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линг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CO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основными средства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A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проекта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P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материальными потока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M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енное планир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P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ы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S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качеств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Q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обслуживание и ремонт оборудова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P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персонал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HR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информационными потока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WF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слевые реш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I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а з и с н а я   с и с т е м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sap"/>
          <p:cNvPicPr/>
          <p:nvPr/>
        </p:nvPicPr>
        <p:blipFill>
          <a:blip r:embed="rId1"/>
          <a:stretch/>
        </p:blipFill>
        <p:spPr>
          <a:xfrm>
            <a:off x="6400800" y="5437080"/>
            <a:ext cx="2743200" cy="142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395-Liderstvo"/>
          <p:cNvPicPr/>
          <p:nvPr/>
        </p:nvPicPr>
        <p:blipFill>
          <a:blip r:embed="rId2"/>
          <a:stretch/>
        </p:blipFill>
        <p:spPr>
          <a:xfrm>
            <a:off x="7926480" y="3733920"/>
            <a:ext cx="1217520" cy="165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Картинка 3 из 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3200400"/>
            <a:ext cx="146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нсы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FI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уль предназначен для организации основной бухгалтерской отчетности, отчетности по дебиторам, кредиторам и вспомогательной бухгалтерии. Он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ую кни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хгалтерию деби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хгалтерию кредитор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е уп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й регист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олидацию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ую систему у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че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6981840" y="4114800"/>
            <a:ext cx="21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линг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CO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уль обеспечивает учет затрат и прибыли предприятия и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затрат по местам их возникновения (центры затрат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затрат по зака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затрат по проек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ькуляцию 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прибыльности (результатов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мест возникновения прибыли (центры прибыли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т вырабо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линг деятельности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ok Cover Configuring SAP R/3 FI/CO: The Essential Resource for Configuring the Financial and Controlling Modules"/>
          <p:cNvPicPr/>
          <p:nvPr/>
        </p:nvPicPr>
        <p:blipFill>
          <a:blip r:embed="rId1"/>
          <a:stretch/>
        </p:blipFill>
        <p:spPr>
          <a:xfrm>
            <a:off x="6985080" y="4038480"/>
            <a:ext cx="2158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основными средства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AM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уль предназначен для учета основных средств и управления ими. Ключевые элементы моду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управление основными средств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обслуживание и ремонт оборуд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линг инвестиций и продажа актив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бухучет основных сред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основных средств и амортиза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нвести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Enterprise%20Asset%20Management%20%20Config-71KE"/>
          <p:cNvPicPr/>
          <p:nvPr/>
        </p:nvPicPr>
        <p:blipFill>
          <a:blip r:embed="rId1"/>
          <a:stretch/>
        </p:blipFill>
        <p:spPr>
          <a:xfrm>
            <a:off x="7238880" y="3981600"/>
            <a:ext cx="1905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проектам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PS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кладной модуль PS поддерживает планирование, управление и мониторинг долгосрочных проектов с высоким уровнем слож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элементы прикладного модуля 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финансовых средств и ресур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каче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ременными дан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 управления проект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моду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007154450X"/>
          <p:cNvPicPr/>
          <p:nvPr/>
        </p:nvPicPr>
        <p:blipFill>
          <a:blip r:embed="rId1"/>
          <a:stretch/>
        </p:blipFill>
        <p:spPr>
          <a:xfrm>
            <a:off x="6605640" y="3657600"/>
            <a:ext cx="253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материальными потоками (MM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дуль поддерживает функции снабжения и управления запасами, используемые в различных хозяйственных операциях. Ключевые эле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материал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запа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склад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сч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запасов матери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тестация поставщ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а работ и усл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система закупок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система управления запа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AP PP/MM Interview Questions, Answers, and Explanations - Click Image to Close"/>
          <p:cNvPicPr/>
          <p:nvPr/>
        </p:nvPicPr>
        <p:blipFill>
          <a:blip r:embed="rId1"/>
          <a:stretch/>
        </p:blipFill>
        <p:spPr>
          <a:xfrm>
            <a:off x="7015320" y="3429000"/>
            <a:ext cx="2128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ерархия ИТ инструментов управления предприят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0" y="1981080"/>
            <a:ext cx="8991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изводственное планирование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PP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уль используется для организации планирования и контроля производственной деятельности предприятия. Ключевые элементы прикладного моду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фикац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BOM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кар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центры (мес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сбы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SO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енное планир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MP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потребности в материа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MR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производств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SF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енные зак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ькуляция затрат на издел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затрат по процесс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ийное производст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ба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Just in tim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непрерыв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SAP PP/MM Interview Questions, Answers, and Explanations - Click Image to Close"/>
          <p:cNvPicPr/>
          <p:nvPr/>
        </p:nvPicPr>
        <p:blipFill>
          <a:blip r:embed="rId1"/>
          <a:stretch/>
        </p:blipFill>
        <p:spPr>
          <a:xfrm>
            <a:off x="7015320" y="3429000"/>
            <a:ext cx="2128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ы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(SD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дуль решает задачи распределения, продаж, поставок и выставления счетов. Ключевые эле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одажная поддерж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запрос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предлож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заказ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постав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ление счетов (фактурировани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система сб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ook Cover Implementing SAP R/3 Sales and Distribution"/>
          <p:cNvPicPr/>
          <p:nvPr/>
        </p:nvPicPr>
        <p:blipFill>
          <a:blip r:embed="rId1"/>
          <a:stretch/>
        </p:blipFill>
        <p:spPr>
          <a:xfrm>
            <a:off x="6572160" y="3581280"/>
            <a:ext cx="2571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Q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качеством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(QM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т модуль включает в себя информационную систему и систему управления качеством. Он обеспечивает поддержку планирования качества, проверку и контроль качества при производстве и закупках. Ключевые эле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кач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кач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система контроля качеств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QM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07200" y="3886200"/>
            <a:ext cx="193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хобслуживание и ремонт оборудовани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(PM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уль помогает учитывать затраты и планировать ресурсы на техобслуживание и ремонт. Ключевые 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планированный ремон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сервис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ово-профилактический ремон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спецификац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 техобслуживания и ремо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5155657"/>
          <p:cNvPicPr/>
          <p:nvPr/>
        </p:nvPicPr>
        <p:blipFill>
          <a:blip r:embed="rId1"/>
          <a:stretch/>
        </p:blipFill>
        <p:spPr>
          <a:xfrm>
            <a:off x="6602400" y="3657600"/>
            <a:ext cx="254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персоналом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HR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интегрированная система для планирования и управления работой персонала. Ключевые эле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ирование персон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зарпла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временными да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командировочных расход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г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новых сотруд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и повышение квалификации персон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абочей си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семинар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онный менеджмен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система персо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900840" y="3581280"/>
            <a:ext cx="2243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W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информационными потокам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WF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а часть системы связывает интегрированные прикладные модули с общими для всех приложений технологиями, сервисными средствами и инструментами. Управление потоком операций (workflow) автоматизирует хозяйственные процессы в соответствии с заранее определенными процедурами и правилами. Модуль включ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функциональную офисную систему с встроенной электронной поч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у управления документ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классификато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у интеграции с СА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роисходит определенное событие, запускается соответствующий процесс, и диспетчер потока операций инициирует единицу потока операц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Workflow Item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е и документы объединяются и обрабатываются на каждом шаге в соответствии с определенной лог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workflow_front"/>
          <p:cNvPicPr/>
          <p:nvPr/>
        </p:nvPicPr>
        <p:blipFill>
          <a:blip r:embed="rId1"/>
          <a:stretch/>
        </p:blipFill>
        <p:spPr>
          <a:xfrm>
            <a:off x="6705720" y="2895480"/>
            <a:ext cx="2438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траслевые решени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(IS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диняет прикладные модули SAP SAP R/3 и дополнительную функциональность, специфичную для отрасли. Сегодня имеются отраслевые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ля промышлен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иационной и космическ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н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обиль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фтяной и газов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ческ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мацевтическ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шиностроитель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варов народного потребл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онн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 непроизводственной сф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н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хова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ые орг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екоммуник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льное хозяйств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равоохран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зничная торгов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sapsm"/>
          <p:cNvPicPr/>
          <p:nvPr/>
        </p:nvPicPr>
        <p:blipFill>
          <a:blip r:embed="rId1"/>
          <a:stretch/>
        </p:blipFill>
        <p:spPr>
          <a:xfrm>
            <a:off x="6572160" y="2895480"/>
            <a:ext cx="2571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R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исная систем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ужит основой системы SAP R/3 и гарантирует интеграцию всех прикладных модулей и независимость от аппаратной плат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ap_r32"/>
          <p:cNvPicPr/>
          <p:nvPr/>
        </p:nvPicPr>
        <p:blipFill>
          <a:blip r:embed="rId1"/>
          <a:stretch/>
        </p:blipFill>
        <p:spPr>
          <a:xfrm>
            <a:off x="5791320" y="3726000"/>
            <a:ext cx="33526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P NetWe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аслевые решения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 for Wholesal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RP 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ый класс финансово-экономических систем. Обеспечивают интеграцию планирования, управленческого учёта и бухгалтерского учёта на предприятии в целом, включая дочерние предприятия и фил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_180d_46681858_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4778280"/>
            <a:ext cx="31240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crosoft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йство программных продуктов для автоматизации бизн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 NAV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(Na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 AX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(Axap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s 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P1040580"/>
          <p:cNvPicPr/>
          <p:nvPr/>
        </p:nvPicPr>
        <p:blipFill>
          <a:blip r:embed="rId1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5388840" y="6583320"/>
            <a:ext cx="37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Microsoft Development Center Copenhag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MDCC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S%20Dynamics%20logo%20%20bl%20v%5B9%5D"/>
          <p:cNvPicPr/>
          <p:nvPr/>
        </p:nvPicPr>
        <p:blipFill>
          <a:blip r:embed="rId2"/>
          <a:stretch/>
        </p:blipFill>
        <p:spPr>
          <a:xfrm>
            <a:off x="6172200" y="3429000"/>
            <a:ext cx="29718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s N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ибкое вертикальное 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малых и средних компаний с уникальными бизнес-процес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тегрирующее 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держки одинаковых бизнес-процессов в международных организациях и компаниях с большим количеством разнесённых географических офи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40 локализованных вер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2 700 сертифицированных партнёров («Мы делаем платформу, партнёры делают законченное решени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60 000 клиентов в более чем 150 стра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1 000 000 проданных лицен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icrosoft_dynamics_nav"/>
          <p:cNvPicPr/>
          <p:nvPr/>
        </p:nvPicPr>
        <p:blipFill>
          <a:blip r:embed="rId1"/>
          <a:stretch/>
        </p:blipFill>
        <p:spPr>
          <a:xfrm>
            <a:off x="4876920" y="1828800"/>
            <a:ext cx="3276360" cy="2716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manufacturing"/>
          <p:cNvPicPr/>
          <p:nvPr/>
        </p:nvPicPr>
        <p:blipFill>
          <a:blip r:embed="rId2"/>
          <a:stretch/>
        </p:blipFill>
        <p:spPr>
          <a:xfrm>
            <a:off x="5029200" y="3681360"/>
            <a:ext cx="4114800" cy="317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s 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компаний среднего и выше среднего разм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аи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штабиру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ная функ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ючевые отра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е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трибу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с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AX_NewUI"/>
          <p:cNvPicPr/>
          <p:nvPr/>
        </p:nvPicPr>
        <p:blipFill>
          <a:blip r:embed="rId1"/>
          <a:stretch/>
        </p:blipFill>
        <p:spPr>
          <a:xfrm>
            <a:off x="4114800" y="2743200"/>
            <a:ext cx="4896000" cy="396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microsoft_dynamics_axapta(ax)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ЗАО «</a:t>
            </a: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1C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граммные продукты фирмы "1С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С:Предприятие 8.0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С:Предприятие 7.7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Информационные продукты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Экономические программы (предыдущие версии)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Телекоммуникации и базы данных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ультимедиа продукты и программы для дома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Учебные и методические материалы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Дополнительная продукция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Нажмите здесь для того, чтобы попасть на главную страницу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86600" y="380880"/>
            <a:ext cx="1523880" cy="86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boris_nuraliev9"/>
          <p:cNvPicPr/>
          <p:nvPr/>
        </p:nvPicPr>
        <p:blipFill>
          <a:blip r:embed="rId12"/>
          <a:stretch/>
        </p:blipFill>
        <p:spPr>
          <a:xfrm>
            <a:off x="6095880" y="4497480"/>
            <a:ext cx="3048120" cy="236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Картинка 5 из 101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95880" y="1600200"/>
            <a:ext cx="3048120" cy="2909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3880440" y="658332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орис Георгиевич Нурали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ЗАО Корпорация «Пару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шения для государственных и муниципальных 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деральные органы власти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рриториальные корпоративные проекты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рриториальные партнерские проекты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Государственные учреждения г. Москвы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осзакуп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раслевые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Нефтегазовый комплекс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ашиностроение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Электроэнергетика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Химическая промышленность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ищевая промышленность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Оптовая торговля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Страхование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Новый модуль "Управление складом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шения для малого и средне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ФХ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дная отчетнос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я для руководителей предприя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Картинка 1 из 78"/>
          <p:cNvPicPr/>
          <p:nvPr/>
        </p:nvPicPr>
        <p:blipFill>
          <a:blip r:embed="rId15"/>
          <a:stretch/>
        </p:blipFill>
        <p:spPr>
          <a:xfrm>
            <a:off x="6851520" y="3657600"/>
            <a:ext cx="2292480" cy="3200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4188600" y="6583320"/>
            <a:ext cx="25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Карпачёв, презид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Картинка 90 из 197"/>
          <p:cNvPicPr/>
          <p:nvPr/>
        </p:nvPicPr>
        <p:blipFill>
          <a:blip r:embed="rId16"/>
          <a:stretch/>
        </p:blipFill>
        <p:spPr>
          <a:xfrm>
            <a:off x="5181480" y="1905120"/>
            <a:ext cx="2087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rry Ellison’s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&lt;b&gt;Larry Ellison&lt;/b&gt;&lt;br&gt;&#10;Oracle founder; South Shore High School"/>
          <p:cNvPicPr/>
          <p:nvPr/>
        </p:nvPicPr>
        <p:blipFill>
          <a:blip r:embed="rId1"/>
          <a:stretch/>
        </p:blipFill>
        <p:spPr>
          <a:xfrm>
            <a:off x="4381560" y="378144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892960" y="6583320"/>
            <a:ext cx="149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wrence J. Ell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зяйственного учё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чётные измерит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е (счёт, мера, вес, объё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(дни, часы, минуты рабочего врем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е (соизмерение объектов учёта в рублях и копейк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ы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хозяйственног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учё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-техн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ухгалте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Управлен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о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Картинка 317 из 153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21964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8080"/>
                </a:solidFill>
                <a:latin typeface="Arial"/>
              </a:rPr>
              <a:t>MRP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Material Requirements Planning</a:t>
            </a:r>
            <a:r>
              <a:rPr b="1" i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 (MRP I)</a:t>
            </a:r>
            <a:r>
              <a:rPr b="1" i="1" lang="ru-RU" sz="24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8080"/>
                </a:solidFill>
                <a:latin typeface="Arial"/>
              </a:rPr>
              <a:t>планирование потребностей в материалах</a:t>
            </a: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 - система производственного планирования и управления материально-техническим снабжением, служащая для управления производственными процесс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8080"/>
                </a:solidFill>
                <a:uFillTx/>
                <a:latin typeface="Arial"/>
              </a:rPr>
              <a:t>Внедряется с це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гарантии наличия материалов для производства и поставки выходов бизнес-процессов клиен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инимизации производственных запа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планирования производственной деятельности, графиков отгрузок и зак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R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nufacturing Resources Planning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RP I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анирование производствен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а планирования – строгое разделение потребностей н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зависим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виси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ависимые потребност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уются на основе бизнес-плана предприятия и прогноза сбыта продукции и составляю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сновной план производства (ОП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оследующие процедуры планирования направлены на выполнение ОПП с минимальными затратами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цедура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RP I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таблице потребностей рассчитывается график производства промежуточных продуктов (ГПП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жением двух графиков (ОПП и ГППП) определя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ые потребности (полный производственный план, П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кеты заказов на сырьё, материалы и комплекту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овшества стандарта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RP II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ализация и автоматизация процедуры формирования зависимых потребностей («развёртки общих потребностей» - процедуры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RP 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еративность расчётов - возможность полного или частичного пересчёта полного производственного плана, в зависимости от масштабов изменений основного 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риативность расчётов – возможность изготовить несколько вариантов ППП, для анализа, что важно при подготовке О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RP II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нерируются пл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знес-план и годовой бюд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производственны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загрузки производственных мощ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 закупок сырья, материалов и комплекту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ртинка 279 из 153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4419720"/>
            <a:ext cx="2209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производственный план как ядро бизнес-процессов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R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228600" y="1955880"/>
          <a:ext cx="868680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55880"/>
                    <a:ext cx="868680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nterprise Resource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нирование ресурсов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ет собой расширение стандар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RP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хватывает весь спектр бизнес-процессов современн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о к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RP I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хватываютс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ние и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и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 управленческого учё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рамками натур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енного учё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Картинка 349 из 21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4281480"/>
            <a:ext cx="3124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I2</cp:lastModifiedBy>
  <dcterms:modified xsi:type="dcterms:W3CDTF">2013-08-13T17:32:4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