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7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png" ContentType="image/png"/>
  <Override PartName="/ppt/media/image9.png" ContentType="image/png"/>
  <Override PartName="/ppt/media/image1.wmf" ContentType="image/x-wmf"/>
  <Override PartName="/ppt/media/image5.jpeg" ContentType="image/jpeg"/>
  <Override PartName="/ppt/media/image6.png" ContentType="image/png"/>
  <Override PartName="/ppt/media/image7.jpeg" ContentType="image/jpeg"/>
  <Override PartName="/ppt/media/image2.png" ContentType="image/png"/>
  <Override PartName="/ppt/media/image10.wmf" ContentType="image/x-wmf"/>
  <Override PartName="/ppt/media/image4.jpeg" ContentType="image/jpeg"/>
  <Override PartName="/ppt/media/image8.png" ContentType="image/png"/>
  <Override PartName="/ppt/media/image12.wmf" ContentType="image/x-wmf"/>
  <Override PartName="/ppt/media/image13.png" ContentType="image/png"/>
  <Override PartName="/ppt/media/image11.wmf" ContentType="image/x-wmf"/>
  <Override PartName="/ppt/media/image3.png" ContentType="image/png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3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13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00316-CE38-4F1E-AB9A-91F96F43ED8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291C6-4C90-4C33-A138-5A2B3A006A6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6233D-44D8-48B8-9FC5-3AE5A2C104C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31713-A336-4CD3-884F-F583DE1627E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8E320-D793-44B7-AA52-2FB90ACAEF3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0DBA0-78E3-4E6B-875F-29E530E9992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55A90-3AAC-48E7-8338-C175B338A00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5B980-83CF-42CF-A41D-FCF9C61B5EA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A557A-BBB3-427F-BE16-BBA69769D64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25AF4-E6C8-4535-930B-6DB15947E62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EBF59-B46A-464C-97B0-84CA5C3FB46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4DD4E-05D8-49D9-BC5D-E4D30A01E30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D2756-50F9-4861-8FE0-FBFFF742BB5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BB2B4-78B3-41DA-B6D2-6D37B3A6818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3D3AE-70DA-4205-863A-5763EA3A2D2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7173B-DBAB-43B0-BBA6-14356554428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A0433-DA8D-4490-8C99-0B4DE535A76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E3928-52C6-4761-A1AB-B362010A82B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8931A-211F-4765-A6C4-47737392DDA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09927-4C25-4CEA-80DB-2C2BAACCA61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CB822-7BCB-489C-BC5F-C3D3B904E15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60766-C32E-4A9D-9324-F8A62F446E2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B2329-F9C3-458E-8818-27C482979FF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37174-9492-4F0C-B167-8D5605F5B39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F3387-FBE3-4BF2-AA6D-F222EC4CA08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333EC-E778-4179-B303-D0209C88C1D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A3F29-903E-4CB3-9688-E53A00FBDEB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4777B-0833-48B7-A970-7AC5AC55CE3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BD631-C84A-4D20-AF39-3071F09B603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6D63D-BE48-4552-9CDB-EBE788CBCB1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5608F-1181-4DF1-AEF3-7B707F8039B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60BDC-6571-4828-9483-03EC67A8576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95E88-C671-40F6-B5A9-FCF68D46A05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6EE05-B767-4472-96AA-47E3070821D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FF8FD-3D22-4B1A-A0A3-F56AFBB8B4A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0D16B-06C9-4519-923E-8B489D2B15B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0E662-9374-4B19-AB3B-5A59E7CFDD0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E4D7B-E34C-42AF-986B-22C24B0E0CA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FF56B-0CC3-44D3-AA77-57BA0E81866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ECE65-669F-4C77-89F0-BBEDE0331A1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B5138-6D18-443F-9F91-4116A9A38E8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9C4D4-F8C5-4706-B370-506ABB009C7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181F7-D747-449F-9F0B-1CE76CCC5BB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D6263-B20C-4383-BF30-DDDC7596BAE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70E45-E566-4CF3-A20A-7DF5BEC20DF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91BFB-45FE-40A3-AB2C-D50F6A5956A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A6533-0E9E-40B2-AC65-65096940A7F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E547B-D54D-4490-A9F0-91861EFDEE5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A1F57-68FB-4CD6-B4F0-553EF6F4CDF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362FB-B500-4EB5-A4D8-8216A3902E1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02163-F794-43A7-B1B0-6FEEDB23F7E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28BD1-3E22-4C7F-8C1B-D46DF89413C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0740D-43B3-4CA3-B03C-5EB2C04BAF0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91E65-4720-4AE7-B5F7-2D91E989534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849FA-1E93-4B6A-A212-950357F94AD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FB8BD-EDA8-4DBC-A63A-9E4A19ECC43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54C00-8642-4DC6-97AD-507B3C33CD2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0BE2C-1706-41B7-9E9B-B96340A08C2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B9B63-C0B5-4A12-94B6-1A647124944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13E89-A9B9-4F3B-BF98-778CBF8C980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68BD0-A0C3-48A0-AE18-517DB6ED5FF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070EB-CBFF-4FBE-B394-09A82293AF3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D16EC-B3D3-414B-9543-4E69CB77240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69B90-A685-4FB1-986E-8BF8C06AA7C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F3FAD-20D5-49EC-AB1D-B0DD834ECF8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14532-F31F-47BE-9D12-838B82501C9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89340-F114-4B56-B19B-54F04A4C1A1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E011B-886C-4FE8-BD3E-3062905FDBA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14242-37A3-45F5-BD8D-B37C58BFBBE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53489-79A4-40FA-9075-B953390FD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89C9C-D860-4D01-A2EB-94A40A9A1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FC126-9DA6-4114-AEB4-996BD71EE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28B99-84FC-4789-9704-FBFEAEBAA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CD804-DCC8-4844-8E11-2EE9213C2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0ED4D-C373-476E-9481-AC8077DBE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A6AFA-04A8-468A-B5AA-67B5EFB51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B5653-7183-4B13-BF17-572DAB4A7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BAB84-0402-4A05-BCF2-3A3D92F7E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6638D-148B-41C2-A938-DC83E8ACC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55C22-149D-4092-B376-E25D64D02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3A32F-8CD3-4E06-A435-6D533B595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620C5-4467-4586-B018-DD2722ACCF2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971640" y="639720"/>
            <a:ext cx="693720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Times New Roman Cyr"/>
              </a:rPr>
              <a:t>Средства и методы управления качество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1335240" y="3336840"/>
            <a:ext cx="64594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Дисциплина специаль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220501 – Управление качеств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Автор: Исаев Владимир Александрович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к.т.н., профессор СФ РГУИТ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Великий Новгород, 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1074600" y="2932200"/>
            <a:ext cx="6689880" cy="0"/>
          </a:xfrm>
          <a:prstGeom prst="line">
            <a:avLst/>
          </a:prstGeom>
          <a:ln w="572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400"/>
                            </p:stCondLst>
                            <p:childTnLst>
                              <p:par>
                                <p:cTn id="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900"/>
                            </p:stCondLst>
                            <p:childTnLst>
                              <p:par>
                                <p:cTn id="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Oval 2"/>
          <p:cNvSpPr/>
          <p:nvPr/>
        </p:nvSpPr>
        <p:spPr>
          <a:xfrm>
            <a:off x="838080" y="3733920"/>
            <a:ext cx="2362320" cy="2133360"/>
          </a:xfrm>
          <a:prstGeom prst="ellipse">
            <a:avLst/>
          </a:prstGeom>
          <a:solidFill>
            <a:srgbClr val="ccffcc">
              <a:alpha val="1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3"/>
          <p:cNvSpPr/>
          <p:nvPr/>
        </p:nvSpPr>
        <p:spPr>
          <a:xfrm>
            <a:off x="838080" y="4800600"/>
            <a:ext cx="2362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4"/>
          <p:cNvSpPr/>
          <p:nvPr/>
        </p:nvSpPr>
        <p:spPr>
          <a:xfrm>
            <a:off x="2057400" y="3733920"/>
            <a:ext cx="0" cy="2133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5"/>
          <p:cNvSpPr/>
          <p:nvPr/>
        </p:nvSpPr>
        <p:spPr>
          <a:xfrm>
            <a:off x="838080" y="4343400"/>
            <a:ext cx="13716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4. A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(Корректирование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6"/>
          <p:cNvSpPr/>
          <p:nvPr/>
        </p:nvSpPr>
        <p:spPr>
          <a:xfrm>
            <a:off x="2057400" y="4343400"/>
            <a:ext cx="129528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1. PLA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(Планирование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7"/>
          <p:cNvSpPr/>
          <p:nvPr/>
        </p:nvSpPr>
        <p:spPr>
          <a:xfrm>
            <a:off x="838080" y="4952880"/>
            <a:ext cx="129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3. 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(Контроль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8"/>
          <p:cNvSpPr/>
          <p:nvPr/>
        </p:nvSpPr>
        <p:spPr>
          <a:xfrm>
            <a:off x="2057400" y="4952880"/>
            <a:ext cx="10666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2. D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(Выполнение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9"/>
          <p:cNvSpPr/>
          <p:nvPr/>
        </p:nvSpPr>
        <p:spPr>
          <a:xfrm>
            <a:off x="1523880" y="3886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10"/>
          <p:cNvSpPr/>
          <p:nvPr/>
        </p:nvSpPr>
        <p:spPr>
          <a:xfrm>
            <a:off x="2133720" y="3886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11"/>
          <p:cNvSpPr/>
          <p:nvPr/>
        </p:nvSpPr>
        <p:spPr>
          <a:xfrm>
            <a:off x="2133720" y="53341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12"/>
          <p:cNvSpPr/>
          <p:nvPr/>
        </p:nvSpPr>
        <p:spPr>
          <a:xfrm>
            <a:off x="1523880" y="53341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Oval 13"/>
          <p:cNvSpPr/>
          <p:nvPr/>
        </p:nvSpPr>
        <p:spPr>
          <a:xfrm>
            <a:off x="3390840" y="3733920"/>
            <a:ext cx="2362320" cy="2133360"/>
          </a:xfrm>
          <a:prstGeom prst="ellipse">
            <a:avLst/>
          </a:prstGeom>
          <a:solidFill>
            <a:srgbClr val="ccffcc">
              <a:alpha val="1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14"/>
          <p:cNvSpPr/>
          <p:nvPr/>
        </p:nvSpPr>
        <p:spPr>
          <a:xfrm>
            <a:off x="4500720" y="3716280"/>
            <a:ext cx="0" cy="2160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15"/>
          <p:cNvSpPr/>
          <p:nvPr/>
        </p:nvSpPr>
        <p:spPr>
          <a:xfrm>
            <a:off x="4076640" y="40384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16"/>
          <p:cNvSpPr/>
          <p:nvPr/>
        </p:nvSpPr>
        <p:spPr>
          <a:xfrm>
            <a:off x="4686480" y="40384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17"/>
          <p:cNvSpPr/>
          <p:nvPr/>
        </p:nvSpPr>
        <p:spPr>
          <a:xfrm>
            <a:off x="4076640" y="48769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Oval 18"/>
          <p:cNvSpPr/>
          <p:nvPr/>
        </p:nvSpPr>
        <p:spPr>
          <a:xfrm>
            <a:off x="5943600" y="3733920"/>
            <a:ext cx="2362320" cy="2133360"/>
          </a:xfrm>
          <a:prstGeom prst="ellipse">
            <a:avLst/>
          </a:prstGeom>
          <a:solidFill>
            <a:srgbClr val="ccffcc">
              <a:alpha val="1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19"/>
          <p:cNvSpPr/>
          <p:nvPr/>
        </p:nvSpPr>
        <p:spPr>
          <a:xfrm>
            <a:off x="7162920" y="3733920"/>
            <a:ext cx="0" cy="2133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20"/>
          <p:cNvSpPr/>
          <p:nvPr/>
        </p:nvSpPr>
        <p:spPr>
          <a:xfrm>
            <a:off x="7238880" y="41911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21"/>
          <p:cNvSpPr/>
          <p:nvPr/>
        </p:nvSpPr>
        <p:spPr>
          <a:xfrm>
            <a:off x="7238880" y="51055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22"/>
          <p:cNvSpPr/>
          <p:nvPr/>
        </p:nvSpPr>
        <p:spPr>
          <a:xfrm>
            <a:off x="6629400" y="51055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791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ПРОЦЕССНЫЙ ПОДХОД</a:t>
            </a:r>
            <a:br>
              <a:rPr sz="2400"/>
            </a:b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(Баланс функций менеджмент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24"/>
          <p:cNvSpPr/>
          <p:nvPr/>
        </p:nvSpPr>
        <p:spPr>
          <a:xfrm>
            <a:off x="3200400" y="160020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25"/>
          <p:cNvSpPr/>
          <p:nvPr/>
        </p:nvSpPr>
        <p:spPr>
          <a:xfrm>
            <a:off x="1371600" y="137160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ребо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26"/>
          <p:cNvSpPr/>
          <p:nvPr/>
        </p:nvSpPr>
        <p:spPr>
          <a:xfrm>
            <a:off x="1371600" y="1647720"/>
            <a:ext cx="1523880" cy="276480"/>
          </a:xfrm>
          <a:prstGeom prst="rect">
            <a:avLst/>
          </a:prstGeom>
          <a:solidFill>
            <a:srgbClr val="ff6600">
              <a:alpha val="10000"/>
            </a:srgbClr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ЦЕН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27"/>
          <p:cNvSpPr/>
          <p:nvPr/>
        </p:nvSpPr>
        <p:spPr>
          <a:xfrm>
            <a:off x="1371600" y="1935000"/>
            <a:ext cx="16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довлетворен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28" descr="pdca"/>
          <p:cNvPicPr/>
          <p:nvPr/>
        </p:nvPicPr>
        <p:blipFill>
          <a:blip r:embed="rId1"/>
          <a:stretch/>
        </p:blipFill>
        <p:spPr>
          <a:xfrm>
            <a:off x="3203640" y="1484280"/>
            <a:ext cx="5154480" cy="2111400"/>
          </a:xfrm>
          <a:prstGeom prst="rect">
            <a:avLst/>
          </a:prstGeom>
          <a:ln w="0">
            <a:noFill/>
          </a:ln>
        </p:spPr>
      </p:pic>
      <p:sp>
        <p:nvSpPr>
          <p:cNvPr id="251" name="Line 29"/>
          <p:cNvSpPr/>
          <p:nvPr/>
        </p:nvSpPr>
        <p:spPr>
          <a:xfrm>
            <a:off x="1447920" y="198108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30"/>
          <p:cNvSpPr/>
          <p:nvPr/>
        </p:nvSpPr>
        <p:spPr>
          <a:xfrm>
            <a:off x="1447920" y="160020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Freeform 31"/>
          <p:cNvSpPr/>
          <p:nvPr/>
        </p:nvSpPr>
        <p:spPr>
          <a:xfrm>
            <a:off x="4495680" y="4797360"/>
            <a:ext cx="1257480" cy="1065240"/>
          </a:xfrm>
          <a:custGeom>
            <a:avLst/>
            <a:gdLst>
              <a:gd name="textAreaLeft" fmla="*/ 0 w 1257480"/>
              <a:gd name="textAreaRight" fmla="*/ 1257840 w 1257480"/>
              <a:gd name="textAreaTop" fmla="*/ 0 h 1065240"/>
              <a:gd name="textAreaBottom" fmla="*/ 1065240 h 1065240"/>
            </a:gdLst>
            <a:ahLst/>
            <a:rect l="textAreaLeft" t="textAreaTop" r="textAreaRight" b="textAreaBottom"/>
            <a:pathLst>
              <a:path w="792" h="671">
                <a:moveTo>
                  <a:pt x="792" y="26"/>
                </a:moveTo>
                <a:lnTo>
                  <a:pt x="3" y="0"/>
                </a:lnTo>
                <a:lnTo>
                  <a:pt x="0" y="671"/>
                </a:lnTo>
                <a:lnTo>
                  <a:pt x="63" y="671"/>
                </a:lnTo>
                <a:lnTo>
                  <a:pt x="132" y="668"/>
                </a:lnTo>
                <a:lnTo>
                  <a:pt x="192" y="659"/>
                </a:lnTo>
                <a:lnTo>
                  <a:pt x="252" y="644"/>
                </a:lnTo>
                <a:lnTo>
                  <a:pt x="321" y="626"/>
                </a:lnTo>
                <a:lnTo>
                  <a:pt x="387" y="599"/>
                </a:lnTo>
                <a:lnTo>
                  <a:pt x="444" y="569"/>
                </a:lnTo>
                <a:lnTo>
                  <a:pt x="504" y="527"/>
                </a:lnTo>
                <a:lnTo>
                  <a:pt x="573" y="473"/>
                </a:lnTo>
                <a:lnTo>
                  <a:pt x="642" y="398"/>
                </a:lnTo>
                <a:lnTo>
                  <a:pt x="705" y="311"/>
                </a:lnTo>
                <a:lnTo>
                  <a:pt x="753" y="212"/>
                </a:lnTo>
                <a:lnTo>
                  <a:pt x="780" y="125"/>
                </a:lnTo>
                <a:lnTo>
                  <a:pt x="792" y="74"/>
                </a:lnTo>
                <a:lnTo>
                  <a:pt x="792" y="26"/>
                </a:lnTo>
                <a:close/>
              </a:path>
            </a:pathLst>
          </a:custGeom>
          <a:solidFill>
            <a:srgbClr val="fce6d2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Freeform 32"/>
          <p:cNvSpPr/>
          <p:nvPr/>
        </p:nvSpPr>
        <p:spPr>
          <a:xfrm>
            <a:off x="4500720" y="4292640"/>
            <a:ext cx="1252440" cy="1569960"/>
          </a:xfrm>
          <a:custGeom>
            <a:avLst/>
            <a:gdLst>
              <a:gd name="textAreaLeft" fmla="*/ 0 w 1252440"/>
              <a:gd name="textAreaRight" fmla="*/ 1252800 w 1252440"/>
              <a:gd name="textAreaTop" fmla="*/ 0 h 1569960"/>
              <a:gd name="textAreaBottom" fmla="*/ 1570320 h 1569960"/>
            </a:gdLst>
            <a:ahLst/>
            <a:rect l="textAreaLeft" t="textAreaTop" r="textAreaRight" b="textAreaBottom"/>
            <a:pathLst>
              <a:path w="789" h="989">
                <a:moveTo>
                  <a:pt x="696" y="0"/>
                </a:moveTo>
                <a:lnTo>
                  <a:pt x="0" y="320"/>
                </a:lnTo>
                <a:lnTo>
                  <a:pt x="0" y="987"/>
                </a:lnTo>
                <a:lnTo>
                  <a:pt x="81" y="989"/>
                </a:lnTo>
                <a:lnTo>
                  <a:pt x="165" y="983"/>
                </a:lnTo>
                <a:lnTo>
                  <a:pt x="249" y="965"/>
                </a:lnTo>
                <a:lnTo>
                  <a:pt x="333" y="941"/>
                </a:lnTo>
                <a:lnTo>
                  <a:pt x="408" y="905"/>
                </a:lnTo>
                <a:lnTo>
                  <a:pt x="495" y="851"/>
                </a:lnTo>
                <a:lnTo>
                  <a:pt x="573" y="791"/>
                </a:lnTo>
                <a:lnTo>
                  <a:pt x="645" y="713"/>
                </a:lnTo>
                <a:lnTo>
                  <a:pt x="699" y="635"/>
                </a:lnTo>
                <a:lnTo>
                  <a:pt x="750" y="533"/>
                </a:lnTo>
                <a:lnTo>
                  <a:pt x="777" y="449"/>
                </a:lnTo>
                <a:lnTo>
                  <a:pt x="789" y="350"/>
                </a:lnTo>
                <a:lnTo>
                  <a:pt x="789" y="263"/>
                </a:lnTo>
                <a:lnTo>
                  <a:pt x="771" y="170"/>
                </a:lnTo>
                <a:lnTo>
                  <a:pt x="744" y="87"/>
                </a:lnTo>
                <a:lnTo>
                  <a:pt x="696" y="0"/>
                </a:lnTo>
                <a:close/>
              </a:path>
            </a:pathLst>
          </a:custGeom>
          <a:solidFill>
            <a:srgbClr val="fce6d2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33"/>
          <p:cNvSpPr/>
          <p:nvPr/>
        </p:nvSpPr>
        <p:spPr>
          <a:xfrm>
            <a:off x="4716360" y="4797360"/>
            <a:ext cx="677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00"/>
                </a:solidFill>
                <a:latin typeface="Times New Roman"/>
              </a:rPr>
              <a:t>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Freeform 34"/>
          <p:cNvSpPr/>
          <p:nvPr/>
        </p:nvSpPr>
        <p:spPr>
          <a:xfrm>
            <a:off x="5943600" y="3733920"/>
            <a:ext cx="1219320" cy="1042920"/>
          </a:xfrm>
          <a:custGeom>
            <a:avLst/>
            <a:gdLst>
              <a:gd name="textAreaLeft" fmla="*/ 0 w 1219320"/>
              <a:gd name="textAreaRight" fmla="*/ 1219680 w 1219320"/>
              <a:gd name="textAreaTop" fmla="*/ 0 h 1042920"/>
              <a:gd name="textAreaBottom" fmla="*/ 1043280 h 1042920"/>
            </a:gdLst>
            <a:ahLst/>
            <a:rect l="textAreaLeft" t="textAreaTop" r="textAreaRight" b="textAreaBottom"/>
            <a:pathLst>
              <a:path w="768" h="657">
                <a:moveTo>
                  <a:pt x="765" y="657"/>
                </a:moveTo>
                <a:lnTo>
                  <a:pt x="768" y="0"/>
                </a:lnTo>
                <a:lnTo>
                  <a:pt x="672" y="6"/>
                </a:lnTo>
                <a:lnTo>
                  <a:pt x="579" y="18"/>
                </a:lnTo>
                <a:lnTo>
                  <a:pt x="492" y="39"/>
                </a:lnTo>
                <a:lnTo>
                  <a:pt x="426" y="63"/>
                </a:lnTo>
                <a:lnTo>
                  <a:pt x="360" y="99"/>
                </a:lnTo>
                <a:lnTo>
                  <a:pt x="303" y="135"/>
                </a:lnTo>
                <a:lnTo>
                  <a:pt x="231" y="189"/>
                </a:lnTo>
                <a:lnTo>
                  <a:pt x="177" y="240"/>
                </a:lnTo>
                <a:lnTo>
                  <a:pt x="120" y="312"/>
                </a:lnTo>
                <a:lnTo>
                  <a:pt x="84" y="369"/>
                </a:lnTo>
                <a:lnTo>
                  <a:pt x="51" y="438"/>
                </a:lnTo>
                <a:lnTo>
                  <a:pt x="21" y="525"/>
                </a:lnTo>
                <a:lnTo>
                  <a:pt x="6" y="588"/>
                </a:lnTo>
                <a:lnTo>
                  <a:pt x="0" y="657"/>
                </a:lnTo>
                <a:lnTo>
                  <a:pt x="765" y="657"/>
                </a:lnTo>
                <a:close/>
              </a:path>
            </a:pathLst>
          </a:custGeom>
          <a:solidFill>
            <a:srgbClr val="fce6d2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Freeform 35"/>
          <p:cNvSpPr/>
          <p:nvPr/>
        </p:nvSpPr>
        <p:spPr>
          <a:xfrm>
            <a:off x="5948280" y="3733920"/>
            <a:ext cx="1209600" cy="1576440"/>
          </a:xfrm>
          <a:custGeom>
            <a:avLst/>
            <a:gdLst>
              <a:gd name="textAreaLeft" fmla="*/ 0 w 1209600"/>
              <a:gd name="textAreaRight" fmla="*/ 1209960 w 1209600"/>
              <a:gd name="textAreaTop" fmla="*/ 0 h 1576440"/>
              <a:gd name="textAreaBottom" fmla="*/ 1576800 h 1576440"/>
            </a:gdLst>
            <a:ahLst/>
            <a:rect l="textAreaLeft" t="textAreaTop" r="textAreaRight" b="textAreaBottom"/>
            <a:pathLst>
              <a:path w="762" h="993">
                <a:moveTo>
                  <a:pt x="758" y="650"/>
                </a:moveTo>
                <a:lnTo>
                  <a:pt x="762" y="0"/>
                </a:lnTo>
                <a:lnTo>
                  <a:pt x="675" y="0"/>
                </a:lnTo>
                <a:lnTo>
                  <a:pt x="579" y="15"/>
                </a:lnTo>
                <a:lnTo>
                  <a:pt x="492" y="39"/>
                </a:lnTo>
                <a:lnTo>
                  <a:pt x="426" y="63"/>
                </a:lnTo>
                <a:lnTo>
                  <a:pt x="357" y="99"/>
                </a:lnTo>
                <a:lnTo>
                  <a:pt x="294" y="135"/>
                </a:lnTo>
                <a:lnTo>
                  <a:pt x="219" y="192"/>
                </a:lnTo>
                <a:lnTo>
                  <a:pt x="174" y="237"/>
                </a:lnTo>
                <a:lnTo>
                  <a:pt x="123" y="306"/>
                </a:lnTo>
                <a:lnTo>
                  <a:pt x="81" y="366"/>
                </a:lnTo>
                <a:lnTo>
                  <a:pt x="48" y="429"/>
                </a:lnTo>
                <a:lnTo>
                  <a:pt x="21" y="510"/>
                </a:lnTo>
                <a:lnTo>
                  <a:pt x="6" y="588"/>
                </a:lnTo>
                <a:lnTo>
                  <a:pt x="0" y="672"/>
                </a:lnTo>
                <a:lnTo>
                  <a:pt x="6" y="762"/>
                </a:lnTo>
                <a:lnTo>
                  <a:pt x="27" y="849"/>
                </a:lnTo>
                <a:lnTo>
                  <a:pt x="54" y="924"/>
                </a:lnTo>
                <a:lnTo>
                  <a:pt x="90" y="993"/>
                </a:lnTo>
                <a:lnTo>
                  <a:pt x="758" y="650"/>
                </a:lnTo>
                <a:close/>
              </a:path>
            </a:pathLst>
          </a:custGeom>
          <a:solidFill>
            <a:srgbClr val="fce6d2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36"/>
          <p:cNvSpPr/>
          <p:nvPr/>
        </p:nvSpPr>
        <p:spPr>
          <a:xfrm>
            <a:off x="6443640" y="4005360"/>
            <a:ext cx="57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00"/>
                </a:solidFill>
                <a:latin typeface="Times New Roman"/>
              </a:rPr>
              <a:t>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u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3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3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3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3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31">
                                  <p:stCondLst>
                                    <p:cond delay="100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3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3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3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3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4000"/>
                            </p:stCondLst>
                            <p:childTnLst>
                              <p:par>
                                <p:cTn id="73" nodeType="afterEffect" fill="hold" presetClass="exit" presetID="1">
                                  <p:stCondLst>
                                    <p:cond delay="2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2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6000"/>
                            </p:stCondLst>
                            <p:childTnLst>
                              <p:par>
                                <p:cTn id="7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3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3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3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3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3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3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3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3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9000"/>
                            </p:stCondLst>
                            <p:childTnLst>
                              <p:par>
                                <p:cTn id="91" nodeType="afterEffect" fill="hold" presetClass="exit" presetID="1">
                                  <p:stCondLst>
                                    <p:cond delay="2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2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11000"/>
                            </p:stCondLst>
                            <p:childTnLst>
                              <p:par>
                                <p:cTn id="9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3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3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3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3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4000"/>
                            </p:stCondLst>
                            <p:childTnLst>
                              <p:par>
                                <p:cTn id="10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3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3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3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3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7000"/>
                            </p:stCondLst>
                            <p:childTnLst>
                              <p:par>
                                <p:cTn id="110" nodeType="afterEffect" fill="hold" presetClass="exit" presetID="1">
                                  <p:stCondLst>
                                    <p:cond delay="2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9000"/>
                            </p:stCondLst>
                            <p:childTnLst>
                              <p:par>
                                <p:cTn id="11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3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3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3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3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31">
                                  <p:stCondLst>
                                    <p:cond delay="150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3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3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3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3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2"/>
          <p:cNvSpPr/>
          <p:nvPr/>
        </p:nvSpPr>
        <p:spPr>
          <a:xfrm>
            <a:off x="657360" y="380880"/>
            <a:ext cx="777240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Arial"/>
              </a:rPr>
              <a:t>Проекты стандартов (</a:t>
            </a:r>
            <a:r>
              <a:rPr b="0" lang="en-US" sz="2800" spc="-1" strike="noStrike">
                <a:solidFill>
                  <a:srgbClr val="3333ff"/>
                </a:solidFill>
                <a:latin typeface="Arial"/>
              </a:rPr>
              <a:t>JSA) </a:t>
            </a:r>
            <a:r>
              <a:rPr b="0" lang="ru-RU" sz="2800" spc="-1" strike="noStrike">
                <a:solidFill>
                  <a:srgbClr val="3333ff"/>
                </a:solidFill>
                <a:latin typeface="Arial"/>
              </a:rPr>
              <a:t>по оценке систем менеджмен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3"/>
          <p:cNvSpPr/>
          <p:nvPr/>
        </p:nvSpPr>
        <p:spPr>
          <a:xfrm>
            <a:off x="393840" y="1201680"/>
            <a:ext cx="8424720" cy="52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TR Q 0005:2003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-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«Системы менеджмента качества. Руководящие указания по устойчивому развитию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Современные организации должны постоянно демонстрировать потребителям и другим заинтересованным сторонам </a:t>
            </a:r>
            <a:r>
              <a:rPr b="1" i="1" lang="ru-RU" sz="1800" spc="-1" strike="noStrike" u="sng">
                <a:solidFill>
                  <a:srgbClr val="990000"/>
                </a:solidFill>
                <a:uFillTx/>
                <a:latin typeface="Arial"/>
              </a:rPr>
              <a:t>ценность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 (достоинства, полезность) поставляемой продукции или услуг, что необходимо для обеспечения конкурентоспособности и </a:t>
            </a:r>
            <a:r>
              <a:rPr b="1" i="1" lang="ru-RU" sz="1800" spc="-1" strike="noStrike" u="sng">
                <a:solidFill>
                  <a:srgbClr val="990000"/>
                </a:solidFill>
                <a:uFillTx/>
                <a:latin typeface="Arial"/>
              </a:rPr>
              <a:t>устойчивого развития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 организ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TR Q 0006:2003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-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«Системы менеджмента качества. Руководящие указания для самооценк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В ходе самооценки определяется, прежде всего, </a:t>
            </a:r>
            <a:r>
              <a:rPr b="1" i="1" lang="ru-RU" sz="1800" spc="-1" strike="noStrike" u="sng">
                <a:solidFill>
                  <a:srgbClr val="990000"/>
                </a:solidFill>
                <a:uFillTx/>
                <a:latin typeface="Arial"/>
              </a:rPr>
              <a:t>организационный профиль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 и уровень зрелости компании (от 1 до 5 баллов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3" dur="80"/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4" dur="80"/>
                                        <p:tgtEl>
                                          <p:spTgt spid="2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5" dur="80"/>
                                        <p:tgtEl>
                                          <p:spTgt spid="2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920"/>
                            </p:stCondLst>
                            <p:childTnLst>
                              <p:par>
                                <p:cTn id="13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1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Arial"/>
              </a:rPr>
              <a:t>Проекты стандартов (</a:t>
            </a:r>
            <a:r>
              <a:rPr b="0" lang="en-US" sz="2800" spc="-1" strike="noStrike">
                <a:solidFill>
                  <a:srgbClr val="3333ff"/>
                </a:solidFill>
                <a:latin typeface="Arial"/>
              </a:rPr>
              <a:t>JSA) </a:t>
            </a:r>
            <a:r>
              <a:rPr b="0" lang="ru-RU" sz="2800" spc="-1" strike="noStrike">
                <a:solidFill>
                  <a:srgbClr val="3333ff"/>
                </a:solidFill>
                <a:latin typeface="Arial"/>
              </a:rPr>
              <a:t>по оценке систем менеджмента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511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Разработчики стандартов TR Q 0005:2003 и TR Q 0006: 2003 обосновали жизненную необходимость этих документов реальному бизнесу следующим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бизнес-сообщества в Японии, США и Европе относились скептически к стандарту ИСО 9004:2000 как к практическому </a:t>
            </a: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инструменту cовершенствования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СМК компании, способного оказывать реальную помощь бизнесу в достижении </a:t>
            </a:r>
            <a:r>
              <a:rPr b="0" i="1" lang="ru-RU" sz="2000" spc="-1" strike="noStrike">
                <a:solidFill>
                  <a:srgbClr val="ff3300"/>
                </a:solidFill>
                <a:latin typeface="Arial"/>
              </a:rPr>
              <a:t>устойчивого развития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бизнес нуждался в концепции, повышающей уровень его </a:t>
            </a:r>
            <a:r>
              <a:rPr b="0" i="1" lang="ru-RU" sz="2000" spc="-1" strike="noStrike">
                <a:solidFill>
                  <a:srgbClr val="ff3300"/>
                </a:solidFill>
                <a:latin typeface="Arial"/>
              </a:rPr>
              <a:t>конкурентоспособности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и утверждающей </a:t>
            </a:r>
            <a:r>
              <a:rPr b="0" i="1" lang="ru-RU" sz="2000" spc="-1" strike="noStrike">
                <a:solidFill>
                  <a:srgbClr val="ff3300"/>
                </a:solidFill>
                <a:latin typeface="Arial"/>
              </a:rPr>
              <a:t>инновации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как необходимое условие совершенствования СМК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нужно было дать методическую и технологическую основу </a:t>
            </a: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устойчивого развития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компаний через </a:t>
            </a:r>
            <a:r>
              <a:rPr b="0" i="1" lang="ru-RU" sz="2000" spc="-1" strike="noStrike">
                <a:solidFill>
                  <a:srgbClr val="ff3300"/>
                </a:solidFill>
                <a:latin typeface="Arial"/>
              </a:rPr>
              <a:t>обучение и инновации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Новые стандарты по системам менеджмента качества (СМК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JIS</a:t>
            </a: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/TR Q 0005: 2005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«Система менеджмента качества. </a:t>
            </a:r>
            <a:r>
              <a:rPr b="0" lang="ru-RU" sz="2800" spc="-1" strike="noStrike">
                <a:solidFill>
                  <a:srgbClr val="3333ff"/>
                </a:solidFill>
                <a:latin typeface="Arial"/>
              </a:rPr>
              <a:t>Рекомендации по </a:t>
            </a:r>
            <a:r>
              <a:rPr b="0" lang="ru-RU" sz="2800" spc="-1" strike="noStrike" u="sng">
                <a:solidFill>
                  <a:srgbClr val="3333ff"/>
                </a:solidFill>
                <a:uFillTx/>
                <a:latin typeface="Arial"/>
              </a:rPr>
              <a:t>устойчивому росту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» (Quality management system — Guidelines for sustainable growth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JIS</a:t>
            </a: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/TR Q 0006: 2005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Система менеджмента качества. </a:t>
            </a:r>
            <a:r>
              <a:rPr b="0" lang="ru-RU" sz="2800" spc="-1" strike="noStrike">
                <a:solidFill>
                  <a:srgbClr val="3333ff"/>
                </a:solidFill>
                <a:latin typeface="Arial"/>
              </a:rPr>
              <a:t>Рекомендации</a:t>
            </a:r>
            <a:r>
              <a:rPr b="0" lang="en-US" sz="28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3333ff"/>
                </a:solidFill>
                <a:latin typeface="Arial"/>
              </a:rPr>
              <a:t>по</a:t>
            </a:r>
            <a:r>
              <a:rPr b="0" lang="en-US" sz="28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3333ff"/>
                </a:solidFill>
                <a:latin typeface="Arial"/>
              </a:rPr>
              <a:t>самооценк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» (Quality management system — Guidelines for self-assessment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2005 году ИСО/ТК 176 объединил эти два национальных (Япония) стандарта в виде документ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TC 176/SC2 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№690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JIS/TR Q 0005:2005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качестве основ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стандарта 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ISO</a:t>
            </a:r>
            <a:r>
              <a:rPr b="0" lang="ru-RU" sz="2400" spc="-1" strike="noStrike">
                <a:solidFill>
                  <a:srgbClr val="3333ff"/>
                </a:solidFill>
                <a:latin typeface="Arial"/>
              </a:rPr>
              <a:t> 9004 версии 2009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Документ</a:t>
            </a:r>
            <a:br>
              <a:rPr sz="3200"/>
            </a:b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TC 176/SC2 № 690 JIS/TR Q 0005:200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7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дель, изложенная 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в стандар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JIS/TR Q 0005:2005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подразумевает, что </a:t>
            </a:r>
            <a:r>
              <a:rPr b="0" i="1" lang="ru-RU" sz="2400" spc="-1" strike="noStrike">
                <a:solidFill>
                  <a:srgbClr val="3333ff"/>
                </a:solidFill>
                <a:latin typeface="Arial"/>
              </a:rPr>
              <a:t>устойчивый рос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достигается за счет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способности организации учитывать изменения на рынке и проводить необходимые </a:t>
            </a:r>
            <a:r>
              <a:rPr b="0" lang="ru-RU" sz="2400" spc="-1" strike="noStrike" u="sng">
                <a:solidFill>
                  <a:srgbClr val="990000"/>
                </a:solidFill>
                <a:uFillTx/>
                <a:latin typeface="Arial"/>
              </a:rPr>
              <a:t>инновации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, </a:t>
            </a:r>
            <a:r>
              <a:rPr b="0" i="1" lang="ru-RU" sz="2400" spc="-1" strike="noStrike" u="sng">
                <a:solidFill>
                  <a:srgbClr val="3333ff"/>
                </a:solidFill>
                <a:uFillTx/>
                <a:latin typeface="Arial"/>
              </a:rPr>
              <a:t>основанные на знаниях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3333ff"/>
                </a:solidFill>
                <a:latin typeface="Arial"/>
              </a:rPr>
              <a:t>Инноваци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novation)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являются необходимым условием устойчивого роста организации ( в контексте данной модели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 этом под </a:t>
            </a:r>
            <a:r>
              <a:rPr b="0" lang="ru-RU" sz="2400" spc="-1" strike="noStrike">
                <a:solidFill>
                  <a:srgbClr val="3333ff"/>
                </a:solidFill>
                <a:latin typeface="Arial"/>
              </a:rPr>
              <a:t>инновациям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онимается способность полностью или частично </a:t>
            </a:r>
            <a:r>
              <a:rPr b="0" i="1" lang="ru-RU" sz="2400" spc="-1" strike="noStrike">
                <a:solidFill>
                  <a:srgbClr val="3333ff"/>
                </a:solidFill>
                <a:latin typeface="Arial"/>
              </a:rPr>
              <a:t>отказаться от существующей организационной структуры и создать новую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если это приведет к значительным улучшениям характеристик процессов и продук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ff"/>
                </a:solidFill>
                <a:latin typeface="Arial"/>
              </a:rPr>
              <a:t>Стандарт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ISO 9004:2009</a:t>
            </a:r>
            <a:br>
              <a:rPr sz="2000"/>
            </a:b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 Управление с целью достижения устойчивого успеха организации.  Подход с точки зрения менеджмента каче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1218960"/>
            <a:ext cx="8229600" cy="54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4 Менеджмент для достижения устойчивого успех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организац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1Общие полож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ff"/>
                </a:solidFill>
                <a:latin typeface="Arial"/>
              </a:rPr>
              <a:t>4.2 Устойчивый успе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3 Среда организац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4 Заинтересованные стороны, их потребности и ожида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9 Улучшения, инновации и обучение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9.1Общие полож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9.2 Улучш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ff"/>
                </a:solidFill>
                <a:latin typeface="Arial"/>
              </a:rPr>
              <a:t>9.3 Инновац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9.3.1Общие полож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9.3.2Примен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9.3.3 Определение срок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9.3.4 Процес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3333ff"/>
                </a:solidFill>
                <a:latin typeface="Arial"/>
              </a:rPr>
              <a:t>9.3.5 Риск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9.4 Обуч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Стандарт 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ISO 9004:2009</a:t>
            </a:r>
            <a:br>
              <a:rPr sz="2400"/>
            </a:b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Управление с целью достижения устойчивого успеха организации.  Подход с точки зрения менеджмента кач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20480" y="1600200"/>
            <a:ext cx="8288280" cy="304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. Термины и опреде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целей настоящего документа применяются термины и определения, данные в ISO 9000, а также ниж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.1. </a:t>
            </a: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Устойчивый успех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stained success)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организация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зультат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способности организации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стигать целей и поддерживать такое состояние в течение длительного пери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.2. </a:t>
            </a: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Организационная среда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ganization's environment)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мбинация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внутренних и внешних факторов и услови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которые могут оказывать влияние на достижение организацией своих целей и ее линию поведения по отношению к заинтересованным сторона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3" descr="C:\Users\Владимир\Desktop\success.jpg"/>
          <p:cNvPicPr/>
          <p:nvPr/>
        </p:nvPicPr>
        <p:blipFill>
          <a:blip r:embed="rId1"/>
          <a:stretch/>
        </p:blipFill>
        <p:spPr>
          <a:xfrm>
            <a:off x="3308400" y="4932360"/>
            <a:ext cx="2857320" cy="17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Picture 2" descr="img3"/>
          <p:cNvPicPr/>
          <p:nvPr/>
        </p:nvPicPr>
        <p:blipFill>
          <a:blip r:embed="rId1"/>
          <a:stretch/>
        </p:blipFill>
        <p:spPr>
          <a:xfrm>
            <a:off x="360360" y="623880"/>
            <a:ext cx="8431200" cy="596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2"/>
          <p:cNvSpPr/>
          <p:nvPr/>
        </p:nvSpPr>
        <p:spPr>
          <a:xfrm>
            <a:off x="657360" y="380880"/>
            <a:ext cx="777240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Arial"/>
              </a:rPr>
              <a:t>Организационный профи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3"/>
          <p:cNvSpPr/>
          <p:nvPr/>
        </p:nvSpPr>
        <p:spPr>
          <a:xfrm>
            <a:off x="581040" y="1433520"/>
            <a:ext cx="7843680" cy="488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Любая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ff3300"/>
                </a:solidFill>
                <a:latin typeface="Arial"/>
              </a:rPr>
              <a:t>самооценка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начинается с определения так называемого 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организационного профиля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компании для четкой идентификации её 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стратегии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, а также 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ключевых процессов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деятель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3300"/>
                </a:solidFill>
                <a:uFillTx/>
                <a:latin typeface="Arial"/>
              </a:rPr>
              <a:t>Организационный профиль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– совокупность данных о бизнес-среде организации, а также о внутренних возможностях, организационной структуре и системе менеджмен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Уникальность организации определяет её последующее устойчивое </a:t>
            </a:r>
            <a:r>
              <a:rPr b="0" i="1" lang="ru-RU" sz="2400" spc="-1" strike="noStrike">
                <a:solidFill>
                  <a:srgbClr val="ff3300"/>
                </a:solidFill>
                <a:latin typeface="Arial"/>
              </a:rPr>
              <a:t>развит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8" dur="80"/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9" dur="80"/>
                                        <p:tgtEl>
                                          <p:spTgt spid="2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0" dur="80"/>
                                        <p:tgtEl>
                                          <p:spTgt spid="2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920"/>
                            </p:stCondLst>
                            <p:childTnLst>
                              <p:par>
                                <p:cTn id="15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2"/>
          <p:cNvSpPr/>
          <p:nvPr/>
        </p:nvSpPr>
        <p:spPr>
          <a:xfrm>
            <a:off x="657360" y="380880"/>
            <a:ext cx="777240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Arial"/>
              </a:rPr>
              <a:t>Аспекты организационного профил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3"/>
          <p:cNvSpPr/>
          <p:nvPr/>
        </p:nvSpPr>
        <p:spPr>
          <a:xfrm>
            <a:off x="393840" y="1201680"/>
            <a:ext cx="8424720" cy="52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А.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2000" spc="-1" strike="noStrike" u="sng">
                <a:solidFill>
                  <a:srgbClr val="3333ff"/>
                </a:solidFill>
                <a:uFillTx/>
                <a:latin typeface="Arial"/>
              </a:rPr>
              <a:t>Область применения СМК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Б.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Понимание возможностей организаци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В.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Понимание человеческого потенциал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Г.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Понимание окружающей сред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Д.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Конкурентная ситуа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3" dur="80"/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4" dur="80"/>
                                        <p:tgtEl>
                                          <p:spTgt spid="2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5" dur="80"/>
                                        <p:tgtEl>
                                          <p:spTgt spid="2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40"/>
                            </p:stCondLst>
                            <p:childTnLst>
                              <p:par>
                                <p:cTn id="16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1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2"/>
          <p:cNvSpPr/>
          <p:nvPr/>
        </p:nvSpPr>
        <p:spPr>
          <a:xfrm>
            <a:off x="971640" y="639720"/>
            <a:ext cx="69372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Times New Roman Cyr"/>
              </a:rPr>
              <a:t>Лекция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3"/>
          <p:cNvSpPr/>
          <p:nvPr/>
        </p:nvSpPr>
        <p:spPr>
          <a:xfrm>
            <a:off x="1335240" y="3336840"/>
            <a:ext cx="64594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Самооценка организационного профиля компании и СМ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Проекты стандартов (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JSA) 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по оценке систем менеджмен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Модель СМК: трехуровневая структура требова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Аспекты организационного профиля - основные направления эффективного развертывания системы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TQ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4"/>
          <p:cNvSpPr/>
          <p:nvPr/>
        </p:nvSpPr>
        <p:spPr>
          <a:xfrm>
            <a:off x="1074600" y="2932200"/>
            <a:ext cx="6689880" cy="0"/>
          </a:xfrm>
          <a:prstGeom prst="line">
            <a:avLst/>
          </a:prstGeom>
          <a:ln w="572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" dur="80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" dur="80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320"/>
                            </p:stCondLst>
                            <p:childTnLst>
                              <p:par>
                                <p:cTn id="3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820"/>
                            </p:stCondLst>
                            <p:childTnLst>
                              <p:par>
                                <p:cTn id="3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ГОСТ Р 40.003-2005</a:t>
            </a:r>
            <a:br>
              <a:rPr sz="2800"/>
            </a:br>
            <a:r>
              <a:rPr b="0" lang="ru-RU" sz="2800" spc="-1" strike="noStrike">
                <a:solidFill>
                  <a:srgbClr val="3333ff"/>
                </a:solidFill>
                <a:latin typeface="Arial"/>
              </a:rPr>
              <a:t>Порядок сертификации СМК на соответствие ГОСТ Р ИСО 9001-20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3.22 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область применения системы менеджмента качества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вокупность видов продукции (услуг) и процессов их жизненного цикла, охватываемых системой менеджмента каче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3.23 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область сертификации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ласть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рименения системы менеджмента качеств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заявляемая заказчиком и подтверждаемая органом по сертификации с учетом допустимых исключений согласно п.1.2  ГОСТ Р ИСО 900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2"/>
          <p:cNvSpPr/>
          <p:nvPr/>
        </p:nvSpPr>
        <p:spPr>
          <a:xfrm>
            <a:off x="657360" y="380880"/>
            <a:ext cx="777240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Аспекты организационного профил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3"/>
          <p:cNvSpPr/>
          <p:nvPr/>
        </p:nvSpPr>
        <p:spPr>
          <a:xfrm>
            <a:off x="393840" y="1201680"/>
            <a:ext cx="8424720" cy="52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А.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Область применения СМК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Основная продукция и ее характеристик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Размер организации (объем продаж, численность персонала, совокупный капитал и т.д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Месторасположение организаци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ru-RU" sz="2000" spc="-1" strike="noStrike" u="sng">
                <a:solidFill>
                  <a:srgbClr val="990000"/>
                </a:solidFill>
                <a:uFillTx/>
                <a:latin typeface="Arial"/>
              </a:rPr>
              <a:t>Примечание</a:t>
            </a:r>
            <a:r>
              <a:rPr b="0" lang="ru-RU" sz="2000" spc="-1" strike="noStrike">
                <a:solidFill>
                  <a:srgbClr val="990000"/>
                </a:solidFill>
                <a:latin typeface="Arial"/>
              </a:rPr>
              <a:t>: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Данная информация определена в Уставе организ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0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8" dur="80"/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9" dur="80"/>
                                        <p:tgtEl>
                                          <p:spTgt spid="2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0" dur="80"/>
                                        <p:tgtEl>
                                          <p:spTgt spid="2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1240"/>
                            </p:stCondLst>
                            <p:childTnLst>
                              <p:par>
                                <p:cTn id="18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6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1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Область применения</a:t>
            </a:r>
            <a:br>
              <a:rPr sz="3200"/>
            </a:b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 (распространения) СМ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Область распространения СМК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– отправная точка для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построения всей системы менеджмента качеств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литика и Цели в области качества, Руководство по качеству, процедуры СМК и другие нормативные документы, создаваемые Организацией в рамках построения СМК, должны быть направлены на то, чтобы описать в первую очередь для самих сотрудников Организации, «правильный» порядок выполнения работ, который позволяет </a:t>
            </a:r>
            <a:r>
              <a:rPr b="0" i="1" lang="ru-RU" sz="2400" spc="-1" strike="noStrike">
                <a:solidFill>
                  <a:srgbClr val="3333ff"/>
                </a:solidFill>
                <a:latin typeface="Arial"/>
              </a:rPr>
              <a:t>выполнить все требования потребителя к продукции (услугам),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входящей в область распространения системы менеджмента качеств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Область распространения СМК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это та самая продукция, максимального </a:t>
            </a:r>
            <a:r>
              <a:rPr b="0" i="1" lang="ru-RU" sz="2400" spc="-1" strike="noStrike">
                <a:solidFill>
                  <a:srgbClr val="3333ff"/>
                </a:solidFill>
                <a:latin typeface="Arial"/>
              </a:rPr>
              <a:t>удовлетворения требований к которой Организация хочет достич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7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Область сертифик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320840"/>
            <a:ext cx="8229600" cy="519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Область сертификаци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это та </a:t>
            </a:r>
            <a:r>
              <a:rPr b="0" i="1" lang="ru-RU" sz="2400" spc="-1" strike="noStrike">
                <a:solidFill>
                  <a:srgbClr val="3333ff"/>
                </a:solidFill>
                <a:latin typeface="Arial"/>
              </a:rPr>
              <a:t>часть области распространения СМК (или вся область распространения СМК),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которую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Организация приняла решение сертифицироват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обенная важность этого термина состоит в том, что орган по сертификации, осуществляющий </a:t>
            </a:r>
            <a:r>
              <a:rPr b="0" i="1" lang="ru-RU" sz="2400" spc="-1" strike="noStrike">
                <a:solidFill>
                  <a:srgbClr val="3333ff"/>
                </a:solidFill>
                <a:latin typeface="Arial"/>
              </a:rPr>
              <a:t>оценку соответствия СМК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берет на себя ответственност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заявляя, что СМК соответствует требованиям стандарта (ИСО 9001:2008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этому, чтобы обеспечить наибольшую достоверность результатов сертификации,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Орган по сертификации должен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овместно с организацией </a:t>
            </a:r>
            <a:r>
              <a:rPr b="0" i="1" lang="ru-RU" sz="2400" spc="-1" strike="noStrike">
                <a:solidFill>
                  <a:srgbClr val="3333ff"/>
                </a:solidFill>
                <a:latin typeface="Arial"/>
              </a:rPr>
              <a:t>определить Область сертификации и проверить все процессы, входящие в эту область сертификаци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2"/>
          <p:cNvSpPr/>
          <p:nvPr/>
        </p:nvSpPr>
        <p:spPr>
          <a:xfrm>
            <a:off x="657360" y="380880"/>
            <a:ext cx="777240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Arial"/>
              </a:rPr>
              <a:t>Аспекты организационного профил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3"/>
          <p:cNvSpPr/>
          <p:nvPr/>
        </p:nvSpPr>
        <p:spPr>
          <a:xfrm>
            <a:off x="393840" y="1201680"/>
            <a:ext cx="8424720" cy="52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А.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Область применения СМК</a:t>
            </a:r>
            <a:r>
              <a:rPr b="0" lang="ru-RU" sz="2000" spc="-1" strike="noStrike" u="sng">
                <a:solidFill>
                  <a:srgbClr val="333399"/>
                </a:solidFill>
                <a:uFillTx/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Б.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2000" spc="-1" strike="noStrike" u="sng">
                <a:solidFill>
                  <a:srgbClr val="3333ff"/>
                </a:solidFill>
                <a:uFillTx/>
                <a:latin typeface="Arial"/>
              </a:rPr>
              <a:t>Понимание возможностей организации</a:t>
            </a:r>
            <a:r>
              <a:rPr b="1" lang="ru-RU" sz="2000" spc="-1" strike="noStrike">
                <a:solidFill>
                  <a:srgbClr val="3333ff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В.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Понимание человеческого потенциал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Г.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Понимание окружающей сред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Д.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Конкурентная ситуа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3" dur="80"/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4" dur="80"/>
                                        <p:tgtEl>
                                          <p:spTgt spid="2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5" dur="80"/>
                                        <p:tgtEl>
                                          <p:spTgt spid="2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240"/>
                            </p:stCondLst>
                            <p:childTnLst>
                              <p:par>
                                <p:cTn id="19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1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2" descr="img3"/>
          <p:cNvPicPr/>
          <p:nvPr/>
        </p:nvPicPr>
        <p:blipFill>
          <a:blip r:embed="rId1"/>
          <a:stretch/>
        </p:blipFill>
        <p:spPr>
          <a:xfrm>
            <a:off x="360360" y="623880"/>
            <a:ext cx="8431200" cy="596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2"/>
          <p:cNvSpPr/>
          <p:nvPr/>
        </p:nvSpPr>
        <p:spPr>
          <a:xfrm>
            <a:off x="657360" y="380880"/>
            <a:ext cx="777240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Аспекты организационного профил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3"/>
          <p:cNvSpPr/>
          <p:nvPr/>
        </p:nvSpPr>
        <p:spPr>
          <a:xfrm>
            <a:off x="393840" y="1201680"/>
            <a:ext cx="8424720" cy="52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Б.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Понимание возможностей организации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3300"/>
                </a:solidFill>
                <a:uFillTx/>
                <a:latin typeface="Arial"/>
              </a:rPr>
              <a:t>Принципы менеджмента</a:t>
            </a: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,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видение, миссия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Уровень технологий и знаний, которыми обладает организац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Уровень менеджмента (</a:t>
            </a: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уровень зрелости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Уровень возможностей осуществления различных </a:t>
            </a: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функций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менеджмента (планирование, проектирование и разработка, производство продукции, маркетинг и продажи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Производственные здания и оборудовани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Финансовые ресурс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Преимущества основных видов продукци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Примечание:  Появление в 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ISO 9004:2009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ff"/>
                </a:solidFill>
                <a:latin typeface="Arial"/>
              </a:rPr>
              <a:t>термина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 функ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8" dur="80"/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9" dur="80"/>
                                        <p:tgtEl>
                                          <p:spTgt spid="2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0" dur="80"/>
                                        <p:tgtEl>
                                          <p:spTgt spid="2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1240"/>
                            </p:stCondLst>
                            <p:childTnLst>
                              <p:par>
                                <p:cTn id="21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6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0" name=""/>
          <p:cNvGraphicFramePr/>
          <p:nvPr/>
        </p:nvGraphicFramePr>
        <p:xfrm>
          <a:off x="826920" y="833400"/>
          <a:ext cx="7936200" cy="5364360"/>
        </p:xfrm>
        <a:graphic>
          <a:graphicData uri="http://schemas.openxmlformats.org/drawingml/2006/table">
            <a:tbl>
              <a:tblPr/>
              <a:tblGrid>
                <a:gridCol w="1873440"/>
                <a:gridCol w="804960"/>
                <a:gridCol w="5257800"/>
              </a:tblGrid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81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8000"/>
                          </a:solidFill>
                          <a:latin typeface="AGLetterica"/>
                        </a:rPr>
                        <a:t>Организация, ориентированная на потребител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рганизации зависят от  своих потребителей, и поэтому должны понимать их текущие и будущие потребности, выполнять их требования и стремиться превзойти их ожид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81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8000"/>
                          </a:solidFill>
                          <a:latin typeface="AGLetterica"/>
                        </a:rPr>
                        <a:t>Лидерство руководител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уководители обеспечивают единство цели и направления деятельности организации. Им следует создавать и поддерживать внутреннюю среду, в которой работники могут быть полностью вовлечены в решение задач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81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8000"/>
                          </a:solidFill>
                          <a:latin typeface="AGLetterica"/>
                        </a:rPr>
                        <a:t>Вовлечение персонал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ботники всех уровней составляют основу организации, и их полное вовлечение дает возможность с выгодой использовать их способно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81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8000"/>
                          </a:solidFill>
                          <a:latin typeface="AGLetterica"/>
                        </a:rPr>
                        <a:t>Процессный подх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Желаемый результат достигается эффективнее, когда деятельностью и соответствующими ресурсами управляют как процессо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81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8000"/>
                          </a:solidFill>
                          <a:latin typeface="AGLetterica"/>
                        </a:rPr>
                        <a:t>Системный подход к менеджмент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явление, понимание и менеджмент взаимосвязанных процессов как системой вносят вклад в результативность и эффективность организации при достижении ее цел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81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8000"/>
                          </a:solidFill>
                          <a:latin typeface="AGLetterica"/>
                        </a:rPr>
                        <a:t>Постоянное улучш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стоянное улучшение деятельности организации в целом следует рассматривать как ее неизменную цел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9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81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8000"/>
                          </a:solidFill>
                          <a:latin typeface="AGLetterica"/>
                        </a:rPr>
                        <a:t>Принятие решений на основе фактических данн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ффективные решения основываются на анализе данных и информации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81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8000"/>
                          </a:solidFill>
                          <a:latin typeface="AGLetterica"/>
                        </a:rPr>
                        <a:t>Взаимовыгодные отношения с поставщика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рганизация и ее поставщики взаимозависимы, и отношения взаимной выгоды повышают способность обеих сторон создавать ценно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1" name="AutoShape 51"/>
          <p:cNvSpPr/>
          <p:nvPr/>
        </p:nvSpPr>
        <p:spPr>
          <a:xfrm>
            <a:off x="2743200" y="990720"/>
            <a:ext cx="685800" cy="380880"/>
          </a:xfrm>
          <a:custGeom>
            <a:avLst/>
            <a:gdLst>
              <a:gd name="textAreaLeft" fmla="*/ 0 w 685800"/>
              <a:gd name="textAreaRight" fmla="*/ 686160 w 68580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lnTo>
                  <a:pt x="7200" y="10800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  </a:t>
            </a:r>
            <a:r>
              <a:rPr b="1" lang="ru-RU" sz="1400" spc="-1" strike="noStrike">
                <a:solidFill>
                  <a:srgbClr val="000000"/>
                </a:solidFill>
                <a:latin typeface="Arial Black"/>
                <a:ea typeface="Arial Unicode MS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AutoShape 52"/>
          <p:cNvSpPr/>
          <p:nvPr/>
        </p:nvSpPr>
        <p:spPr>
          <a:xfrm>
            <a:off x="2743200" y="1752480"/>
            <a:ext cx="685800" cy="381240"/>
          </a:xfrm>
          <a:custGeom>
            <a:avLst/>
            <a:gdLst>
              <a:gd name="textAreaLeft" fmla="*/ 0 w 685800"/>
              <a:gd name="textAreaRight" fmla="*/ 686160 w 6858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lnTo>
                  <a:pt x="7200" y="10800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Black"/>
                <a:ea typeface="Arial Unicode MS"/>
              </a:rPr>
              <a:t>  </a:t>
            </a:r>
            <a:r>
              <a:rPr b="1" lang="ru-RU" sz="1400" spc="-1" strike="noStrike">
                <a:solidFill>
                  <a:srgbClr val="000000"/>
                </a:solidFill>
                <a:latin typeface="Arial Black"/>
                <a:ea typeface="Arial Unicode MS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AutoShape 53"/>
          <p:cNvSpPr/>
          <p:nvPr/>
        </p:nvSpPr>
        <p:spPr>
          <a:xfrm>
            <a:off x="2743200" y="2400480"/>
            <a:ext cx="685800" cy="380880"/>
          </a:xfrm>
          <a:custGeom>
            <a:avLst/>
            <a:gdLst>
              <a:gd name="textAreaLeft" fmla="*/ 0 w 685800"/>
              <a:gd name="textAreaRight" fmla="*/ 686160 w 68580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lnTo>
                  <a:pt x="7200" y="1080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  </a:t>
            </a:r>
            <a:r>
              <a:rPr b="1" lang="ru-RU" sz="1400" spc="-1" strike="noStrike">
                <a:solidFill>
                  <a:srgbClr val="000000"/>
                </a:solidFill>
                <a:latin typeface="Arial Black"/>
                <a:ea typeface="Arial Unicode MS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AutoShape 54"/>
          <p:cNvSpPr/>
          <p:nvPr/>
        </p:nvSpPr>
        <p:spPr>
          <a:xfrm>
            <a:off x="2743200" y="2979720"/>
            <a:ext cx="685800" cy="304920"/>
          </a:xfrm>
          <a:custGeom>
            <a:avLst/>
            <a:gdLst>
              <a:gd name="textAreaLeft" fmla="*/ 0 w 685800"/>
              <a:gd name="textAreaRight" fmla="*/ 686160 w 68580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lnTo>
                  <a:pt x="7200" y="1080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  </a:t>
            </a:r>
            <a:r>
              <a:rPr b="1" lang="ru-RU" sz="1400" spc="-1" strike="noStrike">
                <a:solidFill>
                  <a:srgbClr val="000000"/>
                </a:solidFill>
                <a:latin typeface="Arial Black"/>
                <a:ea typeface="Arial Unicode MS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AutoShape 55"/>
          <p:cNvSpPr/>
          <p:nvPr/>
        </p:nvSpPr>
        <p:spPr>
          <a:xfrm>
            <a:off x="2743200" y="3552840"/>
            <a:ext cx="685800" cy="380880"/>
          </a:xfrm>
          <a:custGeom>
            <a:avLst/>
            <a:gdLst>
              <a:gd name="textAreaLeft" fmla="*/ 0 w 685800"/>
              <a:gd name="textAreaRight" fmla="*/ 686160 w 68580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lnTo>
                  <a:pt x="7200" y="1080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  </a:t>
            </a:r>
            <a:r>
              <a:rPr b="1" lang="ru-RU" sz="1400" spc="-1" strike="noStrike">
                <a:solidFill>
                  <a:srgbClr val="000000"/>
                </a:solidFill>
                <a:latin typeface="Arial Black"/>
                <a:ea typeface="Arial Unicode MS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AutoShape 56"/>
          <p:cNvSpPr/>
          <p:nvPr/>
        </p:nvSpPr>
        <p:spPr>
          <a:xfrm>
            <a:off x="2743200" y="4203720"/>
            <a:ext cx="685800" cy="304920"/>
          </a:xfrm>
          <a:custGeom>
            <a:avLst/>
            <a:gdLst>
              <a:gd name="textAreaLeft" fmla="*/ 0 w 685800"/>
              <a:gd name="textAreaRight" fmla="*/ 686160 w 68580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lnTo>
                  <a:pt x="7200" y="1080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  </a:t>
            </a:r>
            <a:r>
              <a:rPr b="1" lang="ru-RU" sz="1400" spc="-1" strike="noStrike">
                <a:solidFill>
                  <a:srgbClr val="000000"/>
                </a:solidFill>
                <a:latin typeface="Arial Black"/>
                <a:ea typeface="Arial Unicode MS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AutoShape 57"/>
          <p:cNvSpPr/>
          <p:nvPr/>
        </p:nvSpPr>
        <p:spPr>
          <a:xfrm>
            <a:off x="2743200" y="4919760"/>
            <a:ext cx="685800" cy="380880"/>
          </a:xfrm>
          <a:custGeom>
            <a:avLst/>
            <a:gdLst>
              <a:gd name="textAreaLeft" fmla="*/ 0 w 685800"/>
              <a:gd name="textAreaRight" fmla="*/ 686160 w 68580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lnTo>
                  <a:pt x="7200" y="10800"/>
                </a:lnTo>
                <a:close/>
              </a:path>
            </a:pathLst>
          </a:cu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  </a:t>
            </a:r>
            <a:r>
              <a:rPr b="1" lang="ru-RU" sz="1400" spc="-1" strike="noStrike">
                <a:solidFill>
                  <a:srgbClr val="000000"/>
                </a:solidFill>
                <a:latin typeface="Arial Black"/>
                <a:ea typeface="Arial Unicode MS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AutoShape 58"/>
          <p:cNvSpPr/>
          <p:nvPr/>
        </p:nvSpPr>
        <p:spPr>
          <a:xfrm>
            <a:off x="2743200" y="5784840"/>
            <a:ext cx="685800" cy="380880"/>
          </a:xfrm>
          <a:custGeom>
            <a:avLst/>
            <a:gdLst>
              <a:gd name="textAreaLeft" fmla="*/ 0 w 685800"/>
              <a:gd name="textAreaRight" fmla="*/ 686160 w 68580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lnTo>
                  <a:pt x="7200" y="10800"/>
                </a:lnTo>
                <a:close/>
              </a:path>
            </a:pathLst>
          </a:cu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  </a:t>
            </a:r>
            <a:r>
              <a:rPr b="1" lang="ru-RU" sz="1400" spc="-1" strike="noStrike">
                <a:solidFill>
                  <a:srgbClr val="000000"/>
                </a:solidFill>
                <a:latin typeface="Arial Black"/>
                <a:ea typeface="Arial Unicode MS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723960" y="304560"/>
            <a:ext cx="798192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Принципы менеджмента каче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60"/>
          <p:cNvSpPr/>
          <p:nvPr/>
        </p:nvSpPr>
        <p:spPr>
          <a:xfrm>
            <a:off x="3492360" y="836640"/>
            <a:ext cx="5256360" cy="5472000"/>
          </a:xfrm>
          <a:prstGeom prst="rect">
            <a:avLst/>
          </a:prstGeom>
          <a:solidFill>
            <a:srgbClr val="ccffcc">
              <a:alpha val="1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0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3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3000"/>
                            </p:stCondLst>
                            <p:childTnLst>
                              <p:par>
                                <p:cTn id="239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4000"/>
                            </p:stCondLst>
                            <p:childTnLst>
                              <p:par>
                                <p:cTn id="24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5000"/>
                            </p:stCondLst>
                            <p:childTnLst>
                              <p:par>
                                <p:cTn id="25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7000"/>
                            </p:stCondLst>
                            <p:childTnLst>
                              <p:par>
                                <p:cTn id="263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ff"/>
                </a:solidFill>
                <a:latin typeface="Arial"/>
              </a:rPr>
              <a:t>Принципы менеджмента качества</a:t>
            </a:r>
            <a:br>
              <a:rPr sz="3200"/>
            </a:b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ISO 9004:200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457200" y="1600200"/>
            <a:ext cx="8229600" cy="497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Принцип 1: Ориентация на потребителя</a:t>
            </a: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рганизации зависят от своих потребителей и поэтому должны знать текущие и будущие потребност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требителя, должны удовлетворять требования потребителя и прилагать усилия для того, чтоб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восходить ожид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а) Ключевые преимуществ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озросший доход и доля рынка, достигнутые за счет гибкой и быстрой реакции на возможности, предоставляемые рынком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озросшая результативность использования ресурсов организации для повыше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довлетворенности потребителя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озросшая 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лояльность потребителей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, ведущая к повторным заказа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б) Применение принципа ориентации на потребителя обычно ведет 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зучению и 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пониманию потребностей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ожиданий потребителя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змерению 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удовлетворенности потребителя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действиям по результатам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обеспечению сбалансированности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ежду удовлетворением потребителей и других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аинтересованных сторон (таких как владельцы, сотрудники, поставщики, финансистов, насел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егиона и общества в целом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ff"/>
                </a:solidFill>
                <a:latin typeface="Arial"/>
              </a:rPr>
              <a:t>Принципы менеджмента качества</a:t>
            </a:r>
            <a:br>
              <a:rPr sz="3200"/>
            </a:b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ISO 9004:200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457200" y="1599840"/>
            <a:ext cx="8229600" cy="503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Принцип 2: Лидер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идеры обеспечивают единство целей и направления движения организации. Они должны создавать и поддерживать внутреннюю среду, в которой люди могут стать полностью вовлеченными в достижение целей организа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а) Ключевые преимуществ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 люди будут понимать и быть мотивированными на достижение целей и задач организации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 деятельность оценивается, выстраивается и выполняется единым образом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 конфликты между разными уровнями организации будут сведены к минимум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б) Применение принципа лидерства обычно ведет 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 учитыванию потребностей всех заинтересованных сторон, включая потребителей, владельцев, сотрудников, поставщиков, финансистов, население региона и общество в целом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 разработке ясного 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видения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будущего организации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 постановке стимулирующих целей и задач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 разработке и поддержанию общих 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ценностей,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моделей поведения, основанных на справедливости и этике на всех уровнях организации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 …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AutoShape 2"/>
          <p:cNvSpPr/>
          <p:nvPr/>
        </p:nvSpPr>
        <p:spPr>
          <a:xfrm rot="16200000">
            <a:off x="1871640" y="-135360"/>
            <a:ext cx="5040360" cy="799308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3"/>
          <p:cNvSpPr/>
          <p:nvPr/>
        </p:nvSpPr>
        <p:spPr>
          <a:xfrm rot="5400000">
            <a:off x="1871280" y="-135000"/>
            <a:ext cx="5040360" cy="7993080"/>
          </a:xfrm>
          <a:prstGeom prst="rtTriangle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4"/>
          <p:cNvSpPr/>
          <p:nvPr/>
        </p:nvSpPr>
        <p:spPr>
          <a:xfrm>
            <a:off x="6443640" y="1341360"/>
            <a:ext cx="1944720" cy="1224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5"/>
          <p:cNvSpPr/>
          <p:nvPr/>
        </p:nvSpPr>
        <p:spPr>
          <a:xfrm>
            <a:off x="395280" y="5084640"/>
            <a:ext cx="2016000" cy="12970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ff"/>
                </a:solidFill>
                <a:latin typeface="Arial"/>
              </a:rPr>
              <a:t>Взаимосвязь общего менеджмента и менеджмента каче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7"/>
          <p:cNvSpPr/>
          <p:nvPr/>
        </p:nvSpPr>
        <p:spPr>
          <a:xfrm flipV="1">
            <a:off x="395280" y="1341000"/>
            <a:ext cx="7993080" cy="5040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8"/>
          <p:cNvSpPr/>
          <p:nvPr/>
        </p:nvSpPr>
        <p:spPr>
          <a:xfrm>
            <a:off x="395280" y="3933720"/>
            <a:ext cx="3889440" cy="244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9"/>
          <p:cNvSpPr/>
          <p:nvPr/>
        </p:nvSpPr>
        <p:spPr>
          <a:xfrm>
            <a:off x="395280" y="2565360"/>
            <a:ext cx="6048360" cy="381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0"/>
          <p:cNvSpPr/>
          <p:nvPr/>
        </p:nvSpPr>
        <p:spPr>
          <a:xfrm>
            <a:off x="395280" y="1341360"/>
            <a:ext cx="7993080" cy="504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11"/>
          <p:cNvSpPr/>
          <p:nvPr/>
        </p:nvSpPr>
        <p:spPr>
          <a:xfrm flipV="1">
            <a:off x="395280" y="692280"/>
            <a:ext cx="0" cy="5689440"/>
          </a:xfrm>
          <a:prstGeom prst="line">
            <a:avLst/>
          </a:prstGeom>
          <a:ln w="19080">
            <a:solidFill>
              <a:srgbClr val="ff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12"/>
          <p:cNvSpPr/>
          <p:nvPr/>
        </p:nvSpPr>
        <p:spPr>
          <a:xfrm>
            <a:off x="395280" y="6381720"/>
            <a:ext cx="8282160" cy="0"/>
          </a:xfrm>
          <a:prstGeom prst="line">
            <a:avLst/>
          </a:prstGeom>
          <a:ln w="190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3"/>
          <p:cNvSpPr/>
          <p:nvPr/>
        </p:nvSpPr>
        <p:spPr>
          <a:xfrm>
            <a:off x="6446160" y="5950080"/>
            <a:ext cx="269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ff"/>
                </a:solidFill>
                <a:latin typeface="Garamond"/>
              </a:rPr>
              <a:t>Общий менеджме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4"/>
          <p:cNvSpPr/>
          <p:nvPr/>
        </p:nvSpPr>
        <p:spPr>
          <a:xfrm>
            <a:off x="260640" y="620640"/>
            <a:ext cx="178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ff"/>
                </a:solidFill>
                <a:latin typeface="Garamond"/>
              </a:rPr>
              <a:t>Менеджме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ff"/>
                </a:solidFill>
                <a:latin typeface="Garamond"/>
              </a:rPr>
              <a:t>кач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5"/>
          <p:cNvSpPr/>
          <p:nvPr/>
        </p:nvSpPr>
        <p:spPr>
          <a:xfrm>
            <a:off x="659880" y="6381720"/>
            <a:ext cx="139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aramond"/>
              </a:rPr>
              <a:t>1900 - 19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6"/>
          <p:cNvSpPr/>
          <p:nvPr/>
        </p:nvSpPr>
        <p:spPr>
          <a:xfrm>
            <a:off x="2675880" y="6381720"/>
            <a:ext cx="139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aramond"/>
              </a:rPr>
              <a:t>1920 - 19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7"/>
          <p:cNvSpPr/>
          <p:nvPr/>
        </p:nvSpPr>
        <p:spPr>
          <a:xfrm>
            <a:off x="4691880" y="6381720"/>
            <a:ext cx="139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aramond"/>
              </a:rPr>
              <a:t>1950 - 19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8"/>
          <p:cNvSpPr/>
          <p:nvPr/>
        </p:nvSpPr>
        <p:spPr>
          <a:xfrm>
            <a:off x="6270120" y="6381720"/>
            <a:ext cx="231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aramond"/>
              </a:rPr>
              <a:t>1980 - наст. врем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9"/>
          <p:cNvSpPr/>
          <p:nvPr/>
        </p:nvSpPr>
        <p:spPr>
          <a:xfrm>
            <a:off x="746280" y="5373720"/>
            <a:ext cx="120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ff"/>
                </a:solidFill>
                <a:latin typeface="Garamond"/>
              </a:rPr>
              <a:t>Систе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ff"/>
                </a:solidFill>
                <a:latin typeface="Garamond"/>
              </a:rPr>
              <a:t>Тейло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20"/>
          <p:cNvSpPr/>
          <p:nvPr/>
        </p:nvSpPr>
        <p:spPr>
          <a:xfrm>
            <a:off x="6336360" y="1341360"/>
            <a:ext cx="168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ff"/>
                </a:solidFill>
                <a:latin typeface="Garamond"/>
              </a:rPr>
              <a:t>M</a:t>
            </a:r>
            <a:r>
              <a:rPr b="1" lang="en-US" sz="1800" spc="-1" strike="noStrike">
                <a:solidFill>
                  <a:srgbClr val="808080"/>
                </a:solidFill>
                <a:latin typeface="Garamond"/>
              </a:rPr>
              <a:t>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ff"/>
                </a:solidFill>
                <a:latin typeface="Garamond"/>
              </a:rPr>
              <a:t>B</a:t>
            </a:r>
            <a:r>
              <a:rPr b="1" lang="en-US" sz="1800" spc="-1" strike="noStrike">
                <a:solidFill>
                  <a:srgbClr val="808080"/>
                </a:solidFill>
                <a:latin typeface="Garamond"/>
              </a:rPr>
              <a:t>y </a:t>
            </a:r>
            <a:r>
              <a:rPr b="1" lang="en-US" sz="1800" spc="-1" strike="noStrike">
                <a:solidFill>
                  <a:srgbClr val="ff00ff"/>
                </a:solidFill>
                <a:latin typeface="Garamond"/>
              </a:rPr>
              <a:t>Q</a:t>
            </a:r>
            <a:r>
              <a:rPr b="1" lang="en-US" sz="1800" spc="-1" strike="noStrike">
                <a:solidFill>
                  <a:srgbClr val="808080"/>
                </a:solidFill>
                <a:latin typeface="Garamond"/>
              </a:rPr>
              <a:t>u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21"/>
          <p:cNvSpPr/>
          <p:nvPr/>
        </p:nvSpPr>
        <p:spPr>
          <a:xfrm>
            <a:off x="6844680" y="1989000"/>
            <a:ext cx="173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Garamond"/>
              </a:rPr>
              <a:t>M</a:t>
            </a:r>
            <a:r>
              <a:rPr b="1" lang="en-US" sz="1800" spc="-1" strike="noStrike">
                <a:solidFill>
                  <a:srgbClr val="808080"/>
                </a:solidFill>
                <a:latin typeface="Garamond"/>
              </a:rPr>
              <a:t>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Garamond"/>
              </a:rPr>
              <a:t>B</a:t>
            </a:r>
            <a:r>
              <a:rPr b="1" lang="en-US" sz="1800" spc="-1" strike="noStrike">
                <a:solidFill>
                  <a:srgbClr val="808080"/>
                </a:solidFill>
                <a:latin typeface="Garamond"/>
              </a:rPr>
              <a:t>y </a:t>
            </a:r>
            <a:r>
              <a:rPr b="1" lang="en-US" sz="1800" spc="-1" strike="noStrike">
                <a:solidFill>
                  <a:srgbClr val="ffff00"/>
                </a:solidFill>
                <a:latin typeface="Garamond"/>
              </a:rPr>
              <a:t>O</a:t>
            </a:r>
            <a:r>
              <a:rPr b="1" lang="en-US" sz="1800" spc="-1" strike="noStrike">
                <a:solidFill>
                  <a:srgbClr val="808080"/>
                </a:solidFill>
                <a:latin typeface="Garamond"/>
              </a:rPr>
              <a:t>bject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22"/>
          <p:cNvSpPr/>
          <p:nvPr/>
        </p:nvSpPr>
        <p:spPr>
          <a:xfrm>
            <a:off x="149760" y="3933720"/>
            <a:ext cx="336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ff"/>
                </a:solidFill>
                <a:latin typeface="Garamond"/>
              </a:rPr>
              <a:t>SQC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ff"/>
                </a:solidFill>
                <a:latin typeface="Garamond"/>
              </a:rPr>
              <a:t>Теория надежности</a:t>
            </a:r>
            <a:r>
              <a:rPr b="0" lang="en-US" sz="1600" spc="-1" strike="noStrike">
                <a:solidFill>
                  <a:srgbClr val="3333ff"/>
                </a:solidFill>
                <a:latin typeface="Garamond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ff"/>
                </a:solidFill>
                <a:latin typeface="Garamond"/>
              </a:rPr>
              <a:t>Планирование эксперимент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23"/>
          <p:cNvSpPr/>
          <p:nvPr/>
        </p:nvSpPr>
        <p:spPr>
          <a:xfrm>
            <a:off x="2411280" y="5084640"/>
            <a:ext cx="2171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ff"/>
                </a:solidFill>
                <a:latin typeface="Garamond"/>
              </a:rPr>
              <a:t>Классическ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ff"/>
                </a:solidFill>
                <a:latin typeface="Garamond"/>
              </a:rPr>
              <a:t>школа менеджмента</a:t>
            </a:r>
            <a:r>
              <a:rPr b="0" lang="en-US" sz="1600" spc="-1" strike="noStrike">
                <a:solidFill>
                  <a:srgbClr val="3333ff"/>
                </a:solidFill>
                <a:latin typeface="Garamond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ff"/>
                </a:solidFill>
                <a:latin typeface="Garamond"/>
              </a:rPr>
              <a:t>Доктри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ff"/>
                </a:solidFill>
                <a:latin typeface="Garamond"/>
              </a:rPr>
              <a:t>«человечески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ff"/>
                </a:solidFill>
                <a:latin typeface="Garamond"/>
              </a:rPr>
              <a:t>отношений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24"/>
          <p:cNvSpPr/>
          <p:nvPr/>
        </p:nvSpPr>
        <p:spPr>
          <a:xfrm>
            <a:off x="539640" y="2492280"/>
            <a:ext cx="41036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ff"/>
                </a:solidFill>
                <a:latin typeface="Garamond"/>
              </a:rPr>
              <a:t>TQC, CWQC (Company Wide Quality Control</a:t>
            </a:r>
            <a:r>
              <a:rPr b="0" lang="ru-RU" sz="1600" spc="-1" strike="noStrike">
                <a:solidFill>
                  <a:srgbClr val="3333ff"/>
                </a:solidFill>
                <a:latin typeface="Garamond"/>
              </a:rPr>
              <a:t> </a:t>
            </a:r>
            <a:r>
              <a:rPr b="0" lang="en-US" sz="1600" spc="-1" strike="noStrike">
                <a:solidFill>
                  <a:srgbClr val="3333ff"/>
                </a:solidFill>
                <a:latin typeface="Garamond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ff"/>
                </a:solidFill>
                <a:latin typeface="Garamond"/>
              </a:rPr>
              <a:t>QC-circle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ff"/>
                </a:solidFill>
                <a:latin typeface="Garamond"/>
              </a:rPr>
              <a:t>Zero-Defects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ff"/>
                </a:solidFill>
                <a:latin typeface="Garamond"/>
              </a:rPr>
              <a:t>Семь инструментов качества</a:t>
            </a:r>
            <a:r>
              <a:rPr b="0" lang="en-US" sz="1600" spc="-1" strike="noStrike">
                <a:solidFill>
                  <a:srgbClr val="3333ff"/>
                </a:solidFill>
                <a:latin typeface="Garamond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ff"/>
                </a:solidFill>
                <a:latin typeface="Garamond"/>
              </a:rPr>
              <a:t>Инжиниринг качества (методы Тагути, </a:t>
            </a:r>
            <a:r>
              <a:rPr b="0" lang="en-US" sz="1600" spc="-1" strike="noStrike">
                <a:solidFill>
                  <a:srgbClr val="3333ff"/>
                </a:solidFill>
                <a:latin typeface="Garamond"/>
              </a:rPr>
              <a:t>QFD</a:t>
            </a:r>
            <a:r>
              <a:rPr b="0" lang="ru-RU" sz="1600" spc="-1" strike="noStrike">
                <a:solidFill>
                  <a:srgbClr val="3333ff"/>
                </a:solidFill>
                <a:latin typeface="Garamond"/>
              </a:rPr>
              <a:t>)</a:t>
            </a:r>
            <a:r>
              <a:rPr b="0" lang="ru-RU" sz="1600" spc="-1" strike="noStrike">
                <a:solidFill>
                  <a:srgbClr val="808080"/>
                </a:solidFill>
                <a:latin typeface="Garamond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25"/>
          <p:cNvSpPr/>
          <p:nvPr/>
        </p:nvSpPr>
        <p:spPr>
          <a:xfrm>
            <a:off x="4427640" y="3933720"/>
            <a:ext cx="21715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ff"/>
                </a:solidFill>
                <a:latin typeface="Garamond"/>
              </a:rPr>
              <a:t>Матричная организационная структура</a:t>
            </a:r>
            <a:r>
              <a:rPr b="0" lang="en-US" sz="1600" spc="-1" strike="noStrike">
                <a:solidFill>
                  <a:srgbClr val="3333ff"/>
                </a:solidFill>
                <a:latin typeface="Garamond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ff"/>
                </a:solidFill>
                <a:latin typeface="Garamond"/>
              </a:rPr>
              <a:t>Системный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ff"/>
                </a:solidFill>
                <a:latin typeface="Garamond"/>
              </a:rPr>
              <a:t>Ситуационный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ff"/>
                </a:solidFill>
                <a:latin typeface="Garamond"/>
              </a:rPr>
              <a:t>Поведенческ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ff"/>
                </a:solidFill>
                <a:latin typeface="Garamond"/>
              </a:rPr>
              <a:t>подход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26"/>
          <p:cNvSpPr/>
          <p:nvPr/>
        </p:nvSpPr>
        <p:spPr>
          <a:xfrm>
            <a:off x="6516720" y="2924280"/>
            <a:ext cx="217152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ff"/>
                </a:solidFill>
                <a:latin typeface="Garamond"/>
              </a:rPr>
              <a:t>«Отраслевой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ff"/>
                </a:solidFill>
                <a:latin typeface="Garamond"/>
              </a:rPr>
              <a:t>менеджмент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ff"/>
              </a:buClr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ff"/>
                </a:solidFill>
                <a:latin typeface="Garamond"/>
              </a:rPr>
              <a:t> </a:t>
            </a:r>
            <a:r>
              <a:rPr b="0" lang="ru-RU" sz="1600" spc="-1" strike="noStrike">
                <a:solidFill>
                  <a:srgbClr val="3333ff"/>
                </a:solidFill>
                <a:latin typeface="Garamond"/>
              </a:rPr>
              <a:t>финансовы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ff"/>
              </a:buClr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ff"/>
                </a:solidFill>
                <a:latin typeface="Garamond"/>
              </a:rPr>
              <a:t> </a:t>
            </a:r>
            <a:r>
              <a:rPr b="0" lang="ru-RU" sz="1600" spc="-1" strike="noStrike">
                <a:solidFill>
                  <a:srgbClr val="3333ff"/>
                </a:solidFill>
                <a:latin typeface="Garamond"/>
              </a:rPr>
              <a:t>персональны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ff"/>
              </a:buClr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ff"/>
                </a:solidFill>
                <a:latin typeface="Garamond"/>
              </a:rPr>
              <a:t> </a:t>
            </a:r>
            <a:r>
              <a:rPr b="0" lang="ru-RU" sz="1600" spc="-1" strike="noStrike">
                <a:solidFill>
                  <a:srgbClr val="3333ff"/>
                </a:solidFill>
                <a:latin typeface="Garamond"/>
              </a:rPr>
              <a:t>в проектирован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ff"/>
              </a:buClr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ff"/>
                </a:solidFill>
                <a:latin typeface="Garamond"/>
              </a:rPr>
              <a:t> </a:t>
            </a:r>
            <a:r>
              <a:rPr b="0" lang="ru-RU" sz="1600" spc="-1" strike="noStrike">
                <a:solidFill>
                  <a:srgbClr val="3333ff"/>
                </a:solidFill>
                <a:latin typeface="Garamond"/>
              </a:rPr>
              <a:t>инновационны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ff"/>
              </a:buClr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ff"/>
                </a:solidFill>
                <a:latin typeface="Garamond"/>
              </a:rPr>
              <a:t> </a:t>
            </a:r>
            <a:r>
              <a:rPr b="0" lang="ru-RU" sz="1600" spc="-1" strike="noStrike">
                <a:solidFill>
                  <a:srgbClr val="3333ff"/>
                </a:solidFill>
                <a:latin typeface="Garamond"/>
              </a:rPr>
              <a:t>в маркетинг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ff"/>
              </a:buClr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ff"/>
                </a:solidFill>
                <a:latin typeface="Garamond"/>
              </a:rPr>
              <a:t> </a:t>
            </a:r>
            <a:r>
              <a:rPr b="0" lang="ru-RU" sz="1600" spc="-1" strike="noStrike">
                <a:solidFill>
                  <a:srgbClr val="3333ff"/>
                </a:solidFill>
                <a:latin typeface="Garamond"/>
              </a:rPr>
              <a:t>в производств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ff"/>
              </a:buClr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ff"/>
                </a:solidFill>
                <a:latin typeface="Garamond"/>
              </a:rPr>
              <a:t> </a:t>
            </a:r>
            <a:r>
              <a:rPr b="0" lang="ru-RU" sz="1600" spc="-1" strike="noStrike">
                <a:solidFill>
                  <a:srgbClr val="ff3300"/>
                </a:solidFill>
                <a:latin typeface="Garamond"/>
              </a:rPr>
              <a:t>конкурентоспособ-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3300"/>
                </a:solidFill>
                <a:latin typeface="Garamond"/>
              </a:rPr>
              <a:t> </a:t>
            </a:r>
            <a:r>
              <a:rPr b="0" lang="ru-RU" sz="1600" spc="-1" strike="noStrike">
                <a:solidFill>
                  <a:srgbClr val="ff3300"/>
                </a:solidFill>
                <a:latin typeface="Garamond"/>
              </a:rPr>
              <a:t>рис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27"/>
          <p:cNvSpPr/>
          <p:nvPr/>
        </p:nvSpPr>
        <p:spPr>
          <a:xfrm>
            <a:off x="539640" y="1484280"/>
            <a:ext cx="5773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ff"/>
                </a:solidFill>
                <a:latin typeface="Garamond"/>
              </a:rPr>
              <a:t>TQM, ISO 900</a:t>
            </a:r>
            <a:r>
              <a:rPr b="0" lang="ru-RU" sz="1600" spc="-1" strike="noStrike">
                <a:solidFill>
                  <a:srgbClr val="3333ff"/>
                </a:solidFill>
                <a:latin typeface="Garamond"/>
              </a:rPr>
              <a:t>1</a:t>
            </a:r>
            <a:r>
              <a:rPr b="0" lang="en-US" sz="1600" spc="-1" strike="noStrike">
                <a:solidFill>
                  <a:srgbClr val="3333ff"/>
                </a:solidFill>
                <a:latin typeface="Garamond"/>
              </a:rPr>
              <a:t>:</a:t>
            </a:r>
            <a:r>
              <a:rPr b="0" lang="ru-RU" sz="1600" spc="-1" strike="noStrike">
                <a:solidFill>
                  <a:srgbClr val="3333ff"/>
                </a:solidFill>
                <a:latin typeface="Garamond"/>
              </a:rPr>
              <a:t>19</a:t>
            </a:r>
            <a:r>
              <a:rPr b="0" lang="en-US" sz="1600" spc="-1" strike="noStrike">
                <a:solidFill>
                  <a:srgbClr val="3333ff"/>
                </a:solidFill>
                <a:latin typeface="Garamond"/>
              </a:rPr>
              <a:t>94, ISO</a:t>
            </a:r>
            <a:r>
              <a:rPr b="0" lang="ru-RU" sz="1600" spc="-1" strike="noStrike">
                <a:solidFill>
                  <a:srgbClr val="3333ff"/>
                </a:solidFill>
                <a:latin typeface="Garamond"/>
              </a:rPr>
              <a:t> </a:t>
            </a:r>
            <a:r>
              <a:rPr b="0" lang="en-US" sz="1600" spc="-1" strike="noStrike">
                <a:solidFill>
                  <a:srgbClr val="3333ff"/>
                </a:solidFill>
                <a:latin typeface="Garamond"/>
              </a:rPr>
              <a:t>900</a:t>
            </a:r>
            <a:r>
              <a:rPr b="0" lang="ru-RU" sz="1600" spc="-1" strike="noStrike">
                <a:solidFill>
                  <a:srgbClr val="3333ff"/>
                </a:solidFill>
                <a:latin typeface="Garamond"/>
              </a:rPr>
              <a:t>1</a:t>
            </a:r>
            <a:r>
              <a:rPr b="0" lang="en-US" sz="1600" spc="-1" strike="noStrike">
                <a:solidFill>
                  <a:srgbClr val="3333ff"/>
                </a:solidFill>
                <a:latin typeface="Garamond"/>
              </a:rPr>
              <a:t>:2000</a:t>
            </a:r>
            <a:r>
              <a:rPr b="0" lang="ru-RU" sz="1600" spc="-1" strike="noStrike">
                <a:solidFill>
                  <a:srgbClr val="3333ff"/>
                </a:solidFill>
                <a:latin typeface="Garamond"/>
              </a:rPr>
              <a:t>, </a:t>
            </a:r>
            <a:r>
              <a:rPr b="0" lang="en-US" sz="1600" spc="-1" strike="noStrike">
                <a:solidFill>
                  <a:srgbClr val="ff3300"/>
                </a:solidFill>
                <a:latin typeface="Garamond"/>
              </a:rPr>
              <a:t>ISO 900</a:t>
            </a:r>
            <a:r>
              <a:rPr b="0" lang="ru-RU" sz="1600" spc="-1" strike="noStrike">
                <a:solidFill>
                  <a:srgbClr val="ff3300"/>
                </a:solidFill>
                <a:latin typeface="Garamond"/>
              </a:rPr>
              <a:t>1</a:t>
            </a:r>
            <a:r>
              <a:rPr b="0" lang="en-US" sz="1600" spc="-1" strike="noStrike">
                <a:solidFill>
                  <a:srgbClr val="ff3300"/>
                </a:solidFill>
                <a:latin typeface="Garamond"/>
              </a:rPr>
              <a:t>:2008</a:t>
            </a:r>
            <a:r>
              <a:rPr b="0" lang="ru-RU" sz="1600" spc="-1" strike="noStrike">
                <a:solidFill>
                  <a:srgbClr val="ff3300"/>
                </a:solidFill>
                <a:latin typeface="Garamond"/>
              </a:rPr>
              <a:t>,</a:t>
            </a:r>
            <a:r>
              <a:rPr b="0" lang="en-US" sz="1600" spc="-1" strike="noStrike">
                <a:solidFill>
                  <a:srgbClr val="ff3300"/>
                </a:solidFill>
                <a:latin typeface="Garamond"/>
              </a:rPr>
              <a:t>ISO 900</a:t>
            </a:r>
            <a:r>
              <a:rPr b="0" lang="ru-RU" sz="1600" spc="-1" strike="noStrike">
                <a:solidFill>
                  <a:srgbClr val="ff3300"/>
                </a:solidFill>
                <a:latin typeface="Garamond"/>
              </a:rPr>
              <a:t>4</a:t>
            </a:r>
            <a:r>
              <a:rPr b="0" lang="en-US" sz="1600" spc="-1" strike="noStrike">
                <a:solidFill>
                  <a:srgbClr val="ff3300"/>
                </a:solidFill>
                <a:latin typeface="Garamond"/>
              </a:rPr>
              <a:t>:200</a:t>
            </a:r>
            <a:r>
              <a:rPr b="0" lang="ru-RU" sz="1600" spc="-1" strike="noStrike">
                <a:solidFill>
                  <a:srgbClr val="ff3300"/>
                </a:solidFill>
                <a:latin typeface="Garamond"/>
              </a:rPr>
              <a:t>9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ff"/>
                </a:solidFill>
                <a:latin typeface="Garamond"/>
              </a:rPr>
              <a:t>(принципы Деминга, </a:t>
            </a:r>
            <a:r>
              <a:rPr b="0" lang="en-US" sz="1600" spc="-1" strike="noStrike">
                <a:solidFill>
                  <a:srgbClr val="3333ff"/>
                </a:solidFill>
                <a:latin typeface="Garamond"/>
              </a:rPr>
              <a:t>QFD, Six Sigma, TPM, LP</a:t>
            </a:r>
            <a:r>
              <a:rPr b="0" lang="ru-RU" sz="1600" spc="-1" strike="noStrike">
                <a:solidFill>
                  <a:srgbClr val="3333ff"/>
                </a:solidFill>
                <a:latin typeface="Garamond"/>
              </a:rPr>
              <a:t>…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ff"/>
                </a:solidFill>
                <a:latin typeface="Arial"/>
              </a:rPr>
              <a:t>Принципы менеджмента качества</a:t>
            </a:r>
            <a:br>
              <a:rPr sz="3200"/>
            </a:b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ISO 9004:200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457200" y="1600200"/>
            <a:ext cx="822960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Принцип 3: Вовлеченность персона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юди на всех уровнях – самое главное в организации и их полная вовлеченность позволяет их способностям быть примененным на благо организа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а) Ключевые преимуществ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 мотивированный, преданный и вовлеченный персонал в организации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инновации и творчество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способствовании достижению целей организации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 люди, отвечающие за результаты собственной работы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 люди, охотно участвующие и делающие вклад в постоянное улучшени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б) Применение принципа вовлеченности персонала обычно ведет 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 пониманию людьми важности своего вклада и роли в организации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 выявлению людьми ограничений, мешающих их работе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 принятию людьми ответственности за проблемы и их решение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 оценке людьми результатов их деятельности в сравнении с личными задачами и целями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 активному поиску людьми возможностей к расширению 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их компетентности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, знаний и опыта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 свободному распространению людьми знаний и опыта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 открытому обсуждению людьми проблем и спорных вопрос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03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ff"/>
                </a:solidFill>
                <a:latin typeface="Arial"/>
              </a:rPr>
              <a:t>Принципы менеджмента качества</a:t>
            </a:r>
            <a:br>
              <a:rPr sz="3200"/>
            </a:b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ISO 9004:200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457200" y="1436400"/>
            <a:ext cx="8229600" cy="54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Принцип 4: Процессный подх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елаемый результат достигается эффективней, когда деятельностью и связанными с ней ресурсами управляют как процесс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а) Ключевые преимуществ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 более низкие затраты и более короткая длительность цикла за счет результативного использования ресурсов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 улучшенные, стабильные и предсказуемые результаты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 сфокусированные и расставленные по приоритетам возможности для улучш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б) Применение принципа процессного подхода обычно ведет 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 систематическому определению деятельности, необходимой для получения желаемых результатов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 установлению ясной ответственности и отчетности для управления ключевыми видами деятельности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анализу и измерению способности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лючевых видов деятельности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 определению интерфейсов ключевых видов деятельности внутри и между функциями организации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 фокусированию на факторах, таких как ресурсы, методы и материалы, которые улучшат ключевые виды деятельности организации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оценке рисков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следствий и влияния на деятельность потребителей, поставщиков и других заинтересованных сторон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ff"/>
                </a:solidFill>
                <a:latin typeface="Arial"/>
              </a:rPr>
              <a:t>Принципы менеджмента качества</a:t>
            </a:r>
            <a:br>
              <a:rPr sz="3200"/>
            </a:b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ISO 9004:200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599840"/>
            <a:ext cx="8229600" cy="504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Принцип 5: Системный подход к менеджмент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явление, понимание и менеджмент взаимосвязанных процессов как системы способствуют результативности и эффективности организации при достижении ее цел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а) Ключевые преимуществ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 интеграция и выстраивание процессов, которые будут наилучшим образом достигать желаемых результатов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 способность сосредотачивать усилия на ключевых процессах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 обеспечение доверия заинтересованных сторон …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б) Применение принципа системного подхода к менеджменту обычно ведет 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 выстраиванию системы для достижения целей организации …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 пониманию взаимозависимости процессов системы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структурированному подходу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, который гармонизирует и интегрирует процессы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 обеспечению лучшего понимания ролей и ответственности, необходимых для достижения общих целей и, тем самым, снижения 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межфункциональных барьеров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 пониманию 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возможностей организации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установлению ограничений на ресурсы до начала действий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 постоянному улучшению системы посредством измерения и оценк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ff"/>
                </a:solidFill>
                <a:latin typeface="Arial"/>
              </a:rPr>
              <a:t>Принципы менеджмента качества</a:t>
            </a:r>
            <a:br>
              <a:rPr sz="3200"/>
            </a:b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ISO 9004:200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Принцип 6: Непрерывное улучш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прерывное улучшение всей деятельности организации должна быть постоянной целью организа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а) Ключевые преимуществ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 выигрыш за счет улучшенных возможностей организации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 ориентация действий по улучшению на всех уровнях на стратегические цели организации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 гибкость для быстрой реакции на благоприятные возможност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б) Применение принципа непрерывного улучшения обычно ведет 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 применению согласованного в масштабах всей организации 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подхода к непрерывному улучшению деятельности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организации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обучению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людей методам и инструментам непрерывного улучшения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 тому, что непрерывное улучшение продукции, процессов и систем становится 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целью каждого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в организации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 установлению целей для руководства и показателей для отслеживания непрерывного улучшения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признанию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и подтверждению улучшени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ff"/>
                </a:solidFill>
                <a:latin typeface="Arial"/>
              </a:rPr>
              <a:t>Принципы менеджмента качества</a:t>
            </a:r>
            <a:br>
              <a:rPr sz="3200"/>
            </a:b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ISO 9004:200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Принцип 7: Принятие решений, основанное на факт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зультативные решения основываются на анализе данных и информа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а) Ключевые преимуществ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 обоснованные решения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возросшая способность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емонстрировать результативность прошлых решений за счет ведение записей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возросшая способность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ценки, обсуждения и изменения мнений и решени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б) Применение принципа непрерывного улучшения обычно ведет 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гарантии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того, что данные и информация совершенно точные и надежные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доступности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данных для тех, кому они нужны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 анализу данных и информации с использованием действенных методов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 принятию решений и выполнению действий, основанных на анализе фактов, с соблюдением 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баланса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пыта и интуици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ff"/>
                </a:solidFill>
                <a:latin typeface="Arial"/>
              </a:rPr>
              <a:t>Принципы менеджмента качества</a:t>
            </a:r>
            <a:br>
              <a:rPr sz="3200"/>
            </a:b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ISO 9004:200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457200" y="1599840"/>
            <a:ext cx="8229600" cy="49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Принцип 8: Взаимовыгодное сотрудничество с поставщик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рганизация и ее поставщики зависят друг от друга и взаимовыгодное сотрудничество расширяет их способность создавать ценн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а) Ключевые преимуществ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 возросшая 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способность создавать ценность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ля обеих сторон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 гибкость и скорость совместных реакций на изменения рынка или потребностей и ожиданий потребителя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оптимизация затрат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ресурс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б) Применение принципа взаимовыгодного сотрудничества с поставщиками обычно ведет 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 установлению отношений, </a:t>
            </a:r>
            <a:r>
              <a:rPr b="1" lang="ru-RU" sz="1400" spc="-1" strike="noStrike">
                <a:solidFill>
                  <a:srgbClr val="ff3300"/>
                </a:solidFill>
                <a:latin typeface="Arial"/>
              </a:rPr>
              <a:t>сбалансированных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с точки зрения краткосрочных выгод и долгосрочных перспектив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 объединению опыта и ресурсов с партнерами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 определению 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и выбору ключевых поставщиков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 ясному и открытому обмену информацией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 передаче информации и планов на будущее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 выполнению совместной разработки и улучшения деятельно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 поощрению и признанию улучшений и достижений поставщик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2"/>
          <p:cNvSpPr/>
          <p:nvPr/>
        </p:nvSpPr>
        <p:spPr>
          <a:xfrm>
            <a:off x="657360" y="380880"/>
            <a:ext cx="777240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Аспекты организационного профил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3"/>
          <p:cNvSpPr/>
          <p:nvPr/>
        </p:nvSpPr>
        <p:spPr>
          <a:xfrm>
            <a:off x="393840" y="1201680"/>
            <a:ext cx="8424720" cy="52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Б.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Понимание возможностей организации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333399"/>
                </a:solidFill>
                <a:uFillTx/>
                <a:latin typeface="Arial"/>
              </a:rPr>
              <a:t>Принципы менеджмента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, </a:t>
            </a:r>
            <a:r>
              <a:rPr b="0" i="1" lang="ru-RU" sz="2000" spc="-1" strike="noStrike">
                <a:solidFill>
                  <a:srgbClr val="ff3300"/>
                </a:solidFill>
                <a:latin typeface="Arial"/>
              </a:rPr>
              <a:t>видение, миссия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Уровень технологий и знаний, которыми обладает организац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Arial"/>
              </a:rPr>
              <a:t>Уровень менеджмента (уровень зрелости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Уровень возможностей осуществления различных </a:t>
            </a: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функций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менеджмента (планирование, проектирование и разработка, производство продукции, маркетинг и продажи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Производственные здания и оборудовани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Финансовые ресурс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Преимущества основных видов продукци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4" dur="8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5" dur="8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6" dur="8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240"/>
                            </p:stCondLst>
                            <p:childTnLst>
                              <p:par>
                                <p:cTn id="27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2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ff"/>
                </a:solidFill>
                <a:latin typeface="Arial"/>
              </a:rPr>
              <a:t>Видение, мисс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457200" y="1600200"/>
            <a:ext cx="8229600" cy="488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Миссия вуза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Mission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кументально оформленное заявление вуза (обычно от 25 до 50 слов), определяюще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зиционирование и предназначение вуза в окружающем мире (кто мы?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ержневые цели существования вуза (для чего мы существуем?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новные группы потребителей и заинтересованных сторон (для кого мы работаем?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лючевые обязательства и пути обеспечения качества образования (что мы гарантируем и за счет чего?)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Видение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Vision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раткая формулировка желаемого состояния вуза по всем его основным параметрам на обозримую перспективу, обычно на 3 или 5, 10 и 20 лет. Часто при формулировке видения определяются наиболее важные для вуза области развития, о которых необходимо заботиться для достижения долговременного успеха. Видение должно вдохновлять сотрудников и мотивировать их на достижение заявленных перспектив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Picture 2" descr="C:\Users\Владимир\Desktop\123 АРЗ\missia.jpg"/>
          <p:cNvPicPr/>
          <p:nvPr/>
        </p:nvPicPr>
        <p:blipFill>
          <a:blip r:embed="rId1"/>
          <a:stretch/>
        </p:blipFill>
        <p:spPr>
          <a:xfrm>
            <a:off x="2217600" y="304920"/>
            <a:ext cx="4614840" cy="637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Arial"/>
              </a:rPr>
              <a:t>Миссия НовГУ в области информатиз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457200" y="1320480"/>
            <a:ext cx="822960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вою 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миссию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 построении </a:t>
            </a:r>
            <a:r>
              <a:rPr b="0" i="1" lang="ru-RU" sz="2000" spc="-1" strike="noStrike">
                <a:solidFill>
                  <a:srgbClr val="3333ff"/>
                </a:solidFill>
                <a:latin typeface="Arial"/>
              </a:rPr>
              <a:t>информационного общества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территории Новгородской области НовГУ видит </a:t>
            </a:r>
            <a:r>
              <a:rPr b="0" i="1" lang="ru-RU" sz="2000" spc="-1" strike="noStrike">
                <a:solidFill>
                  <a:srgbClr val="3333ff"/>
                </a:solidFill>
                <a:latin typeface="Arial"/>
              </a:rPr>
              <a:t>в демонстрации на собственном примере новых возможностей и преимуществ использования информационно-коммуникационных технологий (ИКТ) в современном университете,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а также в пропаганде и распространении своего опыта на новгородчин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новные направления развития информатизации в НовГУ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рпоративная сеть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азы данных, системы и информационные ресурс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рпоративный портал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рганизационная инфраструктура информатизаци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вышение квалификации сотрудников и преподавателей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полнительное ИТ образо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Стратегия улучшения организации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Group 3"/>
          <p:cNvGrpSpPr/>
          <p:nvPr/>
        </p:nvGrpSpPr>
        <p:grpSpPr>
          <a:xfrm>
            <a:off x="603360" y="1673280"/>
            <a:ext cx="8000640" cy="4857840"/>
            <a:chOff x="603360" y="1673280"/>
            <a:chExt cx="8000640" cy="4857840"/>
          </a:xfrm>
        </p:grpSpPr>
        <p:sp>
          <p:nvSpPr>
            <p:cNvPr id="82" name="Line 4"/>
            <p:cNvSpPr/>
            <p:nvPr/>
          </p:nvSpPr>
          <p:spPr>
            <a:xfrm>
              <a:off x="3720600" y="2729160"/>
              <a:ext cx="3892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Line 5"/>
            <p:cNvSpPr/>
            <p:nvPr/>
          </p:nvSpPr>
          <p:spPr>
            <a:xfrm>
              <a:off x="3414240" y="3574080"/>
              <a:ext cx="38919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Line 6"/>
            <p:cNvSpPr/>
            <p:nvPr/>
          </p:nvSpPr>
          <p:spPr>
            <a:xfrm flipV="1">
              <a:off x="2116800" y="2095200"/>
              <a:ext cx="1297440" cy="4012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Text Box 7"/>
            <p:cNvSpPr/>
            <p:nvPr/>
          </p:nvSpPr>
          <p:spPr>
            <a:xfrm>
              <a:off x="3846600" y="1989720"/>
              <a:ext cx="4757400" cy="63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3300"/>
                  </a:solidFill>
                  <a:latin typeface="Arial"/>
                </a:rPr>
                <a:t>Мировой класс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Процесс, признанный наиболее перспективным и наилучшим, на который надо равняться другим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Text Box 8"/>
            <p:cNvSpPr/>
            <p:nvPr/>
          </p:nvSpPr>
          <p:spPr>
            <a:xfrm>
              <a:off x="3414240" y="2834640"/>
              <a:ext cx="5189760" cy="63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Лучшая в отрасл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Превышает ожидания потребителей, эффективность конкурентов, что дает явное преимущество перед конкурентами.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Line 9"/>
            <p:cNvSpPr/>
            <p:nvPr/>
          </p:nvSpPr>
          <p:spPr>
            <a:xfrm>
              <a:off x="2981880" y="4524480"/>
              <a:ext cx="3892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Text Box 10"/>
            <p:cNvSpPr/>
            <p:nvPr/>
          </p:nvSpPr>
          <p:spPr>
            <a:xfrm>
              <a:off x="3198240" y="3679560"/>
              <a:ext cx="5189760" cy="84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3333ff"/>
                  </a:solidFill>
                  <a:latin typeface="Arial"/>
                </a:rPr>
                <a:t>Эффективная организаци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Соответствует требованиям по затратам, прибыльности, рентабельности, сокращению времени циклов и другим экономическим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 показателям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Line 11"/>
            <p:cNvSpPr/>
            <p:nvPr/>
          </p:nvSpPr>
          <p:spPr>
            <a:xfrm>
              <a:off x="2765880" y="5263920"/>
              <a:ext cx="38919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Text Box 12"/>
            <p:cNvSpPr/>
            <p:nvPr/>
          </p:nvSpPr>
          <p:spPr>
            <a:xfrm>
              <a:off x="2981880" y="4630320"/>
              <a:ext cx="4757400" cy="63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Успешная организаци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Соответствует всем требованиям потребителей или превышает их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Text Box 13"/>
            <p:cNvSpPr/>
            <p:nvPr/>
          </p:nvSpPr>
          <p:spPr>
            <a:xfrm>
              <a:off x="2549520" y="5369400"/>
              <a:ext cx="5406120" cy="84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333399"/>
                  </a:solidFill>
                  <a:latin typeface="Arial"/>
                </a:rPr>
                <a:t>Неэффективная организаци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Неэффективность производственных процессов, большой риск брака, дефектов, риск срывов поставок, необходимость коренного пересмотра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структуры производства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Text Box 14"/>
            <p:cNvSpPr/>
            <p:nvPr/>
          </p:nvSpPr>
          <p:spPr>
            <a:xfrm>
              <a:off x="2116800" y="1673280"/>
              <a:ext cx="3027240" cy="31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3300"/>
                  </a:solidFill>
                  <a:latin typeface="Arial"/>
                </a:rPr>
                <a:t>Наши стремлени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Text Box 15"/>
            <p:cNvSpPr/>
            <p:nvPr/>
          </p:nvSpPr>
          <p:spPr>
            <a:xfrm>
              <a:off x="603360" y="6214320"/>
              <a:ext cx="3459600" cy="31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333399"/>
                  </a:solidFill>
                  <a:latin typeface="Arial"/>
                </a:rPr>
                <a:t>Где мы находимс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2"/>
          <p:cNvSpPr/>
          <p:nvPr/>
        </p:nvSpPr>
        <p:spPr>
          <a:xfrm>
            <a:off x="657360" y="380880"/>
            <a:ext cx="777240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Аспекты организационного профил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3"/>
          <p:cNvSpPr/>
          <p:nvPr/>
        </p:nvSpPr>
        <p:spPr>
          <a:xfrm>
            <a:off x="393840" y="1201680"/>
            <a:ext cx="8424720" cy="52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Б.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Понимание возможностей организации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333399"/>
                </a:solidFill>
                <a:uFillTx/>
                <a:latin typeface="Arial"/>
              </a:rPr>
              <a:t>Принципы менеджмента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, </a:t>
            </a:r>
            <a:r>
              <a:rPr b="0" i="1" lang="ru-RU" sz="2000" spc="-1" strike="noStrike">
                <a:solidFill>
                  <a:srgbClr val="3333ff"/>
                </a:solidFill>
                <a:latin typeface="Arial"/>
              </a:rPr>
              <a:t>видение, миссия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Уровень технологий и знаний, которыми обладает организац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Уровень менеджмента (уровень зрелости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Уровень возможностей осуществления различных </a:t>
            </a: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функций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менеджмента (планирование, проектирование и разработка, производство продукции, маркетинг и продажи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Производственные здания и оборудовани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Финансовые ресурс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Преимущества основных видов продукци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0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9" dur="80"/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0" dur="80"/>
                                        <p:tgtEl>
                                          <p:spTgt spid="3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1" dur="80"/>
                                        <p:tgtEl>
                                          <p:spTgt spid="3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1240"/>
                            </p:stCondLst>
                            <p:childTnLst>
                              <p:par>
                                <p:cTn id="29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7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Arial"/>
              </a:rPr>
              <a:t>Стандарт ГОСТ Р ИСО 10014:2008</a:t>
            </a:r>
            <a:br>
              <a:rPr sz="2000"/>
            </a:br>
            <a:r>
              <a:rPr b="0" lang="ru-RU" sz="2000" spc="-1" strike="noStrike">
                <a:solidFill>
                  <a:srgbClr val="3333ff"/>
                </a:solidFill>
                <a:latin typeface="Arial"/>
              </a:rPr>
              <a:t>(Общая модель процесса достижения экономического эффект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Picture 2" descr=""/>
          <p:cNvPicPr/>
          <p:nvPr/>
        </p:nvPicPr>
        <p:blipFill>
          <a:blip r:embed="rId1"/>
          <a:stretch/>
        </p:blipFill>
        <p:spPr>
          <a:xfrm>
            <a:off x="550800" y="1755720"/>
            <a:ext cx="8212320" cy="478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0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Arial"/>
              </a:rPr>
              <a:t>GAP-анализ (GAP - брешь, пробел)</a:t>
            </a:r>
            <a:br>
              <a:rPr sz="2800"/>
            </a:b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 (ГОСТ Р ИСО 10014-2008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457200" y="1422000"/>
            <a:ext cx="8229600" cy="54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едлагаемый в стандарте </a:t>
            </a:r>
            <a:r>
              <a:rPr b="0" i="1" lang="ru-RU" sz="2000" spc="-1" strike="noStrike">
                <a:solidFill>
                  <a:srgbClr val="3333ff"/>
                </a:solidFill>
                <a:latin typeface="Arial"/>
              </a:rPr>
              <a:t>метод стратегического анализ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направленный на преодоление разрывов между плановыми показателями при прогнозировании и их фактическими значениями, что достигается за счет применен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самооценк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упрощенной и всесторонней) с последующим определением 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уровня зрелости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рганизаци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иаграммы типа «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RADAR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» как инструмента определения приоритетов в усовершенствовании (улучшении) применения восьми принципов менеджмента в организаци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веденной для каждого из восьми принципов менеджмента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методологии совершенствован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основанной на 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процессном подход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 использовании универсального 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цикла 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PDCA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едлагаемого обширного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меню инструментов и методов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постоянного улучшения деятельности организации, в результате эффективного применения которых можно достичь планируемых финансовых и экономических выго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ff"/>
                </a:solidFill>
                <a:latin typeface="Arial"/>
              </a:rPr>
              <a:t>Лидерство руководител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5240160" y="1600200"/>
            <a:ext cx="344664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0000"/>
                </a:solidFill>
                <a:latin typeface="Arial"/>
              </a:rPr>
              <a:t>O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- Organizational Developmen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0000"/>
                </a:solidFill>
                <a:latin typeface="Arial"/>
              </a:rPr>
              <a:t>SWO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- Strengths, Weaknesses, Opportunities, Threats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0000"/>
                </a:solidFill>
                <a:latin typeface="Arial"/>
              </a:rPr>
              <a:t>BC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- Business Continuity Managemen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0000"/>
                </a:solidFill>
                <a:latin typeface="Arial"/>
              </a:rPr>
              <a:t>MB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- Management by Objectives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0000"/>
                </a:solidFill>
                <a:latin typeface="Arial"/>
              </a:rPr>
              <a:t>EV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- Economic Value Added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0000"/>
                </a:solidFill>
                <a:latin typeface="Arial"/>
              </a:rPr>
              <a:t>LCC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- Life Cycle Costing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0000"/>
                </a:solidFill>
                <a:latin typeface="Arial"/>
              </a:rPr>
              <a:t>BSC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- Balanced scorecard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0000"/>
                </a:solidFill>
                <a:latin typeface="Arial"/>
              </a:rPr>
              <a:t>P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- Payback Period Analysis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0000"/>
                </a:solidFill>
                <a:latin typeface="Arial"/>
              </a:rPr>
              <a:t>FME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- Failure Modes and Effects Analysis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0000"/>
                </a:solidFill>
                <a:latin typeface="Arial"/>
              </a:rPr>
              <a:t>RO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- Return on Investmen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Picture 2" descr=""/>
          <p:cNvPicPr/>
          <p:nvPr/>
        </p:nvPicPr>
        <p:blipFill>
          <a:blip r:embed="rId1"/>
          <a:stretch/>
        </p:blipFill>
        <p:spPr>
          <a:xfrm>
            <a:off x="281160" y="1379520"/>
            <a:ext cx="4705200" cy="502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ff"/>
                </a:solidFill>
                <a:latin typeface="Arial"/>
              </a:rPr>
              <a:t>Результаты </a:t>
            </a:r>
            <a:r>
              <a:rPr b="0" lang="en-US" sz="3200" spc="-1" strike="noStrike">
                <a:solidFill>
                  <a:srgbClr val="3333ff"/>
                </a:solidFill>
                <a:latin typeface="Arial"/>
              </a:rPr>
              <a:t>GAP</a:t>
            </a:r>
            <a:r>
              <a:rPr b="0" lang="ru-RU" sz="3200" spc="-1" strike="noStrike">
                <a:solidFill>
                  <a:srgbClr val="3333ff"/>
                </a:solidFill>
                <a:latin typeface="Arial"/>
              </a:rPr>
              <a:t>-анализа НИЦ НовГУ</a:t>
            </a:r>
            <a:br>
              <a:rPr sz="3200"/>
            </a:b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(уровни зрелости реализации принципов менеджмента качеств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3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7" name="Object 6"/>
          <p:cNvGraphicFramePr/>
          <p:nvPr/>
        </p:nvGraphicFramePr>
        <p:xfrm>
          <a:off x="507960" y="1611360"/>
          <a:ext cx="8113680" cy="48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38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7960" y="1611360"/>
                    <a:ext cx="8113680" cy="48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9" name="Rectangle 8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0" name="Group 2"/>
          <p:cNvGrpSpPr/>
          <p:nvPr/>
        </p:nvGrpSpPr>
        <p:grpSpPr>
          <a:xfrm>
            <a:off x="2425680" y="5538960"/>
            <a:ext cx="4465800" cy="533160"/>
            <a:chOff x="2425680" y="5538960"/>
            <a:chExt cx="4465800" cy="533160"/>
          </a:xfrm>
        </p:grpSpPr>
        <p:sp>
          <p:nvSpPr>
            <p:cNvPr id="341" name="AutoShape 3"/>
            <p:cNvSpPr/>
            <p:nvPr/>
          </p:nvSpPr>
          <p:spPr>
            <a:xfrm>
              <a:off x="2425680" y="5538960"/>
              <a:ext cx="720720" cy="53316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ffff99"/>
            </a:solidFill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AutoShape 4"/>
            <p:cNvSpPr/>
            <p:nvPr/>
          </p:nvSpPr>
          <p:spPr>
            <a:xfrm>
              <a:off x="6170760" y="5538960"/>
              <a:ext cx="720720" cy="53316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ffff99"/>
            </a:solidFill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23800" y="274320"/>
            <a:ext cx="8126640" cy="517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ТРЕХУРОВНЕВАЯ МОДЕЛЬ СИСТЕМЫ МЕНЕДЖМЕНТА КАЧ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6"/>
          <p:cNvSpPr/>
          <p:nvPr/>
        </p:nvSpPr>
        <p:spPr>
          <a:xfrm>
            <a:off x="1187280" y="907920"/>
            <a:ext cx="6985080" cy="649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1f5c"/>
                </a:solidFill>
                <a:latin typeface="Arial"/>
                <a:ea typeface="Arial"/>
              </a:rPr>
              <a:t>УДОВЛЕТВОРЕННОСТЬ ПОТРЕБИТЕЛЕЙ </a:t>
            </a:r>
            <a:br>
              <a:rPr sz="1900"/>
            </a:br>
            <a:r>
              <a:rPr b="1" lang="ru-RU" sz="1900" spc="-1" strike="noStrike">
                <a:solidFill>
                  <a:srgbClr val="001f5c"/>
                </a:solidFill>
                <a:latin typeface="Arial"/>
                <a:ea typeface="Arial"/>
              </a:rPr>
              <a:t>И ДРУГИХ ЗАИНТЕРЕСОВАННЫХ СТОРОН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7"/>
          <p:cNvSpPr/>
          <p:nvPr/>
        </p:nvSpPr>
        <p:spPr>
          <a:xfrm>
            <a:off x="250920" y="2133720"/>
            <a:ext cx="8785080" cy="33829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Oval 8"/>
          <p:cNvSpPr/>
          <p:nvPr/>
        </p:nvSpPr>
        <p:spPr>
          <a:xfrm rot="16200000">
            <a:off x="238680" y="3398040"/>
            <a:ext cx="1494000" cy="1123920"/>
          </a:xfrm>
          <a:prstGeom prst="ellipse">
            <a:avLst/>
          </a:prstGeom>
          <a:noFill/>
          <a:ln w="936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1f5c"/>
                </a:solidFill>
                <a:latin typeface="Arial"/>
                <a:ea typeface="Arial"/>
              </a:rPr>
              <a:t>БАЗОВЫ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1f5c"/>
                </a:solidFill>
                <a:latin typeface="Arial"/>
                <a:ea typeface="Arial"/>
              </a:rPr>
              <a:t>ПОЛОЖ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7" name="Group 9"/>
          <p:cNvGrpSpPr/>
          <p:nvPr/>
        </p:nvGrpSpPr>
        <p:grpSpPr>
          <a:xfrm>
            <a:off x="1763640" y="2351160"/>
            <a:ext cx="7056000" cy="2950920"/>
            <a:chOff x="1763640" y="2351160"/>
            <a:chExt cx="7056000" cy="2950920"/>
          </a:xfrm>
        </p:grpSpPr>
        <p:sp>
          <p:nvSpPr>
            <p:cNvPr id="348" name="AutoShape 10"/>
            <p:cNvSpPr/>
            <p:nvPr/>
          </p:nvSpPr>
          <p:spPr>
            <a:xfrm>
              <a:off x="1763640" y="2351160"/>
              <a:ext cx="1737360" cy="2950920"/>
            </a:xfrm>
            <a:custGeom>
              <a:avLst/>
              <a:gdLst>
                <a:gd name="textAreaLeft" fmla="*/ 84600 w 1737360"/>
                <a:gd name="textAreaRight" fmla="*/ 1652760 w 1737360"/>
                <a:gd name="textAreaTop" fmla="*/ 84600 h 2950920"/>
                <a:gd name="textAreaBottom" fmla="*/ 2866320 h 2950920"/>
              </a:gdLst>
              <a:ahLst/>
              <a:rect l="textAreaLeft" t="textAreaTop" r="textAreaRight" b="textAreaBottom"/>
              <a:pathLst>
                <a:path w="21600" h="36685">
                  <a:moveTo>
                    <a:pt x="3600" y="0"/>
                  </a:moveTo>
                  <a:arcTo wR="3600" hR="3600" stAng="16200000" swAng="-5400000"/>
                  <a:lnTo>
                    <a:pt x="0" y="33085"/>
                  </a:lnTo>
                  <a:arcTo wR="3600" hR="3600" stAng="10800000" swAng="-5400000"/>
                  <a:lnTo>
                    <a:pt x="18000" y="3668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00ccff"/>
                </a:gs>
                <a:gs pos="50000">
                  <a:srgbClr val="ffffff"/>
                </a:gs>
                <a:gs pos="100000">
                  <a:srgbClr val="00ccff"/>
                </a:gs>
              </a:gsLst>
              <a:lin ang="5400000"/>
            </a:gradFill>
            <a:ln w="158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001f5c"/>
                  </a:solidFill>
                  <a:latin typeface="Arial"/>
                  <a:ea typeface="Arial"/>
                </a:rPr>
                <a:t>ПОСТОЯННОЕ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001f5c"/>
                  </a:solidFill>
                  <a:latin typeface="Arial"/>
                  <a:ea typeface="Arial"/>
                </a:rPr>
                <a:t>УЛУЧШЕНИЕ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001f5c"/>
                  </a:solidFill>
                  <a:latin typeface="Arial"/>
                  <a:ea typeface="Arial"/>
                </a:rPr>
                <a:t>ПРОДУКЦИИ/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001f5c"/>
                  </a:solidFill>
                  <a:latin typeface="Arial"/>
                  <a:ea typeface="Arial"/>
                </a:rPr>
                <a:t>УСЛУГ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AutoShape 11"/>
            <p:cNvSpPr/>
            <p:nvPr/>
          </p:nvSpPr>
          <p:spPr>
            <a:xfrm>
              <a:off x="4424040" y="2351160"/>
              <a:ext cx="1737000" cy="2950920"/>
            </a:xfrm>
            <a:custGeom>
              <a:avLst/>
              <a:gdLst>
                <a:gd name="textAreaLeft" fmla="*/ 84600 w 1737000"/>
                <a:gd name="textAreaRight" fmla="*/ 1652400 w 1737000"/>
                <a:gd name="textAreaTop" fmla="*/ 84600 h 2950920"/>
                <a:gd name="textAreaBottom" fmla="*/ 2866320 h 2950920"/>
              </a:gdLst>
              <a:ahLst/>
              <a:rect l="textAreaLeft" t="textAreaTop" r="textAreaRight" b="textAreaBottom"/>
              <a:pathLst>
                <a:path w="21600" h="36692">
                  <a:moveTo>
                    <a:pt x="3600" y="0"/>
                  </a:moveTo>
                  <a:arcTo wR="3600" hR="3600" stAng="16200000" swAng="-5400000"/>
                  <a:lnTo>
                    <a:pt x="0" y="33092"/>
                  </a:lnTo>
                  <a:arcTo wR="3600" hR="3600" stAng="10800000" swAng="-5400000"/>
                  <a:lnTo>
                    <a:pt x="18000" y="3669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00ccff"/>
                </a:gs>
                <a:gs pos="50000">
                  <a:srgbClr val="ffffff"/>
                </a:gs>
                <a:gs pos="100000">
                  <a:srgbClr val="00ccff"/>
                </a:gs>
              </a:gsLst>
              <a:lin ang="5400000"/>
            </a:gradFill>
            <a:ln w="158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001f5c"/>
                  </a:solidFill>
                  <a:latin typeface="Arial"/>
                  <a:ea typeface="Arial"/>
                </a:rPr>
                <a:t>ПОСТОЯННОЕ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001f5c"/>
                  </a:solidFill>
                  <a:latin typeface="Arial"/>
                  <a:ea typeface="Arial"/>
                </a:rPr>
                <a:t>УЛУЧШЕНИЕ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001f5c"/>
                  </a:solidFill>
                  <a:latin typeface="Arial"/>
                  <a:ea typeface="Arial"/>
                </a:rPr>
                <a:t>СИСТЕМЫ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001f5c"/>
                  </a:solidFill>
                  <a:latin typeface="Arial"/>
                  <a:ea typeface="Arial"/>
                </a:rPr>
                <a:t> </a:t>
              </a:r>
              <a:r>
                <a:rPr b="1" lang="ru-RU" sz="1700" spc="-1" strike="noStrike">
                  <a:solidFill>
                    <a:srgbClr val="001f5c"/>
                  </a:solidFill>
                  <a:latin typeface="Arial"/>
                  <a:ea typeface="Arial"/>
                </a:rPr>
                <a:t>МЕНЕДЖМЕНТА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001f5c"/>
                  </a:solidFill>
                  <a:latin typeface="Arial"/>
                  <a:ea typeface="Arial"/>
                </a:rPr>
                <a:t>КАЧЕСТВА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AutoShape 12"/>
            <p:cNvSpPr/>
            <p:nvPr/>
          </p:nvSpPr>
          <p:spPr>
            <a:xfrm>
              <a:off x="7082640" y="2351160"/>
              <a:ext cx="1737000" cy="2950920"/>
            </a:xfrm>
            <a:custGeom>
              <a:avLst/>
              <a:gdLst>
                <a:gd name="textAreaLeft" fmla="*/ 84600 w 1737000"/>
                <a:gd name="textAreaRight" fmla="*/ 1652400 w 1737000"/>
                <a:gd name="textAreaTop" fmla="*/ 84600 h 2950920"/>
                <a:gd name="textAreaBottom" fmla="*/ 2866320 h 2950920"/>
              </a:gdLst>
              <a:ahLst/>
              <a:rect l="textAreaLeft" t="textAreaTop" r="textAreaRight" b="textAreaBottom"/>
              <a:pathLst>
                <a:path w="21600" h="36692">
                  <a:moveTo>
                    <a:pt x="3600" y="0"/>
                  </a:moveTo>
                  <a:arcTo wR="3600" hR="3600" stAng="16200000" swAng="-5400000"/>
                  <a:lnTo>
                    <a:pt x="0" y="33092"/>
                  </a:lnTo>
                  <a:arcTo wR="3600" hR="3600" stAng="10800000" swAng="-5400000"/>
                  <a:lnTo>
                    <a:pt x="18000" y="3669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00ccff"/>
                </a:gs>
                <a:gs pos="50000">
                  <a:srgbClr val="ffffff"/>
                </a:gs>
                <a:gs pos="100000">
                  <a:srgbClr val="00ccff"/>
                </a:gs>
              </a:gsLst>
              <a:lin ang="5400000"/>
            </a:gradFill>
            <a:ln w="158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ff3300"/>
                  </a:solidFill>
                  <a:latin typeface="Arial"/>
                  <a:ea typeface="Arial"/>
                </a:rPr>
                <a:t>ИННОВАЦИ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ff3300"/>
                  </a:solidFill>
                  <a:latin typeface="Arial"/>
                  <a:ea typeface="Arial"/>
                </a:rPr>
                <a:t>СИСТЕМЫ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ff3300"/>
                  </a:solidFill>
                  <a:latin typeface="Arial"/>
                  <a:ea typeface="Arial"/>
                </a:rPr>
                <a:t> </a:t>
              </a:r>
              <a:r>
                <a:rPr b="1" lang="ru-RU" sz="1700" spc="-1" strike="noStrike">
                  <a:solidFill>
                    <a:srgbClr val="ff3300"/>
                  </a:solidFill>
                  <a:latin typeface="Arial"/>
                  <a:ea typeface="Arial"/>
                </a:rPr>
                <a:t>МЕНЕДЖМЕНТА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ff3300"/>
                  </a:solidFill>
                  <a:latin typeface="Arial"/>
                  <a:ea typeface="Arial"/>
                </a:rPr>
                <a:t>КАЧЕСТВА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1" name="Oval 13"/>
          <p:cNvSpPr/>
          <p:nvPr/>
        </p:nvSpPr>
        <p:spPr>
          <a:xfrm rot="16200000">
            <a:off x="5880960" y="3326040"/>
            <a:ext cx="1493640" cy="1123920"/>
          </a:xfrm>
          <a:prstGeom prst="ellipse">
            <a:avLst/>
          </a:prstGeom>
          <a:noFill/>
          <a:ln w="936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1f5c"/>
                </a:solidFill>
                <a:latin typeface="Arial"/>
                <a:ea typeface="Arial"/>
              </a:rPr>
              <a:t>СИСТЕМ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1f5c"/>
                </a:solidFill>
                <a:latin typeface="Arial"/>
                <a:ea typeface="Arial"/>
              </a:rPr>
              <a:t>КАЧЕСТВ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AutoShape 14"/>
          <p:cNvSpPr/>
          <p:nvPr/>
        </p:nvSpPr>
        <p:spPr>
          <a:xfrm>
            <a:off x="3564000" y="2638440"/>
            <a:ext cx="720720" cy="503280"/>
          </a:xfrm>
          <a:prstGeom prst="rightArrow">
            <a:avLst>
              <a:gd name="adj1" fmla="val 50000"/>
              <a:gd name="adj2" fmla="val 35801"/>
            </a:avLst>
          </a:prstGeom>
          <a:gradFill rotWithShape="0">
            <a:gsLst>
              <a:gs pos="0">
                <a:srgbClr val="ffffff"/>
              </a:gs>
              <a:gs pos="100000">
                <a:srgbClr val="00ccff"/>
              </a:gs>
            </a:gsLst>
            <a:lin ang="0"/>
          </a:gra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AutoShape 15"/>
          <p:cNvSpPr/>
          <p:nvPr/>
        </p:nvSpPr>
        <p:spPr>
          <a:xfrm>
            <a:off x="6227640" y="2638440"/>
            <a:ext cx="720720" cy="503280"/>
          </a:xfrm>
          <a:prstGeom prst="rightArrow">
            <a:avLst>
              <a:gd name="adj1" fmla="val 50000"/>
              <a:gd name="adj2" fmla="val 35801"/>
            </a:avLst>
          </a:prstGeom>
          <a:gradFill rotWithShape="0">
            <a:gsLst>
              <a:gs pos="0">
                <a:srgbClr val="ffffff"/>
              </a:gs>
              <a:gs pos="100000">
                <a:srgbClr val="00ccff"/>
              </a:gs>
            </a:gsLst>
            <a:lin ang="0"/>
          </a:gra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AutoShape 16"/>
          <p:cNvSpPr/>
          <p:nvPr/>
        </p:nvSpPr>
        <p:spPr>
          <a:xfrm flipH="1">
            <a:off x="6299280" y="4727520"/>
            <a:ext cx="720720" cy="503280"/>
          </a:xfrm>
          <a:prstGeom prst="rightArrow">
            <a:avLst>
              <a:gd name="adj1" fmla="val 50000"/>
              <a:gd name="adj2" fmla="val 35801"/>
            </a:avLst>
          </a:pr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AutoShape 17"/>
          <p:cNvSpPr/>
          <p:nvPr/>
        </p:nvSpPr>
        <p:spPr>
          <a:xfrm flipH="1">
            <a:off x="3635280" y="4726080"/>
            <a:ext cx="720720" cy="503280"/>
          </a:xfrm>
          <a:prstGeom prst="rightArrow">
            <a:avLst>
              <a:gd name="adj1" fmla="val 50000"/>
              <a:gd name="adj2" fmla="val 35801"/>
            </a:avLst>
          </a:pr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18"/>
          <p:cNvSpPr/>
          <p:nvPr/>
        </p:nvSpPr>
        <p:spPr>
          <a:xfrm>
            <a:off x="1187280" y="6093000"/>
            <a:ext cx="6985080" cy="649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1f5c"/>
                </a:solidFill>
                <a:latin typeface="Arial"/>
                <a:ea typeface="Arial"/>
              </a:rPr>
              <a:t>ПОТРЕБНОСТИ И ОЖИДАНИЯ ПОТРЕБИТЕЛЕЙ </a:t>
            </a:r>
            <a:br>
              <a:rPr sz="1900"/>
            </a:br>
            <a:r>
              <a:rPr b="1" lang="ru-RU" sz="1900" spc="-1" strike="noStrike">
                <a:solidFill>
                  <a:srgbClr val="001f5c"/>
                </a:solidFill>
                <a:latin typeface="Arial"/>
                <a:ea typeface="Arial"/>
              </a:rPr>
              <a:t>И ДРУГИХ ЗАИНТЕРЕСОВАННЫХ СТОРОН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7" name="Group 19"/>
          <p:cNvGrpSpPr/>
          <p:nvPr/>
        </p:nvGrpSpPr>
        <p:grpSpPr>
          <a:xfrm>
            <a:off x="2411280" y="1557360"/>
            <a:ext cx="4465800" cy="576360"/>
            <a:chOff x="2411280" y="1557360"/>
            <a:chExt cx="4465800" cy="576360"/>
          </a:xfrm>
        </p:grpSpPr>
        <p:sp>
          <p:nvSpPr>
            <p:cNvPr id="358" name="AutoShape 20"/>
            <p:cNvSpPr/>
            <p:nvPr/>
          </p:nvSpPr>
          <p:spPr>
            <a:xfrm>
              <a:off x="2411280" y="1557360"/>
              <a:ext cx="720720" cy="57636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ffff99"/>
            </a:solidFill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AutoShape 21"/>
            <p:cNvSpPr/>
            <p:nvPr/>
          </p:nvSpPr>
          <p:spPr>
            <a:xfrm>
              <a:off x="6156360" y="1557360"/>
              <a:ext cx="720720" cy="57636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ffff99"/>
            </a:solidFill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Oval 2"/>
          <p:cNvSpPr/>
          <p:nvPr/>
        </p:nvSpPr>
        <p:spPr>
          <a:xfrm>
            <a:off x="1278000" y="1339920"/>
            <a:ext cx="6556320" cy="45370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Oval 3"/>
          <p:cNvSpPr/>
          <p:nvPr/>
        </p:nvSpPr>
        <p:spPr>
          <a:xfrm>
            <a:off x="714240" y="909720"/>
            <a:ext cx="7801200" cy="5614920"/>
          </a:xfrm>
          <a:prstGeom prst="ellipse">
            <a:avLst/>
          </a:prstGeom>
          <a:noFill/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AutoShape 4"/>
          <p:cNvSpPr/>
          <p:nvPr/>
        </p:nvSpPr>
        <p:spPr>
          <a:xfrm>
            <a:off x="2549520" y="1176480"/>
            <a:ext cx="2340000" cy="434880"/>
          </a:xfrm>
          <a:prstGeom prst="roundRect">
            <a:avLst>
              <a:gd name="adj" fmla="val 16667"/>
            </a:avLst>
          </a:prstGeom>
          <a:solidFill>
            <a:srgbClr val="bdd3ff">
              <a:alpha val="70000"/>
            </a:srgbClr>
          </a:solidFill>
          <a:ln w="19080">
            <a:solidFill>
              <a:srgbClr val="0033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66"/>
                </a:solidFill>
                <a:latin typeface="Arial"/>
                <a:ea typeface="Arial"/>
              </a:rPr>
              <a:t>7.1 Общие полож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AutoShape 5"/>
          <p:cNvSpPr/>
          <p:nvPr/>
        </p:nvSpPr>
        <p:spPr>
          <a:xfrm>
            <a:off x="2182680" y="1789200"/>
            <a:ext cx="2183040" cy="631800"/>
          </a:xfrm>
          <a:prstGeom prst="roundRect">
            <a:avLst>
              <a:gd name="adj" fmla="val 16667"/>
            </a:avLst>
          </a:prstGeom>
          <a:solidFill>
            <a:srgbClr val="bdd3ff">
              <a:alpha val="70000"/>
            </a:srgbClr>
          </a:solidFill>
          <a:ln w="1908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ff3300"/>
                </a:solidFill>
                <a:uFillTx/>
                <a:latin typeface="Arial"/>
                <a:ea typeface="Arial"/>
              </a:rPr>
              <a:t>7. Жизненный цикл продукции/услу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AutoShape 6"/>
          <p:cNvSpPr/>
          <p:nvPr/>
        </p:nvSpPr>
        <p:spPr>
          <a:xfrm>
            <a:off x="5008680" y="1557360"/>
            <a:ext cx="2979720" cy="792000"/>
          </a:xfrm>
          <a:prstGeom prst="roundRect">
            <a:avLst>
              <a:gd name="adj" fmla="val 16667"/>
            </a:avLst>
          </a:prstGeom>
          <a:solidFill>
            <a:srgbClr val="bdd3ff">
              <a:alpha val="70000"/>
            </a:srgbClr>
          </a:solidFill>
          <a:ln w="19080">
            <a:solidFill>
              <a:srgbClr val="0033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66"/>
                </a:solidFill>
                <a:latin typeface="Arial"/>
                <a:ea typeface="Arial"/>
              </a:rPr>
              <a:t>7.11 Мониторинг и измерение процессов жизненного цикла продукции /услу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AutoShape 7"/>
          <p:cNvSpPr/>
          <p:nvPr/>
        </p:nvSpPr>
        <p:spPr>
          <a:xfrm>
            <a:off x="5799240" y="2706840"/>
            <a:ext cx="3144600" cy="793440"/>
          </a:xfrm>
          <a:prstGeom prst="roundRect">
            <a:avLst>
              <a:gd name="adj" fmla="val 16667"/>
            </a:avLst>
          </a:prstGeom>
          <a:solidFill>
            <a:srgbClr val="bdd3ff">
              <a:alpha val="70000"/>
            </a:srgbClr>
          </a:solidFill>
          <a:ln w="19080">
            <a:solidFill>
              <a:srgbClr val="0033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66"/>
                </a:solidFill>
                <a:latin typeface="Arial"/>
                <a:ea typeface="Arial"/>
              </a:rPr>
              <a:t>7.10 Поставка продукции и предоставление услуг и послепродажное обслужива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AutoShape 8"/>
          <p:cNvSpPr/>
          <p:nvPr/>
        </p:nvSpPr>
        <p:spPr>
          <a:xfrm>
            <a:off x="6140520" y="3932280"/>
            <a:ext cx="2927160" cy="433440"/>
          </a:xfrm>
          <a:prstGeom prst="roundRect">
            <a:avLst>
              <a:gd name="adj" fmla="val 16667"/>
            </a:avLst>
          </a:prstGeom>
          <a:solidFill>
            <a:srgbClr val="bdd3ff">
              <a:alpha val="70000"/>
            </a:srgbClr>
          </a:solidFill>
          <a:ln w="19080">
            <a:solidFill>
              <a:srgbClr val="0033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66"/>
                </a:solidFill>
                <a:latin typeface="Arial"/>
                <a:ea typeface="Arial"/>
              </a:rPr>
              <a:t>7.9 Продажа продукции/услу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AutoShape 9"/>
          <p:cNvSpPr/>
          <p:nvPr/>
        </p:nvSpPr>
        <p:spPr>
          <a:xfrm>
            <a:off x="6188040" y="4653000"/>
            <a:ext cx="2664000" cy="647640"/>
          </a:xfrm>
          <a:prstGeom prst="roundRect">
            <a:avLst>
              <a:gd name="adj" fmla="val 16667"/>
            </a:avLst>
          </a:prstGeom>
          <a:solidFill>
            <a:srgbClr val="bdd3ff">
              <a:alpha val="70000"/>
            </a:srgbClr>
          </a:solidFill>
          <a:ln w="19080">
            <a:solidFill>
              <a:srgbClr val="0033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66"/>
                </a:solidFill>
                <a:latin typeface="Arial"/>
                <a:ea typeface="Arial"/>
              </a:rPr>
              <a:t>7.8 Контроль и испытания продукции/услу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AutoShape 10"/>
          <p:cNvSpPr/>
          <p:nvPr/>
        </p:nvSpPr>
        <p:spPr>
          <a:xfrm>
            <a:off x="3822840" y="5587920"/>
            <a:ext cx="2147760" cy="779400"/>
          </a:xfrm>
          <a:prstGeom prst="roundRect">
            <a:avLst>
              <a:gd name="adj" fmla="val 16667"/>
            </a:avLst>
          </a:prstGeom>
          <a:solidFill>
            <a:srgbClr val="bdd3ff">
              <a:alpha val="70000"/>
            </a:srgbClr>
          </a:solidFill>
          <a:ln w="19080">
            <a:solidFill>
              <a:srgbClr val="0033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66"/>
                </a:solidFill>
                <a:latin typeface="Arial"/>
                <a:ea typeface="Arial"/>
              </a:rPr>
              <a:t>7.7 Обеспечение производства продукции и услу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AutoShape 11"/>
          <p:cNvSpPr/>
          <p:nvPr/>
        </p:nvSpPr>
        <p:spPr>
          <a:xfrm>
            <a:off x="1941480" y="5479920"/>
            <a:ext cx="1581120" cy="397080"/>
          </a:xfrm>
          <a:prstGeom prst="roundRect">
            <a:avLst>
              <a:gd name="adj" fmla="val 16667"/>
            </a:avLst>
          </a:prstGeom>
          <a:solidFill>
            <a:srgbClr val="bdd3ff">
              <a:alpha val="70000"/>
            </a:srgbClr>
          </a:solidFill>
          <a:ln w="19080">
            <a:solidFill>
              <a:srgbClr val="0033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66"/>
                </a:solidFill>
                <a:latin typeface="Arial"/>
                <a:ea typeface="Arial"/>
              </a:rPr>
              <a:t>7.6 Закуп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AutoShape 12"/>
          <p:cNvSpPr/>
          <p:nvPr/>
        </p:nvSpPr>
        <p:spPr>
          <a:xfrm>
            <a:off x="425520" y="4654440"/>
            <a:ext cx="2305080" cy="646200"/>
          </a:xfrm>
          <a:prstGeom prst="roundRect">
            <a:avLst>
              <a:gd name="adj" fmla="val 16667"/>
            </a:avLst>
          </a:prstGeom>
          <a:solidFill>
            <a:srgbClr val="bdd3ff">
              <a:alpha val="70000"/>
            </a:srgbClr>
          </a:solidFill>
          <a:ln w="19080">
            <a:solidFill>
              <a:srgbClr val="0033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66"/>
                </a:solidFill>
                <a:latin typeface="Arial"/>
                <a:ea typeface="Arial"/>
              </a:rPr>
              <a:t>7.5 Проектирование и разработ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AutoShape 13"/>
          <p:cNvSpPr/>
          <p:nvPr/>
        </p:nvSpPr>
        <p:spPr>
          <a:xfrm>
            <a:off x="282600" y="2851200"/>
            <a:ext cx="2089080" cy="649080"/>
          </a:xfrm>
          <a:prstGeom prst="roundRect">
            <a:avLst>
              <a:gd name="adj" fmla="val 16667"/>
            </a:avLst>
          </a:prstGeom>
          <a:solidFill>
            <a:srgbClr val="bdd3ff">
              <a:alpha val="70000"/>
            </a:srgbClr>
          </a:solidFill>
          <a:ln w="19080">
            <a:solidFill>
              <a:srgbClr val="0033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66"/>
                </a:solidFill>
                <a:latin typeface="Arial"/>
                <a:ea typeface="Arial"/>
              </a:rPr>
              <a:t>7.3 Исследование и разработ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AutoShape 14"/>
          <p:cNvSpPr/>
          <p:nvPr/>
        </p:nvSpPr>
        <p:spPr>
          <a:xfrm>
            <a:off x="282600" y="1987560"/>
            <a:ext cx="1674720" cy="649440"/>
          </a:xfrm>
          <a:prstGeom prst="roundRect">
            <a:avLst>
              <a:gd name="adj" fmla="val 16667"/>
            </a:avLst>
          </a:prstGeom>
          <a:solidFill>
            <a:srgbClr val="bdd3ff">
              <a:alpha val="70000"/>
            </a:srgbClr>
          </a:solidFill>
          <a:ln w="19080">
            <a:solidFill>
              <a:srgbClr val="0033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66"/>
                </a:solidFill>
                <a:latin typeface="Arial"/>
                <a:ea typeface="Arial"/>
              </a:rPr>
              <a:t>7.2 Маркетин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AutoShape 15"/>
          <p:cNvSpPr/>
          <p:nvPr/>
        </p:nvSpPr>
        <p:spPr>
          <a:xfrm>
            <a:off x="2946240" y="3357720"/>
            <a:ext cx="2883240" cy="1223640"/>
          </a:xfrm>
          <a:prstGeom prst="hexagon">
            <a:avLst>
              <a:gd name="adj" fmla="val 58907"/>
              <a:gd name="vf" fmla="val 115470"/>
            </a:avLst>
          </a:prstGeom>
          <a:solidFill>
            <a:srgbClr val="ff0000">
              <a:alpha val="5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  <a:ea typeface="Arial"/>
              </a:rPr>
              <a:t>Постоянное улучшение продукции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  <a:ea typeface="Arial"/>
              </a:rPr>
              <a:t>услу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AutoShape 16"/>
          <p:cNvSpPr/>
          <p:nvPr/>
        </p:nvSpPr>
        <p:spPr>
          <a:xfrm flipH="1">
            <a:off x="3235320" y="2565360"/>
            <a:ext cx="2232000" cy="934920"/>
          </a:xfrm>
          <a:custGeom>
            <a:avLst/>
            <a:gdLst>
              <a:gd name="textAreaLeft" fmla="*/ 477720 w 2232000"/>
              <a:gd name="textAreaRight" fmla="*/ 1618560 w 2232000"/>
              <a:gd name="textAreaTop" fmla="*/ 125280 h 934920"/>
              <a:gd name="textAreaBottom" fmla="*/ 809640 h 934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240" hR="21600" stAng="10800000" swAng="5400000"/>
                <a:lnTo>
                  <a:pt x="11040" y="0"/>
                </a:lnTo>
                <a:arcTo wR="9240" hR="21600" stAng="-5400000" swAng="2651149"/>
                <a:lnTo>
                  <a:pt x="20817" y="12899"/>
                </a:lnTo>
                <a:lnTo>
                  <a:pt x="19380" y="21600"/>
                </a:lnTo>
                <a:lnTo>
                  <a:pt x="16377" y="12899"/>
                </a:lnTo>
                <a:lnTo>
                  <a:pt x="17697" y="12899"/>
                </a:lnTo>
                <a:arcTo wR="9240" hR="21600" stAng="-2748851" swAng="-2507309"/>
                <a:lnTo>
                  <a:pt x="10140" y="103"/>
                </a:lnTo>
                <a:arcTo wR="9240" hR="21600" stAng="-5543840" swAng="-5256160"/>
                <a:close/>
              </a:path>
              <a:path fill="darkenLess" w="21600" h="21600">
                <a:moveTo>
                  <a:pt x="0" y="21600"/>
                </a:moveTo>
                <a:arcTo wR="9240" hR="21600" stAng="10800000" swAng="5400000"/>
                <a:lnTo>
                  <a:pt x="9240" y="0"/>
                </a:lnTo>
                <a:arcTo wR="9240" hR="21600" stAng="-5400000" swAng="143840"/>
                <a:lnTo>
                  <a:pt x="10140" y="103"/>
                </a:lnTo>
                <a:arcTo wR="9240" hR="21600" stAng="-5543840" swAng="-5256160"/>
                <a:close/>
              </a:path>
            </a:pathLst>
          </a:custGeom>
          <a:gradFill rotWithShape="0">
            <a:gsLst>
              <a:gs pos="0">
                <a:srgbClr val="0033cc"/>
              </a:gs>
              <a:gs pos="100000">
                <a:srgbClr val="ff3300"/>
              </a:gs>
            </a:gsLst>
            <a:lin ang="5400000"/>
          </a:gra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AutoShape 17"/>
          <p:cNvSpPr/>
          <p:nvPr/>
        </p:nvSpPr>
        <p:spPr>
          <a:xfrm flipV="1" rot="21225000">
            <a:off x="3451320" y="4507560"/>
            <a:ext cx="2232000" cy="934920"/>
          </a:xfrm>
          <a:custGeom>
            <a:avLst/>
            <a:gdLst>
              <a:gd name="textAreaLeft" fmla="*/ 477360 w 2232000"/>
              <a:gd name="textAreaRight" fmla="*/ 1618200 w 2232000"/>
              <a:gd name="textAreaTop" fmla="*/ 125280 h 934920"/>
              <a:gd name="textAreaBottom" fmla="*/ 809640 h 934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240" hR="21600" stAng="10800000" swAng="5400000"/>
                <a:lnTo>
                  <a:pt x="11040" y="0"/>
                </a:lnTo>
                <a:arcTo wR="9240" hR="21600" stAng="-5400000" swAng="2651149"/>
                <a:lnTo>
                  <a:pt x="20817" y="12899"/>
                </a:lnTo>
                <a:lnTo>
                  <a:pt x="19380" y="21600"/>
                </a:lnTo>
                <a:lnTo>
                  <a:pt x="16377" y="12899"/>
                </a:lnTo>
                <a:lnTo>
                  <a:pt x="17697" y="12899"/>
                </a:lnTo>
                <a:arcTo wR="9240" hR="21600" stAng="-2748851" swAng="-2507309"/>
                <a:lnTo>
                  <a:pt x="10140" y="103"/>
                </a:lnTo>
                <a:arcTo wR="9240" hR="21600" stAng="-5543840" swAng="-5256160"/>
                <a:close/>
              </a:path>
              <a:path fill="darkenLess" w="21600" h="21600">
                <a:moveTo>
                  <a:pt x="0" y="21600"/>
                </a:moveTo>
                <a:arcTo wR="9240" hR="21600" stAng="10800000" swAng="5400000"/>
                <a:lnTo>
                  <a:pt x="9240" y="0"/>
                </a:lnTo>
                <a:arcTo wR="9240" hR="21600" stAng="-5400000" swAng="143840"/>
                <a:lnTo>
                  <a:pt x="10140" y="103"/>
                </a:lnTo>
                <a:arcTo wR="9240" hR="21600" stAng="-5543840" swAng="-5256160"/>
                <a:close/>
              </a:path>
            </a:pathLst>
          </a:custGeom>
          <a:gradFill rotWithShape="0">
            <a:gsLst>
              <a:gs pos="0">
                <a:srgbClr val="0033cc"/>
              </a:gs>
              <a:gs pos="100000">
                <a:srgbClr val="ff3300"/>
              </a:gs>
            </a:gsLst>
            <a:lin ang="5028000"/>
          </a:gra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AutoShape 18"/>
          <p:cNvSpPr/>
          <p:nvPr/>
        </p:nvSpPr>
        <p:spPr>
          <a:xfrm>
            <a:off x="34920" y="3645000"/>
            <a:ext cx="2521080" cy="811080"/>
          </a:xfrm>
          <a:prstGeom prst="roundRect">
            <a:avLst>
              <a:gd name="adj" fmla="val 16667"/>
            </a:avLst>
          </a:prstGeom>
          <a:solidFill>
            <a:srgbClr val="bdd3ff">
              <a:alpha val="70000"/>
            </a:srgbClr>
          </a:solidFill>
          <a:ln w="19080">
            <a:solidFill>
              <a:srgbClr val="0033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66"/>
                </a:solidFill>
                <a:latin typeface="Arial"/>
                <a:ea typeface="Arial"/>
              </a:rPr>
              <a:t>7.4 Планирование процессов жизненного цикла продукции /услу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8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Первый уровень модели СМ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Oval 2"/>
          <p:cNvSpPr/>
          <p:nvPr/>
        </p:nvSpPr>
        <p:spPr>
          <a:xfrm>
            <a:off x="658800" y="763560"/>
            <a:ext cx="8042400" cy="5834160"/>
          </a:xfrm>
          <a:prstGeom prst="ellipse">
            <a:avLst/>
          </a:prstGeom>
          <a:noFill/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AutoShape 3"/>
          <p:cNvSpPr/>
          <p:nvPr/>
        </p:nvSpPr>
        <p:spPr>
          <a:xfrm>
            <a:off x="287280" y="1073160"/>
            <a:ext cx="4284720" cy="1995480"/>
          </a:xfrm>
          <a:prstGeom prst="roundRect">
            <a:avLst>
              <a:gd name="adj" fmla="val 16667"/>
            </a:avLst>
          </a:prstGeom>
          <a:solidFill>
            <a:srgbClr val="bdd3ff">
              <a:alpha val="70000"/>
            </a:srgbClr>
          </a:solidFill>
          <a:ln w="19080">
            <a:solidFill>
              <a:srgbClr val="0033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66"/>
                </a:solidFill>
                <a:uFillTx/>
                <a:latin typeface="Arial"/>
                <a:ea typeface="Arial"/>
              </a:rPr>
              <a:t>5. Стратегия и полити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66"/>
                </a:solidFill>
                <a:latin typeface="Arial"/>
                <a:ea typeface="Arial"/>
              </a:rPr>
              <a:t>5.1 Общие полож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66"/>
                </a:solidFill>
                <a:latin typeface="Arial"/>
                <a:ea typeface="Arial"/>
              </a:rPr>
              <a:t>5.2 Формулирование стратегии и полити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3300"/>
                </a:solidFill>
                <a:latin typeface="Arial"/>
                <a:ea typeface="Arial"/>
              </a:rPr>
              <a:t>5.3 Развертывание политики и стратег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66"/>
                </a:solidFill>
                <a:latin typeface="Arial"/>
                <a:ea typeface="Arial"/>
              </a:rPr>
              <a:t>5.4 Информирование о политике и стратег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AutoShape 4"/>
          <p:cNvSpPr/>
          <p:nvPr/>
        </p:nvSpPr>
        <p:spPr>
          <a:xfrm>
            <a:off x="4716360" y="907920"/>
            <a:ext cx="4008600" cy="2376720"/>
          </a:xfrm>
          <a:prstGeom prst="roundRect">
            <a:avLst>
              <a:gd name="adj" fmla="val 16667"/>
            </a:avLst>
          </a:prstGeom>
          <a:solidFill>
            <a:srgbClr val="bdd3ff">
              <a:alpha val="70000"/>
            </a:srgbClr>
          </a:solidFill>
          <a:ln w="19080">
            <a:solidFill>
              <a:srgbClr val="0033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66"/>
                </a:solidFill>
                <a:uFillTx/>
                <a:latin typeface="Arial"/>
                <a:ea typeface="Arial"/>
              </a:rPr>
              <a:t>8. Мониторинг, измерения, анализ и оцен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66"/>
                </a:solidFill>
                <a:latin typeface="Arial"/>
                <a:ea typeface="Arial"/>
              </a:rPr>
              <a:t>8.1 Общие полож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66"/>
                </a:solidFill>
                <a:latin typeface="Arial"/>
                <a:ea typeface="Arial"/>
              </a:rPr>
              <a:t>8.2 Мониторин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3300"/>
                </a:solidFill>
                <a:latin typeface="Arial"/>
                <a:ea typeface="Arial"/>
              </a:rPr>
              <a:t>8.3 Измерения (КПД, внутренний аудит, самооценка, бенчмаркинг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8.4 Анали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8.5 Изучение информац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AutoShape 5"/>
          <p:cNvSpPr/>
          <p:nvPr/>
        </p:nvSpPr>
        <p:spPr>
          <a:xfrm>
            <a:off x="179280" y="3471840"/>
            <a:ext cx="3173400" cy="2333520"/>
          </a:xfrm>
          <a:prstGeom prst="roundRect">
            <a:avLst>
              <a:gd name="adj" fmla="val 16667"/>
            </a:avLst>
          </a:prstGeom>
          <a:solidFill>
            <a:srgbClr val="bdd3ff">
              <a:alpha val="70000"/>
            </a:srgbClr>
          </a:solidFill>
          <a:ln w="19080">
            <a:solidFill>
              <a:srgbClr val="0033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66"/>
                </a:solidFill>
                <a:uFillTx/>
                <a:latin typeface="Arial"/>
                <a:ea typeface="Arial"/>
              </a:rPr>
              <a:t>6. Менеджмент ресурс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66"/>
                </a:solidFill>
                <a:latin typeface="Arial"/>
                <a:ea typeface="Arial"/>
              </a:rPr>
              <a:t>6.1 Общие полож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  <a:ea typeface="Arial"/>
              </a:rPr>
              <a:t>6.2 Финансовые ресурс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66"/>
                </a:solidFill>
                <a:latin typeface="Arial"/>
                <a:ea typeface="Arial"/>
              </a:rPr>
              <a:t>6.3 Персонал организац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66"/>
                </a:solidFill>
                <a:latin typeface="Arial"/>
                <a:ea typeface="Arial"/>
              </a:rPr>
              <a:t>6.4 Поставщики и партнер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66"/>
                </a:solidFill>
                <a:latin typeface="Arial"/>
                <a:ea typeface="Arial"/>
              </a:rPr>
              <a:t>6.5 Инфраструктур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66"/>
                </a:solidFill>
                <a:latin typeface="Arial"/>
                <a:ea typeface="Arial"/>
              </a:rPr>
              <a:t>6.6 Производственная сред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  <a:ea typeface="Arial"/>
              </a:rPr>
              <a:t>6.7 Знания, информация и технолог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66"/>
                </a:solidFill>
                <a:latin typeface="Arial"/>
                <a:ea typeface="Arial"/>
              </a:rPr>
              <a:t>6.8 Природные ресурс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AutoShape 6"/>
          <p:cNvSpPr/>
          <p:nvPr/>
        </p:nvSpPr>
        <p:spPr>
          <a:xfrm>
            <a:off x="6507000" y="4292640"/>
            <a:ext cx="2457720" cy="1574640"/>
          </a:xfrm>
          <a:prstGeom prst="roundRect">
            <a:avLst>
              <a:gd name="adj" fmla="val 16667"/>
            </a:avLst>
          </a:prstGeom>
          <a:solidFill>
            <a:srgbClr val="bdd3ff">
              <a:alpha val="70000"/>
            </a:srgbClr>
          </a:solidFill>
          <a:ln w="19080">
            <a:solidFill>
              <a:srgbClr val="0033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66"/>
                </a:solidFill>
                <a:uFillTx/>
                <a:latin typeface="Arial"/>
                <a:ea typeface="Arial"/>
              </a:rPr>
              <a:t>9 Улучшение, инновации, обуч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66"/>
                </a:solidFill>
                <a:latin typeface="Arial"/>
                <a:ea typeface="Arial"/>
              </a:rPr>
              <a:t>9.1 Общие полож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  <a:ea typeface="Arial"/>
              </a:rPr>
              <a:t>9.2 Улучш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ff"/>
                </a:solidFill>
                <a:latin typeface="Arial"/>
                <a:ea typeface="Arial"/>
              </a:rPr>
              <a:t>9.3 Инновац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ff"/>
                </a:solidFill>
                <a:latin typeface="Arial"/>
                <a:ea typeface="Arial"/>
              </a:rPr>
              <a:t>9.4 Обуч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AutoShape 7"/>
          <p:cNvSpPr/>
          <p:nvPr/>
        </p:nvSpPr>
        <p:spPr>
          <a:xfrm>
            <a:off x="3492360" y="4365720"/>
            <a:ext cx="2882880" cy="1224000"/>
          </a:xfrm>
          <a:prstGeom prst="hexagon">
            <a:avLst>
              <a:gd name="adj" fmla="val 58882"/>
              <a:gd name="vf" fmla="val 115470"/>
            </a:avLst>
          </a:prstGeom>
          <a:solidFill>
            <a:srgbClr val="ff0000">
              <a:alpha val="5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  <a:ea typeface="Arial"/>
              </a:rPr>
              <a:t>Постоянное улучшение СМ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AutoShape 8"/>
          <p:cNvSpPr/>
          <p:nvPr/>
        </p:nvSpPr>
        <p:spPr>
          <a:xfrm flipH="1">
            <a:off x="3780000" y="3429000"/>
            <a:ext cx="2232000" cy="934920"/>
          </a:xfrm>
          <a:custGeom>
            <a:avLst/>
            <a:gdLst>
              <a:gd name="textAreaLeft" fmla="*/ 477720 w 2232000"/>
              <a:gd name="textAreaRight" fmla="*/ 1618560 w 2232000"/>
              <a:gd name="textAreaTop" fmla="*/ 125280 h 934920"/>
              <a:gd name="textAreaBottom" fmla="*/ 809640 h 934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240" hR="21600" stAng="10800000" swAng="5400000"/>
                <a:lnTo>
                  <a:pt x="11040" y="0"/>
                </a:lnTo>
                <a:arcTo wR="9240" hR="21600" stAng="-5400000" swAng="2651149"/>
                <a:lnTo>
                  <a:pt x="20817" y="12899"/>
                </a:lnTo>
                <a:lnTo>
                  <a:pt x="19380" y="21600"/>
                </a:lnTo>
                <a:lnTo>
                  <a:pt x="16377" y="12899"/>
                </a:lnTo>
                <a:lnTo>
                  <a:pt x="17697" y="12899"/>
                </a:lnTo>
                <a:arcTo wR="9240" hR="21600" stAng="-2748851" swAng="-2507309"/>
                <a:lnTo>
                  <a:pt x="10140" y="103"/>
                </a:lnTo>
                <a:arcTo wR="9240" hR="21600" stAng="-5543840" swAng="-5256160"/>
                <a:close/>
              </a:path>
              <a:path fill="darkenLess" w="21600" h="21600">
                <a:moveTo>
                  <a:pt x="0" y="21600"/>
                </a:moveTo>
                <a:arcTo wR="9240" hR="21600" stAng="10800000" swAng="5400000"/>
                <a:lnTo>
                  <a:pt x="9240" y="0"/>
                </a:lnTo>
                <a:arcTo wR="9240" hR="21600" stAng="-5400000" swAng="143840"/>
                <a:lnTo>
                  <a:pt x="10140" y="103"/>
                </a:lnTo>
                <a:arcTo wR="9240" hR="21600" stAng="-5543840" swAng="-5256160"/>
                <a:close/>
              </a:path>
            </a:pathLst>
          </a:custGeom>
          <a:gradFill rotWithShape="0">
            <a:gsLst>
              <a:gs pos="0">
                <a:srgbClr val="0033cc"/>
              </a:gs>
              <a:gs pos="100000">
                <a:srgbClr val="ff3300"/>
              </a:gs>
            </a:gsLst>
            <a:lin ang="5400000"/>
          </a:gra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AutoShape 9"/>
          <p:cNvSpPr/>
          <p:nvPr/>
        </p:nvSpPr>
        <p:spPr>
          <a:xfrm flipV="1" rot="21225000">
            <a:off x="3995640" y="5515560"/>
            <a:ext cx="2232000" cy="934920"/>
          </a:xfrm>
          <a:custGeom>
            <a:avLst/>
            <a:gdLst>
              <a:gd name="textAreaLeft" fmla="*/ 477360 w 2232000"/>
              <a:gd name="textAreaRight" fmla="*/ 1618200 w 2232000"/>
              <a:gd name="textAreaTop" fmla="*/ 125280 h 934920"/>
              <a:gd name="textAreaBottom" fmla="*/ 809640 h 934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240" hR="21600" stAng="10800000" swAng="5400000"/>
                <a:lnTo>
                  <a:pt x="11040" y="0"/>
                </a:lnTo>
                <a:arcTo wR="9240" hR="21600" stAng="-5400000" swAng="2651149"/>
                <a:lnTo>
                  <a:pt x="20817" y="12899"/>
                </a:lnTo>
                <a:lnTo>
                  <a:pt x="19380" y="21600"/>
                </a:lnTo>
                <a:lnTo>
                  <a:pt x="16377" y="12899"/>
                </a:lnTo>
                <a:lnTo>
                  <a:pt x="17697" y="12899"/>
                </a:lnTo>
                <a:arcTo wR="9240" hR="21600" stAng="-2748851" swAng="-2507309"/>
                <a:lnTo>
                  <a:pt x="10140" y="103"/>
                </a:lnTo>
                <a:arcTo wR="9240" hR="21600" stAng="-5543840" swAng="-5256160"/>
                <a:close/>
              </a:path>
              <a:path fill="darkenLess" w="21600" h="21600">
                <a:moveTo>
                  <a:pt x="0" y="21600"/>
                </a:moveTo>
                <a:arcTo wR="9240" hR="21600" stAng="10800000" swAng="5400000"/>
                <a:lnTo>
                  <a:pt x="9240" y="0"/>
                </a:lnTo>
                <a:arcTo wR="9240" hR="21600" stAng="-5400000" swAng="143840"/>
                <a:lnTo>
                  <a:pt x="10140" y="103"/>
                </a:lnTo>
                <a:arcTo wR="9240" hR="21600" stAng="-5543840" swAng="-5256160"/>
                <a:close/>
              </a:path>
            </a:pathLst>
          </a:custGeom>
          <a:gradFill rotWithShape="0">
            <a:gsLst>
              <a:gs pos="0">
                <a:srgbClr val="0033cc"/>
              </a:gs>
              <a:gs pos="100000">
                <a:srgbClr val="ff3300"/>
              </a:gs>
            </a:gsLst>
            <a:lin ang="5028000"/>
          </a:gra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Второй уровень модели СМ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Oval 2"/>
          <p:cNvSpPr/>
          <p:nvPr/>
        </p:nvSpPr>
        <p:spPr>
          <a:xfrm>
            <a:off x="216000" y="1486080"/>
            <a:ext cx="8928000" cy="501624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AutoShape 3"/>
          <p:cNvSpPr/>
          <p:nvPr/>
        </p:nvSpPr>
        <p:spPr>
          <a:xfrm>
            <a:off x="3319560" y="2646360"/>
            <a:ext cx="2882880" cy="1224000"/>
          </a:xfrm>
          <a:prstGeom prst="hexagon">
            <a:avLst>
              <a:gd name="adj" fmla="val 58882"/>
              <a:gd name="vf" fmla="val 115470"/>
            </a:avLst>
          </a:prstGeom>
          <a:solidFill>
            <a:srgbClr val="ff0000">
              <a:alpha val="5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  <a:ea typeface="Arial"/>
              </a:rPr>
              <a:t>Инновации </a:t>
            </a:r>
            <a:br>
              <a:rPr sz="1800"/>
            </a:br>
            <a:r>
              <a:rPr b="1" lang="ru-RU" sz="1800" spc="-1" strike="noStrike">
                <a:solidFill>
                  <a:srgbClr val="000066"/>
                </a:solidFill>
                <a:latin typeface="Arial"/>
                <a:ea typeface="Arial"/>
              </a:rPr>
              <a:t>в СМ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AutoShape 4"/>
          <p:cNvSpPr/>
          <p:nvPr/>
        </p:nvSpPr>
        <p:spPr>
          <a:xfrm>
            <a:off x="727200" y="2554200"/>
            <a:ext cx="2538360" cy="2670120"/>
          </a:xfrm>
          <a:custGeom>
            <a:avLst/>
            <a:gdLst>
              <a:gd name="textAreaLeft" fmla="*/ 123840 w 2538360"/>
              <a:gd name="textAreaRight" fmla="*/ 2414520 w 2538360"/>
              <a:gd name="textAreaTop" fmla="*/ 123840 h 2670120"/>
              <a:gd name="textAreaBottom" fmla="*/ 2546280 h 2670120"/>
            </a:gdLst>
            <a:ahLst/>
            <a:rect l="textAreaLeft" t="textAreaTop" r="textAreaRight" b="textAreaBottom"/>
            <a:pathLst>
              <a:path w="21600" h="22721">
                <a:moveTo>
                  <a:pt x="3600" y="0"/>
                </a:moveTo>
                <a:arcTo wR="3600" hR="3600" stAng="16200000" swAng="-5400000"/>
                <a:lnTo>
                  <a:pt x="0" y="19121"/>
                </a:lnTo>
                <a:arcTo wR="3600" hR="3600" stAng="10800000" swAng="-5400000"/>
                <a:lnTo>
                  <a:pt x="18000" y="2272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dd3ff">
              <a:alpha val="70000"/>
            </a:srgbClr>
          </a:solidFill>
          <a:ln w="19080">
            <a:solidFill>
              <a:srgbClr val="0033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2d2d8a"/>
                </a:solidFill>
                <a:uFillTx/>
                <a:latin typeface="Arial"/>
                <a:ea typeface="Arial"/>
              </a:rPr>
              <a:t>4. Управление для достижения организацией устойчивого успех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d2d8a"/>
                </a:solidFill>
                <a:latin typeface="Arial"/>
                <a:ea typeface="Arial"/>
              </a:rPr>
              <a:t>4.1 Общие полож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3300"/>
                </a:solidFill>
                <a:latin typeface="Arial"/>
                <a:ea typeface="Arial"/>
              </a:rPr>
              <a:t>4.2 Устойчивый успе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d2d8a"/>
                </a:solidFill>
                <a:latin typeface="Arial"/>
                <a:ea typeface="Arial"/>
              </a:rPr>
              <a:t>4.3Организационная сред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3300"/>
                </a:solidFill>
                <a:latin typeface="Arial"/>
                <a:ea typeface="Arial"/>
              </a:rPr>
              <a:t>4.4 Заинтересованные стороны, потребности и ожида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AutoShape 5"/>
          <p:cNvSpPr/>
          <p:nvPr/>
        </p:nvSpPr>
        <p:spPr>
          <a:xfrm>
            <a:off x="6084720" y="3321000"/>
            <a:ext cx="2813040" cy="1152720"/>
          </a:xfrm>
          <a:prstGeom prst="roundRect">
            <a:avLst>
              <a:gd name="adj" fmla="val 16667"/>
            </a:avLst>
          </a:prstGeom>
          <a:solidFill>
            <a:srgbClr val="bdd3ff">
              <a:alpha val="70000"/>
            </a:srgbClr>
          </a:solidFill>
          <a:ln w="19080">
            <a:solidFill>
              <a:srgbClr val="0033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66"/>
                </a:solidFill>
                <a:uFillTx/>
                <a:latin typeface="Arial"/>
                <a:ea typeface="Arial"/>
              </a:rPr>
              <a:t>9 Улучшение, инновации, обуч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3300"/>
                </a:solidFill>
                <a:latin typeface="Arial"/>
                <a:ea typeface="Arial"/>
              </a:rPr>
              <a:t>…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3300"/>
                </a:solidFill>
                <a:latin typeface="Arial"/>
                <a:ea typeface="Arial"/>
              </a:rPr>
              <a:t>9.3 Инновац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3300"/>
                </a:solidFill>
                <a:latin typeface="Arial"/>
                <a:ea typeface="Arial"/>
              </a:rPr>
              <a:t>9.4 Обуч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AutoShape 6"/>
          <p:cNvSpPr/>
          <p:nvPr/>
        </p:nvSpPr>
        <p:spPr>
          <a:xfrm flipH="1">
            <a:off x="3492360" y="1700280"/>
            <a:ext cx="2232000" cy="934920"/>
          </a:xfrm>
          <a:custGeom>
            <a:avLst/>
            <a:gdLst>
              <a:gd name="textAreaLeft" fmla="*/ 477720 w 2232000"/>
              <a:gd name="textAreaRight" fmla="*/ 1618560 w 2232000"/>
              <a:gd name="textAreaTop" fmla="*/ 125280 h 934920"/>
              <a:gd name="textAreaBottom" fmla="*/ 809640 h 934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240" hR="21600" stAng="10800000" swAng="5400000"/>
                <a:lnTo>
                  <a:pt x="11040" y="0"/>
                </a:lnTo>
                <a:arcTo wR="9240" hR="21600" stAng="-5400000" swAng="2651149"/>
                <a:lnTo>
                  <a:pt x="20817" y="12899"/>
                </a:lnTo>
                <a:lnTo>
                  <a:pt x="19380" y="21600"/>
                </a:lnTo>
                <a:lnTo>
                  <a:pt x="16377" y="12899"/>
                </a:lnTo>
                <a:lnTo>
                  <a:pt x="17697" y="12899"/>
                </a:lnTo>
                <a:arcTo wR="9240" hR="21600" stAng="-2748851" swAng="-2507309"/>
                <a:lnTo>
                  <a:pt x="10140" y="103"/>
                </a:lnTo>
                <a:arcTo wR="9240" hR="21600" stAng="-5543840" swAng="-5256160"/>
                <a:close/>
              </a:path>
              <a:path fill="darkenLess" w="21600" h="21600">
                <a:moveTo>
                  <a:pt x="0" y="21600"/>
                </a:moveTo>
                <a:arcTo wR="9240" hR="21600" stAng="10800000" swAng="5400000"/>
                <a:lnTo>
                  <a:pt x="9240" y="0"/>
                </a:lnTo>
                <a:arcTo wR="9240" hR="21600" stAng="-5400000" swAng="143840"/>
                <a:lnTo>
                  <a:pt x="10140" y="103"/>
                </a:lnTo>
                <a:arcTo wR="9240" hR="21600" stAng="-5543840" swAng="-5256160"/>
                <a:close/>
              </a:path>
            </a:pathLst>
          </a:custGeom>
          <a:gradFill rotWithShape="0">
            <a:gsLst>
              <a:gs pos="0">
                <a:srgbClr val="0033cc"/>
              </a:gs>
              <a:gs pos="100000">
                <a:srgbClr val="ff3300"/>
              </a:gs>
            </a:gsLst>
            <a:lin ang="5400000"/>
          </a:gra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AutoShape 7"/>
          <p:cNvSpPr/>
          <p:nvPr/>
        </p:nvSpPr>
        <p:spPr>
          <a:xfrm flipV="1" rot="21225000">
            <a:off x="3780000" y="3860280"/>
            <a:ext cx="2232000" cy="935280"/>
          </a:xfrm>
          <a:custGeom>
            <a:avLst/>
            <a:gdLst>
              <a:gd name="textAreaLeft" fmla="*/ 477360 w 2232000"/>
              <a:gd name="textAreaRight" fmla="*/ 1618200 w 2232000"/>
              <a:gd name="textAreaTop" fmla="*/ 125280 h 935280"/>
              <a:gd name="textAreaBottom" fmla="*/ 810000 h 935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240" hR="21600" stAng="10800000" swAng="5400000"/>
                <a:lnTo>
                  <a:pt x="11040" y="0"/>
                </a:lnTo>
                <a:arcTo wR="9240" hR="21600" stAng="-5400000" swAng="2651149"/>
                <a:lnTo>
                  <a:pt x="20817" y="12899"/>
                </a:lnTo>
                <a:lnTo>
                  <a:pt x="19380" y="21600"/>
                </a:lnTo>
                <a:lnTo>
                  <a:pt x="16377" y="12899"/>
                </a:lnTo>
                <a:lnTo>
                  <a:pt x="17697" y="12899"/>
                </a:lnTo>
                <a:arcTo wR="9240" hR="21600" stAng="-2748851" swAng="-2507309"/>
                <a:lnTo>
                  <a:pt x="10140" y="103"/>
                </a:lnTo>
                <a:arcTo wR="9240" hR="21600" stAng="-5543840" swAng="-5256160"/>
                <a:close/>
              </a:path>
              <a:path fill="darkenLess" w="21600" h="21600">
                <a:moveTo>
                  <a:pt x="0" y="21600"/>
                </a:moveTo>
                <a:arcTo wR="9240" hR="21600" stAng="10800000" swAng="5400000"/>
                <a:lnTo>
                  <a:pt x="9240" y="0"/>
                </a:lnTo>
                <a:arcTo wR="9240" hR="21600" stAng="-5400000" swAng="143840"/>
                <a:lnTo>
                  <a:pt x="10140" y="103"/>
                </a:lnTo>
                <a:arcTo wR="9240" hR="21600" stAng="-5543840" swAng="-5256160"/>
                <a:close/>
              </a:path>
            </a:pathLst>
          </a:custGeom>
          <a:gradFill rotWithShape="0">
            <a:gsLst>
              <a:gs pos="0">
                <a:srgbClr val="0033cc"/>
              </a:gs>
              <a:gs pos="100000">
                <a:srgbClr val="ff3300"/>
              </a:gs>
            </a:gsLst>
            <a:lin ang="5028000"/>
          </a:gra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2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Третий уровень модели СМ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4" name="Group 2"/>
          <p:cNvGrpSpPr/>
          <p:nvPr/>
        </p:nvGrpSpPr>
        <p:grpSpPr>
          <a:xfrm>
            <a:off x="380880" y="1219320"/>
            <a:ext cx="8229240" cy="5028840"/>
            <a:chOff x="380880" y="1219320"/>
            <a:chExt cx="8229240" cy="5028840"/>
          </a:xfrm>
        </p:grpSpPr>
        <p:sp>
          <p:nvSpPr>
            <p:cNvPr id="395" name="Freeform 3"/>
            <p:cNvSpPr/>
            <p:nvPr/>
          </p:nvSpPr>
          <p:spPr>
            <a:xfrm>
              <a:off x="4232880" y="2736360"/>
              <a:ext cx="4376880" cy="3511800"/>
            </a:xfrm>
            <a:custGeom>
              <a:avLst/>
              <a:gdLst>
                <a:gd name="textAreaLeft" fmla="*/ 0 w 4376880"/>
                <a:gd name="textAreaRight" fmla="*/ 4377240 w 4376880"/>
                <a:gd name="textAreaTop" fmla="*/ 0 h 3511800"/>
                <a:gd name="textAreaBottom" fmla="*/ 3512160 h 3511800"/>
              </a:gdLst>
              <a:ahLst/>
              <a:rect l="textAreaLeft" t="textAreaTop" r="textAreaRight" b="textAreaBottom"/>
              <a:pathLst>
                <a:path w="2400" h="1810">
                  <a:moveTo>
                    <a:pt x="1" y="1282"/>
                  </a:moveTo>
                  <a:lnTo>
                    <a:pt x="624" y="1273"/>
                  </a:lnTo>
                  <a:lnTo>
                    <a:pt x="624" y="902"/>
                  </a:lnTo>
                  <a:lnTo>
                    <a:pt x="1147" y="903"/>
                  </a:lnTo>
                  <a:lnTo>
                    <a:pt x="1147" y="754"/>
                  </a:lnTo>
                  <a:lnTo>
                    <a:pt x="1330" y="754"/>
                  </a:lnTo>
                  <a:lnTo>
                    <a:pt x="1330" y="624"/>
                  </a:lnTo>
                  <a:lnTo>
                    <a:pt x="1498" y="624"/>
                  </a:lnTo>
                  <a:lnTo>
                    <a:pt x="1498" y="495"/>
                  </a:lnTo>
                  <a:lnTo>
                    <a:pt x="1651" y="495"/>
                  </a:lnTo>
                  <a:lnTo>
                    <a:pt x="1651" y="389"/>
                  </a:lnTo>
                  <a:lnTo>
                    <a:pt x="1814" y="389"/>
                  </a:lnTo>
                  <a:lnTo>
                    <a:pt x="1814" y="269"/>
                  </a:lnTo>
                  <a:lnTo>
                    <a:pt x="1978" y="269"/>
                  </a:lnTo>
                  <a:lnTo>
                    <a:pt x="1978" y="139"/>
                  </a:lnTo>
                  <a:lnTo>
                    <a:pt x="2155" y="139"/>
                  </a:lnTo>
                  <a:lnTo>
                    <a:pt x="2155" y="0"/>
                  </a:lnTo>
                  <a:lnTo>
                    <a:pt x="2400" y="0"/>
                  </a:lnTo>
                  <a:lnTo>
                    <a:pt x="2400" y="1810"/>
                  </a:lnTo>
                  <a:lnTo>
                    <a:pt x="0" y="1810"/>
                  </a:lnTo>
                  <a:lnTo>
                    <a:pt x="1" y="1282"/>
                  </a:lnTo>
                  <a:close/>
                </a:path>
              </a:pathLst>
            </a:custGeom>
            <a:solidFill>
              <a:srgbClr val="e3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96" name="Picture 4" descr="EXAMINE"/>
            <p:cNvPicPr/>
            <p:nvPr/>
          </p:nvPicPr>
          <p:blipFill>
            <a:blip r:embed="rId1"/>
            <a:stretch/>
          </p:blipFill>
          <p:spPr>
            <a:xfrm>
              <a:off x="3818880" y="1219320"/>
              <a:ext cx="3476160" cy="397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7" name="Line 5"/>
            <p:cNvSpPr/>
            <p:nvPr/>
          </p:nvSpPr>
          <p:spPr>
            <a:xfrm>
              <a:off x="380880" y="4469040"/>
              <a:ext cx="82292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Line 6"/>
            <p:cNvSpPr/>
            <p:nvPr/>
          </p:nvSpPr>
          <p:spPr>
            <a:xfrm>
              <a:off x="380880" y="2713320"/>
              <a:ext cx="82292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Line 7"/>
            <p:cNvSpPr/>
            <p:nvPr/>
          </p:nvSpPr>
          <p:spPr>
            <a:xfrm>
              <a:off x="380880" y="6225120"/>
              <a:ext cx="82292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Line 8"/>
            <p:cNvSpPr/>
            <p:nvPr/>
          </p:nvSpPr>
          <p:spPr>
            <a:xfrm>
              <a:off x="468360" y="4469040"/>
              <a:ext cx="0" cy="1769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triangle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Line 9"/>
            <p:cNvSpPr/>
            <p:nvPr/>
          </p:nvSpPr>
          <p:spPr>
            <a:xfrm>
              <a:off x="468360" y="2699640"/>
              <a:ext cx="0" cy="176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triangle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Text Box 10"/>
            <p:cNvSpPr/>
            <p:nvPr/>
          </p:nvSpPr>
          <p:spPr>
            <a:xfrm>
              <a:off x="818640" y="3165120"/>
              <a:ext cx="21009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Много малых улучшени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Text Box 11"/>
            <p:cNvSpPr/>
            <p:nvPr/>
          </p:nvSpPr>
          <p:spPr>
            <a:xfrm>
              <a:off x="906120" y="5063040"/>
              <a:ext cx="2100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Крупное улучшени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Text Box 12"/>
            <p:cNvSpPr/>
            <p:nvPr/>
          </p:nvSpPr>
          <p:spPr>
            <a:xfrm>
              <a:off x="6771600" y="5734080"/>
              <a:ext cx="175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ИННОВАЦИ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Text Box 13"/>
            <p:cNvSpPr/>
            <p:nvPr/>
          </p:nvSpPr>
          <p:spPr>
            <a:xfrm>
              <a:off x="6771600" y="4003560"/>
              <a:ext cx="175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УЛУЧШЕНИ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294920" y="76320"/>
            <a:ext cx="67820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Улучшения и инновации в управлен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Направления реорганизации менеджмен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457200" y="1600200"/>
          <a:ext cx="8229600" cy="51116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41040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Менеджмен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cba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89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33ff"/>
                          </a:solidFill>
                          <a:latin typeface="Arial"/>
                          <a:ea typeface="Times New Roman"/>
                        </a:rPr>
                        <a:t>традиционны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ee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33ff"/>
                          </a:solidFill>
                          <a:latin typeface="Arial"/>
                          <a:ea typeface="Times New Roman"/>
                        </a:rPr>
                        <a:t>современны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ee2"/>
                    </a:solidFill>
                  </a:tcPr>
                </a:tc>
              </a:tr>
              <a:tr h="4104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раткосрочное планирова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олгосрочное планирова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89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риентация на контроль качества продукции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ee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риентация на управление процесс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ee2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оответствие стандартам и техническим условия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риентация на потребителей и непрерывное совершенствова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риентация на индивидуальное умение исполнител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риентация на системный подх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86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дносторонние связ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вусторонние связ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04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ндивидуальная рабо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мандная организация рабо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сновное внимание — корректирующим действиям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сновное внимание — профилактик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07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ертикальная, иерархическая структур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Горизонтальная структур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86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нешний контрол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заимный контрол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дразделения работают изолированно друг от друг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арьеры между службами отсутствую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1026"/>
          <p:cNvSpPr/>
          <p:nvPr/>
        </p:nvSpPr>
        <p:spPr>
          <a:xfrm>
            <a:off x="657360" y="380880"/>
            <a:ext cx="777240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Модель СМК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трехуровневая структура требова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1027"/>
          <p:cNvSpPr/>
          <p:nvPr/>
        </p:nvSpPr>
        <p:spPr>
          <a:xfrm>
            <a:off x="393840" y="1201680"/>
            <a:ext cx="8424720" cy="52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9" name=""/>
          <p:cNvGraphicFramePr/>
          <p:nvPr/>
        </p:nvGraphicFramePr>
        <p:xfrm>
          <a:off x="812880" y="1397160"/>
          <a:ext cx="7619760" cy="4819320"/>
        </p:xfrm>
        <a:graphic>
          <a:graphicData uri="http://schemas.openxmlformats.org/drawingml/2006/table">
            <a:tbl>
              <a:tblPr/>
              <a:tblGrid>
                <a:gridCol w="4572000"/>
                <a:gridCol w="1523880"/>
                <a:gridCol w="1523880"/>
              </a:tblGrid>
              <a:tr h="5796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новации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М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5aa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</a:tr>
              <a:tr h="76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85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стоянное улучшение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М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5aa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</a:tr>
              <a:tr h="579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</a:tr>
              <a:tr h="578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стоянное улучш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дукц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5aa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</a:tr>
              <a:tr h="576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0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4" dur="80"/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5" dur="80"/>
                                        <p:tgtEl>
                                          <p:spTgt spid="4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6" dur="80"/>
                                        <p:tgtEl>
                                          <p:spTgt spid="4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720"/>
                            </p:stCondLst>
                            <p:childTnLst>
                              <p:par>
                                <p:cTn id="308" nodeType="afterEffect" fill="hold" presetClass="entr" presetID="2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2" dur="1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5-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Object 1026"/>
          <p:cNvGraphicFramePr/>
          <p:nvPr/>
        </p:nvGraphicFramePr>
        <p:xfrm>
          <a:off x="1676520" y="228600"/>
          <a:ext cx="6057720" cy="8394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12" name="Object 102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228600"/>
                    <a:ext cx="6057720" cy="839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randomBar dir="vert"/>
  </p:transition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0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1026"/>
          <p:cNvSpPr/>
          <p:nvPr/>
        </p:nvSpPr>
        <p:spPr>
          <a:xfrm>
            <a:off x="657360" y="380880"/>
            <a:ext cx="777240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Аспекты организационного профил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Rectangle 1027"/>
          <p:cNvSpPr/>
          <p:nvPr/>
        </p:nvSpPr>
        <p:spPr>
          <a:xfrm>
            <a:off x="393840" y="1201680"/>
            <a:ext cx="8424720" cy="52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А.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Область применения СМК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Б.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Понимание возможностей организаци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В.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2000" spc="-1" strike="noStrike" u="sng">
                <a:solidFill>
                  <a:srgbClr val="3333ff"/>
                </a:solidFill>
                <a:uFillTx/>
                <a:latin typeface="Arial"/>
              </a:rPr>
              <a:t>Понимание человеческого потенциал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Г.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Понимание окружающей сред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Д.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Конкурентная ситуа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0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9" dur="80"/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0" dur="80"/>
                                        <p:tgtEl>
                                          <p:spTgt spid="4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1" dur="80"/>
                                        <p:tgtEl>
                                          <p:spTgt spid="4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1240"/>
                            </p:stCondLst>
                            <p:childTnLst>
                              <p:par>
                                <p:cTn id="33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7" dur="1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ff"/>
                </a:solidFill>
                <a:latin typeface="Arial"/>
              </a:rPr>
              <a:t>Менеджмент персонала</a:t>
            </a:r>
            <a:br>
              <a:rPr sz="3200"/>
            </a:b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ISO</a:t>
            </a: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 9004:2009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457200" y="1600200"/>
            <a:ext cx="822960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6.3. Персонал организ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3333ff"/>
                </a:solidFill>
                <a:latin typeface="Arial"/>
              </a:rPr>
              <a:t>6.3.1. Управление персонал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юди – значимый ресурс организации и их полное вовлечение расширяет их </a:t>
            </a:r>
            <a:r>
              <a:rPr b="0" i="1" lang="ru-RU" sz="2000" spc="-1" strike="noStrike">
                <a:solidFill>
                  <a:srgbClr val="c00000"/>
                </a:solidFill>
                <a:latin typeface="Arial"/>
              </a:rPr>
              <a:t>способность создавать ценность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заинтересованных сторо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3333ff"/>
                </a:solidFill>
                <a:latin typeface="Arial"/>
              </a:rPr>
              <a:t>6.3.2. Компетентность персона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рганизация должна установить и поддерживать «</a:t>
            </a:r>
            <a:r>
              <a:rPr b="0" i="1" lang="ru-RU" sz="2000" spc="-1" strike="noStrike">
                <a:solidFill>
                  <a:srgbClr val="c00000"/>
                </a:solidFill>
                <a:latin typeface="Arial"/>
              </a:rPr>
              <a:t>план развития персонал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» и связанные с этим процесс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3333ff"/>
                </a:solidFill>
                <a:latin typeface="Arial"/>
              </a:rPr>
              <a:t>6.3.3. Вовлечение и мотивирование персона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рганизация должна </a:t>
            </a:r>
            <a:r>
              <a:rPr b="0" i="1" lang="ru-RU" sz="2000" spc="-1" strike="noStrike">
                <a:solidFill>
                  <a:srgbClr val="c00000"/>
                </a:solidFill>
                <a:latin typeface="Arial"/>
              </a:rPr>
              <a:t>мотивировать персонал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понимание значимости и важности их ответственности и деятельности в отношении создания и обеспечения ценности для потребителей и других заинтересованных сторо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15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ff"/>
                </a:solidFill>
                <a:latin typeface="Arial"/>
              </a:rPr>
              <a:t>Процесс наделения сотрудников полномочиями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еобразовывать 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стратегию и цели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цессов в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индивидуальные  цели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боты и разрабатывать планы для их достиже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являть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затруднен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по их выполнению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нимать на себя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ответственность и полномочия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решения проблем </a:t>
            </a:r>
            <a:r>
              <a:rPr b="0" lang="ru-RU" sz="2000" spc="-1" strike="noStrike">
                <a:solidFill>
                  <a:srgbClr val="3333ff"/>
                </a:solidFill>
                <a:latin typeface="Arial"/>
              </a:rPr>
              <a:t>(п.5.5.1 ГОСТ Р ИСО 9001-2008)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оценивать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ндивидуальную работу на основе индивидуальных целей работ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ктивно искать возможности для роста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компетентност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 опыт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двигать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командную работу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поощрять совместную деятельность сотрудник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мениваться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информацие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знаниями и опытом внутри организации </a:t>
            </a:r>
            <a:r>
              <a:rPr b="0" lang="ru-RU" sz="2000" spc="-1" strike="noStrike">
                <a:solidFill>
                  <a:srgbClr val="3333ff"/>
                </a:solidFill>
                <a:latin typeface="Arial"/>
              </a:rPr>
              <a:t>(п.5.5.3 ГОСТ Р ИСО 9001-2008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ff"/>
                </a:solidFill>
                <a:latin typeface="Arial"/>
              </a:rPr>
              <a:t>Процесс обеспечения необходимого уровня компетенций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457200" y="1600200"/>
            <a:ext cx="8229600" cy="494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ределение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профессиональных и личностных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мпетенций персонала, которые могут </a:t>
            </a:r>
            <a:r>
              <a:rPr b="0" lang="ru-RU" sz="2000" spc="-1" strike="noStrike">
                <a:solidFill>
                  <a:srgbClr val="3333ff"/>
                </a:solidFill>
                <a:latin typeface="Arial"/>
              </a:rPr>
              <a:t>понадобиться организации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соответствии с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миссией, видением, стратегией, политикой и целям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организации</a:t>
            </a:r>
            <a:r>
              <a:rPr b="0" lang="ru-RU" sz="2000" spc="-1" strike="noStrike">
                <a:solidFill>
                  <a:srgbClr val="3333ff"/>
                </a:solidFill>
                <a:latin typeface="Arial"/>
              </a:rPr>
              <a:t> (п.6.2.1ГОСТ Р ИСО 9001-2008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ределение 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имеющихся компетенций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организации на текущий момент, а также </a:t>
            </a:r>
            <a:r>
              <a:rPr b="0" i="1" lang="ru-RU" sz="2000" spc="-1" strike="noStrike">
                <a:solidFill>
                  <a:srgbClr val="3333ff"/>
                </a:solidFill>
                <a:latin typeface="Arial"/>
              </a:rPr>
              <a:t>разрыв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между тем, что имеется и тем, что необходимо на данный момент и что может понадобиться в будущем</a:t>
            </a:r>
            <a:r>
              <a:rPr b="0" lang="ru-RU" sz="2000" spc="-1" strike="noStrike">
                <a:solidFill>
                  <a:srgbClr val="3333ff"/>
                </a:solidFill>
                <a:latin typeface="Arial"/>
              </a:rPr>
              <a:t> (п.6.2.2а ГОСТ Р ИСО 9001-2008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уществление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действий по улучшению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/или приобретению знаний, чтобы устранить разрывы </a:t>
            </a:r>
            <a:r>
              <a:rPr b="0" lang="ru-RU" sz="2000" spc="-1" strike="noStrike">
                <a:solidFill>
                  <a:srgbClr val="3333ff"/>
                </a:solidFill>
                <a:latin typeface="Arial"/>
              </a:rPr>
              <a:t>(п.6.2.2б ГОСТ Р ИСО 9001-2008)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ссмотрение и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оценка результативности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едпринятых действий, чтобы обеспечивать приобретение необходимых компетенций </a:t>
            </a:r>
            <a:r>
              <a:rPr b="0" lang="ru-RU" sz="2000" spc="-1" strike="noStrike">
                <a:solidFill>
                  <a:srgbClr val="3333ff"/>
                </a:solidFill>
                <a:latin typeface="Arial"/>
              </a:rPr>
              <a:t>(п.6.2.2с ГОСТ Р ИСО 9001-2008)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поддержани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приобретенных компетенц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Arial"/>
              </a:rPr>
              <a:t>Процесс вовлечения</a:t>
            </a:r>
            <a:br>
              <a:rPr sz="2800"/>
            </a:br>
            <a:r>
              <a:rPr b="0" lang="ru-RU" sz="2800" spc="-1" strike="noStrike">
                <a:solidFill>
                  <a:srgbClr val="3333ff"/>
                </a:solidFill>
                <a:latin typeface="Arial"/>
              </a:rPr>
              <a:t> и мотивации персонала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работка процесса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обмена знаниями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использования компетентности персонала, например, программы сбора идей по улучшению </a:t>
            </a:r>
            <a:r>
              <a:rPr b="0" lang="ru-RU" sz="2000" spc="-1" strike="noStrike">
                <a:solidFill>
                  <a:srgbClr val="3333ff"/>
                </a:solidFill>
                <a:latin typeface="Arial"/>
              </a:rPr>
              <a:t>(п.5.5.3 ГОСТ Р ИСО 9001-2008)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ведение подходящей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системы признания и наград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основывающейся на персональных оценках достижений персонал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недрение системы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квалификации по мастерству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планированию карьеры, чтобы способствовать индивидуальному развитию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стоянный анализ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уровня удовлетворенност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потребностей и ожиданий персонала </a:t>
            </a:r>
            <a:r>
              <a:rPr b="0" lang="ru-RU" sz="2000" spc="-1" strike="noStrike">
                <a:solidFill>
                  <a:srgbClr val="3333ff"/>
                </a:solidFill>
                <a:latin typeface="Arial"/>
              </a:rPr>
              <a:t>(п.8.2.1 ГОСТ Р ИСО 9001-2008)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здание условий для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наставничества и коучинг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1026"/>
          <p:cNvSpPr/>
          <p:nvPr/>
        </p:nvSpPr>
        <p:spPr>
          <a:xfrm>
            <a:off x="657360" y="380880"/>
            <a:ext cx="777240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Аспекты организационного профил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Rectangle 1027"/>
          <p:cNvSpPr/>
          <p:nvPr/>
        </p:nvSpPr>
        <p:spPr>
          <a:xfrm>
            <a:off x="393840" y="1201680"/>
            <a:ext cx="8424720" cy="52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В.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Понимание человеческого потенциал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3300"/>
                </a:solidFill>
                <a:latin typeface="Arial"/>
              </a:rPr>
              <a:t>Корпоративная культура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Arial"/>
              </a:rPr>
              <a:t>Степень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свободы в принятии решени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Arial"/>
              </a:rPr>
              <a:t>Уровень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ff3300"/>
                </a:solidFill>
                <a:latin typeface="Arial"/>
              </a:rPr>
              <a:t>лидерства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Arial"/>
              </a:rPr>
              <a:t>Уровень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образования и </a:t>
            </a:r>
            <a:r>
              <a:rPr b="0" i="1" lang="ru-RU" sz="2000" spc="-1" strike="noStrike">
                <a:solidFill>
                  <a:srgbClr val="ff3300"/>
                </a:solidFill>
                <a:latin typeface="Arial"/>
              </a:rPr>
              <a:t>знаний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персонал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Использование </a:t>
            </a:r>
            <a:r>
              <a:rPr b="0" i="1" lang="ru-RU" sz="2000" spc="-1" strike="noStrike">
                <a:solidFill>
                  <a:srgbClr val="ff3300"/>
                </a:solidFill>
                <a:latin typeface="Arial"/>
              </a:rPr>
              <a:t>знаний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внутри организаци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Категории персонал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Распространение знаний внутри организаци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4" dur="80"/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4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6" dur="80"/>
                                        <p:tgtEl>
                                          <p:spTgt spid="4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1240"/>
                            </p:stCondLst>
                            <p:childTnLst>
                              <p:par>
                                <p:cTn id="34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2" dur="1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ff"/>
                </a:solidFill>
                <a:latin typeface="Arial"/>
              </a:rPr>
              <a:t>Вовлечение работни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5138640" y="1600200"/>
            <a:ext cx="3548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0000"/>
                </a:solidFill>
                <a:latin typeface="Arial"/>
              </a:rPr>
              <a:t>MB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- Management by Objectives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0000"/>
                </a:solidFill>
                <a:latin typeface="Arial"/>
              </a:rPr>
              <a:t>O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- Organizational Developmen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0000"/>
                </a:solidFill>
                <a:latin typeface="Arial"/>
              </a:rPr>
              <a:t>OJ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- On-the-Job Training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Arial"/>
              </a:rPr>
              <a:t>BSC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- Balanced scoreca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Российской Федерации </a:t>
            </a:r>
            <a:r>
              <a:rPr b="1" lang="ru-RU" sz="1600" spc="-1" strike="noStrike">
                <a:solidFill>
                  <a:srgbClr val="3333ff"/>
                </a:solidFill>
                <a:latin typeface="Arial"/>
              </a:rPr>
              <a:t>принято совмещать матрицу полномочий и матрицу ответственности</a:t>
            </a:r>
            <a:r>
              <a:rPr b="0" lang="ru-RU" sz="16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 составлять единую матрицу ответственности и полномочи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Picture 3" descr=""/>
          <p:cNvPicPr/>
          <p:nvPr/>
        </p:nvPicPr>
        <p:blipFill>
          <a:blip r:embed="rId1"/>
          <a:stretch/>
        </p:blipFill>
        <p:spPr>
          <a:xfrm>
            <a:off x="262080" y="1450800"/>
            <a:ext cx="4676760" cy="509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ff"/>
                </a:solidFill>
                <a:latin typeface="Arial"/>
              </a:rPr>
              <a:t>Уровень проявления компетен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9" name=""/>
          <p:cNvGraphicFramePr/>
          <p:nvPr/>
        </p:nvGraphicFramePr>
        <p:xfrm>
          <a:off x="536400" y="1495440"/>
          <a:ext cx="8114040" cy="4381560"/>
        </p:xfrm>
        <a:graphic>
          <a:graphicData uri="http://schemas.openxmlformats.org/drawingml/2006/table">
            <a:tbl>
              <a:tblPr/>
              <a:tblGrid>
                <a:gridCol w="2027520"/>
                <a:gridCol w="2028600"/>
                <a:gridCol w="4057920"/>
              </a:tblGrid>
              <a:tr h="7002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Уровен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Определ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Описа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ff"/>
                          </a:solidFill>
                          <a:latin typeface="Times New Roman"/>
                          <a:ea typeface="Calibri"/>
                        </a:rPr>
                        <a:t>Превосходн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лная реализация проявления индикатор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62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ff"/>
                          </a:solidFill>
                          <a:latin typeface="Times New Roman"/>
                          <a:ea typeface="Calibri"/>
                        </a:rPr>
                        <a:t>Развит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евосходящее средний уровень проявление индикатор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ff"/>
                          </a:solidFill>
                          <a:latin typeface="Times New Roman"/>
                          <a:ea typeface="Calibri"/>
                        </a:rPr>
                        <a:t>Базов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реднее проявление индикатор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02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ff"/>
                          </a:solidFill>
                          <a:latin typeface="Times New Roman"/>
                          <a:ea typeface="Calibri"/>
                        </a:rPr>
                        <a:t>Элементарн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чальное проявление индикатор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ff"/>
                          </a:solidFill>
                          <a:latin typeface="Times New Roman"/>
                          <a:ea typeface="Calibri"/>
                        </a:rPr>
                        <a:t>Неразвит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трицательное проявление индикатор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AutoShape 2"/>
          <p:cNvSpPr/>
          <p:nvPr/>
        </p:nvSpPr>
        <p:spPr>
          <a:xfrm>
            <a:off x="6472080" y="1940040"/>
            <a:ext cx="2076480" cy="279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10760" y="317160"/>
            <a:ext cx="8077320" cy="50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ИНСТРУМЕНТЫ УЛУЧШ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BD06662_"/>
          <p:cNvPicPr/>
          <p:nvPr/>
        </p:nvPicPr>
        <p:blipFill>
          <a:blip r:embed="rId1"/>
          <a:stretch/>
        </p:blipFill>
        <p:spPr>
          <a:xfrm>
            <a:off x="7577280" y="596880"/>
            <a:ext cx="1341360" cy="1187640"/>
          </a:xfrm>
          <a:prstGeom prst="rect">
            <a:avLst/>
          </a:prstGeom>
          <a:ln w="0">
            <a:noFill/>
          </a:ln>
        </p:spPr>
      </p:pic>
      <p:sp>
        <p:nvSpPr>
          <p:cNvPr id="99" name="Freeform 5"/>
          <p:cNvSpPr/>
          <p:nvPr/>
        </p:nvSpPr>
        <p:spPr>
          <a:xfrm>
            <a:off x="1822320" y="2530440"/>
            <a:ext cx="1247760" cy="1084320"/>
          </a:xfrm>
          <a:custGeom>
            <a:avLst/>
            <a:gdLst>
              <a:gd name="textAreaLeft" fmla="*/ 0 w 1247760"/>
              <a:gd name="textAreaRight" fmla="*/ 1247760 w 1247760"/>
              <a:gd name="textAreaTop" fmla="*/ 0 h 1084320"/>
              <a:gd name="textAreaBottom" fmla="*/ 1084680 h 1084320"/>
            </a:gdLst>
            <a:ahLst/>
            <a:rect l="textAreaLeft" t="textAreaTop" r="textAreaRight" b="textAreaBottom"/>
            <a:pathLst>
              <a:path w="1573" h="1366">
                <a:moveTo>
                  <a:pt x="883" y="1189"/>
                </a:moveTo>
                <a:lnTo>
                  <a:pt x="879" y="1171"/>
                </a:lnTo>
                <a:lnTo>
                  <a:pt x="885" y="1145"/>
                </a:lnTo>
                <a:lnTo>
                  <a:pt x="901" y="1126"/>
                </a:lnTo>
                <a:lnTo>
                  <a:pt x="901" y="1104"/>
                </a:lnTo>
                <a:lnTo>
                  <a:pt x="885" y="1090"/>
                </a:lnTo>
                <a:lnTo>
                  <a:pt x="859" y="1076"/>
                </a:lnTo>
                <a:lnTo>
                  <a:pt x="863" y="1052"/>
                </a:lnTo>
                <a:lnTo>
                  <a:pt x="857" y="1024"/>
                </a:lnTo>
                <a:lnTo>
                  <a:pt x="839" y="1016"/>
                </a:lnTo>
                <a:lnTo>
                  <a:pt x="825" y="1008"/>
                </a:lnTo>
                <a:lnTo>
                  <a:pt x="827" y="979"/>
                </a:lnTo>
                <a:lnTo>
                  <a:pt x="819" y="947"/>
                </a:lnTo>
                <a:lnTo>
                  <a:pt x="806" y="931"/>
                </a:lnTo>
                <a:lnTo>
                  <a:pt x="788" y="915"/>
                </a:lnTo>
                <a:lnTo>
                  <a:pt x="770" y="911"/>
                </a:lnTo>
                <a:lnTo>
                  <a:pt x="774" y="893"/>
                </a:lnTo>
                <a:lnTo>
                  <a:pt x="792" y="891"/>
                </a:lnTo>
                <a:lnTo>
                  <a:pt x="810" y="889"/>
                </a:lnTo>
                <a:lnTo>
                  <a:pt x="821" y="869"/>
                </a:lnTo>
                <a:lnTo>
                  <a:pt x="818" y="850"/>
                </a:lnTo>
                <a:lnTo>
                  <a:pt x="806" y="842"/>
                </a:lnTo>
                <a:lnTo>
                  <a:pt x="794" y="836"/>
                </a:lnTo>
                <a:lnTo>
                  <a:pt x="800" y="820"/>
                </a:lnTo>
                <a:lnTo>
                  <a:pt x="814" y="800"/>
                </a:lnTo>
                <a:lnTo>
                  <a:pt x="819" y="772"/>
                </a:lnTo>
                <a:lnTo>
                  <a:pt x="814" y="754"/>
                </a:lnTo>
                <a:lnTo>
                  <a:pt x="821" y="732"/>
                </a:lnTo>
                <a:lnTo>
                  <a:pt x="827" y="705"/>
                </a:lnTo>
                <a:lnTo>
                  <a:pt x="800" y="695"/>
                </a:lnTo>
                <a:lnTo>
                  <a:pt x="774" y="705"/>
                </a:lnTo>
                <a:lnTo>
                  <a:pt x="764" y="722"/>
                </a:lnTo>
                <a:lnTo>
                  <a:pt x="742" y="726"/>
                </a:lnTo>
                <a:lnTo>
                  <a:pt x="732" y="740"/>
                </a:lnTo>
                <a:lnTo>
                  <a:pt x="722" y="758"/>
                </a:lnTo>
                <a:lnTo>
                  <a:pt x="708" y="766"/>
                </a:lnTo>
                <a:lnTo>
                  <a:pt x="697" y="746"/>
                </a:lnTo>
                <a:lnTo>
                  <a:pt x="687" y="722"/>
                </a:lnTo>
                <a:lnTo>
                  <a:pt x="675" y="701"/>
                </a:lnTo>
                <a:lnTo>
                  <a:pt x="667" y="689"/>
                </a:lnTo>
                <a:lnTo>
                  <a:pt x="651" y="693"/>
                </a:lnTo>
                <a:lnTo>
                  <a:pt x="639" y="707"/>
                </a:lnTo>
                <a:lnTo>
                  <a:pt x="631" y="728"/>
                </a:lnTo>
                <a:lnTo>
                  <a:pt x="619" y="717"/>
                </a:lnTo>
                <a:lnTo>
                  <a:pt x="607" y="705"/>
                </a:lnTo>
                <a:lnTo>
                  <a:pt x="589" y="713"/>
                </a:lnTo>
                <a:lnTo>
                  <a:pt x="578" y="732"/>
                </a:lnTo>
                <a:lnTo>
                  <a:pt x="560" y="748"/>
                </a:lnTo>
                <a:lnTo>
                  <a:pt x="556" y="766"/>
                </a:lnTo>
                <a:lnTo>
                  <a:pt x="572" y="792"/>
                </a:lnTo>
                <a:lnTo>
                  <a:pt x="578" y="822"/>
                </a:lnTo>
                <a:lnTo>
                  <a:pt x="583" y="863"/>
                </a:lnTo>
                <a:lnTo>
                  <a:pt x="574" y="891"/>
                </a:lnTo>
                <a:lnTo>
                  <a:pt x="560" y="911"/>
                </a:lnTo>
                <a:lnTo>
                  <a:pt x="538" y="913"/>
                </a:lnTo>
                <a:lnTo>
                  <a:pt x="516" y="919"/>
                </a:lnTo>
                <a:lnTo>
                  <a:pt x="500" y="935"/>
                </a:lnTo>
                <a:lnTo>
                  <a:pt x="480" y="955"/>
                </a:lnTo>
                <a:lnTo>
                  <a:pt x="461" y="965"/>
                </a:lnTo>
                <a:lnTo>
                  <a:pt x="443" y="963"/>
                </a:lnTo>
                <a:lnTo>
                  <a:pt x="431" y="951"/>
                </a:lnTo>
                <a:lnTo>
                  <a:pt x="423" y="929"/>
                </a:lnTo>
                <a:lnTo>
                  <a:pt x="431" y="909"/>
                </a:lnTo>
                <a:lnTo>
                  <a:pt x="419" y="889"/>
                </a:lnTo>
                <a:lnTo>
                  <a:pt x="409" y="865"/>
                </a:lnTo>
                <a:lnTo>
                  <a:pt x="411" y="842"/>
                </a:lnTo>
                <a:lnTo>
                  <a:pt x="421" y="816"/>
                </a:lnTo>
                <a:lnTo>
                  <a:pt x="417" y="794"/>
                </a:lnTo>
                <a:lnTo>
                  <a:pt x="397" y="780"/>
                </a:lnTo>
                <a:lnTo>
                  <a:pt x="371" y="772"/>
                </a:lnTo>
                <a:lnTo>
                  <a:pt x="355" y="756"/>
                </a:lnTo>
                <a:lnTo>
                  <a:pt x="346" y="728"/>
                </a:lnTo>
                <a:lnTo>
                  <a:pt x="332" y="711"/>
                </a:lnTo>
                <a:lnTo>
                  <a:pt x="308" y="707"/>
                </a:lnTo>
                <a:lnTo>
                  <a:pt x="290" y="718"/>
                </a:lnTo>
                <a:lnTo>
                  <a:pt x="294" y="750"/>
                </a:lnTo>
                <a:lnTo>
                  <a:pt x="280" y="776"/>
                </a:lnTo>
                <a:lnTo>
                  <a:pt x="264" y="788"/>
                </a:lnTo>
                <a:lnTo>
                  <a:pt x="252" y="810"/>
                </a:lnTo>
                <a:lnTo>
                  <a:pt x="230" y="822"/>
                </a:lnTo>
                <a:lnTo>
                  <a:pt x="209" y="834"/>
                </a:lnTo>
                <a:lnTo>
                  <a:pt x="195" y="850"/>
                </a:lnTo>
                <a:lnTo>
                  <a:pt x="167" y="854"/>
                </a:lnTo>
                <a:lnTo>
                  <a:pt x="141" y="846"/>
                </a:lnTo>
                <a:lnTo>
                  <a:pt x="117" y="850"/>
                </a:lnTo>
                <a:lnTo>
                  <a:pt x="90" y="857"/>
                </a:lnTo>
                <a:lnTo>
                  <a:pt x="96" y="816"/>
                </a:lnTo>
                <a:lnTo>
                  <a:pt x="98" y="780"/>
                </a:lnTo>
                <a:lnTo>
                  <a:pt x="92" y="744"/>
                </a:lnTo>
                <a:lnTo>
                  <a:pt x="80" y="730"/>
                </a:lnTo>
                <a:lnTo>
                  <a:pt x="56" y="728"/>
                </a:lnTo>
                <a:lnTo>
                  <a:pt x="34" y="720"/>
                </a:lnTo>
                <a:lnTo>
                  <a:pt x="10" y="711"/>
                </a:lnTo>
                <a:lnTo>
                  <a:pt x="0" y="695"/>
                </a:lnTo>
                <a:lnTo>
                  <a:pt x="2" y="667"/>
                </a:lnTo>
                <a:lnTo>
                  <a:pt x="14" y="643"/>
                </a:lnTo>
                <a:lnTo>
                  <a:pt x="26" y="629"/>
                </a:lnTo>
                <a:lnTo>
                  <a:pt x="52" y="623"/>
                </a:lnTo>
                <a:lnTo>
                  <a:pt x="80" y="633"/>
                </a:lnTo>
                <a:lnTo>
                  <a:pt x="104" y="641"/>
                </a:lnTo>
                <a:lnTo>
                  <a:pt x="131" y="629"/>
                </a:lnTo>
                <a:lnTo>
                  <a:pt x="143" y="609"/>
                </a:lnTo>
                <a:lnTo>
                  <a:pt x="145" y="578"/>
                </a:lnTo>
                <a:lnTo>
                  <a:pt x="139" y="544"/>
                </a:lnTo>
                <a:lnTo>
                  <a:pt x="135" y="518"/>
                </a:lnTo>
                <a:lnTo>
                  <a:pt x="145" y="492"/>
                </a:lnTo>
                <a:lnTo>
                  <a:pt x="157" y="464"/>
                </a:lnTo>
                <a:lnTo>
                  <a:pt x="165" y="431"/>
                </a:lnTo>
                <a:lnTo>
                  <a:pt x="173" y="397"/>
                </a:lnTo>
                <a:lnTo>
                  <a:pt x="175" y="365"/>
                </a:lnTo>
                <a:lnTo>
                  <a:pt x="169" y="333"/>
                </a:lnTo>
                <a:lnTo>
                  <a:pt x="191" y="343"/>
                </a:lnTo>
                <a:lnTo>
                  <a:pt x="199" y="323"/>
                </a:lnTo>
                <a:lnTo>
                  <a:pt x="213" y="309"/>
                </a:lnTo>
                <a:lnTo>
                  <a:pt x="230" y="304"/>
                </a:lnTo>
                <a:lnTo>
                  <a:pt x="242" y="315"/>
                </a:lnTo>
                <a:lnTo>
                  <a:pt x="254" y="335"/>
                </a:lnTo>
                <a:lnTo>
                  <a:pt x="268" y="347"/>
                </a:lnTo>
                <a:lnTo>
                  <a:pt x="272" y="325"/>
                </a:lnTo>
                <a:lnTo>
                  <a:pt x="268" y="300"/>
                </a:lnTo>
                <a:lnTo>
                  <a:pt x="256" y="282"/>
                </a:lnTo>
                <a:lnTo>
                  <a:pt x="232" y="272"/>
                </a:lnTo>
                <a:lnTo>
                  <a:pt x="209" y="274"/>
                </a:lnTo>
                <a:lnTo>
                  <a:pt x="185" y="278"/>
                </a:lnTo>
                <a:lnTo>
                  <a:pt x="165" y="268"/>
                </a:lnTo>
                <a:lnTo>
                  <a:pt x="157" y="246"/>
                </a:lnTo>
                <a:lnTo>
                  <a:pt x="155" y="222"/>
                </a:lnTo>
                <a:lnTo>
                  <a:pt x="167" y="194"/>
                </a:lnTo>
                <a:lnTo>
                  <a:pt x="187" y="184"/>
                </a:lnTo>
                <a:lnTo>
                  <a:pt x="195" y="165"/>
                </a:lnTo>
                <a:lnTo>
                  <a:pt x="179" y="153"/>
                </a:lnTo>
                <a:lnTo>
                  <a:pt x="165" y="139"/>
                </a:lnTo>
                <a:lnTo>
                  <a:pt x="169" y="121"/>
                </a:lnTo>
                <a:lnTo>
                  <a:pt x="187" y="117"/>
                </a:lnTo>
                <a:lnTo>
                  <a:pt x="203" y="119"/>
                </a:lnTo>
                <a:lnTo>
                  <a:pt x="213" y="105"/>
                </a:lnTo>
                <a:lnTo>
                  <a:pt x="230" y="93"/>
                </a:lnTo>
                <a:lnTo>
                  <a:pt x="258" y="87"/>
                </a:lnTo>
                <a:lnTo>
                  <a:pt x="296" y="95"/>
                </a:lnTo>
                <a:lnTo>
                  <a:pt x="334" y="91"/>
                </a:lnTo>
                <a:lnTo>
                  <a:pt x="363" y="83"/>
                </a:lnTo>
                <a:lnTo>
                  <a:pt x="399" y="73"/>
                </a:lnTo>
                <a:lnTo>
                  <a:pt x="433" y="63"/>
                </a:lnTo>
                <a:lnTo>
                  <a:pt x="465" y="61"/>
                </a:lnTo>
                <a:lnTo>
                  <a:pt x="488" y="71"/>
                </a:lnTo>
                <a:lnTo>
                  <a:pt x="498" y="85"/>
                </a:lnTo>
                <a:lnTo>
                  <a:pt x="494" y="107"/>
                </a:lnTo>
                <a:lnTo>
                  <a:pt x="486" y="131"/>
                </a:lnTo>
                <a:lnTo>
                  <a:pt x="488" y="153"/>
                </a:lnTo>
                <a:lnTo>
                  <a:pt x="496" y="172"/>
                </a:lnTo>
                <a:lnTo>
                  <a:pt x="498" y="194"/>
                </a:lnTo>
                <a:lnTo>
                  <a:pt x="488" y="208"/>
                </a:lnTo>
                <a:lnTo>
                  <a:pt x="478" y="222"/>
                </a:lnTo>
                <a:lnTo>
                  <a:pt x="488" y="236"/>
                </a:lnTo>
                <a:lnTo>
                  <a:pt x="502" y="226"/>
                </a:lnTo>
                <a:lnTo>
                  <a:pt x="518" y="234"/>
                </a:lnTo>
                <a:lnTo>
                  <a:pt x="534" y="222"/>
                </a:lnTo>
                <a:lnTo>
                  <a:pt x="554" y="214"/>
                </a:lnTo>
                <a:lnTo>
                  <a:pt x="562" y="200"/>
                </a:lnTo>
                <a:lnTo>
                  <a:pt x="546" y="180"/>
                </a:lnTo>
                <a:lnTo>
                  <a:pt x="552" y="157"/>
                </a:lnTo>
                <a:lnTo>
                  <a:pt x="566" y="141"/>
                </a:lnTo>
                <a:lnTo>
                  <a:pt x="585" y="143"/>
                </a:lnTo>
                <a:lnTo>
                  <a:pt x="595" y="159"/>
                </a:lnTo>
                <a:lnTo>
                  <a:pt x="611" y="168"/>
                </a:lnTo>
                <a:lnTo>
                  <a:pt x="627" y="180"/>
                </a:lnTo>
                <a:lnTo>
                  <a:pt x="615" y="204"/>
                </a:lnTo>
                <a:lnTo>
                  <a:pt x="601" y="224"/>
                </a:lnTo>
                <a:lnTo>
                  <a:pt x="605" y="246"/>
                </a:lnTo>
                <a:lnTo>
                  <a:pt x="609" y="270"/>
                </a:lnTo>
                <a:lnTo>
                  <a:pt x="623" y="252"/>
                </a:lnTo>
                <a:lnTo>
                  <a:pt x="637" y="224"/>
                </a:lnTo>
                <a:lnTo>
                  <a:pt x="647" y="196"/>
                </a:lnTo>
                <a:lnTo>
                  <a:pt x="645" y="184"/>
                </a:lnTo>
                <a:lnTo>
                  <a:pt x="643" y="167"/>
                </a:lnTo>
                <a:lnTo>
                  <a:pt x="627" y="139"/>
                </a:lnTo>
                <a:lnTo>
                  <a:pt x="623" y="107"/>
                </a:lnTo>
                <a:lnTo>
                  <a:pt x="631" y="75"/>
                </a:lnTo>
                <a:lnTo>
                  <a:pt x="643" y="39"/>
                </a:lnTo>
                <a:lnTo>
                  <a:pt x="655" y="12"/>
                </a:lnTo>
                <a:lnTo>
                  <a:pt x="673" y="0"/>
                </a:lnTo>
                <a:lnTo>
                  <a:pt x="689" y="4"/>
                </a:lnTo>
                <a:lnTo>
                  <a:pt x="714" y="20"/>
                </a:lnTo>
                <a:lnTo>
                  <a:pt x="742" y="28"/>
                </a:lnTo>
                <a:lnTo>
                  <a:pt x="766" y="29"/>
                </a:lnTo>
                <a:lnTo>
                  <a:pt x="794" y="22"/>
                </a:lnTo>
                <a:lnTo>
                  <a:pt x="821" y="26"/>
                </a:lnTo>
                <a:lnTo>
                  <a:pt x="841" y="37"/>
                </a:lnTo>
                <a:lnTo>
                  <a:pt x="871" y="39"/>
                </a:lnTo>
                <a:lnTo>
                  <a:pt x="895" y="59"/>
                </a:lnTo>
                <a:lnTo>
                  <a:pt x="907" y="77"/>
                </a:lnTo>
                <a:lnTo>
                  <a:pt x="915" y="93"/>
                </a:lnTo>
                <a:lnTo>
                  <a:pt x="938" y="97"/>
                </a:lnTo>
                <a:lnTo>
                  <a:pt x="956" y="113"/>
                </a:lnTo>
                <a:lnTo>
                  <a:pt x="964" y="135"/>
                </a:lnTo>
                <a:lnTo>
                  <a:pt x="978" y="153"/>
                </a:lnTo>
                <a:lnTo>
                  <a:pt x="1000" y="165"/>
                </a:lnTo>
                <a:lnTo>
                  <a:pt x="1018" y="172"/>
                </a:lnTo>
                <a:lnTo>
                  <a:pt x="1030" y="182"/>
                </a:lnTo>
                <a:lnTo>
                  <a:pt x="1038" y="208"/>
                </a:lnTo>
                <a:lnTo>
                  <a:pt x="1048" y="234"/>
                </a:lnTo>
                <a:lnTo>
                  <a:pt x="1063" y="248"/>
                </a:lnTo>
                <a:lnTo>
                  <a:pt x="1085" y="256"/>
                </a:lnTo>
                <a:lnTo>
                  <a:pt x="1107" y="248"/>
                </a:lnTo>
                <a:lnTo>
                  <a:pt x="1129" y="236"/>
                </a:lnTo>
                <a:lnTo>
                  <a:pt x="1147" y="234"/>
                </a:lnTo>
                <a:lnTo>
                  <a:pt x="1161" y="246"/>
                </a:lnTo>
                <a:lnTo>
                  <a:pt x="1176" y="258"/>
                </a:lnTo>
                <a:lnTo>
                  <a:pt x="1200" y="258"/>
                </a:lnTo>
                <a:lnTo>
                  <a:pt x="1224" y="248"/>
                </a:lnTo>
                <a:lnTo>
                  <a:pt x="1238" y="266"/>
                </a:lnTo>
                <a:lnTo>
                  <a:pt x="1256" y="274"/>
                </a:lnTo>
                <a:lnTo>
                  <a:pt x="1278" y="274"/>
                </a:lnTo>
                <a:lnTo>
                  <a:pt x="1297" y="274"/>
                </a:lnTo>
                <a:lnTo>
                  <a:pt x="1315" y="280"/>
                </a:lnTo>
                <a:lnTo>
                  <a:pt x="1333" y="300"/>
                </a:lnTo>
                <a:lnTo>
                  <a:pt x="1345" y="317"/>
                </a:lnTo>
                <a:lnTo>
                  <a:pt x="1355" y="333"/>
                </a:lnTo>
                <a:lnTo>
                  <a:pt x="1379" y="341"/>
                </a:lnTo>
                <a:lnTo>
                  <a:pt x="1399" y="353"/>
                </a:lnTo>
                <a:lnTo>
                  <a:pt x="1422" y="367"/>
                </a:lnTo>
                <a:lnTo>
                  <a:pt x="1448" y="379"/>
                </a:lnTo>
                <a:lnTo>
                  <a:pt x="1472" y="383"/>
                </a:lnTo>
                <a:lnTo>
                  <a:pt x="1492" y="395"/>
                </a:lnTo>
                <a:lnTo>
                  <a:pt x="1510" y="415"/>
                </a:lnTo>
                <a:lnTo>
                  <a:pt x="1514" y="415"/>
                </a:lnTo>
                <a:lnTo>
                  <a:pt x="1535" y="419"/>
                </a:lnTo>
                <a:lnTo>
                  <a:pt x="1559" y="409"/>
                </a:lnTo>
                <a:lnTo>
                  <a:pt x="1573" y="417"/>
                </a:lnTo>
                <a:lnTo>
                  <a:pt x="1573" y="446"/>
                </a:lnTo>
                <a:lnTo>
                  <a:pt x="1567" y="472"/>
                </a:lnTo>
                <a:lnTo>
                  <a:pt x="1557" y="488"/>
                </a:lnTo>
                <a:lnTo>
                  <a:pt x="1547" y="504"/>
                </a:lnTo>
                <a:lnTo>
                  <a:pt x="1531" y="510"/>
                </a:lnTo>
                <a:lnTo>
                  <a:pt x="1514" y="510"/>
                </a:lnTo>
                <a:lnTo>
                  <a:pt x="1496" y="498"/>
                </a:lnTo>
                <a:lnTo>
                  <a:pt x="1470" y="504"/>
                </a:lnTo>
                <a:lnTo>
                  <a:pt x="1454" y="512"/>
                </a:lnTo>
                <a:lnTo>
                  <a:pt x="1434" y="522"/>
                </a:lnTo>
                <a:lnTo>
                  <a:pt x="1418" y="532"/>
                </a:lnTo>
                <a:lnTo>
                  <a:pt x="1399" y="528"/>
                </a:lnTo>
                <a:lnTo>
                  <a:pt x="1377" y="538"/>
                </a:lnTo>
                <a:lnTo>
                  <a:pt x="1361" y="560"/>
                </a:lnTo>
                <a:lnTo>
                  <a:pt x="1379" y="583"/>
                </a:lnTo>
                <a:lnTo>
                  <a:pt x="1389" y="619"/>
                </a:lnTo>
                <a:lnTo>
                  <a:pt x="1403" y="657"/>
                </a:lnTo>
                <a:lnTo>
                  <a:pt x="1412" y="685"/>
                </a:lnTo>
                <a:lnTo>
                  <a:pt x="1414" y="715"/>
                </a:lnTo>
                <a:lnTo>
                  <a:pt x="1405" y="734"/>
                </a:lnTo>
                <a:lnTo>
                  <a:pt x="1401" y="758"/>
                </a:lnTo>
                <a:lnTo>
                  <a:pt x="1405" y="794"/>
                </a:lnTo>
                <a:lnTo>
                  <a:pt x="1403" y="826"/>
                </a:lnTo>
                <a:lnTo>
                  <a:pt x="1397" y="855"/>
                </a:lnTo>
                <a:lnTo>
                  <a:pt x="1387" y="879"/>
                </a:lnTo>
                <a:lnTo>
                  <a:pt x="1377" y="907"/>
                </a:lnTo>
                <a:lnTo>
                  <a:pt x="1375" y="931"/>
                </a:lnTo>
                <a:lnTo>
                  <a:pt x="1381" y="957"/>
                </a:lnTo>
                <a:lnTo>
                  <a:pt x="1365" y="975"/>
                </a:lnTo>
                <a:lnTo>
                  <a:pt x="1345" y="985"/>
                </a:lnTo>
                <a:lnTo>
                  <a:pt x="1325" y="989"/>
                </a:lnTo>
                <a:lnTo>
                  <a:pt x="1303" y="985"/>
                </a:lnTo>
                <a:lnTo>
                  <a:pt x="1288" y="989"/>
                </a:lnTo>
                <a:lnTo>
                  <a:pt x="1282" y="1002"/>
                </a:lnTo>
                <a:lnTo>
                  <a:pt x="1284" y="1028"/>
                </a:lnTo>
                <a:lnTo>
                  <a:pt x="1282" y="1056"/>
                </a:lnTo>
                <a:lnTo>
                  <a:pt x="1276" y="1074"/>
                </a:lnTo>
                <a:lnTo>
                  <a:pt x="1270" y="1094"/>
                </a:lnTo>
                <a:lnTo>
                  <a:pt x="1280" y="1128"/>
                </a:lnTo>
                <a:lnTo>
                  <a:pt x="1286" y="1151"/>
                </a:lnTo>
                <a:lnTo>
                  <a:pt x="1295" y="1185"/>
                </a:lnTo>
                <a:lnTo>
                  <a:pt x="1301" y="1211"/>
                </a:lnTo>
                <a:lnTo>
                  <a:pt x="1295" y="1227"/>
                </a:lnTo>
                <a:lnTo>
                  <a:pt x="1276" y="1239"/>
                </a:lnTo>
                <a:lnTo>
                  <a:pt x="1258" y="1235"/>
                </a:lnTo>
                <a:lnTo>
                  <a:pt x="1242" y="1215"/>
                </a:lnTo>
                <a:lnTo>
                  <a:pt x="1218" y="1229"/>
                </a:lnTo>
                <a:lnTo>
                  <a:pt x="1210" y="1249"/>
                </a:lnTo>
                <a:lnTo>
                  <a:pt x="1188" y="1265"/>
                </a:lnTo>
                <a:lnTo>
                  <a:pt x="1180" y="1274"/>
                </a:lnTo>
                <a:lnTo>
                  <a:pt x="1174" y="1282"/>
                </a:lnTo>
                <a:lnTo>
                  <a:pt x="1151" y="1298"/>
                </a:lnTo>
                <a:lnTo>
                  <a:pt x="1123" y="1310"/>
                </a:lnTo>
                <a:lnTo>
                  <a:pt x="1093" y="1308"/>
                </a:lnTo>
                <a:lnTo>
                  <a:pt x="1063" y="1314"/>
                </a:lnTo>
                <a:lnTo>
                  <a:pt x="1052" y="1310"/>
                </a:lnTo>
                <a:lnTo>
                  <a:pt x="1034" y="1310"/>
                </a:lnTo>
                <a:lnTo>
                  <a:pt x="1014" y="1324"/>
                </a:lnTo>
                <a:lnTo>
                  <a:pt x="998" y="1346"/>
                </a:lnTo>
                <a:lnTo>
                  <a:pt x="992" y="1358"/>
                </a:lnTo>
                <a:lnTo>
                  <a:pt x="970" y="1366"/>
                </a:lnTo>
                <a:lnTo>
                  <a:pt x="946" y="1358"/>
                </a:lnTo>
                <a:lnTo>
                  <a:pt x="929" y="1354"/>
                </a:lnTo>
                <a:lnTo>
                  <a:pt x="923" y="1336"/>
                </a:lnTo>
                <a:lnTo>
                  <a:pt x="938" y="1320"/>
                </a:lnTo>
                <a:lnTo>
                  <a:pt x="948" y="1292"/>
                </a:lnTo>
                <a:lnTo>
                  <a:pt x="952" y="1263"/>
                </a:lnTo>
                <a:lnTo>
                  <a:pt x="948" y="1237"/>
                </a:lnTo>
                <a:lnTo>
                  <a:pt x="958" y="1215"/>
                </a:lnTo>
                <a:lnTo>
                  <a:pt x="948" y="1201"/>
                </a:lnTo>
                <a:lnTo>
                  <a:pt x="931" y="1187"/>
                </a:lnTo>
                <a:lnTo>
                  <a:pt x="907" y="1187"/>
                </a:lnTo>
                <a:lnTo>
                  <a:pt x="883" y="1189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6"/>
          <p:cNvSpPr/>
          <p:nvPr/>
        </p:nvSpPr>
        <p:spPr>
          <a:xfrm>
            <a:off x="3822840" y="2940120"/>
            <a:ext cx="841320" cy="912600"/>
          </a:xfrm>
          <a:custGeom>
            <a:avLst/>
            <a:gdLst>
              <a:gd name="textAreaLeft" fmla="*/ 0 w 841320"/>
              <a:gd name="textAreaRight" fmla="*/ 841680 w 841320"/>
              <a:gd name="textAreaTop" fmla="*/ 0 h 912600"/>
              <a:gd name="textAreaBottom" fmla="*/ 912960 h 912600"/>
            </a:gdLst>
            <a:ahLst/>
            <a:rect l="textAreaLeft" t="textAreaTop" r="textAreaRight" b="textAreaBottom"/>
            <a:pathLst>
              <a:path w="1061" h="1150">
                <a:moveTo>
                  <a:pt x="111" y="88"/>
                </a:moveTo>
                <a:lnTo>
                  <a:pt x="97" y="105"/>
                </a:lnTo>
                <a:lnTo>
                  <a:pt x="75" y="103"/>
                </a:lnTo>
                <a:lnTo>
                  <a:pt x="51" y="117"/>
                </a:lnTo>
                <a:lnTo>
                  <a:pt x="24" y="125"/>
                </a:lnTo>
                <a:lnTo>
                  <a:pt x="10" y="141"/>
                </a:lnTo>
                <a:lnTo>
                  <a:pt x="4" y="165"/>
                </a:lnTo>
                <a:lnTo>
                  <a:pt x="12" y="185"/>
                </a:lnTo>
                <a:lnTo>
                  <a:pt x="20" y="203"/>
                </a:lnTo>
                <a:lnTo>
                  <a:pt x="22" y="213"/>
                </a:lnTo>
                <a:lnTo>
                  <a:pt x="6" y="228"/>
                </a:lnTo>
                <a:lnTo>
                  <a:pt x="0" y="244"/>
                </a:lnTo>
                <a:lnTo>
                  <a:pt x="12" y="256"/>
                </a:lnTo>
                <a:lnTo>
                  <a:pt x="33" y="266"/>
                </a:lnTo>
                <a:lnTo>
                  <a:pt x="59" y="274"/>
                </a:lnTo>
                <a:lnTo>
                  <a:pt x="79" y="284"/>
                </a:lnTo>
                <a:lnTo>
                  <a:pt x="93" y="304"/>
                </a:lnTo>
                <a:lnTo>
                  <a:pt x="107" y="322"/>
                </a:lnTo>
                <a:lnTo>
                  <a:pt x="127" y="340"/>
                </a:lnTo>
                <a:lnTo>
                  <a:pt x="149" y="348"/>
                </a:lnTo>
                <a:lnTo>
                  <a:pt x="176" y="354"/>
                </a:lnTo>
                <a:lnTo>
                  <a:pt x="182" y="373"/>
                </a:lnTo>
                <a:lnTo>
                  <a:pt x="176" y="403"/>
                </a:lnTo>
                <a:lnTo>
                  <a:pt x="178" y="431"/>
                </a:lnTo>
                <a:lnTo>
                  <a:pt x="182" y="463"/>
                </a:lnTo>
                <a:lnTo>
                  <a:pt x="178" y="485"/>
                </a:lnTo>
                <a:lnTo>
                  <a:pt x="182" y="508"/>
                </a:lnTo>
                <a:lnTo>
                  <a:pt x="194" y="518"/>
                </a:lnTo>
                <a:lnTo>
                  <a:pt x="216" y="516"/>
                </a:lnTo>
                <a:lnTo>
                  <a:pt x="238" y="518"/>
                </a:lnTo>
                <a:lnTo>
                  <a:pt x="246" y="536"/>
                </a:lnTo>
                <a:lnTo>
                  <a:pt x="240" y="556"/>
                </a:lnTo>
                <a:lnTo>
                  <a:pt x="244" y="578"/>
                </a:lnTo>
                <a:lnTo>
                  <a:pt x="256" y="594"/>
                </a:lnTo>
                <a:lnTo>
                  <a:pt x="271" y="616"/>
                </a:lnTo>
                <a:lnTo>
                  <a:pt x="277" y="634"/>
                </a:lnTo>
                <a:lnTo>
                  <a:pt x="269" y="657"/>
                </a:lnTo>
                <a:lnTo>
                  <a:pt x="268" y="687"/>
                </a:lnTo>
                <a:lnTo>
                  <a:pt x="271" y="711"/>
                </a:lnTo>
                <a:lnTo>
                  <a:pt x="283" y="735"/>
                </a:lnTo>
                <a:lnTo>
                  <a:pt x="303" y="753"/>
                </a:lnTo>
                <a:lnTo>
                  <a:pt x="327" y="765"/>
                </a:lnTo>
                <a:lnTo>
                  <a:pt x="357" y="769"/>
                </a:lnTo>
                <a:lnTo>
                  <a:pt x="379" y="763"/>
                </a:lnTo>
                <a:lnTo>
                  <a:pt x="400" y="755"/>
                </a:lnTo>
                <a:lnTo>
                  <a:pt x="422" y="763"/>
                </a:lnTo>
                <a:lnTo>
                  <a:pt x="436" y="780"/>
                </a:lnTo>
                <a:lnTo>
                  <a:pt x="456" y="794"/>
                </a:lnTo>
                <a:lnTo>
                  <a:pt x="480" y="800"/>
                </a:lnTo>
                <a:lnTo>
                  <a:pt x="500" y="816"/>
                </a:lnTo>
                <a:lnTo>
                  <a:pt x="521" y="824"/>
                </a:lnTo>
                <a:lnTo>
                  <a:pt x="543" y="838"/>
                </a:lnTo>
                <a:lnTo>
                  <a:pt x="555" y="860"/>
                </a:lnTo>
                <a:lnTo>
                  <a:pt x="565" y="884"/>
                </a:lnTo>
                <a:lnTo>
                  <a:pt x="561" y="906"/>
                </a:lnTo>
                <a:lnTo>
                  <a:pt x="569" y="921"/>
                </a:lnTo>
                <a:lnTo>
                  <a:pt x="583" y="941"/>
                </a:lnTo>
                <a:lnTo>
                  <a:pt x="581" y="961"/>
                </a:lnTo>
                <a:lnTo>
                  <a:pt x="567" y="977"/>
                </a:lnTo>
                <a:lnTo>
                  <a:pt x="553" y="1003"/>
                </a:lnTo>
                <a:lnTo>
                  <a:pt x="561" y="1023"/>
                </a:lnTo>
                <a:lnTo>
                  <a:pt x="577" y="1051"/>
                </a:lnTo>
                <a:lnTo>
                  <a:pt x="589" y="1074"/>
                </a:lnTo>
                <a:lnTo>
                  <a:pt x="581" y="1104"/>
                </a:lnTo>
                <a:lnTo>
                  <a:pt x="575" y="1128"/>
                </a:lnTo>
                <a:lnTo>
                  <a:pt x="577" y="1144"/>
                </a:lnTo>
                <a:lnTo>
                  <a:pt x="593" y="1150"/>
                </a:lnTo>
                <a:lnTo>
                  <a:pt x="609" y="1138"/>
                </a:lnTo>
                <a:lnTo>
                  <a:pt x="622" y="1116"/>
                </a:lnTo>
                <a:lnTo>
                  <a:pt x="646" y="1106"/>
                </a:lnTo>
                <a:lnTo>
                  <a:pt x="674" y="1114"/>
                </a:lnTo>
                <a:lnTo>
                  <a:pt x="696" y="1128"/>
                </a:lnTo>
                <a:lnTo>
                  <a:pt x="726" y="1126"/>
                </a:lnTo>
                <a:lnTo>
                  <a:pt x="765" y="1118"/>
                </a:lnTo>
                <a:lnTo>
                  <a:pt x="791" y="1108"/>
                </a:lnTo>
                <a:lnTo>
                  <a:pt x="807" y="1078"/>
                </a:lnTo>
                <a:lnTo>
                  <a:pt x="811" y="1051"/>
                </a:lnTo>
                <a:lnTo>
                  <a:pt x="831" y="1035"/>
                </a:lnTo>
                <a:lnTo>
                  <a:pt x="841" y="1013"/>
                </a:lnTo>
                <a:lnTo>
                  <a:pt x="857" y="1001"/>
                </a:lnTo>
                <a:lnTo>
                  <a:pt x="884" y="1009"/>
                </a:lnTo>
                <a:lnTo>
                  <a:pt x="906" y="1017"/>
                </a:lnTo>
                <a:lnTo>
                  <a:pt x="920" y="1003"/>
                </a:lnTo>
                <a:lnTo>
                  <a:pt x="930" y="977"/>
                </a:lnTo>
                <a:lnTo>
                  <a:pt x="952" y="957"/>
                </a:lnTo>
                <a:lnTo>
                  <a:pt x="972" y="967"/>
                </a:lnTo>
                <a:lnTo>
                  <a:pt x="989" y="979"/>
                </a:lnTo>
                <a:lnTo>
                  <a:pt x="1011" y="969"/>
                </a:lnTo>
                <a:lnTo>
                  <a:pt x="1041" y="967"/>
                </a:lnTo>
                <a:lnTo>
                  <a:pt x="1055" y="955"/>
                </a:lnTo>
                <a:lnTo>
                  <a:pt x="1061" y="937"/>
                </a:lnTo>
                <a:lnTo>
                  <a:pt x="1039" y="917"/>
                </a:lnTo>
                <a:lnTo>
                  <a:pt x="1029" y="896"/>
                </a:lnTo>
                <a:lnTo>
                  <a:pt x="1015" y="876"/>
                </a:lnTo>
                <a:lnTo>
                  <a:pt x="1001" y="850"/>
                </a:lnTo>
                <a:lnTo>
                  <a:pt x="1007" y="824"/>
                </a:lnTo>
                <a:lnTo>
                  <a:pt x="1021" y="806"/>
                </a:lnTo>
                <a:lnTo>
                  <a:pt x="1037" y="786"/>
                </a:lnTo>
                <a:lnTo>
                  <a:pt x="1041" y="755"/>
                </a:lnTo>
                <a:lnTo>
                  <a:pt x="1033" y="721"/>
                </a:lnTo>
                <a:lnTo>
                  <a:pt x="1037" y="699"/>
                </a:lnTo>
                <a:lnTo>
                  <a:pt x="1017" y="681"/>
                </a:lnTo>
                <a:lnTo>
                  <a:pt x="1005" y="657"/>
                </a:lnTo>
                <a:lnTo>
                  <a:pt x="1011" y="636"/>
                </a:lnTo>
                <a:lnTo>
                  <a:pt x="1005" y="616"/>
                </a:lnTo>
                <a:lnTo>
                  <a:pt x="993" y="606"/>
                </a:lnTo>
                <a:lnTo>
                  <a:pt x="966" y="592"/>
                </a:lnTo>
                <a:lnTo>
                  <a:pt x="950" y="572"/>
                </a:lnTo>
                <a:lnTo>
                  <a:pt x="956" y="544"/>
                </a:lnTo>
                <a:lnTo>
                  <a:pt x="972" y="516"/>
                </a:lnTo>
                <a:lnTo>
                  <a:pt x="977" y="491"/>
                </a:lnTo>
                <a:lnTo>
                  <a:pt x="972" y="469"/>
                </a:lnTo>
                <a:lnTo>
                  <a:pt x="950" y="441"/>
                </a:lnTo>
                <a:lnTo>
                  <a:pt x="922" y="413"/>
                </a:lnTo>
                <a:lnTo>
                  <a:pt x="898" y="381"/>
                </a:lnTo>
                <a:lnTo>
                  <a:pt x="878" y="354"/>
                </a:lnTo>
                <a:lnTo>
                  <a:pt x="855" y="328"/>
                </a:lnTo>
                <a:lnTo>
                  <a:pt x="833" y="318"/>
                </a:lnTo>
                <a:lnTo>
                  <a:pt x="811" y="306"/>
                </a:lnTo>
                <a:lnTo>
                  <a:pt x="799" y="278"/>
                </a:lnTo>
                <a:lnTo>
                  <a:pt x="807" y="252"/>
                </a:lnTo>
                <a:lnTo>
                  <a:pt x="819" y="221"/>
                </a:lnTo>
                <a:lnTo>
                  <a:pt x="835" y="197"/>
                </a:lnTo>
                <a:lnTo>
                  <a:pt x="857" y="173"/>
                </a:lnTo>
                <a:lnTo>
                  <a:pt x="872" y="145"/>
                </a:lnTo>
                <a:lnTo>
                  <a:pt x="878" y="121"/>
                </a:lnTo>
                <a:lnTo>
                  <a:pt x="868" y="97"/>
                </a:lnTo>
                <a:lnTo>
                  <a:pt x="862" y="76"/>
                </a:lnTo>
                <a:lnTo>
                  <a:pt x="864" y="54"/>
                </a:lnTo>
                <a:lnTo>
                  <a:pt x="835" y="62"/>
                </a:lnTo>
                <a:lnTo>
                  <a:pt x="821" y="86"/>
                </a:lnTo>
                <a:lnTo>
                  <a:pt x="805" y="107"/>
                </a:lnTo>
                <a:lnTo>
                  <a:pt x="781" y="103"/>
                </a:lnTo>
                <a:lnTo>
                  <a:pt x="761" y="97"/>
                </a:lnTo>
                <a:lnTo>
                  <a:pt x="755" y="78"/>
                </a:lnTo>
                <a:lnTo>
                  <a:pt x="734" y="70"/>
                </a:lnTo>
                <a:lnTo>
                  <a:pt x="724" y="48"/>
                </a:lnTo>
                <a:lnTo>
                  <a:pt x="704" y="34"/>
                </a:lnTo>
                <a:lnTo>
                  <a:pt x="682" y="10"/>
                </a:lnTo>
                <a:lnTo>
                  <a:pt x="656" y="0"/>
                </a:lnTo>
                <a:lnTo>
                  <a:pt x="634" y="12"/>
                </a:lnTo>
                <a:lnTo>
                  <a:pt x="619" y="40"/>
                </a:lnTo>
                <a:lnTo>
                  <a:pt x="607" y="70"/>
                </a:lnTo>
                <a:lnTo>
                  <a:pt x="581" y="76"/>
                </a:lnTo>
                <a:lnTo>
                  <a:pt x="563" y="91"/>
                </a:lnTo>
                <a:lnTo>
                  <a:pt x="545" y="97"/>
                </a:lnTo>
                <a:lnTo>
                  <a:pt x="529" y="99"/>
                </a:lnTo>
                <a:lnTo>
                  <a:pt x="515" y="115"/>
                </a:lnTo>
                <a:lnTo>
                  <a:pt x="509" y="135"/>
                </a:lnTo>
                <a:lnTo>
                  <a:pt x="484" y="141"/>
                </a:lnTo>
                <a:lnTo>
                  <a:pt x="454" y="143"/>
                </a:lnTo>
                <a:lnTo>
                  <a:pt x="430" y="153"/>
                </a:lnTo>
                <a:lnTo>
                  <a:pt x="410" y="161"/>
                </a:lnTo>
                <a:lnTo>
                  <a:pt x="388" y="147"/>
                </a:lnTo>
                <a:lnTo>
                  <a:pt x="369" y="139"/>
                </a:lnTo>
                <a:lnTo>
                  <a:pt x="349" y="139"/>
                </a:lnTo>
                <a:lnTo>
                  <a:pt x="335" y="127"/>
                </a:lnTo>
                <a:lnTo>
                  <a:pt x="319" y="121"/>
                </a:lnTo>
                <a:lnTo>
                  <a:pt x="305" y="129"/>
                </a:lnTo>
                <a:lnTo>
                  <a:pt x="287" y="139"/>
                </a:lnTo>
                <a:lnTo>
                  <a:pt x="266" y="131"/>
                </a:lnTo>
                <a:lnTo>
                  <a:pt x="250" y="109"/>
                </a:lnTo>
                <a:lnTo>
                  <a:pt x="230" y="88"/>
                </a:lnTo>
                <a:lnTo>
                  <a:pt x="208" y="86"/>
                </a:lnTo>
                <a:lnTo>
                  <a:pt x="182" y="88"/>
                </a:lnTo>
                <a:lnTo>
                  <a:pt x="160" y="78"/>
                </a:lnTo>
                <a:lnTo>
                  <a:pt x="143" y="64"/>
                </a:lnTo>
                <a:lnTo>
                  <a:pt x="121" y="66"/>
                </a:lnTo>
                <a:lnTo>
                  <a:pt x="111" y="88"/>
                </a:lnTo>
                <a:close/>
              </a:path>
            </a:pathLst>
          </a:custGeom>
          <a:solidFill>
            <a:srgbClr val="ffcc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2357280" y="1920960"/>
            <a:ext cx="619200" cy="676080"/>
          </a:xfrm>
          <a:custGeom>
            <a:avLst/>
            <a:gdLst>
              <a:gd name="textAreaLeft" fmla="*/ 0 w 619200"/>
              <a:gd name="textAreaRight" fmla="*/ 619560 w 619200"/>
              <a:gd name="textAreaTop" fmla="*/ 0 h 676080"/>
              <a:gd name="textAreaBottom" fmla="*/ 676440 h 676080"/>
            </a:gdLst>
            <a:ahLst/>
            <a:rect l="textAreaLeft" t="textAreaTop" r="textAreaRight" b="textAreaBottom"/>
            <a:pathLst>
              <a:path w="779" h="852">
                <a:moveTo>
                  <a:pt x="22" y="8"/>
                </a:moveTo>
                <a:lnTo>
                  <a:pt x="8" y="36"/>
                </a:lnTo>
                <a:lnTo>
                  <a:pt x="0" y="59"/>
                </a:lnTo>
                <a:lnTo>
                  <a:pt x="10" y="83"/>
                </a:lnTo>
                <a:lnTo>
                  <a:pt x="26" y="95"/>
                </a:lnTo>
                <a:lnTo>
                  <a:pt x="29" y="121"/>
                </a:lnTo>
                <a:lnTo>
                  <a:pt x="53" y="133"/>
                </a:lnTo>
                <a:lnTo>
                  <a:pt x="63" y="159"/>
                </a:lnTo>
                <a:lnTo>
                  <a:pt x="75" y="187"/>
                </a:lnTo>
                <a:lnTo>
                  <a:pt x="97" y="193"/>
                </a:lnTo>
                <a:lnTo>
                  <a:pt x="113" y="224"/>
                </a:lnTo>
                <a:lnTo>
                  <a:pt x="107" y="248"/>
                </a:lnTo>
                <a:lnTo>
                  <a:pt x="83" y="268"/>
                </a:lnTo>
                <a:lnTo>
                  <a:pt x="53" y="278"/>
                </a:lnTo>
                <a:lnTo>
                  <a:pt x="26" y="302"/>
                </a:lnTo>
                <a:lnTo>
                  <a:pt x="14" y="324"/>
                </a:lnTo>
                <a:lnTo>
                  <a:pt x="18" y="349"/>
                </a:lnTo>
                <a:lnTo>
                  <a:pt x="31" y="355"/>
                </a:lnTo>
                <a:lnTo>
                  <a:pt x="41" y="341"/>
                </a:lnTo>
                <a:lnTo>
                  <a:pt x="61" y="333"/>
                </a:lnTo>
                <a:lnTo>
                  <a:pt x="77" y="339"/>
                </a:lnTo>
                <a:lnTo>
                  <a:pt x="75" y="351"/>
                </a:lnTo>
                <a:lnTo>
                  <a:pt x="63" y="361"/>
                </a:lnTo>
                <a:lnTo>
                  <a:pt x="53" y="371"/>
                </a:lnTo>
                <a:lnTo>
                  <a:pt x="53" y="393"/>
                </a:lnTo>
                <a:lnTo>
                  <a:pt x="43" y="409"/>
                </a:lnTo>
                <a:lnTo>
                  <a:pt x="45" y="427"/>
                </a:lnTo>
                <a:lnTo>
                  <a:pt x="61" y="437"/>
                </a:lnTo>
                <a:lnTo>
                  <a:pt x="83" y="433"/>
                </a:lnTo>
                <a:lnTo>
                  <a:pt x="97" y="443"/>
                </a:lnTo>
                <a:lnTo>
                  <a:pt x="113" y="472"/>
                </a:lnTo>
                <a:lnTo>
                  <a:pt x="119" y="492"/>
                </a:lnTo>
                <a:lnTo>
                  <a:pt x="107" y="498"/>
                </a:lnTo>
                <a:lnTo>
                  <a:pt x="89" y="488"/>
                </a:lnTo>
                <a:lnTo>
                  <a:pt x="73" y="494"/>
                </a:lnTo>
                <a:lnTo>
                  <a:pt x="73" y="510"/>
                </a:lnTo>
                <a:lnTo>
                  <a:pt x="83" y="524"/>
                </a:lnTo>
                <a:lnTo>
                  <a:pt x="85" y="542"/>
                </a:lnTo>
                <a:lnTo>
                  <a:pt x="99" y="560"/>
                </a:lnTo>
                <a:lnTo>
                  <a:pt x="133" y="558"/>
                </a:lnTo>
                <a:lnTo>
                  <a:pt x="168" y="570"/>
                </a:lnTo>
                <a:lnTo>
                  <a:pt x="196" y="586"/>
                </a:lnTo>
                <a:lnTo>
                  <a:pt x="230" y="613"/>
                </a:lnTo>
                <a:lnTo>
                  <a:pt x="250" y="635"/>
                </a:lnTo>
                <a:lnTo>
                  <a:pt x="273" y="651"/>
                </a:lnTo>
                <a:lnTo>
                  <a:pt x="293" y="673"/>
                </a:lnTo>
                <a:lnTo>
                  <a:pt x="303" y="695"/>
                </a:lnTo>
                <a:lnTo>
                  <a:pt x="315" y="721"/>
                </a:lnTo>
                <a:lnTo>
                  <a:pt x="333" y="735"/>
                </a:lnTo>
                <a:lnTo>
                  <a:pt x="351" y="721"/>
                </a:lnTo>
                <a:lnTo>
                  <a:pt x="359" y="701"/>
                </a:lnTo>
                <a:lnTo>
                  <a:pt x="382" y="695"/>
                </a:lnTo>
                <a:lnTo>
                  <a:pt x="396" y="681"/>
                </a:lnTo>
                <a:lnTo>
                  <a:pt x="416" y="661"/>
                </a:lnTo>
                <a:lnTo>
                  <a:pt x="448" y="655"/>
                </a:lnTo>
                <a:lnTo>
                  <a:pt x="460" y="637"/>
                </a:lnTo>
                <a:lnTo>
                  <a:pt x="480" y="627"/>
                </a:lnTo>
                <a:lnTo>
                  <a:pt x="488" y="639"/>
                </a:lnTo>
                <a:lnTo>
                  <a:pt x="492" y="665"/>
                </a:lnTo>
                <a:lnTo>
                  <a:pt x="503" y="679"/>
                </a:lnTo>
                <a:lnTo>
                  <a:pt x="519" y="695"/>
                </a:lnTo>
                <a:lnTo>
                  <a:pt x="513" y="723"/>
                </a:lnTo>
                <a:lnTo>
                  <a:pt x="515" y="758"/>
                </a:lnTo>
                <a:lnTo>
                  <a:pt x="519" y="780"/>
                </a:lnTo>
                <a:lnTo>
                  <a:pt x="539" y="796"/>
                </a:lnTo>
                <a:lnTo>
                  <a:pt x="545" y="820"/>
                </a:lnTo>
                <a:lnTo>
                  <a:pt x="551" y="830"/>
                </a:lnTo>
                <a:lnTo>
                  <a:pt x="563" y="844"/>
                </a:lnTo>
                <a:lnTo>
                  <a:pt x="579" y="852"/>
                </a:lnTo>
                <a:lnTo>
                  <a:pt x="609" y="852"/>
                </a:lnTo>
                <a:lnTo>
                  <a:pt x="630" y="822"/>
                </a:lnTo>
                <a:lnTo>
                  <a:pt x="648" y="798"/>
                </a:lnTo>
                <a:lnTo>
                  <a:pt x="676" y="786"/>
                </a:lnTo>
                <a:lnTo>
                  <a:pt x="694" y="760"/>
                </a:lnTo>
                <a:lnTo>
                  <a:pt x="696" y="725"/>
                </a:lnTo>
                <a:lnTo>
                  <a:pt x="706" y="691"/>
                </a:lnTo>
                <a:lnTo>
                  <a:pt x="708" y="667"/>
                </a:lnTo>
                <a:lnTo>
                  <a:pt x="692" y="651"/>
                </a:lnTo>
                <a:lnTo>
                  <a:pt x="680" y="627"/>
                </a:lnTo>
                <a:lnTo>
                  <a:pt x="682" y="590"/>
                </a:lnTo>
                <a:lnTo>
                  <a:pt x="684" y="552"/>
                </a:lnTo>
                <a:lnTo>
                  <a:pt x="680" y="546"/>
                </a:lnTo>
                <a:lnTo>
                  <a:pt x="664" y="520"/>
                </a:lnTo>
                <a:lnTo>
                  <a:pt x="652" y="494"/>
                </a:lnTo>
                <a:lnTo>
                  <a:pt x="656" y="474"/>
                </a:lnTo>
                <a:lnTo>
                  <a:pt x="670" y="453"/>
                </a:lnTo>
                <a:lnTo>
                  <a:pt x="694" y="443"/>
                </a:lnTo>
                <a:lnTo>
                  <a:pt x="716" y="453"/>
                </a:lnTo>
                <a:lnTo>
                  <a:pt x="728" y="437"/>
                </a:lnTo>
                <a:lnTo>
                  <a:pt x="749" y="429"/>
                </a:lnTo>
                <a:lnTo>
                  <a:pt x="759" y="405"/>
                </a:lnTo>
                <a:lnTo>
                  <a:pt x="747" y="373"/>
                </a:lnTo>
                <a:lnTo>
                  <a:pt x="751" y="351"/>
                </a:lnTo>
                <a:lnTo>
                  <a:pt x="767" y="333"/>
                </a:lnTo>
                <a:lnTo>
                  <a:pt x="779" y="318"/>
                </a:lnTo>
                <a:lnTo>
                  <a:pt x="767" y="306"/>
                </a:lnTo>
                <a:lnTo>
                  <a:pt x="743" y="314"/>
                </a:lnTo>
                <a:lnTo>
                  <a:pt x="726" y="322"/>
                </a:lnTo>
                <a:lnTo>
                  <a:pt x="714" y="306"/>
                </a:lnTo>
                <a:lnTo>
                  <a:pt x="694" y="308"/>
                </a:lnTo>
                <a:lnTo>
                  <a:pt x="680" y="328"/>
                </a:lnTo>
                <a:lnTo>
                  <a:pt x="660" y="345"/>
                </a:lnTo>
                <a:lnTo>
                  <a:pt x="636" y="347"/>
                </a:lnTo>
                <a:lnTo>
                  <a:pt x="626" y="312"/>
                </a:lnTo>
                <a:lnTo>
                  <a:pt x="601" y="300"/>
                </a:lnTo>
                <a:lnTo>
                  <a:pt x="571" y="302"/>
                </a:lnTo>
                <a:lnTo>
                  <a:pt x="549" y="286"/>
                </a:lnTo>
                <a:lnTo>
                  <a:pt x="527" y="288"/>
                </a:lnTo>
                <a:lnTo>
                  <a:pt x="509" y="302"/>
                </a:lnTo>
                <a:lnTo>
                  <a:pt x="492" y="322"/>
                </a:lnTo>
                <a:lnTo>
                  <a:pt x="464" y="335"/>
                </a:lnTo>
                <a:lnTo>
                  <a:pt x="466" y="306"/>
                </a:lnTo>
                <a:lnTo>
                  <a:pt x="482" y="280"/>
                </a:lnTo>
                <a:lnTo>
                  <a:pt x="474" y="254"/>
                </a:lnTo>
                <a:lnTo>
                  <a:pt x="448" y="246"/>
                </a:lnTo>
                <a:lnTo>
                  <a:pt x="410" y="254"/>
                </a:lnTo>
                <a:lnTo>
                  <a:pt x="424" y="230"/>
                </a:lnTo>
                <a:lnTo>
                  <a:pt x="438" y="214"/>
                </a:lnTo>
                <a:lnTo>
                  <a:pt x="448" y="189"/>
                </a:lnTo>
                <a:lnTo>
                  <a:pt x="440" y="171"/>
                </a:lnTo>
                <a:lnTo>
                  <a:pt x="418" y="171"/>
                </a:lnTo>
                <a:lnTo>
                  <a:pt x="392" y="198"/>
                </a:lnTo>
                <a:lnTo>
                  <a:pt x="371" y="226"/>
                </a:lnTo>
                <a:lnTo>
                  <a:pt x="343" y="236"/>
                </a:lnTo>
                <a:lnTo>
                  <a:pt x="329" y="230"/>
                </a:lnTo>
                <a:lnTo>
                  <a:pt x="343" y="200"/>
                </a:lnTo>
                <a:lnTo>
                  <a:pt x="363" y="179"/>
                </a:lnTo>
                <a:lnTo>
                  <a:pt x="384" y="159"/>
                </a:lnTo>
                <a:lnTo>
                  <a:pt x="418" y="147"/>
                </a:lnTo>
                <a:lnTo>
                  <a:pt x="432" y="125"/>
                </a:lnTo>
                <a:lnTo>
                  <a:pt x="436" y="101"/>
                </a:lnTo>
                <a:lnTo>
                  <a:pt x="418" y="83"/>
                </a:lnTo>
                <a:lnTo>
                  <a:pt x="396" y="87"/>
                </a:lnTo>
                <a:lnTo>
                  <a:pt x="371" y="101"/>
                </a:lnTo>
                <a:lnTo>
                  <a:pt x="345" y="79"/>
                </a:lnTo>
                <a:lnTo>
                  <a:pt x="309" y="61"/>
                </a:lnTo>
                <a:lnTo>
                  <a:pt x="273" y="59"/>
                </a:lnTo>
                <a:lnTo>
                  <a:pt x="250" y="69"/>
                </a:lnTo>
                <a:lnTo>
                  <a:pt x="216" y="71"/>
                </a:lnTo>
                <a:lnTo>
                  <a:pt x="184" y="57"/>
                </a:lnTo>
                <a:lnTo>
                  <a:pt x="172" y="50"/>
                </a:lnTo>
                <a:lnTo>
                  <a:pt x="152" y="38"/>
                </a:lnTo>
                <a:lnTo>
                  <a:pt x="119" y="22"/>
                </a:lnTo>
                <a:lnTo>
                  <a:pt x="85" y="6"/>
                </a:lnTo>
                <a:lnTo>
                  <a:pt x="51" y="0"/>
                </a:lnTo>
                <a:lnTo>
                  <a:pt x="22" y="8"/>
                </a:lnTo>
                <a:close/>
              </a:path>
            </a:pathLst>
          </a:custGeom>
          <a:solidFill>
            <a:srgbClr val="b760f9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8"/>
          <p:cNvGrpSpPr/>
          <p:nvPr/>
        </p:nvGrpSpPr>
        <p:grpSpPr>
          <a:xfrm>
            <a:off x="3279600" y="2146320"/>
            <a:ext cx="1063440" cy="802800"/>
            <a:chOff x="3279600" y="2146320"/>
            <a:chExt cx="1063440" cy="802800"/>
          </a:xfrm>
        </p:grpSpPr>
        <p:sp>
          <p:nvSpPr>
            <p:cNvPr id="103" name="Freeform 9"/>
            <p:cNvSpPr/>
            <p:nvPr/>
          </p:nvSpPr>
          <p:spPr>
            <a:xfrm>
              <a:off x="3279600" y="2239560"/>
              <a:ext cx="1063440" cy="709560"/>
            </a:xfrm>
            <a:custGeom>
              <a:avLst/>
              <a:gdLst>
                <a:gd name="textAreaLeft" fmla="*/ 0 w 1063440"/>
                <a:gd name="textAreaRight" fmla="*/ 1063800 w 1063440"/>
                <a:gd name="textAreaTop" fmla="*/ 0 h 709560"/>
                <a:gd name="textAreaBottom" fmla="*/ 709920 h 709560"/>
              </a:gdLst>
              <a:ahLst/>
              <a:rect l="textAreaLeft" t="textAreaTop" r="textAreaRight" b="textAreaBottom"/>
              <a:pathLst>
                <a:path w="1207" h="806">
                  <a:moveTo>
                    <a:pt x="440" y="648"/>
                  </a:moveTo>
                  <a:lnTo>
                    <a:pt x="426" y="665"/>
                  </a:lnTo>
                  <a:lnTo>
                    <a:pt x="404" y="663"/>
                  </a:lnTo>
                  <a:lnTo>
                    <a:pt x="380" y="677"/>
                  </a:lnTo>
                  <a:lnTo>
                    <a:pt x="353" y="685"/>
                  </a:lnTo>
                  <a:lnTo>
                    <a:pt x="339" y="701"/>
                  </a:lnTo>
                  <a:lnTo>
                    <a:pt x="333" y="725"/>
                  </a:lnTo>
                  <a:lnTo>
                    <a:pt x="341" y="745"/>
                  </a:lnTo>
                  <a:lnTo>
                    <a:pt x="351" y="773"/>
                  </a:lnTo>
                  <a:lnTo>
                    <a:pt x="335" y="788"/>
                  </a:lnTo>
                  <a:lnTo>
                    <a:pt x="331" y="806"/>
                  </a:lnTo>
                  <a:lnTo>
                    <a:pt x="323" y="783"/>
                  </a:lnTo>
                  <a:lnTo>
                    <a:pt x="301" y="767"/>
                  </a:lnTo>
                  <a:lnTo>
                    <a:pt x="285" y="761"/>
                  </a:lnTo>
                  <a:lnTo>
                    <a:pt x="275" y="755"/>
                  </a:lnTo>
                  <a:lnTo>
                    <a:pt x="251" y="765"/>
                  </a:lnTo>
                  <a:lnTo>
                    <a:pt x="234" y="761"/>
                  </a:lnTo>
                  <a:lnTo>
                    <a:pt x="224" y="759"/>
                  </a:lnTo>
                  <a:lnTo>
                    <a:pt x="208" y="741"/>
                  </a:lnTo>
                  <a:lnTo>
                    <a:pt x="188" y="729"/>
                  </a:lnTo>
                  <a:lnTo>
                    <a:pt x="164" y="725"/>
                  </a:lnTo>
                  <a:lnTo>
                    <a:pt x="132" y="711"/>
                  </a:lnTo>
                  <a:lnTo>
                    <a:pt x="93" y="685"/>
                  </a:lnTo>
                  <a:lnTo>
                    <a:pt x="69" y="679"/>
                  </a:lnTo>
                  <a:lnTo>
                    <a:pt x="63" y="667"/>
                  </a:lnTo>
                  <a:lnTo>
                    <a:pt x="49" y="648"/>
                  </a:lnTo>
                  <a:lnTo>
                    <a:pt x="31" y="626"/>
                  </a:lnTo>
                  <a:lnTo>
                    <a:pt x="13" y="620"/>
                  </a:lnTo>
                  <a:lnTo>
                    <a:pt x="0" y="620"/>
                  </a:lnTo>
                  <a:lnTo>
                    <a:pt x="21" y="592"/>
                  </a:lnTo>
                  <a:lnTo>
                    <a:pt x="39" y="568"/>
                  </a:lnTo>
                  <a:lnTo>
                    <a:pt x="67" y="554"/>
                  </a:lnTo>
                  <a:lnTo>
                    <a:pt x="85" y="528"/>
                  </a:lnTo>
                  <a:lnTo>
                    <a:pt x="87" y="495"/>
                  </a:lnTo>
                  <a:lnTo>
                    <a:pt x="97" y="461"/>
                  </a:lnTo>
                  <a:lnTo>
                    <a:pt x="99" y="437"/>
                  </a:lnTo>
                  <a:lnTo>
                    <a:pt x="83" y="423"/>
                  </a:lnTo>
                  <a:lnTo>
                    <a:pt x="71" y="397"/>
                  </a:lnTo>
                  <a:lnTo>
                    <a:pt x="73" y="360"/>
                  </a:lnTo>
                  <a:lnTo>
                    <a:pt x="75" y="322"/>
                  </a:lnTo>
                  <a:lnTo>
                    <a:pt x="83" y="348"/>
                  </a:lnTo>
                  <a:lnTo>
                    <a:pt x="97" y="354"/>
                  </a:lnTo>
                  <a:lnTo>
                    <a:pt x="113" y="342"/>
                  </a:lnTo>
                  <a:lnTo>
                    <a:pt x="107" y="314"/>
                  </a:lnTo>
                  <a:lnTo>
                    <a:pt x="109" y="292"/>
                  </a:lnTo>
                  <a:lnTo>
                    <a:pt x="121" y="276"/>
                  </a:lnTo>
                  <a:lnTo>
                    <a:pt x="146" y="270"/>
                  </a:lnTo>
                  <a:lnTo>
                    <a:pt x="168" y="276"/>
                  </a:lnTo>
                  <a:lnTo>
                    <a:pt x="194" y="304"/>
                  </a:lnTo>
                  <a:lnTo>
                    <a:pt x="212" y="298"/>
                  </a:lnTo>
                  <a:lnTo>
                    <a:pt x="232" y="310"/>
                  </a:lnTo>
                  <a:lnTo>
                    <a:pt x="253" y="316"/>
                  </a:lnTo>
                  <a:lnTo>
                    <a:pt x="267" y="298"/>
                  </a:lnTo>
                  <a:lnTo>
                    <a:pt x="265" y="272"/>
                  </a:lnTo>
                  <a:lnTo>
                    <a:pt x="285" y="262"/>
                  </a:lnTo>
                  <a:lnTo>
                    <a:pt x="275" y="250"/>
                  </a:lnTo>
                  <a:lnTo>
                    <a:pt x="273" y="229"/>
                  </a:lnTo>
                  <a:lnTo>
                    <a:pt x="289" y="211"/>
                  </a:lnTo>
                  <a:lnTo>
                    <a:pt x="315" y="219"/>
                  </a:lnTo>
                  <a:lnTo>
                    <a:pt x="331" y="201"/>
                  </a:lnTo>
                  <a:lnTo>
                    <a:pt x="359" y="195"/>
                  </a:lnTo>
                  <a:lnTo>
                    <a:pt x="384" y="199"/>
                  </a:lnTo>
                  <a:lnTo>
                    <a:pt x="406" y="187"/>
                  </a:lnTo>
                  <a:lnTo>
                    <a:pt x="430" y="185"/>
                  </a:lnTo>
                  <a:lnTo>
                    <a:pt x="438" y="207"/>
                  </a:lnTo>
                  <a:lnTo>
                    <a:pt x="446" y="221"/>
                  </a:lnTo>
                  <a:lnTo>
                    <a:pt x="466" y="223"/>
                  </a:lnTo>
                  <a:lnTo>
                    <a:pt x="478" y="209"/>
                  </a:lnTo>
                  <a:lnTo>
                    <a:pt x="460" y="179"/>
                  </a:lnTo>
                  <a:lnTo>
                    <a:pt x="470" y="157"/>
                  </a:lnTo>
                  <a:lnTo>
                    <a:pt x="493" y="135"/>
                  </a:lnTo>
                  <a:lnTo>
                    <a:pt x="511" y="101"/>
                  </a:lnTo>
                  <a:lnTo>
                    <a:pt x="523" y="74"/>
                  </a:lnTo>
                  <a:lnTo>
                    <a:pt x="539" y="46"/>
                  </a:lnTo>
                  <a:lnTo>
                    <a:pt x="555" y="20"/>
                  </a:lnTo>
                  <a:lnTo>
                    <a:pt x="577" y="4"/>
                  </a:lnTo>
                  <a:lnTo>
                    <a:pt x="600" y="8"/>
                  </a:lnTo>
                  <a:lnTo>
                    <a:pt x="630" y="2"/>
                  </a:lnTo>
                  <a:lnTo>
                    <a:pt x="656" y="0"/>
                  </a:lnTo>
                  <a:lnTo>
                    <a:pt x="678" y="2"/>
                  </a:lnTo>
                  <a:lnTo>
                    <a:pt x="690" y="16"/>
                  </a:lnTo>
                  <a:lnTo>
                    <a:pt x="682" y="32"/>
                  </a:lnTo>
                  <a:lnTo>
                    <a:pt x="664" y="38"/>
                  </a:lnTo>
                  <a:lnTo>
                    <a:pt x="634" y="32"/>
                  </a:lnTo>
                  <a:lnTo>
                    <a:pt x="612" y="38"/>
                  </a:lnTo>
                  <a:lnTo>
                    <a:pt x="604" y="48"/>
                  </a:lnTo>
                  <a:lnTo>
                    <a:pt x="581" y="52"/>
                  </a:lnTo>
                  <a:lnTo>
                    <a:pt x="565" y="58"/>
                  </a:lnTo>
                  <a:lnTo>
                    <a:pt x="553" y="76"/>
                  </a:lnTo>
                  <a:lnTo>
                    <a:pt x="539" y="98"/>
                  </a:lnTo>
                  <a:lnTo>
                    <a:pt x="533" y="117"/>
                  </a:lnTo>
                  <a:lnTo>
                    <a:pt x="537" y="129"/>
                  </a:lnTo>
                  <a:lnTo>
                    <a:pt x="553" y="125"/>
                  </a:lnTo>
                  <a:lnTo>
                    <a:pt x="561" y="103"/>
                  </a:lnTo>
                  <a:lnTo>
                    <a:pt x="577" y="80"/>
                  </a:lnTo>
                  <a:lnTo>
                    <a:pt x="593" y="70"/>
                  </a:lnTo>
                  <a:lnTo>
                    <a:pt x="610" y="76"/>
                  </a:lnTo>
                  <a:lnTo>
                    <a:pt x="624" y="60"/>
                  </a:lnTo>
                  <a:lnTo>
                    <a:pt x="642" y="52"/>
                  </a:lnTo>
                  <a:lnTo>
                    <a:pt x="656" y="58"/>
                  </a:lnTo>
                  <a:lnTo>
                    <a:pt x="666" y="74"/>
                  </a:lnTo>
                  <a:lnTo>
                    <a:pt x="682" y="68"/>
                  </a:lnTo>
                  <a:lnTo>
                    <a:pt x="700" y="52"/>
                  </a:lnTo>
                  <a:lnTo>
                    <a:pt x="721" y="54"/>
                  </a:lnTo>
                  <a:lnTo>
                    <a:pt x="725" y="68"/>
                  </a:lnTo>
                  <a:lnTo>
                    <a:pt x="731" y="90"/>
                  </a:lnTo>
                  <a:lnTo>
                    <a:pt x="743" y="109"/>
                  </a:lnTo>
                  <a:lnTo>
                    <a:pt x="771" y="117"/>
                  </a:lnTo>
                  <a:lnTo>
                    <a:pt x="801" y="131"/>
                  </a:lnTo>
                  <a:lnTo>
                    <a:pt x="823" y="147"/>
                  </a:lnTo>
                  <a:lnTo>
                    <a:pt x="838" y="169"/>
                  </a:lnTo>
                  <a:lnTo>
                    <a:pt x="846" y="195"/>
                  </a:lnTo>
                  <a:lnTo>
                    <a:pt x="864" y="199"/>
                  </a:lnTo>
                  <a:lnTo>
                    <a:pt x="876" y="185"/>
                  </a:lnTo>
                  <a:lnTo>
                    <a:pt x="880" y="165"/>
                  </a:lnTo>
                  <a:lnTo>
                    <a:pt x="892" y="155"/>
                  </a:lnTo>
                  <a:lnTo>
                    <a:pt x="904" y="167"/>
                  </a:lnTo>
                  <a:lnTo>
                    <a:pt x="924" y="155"/>
                  </a:lnTo>
                  <a:lnTo>
                    <a:pt x="946" y="161"/>
                  </a:lnTo>
                  <a:lnTo>
                    <a:pt x="957" y="179"/>
                  </a:lnTo>
                  <a:lnTo>
                    <a:pt x="957" y="205"/>
                  </a:lnTo>
                  <a:lnTo>
                    <a:pt x="953" y="233"/>
                  </a:lnTo>
                  <a:lnTo>
                    <a:pt x="959" y="252"/>
                  </a:lnTo>
                  <a:lnTo>
                    <a:pt x="979" y="264"/>
                  </a:lnTo>
                  <a:lnTo>
                    <a:pt x="997" y="288"/>
                  </a:lnTo>
                  <a:lnTo>
                    <a:pt x="989" y="314"/>
                  </a:lnTo>
                  <a:lnTo>
                    <a:pt x="995" y="336"/>
                  </a:lnTo>
                  <a:lnTo>
                    <a:pt x="1007" y="348"/>
                  </a:lnTo>
                  <a:lnTo>
                    <a:pt x="1031" y="362"/>
                  </a:lnTo>
                  <a:lnTo>
                    <a:pt x="1059" y="374"/>
                  </a:lnTo>
                  <a:lnTo>
                    <a:pt x="1078" y="381"/>
                  </a:lnTo>
                  <a:lnTo>
                    <a:pt x="1094" y="370"/>
                  </a:lnTo>
                  <a:lnTo>
                    <a:pt x="1112" y="368"/>
                  </a:lnTo>
                  <a:lnTo>
                    <a:pt x="1130" y="375"/>
                  </a:lnTo>
                  <a:lnTo>
                    <a:pt x="1136" y="391"/>
                  </a:lnTo>
                  <a:lnTo>
                    <a:pt x="1140" y="419"/>
                  </a:lnTo>
                  <a:lnTo>
                    <a:pt x="1142" y="459"/>
                  </a:lnTo>
                  <a:lnTo>
                    <a:pt x="1152" y="491"/>
                  </a:lnTo>
                  <a:lnTo>
                    <a:pt x="1162" y="522"/>
                  </a:lnTo>
                  <a:lnTo>
                    <a:pt x="1180" y="548"/>
                  </a:lnTo>
                  <a:lnTo>
                    <a:pt x="1199" y="576"/>
                  </a:lnTo>
                  <a:lnTo>
                    <a:pt x="1207" y="600"/>
                  </a:lnTo>
                  <a:lnTo>
                    <a:pt x="1193" y="614"/>
                  </a:lnTo>
                  <a:lnTo>
                    <a:pt x="1164" y="622"/>
                  </a:lnTo>
                  <a:lnTo>
                    <a:pt x="1150" y="646"/>
                  </a:lnTo>
                  <a:lnTo>
                    <a:pt x="1134" y="667"/>
                  </a:lnTo>
                  <a:lnTo>
                    <a:pt x="1110" y="663"/>
                  </a:lnTo>
                  <a:lnTo>
                    <a:pt x="1090" y="657"/>
                  </a:lnTo>
                  <a:lnTo>
                    <a:pt x="1084" y="638"/>
                  </a:lnTo>
                  <a:lnTo>
                    <a:pt x="1063" y="630"/>
                  </a:lnTo>
                  <a:lnTo>
                    <a:pt x="1053" y="608"/>
                  </a:lnTo>
                  <a:lnTo>
                    <a:pt x="1033" y="594"/>
                  </a:lnTo>
                  <a:lnTo>
                    <a:pt x="1011" y="570"/>
                  </a:lnTo>
                  <a:lnTo>
                    <a:pt x="985" y="560"/>
                  </a:lnTo>
                  <a:lnTo>
                    <a:pt x="963" y="572"/>
                  </a:lnTo>
                  <a:lnTo>
                    <a:pt x="948" y="600"/>
                  </a:lnTo>
                  <a:lnTo>
                    <a:pt x="936" y="630"/>
                  </a:lnTo>
                  <a:lnTo>
                    <a:pt x="910" y="636"/>
                  </a:lnTo>
                  <a:lnTo>
                    <a:pt x="892" y="651"/>
                  </a:lnTo>
                  <a:lnTo>
                    <a:pt x="874" y="657"/>
                  </a:lnTo>
                  <a:lnTo>
                    <a:pt x="858" y="659"/>
                  </a:lnTo>
                  <a:lnTo>
                    <a:pt x="844" y="675"/>
                  </a:lnTo>
                  <a:lnTo>
                    <a:pt x="838" y="695"/>
                  </a:lnTo>
                  <a:lnTo>
                    <a:pt x="813" y="701"/>
                  </a:lnTo>
                  <a:lnTo>
                    <a:pt x="783" y="703"/>
                  </a:lnTo>
                  <a:lnTo>
                    <a:pt x="759" y="713"/>
                  </a:lnTo>
                  <a:lnTo>
                    <a:pt x="739" y="721"/>
                  </a:lnTo>
                  <a:lnTo>
                    <a:pt x="717" y="707"/>
                  </a:lnTo>
                  <a:lnTo>
                    <a:pt x="698" y="699"/>
                  </a:lnTo>
                  <a:lnTo>
                    <a:pt x="678" y="699"/>
                  </a:lnTo>
                  <a:lnTo>
                    <a:pt x="664" y="687"/>
                  </a:lnTo>
                  <a:lnTo>
                    <a:pt x="648" y="681"/>
                  </a:lnTo>
                  <a:lnTo>
                    <a:pt x="634" y="689"/>
                  </a:lnTo>
                  <a:lnTo>
                    <a:pt x="616" y="699"/>
                  </a:lnTo>
                  <a:lnTo>
                    <a:pt x="595" y="691"/>
                  </a:lnTo>
                  <a:lnTo>
                    <a:pt x="579" y="669"/>
                  </a:lnTo>
                  <a:lnTo>
                    <a:pt x="559" y="648"/>
                  </a:lnTo>
                  <a:lnTo>
                    <a:pt x="537" y="646"/>
                  </a:lnTo>
                  <a:lnTo>
                    <a:pt x="511" y="648"/>
                  </a:lnTo>
                  <a:lnTo>
                    <a:pt x="489" y="638"/>
                  </a:lnTo>
                  <a:lnTo>
                    <a:pt x="472" y="624"/>
                  </a:lnTo>
                  <a:lnTo>
                    <a:pt x="450" y="626"/>
                  </a:lnTo>
                  <a:lnTo>
                    <a:pt x="440" y="648"/>
                  </a:lnTo>
                  <a:close/>
                </a:path>
              </a:pathLst>
            </a:custGeom>
            <a:solidFill>
              <a:srgbClr val="00ff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10"/>
            <p:cNvSpPr/>
            <p:nvPr/>
          </p:nvSpPr>
          <p:spPr>
            <a:xfrm>
              <a:off x="3953880" y="2146320"/>
              <a:ext cx="184680" cy="199080"/>
            </a:xfrm>
            <a:custGeom>
              <a:avLst/>
              <a:gdLst>
                <a:gd name="textAreaLeft" fmla="*/ 0 w 184680"/>
                <a:gd name="textAreaRight" fmla="*/ 185040 w 184680"/>
                <a:gd name="textAreaTop" fmla="*/ 0 h 199080"/>
                <a:gd name="textAreaBottom" fmla="*/ 199440 h 199080"/>
              </a:gdLst>
              <a:ahLst/>
              <a:rect l="textAreaLeft" t="textAreaTop" r="textAreaRight" b="textAreaBottom"/>
              <a:pathLst>
                <a:path w="210" h="226">
                  <a:moveTo>
                    <a:pt x="34" y="10"/>
                  </a:moveTo>
                  <a:lnTo>
                    <a:pt x="48" y="0"/>
                  </a:lnTo>
                  <a:lnTo>
                    <a:pt x="66" y="6"/>
                  </a:lnTo>
                  <a:lnTo>
                    <a:pt x="83" y="0"/>
                  </a:lnTo>
                  <a:lnTo>
                    <a:pt x="101" y="6"/>
                  </a:lnTo>
                  <a:lnTo>
                    <a:pt x="95" y="22"/>
                  </a:lnTo>
                  <a:lnTo>
                    <a:pt x="105" y="34"/>
                  </a:lnTo>
                  <a:lnTo>
                    <a:pt x="125" y="36"/>
                  </a:lnTo>
                  <a:lnTo>
                    <a:pt x="143" y="40"/>
                  </a:lnTo>
                  <a:lnTo>
                    <a:pt x="161" y="50"/>
                  </a:lnTo>
                  <a:lnTo>
                    <a:pt x="171" y="58"/>
                  </a:lnTo>
                  <a:lnTo>
                    <a:pt x="173" y="71"/>
                  </a:lnTo>
                  <a:lnTo>
                    <a:pt x="169" y="79"/>
                  </a:lnTo>
                  <a:lnTo>
                    <a:pt x="165" y="89"/>
                  </a:lnTo>
                  <a:lnTo>
                    <a:pt x="159" y="105"/>
                  </a:lnTo>
                  <a:lnTo>
                    <a:pt x="165" y="119"/>
                  </a:lnTo>
                  <a:lnTo>
                    <a:pt x="179" y="131"/>
                  </a:lnTo>
                  <a:lnTo>
                    <a:pt x="192" y="137"/>
                  </a:lnTo>
                  <a:lnTo>
                    <a:pt x="204" y="149"/>
                  </a:lnTo>
                  <a:lnTo>
                    <a:pt x="210" y="159"/>
                  </a:lnTo>
                  <a:lnTo>
                    <a:pt x="208" y="175"/>
                  </a:lnTo>
                  <a:lnTo>
                    <a:pt x="202" y="193"/>
                  </a:lnTo>
                  <a:lnTo>
                    <a:pt x="192" y="203"/>
                  </a:lnTo>
                  <a:lnTo>
                    <a:pt x="183" y="207"/>
                  </a:lnTo>
                  <a:lnTo>
                    <a:pt x="173" y="199"/>
                  </a:lnTo>
                  <a:lnTo>
                    <a:pt x="169" y="189"/>
                  </a:lnTo>
                  <a:lnTo>
                    <a:pt x="173" y="177"/>
                  </a:lnTo>
                  <a:lnTo>
                    <a:pt x="179" y="167"/>
                  </a:lnTo>
                  <a:lnTo>
                    <a:pt x="181" y="155"/>
                  </a:lnTo>
                  <a:lnTo>
                    <a:pt x="171" y="149"/>
                  </a:lnTo>
                  <a:lnTo>
                    <a:pt x="159" y="151"/>
                  </a:lnTo>
                  <a:lnTo>
                    <a:pt x="149" y="159"/>
                  </a:lnTo>
                  <a:lnTo>
                    <a:pt x="135" y="159"/>
                  </a:lnTo>
                  <a:lnTo>
                    <a:pt x="127" y="161"/>
                  </a:lnTo>
                  <a:lnTo>
                    <a:pt x="123" y="171"/>
                  </a:lnTo>
                  <a:lnTo>
                    <a:pt x="121" y="181"/>
                  </a:lnTo>
                  <a:lnTo>
                    <a:pt x="115" y="185"/>
                  </a:lnTo>
                  <a:lnTo>
                    <a:pt x="105" y="185"/>
                  </a:lnTo>
                  <a:lnTo>
                    <a:pt x="93" y="185"/>
                  </a:lnTo>
                  <a:lnTo>
                    <a:pt x="87" y="189"/>
                  </a:lnTo>
                  <a:lnTo>
                    <a:pt x="81" y="199"/>
                  </a:lnTo>
                  <a:lnTo>
                    <a:pt x="87" y="207"/>
                  </a:lnTo>
                  <a:lnTo>
                    <a:pt x="89" y="214"/>
                  </a:lnTo>
                  <a:lnTo>
                    <a:pt x="87" y="224"/>
                  </a:lnTo>
                  <a:lnTo>
                    <a:pt x="73" y="226"/>
                  </a:lnTo>
                  <a:lnTo>
                    <a:pt x="58" y="226"/>
                  </a:lnTo>
                  <a:lnTo>
                    <a:pt x="44" y="216"/>
                  </a:lnTo>
                  <a:lnTo>
                    <a:pt x="28" y="216"/>
                  </a:lnTo>
                  <a:lnTo>
                    <a:pt x="18" y="207"/>
                  </a:lnTo>
                  <a:lnTo>
                    <a:pt x="6" y="197"/>
                  </a:lnTo>
                  <a:lnTo>
                    <a:pt x="0" y="189"/>
                  </a:lnTo>
                  <a:lnTo>
                    <a:pt x="0" y="177"/>
                  </a:lnTo>
                  <a:lnTo>
                    <a:pt x="6" y="171"/>
                  </a:lnTo>
                  <a:lnTo>
                    <a:pt x="22" y="165"/>
                  </a:lnTo>
                  <a:lnTo>
                    <a:pt x="36" y="167"/>
                  </a:lnTo>
                  <a:lnTo>
                    <a:pt x="46" y="163"/>
                  </a:lnTo>
                  <a:lnTo>
                    <a:pt x="46" y="155"/>
                  </a:lnTo>
                  <a:lnTo>
                    <a:pt x="40" y="149"/>
                  </a:lnTo>
                  <a:lnTo>
                    <a:pt x="32" y="145"/>
                  </a:lnTo>
                  <a:lnTo>
                    <a:pt x="18" y="143"/>
                  </a:lnTo>
                  <a:lnTo>
                    <a:pt x="12" y="137"/>
                  </a:lnTo>
                  <a:lnTo>
                    <a:pt x="16" y="127"/>
                  </a:lnTo>
                  <a:lnTo>
                    <a:pt x="28" y="119"/>
                  </a:lnTo>
                  <a:lnTo>
                    <a:pt x="32" y="111"/>
                  </a:lnTo>
                  <a:lnTo>
                    <a:pt x="22" y="101"/>
                  </a:lnTo>
                  <a:lnTo>
                    <a:pt x="18" y="89"/>
                  </a:lnTo>
                  <a:lnTo>
                    <a:pt x="22" y="77"/>
                  </a:lnTo>
                  <a:lnTo>
                    <a:pt x="32" y="73"/>
                  </a:lnTo>
                  <a:lnTo>
                    <a:pt x="40" y="77"/>
                  </a:lnTo>
                  <a:lnTo>
                    <a:pt x="46" y="87"/>
                  </a:lnTo>
                  <a:lnTo>
                    <a:pt x="48" y="95"/>
                  </a:lnTo>
                  <a:lnTo>
                    <a:pt x="58" y="85"/>
                  </a:lnTo>
                  <a:lnTo>
                    <a:pt x="69" y="83"/>
                  </a:lnTo>
                  <a:lnTo>
                    <a:pt x="83" y="87"/>
                  </a:lnTo>
                  <a:lnTo>
                    <a:pt x="95" y="101"/>
                  </a:lnTo>
                  <a:lnTo>
                    <a:pt x="105" y="117"/>
                  </a:lnTo>
                  <a:lnTo>
                    <a:pt x="117" y="127"/>
                  </a:lnTo>
                  <a:lnTo>
                    <a:pt x="125" y="121"/>
                  </a:lnTo>
                  <a:lnTo>
                    <a:pt x="131" y="107"/>
                  </a:lnTo>
                  <a:lnTo>
                    <a:pt x="131" y="89"/>
                  </a:lnTo>
                  <a:lnTo>
                    <a:pt x="123" y="71"/>
                  </a:lnTo>
                  <a:lnTo>
                    <a:pt x="111" y="66"/>
                  </a:lnTo>
                  <a:lnTo>
                    <a:pt x="89" y="56"/>
                  </a:lnTo>
                  <a:lnTo>
                    <a:pt x="77" y="50"/>
                  </a:lnTo>
                  <a:lnTo>
                    <a:pt x="50" y="42"/>
                  </a:lnTo>
                  <a:lnTo>
                    <a:pt x="38" y="34"/>
                  </a:lnTo>
                  <a:lnTo>
                    <a:pt x="26" y="54"/>
                  </a:lnTo>
                  <a:lnTo>
                    <a:pt x="12" y="52"/>
                  </a:lnTo>
                  <a:lnTo>
                    <a:pt x="10" y="36"/>
                  </a:lnTo>
                  <a:lnTo>
                    <a:pt x="18" y="22"/>
                  </a:lnTo>
                  <a:lnTo>
                    <a:pt x="34" y="10"/>
                  </a:lnTo>
                  <a:close/>
                </a:path>
              </a:pathLst>
            </a:custGeom>
            <a:solidFill>
              <a:srgbClr val="00ff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11"/>
            <p:cNvSpPr/>
            <p:nvPr/>
          </p:nvSpPr>
          <p:spPr>
            <a:xfrm>
              <a:off x="4133520" y="2359440"/>
              <a:ext cx="181080" cy="188280"/>
            </a:xfrm>
            <a:custGeom>
              <a:avLst/>
              <a:gdLst>
                <a:gd name="textAreaLeft" fmla="*/ 0 w 181080"/>
                <a:gd name="textAreaRight" fmla="*/ 181440 w 181080"/>
                <a:gd name="textAreaTop" fmla="*/ 0 h 188280"/>
                <a:gd name="textAreaBottom" fmla="*/ 188640 h 188280"/>
              </a:gdLst>
              <a:ahLst/>
              <a:rect l="textAreaLeft" t="textAreaTop" r="textAreaRight" b="textAreaBottom"/>
              <a:pathLst>
                <a:path w="207" h="215">
                  <a:moveTo>
                    <a:pt x="141" y="117"/>
                  </a:moveTo>
                  <a:lnTo>
                    <a:pt x="159" y="131"/>
                  </a:lnTo>
                  <a:lnTo>
                    <a:pt x="167" y="151"/>
                  </a:lnTo>
                  <a:lnTo>
                    <a:pt x="171" y="169"/>
                  </a:lnTo>
                  <a:lnTo>
                    <a:pt x="177" y="181"/>
                  </a:lnTo>
                  <a:lnTo>
                    <a:pt x="189" y="183"/>
                  </a:lnTo>
                  <a:lnTo>
                    <a:pt x="205" y="193"/>
                  </a:lnTo>
                  <a:lnTo>
                    <a:pt x="207" y="203"/>
                  </a:lnTo>
                  <a:lnTo>
                    <a:pt x="199" y="213"/>
                  </a:lnTo>
                  <a:lnTo>
                    <a:pt x="181" y="215"/>
                  </a:lnTo>
                  <a:lnTo>
                    <a:pt x="161" y="211"/>
                  </a:lnTo>
                  <a:lnTo>
                    <a:pt x="149" y="193"/>
                  </a:lnTo>
                  <a:lnTo>
                    <a:pt x="141" y="181"/>
                  </a:lnTo>
                  <a:lnTo>
                    <a:pt x="127" y="173"/>
                  </a:lnTo>
                  <a:lnTo>
                    <a:pt x="107" y="181"/>
                  </a:lnTo>
                  <a:lnTo>
                    <a:pt x="88" y="187"/>
                  </a:lnTo>
                  <a:lnTo>
                    <a:pt x="76" y="187"/>
                  </a:lnTo>
                  <a:lnTo>
                    <a:pt x="62" y="197"/>
                  </a:lnTo>
                  <a:lnTo>
                    <a:pt x="50" y="201"/>
                  </a:lnTo>
                  <a:lnTo>
                    <a:pt x="42" y="191"/>
                  </a:lnTo>
                  <a:lnTo>
                    <a:pt x="48" y="173"/>
                  </a:lnTo>
                  <a:lnTo>
                    <a:pt x="56" y="161"/>
                  </a:lnTo>
                  <a:lnTo>
                    <a:pt x="54" y="147"/>
                  </a:lnTo>
                  <a:lnTo>
                    <a:pt x="48" y="141"/>
                  </a:lnTo>
                  <a:lnTo>
                    <a:pt x="50" y="129"/>
                  </a:lnTo>
                  <a:lnTo>
                    <a:pt x="62" y="125"/>
                  </a:lnTo>
                  <a:lnTo>
                    <a:pt x="74" y="131"/>
                  </a:lnTo>
                  <a:lnTo>
                    <a:pt x="84" y="131"/>
                  </a:lnTo>
                  <a:lnTo>
                    <a:pt x="88" y="125"/>
                  </a:lnTo>
                  <a:lnTo>
                    <a:pt x="84" y="113"/>
                  </a:lnTo>
                  <a:lnTo>
                    <a:pt x="76" y="100"/>
                  </a:lnTo>
                  <a:lnTo>
                    <a:pt x="68" y="88"/>
                  </a:lnTo>
                  <a:lnTo>
                    <a:pt x="54" y="88"/>
                  </a:lnTo>
                  <a:lnTo>
                    <a:pt x="48" y="98"/>
                  </a:lnTo>
                  <a:lnTo>
                    <a:pt x="40" y="107"/>
                  </a:lnTo>
                  <a:lnTo>
                    <a:pt x="26" y="100"/>
                  </a:lnTo>
                  <a:lnTo>
                    <a:pt x="10" y="98"/>
                  </a:lnTo>
                  <a:lnTo>
                    <a:pt x="4" y="88"/>
                  </a:lnTo>
                  <a:lnTo>
                    <a:pt x="8" y="74"/>
                  </a:lnTo>
                  <a:lnTo>
                    <a:pt x="10" y="60"/>
                  </a:lnTo>
                  <a:lnTo>
                    <a:pt x="8" y="42"/>
                  </a:lnTo>
                  <a:lnTo>
                    <a:pt x="0" y="32"/>
                  </a:lnTo>
                  <a:lnTo>
                    <a:pt x="4" y="18"/>
                  </a:lnTo>
                  <a:lnTo>
                    <a:pt x="10" y="8"/>
                  </a:lnTo>
                  <a:lnTo>
                    <a:pt x="20" y="0"/>
                  </a:lnTo>
                  <a:lnTo>
                    <a:pt x="38" y="4"/>
                  </a:lnTo>
                  <a:lnTo>
                    <a:pt x="44" y="16"/>
                  </a:lnTo>
                  <a:lnTo>
                    <a:pt x="42" y="34"/>
                  </a:lnTo>
                  <a:lnTo>
                    <a:pt x="50" y="44"/>
                  </a:lnTo>
                  <a:lnTo>
                    <a:pt x="60" y="52"/>
                  </a:lnTo>
                  <a:lnTo>
                    <a:pt x="78" y="56"/>
                  </a:lnTo>
                  <a:lnTo>
                    <a:pt x="96" y="66"/>
                  </a:lnTo>
                  <a:lnTo>
                    <a:pt x="111" y="78"/>
                  </a:lnTo>
                  <a:lnTo>
                    <a:pt x="141" y="117"/>
                  </a:lnTo>
                  <a:close/>
                </a:path>
              </a:pathLst>
            </a:custGeom>
            <a:solidFill>
              <a:srgbClr val="00ff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" name="Freeform 12"/>
          <p:cNvSpPr/>
          <p:nvPr/>
        </p:nvSpPr>
        <p:spPr>
          <a:xfrm>
            <a:off x="3048120" y="2911320"/>
            <a:ext cx="734760" cy="900360"/>
          </a:xfrm>
          <a:custGeom>
            <a:avLst/>
            <a:gdLst>
              <a:gd name="textAreaLeft" fmla="*/ 0 w 734760"/>
              <a:gd name="textAreaRight" fmla="*/ 735120 w 734760"/>
              <a:gd name="textAreaTop" fmla="*/ 0 h 900360"/>
              <a:gd name="textAreaBottom" fmla="*/ 900720 h 900360"/>
            </a:gdLst>
            <a:ahLst/>
            <a:rect l="textAreaLeft" t="textAreaTop" r="textAreaRight" b="textAreaBottom"/>
            <a:pathLst>
              <a:path w="926" h="1133">
                <a:moveTo>
                  <a:pt x="345" y="41"/>
                </a:moveTo>
                <a:lnTo>
                  <a:pt x="355" y="53"/>
                </a:lnTo>
                <a:lnTo>
                  <a:pt x="376" y="63"/>
                </a:lnTo>
                <a:lnTo>
                  <a:pt x="402" y="71"/>
                </a:lnTo>
                <a:lnTo>
                  <a:pt x="422" y="81"/>
                </a:lnTo>
                <a:lnTo>
                  <a:pt x="436" y="101"/>
                </a:lnTo>
                <a:lnTo>
                  <a:pt x="450" y="119"/>
                </a:lnTo>
                <a:lnTo>
                  <a:pt x="470" y="137"/>
                </a:lnTo>
                <a:lnTo>
                  <a:pt x="492" y="145"/>
                </a:lnTo>
                <a:lnTo>
                  <a:pt x="519" y="151"/>
                </a:lnTo>
                <a:lnTo>
                  <a:pt x="525" y="170"/>
                </a:lnTo>
                <a:lnTo>
                  <a:pt x="519" y="200"/>
                </a:lnTo>
                <a:lnTo>
                  <a:pt x="521" y="228"/>
                </a:lnTo>
                <a:lnTo>
                  <a:pt x="525" y="260"/>
                </a:lnTo>
                <a:lnTo>
                  <a:pt x="521" y="282"/>
                </a:lnTo>
                <a:lnTo>
                  <a:pt x="525" y="305"/>
                </a:lnTo>
                <a:lnTo>
                  <a:pt x="537" y="315"/>
                </a:lnTo>
                <a:lnTo>
                  <a:pt x="559" y="313"/>
                </a:lnTo>
                <a:lnTo>
                  <a:pt x="581" y="315"/>
                </a:lnTo>
                <a:lnTo>
                  <a:pt x="589" y="333"/>
                </a:lnTo>
                <a:lnTo>
                  <a:pt x="583" y="353"/>
                </a:lnTo>
                <a:lnTo>
                  <a:pt x="587" y="375"/>
                </a:lnTo>
                <a:lnTo>
                  <a:pt x="599" y="391"/>
                </a:lnTo>
                <a:lnTo>
                  <a:pt x="614" y="413"/>
                </a:lnTo>
                <a:lnTo>
                  <a:pt x="620" y="431"/>
                </a:lnTo>
                <a:lnTo>
                  <a:pt x="612" y="454"/>
                </a:lnTo>
                <a:lnTo>
                  <a:pt x="611" y="484"/>
                </a:lnTo>
                <a:lnTo>
                  <a:pt x="614" y="508"/>
                </a:lnTo>
                <a:lnTo>
                  <a:pt x="626" y="532"/>
                </a:lnTo>
                <a:lnTo>
                  <a:pt x="646" y="550"/>
                </a:lnTo>
                <a:lnTo>
                  <a:pt x="670" y="562"/>
                </a:lnTo>
                <a:lnTo>
                  <a:pt x="700" y="566"/>
                </a:lnTo>
                <a:lnTo>
                  <a:pt x="722" y="560"/>
                </a:lnTo>
                <a:lnTo>
                  <a:pt x="743" y="552"/>
                </a:lnTo>
                <a:lnTo>
                  <a:pt x="765" y="560"/>
                </a:lnTo>
                <a:lnTo>
                  <a:pt x="779" y="577"/>
                </a:lnTo>
                <a:lnTo>
                  <a:pt x="799" y="591"/>
                </a:lnTo>
                <a:lnTo>
                  <a:pt x="823" y="597"/>
                </a:lnTo>
                <a:lnTo>
                  <a:pt x="843" y="613"/>
                </a:lnTo>
                <a:lnTo>
                  <a:pt x="864" y="621"/>
                </a:lnTo>
                <a:lnTo>
                  <a:pt x="886" y="635"/>
                </a:lnTo>
                <a:lnTo>
                  <a:pt x="898" y="657"/>
                </a:lnTo>
                <a:lnTo>
                  <a:pt x="908" y="681"/>
                </a:lnTo>
                <a:lnTo>
                  <a:pt x="904" y="703"/>
                </a:lnTo>
                <a:lnTo>
                  <a:pt x="912" y="718"/>
                </a:lnTo>
                <a:lnTo>
                  <a:pt x="926" y="738"/>
                </a:lnTo>
                <a:lnTo>
                  <a:pt x="924" y="758"/>
                </a:lnTo>
                <a:lnTo>
                  <a:pt x="910" y="774"/>
                </a:lnTo>
                <a:lnTo>
                  <a:pt x="896" y="800"/>
                </a:lnTo>
                <a:lnTo>
                  <a:pt x="878" y="814"/>
                </a:lnTo>
                <a:lnTo>
                  <a:pt x="864" y="830"/>
                </a:lnTo>
                <a:lnTo>
                  <a:pt x="845" y="828"/>
                </a:lnTo>
                <a:lnTo>
                  <a:pt x="821" y="824"/>
                </a:lnTo>
                <a:lnTo>
                  <a:pt x="797" y="808"/>
                </a:lnTo>
                <a:lnTo>
                  <a:pt x="777" y="802"/>
                </a:lnTo>
                <a:lnTo>
                  <a:pt x="757" y="810"/>
                </a:lnTo>
                <a:lnTo>
                  <a:pt x="731" y="806"/>
                </a:lnTo>
                <a:lnTo>
                  <a:pt x="710" y="814"/>
                </a:lnTo>
                <a:lnTo>
                  <a:pt x="694" y="830"/>
                </a:lnTo>
                <a:lnTo>
                  <a:pt x="664" y="838"/>
                </a:lnTo>
                <a:lnTo>
                  <a:pt x="638" y="832"/>
                </a:lnTo>
                <a:lnTo>
                  <a:pt x="609" y="840"/>
                </a:lnTo>
                <a:lnTo>
                  <a:pt x="585" y="855"/>
                </a:lnTo>
                <a:lnTo>
                  <a:pt x="555" y="865"/>
                </a:lnTo>
                <a:lnTo>
                  <a:pt x="535" y="887"/>
                </a:lnTo>
                <a:lnTo>
                  <a:pt x="531" y="917"/>
                </a:lnTo>
                <a:lnTo>
                  <a:pt x="521" y="937"/>
                </a:lnTo>
                <a:lnTo>
                  <a:pt x="519" y="959"/>
                </a:lnTo>
                <a:lnTo>
                  <a:pt x="531" y="971"/>
                </a:lnTo>
                <a:lnTo>
                  <a:pt x="537" y="992"/>
                </a:lnTo>
                <a:lnTo>
                  <a:pt x="553" y="1016"/>
                </a:lnTo>
                <a:lnTo>
                  <a:pt x="569" y="1038"/>
                </a:lnTo>
                <a:lnTo>
                  <a:pt x="587" y="1062"/>
                </a:lnTo>
                <a:lnTo>
                  <a:pt x="577" y="1086"/>
                </a:lnTo>
                <a:lnTo>
                  <a:pt x="575" y="1110"/>
                </a:lnTo>
                <a:lnTo>
                  <a:pt x="561" y="1129"/>
                </a:lnTo>
                <a:lnTo>
                  <a:pt x="533" y="1118"/>
                </a:lnTo>
                <a:lnTo>
                  <a:pt x="515" y="1122"/>
                </a:lnTo>
                <a:lnTo>
                  <a:pt x="499" y="1133"/>
                </a:lnTo>
                <a:lnTo>
                  <a:pt x="490" y="1116"/>
                </a:lnTo>
                <a:lnTo>
                  <a:pt x="480" y="1086"/>
                </a:lnTo>
                <a:lnTo>
                  <a:pt x="456" y="1070"/>
                </a:lnTo>
                <a:lnTo>
                  <a:pt x="434" y="1064"/>
                </a:lnTo>
                <a:lnTo>
                  <a:pt x="402" y="1068"/>
                </a:lnTo>
                <a:lnTo>
                  <a:pt x="380" y="1072"/>
                </a:lnTo>
                <a:lnTo>
                  <a:pt x="357" y="1060"/>
                </a:lnTo>
                <a:lnTo>
                  <a:pt x="325" y="1048"/>
                </a:lnTo>
                <a:lnTo>
                  <a:pt x="295" y="1040"/>
                </a:lnTo>
                <a:lnTo>
                  <a:pt x="273" y="1042"/>
                </a:lnTo>
                <a:lnTo>
                  <a:pt x="246" y="1046"/>
                </a:lnTo>
                <a:lnTo>
                  <a:pt x="226" y="1032"/>
                </a:lnTo>
                <a:lnTo>
                  <a:pt x="216" y="1008"/>
                </a:lnTo>
                <a:lnTo>
                  <a:pt x="212" y="985"/>
                </a:lnTo>
                <a:lnTo>
                  <a:pt x="226" y="959"/>
                </a:lnTo>
                <a:lnTo>
                  <a:pt x="222" y="929"/>
                </a:lnTo>
                <a:lnTo>
                  <a:pt x="210" y="907"/>
                </a:lnTo>
                <a:lnTo>
                  <a:pt x="186" y="899"/>
                </a:lnTo>
                <a:lnTo>
                  <a:pt x="164" y="907"/>
                </a:lnTo>
                <a:lnTo>
                  <a:pt x="144" y="899"/>
                </a:lnTo>
                <a:lnTo>
                  <a:pt x="135" y="879"/>
                </a:lnTo>
                <a:lnTo>
                  <a:pt x="131" y="855"/>
                </a:lnTo>
                <a:lnTo>
                  <a:pt x="127" y="828"/>
                </a:lnTo>
                <a:lnTo>
                  <a:pt x="111" y="800"/>
                </a:lnTo>
                <a:lnTo>
                  <a:pt x="87" y="778"/>
                </a:lnTo>
                <a:lnTo>
                  <a:pt x="59" y="764"/>
                </a:lnTo>
                <a:lnTo>
                  <a:pt x="25" y="770"/>
                </a:lnTo>
                <a:lnTo>
                  <a:pt x="16" y="734"/>
                </a:lnTo>
                <a:lnTo>
                  <a:pt x="8" y="703"/>
                </a:lnTo>
                <a:lnTo>
                  <a:pt x="0" y="679"/>
                </a:lnTo>
                <a:lnTo>
                  <a:pt x="4" y="657"/>
                </a:lnTo>
                <a:lnTo>
                  <a:pt x="12" y="639"/>
                </a:lnTo>
                <a:lnTo>
                  <a:pt x="14" y="611"/>
                </a:lnTo>
                <a:lnTo>
                  <a:pt x="12" y="585"/>
                </a:lnTo>
                <a:lnTo>
                  <a:pt x="16" y="574"/>
                </a:lnTo>
                <a:lnTo>
                  <a:pt x="33" y="568"/>
                </a:lnTo>
                <a:lnTo>
                  <a:pt x="57" y="572"/>
                </a:lnTo>
                <a:lnTo>
                  <a:pt x="75" y="568"/>
                </a:lnTo>
                <a:lnTo>
                  <a:pt x="95" y="558"/>
                </a:lnTo>
                <a:lnTo>
                  <a:pt x="111" y="540"/>
                </a:lnTo>
                <a:lnTo>
                  <a:pt x="103" y="514"/>
                </a:lnTo>
                <a:lnTo>
                  <a:pt x="105" y="490"/>
                </a:lnTo>
                <a:lnTo>
                  <a:pt x="115" y="464"/>
                </a:lnTo>
                <a:lnTo>
                  <a:pt x="125" y="438"/>
                </a:lnTo>
                <a:lnTo>
                  <a:pt x="133" y="407"/>
                </a:lnTo>
                <a:lnTo>
                  <a:pt x="135" y="373"/>
                </a:lnTo>
                <a:lnTo>
                  <a:pt x="131" y="339"/>
                </a:lnTo>
                <a:lnTo>
                  <a:pt x="137" y="315"/>
                </a:lnTo>
                <a:lnTo>
                  <a:pt x="144" y="296"/>
                </a:lnTo>
                <a:lnTo>
                  <a:pt x="142" y="270"/>
                </a:lnTo>
                <a:lnTo>
                  <a:pt x="127" y="222"/>
                </a:lnTo>
                <a:lnTo>
                  <a:pt x="119" y="200"/>
                </a:lnTo>
                <a:lnTo>
                  <a:pt x="113" y="184"/>
                </a:lnTo>
                <a:lnTo>
                  <a:pt x="109" y="166"/>
                </a:lnTo>
                <a:lnTo>
                  <a:pt x="91" y="143"/>
                </a:lnTo>
                <a:lnTo>
                  <a:pt x="107" y="121"/>
                </a:lnTo>
                <a:lnTo>
                  <a:pt x="129" y="111"/>
                </a:lnTo>
                <a:lnTo>
                  <a:pt x="148" y="115"/>
                </a:lnTo>
                <a:lnTo>
                  <a:pt x="170" y="103"/>
                </a:lnTo>
                <a:lnTo>
                  <a:pt x="190" y="93"/>
                </a:lnTo>
                <a:lnTo>
                  <a:pt x="202" y="87"/>
                </a:lnTo>
                <a:lnTo>
                  <a:pt x="226" y="81"/>
                </a:lnTo>
                <a:lnTo>
                  <a:pt x="244" y="93"/>
                </a:lnTo>
                <a:lnTo>
                  <a:pt x="261" y="93"/>
                </a:lnTo>
                <a:lnTo>
                  <a:pt x="277" y="87"/>
                </a:lnTo>
                <a:lnTo>
                  <a:pt x="287" y="71"/>
                </a:lnTo>
                <a:lnTo>
                  <a:pt x="299" y="51"/>
                </a:lnTo>
                <a:lnTo>
                  <a:pt x="301" y="35"/>
                </a:lnTo>
                <a:lnTo>
                  <a:pt x="303" y="24"/>
                </a:lnTo>
                <a:lnTo>
                  <a:pt x="303" y="0"/>
                </a:lnTo>
                <a:lnTo>
                  <a:pt x="315" y="4"/>
                </a:lnTo>
                <a:lnTo>
                  <a:pt x="337" y="20"/>
                </a:lnTo>
                <a:lnTo>
                  <a:pt x="345" y="41"/>
                </a:lnTo>
                <a:close/>
              </a:path>
            </a:pathLst>
          </a:custGeom>
          <a:solidFill>
            <a:srgbClr val="ef91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Freeform 13"/>
          <p:cNvSpPr/>
          <p:nvPr/>
        </p:nvSpPr>
        <p:spPr>
          <a:xfrm>
            <a:off x="3052800" y="3772080"/>
            <a:ext cx="712800" cy="587160"/>
          </a:xfrm>
          <a:custGeom>
            <a:avLst/>
            <a:gdLst>
              <a:gd name="textAreaLeft" fmla="*/ 0 w 712800"/>
              <a:gd name="textAreaRight" fmla="*/ 713160 w 712800"/>
              <a:gd name="textAreaTop" fmla="*/ 0 h 587160"/>
              <a:gd name="textAreaBottom" fmla="*/ 587520 h 587160"/>
            </a:gdLst>
            <a:ahLst/>
            <a:rect l="textAreaLeft" t="textAreaTop" r="textAreaRight" b="textAreaBottom"/>
            <a:pathLst>
              <a:path w="898" h="741">
                <a:moveTo>
                  <a:pt x="797" y="322"/>
                </a:moveTo>
                <a:lnTo>
                  <a:pt x="795" y="346"/>
                </a:lnTo>
                <a:lnTo>
                  <a:pt x="781" y="365"/>
                </a:lnTo>
                <a:lnTo>
                  <a:pt x="753" y="354"/>
                </a:lnTo>
                <a:lnTo>
                  <a:pt x="735" y="358"/>
                </a:lnTo>
                <a:lnTo>
                  <a:pt x="719" y="369"/>
                </a:lnTo>
                <a:lnTo>
                  <a:pt x="710" y="352"/>
                </a:lnTo>
                <a:lnTo>
                  <a:pt x="700" y="322"/>
                </a:lnTo>
                <a:lnTo>
                  <a:pt x="676" y="306"/>
                </a:lnTo>
                <a:lnTo>
                  <a:pt x="654" y="300"/>
                </a:lnTo>
                <a:lnTo>
                  <a:pt x="622" y="304"/>
                </a:lnTo>
                <a:lnTo>
                  <a:pt x="600" y="308"/>
                </a:lnTo>
                <a:lnTo>
                  <a:pt x="577" y="296"/>
                </a:lnTo>
                <a:lnTo>
                  <a:pt x="545" y="284"/>
                </a:lnTo>
                <a:lnTo>
                  <a:pt x="515" y="276"/>
                </a:lnTo>
                <a:lnTo>
                  <a:pt x="493" y="278"/>
                </a:lnTo>
                <a:lnTo>
                  <a:pt x="466" y="282"/>
                </a:lnTo>
                <a:lnTo>
                  <a:pt x="446" y="268"/>
                </a:lnTo>
                <a:lnTo>
                  <a:pt x="436" y="244"/>
                </a:lnTo>
                <a:lnTo>
                  <a:pt x="432" y="221"/>
                </a:lnTo>
                <a:lnTo>
                  <a:pt x="446" y="195"/>
                </a:lnTo>
                <a:lnTo>
                  <a:pt x="442" y="165"/>
                </a:lnTo>
                <a:lnTo>
                  <a:pt x="430" y="143"/>
                </a:lnTo>
                <a:lnTo>
                  <a:pt x="406" y="135"/>
                </a:lnTo>
                <a:lnTo>
                  <a:pt x="384" y="143"/>
                </a:lnTo>
                <a:lnTo>
                  <a:pt x="364" y="135"/>
                </a:lnTo>
                <a:lnTo>
                  <a:pt x="355" y="115"/>
                </a:lnTo>
                <a:lnTo>
                  <a:pt x="351" y="91"/>
                </a:lnTo>
                <a:lnTo>
                  <a:pt x="347" y="64"/>
                </a:lnTo>
                <a:lnTo>
                  <a:pt x="331" y="36"/>
                </a:lnTo>
                <a:lnTo>
                  <a:pt x="307" y="14"/>
                </a:lnTo>
                <a:lnTo>
                  <a:pt x="279" y="0"/>
                </a:lnTo>
                <a:lnTo>
                  <a:pt x="245" y="6"/>
                </a:lnTo>
                <a:lnTo>
                  <a:pt x="251" y="30"/>
                </a:lnTo>
                <a:lnTo>
                  <a:pt x="245" y="46"/>
                </a:lnTo>
                <a:lnTo>
                  <a:pt x="226" y="58"/>
                </a:lnTo>
                <a:lnTo>
                  <a:pt x="208" y="54"/>
                </a:lnTo>
                <a:lnTo>
                  <a:pt x="192" y="34"/>
                </a:lnTo>
                <a:lnTo>
                  <a:pt x="168" y="48"/>
                </a:lnTo>
                <a:lnTo>
                  <a:pt x="160" y="68"/>
                </a:lnTo>
                <a:lnTo>
                  <a:pt x="138" y="84"/>
                </a:lnTo>
                <a:lnTo>
                  <a:pt x="124" y="101"/>
                </a:lnTo>
                <a:lnTo>
                  <a:pt x="101" y="117"/>
                </a:lnTo>
                <a:lnTo>
                  <a:pt x="73" y="129"/>
                </a:lnTo>
                <a:lnTo>
                  <a:pt x="43" y="127"/>
                </a:lnTo>
                <a:lnTo>
                  <a:pt x="11" y="133"/>
                </a:lnTo>
                <a:lnTo>
                  <a:pt x="21" y="159"/>
                </a:lnTo>
                <a:lnTo>
                  <a:pt x="31" y="183"/>
                </a:lnTo>
                <a:lnTo>
                  <a:pt x="51" y="195"/>
                </a:lnTo>
                <a:lnTo>
                  <a:pt x="63" y="213"/>
                </a:lnTo>
                <a:lnTo>
                  <a:pt x="73" y="234"/>
                </a:lnTo>
                <a:lnTo>
                  <a:pt x="95" y="236"/>
                </a:lnTo>
                <a:lnTo>
                  <a:pt x="107" y="260"/>
                </a:lnTo>
                <a:lnTo>
                  <a:pt x="91" y="280"/>
                </a:lnTo>
                <a:lnTo>
                  <a:pt x="73" y="290"/>
                </a:lnTo>
                <a:lnTo>
                  <a:pt x="59" y="306"/>
                </a:lnTo>
                <a:lnTo>
                  <a:pt x="63" y="334"/>
                </a:lnTo>
                <a:lnTo>
                  <a:pt x="69" y="362"/>
                </a:lnTo>
                <a:lnTo>
                  <a:pt x="47" y="367"/>
                </a:lnTo>
                <a:lnTo>
                  <a:pt x="33" y="383"/>
                </a:lnTo>
                <a:lnTo>
                  <a:pt x="27" y="409"/>
                </a:lnTo>
                <a:lnTo>
                  <a:pt x="37" y="427"/>
                </a:lnTo>
                <a:lnTo>
                  <a:pt x="17" y="447"/>
                </a:lnTo>
                <a:lnTo>
                  <a:pt x="5" y="469"/>
                </a:lnTo>
                <a:lnTo>
                  <a:pt x="0" y="493"/>
                </a:lnTo>
                <a:lnTo>
                  <a:pt x="4" y="516"/>
                </a:lnTo>
                <a:lnTo>
                  <a:pt x="19" y="536"/>
                </a:lnTo>
                <a:lnTo>
                  <a:pt x="39" y="526"/>
                </a:lnTo>
                <a:lnTo>
                  <a:pt x="57" y="536"/>
                </a:lnTo>
                <a:lnTo>
                  <a:pt x="65" y="558"/>
                </a:lnTo>
                <a:lnTo>
                  <a:pt x="55" y="580"/>
                </a:lnTo>
                <a:lnTo>
                  <a:pt x="57" y="602"/>
                </a:lnTo>
                <a:lnTo>
                  <a:pt x="59" y="606"/>
                </a:lnTo>
                <a:lnTo>
                  <a:pt x="79" y="600"/>
                </a:lnTo>
                <a:lnTo>
                  <a:pt x="109" y="592"/>
                </a:lnTo>
                <a:lnTo>
                  <a:pt x="132" y="600"/>
                </a:lnTo>
                <a:lnTo>
                  <a:pt x="148" y="622"/>
                </a:lnTo>
                <a:lnTo>
                  <a:pt x="162" y="645"/>
                </a:lnTo>
                <a:lnTo>
                  <a:pt x="186" y="663"/>
                </a:lnTo>
                <a:lnTo>
                  <a:pt x="212" y="675"/>
                </a:lnTo>
                <a:lnTo>
                  <a:pt x="224" y="695"/>
                </a:lnTo>
                <a:lnTo>
                  <a:pt x="230" y="721"/>
                </a:lnTo>
                <a:lnTo>
                  <a:pt x="247" y="737"/>
                </a:lnTo>
                <a:lnTo>
                  <a:pt x="277" y="741"/>
                </a:lnTo>
                <a:lnTo>
                  <a:pt x="291" y="737"/>
                </a:lnTo>
                <a:lnTo>
                  <a:pt x="283" y="707"/>
                </a:lnTo>
                <a:lnTo>
                  <a:pt x="299" y="689"/>
                </a:lnTo>
                <a:lnTo>
                  <a:pt x="321" y="685"/>
                </a:lnTo>
                <a:lnTo>
                  <a:pt x="349" y="693"/>
                </a:lnTo>
                <a:lnTo>
                  <a:pt x="372" y="703"/>
                </a:lnTo>
                <a:lnTo>
                  <a:pt x="390" y="697"/>
                </a:lnTo>
                <a:lnTo>
                  <a:pt x="402" y="715"/>
                </a:lnTo>
                <a:lnTo>
                  <a:pt x="414" y="727"/>
                </a:lnTo>
                <a:lnTo>
                  <a:pt x="434" y="731"/>
                </a:lnTo>
                <a:lnTo>
                  <a:pt x="446" y="719"/>
                </a:lnTo>
                <a:lnTo>
                  <a:pt x="438" y="687"/>
                </a:lnTo>
                <a:lnTo>
                  <a:pt x="428" y="655"/>
                </a:lnTo>
                <a:lnTo>
                  <a:pt x="428" y="632"/>
                </a:lnTo>
                <a:lnTo>
                  <a:pt x="446" y="608"/>
                </a:lnTo>
                <a:lnTo>
                  <a:pt x="468" y="598"/>
                </a:lnTo>
                <a:lnTo>
                  <a:pt x="489" y="602"/>
                </a:lnTo>
                <a:lnTo>
                  <a:pt x="511" y="618"/>
                </a:lnTo>
                <a:lnTo>
                  <a:pt x="515" y="636"/>
                </a:lnTo>
                <a:lnTo>
                  <a:pt x="513" y="657"/>
                </a:lnTo>
                <a:lnTo>
                  <a:pt x="523" y="675"/>
                </a:lnTo>
                <a:lnTo>
                  <a:pt x="543" y="679"/>
                </a:lnTo>
                <a:lnTo>
                  <a:pt x="563" y="675"/>
                </a:lnTo>
                <a:lnTo>
                  <a:pt x="581" y="667"/>
                </a:lnTo>
                <a:lnTo>
                  <a:pt x="608" y="675"/>
                </a:lnTo>
                <a:lnTo>
                  <a:pt x="632" y="683"/>
                </a:lnTo>
                <a:lnTo>
                  <a:pt x="654" y="671"/>
                </a:lnTo>
                <a:lnTo>
                  <a:pt x="664" y="669"/>
                </a:lnTo>
                <a:lnTo>
                  <a:pt x="672" y="628"/>
                </a:lnTo>
                <a:lnTo>
                  <a:pt x="670" y="608"/>
                </a:lnTo>
                <a:lnTo>
                  <a:pt x="674" y="584"/>
                </a:lnTo>
                <a:lnTo>
                  <a:pt x="690" y="568"/>
                </a:lnTo>
                <a:lnTo>
                  <a:pt x="721" y="564"/>
                </a:lnTo>
                <a:lnTo>
                  <a:pt x="751" y="556"/>
                </a:lnTo>
                <a:lnTo>
                  <a:pt x="773" y="542"/>
                </a:lnTo>
                <a:lnTo>
                  <a:pt x="787" y="518"/>
                </a:lnTo>
                <a:lnTo>
                  <a:pt x="785" y="487"/>
                </a:lnTo>
                <a:lnTo>
                  <a:pt x="777" y="459"/>
                </a:lnTo>
                <a:lnTo>
                  <a:pt x="791" y="435"/>
                </a:lnTo>
                <a:lnTo>
                  <a:pt x="817" y="433"/>
                </a:lnTo>
                <a:lnTo>
                  <a:pt x="838" y="423"/>
                </a:lnTo>
                <a:lnTo>
                  <a:pt x="850" y="399"/>
                </a:lnTo>
                <a:lnTo>
                  <a:pt x="872" y="389"/>
                </a:lnTo>
                <a:lnTo>
                  <a:pt x="890" y="383"/>
                </a:lnTo>
                <a:lnTo>
                  <a:pt x="898" y="371"/>
                </a:lnTo>
                <a:lnTo>
                  <a:pt x="886" y="348"/>
                </a:lnTo>
                <a:lnTo>
                  <a:pt x="864" y="340"/>
                </a:lnTo>
                <a:lnTo>
                  <a:pt x="848" y="324"/>
                </a:lnTo>
                <a:lnTo>
                  <a:pt x="852" y="308"/>
                </a:lnTo>
                <a:lnTo>
                  <a:pt x="838" y="304"/>
                </a:lnTo>
                <a:lnTo>
                  <a:pt x="817" y="306"/>
                </a:lnTo>
                <a:lnTo>
                  <a:pt x="797" y="322"/>
                </a:lnTo>
                <a:close/>
              </a:path>
            </a:pathLst>
          </a:custGeom>
          <a:solidFill>
            <a:srgbClr val="ffff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Freeform 14"/>
          <p:cNvSpPr/>
          <p:nvPr/>
        </p:nvSpPr>
        <p:spPr>
          <a:xfrm>
            <a:off x="3902040" y="3699000"/>
            <a:ext cx="822240" cy="625320"/>
          </a:xfrm>
          <a:custGeom>
            <a:avLst/>
            <a:gdLst>
              <a:gd name="textAreaLeft" fmla="*/ 0 w 822240"/>
              <a:gd name="textAreaRight" fmla="*/ 822600 w 822240"/>
              <a:gd name="textAreaTop" fmla="*/ 0 h 625320"/>
              <a:gd name="textAreaBottom" fmla="*/ 625320 h 625320"/>
            </a:gdLst>
            <a:ahLst/>
            <a:rect l="textAreaLeft" t="textAreaTop" r="textAreaRight" b="textAreaBottom"/>
            <a:pathLst>
              <a:path w="1035" h="788">
                <a:moveTo>
                  <a:pt x="460" y="68"/>
                </a:moveTo>
                <a:lnTo>
                  <a:pt x="476" y="96"/>
                </a:lnTo>
                <a:lnTo>
                  <a:pt x="488" y="119"/>
                </a:lnTo>
                <a:lnTo>
                  <a:pt x="480" y="149"/>
                </a:lnTo>
                <a:lnTo>
                  <a:pt x="474" y="173"/>
                </a:lnTo>
                <a:lnTo>
                  <a:pt x="476" y="189"/>
                </a:lnTo>
                <a:lnTo>
                  <a:pt x="492" y="195"/>
                </a:lnTo>
                <a:lnTo>
                  <a:pt x="508" y="183"/>
                </a:lnTo>
                <a:lnTo>
                  <a:pt x="521" y="161"/>
                </a:lnTo>
                <a:lnTo>
                  <a:pt x="545" y="151"/>
                </a:lnTo>
                <a:lnTo>
                  <a:pt x="573" y="159"/>
                </a:lnTo>
                <a:lnTo>
                  <a:pt x="595" y="173"/>
                </a:lnTo>
                <a:lnTo>
                  <a:pt x="625" y="171"/>
                </a:lnTo>
                <a:lnTo>
                  <a:pt x="664" y="163"/>
                </a:lnTo>
                <a:lnTo>
                  <a:pt x="690" y="153"/>
                </a:lnTo>
                <a:lnTo>
                  <a:pt x="706" y="123"/>
                </a:lnTo>
                <a:lnTo>
                  <a:pt x="710" y="96"/>
                </a:lnTo>
                <a:lnTo>
                  <a:pt x="730" y="80"/>
                </a:lnTo>
                <a:lnTo>
                  <a:pt x="740" y="58"/>
                </a:lnTo>
                <a:lnTo>
                  <a:pt x="756" y="46"/>
                </a:lnTo>
                <a:lnTo>
                  <a:pt x="783" y="54"/>
                </a:lnTo>
                <a:lnTo>
                  <a:pt x="805" y="62"/>
                </a:lnTo>
                <a:lnTo>
                  <a:pt x="819" y="48"/>
                </a:lnTo>
                <a:lnTo>
                  <a:pt x="829" y="22"/>
                </a:lnTo>
                <a:lnTo>
                  <a:pt x="851" y="2"/>
                </a:lnTo>
                <a:lnTo>
                  <a:pt x="871" y="12"/>
                </a:lnTo>
                <a:lnTo>
                  <a:pt x="888" y="24"/>
                </a:lnTo>
                <a:lnTo>
                  <a:pt x="910" y="14"/>
                </a:lnTo>
                <a:lnTo>
                  <a:pt x="940" y="12"/>
                </a:lnTo>
                <a:lnTo>
                  <a:pt x="954" y="0"/>
                </a:lnTo>
                <a:lnTo>
                  <a:pt x="952" y="24"/>
                </a:lnTo>
                <a:lnTo>
                  <a:pt x="968" y="40"/>
                </a:lnTo>
                <a:lnTo>
                  <a:pt x="993" y="60"/>
                </a:lnTo>
                <a:lnTo>
                  <a:pt x="1015" y="76"/>
                </a:lnTo>
                <a:lnTo>
                  <a:pt x="1013" y="105"/>
                </a:lnTo>
                <a:lnTo>
                  <a:pt x="1015" y="131"/>
                </a:lnTo>
                <a:lnTo>
                  <a:pt x="1031" y="159"/>
                </a:lnTo>
                <a:lnTo>
                  <a:pt x="1035" y="189"/>
                </a:lnTo>
                <a:lnTo>
                  <a:pt x="1027" y="219"/>
                </a:lnTo>
                <a:lnTo>
                  <a:pt x="1011" y="264"/>
                </a:lnTo>
                <a:lnTo>
                  <a:pt x="1005" y="302"/>
                </a:lnTo>
                <a:lnTo>
                  <a:pt x="1001" y="340"/>
                </a:lnTo>
                <a:lnTo>
                  <a:pt x="992" y="362"/>
                </a:lnTo>
                <a:lnTo>
                  <a:pt x="974" y="377"/>
                </a:lnTo>
                <a:lnTo>
                  <a:pt x="952" y="387"/>
                </a:lnTo>
                <a:lnTo>
                  <a:pt x="928" y="383"/>
                </a:lnTo>
                <a:lnTo>
                  <a:pt x="914" y="375"/>
                </a:lnTo>
                <a:lnTo>
                  <a:pt x="910" y="352"/>
                </a:lnTo>
                <a:lnTo>
                  <a:pt x="900" y="332"/>
                </a:lnTo>
                <a:lnTo>
                  <a:pt x="880" y="320"/>
                </a:lnTo>
                <a:lnTo>
                  <a:pt x="871" y="296"/>
                </a:lnTo>
                <a:lnTo>
                  <a:pt x="845" y="294"/>
                </a:lnTo>
                <a:lnTo>
                  <a:pt x="817" y="286"/>
                </a:lnTo>
                <a:lnTo>
                  <a:pt x="793" y="298"/>
                </a:lnTo>
                <a:lnTo>
                  <a:pt x="789" y="318"/>
                </a:lnTo>
                <a:lnTo>
                  <a:pt x="813" y="332"/>
                </a:lnTo>
                <a:lnTo>
                  <a:pt x="827" y="346"/>
                </a:lnTo>
                <a:lnTo>
                  <a:pt x="825" y="366"/>
                </a:lnTo>
                <a:lnTo>
                  <a:pt x="813" y="375"/>
                </a:lnTo>
                <a:lnTo>
                  <a:pt x="785" y="374"/>
                </a:lnTo>
                <a:lnTo>
                  <a:pt x="769" y="393"/>
                </a:lnTo>
                <a:lnTo>
                  <a:pt x="746" y="409"/>
                </a:lnTo>
                <a:lnTo>
                  <a:pt x="724" y="429"/>
                </a:lnTo>
                <a:lnTo>
                  <a:pt x="698" y="427"/>
                </a:lnTo>
                <a:lnTo>
                  <a:pt x="680" y="419"/>
                </a:lnTo>
                <a:lnTo>
                  <a:pt x="654" y="431"/>
                </a:lnTo>
                <a:lnTo>
                  <a:pt x="638" y="453"/>
                </a:lnTo>
                <a:lnTo>
                  <a:pt x="613" y="461"/>
                </a:lnTo>
                <a:lnTo>
                  <a:pt x="575" y="469"/>
                </a:lnTo>
                <a:lnTo>
                  <a:pt x="547" y="481"/>
                </a:lnTo>
                <a:lnTo>
                  <a:pt x="520" y="499"/>
                </a:lnTo>
                <a:lnTo>
                  <a:pt x="504" y="524"/>
                </a:lnTo>
                <a:lnTo>
                  <a:pt x="486" y="544"/>
                </a:lnTo>
                <a:lnTo>
                  <a:pt x="464" y="548"/>
                </a:lnTo>
                <a:lnTo>
                  <a:pt x="440" y="562"/>
                </a:lnTo>
                <a:lnTo>
                  <a:pt x="422" y="584"/>
                </a:lnTo>
                <a:lnTo>
                  <a:pt x="397" y="596"/>
                </a:lnTo>
                <a:lnTo>
                  <a:pt x="373" y="610"/>
                </a:lnTo>
                <a:lnTo>
                  <a:pt x="361" y="634"/>
                </a:lnTo>
                <a:lnTo>
                  <a:pt x="349" y="657"/>
                </a:lnTo>
                <a:lnTo>
                  <a:pt x="329" y="667"/>
                </a:lnTo>
                <a:lnTo>
                  <a:pt x="311" y="661"/>
                </a:lnTo>
                <a:lnTo>
                  <a:pt x="289" y="649"/>
                </a:lnTo>
                <a:lnTo>
                  <a:pt x="270" y="657"/>
                </a:lnTo>
                <a:lnTo>
                  <a:pt x="262" y="675"/>
                </a:lnTo>
                <a:lnTo>
                  <a:pt x="240" y="671"/>
                </a:lnTo>
                <a:lnTo>
                  <a:pt x="222" y="683"/>
                </a:lnTo>
                <a:lnTo>
                  <a:pt x="210" y="705"/>
                </a:lnTo>
                <a:lnTo>
                  <a:pt x="194" y="711"/>
                </a:lnTo>
                <a:lnTo>
                  <a:pt x="172" y="719"/>
                </a:lnTo>
                <a:lnTo>
                  <a:pt x="165" y="743"/>
                </a:lnTo>
                <a:lnTo>
                  <a:pt x="170" y="767"/>
                </a:lnTo>
                <a:lnTo>
                  <a:pt x="172" y="788"/>
                </a:lnTo>
                <a:lnTo>
                  <a:pt x="145" y="785"/>
                </a:lnTo>
                <a:lnTo>
                  <a:pt x="121" y="765"/>
                </a:lnTo>
                <a:lnTo>
                  <a:pt x="101" y="759"/>
                </a:lnTo>
                <a:lnTo>
                  <a:pt x="79" y="743"/>
                </a:lnTo>
                <a:lnTo>
                  <a:pt x="57" y="739"/>
                </a:lnTo>
                <a:lnTo>
                  <a:pt x="40" y="721"/>
                </a:lnTo>
                <a:lnTo>
                  <a:pt x="24" y="697"/>
                </a:lnTo>
                <a:lnTo>
                  <a:pt x="6" y="681"/>
                </a:lnTo>
                <a:lnTo>
                  <a:pt x="0" y="681"/>
                </a:lnTo>
                <a:lnTo>
                  <a:pt x="8" y="644"/>
                </a:lnTo>
                <a:lnTo>
                  <a:pt x="6" y="620"/>
                </a:lnTo>
                <a:lnTo>
                  <a:pt x="10" y="596"/>
                </a:lnTo>
                <a:lnTo>
                  <a:pt x="26" y="580"/>
                </a:lnTo>
                <a:lnTo>
                  <a:pt x="57" y="574"/>
                </a:lnTo>
                <a:lnTo>
                  <a:pt x="87" y="568"/>
                </a:lnTo>
                <a:lnTo>
                  <a:pt x="109" y="552"/>
                </a:lnTo>
                <a:lnTo>
                  <a:pt x="123" y="530"/>
                </a:lnTo>
                <a:lnTo>
                  <a:pt x="121" y="505"/>
                </a:lnTo>
                <a:lnTo>
                  <a:pt x="117" y="487"/>
                </a:lnTo>
                <a:lnTo>
                  <a:pt x="113" y="473"/>
                </a:lnTo>
                <a:lnTo>
                  <a:pt x="127" y="447"/>
                </a:lnTo>
                <a:lnTo>
                  <a:pt x="153" y="445"/>
                </a:lnTo>
                <a:lnTo>
                  <a:pt x="174" y="435"/>
                </a:lnTo>
                <a:lnTo>
                  <a:pt x="186" y="411"/>
                </a:lnTo>
                <a:lnTo>
                  <a:pt x="210" y="399"/>
                </a:lnTo>
                <a:lnTo>
                  <a:pt x="226" y="395"/>
                </a:lnTo>
                <a:lnTo>
                  <a:pt x="234" y="381"/>
                </a:lnTo>
                <a:lnTo>
                  <a:pt x="222" y="360"/>
                </a:lnTo>
                <a:lnTo>
                  <a:pt x="200" y="354"/>
                </a:lnTo>
                <a:lnTo>
                  <a:pt x="184" y="336"/>
                </a:lnTo>
                <a:lnTo>
                  <a:pt x="188" y="320"/>
                </a:lnTo>
                <a:lnTo>
                  <a:pt x="172" y="316"/>
                </a:lnTo>
                <a:lnTo>
                  <a:pt x="153" y="318"/>
                </a:lnTo>
                <a:lnTo>
                  <a:pt x="133" y="334"/>
                </a:lnTo>
                <a:lnTo>
                  <a:pt x="143" y="310"/>
                </a:lnTo>
                <a:lnTo>
                  <a:pt x="127" y="290"/>
                </a:lnTo>
                <a:lnTo>
                  <a:pt x="109" y="264"/>
                </a:lnTo>
                <a:lnTo>
                  <a:pt x="91" y="240"/>
                </a:lnTo>
                <a:lnTo>
                  <a:pt x="87" y="219"/>
                </a:lnTo>
                <a:lnTo>
                  <a:pt x="75" y="207"/>
                </a:lnTo>
                <a:lnTo>
                  <a:pt x="77" y="185"/>
                </a:lnTo>
                <a:lnTo>
                  <a:pt x="87" y="165"/>
                </a:lnTo>
                <a:lnTo>
                  <a:pt x="91" y="135"/>
                </a:lnTo>
                <a:lnTo>
                  <a:pt x="111" y="113"/>
                </a:lnTo>
                <a:lnTo>
                  <a:pt x="139" y="103"/>
                </a:lnTo>
                <a:lnTo>
                  <a:pt x="163" y="88"/>
                </a:lnTo>
                <a:lnTo>
                  <a:pt x="194" y="80"/>
                </a:lnTo>
                <a:lnTo>
                  <a:pt x="220" y="86"/>
                </a:lnTo>
                <a:lnTo>
                  <a:pt x="250" y="78"/>
                </a:lnTo>
                <a:lnTo>
                  <a:pt x="264" y="64"/>
                </a:lnTo>
                <a:lnTo>
                  <a:pt x="287" y="54"/>
                </a:lnTo>
                <a:lnTo>
                  <a:pt x="313" y="58"/>
                </a:lnTo>
                <a:lnTo>
                  <a:pt x="333" y="50"/>
                </a:lnTo>
                <a:lnTo>
                  <a:pt x="351" y="54"/>
                </a:lnTo>
                <a:lnTo>
                  <a:pt x="377" y="72"/>
                </a:lnTo>
                <a:lnTo>
                  <a:pt x="397" y="74"/>
                </a:lnTo>
                <a:lnTo>
                  <a:pt x="420" y="78"/>
                </a:lnTo>
                <a:lnTo>
                  <a:pt x="436" y="60"/>
                </a:lnTo>
                <a:lnTo>
                  <a:pt x="452" y="48"/>
                </a:lnTo>
                <a:lnTo>
                  <a:pt x="460" y="68"/>
                </a:lnTo>
                <a:close/>
              </a:path>
            </a:pathLst>
          </a:custGeom>
          <a:solidFill>
            <a:srgbClr val="0000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Freeform 15"/>
          <p:cNvSpPr/>
          <p:nvPr/>
        </p:nvSpPr>
        <p:spPr>
          <a:xfrm>
            <a:off x="3110040" y="4424400"/>
            <a:ext cx="1360440" cy="1382760"/>
          </a:xfrm>
          <a:custGeom>
            <a:avLst/>
            <a:gdLst>
              <a:gd name="textAreaLeft" fmla="*/ 0 w 1360440"/>
              <a:gd name="textAreaRight" fmla="*/ 1360800 w 1360440"/>
              <a:gd name="textAreaTop" fmla="*/ 0 h 1382760"/>
              <a:gd name="textAreaBottom" fmla="*/ 1382760 h 1382760"/>
            </a:gdLst>
            <a:ahLst/>
            <a:rect l="textAreaLeft" t="textAreaTop" r="textAreaRight" b="textAreaBottom"/>
            <a:pathLst>
              <a:path w="1716" h="1741">
                <a:moveTo>
                  <a:pt x="395" y="16"/>
                </a:moveTo>
                <a:lnTo>
                  <a:pt x="415" y="8"/>
                </a:lnTo>
                <a:lnTo>
                  <a:pt x="445" y="0"/>
                </a:lnTo>
                <a:lnTo>
                  <a:pt x="470" y="8"/>
                </a:lnTo>
                <a:lnTo>
                  <a:pt x="484" y="30"/>
                </a:lnTo>
                <a:lnTo>
                  <a:pt x="498" y="53"/>
                </a:lnTo>
                <a:lnTo>
                  <a:pt x="522" y="71"/>
                </a:lnTo>
                <a:lnTo>
                  <a:pt x="548" y="83"/>
                </a:lnTo>
                <a:lnTo>
                  <a:pt x="560" y="103"/>
                </a:lnTo>
                <a:lnTo>
                  <a:pt x="566" y="129"/>
                </a:lnTo>
                <a:lnTo>
                  <a:pt x="583" y="145"/>
                </a:lnTo>
                <a:lnTo>
                  <a:pt x="613" y="149"/>
                </a:lnTo>
                <a:lnTo>
                  <a:pt x="627" y="145"/>
                </a:lnTo>
                <a:lnTo>
                  <a:pt x="619" y="115"/>
                </a:lnTo>
                <a:lnTo>
                  <a:pt x="635" y="97"/>
                </a:lnTo>
                <a:lnTo>
                  <a:pt x="657" y="93"/>
                </a:lnTo>
                <a:lnTo>
                  <a:pt x="685" y="101"/>
                </a:lnTo>
                <a:lnTo>
                  <a:pt x="708" y="111"/>
                </a:lnTo>
                <a:lnTo>
                  <a:pt x="726" y="105"/>
                </a:lnTo>
                <a:lnTo>
                  <a:pt x="738" y="123"/>
                </a:lnTo>
                <a:lnTo>
                  <a:pt x="750" y="135"/>
                </a:lnTo>
                <a:lnTo>
                  <a:pt x="770" y="139"/>
                </a:lnTo>
                <a:lnTo>
                  <a:pt x="782" y="127"/>
                </a:lnTo>
                <a:lnTo>
                  <a:pt x="774" y="95"/>
                </a:lnTo>
                <a:lnTo>
                  <a:pt x="764" y="63"/>
                </a:lnTo>
                <a:lnTo>
                  <a:pt x="764" y="40"/>
                </a:lnTo>
                <a:lnTo>
                  <a:pt x="782" y="16"/>
                </a:lnTo>
                <a:lnTo>
                  <a:pt x="804" y="6"/>
                </a:lnTo>
                <a:lnTo>
                  <a:pt x="825" y="10"/>
                </a:lnTo>
                <a:lnTo>
                  <a:pt x="847" y="26"/>
                </a:lnTo>
                <a:lnTo>
                  <a:pt x="851" y="44"/>
                </a:lnTo>
                <a:lnTo>
                  <a:pt x="849" y="65"/>
                </a:lnTo>
                <a:lnTo>
                  <a:pt x="859" y="83"/>
                </a:lnTo>
                <a:lnTo>
                  <a:pt x="879" y="87"/>
                </a:lnTo>
                <a:lnTo>
                  <a:pt x="899" y="83"/>
                </a:lnTo>
                <a:lnTo>
                  <a:pt x="917" y="75"/>
                </a:lnTo>
                <a:lnTo>
                  <a:pt x="944" y="83"/>
                </a:lnTo>
                <a:lnTo>
                  <a:pt x="968" y="91"/>
                </a:lnTo>
                <a:lnTo>
                  <a:pt x="990" y="79"/>
                </a:lnTo>
                <a:lnTo>
                  <a:pt x="1006" y="77"/>
                </a:lnTo>
                <a:lnTo>
                  <a:pt x="1022" y="93"/>
                </a:lnTo>
                <a:lnTo>
                  <a:pt x="1038" y="115"/>
                </a:lnTo>
                <a:lnTo>
                  <a:pt x="1055" y="133"/>
                </a:lnTo>
                <a:lnTo>
                  <a:pt x="1079" y="155"/>
                </a:lnTo>
                <a:lnTo>
                  <a:pt x="1085" y="179"/>
                </a:lnTo>
                <a:lnTo>
                  <a:pt x="1099" y="202"/>
                </a:lnTo>
                <a:lnTo>
                  <a:pt x="1111" y="224"/>
                </a:lnTo>
                <a:lnTo>
                  <a:pt x="1105" y="246"/>
                </a:lnTo>
                <a:lnTo>
                  <a:pt x="1131" y="250"/>
                </a:lnTo>
                <a:lnTo>
                  <a:pt x="1147" y="254"/>
                </a:lnTo>
                <a:lnTo>
                  <a:pt x="1159" y="274"/>
                </a:lnTo>
                <a:lnTo>
                  <a:pt x="1168" y="294"/>
                </a:lnTo>
                <a:lnTo>
                  <a:pt x="1190" y="304"/>
                </a:lnTo>
                <a:lnTo>
                  <a:pt x="1206" y="318"/>
                </a:lnTo>
                <a:lnTo>
                  <a:pt x="1224" y="339"/>
                </a:lnTo>
                <a:lnTo>
                  <a:pt x="1228" y="361"/>
                </a:lnTo>
                <a:lnTo>
                  <a:pt x="1218" y="381"/>
                </a:lnTo>
                <a:lnTo>
                  <a:pt x="1200" y="391"/>
                </a:lnTo>
                <a:lnTo>
                  <a:pt x="1190" y="413"/>
                </a:lnTo>
                <a:lnTo>
                  <a:pt x="1192" y="433"/>
                </a:lnTo>
                <a:lnTo>
                  <a:pt x="1208" y="447"/>
                </a:lnTo>
                <a:lnTo>
                  <a:pt x="1228" y="464"/>
                </a:lnTo>
                <a:lnTo>
                  <a:pt x="1230" y="490"/>
                </a:lnTo>
                <a:lnTo>
                  <a:pt x="1238" y="510"/>
                </a:lnTo>
                <a:lnTo>
                  <a:pt x="1260" y="520"/>
                </a:lnTo>
                <a:lnTo>
                  <a:pt x="1280" y="530"/>
                </a:lnTo>
                <a:lnTo>
                  <a:pt x="1295" y="552"/>
                </a:lnTo>
                <a:lnTo>
                  <a:pt x="1301" y="574"/>
                </a:lnTo>
                <a:lnTo>
                  <a:pt x="1309" y="592"/>
                </a:lnTo>
                <a:lnTo>
                  <a:pt x="1335" y="605"/>
                </a:lnTo>
                <a:lnTo>
                  <a:pt x="1357" y="609"/>
                </a:lnTo>
                <a:lnTo>
                  <a:pt x="1369" y="627"/>
                </a:lnTo>
                <a:lnTo>
                  <a:pt x="1393" y="619"/>
                </a:lnTo>
                <a:lnTo>
                  <a:pt x="1416" y="629"/>
                </a:lnTo>
                <a:lnTo>
                  <a:pt x="1436" y="645"/>
                </a:lnTo>
                <a:lnTo>
                  <a:pt x="1446" y="671"/>
                </a:lnTo>
                <a:lnTo>
                  <a:pt x="1462" y="695"/>
                </a:lnTo>
                <a:lnTo>
                  <a:pt x="1474" y="719"/>
                </a:lnTo>
                <a:lnTo>
                  <a:pt x="1490" y="738"/>
                </a:lnTo>
                <a:lnTo>
                  <a:pt x="1508" y="746"/>
                </a:lnTo>
                <a:lnTo>
                  <a:pt x="1529" y="746"/>
                </a:lnTo>
                <a:lnTo>
                  <a:pt x="1551" y="752"/>
                </a:lnTo>
                <a:lnTo>
                  <a:pt x="1561" y="774"/>
                </a:lnTo>
                <a:lnTo>
                  <a:pt x="1571" y="804"/>
                </a:lnTo>
                <a:lnTo>
                  <a:pt x="1593" y="824"/>
                </a:lnTo>
                <a:lnTo>
                  <a:pt x="1621" y="828"/>
                </a:lnTo>
                <a:lnTo>
                  <a:pt x="1644" y="846"/>
                </a:lnTo>
                <a:lnTo>
                  <a:pt x="1654" y="873"/>
                </a:lnTo>
                <a:lnTo>
                  <a:pt x="1672" y="895"/>
                </a:lnTo>
                <a:lnTo>
                  <a:pt x="1698" y="905"/>
                </a:lnTo>
                <a:lnTo>
                  <a:pt x="1716" y="935"/>
                </a:lnTo>
                <a:lnTo>
                  <a:pt x="1712" y="965"/>
                </a:lnTo>
                <a:lnTo>
                  <a:pt x="1706" y="999"/>
                </a:lnTo>
                <a:lnTo>
                  <a:pt x="1692" y="1026"/>
                </a:lnTo>
                <a:lnTo>
                  <a:pt x="1686" y="1052"/>
                </a:lnTo>
                <a:lnTo>
                  <a:pt x="1664" y="1034"/>
                </a:lnTo>
                <a:lnTo>
                  <a:pt x="1642" y="1026"/>
                </a:lnTo>
                <a:lnTo>
                  <a:pt x="1627" y="1040"/>
                </a:lnTo>
                <a:lnTo>
                  <a:pt x="1615" y="1058"/>
                </a:lnTo>
                <a:lnTo>
                  <a:pt x="1591" y="1052"/>
                </a:lnTo>
                <a:lnTo>
                  <a:pt x="1577" y="1076"/>
                </a:lnTo>
                <a:lnTo>
                  <a:pt x="1567" y="1110"/>
                </a:lnTo>
                <a:lnTo>
                  <a:pt x="1557" y="1142"/>
                </a:lnTo>
                <a:lnTo>
                  <a:pt x="1543" y="1167"/>
                </a:lnTo>
                <a:lnTo>
                  <a:pt x="1523" y="1185"/>
                </a:lnTo>
                <a:lnTo>
                  <a:pt x="1494" y="1193"/>
                </a:lnTo>
                <a:lnTo>
                  <a:pt x="1466" y="1197"/>
                </a:lnTo>
                <a:lnTo>
                  <a:pt x="1444" y="1211"/>
                </a:lnTo>
                <a:lnTo>
                  <a:pt x="1422" y="1223"/>
                </a:lnTo>
                <a:lnTo>
                  <a:pt x="1395" y="1219"/>
                </a:lnTo>
                <a:lnTo>
                  <a:pt x="1375" y="1231"/>
                </a:lnTo>
                <a:lnTo>
                  <a:pt x="1359" y="1253"/>
                </a:lnTo>
                <a:lnTo>
                  <a:pt x="1339" y="1269"/>
                </a:lnTo>
                <a:lnTo>
                  <a:pt x="1325" y="1290"/>
                </a:lnTo>
                <a:lnTo>
                  <a:pt x="1323" y="1314"/>
                </a:lnTo>
                <a:lnTo>
                  <a:pt x="1337" y="1340"/>
                </a:lnTo>
                <a:lnTo>
                  <a:pt x="1359" y="1364"/>
                </a:lnTo>
                <a:lnTo>
                  <a:pt x="1379" y="1390"/>
                </a:lnTo>
                <a:lnTo>
                  <a:pt x="1402" y="1412"/>
                </a:lnTo>
                <a:lnTo>
                  <a:pt x="1418" y="1437"/>
                </a:lnTo>
                <a:lnTo>
                  <a:pt x="1414" y="1465"/>
                </a:lnTo>
                <a:lnTo>
                  <a:pt x="1404" y="1491"/>
                </a:lnTo>
                <a:lnTo>
                  <a:pt x="1401" y="1509"/>
                </a:lnTo>
                <a:lnTo>
                  <a:pt x="1414" y="1523"/>
                </a:lnTo>
                <a:lnTo>
                  <a:pt x="1434" y="1533"/>
                </a:lnTo>
                <a:lnTo>
                  <a:pt x="1446" y="1557"/>
                </a:lnTo>
                <a:lnTo>
                  <a:pt x="1450" y="1588"/>
                </a:lnTo>
                <a:lnTo>
                  <a:pt x="1440" y="1614"/>
                </a:lnTo>
                <a:lnTo>
                  <a:pt x="1424" y="1622"/>
                </a:lnTo>
                <a:lnTo>
                  <a:pt x="1402" y="1614"/>
                </a:lnTo>
                <a:lnTo>
                  <a:pt x="1381" y="1604"/>
                </a:lnTo>
                <a:lnTo>
                  <a:pt x="1371" y="1588"/>
                </a:lnTo>
                <a:lnTo>
                  <a:pt x="1363" y="1564"/>
                </a:lnTo>
                <a:lnTo>
                  <a:pt x="1341" y="1549"/>
                </a:lnTo>
                <a:lnTo>
                  <a:pt x="1315" y="1547"/>
                </a:lnTo>
                <a:lnTo>
                  <a:pt x="1293" y="1555"/>
                </a:lnTo>
                <a:lnTo>
                  <a:pt x="1272" y="1566"/>
                </a:lnTo>
                <a:lnTo>
                  <a:pt x="1252" y="1549"/>
                </a:lnTo>
                <a:lnTo>
                  <a:pt x="1236" y="1535"/>
                </a:lnTo>
                <a:lnTo>
                  <a:pt x="1214" y="1537"/>
                </a:lnTo>
                <a:lnTo>
                  <a:pt x="1190" y="1535"/>
                </a:lnTo>
                <a:lnTo>
                  <a:pt x="1172" y="1523"/>
                </a:lnTo>
                <a:lnTo>
                  <a:pt x="1161" y="1501"/>
                </a:lnTo>
                <a:lnTo>
                  <a:pt x="1153" y="1483"/>
                </a:lnTo>
                <a:lnTo>
                  <a:pt x="1139" y="1495"/>
                </a:lnTo>
                <a:lnTo>
                  <a:pt x="1127" y="1509"/>
                </a:lnTo>
                <a:lnTo>
                  <a:pt x="1121" y="1527"/>
                </a:lnTo>
                <a:lnTo>
                  <a:pt x="1115" y="1547"/>
                </a:lnTo>
                <a:lnTo>
                  <a:pt x="1101" y="1557"/>
                </a:lnTo>
                <a:lnTo>
                  <a:pt x="1081" y="1564"/>
                </a:lnTo>
                <a:lnTo>
                  <a:pt x="1063" y="1576"/>
                </a:lnTo>
                <a:lnTo>
                  <a:pt x="1049" y="1592"/>
                </a:lnTo>
                <a:lnTo>
                  <a:pt x="1024" y="1596"/>
                </a:lnTo>
                <a:lnTo>
                  <a:pt x="996" y="1588"/>
                </a:lnTo>
                <a:lnTo>
                  <a:pt x="968" y="1590"/>
                </a:lnTo>
                <a:lnTo>
                  <a:pt x="952" y="1598"/>
                </a:lnTo>
                <a:lnTo>
                  <a:pt x="932" y="1610"/>
                </a:lnTo>
                <a:lnTo>
                  <a:pt x="915" y="1630"/>
                </a:lnTo>
                <a:lnTo>
                  <a:pt x="897" y="1642"/>
                </a:lnTo>
                <a:lnTo>
                  <a:pt x="859" y="1648"/>
                </a:lnTo>
                <a:lnTo>
                  <a:pt x="829" y="1646"/>
                </a:lnTo>
                <a:lnTo>
                  <a:pt x="802" y="1636"/>
                </a:lnTo>
                <a:lnTo>
                  <a:pt x="770" y="1646"/>
                </a:lnTo>
                <a:lnTo>
                  <a:pt x="746" y="1658"/>
                </a:lnTo>
                <a:lnTo>
                  <a:pt x="726" y="1664"/>
                </a:lnTo>
                <a:lnTo>
                  <a:pt x="714" y="1644"/>
                </a:lnTo>
                <a:lnTo>
                  <a:pt x="700" y="1624"/>
                </a:lnTo>
                <a:lnTo>
                  <a:pt x="671" y="1620"/>
                </a:lnTo>
                <a:lnTo>
                  <a:pt x="635" y="1610"/>
                </a:lnTo>
                <a:lnTo>
                  <a:pt x="603" y="1602"/>
                </a:lnTo>
                <a:lnTo>
                  <a:pt x="579" y="1604"/>
                </a:lnTo>
                <a:lnTo>
                  <a:pt x="558" y="1600"/>
                </a:lnTo>
                <a:lnTo>
                  <a:pt x="550" y="1580"/>
                </a:lnTo>
                <a:lnTo>
                  <a:pt x="532" y="1570"/>
                </a:lnTo>
                <a:lnTo>
                  <a:pt x="516" y="1578"/>
                </a:lnTo>
                <a:lnTo>
                  <a:pt x="514" y="1598"/>
                </a:lnTo>
                <a:lnTo>
                  <a:pt x="518" y="1614"/>
                </a:lnTo>
                <a:lnTo>
                  <a:pt x="528" y="1640"/>
                </a:lnTo>
                <a:lnTo>
                  <a:pt x="522" y="1664"/>
                </a:lnTo>
                <a:lnTo>
                  <a:pt x="502" y="1690"/>
                </a:lnTo>
                <a:lnTo>
                  <a:pt x="478" y="1711"/>
                </a:lnTo>
                <a:lnTo>
                  <a:pt x="460" y="1735"/>
                </a:lnTo>
                <a:lnTo>
                  <a:pt x="445" y="1741"/>
                </a:lnTo>
                <a:lnTo>
                  <a:pt x="437" y="1721"/>
                </a:lnTo>
                <a:lnTo>
                  <a:pt x="425" y="1701"/>
                </a:lnTo>
                <a:lnTo>
                  <a:pt x="403" y="1690"/>
                </a:lnTo>
                <a:lnTo>
                  <a:pt x="401" y="1664"/>
                </a:lnTo>
                <a:lnTo>
                  <a:pt x="389" y="1640"/>
                </a:lnTo>
                <a:lnTo>
                  <a:pt x="373" y="1620"/>
                </a:lnTo>
                <a:lnTo>
                  <a:pt x="351" y="1608"/>
                </a:lnTo>
                <a:lnTo>
                  <a:pt x="340" y="1590"/>
                </a:lnTo>
                <a:lnTo>
                  <a:pt x="326" y="1576"/>
                </a:lnTo>
                <a:lnTo>
                  <a:pt x="298" y="1580"/>
                </a:lnTo>
                <a:lnTo>
                  <a:pt x="270" y="1592"/>
                </a:lnTo>
                <a:lnTo>
                  <a:pt x="242" y="1608"/>
                </a:lnTo>
                <a:lnTo>
                  <a:pt x="215" y="1614"/>
                </a:lnTo>
                <a:lnTo>
                  <a:pt x="191" y="1608"/>
                </a:lnTo>
                <a:lnTo>
                  <a:pt x="207" y="1596"/>
                </a:lnTo>
                <a:lnTo>
                  <a:pt x="226" y="1582"/>
                </a:lnTo>
                <a:lnTo>
                  <a:pt x="250" y="1566"/>
                </a:lnTo>
                <a:lnTo>
                  <a:pt x="276" y="1553"/>
                </a:lnTo>
                <a:lnTo>
                  <a:pt x="294" y="1539"/>
                </a:lnTo>
                <a:lnTo>
                  <a:pt x="308" y="1525"/>
                </a:lnTo>
                <a:lnTo>
                  <a:pt x="328" y="1517"/>
                </a:lnTo>
                <a:lnTo>
                  <a:pt x="340" y="1537"/>
                </a:lnTo>
                <a:lnTo>
                  <a:pt x="367" y="1531"/>
                </a:lnTo>
                <a:lnTo>
                  <a:pt x="389" y="1537"/>
                </a:lnTo>
                <a:lnTo>
                  <a:pt x="401" y="1521"/>
                </a:lnTo>
                <a:lnTo>
                  <a:pt x="389" y="1503"/>
                </a:lnTo>
                <a:lnTo>
                  <a:pt x="401" y="1487"/>
                </a:lnTo>
                <a:lnTo>
                  <a:pt x="393" y="1467"/>
                </a:lnTo>
                <a:lnTo>
                  <a:pt x="391" y="1443"/>
                </a:lnTo>
                <a:lnTo>
                  <a:pt x="401" y="1414"/>
                </a:lnTo>
                <a:lnTo>
                  <a:pt x="395" y="1386"/>
                </a:lnTo>
                <a:lnTo>
                  <a:pt x="403" y="1358"/>
                </a:lnTo>
                <a:lnTo>
                  <a:pt x="411" y="1328"/>
                </a:lnTo>
                <a:lnTo>
                  <a:pt x="403" y="1298"/>
                </a:lnTo>
                <a:lnTo>
                  <a:pt x="397" y="1271"/>
                </a:lnTo>
                <a:lnTo>
                  <a:pt x="393" y="1233"/>
                </a:lnTo>
                <a:lnTo>
                  <a:pt x="383" y="1205"/>
                </a:lnTo>
                <a:lnTo>
                  <a:pt x="375" y="1185"/>
                </a:lnTo>
                <a:lnTo>
                  <a:pt x="379" y="1165"/>
                </a:lnTo>
                <a:lnTo>
                  <a:pt x="395" y="1149"/>
                </a:lnTo>
                <a:lnTo>
                  <a:pt x="417" y="1134"/>
                </a:lnTo>
                <a:lnTo>
                  <a:pt x="425" y="1110"/>
                </a:lnTo>
                <a:lnTo>
                  <a:pt x="445" y="1092"/>
                </a:lnTo>
                <a:lnTo>
                  <a:pt x="472" y="1078"/>
                </a:lnTo>
                <a:lnTo>
                  <a:pt x="484" y="1056"/>
                </a:lnTo>
                <a:lnTo>
                  <a:pt x="480" y="1034"/>
                </a:lnTo>
                <a:lnTo>
                  <a:pt x="462" y="1014"/>
                </a:lnTo>
                <a:lnTo>
                  <a:pt x="472" y="997"/>
                </a:lnTo>
                <a:lnTo>
                  <a:pt x="494" y="1001"/>
                </a:lnTo>
                <a:lnTo>
                  <a:pt x="506" y="1018"/>
                </a:lnTo>
                <a:lnTo>
                  <a:pt x="528" y="1018"/>
                </a:lnTo>
                <a:lnTo>
                  <a:pt x="536" y="1001"/>
                </a:lnTo>
                <a:lnTo>
                  <a:pt x="518" y="983"/>
                </a:lnTo>
                <a:lnTo>
                  <a:pt x="516" y="961"/>
                </a:lnTo>
                <a:lnTo>
                  <a:pt x="526" y="931"/>
                </a:lnTo>
                <a:lnTo>
                  <a:pt x="536" y="891"/>
                </a:lnTo>
                <a:lnTo>
                  <a:pt x="526" y="860"/>
                </a:lnTo>
                <a:lnTo>
                  <a:pt x="510" y="836"/>
                </a:lnTo>
                <a:lnTo>
                  <a:pt x="490" y="822"/>
                </a:lnTo>
                <a:lnTo>
                  <a:pt x="478" y="802"/>
                </a:lnTo>
                <a:lnTo>
                  <a:pt x="470" y="778"/>
                </a:lnTo>
                <a:lnTo>
                  <a:pt x="462" y="758"/>
                </a:lnTo>
                <a:lnTo>
                  <a:pt x="447" y="744"/>
                </a:lnTo>
                <a:lnTo>
                  <a:pt x="427" y="734"/>
                </a:lnTo>
                <a:lnTo>
                  <a:pt x="407" y="719"/>
                </a:lnTo>
                <a:lnTo>
                  <a:pt x="395" y="699"/>
                </a:lnTo>
                <a:lnTo>
                  <a:pt x="397" y="671"/>
                </a:lnTo>
                <a:lnTo>
                  <a:pt x="415" y="647"/>
                </a:lnTo>
                <a:lnTo>
                  <a:pt x="419" y="623"/>
                </a:lnTo>
                <a:lnTo>
                  <a:pt x="411" y="599"/>
                </a:lnTo>
                <a:lnTo>
                  <a:pt x="415" y="578"/>
                </a:lnTo>
                <a:lnTo>
                  <a:pt x="423" y="546"/>
                </a:lnTo>
                <a:lnTo>
                  <a:pt x="415" y="524"/>
                </a:lnTo>
                <a:lnTo>
                  <a:pt x="395" y="526"/>
                </a:lnTo>
                <a:lnTo>
                  <a:pt x="379" y="540"/>
                </a:lnTo>
                <a:lnTo>
                  <a:pt x="367" y="562"/>
                </a:lnTo>
                <a:lnTo>
                  <a:pt x="347" y="570"/>
                </a:lnTo>
                <a:lnTo>
                  <a:pt x="338" y="552"/>
                </a:lnTo>
                <a:lnTo>
                  <a:pt x="330" y="534"/>
                </a:lnTo>
                <a:lnTo>
                  <a:pt x="316" y="530"/>
                </a:lnTo>
                <a:lnTo>
                  <a:pt x="306" y="516"/>
                </a:lnTo>
                <a:lnTo>
                  <a:pt x="298" y="500"/>
                </a:lnTo>
                <a:lnTo>
                  <a:pt x="308" y="474"/>
                </a:lnTo>
                <a:lnTo>
                  <a:pt x="302" y="460"/>
                </a:lnTo>
                <a:lnTo>
                  <a:pt x="276" y="468"/>
                </a:lnTo>
                <a:lnTo>
                  <a:pt x="254" y="460"/>
                </a:lnTo>
                <a:lnTo>
                  <a:pt x="248" y="441"/>
                </a:lnTo>
                <a:lnTo>
                  <a:pt x="246" y="415"/>
                </a:lnTo>
                <a:lnTo>
                  <a:pt x="228" y="407"/>
                </a:lnTo>
                <a:lnTo>
                  <a:pt x="213" y="419"/>
                </a:lnTo>
                <a:lnTo>
                  <a:pt x="197" y="437"/>
                </a:lnTo>
                <a:lnTo>
                  <a:pt x="185" y="427"/>
                </a:lnTo>
                <a:lnTo>
                  <a:pt x="171" y="413"/>
                </a:lnTo>
                <a:lnTo>
                  <a:pt x="151" y="417"/>
                </a:lnTo>
                <a:lnTo>
                  <a:pt x="137" y="431"/>
                </a:lnTo>
                <a:lnTo>
                  <a:pt x="143" y="457"/>
                </a:lnTo>
                <a:lnTo>
                  <a:pt x="141" y="474"/>
                </a:lnTo>
                <a:lnTo>
                  <a:pt x="129" y="486"/>
                </a:lnTo>
                <a:lnTo>
                  <a:pt x="109" y="478"/>
                </a:lnTo>
                <a:lnTo>
                  <a:pt x="100" y="500"/>
                </a:lnTo>
                <a:lnTo>
                  <a:pt x="86" y="522"/>
                </a:lnTo>
                <a:lnTo>
                  <a:pt x="64" y="534"/>
                </a:lnTo>
                <a:lnTo>
                  <a:pt x="40" y="524"/>
                </a:lnTo>
                <a:lnTo>
                  <a:pt x="18" y="502"/>
                </a:lnTo>
                <a:lnTo>
                  <a:pt x="16" y="472"/>
                </a:lnTo>
                <a:lnTo>
                  <a:pt x="26" y="449"/>
                </a:lnTo>
                <a:lnTo>
                  <a:pt x="20" y="421"/>
                </a:lnTo>
                <a:lnTo>
                  <a:pt x="10" y="397"/>
                </a:lnTo>
                <a:lnTo>
                  <a:pt x="0" y="365"/>
                </a:lnTo>
                <a:lnTo>
                  <a:pt x="6" y="343"/>
                </a:lnTo>
                <a:lnTo>
                  <a:pt x="20" y="325"/>
                </a:lnTo>
                <a:lnTo>
                  <a:pt x="32" y="300"/>
                </a:lnTo>
                <a:lnTo>
                  <a:pt x="28" y="278"/>
                </a:lnTo>
                <a:lnTo>
                  <a:pt x="26" y="252"/>
                </a:lnTo>
                <a:lnTo>
                  <a:pt x="42" y="240"/>
                </a:lnTo>
                <a:lnTo>
                  <a:pt x="62" y="236"/>
                </a:lnTo>
                <a:lnTo>
                  <a:pt x="82" y="250"/>
                </a:lnTo>
                <a:lnTo>
                  <a:pt x="96" y="232"/>
                </a:lnTo>
                <a:lnTo>
                  <a:pt x="117" y="224"/>
                </a:lnTo>
                <a:lnTo>
                  <a:pt x="141" y="230"/>
                </a:lnTo>
                <a:lnTo>
                  <a:pt x="165" y="236"/>
                </a:lnTo>
                <a:lnTo>
                  <a:pt x="187" y="230"/>
                </a:lnTo>
                <a:lnTo>
                  <a:pt x="197" y="210"/>
                </a:lnTo>
                <a:lnTo>
                  <a:pt x="199" y="188"/>
                </a:lnTo>
                <a:lnTo>
                  <a:pt x="213" y="175"/>
                </a:lnTo>
                <a:lnTo>
                  <a:pt x="230" y="177"/>
                </a:lnTo>
                <a:lnTo>
                  <a:pt x="248" y="175"/>
                </a:lnTo>
                <a:lnTo>
                  <a:pt x="252" y="157"/>
                </a:lnTo>
                <a:lnTo>
                  <a:pt x="264" y="141"/>
                </a:lnTo>
                <a:lnTo>
                  <a:pt x="282" y="135"/>
                </a:lnTo>
                <a:lnTo>
                  <a:pt x="290" y="115"/>
                </a:lnTo>
                <a:lnTo>
                  <a:pt x="282" y="101"/>
                </a:lnTo>
                <a:lnTo>
                  <a:pt x="284" y="83"/>
                </a:lnTo>
                <a:lnTo>
                  <a:pt x="304" y="81"/>
                </a:lnTo>
                <a:lnTo>
                  <a:pt x="324" y="97"/>
                </a:lnTo>
                <a:lnTo>
                  <a:pt x="345" y="103"/>
                </a:lnTo>
                <a:lnTo>
                  <a:pt x="357" y="83"/>
                </a:lnTo>
                <a:lnTo>
                  <a:pt x="363" y="65"/>
                </a:lnTo>
                <a:lnTo>
                  <a:pt x="379" y="55"/>
                </a:lnTo>
                <a:lnTo>
                  <a:pt x="393" y="36"/>
                </a:lnTo>
                <a:lnTo>
                  <a:pt x="395" y="16"/>
                </a:lnTo>
                <a:close/>
              </a:path>
            </a:pathLst>
          </a:custGeom>
          <a:solidFill>
            <a:srgbClr val="339966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Freeform 16"/>
          <p:cNvSpPr/>
          <p:nvPr/>
        </p:nvSpPr>
        <p:spPr>
          <a:xfrm>
            <a:off x="2365200" y="4748040"/>
            <a:ext cx="846360" cy="954360"/>
          </a:xfrm>
          <a:custGeom>
            <a:avLst/>
            <a:gdLst>
              <a:gd name="textAreaLeft" fmla="*/ 0 w 846360"/>
              <a:gd name="textAreaRight" fmla="*/ 846720 w 846360"/>
              <a:gd name="textAreaTop" fmla="*/ 0 h 954360"/>
              <a:gd name="textAreaBottom" fmla="*/ 954720 h 954360"/>
            </a:gdLst>
            <a:ahLst/>
            <a:rect l="textAreaLeft" t="textAreaTop" r="textAreaRight" b="textAreaBottom"/>
            <a:pathLst>
              <a:path w="1067" h="1201">
                <a:moveTo>
                  <a:pt x="722" y="1201"/>
                </a:moveTo>
                <a:lnTo>
                  <a:pt x="738" y="1189"/>
                </a:lnTo>
                <a:lnTo>
                  <a:pt x="757" y="1175"/>
                </a:lnTo>
                <a:lnTo>
                  <a:pt x="781" y="1159"/>
                </a:lnTo>
                <a:lnTo>
                  <a:pt x="807" y="1146"/>
                </a:lnTo>
                <a:lnTo>
                  <a:pt x="825" y="1132"/>
                </a:lnTo>
                <a:lnTo>
                  <a:pt x="839" y="1118"/>
                </a:lnTo>
                <a:lnTo>
                  <a:pt x="859" y="1110"/>
                </a:lnTo>
                <a:lnTo>
                  <a:pt x="871" y="1130"/>
                </a:lnTo>
                <a:lnTo>
                  <a:pt x="898" y="1124"/>
                </a:lnTo>
                <a:lnTo>
                  <a:pt x="920" y="1130"/>
                </a:lnTo>
                <a:lnTo>
                  <a:pt x="932" y="1114"/>
                </a:lnTo>
                <a:lnTo>
                  <a:pt x="920" y="1096"/>
                </a:lnTo>
                <a:lnTo>
                  <a:pt x="932" y="1080"/>
                </a:lnTo>
                <a:lnTo>
                  <a:pt x="924" y="1060"/>
                </a:lnTo>
                <a:lnTo>
                  <a:pt x="922" y="1036"/>
                </a:lnTo>
                <a:lnTo>
                  <a:pt x="932" y="1007"/>
                </a:lnTo>
                <a:lnTo>
                  <a:pt x="926" y="979"/>
                </a:lnTo>
                <a:lnTo>
                  <a:pt x="934" y="951"/>
                </a:lnTo>
                <a:lnTo>
                  <a:pt x="942" y="921"/>
                </a:lnTo>
                <a:lnTo>
                  <a:pt x="934" y="891"/>
                </a:lnTo>
                <a:lnTo>
                  <a:pt x="928" y="864"/>
                </a:lnTo>
                <a:lnTo>
                  <a:pt x="924" y="826"/>
                </a:lnTo>
                <a:lnTo>
                  <a:pt x="914" y="798"/>
                </a:lnTo>
                <a:lnTo>
                  <a:pt x="906" y="778"/>
                </a:lnTo>
                <a:lnTo>
                  <a:pt x="910" y="758"/>
                </a:lnTo>
                <a:lnTo>
                  <a:pt x="926" y="742"/>
                </a:lnTo>
                <a:lnTo>
                  <a:pt x="948" y="727"/>
                </a:lnTo>
                <a:lnTo>
                  <a:pt x="956" y="703"/>
                </a:lnTo>
                <a:lnTo>
                  <a:pt x="976" y="685"/>
                </a:lnTo>
                <a:lnTo>
                  <a:pt x="1003" y="671"/>
                </a:lnTo>
                <a:lnTo>
                  <a:pt x="1015" y="649"/>
                </a:lnTo>
                <a:lnTo>
                  <a:pt x="1011" y="627"/>
                </a:lnTo>
                <a:lnTo>
                  <a:pt x="993" y="607"/>
                </a:lnTo>
                <a:lnTo>
                  <a:pt x="1003" y="590"/>
                </a:lnTo>
                <a:lnTo>
                  <a:pt x="1025" y="594"/>
                </a:lnTo>
                <a:lnTo>
                  <a:pt x="1037" y="611"/>
                </a:lnTo>
                <a:lnTo>
                  <a:pt x="1059" y="611"/>
                </a:lnTo>
                <a:lnTo>
                  <a:pt x="1067" y="594"/>
                </a:lnTo>
                <a:lnTo>
                  <a:pt x="1049" y="576"/>
                </a:lnTo>
                <a:lnTo>
                  <a:pt x="1047" y="554"/>
                </a:lnTo>
                <a:lnTo>
                  <a:pt x="1057" y="524"/>
                </a:lnTo>
                <a:lnTo>
                  <a:pt x="1067" y="484"/>
                </a:lnTo>
                <a:lnTo>
                  <a:pt x="1057" y="453"/>
                </a:lnTo>
                <a:lnTo>
                  <a:pt x="1041" y="429"/>
                </a:lnTo>
                <a:lnTo>
                  <a:pt x="1021" y="415"/>
                </a:lnTo>
                <a:lnTo>
                  <a:pt x="1009" y="395"/>
                </a:lnTo>
                <a:lnTo>
                  <a:pt x="1001" y="371"/>
                </a:lnTo>
                <a:lnTo>
                  <a:pt x="993" y="351"/>
                </a:lnTo>
                <a:lnTo>
                  <a:pt x="978" y="337"/>
                </a:lnTo>
                <a:lnTo>
                  <a:pt x="958" y="327"/>
                </a:lnTo>
                <a:lnTo>
                  <a:pt x="938" y="312"/>
                </a:lnTo>
                <a:lnTo>
                  <a:pt x="926" y="292"/>
                </a:lnTo>
                <a:lnTo>
                  <a:pt x="928" y="264"/>
                </a:lnTo>
                <a:lnTo>
                  <a:pt x="946" y="240"/>
                </a:lnTo>
                <a:lnTo>
                  <a:pt x="950" y="216"/>
                </a:lnTo>
                <a:lnTo>
                  <a:pt x="942" y="192"/>
                </a:lnTo>
                <a:lnTo>
                  <a:pt x="946" y="171"/>
                </a:lnTo>
                <a:lnTo>
                  <a:pt x="954" y="139"/>
                </a:lnTo>
                <a:lnTo>
                  <a:pt x="946" y="117"/>
                </a:lnTo>
                <a:lnTo>
                  <a:pt x="926" y="119"/>
                </a:lnTo>
                <a:lnTo>
                  <a:pt x="910" y="133"/>
                </a:lnTo>
                <a:lnTo>
                  <a:pt x="898" y="155"/>
                </a:lnTo>
                <a:lnTo>
                  <a:pt x="878" y="163"/>
                </a:lnTo>
                <a:lnTo>
                  <a:pt x="869" y="145"/>
                </a:lnTo>
                <a:lnTo>
                  <a:pt x="861" y="127"/>
                </a:lnTo>
                <a:lnTo>
                  <a:pt x="847" y="123"/>
                </a:lnTo>
                <a:lnTo>
                  <a:pt x="837" y="109"/>
                </a:lnTo>
                <a:lnTo>
                  <a:pt x="829" y="93"/>
                </a:lnTo>
                <a:lnTo>
                  <a:pt x="839" y="67"/>
                </a:lnTo>
                <a:lnTo>
                  <a:pt x="833" y="53"/>
                </a:lnTo>
                <a:lnTo>
                  <a:pt x="807" y="61"/>
                </a:lnTo>
                <a:lnTo>
                  <a:pt x="785" y="53"/>
                </a:lnTo>
                <a:lnTo>
                  <a:pt x="779" y="34"/>
                </a:lnTo>
                <a:lnTo>
                  <a:pt x="777" y="8"/>
                </a:lnTo>
                <a:lnTo>
                  <a:pt x="759" y="0"/>
                </a:lnTo>
                <a:lnTo>
                  <a:pt x="744" y="12"/>
                </a:lnTo>
                <a:lnTo>
                  <a:pt x="728" y="30"/>
                </a:lnTo>
                <a:lnTo>
                  <a:pt x="716" y="20"/>
                </a:lnTo>
                <a:lnTo>
                  <a:pt x="702" y="6"/>
                </a:lnTo>
                <a:lnTo>
                  <a:pt x="682" y="10"/>
                </a:lnTo>
                <a:lnTo>
                  <a:pt x="668" y="24"/>
                </a:lnTo>
                <a:lnTo>
                  <a:pt x="674" y="50"/>
                </a:lnTo>
                <a:lnTo>
                  <a:pt x="672" y="67"/>
                </a:lnTo>
                <a:lnTo>
                  <a:pt x="660" y="79"/>
                </a:lnTo>
                <a:lnTo>
                  <a:pt x="640" y="71"/>
                </a:lnTo>
                <a:lnTo>
                  <a:pt x="631" y="93"/>
                </a:lnTo>
                <a:lnTo>
                  <a:pt x="617" y="115"/>
                </a:lnTo>
                <a:lnTo>
                  <a:pt x="595" y="127"/>
                </a:lnTo>
                <a:lnTo>
                  <a:pt x="579" y="131"/>
                </a:lnTo>
                <a:lnTo>
                  <a:pt x="585" y="149"/>
                </a:lnTo>
                <a:lnTo>
                  <a:pt x="581" y="167"/>
                </a:lnTo>
                <a:lnTo>
                  <a:pt x="561" y="165"/>
                </a:lnTo>
                <a:lnTo>
                  <a:pt x="541" y="157"/>
                </a:lnTo>
                <a:lnTo>
                  <a:pt x="527" y="169"/>
                </a:lnTo>
                <a:lnTo>
                  <a:pt x="514" y="185"/>
                </a:lnTo>
                <a:lnTo>
                  <a:pt x="498" y="198"/>
                </a:lnTo>
                <a:lnTo>
                  <a:pt x="482" y="192"/>
                </a:lnTo>
                <a:lnTo>
                  <a:pt x="480" y="175"/>
                </a:lnTo>
                <a:lnTo>
                  <a:pt x="486" y="155"/>
                </a:lnTo>
                <a:lnTo>
                  <a:pt x="496" y="135"/>
                </a:lnTo>
                <a:lnTo>
                  <a:pt x="476" y="127"/>
                </a:lnTo>
                <a:lnTo>
                  <a:pt x="460" y="137"/>
                </a:lnTo>
                <a:lnTo>
                  <a:pt x="444" y="127"/>
                </a:lnTo>
                <a:lnTo>
                  <a:pt x="426" y="115"/>
                </a:lnTo>
                <a:lnTo>
                  <a:pt x="406" y="125"/>
                </a:lnTo>
                <a:lnTo>
                  <a:pt x="385" y="121"/>
                </a:lnTo>
                <a:lnTo>
                  <a:pt x="365" y="113"/>
                </a:lnTo>
                <a:lnTo>
                  <a:pt x="353" y="127"/>
                </a:lnTo>
                <a:lnTo>
                  <a:pt x="363" y="153"/>
                </a:lnTo>
                <a:lnTo>
                  <a:pt x="365" y="177"/>
                </a:lnTo>
                <a:lnTo>
                  <a:pt x="373" y="206"/>
                </a:lnTo>
                <a:lnTo>
                  <a:pt x="381" y="232"/>
                </a:lnTo>
                <a:lnTo>
                  <a:pt x="371" y="256"/>
                </a:lnTo>
                <a:lnTo>
                  <a:pt x="367" y="282"/>
                </a:lnTo>
                <a:lnTo>
                  <a:pt x="353" y="298"/>
                </a:lnTo>
                <a:lnTo>
                  <a:pt x="337" y="324"/>
                </a:lnTo>
                <a:lnTo>
                  <a:pt x="333" y="349"/>
                </a:lnTo>
                <a:lnTo>
                  <a:pt x="329" y="373"/>
                </a:lnTo>
                <a:lnTo>
                  <a:pt x="315" y="387"/>
                </a:lnTo>
                <a:lnTo>
                  <a:pt x="295" y="409"/>
                </a:lnTo>
                <a:lnTo>
                  <a:pt x="289" y="441"/>
                </a:lnTo>
                <a:lnTo>
                  <a:pt x="282" y="464"/>
                </a:lnTo>
                <a:lnTo>
                  <a:pt x="262" y="480"/>
                </a:lnTo>
                <a:lnTo>
                  <a:pt x="238" y="492"/>
                </a:lnTo>
                <a:lnTo>
                  <a:pt x="222" y="510"/>
                </a:lnTo>
                <a:lnTo>
                  <a:pt x="210" y="536"/>
                </a:lnTo>
                <a:lnTo>
                  <a:pt x="202" y="558"/>
                </a:lnTo>
                <a:lnTo>
                  <a:pt x="180" y="568"/>
                </a:lnTo>
                <a:lnTo>
                  <a:pt x="161" y="584"/>
                </a:lnTo>
                <a:lnTo>
                  <a:pt x="143" y="605"/>
                </a:lnTo>
                <a:lnTo>
                  <a:pt x="133" y="633"/>
                </a:lnTo>
                <a:lnTo>
                  <a:pt x="121" y="671"/>
                </a:lnTo>
                <a:lnTo>
                  <a:pt x="107" y="715"/>
                </a:lnTo>
                <a:lnTo>
                  <a:pt x="97" y="754"/>
                </a:lnTo>
                <a:lnTo>
                  <a:pt x="89" y="798"/>
                </a:lnTo>
                <a:lnTo>
                  <a:pt x="75" y="826"/>
                </a:lnTo>
                <a:lnTo>
                  <a:pt x="55" y="852"/>
                </a:lnTo>
                <a:lnTo>
                  <a:pt x="42" y="879"/>
                </a:lnTo>
                <a:lnTo>
                  <a:pt x="34" y="907"/>
                </a:lnTo>
                <a:lnTo>
                  <a:pt x="42" y="945"/>
                </a:lnTo>
                <a:lnTo>
                  <a:pt x="32" y="983"/>
                </a:lnTo>
                <a:lnTo>
                  <a:pt x="18" y="1011"/>
                </a:lnTo>
                <a:lnTo>
                  <a:pt x="6" y="1050"/>
                </a:lnTo>
                <a:lnTo>
                  <a:pt x="0" y="1096"/>
                </a:lnTo>
                <a:lnTo>
                  <a:pt x="10" y="1142"/>
                </a:lnTo>
                <a:lnTo>
                  <a:pt x="12" y="1173"/>
                </a:lnTo>
                <a:lnTo>
                  <a:pt x="22" y="1185"/>
                </a:lnTo>
                <a:lnTo>
                  <a:pt x="32" y="1163"/>
                </a:lnTo>
                <a:lnTo>
                  <a:pt x="51" y="1153"/>
                </a:lnTo>
                <a:lnTo>
                  <a:pt x="67" y="1157"/>
                </a:lnTo>
                <a:lnTo>
                  <a:pt x="77" y="1179"/>
                </a:lnTo>
                <a:lnTo>
                  <a:pt x="85" y="1195"/>
                </a:lnTo>
                <a:lnTo>
                  <a:pt x="109" y="1185"/>
                </a:lnTo>
                <a:lnTo>
                  <a:pt x="139" y="1181"/>
                </a:lnTo>
                <a:lnTo>
                  <a:pt x="161" y="1191"/>
                </a:lnTo>
                <a:lnTo>
                  <a:pt x="182" y="1197"/>
                </a:lnTo>
                <a:lnTo>
                  <a:pt x="208" y="1195"/>
                </a:lnTo>
                <a:lnTo>
                  <a:pt x="230" y="1179"/>
                </a:lnTo>
                <a:lnTo>
                  <a:pt x="250" y="1167"/>
                </a:lnTo>
                <a:lnTo>
                  <a:pt x="274" y="1163"/>
                </a:lnTo>
                <a:lnTo>
                  <a:pt x="297" y="1175"/>
                </a:lnTo>
                <a:lnTo>
                  <a:pt x="317" y="1189"/>
                </a:lnTo>
                <a:lnTo>
                  <a:pt x="339" y="1181"/>
                </a:lnTo>
                <a:lnTo>
                  <a:pt x="351" y="1159"/>
                </a:lnTo>
                <a:lnTo>
                  <a:pt x="373" y="1153"/>
                </a:lnTo>
                <a:lnTo>
                  <a:pt x="393" y="1146"/>
                </a:lnTo>
                <a:lnTo>
                  <a:pt x="381" y="1120"/>
                </a:lnTo>
                <a:lnTo>
                  <a:pt x="351" y="1116"/>
                </a:lnTo>
                <a:lnTo>
                  <a:pt x="327" y="1108"/>
                </a:lnTo>
                <a:lnTo>
                  <a:pt x="325" y="1086"/>
                </a:lnTo>
                <a:lnTo>
                  <a:pt x="339" y="1072"/>
                </a:lnTo>
                <a:lnTo>
                  <a:pt x="359" y="1062"/>
                </a:lnTo>
                <a:lnTo>
                  <a:pt x="387" y="1054"/>
                </a:lnTo>
                <a:lnTo>
                  <a:pt x="416" y="1054"/>
                </a:lnTo>
                <a:lnTo>
                  <a:pt x="442" y="1058"/>
                </a:lnTo>
                <a:lnTo>
                  <a:pt x="460" y="1074"/>
                </a:lnTo>
                <a:lnTo>
                  <a:pt x="454" y="1102"/>
                </a:lnTo>
                <a:lnTo>
                  <a:pt x="460" y="1124"/>
                </a:lnTo>
                <a:lnTo>
                  <a:pt x="474" y="1140"/>
                </a:lnTo>
                <a:lnTo>
                  <a:pt x="488" y="1124"/>
                </a:lnTo>
                <a:lnTo>
                  <a:pt x="514" y="1118"/>
                </a:lnTo>
                <a:lnTo>
                  <a:pt x="539" y="1126"/>
                </a:lnTo>
                <a:lnTo>
                  <a:pt x="565" y="1136"/>
                </a:lnTo>
                <a:lnTo>
                  <a:pt x="581" y="1152"/>
                </a:lnTo>
                <a:lnTo>
                  <a:pt x="597" y="1171"/>
                </a:lnTo>
                <a:lnTo>
                  <a:pt x="617" y="1173"/>
                </a:lnTo>
                <a:lnTo>
                  <a:pt x="644" y="1159"/>
                </a:lnTo>
                <a:lnTo>
                  <a:pt x="672" y="1169"/>
                </a:lnTo>
                <a:lnTo>
                  <a:pt x="700" y="1185"/>
                </a:lnTo>
                <a:lnTo>
                  <a:pt x="722" y="1201"/>
                </a:lnTo>
                <a:close/>
              </a:path>
            </a:pathLst>
          </a:custGeom>
          <a:solidFill>
            <a:srgbClr val="f39fd1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Freeform 17"/>
          <p:cNvSpPr/>
          <p:nvPr/>
        </p:nvSpPr>
        <p:spPr>
          <a:xfrm>
            <a:off x="2286000" y="3795840"/>
            <a:ext cx="654120" cy="944280"/>
          </a:xfrm>
          <a:custGeom>
            <a:avLst/>
            <a:gdLst>
              <a:gd name="textAreaLeft" fmla="*/ 0 w 654120"/>
              <a:gd name="textAreaRight" fmla="*/ 654480 w 654120"/>
              <a:gd name="textAreaTop" fmla="*/ 0 h 944280"/>
              <a:gd name="textAreaBottom" fmla="*/ 944640 h 944280"/>
            </a:gdLst>
            <a:ahLst/>
            <a:rect l="textAreaLeft" t="textAreaTop" r="textAreaRight" b="textAreaBottom"/>
            <a:pathLst>
              <a:path w="823" h="1191">
                <a:moveTo>
                  <a:pt x="775" y="602"/>
                </a:moveTo>
                <a:lnTo>
                  <a:pt x="771" y="574"/>
                </a:lnTo>
                <a:lnTo>
                  <a:pt x="783" y="552"/>
                </a:lnTo>
                <a:lnTo>
                  <a:pt x="773" y="530"/>
                </a:lnTo>
                <a:lnTo>
                  <a:pt x="757" y="520"/>
                </a:lnTo>
                <a:lnTo>
                  <a:pt x="735" y="530"/>
                </a:lnTo>
                <a:lnTo>
                  <a:pt x="721" y="512"/>
                </a:lnTo>
                <a:lnTo>
                  <a:pt x="716" y="487"/>
                </a:lnTo>
                <a:lnTo>
                  <a:pt x="723" y="461"/>
                </a:lnTo>
                <a:lnTo>
                  <a:pt x="735" y="441"/>
                </a:lnTo>
                <a:lnTo>
                  <a:pt x="755" y="421"/>
                </a:lnTo>
                <a:lnTo>
                  <a:pt x="745" y="403"/>
                </a:lnTo>
                <a:lnTo>
                  <a:pt x="749" y="377"/>
                </a:lnTo>
                <a:lnTo>
                  <a:pt x="765" y="361"/>
                </a:lnTo>
                <a:lnTo>
                  <a:pt x="787" y="356"/>
                </a:lnTo>
                <a:lnTo>
                  <a:pt x="781" y="338"/>
                </a:lnTo>
                <a:lnTo>
                  <a:pt x="777" y="300"/>
                </a:lnTo>
                <a:lnTo>
                  <a:pt x="789" y="284"/>
                </a:lnTo>
                <a:lnTo>
                  <a:pt x="809" y="272"/>
                </a:lnTo>
                <a:lnTo>
                  <a:pt x="823" y="252"/>
                </a:lnTo>
                <a:lnTo>
                  <a:pt x="811" y="228"/>
                </a:lnTo>
                <a:lnTo>
                  <a:pt x="789" y="228"/>
                </a:lnTo>
                <a:lnTo>
                  <a:pt x="779" y="205"/>
                </a:lnTo>
                <a:lnTo>
                  <a:pt x="767" y="189"/>
                </a:lnTo>
                <a:lnTo>
                  <a:pt x="747" y="177"/>
                </a:lnTo>
                <a:lnTo>
                  <a:pt x="735" y="147"/>
                </a:lnTo>
                <a:lnTo>
                  <a:pt x="727" y="127"/>
                </a:lnTo>
                <a:lnTo>
                  <a:pt x="714" y="123"/>
                </a:lnTo>
                <a:lnTo>
                  <a:pt x="700" y="123"/>
                </a:lnTo>
                <a:lnTo>
                  <a:pt x="678" y="139"/>
                </a:lnTo>
                <a:lnTo>
                  <a:pt x="670" y="151"/>
                </a:lnTo>
                <a:lnTo>
                  <a:pt x="664" y="159"/>
                </a:lnTo>
                <a:lnTo>
                  <a:pt x="658" y="171"/>
                </a:lnTo>
                <a:lnTo>
                  <a:pt x="636" y="179"/>
                </a:lnTo>
                <a:lnTo>
                  <a:pt x="614" y="171"/>
                </a:lnTo>
                <a:lnTo>
                  <a:pt x="595" y="167"/>
                </a:lnTo>
                <a:lnTo>
                  <a:pt x="591" y="149"/>
                </a:lnTo>
                <a:lnTo>
                  <a:pt x="604" y="133"/>
                </a:lnTo>
                <a:lnTo>
                  <a:pt x="614" y="109"/>
                </a:lnTo>
                <a:lnTo>
                  <a:pt x="618" y="78"/>
                </a:lnTo>
                <a:lnTo>
                  <a:pt x="616" y="50"/>
                </a:lnTo>
                <a:lnTo>
                  <a:pt x="626" y="28"/>
                </a:lnTo>
                <a:lnTo>
                  <a:pt x="616" y="14"/>
                </a:lnTo>
                <a:lnTo>
                  <a:pt x="597" y="2"/>
                </a:lnTo>
                <a:lnTo>
                  <a:pt x="573" y="0"/>
                </a:lnTo>
                <a:lnTo>
                  <a:pt x="547" y="2"/>
                </a:lnTo>
                <a:lnTo>
                  <a:pt x="523" y="18"/>
                </a:lnTo>
                <a:lnTo>
                  <a:pt x="505" y="38"/>
                </a:lnTo>
                <a:lnTo>
                  <a:pt x="495" y="68"/>
                </a:lnTo>
                <a:lnTo>
                  <a:pt x="484" y="99"/>
                </a:lnTo>
                <a:lnTo>
                  <a:pt x="474" y="117"/>
                </a:lnTo>
                <a:lnTo>
                  <a:pt x="460" y="131"/>
                </a:lnTo>
                <a:lnTo>
                  <a:pt x="448" y="119"/>
                </a:lnTo>
                <a:lnTo>
                  <a:pt x="436" y="103"/>
                </a:lnTo>
                <a:lnTo>
                  <a:pt x="422" y="101"/>
                </a:lnTo>
                <a:lnTo>
                  <a:pt x="402" y="107"/>
                </a:lnTo>
                <a:lnTo>
                  <a:pt x="390" y="125"/>
                </a:lnTo>
                <a:lnTo>
                  <a:pt x="380" y="149"/>
                </a:lnTo>
                <a:lnTo>
                  <a:pt x="370" y="169"/>
                </a:lnTo>
                <a:lnTo>
                  <a:pt x="353" y="179"/>
                </a:lnTo>
                <a:lnTo>
                  <a:pt x="333" y="171"/>
                </a:lnTo>
                <a:lnTo>
                  <a:pt x="311" y="165"/>
                </a:lnTo>
                <a:lnTo>
                  <a:pt x="293" y="179"/>
                </a:lnTo>
                <a:lnTo>
                  <a:pt x="289" y="201"/>
                </a:lnTo>
                <a:lnTo>
                  <a:pt x="301" y="218"/>
                </a:lnTo>
                <a:lnTo>
                  <a:pt x="317" y="224"/>
                </a:lnTo>
                <a:lnTo>
                  <a:pt x="325" y="248"/>
                </a:lnTo>
                <a:lnTo>
                  <a:pt x="317" y="272"/>
                </a:lnTo>
                <a:lnTo>
                  <a:pt x="305" y="290"/>
                </a:lnTo>
                <a:lnTo>
                  <a:pt x="287" y="296"/>
                </a:lnTo>
                <a:lnTo>
                  <a:pt x="265" y="294"/>
                </a:lnTo>
                <a:lnTo>
                  <a:pt x="253" y="306"/>
                </a:lnTo>
                <a:lnTo>
                  <a:pt x="255" y="336"/>
                </a:lnTo>
                <a:lnTo>
                  <a:pt x="244" y="354"/>
                </a:lnTo>
                <a:lnTo>
                  <a:pt x="238" y="385"/>
                </a:lnTo>
                <a:lnTo>
                  <a:pt x="226" y="401"/>
                </a:lnTo>
                <a:lnTo>
                  <a:pt x="204" y="411"/>
                </a:lnTo>
                <a:lnTo>
                  <a:pt x="176" y="413"/>
                </a:lnTo>
                <a:lnTo>
                  <a:pt x="152" y="425"/>
                </a:lnTo>
                <a:lnTo>
                  <a:pt x="136" y="445"/>
                </a:lnTo>
                <a:lnTo>
                  <a:pt x="129" y="469"/>
                </a:lnTo>
                <a:lnTo>
                  <a:pt x="119" y="491"/>
                </a:lnTo>
                <a:lnTo>
                  <a:pt x="103" y="500"/>
                </a:lnTo>
                <a:lnTo>
                  <a:pt x="119" y="534"/>
                </a:lnTo>
                <a:lnTo>
                  <a:pt x="111" y="560"/>
                </a:lnTo>
                <a:lnTo>
                  <a:pt x="93" y="572"/>
                </a:lnTo>
                <a:lnTo>
                  <a:pt x="75" y="592"/>
                </a:lnTo>
                <a:lnTo>
                  <a:pt x="73" y="614"/>
                </a:lnTo>
                <a:lnTo>
                  <a:pt x="83" y="641"/>
                </a:lnTo>
                <a:lnTo>
                  <a:pt x="95" y="665"/>
                </a:lnTo>
                <a:lnTo>
                  <a:pt x="109" y="693"/>
                </a:lnTo>
                <a:lnTo>
                  <a:pt x="107" y="715"/>
                </a:lnTo>
                <a:lnTo>
                  <a:pt x="95" y="741"/>
                </a:lnTo>
                <a:lnTo>
                  <a:pt x="75" y="761"/>
                </a:lnTo>
                <a:lnTo>
                  <a:pt x="49" y="774"/>
                </a:lnTo>
                <a:lnTo>
                  <a:pt x="27" y="800"/>
                </a:lnTo>
                <a:lnTo>
                  <a:pt x="12" y="816"/>
                </a:lnTo>
                <a:lnTo>
                  <a:pt x="0" y="840"/>
                </a:lnTo>
                <a:lnTo>
                  <a:pt x="6" y="872"/>
                </a:lnTo>
                <a:lnTo>
                  <a:pt x="15" y="888"/>
                </a:lnTo>
                <a:lnTo>
                  <a:pt x="37" y="884"/>
                </a:lnTo>
                <a:lnTo>
                  <a:pt x="63" y="872"/>
                </a:lnTo>
                <a:lnTo>
                  <a:pt x="89" y="866"/>
                </a:lnTo>
                <a:lnTo>
                  <a:pt x="111" y="850"/>
                </a:lnTo>
                <a:lnTo>
                  <a:pt x="138" y="844"/>
                </a:lnTo>
                <a:lnTo>
                  <a:pt x="156" y="854"/>
                </a:lnTo>
                <a:lnTo>
                  <a:pt x="174" y="872"/>
                </a:lnTo>
                <a:lnTo>
                  <a:pt x="194" y="900"/>
                </a:lnTo>
                <a:lnTo>
                  <a:pt x="200" y="919"/>
                </a:lnTo>
                <a:lnTo>
                  <a:pt x="198" y="945"/>
                </a:lnTo>
                <a:lnTo>
                  <a:pt x="206" y="977"/>
                </a:lnTo>
                <a:lnTo>
                  <a:pt x="218" y="991"/>
                </a:lnTo>
                <a:lnTo>
                  <a:pt x="222" y="1013"/>
                </a:lnTo>
                <a:lnTo>
                  <a:pt x="206" y="1031"/>
                </a:lnTo>
                <a:lnTo>
                  <a:pt x="198" y="1052"/>
                </a:lnTo>
                <a:lnTo>
                  <a:pt x="212" y="1072"/>
                </a:lnTo>
                <a:lnTo>
                  <a:pt x="206" y="1088"/>
                </a:lnTo>
                <a:lnTo>
                  <a:pt x="210" y="1104"/>
                </a:lnTo>
                <a:lnTo>
                  <a:pt x="232" y="1112"/>
                </a:lnTo>
                <a:lnTo>
                  <a:pt x="257" y="1118"/>
                </a:lnTo>
                <a:lnTo>
                  <a:pt x="275" y="1108"/>
                </a:lnTo>
                <a:lnTo>
                  <a:pt x="289" y="1118"/>
                </a:lnTo>
                <a:lnTo>
                  <a:pt x="309" y="1132"/>
                </a:lnTo>
                <a:lnTo>
                  <a:pt x="325" y="1120"/>
                </a:lnTo>
                <a:lnTo>
                  <a:pt x="345" y="1128"/>
                </a:lnTo>
                <a:lnTo>
                  <a:pt x="335" y="1148"/>
                </a:lnTo>
                <a:lnTo>
                  <a:pt x="329" y="1168"/>
                </a:lnTo>
                <a:lnTo>
                  <a:pt x="331" y="1187"/>
                </a:lnTo>
                <a:lnTo>
                  <a:pt x="349" y="1191"/>
                </a:lnTo>
                <a:lnTo>
                  <a:pt x="361" y="1180"/>
                </a:lnTo>
                <a:lnTo>
                  <a:pt x="376" y="1162"/>
                </a:lnTo>
                <a:lnTo>
                  <a:pt x="390" y="1150"/>
                </a:lnTo>
                <a:lnTo>
                  <a:pt x="412" y="1158"/>
                </a:lnTo>
                <a:lnTo>
                  <a:pt x="430" y="1160"/>
                </a:lnTo>
                <a:lnTo>
                  <a:pt x="434" y="1144"/>
                </a:lnTo>
                <a:lnTo>
                  <a:pt x="428" y="1122"/>
                </a:lnTo>
                <a:lnTo>
                  <a:pt x="446" y="1120"/>
                </a:lnTo>
                <a:lnTo>
                  <a:pt x="420" y="1110"/>
                </a:lnTo>
                <a:lnTo>
                  <a:pt x="398" y="1088"/>
                </a:lnTo>
                <a:lnTo>
                  <a:pt x="396" y="1058"/>
                </a:lnTo>
                <a:lnTo>
                  <a:pt x="406" y="1035"/>
                </a:lnTo>
                <a:lnTo>
                  <a:pt x="400" y="1007"/>
                </a:lnTo>
                <a:lnTo>
                  <a:pt x="390" y="983"/>
                </a:lnTo>
                <a:lnTo>
                  <a:pt x="380" y="951"/>
                </a:lnTo>
                <a:lnTo>
                  <a:pt x="386" y="929"/>
                </a:lnTo>
                <a:lnTo>
                  <a:pt x="400" y="911"/>
                </a:lnTo>
                <a:lnTo>
                  <a:pt x="412" y="886"/>
                </a:lnTo>
                <a:lnTo>
                  <a:pt x="408" y="864"/>
                </a:lnTo>
                <a:lnTo>
                  <a:pt x="406" y="838"/>
                </a:lnTo>
                <a:lnTo>
                  <a:pt x="422" y="826"/>
                </a:lnTo>
                <a:lnTo>
                  <a:pt x="442" y="822"/>
                </a:lnTo>
                <a:lnTo>
                  <a:pt x="462" y="836"/>
                </a:lnTo>
                <a:lnTo>
                  <a:pt x="476" y="818"/>
                </a:lnTo>
                <a:lnTo>
                  <a:pt x="497" y="810"/>
                </a:lnTo>
                <a:lnTo>
                  <a:pt x="521" y="816"/>
                </a:lnTo>
                <a:lnTo>
                  <a:pt x="545" y="822"/>
                </a:lnTo>
                <a:lnTo>
                  <a:pt x="567" y="816"/>
                </a:lnTo>
                <a:lnTo>
                  <a:pt x="577" y="796"/>
                </a:lnTo>
                <a:lnTo>
                  <a:pt x="579" y="774"/>
                </a:lnTo>
                <a:lnTo>
                  <a:pt x="593" y="761"/>
                </a:lnTo>
                <a:lnTo>
                  <a:pt x="610" y="763"/>
                </a:lnTo>
                <a:lnTo>
                  <a:pt x="628" y="761"/>
                </a:lnTo>
                <a:lnTo>
                  <a:pt x="632" y="743"/>
                </a:lnTo>
                <a:lnTo>
                  <a:pt x="644" y="727"/>
                </a:lnTo>
                <a:lnTo>
                  <a:pt x="662" y="721"/>
                </a:lnTo>
                <a:lnTo>
                  <a:pt x="670" y="701"/>
                </a:lnTo>
                <a:lnTo>
                  <a:pt x="662" y="687"/>
                </a:lnTo>
                <a:lnTo>
                  <a:pt x="664" y="669"/>
                </a:lnTo>
                <a:lnTo>
                  <a:pt x="684" y="667"/>
                </a:lnTo>
                <a:lnTo>
                  <a:pt x="704" y="683"/>
                </a:lnTo>
                <a:lnTo>
                  <a:pt x="725" y="689"/>
                </a:lnTo>
                <a:lnTo>
                  <a:pt x="737" y="669"/>
                </a:lnTo>
                <a:lnTo>
                  <a:pt x="743" y="651"/>
                </a:lnTo>
                <a:lnTo>
                  <a:pt x="759" y="641"/>
                </a:lnTo>
                <a:lnTo>
                  <a:pt x="773" y="622"/>
                </a:lnTo>
                <a:lnTo>
                  <a:pt x="775" y="602"/>
                </a:lnTo>
                <a:close/>
              </a:path>
            </a:pathLst>
          </a:custGeom>
          <a:solidFill>
            <a:srgbClr val="f1b953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Freeform 18"/>
          <p:cNvSpPr/>
          <p:nvPr/>
        </p:nvSpPr>
        <p:spPr>
          <a:xfrm>
            <a:off x="1623960" y="4259160"/>
            <a:ext cx="644400" cy="846360"/>
          </a:xfrm>
          <a:custGeom>
            <a:avLst/>
            <a:gdLst>
              <a:gd name="textAreaLeft" fmla="*/ 0 w 644400"/>
              <a:gd name="textAreaRight" fmla="*/ 644760 w 644400"/>
              <a:gd name="textAreaTop" fmla="*/ 0 h 846360"/>
              <a:gd name="textAreaBottom" fmla="*/ 846720 h 846360"/>
            </a:gdLst>
            <a:ahLst/>
            <a:rect l="textAreaLeft" t="textAreaTop" r="textAreaRight" b="textAreaBottom"/>
            <a:pathLst>
              <a:path w="813" h="1067">
                <a:moveTo>
                  <a:pt x="688" y="123"/>
                </a:moveTo>
                <a:lnTo>
                  <a:pt x="702" y="157"/>
                </a:lnTo>
                <a:lnTo>
                  <a:pt x="694" y="183"/>
                </a:lnTo>
                <a:lnTo>
                  <a:pt x="676" y="195"/>
                </a:lnTo>
                <a:lnTo>
                  <a:pt x="658" y="215"/>
                </a:lnTo>
                <a:lnTo>
                  <a:pt x="656" y="237"/>
                </a:lnTo>
                <a:lnTo>
                  <a:pt x="666" y="264"/>
                </a:lnTo>
                <a:lnTo>
                  <a:pt x="678" y="288"/>
                </a:lnTo>
                <a:lnTo>
                  <a:pt x="692" y="316"/>
                </a:lnTo>
                <a:lnTo>
                  <a:pt x="690" y="338"/>
                </a:lnTo>
                <a:lnTo>
                  <a:pt x="678" y="364"/>
                </a:lnTo>
                <a:lnTo>
                  <a:pt x="658" y="384"/>
                </a:lnTo>
                <a:lnTo>
                  <a:pt x="632" y="397"/>
                </a:lnTo>
                <a:lnTo>
                  <a:pt x="610" y="423"/>
                </a:lnTo>
                <a:lnTo>
                  <a:pt x="595" y="439"/>
                </a:lnTo>
                <a:lnTo>
                  <a:pt x="583" y="463"/>
                </a:lnTo>
                <a:lnTo>
                  <a:pt x="589" y="495"/>
                </a:lnTo>
                <a:lnTo>
                  <a:pt x="598" y="511"/>
                </a:lnTo>
                <a:lnTo>
                  <a:pt x="620" y="507"/>
                </a:lnTo>
                <a:lnTo>
                  <a:pt x="646" y="495"/>
                </a:lnTo>
                <a:lnTo>
                  <a:pt x="672" y="489"/>
                </a:lnTo>
                <a:lnTo>
                  <a:pt x="694" y="473"/>
                </a:lnTo>
                <a:lnTo>
                  <a:pt x="721" y="467"/>
                </a:lnTo>
                <a:lnTo>
                  <a:pt x="739" y="477"/>
                </a:lnTo>
                <a:lnTo>
                  <a:pt x="757" y="495"/>
                </a:lnTo>
                <a:lnTo>
                  <a:pt x="777" y="523"/>
                </a:lnTo>
                <a:lnTo>
                  <a:pt x="783" y="542"/>
                </a:lnTo>
                <a:lnTo>
                  <a:pt x="781" y="568"/>
                </a:lnTo>
                <a:lnTo>
                  <a:pt x="789" y="600"/>
                </a:lnTo>
                <a:lnTo>
                  <a:pt x="801" y="614"/>
                </a:lnTo>
                <a:lnTo>
                  <a:pt x="805" y="636"/>
                </a:lnTo>
                <a:lnTo>
                  <a:pt x="789" y="654"/>
                </a:lnTo>
                <a:lnTo>
                  <a:pt x="781" y="675"/>
                </a:lnTo>
                <a:lnTo>
                  <a:pt x="795" y="695"/>
                </a:lnTo>
                <a:lnTo>
                  <a:pt x="789" y="711"/>
                </a:lnTo>
                <a:lnTo>
                  <a:pt x="795" y="731"/>
                </a:lnTo>
                <a:lnTo>
                  <a:pt x="791" y="747"/>
                </a:lnTo>
                <a:lnTo>
                  <a:pt x="795" y="765"/>
                </a:lnTo>
                <a:lnTo>
                  <a:pt x="799" y="791"/>
                </a:lnTo>
                <a:lnTo>
                  <a:pt x="805" y="820"/>
                </a:lnTo>
                <a:lnTo>
                  <a:pt x="813" y="846"/>
                </a:lnTo>
                <a:lnTo>
                  <a:pt x="805" y="868"/>
                </a:lnTo>
                <a:lnTo>
                  <a:pt x="805" y="892"/>
                </a:lnTo>
                <a:lnTo>
                  <a:pt x="787" y="914"/>
                </a:lnTo>
                <a:lnTo>
                  <a:pt x="773" y="942"/>
                </a:lnTo>
                <a:lnTo>
                  <a:pt x="767" y="963"/>
                </a:lnTo>
                <a:lnTo>
                  <a:pt x="761" y="989"/>
                </a:lnTo>
                <a:lnTo>
                  <a:pt x="745" y="1005"/>
                </a:lnTo>
                <a:lnTo>
                  <a:pt x="727" y="1025"/>
                </a:lnTo>
                <a:lnTo>
                  <a:pt x="723" y="1047"/>
                </a:lnTo>
                <a:lnTo>
                  <a:pt x="719" y="1067"/>
                </a:lnTo>
                <a:lnTo>
                  <a:pt x="698" y="1055"/>
                </a:lnTo>
                <a:lnTo>
                  <a:pt x="672" y="1041"/>
                </a:lnTo>
                <a:lnTo>
                  <a:pt x="648" y="1019"/>
                </a:lnTo>
                <a:lnTo>
                  <a:pt x="626" y="1007"/>
                </a:lnTo>
                <a:lnTo>
                  <a:pt x="610" y="1017"/>
                </a:lnTo>
                <a:lnTo>
                  <a:pt x="593" y="1021"/>
                </a:lnTo>
                <a:lnTo>
                  <a:pt x="569" y="1013"/>
                </a:lnTo>
                <a:lnTo>
                  <a:pt x="545" y="1017"/>
                </a:lnTo>
                <a:lnTo>
                  <a:pt x="511" y="1013"/>
                </a:lnTo>
                <a:lnTo>
                  <a:pt x="479" y="1003"/>
                </a:lnTo>
                <a:lnTo>
                  <a:pt x="458" y="995"/>
                </a:lnTo>
                <a:lnTo>
                  <a:pt x="446" y="977"/>
                </a:lnTo>
                <a:lnTo>
                  <a:pt x="428" y="957"/>
                </a:lnTo>
                <a:lnTo>
                  <a:pt x="408" y="953"/>
                </a:lnTo>
                <a:lnTo>
                  <a:pt x="396" y="932"/>
                </a:lnTo>
                <a:lnTo>
                  <a:pt x="390" y="902"/>
                </a:lnTo>
                <a:lnTo>
                  <a:pt x="388" y="878"/>
                </a:lnTo>
                <a:lnTo>
                  <a:pt x="400" y="858"/>
                </a:lnTo>
                <a:lnTo>
                  <a:pt x="400" y="832"/>
                </a:lnTo>
                <a:lnTo>
                  <a:pt x="390" y="814"/>
                </a:lnTo>
                <a:lnTo>
                  <a:pt x="384" y="789"/>
                </a:lnTo>
                <a:lnTo>
                  <a:pt x="394" y="765"/>
                </a:lnTo>
                <a:lnTo>
                  <a:pt x="392" y="741"/>
                </a:lnTo>
                <a:lnTo>
                  <a:pt x="378" y="723"/>
                </a:lnTo>
                <a:lnTo>
                  <a:pt x="357" y="713"/>
                </a:lnTo>
                <a:lnTo>
                  <a:pt x="331" y="705"/>
                </a:lnTo>
                <a:lnTo>
                  <a:pt x="315" y="689"/>
                </a:lnTo>
                <a:lnTo>
                  <a:pt x="291" y="677"/>
                </a:lnTo>
                <a:lnTo>
                  <a:pt x="259" y="685"/>
                </a:lnTo>
                <a:lnTo>
                  <a:pt x="236" y="691"/>
                </a:lnTo>
                <a:lnTo>
                  <a:pt x="218" y="711"/>
                </a:lnTo>
                <a:lnTo>
                  <a:pt x="204" y="729"/>
                </a:lnTo>
                <a:lnTo>
                  <a:pt x="180" y="739"/>
                </a:lnTo>
                <a:lnTo>
                  <a:pt x="158" y="733"/>
                </a:lnTo>
                <a:lnTo>
                  <a:pt x="138" y="721"/>
                </a:lnTo>
                <a:lnTo>
                  <a:pt x="117" y="709"/>
                </a:lnTo>
                <a:lnTo>
                  <a:pt x="93" y="711"/>
                </a:lnTo>
                <a:lnTo>
                  <a:pt x="71" y="717"/>
                </a:lnTo>
                <a:lnTo>
                  <a:pt x="81" y="691"/>
                </a:lnTo>
                <a:lnTo>
                  <a:pt x="95" y="667"/>
                </a:lnTo>
                <a:lnTo>
                  <a:pt x="105" y="648"/>
                </a:lnTo>
                <a:lnTo>
                  <a:pt x="121" y="630"/>
                </a:lnTo>
                <a:lnTo>
                  <a:pt x="126" y="598"/>
                </a:lnTo>
                <a:lnTo>
                  <a:pt x="115" y="578"/>
                </a:lnTo>
                <a:lnTo>
                  <a:pt x="95" y="568"/>
                </a:lnTo>
                <a:lnTo>
                  <a:pt x="77" y="548"/>
                </a:lnTo>
                <a:lnTo>
                  <a:pt x="55" y="527"/>
                </a:lnTo>
                <a:lnTo>
                  <a:pt x="33" y="513"/>
                </a:lnTo>
                <a:lnTo>
                  <a:pt x="17" y="493"/>
                </a:lnTo>
                <a:lnTo>
                  <a:pt x="9" y="467"/>
                </a:lnTo>
                <a:lnTo>
                  <a:pt x="0" y="435"/>
                </a:lnTo>
                <a:lnTo>
                  <a:pt x="4" y="403"/>
                </a:lnTo>
                <a:lnTo>
                  <a:pt x="11" y="372"/>
                </a:lnTo>
                <a:lnTo>
                  <a:pt x="29" y="352"/>
                </a:lnTo>
                <a:lnTo>
                  <a:pt x="55" y="340"/>
                </a:lnTo>
                <a:lnTo>
                  <a:pt x="81" y="326"/>
                </a:lnTo>
                <a:lnTo>
                  <a:pt x="89" y="304"/>
                </a:lnTo>
                <a:lnTo>
                  <a:pt x="117" y="324"/>
                </a:lnTo>
                <a:lnTo>
                  <a:pt x="132" y="332"/>
                </a:lnTo>
                <a:lnTo>
                  <a:pt x="148" y="324"/>
                </a:lnTo>
                <a:lnTo>
                  <a:pt x="154" y="304"/>
                </a:lnTo>
                <a:lnTo>
                  <a:pt x="172" y="296"/>
                </a:lnTo>
                <a:lnTo>
                  <a:pt x="192" y="302"/>
                </a:lnTo>
                <a:lnTo>
                  <a:pt x="194" y="282"/>
                </a:lnTo>
                <a:lnTo>
                  <a:pt x="202" y="264"/>
                </a:lnTo>
                <a:lnTo>
                  <a:pt x="220" y="258"/>
                </a:lnTo>
                <a:lnTo>
                  <a:pt x="247" y="251"/>
                </a:lnTo>
                <a:lnTo>
                  <a:pt x="269" y="239"/>
                </a:lnTo>
                <a:lnTo>
                  <a:pt x="293" y="223"/>
                </a:lnTo>
                <a:lnTo>
                  <a:pt x="313" y="215"/>
                </a:lnTo>
                <a:lnTo>
                  <a:pt x="327" y="197"/>
                </a:lnTo>
                <a:lnTo>
                  <a:pt x="347" y="179"/>
                </a:lnTo>
                <a:lnTo>
                  <a:pt x="368" y="171"/>
                </a:lnTo>
                <a:lnTo>
                  <a:pt x="392" y="167"/>
                </a:lnTo>
                <a:lnTo>
                  <a:pt x="414" y="161"/>
                </a:lnTo>
                <a:lnTo>
                  <a:pt x="438" y="167"/>
                </a:lnTo>
                <a:lnTo>
                  <a:pt x="460" y="163"/>
                </a:lnTo>
                <a:lnTo>
                  <a:pt x="479" y="151"/>
                </a:lnTo>
                <a:lnTo>
                  <a:pt x="495" y="133"/>
                </a:lnTo>
                <a:lnTo>
                  <a:pt x="515" y="119"/>
                </a:lnTo>
                <a:lnTo>
                  <a:pt x="537" y="112"/>
                </a:lnTo>
                <a:lnTo>
                  <a:pt x="549" y="96"/>
                </a:lnTo>
                <a:lnTo>
                  <a:pt x="557" y="74"/>
                </a:lnTo>
                <a:lnTo>
                  <a:pt x="573" y="58"/>
                </a:lnTo>
                <a:lnTo>
                  <a:pt x="581" y="34"/>
                </a:lnTo>
                <a:lnTo>
                  <a:pt x="583" y="10"/>
                </a:lnTo>
                <a:lnTo>
                  <a:pt x="595" y="0"/>
                </a:lnTo>
                <a:lnTo>
                  <a:pt x="612" y="14"/>
                </a:lnTo>
                <a:lnTo>
                  <a:pt x="626" y="34"/>
                </a:lnTo>
                <a:lnTo>
                  <a:pt x="638" y="54"/>
                </a:lnTo>
                <a:lnTo>
                  <a:pt x="648" y="88"/>
                </a:lnTo>
                <a:lnTo>
                  <a:pt x="668" y="110"/>
                </a:lnTo>
                <a:lnTo>
                  <a:pt x="688" y="123"/>
                </a:lnTo>
                <a:close/>
              </a:path>
            </a:pathLst>
          </a:custGeom>
          <a:solidFill>
            <a:srgbClr val="618ffd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Freeform 19"/>
          <p:cNvSpPr/>
          <p:nvPr/>
        </p:nvSpPr>
        <p:spPr>
          <a:xfrm>
            <a:off x="1600200" y="3316320"/>
            <a:ext cx="936720" cy="958680"/>
          </a:xfrm>
          <a:custGeom>
            <a:avLst/>
            <a:gdLst>
              <a:gd name="textAreaLeft" fmla="*/ 0 w 936720"/>
              <a:gd name="textAreaRight" fmla="*/ 937080 w 936720"/>
              <a:gd name="textAreaTop" fmla="*/ 0 h 958680"/>
              <a:gd name="textAreaBottom" fmla="*/ 959040 h 958680"/>
            </a:gdLst>
            <a:ahLst/>
            <a:rect l="textAreaLeft" t="textAreaTop" r="textAreaRight" b="textAreaBottom"/>
            <a:pathLst>
              <a:path w="1180" h="1207">
                <a:moveTo>
                  <a:pt x="716" y="998"/>
                </a:moveTo>
                <a:lnTo>
                  <a:pt x="732" y="989"/>
                </a:lnTo>
                <a:lnTo>
                  <a:pt x="742" y="965"/>
                </a:lnTo>
                <a:lnTo>
                  <a:pt x="749" y="943"/>
                </a:lnTo>
                <a:lnTo>
                  <a:pt x="765" y="925"/>
                </a:lnTo>
                <a:lnTo>
                  <a:pt x="789" y="911"/>
                </a:lnTo>
                <a:lnTo>
                  <a:pt x="815" y="909"/>
                </a:lnTo>
                <a:lnTo>
                  <a:pt x="837" y="901"/>
                </a:lnTo>
                <a:lnTo>
                  <a:pt x="851" y="881"/>
                </a:lnTo>
                <a:lnTo>
                  <a:pt x="857" y="852"/>
                </a:lnTo>
                <a:lnTo>
                  <a:pt x="868" y="834"/>
                </a:lnTo>
                <a:lnTo>
                  <a:pt x="866" y="804"/>
                </a:lnTo>
                <a:lnTo>
                  <a:pt x="878" y="792"/>
                </a:lnTo>
                <a:lnTo>
                  <a:pt x="900" y="794"/>
                </a:lnTo>
                <a:lnTo>
                  <a:pt x="918" y="788"/>
                </a:lnTo>
                <a:lnTo>
                  <a:pt x="930" y="768"/>
                </a:lnTo>
                <a:lnTo>
                  <a:pt x="938" y="746"/>
                </a:lnTo>
                <a:lnTo>
                  <a:pt x="930" y="722"/>
                </a:lnTo>
                <a:lnTo>
                  <a:pt x="914" y="716"/>
                </a:lnTo>
                <a:lnTo>
                  <a:pt x="902" y="699"/>
                </a:lnTo>
                <a:lnTo>
                  <a:pt x="906" y="677"/>
                </a:lnTo>
                <a:lnTo>
                  <a:pt x="924" y="663"/>
                </a:lnTo>
                <a:lnTo>
                  <a:pt x="952" y="673"/>
                </a:lnTo>
                <a:lnTo>
                  <a:pt x="966" y="677"/>
                </a:lnTo>
                <a:lnTo>
                  <a:pt x="983" y="667"/>
                </a:lnTo>
                <a:lnTo>
                  <a:pt x="993" y="647"/>
                </a:lnTo>
                <a:lnTo>
                  <a:pt x="1001" y="625"/>
                </a:lnTo>
                <a:lnTo>
                  <a:pt x="1015" y="607"/>
                </a:lnTo>
                <a:lnTo>
                  <a:pt x="1033" y="599"/>
                </a:lnTo>
                <a:lnTo>
                  <a:pt x="1051" y="601"/>
                </a:lnTo>
                <a:lnTo>
                  <a:pt x="1061" y="615"/>
                </a:lnTo>
                <a:lnTo>
                  <a:pt x="1073" y="629"/>
                </a:lnTo>
                <a:lnTo>
                  <a:pt x="1087" y="615"/>
                </a:lnTo>
                <a:lnTo>
                  <a:pt x="1098" y="593"/>
                </a:lnTo>
                <a:lnTo>
                  <a:pt x="1108" y="568"/>
                </a:lnTo>
                <a:lnTo>
                  <a:pt x="1118" y="536"/>
                </a:lnTo>
                <a:lnTo>
                  <a:pt x="1138" y="516"/>
                </a:lnTo>
                <a:lnTo>
                  <a:pt x="1162" y="500"/>
                </a:lnTo>
                <a:lnTo>
                  <a:pt x="1158" y="482"/>
                </a:lnTo>
                <a:lnTo>
                  <a:pt x="1164" y="456"/>
                </a:lnTo>
                <a:lnTo>
                  <a:pt x="1180" y="437"/>
                </a:lnTo>
                <a:lnTo>
                  <a:pt x="1180" y="415"/>
                </a:lnTo>
                <a:lnTo>
                  <a:pt x="1164" y="401"/>
                </a:lnTo>
                <a:lnTo>
                  <a:pt x="1138" y="387"/>
                </a:lnTo>
                <a:lnTo>
                  <a:pt x="1142" y="363"/>
                </a:lnTo>
                <a:lnTo>
                  <a:pt x="1136" y="335"/>
                </a:lnTo>
                <a:lnTo>
                  <a:pt x="1118" y="327"/>
                </a:lnTo>
                <a:lnTo>
                  <a:pt x="1104" y="319"/>
                </a:lnTo>
                <a:lnTo>
                  <a:pt x="1106" y="290"/>
                </a:lnTo>
                <a:lnTo>
                  <a:pt x="1098" y="258"/>
                </a:lnTo>
                <a:lnTo>
                  <a:pt x="1085" y="242"/>
                </a:lnTo>
                <a:lnTo>
                  <a:pt x="1067" y="226"/>
                </a:lnTo>
                <a:lnTo>
                  <a:pt x="1049" y="222"/>
                </a:lnTo>
                <a:lnTo>
                  <a:pt x="1053" y="204"/>
                </a:lnTo>
                <a:lnTo>
                  <a:pt x="1071" y="202"/>
                </a:lnTo>
                <a:lnTo>
                  <a:pt x="1089" y="200"/>
                </a:lnTo>
                <a:lnTo>
                  <a:pt x="1100" y="180"/>
                </a:lnTo>
                <a:lnTo>
                  <a:pt x="1097" y="161"/>
                </a:lnTo>
                <a:lnTo>
                  <a:pt x="1085" y="153"/>
                </a:lnTo>
                <a:lnTo>
                  <a:pt x="1073" y="147"/>
                </a:lnTo>
                <a:lnTo>
                  <a:pt x="1079" y="131"/>
                </a:lnTo>
                <a:lnTo>
                  <a:pt x="1093" y="111"/>
                </a:lnTo>
                <a:lnTo>
                  <a:pt x="1098" y="83"/>
                </a:lnTo>
                <a:lnTo>
                  <a:pt x="1093" y="65"/>
                </a:lnTo>
                <a:lnTo>
                  <a:pt x="1100" y="43"/>
                </a:lnTo>
                <a:lnTo>
                  <a:pt x="1106" y="16"/>
                </a:lnTo>
                <a:lnTo>
                  <a:pt x="1079" y="6"/>
                </a:lnTo>
                <a:lnTo>
                  <a:pt x="1053" y="16"/>
                </a:lnTo>
                <a:lnTo>
                  <a:pt x="1043" y="33"/>
                </a:lnTo>
                <a:lnTo>
                  <a:pt x="1021" y="37"/>
                </a:lnTo>
                <a:lnTo>
                  <a:pt x="1011" y="51"/>
                </a:lnTo>
                <a:lnTo>
                  <a:pt x="1001" y="69"/>
                </a:lnTo>
                <a:lnTo>
                  <a:pt x="987" y="77"/>
                </a:lnTo>
                <a:lnTo>
                  <a:pt x="976" y="57"/>
                </a:lnTo>
                <a:lnTo>
                  <a:pt x="966" y="33"/>
                </a:lnTo>
                <a:lnTo>
                  <a:pt x="954" y="12"/>
                </a:lnTo>
                <a:lnTo>
                  <a:pt x="946" y="0"/>
                </a:lnTo>
                <a:lnTo>
                  <a:pt x="930" y="4"/>
                </a:lnTo>
                <a:lnTo>
                  <a:pt x="918" y="18"/>
                </a:lnTo>
                <a:lnTo>
                  <a:pt x="910" y="39"/>
                </a:lnTo>
                <a:lnTo>
                  <a:pt x="898" y="28"/>
                </a:lnTo>
                <a:lnTo>
                  <a:pt x="886" y="16"/>
                </a:lnTo>
                <a:lnTo>
                  <a:pt x="868" y="24"/>
                </a:lnTo>
                <a:lnTo>
                  <a:pt x="857" y="43"/>
                </a:lnTo>
                <a:lnTo>
                  <a:pt x="839" y="59"/>
                </a:lnTo>
                <a:lnTo>
                  <a:pt x="835" y="77"/>
                </a:lnTo>
                <a:lnTo>
                  <a:pt x="851" y="103"/>
                </a:lnTo>
                <a:lnTo>
                  <a:pt x="857" y="133"/>
                </a:lnTo>
                <a:lnTo>
                  <a:pt x="862" y="174"/>
                </a:lnTo>
                <a:lnTo>
                  <a:pt x="853" y="202"/>
                </a:lnTo>
                <a:lnTo>
                  <a:pt x="839" y="222"/>
                </a:lnTo>
                <a:lnTo>
                  <a:pt x="817" y="224"/>
                </a:lnTo>
                <a:lnTo>
                  <a:pt x="795" y="230"/>
                </a:lnTo>
                <a:lnTo>
                  <a:pt x="779" y="246"/>
                </a:lnTo>
                <a:lnTo>
                  <a:pt x="759" y="266"/>
                </a:lnTo>
                <a:lnTo>
                  <a:pt x="740" y="276"/>
                </a:lnTo>
                <a:lnTo>
                  <a:pt x="722" y="274"/>
                </a:lnTo>
                <a:lnTo>
                  <a:pt x="710" y="262"/>
                </a:lnTo>
                <a:lnTo>
                  <a:pt x="702" y="240"/>
                </a:lnTo>
                <a:lnTo>
                  <a:pt x="710" y="220"/>
                </a:lnTo>
                <a:lnTo>
                  <a:pt x="698" y="200"/>
                </a:lnTo>
                <a:lnTo>
                  <a:pt x="688" y="176"/>
                </a:lnTo>
                <a:lnTo>
                  <a:pt x="690" y="153"/>
                </a:lnTo>
                <a:lnTo>
                  <a:pt x="700" y="127"/>
                </a:lnTo>
                <a:lnTo>
                  <a:pt x="696" y="105"/>
                </a:lnTo>
                <a:lnTo>
                  <a:pt x="676" y="91"/>
                </a:lnTo>
                <a:lnTo>
                  <a:pt x="650" y="83"/>
                </a:lnTo>
                <a:lnTo>
                  <a:pt x="634" y="67"/>
                </a:lnTo>
                <a:lnTo>
                  <a:pt x="625" y="39"/>
                </a:lnTo>
                <a:lnTo>
                  <a:pt x="611" y="22"/>
                </a:lnTo>
                <a:lnTo>
                  <a:pt x="587" y="18"/>
                </a:lnTo>
                <a:lnTo>
                  <a:pt x="569" y="29"/>
                </a:lnTo>
                <a:lnTo>
                  <a:pt x="573" y="61"/>
                </a:lnTo>
                <a:lnTo>
                  <a:pt x="559" y="87"/>
                </a:lnTo>
                <a:lnTo>
                  <a:pt x="543" y="99"/>
                </a:lnTo>
                <a:lnTo>
                  <a:pt x="531" y="121"/>
                </a:lnTo>
                <a:lnTo>
                  <a:pt x="509" y="133"/>
                </a:lnTo>
                <a:lnTo>
                  <a:pt x="488" y="145"/>
                </a:lnTo>
                <a:lnTo>
                  <a:pt x="474" y="161"/>
                </a:lnTo>
                <a:lnTo>
                  <a:pt x="446" y="165"/>
                </a:lnTo>
                <a:lnTo>
                  <a:pt x="420" y="157"/>
                </a:lnTo>
                <a:lnTo>
                  <a:pt x="396" y="161"/>
                </a:lnTo>
                <a:lnTo>
                  <a:pt x="369" y="168"/>
                </a:lnTo>
                <a:lnTo>
                  <a:pt x="349" y="182"/>
                </a:lnTo>
                <a:lnTo>
                  <a:pt x="333" y="202"/>
                </a:lnTo>
                <a:lnTo>
                  <a:pt x="311" y="218"/>
                </a:lnTo>
                <a:lnTo>
                  <a:pt x="303" y="232"/>
                </a:lnTo>
                <a:lnTo>
                  <a:pt x="301" y="256"/>
                </a:lnTo>
                <a:lnTo>
                  <a:pt x="311" y="286"/>
                </a:lnTo>
                <a:lnTo>
                  <a:pt x="301" y="309"/>
                </a:lnTo>
                <a:lnTo>
                  <a:pt x="281" y="323"/>
                </a:lnTo>
                <a:lnTo>
                  <a:pt x="250" y="329"/>
                </a:lnTo>
                <a:lnTo>
                  <a:pt x="216" y="341"/>
                </a:lnTo>
                <a:lnTo>
                  <a:pt x="182" y="349"/>
                </a:lnTo>
                <a:lnTo>
                  <a:pt x="156" y="361"/>
                </a:lnTo>
                <a:lnTo>
                  <a:pt x="129" y="367"/>
                </a:lnTo>
                <a:lnTo>
                  <a:pt x="107" y="361"/>
                </a:lnTo>
                <a:lnTo>
                  <a:pt x="85" y="349"/>
                </a:lnTo>
                <a:lnTo>
                  <a:pt x="61" y="355"/>
                </a:lnTo>
                <a:lnTo>
                  <a:pt x="47" y="373"/>
                </a:lnTo>
                <a:lnTo>
                  <a:pt x="41" y="401"/>
                </a:lnTo>
                <a:lnTo>
                  <a:pt x="55" y="425"/>
                </a:lnTo>
                <a:lnTo>
                  <a:pt x="77" y="444"/>
                </a:lnTo>
                <a:lnTo>
                  <a:pt x="89" y="468"/>
                </a:lnTo>
                <a:lnTo>
                  <a:pt x="91" y="490"/>
                </a:lnTo>
                <a:lnTo>
                  <a:pt x="115" y="500"/>
                </a:lnTo>
                <a:lnTo>
                  <a:pt x="135" y="520"/>
                </a:lnTo>
                <a:lnTo>
                  <a:pt x="137" y="550"/>
                </a:lnTo>
                <a:lnTo>
                  <a:pt x="125" y="579"/>
                </a:lnTo>
                <a:lnTo>
                  <a:pt x="119" y="611"/>
                </a:lnTo>
                <a:lnTo>
                  <a:pt x="107" y="643"/>
                </a:lnTo>
                <a:lnTo>
                  <a:pt x="93" y="669"/>
                </a:lnTo>
                <a:lnTo>
                  <a:pt x="79" y="699"/>
                </a:lnTo>
                <a:lnTo>
                  <a:pt x="61" y="726"/>
                </a:lnTo>
                <a:lnTo>
                  <a:pt x="37" y="744"/>
                </a:lnTo>
                <a:lnTo>
                  <a:pt x="20" y="770"/>
                </a:lnTo>
                <a:lnTo>
                  <a:pt x="16" y="794"/>
                </a:lnTo>
                <a:lnTo>
                  <a:pt x="26" y="828"/>
                </a:lnTo>
                <a:lnTo>
                  <a:pt x="18" y="854"/>
                </a:lnTo>
                <a:lnTo>
                  <a:pt x="8" y="879"/>
                </a:lnTo>
                <a:lnTo>
                  <a:pt x="0" y="913"/>
                </a:lnTo>
                <a:lnTo>
                  <a:pt x="4" y="941"/>
                </a:lnTo>
                <a:lnTo>
                  <a:pt x="12" y="969"/>
                </a:lnTo>
                <a:lnTo>
                  <a:pt x="30" y="983"/>
                </a:lnTo>
                <a:lnTo>
                  <a:pt x="49" y="1000"/>
                </a:lnTo>
                <a:lnTo>
                  <a:pt x="61" y="1022"/>
                </a:lnTo>
                <a:lnTo>
                  <a:pt x="73" y="1048"/>
                </a:lnTo>
                <a:lnTo>
                  <a:pt x="71" y="1072"/>
                </a:lnTo>
                <a:lnTo>
                  <a:pt x="69" y="1098"/>
                </a:lnTo>
                <a:lnTo>
                  <a:pt x="93" y="1112"/>
                </a:lnTo>
                <a:lnTo>
                  <a:pt x="113" y="1128"/>
                </a:lnTo>
                <a:lnTo>
                  <a:pt x="113" y="1149"/>
                </a:lnTo>
                <a:lnTo>
                  <a:pt x="119" y="1179"/>
                </a:lnTo>
                <a:lnTo>
                  <a:pt x="147" y="1199"/>
                </a:lnTo>
                <a:lnTo>
                  <a:pt x="162" y="1207"/>
                </a:lnTo>
                <a:lnTo>
                  <a:pt x="178" y="1199"/>
                </a:lnTo>
                <a:lnTo>
                  <a:pt x="184" y="1179"/>
                </a:lnTo>
                <a:lnTo>
                  <a:pt x="202" y="1171"/>
                </a:lnTo>
                <a:lnTo>
                  <a:pt x="222" y="1177"/>
                </a:lnTo>
                <a:lnTo>
                  <a:pt x="224" y="1157"/>
                </a:lnTo>
                <a:lnTo>
                  <a:pt x="232" y="1139"/>
                </a:lnTo>
                <a:lnTo>
                  <a:pt x="250" y="1133"/>
                </a:lnTo>
                <a:lnTo>
                  <a:pt x="277" y="1126"/>
                </a:lnTo>
                <a:lnTo>
                  <a:pt x="299" y="1114"/>
                </a:lnTo>
                <a:lnTo>
                  <a:pt x="323" y="1098"/>
                </a:lnTo>
                <a:lnTo>
                  <a:pt x="343" y="1090"/>
                </a:lnTo>
                <a:lnTo>
                  <a:pt x="357" y="1072"/>
                </a:lnTo>
                <a:lnTo>
                  <a:pt x="377" y="1054"/>
                </a:lnTo>
                <a:lnTo>
                  <a:pt x="398" y="1046"/>
                </a:lnTo>
                <a:lnTo>
                  <a:pt x="422" y="1042"/>
                </a:lnTo>
                <a:lnTo>
                  <a:pt x="444" y="1036"/>
                </a:lnTo>
                <a:lnTo>
                  <a:pt x="468" y="1042"/>
                </a:lnTo>
                <a:lnTo>
                  <a:pt x="490" y="1038"/>
                </a:lnTo>
                <a:lnTo>
                  <a:pt x="509" y="1026"/>
                </a:lnTo>
                <a:lnTo>
                  <a:pt x="525" y="1008"/>
                </a:lnTo>
                <a:lnTo>
                  <a:pt x="545" y="994"/>
                </a:lnTo>
                <a:lnTo>
                  <a:pt x="567" y="987"/>
                </a:lnTo>
                <a:lnTo>
                  <a:pt x="579" y="971"/>
                </a:lnTo>
                <a:lnTo>
                  <a:pt x="587" y="949"/>
                </a:lnTo>
                <a:lnTo>
                  <a:pt x="603" y="933"/>
                </a:lnTo>
                <a:lnTo>
                  <a:pt x="611" y="909"/>
                </a:lnTo>
                <a:lnTo>
                  <a:pt x="613" y="885"/>
                </a:lnTo>
                <a:lnTo>
                  <a:pt x="625" y="875"/>
                </a:lnTo>
                <a:lnTo>
                  <a:pt x="642" y="889"/>
                </a:lnTo>
                <a:lnTo>
                  <a:pt x="656" y="909"/>
                </a:lnTo>
                <a:lnTo>
                  <a:pt x="668" y="929"/>
                </a:lnTo>
                <a:lnTo>
                  <a:pt x="678" y="963"/>
                </a:lnTo>
                <a:lnTo>
                  <a:pt x="698" y="985"/>
                </a:lnTo>
                <a:lnTo>
                  <a:pt x="716" y="998"/>
                </a:lnTo>
                <a:close/>
              </a:path>
            </a:pathLst>
          </a:custGeom>
          <a:solidFill>
            <a:srgbClr val="60c9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Group 20"/>
          <p:cNvGrpSpPr/>
          <p:nvPr/>
        </p:nvGrpSpPr>
        <p:grpSpPr>
          <a:xfrm>
            <a:off x="1679400" y="2809800"/>
            <a:ext cx="1981080" cy="1960560"/>
            <a:chOff x="1679400" y="2809800"/>
            <a:chExt cx="1981080" cy="1960560"/>
          </a:xfrm>
        </p:grpSpPr>
        <p:sp>
          <p:nvSpPr>
            <p:cNvPr id="115" name="Freeform 21"/>
            <p:cNvSpPr/>
            <p:nvPr/>
          </p:nvSpPr>
          <p:spPr>
            <a:xfrm>
              <a:off x="2620800" y="2809800"/>
              <a:ext cx="171360" cy="165240"/>
            </a:xfrm>
            <a:custGeom>
              <a:avLst/>
              <a:gdLst>
                <a:gd name="textAreaLeft" fmla="*/ 0 w 171360"/>
                <a:gd name="textAreaRight" fmla="*/ 171360 w 171360"/>
                <a:gd name="textAreaTop" fmla="*/ 0 h 165240"/>
                <a:gd name="textAreaBottom" fmla="*/ 165600 h 165240"/>
              </a:gdLst>
              <a:ahLst/>
              <a:rect l="textAreaLeft" t="textAreaTop" r="textAreaRight" b="textAreaBottom"/>
              <a:pathLst>
                <a:path w="214" h="209">
                  <a:moveTo>
                    <a:pt x="0" y="108"/>
                  </a:moveTo>
                  <a:lnTo>
                    <a:pt x="18" y="94"/>
                  </a:lnTo>
                  <a:lnTo>
                    <a:pt x="26" y="74"/>
                  </a:lnTo>
                  <a:lnTo>
                    <a:pt x="49" y="68"/>
                  </a:lnTo>
                  <a:lnTo>
                    <a:pt x="63" y="54"/>
                  </a:lnTo>
                  <a:lnTo>
                    <a:pt x="83" y="34"/>
                  </a:lnTo>
                  <a:lnTo>
                    <a:pt x="115" y="28"/>
                  </a:lnTo>
                  <a:lnTo>
                    <a:pt x="127" y="10"/>
                  </a:lnTo>
                  <a:lnTo>
                    <a:pt x="147" y="0"/>
                  </a:lnTo>
                  <a:lnTo>
                    <a:pt x="155" y="12"/>
                  </a:lnTo>
                  <a:lnTo>
                    <a:pt x="159" y="38"/>
                  </a:lnTo>
                  <a:lnTo>
                    <a:pt x="170" y="52"/>
                  </a:lnTo>
                  <a:lnTo>
                    <a:pt x="186" y="68"/>
                  </a:lnTo>
                  <a:lnTo>
                    <a:pt x="180" y="96"/>
                  </a:lnTo>
                  <a:lnTo>
                    <a:pt x="182" y="131"/>
                  </a:lnTo>
                  <a:lnTo>
                    <a:pt x="186" y="153"/>
                  </a:lnTo>
                  <a:lnTo>
                    <a:pt x="206" y="169"/>
                  </a:lnTo>
                  <a:lnTo>
                    <a:pt x="214" y="201"/>
                  </a:lnTo>
                  <a:lnTo>
                    <a:pt x="192" y="209"/>
                  </a:lnTo>
                  <a:lnTo>
                    <a:pt x="168" y="209"/>
                  </a:lnTo>
                  <a:lnTo>
                    <a:pt x="161" y="203"/>
                  </a:lnTo>
                  <a:lnTo>
                    <a:pt x="151" y="195"/>
                  </a:lnTo>
                  <a:lnTo>
                    <a:pt x="139" y="185"/>
                  </a:lnTo>
                  <a:lnTo>
                    <a:pt x="131" y="187"/>
                  </a:lnTo>
                  <a:lnTo>
                    <a:pt x="121" y="187"/>
                  </a:lnTo>
                  <a:lnTo>
                    <a:pt x="113" y="193"/>
                  </a:lnTo>
                  <a:lnTo>
                    <a:pt x="103" y="199"/>
                  </a:lnTo>
                  <a:lnTo>
                    <a:pt x="91" y="203"/>
                  </a:lnTo>
                  <a:lnTo>
                    <a:pt x="77" y="207"/>
                  </a:lnTo>
                  <a:lnTo>
                    <a:pt x="69" y="203"/>
                  </a:lnTo>
                  <a:lnTo>
                    <a:pt x="57" y="199"/>
                  </a:lnTo>
                  <a:lnTo>
                    <a:pt x="49" y="195"/>
                  </a:lnTo>
                  <a:lnTo>
                    <a:pt x="40" y="185"/>
                  </a:lnTo>
                  <a:lnTo>
                    <a:pt x="36" y="175"/>
                  </a:lnTo>
                  <a:lnTo>
                    <a:pt x="30" y="163"/>
                  </a:lnTo>
                  <a:lnTo>
                    <a:pt x="26" y="147"/>
                  </a:lnTo>
                  <a:lnTo>
                    <a:pt x="22" y="133"/>
                  </a:lnTo>
                  <a:lnTo>
                    <a:pt x="16" y="127"/>
                  </a:lnTo>
                  <a:lnTo>
                    <a:pt x="6" y="121"/>
                  </a:lnTo>
                  <a:lnTo>
                    <a:pt x="4" y="116"/>
                  </a:lnTo>
                  <a:lnTo>
                    <a:pt x="0" y="108"/>
                  </a:lnTo>
                  <a:close/>
                </a:path>
              </a:pathLst>
            </a:custGeom>
            <a:solidFill>
              <a:srgbClr val="fde3b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22"/>
            <p:cNvSpPr/>
            <p:nvPr/>
          </p:nvSpPr>
          <p:spPr>
            <a:xfrm>
              <a:off x="3463920" y="3276720"/>
              <a:ext cx="196560" cy="15048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150480"/>
                <a:gd name="textAreaBottom" fmla="*/ 150840 h 150480"/>
              </a:gdLst>
              <a:ahLst/>
              <a:rect l="textAreaLeft" t="textAreaTop" r="textAreaRight" b="textAreaBottom"/>
              <a:pathLst>
                <a:path w="248" h="191">
                  <a:moveTo>
                    <a:pt x="166" y="6"/>
                  </a:moveTo>
                  <a:lnTo>
                    <a:pt x="186" y="20"/>
                  </a:lnTo>
                  <a:lnTo>
                    <a:pt x="198" y="40"/>
                  </a:lnTo>
                  <a:lnTo>
                    <a:pt x="192" y="60"/>
                  </a:lnTo>
                  <a:lnTo>
                    <a:pt x="190" y="72"/>
                  </a:lnTo>
                  <a:lnTo>
                    <a:pt x="196" y="81"/>
                  </a:lnTo>
                  <a:lnTo>
                    <a:pt x="214" y="85"/>
                  </a:lnTo>
                  <a:lnTo>
                    <a:pt x="232" y="99"/>
                  </a:lnTo>
                  <a:lnTo>
                    <a:pt x="244" y="119"/>
                  </a:lnTo>
                  <a:lnTo>
                    <a:pt x="248" y="143"/>
                  </a:lnTo>
                  <a:lnTo>
                    <a:pt x="244" y="161"/>
                  </a:lnTo>
                  <a:lnTo>
                    <a:pt x="232" y="171"/>
                  </a:lnTo>
                  <a:lnTo>
                    <a:pt x="214" y="179"/>
                  </a:lnTo>
                  <a:lnTo>
                    <a:pt x="198" y="173"/>
                  </a:lnTo>
                  <a:lnTo>
                    <a:pt x="176" y="161"/>
                  </a:lnTo>
                  <a:lnTo>
                    <a:pt x="163" y="157"/>
                  </a:lnTo>
                  <a:lnTo>
                    <a:pt x="149" y="161"/>
                  </a:lnTo>
                  <a:lnTo>
                    <a:pt x="143" y="173"/>
                  </a:lnTo>
                  <a:lnTo>
                    <a:pt x="133" y="185"/>
                  </a:lnTo>
                  <a:lnTo>
                    <a:pt x="119" y="191"/>
                  </a:lnTo>
                  <a:lnTo>
                    <a:pt x="103" y="185"/>
                  </a:lnTo>
                  <a:lnTo>
                    <a:pt x="91" y="173"/>
                  </a:lnTo>
                  <a:lnTo>
                    <a:pt x="79" y="163"/>
                  </a:lnTo>
                  <a:lnTo>
                    <a:pt x="65" y="163"/>
                  </a:lnTo>
                  <a:lnTo>
                    <a:pt x="53" y="173"/>
                  </a:lnTo>
                  <a:lnTo>
                    <a:pt x="36" y="181"/>
                  </a:lnTo>
                  <a:lnTo>
                    <a:pt x="22" y="183"/>
                  </a:lnTo>
                  <a:lnTo>
                    <a:pt x="6" y="175"/>
                  </a:lnTo>
                  <a:lnTo>
                    <a:pt x="0" y="157"/>
                  </a:lnTo>
                  <a:lnTo>
                    <a:pt x="4" y="129"/>
                  </a:lnTo>
                  <a:lnTo>
                    <a:pt x="16" y="99"/>
                  </a:lnTo>
                  <a:lnTo>
                    <a:pt x="22" y="76"/>
                  </a:lnTo>
                  <a:lnTo>
                    <a:pt x="16" y="54"/>
                  </a:lnTo>
                  <a:lnTo>
                    <a:pt x="22" y="38"/>
                  </a:lnTo>
                  <a:lnTo>
                    <a:pt x="38" y="28"/>
                  </a:lnTo>
                  <a:lnTo>
                    <a:pt x="55" y="32"/>
                  </a:lnTo>
                  <a:lnTo>
                    <a:pt x="63" y="38"/>
                  </a:lnTo>
                  <a:lnTo>
                    <a:pt x="67" y="20"/>
                  </a:lnTo>
                  <a:lnTo>
                    <a:pt x="79" y="8"/>
                  </a:lnTo>
                  <a:lnTo>
                    <a:pt x="99" y="2"/>
                  </a:lnTo>
                  <a:lnTo>
                    <a:pt x="123" y="10"/>
                  </a:lnTo>
                  <a:lnTo>
                    <a:pt x="131" y="10"/>
                  </a:lnTo>
                  <a:lnTo>
                    <a:pt x="137" y="0"/>
                  </a:lnTo>
                  <a:lnTo>
                    <a:pt x="166" y="6"/>
                  </a:lnTo>
                  <a:close/>
                </a:path>
              </a:pathLst>
            </a:custGeom>
            <a:solidFill>
              <a:srgbClr val="c1ce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23"/>
            <p:cNvSpPr/>
            <p:nvPr/>
          </p:nvSpPr>
          <p:spPr>
            <a:xfrm>
              <a:off x="1679400" y="4549680"/>
              <a:ext cx="268200" cy="220680"/>
            </a:xfrm>
            <a:custGeom>
              <a:avLst/>
              <a:gdLst>
                <a:gd name="textAreaLeft" fmla="*/ 0 w 268200"/>
                <a:gd name="textAreaRight" fmla="*/ 268200 w 268200"/>
                <a:gd name="textAreaTop" fmla="*/ 0 h 220680"/>
                <a:gd name="textAreaBottom" fmla="*/ 221040 h 220680"/>
              </a:gdLst>
              <a:ahLst/>
              <a:rect l="textAreaLeft" t="textAreaTop" r="textAreaRight" b="textAreaBottom"/>
              <a:pathLst>
                <a:path w="337" h="278">
                  <a:moveTo>
                    <a:pt x="10" y="68"/>
                  </a:moveTo>
                  <a:lnTo>
                    <a:pt x="22" y="82"/>
                  </a:lnTo>
                  <a:lnTo>
                    <a:pt x="40" y="94"/>
                  </a:lnTo>
                  <a:lnTo>
                    <a:pt x="50" y="120"/>
                  </a:lnTo>
                  <a:lnTo>
                    <a:pt x="55" y="147"/>
                  </a:lnTo>
                  <a:lnTo>
                    <a:pt x="61" y="175"/>
                  </a:lnTo>
                  <a:lnTo>
                    <a:pt x="69" y="197"/>
                  </a:lnTo>
                  <a:lnTo>
                    <a:pt x="87" y="215"/>
                  </a:lnTo>
                  <a:lnTo>
                    <a:pt x="105" y="225"/>
                  </a:lnTo>
                  <a:lnTo>
                    <a:pt x="125" y="221"/>
                  </a:lnTo>
                  <a:lnTo>
                    <a:pt x="155" y="219"/>
                  </a:lnTo>
                  <a:lnTo>
                    <a:pt x="186" y="221"/>
                  </a:lnTo>
                  <a:lnTo>
                    <a:pt x="204" y="233"/>
                  </a:lnTo>
                  <a:lnTo>
                    <a:pt x="222" y="247"/>
                  </a:lnTo>
                  <a:lnTo>
                    <a:pt x="230" y="268"/>
                  </a:lnTo>
                  <a:lnTo>
                    <a:pt x="252" y="276"/>
                  </a:lnTo>
                  <a:lnTo>
                    <a:pt x="274" y="268"/>
                  </a:lnTo>
                  <a:lnTo>
                    <a:pt x="295" y="278"/>
                  </a:lnTo>
                  <a:lnTo>
                    <a:pt x="311" y="274"/>
                  </a:lnTo>
                  <a:lnTo>
                    <a:pt x="337" y="276"/>
                  </a:lnTo>
                  <a:lnTo>
                    <a:pt x="325" y="255"/>
                  </a:lnTo>
                  <a:lnTo>
                    <a:pt x="319" y="225"/>
                  </a:lnTo>
                  <a:lnTo>
                    <a:pt x="317" y="201"/>
                  </a:lnTo>
                  <a:lnTo>
                    <a:pt x="329" y="181"/>
                  </a:lnTo>
                  <a:lnTo>
                    <a:pt x="329" y="155"/>
                  </a:lnTo>
                  <a:lnTo>
                    <a:pt x="319" y="137"/>
                  </a:lnTo>
                  <a:lnTo>
                    <a:pt x="313" y="112"/>
                  </a:lnTo>
                  <a:lnTo>
                    <a:pt x="323" y="88"/>
                  </a:lnTo>
                  <a:lnTo>
                    <a:pt x="321" y="64"/>
                  </a:lnTo>
                  <a:lnTo>
                    <a:pt x="307" y="46"/>
                  </a:lnTo>
                  <a:lnTo>
                    <a:pt x="286" y="36"/>
                  </a:lnTo>
                  <a:lnTo>
                    <a:pt x="260" y="28"/>
                  </a:lnTo>
                  <a:lnTo>
                    <a:pt x="244" y="12"/>
                  </a:lnTo>
                  <a:lnTo>
                    <a:pt x="220" y="0"/>
                  </a:lnTo>
                  <a:lnTo>
                    <a:pt x="188" y="8"/>
                  </a:lnTo>
                  <a:lnTo>
                    <a:pt x="165" y="14"/>
                  </a:lnTo>
                  <a:lnTo>
                    <a:pt x="147" y="34"/>
                  </a:lnTo>
                  <a:lnTo>
                    <a:pt x="133" y="52"/>
                  </a:lnTo>
                  <a:lnTo>
                    <a:pt x="109" y="62"/>
                  </a:lnTo>
                  <a:lnTo>
                    <a:pt x="87" y="56"/>
                  </a:lnTo>
                  <a:lnTo>
                    <a:pt x="67" y="44"/>
                  </a:lnTo>
                  <a:lnTo>
                    <a:pt x="46" y="32"/>
                  </a:lnTo>
                  <a:lnTo>
                    <a:pt x="22" y="34"/>
                  </a:lnTo>
                  <a:lnTo>
                    <a:pt x="0" y="40"/>
                  </a:lnTo>
                  <a:lnTo>
                    <a:pt x="2" y="56"/>
                  </a:lnTo>
                  <a:lnTo>
                    <a:pt x="10" y="68"/>
                  </a:lnTo>
                  <a:close/>
                </a:path>
              </a:pathLst>
            </a:custGeom>
            <a:solidFill>
              <a:srgbClr val="e3be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" name="Group 24"/>
            <p:cNvGrpSpPr/>
            <p:nvPr/>
          </p:nvGrpSpPr>
          <p:grpSpPr>
            <a:xfrm>
              <a:off x="2325600" y="2860560"/>
              <a:ext cx="127080" cy="301680"/>
              <a:chOff x="2325600" y="2860560"/>
              <a:chExt cx="127080" cy="301680"/>
            </a:xfrm>
          </p:grpSpPr>
          <p:sp>
            <p:nvSpPr>
              <p:cNvPr id="119" name="Freeform 25"/>
              <p:cNvSpPr/>
              <p:nvPr/>
            </p:nvSpPr>
            <p:spPr>
              <a:xfrm>
                <a:off x="2325600" y="3033720"/>
                <a:ext cx="127080" cy="128520"/>
              </a:xfrm>
              <a:custGeom>
                <a:avLst/>
                <a:gdLst>
                  <a:gd name="textAreaLeft" fmla="*/ 0 w 127080"/>
                  <a:gd name="textAreaRight" fmla="*/ 127440 w 12708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161" h="163">
                    <a:moveTo>
                      <a:pt x="12" y="44"/>
                    </a:moveTo>
                    <a:lnTo>
                      <a:pt x="20" y="54"/>
                    </a:lnTo>
                    <a:lnTo>
                      <a:pt x="26" y="66"/>
                    </a:lnTo>
                    <a:lnTo>
                      <a:pt x="32" y="80"/>
                    </a:lnTo>
                    <a:lnTo>
                      <a:pt x="32" y="96"/>
                    </a:lnTo>
                    <a:lnTo>
                      <a:pt x="28" y="113"/>
                    </a:lnTo>
                    <a:lnTo>
                      <a:pt x="32" y="123"/>
                    </a:lnTo>
                    <a:lnTo>
                      <a:pt x="40" y="137"/>
                    </a:lnTo>
                    <a:lnTo>
                      <a:pt x="50" y="145"/>
                    </a:lnTo>
                    <a:lnTo>
                      <a:pt x="62" y="149"/>
                    </a:lnTo>
                    <a:lnTo>
                      <a:pt x="75" y="147"/>
                    </a:lnTo>
                    <a:lnTo>
                      <a:pt x="79" y="153"/>
                    </a:lnTo>
                    <a:lnTo>
                      <a:pt x="87" y="159"/>
                    </a:lnTo>
                    <a:lnTo>
                      <a:pt x="95" y="163"/>
                    </a:lnTo>
                    <a:lnTo>
                      <a:pt x="103" y="163"/>
                    </a:lnTo>
                    <a:lnTo>
                      <a:pt x="111" y="159"/>
                    </a:lnTo>
                    <a:lnTo>
                      <a:pt x="113" y="149"/>
                    </a:lnTo>
                    <a:lnTo>
                      <a:pt x="117" y="141"/>
                    </a:lnTo>
                    <a:lnTo>
                      <a:pt x="127" y="143"/>
                    </a:lnTo>
                    <a:lnTo>
                      <a:pt x="139" y="143"/>
                    </a:lnTo>
                    <a:lnTo>
                      <a:pt x="147" y="137"/>
                    </a:lnTo>
                    <a:lnTo>
                      <a:pt x="151" y="129"/>
                    </a:lnTo>
                    <a:lnTo>
                      <a:pt x="149" y="119"/>
                    </a:lnTo>
                    <a:lnTo>
                      <a:pt x="145" y="111"/>
                    </a:lnTo>
                    <a:lnTo>
                      <a:pt x="145" y="104"/>
                    </a:lnTo>
                    <a:lnTo>
                      <a:pt x="147" y="96"/>
                    </a:lnTo>
                    <a:lnTo>
                      <a:pt x="153" y="90"/>
                    </a:lnTo>
                    <a:lnTo>
                      <a:pt x="157" y="84"/>
                    </a:lnTo>
                    <a:lnTo>
                      <a:pt x="161" y="72"/>
                    </a:lnTo>
                    <a:lnTo>
                      <a:pt x="161" y="60"/>
                    </a:lnTo>
                    <a:lnTo>
                      <a:pt x="157" y="48"/>
                    </a:lnTo>
                    <a:lnTo>
                      <a:pt x="149" y="40"/>
                    </a:lnTo>
                    <a:lnTo>
                      <a:pt x="135" y="36"/>
                    </a:lnTo>
                    <a:lnTo>
                      <a:pt x="127" y="36"/>
                    </a:lnTo>
                    <a:lnTo>
                      <a:pt x="119" y="32"/>
                    </a:lnTo>
                    <a:lnTo>
                      <a:pt x="111" y="30"/>
                    </a:lnTo>
                    <a:lnTo>
                      <a:pt x="101" y="32"/>
                    </a:lnTo>
                    <a:lnTo>
                      <a:pt x="95" y="34"/>
                    </a:lnTo>
                    <a:lnTo>
                      <a:pt x="83" y="32"/>
                    </a:lnTo>
                    <a:lnTo>
                      <a:pt x="77" y="24"/>
                    </a:lnTo>
                    <a:lnTo>
                      <a:pt x="71" y="14"/>
                    </a:lnTo>
                    <a:lnTo>
                      <a:pt x="64" y="8"/>
                    </a:lnTo>
                    <a:lnTo>
                      <a:pt x="54" y="2"/>
                    </a:lnTo>
                    <a:lnTo>
                      <a:pt x="36" y="0"/>
                    </a:lnTo>
                    <a:lnTo>
                      <a:pt x="22" y="0"/>
                    </a:lnTo>
                    <a:lnTo>
                      <a:pt x="8" y="4"/>
                    </a:lnTo>
                    <a:lnTo>
                      <a:pt x="2" y="10"/>
                    </a:lnTo>
                    <a:lnTo>
                      <a:pt x="0" y="16"/>
                    </a:lnTo>
                    <a:lnTo>
                      <a:pt x="2" y="22"/>
                    </a:lnTo>
                    <a:lnTo>
                      <a:pt x="12" y="44"/>
                    </a:lnTo>
                    <a:close/>
                  </a:path>
                </a:pathLst>
              </a:custGeom>
              <a:solidFill>
                <a:srgbClr val="dbffb8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Freeform 26"/>
              <p:cNvSpPr/>
              <p:nvPr/>
            </p:nvSpPr>
            <p:spPr>
              <a:xfrm>
                <a:off x="2325600" y="2860560"/>
                <a:ext cx="61920" cy="96840"/>
              </a:xfrm>
              <a:custGeom>
                <a:avLst/>
                <a:gdLst>
                  <a:gd name="textAreaLeft" fmla="*/ 0 w 61920"/>
                  <a:gd name="textAreaRight" fmla="*/ 62280 w 61920"/>
                  <a:gd name="textAreaTop" fmla="*/ 0 h 96840"/>
                  <a:gd name="textAreaBottom" fmla="*/ 97200 h 96840"/>
                </a:gdLst>
                <a:ahLst/>
                <a:rect l="textAreaLeft" t="textAreaTop" r="textAreaRight" b="textAreaBottom"/>
                <a:pathLst>
                  <a:path w="77" h="121">
                    <a:moveTo>
                      <a:pt x="8" y="53"/>
                    </a:moveTo>
                    <a:lnTo>
                      <a:pt x="10" y="73"/>
                    </a:lnTo>
                    <a:lnTo>
                      <a:pt x="14" y="93"/>
                    </a:lnTo>
                    <a:lnTo>
                      <a:pt x="20" y="103"/>
                    </a:lnTo>
                    <a:lnTo>
                      <a:pt x="28" y="113"/>
                    </a:lnTo>
                    <a:lnTo>
                      <a:pt x="38" y="119"/>
                    </a:lnTo>
                    <a:lnTo>
                      <a:pt x="52" y="121"/>
                    </a:lnTo>
                    <a:lnTo>
                      <a:pt x="64" y="117"/>
                    </a:lnTo>
                    <a:lnTo>
                      <a:pt x="71" y="107"/>
                    </a:lnTo>
                    <a:lnTo>
                      <a:pt x="71" y="91"/>
                    </a:lnTo>
                    <a:lnTo>
                      <a:pt x="69" y="77"/>
                    </a:lnTo>
                    <a:lnTo>
                      <a:pt x="67" y="67"/>
                    </a:lnTo>
                    <a:lnTo>
                      <a:pt x="73" y="57"/>
                    </a:lnTo>
                    <a:lnTo>
                      <a:pt x="77" y="46"/>
                    </a:lnTo>
                    <a:lnTo>
                      <a:pt x="77" y="30"/>
                    </a:lnTo>
                    <a:lnTo>
                      <a:pt x="71" y="14"/>
                    </a:lnTo>
                    <a:lnTo>
                      <a:pt x="66" y="4"/>
                    </a:lnTo>
                    <a:lnTo>
                      <a:pt x="58" y="0"/>
                    </a:lnTo>
                    <a:lnTo>
                      <a:pt x="48" y="2"/>
                    </a:lnTo>
                    <a:lnTo>
                      <a:pt x="40" y="10"/>
                    </a:lnTo>
                    <a:lnTo>
                      <a:pt x="36" y="16"/>
                    </a:lnTo>
                    <a:lnTo>
                      <a:pt x="32" y="18"/>
                    </a:lnTo>
                    <a:lnTo>
                      <a:pt x="24" y="14"/>
                    </a:lnTo>
                    <a:lnTo>
                      <a:pt x="14" y="14"/>
                    </a:lnTo>
                    <a:lnTo>
                      <a:pt x="6" y="18"/>
                    </a:lnTo>
                    <a:lnTo>
                      <a:pt x="2" y="26"/>
                    </a:lnTo>
                    <a:lnTo>
                      <a:pt x="0" y="38"/>
                    </a:lnTo>
                    <a:lnTo>
                      <a:pt x="8" y="53"/>
                    </a:lnTo>
                    <a:close/>
                  </a:path>
                </a:pathLst>
              </a:custGeom>
              <a:solidFill>
                <a:srgbClr val="dbffb8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Freeform 27"/>
          <p:cNvSpPr/>
          <p:nvPr/>
        </p:nvSpPr>
        <p:spPr>
          <a:xfrm>
            <a:off x="4794120" y="1006560"/>
            <a:ext cx="1247760" cy="1084320"/>
          </a:xfrm>
          <a:custGeom>
            <a:avLst/>
            <a:gdLst>
              <a:gd name="textAreaLeft" fmla="*/ 0 w 1247760"/>
              <a:gd name="textAreaRight" fmla="*/ 1247760 w 1247760"/>
              <a:gd name="textAreaTop" fmla="*/ 0 h 1084320"/>
              <a:gd name="textAreaBottom" fmla="*/ 1084680 h 1084320"/>
            </a:gdLst>
            <a:ahLst/>
            <a:rect l="textAreaLeft" t="textAreaTop" r="textAreaRight" b="textAreaBottom"/>
            <a:pathLst>
              <a:path w="1573" h="1366">
                <a:moveTo>
                  <a:pt x="883" y="1189"/>
                </a:moveTo>
                <a:lnTo>
                  <a:pt x="879" y="1171"/>
                </a:lnTo>
                <a:lnTo>
                  <a:pt x="885" y="1145"/>
                </a:lnTo>
                <a:lnTo>
                  <a:pt x="901" y="1126"/>
                </a:lnTo>
                <a:lnTo>
                  <a:pt x="901" y="1104"/>
                </a:lnTo>
                <a:lnTo>
                  <a:pt x="885" y="1090"/>
                </a:lnTo>
                <a:lnTo>
                  <a:pt x="859" y="1076"/>
                </a:lnTo>
                <a:lnTo>
                  <a:pt x="863" y="1052"/>
                </a:lnTo>
                <a:lnTo>
                  <a:pt x="857" y="1024"/>
                </a:lnTo>
                <a:lnTo>
                  <a:pt x="839" y="1016"/>
                </a:lnTo>
                <a:lnTo>
                  <a:pt x="825" y="1008"/>
                </a:lnTo>
                <a:lnTo>
                  <a:pt x="827" y="979"/>
                </a:lnTo>
                <a:lnTo>
                  <a:pt x="819" y="947"/>
                </a:lnTo>
                <a:lnTo>
                  <a:pt x="806" y="931"/>
                </a:lnTo>
                <a:lnTo>
                  <a:pt x="788" y="915"/>
                </a:lnTo>
                <a:lnTo>
                  <a:pt x="770" y="911"/>
                </a:lnTo>
                <a:lnTo>
                  <a:pt x="774" y="893"/>
                </a:lnTo>
                <a:lnTo>
                  <a:pt x="792" y="891"/>
                </a:lnTo>
                <a:lnTo>
                  <a:pt x="810" y="889"/>
                </a:lnTo>
                <a:lnTo>
                  <a:pt x="821" y="869"/>
                </a:lnTo>
                <a:lnTo>
                  <a:pt x="818" y="850"/>
                </a:lnTo>
                <a:lnTo>
                  <a:pt x="806" y="842"/>
                </a:lnTo>
                <a:lnTo>
                  <a:pt x="794" y="836"/>
                </a:lnTo>
                <a:lnTo>
                  <a:pt x="800" y="820"/>
                </a:lnTo>
                <a:lnTo>
                  <a:pt x="814" y="800"/>
                </a:lnTo>
                <a:lnTo>
                  <a:pt x="819" y="772"/>
                </a:lnTo>
                <a:lnTo>
                  <a:pt x="814" y="754"/>
                </a:lnTo>
                <a:lnTo>
                  <a:pt x="821" y="732"/>
                </a:lnTo>
                <a:lnTo>
                  <a:pt x="827" y="705"/>
                </a:lnTo>
                <a:lnTo>
                  <a:pt x="800" y="695"/>
                </a:lnTo>
                <a:lnTo>
                  <a:pt x="774" y="705"/>
                </a:lnTo>
                <a:lnTo>
                  <a:pt x="764" y="722"/>
                </a:lnTo>
                <a:lnTo>
                  <a:pt x="742" y="726"/>
                </a:lnTo>
                <a:lnTo>
                  <a:pt x="732" y="740"/>
                </a:lnTo>
                <a:lnTo>
                  <a:pt x="722" y="758"/>
                </a:lnTo>
                <a:lnTo>
                  <a:pt x="708" y="766"/>
                </a:lnTo>
                <a:lnTo>
                  <a:pt x="697" y="746"/>
                </a:lnTo>
                <a:lnTo>
                  <a:pt x="687" y="722"/>
                </a:lnTo>
                <a:lnTo>
                  <a:pt x="675" y="701"/>
                </a:lnTo>
                <a:lnTo>
                  <a:pt x="667" y="689"/>
                </a:lnTo>
                <a:lnTo>
                  <a:pt x="651" y="693"/>
                </a:lnTo>
                <a:lnTo>
                  <a:pt x="639" y="707"/>
                </a:lnTo>
                <a:lnTo>
                  <a:pt x="631" y="728"/>
                </a:lnTo>
                <a:lnTo>
                  <a:pt x="619" y="717"/>
                </a:lnTo>
                <a:lnTo>
                  <a:pt x="607" y="705"/>
                </a:lnTo>
                <a:lnTo>
                  <a:pt x="589" y="713"/>
                </a:lnTo>
                <a:lnTo>
                  <a:pt x="578" y="732"/>
                </a:lnTo>
                <a:lnTo>
                  <a:pt x="560" y="748"/>
                </a:lnTo>
                <a:lnTo>
                  <a:pt x="556" y="766"/>
                </a:lnTo>
                <a:lnTo>
                  <a:pt x="572" y="792"/>
                </a:lnTo>
                <a:lnTo>
                  <a:pt x="578" y="822"/>
                </a:lnTo>
                <a:lnTo>
                  <a:pt x="583" y="863"/>
                </a:lnTo>
                <a:lnTo>
                  <a:pt x="574" y="891"/>
                </a:lnTo>
                <a:lnTo>
                  <a:pt x="560" y="911"/>
                </a:lnTo>
                <a:lnTo>
                  <a:pt x="538" y="913"/>
                </a:lnTo>
                <a:lnTo>
                  <a:pt x="516" y="919"/>
                </a:lnTo>
                <a:lnTo>
                  <a:pt x="500" y="935"/>
                </a:lnTo>
                <a:lnTo>
                  <a:pt x="480" y="955"/>
                </a:lnTo>
                <a:lnTo>
                  <a:pt x="461" y="965"/>
                </a:lnTo>
                <a:lnTo>
                  <a:pt x="443" y="963"/>
                </a:lnTo>
                <a:lnTo>
                  <a:pt x="431" y="951"/>
                </a:lnTo>
                <a:lnTo>
                  <a:pt x="423" y="929"/>
                </a:lnTo>
                <a:lnTo>
                  <a:pt x="431" y="909"/>
                </a:lnTo>
                <a:lnTo>
                  <a:pt x="419" y="889"/>
                </a:lnTo>
                <a:lnTo>
                  <a:pt x="409" y="865"/>
                </a:lnTo>
                <a:lnTo>
                  <a:pt x="411" y="842"/>
                </a:lnTo>
                <a:lnTo>
                  <a:pt x="421" y="816"/>
                </a:lnTo>
                <a:lnTo>
                  <a:pt x="417" y="794"/>
                </a:lnTo>
                <a:lnTo>
                  <a:pt x="397" y="780"/>
                </a:lnTo>
                <a:lnTo>
                  <a:pt x="371" y="772"/>
                </a:lnTo>
                <a:lnTo>
                  <a:pt x="355" y="756"/>
                </a:lnTo>
                <a:lnTo>
                  <a:pt x="346" y="728"/>
                </a:lnTo>
                <a:lnTo>
                  <a:pt x="332" y="711"/>
                </a:lnTo>
                <a:lnTo>
                  <a:pt x="308" y="707"/>
                </a:lnTo>
                <a:lnTo>
                  <a:pt x="290" y="718"/>
                </a:lnTo>
                <a:lnTo>
                  <a:pt x="294" y="750"/>
                </a:lnTo>
                <a:lnTo>
                  <a:pt x="280" y="776"/>
                </a:lnTo>
                <a:lnTo>
                  <a:pt x="264" y="788"/>
                </a:lnTo>
                <a:lnTo>
                  <a:pt x="252" y="810"/>
                </a:lnTo>
                <a:lnTo>
                  <a:pt x="230" y="822"/>
                </a:lnTo>
                <a:lnTo>
                  <a:pt x="209" y="834"/>
                </a:lnTo>
                <a:lnTo>
                  <a:pt x="195" y="850"/>
                </a:lnTo>
                <a:lnTo>
                  <a:pt x="167" y="854"/>
                </a:lnTo>
                <a:lnTo>
                  <a:pt x="141" y="846"/>
                </a:lnTo>
                <a:lnTo>
                  <a:pt x="117" y="850"/>
                </a:lnTo>
                <a:lnTo>
                  <a:pt x="90" y="857"/>
                </a:lnTo>
                <a:lnTo>
                  <a:pt x="96" y="816"/>
                </a:lnTo>
                <a:lnTo>
                  <a:pt x="98" y="780"/>
                </a:lnTo>
                <a:lnTo>
                  <a:pt x="92" y="744"/>
                </a:lnTo>
                <a:lnTo>
                  <a:pt x="80" y="730"/>
                </a:lnTo>
                <a:lnTo>
                  <a:pt x="56" y="728"/>
                </a:lnTo>
                <a:lnTo>
                  <a:pt x="34" y="720"/>
                </a:lnTo>
                <a:lnTo>
                  <a:pt x="10" y="711"/>
                </a:lnTo>
                <a:lnTo>
                  <a:pt x="0" y="695"/>
                </a:lnTo>
                <a:lnTo>
                  <a:pt x="2" y="667"/>
                </a:lnTo>
                <a:lnTo>
                  <a:pt x="14" y="643"/>
                </a:lnTo>
                <a:lnTo>
                  <a:pt x="26" y="629"/>
                </a:lnTo>
                <a:lnTo>
                  <a:pt x="52" y="623"/>
                </a:lnTo>
                <a:lnTo>
                  <a:pt x="80" y="633"/>
                </a:lnTo>
                <a:lnTo>
                  <a:pt x="104" y="641"/>
                </a:lnTo>
                <a:lnTo>
                  <a:pt x="131" y="629"/>
                </a:lnTo>
                <a:lnTo>
                  <a:pt x="143" y="609"/>
                </a:lnTo>
                <a:lnTo>
                  <a:pt x="145" y="578"/>
                </a:lnTo>
                <a:lnTo>
                  <a:pt x="139" y="544"/>
                </a:lnTo>
                <a:lnTo>
                  <a:pt x="135" y="518"/>
                </a:lnTo>
                <a:lnTo>
                  <a:pt x="145" y="492"/>
                </a:lnTo>
                <a:lnTo>
                  <a:pt x="157" y="464"/>
                </a:lnTo>
                <a:lnTo>
                  <a:pt x="165" y="431"/>
                </a:lnTo>
                <a:lnTo>
                  <a:pt x="173" y="397"/>
                </a:lnTo>
                <a:lnTo>
                  <a:pt x="175" y="365"/>
                </a:lnTo>
                <a:lnTo>
                  <a:pt x="169" y="333"/>
                </a:lnTo>
                <a:lnTo>
                  <a:pt x="191" y="343"/>
                </a:lnTo>
                <a:lnTo>
                  <a:pt x="199" y="323"/>
                </a:lnTo>
                <a:lnTo>
                  <a:pt x="213" y="309"/>
                </a:lnTo>
                <a:lnTo>
                  <a:pt x="230" y="304"/>
                </a:lnTo>
                <a:lnTo>
                  <a:pt x="242" y="315"/>
                </a:lnTo>
                <a:lnTo>
                  <a:pt x="254" y="335"/>
                </a:lnTo>
                <a:lnTo>
                  <a:pt x="268" y="347"/>
                </a:lnTo>
                <a:lnTo>
                  <a:pt x="272" y="325"/>
                </a:lnTo>
                <a:lnTo>
                  <a:pt x="268" y="300"/>
                </a:lnTo>
                <a:lnTo>
                  <a:pt x="256" y="282"/>
                </a:lnTo>
                <a:lnTo>
                  <a:pt x="232" y="272"/>
                </a:lnTo>
                <a:lnTo>
                  <a:pt x="209" y="274"/>
                </a:lnTo>
                <a:lnTo>
                  <a:pt x="185" y="278"/>
                </a:lnTo>
                <a:lnTo>
                  <a:pt x="165" y="268"/>
                </a:lnTo>
                <a:lnTo>
                  <a:pt x="157" y="246"/>
                </a:lnTo>
                <a:lnTo>
                  <a:pt x="155" y="222"/>
                </a:lnTo>
                <a:lnTo>
                  <a:pt x="167" y="194"/>
                </a:lnTo>
                <a:lnTo>
                  <a:pt x="187" y="184"/>
                </a:lnTo>
                <a:lnTo>
                  <a:pt x="195" y="165"/>
                </a:lnTo>
                <a:lnTo>
                  <a:pt x="179" y="153"/>
                </a:lnTo>
                <a:lnTo>
                  <a:pt x="165" y="139"/>
                </a:lnTo>
                <a:lnTo>
                  <a:pt x="169" y="121"/>
                </a:lnTo>
                <a:lnTo>
                  <a:pt x="187" y="117"/>
                </a:lnTo>
                <a:lnTo>
                  <a:pt x="203" y="119"/>
                </a:lnTo>
                <a:lnTo>
                  <a:pt x="213" y="105"/>
                </a:lnTo>
                <a:lnTo>
                  <a:pt x="230" y="93"/>
                </a:lnTo>
                <a:lnTo>
                  <a:pt x="258" y="87"/>
                </a:lnTo>
                <a:lnTo>
                  <a:pt x="296" y="95"/>
                </a:lnTo>
                <a:lnTo>
                  <a:pt x="334" y="91"/>
                </a:lnTo>
                <a:lnTo>
                  <a:pt x="363" y="83"/>
                </a:lnTo>
                <a:lnTo>
                  <a:pt x="399" y="73"/>
                </a:lnTo>
                <a:lnTo>
                  <a:pt x="433" y="63"/>
                </a:lnTo>
                <a:lnTo>
                  <a:pt x="465" y="61"/>
                </a:lnTo>
                <a:lnTo>
                  <a:pt x="488" y="71"/>
                </a:lnTo>
                <a:lnTo>
                  <a:pt x="498" y="85"/>
                </a:lnTo>
                <a:lnTo>
                  <a:pt x="494" y="107"/>
                </a:lnTo>
                <a:lnTo>
                  <a:pt x="486" y="131"/>
                </a:lnTo>
                <a:lnTo>
                  <a:pt x="488" y="153"/>
                </a:lnTo>
                <a:lnTo>
                  <a:pt x="496" y="172"/>
                </a:lnTo>
                <a:lnTo>
                  <a:pt x="498" y="194"/>
                </a:lnTo>
                <a:lnTo>
                  <a:pt x="488" y="208"/>
                </a:lnTo>
                <a:lnTo>
                  <a:pt x="478" y="222"/>
                </a:lnTo>
                <a:lnTo>
                  <a:pt x="488" y="236"/>
                </a:lnTo>
                <a:lnTo>
                  <a:pt x="502" y="226"/>
                </a:lnTo>
                <a:lnTo>
                  <a:pt x="518" y="234"/>
                </a:lnTo>
                <a:lnTo>
                  <a:pt x="534" y="222"/>
                </a:lnTo>
                <a:lnTo>
                  <a:pt x="554" y="214"/>
                </a:lnTo>
                <a:lnTo>
                  <a:pt x="562" y="200"/>
                </a:lnTo>
                <a:lnTo>
                  <a:pt x="546" y="180"/>
                </a:lnTo>
                <a:lnTo>
                  <a:pt x="552" y="157"/>
                </a:lnTo>
                <a:lnTo>
                  <a:pt x="566" y="141"/>
                </a:lnTo>
                <a:lnTo>
                  <a:pt x="585" y="143"/>
                </a:lnTo>
                <a:lnTo>
                  <a:pt x="595" y="159"/>
                </a:lnTo>
                <a:lnTo>
                  <a:pt x="611" y="168"/>
                </a:lnTo>
                <a:lnTo>
                  <a:pt x="627" y="180"/>
                </a:lnTo>
                <a:lnTo>
                  <a:pt x="615" y="204"/>
                </a:lnTo>
                <a:lnTo>
                  <a:pt x="601" y="224"/>
                </a:lnTo>
                <a:lnTo>
                  <a:pt x="605" y="246"/>
                </a:lnTo>
                <a:lnTo>
                  <a:pt x="609" y="270"/>
                </a:lnTo>
                <a:lnTo>
                  <a:pt x="623" y="252"/>
                </a:lnTo>
                <a:lnTo>
                  <a:pt x="637" y="224"/>
                </a:lnTo>
                <a:lnTo>
                  <a:pt x="647" y="196"/>
                </a:lnTo>
                <a:lnTo>
                  <a:pt x="645" y="184"/>
                </a:lnTo>
                <a:lnTo>
                  <a:pt x="643" y="167"/>
                </a:lnTo>
                <a:lnTo>
                  <a:pt x="627" y="139"/>
                </a:lnTo>
                <a:lnTo>
                  <a:pt x="623" y="107"/>
                </a:lnTo>
                <a:lnTo>
                  <a:pt x="631" y="75"/>
                </a:lnTo>
                <a:lnTo>
                  <a:pt x="643" y="39"/>
                </a:lnTo>
                <a:lnTo>
                  <a:pt x="655" y="12"/>
                </a:lnTo>
                <a:lnTo>
                  <a:pt x="673" y="0"/>
                </a:lnTo>
                <a:lnTo>
                  <a:pt x="689" y="4"/>
                </a:lnTo>
                <a:lnTo>
                  <a:pt x="714" y="20"/>
                </a:lnTo>
                <a:lnTo>
                  <a:pt x="742" y="28"/>
                </a:lnTo>
                <a:lnTo>
                  <a:pt x="766" y="29"/>
                </a:lnTo>
                <a:lnTo>
                  <a:pt x="794" y="22"/>
                </a:lnTo>
                <a:lnTo>
                  <a:pt x="821" y="26"/>
                </a:lnTo>
                <a:lnTo>
                  <a:pt x="841" y="37"/>
                </a:lnTo>
                <a:lnTo>
                  <a:pt x="871" y="39"/>
                </a:lnTo>
                <a:lnTo>
                  <a:pt x="895" y="59"/>
                </a:lnTo>
                <a:lnTo>
                  <a:pt x="907" y="77"/>
                </a:lnTo>
                <a:lnTo>
                  <a:pt x="915" y="93"/>
                </a:lnTo>
                <a:lnTo>
                  <a:pt x="938" y="97"/>
                </a:lnTo>
                <a:lnTo>
                  <a:pt x="956" y="113"/>
                </a:lnTo>
                <a:lnTo>
                  <a:pt x="964" y="135"/>
                </a:lnTo>
                <a:lnTo>
                  <a:pt x="978" y="153"/>
                </a:lnTo>
                <a:lnTo>
                  <a:pt x="1000" y="165"/>
                </a:lnTo>
                <a:lnTo>
                  <a:pt x="1018" y="172"/>
                </a:lnTo>
                <a:lnTo>
                  <a:pt x="1030" y="182"/>
                </a:lnTo>
                <a:lnTo>
                  <a:pt x="1038" y="208"/>
                </a:lnTo>
                <a:lnTo>
                  <a:pt x="1048" y="234"/>
                </a:lnTo>
                <a:lnTo>
                  <a:pt x="1063" y="248"/>
                </a:lnTo>
                <a:lnTo>
                  <a:pt x="1085" y="256"/>
                </a:lnTo>
                <a:lnTo>
                  <a:pt x="1107" y="248"/>
                </a:lnTo>
                <a:lnTo>
                  <a:pt x="1129" y="236"/>
                </a:lnTo>
                <a:lnTo>
                  <a:pt x="1147" y="234"/>
                </a:lnTo>
                <a:lnTo>
                  <a:pt x="1161" y="246"/>
                </a:lnTo>
                <a:lnTo>
                  <a:pt x="1176" y="258"/>
                </a:lnTo>
                <a:lnTo>
                  <a:pt x="1200" y="258"/>
                </a:lnTo>
                <a:lnTo>
                  <a:pt x="1224" y="248"/>
                </a:lnTo>
                <a:lnTo>
                  <a:pt x="1238" y="266"/>
                </a:lnTo>
                <a:lnTo>
                  <a:pt x="1256" y="274"/>
                </a:lnTo>
                <a:lnTo>
                  <a:pt x="1278" y="274"/>
                </a:lnTo>
                <a:lnTo>
                  <a:pt x="1297" y="274"/>
                </a:lnTo>
                <a:lnTo>
                  <a:pt x="1315" y="280"/>
                </a:lnTo>
                <a:lnTo>
                  <a:pt x="1333" y="300"/>
                </a:lnTo>
                <a:lnTo>
                  <a:pt x="1345" y="317"/>
                </a:lnTo>
                <a:lnTo>
                  <a:pt x="1355" y="333"/>
                </a:lnTo>
                <a:lnTo>
                  <a:pt x="1379" y="341"/>
                </a:lnTo>
                <a:lnTo>
                  <a:pt x="1399" y="353"/>
                </a:lnTo>
                <a:lnTo>
                  <a:pt x="1422" y="367"/>
                </a:lnTo>
                <a:lnTo>
                  <a:pt x="1448" y="379"/>
                </a:lnTo>
                <a:lnTo>
                  <a:pt x="1472" y="383"/>
                </a:lnTo>
                <a:lnTo>
                  <a:pt x="1492" y="395"/>
                </a:lnTo>
                <a:lnTo>
                  <a:pt x="1510" y="415"/>
                </a:lnTo>
                <a:lnTo>
                  <a:pt x="1514" y="415"/>
                </a:lnTo>
                <a:lnTo>
                  <a:pt x="1535" y="419"/>
                </a:lnTo>
                <a:lnTo>
                  <a:pt x="1559" y="409"/>
                </a:lnTo>
                <a:lnTo>
                  <a:pt x="1573" y="417"/>
                </a:lnTo>
                <a:lnTo>
                  <a:pt x="1573" y="446"/>
                </a:lnTo>
                <a:lnTo>
                  <a:pt x="1567" y="472"/>
                </a:lnTo>
                <a:lnTo>
                  <a:pt x="1557" y="488"/>
                </a:lnTo>
                <a:lnTo>
                  <a:pt x="1547" y="504"/>
                </a:lnTo>
                <a:lnTo>
                  <a:pt x="1531" y="510"/>
                </a:lnTo>
                <a:lnTo>
                  <a:pt x="1514" y="510"/>
                </a:lnTo>
                <a:lnTo>
                  <a:pt x="1496" y="498"/>
                </a:lnTo>
                <a:lnTo>
                  <a:pt x="1470" y="504"/>
                </a:lnTo>
                <a:lnTo>
                  <a:pt x="1454" y="512"/>
                </a:lnTo>
                <a:lnTo>
                  <a:pt x="1434" y="522"/>
                </a:lnTo>
                <a:lnTo>
                  <a:pt x="1418" y="532"/>
                </a:lnTo>
                <a:lnTo>
                  <a:pt x="1399" y="528"/>
                </a:lnTo>
                <a:lnTo>
                  <a:pt x="1377" y="538"/>
                </a:lnTo>
                <a:lnTo>
                  <a:pt x="1361" y="560"/>
                </a:lnTo>
                <a:lnTo>
                  <a:pt x="1379" y="583"/>
                </a:lnTo>
                <a:lnTo>
                  <a:pt x="1389" y="619"/>
                </a:lnTo>
                <a:lnTo>
                  <a:pt x="1403" y="657"/>
                </a:lnTo>
                <a:lnTo>
                  <a:pt x="1412" y="685"/>
                </a:lnTo>
                <a:lnTo>
                  <a:pt x="1414" y="715"/>
                </a:lnTo>
                <a:lnTo>
                  <a:pt x="1405" y="734"/>
                </a:lnTo>
                <a:lnTo>
                  <a:pt x="1401" y="758"/>
                </a:lnTo>
                <a:lnTo>
                  <a:pt x="1405" y="794"/>
                </a:lnTo>
                <a:lnTo>
                  <a:pt x="1403" y="826"/>
                </a:lnTo>
                <a:lnTo>
                  <a:pt x="1397" y="855"/>
                </a:lnTo>
                <a:lnTo>
                  <a:pt x="1387" y="879"/>
                </a:lnTo>
                <a:lnTo>
                  <a:pt x="1377" y="907"/>
                </a:lnTo>
                <a:lnTo>
                  <a:pt x="1375" y="931"/>
                </a:lnTo>
                <a:lnTo>
                  <a:pt x="1381" y="957"/>
                </a:lnTo>
                <a:lnTo>
                  <a:pt x="1365" y="975"/>
                </a:lnTo>
                <a:lnTo>
                  <a:pt x="1345" y="985"/>
                </a:lnTo>
                <a:lnTo>
                  <a:pt x="1325" y="989"/>
                </a:lnTo>
                <a:lnTo>
                  <a:pt x="1303" y="985"/>
                </a:lnTo>
                <a:lnTo>
                  <a:pt x="1288" y="989"/>
                </a:lnTo>
                <a:lnTo>
                  <a:pt x="1282" y="1002"/>
                </a:lnTo>
                <a:lnTo>
                  <a:pt x="1284" y="1028"/>
                </a:lnTo>
                <a:lnTo>
                  <a:pt x="1282" y="1056"/>
                </a:lnTo>
                <a:lnTo>
                  <a:pt x="1276" y="1074"/>
                </a:lnTo>
                <a:lnTo>
                  <a:pt x="1270" y="1094"/>
                </a:lnTo>
                <a:lnTo>
                  <a:pt x="1280" y="1128"/>
                </a:lnTo>
                <a:lnTo>
                  <a:pt x="1286" y="1151"/>
                </a:lnTo>
                <a:lnTo>
                  <a:pt x="1295" y="1185"/>
                </a:lnTo>
                <a:lnTo>
                  <a:pt x="1301" y="1211"/>
                </a:lnTo>
                <a:lnTo>
                  <a:pt x="1295" y="1227"/>
                </a:lnTo>
                <a:lnTo>
                  <a:pt x="1276" y="1239"/>
                </a:lnTo>
                <a:lnTo>
                  <a:pt x="1258" y="1235"/>
                </a:lnTo>
                <a:lnTo>
                  <a:pt x="1242" y="1215"/>
                </a:lnTo>
                <a:lnTo>
                  <a:pt x="1218" y="1229"/>
                </a:lnTo>
                <a:lnTo>
                  <a:pt x="1210" y="1249"/>
                </a:lnTo>
                <a:lnTo>
                  <a:pt x="1188" y="1265"/>
                </a:lnTo>
                <a:lnTo>
                  <a:pt x="1180" y="1274"/>
                </a:lnTo>
                <a:lnTo>
                  <a:pt x="1174" y="1282"/>
                </a:lnTo>
                <a:lnTo>
                  <a:pt x="1151" y="1298"/>
                </a:lnTo>
                <a:lnTo>
                  <a:pt x="1123" y="1310"/>
                </a:lnTo>
                <a:lnTo>
                  <a:pt x="1093" y="1308"/>
                </a:lnTo>
                <a:lnTo>
                  <a:pt x="1063" y="1314"/>
                </a:lnTo>
                <a:lnTo>
                  <a:pt x="1052" y="1310"/>
                </a:lnTo>
                <a:lnTo>
                  <a:pt x="1034" y="1310"/>
                </a:lnTo>
                <a:lnTo>
                  <a:pt x="1014" y="1324"/>
                </a:lnTo>
                <a:lnTo>
                  <a:pt x="998" y="1346"/>
                </a:lnTo>
                <a:lnTo>
                  <a:pt x="992" y="1358"/>
                </a:lnTo>
                <a:lnTo>
                  <a:pt x="970" y="1366"/>
                </a:lnTo>
                <a:lnTo>
                  <a:pt x="946" y="1358"/>
                </a:lnTo>
                <a:lnTo>
                  <a:pt x="929" y="1354"/>
                </a:lnTo>
                <a:lnTo>
                  <a:pt x="923" y="1336"/>
                </a:lnTo>
                <a:lnTo>
                  <a:pt x="938" y="1320"/>
                </a:lnTo>
                <a:lnTo>
                  <a:pt x="948" y="1292"/>
                </a:lnTo>
                <a:lnTo>
                  <a:pt x="952" y="1263"/>
                </a:lnTo>
                <a:lnTo>
                  <a:pt x="948" y="1237"/>
                </a:lnTo>
                <a:lnTo>
                  <a:pt x="958" y="1215"/>
                </a:lnTo>
                <a:lnTo>
                  <a:pt x="948" y="1201"/>
                </a:lnTo>
                <a:lnTo>
                  <a:pt x="931" y="1187"/>
                </a:lnTo>
                <a:lnTo>
                  <a:pt x="907" y="1187"/>
                </a:lnTo>
                <a:lnTo>
                  <a:pt x="883" y="1189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Freeform 28"/>
          <p:cNvSpPr/>
          <p:nvPr/>
        </p:nvSpPr>
        <p:spPr>
          <a:xfrm>
            <a:off x="5334120" y="4359240"/>
            <a:ext cx="618840" cy="676440"/>
          </a:xfrm>
          <a:custGeom>
            <a:avLst/>
            <a:gdLst>
              <a:gd name="textAreaLeft" fmla="*/ 0 w 618840"/>
              <a:gd name="textAreaRight" fmla="*/ 618840 w 618840"/>
              <a:gd name="textAreaTop" fmla="*/ 0 h 676440"/>
              <a:gd name="textAreaBottom" fmla="*/ 676800 h 676440"/>
            </a:gdLst>
            <a:ahLst/>
            <a:rect l="textAreaLeft" t="textAreaTop" r="textAreaRight" b="textAreaBottom"/>
            <a:pathLst>
              <a:path w="779" h="852">
                <a:moveTo>
                  <a:pt x="22" y="8"/>
                </a:moveTo>
                <a:lnTo>
                  <a:pt x="8" y="36"/>
                </a:lnTo>
                <a:lnTo>
                  <a:pt x="0" y="59"/>
                </a:lnTo>
                <a:lnTo>
                  <a:pt x="10" y="83"/>
                </a:lnTo>
                <a:lnTo>
                  <a:pt x="26" y="95"/>
                </a:lnTo>
                <a:lnTo>
                  <a:pt x="29" y="121"/>
                </a:lnTo>
                <a:lnTo>
                  <a:pt x="53" y="133"/>
                </a:lnTo>
                <a:lnTo>
                  <a:pt x="63" y="159"/>
                </a:lnTo>
                <a:lnTo>
                  <a:pt x="75" y="187"/>
                </a:lnTo>
                <a:lnTo>
                  <a:pt x="97" y="193"/>
                </a:lnTo>
                <a:lnTo>
                  <a:pt x="113" y="224"/>
                </a:lnTo>
                <a:lnTo>
                  <a:pt x="107" y="248"/>
                </a:lnTo>
                <a:lnTo>
                  <a:pt x="83" y="268"/>
                </a:lnTo>
                <a:lnTo>
                  <a:pt x="53" y="278"/>
                </a:lnTo>
                <a:lnTo>
                  <a:pt x="26" y="302"/>
                </a:lnTo>
                <a:lnTo>
                  <a:pt x="14" y="324"/>
                </a:lnTo>
                <a:lnTo>
                  <a:pt x="18" y="349"/>
                </a:lnTo>
                <a:lnTo>
                  <a:pt x="31" y="355"/>
                </a:lnTo>
                <a:lnTo>
                  <a:pt x="41" y="341"/>
                </a:lnTo>
                <a:lnTo>
                  <a:pt x="61" y="333"/>
                </a:lnTo>
                <a:lnTo>
                  <a:pt x="77" y="339"/>
                </a:lnTo>
                <a:lnTo>
                  <a:pt x="75" y="351"/>
                </a:lnTo>
                <a:lnTo>
                  <a:pt x="63" y="361"/>
                </a:lnTo>
                <a:lnTo>
                  <a:pt x="53" y="371"/>
                </a:lnTo>
                <a:lnTo>
                  <a:pt x="53" y="393"/>
                </a:lnTo>
                <a:lnTo>
                  <a:pt x="43" y="409"/>
                </a:lnTo>
                <a:lnTo>
                  <a:pt x="45" y="427"/>
                </a:lnTo>
                <a:lnTo>
                  <a:pt x="61" y="437"/>
                </a:lnTo>
                <a:lnTo>
                  <a:pt x="83" y="433"/>
                </a:lnTo>
                <a:lnTo>
                  <a:pt x="97" y="443"/>
                </a:lnTo>
                <a:lnTo>
                  <a:pt x="113" y="472"/>
                </a:lnTo>
                <a:lnTo>
                  <a:pt x="119" y="492"/>
                </a:lnTo>
                <a:lnTo>
                  <a:pt x="107" y="498"/>
                </a:lnTo>
                <a:lnTo>
                  <a:pt x="89" y="488"/>
                </a:lnTo>
                <a:lnTo>
                  <a:pt x="73" y="494"/>
                </a:lnTo>
                <a:lnTo>
                  <a:pt x="73" y="510"/>
                </a:lnTo>
                <a:lnTo>
                  <a:pt x="83" y="524"/>
                </a:lnTo>
                <a:lnTo>
                  <a:pt x="85" y="542"/>
                </a:lnTo>
                <a:lnTo>
                  <a:pt x="99" y="560"/>
                </a:lnTo>
                <a:lnTo>
                  <a:pt x="133" y="558"/>
                </a:lnTo>
                <a:lnTo>
                  <a:pt x="168" y="570"/>
                </a:lnTo>
                <a:lnTo>
                  <a:pt x="196" y="586"/>
                </a:lnTo>
                <a:lnTo>
                  <a:pt x="230" y="613"/>
                </a:lnTo>
                <a:lnTo>
                  <a:pt x="250" y="635"/>
                </a:lnTo>
                <a:lnTo>
                  <a:pt x="273" y="651"/>
                </a:lnTo>
                <a:lnTo>
                  <a:pt x="293" y="673"/>
                </a:lnTo>
                <a:lnTo>
                  <a:pt x="303" y="695"/>
                </a:lnTo>
                <a:lnTo>
                  <a:pt x="315" y="721"/>
                </a:lnTo>
                <a:lnTo>
                  <a:pt x="333" y="735"/>
                </a:lnTo>
                <a:lnTo>
                  <a:pt x="351" y="721"/>
                </a:lnTo>
                <a:lnTo>
                  <a:pt x="359" y="701"/>
                </a:lnTo>
                <a:lnTo>
                  <a:pt x="382" y="695"/>
                </a:lnTo>
                <a:lnTo>
                  <a:pt x="396" y="681"/>
                </a:lnTo>
                <a:lnTo>
                  <a:pt x="416" y="661"/>
                </a:lnTo>
                <a:lnTo>
                  <a:pt x="448" y="655"/>
                </a:lnTo>
                <a:lnTo>
                  <a:pt x="460" y="637"/>
                </a:lnTo>
                <a:lnTo>
                  <a:pt x="480" y="627"/>
                </a:lnTo>
                <a:lnTo>
                  <a:pt x="488" y="639"/>
                </a:lnTo>
                <a:lnTo>
                  <a:pt x="492" y="665"/>
                </a:lnTo>
                <a:lnTo>
                  <a:pt x="503" y="679"/>
                </a:lnTo>
                <a:lnTo>
                  <a:pt x="519" y="695"/>
                </a:lnTo>
                <a:lnTo>
                  <a:pt x="513" y="723"/>
                </a:lnTo>
                <a:lnTo>
                  <a:pt x="515" y="758"/>
                </a:lnTo>
                <a:lnTo>
                  <a:pt x="519" y="780"/>
                </a:lnTo>
                <a:lnTo>
                  <a:pt x="539" y="796"/>
                </a:lnTo>
                <a:lnTo>
                  <a:pt x="545" y="820"/>
                </a:lnTo>
                <a:lnTo>
                  <a:pt x="551" y="830"/>
                </a:lnTo>
                <a:lnTo>
                  <a:pt x="563" y="844"/>
                </a:lnTo>
                <a:lnTo>
                  <a:pt x="579" y="852"/>
                </a:lnTo>
                <a:lnTo>
                  <a:pt x="609" y="852"/>
                </a:lnTo>
                <a:lnTo>
                  <a:pt x="630" y="822"/>
                </a:lnTo>
                <a:lnTo>
                  <a:pt x="648" y="798"/>
                </a:lnTo>
                <a:lnTo>
                  <a:pt x="676" y="786"/>
                </a:lnTo>
                <a:lnTo>
                  <a:pt x="694" y="760"/>
                </a:lnTo>
                <a:lnTo>
                  <a:pt x="696" y="725"/>
                </a:lnTo>
                <a:lnTo>
                  <a:pt x="706" y="691"/>
                </a:lnTo>
                <a:lnTo>
                  <a:pt x="708" y="667"/>
                </a:lnTo>
                <a:lnTo>
                  <a:pt x="692" y="651"/>
                </a:lnTo>
                <a:lnTo>
                  <a:pt x="680" y="627"/>
                </a:lnTo>
                <a:lnTo>
                  <a:pt x="682" y="590"/>
                </a:lnTo>
                <a:lnTo>
                  <a:pt x="684" y="552"/>
                </a:lnTo>
                <a:lnTo>
                  <a:pt x="680" y="546"/>
                </a:lnTo>
                <a:lnTo>
                  <a:pt x="664" y="520"/>
                </a:lnTo>
                <a:lnTo>
                  <a:pt x="652" y="494"/>
                </a:lnTo>
                <a:lnTo>
                  <a:pt x="656" y="474"/>
                </a:lnTo>
                <a:lnTo>
                  <a:pt x="670" y="453"/>
                </a:lnTo>
                <a:lnTo>
                  <a:pt x="694" y="443"/>
                </a:lnTo>
                <a:lnTo>
                  <a:pt x="716" y="453"/>
                </a:lnTo>
                <a:lnTo>
                  <a:pt x="728" y="437"/>
                </a:lnTo>
                <a:lnTo>
                  <a:pt x="749" y="429"/>
                </a:lnTo>
                <a:lnTo>
                  <a:pt x="759" y="405"/>
                </a:lnTo>
                <a:lnTo>
                  <a:pt x="747" y="373"/>
                </a:lnTo>
                <a:lnTo>
                  <a:pt x="751" y="351"/>
                </a:lnTo>
                <a:lnTo>
                  <a:pt x="767" y="333"/>
                </a:lnTo>
                <a:lnTo>
                  <a:pt x="779" y="318"/>
                </a:lnTo>
                <a:lnTo>
                  <a:pt x="767" y="306"/>
                </a:lnTo>
                <a:lnTo>
                  <a:pt x="743" y="314"/>
                </a:lnTo>
                <a:lnTo>
                  <a:pt x="726" y="322"/>
                </a:lnTo>
                <a:lnTo>
                  <a:pt x="714" y="306"/>
                </a:lnTo>
                <a:lnTo>
                  <a:pt x="694" y="308"/>
                </a:lnTo>
                <a:lnTo>
                  <a:pt x="680" y="328"/>
                </a:lnTo>
                <a:lnTo>
                  <a:pt x="660" y="345"/>
                </a:lnTo>
                <a:lnTo>
                  <a:pt x="636" y="347"/>
                </a:lnTo>
                <a:lnTo>
                  <a:pt x="626" y="312"/>
                </a:lnTo>
                <a:lnTo>
                  <a:pt x="601" y="300"/>
                </a:lnTo>
                <a:lnTo>
                  <a:pt x="571" y="302"/>
                </a:lnTo>
                <a:lnTo>
                  <a:pt x="549" y="286"/>
                </a:lnTo>
                <a:lnTo>
                  <a:pt x="527" y="288"/>
                </a:lnTo>
                <a:lnTo>
                  <a:pt x="509" y="302"/>
                </a:lnTo>
                <a:lnTo>
                  <a:pt x="492" y="322"/>
                </a:lnTo>
                <a:lnTo>
                  <a:pt x="464" y="335"/>
                </a:lnTo>
                <a:lnTo>
                  <a:pt x="466" y="306"/>
                </a:lnTo>
                <a:lnTo>
                  <a:pt x="482" y="280"/>
                </a:lnTo>
                <a:lnTo>
                  <a:pt x="474" y="254"/>
                </a:lnTo>
                <a:lnTo>
                  <a:pt x="448" y="246"/>
                </a:lnTo>
                <a:lnTo>
                  <a:pt x="410" y="254"/>
                </a:lnTo>
                <a:lnTo>
                  <a:pt x="424" y="230"/>
                </a:lnTo>
                <a:lnTo>
                  <a:pt x="438" y="214"/>
                </a:lnTo>
                <a:lnTo>
                  <a:pt x="448" y="189"/>
                </a:lnTo>
                <a:lnTo>
                  <a:pt x="440" y="171"/>
                </a:lnTo>
                <a:lnTo>
                  <a:pt x="418" y="171"/>
                </a:lnTo>
                <a:lnTo>
                  <a:pt x="392" y="198"/>
                </a:lnTo>
                <a:lnTo>
                  <a:pt x="371" y="226"/>
                </a:lnTo>
                <a:lnTo>
                  <a:pt x="343" y="236"/>
                </a:lnTo>
                <a:lnTo>
                  <a:pt x="329" y="230"/>
                </a:lnTo>
                <a:lnTo>
                  <a:pt x="343" y="200"/>
                </a:lnTo>
                <a:lnTo>
                  <a:pt x="363" y="179"/>
                </a:lnTo>
                <a:lnTo>
                  <a:pt x="384" y="159"/>
                </a:lnTo>
                <a:lnTo>
                  <a:pt x="418" y="147"/>
                </a:lnTo>
                <a:lnTo>
                  <a:pt x="432" y="125"/>
                </a:lnTo>
                <a:lnTo>
                  <a:pt x="436" y="101"/>
                </a:lnTo>
                <a:lnTo>
                  <a:pt x="418" y="83"/>
                </a:lnTo>
                <a:lnTo>
                  <a:pt x="396" y="87"/>
                </a:lnTo>
                <a:lnTo>
                  <a:pt x="371" y="101"/>
                </a:lnTo>
                <a:lnTo>
                  <a:pt x="345" y="79"/>
                </a:lnTo>
                <a:lnTo>
                  <a:pt x="309" y="61"/>
                </a:lnTo>
                <a:lnTo>
                  <a:pt x="273" y="59"/>
                </a:lnTo>
                <a:lnTo>
                  <a:pt x="250" y="69"/>
                </a:lnTo>
                <a:lnTo>
                  <a:pt x="216" y="71"/>
                </a:lnTo>
                <a:lnTo>
                  <a:pt x="184" y="57"/>
                </a:lnTo>
                <a:lnTo>
                  <a:pt x="172" y="50"/>
                </a:lnTo>
                <a:lnTo>
                  <a:pt x="152" y="38"/>
                </a:lnTo>
                <a:lnTo>
                  <a:pt x="119" y="22"/>
                </a:lnTo>
                <a:lnTo>
                  <a:pt x="85" y="6"/>
                </a:lnTo>
                <a:lnTo>
                  <a:pt x="51" y="0"/>
                </a:lnTo>
                <a:lnTo>
                  <a:pt x="22" y="8"/>
                </a:lnTo>
                <a:close/>
              </a:path>
            </a:pathLst>
          </a:custGeom>
          <a:solidFill>
            <a:srgbClr val="b760f9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Group 29"/>
          <p:cNvGrpSpPr/>
          <p:nvPr/>
        </p:nvGrpSpPr>
        <p:grpSpPr>
          <a:xfrm>
            <a:off x="1219320" y="1844640"/>
            <a:ext cx="958680" cy="723960"/>
            <a:chOff x="1219320" y="1844640"/>
            <a:chExt cx="958680" cy="723960"/>
          </a:xfrm>
        </p:grpSpPr>
        <p:sp>
          <p:nvSpPr>
            <p:cNvPr id="124" name="Freeform 30"/>
            <p:cNvSpPr/>
            <p:nvPr/>
          </p:nvSpPr>
          <p:spPr>
            <a:xfrm>
              <a:off x="1219320" y="1928880"/>
              <a:ext cx="958680" cy="639720"/>
            </a:xfrm>
            <a:custGeom>
              <a:avLst/>
              <a:gdLst>
                <a:gd name="textAreaLeft" fmla="*/ 0 w 958680"/>
                <a:gd name="textAreaRight" fmla="*/ 959040 w 958680"/>
                <a:gd name="textAreaTop" fmla="*/ 0 h 639720"/>
                <a:gd name="textAreaBottom" fmla="*/ 640080 h 639720"/>
              </a:gdLst>
              <a:ahLst/>
              <a:rect l="textAreaLeft" t="textAreaTop" r="textAreaRight" b="textAreaBottom"/>
              <a:pathLst>
                <a:path w="1207" h="806">
                  <a:moveTo>
                    <a:pt x="440" y="648"/>
                  </a:moveTo>
                  <a:lnTo>
                    <a:pt x="426" y="665"/>
                  </a:lnTo>
                  <a:lnTo>
                    <a:pt x="404" y="663"/>
                  </a:lnTo>
                  <a:lnTo>
                    <a:pt x="380" y="677"/>
                  </a:lnTo>
                  <a:lnTo>
                    <a:pt x="353" y="685"/>
                  </a:lnTo>
                  <a:lnTo>
                    <a:pt x="339" y="701"/>
                  </a:lnTo>
                  <a:lnTo>
                    <a:pt x="333" y="725"/>
                  </a:lnTo>
                  <a:lnTo>
                    <a:pt x="341" y="745"/>
                  </a:lnTo>
                  <a:lnTo>
                    <a:pt x="351" y="773"/>
                  </a:lnTo>
                  <a:lnTo>
                    <a:pt x="335" y="788"/>
                  </a:lnTo>
                  <a:lnTo>
                    <a:pt x="331" y="806"/>
                  </a:lnTo>
                  <a:lnTo>
                    <a:pt x="323" y="783"/>
                  </a:lnTo>
                  <a:lnTo>
                    <a:pt x="301" y="767"/>
                  </a:lnTo>
                  <a:lnTo>
                    <a:pt x="285" y="761"/>
                  </a:lnTo>
                  <a:lnTo>
                    <a:pt x="275" y="755"/>
                  </a:lnTo>
                  <a:lnTo>
                    <a:pt x="251" y="765"/>
                  </a:lnTo>
                  <a:lnTo>
                    <a:pt x="234" y="761"/>
                  </a:lnTo>
                  <a:lnTo>
                    <a:pt x="224" y="759"/>
                  </a:lnTo>
                  <a:lnTo>
                    <a:pt x="208" y="741"/>
                  </a:lnTo>
                  <a:lnTo>
                    <a:pt x="188" y="729"/>
                  </a:lnTo>
                  <a:lnTo>
                    <a:pt x="164" y="725"/>
                  </a:lnTo>
                  <a:lnTo>
                    <a:pt x="132" y="711"/>
                  </a:lnTo>
                  <a:lnTo>
                    <a:pt x="93" y="685"/>
                  </a:lnTo>
                  <a:lnTo>
                    <a:pt x="69" y="679"/>
                  </a:lnTo>
                  <a:lnTo>
                    <a:pt x="63" y="667"/>
                  </a:lnTo>
                  <a:lnTo>
                    <a:pt x="49" y="648"/>
                  </a:lnTo>
                  <a:lnTo>
                    <a:pt x="31" y="626"/>
                  </a:lnTo>
                  <a:lnTo>
                    <a:pt x="13" y="620"/>
                  </a:lnTo>
                  <a:lnTo>
                    <a:pt x="0" y="620"/>
                  </a:lnTo>
                  <a:lnTo>
                    <a:pt x="21" y="592"/>
                  </a:lnTo>
                  <a:lnTo>
                    <a:pt x="39" y="568"/>
                  </a:lnTo>
                  <a:lnTo>
                    <a:pt x="67" y="554"/>
                  </a:lnTo>
                  <a:lnTo>
                    <a:pt x="85" y="528"/>
                  </a:lnTo>
                  <a:lnTo>
                    <a:pt x="87" y="495"/>
                  </a:lnTo>
                  <a:lnTo>
                    <a:pt x="97" y="461"/>
                  </a:lnTo>
                  <a:lnTo>
                    <a:pt x="99" y="437"/>
                  </a:lnTo>
                  <a:lnTo>
                    <a:pt x="83" y="423"/>
                  </a:lnTo>
                  <a:lnTo>
                    <a:pt x="71" y="397"/>
                  </a:lnTo>
                  <a:lnTo>
                    <a:pt x="73" y="360"/>
                  </a:lnTo>
                  <a:lnTo>
                    <a:pt x="75" y="322"/>
                  </a:lnTo>
                  <a:lnTo>
                    <a:pt x="83" y="348"/>
                  </a:lnTo>
                  <a:lnTo>
                    <a:pt x="97" y="354"/>
                  </a:lnTo>
                  <a:lnTo>
                    <a:pt x="113" y="342"/>
                  </a:lnTo>
                  <a:lnTo>
                    <a:pt x="107" y="314"/>
                  </a:lnTo>
                  <a:lnTo>
                    <a:pt x="109" y="292"/>
                  </a:lnTo>
                  <a:lnTo>
                    <a:pt x="121" y="276"/>
                  </a:lnTo>
                  <a:lnTo>
                    <a:pt x="146" y="270"/>
                  </a:lnTo>
                  <a:lnTo>
                    <a:pt x="168" y="276"/>
                  </a:lnTo>
                  <a:lnTo>
                    <a:pt x="194" y="304"/>
                  </a:lnTo>
                  <a:lnTo>
                    <a:pt x="212" y="298"/>
                  </a:lnTo>
                  <a:lnTo>
                    <a:pt x="232" y="310"/>
                  </a:lnTo>
                  <a:lnTo>
                    <a:pt x="253" y="316"/>
                  </a:lnTo>
                  <a:lnTo>
                    <a:pt x="267" y="298"/>
                  </a:lnTo>
                  <a:lnTo>
                    <a:pt x="265" y="272"/>
                  </a:lnTo>
                  <a:lnTo>
                    <a:pt x="285" y="262"/>
                  </a:lnTo>
                  <a:lnTo>
                    <a:pt x="275" y="250"/>
                  </a:lnTo>
                  <a:lnTo>
                    <a:pt x="273" y="229"/>
                  </a:lnTo>
                  <a:lnTo>
                    <a:pt x="289" y="211"/>
                  </a:lnTo>
                  <a:lnTo>
                    <a:pt x="315" y="219"/>
                  </a:lnTo>
                  <a:lnTo>
                    <a:pt x="331" y="201"/>
                  </a:lnTo>
                  <a:lnTo>
                    <a:pt x="359" y="195"/>
                  </a:lnTo>
                  <a:lnTo>
                    <a:pt x="384" y="199"/>
                  </a:lnTo>
                  <a:lnTo>
                    <a:pt x="406" y="187"/>
                  </a:lnTo>
                  <a:lnTo>
                    <a:pt x="430" y="185"/>
                  </a:lnTo>
                  <a:lnTo>
                    <a:pt x="438" y="207"/>
                  </a:lnTo>
                  <a:lnTo>
                    <a:pt x="446" y="221"/>
                  </a:lnTo>
                  <a:lnTo>
                    <a:pt x="466" y="223"/>
                  </a:lnTo>
                  <a:lnTo>
                    <a:pt x="478" y="209"/>
                  </a:lnTo>
                  <a:lnTo>
                    <a:pt x="460" y="179"/>
                  </a:lnTo>
                  <a:lnTo>
                    <a:pt x="470" y="157"/>
                  </a:lnTo>
                  <a:lnTo>
                    <a:pt x="493" y="135"/>
                  </a:lnTo>
                  <a:lnTo>
                    <a:pt x="511" y="101"/>
                  </a:lnTo>
                  <a:lnTo>
                    <a:pt x="523" y="74"/>
                  </a:lnTo>
                  <a:lnTo>
                    <a:pt x="539" y="46"/>
                  </a:lnTo>
                  <a:lnTo>
                    <a:pt x="555" y="20"/>
                  </a:lnTo>
                  <a:lnTo>
                    <a:pt x="577" y="4"/>
                  </a:lnTo>
                  <a:lnTo>
                    <a:pt x="600" y="8"/>
                  </a:lnTo>
                  <a:lnTo>
                    <a:pt x="630" y="2"/>
                  </a:lnTo>
                  <a:lnTo>
                    <a:pt x="656" y="0"/>
                  </a:lnTo>
                  <a:lnTo>
                    <a:pt x="678" y="2"/>
                  </a:lnTo>
                  <a:lnTo>
                    <a:pt x="690" y="16"/>
                  </a:lnTo>
                  <a:lnTo>
                    <a:pt x="682" y="32"/>
                  </a:lnTo>
                  <a:lnTo>
                    <a:pt x="664" y="38"/>
                  </a:lnTo>
                  <a:lnTo>
                    <a:pt x="634" y="32"/>
                  </a:lnTo>
                  <a:lnTo>
                    <a:pt x="612" y="38"/>
                  </a:lnTo>
                  <a:lnTo>
                    <a:pt x="604" y="48"/>
                  </a:lnTo>
                  <a:lnTo>
                    <a:pt x="581" y="52"/>
                  </a:lnTo>
                  <a:lnTo>
                    <a:pt x="565" y="58"/>
                  </a:lnTo>
                  <a:lnTo>
                    <a:pt x="553" y="76"/>
                  </a:lnTo>
                  <a:lnTo>
                    <a:pt x="539" y="98"/>
                  </a:lnTo>
                  <a:lnTo>
                    <a:pt x="533" y="117"/>
                  </a:lnTo>
                  <a:lnTo>
                    <a:pt x="537" y="129"/>
                  </a:lnTo>
                  <a:lnTo>
                    <a:pt x="553" y="125"/>
                  </a:lnTo>
                  <a:lnTo>
                    <a:pt x="561" y="103"/>
                  </a:lnTo>
                  <a:lnTo>
                    <a:pt x="577" y="80"/>
                  </a:lnTo>
                  <a:lnTo>
                    <a:pt x="593" y="70"/>
                  </a:lnTo>
                  <a:lnTo>
                    <a:pt x="610" y="76"/>
                  </a:lnTo>
                  <a:lnTo>
                    <a:pt x="624" y="60"/>
                  </a:lnTo>
                  <a:lnTo>
                    <a:pt x="642" y="52"/>
                  </a:lnTo>
                  <a:lnTo>
                    <a:pt x="656" y="58"/>
                  </a:lnTo>
                  <a:lnTo>
                    <a:pt x="666" y="74"/>
                  </a:lnTo>
                  <a:lnTo>
                    <a:pt x="682" y="68"/>
                  </a:lnTo>
                  <a:lnTo>
                    <a:pt x="700" y="52"/>
                  </a:lnTo>
                  <a:lnTo>
                    <a:pt x="721" y="54"/>
                  </a:lnTo>
                  <a:lnTo>
                    <a:pt x="725" y="68"/>
                  </a:lnTo>
                  <a:lnTo>
                    <a:pt x="731" y="90"/>
                  </a:lnTo>
                  <a:lnTo>
                    <a:pt x="743" y="109"/>
                  </a:lnTo>
                  <a:lnTo>
                    <a:pt x="771" y="117"/>
                  </a:lnTo>
                  <a:lnTo>
                    <a:pt x="801" y="131"/>
                  </a:lnTo>
                  <a:lnTo>
                    <a:pt x="823" y="147"/>
                  </a:lnTo>
                  <a:lnTo>
                    <a:pt x="838" y="169"/>
                  </a:lnTo>
                  <a:lnTo>
                    <a:pt x="846" y="195"/>
                  </a:lnTo>
                  <a:lnTo>
                    <a:pt x="864" y="199"/>
                  </a:lnTo>
                  <a:lnTo>
                    <a:pt x="876" y="185"/>
                  </a:lnTo>
                  <a:lnTo>
                    <a:pt x="880" y="165"/>
                  </a:lnTo>
                  <a:lnTo>
                    <a:pt x="892" y="155"/>
                  </a:lnTo>
                  <a:lnTo>
                    <a:pt x="904" y="167"/>
                  </a:lnTo>
                  <a:lnTo>
                    <a:pt x="924" y="155"/>
                  </a:lnTo>
                  <a:lnTo>
                    <a:pt x="946" y="161"/>
                  </a:lnTo>
                  <a:lnTo>
                    <a:pt x="957" y="179"/>
                  </a:lnTo>
                  <a:lnTo>
                    <a:pt x="957" y="205"/>
                  </a:lnTo>
                  <a:lnTo>
                    <a:pt x="953" y="233"/>
                  </a:lnTo>
                  <a:lnTo>
                    <a:pt x="959" y="252"/>
                  </a:lnTo>
                  <a:lnTo>
                    <a:pt x="979" y="264"/>
                  </a:lnTo>
                  <a:lnTo>
                    <a:pt x="997" y="288"/>
                  </a:lnTo>
                  <a:lnTo>
                    <a:pt x="989" y="314"/>
                  </a:lnTo>
                  <a:lnTo>
                    <a:pt x="995" y="336"/>
                  </a:lnTo>
                  <a:lnTo>
                    <a:pt x="1007" y="348"/>
                  </a:lnTo>
                  <a:lnTo>
                    <a:pt x="1031" y="362"/>
                  </a:lnTo>
                  <a:lnTo>
                    <a:pt x="1059" y="374"/>
                  </a:lnTo>
                  <a:lnTo>
                    <a:pt x="1078" y="381"/>
                  </a:lnTo>
                  <a:lnTo>
                    <a:pt x="1094" y="370"/>
                  </a:lnTo>
                  <a:lnTo>
                    <a:pt x="1112" y="368"/>
                  </a:lnTo>
                  <a:lnTo>
                    <a:pt x="1130" y="375"/>
                  </a:lnTo>
                  <a:lnTo>
                    <a:pt x="1136" y="391"/>
                  </a:lnTo>
                  <a:lnTo>
                    <a:pt x="1140" y="419"/>
                  </a:lnTo>
                  <a:lnTo>
                    <a:pt x="1142" y="459"/>
                  </a:lnTo>
                  <a:lnTo>
                    <a:pt x="1152" y="491"/>
                  </a:lnTo>
                  <a:lnTo>
                    <a:pt x="1162" y="522"/>
                  </a:lnTo>
                  <a:lnTo>
                    <a:pt x="1180" y="548"/>
                  </a:lnTo>
                  <a:lnTo>
                    <a:pt x="1199" y="576"/>
                  </a:lnTo>
                  <a:lnTo>
                    <a:pt x="1207" y="600"/>
                  </a:lnTo>
                  <a:lnTo>
                    <a:pt x="1193" y="614"/>
                  </a:lnTo>
                  <a:lnTo>
                    <a:pt x="1164" y="622"/>
                  </a:lnTo>
                  <a:lnTo>
                    <a:pt x="1150" y="646"/>
                  </a:lnTo>
                  <a:lnTo>
                    <a:pt x="1134" y="667"/>
                  </a:lnTo>
                  <a:lnTo>
                    <a:pt x="1110" y="663"/>
                  </a:lnTo>
                  <a:lnTo>
                    <a:pt x="1090" y="657"/>
                  </a:lnTo>
                  <a:lnTo>
                    <a:pt x="1084" y="638"/>
                  </a:lnTo>
                  <a:lnTo>
                    <a:pt x="1063" y="630"/>
                  </a:lnTo>
                  <a:lnTo>
                    <a:pt x="1053" y="608"/>
                  </a:lnTo>
                  <a:lnTo>
                    <a:pt x="1033" y="594"/>
                  </a:lnTo>
                  <a:lnTo>
                    <a:pt x="1011" y="570"/>
                  </a:lnTo>
                  <a:lnTo>
                    <a:pt x="985" y="560"/>
                  </a:lnTo>
                  <a:lnTo>
                    <a:pt x="963" y="572"/>
                  </a:lnTo>
                  <a:lnTo>
                    <a:pt x="948" y="600"/>
                  </a:lnTo>
                  <a:lnTo>
                    <a:pt x="936" y="630"/>
                  </a:lnTo>
                  <a:lnTo>
                    <a:pt x="910" y="636"/>
                  </a:lnTo>
                  <a:lnTo>
                    <a:pt x="892" y="651"/>
                  </a:lnTo>
                  <a:lnTo>
                    <a:pt x="874" y="657"/>
                  </a:lnTo>
                  <a:lnTo>
                    <a:pt x="858" y="659"/>
                  </a:lnTo>
                  <a:lnTo>
                    <a:pt x="844" y="675"/>
                  </a:lnTo>
                  <a:lnTo>
                    <a:pt x="838" y="695"/>
                  </a:lnTo>
                  <a:lnTo>
                    <a:pt x="813" y="701"/>
                  </a:lnTo>
                  <a:lnTo>
                    <a:pt x="783" y="703"/>
                  </a:lnTo>
                  <a:lnTo>
                    <a:pt x="759" y="713"/>
                  </a:lnTo>
                  <a:lnTo>
                    <a:pt x="739" y="721"/>
                  </a:lnTo>
                  <a:lnTo>
                    <a:pt x="717" y="707"/>
                  </a:lnTo>
                  <a:lnTo>
                    <a:pt x="698" y="699"/>
                  </a:lnTo>
                  <a:lnTo>
                    <a:pt x="678" y="699"/>
                  </a:lnTo>
                  <a:lnTo>
                    <a:pt x="664" y="687"/>
                  </a:lnTo>
                  <a:lnTo>
                    <a:pt x="648" y="681"/>
                  </a:lnTo>
                  <a:lnTo>
                    <a:pt x="634" y="689"/>
                  </a:lnTo>
                  <a:lnTo>
                    <a:pt x="616" y="699"/>
                  </a:lnTo>
                  <a:lnTo>
                    <a:pt x="595" y="691"/>
                  </a:lnTo>
                  <a:lnTo>
                    <a:pt x="579" y="669"/>
                  </a:lnTo>
                  <a:lnTo>
                    <a:pt x="559" y="648"/>
                  </a:lnTo>
                  <a:lnTo>
                    <a:pt x="537" y="646"/>
                  </a:lnTo>
                  <a:lnTo>
                    <a:pt x="511" y="648"/>
                  </a:lnTo>
                  <a:lnTo>
                    <a:pt x="489" y="638"/>
                  </a:lnTo>
                  <a:lnTo>
                    <a:pt x="472" y="624"/>
                  </a:lnTo>
                  <a:lnTo>
                    <a:pt x="450" y="626"/>
                  </a:lnTo>
                  <a:lnTo>
                    <a:pt x="440" y="648"/>
                  </a:lnTo>
                  <a:close/>
                </a:path>
              </a:pathLst>
            </a:custGeom>
            <a:solidFill>
              <a:srgbClr val="00ff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31"/>
            <p:cNvSpPr/>
            <p:nvPr/>
          </p:nvSpPr>
          <p:spPr>
            <a:xfrm>
              <a:off x="1827000" y="1844640"/>
              <a:ext cx="166680" cy="179640"/>
            </a:xfrm>
            <a:custGeom>
              <a:avLst/>
              <a:gdLst>
                <a:gd name="textAreaLeft" fmla="*/ 0 w 166680"/>
                <a:gd name="textAreaRight" fmla="*/ 167040 w 166680"/>
                <a:gd name="textAreaTop" fmla="*/ 0 h 179640"/>
                <a:gd name="textAreaBottom" fmla="*/ 180000 h 179640"/>
              </a:gdLst>
              <a:ahLst/>
              <a:rect l="textAreaLeft" t="textAreaTop" r="textAreaRight" b="textAreaBottom"/>
              <a:pathLst>
                <a:path w="210" h="226">
                  <a:moveTo>
                    <a:pt x="34" y="10"/>
                  </a:moveTo>
                  <a:lnTo>
                    <a:pt x="48" y="0"/>
                  </a:lnTo>
                  <a:lnTo>
                    <a:pt x="66" y="6"/>
                  </a:lnTo>
                  <a:lnTo>
                    <a:pt x="83" y="0"/>
                  </a:lnTo>
                  <a:lnTo>
                    <a:pt x="101" y="6"/>
                  </a:lnTo>
                  <a:lnTo>
                    <a:pt x="95" y="22"/>
                  </a:lnTo>
                  <a:lnTo>
                    <a:pt x="105" y="34"/>
                  </a:lnTo>
                  <a:lnTo>
                    <a:pt x="125" y="36"/>
                  </a:lnTo>
                  <a:lnTo>
                    <a:pt x="143" y="40"/>
                  </a:lnTo>
                  <a:lnTo>
                    <a:pt x="161" y="50"/>
                  </a:lnTo>
                  <a:lnTo>
                    <a:pt x="171" y="58"/>
                  </a:lnTo>
                  <a:lnTo>
                    <a:pt x="173" y="71"/>
                  </a:lnTo>
                  <a:lnTo>
                    <a:pt x="169" y="79"/>
                  </a:lnTo>
                  <a:lnTo>
                    <a:pt x="165" y="89"/>
                  </a:lnTo>
                  <a:lnTo>
                    <a:pt x="159" y="105"/>
                  </a:lnTo>
                  <a:lnTo>
                    <a:pt x="165" y="119"/>
                  </a:lnTo>
                  <a:lnTo>
                    <a:pt x="179" y="131"/>
                  </a:lnTo>
                  <a:lnTo>
                    <a:pt x="192" y="137"/>
                  </a:lnTo>
                  <a:lnTo>
                    <a:pt x="204" y="149"/>
                  </a:lnTo>
                  <a:lnTo>
                    <a:pt x="210" y="159"/>
                  </a:lnTo>
                  <a:lnTo>
                    <a:pt x="208" y="175"/>
                  </a:lnTo>
                  <a:lnTo>
                    <a:pt x="202" y="193"/>
                  </a:lnTo>
                  <a:lnTo>
                    <a:pt x="192" y="203"/>
                  </a:lnTo>
                  <a:lnTo>
                    <a:pt x="183" y="207"/>
                  </a:lnTo>
                  <a:lnTo>
                    <a:pt x="173" y="199"/>
                  </a:lnTo>
                  <a:lnTo>
                    <a:pt x="169" y="189"/>
                  </a:lnTo>
                  <a:lnTo>
                    <a:pt x="173" y="177"/>
                  </a:lnTo>
                  <a:lnTo>
                    <a:pt x="179" y="167"/>
                  </a:lnTo>
                  <a:lnTo>
                    <a:pt x="181" y="155"/>
                  </a:lnTo>
                  <a:lnTo>
                    <a:pt x="171" y="149"/>
                  </a:lnTo>
                  <a:lnTo>
                    <a:pt x="159" y="151"/>
                  </a:lnTo>
                  <a:lnTo>
                    <a:pt x="149" y="159"/>
                  </a:lnTo>
                  <a:lnTo>
                    <a:pt x="135" y="159"/>
                  </a:lnTo>
                  <a:lnTo>
                    <a:pt x="127" y="161"/>
                  </a:lnTo>
                  <a:lnTo>
                    <a:pt x="123" y="171"/>
                  </a:lnTo>
                  <a:lnTo>
                    <a:pt x="121" y="181"/>
                  </a:lnTo>
                  <a:lnTo>
                    <a:pt x="115" y="185"/>
                  </a:lnTo>
                  <a:lnTo>
                    <a:pt x="105" y="185"/>
                  </a:lnTo>
                  <a:lnTo>
                    <a:pt x="93" y="185"/>
                  </a:lnTo>
                  <a:lnTo>
                    <a:pt x="87" y="189"/>
                  </a:lnTo>
                  <a:lnTo>
                    <a:pt x="81" y="199"/>
                  </a:lnTo>
                  <a:lnTo>
                    <a:pt x="87" y="207"/>
                  </a:lnTo>
                  <a:lnTo>
                    <a:pt x="89" y="214"/>
                  </a:lnTo>
                  <a:lnTo>
                    <a:pt x="87" y="224"/>
                  </a:lnTo>
                  <a:lnTo>
                    <a:pt x="73" y="226"/>
                  </a:lnTo>
                  <a:lnTo>
                    <a:pt x="58" y="226"/>
                  </a:lnTo>
                  <a:lnTo>
                    <a:pt x="44" y="216"/>
                  </a:lnTo>
                  <a:lnTo>
                    <a:pt x="28" y="216"/>
                  </a:lnTo>
                  <a:lnTo>
                    <a:pt x="18" y="207"/>
                  </a:lnTo>
                  <a:lnTo>
                    <a:pt x="6" y="197"/>
                  </a:lnTo>
                  <a:lnTo>
                    <a:pt x="0" y="189"/>
                  </a:lnTo>
                  <a:lnTo>
                    <a:pt x="0" y="177"/>
                  </a:lnTo>
                  <a:lnTo>
                    <a:pt x="6" y="171"/>
                  </a:lnTo>
                  <a:lnTo>
                    <a:pt x="22" y="165"/>
                  </a:lnTo>
                  <a:lnTo>
                    <a:pt x="36" y="167"/>
                  </a:lnTo>
                  <a:lnTo>
                    <a:pt x="46" y="163"/>
                  </a:lnTo>
                  <a:lnTo>
                    <a:pt x="46" y="155"/>
                  </a:lnTo>
                  <a:lnTo>
                    <a:pt x="40" y="149"/>
                  </a:lnTo>
                  <a:lnTo>
                    <a:pt x="32" y="145"/>
                  </a:lnTo>
                  <a:lnTo>
                    <a:pt x="18" y="143"/>
                  </a:lnTo>
                  <a:lnTo>
                    <a:pt x="12" y="137"/>
                  </a:lnTo>
                  <a:lnTo>
                    <a:pt x="16" y="127"/>
                  </a:lnTo>
                  <a:lnTo>
                    <a:pt x="28" y="119"/>
                  </a:lnTo>
                  <a:lnTo>
                    <a:pt x="32" y="111"/>
                  </a:lnTo>
                  <a:lnTo>
                    <a:pt x="22" y="101"/>
                  </a:lnTo>
                  <a:lnTo>
                    <a:pt x="18" y="89"/>
                  </a:lnTo>
                  <a:lnTo>
                    <a:pt x="22" y="77"/>
                  </a:lnTo>
                  <a:lnTo>
                    <a:pt x="32" y="73"/>
                  </a:lnTo>
                  <a:lnTo>
                    <a:pt x="40" y="77"/>
                  </a:lnTo>
                  <a:lnTo>
                    <a:pt x="46" y="87"/>
                  </a:lnTo>
                  <a:lnTo>
                    <a:pt x="48" y="95"/>
                  </a:lnTo>
                  <a:lnTo>
                    <a:pt x="58" y="85"/>
                  </a:lnTo>
                  <a:lnTo>
                    <a:pt x="69" y="83"/>
                  </a:lnTo>
                  <a:lnTo>
                    <a:pt x="83" y="87"/>
                  </a:lnTo>
                  <a:lnTo>
                    <a:pt x="95" y="101"/>
                  </a:lnTo>
                  <a:lnTo>
                    <a:pt x="105" y="117"/>
                  </a:lnTo>
                  <a:lnTo>
                    <a:pt x="117" y="127"/>
                  </a:lnTo>
                  <a:lnTo>
                    <a:pt x="125" y="121"/>
                  </a:lnTo>
                  <a:lnTo>
                    <a:pt x="131" y="107"/>
                  </a:lnTo>
                  <a:lnTo>
                    <a:pt x="131" y="89"/>
                  </a:lnTo>
                  <a:lnTo>
                    <a:pt x="123" y="71"/>
                  </a:lnTo>
                  <a:lnTo>
                    <a:pt x="111" y="66"/>
                  </a:lnTo>
                  <a:lnTo>
                    <a:pt x="89" y="56"/>
                  </a:lnTo>
                  <a:lnTo>
                    <a:pt x="77" y="50"/>
                  </a:lnTo>
                  <a:lnTo>
                    <a:pt x="50" y="42"/>
                  </a:lnTo>
                  <a:lnTo>
                    <a:pt x="38" y="34"/>
                  </a:lnTo>
                  <a:lnTo>
                    <a:pt x="26" y="54"/>
                  </a:lnTo>
                  <a:lnTo>
                    <a:pt x="12" y="52"/>
                  </a:lnTo>
                  <a:lnTo>
                    <a:pt x="10" y="36"/>
                  </a:lnTo>
                  <a:lnTo>
                    <a:pt x="18" y="22"/>
                  </a:lnTo>
                  <a:lnTo>
                    <a:pt x="34" y="10"/>
                  </a:lnTo>
                  <a:close/>
                </a:path>
              </a:pathLst>
            </a:custGeom>
            <a:solidFill>
              <a:srgbClr val="00ff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32"/>
            <p:cNvSpPr/>
            <p:nvPr/>
          </p:nvSpPr>
          <p:spPr>
            <a:xfrm>
              <a:off x="1989000" y="2036880"/>
              <a:ext cx="163440" cy="16992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207" h="215">
                  <a:moveTo>
                    <a:pt x="141" y="117"/>
                  </a:moveTo>
                  <a:lnTo>
                    <a:pt x="159" y="131"/>
                  </a:lnTo>
                  <a:lnTo>
                    <a:pt x="167" y="151"/>
                  </a:lnTo>
                  <a:lnTo>
                    <a:pt x="171" y="169"/>
                  </a:lnTo>
                  <a:lnTo>
                    <a:pt x="177" y="181"/>
                  </a:lnTo>
                  <a:lnTo>
                    <a:pt x="189" y="183"/>
                  </a:lnTo>
                  <a:lnTo>
                    <a:pt x="205" y="193"/>
                  </a:lnTo>
                  <a:lnTo>
                    <a:pt x="207" y="203"/>
                  </a:lnTo>
                  <a:lnTo>
                    <a:pt x="199" y="213"/>
                  </a:lnTo>
                  <a:lnTo>
                    <a:pt x="181" y="215"/>
                  </a:lnTo>
                  <a:lnTo>
                    <a:pt x="161" y="211"/>
                  </a:lnTo>
                  <a:lnTo>
                    <a:pt x="149" y="193"/>
                  </a:lnTo>
                  <a:lnTo>
                    <a:pt x="141" y="181"/>
                  </a:lnTo>
                  <a:lnTo>
                    <a:pt x="127" y="173"/>
                  </a:lnTo>
                  <a:lnTo>
                    <a:pt x="107" y="181"/>
                  </a:lnTo>
                  <a:lnTo>
                    <a:pt x="88" y="187"/>
                  </a:lnTo>
                  <a:lnTo>
                    <a:pt x="76" y="187"/>
                  </a:lnTo>
                  <a:lnTo>
                    <a:pt x="62" y="197"/>
                  </a:lnTo>
                  <a:lnTo>
                    <a:pt x="50" y="201"/>
                  </a:lnTo>
                  <a:lnTo>
                    <a:pt x="42" y="191"/>
                  </a:lnTo>
                  <a:lnTo>
                    <a:pt x="48" y="173"/>
                  </a:lnTo>
                  <a:lnTo>
                    <a:pt x="56" y="161"/>
                  </a:lnTo>
                  <a:lnTo>
                    <a:pt x="54" y="147"/>
                  </a:lnTo>
                  <a:lnTo>
                    <a:pt x="48" y="141"/>
                  </a:lnTo>
                  <a:lnTo>
                    <a:pt x="50" y="129"/>
                  </a:lnTo>
                  <a:lnTo>
                    <a:pt x="62" y="125"/>
                  </a:lnTo>
                  <a:lnTo>
                    <a:pt x="74" y="131"/>
                  </a:lnTo>
                  <a:lnTo>
                    <a:pt x="84" y="131"/>
                  </a:lnTo>
                  <a:lnTo>
                    <a:pt x="88" y="125"/>
                  </a:lnTo>
                  <a:lnTo>
                    <a:pt x="84" y="113"/>
                  </a:lnTo>
                  <a:lnTo>
                    <a:pt x="76" y="100"/>
                  </a:lnTo>
                  <a:lnTo>
                    <a:pt x="68" y="88"/>
                  </a:lnTo>
                  <a:lnTo>
                    <a:pt x="54" y="88"/>
                  </a:lnTo>
                  <a:lnTo>
                    <a:pt x="48" y="98"/>
                  </a:lnTo>
                  <a:lnTo>
                    <a:pt x="40" y="107"/>
                  </a:lnTo>
                  <a:lnTo>
                    <a:pt x="26" y="100"/>
                  </a:lnTo>
                  <a:lnTo>
                    <a:pt x="10" y="98"/>
                  </a:lnTo>
                  <a:lnTo>
                    <a:pt x="4" y="88"/>
                  </a:lnTo>
                  <a:lnTo>
                    <a:pt x="8" y="74"/>
                  </a:lnTo>
                  <a:lnTo>
                    <a:pt x="10" y="60"/>
                  </a:lnTo>
                  <a:lnTo>
                    <a:pt x="8" y="42"/>
                  </a:lnTo>
                  <a:lnTo>
                    <a:pt x="0" y="32"/>
                  </a:lnTo>
                  <a:lnTo>
                    <a:pt x="4" y="18"/>
                  </a:lnTo>
                  <a:lnTo>
                    <a:pt x="10" y="8"/>
                  </a:lnTo>
                  <a:lnTo>
                    <a:pt x="20" y="0"/>
                  </a:lnTo>
                  <a:lnTo>
                    <a:pt x="38" y="4"/>
                  </a:lnTo>
                  <a:lnTo>
                    <a:pt x="44" y="16"/>
                  </a:lnTo>
                  <a:lnTo>
                    <a:pt x="42" y="34"/>
                  </a:lnTo>
                  <a:lnTo>
                    <a:pt x="50" y="44"/>
                  </a:lnTo>
                  <a:lnTo>
                    <a:pt x="60" y="52"/>
                  </a:lnTo>
                  <a:lnTo>
                    <a:pt x="78" y="56"/>
                  </a:lnTo>
                  <a:lnTo>
                    <a:pt x="96" y="66"/>
                  </a:lnTo>
                  <a:lnTo>
                    <a:pt x="111" y="78"/>
                  </a:lnTo>
                  <a:lnTo>
                    <a:pt x="141" y="117"/>
                  </a:lnTo>
                  <a:close/>
                </a:path>
              </a:pathLst>
            </a:custGeom>
            <a:solidFill>
              <a:srgbClr val="00ff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Freeform 33"/>
          <p:cNvSpPr/>
          <p:nvPr/>
        </p:nvSpPr>
        <p:spPr>
          <a:xfrm>
            <a:off x="380880" y="2521080"/>
            <a:ext cx="1489320" cy="1263600"/>
          </a:xfrm>
          <a:custGeom>
            <a:avLst/>
            <a:gdLst>
              <a:gd name="textAreaLeft" fmla="*/ 0 w 1489320"/>
              <a:gd name="textAreaRight" fmla="*/ 1489680 w 1489320"/>
              <a:gd name="textAreaTop" fmla="*/ 0 h 1263600"/>
              <a:gd name="textAreaBottom" fmla="*/ 1263960 h 1263600"/>
            </a:gdLst>
            <a:ahLst/>
            <a:rect l="textAreaLeft" t="textAreaTop" r="textAreaRight" b="textAreaBottom"/>
            <a:pathLst>
              <a:path w="926" h="1133">
                <a:moveTo>
                  <a:pt x="345" y="41"/>
                </a:moveTo>
                <a:lnTo>
                  <a:pt x="355" y="53"/>
                </a:lnTo>
                <a:lnTo>
                  <a:pt x="376" y="63"/>
                </a:lnTo>
                <a:lnTo>
                  <a:pt x="402" y="71"/>
                </a:lnTo>
                <a:lnTo>
                  <a:pt x="422" y="81"/>
                </a:lnTo>
                <a:lnTo>
                  <a:pt x="436" y="101"/>
                </a:lnTo>
                <a:lnTo>
                  <a:pt x="450" y="119"/>
                </a:lnTo>
                <a:lnTo>
                  <a:pt x="470" y="137"/>
                </a:lnTo>
                <a:lnTo>
                  <a:pt x="492" y="145"/>
                </a:lnTo>
                <a:lnTo>
                  <a:pt x="519" y="151"/>
                </a:lnTo>
                <a:lnTo>
                  <a:pt x="525" y="170"/>
                </a:lnTo>
                <a:lnTo>
                  <a:pt x="519" y="200"/>
                </a:lnTo>
                <a:lnTo>
                  <a:pt x="521" y="228"/>
                </a:lnTo>
                <a:lnTo>
                  <a:pt x="525" y="260"/>
                </a:lnTo>
                <a:lnTo>
                  <a:pt x="521" y="282"/>
                </a:lnTo>
                <a:lnTo>
                  <a:pt x="525" y="305"/>
                </a:lnTo>
                <a:lnTo>
                  <a:pt x="537" y="315"/>
                </a:lnTo>
                <a:lnTo>
                  <a:pt x="559" y="313"/>
                </a:lnTo>
                <a:lnTo>
                  <a:pt x="581" y="315"/>
                </a:lnTo>
                <a:lnTo>
                  <a:pt x="589" y="333"/>
                </a:lnTo>
                <a:lnTo>
                  <a:pt x="583" y="353"/>
                </a:lnTo>
                <a:lnTo>
                  <a:pt x="587" y="375"/>
                </a:lnTo>
                <a:lnTo>
                  <a:pt x="599" y="391"/>
                </a:lnTo>
                <a:lnTo>
                  <a:pt x="614" y="413"/>
                </a:lnTo>
                <a:lnTo>
                  <a:pt x="620" y="431"/>
                </a:lnTo>
                <a:lnTo>
                  <a:pt x="612" y="454"/>
                </a:lnTo>
                <a:lnTo>
                  <a:pt x="611" y="484"/>
                </a:lnTo>
                <a:lnTo>
                  <a:pt x="614" y="508"/>
                </a:lnTo>
                <a:lnTo>
                  <a:pt x="626" y="532"/>
                </a:lnTo>
                <a:lnTo>
                  <a:pt x="646" y="550"/>
                </a:lnTo>
                <a:lnTo>
                  <a:pt x="670" y="562"/>
                </a:lnTo>
                <a:lnTo>
                  <a:pt x="700" y="566"/>
                </a:lnTo>
                <a:lnTo>
                  <a:pt x="722" y="560"/>
                </a:lnTo>
                <a:lnTo>
                  <a:pt x="743" y="552"/>
                </a:lnTo>
                <a:lnTo>
                  <a:pt x="765" y="560"/>
                </a:lnTo>
                <a:lnTo>
                  <a:pt x="779" y="577"/>
                </a:lnTo>
                <a:lnTo>
                  <a:pt x="799" y="591"/>
                </a:lnTo>
                <a:lnTo>
                  <a:pt x="823" y="597"/>
                </a:lnTo>
                <a:lnTo>
                  <a:pt x="843" y="613"/>
                </a:lnTo>
                <a:lnTo>
                  <a:pt x="864" y="621"/>
                </a:lnTo>
                <a:lnTo>
                  <a:pt x="886" y="635"/>
                </a:lnTo>
                <a:lnTo>
                  <a:pt x="898" y="657"/>
                </a:lnTo>
                <a:lnTo>
                  <a:pt x="908" y="681"/>
                </a:lnTo>
                <a:lnTo>
                  <a:pt x="904" y="703"/>
                </a:lnTo>
                <a:lnTo>
                  <a:pt x="912" y="718"/>
                </a:lnTo>
                <a:lnTo>
                  <a:pt x="926" y="738"/>
                </a:lnTo>
                <a:lnTo>
                  <a:pt x="924" y="758"/>
                </a:lnTo>
                <a:lnTo>
                  <a:pt x="910" y="774"/>
                </a:lnTo>
                <a:lnTo>
                  <a:pt x="896" y="800"/>
                </a:lnTo>
                <a:lnTo>
                  <a:pt x="878" y="814"/>
                </a:lnTo>
                <a:lnTo>
                  <a:pt x="864" y="830"/>
                </a:lnTo>
                <a:lnTo>
                  <a:pt x="845" y="828"/>
                </a:lnTo>
                <a:lnTo>
                  <a:pt x="821" y="824"/>
                </a:lnTo>
                <a:lnTo>
                  <a:pt x="797" y="808"/>
                </a:lnTo>
                <a:lnTo>
                  <a:pt x="777" y="802"/>
                </a:lnTo>
                <a:lnTo>
                  <a:pt x="757" y="810"/>
                </a:lnTo>
                <a:lnTo>
                  <a:pt x="731" y="806"/>
                </a:lnTo>
                <a:lnTo>
                  <a:pt x="710" y="814"/>
                </a:lnTo>
                <a:lnTo>
                  <a:pt x="694" y="830"/>
                </a:lnTo>
                <a:lnTo>
                  <a:pt x="664" y="838"/>
                </a:lnTo>
                <a:lnTo>
                  <a:pt x="638" y="832"/>
                </a:lnTo>
                <a:lnTo>
                  <a:pt x="609" y="840"/>
                </a:lnTo>
                <a:lnTo>
                  <a:pt x="585" y="855"/>
                </a:lnTo>
                <a:lnTo>
                  <a:pt x="555" y="865"/>
                </a:lnTo>
                <a:lnTo>
                  <a:pt x="535" y="887"/>
                </a:lnTo>
                <a:lnTo>
                  <a:pt x="531" y="917"/>
                </a:lnTo>
                <a:lnTo>
                  <a:pt x="521" y="937"/>
                </a:lnTo>
                <a:lnTo>
                  <a:pt x="519" y="959"/>
                </a:lnTo>
                <a:lnTo>
                  <a:pt x="531" y="971"/>
                </a:lnTo>
                <a:lnTo>
                  <a:pt x="537" y="992"/>
                </a:lnTo>
                <a:lnTo>
                  <a:pt x="553" y="1016"/>
                </a:lnTo>
                <a:lnTo>
                  <a:pt x="569" y="1038"/>
                </a:lnTo>
                <a:lnTo>
                  <a:pt x="587" y="1062"/>
                </a:lnTo>
                <a:lnTo>
                  <a:pt x="577" y="1086"/>
                </a:lnTo>
                <a:lnTo>
                  <a:pt x="575" y="1110"/>
                </a:lnTo>
                <a:lnTo>
                  <a:pt x="561" y="1129"/>
                </a:lnTo>
                <a:lnTo>
                  <a:pt x="533" y="1118"/>
                </a:lnTo>
                <a:lnTo>
                  <a:pt x="515" y="1122"/>
                </a:lnTo>
                <a:lnTo>
                  <a:pt x="499" y="1133"/>
                </a:lnTo>
                <a:lnTo>
                  <a:pt x="490" y="1116"/>
                </a:lnTo>
                <a:lnTo>
                  <a:pt x="480" y="1086"/>
                </a:lnTo>
                <a:lnTo>
                  <a:pt x="456" y="1070"/>
                </a:lnTo>
                <a:lnTo>
                  <a:pt x="434" y="1064"/>
                </a:lnTo>
                <a:lnTo>
                  <a:pt x="402" y="1068"/>
                </a:lnTo>
                <a:lnTo>
                  <a:pt x="380" y="1072"/>
                </a:lnTo>
                <a:lnTo>
                  <a:pt x="357" y="1060"/>
                </a:lnTo>
                <a:lnTo>
                  <a:pt x="325" y="1048"/>
                </a:lnTo>
                <a:lnTo>
                  <a:pt x="295" y="1040"/>
                </a:lnTo>
                <a:lnTo>
                  <a:pt x="273" y="1042"/>
                </a:lnTo>
                <a:lnTo>
                  <a:pt x="246" y="1046"/>
                </a:lnTo>
                <a:lnTo>
                  <a:pt x="226" y="1032"/>
                </a:lnTo>
                <a:lnTo>
                  <a:pt x="216" y="1008"/>
                </a:lnTo>
                <a:lnTo>
                  <a:pt x="212" y="985"/>
                </a:lnTo>
                <a:lnTo>
                  <a:pt x="226" y="959"/>
                </a:lnTo>
                <a:lnTo>
                  <a:pt x="222" y="929"/>
                </a:lnTo>
                <a:lnTo>
                  <a:pt x="210" y="907"/>
                </a:lnTo>
                <a:lnTo>
                  <a:pt x="186" y="899"/>
                </a:lnTo>
                <a:lnTo>
                  <a:pt x="164" y="907"/>
                </a:lnTo>
                <a:lnTo>
                  <a:pt x="144" y="899"/>
                </a:lnTo>
                <a:lnTo>
                  <a:pt x="135" y="879"/>
                </a:lnTo>
                <a:lnTo>
                  <a:pt x="131" y="855"/>
                </a:lnTo>
                <a:lnTo>
                  <a:pt x="127" y="828"/>
                </a:lnTo>
                <a:lnTo>
                  <a:pt x="111" y="800"/>
                </a:lnTo>
                <a:lnTo>
                  <a:pt x="87" y="778"/>
                </a:lnTo>
                <a:lnTo>
                  <a:pt x="59" y="764"/>
                </a:lnTo>
                <a:lnTo>
                  <a:pt x="25" y="770"/>
                </a:lnTo>
                <a:lnTo>
                  <a:pt x="16" y="734"/>
                </a:lnTo>
                <a:lnTo>
                  <a:pt x="8" y="703"/>
                </a:lnTo>
                <a:lnTo>
                  <a:pt x="0" y="679"/>
                </a:lnTo>
                <a:lnTo>
                  <a:pt x="4" y="657"/>
                </a:lnTo>
                <a:lnTo>
                  <a:pt x="12" y="639"/>
                </a:lnTo>
                <a:lnTo>
                  <a:pt x="14" y="611"/>
                </a:lnTo>
                <a:lnTo>
                  <a:pt x="12" y="585"/>
                </a:lnTo>
                <a:lnTo>
                  <a:pt x="16" y="574"/>
                </a:lnTo>
                <a:lnTo>
                  <a:pt x="33" y="568"/>
                </a:lnTo>
                <a:lnTo>
                  <a:pt x="57" y="572"/>
                </a:lnTo>
                <a:lnTo>
                  <a:pt x="75" y="568"/>
                </a:lnTo>
                <a:lnTo>
                  <a:pt x="95" y="558"/>
                </a:lnTo>
                <a:lnTo>
                  <a:pt x="111" y="540"/>
                </a:lnTo>
                <a:lnTo>
                  <a:pt x="103" y="514"/>
                </a:lnTo>
                <a:lnTo>
                  <a:pt x="105" y="490"/>
                </a:lnTo>
                <a:lnTo>
                  <a:pt x="115" y="464"/>
                </a:lnTo>
                <a:lnTo>
                  <a:pt x="125" y="438"/>
                </a:lnTo>
                <a:lnTo>
                  <a:pt x="133" y="407"/>
                </a:lnTo>
                <a:lnTo>
                  <a:pt x="135" y="373"/>
                </a:lnTo>
                <a:lnTo>
                  <a:pt x="131" y="339"/>
                </a:lnTo>
                <a:lnTo>
                  <a:pt x="137" y="315"/>
                </a:lnTo>
                <a:lnTo>
                  <a:pt x="144" y="296"/>
                </a:lnTo>
                <a:lnTo>
                  <a:pt x="142" y="270"/>
                </a:lnTo>
                <a:lnTo>
                  <a:pt x="127" y="222"/>
                </a:lnTo>
                <a:lnTo>
                  <a:pt x="119" y="200"/>
                </a:lnTo>
                <a:lnTo>
                  <a:pt x="113" y="184"/>
                </a:lnTo>
                <a:lnTo>
                  <a:pt x="109" y="166"/>
                </a:lnTo>
                <a:lnTo>
                  <a:pt x="91" y="143"/>
                </a:lnTo>
                <a:lnTo>
                  <a:pt x="107" y="121"/>
                </a:lnTo>
                <a:lnTo>
                  <a:pt x="129" y="111"/>
                </a:lnTo>
                <a:lnTo>
                  <a:pt x="148" y="115"/>
                </a:lnTo>
                <a:lnTo>
                  <a:pt x="170" y="103"/>
                </a:lnTo>
                <a:lnTo>
                  <a:pt x="190" y="93"/>
                </a:lnTo>
                <a:lnTo>
                  <a:pt x="202" y="87"/>
                </a:lnTo>
                <a:lnTo>
                  <a:pt x="226" y="81"/>
                </a:lnTo>
                <a:lnTo>
                  <a:pt x="244" y="93"/>
                </a:lnTo>
                <a:lnTo>
                  <a:pt x="261" y="93"/>
                </a:lnTo>
                <a:lnTo>
                  <a:pt x="277" y="87"/>
                </a:lnTo>
                <a:lnTo>
                  <a:pt x="287" y="71"/>
                </a:lnTo>
                <a:lnTo>
                  <a:pt x="299" y="51"/>
                </a:lnTo>
                <a:lnTo>
                  <a:pt x="301" y="35"/>
                </a:lnTo>
                <a:lnTo>
                  <a:pt x="303" y="24"/>
                </a:lnTo>
                <a:lnTo>
                  <a:pt x="303" y="0"/>
                </a:lnTo>
                <a:lnTo>
                  <a:pt x="315" y="4"/>
                </a:lnTo>
                <a:lnTo>
                  <a:pt x="337" y="20"/>
                </a:lnTo>
                <a:lnTo>
                  <a:pt x="345" y="41"/>
                </a:lnTo>
                <a:close/>
              </a:path>
            </a:pathLst>
          </a:custGeom>
          <a:solidFill>
            <a:srgbClr val="ffcccc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Freeform 34"/>
          <p:cNvSpPr/>
          <p:nvPr/>
        </p:nvSpPr>
        <p:spPr>
          <a:xfrm>
            <a:off x="6024600" y="2247840"/>
            <a:ext cx="712800" cy="587520"/>
          </a:xfrm>
          <a:custGeom>
            <a:avLst/>
            <a:gdLst>
              <a:gd name="textAreaLeft" fmla="*/ 0 w 712800"/>
              <a:gd name="textAreaRight" fmla="*/ 713160 w 712800"/>
              <a:gd name="textAreaTop" fmla="*/ 0 h 587520"/>
              <a:gd name="textAreaBottom" fmla="*/ 587520 h 587520"/>
            </a:gdLst>
            <a:ahLst/>
            <a:rect l="textAreaLeft" t="textAreaTop" r="textAreaRight" b="textAreaBottom"/>
            <a:pathLst>
              <a:path w="898" h="741">
                <a:moveTo>
                  <a:pt x="797" y="322"/>
                </a:moveTo>
                <a:lnTo>
                  <a:pt x="795" y="346"/>
                </a:lnTo>
                <a:lnTo>
                  <a:pt x="781" y="365"/>
                </a:lnTo>
                <a:lnTo>
                  <a:pt x="753" y="354"/>
                </a:lnTo>
                <a:lnTo>
                  <a:pt x="735" y="358"/>
                </a:lnTo>
                <a:lnTo>
                  <a:pt x="719" y="369"/>
                </a:lnTo>
                <a:lnTo>
                  <a:pt x="710" y="352"/>
                </a:lnTo>
                <a:lnTo>
                  <a:pt x="700" y="322"/>
                </a:lnTo>
                <a:lnTo>
                  <a:pt x="676" y="306"/>
                </a:lnTo>
                <a:lnTo>
                  <a:pt x="654" y="300"/>
                </a:lnTo>
                <a:lnTo>
                  <a:pt x="622" y="304"/>
                </a:lnTo>
                <a:lnTo>
                  <a:pt x="600" y="308"/>
                </a:lnTo>
                <a:lnTo>
                  <a:pt x="577" y="296"/>
                </a:lnTo>
                <a:lnTo>
                  <a:pt x="545" y="284"/>
                </a:lnTo>
                <a:lnTo>
                  <a:pt x="515" y="276"/>
                </a:lnTo>
                <a:lnTo>
                  <a:pt x="493" y="278"/>
                </a:lnTo>
                <a:lnTo>
                  <a:pt x="466" y="282"/>
                </a:lnTo>
                <a:lnTo>
                  <a:pt x="446" y="268"/>
                </a:lnTo>
                <a:lnTo>
                  <a:pt x="436" y="244"/>
                </a:lnTo>
                <a:lnTo>
                  <a:pt x="432" y="221"/>
                </a:lnTo>
                <a:lnTo>
                  <a:pt x="446" y="195"/>
                </a:lnTo>
                <a:lnTo>
                  <a:pt x="442" y="165"/>
                </a:lnTo>
                <a:lnTo>
                  <a:pt x="430" y="143"/>
                </a:lnTo>
                <a:lnTo>
                  <a:pt x="406" y="135"/>
                </a:lnTo>
                <a:lnTo>
                  <a:pt x="384" y="143"/>
                </a:lnTo>
                <a:lnTo>
                  <a:pt x="364" y="135"/>
                </a:lnTo>
                <a:lnTo>
                  <a:pt x="355" y="115"/>
                </a:lnTo>
                <a:lnTo>
                  <a:pt x="351" y="91"/>
                </a:lnTo>
                <a:lnTo>
                  <a:pt x="347" y="64"/>
                </a:lnTo>
                <a:lnTo>
                  <a:pt x="331" y="36"/>
                </a:lnTo>
                <a:lnTo>
                  <a:pt x="307" y="14"/>
                </a:lnTo>
                <a:lnTo>
                  <a:pt x="279" y="0"/>
                </a:lnTo>
                <a:lnTo>
                  <a:pt x="245" y="6"/>
                </a:lnTo>
                <a:lnTo>
                  <a:pt x="251" y="30"/>
                </a:lnTo>
                <a:lnTo>
                  <a:pt x="245" y="46"/>
                </a:lnTo>
                <a:lnTo>
                  <a:pt x="226" y="58"/>
                </a:lnTo>
                <a:lnTo>
                  <a:pt x="208" y="54"/>
                </a:lnTo>
                <a:lnTo>
                  <a:pt x="192" y="34"/>
                </a:lnTo>
                <a:lnTo>
                  <a:pt x="168" y="48"/>
                </a:lnTo>
                <a:lnTo>
                  <a:pt x="160" y="68"/>
                </a:lnTo>
                <a:lnTo>
                  <a:pt x="138" y="84"/>
                </a:lnTo>
                <a:lnTo>
                  <a:pt x="124" y="101"/>
                </a:lnTo>
                <a:lnTo>
                  <a:pt x="101" y="117"/>
                </a:lnTo>
                <a:lnTo>
                  <a:pt x="73" y="129"/>
                </a:lnTo>
                <a:lnTo>
                  <a:pt x="43" y="127"/>
                </a:lnTo>
                <a:lnTo>
                  <a:pt x="11" y="133"/>
                </a:lnTo>
                <a:lnTo>
                  <a:pt x="21" y="159"/>
                </a:lnTo>
                <a:lnTo>
                  <a:pt x="31" y="183"/>
                </a:lnTo>
                <a:lnTo>
                  <a:pt x="51" y="195"/>
                </a:lnTo>
                <a:lnTo>
                  <a:pt x="63" y="213"/>
                </a:lnTo>
                <a:lnTo>
                  <a:pt x="73" y="234"/>
                </a:lnTo>
                <a:lnTo>
                  <a:pt x="95" y="236"/>
                </a:lnTo>
                <a:lnTo>
                  <a:pt x="107" y="260"/>
                </a:lnTo>
                <a:lnTo>
                  <a:pt x="91" y="280"/>
                </a:lnTo>
                <a:lnTo>
                  <a:pt x="73" y="290"/>
                </a:lnTo>
                <a:lnTo>
                  <a:pt x="59" y="306"/>
                </a:lnTo>
                <a:lnTo>
                  <a:pt x="63" y="334"/>
                </a:lnTo>
                <a:lnTo>
                  <a:pt x="69" y="362"/>
                </a:lnTo>
                <a:lnTo>
                  <a:pt x="47" y="367"/>
                </a:lnTo>
                <a:lnTo>
                  <a:pt x="33" y="383"/>
                </a:lnTo>
                <a:lnTo>
                  <a:pt x="27" y="409"/>
                </a:lnTo>
                <a:lnTo>
                  <a:pt x="37" y="427"/>
                </a:lnTo>
                <a:lnTo>
                  <a:pt x="17" y="447"/>
                </a:lnTo>
                <a:lnTo>
                  <a:pt x="5" y="469"/>
                </a:lnTo>
                <a:lnTo>
                  <a:pt x="0" y="493"/>
                </a:lnTo>
                <a:lnTo>
                  <a:pt x="4" y="516"/>
                </a:lnTo>
                <a:lnTo>
                  <a:pt x="19" y="536"/>
                </a:lnTo>
                <a:lnTo>
                  <a:pt x="39" y="526"/>
                </a:lnTo>
                <a:lnTo>
                  <a:pt x="57" y="536"/>
                </a:lnTo>
                <a:lnTo>
                  <a:pt x="65" y="558"/>
                </a:lnTo>
                <a:lnTo>
                  <a:pt x="55" y="580"/>
                </a:lnTo>
                <a:lnTo>
                  <a:pt x="57" y="602"/>
                </a:lnTo>
                <a:lnTo>
                  <a:pt x="59" y="606"/>
                </a:lnTo>
                <a:lnTo>
                  <a:pt x="79" y="600"/>
                </a:lnTo>
                <a:lnTo>
                  <a:pt x="109" y="592"/>
                </a:lnTo>
                <a:lnTo>
                  <a:pt x="132" y="600"/>
                </a:lnTo>
                <a:lnTo>
                  <a:pt x="148" y="622"/>
                </a:lnTo>
                <a:lnTo>
                  <a:pt x="162" y="645"/>
                </a:lnTo>
                <a:lnTo>
                  <a:pt x="186" y="663"/>
                </a:lnTo>
                <a:lnTo>
                  <a:pt x="212" y="675"/>
                </a:lnTo>
                <a:lnTo>
                  <a:pt x="224" y="695"/>
                </a:lnTo>
                <a:lnTo>
                  <a:pt x="230" y="721"/>
                </a:lnTo>
                <a:lnTo>
                  <a:pt x="247" y="737"/>
                </a:lnTo>
                <a:lnTo>
                  <a:pt x="277" y="741"/>
                </a:lnTo>
                <a:lnTo>
                  <a:pt x="291" y="737"/>
                </a:lnTo>
                <a:lnTo>
                  <a:pt x="283" y="707"/>
                </a:lnTo>
                <a:lnTo>
                  <a:pt x="299" y="689"/>
                </a:lnTo>
                <a:lnTo>
                  <a:pt x="321" y="685"/>
                </a:lnTo>
                <a:lnTo>
                  <a:pt x="349" y="693"/>
                </a:lnTo>
                <a:lnTo>
                  <a:pt x="372" y="703"/>
                </a:lnTo>
                <a:lnTo>
                  <a:pt x="390" y="697"/>
                </a:lnTo>
                <a:lnTo>
                  <a:pt x="402" y="715"/>
                </a:lnTo>
                <a:lnTo>
                  <a:pt x="414" y="727"/>
                </a:lnTo>
                <a:lnTo>
                  <a:pt x="434" y="731"/>
                </a:lnTo>
                <a:lnTo>
                  <a:pt x="446" y="719"/>
                </a:lnTo>
                <a:lnTo>
                  <a:pt x="438" y="687"/>
                </a:lnTo>
                <a:lnTo>
                  <a:pt x="428" y="655"/>
                </a:lnTo>
                <a:lnTo>
                  <a:pt x="428" y="632"/>
                </a:lnTo>
                <a:lnTo>
                  <a:pt x="446" y="608"/>
                </a:lnTo>
                <a:lnTo>
                  <a:pt x="468" y="598"/>
                </a:lnTo>
                <a:lnTo>
                  <a:pt x="489" y="602"/>
                </a:lnTo>
                <a:lnTo>
                  <a:pt x="511" y="618"/>
                </a:lnTo>
                <a:lnTo>
                  <a:pt x="515" y="636"/>
                </a:lnTo>
                <a:lnTo>
                  <a:pt x="513" y="657"/>
                </a:lnTo>
                <a:lnTo>
                  <a:pt x="523" y="675"/>
                </a:lnTo>
                <a:lnTo>
                  <a:pt x="543" y="679"/>
                </a:lnTo>
                <a:lnTo>
                  <a:pt x="563" y="675"/>
                </a:lnTo>
                <a:lnTo>
                  <a:pt x="581" y="667"/>
                </a:lnTo>
                <a:lnTo>
                  <a:pt x="608" y="675"/>
                </a:lnTo>
                <a:lnTo>
                  <a:pt x="632" y="683"/>
                </a:lnTo>
                <a:lnTo>
                  <a:pt x="654" y="671"/>
                </a:lnTo>
                <a:lnTo>
                  <a:pt x="664" y="669"/>
                </a:lnTo>
                <a:lnTo>
                  <a:pt x="672" y="628"/>
                </a:lnTo>
                <a:lnTo>
                  <a:pt x="670" y="608"/>
                </a:lnTo>
                <a:lnTo>
                  <a:pt x="674" y="584"/>
                </a:lnTo>
                <a:lnTo>
                  <a:pt x="690" y="568"/>
                </a:lnTo>
                <a:lnTo>
                  <a:pt x="721" y="564"/>
                </a:lnTo>
                <a:lnTo>
                  <a:pt x="751" y="556"/>
                </a:lnTo>
                <a:lnTo>
                  <a:pt x="773" y="542"/>
                </a:lnTo>
                <a:lnTo>
                  <a:pt x="787" y="518"/>
                </a:lnTo>
                <a:lnTo>
                  <a:pt x="785" y="487"/>
                </a:lnTo>
                <a:lnTo>
                  <a:pt x="777" y="459"/>
                </a:lnTo>
                <a:lnTo>
                  <a:pt x="791" y="435"/>
                </a:lnTo>
                <a:lnTo>
                  <a:pt x="817" y="433"/>
                </a:lnTo>
                <a:lnTo>
                  <a:pt x="838" y="423"/>
                </a:lnTo>
                <a:lnTo>
                  <a:pt x="850" y="399"/>
                </a:lnTo>
                <a:lnTo>
                  <a:pt x="872" y="389"/>
                </a:lnTo>
                <a:lnTo>
                  <a:pt x="890" y="383"/>
                </a:lnTo>
                <a:lnTo>
                  <a:pt x="898" y="371"/>
                </a:lnTo>
                <a:lnTo>
                  <a:pt x="886" y="348"/>
                </a:lnTo>
                <a:lnTo>
                  <a:pt x="864" y="340"/>
                </a:lnTo>
                <a:lnTo>
                  <a:pt x="848" y="324"/>
                </a:lnTo>
                <a:lnTo>
                  <a:pt x="852" y="308"/>
                </a:lnTo>
                <a:lnTo>
                  <a:pt x="838" y="304"/>
                </a:lnTo>
                <a:lnTo>
                  <a:pt x="817" y="306"/>
                </a:lnTo>
                <a:lnTo>
                  <a:pt x="797" y="322"/>
                </a:lnTo>
                <a:close/>
              </a:path>
            </a:pathLst>
          </a:custGeom>
          <a:solidFill>
            <a:srgbClr val="ffff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Freeform 35"/>
          <p:cNvSpPr/>
          <p:nvPr/>
        </p:nvSpPr>
        <p:spPr>
          <a:xfrm>
            <a:off x="5337000" y="3224160"/>
            <a:ext cx="846360" cy="954000"/>
          </a:xfrm>
          <a:custGeom>
            <a:avLst/>
            <a:gdLst>
              <a:gd name="textAreaLeft" fmla="*/ 0 w 846360"/>
              <a:gd name="textAreaRight" fmla="*/ 846720 w 846360"/>
              <a:gd name="textAreaTop" fmla="*/ 0 h 954000"/>
              <a:gd name="textAreaBottom" fmla="*/ 954360 h 954000"/>
            </a:gdLst>
            <a:ahLst/>
            <a:rect l="textAreaLeft" t="textAreaTop" r="textAreaRight" b="textAreaBottom"/>
            <a:pathLst>
              <a:path w="1067" h="1201">
                <a:moveTo>
                  <a:pt x="722" y="1201"/>
                </a:moveTo>
                <a:lnTo>
                  <a:pt x="738" y="1189"/>
                </a:lnTo>
                <a:lnTo>
                  <a:pt x="757" y="1175"/>
                </a:lnTo>
                <a:lnTo>
                  <a:pt x="781" y="1159"/>
                </a:lnTo>
                <a:lnTo>
                  <a:pt x="807" y="1146"/>
                </a:lnTo>
                <a:lnTo>
                  <a:pt x="825" y="1132"/>
                </a:lnTo>
                <a:lnTo>
                  <a:pt x="839" y="1118"/>
                </a:lnTo>
                <a:lnTo>
                  <a:pt x="859" y="1110"/>
                </a:lnTo>
                <a:lnTo>
                  <a:pt x="871" y="1130"/>
                </a:lnTo>
                <a:lnTo>
                  <a:pt x="898" y="1124"/>
                </a:lnTo>
                <a:lnTo>
                  <a:pt x="920" y="1130"/>
                </a:lnTo>
                <a:lnTo>
                  <a:pt x="932" y="1114"/>
                </a:lnTo>
                <a:lnTo>
                  <a:pt x="920" y="1096"/>
                </a:lnTo>
                <a:lnTo>
                  <a:pt x="932" y="1080"/>
                </a:lnTo>
                <a:lnTo>
                  <a:pt x="924" y="1060"/>
                </a:lnTo>
                <a:lnTo>
                  <a:pt x="922" y="1036"/>
                </a:lnTo>
                <a:lnTo>
                  <a:pt x="932" y="1007"/>
                </a:lnTo>
                <a:lnTo>
                  <a:pt x="926" y="979"/>
                </a:lnTo>
                <a:lnTo>
                  <a:pt x="934" y="951"/>
                </a:lnTo>
                <a:lnTo>
                  <a:pt x="942" y="921"/>
                </a:lnTo>
                <a:lnTo>
                  <a:pt x="934" y="891"/>
                </a:lnTo>
                <a:lnTo>
                  <a:pt x="928" y="864"/>
                </a:lnTo>
                <a:lnTo>
                  <a:pt x="924" y="826"/>
                </a:lnTo>
                <a:lnTo>
                  <a:pt x="914" y="798"/>
                </a:lnTo>
                <a:lnTo>
                  <a:pt x="906" y="778"/>
                </a:lnTo>
                <a:lnTo>
                  <a:pt x="910" y="758"/>
                </a:lnTo>
                <a:lnTo>
                  <a:pt x="926" y="742"/>
                </a:lnTo>
                <a:lnTo>
                  <a:pt x="948" y="727"/>
                </a:lnTo>
                <a:lnTo>
                  <a:pt x="956" y="703"/>
                </a:lnTo>
                <a:lnTo>
                  <a:pt x="976" y="685"/>
                </a:lnTo>
                <a:lnTo>
                  <a:pt x="1003" y="671"/>
                </a:lnTo>
                <a:lnTo>
                  <a:pt x="1015" y="649"/>
                </a:lnTo>
                <a:lnTo>
                  <a:pt x="1011" y="627"/>
                </a:lnTo>
                <a:lnTo>
                  <a:pt x="993" y="607"/>
                </a:lnTo>
                <a:lnTo>
                  <a:pt x="1003" y="590"/>
                </a:lnTo>
                <a:lnTo>
                  <a:pt x="1025" y="594"/>
                </a:lnTo>
                <a:lnTo>
                  <a:pt x="1037" y="611"/>
                </a:lnTo>
                <a:lnTo>
                  <a:pt x="1059" y="611"/>
                </a:lnTo>
                <a:lnTo>
                  <a:pt x="1067" y="594"/>
                </a:lnTo>
                <a:lnTo>
                  <a:pt x="1049" y="576"/>
                </a:lnTo>
                <a:lnTo>
                  <a:pt x="1047" y="554"/>
                </a:lnTo>
                <a:lnTo>
                  <a:pt x="1057" y="524"/>
                </a:lnTo>
                <a:lnTo>
                  <a:pt x="1067" y="484"/>
                </a:lnTo>
                <a:lnTo>
                  <a:pt x="1057" y="453"/>
                </a:lnTo>
                <a:lnTo>
                  <a:pt x="1041" y="429"/>
                </a:lnTo>
                <a:lnTo>
                  <a:pt x="1021" y="415"/>
                </a:lnTo>
                <a:lnTo>
                  <a:pt x="1009" y="395"/>
                </a:lnTo>
                <a:lnTo>
                  <a:pt x="1001" y="371"/>
                </a:lnTo>
                <a:lnTo>
                  <a:pt x="993" y="351"/>
                </a:lnTo>
                <a:lnTo>
                  <a:pt x="978" y="337"/>
                </a:lnTo>
                <a:lnTo>
                  <a:pt x="958" y="327"/>
                </a:lnTo>
                <a:lnTo>
                  <a:pt x="938" y="312"/>
                </a:lnTo>
                <a:lnTo>
                  <a:pt x="926" y="292"/>
                </a:lnTo>
                <a:lnTo>
                  <a:pt x="928" y="264"/>
                </a:lnTo>
                <a:lnTo>
                  <a:pt x="946" y="240"/>
                </a:lnTo>
                <a:lnTo>
                  <a:pt x="950" y="216"/>
                </a:lnTo>
                <a:lnTo>
                  <a:pt x="942" y="192"/>
                </a:lnTo>
                <a:lnTo>
                  <a:pt x="946" y="171"/>
                </a:lnTo>
                <a:lnTo>
                  <a:pt x="954" y="139"/>
                </a:lnTo>
                <a:lnTo>
                  <a:pt x="946" y="117"/>
                </a:lnTo>
                <a:lnTo>
                  <a:pt x="926" y="119"/>
                </a:lnTo>
                <a:lnTo>
                  <a:pt x="910" y="133"/>
                </a:lnTo>
                <a:lnTo>
                  <a:pt x="898" y="155"/>
                </a:lnTo>
                <a:lnTo>
                  <a:pt x="878" y="163"/>
                </a:lnTo>
                <a:lnTo>
                  <a:pt x="869" y="145"/>
                </a:lnTo>
                <a:lnTo>
                  <a:pt x="861" y="127"/>
                </a:lnTo>
                <a:lnTo>
                  <a:pt x="847" y="123"/>
                </a:lnTo>
                <a:lnTo>
                  <a:pt x="837" y="109"/>
                </a:lnTo>
                <a:lnTo>
                  <a:pt x="829" y="93"/>
                </a:lnTo>
                <a:lnTo>
                  <a:pt x="839" y="67"/>
                </a:lnTo>
                <a:lnTo>
                  <a:pt x="833" y="53"/>
                </a:lnTo>
                <a:lnTo>
                  <a:pt x="807" y="61"/>
                </a:lnTo>
                <a:lnTo>
                  <a:pt x="785" y="53"/>
                </a:lnTo>
                <a:lnTo>
                  <a:pt x="779" y="34"/>
                </a:lnTo>
                <a:lnTo>
                  <a:pt x="777" y="8"/>
                </a:lnTo>
                <a:lnTo>
                  <a:pt x="759" y="0"/>
                </a:lnTo>
                <a:lnTo>
                  <a:pt x="744" y="12"/>
                </a:lnTo>
                <a:lnTo>
                  <a:pt x="728" y="30"/>
                </a:lnTo>
                <a:lnTo>
                  <a:pt x="716" y="20"/>
                </a:lnTo>
                <a:lnTo>
                  <a:pt x="702" y="6"/>
                </a:lnTo>
                <a:lnTo>
                  <a:pt x="682" y="10"/>
                </a:lnTo>
                <a:lnTo>
                  <a:pt x="668" y="24"/>
                </a:lnTo>
                <a:lnTo>
                  <a:pt x="674" y="50"/>
                </a:lnTo>
                <a:lnTo>
                  <a:pt x="672" y="67"/>
                </a:lnTo>
                <a:lnTo>
                  <a:pt x="660" y="79"/>
                </a:lnTo>
                <a:lnTo>
                  <a:pt x="640" y="71"/>
                </a:lnTo>
                <a:lnTo>
                  <a:pt x="631" y="93"/>
                </a:lnTo>
                <a:lnTo>
                  <a:pt x="617" y="115"/>
                </a:lnTo>
                <a:lnTo>
                  <a:pt x="595" y="127"/>
                </a:lnTo>
                <a:lnTo>
                  <a:pt x="579" y="131"/>
                </a:lnTo>
                <a:lnTo>
                  <a:pt x="585" y="149"/>
                </a:lnTo>
                <a:lnTo>
                  <a:pt x="581" y="167"/>
                </a:lnTo>
                <a:lnTo>
                  <a:pt x="561" y="165"/>
                </a:lnTo>
                <a:lnTo>
                  <a:pt x="541" y="157"/>
                </a:lnTo>
                <a:lnTo>
                  <a:pt x="527" y="169"/>
                </a:lnTo>
                <a:lnTo>
                  <a:pt x="514" y="185"/>
                </a:lnTo>
                <a:lnTo>
                  <a:pt x="498" y="198"/>
                </a:lnTo>
                <a:lnTo>
                  <a:pt x="482" y="192"/>
                </a:lnTo>
                <a:lnTo>
                  <a:pt x="480" y="175"/>
                </a:lnTo>
                <a:lnTo>
                  <a:pt x="486" y="155"/>
                </a:lnTo>
                <a:lnTo>
                  <a:pt x="496" y="135"/>
                </a:lnTo>
                <a:lnTo>
                  <a:pt x="476" y="127"/>
                </a:lnTo>
                <a:lnTo>
                  <a:pt x="460" y="137"/>
                </a:lnTo>
                <a:lnTo>
                  <a:pt x="444" y="127"/>
                </a:lnTo>
                <a:lnTo>
                  <a:pt x="426" y="115"/>
                </a:lnTo>
                <a:lnTo>
                  <a:pt x="406" y="125"/>
                </a:lnTo>
                <a:lnTo>
                  <a:pt x="385" y="121"/>
                </a:lnTo>
                <a:lnTo>
                  <a:pt x="365" y="113"/>
                </a:lnTo>
                <a:lnTo>
                  <a:pt x="353" y="127"/>
                </a:lnTo>
                <a:lnTo>
                  <a:pt x="363" y="153"/>
                </a:lnTo>
                <a:lnTo>
                  <a:pt x="365" y="177"/>
                </a:lnTo>
                <a:lnTo>
                  <a:pt x="373" y="206"/>
                </a:lnTo>
                <a:lnTo>
                  <a:pt x="381" y="232"/>
                </a:lnTo>
                <a:lnTo>
                  <a:pt x="371" y="256"/>
                </a:lnTo>
                <a:lnTo>
                  <a:pt x="367" y="282"/>
                </a:lnTo>
                <a:lnTo>
                  <a:pt x="353" y="298"/>
                </a:lnTo>
                <a:lnTo>
                  <a:pt x="337" y="324"/>
                </a:lnTo>
                <a:lnTo>
                  <a:pt x="333" y="349"/>
                </a:lnTo>
                <a:lnTo>
                  <a:pt x="329" y="373"/>
                </a:lnTo>
                <a:lnTo>
                  <a:pt x="315" y="387"/>
                </a:lnTo>
                <a:lnTo>
                  <a:pt x="295" y="409"/>
                </a:lnTo>
                <a:lnTo>
                  <a:pt x="289" y="441"/>
                </a:lnTo>
                <a:lnTo>
                  <a:pt x="282" y="464"/>
                </a:lnTo>
                <a:lnTo>
                  <a:pt x="262" y="480"/>
                </a:lnTo>
                <a:lnTo>
                  <a:pt x="238" y="492"/>
                </a:lnTo>
                <a:lnTo>
                  <a:pt x="222" y="510"/>
                </a:lnTo>
                <a:lnTo>
                  <a:pt x="210" y="536"/>
                </a:lnTo>
                <a:lnTo>
                  <a:pt x="202" y="558"/>
                </a:lnTo>
                <a:lnTo>
                  <a:pt x="180" y="568"/>
                </a:lnTo>
                <a:lnTo>
                  <a:pt x="161" y="584"/>
                </a:lnTo>
                <a:lnTo>
                  <a:pt x="143" y="605"/>
                </a:lnTo>
                <a:lnTo>
                  <a:pt x="133" y="633"/>
                </a:lnTo>
                <a:lnTo>
                  <a:pt x="121" y="671"/>
                </a:lnTo>
                <a:lnTo>
                  <a:pt x="107" y="715"/>
                </a:lnTo>
                <a:lnTo>
                  <a:pt x="97" y="754"/>
                </a:lnTo>
                <a:lnTo>
                  <a:pt x="89" y="798"/>
                </a:lnTo>
                <a:lnTo>
                  <a:pt x="75" y="826"/>
                </a:lnTo>
                <a:lnTo>
                  <a:pt x="55" y="852"/>
                </a:lnTo>
                <a:lnTo>
                  <a:pt x="42" y="879"/>
                </a:lnTo>
                <a:lnTo>
                  <a:pt x="34" y="907"/>
                </a:lnTo>
                <a:lnTo>
                  <a:pt x="42" y="945"/>
                </a:lnTo>
                <a:lnTo>
                  <a:pt x="32" y="983"/>
                </a:lnTo>
                <a:lnTo>
                  <a:pt x="18" y="1011"/>
                </a:lnTo>
                <a:lnTo>
                  <a:pt x="6" y="1050"/>
                </a:lnTo>
                <a:lnTo>
                  <a:pt x="0" y="1096"/>
                </a:lnTo>
                <a:lnTo>
                  <a:pt x="10" y="1142"/>
                </a:lnTo>
                <a:lnTo>
                  <a:pt x="12" y="1173"/>
                </a:lnTo>
                <a:lnTo>
                  <a:pt x="22" y="1185"/>
                </a:lnTo>
                <a:lnTo>
                  <a:pt x="32" y="1163"/>
                </a:lnTo>
                <a:lnTo>
                  <a:pt x="51" y="1153"/>
                </a:lnTo>
                <a:lnTo>
                  <a:pt x="67" y="1157"/>
                </a:lnTo>
                <a:lnTo>
                  <a:pt x="77" y="1179"/>
                </a:lnTo>
                <a:lnTo>
                  <a:pt x="85" y="1195"/>
                </a:lnTo>
                <a:lnTo>
                  <a:pt x="109" y="1185"/>
                </a:lnTo>
                <a:lnTo>
                  <a:pt x="139" y="1181"/>
                </a:lnTo>
                <a:lnTo>
                  <a:pt x="161" y="1191"/>
                </a:lnTo>
                <a:lnTo>
                  <a:pt x="182" y="1197"/>
                </a:lnTo>
                <a:lnTo>
                  <a:pt x="208" y="1195"/>
                </a:lnTo>
                <a:lnTo>
                  <a:pt x="230" y="1179"/>
                </a:lnTo>
                <a:lnTo>
                  <a:pt x="250" y="1167"/>
                </a:lnTo>
                <a:lnTo>
                  <a:pt x="274" y="1163"/>
                </a:lnTo>
                <a:lnTo>
                  <a:pt x="297" y="1175"/>
                </a:lnTo>
                <a:lnTo>
                  <a:pt x="317" y="1189"/>
                </a:lnTo>
                <a:lnTo>
                  <a:pt x="339" y="1181"/>
                </a:lnTo>
                <a:lnTo>
                  <a:pt x="351" y="1159"/>
                </a:lnTo>
                <a:lnTo>
                  <a:pt x="373" y="1153"/>
                </a:lnTo>
                <a:lnTo>
                  <a:pt x="393" y="1146"/>
                </a:lnTo>
                <a:lnTo>
                  <a:pt x="381" y="1120"/>
                </a:lnTo>
                <a:lnTo>
                  <a:pt x="351" y="1116"/>
                </a:lnTo>
                <a:lnTo>
                  <a:pt x="327" y="1108"/>
                </a:lnTo>
                <a:lnTo>
                  <a:pt x="325" y="1086"/>
                </a:lnTo>
                <a:lnTo>
                  <a:pt x="339" y="1072"/>
                </a:lnTo>
                <a:lnTo>
                  <a:pt x="359" y="1062"/>
                </a:lnTo>
                <a:lnTo>
                  <a:pt x="387" y="1054"/>
                </a:lnTo>
                <a:lnTo>
                  <a:pt x="416" y="1054"/>
                </a:lnTo>
                <a:lnTo>
                  <a:pt x="442" y="1058"/>
                </a:lnTo>
                <a:lnTo>
                  <a:pt x="460" y="1074"/>
                </a:lnTo>
                <a:lnTo>
                  <a:pt x="454" y="1102"/>
                </a:lnTo>
                <a:lnTo>
                  <a:pt x="460" y="1124"/>
                </a:lnTo>
                <a:lnTo>
                  <a:pt x="474" y="1140"/>
                </a:lnTo>
                <a:lnTo>
                  <a:pt x="488" y="1124"/>
                </a:lnTo>
                <a:lnTo>
                  <a:pt x="514" y="1118"/>
                </a:lnTo>
                <a:lnTo>
                  <a:pt x="539" y="1126"/>
                </a:lnTo>
                <a:lnTo>
                  <a:pt x="565" y="1136"/>
                </a:lnTo>
                <a:lnTo>
                  <a:pt x="581" y="1152"/>
                </a:lnTo>
                <a:lnTo>
                  <a:pt x="597" y="1171"/>
                </a:lnTo>
                <a:lnTo>
                  <a:pt x="617" y="1173"/>
                </a:lnTo>
                <a:lnTo>
                  <a:pt x="644" y="1159"/>
                </a:lnTo>
                <a:lnTo>
                  <a:pt x="672" y="1169"/>
                </a:lnTo>
                <a:lnTo>
                  <a:pt x="700" y="1185"/>
                </a:lnTo>
                <a:lnTo>
                  <a:pt x="722" y="1201"/>
                </a:lnTo>
                <a:close/>
              </a:path>
            </a:pathLst>
          </a:custGeom>
          <a:solidFill>
            <a:srgbClr val="f39fd1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Freeform 36"/>
          <p:cNvSpPr/>
          <p:nvPr/>
        </p:nvSpPr>
        <p:spPr>
          <a:xfrm>
            <a:off x="5257800" y="2271600"/>
            <a:ext cx="654120" cy="944640"/>
          </a:xfrm>
          <a:custGeom>
            <a:avLst/>
            <a:gdLst>
              <a:gd name="textAreaLeft" fmla="*/ 0 w 654120"/>
              <a:gd name="textAreaRight" fmla="*/ 654480 w 654120"/>
              <a:gd name="textAreaTop" fmla="*/ 0 h 944640"/>
              <a:gd name="textAreaBottom" fmla="*/ 945000 h 944640"/>
            </a:gdLst>
            <a:ahLst/>
            <a:rect l="textAreaLeft" t="textAreaTop" r="textAreaRight" b="textAreaBottom"/>
            <a:pathLst>
              <a:path w="823" h="1191">
                <a:moveTo>
                  <a:pt x="775" y="602"/>
                </a:moveTo>
                <a:lnTo>
                  <a:pt x="771" y="574"/>
                </a:lnTo>
                <a:lnTo>
                  <a:pt x="783" y="552"/>
                </a:lnTo>
                <a:lnTo>
                  <a:pt x="773" y="530"/>
                </a:lnTo>
                <a:lnTo>
                  <a:pt x="757" y="520"/>
                </a:lnTo>
                <a:lnTo>
                  <a:pt x="735" y="530"/>
                </a:lnTo>
                <a:lnTo>
                  <a:pt x="721" y="512"/>
                </a:lnTo>
                <a:lnTo>
                  <a:pt x="716" y="487"/>
                </a:lnTo>
                <a:lnTo>
                  <a:pt x="723" y="461"/>
                </a:lnTo>
                <a:lnTo>
                  <a:pt x="735" y="441"/>
                </a:lnTo>
                <a:lnTo>
                  <a:pt x="755" y="421"/>
                </a:lnTo>
                <a:lnTo>
                  <a:pt x="745" y="403"/>
                </a:lnTo>
                <a:lnTo>
                  <a:pt x="749" y="377"/>
                </a:lnTo>
                <a:lnTo>
                  <a:pt x="765" y="361"/>
                </a:lnTo>
                <a:lnTo>
                  <a:pt x="787" y="356"/>
                </a:lnTo>
                <a:lnTo>
                  <a:pt x="781" y="338"/>
                </a:lnTo>
                <a:lnTo>
                  <a:pt x="777" y="300"/>
                </a:lnTo>
                <a:lnTo>
                  <a:pt x="789" y="284"/>
                </a:lnTo>
                <a:lnTo>
                  <a:pt x="809" y="272"/>
                </a:lnTo>
                <a:lnTo>
                  <a:pt x="823" y="252"/>
                </a:lnTo>
                <a:lnTo>
                  <a:pt x="811" y="228"/>
                </a:lnTo>
                <a:lnTo>
                  <a:pt x="789" y="228"/>
                </a:lnTo>
                <a:lnTo>
                  <a:pt x="779" y="205"/>
                </a:lnTo>
                <a:lnTo>
                  <a:pt x="767" y="189"/>
                </a:lnTo>
                <a:lnTo>
                  <a:pt x="747" y="177"/>
                </a:lnTo>
                <a:lnTo>
                  <a:pt x="735" y="147"/>
                </a:lnTo>
                <a:lnTo>
                  <a:pt x="727" y="127"/>
                </a:lnTo>
                <a:lnTo>
                  <a:pt x="714" y="123"/>
                </a:lnTo>
                <a:lnTo>
                  <a:pt x="700" y="123"/>
                </a:lnTo>
                <a:lnTo>
                  <a:pt x="678" y="139"/>
                </a:lnTo>
                <a:lnTo>
                  <a:pt x="670" y="151"/>
                </a:lnTo>
                <a:lnTo>
                  <a:pt x="664" y="159"/>
                </a:lnTo>
                <a:lnTo>
                  <a:pt x="658" y="171"/>
                </a:lnTo>
                <a:lnTo>
                  <a:pt x="636" y="179"/>
                </a:lnTo>
                <a:lnTo>
                  <a:pt x="614" y="171"/>
                </a:lnTo>
                <a:lnTo>
                  <a:pt x="595" y="167"/>
                </a:lnTo>
                <a:lnTo>
                  <a:pt x="591" y="149"/>
                </a:lnTo>
                <a:lnTo>
                  <a:pt x="604" y="133"/>
                </a:lnTo>
                <a:lnTo>
                  <a:pt x="614" y="109"/>
                </a:lnTo>
                <a:lnTo>
                  <a:pt x="618" y="78"/>
                </a:lnTo>
                <a:lnTo>
                  <a:pt x="616" y="50"/>
                </a:lnTo>
                <a:lnTo>
                  <a:pt x="626" y="28"/>
                </a:lnTo>
                <a:lnTo>
                  <a:pt x="616" y="14"/>
                </a:lnTo>
                <a:lnTo>
                  <a:pt x="597" y="2"/>
                </a:lnTo>
                <a:lnTo>
                  <a:pt x="573" y="0"/>
                </a:lnTo>
                <a:lnTo>
                  <a:pt x="547" y="2"/>
                </a:lnTo>
                <a:lnTo>
                  <a:pt x="523" y="18"/>
                </a:lnTo>
                <a:lnTo>
                  <a:pt x="505" y="38"/>
                </a:lnTo>
                <a:lnTo>
                  <a:pt x="495" y="68"/>
                </a:lnTo>
                <a:lnTo>
                  <a:pt x="484" y="99"/>
                </a:lnTo>
                <a:lnTo>
                  <a:pt x="474" y="117"/>
                </a:lnTo>
                <a:lnTo>
                  <a:pt x="460" y="131"/>
                </a:lnTo>
                <a:lnTo>
                  <a:pt x="448" y="119"/>
                </a:lnTo>
                <a:lnTo>
                  <a:pt x="436" y="103"/>
                </a:lnTo>
                <a:lnTo>
                  <a:pt x="422" y="101"/>
                </a:lnTo>
                <a:lnTo>
                  <a:pt x="402" y="107"/>
                </a:lnTo>
                <a:lnTo>
                  <a:pt x="390" y="125"/>
                </a:lnTo>
                <a:lnTo>
                  <a:pt x="380" y="149"/>
                </a:lnTo>
                <a:lnTo>
                  <a:pt x="370" y="169"/>
                </a:lnTo>
                <a:lnTo>
                  <a:pt x="353" y="179"/>
                </a:lnTo>
                <a:lnTo>
                  <a:pt x="333" y="171"/>
                </a:lnTo>
                <a:lnTo>
                  <a:pt x="311" y="165"/>
                </a:lnTo>
                <a:lnTo>
                  <a:pt x="293" y="179"/>
                </a:lnTo>
                <a:lnTo>
                  <a:pt x="289" y="201"/>
                </a:lnTo>
                <a:lnTo>
                  <a:pt x="301" y="218"/>
                </a:lnTo>
                <a:lnTo>
                  <a:pt x="317" y="224"/>
                </a:lnTo>
                <a:lnTo>
                  <a:pt x="325" y="248"/>
                </a:lnTo>
                <a:lnTo>
                  <a:pt x="317" y="272"/>
                </a:lnTo>
                <a:lnTo>
                  <a:pt x="305" y="290"/>
                </a:lnTo>
                <a:lnTo>
                  <a:pt x="287" y="296"/>
                </a:lnTo>
                <a:lnTo>
                  <a:pt x="265" y="294"/>
                </a:lnTo>
                <a:lnTo>
                  <a:pt x="253" y="306"/>
                </a:lnTo>
                <a:lnTo>
                  <a:pt x="255" y="336"/>
                </a:lnTo>
                <a:lnTo>
                  <a:pt x="244" y="354"/>
                </a:lnTo>
                <a:lnTo>
                  <a:pt x="238" y="385"/>
                </a:lnTo>
                <a:lnTo>
                  <a:pt x="226" y="401"/>
                </a:lnTo>
                <a:lnTo>
                  <a:pt x="204" y="411"/>
                </a:lnTo>
                <a:lnTo>
                  <a:pt x="176" y="413"/>
                </a:lnTo>
                <a:lnTo>
                  <a:pt x="152" y="425"/>
                </a:lnTo>
                <a:lnTo>
                  <a:pt x="136" y="445"/>
                </a:lnTo>
                <a:lnTo>
                  <a:pt x="129" y="469"/>
                </a:lnTo>
                <a:lnTo>
                  <a:pt x="119" y="491"/>
                </a:lnTo>
                <a:lnTo>
                  <a:pt x="103" y="500"/>
                </a:lnTo>
                <a:lnTo>
                  <a:pt x="119" y="534"/>
                </a:lnTo>
                <a:lnTo>
                  <a:pt x="111" y="560"/>
                </a:lnTo>
                <a:lnTo>
                  <a:pt x="93" y="572"/>
                </a:lnTo>
                <a:lnTo>
                  <a:pt x="75" y="592"/>
                </a:lnTo>
                <a:lnTo>
                  <a:pt x="73" y="614"/>
                </a:lnTo>
                <a:lnTo>
                  <a:pt x="83" y="641"/>
                </a:lnTo>
                <a:lnTo>
                  <a:pt x="95" y="665"/>
                </a:lnTo>
                <a:lnTo>
                  <a:pt x="109" y="693"/>
                </a:lnTo>
                <a:lnTo>
                  <a:pt x="107" y="715"/>
                </a:lnTo>
                <a:lnTo>
                  <a:pt x="95" y="741"/>
                </a:lnTo>
                <a:lnTo>
                  <a:pt x="75" y="761"/>
                </a:lnTo>
                <a:lnTo>
                  <a:pt x="49" y="774"/>
                </a:lnTo>
                <a:lnTo>
                  <a:pt x="27" y="800"/>
                </a:lnTo>
                <a:lnTo>
                  <a:pt x="12" y="816"/>
                </a:lnTo>
                <a:lnTo>
                  <a:pt x="0" y="840"/>
                </a:lnTo>
                <a:lnTo>
                  <a:pt x="6" y="872"/>
                </a:lnTo>
                <a:lnTo>
                  <a:pt x="15" y="888"/>
                </a:lnTo>
                <a:lnTo>
                  <a:pt x="37" y="884"/>
                </a:lnTo>
                <a:lnTo>
                  <a:pt x="63" y="872"/>
                </a:lnTo>
                <a:lnTo>
                  <a:pt x="89" y="866"/>
                </a:lnTo>
                <a:lnTo>
                  <a:pt x="111" y="850"/>
                </a:lnTo>
                <a:lnTo>
                  <a:pt x="138" y="844"/>
                </a:lnTo>
                <a:lnTo>
                  <a:pt x="156" y="854"/>
                </a:lnTo>
                <a:lnTo>
                  <a:pt x="174" y="872"/>
                </a:lnTo>
                <a:lnTo>
                  <a:pt x="194" y="900"/>
                </a:lnTo>
                <a:lnTo>
                  <a:pt x="200" y="919"/>
                </a:lnTo>
                <a:lnTo>
                  <a:pt x="198" y="945"/>
                </a:lnTo>
                <a:lnTo>
                  <a:pt x="206" y="977"/>
                </a:lnTo>
                <a:lnTo>
                  <a:pt x="218" y="991"/>
                </a:lnTo>
                <a:lnTo>
                  <a:pt x="222" y="1013"/>
                </a:lnTo>
                <a:lnTo>
                  <a:pt x="206" y="1031"/>
                </a:lnTo>
                <a:lnTo>
                  <a:pt x="198" y="1052"/>
                </a:lnTo>
                <a:lnTo>
                  <a:pt x="212" y="1072"/>
                </a:lnTo>
                <a:lnTo>
                  <a:pt x="206" y="1088"/>
                </a:lnTo>
                <a:lnTo>
                  <a:pt x="210" y="1104"/>
                </a:lnTo>
                <a:lnTo>
                  <a:pt x="232" y="1112"/>
                </a:lnTo>
                <a:lnTo>
                  <a:pt x="257" y="1118"/>
                </a:lnTo>
                <a:lnTo>
                  <a:pt x="275" y="1108"/>
                </a:lnTo>
                <a:lnTo>
                  <a:pt x="289" y="1118"/>
                </a:lnTo>
                <a:lnTo>
                  <a:pt x="309" y="1132"/>
                </a:lnTo>
                <a:lnTo>
                  <a:pt x="325" y="1120"/>
                </a:lnTo>
                <a:lnTo>
                  <a:pt x="345" y="1128"/>
                </a:lnTo>
                <a:lnTo>
                  <a:pt x="335" y="1148"/>
                </a:lnTo>
                <a:lnTo>
                  <a:pt x="329" y="1168"/>
                </a:lnTo>
                <a:lnTo>
                  <a:pt x="331" y="1187"/>
                </a:lnTo>
                <a:lnTo>
                  <a:pt x="349" y="1191"/>
                </a:lnTo>
                <a:lnTo>
                  <a:pt x="361" y="1180"/>
                </a:lnTo>
                <a:lnTo>
                  <a:pt x="376" y="1162"/>
                </a:lnTo>
                <a:lnTo>
                  <a:pt x="390" y="1150"/>
                </a:lnTo>
                <a:lnTo>
                  <a:pt x="412" y="1158"/>
                </a:lnTo>
                <a:lnTo>
                  <a:pt x="430" y="1160"/>
                </a:lnTo>
                <a:lnTo>
                  <a:pt x="434" y="1144"/>
                </a:lnTo>
                <a:lnTo>
                  <a:pt x="428" y="1122"/>
                </a:lnTo>
                <a:lnTo>
                  <a:pt x="446" y="1120"/>
                </a:lnTo>
                <a:lnTo>
                  <a:pt x="420" y="1110"/>
                </a:lnTo>
                <a:lnTo>
                  <a:pt x="398" y="1088"/>
                </a:lnTo>
                <a:lnTo>
                  <a:pt x="396" y="1058"/>
                </a:lnTo>
                <a:lnTo>
                  <a:pt x="406" y="1035"/>
                </a:lnTo>
                <a:lnTo>
                  <a:pt x="400" y="1007"/>
                </a:lnTo>
                <a:lnTo>
                  <a:pt x="390" y="983"/>
                </a:lnTo>
                <a:lnTo>
                  <a:pt x="380" y="951"/>
                </a:lnTo>
                <a:lnTo>
                  <a:pt x="386" y="929"/>
                </a:lnTo>
                <a:lnTo>
                  <a:pt x="400" y="911"/>
                </a:lnTo>
                <a:lnTo>
                  <a:pt x="412" y="886"/>
                </a:lnTo>
                <a:lnTo>
                  <a:pt x="408" y="864"/>
                </a:lnTo>
                <a:lnTo>
                  <a:pt x="406" y="838"/>
                </a:lnTo>
                <a:lnTo>
                  <a:pt x="422" y="826"/>
                </a:lnTo>
                <a:lnTo>
                  <a:pt x="442" y="822"/>
                </a:lnTo>
                <a:lnTo>
                  <a:pt x="462" y="836"/>
                </a:lnTo>
                <a:lnTo>
                  <a:pt x="476" y="818"/>
                </a:lnTo>
                <a:lnTo>
                  <a:pt x="497" y="810"/>
                </a:lnTo>
                <a:lnTo>
                  <a:pt x="521" y="816"/>
                </a:lnTo>
                <a:lnTo>
                  <a:pt x="545" y="822"/>
                </a:lnTo>
                <a:lnTo>
                  <a:pt x="567" y="816"/>
                </a:lnTo>
                <a:lnTo>
                  <a:pt x="577" y="796"/>
                </a:lnTo>
                <a:lnTo>
                  <a:pt x="579" y="774"/>
                </a:lnTo>
                <a:lnTo>
                  <a:pt x="593" y="761"/>
                </a:lnTo>
                <a:lnTo>
                  <a:pt x="610" y="763"/>
                </a:lnTo>
                <a:lnTo>
                  <a:pt x="628" y="761"/>
                </a:lnTo>
                <a:lnTo>
                  <a:pt x="632" y="743"/>
                </a:lnTo>
                <a:lnTo>
                  <a:pt x="644" y="727"/>
                </a:lnTo>
                <a:lnTo>
                  <a:pt x="662" y="721"/>
                </a:lnTo>
                <a:lnTo>
                  <a:pt x="670" y="701"/>
                </a:lnTo>
                <a:lnTo>
                  <a:pt x="662" y="687"/>
                </a:lnTo>
                <a:lnTo>
                  <a:pt x="664" y="669"/>
                </a:lnTo>
                <a:lnTo>
                  <a:pt x="684" y="667"/>
                </a:lnTo>
                <a:lnTo>
                  <a:pt x="704" y="683"/>
                </a:lnTo>
                <a:lnTo>
                  <a:pt x="725" y="689"/>
                </a:lnTo>
                <a:lnTo>
                  <a:pt x="737" y="669"/>
                </a:lnTo>
                <a:lnTo>
                  <a:pt x="743" y="651"/>
                </a:lnTo>
                <a:lnTo>
                  <a:pt x="759" y="641"/>
                </a:lnTo>
                <a:lnTo>
                  <a:pt x="773" y="622"/>
                </a:lnTo>
                <a:lnTo>
                  <a:pt x="775" y="602"/>
                </a:lnTo>
                <a:close/>
              </a:path>
            </a:pathLst>
          </a:custGeom>
          <a:solidFill>
            <a:srgbClr val="d0d0ce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Freeform 37"/>
          <p:cNvSpPr/>
          <p:nvPr/>
        </p:nvSpPr>
        <p:spPr>
          <a:xfrm>
            <a:off x="4595760" y="2735280"/>
            <a:ext cx="644400" cy="846000"/>
          </a:xfrm>
          <a:custGeom>
            <a:avLst/>
            <a:gdLst>
              <a:gd name="textAreaLeft" fmla="*/ 0 w 644400"/>
              <a:gd name="textAreaRight" fmla="*/ 644760 w 644400"/>
              <a:gd name="textAreaTop" fmla="*/ 0 h 846000"/>
              <a:gd name="textAreaBottom" fmla="*/ 846360 h 846000"/>
            </a:gdLst>
            <a:ahLst/>
            <a:rect l="textAreaLeft" t="textAreaTop" r="textAreaRight" b="textAreaBottom"/>
            <a:pathLst>
              <a:path w="813" h="1067">
                <a:moveTo>
                  <a:pt x="688" y="123"/>
                </a:moveTo>
                <a:lnTo>
                  <a:pt x="702" y="157"/>
                </a:lnTo>
                <a:lnTo>
                  <a:pt x="694" y="183"/>
                </a:lnTo>
                <a:lnTo>
                  <a:pt x="676" y="195"/>
                </a:lnTo>
                <a:lnTo>
                  <a:pt x="658" y="215"/>
                </a:lnTo>
                <a:lnTo>
                  <a:pt x="656" y="237"/>
                </a:lnTo>
                <a:lnTo>
                  <a:pt x="666" y="264"/>
                </a:lnTo>
                <a:lnTo>
                  <a:pt x="678" y="288"/>
                </a:lnTo>
                <a:lnTo>
                  <a:pt x="692" y="316"/>
                </a:lnTo>
                <a:lnTo>
                  <a:pt x="690" y="338"/>
                </a:lnTo>
                <a:lnTo>
                  <a:pt x="678" y="364"/>
                </a:lnTo>
                <a:lnTo>
                  <a:pt x="658" y="384"/>
                </a:lnTo>
                <a:lnTo>
                  <a:pt x="632" y="397"/>
                </a:lnTo>
                <a:lnTo>
                  <a:pt x="610" y="423"/>
                </a:lnTo>
                <a:lnTo>
                  <a:pt x="595" y="439"/>
                </a:lnTo>
                <a:lnTo>
                  <a:pt x="583" y="463"/>
                </a:lnTo>
                <a:lnTo>
                  <a:pt x="589" y="495"/>
                </a:lnTo>
                <a:lnTo>
                  <a:pt x="598" y="511"/>
                </a:lnTo>
                <a:lnTo>
                  <a:pt x="620" y="507"/>
                </a:lnTo>
                <a:lnTo>
                  <a:pt x="646" y="495"/>
                </a:lnTo>
                <a:lnTo>
                  <a:pt x="672" y="489"/>
                </a:lnTo>
                <a:lnTo>
                  <a:pt x="694" y="473"/>
                </a:lnTo>
                <a:lnTo>
                  <a:pt x="721" y="467"/>
                </a:lnTo>
                <a:lnTo>
                  <a:pt x="739" y="477"/>
                </a:lnTo>
                <a:lnTo>
                  <a:pt x="757" y="495"/>
                </a:lnTo>
                <a:lnTo>
                  <a:pt x="777" y="523"/>
                </a:lnTo>
                <a:lnTo>
                  <a:pt x="783" y="542"/>
                </a:lnTo>
                <a:lnTo>
                  <a:pt x="781" y="568"/>
                </a:lnTo>
                <a:lnTo>
                  <a:pt x="789" y="600"/>
                </a:lnTo>
                <a:lnTo>
                  <a:pt x="801" y="614"/>
                </a:lnTo>
                <a:lnTo>
                  <a:pt x="805" y="636"/>
                </a:lnTo>
                <a:lnTo>
                  <a:pt x="789" y="654"/>
                </a:lnTo>
                <a:lnTo>
                  <a:pt x="781" y="675"/>
                </a:lnTo>
                <a:lnTo>
                  <a:pt x="795" y="695"/>
                </a:lnTo>
                <a:lnTo>
                  <a:pt x="789" y="711"/>
                </a:lnTo>
                <a:lnTo>
                  <a:pt x="795" y="731"/>
                </a:lnTo>
                <a:lnTo>
                  <a:pt x="791" y="747"/>
                </a:lnTo>
                <a:lnTo>
                  <a:pt x="795" y="765"/>
                </a:lnTo>
                <a:lnTo>
                  <a:pt x="799" y="791"/>
                </a:lnTo>
                <a:lnTo>
                  <a:pt x="805" y="820"/>
                </a:lnTo>
                <a:lnTo>
                  <a:pt x="813" y="846"/>
                </a:lnTo>
                <a:lnTo>
                  <a:pt x="805" y="868"/>
                </a:lnTo>
                <a:lnTo>
                  <a:pt x="805" y="892"/>
                </a:lnTo>
                <a:lnTo>
                  <a:pt x="787" y="914"/>
                </a:lnTo>
                <a:lnTo>
                  <a:pt x="773" y="942"/>
                </a:lnTo>
                <a:lnTo>
                  <a:pt x="767" y="963"/>
                </a:lnTo>
                <a:lnTo>
                  <a:pt x="761" y="989"/>
                </a:lnTo>
                <a:lnTo>
                  <a:pt x="745" y="1005"/>
                </a:lnTo>
                <a:lnTo>
                  <a:pt x="727" y="1025"/>
                </a:lnTo>
                <a:lnTo>
                  <a:pt x="723" y="1047"/>
                </a:lnTo>
                <a:lnTo>
                  <a:pt x="719" y="1067"/>
                </a:lnTo>
                <a:lnTo>
                  <a:pt x="698" y="1055"/>
                </a:lnTo>
                <a:lnTo>
                  <a:pt x="672" y="1041"/>
                </a:lnTo>
                <a:lnTo>
                  <a:pt x="648" y="1019"/>
                </a:lnTo>
                <a:lnTo>
                  <a:pt x="626" y="1007"/>
                </a:lnTo>
                <a:lnTo>
                  <a:pt x="610" y="1017"/>
                </a:lnTo>
                <a:lnTo>
                  <a:pt x="593" y="1021"/>
                </a:lnTo>
                <a:lnTo>
                  <a:pt x="569" y="1013"/>
                </a:lnTo>
                <a:lnTo>
                  <a:pt x="545" y="1017"/>
                </a:lnTo>
                <a:lnTo>
                  <a:pt x="511" y="1013"/>
                </a:lnTo>
                <a:lnTo>
                  <a:pt x="479" y="1003"/>
                </a:lnTo>
                <a:lnTo>
                  <a:pt x="458" y="995"/>
                </a:lnTo>
                <a:lnTo>
                  <a:pt x="446" y="977"/>
                </a:lnTo>
                <a:lnTo>
                  <a:pt x="428" y="957"/>
                </a:lnTo>
                <a:lnTo>
                  <a:pt x="408" y="953"/>
                </a:lnTo>
                <a:lnTo>
                  <a:pt x="396" y="932"/>
                </a:lnTo>
                <a:lnTo>
                  <a:pt x="390" y="902"/>
                </a:lnTo>
                <a:lnTo>
                  <a:pt x="388" y="878"/>
                </a:lnTo>
                <a:lnTo>
                  <a:pt x="400" y="858"/>
                </a:lnTo>
                <a:lnTo>
                  <a:pt x="400" y="832"/>
                </a:lnTo>
                <a:lnTo>
                  <a:pt x="390" y="814"/>
                </a:lnTo>
                <a:lnTo>
                  <a:pt x="384" y="789"/>
                </a:lnTo>
                <a:lnTo>
                  <a:pt x="394" y="765"/>
                </a:lnTo>
                <a:lnTo>
                  <a:pt x="392" y="741"/>
                </a:lnTo>
                <a:lnTo>
                  <a:pt x="378" y="723"/>
                </a:lnTo>
                <a:lnTo>
                  <a:pt x="357" y="713"/>
                </a:lnTo>
                <a:lnTo>
                  <a:pt x="331" y="705"/>
                </a:lnTo>
                <a:lnTo>
                  <a:pt x="315" y="689"/>
                </a:lnTo>
                <a:lnTo>
                  <a:pt x="291" y="677"/>
                </a:lnTo>
                <a:lnTo>
                  <a:pt x="259" y="685"/>
                </a:lnTo>
                <a:lnTo>
                  <a:pt x="236" y="691"/>
                </a:lnTo>
                <a:lnTo>
                  <a:pt x="218" y="711"/>
                </a:lnTo>
                <a:lnTo>
                  <a:pt x="204" y="729"/>
                </a:lnTo>
                <a:lnTo>
                  <a:pt x="180" y="739"/>
                </a:lnTo>
                <a:lnTo>
                  <a:pt x="158" y="733"/>
                </a:lnTo>
                <a:lnTo>
                  <a:pt x="138" y="721"/>
                </a:lnTo>
                <a:lnTo>
                  <a:pt x="117" y="709"/>
                </a:lnTo>
                <a:lnTo>
                  <a:pt x="93" y="711"/>
                </a:lnTo>
                <a:lnTo>
                  <a:pt x="71" y="717"/>
                </a:lnTo>
                <a:lnTo>
                  <a:pt x="81" y="691"/>
                </a:lnTo>
                <a:lnTo>
                  <a:pt x="95" y="667"/>
                </a:lnTo>
                <a:lnTo>
                  <a:pt x="105" y="648"/>
                </a:lnTo>
                <a:lnTo>
                  <a:pt x="121" y="630"/>
                </a:lnTo>
                <a:lnTo>
                  <a:pt x="126" y="598"/>
                </a:lnTo>
                <a:lnTo>
                  <a:pt x="115" y="578"/>
                </a:lnTo>
                <a:lnTo>
                  <a:pt x="95" y="568"/>
                </a:lnTo>
                <a:lnTo>
                  <a:pt x="77" y="548"/>
                </a:lnTo>
                <a:lnTo>
                  <a:pt x="55" y="527"/>
                </a:lnTo>
                <a:lnTo>
                  <a:pt x="33" y="513"/>
                </a:lnTo>
                <a:lnTo>
                  <a:pt x="17" y="493"/>
                </a:lnTo>
                <a:lnTo>
                  <a:pt x="9" y="467"/>
                </a:lnTo>
                <a:lnTo>
                  <a:pt x="0" y="435"/>
                </a:lnTo>
                <a:lnTo>
                  <a:pt x="4" y="403"/>
                </a:lnTo>
                <a:lnTo>
                  <a:pt x="11" y="372"/>
                </a:lnTo>
                <a:lnTo>
                  <a:pt x="29" y="352"/>
                </a:lnTo>
                <a:lnTo>
                  <a:pt x="55" y="340"/>
                </a:lnTo>
                <a:lnTo>
                  <a:pt x="81" y="326"/>
                </a:lnTo>
                <a:lnTo>
                  <a:pt x="89" y="304"/>
                </a:lnTo>
                <a:lnTo>
                  <a:pt x="117" y="324"/>
                </a:lnTo>
                <a:lnTo>
                  <a:pt x="132" y="332"/>
                </a:lnTo>
                <a:lnTo>
                  <a:pt x="148" y="324"/>
                </a:lnTo>
                <a:lnTo>
                  <a:pt x="154" y="304"/>
                </a:lnTo>
                <a:lnTo>
                  <a:pt x="172" y="296"/>
                </a:lnTo>
                <a:lnTo>
                  <a:pt x="192" y="302"/>
                </a:lnTo>
                <a:lnTo>
                  <a:pt x="194" y="282"/>
                </a:lnTo>
                <a:lnTo>
                  <a:pt x="202" y="264"/>
                </a:lnTo>
                <a:lnTo>
                  <a:pt x="220" y="258"/>
                </a:lnTo>
                <a:lnTo>
                  <a:pt x="247" y="251"/>
                </a:lnTo>
                <a:lnTo>
                  <a:pt x="269" y="239"/>
                </a:lnTo>
                <a:lnTo>
                  <a:pt x="293" y="223"/>
                </a:lnTo>
                <a:lnTo>
                  <a:pt x="313" y="215"/>
                </a:lnTo>
                <a:lnTo>
                  <a:pt x="327" y="197"/>
                </a:lnTo>
                <a:lnTo>
                  <a:pt x="347" y="179"/>
                </a:lnTo>
                <a:lnTo>
                  <a:pt x="368" y="171"/>
                </a:lnTo>
                <a:lnTo>
                  <a:pt x="392" y="167"/>
                </a:lnTo>
                <a:lnTo>
                  <a:pt x="414" y="161"/>
                </a:lnTo>
                <a:lnTo>
                  <a:pt x="438" y="167"/>
                </a:lnTo>
                <a:lnTo>
                  <a:pt x="460" y="163"/>
                </a:lnTo>
                <a:lnTo>
                  <a:pt x="479" y="151"/>
                </a:lnTo>
                <a:lnTo>
                  <a:pt x="495" y="133"/>
                </a:lnTo>
                <a:lnTo>
                  <a:pt x="515" y="119"/>
                </a:lnTo>
                <a:lnTo>
                  <a:pt x="537" y="112"/>
                </a:lnTo>
                <a:lnTo>
                  <a:pt x="549" y="96"/>
                </a:lnTo>
                <a:lnTo>
                  <a:pt x="557" y="74"/>
                </a:lnTo>
                <a:lnTo>
                  <a:pt x="573" y="58"/>
                </a:lnTo>
                <a:lnTo>
                  <a:pt x="581" y="34"/>
                </a:lnTo>
                <a:lnTo>
                  <a:pt x="583" y="10"/>
                </a:lnTo>
                <a:lnTo>
                  <a:pt x="595" y="0"/>
                </a:lnTo>
                <a:lnTo>
                  <a:pt x="612" y="14"/>
                </a:lnTo>
                <a:lnTo>
                  <a:pt x="626" y="34"/>
                </a:lnTo>
                <a:lnTo>
                  <a:pt x="638" y="54"/>
                </a:lnTo>
                <a:lnTo>
                  <a:pt x="648" y="88"/>
                </a:lnTo>
                <a:lnTo>
                  <a:pt x="668" y="110"/>
                </a:lnTo>
                <a:lnTo>
                  <a:pt x="688" y="123"/>
                </a:lnTo>
                <a:close/>
              </a:path>
            </a:pathLst>
          </a:custGeom>
          <a:solidFill>
            <a:srgbClr val="618ffd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Freeform 38"/>
          <p:cNvSpPr/>
          <p:nvPr/>
        </p:nvSpPr>
        <p:spPr>
          <a:xfrm>
            <a:off x="6073920" y="1295280"/>
            <a:ext cx="936360" cy="959040"/>
          </a:xfrm>
          <a:custGeom>
            <a:avLst/>
            <a:gdLst>
              <a:gd name="textAreaLeft" fmla="*/ 0 w 936360"/>
              <a:gd name="textAreaRight" fmla="*/ 936720 w 936360"/>
              <a:gd name="textAreaTop" fmla="*/ 0 h 959040"/>
              <a:gd name="textAreaBottom" fmla="*/ 959400 h 959040"/>
            </a:gdLst>
            <a:ahLst/>
            <a:rect l="textAreaLeft" t="textAreaTop" r="textAreaRight" b="textAreaBottom"/>
            <a:pathLst>
              <a:path w="1180" h="1207">
                <a:moveTo>
                  <a:pt x="716" y="998"/>
                </a:moveTo>
                <a:lnTo>
                  <a:pt x="732" y="989"/>
                </a:lnTo>
                <a:lnTo>
                  <a:pt x="742" y="965"/>
                </a:lnTo>
                <a:lnTo>
                  <a:pt x="749" y="943"/>
                </a:lnTo>
                <a:lnTo>
                  <a:pt x="765" y="925"/>
                </a:lnTo>
                <a:lnTo>
                  <a:pt x="789" y="911"/>
                </a:lnTo>
                <a:lnTo>
                  <a:pt x="815" y="909"/>
                </a:lnTo>
                <a:lnTo>
                  <a:pt x="837" y="901"/>
                </a:lnTo>
                <a:lnTo>
                  <a:pt x="851" y="881"/>
                </a:lnTo>
                <a:lnTo>
                  <a:pt x="857" y="852"/>
                </a:lnTo>
                <a:lnTo>
                  <a:pt x="868" y="834"/>
                </a:lnTo>
                <a:lnTo>
                  <a:pt x="866" y="804"/>
                </a:lnTo>
                <a:lnTo>
                  <a:pt x="878" y="792"/>
                </a:lnTo>
                <a:lnTo>
                  <a:pt x="900" y="794"/>
                </a:lnTo>
                <a:lnTo>
                  <a:pt x="918" y="788"/>
                </a:lnTo>
                <a:lnTo>
                  <a:pt x="930" y="768"/>
                </a:lnTo>
                <a:lnTo>
                  <a:pt x="938" y="746"/>
                </a:lnTo>
                <a:lnTo>
                  <a:pt x="930" y="722"/>
                </a:lnTo>
                <a:lnTo>
                  <a:pt x="914" y="716"/>
                </a:lnTo>
                <a:lnTo>
                  <a:pt x="902" y="699"/>
                </a:lnTo>
                <a:lnTo>
                  <a:pt x="906" y="677"/>
                </a:lnTo>
                <a:lnTo>
                  <a:pt x="924" y="663"/>
                </a:lnTo>
                <a:lnTo>
                  <a:pt x="952" y="673"/>
                </a:lnTo>
                <a:lnTo>
                  <a:pt x="966" y="677"/>
                </a:lnTo>
                <a:lnTo>
                  <a:pt x="983" y="667"/>
                </a:lnTo>
                <a:lnTo>
                  <a:pt x="993" y="647"/>
                </a:lnTo>
                <a:lnTo>
                  <a:pt x="1001" y="625"/>
                </a:lnTo>
                <a:lnTo>
                  <a:pt x="1015" y="607"/>
                </a:lnTo>
                <a:lnTo>
                  <a:pt x="1033" y="599"/>
                </a:lnTo>
                <a:lnTo>
                  <a:pt x="1051" y="601"/>
                </a:lnTo>
                <a:lnTo>
                  <a:pt x="1061" y="615"/>
                </a:lnTo>
                <a:lnTo>
                  <a:pt x="1073" y="629"/>
                </a:lnTo>
                <a:lnTo>
                  <a:pt x="1087" y="615"/>
                </a:lnTo>
                <a:lnTo>
                  <a:pt x="1098" y="593"/>
                </a:lnTo>
                <a:lnTo>
                  <a:pt x="1108" y="568"/>
                </a:lnTo>
                <a:lnTo>
                  <a:pt x="1118" y="536"/>
                </a:lnTo>
                <a:lnTo>
                  <a:pt x="1138" y="516"/>
                </a:lnTo>
                <a:lnTo>
                  <a:pt x="1162" y="500"/>
                </a:lnTo>
                <a:lnTo>
                  <a:pt x="1158" y="482"/>
                </a:lnTo>
                <a:lnTo>
                  <a:pt x="1164" y="456"/>
                </a:lnTo>
                <a:lnTo>
                  <a:pt x="1180" y="437"/>
                </a:lnTo>
                <a:lnTo>
                  <a:pt x="1180" y="415"/>
                </a:lnTo>
                <a:lnTo>
                  <a:pt x="1164" y="401"/>
                </a:lnTo>
                <a:lnTo>
                  <a:pt x="1138" y="387"/>
                </a:lnTo>
                <a:lnTo>
                  <a:pt x="1142" y="363"/>
                </a:lnTo>
                <a:lnTo>
                  <a:pt x="1136" y="335"/>
                </a:lnTo>
                <a:lnTo>
                  <a:pt x="1118" y="327"/>
                </a:lnTo>
                <a:lnTo>
                  <a:pt x="1104" y="319"/>
                </a:lnTo>
                <a:lnTo>
                  <a:pt x="1106" y="290"/>
                </a:lnTo>
                <a:lnTo>
                  <a:pt x="1098" y="258"/>
                </a:lnTo>
                <a:lnTo>
                  <a:pt x="1085" y="242"/>
                </a:lnTo>
                <a:lnTo>
                  <a:pt x="1067" y="226"/>
                </a:lnTo>
                <a:lnTo>
                  <a:pt x="1049" y="222"/>
                </a:lnTo>
                <a:lnTo>
                  <a:pt x="1053" y="204"/>
                </a:lnTo>
                <a:lnTo>
                  <a:pt x="1071" y="202"/>
                </a:lnTo>
                <a:lnTo>
                  <a:pt x="1089" y="200"/>
                </a:lnTo>
                <a:lnTo>
                  <a:pt x="1100" y="180"/>
                </a:lnTo>
                <a:lnTo>
                  <a:pt x="1097" y="161"/>
                </a:lnTo>
                <a:lnTo>
                  <a:pt x="1085" y="153"/>
                </a:lnTo>
                <a:lnTo>
                  <a:pt x="1073" y="147"/>
                </a:lnTo>
                <a:lnTo>
                  <a:pt x="1079" y="131"/>
                </a:lnTo>
                <a:lnTo>
                  <a:pt x="1093" y="111"/>
                </a:lnTo>
                <a:lnTo>
                  <a:pt x="1098" y="83"/>
                </a:lnTo>
                <a:lnTo>
                  <a:pt x="1093" y="65"/>
                </a:lnTo>
                <a:lnTo>
                  <a:pt x="1100" y="43"/>
                </a:lnTo>
                <a:lnTo>
                  <a:pt x="1106" y="16"/>
                </a:lnTo>
                <a:lnTo>
                  <a:pt x="1079" y="6"/>
                </a:lnTo>
                <a:lnTo>
                  <a:pt x="1053" y="16"/>
                </a:lnTo>
                <a:lnTo>
                  <a:pt x="1043" y="33"/>
                </a:lnTo>
                <a:lnTo>
                  <a:pt x="1021" y="37"/>
                </a:lnTo>
                <a:lnTo>
                  <a:pt x="1011" y="51"/>
                </a:lnTo>
                <a:lnTo>
                  <a:pt x="1001" y="69"/>
                </a:lnTo>
                <a:lnTo>
                  <a:pt x="987" y="77"/>
                </a:lnTo>
                <a:lnTo>
                  <a:pt x="976" y="57"/>
                </a:lnTo>
                <a:lnTo>
                  <a:pt x="966" y="33"/>
                </a:lnTo>
                <a:lnTo>
                  <a:pt x="954" y="12"/>
                </a:lnTo>
                <a:lnTo>
                  <a:pt x="946" y="0"/>
                </a:lnTo>
                <a:lnTo>
                  <a:pt x="930" y="4"/>
                </a:lnTo>
                <a:lnTo>
                  <a:pt x="918" y="18"/>
                </a:lnTo>
                <a:lnTo>
                  <a:pt x="910" y="39"/>
                </a:lnTo>
                <a:lnTo>
                  <a:pt x="898" y="28"/>
                </a:lnTo>
                <a:lnTo>
                  <a:pt x="886" y="16"/>
                </a:lnTo>
                <a:lnTo>
                  <a:pt x="868" y="24"/>
                </a:lnTo>
                <a:lnTo>
                  <a:pt x="857" y="43"/>
                </a:lnTo>
                <a:lnTo>
                  <a:pt x="839" y="59"/>
                </a:lnTo>
                <a:lnTo>
                  <a:pt x="835" y="77"/>
                </a:lnTo>
                <a:lnTo>
                  <a:pt x="851" y="103"/>
                </a:lnTo>
                <a:lnTo>
                  <a:pt x="857" y="133"/>
                </a:lnTo>
                <a:lnTo>
                  <a:pt x="862" y="174"/>
                </a:lnTo>
                <a:lnTo>
                  <a:pt x="853" y="202"/>
                </a:lnTo>
                <a:lnTo>
                  <a:pt x="839" y="222"/>
                </a:lnTo>
                <a:lnTo>
                  <a:pt x="817" y="224"/>
                </a:lnTo>
                <a:lnTo>
                  <a:pt x="795" y="230"/>
                </a:lnTo>
                <a:lnTo>
                  <a:pt x="779" y="246"/>
                </a:lnTo>
                <a:lnTo>
                  <a:pt x="759" y="266"/>
                </a:lnTo>
                <a:lnTo>
                  <a:pt x="740" y="276"/>
                </a:lnTo>
                <a:lnTo>
                  <a:pt x="722" y="274"/>
                </a:lnTo>
                <a:lnTo>
                  <a:pt x="710" y="262"/>
                </a:lnTo>
                <a:lnTo>
                  <a:pt x="702" y="240"/>
                </a:lnTo>
                <a:lnTo>
                  <a:pt x="710" y="220"/>
                </a:lnTo>
                <a:lnTo>
                  <a:pt x="698" y="200"/>
                </a:lnTo>
                <a:lnTo>
                  <a:pt x="688" y="176"/>
                </a:lnTo>
                <a:lnTo>
                  <a:pt x="690" y="153"/>
                </a:lnTo>
                <a:lnTo>
                  <a:pt x="700" y="127"/>
                </a:lnTo>
                <a:lnTo>
                  <a:pt x="696" y="105"/>
                </a:lnTo>
                <a:lnTo>
                  <a:pt x="676" y="91"/>
                </a:lnTo>
                <a:lnTo>
                  <a:pt x="650" y="83"/>
                </a:lnTo>
                <a:lnTo>
                  <a:pt x="634" y="67"/>
                </a:lnTo>
                <a:lnTo>
                  <a:pt x="625" y="39"/>
                </a:lnTo>
                <a:lnTo>
                  <a:pt x="611" y="22"/>
                </a:lnTo>
                <a:lnTo>
                  <a:pt x="587" y="18"/>
                </a:lnTo>
                <a:lnTo>
                  <a:pt x="569" y="29"/>
                </a:lnTo>
                <a:lnTo>
                  <a:pt x="573" y="61"/>
                </a:lnTo>
                <a:lnTo>
                  <a:pt x="559" y="87"/>
                </a:lnTo>
                <a:lnTo>
                  <a:pt x="543" y="99"/>
                </a:lnTo>
                <a:lnTo>
                  <a:pt x="531" y="121"/>
                </a:lnTo>
                <a:lnTo>
                  <a:pt x="509" y="133"/>
                </a:lnTo>
                <a:lnTo>
                  <a:pt x="488" y="145"/>
                </a:lnTo>
                <a:lnTo>
                  <a:pt x="474" y="161"/>
                </a:lnTo>
                <a:lnTo>
                  <a:pt x="446" y="165"/>
                </a:lnTo>
                <a:lnTo>
                  <a:pt x="420" y="157"/>
                </a:lnTo>
                <a:lnTo>
                  <a:pt x="396" y="161"/>
                </a:lnTo>
                <a:lnTo>
                  <a:pt x="369" y="168"/>
                </a:lnTo>
                <a:lnTo>
                  <a:pt x="349" y="182"/>
                </a:lnTo>
                <a:lnTo>
                  <a:pt x="333" y="202"/>
                </a:lnTo>
                <a:lnTo>
                  <a:pt x="311" y="218"/>
                </a:lnTo>
                <a:lnTo>
                  <a:pt x="303" y="232"/>
                </a:lnTo>
                <a:lnTo>
                  <a:pt x="301" y="256"/>
                </a:lnTo>
                <a:lnTo>
                  <a:pt x="311" y="286"/>
                </a:lnTo>
                <a:lnTo>
                  <a:pt x="301" y="309"/>
                </a:lnTo>
                <a:lnTo>
                  <a:pt x="281" y="323"/>
                </a:lnTo>
                <a:lnTo>
                  <a:pt x="250" y="329"/>
                </a:lnTo>
                <a:lnTo>
                  <a:pt x="216" y="341"/>
                </a:lnTo>
                <a:lnTo>
                  <a:pt x="182" y="349"/>
                </a:lnTo>
                <a:lnTo>
                  <a:pt x="156" y="361"/>
                </a:lnTo>
                <a:lnTo>
                  <a:pt x="129" y="367"/>
                </a:lnTo>
                <a:lnTo>
                  <a:pt x="107" y="361"/>
                </a:lnTo>
                <a:lnTo>
                  <a:pt x="85" y="349"/>
                </a:lnTo>
                <a:lnTo>
                  <a:pt x="61" y="355"/>
                </a:lnTo>
                <a:lnTo>
                  <a:pt x="47" y="373"/>
                </a:lnTo>
                <a:lnTo>
                  <a:pt x="41" y="401"/>
                </a:lnTo>
                <a:lnTo>
                  <a:pt x="55" y="425"/>
                </a:lnTo>
                <a:lnTo>
                  <a:pt x="77" y="444"/>
                </a:lnTo>
                <a:lnTo>
                  <a:pt x="89" y="468"/>
                </a:lnTo>
                <a:lnTo>
                  <a:pt x="91" y="490"/>
                </a:lnTo>
                <a:lnTo>
                  <a:pt x="115" y="500"/>
                </a:lnTo>
                <a:lnTo>
                  <a:pt x="135" y="520"/>
                </a:lnTo>
                <a:lnTo>
                  <a:pt x="137" y="550"/>
                </a:lnTo>
                <a:lnTo>
                  <a:pt x="125" y="579"/>
                </a:lnTo>
                <a:lnTo>
                  <a:pt x="119" y="611"/>
                </a:lnTo>
                <a:lnTo>
                  <a:pt x="107" y="643"/>
                </a:lnTo>
                <a:lnTo>
                  <a:pt x="93" y="669"/>
                </a:lnTo>
                <a:lnTo>
                  <a:pt x="79" y="699"/>
                </a:lnTo>
                <a:lnTo>
                  <a:pt x="61" y="726"/>
                </a:lnTo>
                <a:lnTo>
                  <a:pt x="37" y="744"/>
                </a:lnTo>
                <a:lnTo>
                  <a:pt x="20" y="770"/>
                </a:lnTo>
                <a:lnTo>
                  <a:pt x="16" y="794"/>
                </a:lnTo>
                <a:lnTo>
                  <a:pt x="26" y="828"/>
                </a:lnTo>
                <a:lnTo>
                  <a:pt x="18" y="854"/>
                </a:lnTo>
                <a:lnTo>
                  <a:pt x="8" y="879"/>
                </a:lnTo>
                <a:lnTo>
                  <a:pt x="0" y="913"/>
                </a:lnTo>
                <a:lnTo>
                  <a:pt x="4" y="941"/>
                </a:lnTo>
                <a:lnTo>
                  <a:pt x="12" y="969"/>
                </a:lnTo>
                <a:lnTo>
                  <a:pt x="30" y="983"/>
                </a:lnTo>
                <a:lnTo>
                  <a:pt x="49" y="1000"/>
                </a:lnTo>
                <a:lnTo>
                  <a:pt x="61" y="1022"/>
                </a:lnTo>
                <a:lnTo>
                  <a:pt x="73" y="1048"/>
                </a:lnTo>
                <a:lnTo>
                  <a:pt x="71" y="1072"/>
                </a:lnTo>
                <a:lnTo>
                  <a:pt x="69" y="1098"/>
                </a:lnTo>
                <a:lnTo>
                  <a:pt x="93" y="1112"/>
                </a:lnTo>
                <a:lnTo>
                  <a:pt x="113" y="1128"/>
                </a:lnTo>
                <a:lnTo>
                  <a:pt x="113" y="1149"/>
                </a:lnTo>
                <a:lnTo>
                  <a:pt x="119" y="1179"/>
                </a:lnTo>
                <a:lnTo>
                  <a:pt x="147" y="1199"/>
                </a:lnTo>
                <a:lnTo>
                  <a:pt x="162" y="1207"/>
                </a:lnTo>
                <a:lnTo>
                  <a:pt x="178" y="1199"/>
                </a:lnTo>
                <a:lnTo>
                  <a:pt x="184" y="1179"/>
                </a:lnTo>
                <a:lnTo>
                  <a:pt x="202" y="1171"/>
                </a:lnTo>
                <a:lnTo>
                  <a:pt x="222" y="1177"/>
                </a:lnTo>
                <a:lnTo>
                  <a:pt x="224" y="1157"/>
                </a:lnTo>
                <a:lnTo>
                  <a:pt x="232" y="1139"/>
                </a:lnTo>
                <a:lnTo>
                  <a:pt x="250" y="1133"/>
                </a:lnTo>
                <a:lnTo>
                  <a:pt x="277" y="1126"/>
                </a:lnTo>
                <a:lnTo>
                  <a:pt x="299" y="1114"/>
                </a:lnTo>
                <a:lnTo>
                  <a:pt x="323" y="1098"/>
                </a:lnTo>
                <a:lnTo>
                  <a:pt x="343" y="1090"/>
                </a:lnTo>
                <a:lnTo>
                  <a:pt x="357" y="1072"/>
                </a:lnTo>
                <a:lnTo>
                  <a:pt x="377" y="1054"/>
                </a:lnTo>
                <a:lnTo>
                  <a:pt x="398" y="1046"/>
                </a:lnTo>
                <a:lnTo>
                  <a:pt x="422" y="1042"/>
                </a:lnTo>
                <a:lnTo>
                  <a:pt x="444" y="1036"/>
                </a:lnTo>
                <a:lnTo>
                  <a:pt x="468" y="1042"/>
                </a:lnTo>
                <a:lnTo>
                  <a:pt x="490" y="1038"/>
                </a:lnTo>
                <a:lnTo>
                  <a:pt x="509" y="1026"/>
                </a:lnTo>
                <a:lnTo>
                  <a:pt x="525" y="1008"/>
                </a:lnTo>
                <a:lnTo>
                  <a:pt x="545" y="994"/>
                </a:lnTo>
                <a:lnTo>
                  <a:pt x="567" y="987"/>
                </a:lnTo>
                <a:lnTo>
                  <a:pt x="579" y="971"/>
                </a:lnTo>
                <a:lnTo>
                  <a:pt x="587" y="949"/>
                </a:lnTo>
                <a:lnTo>
                  <a:pt x="603" y="933"/>
                </a:lnTo>
                <a:lnTo>
                  <a:pt x="611" y="909"/>
                </a:lnTo>
                <a:lnTo>
                  <a:pt x="613" y="885"/>
                </a:lnTo>
                <a:lnTo>
                  <a:pt x="625" y="875"/>
                </a:lnTo>
                <a:lnTo>
                  <a:pt x="642" y="889"/>
                </a:lnTo>
                <a:lnTo>
                  <a:pt x="656" y="909"/>
                </a:lnTo>
                <a:lnTo>
                  <a:pt x="668" y="929"/>
                </a:lnTo>
                <a:lnTo>
                  <a:pt x="678" y="963"/>
                </a:lnTo>
                <a:lnTo>
                  <a:pt x="698" y="985"/>
                </a:lnTo>
                <a:lnTo>
                  <a:pt x="716" y="998"/>
                </a:lnTo>
                <a:close/>
              </a:path>
            </a:pathLst>
          </a:custGeom>
          <a:solidFill>
            <a:srgbClr val="60c9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Group 39"/>
          <p:cNvGrpSpPr/>
          <p:nvPr/>
        </p:nvGrpSpPr>
        <p:grpSpPr>
          <a:xfrm>
            <a:off x="4038480" y="1082520"/>
            <a:ext cx="1981080" cy="1960560"/>
            <a:chOff x="4038480" y="1082520"/>
            <a:chExt cx="1981080" cy="1960560"/>
          </a:xfrm>
        </p:grpSpPr>
        <p:sp>
          <p:nvSpPr>
            <p:cNvPr id="134" name="Freeform 40"/>
            <p:cNvSpPr/>
            <p:nvPr/>
          </p:nvSpPr>
          <p:spPr>
            <a:xfrm>
              <a:off x="4979880" y="1082520"/>
              <a:ext cx="171360" cy="165240"/>
            </a:xfrm>
            <a:custGeom>
              <a:avLst/>
              <a:gdLst>
                <a:gd name="textAreaLeft" fmla="*/ 0 w 171360"/>
                <a:gd name="textAreaRight" fmla="*/ 171360 w 171360"/>
                <a:gd name="textAreaTop" fmla="*/ 0 h 165240"/>
                <a:gd name="textAreaBottom" fmla="*/ 165600 h 165240"/>
              </a:gdLst>
              <a:ahLst/>
              <a:rect l="textAreaLeft" t="textAreaTop" r="textAreaRight" b="textAreaBottom"/>
              <a:pathLst>
                <a:path w="214" h="209">
                  <a:moveTo>
                    <a:pt x="0" y="108"/>
                  </a:moveTo>
                  <a:lnTo>
                    <a:pt x="18" y="94"/>
                  </a:lnTo>
                  <a:lnTo>
                    <a:pt x="26" y="74"/>
                  </a:lnTo>
                  <a:lnTo>
                    <a:pt x="49" y="68"/>
                  </a:lnTo>
                  <a:lnTo>
                    <a:pt x="63" y="54"/>
                  </a:lnTo>
                  <a:lnTo>
                    <a:pt x="83" y="34"/>
                  </a:lnTo>
                  <a:lnTo>
                    <a:pt x="115" y="28"/>
                  </a:lnTo>
                  <a:lnTo>
                    <a:pt x="127" y="10"/>
                  </a:lnTo>
                  <a:lnTo>
                    <a:pt x="147" y="0"/>
                  </a:lnTo>
                  <a:lnTo>
                    <a:pt x="155" y="12"/>
                  </a:lnTo>
                  <a:lnTo>
                    <a:pt x="159" y="38"/>
                  </a:lnTo>
                  <a:lnTo>
                    <a:pt x="170" y="52"/>
                  </a:lnTo>
                  <a:lnTo>
                    <a:pt x="186" y="68"/>
                  </a:lnTo>
                  <a:lnTo>
                    <a:pt x="180" y="96"/>
                  </a:lnTo>
                  <a:lnTo>
                    <a:pt x="182" y="131"/>
                  </a:lnTo>
                  <a:lnTo>
                    <a:pt x="186" y="153"/>
                  </a:lnTo>
                  <a:lnTo>
                    <a:pt x="206" y="169"/>
                  </a:lnTo>
                  <a:lnTo>
                    <a:pt x="214" y="201"/>
                  </a:lnTo>
                  <a:lnTo>
                    <a:pt x="192" y="209"/>
                  </a:lnTo>
                  <a:lnTo>
                    <a:pt x="168" y="209"/>
                  </a:lnTo>
                  <a:lnTo>
                    <a:pt x="161" y="203"/>
                  </a:lnTo>
                  <a:lnTo>
                    <a:pt x="151" y="195"/>
                  </a:lnTo>
                  <a:lnTo>
                    <a:pt x="139" y="185"/>
                  </a:lnTo>
                  <a:lnTo>
                    <a:pt x="131" y="187"/>
                  </a:lnTo>
                  <a:lnTo>
                    <a:pt x="121" y="187"/>
                  </a:lnTo>
                  <a:lnTo>
                    <a:pt x="113" y="193"/>
                  </a:lnTo>
                  <a:lnTo>
                    <a:pt x="103" y="199"/>
                  </a:lnTo>
                  <a:lnTo>
                    <a:pt x="91" y="203"/>
                  </a:lnTo>
                  <a:lnTo>
                    <a:pt x="77" y="207"/>
                  </a:lnTo>
                  <a:lnTo>
                    <a:pt x="69" y="203"/>
                  </a:lnTo>
                  <a:lnTo>
                    <a:pt x="57" y="199"/>
                  </a:lnTo>
                  <a:lnTo>
                    <a:pt x="49" y="195"/>
                  </a:lnTo>
                  <a:lnTo>
                    <a:pt x="40" y="185"/>
                  </a:lnTo>
                  <a:lnTo>
                    <a:pt x="36" y="175"/>
                  </a:lnTo>
                  <a:lnTo>
                    <a:pt x="30" y="163"/>
                  </a:lnTo>
                  <a:lnTo>
                    <a:pt x="26" y="147"/>
                  </a:lnTo>
                  <a:lnTo>
                    <a:pt x="22" y="133"/>
                  </a:lnTo>
                  <a:lnTo>
                    <a:pt x="16" y="127"/>
                  </a:lnTo>
                  <a:lnTo>
                    <a:pt x="6" y="121"/>
                  </a:lnTo>
                  <a:lnTo>
                    <a:pt x="4" y="116"/>
                  </a:lnTo>
                  <a:lnTo>
                    <a:pt x="0" y="108"/>
                  </a:lnTo>
                  <a:close/>
                </a:path>
              </a:pathLst>
            </a:custGeom>
            <a:solidFill>
              <a:srgbClr val="fde3b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41"/>
            <p:cNvSpPr/>
            <p:nvPr/>
          </p:nvSpPr>
          <p:spPr>
            <a:xfrm>
              <a:off x="5823000" y="1549440"/>
              <a:ext cx="196560" cy="15048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150480"/>
                <a:gd name="textAreaBottom" fmla="*/ 150840 h 150480"/>
              </a:gdLst>
              <a:ahLst/>
              <a:rect l="textAreaLeft" t="textAreaTop" r="textAreaRight" b="textAreaBottom"/>
              <a:pathLst>
                <a:path w="248" h="191">
                  <a:moveTo>
                    <a:pt x="166" y="6"/>
                  </a:moveTo>
                  <a:lnTo>
                    <a:pt x="186" y="20"/>
                  </a:lnTo>
                  <a:lnTo>
                    <a:pt x="198" y="40"/>
                  </a:lnTo>
                  <a:lnTo>
                    <a:pt x="192" y="60"/>
                  </a:lnTo>
                  <a:lnTo>
                    <a:pt x="190" y="72"/>
                  </a:lnTo>
                  <a:lnTo>
                    <a:pt x="196" y="81"/>
                  </a:lnTo>
                  <a:lnTo>
                    <a:pt x="214" y="85"/>
                  </a:lnTo>
                  <a:lnTo>
                    <a:pt x="232" y="99"/>
                  </a:lnTo>
                  <a:lnTo>
                    <a:pt x="244" y="119"/>
                  </a:lnTo>
                  <a:lnTo>
                    <a:pt x="248" y="143"/>
                  </a:lnTo>
                  <a:lnTo>
                    <a:pt x="244" y="161"/>
                  </a:lnTo>
                  <a:lnTo>
                    <a:pt x="232" y="171"/>
                  </a:lnTo>
                  <a:lnTo>
                    <a:pt x="214" y="179"/>
                  </a:lnTo>
                  <a:lnTo>
                    <a:pt x="198" y="173"/>
                  </a:lnTo>
                  <a:lnTo>
                    <a:pt x="176" y="161"/>
                  </a:lnTo>
                  <a:lnTo>
                    <a:pt x="163" y="157"/>
                  </a:lnTo>
                  <a:lnTo>
                    <a:pt x="149" y="161"/>
                  </a:lnTo>
                  <a:lnTo>
                    <a:pt x="143" y="173"/>
                  </a:lnTo>
                  <a:lnTo>
                    <a:pt x="133" y="185"/>
                  </a:lnTo>
                  <a:lnTo>
                    <a:pt x="119" y="191"/>
                  </a:lnTo>
                  <a:lnTo>
                    <a:pt x="103" y="185"/>
                  </a:lnTo>
                  <a:lnTo>
                    <a:pt x="91" y="173"/>
                  </a:lnTo>
                  <a:lnTo>
                    <a:pt x="79" y="163"/>
                  </a:lnTo>
                  <a:lnTo>
                    <a:pt x="65" y="163"/>
                  </a:lnTo>
                  <a:lnTo>
                    <a:pt x="53" y="173"/>
                  </a:lnTo>
                  <a:lnTo>
                    <a:pt x="36" y="181"/>
                  </a:lnTo>
                  <a:lnTo>
                    <a:pt x="22" y="183"/>
                  </a:lnTo>
                  <a:lnTo>
                    <a:pt x="6" y="175"/>
                  </a:lnTo>
                  <a:lnTo>
                    <a:pt x="0" y="157"/>
                  </a:lnTo>
                  <a:lnTo>
                    <a:pt x="4" y="129"/>
                  </a:lnTo>
                  <a:lnTo>
                    <a:pt x="16" y="99"/>
                  </a:lnTo>
                  <a:lnTo>
                    <a:pt x="22" y="76"/>
                  </a:lnTo>
                  <a:lnTo>
                    <a:pt x="16" y="54"/>
                  </a:lnTo>
                  <a:lnTo>
                    <a:pt x="22" y="38"/>
                  </a:lnTo>
                  <a:lnTo>
                    <a:pt x="38" y="28"/>
                  </a:lnTo>
                  <a:lnTo>
                    <a:pt x="55" y="32"/>
                  </a:lnTo>
                  <a:lnTo>
                    <a:pt x="63" y="38"/>
                  </a:lnTo>
                  <a:lnTo>
                    <a:pt x="67" y="20"/>
                  </a:lnTo>
                  <a:lnTo>
                    <a:pt x="79" y="8"/>
                  </a:lnTo>
                  <a:lnTo>
                    <a:pt x="99" y="2"/>
                  </a:lnTo>
                  <a:lnTo>
                    <a:pt x="123" y="10"/>
                  </a:lnTo>
                  <a:lnTo>
                    <a:pt x="131" y="10"/>
                  </a:lnTo>
                  <a:lnTo>
                    <a:pt x="137" y="0"/>
                  </a:lnTo>
                  <a:lnTo>
                    <a:pt x="166" y="6"/>
                  </a:lnTo>
                  <a:close/>
                </a:path>
              </a:pathLst>
            </a:custGeom>
            <a:solidFill>
              <a:srgbClr val="c1ce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42"/>
            <p:cNvSpPr/>
            <p:nvPr/>
          </p:nvSpPr>
          <p:spPr>
            <a:xfrm>
              <a:off x="4038480" y="2822400"/>
              <a:ext cx="268200" cy="220680"/>
            </a:xfrm>
            <a:custGeom>
              <a:avLst/>
              <a:gdLst>
                <a:gd name="textAreaLeft" fmla="*/ 0 w 268200"/>
                <a:gd name="textAreaRight" fmla="*/ 268200 w 268200"/>
                <a:gd name="textAreaTop" fmla="*/ 0 h 220680"/>
                <a:gd name="textAreaBottom" fmla="*/ 221040 h 220680"/>
              </a:gdLst>
              <a:ahLst/>
              <a:rect l="textAreaLeft" t="textAreaTop" r="textAreaRight" b="textAreaBottom"/>
              <a:pathLst>
                <a:path w="337" h="278">
                  <a:moveTo>
                    <a:pt x="10" y="68"/>
                  </a:moveTo>
                  <a:lnTo>
                    <a:pt x="22" y="82"/>
                  </a:lnTo>
                  <a:lnTo>
                    <a:pt x="40" y="94"/>
                  </a:lnTo>
                  <a:lnTo>
                    <a:pt x="50" y="120"/>
                  </a:lnTo>
                  <a:lnTo>
                    <a:pt x="55" y="147"/>
                  </a:lnTo>
                  <a:lnTo>
                    <a:pt x="61" y="175"/>
                  </a:lnTo>
                  <a:lnTo>
                    <a:pt x="69" y="197"/>
                  </a:lnTo>
                  <a:lnTo>
                    <a:pt x="87" y="215"/>
                  </a:lnTo>
                  <a:lnTo>
                    <a:pt x="105" y="225"/>
                  </a:lnTo>
                  <a:lnTo>
                    <a:pt x="125" y="221"/>
                  </a:lnTo>
                  <a:lnTo>
                    <a:pt x="155" y="219"/>
                  </a:lnTo>
                  <a:lnTo>
                    <a:pt x="186" y="221"/>
                  </a:lnTo>
                  <a:lnTo>
                    <a:pt x="204" y="233"/>
                  </a:lnTo>
                  <a:lnTo>
                    <a:pt x="222" y="247"/>
                  </a:lnTo>
                  <a:lnTo>
                    <a:pt x="230" y="268"/>
                  </a:lnTo>
                  <a:lnTo>
                    <a:pt x="252" y="276"/>
                  </a:lnTo>
                  <a:lnTo>
                    <a:pt x="274" y="268"/>
                  </a:lnTo>
                  <a:lnTo>
                    <a:pt x="295" y="278"/>
                  </a:lnTo>
                  <a:lnTo>
                    <a:pt x="311" y="274"/>
                  </a:lnTo>
                  <a:lnTo>
                    <a:pt x="337" y="276"/>
                  </a:lnTo>
                  <a:lnTo>
                    <a:pt x="325" y="255"/>
                  </a:lnTo>
                  <a:lnTo>
                    <a:pt x="319" y="225"/>
                  </a:lnTo>
                  <a:lnTo>
                    <a:pt x="317" y="201"/>
                  </a:lnTo>
                  <a:lnTo>
                    <a:pt x="329" y="181"/>
                  </a:lnTo>
                  <a:lnTo>
                    <a:pt x="329" y="155"/>
                  </a:lnTo>
                  <a:lnTo>
                    <a:pt x="319" y="137"/>
                  </a:lnTo>
                  <a:lnTo>
                    <a:pt x="313" y="112"/>
                  </a:lnTo>
                  <a:lnTo>
                    <a:pt x="323" y="88"/>
                  </a:lnTo>
                  <a:lnTo>
                    <a:pt x="321" y="64"/>
                  </a:lnTo>
                  <a:lnTo>
                    <a:pt x="307" y="46"/>
                  </a:lnTo>
                  <a:lnTo>
                    <a:pt x="286" y="36"/>
                  </a:lnTo>
                  <a:lnTo>
                    <a:pt x="260" y="28"/>
                  </a:lnTo>
                  <a:lnTo>
                    <a:pt x="244" y="12"/>
                  </a:lnTo>
                  <a:lnTo>
                    <a:pt x="220" y="0"/>
                  </a:lnTo>
                  <a:lnTo>
                    <a:pt x="188" y="8"/>
                  </a:lnTo>
                  <a:lnTo>
                    <a:pt x="165" y="14"/>
                  </a:lnTo>
                  <a:lnTo>
                    <a:pt x="147" y="34"/>
                  </a:lnTo>
                  <a:lnTo>
                    <a:pt x="133" y="52"/>
                  </a:lnTo>
                  <a:lnTo>
                    <a:pt x="109" y="62"/>
                  </a:lnTo>
                  <a:lnTo>
                    <a:pt x="87" y="56"/>
                  </a:lnTo>
                  <a:lnTo>
                    <a:pt x="67" y="44"/>
                  </a:lnTo>
                  <a:lnTo>
                    <a:pt x="46" y="32"/>
                  </a:lnTo>
                  <a:lnTo>
                    <a:pt x="22" y="34"/>
                  </a:lnTo>
                  <a:lnTo>
                    <a:pt x="0" y="40"/>
                  </a:lnTo>
                  <a:lnTo>
                    <a:pt x="2" y="56"/>
                  </a:lnTo>
                  <a:lnTo>
                    <a:pt x="10" y="68"/>
                  </a:lnTo>
                  <a:close/>
                </a:path>
              </a:pathLst>
            </a:custGeom>
            <a:solidFill>
              <a:srgbClr val="e3be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7" name="Group 43"/>
            <p:cNvGrpSpPr/>
            <p:nvPr/>
          </p:nvGrpSpPr>
          <p:grpSpPr>
            <a:xfrm>
              <a:off x="4684680" y="1133280"/>
              <a:ext cx="127080" cy="301680"/>
              <a:chOff x="4684680" y="1133280"/>
              <a:chExt cx="127080" cy="301680"/>
            </a:xfrm>
          </p:grpSpPr>
          <p:sp>
            <p:nvSpPr>
              <p:cNvPr id="138" name="Freeform 44"/>
              <p:cNvSpPr/>
              <p:nvPr/>
            </p:nvSpPr>
            <p:spPr>
              <a:xfrm>
                <a:off x="4684680" y="1306440"/>
                <a:ext cx="127080" cy="128520"/>
              </a:xfrm>
              <a:custGeom>
                <a:avLst/>
                <a:gdLst>
                  <a:gd name="textAreaLeft" fmla="*/ 0 w 127080"/>
                  <a:gd name="textAreaRight" fmla="*/ 127440 w 12708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161" h="163">
                    <a:moveTo>
                      <a:pt x="12" y="44"/>
                    </a:moveTo>
                    <a:lnTo>
                      <a:pt x="20" y="54"/>
                    </a:lnTo>
                    <a:lnTo>
                      <a:pt x="26" y="66"/>
                    </a:lnTo>
                    <a:lnTo>
                      <a:pt x="32" y="80"/>
                    </a:lnTo>
                    <a:lnTo>
                      <a:pt x="32" y="96"/>
                    </a:lnTo>
                    <a:lnTo>
                      <a:pt x="28" y="113"/>
                    </a:lnTo>
                    <a:lnTo>
                      <a:pt x="32" y="123"/>
                    </a:lnTo>
                    <a:lnTo>
                      <a:pt x="40" y="137"/>
                    </a:lnTo>
                    <a:lnTo>
                      <a:pt x="50" y="145"/>
                    </a:lnTo>
                    <a:lnTo>
                      <a:pt x="62" y="149"/>
                    </a:lnTo>
                    <a:lnTo>
                      <a:pt x="75" y="147"/>
                    </a:lnTo>
                    <a:lnTo>
                      <a:pt x="79" y="153"/>
                    </a:lnTo>
                    <a:lnTo>
                      <a:pt x="87" y="159"/>
                    </a:lnTo>
                    <a:lnTo>
                      <a:pt x="95" y="163"/>
                    </a:lnTo>
                    <a:lnTo>
                      <a:pt x="103" y="163"/>
                    </a:lnTo>
                    <a:lnTo>
                      <a:pt x="111" y="159"/>
                    </a:lnTo>
                    <a:lnTo>
                      <a:pt x="113" y="149"/>
                    </a:lnTo>
                    <a:lnTo>
                      <a:pt x="117" y="141"/>
                    </a:lnTo>
                    <a:lnTo>
                      <a:pt x="127" y="143"/>
                    </a:lnTo>
                    <a:lnTo>
                      <a:pt x="139" y="143"/>
                    </a:lnTo>
                    <a:lnTo>
                      <a:pt x="147" y="137"/>
                    </a:lnTo>
                    <a:lnTo>
                      <a:pt x="151" y="129"/>
                    </a:lnTo>
                    <a:lnTo>
                      <a:pt x="149" y="119"/>
                    </a:lnTo>
                    <a:lnTo>
                      <a:pt x="145" y="111"/>
                    </a:lnTo>
                    <a:lnTo>
                      <a:pt x="145" y="104"/>
                    </a:lnTo>
                    <a:lnTo>
                      <a:pt x="147" y="96"/>
                    </a:lnTo>
                    <a:lnTo>
                      <a:pt x="153" y="90"/>
                    </a:lnTo>
                    <a:lnTo>
                      <a:pt x="157" y="84"/>
                    </a:lnTo>
                    <a:lnTo>
                      <a:pt x="161" y="72"/>
                    </a:lnTo>
                    <a:lnTo>
                      <a:pt x="161" y="60"/>
                    </a:lnTo>
                    <a:lnTo>
                      <a:pt x="157" y="48"/>
                    </a:lnTo>
                    <a:lnTo>
                      <a:pt x="149" y="40"/>
                    </a:lnTo>
                    <a:lnTo>
                      <a:pt x="135" y="36"/>
                    </a:lnTo>
                    <a:lnTo>
                      <a:pt x="127" y="36"/>
                    </a:lnTo>
                    <a:lnTo>
                      <a:pt x="119" y="32"/>
                    </a:lnTo>
                    <a:lnTo>
                      <a:pt x="111" y="30"/>
                    </a:lnTo>
                    <a:lnTo>
                      <a:pt x="101" y="32"/>
                    </a:lnTo>
                    <a:lnTo>
                      <a:pt x="95" y="34"/>
                    </a:lnTo>
                    <a:lnTo>
                      <a:pt x="83" y="32"/>
                    </a:lnTo>
                    <a:lnTo>
                      <a:pt x="77" y="24"/>
                    </a:lnTo>
                    <a:lnTo>
                      <a:pt x="71" y="14"/>
                    </a:lnTo>
                    <a:lnTo>
                      <a:pt x="64" y="8"/>
                    </a:lnTo>
                    <a:lnTo>
                      <a:pt x="54" y="2"/>
                    </a:lnTo>
                    <a:lnTo>
                      <a:pt x="36" y="0"/>
                    </a:lnTo>
                    <a:lnTo>
                      <a:pt x="22" y="0"/>
                    </a:lnTo>
                    <a:lnTo>
                      <a:pt x="8" y="4"/>
                    </a:lnTo>
                    <a:lnTo>
                      <a:pt x="2" y="10"/>
                    </a:lnTo>
                    <a:lnTo>
                      <a:pt x="0" y="16"/>
                    </a:lnTo>
                    <a:lnTo>
                      <a:pt x="2" y="22"/>
                    </a:lnTo>
                    <a:lnTo>
                      <a:pt x="12" y="44"/>
                    </a:lnTo>
                    <a:close/>
                  </a:path>
                </a:pathLst>
              </a:custGeom>
              <a:solidFill>
                <a:srgbClr val="dbffb8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Freeform 45"/>
              <p:cNvSpPr/>
              <p:nvPr/>
            </p:nvSpPr>
            <p:spPr>
              <a:xfrm>
                <a:off x="4684680" y="1133280"/>
                <a:ext cx="61920" cy="96840"/>
              </a:xfrm>
              <a:custGeom>
                <a:avLst/>
                <a:gdLst>
                  <a:gd name="textAreaLeft" fmla="*/ 0 w 61920"/>
                  <a:gd name="textAreaRight" fmla="*/ 62280 w 61920"/>
                  <a:gd name="textAreaTop" fmla="*/ 0 h 96840"/>
                  <a:gd name="textAreaBottom" fmla="*/ 97200 h 96840"/>
                </a:gdLst>
                <a:ahLst/>
                <a:rect l="textAreaLeft" t="textAreaTop" r="textAreaRight" b="textAreaBottom"/>
                <a:pathLst>
                  <a:path w="77" h="121">
                    <a:moveTo>
                      <a:pt x="8" y="53"/>
                    </a:moveTo>
                    <a:lnTo>
                      <a:pt x="10" y="73"/>
                    </a:lnTo>
                    <a:lnTo>
                      <a:pt x="14" y="93"/>
                    </a:lnTo>
                    <a:lnTo>
                      <a:pt x="20" y="103"/>
                    </a:lnTo>
                    <a:lnTo>
                      <a:pt x="28" y="113"/>
                    </a:lnTo>
                    <a:lnTo>
                      <a:pt x="38" y="119"/>
                    </a:lnTo>
                    <a:lnTo>
                      <a:pt x="52" y="121"/>
                    </a:lnTo>
                    <a:lnTo>
                      <a:pt x="64" y="117"/>
                    </a:lnTo>
                    <a:lnTo>
                      <a:pt x="71" y="107"/>
                    </a:lnTo>
                    <a:lnTo>
                      <a:pt x="71" y="91"/>
                    </a:lnTo>
                    <a:lnTo>
                      <a:pt x="69" y="77"/>
                    </a:lnTo>
                    <a:lnTo>
                      <a:pt x="67" y="67"/>
                    </a:lnTo>
                    <a:lnTo>
                      <a:pt x="73" y="57"/>
                    </a:lnTo>
                    <a:lnTo>
                      <a:pt x="77" y="46"/>
                    </a:lnTo>
                    <a:lnTo>
                      <a:pt x="77" y="30"/>
                    </a:lnTo>
                    <a:lnTo>
                      <a:pt x="71" y="14"/>
                    </a:lnTo>
                    <a:lnTo>
                      <a:pt x="66" y="4"/>
                    </a:lnTo>
                    <a:lnTo>
                      <a:pt x="58" y="0"/>
                    </a:lnTo>
                    <a:lnTo>
                      <a:pt x="48" y="2"/>
                    </a:lnTo>
                    <a:lnTo>
                      <a:pt x="40" y="10"/>
                    </a:lnTo>
                    <a:lnTo>
                      <a:pt x="36" y="16"/>
                    </a:lnTo>
                    <a:lnTo>
                      <a:pt x="32" y="18"/>
                    </a:lnTo>
                    <a:lnTo>
                      <a:pt x="24" y="14"/>
                    </a:lnTo>
                    <a:lnTo>
                      <a:pt x="14" y="14"/>
                    </a:lnTo>
                    <a:lnTo>
                      <a:pt x="6" y="18"/>
                    </a:lnTo>
                    <a:lnTo>
                      <a:pt x="2" y="26"/>
                    </a:lnTo>
                    <a:lnTo>
                      <a:pt x="0" y="38"/>
                    </a:lnTo>
                    <a:lnTo>
                      <a:pt x="8" y="53"/>
                    </a:lnTo>
                    <a:close/>
                  </a:path>
                </a:pathLst>
              </a:custGeom>
              <a:solidFill>
                <a:srgbClr val="dbffb8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0" name="Freeform 46"/>
          <p:cNvSpPr/>
          <p:nvPr/>
        </p:nvSpPr>
        <p:spPr>
          <a:xfrm>
            <a:off x="3276720" y="853920"/>
            <a:ext cx="841320" cy="912960"/>
          </a:xfrm>
          <a:custGeom>
            <a:avLst/>
            <a:gdLst>
              <a:gd name="textAreaLeft" fmla="*/ 0 w 841320"/>
              <a:gd name="textAreaRight" fmla="*/ 841680 w 841320"/>
              <a:gd name="textAreaTop" fmla="*/ 0 h 912960"/>
              <a:gd name="textAreaBottom" fmla="*/ 913320 h 912960"/>
            </a:gdLst>
            <a:ahLst/>
            <a:rect l="textAreaLeft" t="textAreaTop" r="textAreaRight" b="textAreaBottom"/>
            <a:pathLst>
              <a:path w="1061" h="1150">
                <a:moveTo>
                  <a:pt x="111" y="88"/>
                </a:moveTo>
                <a:lnTo>
                  <a:pt x="97" y="105"/>
                </a:lnTo>
                <a:lnTo>
                  <a:pt x="75" y="103"/>
                </a:lnTo>
                <a:lnTo>
                  <a:pt x="51" y="117"/>
                </a:lnTo>
                <a:lnTo>
                  <a:pt x="24" y="125"/>
                </a:lnTo>
                <a:lnTo>
                  <a:pt x="10" y="141"/>
                </a:lnTo>
                <a:lnTo>
                  <a:pt x="4" y="165"/>
                </a:lnTo>
                <a:lnTo>
                  <a:pt x="12" y="185"/>
                </a:lnTo>
                <a:lnTo>
                  <a:pt x="20" y="203"/>
                </a:lnTo>
                <a:lnTo>
                  <a:pt x="22" y="213"/>
                </a:lnTo>
                <a:lnTo>
                  <a:pt x="6" y="228"/>
                </a:lnTo>
                <a:lnTo>
                  <a:pt x="0" y="244"/>
                </a:lnTo>
                <a:lnTo>
                  <a:pt x="12" y="256"/>
                </a:lnTo>
                <a:lnTo>
                  <a:pt x="33" y="266"/>
                </a:lnTo>
                <a:lnTo>
                  <a:pt x="59" y="274"/>
                </a:lnTo>
                <a:lnTo>
                  <a:pt x="79" y="284"/>
                </a:lnTo>
                <a:lnTo>
                  <a:pt x="93" y="304"/>
                </a:lnTo>
                <a:lnTo>
                  <a:pt x="107" y="322"/>
                </a:lnTo>
                <a:lnTo>
                  <a:pt x="127" y="340"/>
                </a:lnTo>
                <a:lnTo>
                  <a:pt x="149" y="348"/>
                </a:lnTo>
                <a:lnTo>
                  <a:pt x="176" y="354"/>
                </a:lnTo>
                <a:lnTo>
                  <a:pt x="182" y="373"/>
                </a:lnTo>
                <a:lnTo>
                  <a:pt x="176" y="403"/>
                </a:lnTo>
                <a:lnTo>
                  <a:pt x="178" y="431"/>
                </a:lnTo>
                <a:lnTo>
                  <a:pt x="182" y="463"/>
                </a:lnTo>
                <a:lnTo>
                  <a:pt x="178" y="485"/>
                </a:lnTo>
                <a:lnTo>
                  <a:pt x="182" y="508"/>
                </a:lnTo>
                <a:lnTo>
                  <a:pt x="194" y="518"/>
                </a:lnTo>
                <a:lnTo>
                  <a:pt x="216" y="516"/>
                </a:lnTo>
                <a:lnTo>
                  <a:pt x="238" y="518"/>
                </a:lnTo>
                <a:lnTo>
                  <a:pt x="246" y="536"/>
                </a:lnTo>
                <a:lnTo>
                  <a:pt x="240" y="556"/>
                </a:lnTo>
                <a:lnTo>
                  <a:pt x="244" y="578"/>
                </a:lnTo>
                <a:lnTo>
                  <a:pt x="256" y="594"/>
                </a:lnTo>
                <a:lnTo>
                  <a:pt x="271" y="616"/>
                </a:lnTo>
                <a:lnTo>
                  <a:pt x="277" y="634"/>
                </a:lnTo>
                <a:lnTo>
                  <a:pt x="269" y="657"/>
                </a:lnTo>
                <a:lnTo>
                  <a:pt x="268" y="687"/>
                </a:lnTo>
                <a:lnTo>
                  <a:pt x="271" y="711"/>
                </a:lnTo>
                <a:lnTo>
                  <a:pt x="283" y="735"/>
                </a:lnTo>
                <a:lnTo>
                  <a:pt x="303" y="753"/>
                </a:lnTo>
                <a:lnTo>
                  <a:pt x="327" y="765"/>
                </a:lnTo>
                <a:lnTo>
                  <a:pt x="357" y="769"/>
                </a:lnTo>
                <a:lnTo>
                  <a:pt x="379" y="763"/>
                </a:lnTo>
                <a:lnTo>
                  <a:pt x="400" y="755"/>
                </a:lnTo>
                <a:lnTo>
                  <a:pt x="422" y="763"/>
                </a:lnTo>
                <a:lnTo>
                  <a:pt x="436" y="780"/>
                </a:lnTo>
                <a:lnTo>
                  <a:pt x="456" y="794"/>
                </a:lnTo>
                <a:lnTo>
                  <a:pt x="480" y="800"/>
                </a:lnTo>
                <a:lnTo>
                  <a:pt x="500" y="816"/>
                </a:lnTo>
                <a:lnTo>
                  <a:pt x="521" y="824"/>
                </a:lnTo>
                <a:lnTo>
                  <a:pt x="543" y="838"/>
                </a:lnTo>
                <a:lnTo>
                  <a:pt x="555" y="860"/>
                </a:lnTo>
                <a:lnTo>
                  <a:pt x="565" y="884"/>
                </a:lnTo>
                <a:lnTo>
                  <a:pt x="561" y="906"/>
                </a:lnTo>
                <a:lnTo>
                  <a:pt x="569" y="921"/>
                </a:lnTo>
                <a:lnTo>
                  <a:pt x="583" y="941"/>
                </a:lnTo>
                <a:lnTo>
                  <a:pt x="581" y="961"/>
                </a:lnTo>
                <a:lnTo>
                  <a:pt x="567" y="977"/>
                </a:lnTo>
                <a:lnTo>
                  <a:pt x="553" y="1003"/>
                </a:lnTo>
                <a:lnTo>
                  <a:pt x="561" y="1023"/>
                </a:lnTo>
                <a:lnTo>
                  <a:pt x="577" y="1051"/>
                </a:lnTo>
                <a:lnTo>
                  <a:pt x="589" y="1074"/>
                </a:lnTo>
                <a:lnTo>
                  <a:pt x="581" y="1104"/>
                </a:lnTo>
                <a:lnTo>
                  <a:pt x="575" y="1128"/>
                </a:lnTo>
                <a:lnTo>
                  <a:pt x="577" y="1144"/>
                </a:lnTo>
                <a:lnTo>
                  <a:pt x="593" y="1150"/>
                </a:lnTo>
                <a:lnTo>
                  <a:pt x="609" y="1138"/>
                </a:lnTo>
                <a:lnTo>
                  <a:pt x="622" y="1116"/>
                </a:lnTo>
                <a:lnTo>
                  <a:pt x="646" y="1106"/>
                </a:lnTo>
                <a:lnTo>
                  <a:pt x="674" y="1114"/>
                </a:lnTo>
                <a:lnTo>
                  <a:pt x="696" y="1128"/>
                </a:lnTo>
                <a:lnTo>
                  <a:pt x="726" y="1126"/>
                </a:lnTo>
                <a:lnTo>
                  <a:pt x="765" y="1118"/>
                </a:lnTo>
                <a:lnTo>
                  <a:pt x="791" y="1108"/>
                </a:lnTo>
                <a:lnTo>
                  <a:pt x="807" y="1078"/>
                </a:lnTo>
                <a:lnTo>
                  <a:pt x="811" y="1051"/>
                </a:lnTo>
                <a:lnTo>
                  <a:pt x="831" y="1035"/>
                </a:lnTo>
                <a:lnTo>
                  <a:pt x="841" y="1013"/>
                </a:lnTo>
                <a:lnTo>
                  <a:pt x="857" y="1001"/>
                </a:lnTo>
                <a:lnTo>
                  <a:pt x="884" y="1009"/>
                </a:lnTo>
                <a:lnTo>
                  <a:pt x="906" y="1017"/>
                </a:lnTo>
                <a:lnTo>
                  <a:pt x="920" y="1003"/>
                </a:lnTo>
                <a:lnTo>
                  <a:pt x="930" y="977"/>
                </a:lnTo>
                <a:lnTo>
                  <a:pt x="952" y="957"/>
                </a:lnTo>
                <a:lnTo>
                  <a:pt x="972" y="967"/>
                </a:lnTo>
                <a:lnTo>
                  <a:pt x="989" y="979"/>
                </a:lnTo>
                <a:lnTo>
                  <a:pt x="1011" y="969"/>
                </a:lnTo>
                <a:lnTo>
                  <a:pt x="1041" y="967"/>
                </a:lnTo>
                <a:lnTo>
                  <a:pt x="1055" y="955"/>
                </a:lnTo>
                <a:lnTo>
                  <a:pt x="1061" y="937"/>
                </a:lnTo>
                <a:lnTo>
                  <a:pt x="1039" y="917"/>
                </a:lnTo>
                <a:lnTo>
                  <a:pt x="1029" y="896"/>
                </a:lnTo>
                <a:lnTo>
                  <a:pt x="1015" y="876"/>
                </a:lnTo>
                <a:lnTo>
                  <a:pt x="1001" y="850"/>
                </a:lnTo>
                <a:lnTo>
                  <a:pt x="1007" y="824"/>
                </a:lnTo>
                <a:lnTo>
                  <a:pt x="1021" y="806"/>
                </a:lnTo>
                <a:lnTo>
                  <a:pt x="1037" y="786"/>
                </a:lnTo>
                <a:lnTo>
                  <a:pt x="1041" y="755"/>
                </a:lnTo>
                <a:lnTo>
                  <a:pt x="1033" y="721"/>
                </a:lnTo>
                <a:lnTo>
                  <a:pt x="1037" y="699"/>
                </a:lnTo>
                <a:lnTo>
                  <a:pt x="1017" y="681"/>
                </a:lnTo>
                <a:lnTo>
                  <a:pt x="1005" y="657"/>
                </a:lnTo>
                <a:lnTo>
                  <a:pt x="1011" y="636"/>
                </a:lnTo>
                <a:lnTo>
                  <a:pt x="1005" y="616"/>
                </a:lnTo>
                <a:lnTo>
                  <a:pt x="993" y="606"/>
                </a:lnTo>
                <a:lnTo>
                  <a:pt x="966" y="592"/>
                </a:lnTo>
                <a:lnTo>
                  <a:pt x="950" y="572"/>
                </a:lnTo>
                <a:lnTo>
                  <a:pt x="956" y="544"/>
                </a:lnTo>
                <a:lnTo>
                  <a:pt x="972" y="516"/>
                </a:lnTo>
                <a:lnTo>
                  <a:pt x="977" y="491"/>
                </a:lnTo>
                <a:lnTo>
                  <a:pt x="972" y="469"/>
                </a:lnTo>
                <a:lnTo>
                  <a:pt x="950" y="441"/>
                </a:lnTo>
                <a:lnTo>
                  <a:pt x="922" y="413"/>
                </a:lnTo>
                <a:lnTo>
                  <a:pt x="898" y="381"/>
                </a:lnTo>
                <a:lnTo>
                  <a:pt x="878" y="354"/>
                </a:lnTo>
                <a:lnTo>
                  <a:pt x="855" y="328"/>
                </a:lnTo>
                <a:lnTo>
                  <a:pt x="833" y="318"/>
                </a:lnTo>
                <a:lnTo>
                  <a:pt x="811" y="306"/>
                </a:lnTo>
                <a:lnTo>
                  <a:pt x="799" y="278"/>
                </a:lnTo>
                <a:lnTo>
                  <a:pt x="807" y="252"/>
                </a:lnTo>
                <a:lnTo>
                  <a:pt x="819" y="221"/>
                </a:lnTo>
                <a:lnTo>
                  <a:pt x="835" y="197"/>
                </a:lnTo>
                <a:lnTo>
                  <a:pt x="857" y="173"/>
                </a:lnTo>
                <a:lnTo>
                  <a:pt x="872" y="145"/>
                </a:lnTo>
                <a:lnTo>
                  <a:pt x="878" y="121"/>
                </a:lnTo>
                <a:lnTo>
                  <a:pt x="868" y="97"/>
                </a:lnTo>
                <a:lnTo>
                  <a:pt x="862" y="76"/>
                </a:lnTo>
                <a:lnTo>
                  <a:pt x="864" y="54"/>
                </a:lnTo>
                <a:lnTo>
                  <a:pt x="835" y="62"/>
                </a:lnTo>
                <a:lnTo>
                  <a:pt x="821" y="86"/>
                </a:lnTo>
                <a:lnTo>
                  <a:pt x="805" y="107"/>
                </a:lnTo>
                <a:lnTo>
                  <a:pt x="781" y="103"/>
                </a:lnTo>
                <a:lnTo>
                  <a:pt x="761" y="97"/>
                </a:lnTo>
                <a:lnTo>
                  <a:pt x="755" y="78"/>
                </a:lnTo>
                <a:lnTo>
                  <a:pt x="734" y="70"/>
                </a:lnTo>
                <a:lnTo>
                  <a:pt x="724" y="48"/>
                </a:lnTo>
                <a:lnTo>
                  <a:pt x="704" y="34"/>
                </a:lnTo>
                <a:lnTo>
                  <a:pt x="682" y="10"/>
                </a:lnTo>
                <a:lnTo>
                  <a:pt x="656" y="0"/>
                </a:lnTo>
                <a:lnTo>
                  <a:pt x="634" y="12"/>
                </a:lnTo>
                <a:lnTo>
                  <a:pt x="619" y="40"/>
                </a:lnTo>
                <a:lnTo>
                  <a:pt x="607" y="70"/>
                </a:lnTo>
                <a:lnTo>
                  <a:pt x="581" y="76"/>
                </a:lnTo>
                <a:lnTo>
                  <a:pt x="563" y="91"/>
                </a:lnTo>
                <a:lnTo>
                  <a:pt x="545" y="97"/>
                </a:lnTo>
                <a:lnTo>
                  <a:pt x="529" y="99"/>
                </a:lnTo>
                <a:lnTo>
                  <a:pt x="515" y="115"/>
                </a:lnTo>
                <a:lnTo>
                  <a:pt x="509" y="135"/>
                </a:lnTo>
                <a:lnTo>
                  <a:pt x="484" y="141"/>
                </a:lnTo>
                <a:lnTo>
                  <a:pt x="454" y="143"/>
                </a:lnTo>
                <a:lnTo>
                  <a:pt x="430" y="153"/>
                </a:lnTo>
                <a:lnTo>
                  <a:pt x="410" y="161"/>
                </a:lnTo>
                <a:lnTo>
                  <a:pt x="388" y="147"/>
                </a:lnTo>
                <a:lnTo>
                  <a:pt x="369" y="139"/>
                </a:lnTo>
                <a:lnTo>
                  <a:pt x="349" y="139"/>
                </a:lnTo>
                <a:lnTo>
                  <a:pt x="335" y="127"/>
                </a:lnTo>
                <a:lnTo>
                  <a:pt x="319" y="121"/>
                </a:lnTo>
                <a:lnTo>
                  <a:pt x="305" y="129"/>
                </a:lnTo>
                <a:lnTo>
                  <a:pt x="287" y="139"/>
                </a:lnTo>
                <a:lnTo>
                  <a:pt x="266" y="131"/>
                </a:lnTo>
                <a:lnTo>
                  <a:pt x="250" y="109"/>
                </a:lnTo>
                <a:lnTo>
                  <a:pt x="230" y="88"/>
                </a:lnTo>
                <a:lnTo>
                  <a:pt x="208" y="86"/>
                </a:lnTo>
                <a:lnTo>
                  <a:pt x="182" y="88"/>
                </a:lnTo>
                <a:lnTo>
                  <a:pt x="160" y="78"/>
                </a:lnTo>
                <a:lnTo>
                  <a:pt x="143" y="64"/>
                </a:lnTo>
                <a:lnTo>
                  <a:pt x="121" y="66"/>
                </a:lnTo>
                <a:lnTo>
                  <a:pt x="111" y="88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Group 47"/>
          <p:cNvGrpSpPr/>
          <p:nvPr/>
        </p:nvGrpSpPr>
        <p:grpSpPr>
          <a:xfrm>
            <a:off x="4495680" y="4775040"/>
            <a:ext cx="958680" cy="723960"/>
            <a:chOff x="4495680" y="4775040"/>
            <a:chExt cx="958680" cy="723960"/>
          </a:xfrm>
        </p:grpSpPr>
        <p:sp>
          <p:nvSpPr>
            <p:cNvPr id="142" name="Freeform 48"/>
            <p:cNvSpPr/>
            <p:nvPr/>
          </p:nvSpPr>
          <p:spPr>
            <a:xfrm>
              <a:off x="4495680" y="4859280"/>
              <a:ext cx="958680" cy="639720"/>
            </a:xfrm>
            <a:custGeom>
              <a:avLst/>
              <a:gdLst>
                <a:gd name="textAreaLeft" fmla="*/ 0 w 958680"/>
                <a:gd name="textAreaRight" fmla="*/ 959040 w 958680"/>
                <a:gd name="textAreaTop" fmla="*/ 0 h 639720"/>
                <a:gd name="textAreaBottom" fmla="*/ 640080 h 639720"/>
              </a:gdLst>
              <a:ahLst/>
              <a:rect l="textAreaLeft" t="textAreaTop" r="textAreaRight" b="textAreaBottom"/>
              <a:pathLst>
                <a:path w="1207" h="806">
                  <a:moveTo>
                    <a:pt x="440" y="648"/>
                  </a:moveTo>
                  <a:lnTo>
                    <a:pt x="426" y="665"/>
                  </a:lnTo>
                  <a:lnTo>
                    <a:pt x="404" y="663"/>
                  </a:lnTo>
                  <a:lnTo>
                    <a:pt x="380" y="677"/>
                  </a:lnTo>
                  <a:lnTo>
                    <a:pt x="353" y="685"/>
                  </a:lnTo>
                  <a:lnTo>
                    <a:pt x="339" y="701"/>
                  </a:lnTo>
                  <a:lnTo>
                    <a:pt x="333" y="725"/>
                  </a:lnTo>
                  <a:lnTo>
                    <a:pt x="341" y="745"/>
                  </a:lnTo>
                  <a:lnTo>
                    <a:pt x="351" y="773"/>
                  </a:lnTo>
                  <a:lnTo>
                    <a:pt x="335" y="788"/>
                  </a:lnTo>
                  <a:lnTo>
                    <a:pt x="331" y="806"/>
                  </a:lnTo>
                  <a:lnTo>
                    <a:pt x="323" y="783"/>
                  </a:lnTo>
                  <a:lnTo>
                    <a:pt x="301" y="767"/>
                  </a:lnTo>
                  <a:lnTo>
                    <a:pt x="285" y="761"/>
                  </a:lnTo>
                  <a:lnTo>
                    <a:pt x="275" y="755"/>
                  </a:lnTo>
                  <a:lnTo>
                    <a:pt x="251" y="765"/>
                  </a:lnTo>
                  <a:lnTo>
                    <a:pt x="234" y="761"/>
                  </a:lnTo>
                  <a:lnTo>
                    <a:pt x="224" y="759"/>
                  </a:lnTo>
                  <a:lnTo>
                    <a:pt x="208" y="741"/>
                  </a:lnTo>
                  <a:lnTo>
                    <a:pt x="188" y="729"/>
                  </a:lnTo>
                  <a:lnTo>
                    <a:pt x="164" y="725"/>
                  </a:lnTo>
                  <a:lnTo>
                    <a:pt x="132" y="711"/>
                  </a:lnTo>
                  <a:lnTo>
                    <a:pt x="93" y="685"/>
                  </a:lnTo>
                  <a:lnTo>
                    <a:pt x="69" y="679"/>
                  </a:lnTo>
                  <a:lnTo>
                    <a:pt x="63" y="667"/>
                  </a:lnTo>
                  <a:lnTo>
                    <a:pt x="49" y="648"/>
                  </a:lnTo>
                  <a:lnTo>
                    <a:pt x="31" y="626"/>
                  </a:lnTo>
                  <a:lnTo>
                    <a:pt x="13" y="620"/>
                  </a:lnTo>
                  <a:lnTo>
                    <a:pt x="0" y="620"/>
                  </a:lnTo>
                  <a:lnTo>
                    <a:pt x="21" y="592"/>
                  </a:lnTo>
                  <a:lnTo>
                    <a:pt x="39" y="568"/>
                  </a:lnTo>
                  <a:lnTo>
                    <a:pt x="67" y="554"/>
                  </a:lnTo>
                  <a:lnTo>
                    <a:pt x="85" y="528"/>
                  </a:lnTo>
                  <a:lnTo>
                    <a:pt x="87" y="495"/>
                  </a:lnTo>
                  <a:lnTo>
                    <a:pt x="97" y="461"/>
                  </a:lnTo>
                  <a:lnTo>
                    <a:pt x="99" y="437"/>
                  </a:lnTo>
                  <a:lnTo>
                    <a:pt x="83" y="423"/>
                  </a:lnTo>
                  <a:lnTo>
                    <a:pt x="71" y="397"/>
                  </a:lnTo>
                  <a:lnTo>
                    <a:pt x="73" y="360"/>
                  </a:lnTo>
                  <a:lnTo>
                    <a:pt x="75" y="322"/>
                  </a:lnTo>
                  <a:lnTo>
                    <a:pt x="83" y="348"/>
                  </a:lnTo>
                  <a:lnTo>
                    <a:pt x="97" y="354"/>
                  </a:lnTo>
                  <a:lnTo>
                    <a:pt x="113" y="342"/>
                  </a:lnTo>
                  <a:lnTo>
                    <a:pt x="107" y="314"/>
                  </a:lnTo>
                  <a:lnTo>
                    <a:pt x="109" y="292"/>
                  </a:lnTo>
                  <a:lnTo>
                    <a:pt x="121" y="276"/>
                  </a:lnTo>
                  <a:lnTo>
                    <a:pt x="146" y="270"/>
                  </a:lnTo>
                  <a:lnTo>
                    <a:pt x="168" y="276"/>
                  </a:lnTo>
                  <a:lnTo>
                    <a:pt x="194" y="304"/>
                  </a:lnTo>
                  <a:lnTo>
                    <a:pt x="212" y="298"/>
                  </a:lnTo>
                  <a:lnTo>
                    <a:pt x="232" y="310"/>
                  </a:lnTo>
                  <a:lnTo>
                    <a:pt x="253" y="316"/>
                  </a:lnTo>
                  <a:lnTo>
                    <a:pt x="267" y="298"/>
                  </a:lnTo>
                  <a:lnTo>
                    <a:pt x="265" y="272"/>
                  </a:lnTo>
                  <a:lnTo>
                    <a:pt x="285" y="262"/>
                  </a:lnTo>
                  <a:lnTo>
                    <a:pt x="275" y="250"/>
                  </a:lnTo>
                  <a:lnTo>
                    <a:pt x="273" y="229"/>
                  </a:lnTo>
                  <a:lnTo>
                    <a:pt x="289" y="211"/>
                  </a:lnTo>
                  <a:lnTo>
                    <a:pt x="315" y="219"/>
                  </a:lnTo>
                  <a:lnTo>
                    <a:pt x="331" y="201"/>
                  </a:lnTo>
                  <a:lnTo>
                    <a:pt x="359" y="195"/>
                  </a:lnTo>
                  <a:lnTo>
                    <a:pt x="384" y="199"/>
                  </a:lnTo>
                  <a:lnTo>
                    <a:pt x="406" y="187"/>
                  </a:lnTo>
                  <a:lnTo>
                    <a:pt x="430" y="185"/>
                  </a:lnTo>
                  <a:lnTo>
                    <a:pt x="438" y="207"/>
                  </a:lnTo>
                  <a:lnTo>
                    <a:pt x="446" y="221"/>
                  </a:lnTo>
                  <a:lnTo>
                    <a:pt x="466" y="223"/>
                  </a:lnTo>
                  <a:lnTo>
                    <a:pt x="478" y="209"/>
                  </a:lnTo>
                  <a:lnTo>
                    <a:pt x="460" y="179"/>
                  </a:lnTo>
                  <a:lnTo>
                    <a:pt x="470" y="157"/>
                  </a:lnTo>
                  <a:lnTo>
                    <a:pt x="493" y="135"/>
                  </a:lnTo>
                  <a:lnTo>
                    <a:pt x="511" y="101"/>
                  </a:lnTo>
                  <a:lnTo>
                    <a:pt x="523" y="74"/>
                  </a:lnTo>
                  <a:lnTo>
                    <a:pt x="539" y="46"/>
                  </a:lnTo>
                  <a:lnTo>
                    <a:pt x="555" y="20"/>
                  </a:lnTo>
                  <a:lnTo>
                    <a:pt x="577" y="4"/>
                  </a:lnTo>
                  <a:lnTo>
                    <a:pt x="600" y="8"/>
                  </a:lnTo>
                  <a:lnTo>
                    <a:pt x="630" y="2"/>
                  </a:lnTo>
                  <a:lnTo>
                    <a:pt x="656" y="0"/>
                  </a:lnTo>
                  <a:lnTo>
                    <a:pt x="678" y="2"/>
                  </a:lnTo>
                  <a:lnTo>
                    <a:pt x="690" y="16"/>
                  </a:lnTo>
                  <a:lnTo>
                    <a:pt x="682" y="32"/>
                  </a:lnTo>
                  <a:lnTo>
                    <a:pt x="664" y="38"/>
                  </a:lnTo>
                  <a:lnTo>
                    <a:pt x="634" y="32"/>
                  </a:lnTo>
                  <a:lnTo>
                    <a:pt x="612" y="38"/>
                  </a:lnTo>
                  <a:lnTo>
                    <a:pt x="604" y="48"/>
                  </a:lnTo>
                  <a:lnTo>
                    <a:pt x="581" y="52"/>
                  </a:lnTo>
                  <a:lnTo>
                    <a:pt x="565" y="58"/>
                  </a:lnTo>
                  <a:lnTo>
                    <a:pt x="553" y="76"/>
                  </a:lnTo>
                  <a:lnTo>
                    <a:pt x="539" y="98"/>
                  </a:lnTo>
                  <a:lnTo>
                    <a:pt x="533" y="117"/>
                  </a:lnTo>
                  <a:lnTo>
                    <a:pt x="537" y="129"/>
                  </a:lnTo>
                  <a:lnTo>
                    <a:pt x="553" y="125"/>
                  </a:lnTo>
                  <a:lnTo>
                    <a:pt x="561" y="103"/>
                  </a:lnTo>
                  <a:lnTo>
                    <a:pt x="577" y="80"/>
                  </a:lnTo>
                  <a:lnTo>
                    <a:pt x="593" y="70"/>
                  </a:lnTo>
                  <a:lnTo>
                    <a:pt x="610" y="76"/>
                  </a:lnTo>
                  <a:lnTo>
                    <a:pt x="624" y="60"/>
                  </a:lnTo>
                  <a:lnTo>
                    <a:pt x="642" y="52"/>
                  </a:lnTo>
                  <a:lnTo>
                    <a:pt x="656" y="58"/>
                  </a:lnTo>
                  <a:lnTo>
                    <a:pt x="666" y="74"/>
                  </a:lnTo>
                  <a:lnTo>
                    <a:pt x="682" y="68"/>
                  </a:lnTo>
                  <a:lnTo>
                    <a:pt x="700" y="52"/>
                  </a:lnTo>
                  <a:lnTo>
                    <a:pt x="721" y="54"/>
                  </a:lnTo>
                  <a:lnTo>
                    <a:pt x="725" y="68"/>
                  </a:lnTo>
                  <a:lnTo>
                    <a:pt x="731" y="90"/>
                  </a:lnTo>
                  <a:lnTo>
                    <a:pt x="743" y="109"/>
                  </a:lnTo>
                  <a:lnTo>
                    <a:pt x="771" y="117"/>
                  </a:lnTo>
                  <a:lnTo>
                    <a:pt x="801" y="131"/>
                  </a:lnTo>
                  <a:lnTo>
                    <a:pt x="823" y="147"/>
                  </a:lnTo>
                  <a:lnTo>
                    <a:pt x="838" y="169"/>
                  </a:lnTo>
                  <a:lnTo>
                    <a:pt x="846" y="195"/>
                  </a:lnTo>
                  <a:lnTo>
                    <a:pt x="864" y="199"/>
                  </a:lnTo>
                  <a:lnTo>
                    <a:pt x="876" y="185"/>
                  </a:lnTo>
                  <a:lnTo>
                    <a:pt x="880" y="165"/>
                  </a:lnTo>
                  <a:lnTo>
                    <a:pt x="892" y="155"/>
                  </a:lnTo>
                  <a:lnTo>
                    <a:pt x="904" y="167"/>
                  </a:lnTo>
                  <a:lnTo>
                    <a:pt x="924" y="155"/>
                  </a:lnTo>
                  <a:lnTo>
                    <a:pt x="946" y="161"/>
                  </a:lnTo>
                  <a:lnTo>
                    <a:pt x="957" y="179"/>
                  </a:lnTo>
                  <a:lnTo>
                    <a:pt x="957" y="205"/>
                  </a:lnTo>
                  <a:lnTo>
                    <a:pt x="953" y="233"/>
                  </a:lnTo>
                  <a:lnTo>
                    <a:pt x="959" y="252"/>
                  </a:lnTo>
                  <a:lnTo>
                    <a:pt x="979" y="264"/>
                  </a:lnTo>
                  <a:lnTo>
                    <a:pt x="997" y="288"/>
                  </a:lnTo>
                  <a:lnTo>
                    <a:pt x="989" y="314"/>
                  </a:lnTo>
                  <a:lnTo>
                    <a:pt x="995" y="336"/>
                  </a:lnTo>
                  <a:lnTo>
                    <a:pt x="1007" y="348"/>
                  </a:lnTo>
                  <a:lnTo>
                    <a:pt x="1031" y="362"/>
                  </a:lnTo>
                  <a:lnTo>
                    <a:pt x="1059" y="374"/>
                  </a:lnTo>
                  <a:lnTo>
                    <a:pt x="1078" y="381"/>
                  </a:lnTo>
                  <a:lnTo>
                    <a:pt x="1094" y="370"/>
                  </a:lnTo>
                  <a:lnTo>
                    <a:pt x="1112" y="368"/>
                  </a:lnTo>
                  <a:lnTo>
                    <a:pt x="1130" y="375"/>
                  </a:lnTo>
                  <a:lnTo>
                    <a:pt x="1136" y="391"/>
                  </a:lnTo>
                  <a:lnTo>
                    <a:pt x="1140" y="419"/>
                  </a:lnTo>
                  <a:lnTo>
                    <a:pt x="1142" y="459"/>
                  </a:lnTo>
                  <a:lnTo>
                    <a:pt x="1152" y="491"/>
                  </a:lnTo>
                  <a:lnTo>
                    <a:pt x="1162" y="522"/>
                  </a:lnTo>
                  <a:lnTo>
                    <a:pt x="1180" y="548"/>
                  </a:lnTo>
                  <a:lnTo>
                    <a:pt x="1199" y="576"/>
                  </a:lnTo>
                  <a:lnTo>
                    <a:pt x="1207" y="600"/>
                  </a:lnTo>
                  <a:lnTo>
                    <a:pt x="1193" y="614"/>
                  </a:lnTo>
                  <a:lnTo>
                    <a:pt x="1164" y="622"/>
                  </a:lnTo>
                  <a:lnTo>
                    <a:pt x="1150" y="646"/>
                  </a:lnTo>
                  <a:lnTo>
                    <a:pt x="1134" y="667"/>
                  </a:lnTo>
                  <a:lnTo>
                    <a:pt x="1110" y="663"/>
                  </a:lnTo>
                  <a:lnTo>
                    <a:pt x="1090" y="657"/>
                  </a:lnTo>
                  <a:lnTo>
                    <a:pt x="1084" y="638"/>
                  </a:lnTo>
                  <a:lnTo>
                    <a:pt x="1063" y="630"/>
                  </a:lnTo>
                  <a:lnTo>
                    <a:pt x="1053" y="608"/>
                  </a:lnTo>
                  <a:lnTo>
                    <a:pt x="1033" y="594"/>
                  </a:lnTo>
                  <a:lnTo>
                    <a:pt x="1011" y="570"/>
                  </a:lnTo>
                  <a:lnTo>
                    <a:pt x="985" y="560"/>
                  </a:lnTo>
                  <a:lnTo>
                    <a:pt x="963" y="572"/>
                  </a:lnTo>
                  <a:lnTo>
                    <a:pt x="948" y="600"/>
                  </a:lnTo>
                  <a:lnTo>
                    <a:pt x="936" y="630"/>
                  </a:lnTo>
                  <a:lnTo>
                    <a:pt x="910" y="636"/>
                  </a:lnTo>
                  <a:lnTo>
                    <a:pt x="892" y="651"/>
                  </a:lnTo>
                  <a:lnTo>
                    <a:pt x="874" y="657"/>
                  </a:lnTo>
                  <a:lnTo>
                    <a:pt x="858" y="659"/>
                  </a:lnTo>
                  <a:lnTo>
                    <a:pt x="844" y="675"/>
                  </a:lnTo>
                  <a:lnTo>
                    <a:pt x="838" y="695"/>
                  </a:lnTo>
                  <a:lnTo>
                    <a:pt x="813" y="701"/>
                  </a:lnTo>
                  <a:lnTo>
                    <a:pt x="783" y="703"/>
                  </a:lnTo>
                  <a:lnTo>
                    <a:pt x="759" y="713"/>
                  </a:lnTo>
                  <a:lnTo>
                    <a:pt x="739" y="721"/>
                  </a:lnTo>
                  <a:lnTo>
                    <a:pt x="717" y="707"/>
                  </a:lnTo>
                  <a:lnTo>
                    <a:pt x="698" y="699"/>
                  </a:lnTo>
                  <a:lnTo>
                    <a:pt x="678" y="699"/>
                  </a:lnTo>
                  <a:lnTo>
                    <a:pt x="664" y="687"/>
                  </a:lnTo>
                  <a:lnTo>
                    <a:pt x="648" y="681"/>
                  </a:lnTo>
                  <a:lnTo>
                    <a:pt x="634" y="689"/>
                  </a:lnTo>
                  <a:lnTo>
                    <a:pt x="616" y="699"/>
                  </a:lnTo>
                  <a:lnTo>
                    <a:pt x="595" y="691"/>
                  </a:lnTo>
                  <a:lnTo>
                    <a:pt x="579" y="669"/>
                  </a:lnTo>
                  <a:lnTo>
                    <a:pt x="559" y="648"/>
                  </a:lnTo>
                  <a:lnTo>
                    <a:pt x="537" y="646"/>
                  </a:lnTo>
                  <a:lnTo>
                    <a:pt x="511" y="648"/>
                  </a:lnTo>
                  <a:lnTo>
                    <a:pt x="489" y="638"/>
                  </a:lnTo>
                  <a:lnTo>
                    <a:pt x="472" y="624"/>
                  </a:lnTo>
                  <a:lnTo>
                    <a:pt x="450" y="626"/>
                  </a:lnTo>
                  <a:lnTo>
                    <a:pt x="440" y="648"/>
                  </a:lnTo>
                  <a:close/>
                </a:path>
              </a:pathLst>
            </a:custGeom>
            <a:solidFill>
              <a:srgbClr val="00ff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5103360" y="4775040"/>
              <a:ext cx="166680" cy="179640"/>
            </a:xfrm>
            <a:custGeom>
              <a:avLst/>
              <a:gdLst>
                <a:gd name="textAreaLeft" fmla="*/ 0 w 166680"/>
                <a:gd name="textAreaRight" fmla="*/ 167040 w 166680"/>
                <a:gd name="textAreaTop" fmla="*/ 0 h 179640"/>
                <a:gd name="textAreaBottom" fmla="*/ 180000 h 179640"/>
              </a:gdLst>
              <a:ahLst/>
              <a:rect l="textAreaLeft" t="textAreaTop" r="textAreaRight" b="textAreaBottom"/>
              <a:pathLst>
                <a:path w="210" h="226">
                  <a:moveTo>
                    <a:pt x="34" y="10"/>
                  </a:moveTo>
                  <a:lnTo>
                    <a:pt x="48" y="0"/>
                  </a:lnTo>
                  <a:lnTo>
                    <a:pt x="66" y="6"/>
                  </a:lnTo>
                  <a:lnTo>
                    <a:pt x="83" y="0"/>
                  </a:lnTo>
                  <a:lnTo>
                    <a:pt x="101" y="6"/>
                  </a:lnTo>
                  <a:lnTo>
                    <a:pt x="95" y="22"/>
                  </a:lnTo>
                  <a:lnTo>
                    <a:pt x="105" y="34"/>
                  </a:lnTo>
                  <a:lnTo>
                    <a:pt x="125" y="36"/>
                  </a:lnTo>
                  <a:lnTo>
                    <a:pt x="143" y="40"/>
                  </a:lnTo>
                  <a:lnTo>
                    <a:pt x="161" y="50"/>
                  </a:lnTo>
                  <a:lnTo>
                    <a:pt x="171" y="58"/>
                  </a:lnTo>
                  <a:lnTo>
                    <a:pt x="173" y="71"/>
                  </a:lnTo>
                  <a:lnTo>
                    <a:pt x="169" y="79"/>
                  </a:lnTo>
                  <a:lnTo>
                    <a:pt x="165" y="89"/>
                  </a:lnTo>
                  <a:lnTo>
                    <a:pt x="159" y="105"/>
                  </a:lnTo>
                  <a:lnTo>
                    <a:pt x="165" y="119"/>
                  </a:lnTo>
                  <a:lnTo>
                    <a:pt x="179" y="131"/>
                  </a:lnTo>
                  <a:lnTo>
                    <a:pt x="192" y="137"/>
                  </a:lnTo>
                  <a:lnTo>
                    <a:pt x="204" y="149"/>
                  </a:lnTo>
                  <a:lnTo>
                    <a:pt x="210" y="159"/>
                  </a:lnTo>
                  <a:lnTo>
                    <a:pt x="208" y="175"/>
                  </a:lnTo>
                  <a:lnTo>
                    <a:pt x="202" y="193"/>
                  </a:lnTo>
                  <a:lnTo>
                    <a:pt x="192" y="203"/>
                  </a:lnTo>
                  <a:lnTo>
                    <a:pt x="183" y="207"/>
                  </a:lnTo>
                  <a:lnTo>
                    <a:pt x="173" y="199"/>
                  </a:lnTo>
                  <a:lnTo>
                    <a:pt x="169" y="189"/>
                  </a:lnTo>
                  <a:lnTo>
                    <a:pt x="173" y="177"/>
                  </a:lnTo>
                  <a:lnTo>
                    <a:pt x="179" y="167"/>
                  </a:lnTo>
                  <a:lnTo>
                    <a:pt x="181" y="155"/>
                  </a:lnTo>
                  <a:lnTo>
                    <a:pt x="171" y="149"/>
                  </a:lnTo>
                  <a:lnTo>
                    <a:pt x="159" y="151"/>
                  </a:lnTo>
                  <a:lnTo>
                    <a:pt x="149" y="159"/>
                  </a:lnTo>
                  <a:lnTo>
                    <a:pt x="135" y="159"/>
                  </a:lnTo>
                  <a:lnTo>
                    <a:pt x="127" y="161"/>
                  </a:lnTo>
                  <a:lnTo>
                    <a:pt x="123" y="171"/>
                  </a:lnTo>
                  <a:lnTo>
                    <a:pt x="121" y="181"/>
                  </a:lnTo>
                  <a:lnTo>
                    <a:pt x="115" y="185"/>
                  </a:lnTo>
                  <a:lnTo>
                    <a:pt x="105" y="185"/>
                  </a:lnTo>
                  <a:lnTo>
                    <a:pt x="93" y="185"/>
                  </a:lnTo>
                  <a:lnTo>
                    <a:pt x="87" y="189"/>
                  </a:lnTo>
                  <a:lnTo>
                    <a:pt x="81" y="199"/>
                  </a:lnTo>
                  <a:lnTo>
                    <a:pt x="87" y="207"/>
                  </a:lnTo>
                  <a:lnTo>
                    <a:pt x="89" y="214"/>
                  </a:lnTo>
                  <a:lnTo>
                    <a:pt x="87" y="224"/>
                  </a:lnTo>
                  <a:lnTo>
                    <a:pt x="73" y="226"/>
                  </a:lnTo>
                  <a:lnTo>
                    <a:pt x="58" y="226"/>
                  </a:lnTo>
                  <a:lnTo>
                    <a:pt x="44" y="216"/>
                  </a:lnTo>
                  <a:lnTo>
                    <a:pt x="28" y="216"/>
                  </a:lnTo>
                  <a:lnTo>
                    <a:pt x="18" y="207"/>
                  </a:lnTo>
                  <a:lnTo>
                    <a:pt x="6" y="197"/>
                  </a:lnTo>
                  <a:lnTo>
                    <a:pt x="0" y="189"/>
                  </a:lnTo>
                  <a:lnTo>
                    <a:pt x="0" y="177"/>
                  </a:lnTo>
                  <a:lnTo>
                    <a:pt x="6" y="171"/>
                  </a:lnTo>
                  <a:lnTo>
                    <a:pt x="22" y="165"/>
                  </a:lnTo>
                  <a:lnTo>
                    <a:pt x="36" y="167"/>
                  </a:lnTo>
                  <a:lnTo>
                    <a:pt x="46" y="163"/>
                  </a:lnTo>
                  <a:lnTo>
                    <a:pt x="46" y="155"/>
                  </a:lnTo>
                  <a:lnTo>
                    <a:pt x="40" y="149"/>
                  </a:lnTo>
                  <a:lnTo>
                    <a:pt x="32" y="145"/>
                  </a:lnTo>
                  <a:lnTo>
                    <a:pt x="18" y="143"/>
                  </a:lnTo>
                  <a:lnTo>
                    <a:pt x="12" y="137"/>
                  </a:lnTo>
                  <a:lnTo>
                    <a:pt x="16" y="127"/>
                  </a:lnTo>
                  <a:lnTo>
                    <a:pt x="28" y="119"/>
                  </a:lnTo>
                  <a:lnTo>
                    <a:pt x="32" y="111"/>
                  </a:lnTo>
                  <a:lnTo>
                    <a:pt x="22" y="101"/>
                  </a:lnTo>
                  <a:lnTo>
                    <a:pt x="18" y="89"/>
                  </a:lnTo>
                  <a:lnTo>
                    <a:pt x="22" y="77"/>
                  </a:lnTo>
                  <a:lnTo>
                    <a:pt x="32" y="73"/>
                  </a:lnTo>
                  <a:lnTo>
                    <a:pt x="40" y="77"/>
                  </a:lnTo>
                  <a:lnTo>
                    <a:pt x="46" y="87"/>
                  </a:lnTo>
                  <a:lnTo>
                    <a:pt x="48" y="95"/>
                  </a:lnTo>
                  <a:lnTo>
                    <a:pt x="58" y="85"/>
                  </a:lnTo>
                  <a:lnTo>
                    <a:pt x="69" y="83"/>
                  </a:lnTo>
                  <a:lnTo>
                    <a:pt x="83" y="87"/>
                  </a:lnTo>
                  <a:lnTo>
                    <a:pt x="95" y="101"/>
                  </a:lnTo>
                  <a:lnTo>
                    <a:pt x="105" y="117"/>
                  </a:lnTo>
                  <a:lnTo>
                    <a:pt x="117" y="127"/>
                  </a:lnTo>
                  <a:lnTo>
                    <a:pt x="125" y="121"/>
                  </a:lnTo>
                  <a:lnTo>
                    <a:pt x="131" y="107"/>
                  </a:lnTo>
                  <a:lnTo>
                    <a:pt x="131" y="89"/>
                  </a:lnTo>
                  <a:lnTo>
                    <a:pt x="123" y="71"/>
                  </a:lnTo>
                  <a:lnTo>
                    <a:pt x="111" y="66"/>
                  </a:lnTo>
                  <a:lnTo>
                    <a:pt x="89" y="56"/>
                  </a:lnTo>
                  <a:lnTo>
                    <a:pt x="77" y="50"/>
                  </a:lnTo>
                  <a:lnTo>
                    <a:pt x="50" y="42"/>
                  </a:lnTo>
                  <a:lnTo>
                    <a:pt x="38" y="34"/>
                  </a:lnTo>
                  <a:lnTo>
                    <a:pt x="26" y="54"/>
                  </a:lnTo>
                  <a:lnTo>
                    <a:pt x="12" y="52"/>
                  </a:lnTo>
                  <a:lnTo>
                    <a:pt x="10" y="36"/>
                  </a:lnTo>
                  <a:lnTo>
                    <a:pt x="18" y="22"/>
                  </a:lnTo>
                  <a:lnTo>
                    <a:pt x="34" y="10"/>
                  </a:lnTo>
                  <a:close/>
                </a:path>
              </a:pathLst>
            </a:custGeom>
            <a:solidFill>
              <a:srgbClr val="00ff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5265360" y="4967280"/>
              <a:ext cx="163440" cy="16992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207" h="215">
                  <a:moveTo>
                    <a:pt x="141" y="117"/>
                  </a:moveTo>
                  <a:lnTo>
                    <a:pt x="159" y="131"/>
                  </a:lnTo>
                  <a:lnTo>
                    <a:pt x="167" y="151"/>
                  </a:lnTo>
                  <a:lnTo>
                    <a:pt x="171" y="169"/>
                  </a:lnTo>
                  <a:lnTo>
                    <a:pt x="177" y="181"/>
                  </a:lnTo>
                  <a:lnTo>
                    <a:pt x="189" y="183"/>
                  </a:lnTo>
                  <a:lnTo>
                    <a:pt x="205" y="193"/>
                  </a:lnTo>
                  <a:lnTo>
                    <a:pt x="207" y="203"/>
                  </a:lnTo>
                  <a:lnTo>
                    <a:pt x="199" y="213"/>
                  </a:lnTo>
                  <a:lnTo>
                    <a:pt x="181" y="215"/>
                  </a:lnTo>
                  <a:lnTo>
                    <a:pt x="161" y="211"/>
                  </a:lnTo>
                  <a:lnTo>
                    <a:pt x="149" y="193"/>
                  </a:lnTo>
                  <a:lnTo>
                    <a:pt x="141" y="181"/>
                  </a:lnTo>
                  <a:lnTo>
                    <a:pt x="127" y="173"/>
                  </a:lnTo>
                  <a:lnTo>
                    <a:pt x="107" y="181"/>
                  </a:lnTo>
                  <a:lnTo>
                    <a:pt x="88" y="187"/>
                  </a:lnTo>
                  <a:lnTo>
                    <a:pt x="76" y="187"/>
                  </a:lnTo>
                  <a:lnTo>
                    <a:pt x="62" y="197"/>
                  </a:lnTo>
                  <a:lnTo>
                    <a:pt x="50" y="201"/>
                  </a:lnTo>
                  <a:lnTo>
                    <a:pt x="42" y="191"/>
                  </a:lnTo>
                  <a:lnTo>
                    <a:pt x="48" y="173"/>
                  </a:lnTo>
                  <a:lnTo>
                    <a:pt x="56" y="161"/>
                  </a:lnTo>
                  <a:lnTo>
                    <a:pt x="54" y="147"/>
                  </a:lnTo>
                  <a:lnTo>
                    <a:pt x="48" y="141"/>
                  </a:lnTo>
                  <a:lnTo>
                    <a:pt x="50" y="129"/>
                  </a:lnTo>
                  <a:lnTo>
                    <a:pt x="62" y="125"/>
                  </a:lnTo>
                  <a:lnTo>
                    <a:pt x="74" y="131"/>
                  </a:lnTo>
                  <a:lnTo>
                    <a:pt x="84" y="131"/>
                  </a:lnTo>
                  <a:lnTo>
                    <a:pt x="88" y="125"/>
                  </a:lnTo>
                  <a:lnTo>
                    <a:pt x="84" y="113"/>
                  </a:lnTo>
                  <a:lnTo>
                    <a:pt x="76" y="100"/>
                  </a:lnTo>
                  <a:lnTo>
                    <a:pt x="68" y="88"/>
                  </a:lnTo>
                  <a:lnTo>
                    <a:pt x="54" y="88"/>
                  </a:lnTo>
                  <a:lnTo>
                    <a:pt x="48" y="98"/>
                  </a:lnTo>
                  <a:lnTo>
                    <a:pt x="40" y="107"/>
                  </a:lnTo>
                  <a:lnTo>
                    <a:pt x="26" y="100"/>
                  </a:lnTo>
                  <a:lnTo>
                    <a:pt x="10" y="98"/>
                  </a:lnTo>
                  <a:lnTo>
                    <a:pt x="4" y="88"/>
                  </a:lnTo>
                  <a:lnTo>
                    <a:pt x="8" y="74"/>
                  </a:lnTo>
                  <a:lnTo>
                    <a:pt x="10" y="60"/>
                  </a:lnTo>
                  <a:lnTo>
                    <a:pt x="8" y="42"/>
                  </a:lnTo>
                  <a:lnTo>
                    <a:pt x="0" y="32"/>
                  </a:lnTo>
                  <a:lnTo>
                    <a:pt x="4" y="18"/>
                  </a:lnTo>
                  <a:lnTo>
                    <a:pt x="10" y="8"/>
                  </a:lnTo>
                  <a:lnTo>
                    <a:pt x="20" y="0"/>
                  </a:lnTo>
                  <a:lnTo>
                    <a:pt x="38" y="4"/>
                  </a:lnTo>
                  <a:lnTo>
                    <a:pt x="44" y="16"/>
                  </a:lnTo>
                  <a:lnTo>
                    <a:pt x="42" y="34"/>
                  </a:lnTo>
                  <a:lnTo>
                    <a:pt x="50" y="44"/>
                  </a:lnTo>
                  <a:lnTo>
                    <a:pt x="60" y="52"/>
                  </a:lnTo>
                  <a:lnTo>
                    <a:pt x="78" y="56"/>
                  </a:lnTo>
                  <a:lnTo>
                    <a:pt x="96" y="66"/>
                  </a:lnTo>
                  <a:lnTo>
                    <a:pt x="111" y="78"/>
                  </a:lnTo>
                  <a:lnTo>
                    <a:pt x="141" y="117"/>
                  </a:lnTo>
                  <a:close/>
                </a:path>
              </a:pathLst>
            </a:custGeom>
            <a:solidFill>
              <a:srgbClr val="00ff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" name="Freeform 51"/>
          <p:cNvSpPr/>
          <p:nvPr/>
        </p:nvSpPr>
        <p:spPr>
          <a:xfrm>
            <a:off x="3124080" y="1844640"/>
            <a:ext cx="822600" cy="625680"/>
          </a:xfrm>
          <a:custGeom>
            <a:avLst/>
            <a:gdLst>
              <a:gd name="textAreaLeft" fmla="*/ 0 w 822600"/>
              <a:gd name="textAreaRight" fmla="*/ 822960 w 822600"/>
              <a:gd name="textAreaTop" fmla="*/ 0 h 625680"/>
              <a:gd name="textAreaBottom" fmla="*/ 625680 h 625680"/>
            </a:gdLst>
            <a:ahLst/>
            <a:rect l="textAreaLeft" t="textAreaTop" r="textAreaRight" b="textAreaBottom"/>
            <a:pathLst>
              <a:path w="1035" h="788">
                <a:moveTo>
                  <a:pt x="460" y="68"/>
                </a:moveTo>
                <a:lnTo>
                  <a:pt x="476" y="96"/>
                </a:lnTo>
                <a:lnTo>
                  <a:pt x="488" y="119"/>
                </a:lnTo>
                <a:lnTo>
                  <a:pt x="480" y="149"/>
                </a:lnTo>
                <a:lnTo>
                  <a:pt x="474" y="173"/>
                </a:lnTo>
                <a:lnTo>
                  <a:pt x="476" y="189"/>
                </a:lnTo>
                <a:lnTo>
                  <a:pt x="492" y="195"/>
                </a:lnTo>
                <a:lnTo>
                  <a:pt x="508" y="183"/>
                </a:lnTo>
                <a:lnTo>
                  <a:pt x="521" y="161"/>
                </a:lnTo>
                <a:lnTo>
                  <a:pt x="545" y="151"/>
                </a:lnTo>
                <a:lnTo>
                  <a:pt x="573" y="159"/>
                </a:lnTo>
                <a:lnTo>
                  <a:pt x="595" y="173"/>
                </a:lnTo>
                <a:lnTo>
                  <a:pt x="625" y="171"/>
                </a:lnTo>
                <a:lnTo>
                  <a:pt x="664" y="163"/>
                </a:lnTo>
                <a:lnTo>
                  <a:pt x="690" y="153"/>
                </a:lnTo>
                <a:lnTo>
                  <a:pt x="706" y="123"/>
                </a:lnTo>
                <a:lnTo>
                  <a:pt x="710" y="96"/>
                </a:lnTo>
                <a:lnTo>
                  <a:pt x="730" y="80"/>
                </a:lnTo>
                <a:lnTo>
                  <a:pt x="740" y="58"/>
                </a:lnTo>
                <a:lnTo>
                  <a:pt x="756" y="46"/>
                </a:lnTo>
                <a:lnTo>
                  <a:pt x="783" y="54"/>
                </a:lnTo>
                <a:lnTo>
                  <a:pt x="805" y="62"/>
                </a:lnTo>
                <a:lnTo>
                  <a:pt x="819" y="48"/>
                </a:lnTo>
                <a:lnTo>
                  <a:pt x="829" y="22"/>
                </a:lnTo>
                <a:lnTo>
                  <a:pt x="851" y="2"/>
                </a:lnTo>
                <a:lnTo>
                  <a:pt x="871" y="12"/>
                </a:lnTo>
                <a:lnTo>
                  <a:pt x="888" y="24"/>
                </a:lnTo>
                <a:lnTo>
                  <a:pt x="910" y="14"/>
                </a:lnTo>
                <a:lnTo>
                  <a:pt x="940" y="12"/>
                </a:lnTo>
                <a:lnTo>
                  <a:pt x="954" y="0"/>
                </a:lnTo>
                <a:lnTo>
                  <a:pt x="952" y="24"/>
                </a:lnTo>
                <a:lnTo>
                  <a:pt x="968" y="40"/>
                </a:lnTo>
                <a:lnTo>
                  <a:pt x="993" y="60"/>
                </a:lnTo>
                <a:lnTo>
                  <a:pt x="1015" y="76"/>
                </a:lnTo>
                <a:lnTo>
                  <a:pt x="1013" y="105"/>
                </a:lnTo>
                <a:lnTo>
                  <a:pt x="1015" y="131"/>
                </a:lnTo>
                <a:lnTo>
                  <a:pt x="1031" y="159"/>
                </a:lnTo>
                <a:lnTo>
                  <a:pt x="1035" y="189"/>
                </a:lnTo>
                <a:lnTo>
                  <a:pt x="1027" y="219"/>
                </a:lnTo>
                <a:lnTo>
                  <a:pt x="1011" y="264"/>
                </a:lnTo>
                <a:lnTo>
                  <a:pt x="1005" y="302"/>
                </a:lnTo>
                <a:lnTo>
                  <a:pt x="1001" y="340"/>
                </a:lnTo>
                <a:lnTo>
                  <a:pt x="992" y="362"/>
                </a:lnTo>
                <a:lnTo>
                  <a:pt x="974" y="377"/>
                </a:lnTo>
                <a:lnTo>
                  <a:pt x="952" y="387"/>
                </a:lnTo>
                <a:lnTo>
                  <a:pt x="928" y="383"/>
                </a:lnTo>
                <a:lnTo>
                  <a:pt x="914" y="375"/>
                </a:lnTo>
                <a:lnTo>
                  <a:pt x="910" y="352"/>
                </a:lnTo>
                <a:lnTo>
                  <a:pt x="900" y="332"/>
                </a:lnTo>
                <a:lnTo>
                  <a:pt x="880" y="320"/>
                </a:lnTo>
                <a:lnTo>
                  <a:pt x="871" y="296"/>
                </a:lnTo>
                <a:lnTo>
                  <a:pt x="845" y="294"/>
                </a:lnTo>
                <a:lnTo>
                  <a:pt x="817" y="286"/>
                </a:lnTo>
                <a:lnTo>
                  <a:pt x="793" y="298"/>
                </a:lnTo>
                <a:lnTo>
                  <a:pt x="789" y="318"/>
                </a:lnTo>
                <a:lnTo>
                  <a:pt x="813" y="332"/>
                </a:lnTo>
                <a:lnTo>
                  <a:pt x="827" y="346"/>
                </a:lnTo>
                <a:lnTo>
                  <a:pt x="825" y="366"/>
                </a:lnTo>
                <a:lnTo>
                  <a:pt x="813" y="375"/>
                </a:lnTo>
                <a:lnTo>
                  <a:pt x="785" y="374"/>
                </a:lnTo>
                <a:lnTo>
                  <a:pt x="769" y="393"/>
                </a:lnTo>
                <a:lnTo>
                  <a:pt x="746" y="409"/>
                </a:lnTo>
                <a:lnTo>
                  <a:pt x="724" y="429"/>
                </a:lnTo>
                <a:lnTo>
                  <a:pt x="698" y="427"/>
                </a:lnTo>
                <a:lnTo>
                  <a:pt x="680" y="419"/>
                </a:lnTo>
                <a:lnTo>
                  <a:pt x="654" y="431"/>
                </a:lnTo>
                <a:lnTo>
                  <a:pt x="638" y="453"/>
                </a:lnTo>
                <a:lnTo>
                  <a:pt x="613" y="461"/>
                </a:lnTo>
                <a:lnTo>
                  <a:pt x="575" y="469"/>
                </a:lnTo>
                <a:lnTo>
                  <a:pt x="547" y="481"/>
                </a:lnTo>
                <a:lnTo>
                  <a:pt x="520" y="499"/>
                </a:lnTo>
                <a:lnTo>
                  <a:pt x="504" y="524"/>
                </a:lnTo>
                <a:lnTo>
                  <a:pt x="486" y="544"/>
                </a:lnTo>
                <a:lnTo>
                  <a:pt x="464" y="548"/>
                </a:lnTo>
                <a:lnTo>
                  <a:pt x="440" y="562"/>
                </a:lnTo>
                <a:lnTo>
                  <a:pt x="422" y="584"/>
                </a:lnTo>
                <a:lnTo>
                  <a:pt x="397" y="596"/>
                </a:lnTo>
                <a:lnTo>
                  <a:pt x="373" y="610"/>
                </a:lnTo>
                <a:lnTo>
                  <a:pt x="361" y="634"/>
                </a:lnTo>
                <a:lnTo>
                  <a:pt x="349" y="657"/>
                </a:lnTo>
                <a:lnTo>
                  <a:pt x="329" y="667"/>
                </a:lnTo>
                <a:lnTo>
                  <a:pt x="311" y="661"/>
                </a:lnTo>
                <a:lnTo>
                  <a:pt x="289" y="649"/>
                </a:lnTo>
                <a:lnTo>
                  <a:pt x="270" y="657"/>
                </a:lnTo>
                <a:lnTo>
                  <a:pt x="262" y="675"/>
                </a:lnTo>
                <a:lnTo>
                  <a:pt x="240" y="671"/>
                </a:lnTo>
                <a:lnTo>
                  <a:pt x="222" y="683"/>
                </a:lnTo>
                <a:lnTo>
                  <a:pt x="210" y="705"/>
                </a:lnTo>
                <a:lnTo>
                  <a:pt x="194" y="711"/>
                </a:lnTo>
                <a:lnTo>
                  <a:pt x="172" y="719"/>
                </a:lnTo>
                <a:lnTo>
                  <a:pt x="165" y="743"/>
                </a:lnTo>
                <a:lnTo>
                  <a:pt x="170" y="767"/>
                </a:lnTo>
                <a:lnTo>
                  <a:pt x="172" y="788"/>
                </a:lnTo>
                <a:lnTo>
                  <a:pt x="145" y="785"/>
                </a:lnTo>
                <a:lnTo>
                  <a:pt x="121" y="765"/>
                </a:lnTo>
                <a:lnTo>
                  <a:pt x="101" y="759"/>
                </a:lnTo>
                <a:lnTo>
                  <a:pt x="79" y="743"/>
                </a:lnTo>
                <a:lnTo>
                  <a:pt x="57" y="739"/>
                </a:lnTo>
                <a:lnTo>
                  <a:pt x="40" y="721"/>
                </a:lnTo>
                <a:lnTo>
                  <a:pt x="24" y="697"/>
                </a:lnTo>
                <a:lnTo>
                  <a:pt x="6" y="681"/>
                </a:lnTo>
                <a:lnTo>
                  <a:pt x="0" y="681"/>
                </a:lnTo>
                <a:lnTo>
                  <a:pt x="8" y="644"/>
                </a:lnTo>
                <a:lnTo>
                  <a:pt x="6" y="620"/>
                </a:lnTo>
                <a:lnTo>
                  <a:pt x="10" y="596"/>
                </a:lnTo>
                <a:lnTo>
                  <a:pt x="26" y="580"/>
                </a:lnTo>
                <a:lnTo>
                  <a:pt x="57" y="574"/>
                </a:lnTo>
                <a:lnTo>
                  <a:pt x="87" y="568"/>
                </a:lnTo>
                <a:lnTo>
                  <a:pt x="109" y="552"/>
                </a:lnTo>
                <a:lnTo>
                  <a:pt x="123" y="530"/>
                </a:lnTo>
                <a:lnTo>
                  <a:pt x="121" y="505"/>
                </a:lnTo>
                <a:lnTo>
                  <a:pt x="117" y="487"/>
                </a:lnTo>
                <a:lnTo>
                  <a:pt x="113" y="473"/>
                </a:lnTo>
                <a:lnTo>
                  <a:pt x="127" y="447"/>
                </a:lnTo>
                <a:lnTo>
                  <a:pt x="153" y="445"/>
                </a:lnTo>
                <a:lnTo>
                  <a:pt x="174" y="435"/>
                </a:lnTo>
                <a:lnTo>
                  <a:pt x="186" y="411"/>
                </a:lnTo>
                <a:lnTo>
                  <a:pt x="210" y="399"/>
                </a:lnTo>
                <a:lnTo>
                  <a:pt x="226" y="395"/>
                </a:lnTo>
                <a:lnTo>
                  <a:pt x="234" y="381"/>
                </a:lnTo>
                <a:lnTo>
                  <a:pt x="222" y="360"/>
                </a:lnTo>
                <a:lnTo>
                  <a:pt x="200" y="354"/>
                </a:lnTo>
                <a:lnTo>
                  <a:pt x="184" y="336"/>
                </a:lnTo>
                <a:lnTo>
                  <a:pt x="188" y="320"/>
                </a:lnTo>
                <a:lnTo>
                  <a:pt x="172" y="316"/>
                </a:lnTo>
                <a:lnTo>
                  <a:pt x="153" y="318"/>
                </a:lnTo>
                <a:lnTo>
                  <a:pt x="133" y="334"/>
                </a:lnTo>
                <a:lnTo>
                  <a:pt x="143" y="310"/>
                </a:lnTo>
                <a:lnTo>
                  <a:pt x="127" y="290"/>
                </a:lnTo>
                <a:lnTo>
                  <a:pt x="109" y="264"/>
                </a:lnTo>
                <a:lnTo>
                  <a:pt x="91" y="240"/>
                </a:lnTo>
                <a:lnTo>
                  <a:pt x="87" y="219"/>
                </a:lnTo>
                <a:lnTo>
                  <a:pt x="75" y="207"/>
                </a:lnTo>
                <a:lnTo>
                  <a:pt x="77" y="185"/>
                </a:lnTo>
                <a:lnTo>
                  <a:pt x="87" y="165"/>
                </a:lnTo>
                <a:lnTo>
                  <a:pt x="91" y="135"/>
                </a:lnTo>
                <a:lnTo>
                  <a:pt x="111" y="113"/>
                </a:lnTo>
                <a:lnTo>
                  <a:pt x="139" y="103"/>
                </a:lnTo>
                <a:lnTo>
                  <a:pt x="163" y="88"/>
                </a:lnTo>
                <a:lnTo>
                  <a:pt x="194" y="80"/>
                </a:lnTo>
                <a:lnTo>
                  <a:pt x="220" y="86"/>
                </a:lnTo>
                <a:lnTo>
                  <a:pt x="250" y="78"/>
                </a:lnTo>
                <a:lnTo>
                  <a:pt x="264" y="64"/>
                </a:lnTo>
                <a:lnTo>
                  <a:pt x="287" y="54"/>
                </a:lnTo>
                <a:lnTo>
                  <a:pt x="313" y="58"/>
                </a:lnTo>
                <a:lnTo>
                  <a:pt x="333" y="50"/>
                </a:lnTo>
                <a:lnTo>
                  <a:pt x="351" y="54"/>
                </a:lnTo>
                <a:lnTo>
                  <a:pt x="377" y="72"/>
                </a:lnTo>
                <a:lnTo>
                  <a:pt x="397" y="74"/>
                </a:lnTo>
                <a:lnTo>
                  <a:pt x="420" y="78"/>
                </a:lnTo>
                <a:lnTo>
                  <a:pt x="436" y="60"/>
                </a:lnTo>
                <a:lnTo>
                  <a:pt x="452" y="48"/>
                </a:lnTo>
                <a:lnTo>
                  <a:pt x="460" y="68"/>
                </a:lnTo>
                <a:close/>
              </a:path>
            </a:pathLst>
          </a:custGeom>
          <a:solidFill>
            <a:srgbClr val="0000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52"/>
          <p:cNvSpPr/>
          <p:nvPr/>
        </p:nvSpPr>
        <p:spPr>
          <a:xfrm>
            <a:off x="5943600" y="4359240"/>
            <a:ext cx="846000" cy="954000"/>
          </a:xfrm>
          <a:custGeom>
            <a:avLst/>
            <a:gdLst>
              <a:gd name="textAreaLeft" fmla="*/ 0 w 846000"/>
              <a:gd name="textAreaRight" fmla="*/ 846360 w 846000"/>
              <a:gd name="textAreaTop" fmla="*/ 0 h 954000"/>
              <a:gd name="textAreaBottom" fmla="*/ 954360 h 954000"/>
            </a:gdLst>
            <a:ahLst/>
            <a:rect l="textAreaLeft" t="textAreaTop" r="textAreaRight" b="textAreaBottom"/>
            <a:pathLst>
              <a:path w="1067" h="1201">
                <a:moveTo>
                  <a:pt x="722" y="1201"/>
                </a:moveTo>
                <a:lnTo>
                  <a:pt x="738" y="1189"/>
                </a:lnTo>
                <a:lnTo>
                  <a:pt x="757" y="1175"/>
                </a:lnTo>
                <a:lnTo>
                  <a:pt x="781" y="1159"/>
                </a:lnTo>
                <a:lnTo>
                  <a:pt x="807" y="1146"/>
                </a:lnTo>
                <a:lnTo>
                  <a:pt x="825" y="1132"/>
                </a:lnTo>
                <a:lnTo>
                  <a:pt x="839" y="1118"/>
                </a:lnTo>
                <a:lnTo>
                  <a:pt x="859" y="1110"/>
                </a:lnTo>
                <a:lnTo>
                  <a:pt x="871" y="1130"/>
                </a:lnTo>
                <a:lnTo>
                  <a:pt x="898" y="1124"/>
                </a:lnTo>
                <a:lnTo>
                  <a:pt x="920" y="1130"/>
                </a:lnTo>
                <a:lnTo>
                  <a:pt x="932" y="1114"/>
                </a:lnTo>
                <a:lnTo>
                  <a:pt x="920" y="1096"/>
                </a:lnTo>
                <a:lnTo>
                  <a:pt x="932" y="1080"/>
                </a:lnTo>
                <a:lnTo>
                  <a:pt x="924" y="1060"/>
                </a:lnTo>
                <a:lnTo>
                  <a:pt x="922" y="1036"/>
                </a:lnTo>
                <a:lnTo>
                  <a:pt x="932" y="1007"/>
                </a:lnTo>
                <a:lnTo>
                  <a:pt x="926" y="979"/>
                </a:lnTo>
                <a:lnTo>
                  <a:pt x="934" y="951"/>
                </a:lnTo>
                <a:lnTo>
                  <a:pt x="942" y="921"/>
                </a:lnTo>
                <a:lnTo>
                  <a:pt x="934" y="891"/>
                </a:lnTo>
                <a:lnTo>
                  <a:pt x="928" y="864"/>
                </a:lnTo>
                <a:lnTo>
                  <a:pt x="924" y="826"/>
                </a:lnTo>
                <a:lnTo>
                  <a:pt x="914" y="798"/>
                </a:lnTo>
                <a:lnTo>
                  <a:pt x="906" y="778"/>
                </a:lnTo>
                <a:lnTo>
                  <a:pt x="910" y="758"/>
                </a:lnTo>
                <a:lnTo>
                  <a:pt x="926" y="742"/>
                </a:lnTo>
                <a:lnTo>
                  <a:pt x="948" y="727"/>
                </a:lnTo>
                <a:lnTo>
                  <a:pt x="956" y="703"/>
                </a:lnTo>
                <a:lnTo>
                  <a:pt x="976" y="685"/>
                </a:lnTo>
                <a:lnTo>
                  <a:pt x="1003" y="671"/>
                </a:lnTo>
                <a:lnTo>
                  <a:pt x="1015" y="649"/>
                </a:lnTo>
                <a:lnTo>
                  <a:pt x="1011" y="627"/>
                </a:lnTo>
                <a:lnTo>
                  <a:pt x="993" y="607"/>
                </a:lnTo>
                <a:lnTo>
                  <a:pt x="1003" y="590"/>
                </a:lnTo>
                <a:lnTo>
                  <a:pt x="1025" y="594"/>
                </a:lnTo>
                <a:lnTo>
                  <a:pt x="1037" y="611"/>
                </a:lnTo>
                <a:lnTo>
                  <a:pt x="1059" y="611"/>
                </a:lnTo>
                <a:lnTo>
                  <a:pt x="1067" y="594"/>
                </a:lnTo>
                <a:lnTo>
                  <a:pt x="1049" y="576"/>
                </a:lnTo>
                <a:lnTo>
                  <a:pt x="1047" y="554"/>
                </a:lnTo>
                <a:lnTo>
                  <a:pt x="1057" y="524"/>
                </a:lnTo>
                <a:lnTo>
                  <a:pt x="1067" y="484"/>
                </a:lnTo>
                <a:lnTo>
                  <a:pt x="1057" y="453"/>
                </a:lnTo>
                <a:lnTo>
                  <a:pt x="1041" y="429"/>
                </a:lnTo>
                <a:lnTo>
                  <a:pt x="1021" y="415"/>
                </a:lnTo>
                <a:lnTo>
                  <a:pt x="1009" y="395"/>
                </a:lnTo>
                <a:lnTo>
                  <a:pt x="1001" y="371"/>
                </a:lnTo>
                <a:lnTo>
                  <a:pt x="993" y="351"/>
                </a:lnTo>
                <a:lnTo>
                  <a:pt x="978" y="337"/>
                </a:lnTo>
                <a:lnTo>
                  <a:pt x="958" y="327"/>
                </a:lnTo>
                <a:lnTo>
                  <a:pt x="938" y="312"/>
                </a:lnTo>
                <a:lnTo>
                  <a:pt x="926" y="292"/>
                </a:lnTo>
                <a:lnTo>
                  <a:pt x="928" y="264"/>
                </a:lnTo>
                <a:lnTo>
                  <a:pt x="946" y="240"/>
                </a:lnTo>
                <a:lnTo>
                  <a:pt x="950" y="216"/>
                </a:lnTo>
                <a:lnTo>
                  <a:pt x="942" y="192"/>
                </a:lnTo>
                <a:lnTo>
                  <a:pt x="946" y="171"/>
                </a:lnTo>
                <a:lnTo>
                  <a:pt x="954" y="139"/>
                </a:lnTo>
                <a:lnTo>
                  <a:pt x="946" y="117"/>
                </a:lnTo>
                <a:lnTo>
                  <a:pt x="926" y="119"/>
                </a:lnTo>
                <a:lnTo>
                  <a:pt x="910" y="133"/>
                </a:lnTo>
                <a:lnTo>
                  <a:pt x="898" y="155"/>
                </a:lnTo>
                <a:lnTo>
                  <a:pt x="878" y="163"/>
                </a:lnTo>
                <a:lnTo>
                  <a:pt x="869" y="145"/>
                </a:lnTo>
                <a:lnTo>
                  <a:pt x="861" y="127"/>
                </a:lnTo>
                <a:lnTo>
                  <a:pt x="847" y="123"/>
                </a:lnTo>
                <a:lnTo>
                  <a:pt x="837" y="109"/>
                </a:lnTo>
                <a:lnTo>
                  <a:pt x="829" y="93"/>
                </a:lnTo>
                <a:lnTo>
                  <a:pt x="839" y="67"/>
                </a:lnTo>
                <a:lnTo>
                  <a:pt x="833" y="53"/>
                </a:lnTo>
                <a:lnTo>
                  <a:pt x="807" y="61"/>
                </a:lnTo>
                <a:lnTo>
                  <a:pt x="785" y="53"/>
                </a:lnTo>
                <a:lnTo>
                  <a:pt x="779" y="34"/>
                </a:lnTo>
                <a:lnTo>
                  <a:pt x="777" y="8"/>
                </a:lnTo>
                <a:lnTo>
                  <a:pt x="759" y="0"/>
                </a:lnTo>
                <a:lnTo>
                  <a:pt x="744" y="12"/>
                </a:lnTo>
                <a:lnTo>
                  <a:pt x="728" y="30"/>
                </a:lnTo>
                <a:lnTo>
                  <a:pt x="716" y="20"/>
                </a:lnTo>
                <a:lnTo>
                  <a:pt x="702" y="6"/>
                </a:lnTo>
                <a:lnTo>
                  <a:pt x="682" y="10"/>
                </a:lnTo>
                <a:lnTo>
                  <a:pt x="668" y="24"/>
                </a:lnTo>
                <a:lnTo>
                  <a:pt x="674" y="50"/>
                </a:lnTo>
                <a:lnTo>
                  <a:pt x="672" y="67"/>
                </a:lnTo>
                <a:lnTo>
                  <a:pt x="660" y="79"/>
                </a:lnTo>
                <a:lnTo>
                  <a:pt x="640" y="71"/>
                </a:lnTo>
                <a:lnTo>
                  <a:pt x="631" y="93"/>
                </a:lnTo>
                <a:lnTo>
                  <a:pt x="617" y="115"/>
                </a:lnTo>
                <a:lnTo>
                  <a:pt x="595" y="127"/>
                </a:lnTo>
                <a:lnTo>
                  <a:pt x="579" y="131"/>
                </a:lnTo>
                <a:lnTo>
                  <a:pt x="585" y="149"/>
                </a:lnTo>
                <a:lnTo>
                  <a:pt x="581" y="167"/>
                </a:lnTo>
                <a:lnTo>
                  <a:pt x="561" y="165"/>
                </a:lnTo>
                <a:lnTo>
                  <a:pt x="541" y="157"/>
                </a:lnTo>
                <a:lnTo>
                  <a:pt x="527" y="169"/>
                </a:lnTo>
                <a:lnTo>
                  <a:pt x="514" y="185"/>
                </a:lnTo>
                <a:lnTo>
                  <a:pt x="498" y="198"/>
                </a:lnTo>
                <a:lnTo>
                  <a:pt x="482" y="192"/>
                </a:lnTo>
                <a:lnTo>
                  <a:pt x="480" y="175"/>
                </a:lnTo>
                <a:lnTo>
                  <a:pt x="486" y="155"/>
                </a:lnTo>
                <a:lnTo>
                  <a:pt x="496" y="135"/>
                </a:lnTo>
                <a:lnTo>
                  <a:pt x="476" y="127"/>
                </a:lnTo>
                <a:lnTo>
                  <a:pt x="460" y="137"/>
                </a:lnTo>
                <a:lnTo>
                  <a:pt x="444" y="127"/>
                </a:lnTo>
                <a:lnTo>
                  <a:pt x="426" y="115"/>
                </a:lnTo>
                <a:lnTo>
                  <a:pt x="406" y="125"/>
                </a:lnTo>
                <a:lnTo>
                  <a:pt x="385" y="121"/>
                </a:lnTo>
                <a:lnTo>
                  <a:pt x="365" y="113"/>
                </a:lnTo>
                <a:lnTo>
                  <a:pt x="353" y="127"/>
                </a:lnTo>
                <a:lnTo>
                  <a:pt x="363" y="153"/>
                </a:lnTo>
                <a:lnTo>
                  <a:pt x="365" y="177"/>
                </a:lnTo>
                <a:lnTo>
                  <a:pt x="373" y="206"/>
                </a:lnTo>
                <a:lnTo>
                  <a:pt x="381" y="232"/>
                </a:lnTo>
                <a:lnTo>
                  <a:pt x="371" y="256"/>
                </a:lnTo>
                <a:lnTo>
                  <a:pt x="367" y="282"/>
                </a:lnTo>
                <a:lnTo>
                  <a:pt x="353" y="298"/>
                </a:lnTo>
                <a:lnTo>
                  <a:pt x="337" y="324"/>
                </a:lnTo>
                <a:lnTo>
                  <a:pt x="333" y="349"/>
                </a:lnTo>
                <a:lnTo>
                  <a:pt x="329" y="373"/>
                </a:lnTo>
                <a:lnTo>
                  <a:pt x="315" y="387"/>
                </a:lnTo>
                <a:lnTo>
                  <a:pt x="295" y="409"/>
                </a:lnTo>
                <a:lnTo>
                  <a:pt x="289" y="441"/>
                </a:lnTo>
                <a:lnTo>
                  <a:pt x="282" y="464"/>
                </a:lnTo>
                <a:lnTo>
                  <a:pt x="262" y="480"/>
                </a:lnTo>
                <a:lnTo>
                  <a:pt x="238" y="492"/>
                </a:lnTo>
                <a:lnTo>
                  <a:pt x="222" y="510"/>
                </a:lnTo>
                <a:lnTo>
                  <a:pt x="210" y="536"/>
                </a:lnTo>
                <a:lnTo>
                  <a:pt x="202" y="558"/>
                </a:lnTo>
                <a:lnTo>
                  <a:pt x="180" y="568"/>
                </a:lnTo>
                <a:lnTo>
                  <a:pt x="161" y="584"/>
                </a:lnTo>
                <a:lnTo>
                  <a:pt x="143" y="605"/>
                </a:lnTo>
                <a:lnTo>
                  <a:pt x="133" y="633"/>
                </a:lnTo>
                <a:lnTo>
                  <a:pt x="121" y="671"/>
                </a:lnTo>
                <a:lnTo>
                  <a:pt x="107" y="715"/>
                </a:lnTo>
                <a:lnTo>
                  <a:pt x="97" y="754"/>
                </a:lnTo>
                <a:lnTo>
                  <a:pt x="89" y="798"/>
                </a:lnTo>
                <a:lnTo>
                  <a:pt x="75" y="826"/>
                </a:lnTo>
                <a:lnTo>
                  <a:pt x="55" y="852"/>
                </a:lnTo>
                <a:lnTo>
                  <a:pt x="42" y="879"/>
                </a:lnTo>
                <a:lnTo>
                  <a:pt x="34" y="907"/>
                </a:lnTo>
                <a:lnTo>
                  <a:pt x="42" y="945"/>
                </a:lnTo>
                <a:lnTo>
                  <a:pt x="32" y="983"/>
                </a:lnTo>
                <a:lnTo>
                  <a:pt x="18" y="1011"/>
                </a:lnTo>
                <a:lnTo>
                  <a:pt x="6" y="1050"/>
                </a:lnTo>
                <a:lnTo>
                  <a:pt x="0" y="1096"/>
                </a:lnTo>
                <a:lnTo>
                  <a:pt x="10" y="1142"/>
                </a:lnTo>
                <a:lnTo>
                  <a:pt x="12" y="1173"/>
                </a:lnTo>
                <a:lnTo>
                  <a:pt x="22" y="1185"/>
                </a:lnTo>
                <a:lnTo>
                  <a:pt x="32" y="1163"/>
                </a:lnTo>
                <a:lnTo>
                  <a:pt x="51" y="1153"/>
                </a:lnTo>
                <a:lnTo>
                  <a:pt x="67" y="1157"/>
                </a:lnTo>
                <a:lnTo>
                  <a:pt x="77" y="1179"/>
                </a:lnTo>
                <a:lnTo>
                  <a:pt x="85" y="1195"/>
                </a:lnTo>
                <a:lnTo>
                  <a:pt x="109" y="1185"/>
                </a:lnTo>
                <a:lnTo>
                  <a:pt x="139" y="1181"/>
                </a:lnTo>
                <a:lnTo>
                  <a:pt x="161" y="1191"/>
                </a:lnTo>
                <a:lnTo>
                  <a:pt x="182" y="1197"/>
                </a:lnTo>
                <a:lnTo>
                  <a:pt x="208" y="1195"/>
                </a:lnTo>
                <a:lnTo>
                  <a:pt x="230" y="1179"/>
                </a:lnTo>
                <a:lnTo>
                  <a:pt x="250" y="1167"/>
                </a:lnTo>
                <a:lnTo>
                  <a:pt x="274" y="1163"/>
                </a:lnTo>
                <a:lnTo>
                  <a:pt x="297" y="1175"/>
                </a:lnTo>
                <a:lnTo>
                  <a:pt x="317" y="1189"/>
                </a:lnTo>
                <a:lnTo>
                  <a:pt x="339" y="1181"/>
                </a:lnTo>
                <a:lnTo>
                  <a:pt x="351" y="1159"/>
                </a:lnTo>
                <a:lnTo>
                  <a:pt x="373" y="1153"/>
                </a:lnTo>
                <a:lnTo>
                  <a:pt x="393" y="1146"/>
                </a:lnTo>
                <a:lnTo>
                  <a:pt x="381" y="1120"/>
                </a:lnTo>
                <a:lnTo>
                  <a:pt x="351" y="1116"/>
                </a:lnTo>
                <a:lnTo>
                  <a:pt x="327" y="1108"/>
                </a:lnTo>
                <a:lnTo>
                  <a:pt x="325" y="1086"/>
                </a:lnTo>
                <a:lnTo>
                  <a:pt x="339" y="1072"/>
                </a:lnTo>
                <a:lnTo>
                  <a:pt x="359" y="1062"/>
                </a:lnTo>
                <a:lnTo>
                  <a:pt x="387" y="1054"/>
                </a:lnTo>
                <a:lnTo>
                  <a:pt x="416" y="1054"/>
                </a:lnTo>
                <a:lnTo>
                  <a:pt x="442" y="1058"/>
                </a:lnTo>
                <a:lnTo>
                  <a:pt x="460" y="1074"/>
                </a:lnTo>
                <a:lnTo>
                  <a:pt x="454" y="1102"/>
                </a:lnTo>
                <a:lnTo>
                  <a:pt x="460" y="1124"/>
                </a:lnTo>
                <a:lnTo>
                  <a:pt x="474" y="1140"/>
                </a:lnTo>
                <a:lnTo>
                  <a:pt x="488" y="1124"/>
                </a:lnTo>
                <a:lnTo>
                  <a:pt x="514" y="1118"/>
                </a:lnTo>
                <a:lnTo>
                  <a:pt x="539" y="1126"/>
                </a:lnTo>
                <a:lnTo>
                  <a:pt x="565" y="1136"/>
                </a:lnTo>
                <a:lnTo>
                  <a:pt x="581" y="1152"/>
                </a:lnTo>
                <a:lnTo>
                  <a:pt x="597" y="1171"/>
                </a:lnTo>
                <a:lnTo>
                  <a:pt x="617" y="1173"/>
                </a:lnTo>
                <a:lnTo>
                  <a:pt x="644" y="1159"/>
                </a:lnTo>
                <a:lnTo>
                  <a:pt x="672" y="1169"/>
                </a:lnTo>
                <a:lnTo>
                  <a:pt x="700" y="1185"/>
                </a:lnTo>
                <a:lnTo>
                  <a:pt x="722" y="1201"/>
                </a:lnTo>
                <a:close/>
              </a:path>
            </a:pathLst>
          </a:custGeom>
          <a:solidFill>
            <a:srgbClr val="99cc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Freeform 53"/>
          <p:cNvSpPr/>
          <p:nvPr/>
        </p:nvSpPr>
        <p:spPr>
          <a:xfrm>
            <a:off x="4025880" y="1249200"/>
            <a:ext cx="654120" cy="944640"/>
          </a:xfrm>
          <a:custGeom>
            <a:avLst/>
            <a:gdLst>
              <a:gd name="textAreaLeft" fmla="*/ 0 w 654120"/>
              <a:gd name="textAreaRight" fmla="*/ 654480 w 654120"/>
              <a:gd name="textAreaTop" fmla="*/ 0 h 944640"/>
              <a:gd name="textAreaBottom" fmla="*/ 945000 h 944640"/>
            </a:gdLst>
            <a:ahLst/>
            <a:rect l="textAreaLeft" t="textAreaTop" r="textAreaRight" b="textAreaBottom"/>
            <a:pathLst>
              <a:path w="823" h="1191">
                <a:moveTo>
                  <a:pt x="775" y="602"/>
                </a:moveTo>
                <a:lnTo>
                  <a:pt x="771" y="574"/>
                </a:lnTo>
                <a:lnTo>
                  <a:pt x="783" y="552"/>
                </a:lnTo>
                <a:lnTo>
                  <a:pt x="773" y="530"/>
                </a:lnTo>
                <a:lnTo>
                  <a:pt x="757" y="520"/>
                </a:lnTo>
                <a:lnTo>
                  <a:pt x="735" y="530"/>
                </a:lnTo>
                <a:lnTo>
                  <a:pt x="721" y="512"/>
                </a:lnTo>
                <a:lnTo>
                  <a:pt x="716" y="487"/>
                </a:lnTo>
                <a:lnTo>
                  <a:pt x="723" y="461"/>
                </a:lnTo>
                <a:lnTo>
                  <a:pt x="735" y="441"/>
                </a:lnTo>
                <a:lnTo>
                  <a:pt x="755" y="421"/>
                </a:lnTo>
                <a:lnTo>
                  <a:pt x="745" y="403"/>
                </a:lnTo>
                <a:lnTo>
                  <a:pt x="749" y="377"/>
                </a:lnTo>
                <a:lnTo>
                  <a:pt x="765" y="361"/>
                </a:lnTo>
                <a:lnTo>
                  <a:pt x="787" y="356"/>
                </a:lnTo>
                <a:lnTo>
                  <a:pt x="781" y="338"/>
                </a:lnTo>
                <a:lnTo>
                  <a:pt x="777" y="300"/>
                </a:lnTo>
                <a:lnTo>
                  <a:pt x="789" y="284"/>
                </a:lnTo>
                <a:lnTo>
                  <a:pt x="809" y="272"/>
                </a:lnTo>
                <a:lnTo>
                  <a:pt x="823" y="252"/>
                </a:lnTo>
                <a:lnTo>
                  <a:pt x="811" y="228"/>
                </a:lnTo>
                <a:lnTo>
                  <a:pt x="789" y="228"/>
                </a:lnTo>
                <a:lnTo>
                  <a:pt x="779" y="205"/>
                </a:lnTo>
                <a:lnTo>
                  <a:pt x="767" y="189"/>
                </a:lnTo>
                <a:lnTo>
                  <a:pt x="747" y="177"/>
                </a:lnTo>
                <a:lnTo>
                  <a:pt x="735" y="147"/>
                </a:lnTo>
                <a:lnTo>
                  <a:pt x="727" y="127"/>
                </a:lnTo>
                <a:lnTo>
                  <a:pt x="714" y="123"/>
                </a:lnTo>
                <a:lnTo>
                  <a:pt x="700" y="123"/>
                </a:lnTo>
                <a:lnTo>
                  <a:pt x="678" y="139"/>
                </a:lnTo>
                <a:lnTo>
                  <a:pt x="670" y="151"/>
                </a:lnTo>
                <a:lnTo>
                  <a:pt x="664" y="159"/>
                </a:lnTo>
                <a:lnTo>
                  <a:pt x="658" y="171"/>
                </a:lnTo>
                <a:lnTo>
                  <a:pt x="636" y="179"/>
                </a:lnTo>
                <a:lnTo>
                  <a:pt x="614" y="171"/>
                </a:lnTo>
                <a:lnTo>
                  <a:pt x="595" y="167"/>
                </a:lnTo>
                <a:lnTo>
                  <a:pt x="591" y="149"/>
                </a:lnTo>
                <a:lnTo>
                  <a:pt x="604" y="133"/>
                </a:lnTo>
                <a:lnTo>
                  <a:pt x="614" y="109"/>
                </a:lnTo>
                <a:lnTo>
                  <a:pt x="618" y="78"/>
                </a:lnTo>
                <a:lnTo>
                  <a:pt x="616" y="50"/>
                </a:lnTo>
                <a:lnTo>
                  <a:pt x="626" y="28"/>
                </a:lnTo>
                <a:lnTo>
                  <a:pt x="616" y="14"/>
                </a:lnTo>
                <a:lnTo>
                  <a:pt x="597" y="2"/>
                </a:lnTo>
                <a:lnTo>
                  <a:pt x="573" y="0"/>
                </a:lnTo>
                <a:lnTo>
                  <a:pt x="547" y="2"/>
                </a:lnTo>
                <a:lnTo>
                  <a:pt x="523" y="18"/>
                </a:lnTo>
                <a:lnTo>
                  <a:pt x="505" y="38"/>
                </a:lnTo>
                <a:lnTo>
                  <a:pt x="495" y="68"/>
                </a:lnTo>
                <a:lnTo>
                  <a:pt x="484" y="99"/>
                </a:lnTo>
                <a:lnTo>
                  <a:pt x="474" y="117"/>
                </a:lnTo>
                <a:lnTo>
                  <a:pt x="460" y="131"/>
                </a:lnTo>
                <a:lnTo>
                  <a:pt x="448" y="119"/>
                </a:lnTo>
                <a:lnTo>
                  <a:pt x="436" y="103"/>
                </a:lnTo>
                <a:lnTo>
                  <a:pt x="422" y="101"/>
                </a:lnTo>
                <a:lnTo>
                  <a:pt x="402" y="107"/>
                </a:lnTo>
                <a:lnTo>
                  <a:pt x="390" y="125"/>
                </a:lnTo>
                <a:lnTo>
                  <a:pt x="380" y="149"/>
                </a:lnTo>
                <a:lnTo>
                  <a:pt x="370" y="169"/>
                </a:lnTo>
                <a:lnTo>
                  <a:pt x="353" y="179"/>
                </a:lnTo>
                <a:lnTo>
                  <a:pt x="333" y="171"/>
                </a:lnTo>
                <a:lnTo>
                  <a:pt x="311" y="165"/>
                </a:lnTo>
                <a:lnTo>
                  <a:pt x="293" y="179"/>
                </a:lnTo>
                <a:lnTo>
                  <a:pt x="289" y="201"/>
                </a:lnTo>
                <a:lnTo>
                  <a:pt x="301" y="218"/>
                </a:lnTo>
                <a:lnTo>
                  <a:pt x="317" y="224"/>
                </a:lnTo>
                <a:lnTo>
                  <a:pt x="325" y="248"/>
                </a:lnTo>
                <a:lnTo>
                  <a:pt x="317" y="272"/>
                </a:lnTo>
                <a:lnTo>
                  <a:pt x="305" y="290"/>
                </a:lnTo>
                <a:lnTo>
                  <a:pt x="287" y="296"/>
                </a:lnTo>
                <a:lnTo>
                  <a:pt x="265" y="294"/>
                </a:lnTo>
                <a:lnTo>
                  <a:pt x="253" y="306"/>
                </a:lnTo>
                <a:lnTo>
                  <a:pt x="255" y="336"/>
                </a:lnTo>
                <a:lnTo>
                  <a:pt x="244" y="354"/>
                </a:lnTo>
                <a:lnTo>
                  <a:pt x="238" y="385"/>
                </a:lnTo>
                <a:lnTo>
                  <a:pt x="226" y="401"/>
                </a:lnTo>
                <a:lnTo>
                  <a:pt x="204" y="411"/>
                </a:lnTo>
                <a:lnTo>
                  <a:pt x="176" y="413"/>
                </a:lnTo>
                <a:lnTo>
                  <a:pt x="152" y="425"/>
                </a:lnTo>
                <a:lnTo>
                  <a:pt x="136" y="445"/>
                </a:lnTo>
                <a:lnTo>
                  <a:pt x="129" y="469"/>
                </a:lnTo>
                <a:lnTo>
                  <a:pt x="119" y="491"/>
                </a:lnTo>
                <a:lnTo>
                  <a:pt x="103" y="500"/>
                </a:lnTo>
                <a:lnTo>
                  <a:pt x="119" y="534"/>
                </a:lnTo>
                <a:lnTo>
                  <a:pt x="111" y="560"/>
                </a:lnTo>
                <a:lnTo>
                  <a:pt x="93" y="572"/>
                </a:lnTo>
                <a:lnTo>
                  <a:pt x="75" y="592"/>
                </a:lnTo>
                <a:lnTo>
                  <a:pt x="73" y="614"/>
                </a:lnTo>
                <a:lnTo>
                  <a:pt x="83" y="641"/>
                </a:lnTo>
                <a:lnTo>
                  <a:pt x="95" y="665"/>
                </a:lnTo>
                <a:lnTo>
                  <a:pt x="109" y="693"/>
                </a:lnTo>
                <a:lnTo>
                  <a:pt x="107" y="715"/>
                </a:lnTo>
                <a:lnTo>
                  <a:pt x="95" y="741"/>
                </a:lnTo>
                <a:lnTo>
                  <a:pt x="75" y="761"/>
                </a:lnTo>
                <a:lnTo>
                  <a:pt x="49" y="774"/>
                </a:lnTo>
                <a:lnTo>
                  <a:pt x="27" y="800"/>
                </a:lnTo>
                <a:lnTo>
                  <a:pt x="12" y="816"/>
                </a:lnTo>
                <a:lnTo>
                  <a:pt x="0" y="840"/>
                </a:lnTo>
                <a:lnTo>
                  <a:pt x="6" y="872"/>
                </a:lnTo>
                <a:lnTo>
                  <a:pt x="15" y="888"/>
                </a:lnTo>
                <a:lnTo>
                  <a:pt x="37" y="884"/>
                </a:lnTo>
                <a:lnTo>
                  <a:pt x="63" y="872"/>
                </a:lnTo>
                <a:lnTo>
                  <a:pt x="89" y="866"/>
                </a:lnTo>
                <a:lnTo>
                  <a:pt x="111" y="850"/>
                </a:lnTo>
                <a:lnTo>
                  <a:pt x="138" y="844"/>
                </a:lnTo>
                <a:lnTo>
                  <a:pt x="156" y="854"/>
                </a:lnTo>
                <a:lnTo>
                  <a:pt x="174" y="872"/>
                </a:lnTo>
                <a:lnTo>
                  <a:pt x="194" y="900"/>
                </a:lnTo>
                <a:lnTo>
                  <a:pt x="200" y="919"/>
                </a:lnTo>
                <a:lnTo>
                  <a:pt x="198" y="945"/>
                </a:lnTo>
                <a:lnTo>
                  <a:pt x="206" y="977"/>
                </a:lnTo>
                <a:lnTo>
                  <a:pt x="218" y="991"/>
                </a:lnTo>
                <a:lnTo>
                  <a:pt x="222" y="1013"/>
                </a:lnTo>
                <a:lnTo>
                  <a:pt x="206" y="1031"/>
                </a:lnTo>
                <a:lnTo>
                  <a:pt x="198" y="1052"/>
                </a:lnTo>
                <a:lnTo>
                  <a:pt x="212" y="1072"/>
                </a:lnTo>
                <a:lnTo>
                  <a:pt x="206" y="1088"/>
                </a:lnTo>
                <a:lnTo>
                  <a:pt x="210" y="1104"/>
                </a:lnTo>
                <a:lnTo>
                  <a:pt x="232" y="1112"/>
                </a:lnTo>
                <a:lnTo>
                  <a:pt x="257" y="1118"/>
                </a:lnTo>
                <a:lnTo>
                  <a:pt x="275" y="1108"/>
                </a:lnTo>
                <a:lnTo>
                  <a:pt x="289" y="1118"/>
                </a:lnTo>
                <a:lnTo>
                  <a:pt x="309" y="1132"/>
                </a:lnTo>
                <a:lnTo>
                  <a:pt x="325" y="1120"/>
                </a:lnTo>
                <a:lnTo>
                  <a:pt x="345" y="1128"/>
                </a:lnTo>
                <a:lnTo>
                  <a:pt x="335" y="1148"/>
                </a:lnTo>
                <a:lnTo>
                  <a:pt x="329" y="1168"/>
                </a:lnTo>
                <a:lnTo>
                  <a:pt x="331" y="1187"/>
                </a:lnTo>
                <a:lnTo>
                  <a:pt x="349" y="1191"/>
                </a:lnTo>
                <a:lnTo>
                  <a:pt x="361" y="1180"/>
                </a:lnTo>
                <a:lnTo>
                  <a:pt x="376" y="1162"/>
                </a:lnTo>
                <a:lnTo>
                  <a:pt x="390" y="1150"/>
                </a:lnTo>
                <a:lnTo>
                  <a:pt x="412" y="1158"/>
                </a:lnTo>
                <a:lnTo>
                  <a:pt x="430" y="1160"/>
                </a:lnTo>
                <a:lnTo>
                  <a:pt x="434" y="1144"/>
                </a:lnTo>
                <a:lnTo>
                  <a:pt x="428" y="1122"/>
                </a:lnTo>
                <a:lnTo>
                  <a:pt x="446" y="1120"/>
                </a:lnTo>
                <a:lnTo>
                  <a:pt x="420" y="1110"/>
                </a:lnTo>
                <a:lnTo>
                  <a:pt x="398" y="1088"/>
                </a:lnTo>
                <a:lnTo>
                  <a:pt x="396" y="1058"/>
                </a:lnTo>
                <a:lnTo>
                  <a:pt x="406" y="1035"/>
                </a:lnTo>
                <a:lnTo>
                  <a:pt x="400" y="1007"/>
                </a:lnTo>
                <a:lnTo>
                  <a:pt x="390" y="983"/>
                </a:lnTo>
                <a:lnTo>
                  <a:pt x="380" y="951"/>
                </a:lnTo>
                <a:lnTo>
                  <a:pt x="386" y="929"/>
                </a:lnTo>
                <a:lnTo>
                  <a:pt x="400" y="911"/>
                </a:lnTo>
                <a:lnTo>
                  <a:pt x="412" y="886"/>
                </a:lnTo>
                <a:lnTo>
                  <a:pt x="408" y="864"/>
                </a:lnTo>
                <a:lnTo>
                  <a:pt x="406" y="838"/>
                </a:lnTo>
                <a:lnTo>
                  <a:pt x="422" y="826"/>
                </a:lnTo>
                <a:lnTo>
                  <a:pt x="442" y="822"/>
                </a:lnTo>
                <a:lnTo>
                  <a:pt x="462" y="836"/>
                </a:lnTo>
                <a:lnTo>
                  <a:pt x="476" y="818"/>
                </a:lnTo>
                <a:lnTo>
                  <a:pt x="497" y="810"/>
                </a:lnTo>
                <a:lnTo>
                  <a:pt x="521" y="816"/>
                </a:lnTo>
                <a:lnTo>
                  <a:pt x="545" y="822"/>
                </a:lnTo>
                <a:lnTo>
                  <a:pt x="567" y="816"/>
                </a:lnTo>
                <a:lnTo>
                  <a:pt x="577" y="796"/>
                </a:lnTo>
                <a:lnTo>
                  <a:pt x="579" y="774"/>
                </a:lnTo>
                <a:lnTo>
                  <a:pt x="593" y="761"/>
                </a:lnTo>
                <a:lnTo>
                  <a:pt x="610" y="763"/>
                </a:lnTo>
                <a:lnTo>
                  <a:pt x="628" y="761"/>
                </a:lnTo>
                <a:lnTo>
                  <a:pt x="632" y="743"/>
                </a:lnTo>
                <a:lnTo>
                  <a:pt x="644" y="727"/>
                </a:lnTo>
                <a:lnTo>
                  <a:pt x="662" y="721"/>
                </a:lnTo>
                <a:lnTo>
                  <a:pt x="670" y="701"/>
                </a:lnTo>
                <a:lnTo>
                  <a:pt x="662" y="687"/>
                </a:lnTo>
                <a:lnTo>
                  <a:pt x="664" y="669"/>
                </a:lnTo>
                <a:lnTo>
                  <a:pt x="684" y="667"/>
                </a:lnTo>
                <a:lnTo>
                  <a:pt x="704" y="683"/>
                </a:lnTo>
                <a:lnTo>
                  <a:pt x="725" y="689"/>
                </a:lnTo>
                <a:lnTo>
                  <a:pt x="737" y="669"/>
                </a:lnTo>
                <a:lnTo>
                  <a:pt x="743" y="651"/>
                </a:lnTo>
                <a:lnTo>
                  <a:pt x="759" y="641"/>
                </a:lnTo>
                <a:lnTo>
                  <a:pt x="773" y="622"/>
                </a:lnTo>
                <a:lnTo>
                  <a:pt x="775" y="602"/>
                </a:lnTo>
                <a:close/>
              </a:path>
            </a:pathLst>
          </a:custGeom>
          <a:solidFill>
            <a:srgbClr val="f1b953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Freeform 54"/>
          <p:cNvSpPr/>
          <p:nvPr/>
        </p:nvSpPr>
        <p:spPr>
          <a:xfrm>
            <a:off x="2514600" y="1158840"/>
            <a:ext cx="644400" cy="846000"/>
          </a:xfrm>
          <a:custGeom>
            <a:avLst/>
            <a:gdLst>
              <a:gd name="textAreaLeft" fmla="*/ 0 w 644400"/>
              <a:gd name="textAreaRight" fmla="*/ 644760 w 644400"/>
              <a:gd name="textAreaTop" fmla="*/ 0 h 846000"/>
              <a:gd name="textAreaBottom" fmla="*/ 846360 h 846000"/>
            </a:gdLst>
            <a:ahLst/>
            <a:rect l="textAreaLeft" t="textAreaTop" r="textAreaRight" b="textAreaBottom"/>
            <a:pathLst>
              <a:path w="813" h="1067">
                <a:moveTo>
                  <a:pt x="688" y="123"/>
                </a:moveTo>
                <a:lnTo>
                  <a:pt x="702" y="157"/>
                </a:lnTo>
                <a:lnTo>
                  <a:pt x="694" y="183"/>
                </a:lnTo>
                <a:lnTo>
                  <a:pt x="676" y="195"/>
                </a:lnTo>
                <a:lnTo>
                  <a:pt x="658" y="215"/>
                </a:lnTo>
                <a:lnTo>
                  <a:pt x="656" y="237"/>
                </a:lnTo>
                <a:lnTo>
                  <a:pt x="666" y="264"/>
                </a:lnTo>
                <a:lnTo>
                  <a:pt x="678" y="288"/>
                </a:lnTo>
                <a:lnTo>
                  <a:pt x="692" y="316"/>
                </a:lnTo>
                <a:lnTo>
                  <a:pt x="690" y="338"/>
                </a:lnTo>
                <a:lnTo>
                  <a:pt x="678" y="364"/>
                </a:lnTo>
                <a:lnTo>
                  <a:pt x="658" y="384"/>
                </a:lnTo>
                <a:lnTo>
                  <a:pt x="632" y="397"/>
                </a:lnTo>
                <a:lnTo>
                  <a:pt x="610" y="423"/>
                </a:lnTo>
                <a:lnTo>
                  <a:pt x="595" y="439"/>
                </a:lnTo>
                <a:lnTo>
                  <a:pt x="583" y="463"/>
                </a:lnTo>
                <a:lnTo>
                  <a:pt x="589" y="495"/>
                </a:lnTo>
                <a:lnTo>
                  <a:pt x="598" y="511"/>
                </a:lnTo>
                <a:lnTo>
                  <a:pt x="620" y="507"/>
                </a:lnTo>
                <a:lnTo>
                  <a:pt x="646" y="495"/>
                </a:lnTo>
                <a:lnTo>
                  <a:pt x="672" y="489"/>
                </a:lnTo>
                <a:lnTo>
                  <a:pt x="694" y="473"/>
                </a:lnTo>
                <a:lnTo>
                  <a:pt x="721" y="467"/>
                </a:lnTo>
                <a:lnTo>
                  <a:pt x="739" y="477"/>
                </a:lnTo>
                <a:lnTo>
                  <a:pt x="757" y="495"/>
                </a:lnTo>
                <a:lnTo>
                  <a:pt x="777" y="523"/>
                </a:lnTo>
                <a:lnTo>
                  <a:pt x="783" y="542"/>
                </a:lnTo>
                <a:lnTo>
                  <a:pt x="781" y="568"/>
                </a:lnTo>
                <a:lnTo>
                  <a:pt x="789" y="600"/>
                </a:lnTo>
                <a:lnTo>
                  <a:pt x="801" y="614"/>
                </a:lnTo>
                <a:lnTo>
                  <a:pt x="805" y="636"/>
                </a:lnTo>
                <a:lnTo>
                  <a:pt x="789" y="654"/>
                </a:lnTo>
                <a:lnTo>
                  <a:pt x="781" y="675"/>
                </a:lnTo>
                <a:lnTo>
                  <a:pt x="795" y="695"/>
                </a:lnTo>
                <a:lnTo>
                  <a:pt x="789" y="711"/>
                </a:lnTo>
                <a:lnTo>
                  <a:pt x="795" y="731"/>
                </a:lnTo>
                <a:lnTo>
                  <a:pt x="791" y="747"/>
                </a:lnTo>
                <a:lnTo>
                  <a:pt x="795" y="765"/>
                </a:lnTo>
                <a:lnTo>
                  <a:pt x="799" y="791"/>
                </a:lnTo>
                <a:lnTo>
                  <a:pt x="805" y="820"/>
                </a:lnTo>
                <a:lnTo>
                  <a:pt x="813" y="846"/>
                </a:lnTo>
                <a:lnTo>
                  <a:pt x="805" y="868"/>
                </a:lnTo>
                <a:lnTo>
                  <a:pt x="805" y="892"/>
                </a:lnTo>
                <a:lnTo>
                  <a:pt x="787" y="914"/>
                </a:lnTo>
                <a:lnTo>
                  <a:pt x="773" y="942"/>
                </a:lnTo>
                <a:lnTo>
                  <a:pt x="767" y="963"/>
                </a:lnTo>
                <a:lnTo>
                  <a:pt x="761" y="989"/>
                </a:lnTo>
                <a:lnTo>
                  <a:pt x="745" y="1005"/>
                </a:lnTo>
                <a:lnTo>
                  <a:pt x="727" y="1025"/>
                </a:lnTo>
                <a:lnTo>
                  <a:pt x="723" y="1047"/>
                </a:lnTo>
                <a:lnTo>
                  <a:pt x="719" y="1067"/>
                </a:lnTo>
                <a:lnTo>
                  <a:pt x="698" y="1055"/>
                </a:lnTo>
                <a:lnTo>
                  <a:pt x="672" y="1041"/>
                </a:lnTo>
                <a:lnTo>
                  <a:pt x="648" y="1019"/>
                </a:lnTo>
                <a:lnTo>
                  <a:pt x="626" y="1007"/>
                </a:lnTo>
                <a:lnTo>
                  <a:pt x="610" y="1017"/>
                </a:lnTo>
                <a:lnTo>
                  <a:pt x="593" y="1021"/>
                </a:lnTo>
                <a:lnTo>
                  <a:pt x="569" y="1013"/>
                </a:lnTo>
                <a:lnTo>
                  <a:pt x="545" y="1017"/>
                </a:lnTo>
                <a:lnTo>
                  <a:pt x="511" y="1013"/>
                </a:lnTo>
                <a:lnTo>
                  <a:pt x="479" y="1003"/>
                </a:lnTo>
                <a:lnTo>
                  <a:pt x="458" y="995"/>
                </a:lnTo>
                <a:lnTo>
                  <a:pt x="446" y="977"/>
                </a:lnTo>
                <a:lnTo>
                  <a:pt x="428" y="957"/>
                </a:lnTo>
                <a:lnTo>
                  <a:pt x="408" y="953"/>
                </a:lnTo>
                <a:lnTo>
                  <a:pt x="396" y="932"/>
                </a:lnTo>
                <a:lnTo>
                  <a:pt x="390" y="902"/>
                </a:lnTo>
                <a:lnTo>
                  <a:pt x="388" y="878"/>
                </a:lnTo>
                <a:lnTo>
                  <a:pt x="400" y="858"/>
                </a:lnTo>
                <a:lnTo>
                  <a:pt x="400" y="832"/>
                </a:lnTo>
                <a:lnTo>
                  <a:pt x="390" y="814"/>
                </a:lnTo>
                <a:lnTo>
                  <a:pt x="384" y="789"/>
                </a:lnTo>
                <a:lnTo>
                  <a:pt x="394" y="765"/>
                </a:lnTo>
                <a:lnTo>
                  <a:pt x="392" y="741"/>
                </a:lnTo>
                <a:lnTo>
                  <a:pt x="378" y="723"/>
                </a:lnTo>
                <a:lnTo>
                  <a:pt x="357" y="713"/>
                </a:lnTo>
                <a:lnTo>
                  <a:pt x="331" y="705"/>
                </a:lnTo>
                <a:lnTo>
                  <a:pt x="315" y="689"/>
                </a:lnTo>
                <a:lnTo>
                  <a:pt x="291" y="677"/>
                </a:lnTo>
                <a:lnTo>
                  <a:pt x="259" y="685"/>
                </a:lnTo>
                <a:lnTo>
                  <a:pt x="236" y="691"/>
                </a:lnTo>
                <a:lnTo>
                  <a:pt x="218" y="711"/>
                </a:lnTo>
                <a:lnTo>
                  <a:pt x="204" y="729"/>
                </a:lnTo>
                <a:lnTo>
                  <a:pt x="180" y="739"/>
                </a:lnTo>
                <a:lnTo>
                  <a:pt x="158" y="733"/>
                </a:lnTo>
                <a:lnTo>
                  <a:pt x="138" y="721"/>
                </a:lnTo>
                <a:lnTo>
                  <a:pt x="117" y="709"/>
                </a:lnTo>
                <a:lnTo>
                  <a:pt x="93" y="711"/>
                </a:lnTo>
                <a:lnTo>
                  <a:pt x="71" y="717"/>
                </a:lnTo>
                <a:lnTo>
                  <a:pt x="81" y="691"/>
                </a:lnTo>
                <a:lnTo>
                  <a:pt x="95" y="667"/>
                </a:lnTo>
                <a:lnTo>
                  <a:pt x="105" y="648"/>
                </a:lnTo>
                <a:lnTo>
                  <a:pt x="121" y="630"/>
                </a:lnTo>
                <a:lnTo>
                  <a:pt x="126" y="598"/>
                </a:lnTo>
                <a:lnTo>
                  <a:pt x="115" y="578"/>
                </a:lnTo>
                <a:lnTo>
                  <a:pt x="95" y="568"/>
                </a:lnTo>
                <a:lnTo>
                  <a:pt x="77" y="548"/>
                </a:lnTo>
                <a:lnTo>
                  <a:pt x="55" y="527"/>
                </a:lnTo>
                <a:lnTo>
                  <a:pt x="33" y="513"/>
                </a:lnTo>
                <a:lnTo>
                  <a:pt x="17" y="493"/>
                </a:lnTo>
                <a:lnTo>
                  <a:pt x="9" y="467"/>
                </a:lnTo>
                <a:lnTo>
                  <a:pt x="0" y="435"/>
                </a:lnTo>
                <a:lnTo>
                  <a:pt x="4" y="403"/>
                </a:lnTo>
                <a:lnTo>
                  <a:pt x="11" y="372"/>
                </a:lnTo>
                <a:lnTo>
                  <a:pt x="29" y="352"/>
                </a:lnTo>
                <a:lnTo>
                  <a:pt x="55" y="340"/>
                </a:lnTo>
                <a:lnTo>
                  <a:pt x="81" y="326"/>
                </a:lnTo>
                <a:lnTo>
                  <a:pt x="89" y="304"/>
                </a:lnTo>
                <a:lnTo>
                  <a:pt x="117" y="324"/>
                </a:lnTo>
                <a:lnTo>
                  <a:pt x="132" y="332"/>
                </a:lnTo>
                <a:lnTo>
                  <a:pt x="148" y="324"/>
                </a:lnTo>
                <a:lnTo>
                  <a:pt x="154" y="304"/>
                </a:lnTo>
                <a:lnTo>
                  <a:pt x="172" y="296"/>
                </a:lnTo>
                <a:lnTo>
                  <a:pt x="192" y="302"/>
                </a:lnTo>
                <a:lnTo>
                  <a:pt x="194" y="282"/>
                </a:lnTo>
                <a:lnTo>
                  <a:pt x="202" y="264"/>
                </a:lnTo>
                <a:lnTo>
                  <a:pt x="220" y="258"/>
                </a:lnTo>
                <a:lnTo>
                  <a:pt x="247" y="251"/>
                </a:lnTo>
                <a:lnTo>
                  <a:pt x="269" y="239"/>
                </a:lnTo>
                <a:lnTo>
                  <a:pt x="293" y="223"/>
                </a:lnTo>
                <a:lnTo>
                  <a:pt x="313" y="215"/>
                </a:lnTo>
                <a:lnTo>
                  <a:pt x="327" y="197"/>
                </a:lnTo>
                <a:lnTo>
                  <a:pt x="347" y="179"/>
                </a:lnTo>
                <a:lnTo>
                  <a:pt x="368" y="171"/>
                </a:lnTo>
                <a:lnTo>
                  <a:pt x="392" y="167"/>
                </a:lnTo>
                <a:lnTo>
                  <a:pt x="414" y="161"/>
                </a:lnTo>
                <a:lnTo>
                  <a:pt x="438" y="167"/>
                </a:lnTo>
                <a:lnTo>
                  <a:pt x="460" y="163"/>
                </a:lnTo>
                <a:lnTo>
                  <a:pt x="479" y="151"/>
                </a:lnTo>
                <a:lnTo>
                  <a:pt x="495" y="133"/>
                </a:lnTo>
                <a:lnTo>
                  <a:pt x="515" y="119"/>
                </a:lnTo>
                <a:lnTo>
                  <a:pt x="537" y="112"/>
                </a:lnTo>
                <a:lnTo>
                  <a:pt x="549" y="96"/>
                </a:lnTo>
                <a:lnTo>
                  <a:pt x="557" y="74"/>
                </a:lnTo>
                <a:lnTo>
                  <a:pt x="573" y="58"/>
                </a:lnTo>
                <a:lnTo>
                  <a:pt x="581" y="34"/>
                </a:lnTo>
                <a:lnTo>
                  <a:pt x="583" y="10"/>
                </a:lnTo>
                <a:lnTo>
                  <a:pt x="595" y="0"/>
                </a:lnTo>
                <a:lnTo>
                  <a:pt x="612" y="14"/>
                </a:lnTo>
                <a:lnTo>
                  <a:pt x="626" y="34"/>
                </a:lnTo>
                <a:lnTo>
                  <a:pt x="638" y="54"/>
                </a:lnTo>
                <a:lnTo>
                  <a:pt x="648" y="88"/>
                </a:lnTo>
                <a:lnTo>
                  <a:pt x="668" y="110"/>
                </a:lnTo>
                <a:lnTo>
                  <a:pt x="688" y="123"/>
                </a:lnTo>
                <a:close/>
              </a:path>
            </a:pathLst>
          </a:custGeom>
          <a:solidFill>
            <a:srgbClr val="618ffd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Freeform 55"/>
          <p:cNvSpPr/>
          <p:nvPr/>
        </p:nvSpPr>
        <p:spPr>
          <a:xfrm>
            <a:off x="4343400" y="3978360"/>
            <a:ext cx="936720" cy="958680"/>
          </a:xfrm>
          <a:custGeom>
            <a:avLst/>
            <a:gdLst>
              <a:gd name="textAreaLeft" fmla="*/ 0 w 936720"/>
              <a:gd name="textAreaRight" fmla="*/ 937080 w 936720"/>
              <a:gd name="textAreaTop" fmla="*/ 0 h 958680"/>
              <a:gd name="textAreaBottom" fmla="*/ 959040 h 958680"/>
            </a:gdLst>
            <a:ahLst/>
            <a:rect l="textAreaLeft" t="textAreaTop" r="textAreaRight" b="textAreaBottom"/>
            <a:pathLst>
              <a:path w="1180" h="1207">
                <a:moveTo>
                  <a:pt x="716" y="998"/>
                </a:moveTo>
                <a:lnTo>
                  <a:pt x="732" y="989"/>
                </a:lnTo>
                <a:lnTo>
                  <a:pt x="742" y="965"/>
                </a:lnTo>
                <a:lnTo>
                  <a:pt x="749" y="943"/>
                </a:lnTo>
                <a:lnTo>
                  <a:pt x="765" y="925"/>
                </a:lnTo>
                <a:lnTo>
                  <a:pt x="789" y="911"/>
                </a:lnTo>
                <a:lnTo>
                  <a:pt x="815" y="909"/>
                </a:lnTo>
                <a:lnTo>
                  <a:pt x="837" y="901"/>
                </a:lnTo>
                <a:lnTo>
                  <a:pt x="851" y="881"/>
                </a:lnTo>
                <a:lnTo>
                  <a:pt x="857" y="852"/>
                </a:lnTo>
                <a:lnTo>
                  <a:pt x="868" y="834"/>
                </a:lnTo>
                <a:lnTo>
                  <a:pt x="866" y="804"/>
                </a:lnTo>
                <a:lnTo>
                  <a:pt x="878" y="792"/>
                </a:lnTo>
                <a:lnTo>
                  <a:pt x="900" y="794"/>
                </a:lnTo>
                <a:lnTo>
                  <a:pt x="918" y="788"/>
                </a:lnTo>
                <a:lnTo>
                  <a:pt x="930" y="768"/>
                </a:lnTo>
                <a:lnTo>
                  <a:pt x="938" y="746"/>
                </a:lnTo>
                <a:lnTo>
                  <a:pt x="930" y="722"/>
                </a:lnTo>
                <a:lnTo>
                  <a:pt x="914" y="716"/>
                </a:lnTo>
                <a:lnTo>
                  <a:pt x="902" y="699"/>
                </a:lnTo>
                <a:lnTo>
                  <a:pt x="906" y="677"/>
                </a:lnTo>
                <a:lnTo>
                  <a:pt x="924" y="663"/>
                </a:lnTo>
                <a:lnTo>
                  <a:pt x="952" y="673"/>
                </a:lnTo>
                <a:lnTo>
                  <a:pt x="966" y="677"/>
                </a:lnTo>
                <a:lnTo>
                  <a:pt x="983" y="667"/>
                </a:lnTo>
                <a:lnTo>
                  <a:pt x="993" y="647"/>
                </a:lnTo>
                <a:lnTo>
                  <a:pt x="1001" y="625"/>
                </a:lnTo>
                <a:lnTo>
                  <a:pt x="1015" y="607"/>
                </a:lnTo>
                <a:lnTo>
                  <a:pt x="1033" y="599"/>
                </a:lnTo>
                <a:lnTo>
                  <a:pt x="1051" y="601"/>
                </a:lnTo>
                <a:lnTo>
                  <a:pt x="1061" y="615"/>
                </a:lnTo>
                <a:lnTo>
                  <a:pt x="1073" y="629"/>
                </a:lnTo>
                <a:lnTo>
                  <a:pt x="1087" y="615"/>
                </a:lnTo>
                <a:lnTo>
                  <a:pt x="1098" y="593"/>
                </a:lnTo>
                <a:lnTo>
                  <a:pt x="1108" y="568"/>
                </a:lnTo>
                <a:lnTo>
                  <a:pt x="1118" y="536"/>
                </a:lnTo>
                <a:lnTo>
                  <a:pt x="1138" y="516"/>
                </a:lnTo>
                <a:lnTo>
                  <a:pt x="1162" y="500"/>
                </a:lnTo>
                <a:lnTo>
                  <a:pt x="1158" y="482"/>
                </a:lnTo>
                <a:lnTo>
                  <a:pt x="1164" y="456"/>
                </a:lnTo>
                <a:lnTo>
                  <a:pt x="1180" y="437"/>
                </a:lnTo>
                <a:lnTo>
                  <a:pt x="1180" y="415"/>
                </a:lnTo>
                <a:lnTo>
                  <a:pt x="1164" y="401"/>
                </a:lnTo>
                <a:lnTo>
                  <a:pt x="1138" y="387"/>
                </a:lnTo>
                <a:lnTo>
                  <a:pt x="1142" y="363"/>
                </a:lnTo>
                <a:lnTo>
                  <a:pt x="1136" y="335"/>
                </a:lnTo>
                <a:lnTo>
                  <a:pt x="1118" y="327"/>
                </a:lnTo>
                <a:lnTo>
                  <a:pt x="1104" y="319"/>
                </a:lnTo>
                <a:lnTo>
                  <a:pt x="1106" y="290"/>
                </a:lnTo>
                <a:lnTo>
                  <a:pt x="1098" y="258"/>
                </a:lnTo>
                <a:lnTo>
                  <a:pt x="1085" y="242"/>
                </a:lnTo>
                <a:lnTo>
                  <a:pt x="1067" y="226"/>
                </a:lnTo>
                <a:lnTo>
                  <a:pt x="1049" y="222"/>
                </a:lnTo>
                <a:lnTo>
                  <a:pt x="1053" y="204"/>
                </a:lnTo>
                <a:lnTo>
                  <a:pt x="1071" y="202"/>
                </a:lnTo>
                <a:lnTo>
                  <a:pt x="1089" y="200"/>
                </a:lnTo>
                <a:lnTo>
                  <a:pt x="1100" y="180"/>
                </a:lnTo>
                <a:lnTo>
                  <a:pt x="1097" y="161"/>
                </a:lnTo>
                <a:lnTo>
                  <a:pt x="1085" y="153"/>
                </a:lnTo>
                <a:lnTo>
                  <a:pt x="1073" y="147"/>
                </a:lnTo>
                <a:lnTo>
                  <a:pt x="1079" y="131"/>
                </a:lnTo>
                <a:lnTo>
                  <a:pt x="1093" y="111"/>
                </a:lnTo>
                <a:lnTo>
                  <a:pt x="1098" y="83"/>
                </a:lnTo>
                <a:lnTo>
                  <a:pt x="1093" y="65"/>
                </a:lnTo>
                <a:lnTo>
                  <a:pt x="1100" y="43"/>
                </a:lnTo>
                <a:lnTo>
                  <a:pt x="1106" y="16"/>
                </a:lnTo>
                <a:lnTo>
                  <a:pt x="1079" y="6"/>
                </a:lnTo>
                <a:lnTo>
                  <a:pt x="1053" y="16"/>
                </a:lnTo>
                <a:lnTo>
                  <a:pt x="1043" y="33"/>
                </a:lnTo>
                <a:lnTo>
                  <a:pt x="1021" y="37"/>
                </a:lnTo>
                <a:lnTo>
                  <a:pt x="1011" y="51"/>
                </a:lnTo>
                <a:lnTo>
                  <a:pt x="1001" y="69"/>
                </a:lnTo>
                <a:lnTo>
                  <a:pt x="987" y="77"/>
                </a:lnTo>
                <a:lnTo>
                  <a:pt x="976" y="57"/>
                </a:lnTo>
                <a:lnTo>
                  <a:pt x="966" y="33"/>
                </a:lnTo>
                <a:lnTo>
                  <a:pt x="954" y="12"/>
                </a:lnTo>
                <a:lnTo>
                  <a:pt x="946" y="0"/>
                </a:lnTo>
                <a:lnTo>
                  <a:pt x="930" y="4"/>
                </a:lnTo>
                <a:lnTo>
                  <a:pt x="918" y="18"/>
                </a:lnTo>
                <a:lnTo>
                  <a:pt x="910" y="39"/>
                </a:lnTo>
                <a:lnTo>
                  <a:pt x="898" y="28"/>
                </a:lnTo>
                <a:lnTo>
                  <a:pt x="886" y="16"/>
                </a:lnTo>
                <a:lnTo>
                  <a:pt x="868" y="24"/>
                </a:lnTo>
                <a:lnTo>
                  <a:pt x="857" y="43"/>
                </a:lnTo>
                <a:lnTo>
                  <a:pt x="839" y="59"/>
                </a:lnTo>
                <a:lnTo>
                  <a:pt x="835" y="77"/>
                </a:lnTo>
                <a:lnTo>
                  <a:pt x="851" y="103"/>
                </a:lnTo>
                <a:lnTo>
                  <a:pt x="857" y="133"/>
                </a:lnTo>
                <a:lnTo>
                  <a:pt x="862" y="174"/>
                </a:lnTo>
                <a:lnTo>
                  <a:pt x="853" y="202"/>
                </a:lnTo>
                <a:lnTo>
                  <a:pt x="839" y="222"/>
                </a:lnTo>
                <a:lnTo>
                  <a:pt x="817" y="224"/>
                </a:lnTo>
                <a:lnTo>
                  <a:pt x="795" y="230"/>
                </a:lnTo>
                <a:lnTo>
                  <a:pt x="779" y="246"/>
                </a:lnTo>
                <a:lnTo>
                  <a:pt x="759" y="266"/>
                </a:lnTo>
                <a:lnTo>
                  <a:pt x="740" y="276"/>
                </a:lnTo>
                <a:lnTo>
                  <a:pt x="722" y="274"/>
                </a:lnTo>
                <a:lnTo>
                  <a:pt x="710" y="262"/>
                </a:lnTo>
                <a:lnTo>
                  <a:pt x="702" y="240"/>
                </a:lnTo>
                <a:lnTo>
                  <a:pt x="710" y="220"/>
                </a:lnTo>
                <a:lnTo>
                  <a:pt x="698" y="200"/>
                </a:lnTo>
                <a:lnTo>
                  <a:pt x="688" y="176"/>
                </a:lnTo>
                <a:lnTo>
                  <a:pt x="690" y="153"/>
                </a:lnTo>
                <a:lnTo>
                  <a:pt x="700" y="127"/>
                </a:lnTo>
                <a:lnTo>
                  <a:pt x="696" y="105"/>
                </a:lnTo>
                <a:lnTo>
                  <a:pt x="676" y="91"/>
                </a:lnTo>
                <a:lnTo>
                  <a:pt x="650" y="83"/>
                </a:lnTo>
                <a:lnTo>
                  <a:pt x="634" y="67"/>
                </a:lnTo>
                <a:lnTo>
                  <a:pt x="625" y="39"/>
                </a:lnTo>
                <a:lnTo>
                  <a:pt x="611" y="22"/>
                </a:lnTo>
                <a:lnTo>
                  <a:pt x="587" y="18"/>
                </a:lnTo>
                <a:lnTo>
                  <a:pt x="569" y="29"/>
                </a:lnTo>
                <a:lnTo>
                  <a:pt x="573" y="61"/>
                </a:lnTo>
                <a:lnTo>
                  <a:pt x="559" y="87"/>
                </a:lnTo>
                <a:lnTo>
                  <a:pt x="543" y="99"/>
                </a:lnTo>
                <a:lnTo>
                  <a:pt x="531" y="121"/>
                </a:lnTo>
                <a:lnTo>
                  <a:pt x="509" y="133"/>
                </a:lnTo>
                <a:lnTo>
                  <a:pt x="488" y="145"/>
                </a:lnTo>
                <a:lnTo>
                  <a:pt x="474" y="161"/>
                </a:lnTo>
                <a:lnTo>
                  <a:pt x="446" y="165"/>
                </a:lnTo>
                <a:lnTo>
                  <a:pt x="420" y="157"/>
                </a:lnTo>
                <a:lnTo>
                  <a:pt x="396" y="161"/>
                </a:lnTo>
                <a:lnTo>
                  <a:pt x="369" y="168"/>
                </a:lnTo>
                <a:lnTo>
                  <a:pt x="349" y="182"/>
                </a:lnTo>
                <a:lnTo>
                  <a:pt x="333" y="202"/>
                </a:lnTo>
                <a:lnTo>
                  <a:pt x="311" y="218"/>
                </a:lnTo>
                <a:lnTo>
                  <a:pt x="303" y="232"/>
                </a:lnTo>
                <a:lnTo>
                  <a:pt x="301" y="256"/>
                </a:lnTo>
                <a:lnTo>
                  <a:pt x="311" y="286"/>
                </a:lnTo>
                <a:lnTo>
                  <a:pt x="301" y="309"/>
                </a:lnTo>
                <a:lnTo>
                  <a:pt x="281" y="323"/>
                </a:lnTo>
                <a:lnTo>
                  <a:pt x="250" y="329"/>
                </a:lnTo>
                <a:lnTo>
                  <a:pt x="216" y="341"/>
                </a:lnTo>
                <a:lnTo>
                  <a:pt x="182" y="349"/>
                </a:lnTo>
                <a:lnTo>
                  <a:pt x="156" y="361"/>
                </a:lnTo>
                <a:lnTo>
                  <a:pt x="129" y="367"/>
                </a:lnTo>
                <a:lnTo>
                  <a:pt x="107" y="361"/>
                </a:lnTo>
                <a:lnTo>
                  <a:pt x="85" y="349"/>
                </a:lnTo>
                <a:lnTo>
                  <a:pt x="61" y="355"/>
                </a:lnTo>
                <a:lnTo>
                  <a:pt x="47" y="373"/>
                </a:lnTo>
                <a:lnTo>
                  <a:pt x="41" y="401"/>
                </a:lnTo>
                <a:lnTo>
                  <a:pt x="55" y="425"/>
                </a:lnTo>
                <a:lnTo>
                  <a:pt x="77" y="444"/>
                </a:lnTo>
                <a:lnTo>
                  <a:pt x="89" y="468"/>
                </a:lnTo>
                <a:lnTo>
                  <a:pt x="91" y="490"/>
                </a:lnTo>
                <a:lnTo>
                  <a:pt x="115" y="500"/>
                </a:lnTo>
                <a:lnTo>
                  <a:pt x="135" y="520"/>
                </a:lnTo>
                <a:lnTo>
                  <a:pt x="137" y="550"/>
                </a:lnTo>
                <a:lnTo>
                  <a:pt x="125" y="579"/>
                </a:lnTo>
                <a:lnTo>
                  <a:pt x="119" y="611"/>
                </a:lnTo>
                <a:lnTo>
                  <a:pt x="107" y="643"/>
                </a:lnTo>
                <a:lnTo>
                  <a:pt x="93" y="669"/>
                </a:lnTo>
                <a:lnTo>
                  <a:pt x="79" y="699"/>
                </a:lnTo>
                <a:lnTo>
                  <a:pt x="61" y="726"/>
                </a:lnTo>
                <a:lnTo>
                  <a:pt x="37" y="744"/>
                </a:lnTo>
                <a:lnTo>
                  <a:pt x="20" y="770"/>
                </a:lnTo>
                <a:lnTo>
                  <a:pt x="16" y="794"/>
                </a:lnTo>
                <a:lnTo>
                  <a:pt x="26" y="828"/>
                </a:lnTo>
                <a:lnTo>
                  <a:pt x="18" y="854"/>
                </a:lnTo>
                <a:lnTo>
                  <a:pt x="8" y="879"/>
                </a:lnTo>
                <a:lnTo>
                  <a:pt x="0" y="913"/>
                </a:lnTo>
                <a:lnTo>
                  <a:pt x="4" y="941"/>
                </a:lnTo>
                <a:lnTo>
                  <a:pt x="12" y="969"/>
                </a:lnTo>
                <a:lnTo>
                  <a:pt x="30" y="983"/>
                </a:lnTo>
                <a:lnTo>
                  <a:pt x="49" y="1000"/>
                </a:lnTo>
                <a:lnTo>
                  <a:pt x="61" y="1022"/>
                </a:lnTo>
                <a:lnTo>
                  <a:pt x="73" y="1048"/>
                </a:lnTo>
                <a:lnTo>
                  <a:pt x="71" y="1072"/>
                </a:lnTo>
                <a:lnTo>
                  <a:pt x="69" y="1098"/>
                </a:lnTo>
                <a:lnTo>
                  <a:pt x="93" y="1112"/>
                </a:lnTo>
                <a:lnTo>
                  <a:pt x="113" y="1128"/>
                </a:lnTo>
                <a:lnTo>
                  <a:pt x="113" y="1149"/>
                </a:lnTo>
                <a:lnTo>
                  <a:pt x="119" y="1179"/>
                </a:lnTo>
                <a:lnTo>
                  <a:pt x="147" y="1199"/>
                </a:lnTo>
                <a:lnTo>
                  <a:pt x="162" y="1207"/>
                </a:lnTo>
                <a:lnTo>
                  <a:pt x="178" y="1199"/>
                </a:lnTo>
                <a:lnTo>
                  <a:pt x="184" y="1179"/>
                </a:lnTo>
                <a:lnTo>
                  <a:pt x="202" y="1171"/>
                </a:lnTo>
                <a:lnTo>
                  <a:pt x="222" y="1177"/>
                </a:lnTo>
                <a:lnTo>
                  <a:pt x="224" y="1157"/>
                </a:lnTo>
                <a:lnTo>
                  <a:pt x="232" y="1139"/>
                </a:lnTo>
                <a:lnTo>
                  <a:pt x="250" y="1133"/>
                </a:lnTo>
                <a:lnTo>
                  <a:pt x="277" y="1126"/>
                </a:lnTo>
                <a:lnTo>
                  <a:pt x="299" y="1114"/>
                </a:lnTo>
                <a:lnTo>
                  <a:pt x="323" y="1098"/>
                </a:lnTo>
                <a:lnTo>
                  <a:pt x="343" y="1090"/>
                </a:lnTo>
                <a:lnTo>
                  <a:pt x="357" y="1072"/>
                </a:lnTo>
                <a:lnTo>
                  <a:pt x="377" y="1054"/>
                </a:lnTo>
                <a:lnTo>
                  <a:pt x="398" y="1046"/>
                </a:lnTo>
                <a:lnTo>
                  <a:pt x="422" y="1042"/>
                </a:lnTo>
                <a:lnTo>
                  <a:pt x="444" y="1036"/>
                </a:lnTo>
                <a:lnTo>
                  <a:pt x="468" y="1042"/>
                </a:lnTo>
                <a:lnTo>
                  <a:pt x="490" y="1038"/>
                </a:lnTo>
                <a:lnTo>
                  <a:pt x="509" y="1026"/>
                </a:lnTo>
                <a:lnTo>
                  <a:pt x="525" y="1008"/>
                </a:lnTo>
                <a:lnTo>
                  <a:pt x="545" y="994"/>
                </a:lnTo>
                <a:lnTo>
                  <a:pt x="567" y="987"/>
                </a:lnTo>
                <a:lnTo>
                  <a:pt x="579" y="971"/>
                </a:lnTo>
                <a:lnTo>
                  <a:pt x="587" y="949"/>
                </a:lnTo>
                <a:lnTo>
                  <a:pt x="603" y="933"/>
                </a:lnTo>
                <a:lnTo>
                  <a:pt x="611" y="909"/>
                </a:lnTo>
                <a:lnTo>
                  <a:pt x="613" y="885"/>
                </a:lnTo>
                <a:lnTo>
                  <a:pt x="625" y="875"/>
                </a:lnTo>
                <a:lnTo>
                  <a:pt x="642" y="889"/>
                </a:lnTo>
                <a:lnTo>
                  <a:pt x="656" y="909"/>
                </a:lnTo>
                <a:lnTo>
                  <a:pt x="668" y="929"/>
                </a:lnTo>
                <a:lnTo>
                  <a:pt x="678" y="963"/>
                </a:lnTo>
                <a:lnTo>
                  <a:pt x="698" y="985"/>
                </a:lnTo>
                <a:lnTo>
                  <a:pt x="716" y="998"/>
                </a:lnTo>
                <a:close/>
              </a:path>
            </a:pathLst>
          </a:custGeom>
          <a:solidFill>
            <a:srgbClr val="60c9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Freeform 56"/>
          <p:cNvSpPr/>
          <p:nvPr/>
        </p:nvSpPr>
        <p:spPr>
          <a:xfrm>
            <a:off x="7605720" y="4011480"/>
            <a:ext cx="1247760" cy="1084320"/>
          </a:xfrm>
          <a:custGeom>
            <a:avLst/>
            <a:gdLst>
              <a:gd name="textAreaLeft" fmla="*/ 0 w 1247760"/>
              <a:gd name="textAreaRight" fmla="*/ 1247760 w 1247760"/>
              <a:gd name="textAreaTop" fmla="*/ 0 h 1084320"/>
              <a:gd name="textAreaBottom" fmla="*/ 1084680 h 1084320"/>
            </a:gdLst>
            <a:ahLst/>
            <a:rect l="textAreaLeft" t="textAreaTop" r="textAreaRight" b="textAreaBottom"/>
            <a:pathLst>
              <a:path w="1573" h="1366">
                <a:moveTo>
                  <a:pt x="883" y="1189"/>
                </a:moveTo>
                <a:lnTo>
                  <a:pt x="879" y="1171"/>
                </a:lnTo>
                <a:lnTo>
                  <a:pt x="885" y="1145"/>
                </a:lnTo>
                <a:lnTo>
                  <a:pt x="901" y="1126"/>
                </a:lnTo>
                <a:lnTo>
                  <a:pt x="901" y="1104"/>
                </a:lnTo>
                <a:lnTo>
                  <a:pt x="885" y="1090"/>
                </a:lnTo>
                <a:lnTo>
                  <a:pt x="859" y="1076"/>
                </a:lnTo>
                <a:lnTo>
                  <a:pt x="863" y="1052"/>
                </a:lnTo>
                <a:lnTo>
                  <a:pt x="857" y="1024"/>
                </a:lnTo>
                <a:lnTo>
                  <a:pt x="839" y="1016"/>
                </a:lnTo>
                <a:lnTo>
                  <a:pt x="825" y="1008"/>
                </a:lnTo>
                <a:lnTo>
                  <a:pt x="827" y="979"/>
                </a:lnTo>
                <a:lnTo>
                  <a:pt x="819" y="947"/>
                </a:lnTo>
                <a:lnTo>
                  <a:pt x="806" y="931"/>
                </a:lnTo>
                <a:lnTo>
                  <a:pt x="788" y="915"/>
                </a:lnTo>
                <a:lnTo>
                  <a:pt x="770" y="911"/>
                </a:lnTo>
                <a:lnTo>
                  <a:pt x="774" y="893"/>
                </a:lnTo>
                <a:lnTo>
                  <a:pt x="792" y="891"/>
                </a:lnTo>
                <a:lnTo>
                  <a:pt x="810" y="889"/>
                </a:lnTo>
                <a:lnTo>
                  <a:pt x="821" y="869"/>
                </a:lnTo>
                <a:lnTo>
                  <a:pt x="818" y="850"/>
                </a:lnTo>
                <a:lnTo>
                  <a:pt x="806" y="842"/>
                </a:lnTo>
                <a:lnTo>
                  <a:pt x="794" y="836"/>
                </a:lnTo>
                <a:lnTo>
                  <a:pt x="800" y="820"/>
                </a:lnTo>
                <a:lnTo>
                  <a:pt x="814" y="800"/>
                </a:lnTo>
                <a:lnTo>
                  <a:pt x="819" y="772"/>
                </a:lnTo>
                <a:lnTo>
                  <a:pt x="814" y="754"/>
                </a:lnTo>
                <a:lnTo>
                  <a:pt x="821" y="732"/>
                </a:lnTo>
                <a:lnTo>
                  <a:pt x="827" y="705"/>
                </a:lnTo>
                <a:lnTo>
                  <a:pt x="800" y="695"/>
                </a:lnTo>
                <a:lnTo>
                  <a:pt x="774" y="705"/>
                </a:lnTo>
                <a:lnTo>
                  <a:pt x="764" y="722"/>
                </a:lnTo>
                <a:lnTo>
                  <a:pt x="742" y="726"/>
                </a:lnTo>
                <a:lnTo>
                  <a:pt x="732" y="740"/>
                </a:lnTo>
                <a:lnTo>
                  <a:pt x="722" y="758"/>
                </a:lnTo>
                <a:lnTo>
                  <a:pt x="708" y="766"/>
                </a:lnTo>
                <a:lnTo>
                  <a:pt x="697" y="746"/>
                </a:lnTo>
                <a:lnTo>
                  <a:pt x="687" y="722"/>
                </a:lnTo>
                <a:lnTo>
                  <a:pt x="675" y="701"/>
                </a:lnTo>
                <a:lnTo>
                  <a:pt x="667" y="689"/>
                </a:lnTo>
                <a:lnTo>
                  <a:pt x="651" y="693"/>
                </a:lnTo>
                <a:lnTo>
                  <a:pt x="639" y="707"/>
                </a:lnTo>
                <a:lnTo>
                  <a:pt x="631" y="728"/>
                </a:lnTo>
                <a:lnTo>
                  <a:pt x="619" y="717"/>
                </a:lnTo>
                <a:lnTo>
                  <a:pt x="607" y="705"/>
                </a:lnTo>
                <a:lnTo>
                  <a:pt x="589" y="713"/>
                </a:lnTo>
                <a:lnTo>
                  <a:pt x="578" y="732"/>
                </a:lnTo>
                <a:lnTo>
                  <a:pt x="560" y="748"/>
                </a:lnTo>
                <a:lnTo>
                  <a:pt x="556" y="766"/>
                </a:lnTo>
                <a:lnTo>
                  <a:pt x="572" y="792"/>
                </a:lnTo>
                <a:lnTo>
                  <a:pt x="578" y="822"/>
                </a:lnTo>
                <a:lnTo>
                  <a:pt x="583" y="863"/>
                </a:lnTo>
                <a:lnTo>
                  <a:pt x="574" y="891"/>
                </a:lnTo>
                <a:lnTo>
                  <a:pt x="560" y="911"/>
                </a:lnTo>
                <a:lnTo>
                  <a:pt x="538" y="913"/>
                </a:lnTo>
                <a:lnTo>
                  <a:pt x="516" y="919"/>
                </a:lnTo>
                <a:lnTo>
                  <a:pt x="500" y="935"/>
                </a:lnTo>
                <a:lnTo>
                  <a:pt x="480" y="955"/>
                </a:lnTo>
                <a:lnTo>
                  <a:pt x="461" y="965"/>
                </a:lnTo>
                <a:lnTo>
                  <a:pt x="443" y="963"/>
                </a:lnTo>
                <a:lnTo>
                  <a:pt x="431" y="951"/>
                </a:lnTo>
                <a:lnTo>
                  <a:pt x="423" y="929"/>
                </a:lnTo>
                <a:lnTo>
                  <a:pt x="431" y="909"/>
                </a:lnTo>
                <a:lnTo>
                  <a:pt x="419" y="889"/>
                </a:lnTo>
                <a:lnTo>
                  <a:pt x="409" y="865"/>
                </a:lnTo>
                <a:lnTo>
                  <a:pt x="411" y="842"/>
                </a:lnTo>
                <a:lnTo>
                  <a:pt x="421" y="816"/>
                </a:lnTo>
                <a:lnTo>
                  <a:pt x="417" y="794"/>
                </a:lnTo>
                <a:lnTo>
                  <a:pt x="397" y="780"/>
                </a:lnTo>
                <a:lnTo>
                  <a:pt x="371" y="772"/>
                </a:lnTo>
                <a:lnTo>
                  <a:pt x="355" y="756"/>
                </a:lnTo>
                <a:lnTo>
                  <a:pt x="346" y="728"/>
                </a:lnTo>
                <a:lnTo>
                  <a:pt x="332" y="711"/>
                </a:lnTo>
                <a:lnTo>
                  <a:pt x="308" y="707"/>
                </a:lnTo>
                <a:lnTo>
                  <a:pt x="290" y="718"/>
                </a:lnTo>
                <a:lnTo>
                  <a:pt x="294" y="750"/>
                </a:lnTo>
                <a:lnTo>
                  <a:pt x="280" y="776"/>
                </a:lnTo>
                <a:lnTo>
                  <a:pt x="264" y="788"/>
                </a:lnTo>
                <a:lnTo>
                  <a:pt x="252" y="810"/>
                </a:lnTo>
                <a:lnTo>
                  <a:pt x="230" y="822"/>
                </a:lnTo>
                <a:lnTo>
                  <a:pt x="209" y="834"/>
                </a:lnTo>
                <a:lnTo>
                  <a:pt x="195" y="850"/>
                </a:lnTo>
                <a:lnTo>
                  <a:pt x="167" y="854"/>
                </a:lnTo>
                <a:lnTo>
                  <a:pt x="141" y="846"/>
                </a:lnTo>
                <a:lnTo>
                  <a:pt x="117" y="850"/>
                </a:lnTo>
                <a:lnTo>
                  <a:pt x="90" y="857"/>
                </a:lnTo>
                <a:lnTo>
                  <a:pt x="96" y="816"/>
                </a:lnTo>
                <a:lnTo>
                  <a:pt x="98" y="780"/>
                </a:lnTo>
                <a:lnTo>
                  <a:pt x="92" y="744"/>
                </a:lnTo>
                <a:lnTo>
                  <a:pt x="80" y="730"/>
                </a:lnTo>
                <a:lnTo>
                  <a:pt x="56" y="728"/>
                </a:lnTo>
                <a:lnTo>
                  <a:pt x="34" y="720"/>
                </a:lnTo>
                <a:lnTo>
                  <a:pt x="10" y="711"/>
                </a:lnTo>
                <a:lnTo>
                  <a:pt x="0" y="695"/>
                </a:lnTo>
                <a:lnTo>
                  <a:pt x="2" y="667"/>
                </a:lnTo>
                <a:lnTo>
                  <a:pt x="14" y="643"/>
                </a:lnTo>
                <a:lnTo>
                  <a:pt x="26" y="629"/>
                </a:lnTo>
                <a:lnTo>
                  <a:pt x="52" y="623"/>
                </a:lnTo>
                <a:lnTo>
                  <a:pt x="80" y="633"/>
                </a:lnTo>
                <a:lnTo>
                  <a:pt x="104" y="641"/>
                </a:lnTo>
                <a:lnTo>
                  <a:pt x="131" y="629"/>
                </a:lnTo>
                <a:lnTo>
                  <a:pt x="143" y="609"/>
                </a:lnTo>
                <a:lnTo>
                  <a:pt x="145" y="578"/>
                </a:lnTo>
                <a:lnTo>
                  <a:pt x="139" y="544"/>
                </a:lnTo>
                <a:lnTo>
                  <a:pt x="135" y="518"/>
                </a:lnTo>
                <a:lnTo>
                  <a:pt x="145" y="492"/>
                </a:lnTo>
                <a:lnTo>
                  <a:pt x="157" y="464"/>
                </a:lnTo>
                <a:lnTo>
                  <a:pt x="165" y="431"/>
                </a:lnTo>
                <a:lnTo>
                  <a:pt x="173" y="397"/>
                </a:lnTo>
                <a:lnTo>
                  <a:pt x="175" y="365"/>
                </a:lnTo>
                <a:lnTo>
                  <a:pt x="169" y="333"/>
                </a:lnTo>
                <a:lnTo>
                  <a:pt x="191" y="343"/>
                </a:lnTo>
                <a:lnTo>
                  <a:pt x="199" y="323"/>
                </a:lnTo>
                <a:lnTo>
                  <a:pt x="213" y="309"/>
                </a:lnTo>
                <a:lnTo>
                  <a:pt x="230" y="304"/>
                </a:lnTo>
                <a:lnTo>
                  <a:pt x="242" y="315"/>
                </a:lnTo>
                <a:lnTo>
                  <a:pt x="254" y="335"/>
                </a:lnTo>
                <a:lnTo>
                  <a:pt x="268" y="347"/>
                </a:lnTo>
                <a:lnTo>
                  <a:pt x="272" y="325"/>
                </a:lnTo>
                <a:lnTo>
                  <a:pt x="268" y="300"/>
                </a:lnTo>
                <a:lnTo>
                  <a:pt x="256" y="282"/>
                </a:lnTo>
                <a:lnTo>
                  <a:pt x="232" y="272"/>
                </a:lnTo>
                <a:lnTo>
                  <a:pt x="209" y="274"/>
                </a:lnTo>
                <a:lnTo>
                  <a:pt x="185" y="278"/>
                </a:lnTo>
                <a:lnTo>
                  <a:pt x="165" y="268"/>
                </a:lnTo>
                <a:lnTo>
                  <a:pt x="157" y="246"/>
                </a:lnTo>
                <a:lnTo>
                  <a:pt x="155" y="222"/>
                </a:lnTo>
                <a:lnTo>
                  <a:pt x="167" y="194"/>
                </a:lnTo>
                <a:lnTo>
                  <a:pt x="187" y="184"/>
                </a:lnTo>
                <a:lnTo>
                  <a:pt x="195" y="165"/>
                </a:lnTo>
                <a:lnTo>
                  <a:pt x="179" y="153"/>
                </a:lnTo>
                <a:lnTo>
                  <a:pt x="165" y="139"/>
                </a:lnTo>
                <a:lnTo>
                  <a:pt x="169" y="121"/>
                </a:lnTo>
                <a:lnTo>
                  <a:pt x="187" y="117"/>
                </a:lnTo>
                <a:lnTo>
                  <a:pt x="203" y="119"/>
                </a:lnTo>
                <a:lnTo>
                  <a:pt x="213" y="105"/>
                </a:lnTo>
                <a:lnTo>
                  <a:pt x="230" y="93"/>
                </a:lnTo>
                <a:lnTo>
                  <a:pt x="258" y="87"/>
                </a:lnTo>
                <a:lnTo>
                  <a:pt x="296" y="95"/>
                </a:lnTo>
                <a:lnTo>
                  <a:pt x="334" y="91"/>
                </a:lnTo>
                <a:lnTo>
                  <a:pt x="363" y="83"/>
                </a:lnTo>
                <a:lnTo>
                  <a:pt x="399" y="73"/>
                </a:lnTo>
                <a:lnTo>
                  <a:pt x="433" y="63"/>
                </a:lnTo>
                <a:lnTo>
                  <a:pt x="465" y="61"/>
                </a:lnTo>
                <a:lnTo>
                  <a:pt x="488" y="71"/>
                </a:lnTo>
                <a:lnTo>
                  <a:pt x="498" y="85"/>
                </a:lnTo>
                <a:lnTo>
                  <a:pt x="494" y="107"/>
                </a:lnTo>
                <a:lnTo>
                  <a:pt x="486" y="131"/>
                </a:lnTo>
                <a:lnTo>
                  <a:pt x="488" y="153"/>
                </a:lnTo>
                <a:lnTo>
                  <a:pt x="496" y="172"/>
                </a:lnTo>
                <a:lnTo>
                  <a:pt x="498" y="194"/>
                </a:lnTo>
                <a:lnTo>
                  <a:pt x="488" y="208"/>
                </a:lnTo>
                <a:lnTo>
                  <a:pt x="478" y="222"/>
                </a:lnTo>
                <a:lnTo>
                  <a:pt x="488" y="236"/>
                </a:lnTo>
                <a:lnTo>
                  <a:pt x="502" y="226"/>
                </a:lnTo>
                <a:lnTo>
                  <a:pt x="518" y="234"/>
                </a:lnTo>
                <a:lnTo>
                  <a:pt x="534" y="222"/>
                </a:lnTo>
                <a:lnTo>
                  <a:pt x="554" y="214"/>
                </a:lnTo>
                <a:lnTo>
                  <a:pt x="562" y="200"/>
                </a:lnTo>
                <a:lnTo>
                  <a:pt x="546" y="180"/>
                </a:lnTo>
                <a:lnTo>
                  <a:pt x="552" y="157"/>
                </a:lnTo>
                <a:lnTo>
                  <a:pt x="566" y="141"/>
                </a:lnTo>
                <a:lnTo>
                  <a:pt x="585" y="143"/>
                </a:lnTo>
                <a:lnTo>
                  <a:pt x="595" y="159"/>
                </a:lnTo>
                <a:lnTo>
                  <a:pt x="611" y="168"/>
                </a:lnTo>
                <a:lnTo>
                  <a:pt x="627" y="180"/>
                </a:lnTo>
                <a:lnTo>
                  <a:pt x="615" y="204"/>
                </a:lnTo>
                <a:lnTo>
                  <a:pt x="601" y="224"/>
                </a:lnTo>
                <a:lnTo>
                  <a:pt x="605" y="246"/>
                </a:lnTo>
                <a:lnTo>
                  <a:pt x="609" y="270"/>
                </a:lnTo>
                <a:lnTo>
                  <a:pt x="623" y="252"/>
                </a:lnTo>
                <a:lnTo>
                  <a:pt x="637" y="224"/>
                </a:lnTo>
                <a:lnTo>
                  <a:pt x="647" y="196"/>
                </a:lnTo>
                <a:lnTo>
                  <a:pt x="645" y="184"/>
                </a:lnTo>
                <a:lnTo>
                  <a:pt x="643" y="167"/>
                </a:lnTo>
                <a:lnTo>
                  <a:pt x="627" y="139"/>
                </a:lnTo>
                <a:lnTo>
                  <a:pt x="623" y="107"/>
                </a:lnTo>
                <a:lnTo>
                  <a:pt x="631" y="75"/>
                </a:lnTo>
                <a:lnTo>
                  <a:pt x="643" y="39"/>
                </a:lnTo>
                <a:lnTo>
                  <a:pt x="655" y="12"/>
                </a:lnTo>
                <a:lnTo>
                  <a:pt x="673" y="0"/>
                </a:lnTo>
                <a:lnTo>
                  <a:pt x="689" y="4"/>
                </a:lnTo>
                <a:lnTo>
                  <a:pt x="714" y="20"/>
                </a:lnTo>
                <a:lnTo>
                  <a:pt x="742" y="28"/>
                </a:lnTo>
                <a:lnTo>
                  <a:pt x="766" y="29"/>
                </a:lnTo>
                <a:lnTo>
                  <a:pt x="794" y="22"/>
                </a:lnTo>
                <a:lnTo>
                  <a:pt x="821" y="26"/>
                </a:lnTo>
                <a:lnTo>
                  <a:pt x="841" y="37"/>
                </a:lnTo>
                <a:lnTo>
                  <a:pt x="871" y="39"/>
                </a:lnTo>
                <a:lnTo>
                  <a:pt x="895" y="59"/>
                </a:lnTo>
                <a:lnTo>
                  <a:pt x="907" y="77"/>
                </a:lnTo>
                <a:lnTo>
                  <a:pt x="915" y="93"/>
                </a:lnTo>
                <a:lnTo>
                  <a:pt x="938" y="97"/>
                </a:lnTo>
                <a:lnTo>
                  <a:pt x="956" y="113"/>
                </a:lnTo>
                <a:lnTo>
                  <a:pt x="964" y="135"/>
                </a:lnTo>
                <a:lnTo>
                  <a:pt x="978" y="153"/>
                </a:lnTo>
                <a:lnTo>
                  <a:pt x="1000" y="165"/>
                </a:lnTo>
                <a:lnTo>
                  <a:pt x="1018" y="172"/>
                </a:lnTo>
                <a:lnTo>
                  <a:pt x="1030" y="182"/>
                </a:lnTo>
                <a:lnTo>
                  <a:pt x="1038" y="208"/>
                </a:lnTo>
                <a:lnTo>
                  <a:pt x="1048" y="234"/>
                </a:lnTo>
                <a:lnTo>
                  <a:pt x="1063" y="248"/>
                </a:lnTo>
                <a:lnTo>
                  <a:pt x="1085" y="256"/>
                </a:lnTo>
                <a:lnTo>
                  <a:pt x="1107" y="248"/>
                </a:lnTo>
                <a:lnTo>
                  <a:pt x="1129" y="236"/>
                </a:lnTo>
                <a:lnTo>
                  <a:pt x="1147" y="234"/>
                </a:lnTo>
                <a:lnTo>
                  <a:pt x="1161" y="246"/>
                </a:lnTo>
                <a:lnTo>
                  <a:pt x="1176" y="258"/>
                </a:lnTo>
                <a:lnTo>
                  <a:pt x="1200" y="258"/>
                </a:lnTo>
                <a:lnTo>
                  <a:pt x="1224" y="248"/>
                </a:lnTo>
                <a:lnTo>
                  <a:pt x="1238" y="266"/>
                </a:lnTo>
                <a:lnTo>
                  <a:pt x="1256" y="274"/>
                </a:lnTo>
                <a:lnTo>
                  <a:pt x="1278" y="274"/>
                </a:lnTo>
                <a:lnTo>
                  <a:pt x="1297" y="274"/>
                </a:lnTo>
                <a:lnTo>
                  <a:pt x="1315" y="280"/>
                </a:lnTo>
                <a:lnTo>
                  <a:pt x="1333" y="300"/>
                </a:lnTo>
                <a:lnTo>
                  <a:pt x="1345" y="317"/>
                </a:lnTo>
                <a:lnTo>
                  <a:pt x="1355" y="333"/>
                </a:lnTo>
                <a:lnTo>
                  <a:pt x="1379" y="341"/>
                </a:lnTo>
                <a:lnTo>
                  <a:pt x="1399" y="353"/>
                </a:lnTo>
                <a:lnTo>
                  <a:pt x="1422" y="367"/>
                </a:lnTo>
                <a:lnTo>
                  <a:pt x="1448" y="379"/>
                </a:lnTo>
                <a:lnTo>
                  <a:pt x="1472" y="383"/>
                </a:lnTo>
                <a:lnTo>
                  <a:pt x="1492" y="395"/>
                </a:lnTo>
                <a:lnTo>
                  <a:pt x="1510" y="415"/>
                </a:lnTo>
                <a:lnTo>
                  <a:pt x="1514" y="415"/>
                </a:lnTo>
                <a:lnTo>
                  <a:pt x="1535" y="419"/>
                </a:lnTo>
                <a:lnTo>
                  <a:pt x="1559" y="409"/>
                </a:lnTo>
                <a:lnTo>
                  <a:pt x="1573" y="417"/>
                </a:lnTo>
                <a:lnTo>
                  <a:pt x="1573" y="446"/>
                </a:lnTo>
                <a:lnTo>
                  <a:pt x="1567" y="472"/>
                </a:lnTo>
                <a:lnTo>
                  <a:pt x="1557" y="488"/>
                </a:lnTo>
                <a:lnTo>
                  <a:pt x="1547" y="504"/>
                </a:lnTo>
                <a:lnTo>
                  <a:pt x="1531" y="510"/>
                </a:lnTo>
                <a:lnTo>
                  <a:pt x="1514" y="510"/>
                </a:lnTo>
                <a:lnTo>
                  <a:pt x="1496" y="498"/>
                </a:lnTo>
                <a:lnTo>
                  <a:pt x="1470" y="504"/>
                </a:lnTo>
                <a:lnTo>
                  <a:pt x="1454" y="512"/>
                </a:lnTo>
                <a:lnTo>
                  <a:pt x="1434" y="522"/>
                </a:lnTo>
                <a:lnTo>
                  <a:pt x="1418" y="532"/>
                </a:lnTo>
                <a:lnTo>
                  <a:pt x="1399" y="528"/>
                </a:lnTo>
                <a:lnTo>
                  <a:pt x="1377" y="538"/>
                </a:lnTo>
                <a:lnTo>
                  <a:pt x="1361" y="560"/>
                </a:lnTo>
                <a:lnTo>
                  <a:pt x="1379" y="583"/>
                </a:lnTo>
                <a:lnTo>
                  <a:pt x="1389" y="619"/>
                </a:lnTo>
                <a:lnTo>
                  <a:pt x="1403" y="657"/>
                </a:lnTo>
                <a:lnTo>
                  <a:pt x="1412" y="685"/>
                </a:lnTo>
                <a:lnTo>
                  <a:pt x="1414" y="715"/>
                </a:lnTo>
                <a:lnTo>
                  <a:pt x="1405" y="734"/>
                </a:lnTo>
                <a:lnTo>
                  <a:pt x="1401" y="758"/>
                </a:lnTo>
                <a:lnTo>
                  <a:pt x="1405" y="794"/>
                </a:lnTo>
                <a:lnTo>
                  <a:pt x="1403" y="826"/>
                </a:lnTo>
                <a:lnTo>
                  <a:pt x="1397" y="855"/>
                </a:lnTo>
                <a:lnTo>
                  <a:pt x="1387" y="879"/>
                </a:lnTo>
                <a:lnTo>
                  <a:pt x="1377" y="907"/>
                </a:lnTo>
                <a:lnTo>
                  <a:pt x="1375" y="931"/>
                </a:lnTo>
                <a:lnTo>
                  <a:pt x="1381" y="957"/>
                </a:lnTo>
                <a:lnTo>
                  <a:pt x="1365" y="975"/>
                </a:lnTo>
                <a:lnTo>
                  <a:pt x="1345" y="985"/>
                </a:lnTo>
                <a:lnTo>
                  <a:pt x="1325" y="989"/>
                </a:lnTo>
                <a:lnTo>
                  <a:pt x="1303" y="985"/>
                </a:lnTo>
                <a:lnTo>
                  <a:pt x="1288" y="989"/>
                </a:lnTo>
                <a:lnTo>
                  <a:pt x="1282" y="1002"/>
                </a:lnTo>
                <a:lnTo>
                  <a:pt x="1284" y="1028"/>
                </a:lnTo>
                <a:lnTo>
                  <a:pt x="1282" y="1056"/>
                </a:lnTo>
                <a:lnTo>
                  <a:pt x="1276" y="1074"/>
                </a:lnTo>
                <a:lnTo>
                  <a:pt x="1270" y="1094"/>
                </a:lnTo>
                <a:lnTo>
                  <a:pt x="1280" y="1128"/>
                </a:lnTo>
                <a:lnTo>
                  <a:pt x="1286" y="1151"/>
                </a:lnTo>
                <a:lnTo>
                  <a:pt x="1295" y="1185"/>
                </a:lnTo>
                <a:lnTo>
                  <a:pt x="1301" y="1211"/>
                </a:lnTo>
                <a:lnTo>
                  <a:pt x="1295" y="1227"/>
                </a:lnTo>
                <a:lnTo>
                  <a:pt x="1276" y="1239"/>
                </a:lnTo>
                <a:lnTo>
                  <a:pt x="1258" y="1235"/>
                </a:lnTo>
                <a:lnTo>
                  <a:pt x="1242" y="1215"/>
                </a:lnTo>
                <a:lnTo>
                  <a:pt x="1218" y="1229"/>
                </a:lnTo>
                <a:lnTo>
                  <a:pt x="1210" y="1249"/>
                </a:lnTo>
                <a:lnTo>
                  <a:pt x="1188" y="1265"/>
                </a:lnTo>
                <a:lnTo>
                  <a:pt x="1180" y="1274"/>
                </a:lnTo>
                <a:lnTo>
                  <a:pt x="1174" y="1282"/>
                </a:lnTo>
                <a:lnTo>
                  <a:pt x="1151" y="1298"/>
                </a:lnTo>
                <a:lnTo>
                  <a:pt x="1123" y="1310"/>
                </a:lnTo>
                <a:lnTo>
                  <a:pt x="1093" y="1308"/>
                </a:lnTo>
                <a:lnTo>
                  <a:pt x="1063" y="1314"/>
                </a:lnTo>
                <a:lnTo>
                  <a:pt x="1052" y="1310"/>
                </a:lnTo>
                <a:lnTo>
                  <a:pt x="1034" y="1310"/>
                </a:lnTo>
                <a:lnTo>
                  <a:pt x="1014" y="1324"/>
                </a:lnTo>
                <a:lnTo>
                  <a:pt x="998" y="1346"/>
                </a:lnTo>
                <a:lnTo>
                  <a:pt x="992" y="1358"/>
                </a:lnTo>
                <a:lnTo>
                  <a:pt x="970" y="1366"/>
                </a:lnTo>
                <a:lnTo>
                  <a:pt x="946" y="1358"/>
                </a:lnTo>
                <a:lnTo>
                  <a:pt x="929" y="1354"/>
                </a:lnTo>
                <a:lnTo>
                  <a:pt x="923" y="1336"/>
                </a:lnTo>
                <a:lnTo>
                  <a:pt x="938" y="1320"/>
                </a:lnTo>
                <a:lnTo>
                  <a:pt x="948" y="1292"/>
                </a:lnTo>
                <a:lnTo>
                  <a:pt x="952" y="1263"/>
                </a:lnTo>
                <a:lnTo>
                  <a:pt x="948" y="1237"/>
                </a:lnTo>
                <a:lnTo>
                  <a:pt x="958" y="1215"/>
                </a:lnTo>
                <a:lnTo>
                  <a:pt x="948" y="1201"/>
                </a:lnTo>
                <a:lnTo>
                  <a:pt x="931" y="1187"/>
                </a:lnTo>
                <a:lnTo>
                  <a:pt x="907" y="1187"/>
                </a:lnTo>
                <a:lnTo>
                  <a:pt x="883" y="1189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Freeform 57"/>
          <p:cNvSpPr/>
          <p:nvPr/>
        </p:nvSpPr>
        <p:spPr>
          <a:xfrm rot="4218000">
            <a:off x="1259280" y="4903560"/>
            <a:ext cx="936360" cy="959040"/>
          </a:xfrm>
          <a:custGeom>
            <a:avLst/>
            <a:gdLst>
              <a:gd name="textAreaLeft" fmla="*/ 0 w 936360"/>
              <a:gd name="textAreaRight" fmla="*/ 936720 w 936360"/>
              <a:gd name="textAreaTop" fmla="*/ 0 h 959040"/>
              <a:gd name="textAreaBottom" fmla="*/ 959400 h 959040"/>
            </a:gdLst>
            <a:ahLst/>
            <a:rect l="textAreaLeft" t="textAreaTop" r="textAreaRight" b="textAreaBottom"/>
            <a:pathLst>
              <a:path w="1180" h="1207">
                <a:moveTo>
                  <a:pt x="716" y="998"/>
                </a:moveTo>
                <a:lnTo>
                  <a:pt x="732" y="989"/>
                </a:lnTo>
                <a:lnTo>
                  <a:pt x="742" y="965"/>
                </a:lnTo>
                <a:lnTo>
                  <a:pt x="749" y="943"/>
                </a:lnTo>
                <a:lnTo>
                  <a:pt x="765" y="925"/>
                </a:lnTo>
                <a:lnTo>
                  <a:pt x="789" y="911"/>
                </a:lnTo>
                <a:lnTo>
                  <a:pt x="815" y="909"/>
                </a:lnTo>
                <a:lnTo>
                  <a:pt x="837" y="901"/>
                </a:lnTo>
                <a:lnTo>
                  <a:pt x="851" y="881"/>
                </a:lnTo>
                <a:lnTo>
                  <a:pt x="857" y="852"/>
                </a:lnTo>
                <a:lnTo>
                  <a:pt x="868" y="834"/>
                </a:lnTo>
                <a:lnTo>
                  <a:pt x="866" y="804"/>
                </a:lnTo>
                <a:lnTo>
                  <a:pt x="878" y="792"/>
                </a:lnTo>
                <a:lnTo>
                  <a:pt x="900" y="794"/>
                </a:lnTo>
                <a:lnTo>
                  <a:pt x="918" y="788"/>
                </a:lnTo>
                <a:lnTo>
                  <a:pt x="930" y="768"/>
                </a:lnTo>
                <a:lnTo>
                  <a:pt x="938" y="746"/>
                </a:lnTo>
                <a:lnTo>
                  <a:pt x="930" y="722"/>
                </a:lnTo>
                <a:lnTo>
                  <a:pt x="914" y="716"/>
                </a:lnTo>
                <a:lnTo>
                  <a:pt x="902" y="699"/>
                </a:lnTo>
                <a:lnTo>
                  <a:pt x="906" y="677"/>
                </a:lnTo>
                <a:lnTo>
                  <a:pt x="924" y="663"/>
                </a:lnTo>
                <a:lnTo>
                  <a:pt x="952" y="673"/>
                </a:lnTo>
                <a:lnTo>
                  <a:pt x="966" y="677"/>
                </a:lnTo>
                <a:lnTo>
                  <a:pt x="983" y="667"/>
                </a:lnTo>
                <a:lnTo>
                  <a:pt x="993" y="647"/>
                </a:lnTo>
                <a:lnTo>
                  <a:pt x="1001" y="625"/>
                </a:lnTo>
                <a:lnTo>
                  <a:pt x="1015" y="607"/>
                </a:lnTo>
                <a:lnTo>
                  <a:pt x="1033" y="599"/>
                </a:lnTo>
                <a:lnTo>
                  <a:pt x="1051" y="601"/>
                </a:lnTo>
                <a:lnTo>
                  <a:pt x="1061" y="615"/>
                </a:lnTo>
                <a:lnTo>
                  <a:pt x="1073" y="629"/>
                </a:lnTo>
                <a:lnTo>
                  <a:pt x="1087" y="615"/>
                </a:lnTo>
                <a:lnTo>
                  <a:pt x="1098" y="593"/>
                </a:lnTo>
                <a:lnTo>
                  <a:pt x="1108" y="568"/>
                </a:lnTo>
                <a:lnTo>
                  <a:pt x="1118" y="536"/>
                </a:lnTo>
                <a:lnTo>
                  <a:pt x="1138" y="516"/>
                </a:lnTo>
                <a:lnTo>
                  <a:pt x="1162" y="500"/>
                </a:lnTo>
                <a:lnTo>
                  <a:pt x="1158" y="482"/>
                </a:lnTo>
                <a:lnTo>
                  <a:pt x="1164" y="456"/>
                </a:lnTo>
                <a:lnTo>
                  <a:pt x="1180" y="437"/>
                </a:lnTo>
                <a:lnTo>
                  <a:pt x="1180" y="415"/>
                </a:lnTo>
                <a:lnTo>
                  <a:pt x="1164" y="401"/>
                </a:lnTo>
                <a:lnTo>
                  <a:pt x="1138" y="387"/>
                </a:lnTo>
                <a:lnTo>
                  <a:pt x="1142" y="363"/>
                </a:lnTo>
                <a:lnTo>
                  <a:pt x="1136" y="335"/>
                </a:lnTo>
                <a:lnTo>
                  <a:pt x="1118" y="327"/>
                </a:lnTo>
                <a:lnTo>
                  <a:pt x="1104" y="319"/>
                </a:lnTo>
                <a:lnTo>
                  <a:pt x="1106" y="290"/>
                </a:lnTo>
                <a:lnTo>
                  <a:pt x="1098" y="258"/>
                </a:lnTo>
                <a:lnTo>
                  <a:pt x="1085" y="242"/>
                </a:lnTo>
                <a:lnTo>
                  <a:pt x="1067" y="226"/>
                </a:lnTo>
                <a:lnTo>
                  <a:pt x="1049" y="222"/>
                </a:lnTo>
                <a:lnTo>
                  <a:pt x="1053" y="204"/>
                </a:lnTo>
                <a:lnTo>
                  <a:pt x="1071" y="202"/>
                </a:lnTo>
                <a:lnTo>
                  <a:pt x="1089" y="200"/>
                </a:lnTo>
                <a:lnTo>
                  <a:pt x="1100" y="180"/>
                </a:lnTo>
                <a:lnTo>
                  <a:pt x="1097" y="161"/>
                </a:lnTo>
                <a:lnTo>
                  <a:pt x="1085" y="153"/>
                </a:lnTo>
                <a:lnTo>
                  <a:pt x="1073" y="147"/>
                </a:lnTo>
                <a:lnTo>
                  <a:pt x="1079" y="131"/>
                </a:lnTo>
                <a:lnTo>
                  <a:pt x="1093" y="111"/>
                </a:lnTo>
                <a:lnTo>
                  <a:pt x="1098" y="83"/>
                </a:lnTo>
                <a:lnTo>
                  <a:pt x="1093" y="65"/>
                </a:lnTo>
                <a:lnTo>
                  <a:pt x="1100" y="43"/>
                </a:lnTo>
                <a:lnTo>
                  <a:pt x="1106" y="16"/>
                </a:lnTo>
                <a:lnTo>
                  <a:pt x="1079" y="6"/>
                </a:lnTo>
                <a:lnTo>
                  <a:pt x="1053" y="16"/>
                </a:lnTo>
                <a:lnTo>
                  <a:pt x="1043" y="33"/>
                </a:lnTo>
                <a:lnTo>
                  <a:pt x="1021" y="37"/>
                </a:lnTo>
                <a:lnTo>
                  <a:pt x="1011" y="51"/>
                </a:lnTo>
                <a:lnTo>
                  <a:pt x="1001" y="69"/>
                </a:lnTo>
                <a:lnTo>
                  <a:pt x="987" y="77"/>
                </a:lnTo>
                <a:lnTo>
                  <a:pt x="976" y="57"/>
                </a:lnTo>
                <a:lnTo>
                  <a:pt x="966" y="33"/>
                </a:lnTo>
                <a:lnTo>
                  <a:pt x="954" y="12"/>
                </a:lnTo>
                <a:lnTo>
                  <a:pt x="946" y="0"/>
                </a:lnTo>
                <a:lnTo>
                  <a:pt x="930" y="4"/>
                </a:lnTo>
                <a:lnTo>
                  <a:pt x="918" y="18"/>
                </a:lnTo>
                <a:lnTo>
                  <a:pt x="910" y="39"/>
                </a:lnTo>
                <a:lnTo>
                  <a:pt x="898" y="28"/>
                </a:lnTo>
                <a:lnTo>
                  <a:pt x="886" y="16"/>
                </a:lnTo>
                <a:lnTo>
                  <a:pt x="868" y="24"/>
                </a:lnTo>
                <a:lnTo>
                  <a:pt x="857" y="43"/>
                </a:lnTo>
                <a:lnTo>
                  <a:pt x="839" y="59"/>
                </a:lnTo>
                <a:lnTo>
                  <a:pt x="835" y="77"/>
                </a:lnTo>
                <a:lnTo>
                  <a:pt x="851" y="103"/>
                </a:lnTo>
                <a:lnTo>
                  <a:pt x="857" y="133"/>
                </a:lnTo>
                <a:lnTo>
                  <a:pt x="862" y="174"/>
                </a:lnTo>
                <a:lnTo>
                  <a:pt x="853" y="202"/>
                </a:lnTo>
                <a:lnTo>
                  <a:pt x="839" y="222"/>
                </a:lnTo>
                <a:lnTo>
                  <a:pt x="817" y="224"/>
                </a:lnTo>
                <a:lnTo>
                  <a:pt x="795" y="230"/>
                </a:lnTo>
                <a:lnTo>
                  <a:pt x="779" y="246"/>
                </a:lnTo>
                <a:lnTo>
                  <a:pt x="759" y="266"/>
                </a:lnTo>
                <a:lnTo>
                  <a:pt x="740" y="276"/>
                </a:lnTo>
                <a:lnTo>
                  <a:pt x="722" y="274"/>
                </a:lnTo>
                <a:lnTo>
                  <a:pt x="710" y="262"/>
                </a:lnTo>
                <a:lnTo>
                  <a:pt x="702" y="240"/>
                </a:lnTo>
                <a:lnTo>
                  <a:pt x="710" y="220"/>
                </a:lnTo>
                <a:lnTo>
                  <a:pt x="698" y="200"/>
                </a:lnTo>
                <a:lnTo>
                  <a:pt x="688" y="176"/>
                </a:lnTo>
                <a:lnTo>
                  <a:pt x="690" y="153"/>
                </a:lnTo>
                <a:lnTo>
                  <a:pt x="700" y="127"/>
                </a:lnTo>
                <a:lnTo>
                  <a:pt x="696" y="105"/>
                </a:lnTo>
                <a:lnTo>
                  <a:pt x="676" y="91"/>
                </a:lnTo>
                <a:lnTo>
                  <a:pt x="650" y="83"/>
                </a:lnTo>
                <a:lnTo>
                  <a:pt x="634" y="67"/>
                </a:lnTo>
                <a:lnTo>
                  <a:pt x="625" y="39"/>
                </a:lnTo>
                <a:lnTo>
                  <a:pt x="611" y="22"/>
                </a:lnTo>
                <a:lnTo>
                  <a:pt x="587" y="18"/>
                </a:lnTo>
                <a:lnTo>
                  <a:pt x="569" y="29"/>
                </a:lnTo>
                <a:lnTo>
                  <a:pt x="573" y="61"/>
                </a:lnTo>
                <a:lnTo>
                  <a:pt x="559" y="87"/>
                </a:lnTo>
                <a:lnTo>
                  <a:pt x="543" y="99"/>
                </a:lnTo>
                <a:lnTo>
                  <a:pt x="531" y="121"/>
                </a:lnTo>
                <a:lnTo>
                  <a:pt x="509" y="133"/>
                </a:lnTo>
                <a:lnTo>
                  <a:pt x="488" y="145"/>
                </a:lnTo>
                <a:lnTo>
                  <a:pt x="474" y="161"/>
                </a:lnTo>
                <a:lnTo>
                  <a:pt x="446" y="165"/>
                </a:lnTo>
                <a:lnTo>
                  <a:pt x="420" y="157"/>
                </a:lnTo>
                <a:lnTo>
                  <a:pt x="396" y="161"/>
                </a:lnTo>
                <a:lnTo>
                  <a:pt x="369" y="168"/>
                </a:lnTo>
                <a:lnTo>
                  <a:pt x="349" y="182"/>
                </a:lnTo>
                <a:lnTo>
                  <a:pt x="333" y="202"/>
                </a:lnTo>
                <a:lnTo>
                  <a:pt x="311" y="218"/>
                </a:lnTo>
                <a:lnTo>
                  <a:pt x="303" y="232"/>
                </a:lnTo>
                <a:lnTo>
                  <a:pt x="301" y="256"/>
                </a:lnTo>
                <a:lnTo>
                  <a:pt x="311" y="286"/>
                </a:lnTo>
                <a:lnTo>
                  <a:pt x="301" y="309"/>
                </a:lnTo>
                <a:lnTo>
                  <a:pt x="281" y="323"/>
                </a:lnTo>
                <a:lnTo>
                  <a:pt x="250" y="329"/>
                </a:lnTo>
                <a:lnTo>
                  <a:pt x="216" y="341"/>
                </a:lnTo>
                <a:lnTo>
                  <a:pt x="182" y="349"/>
                </a:lnTo>
                <a:lnTo>
                  <a:pt x="156" y="361"/>
                </a:lnTo>
                <a:lnTo>
                  <a:pt x="129" y="367"/>
                </a:lnTo>
                <a:lnTo>
                  <a:pt x="107" y="361"/>
                </a:lnTo>
                <a:lnTo>
                  <a:pt x="85" y="349"/>
                </a:lnTo>
                <a:lnTo>
                  <a:pt x="61" y="355"/>
                </a:lnTo>
                <a:lnTo>
                  <a:pt x="47" y="373"/>
                </a:lnTo>
                <a:lnTo>
                  <a:pt x="41" y="401"/>
                </a:lnTo>
                <a:lnTo>
                  <a:pt x="55" y="425"/>
                </a:lnTo>
                <a:lnTo>
                  <a:pt x="77" y="444"/>
                </a:lnTo>
                <a:lnTo>
                  <a:pt x="89" y="468"/>
                </a:lnTo>
                <a:lnTo>
                  <a:pt x="91" y="490"/>
                </a:lnTo>
                <a:lnTo>
                  <a:pt x="115" y="500"/>
                </a:lnTo>
                <a:lnTo>
                  <a:pt x="135" y="520"/>
                </a:lnTo>
                <a:lnTo>
                  <a:pt x="137" y="550"/>
                </a:lnTo>
                <a:lnTo>
                  <a:pt x="125" y="579"/>
                </a:lnTo>
                <a:lnTo>
                  <a:pt x="119" y="611"/>
                </a:lnTo>
                <a:lnTo>
                  <a:pt x="107" y="643"/>
                </a:lnTo>
                <a:lnTo>
                  <a:pt x="93" y="669"/>
                </a:lnTo>
                <a:lnTo>
                  <a:pt x="79" y="699"/>
                </a:lnTo>
                <a:lnTo>
                  <a:pt x="61" y="726"/>
                </a:lnTo>
                <a:lnTo>
                  <a:pt x="37" y="744"/>
                </a:lnTo>
                <a:lnTo>
                  <a:pt x="20" y="770"/>
                </a:lnTo>
                <a:lnTo>
                  <a:pt x="16" y="794"/>
                </a:lnTo>
                <a:lnTo>
                  <a:pt x="26" y="828"/>
                </a:lnTo>
                <a:lnTo>
                  <a:pt x="18" y="854"/>
                </a:lnTo>
                <a:lnTo>
                  <a:pt x="8" y="879"/>
                </a:lnTo>
                <a:lnTo>
                  <a:pt x="0" y="913"/>
                </a:lnTo>
                <a:lnTo>
                  <a:pt x="4" y="941"/>
                </a:lnTo>
                <a:lnTo>
                  <a:pt x="12" y="969"/>
                </a:lnTo>
                <a:lnTo>
                  <a:pt x="30" y="983"/>
                </a:lnTo>
                <a:lnTo>
                  <a:pt x="49" y="1000"/>
                </a:lnTo>
                <a:lnTo>
                  <a:pt x="61" y="1022"/>
                </a:lnTo>
                <a:lnTo>
                  <a:pt x="73" y="1048"/>
                </a:lnTo>
                <a:lnTo>
                  <a:pt x="71" y="1072"/>
                </a:lnTo>
                <a:lnTo>
                  <a:pt x="69" y="1098"/>
                </a:lnTo>
                <a:lnTo>
                  <a:pt x="93" y="1112"/>
                </a:lnTo>
                <a:lnTo>
                  <a:pt x="113" y="1128"/>
                </a:lnTo>
                <a:lnTo>
                  <a:pt x="113" y="1149"/>
                </a:lnTo>
                <a:lnTo>
                  <a:pt x="119" y="1179"/>
                </a:lnTo>
                <a:lnTo>
                  <a:pt x="147" y="1199"/>
                </a:lnTo>
                <a:lnTo>
                  <a:pt x="162" y="1207"/>
                </a:lnTo>
                <a:lnTo>
                  <a:pt x="178" y="1199"/>
                </a:lnTo>
                <a:lnTo>
                  <a:pt x="184" y="1179"/>
                </a:lnTo>
                <a:lnTo>
                  <a:pt x="202" y="1171"/>
                </a:lnTo>
                <a:lnTo>
                  <a:pt x="222" y="1177"/>
                </a:lnTo>
                <a:lnTo>
                  <a:pt x="224" y="1157"/>
                </a:lnTo>
                <a:lnTo>
                  <a:pt x="232" y="1139"/>
                </a:lnTo>
                <a:lnTo>
                  <a:pt x="250" y="1133"/>
                </a:lnTo>
                <a:lnTo>
                  <a:pt x="277" y="1126"/>
                </a:lnTo>
                <a:lnTo>
                  <a:pt x="299" y="1114"/>
                </a:lnTo>
                <a:lnTo>
                  <a:pt x="323" y="1098"/>
                </a:lnTo>
                <a:lnTo>
                  <a:pt x="343" y="1090"/>
                </a:lnTo>
                <a:lnTo>
                  <a:pt x="357" y="1072"/>
                </a:lnTo>
                <a:lnTo>
                  <a:pt x="377" y="1054"/>
                </a:lnTo>
                <a:lnTo>
                  <a:pt x="398" y="1046"/>
                </a:lnTo>
                <a:lnTo>
                  <a:pt x="422" y="1042"/>
                </a:lnTo>
                <a:lnTo>
                  <a:pt x="444" y="1036"/>
                </a:lnTo>
                <a:lnTo>
                  <a:pt x="468" y="1042"/>
                </a:lnTo>
                <a:lnTo>
                  <a:pt x="490" y="1038"/>
                </a:lnTo>
                <a:lnTo>
                  <a:pt x="509" y="1026"/>
                </a:lnTo>
                <a:lnTo>
                  <a:pt x="525" y="1008"/>
                </a:lnTo>
                <a:lnTo>
                  <a:pt x="545" y="994"/>
                </a:lnTo>
                <a:lnTo>
                  <a:pt x="567" y="987"/>
                </a:lnTo>
                <a:lnTo>
                  <a:pt x="579" y="971"/>
                </a:lnTo>
                <a:lnTo>
                  <a:pt x="587" y="949"/>
                </a:lnTo>
                <a:lnTo>
                  <a:pt x="603" y="933"/>
                </a:lnTo>
                <a:lnTo>
                  <a:pt x="611" y="909"/>
                </a:lnTo>
                <a:lnTo>
                  <a:pt x="613" y="885"/>
                </a:lnTo>
                <a:lnTo>
                  <a:pt x="625" y="875"/>
                </a:lnTo>
                <a:lnTo>
                  <a:pt x="642" y="889"/>
                </a:lnTo>
                <a:lnTo>
                  <a:pt x="656" y="909"/>
                </a:lnTo>
                <a:lnTo>
                  <a:pt x="668" y="929"/>
                </a:lnTo>
                <a:lnTo>
                  <a:pt x="678" y="963"/>
                </a:lnTo>
                <a:lnTo>
                  <a:pt x="698" y="985"/>
                </a:lnTo>
                <a:lnTo>
                  <a:pt x="716" y="998"/>
                </a:lnTo>
                <a:close/>
              </a:path>
            </a:pathLst>
          </a:custGeom>
          <a:solidFill>
            <a:srgbClr val="60c9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58"/>
          <p:cNvSpPr/>
          <p:nvPr/>
        </p:nvSpPr>
        <p:spPr>
          <a:xfrm>
            <a:off x="5167080" y="1195560"/>
            <a:ext cx="56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59"/>
          <p:cNvSpPr/>
          <p:nvPr/>
        </p:nvSpPr>
        <p:spPr>
          <a:xfrm>
            <a:off x="3487680" y="495468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M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60"/>
          <p:cNvSpPr/>
          <p:nvPr/>
        </p:nvSpPr>
        <p:spPr>
          <a:xfrm>
            <a:off x="1738080" y="358452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F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61"/>
          <p:cNvSpPr/>
          <p:nvPr/>
        </p:nvSpPr>
        <p:spPr>
          <a:xfrm>
            <a:off x="7788240" y="4218120"/>
            <a:ext cx="90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иг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62"/>
          <p:cNvSpPr/>
          <p:nvPr/>
        </p:nvSpPr>
        <p:spPr>
          <a:xfrm>
            <a:off x="3339000" y="1068480"/>
            <a:ext cx="96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йзе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63"/>
          <p:cNvSpPr/>
          <p:nvPr/>
        </p:nvSpPr>
        <p:spPr>
          <a:xfrm>
            <a:off x="6199200" y="1569960"/>
            <a:ext cx="5097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64"/>
          <p:cNvSpPr/>
          <p:nvPr/>
        </p:nvSpPr>
        <p:spPr>
          <a:xfrm>
            <a:off x="5486400" y="35640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65"/>
          <p:cNvSpPr/>
          <p:nvPr/>
        </p:nvSpPr>
        <p:spPr>
          <a:xfrm>
            <a:off x="4351320" y="4214880"/>
            <a:ext cx="9028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анба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66"/>
          <p:cNvSpPr/>
          <p:nvPr/>
        </p:nvSpPr>
        <p:spPr>
          <a:xfrm>
            <a:off x="1185480" y="5154480"/>
            <a:ext cx="1094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oka-Yok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67"/>
          <p:cNvSpPr/>
          <p:nvPr/>
        </p:nvSpPr>
        <p:spPr>
          <a:xfrm>
            <a:off x="3985200" y="3100320"/>
            <a:ext cx="5677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68"/>
          <p:cNvSpPr/>
          <p:nvPr/>
        </p:nvSpPr>
        <p:spPr>
          <a:xfrm>
            <a:off x="4690800" y="5059440"/>
            <a:ext cx="7185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WO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69"/>
          <p:cNvSpPr/>
          <p:nvPr/>
        </p:nvSpPr>
        <p:spPr>
          <a:xfrm>
            <a:off x="2265120" y="4065480"/>
            <a:ext cx="692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70"/>
          <p:cNvSpPr/>
          <p:nvPr/>
        </p:nvSpPr>
        <p:spPr>
          <a:xfrm>
            <a:off x="5384880" y="3587760"/>
            <a:ext cx="7797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71"/>
          <p:cNvSpPr/>
          <p:nvPr/>
        </p:nvSpPr>
        <p:spPr>
          <a:xfrm>
            <a:off x="6041520" y="4676760"/>
            <a:ext cx="7214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72"/>
          <p:cNvSpPr/>
          <p:nvPr/>
        </p:nvSpPr>
        <p:spPr>
          <a:xfrm>
            <a:off x="1608480" y="2768760"/>
            <a:ext cx="16984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ust-In-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73"/>
          <p:cNvSpPr/>
          <p:nvPr/>
        </p:nvSpPr>
        <p:spPr>
          <a:xfrm>
            <a:off x="1347120" y="2048040"/>
            <a:ext cx="68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Q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74"/>
          <p:cNvSpPr/>
          <p:nvPr/>
        </p:nvSpPr>
        <p:spPr>
          <a:xfrm>
            <a:off x="2512800" y="143820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P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Freeform 75"/>
          <p:cNvSpPr/>
          <p:nvPr/>
        </p:nvSpPr>
        <p:spPr>
          <a:xfrm>
            <a:off x="6730920" y="2427120"/>
            <a:ext cx="1065240" cy="924120"/>
          </a:xfrm>
          <a:custGeom>
            <a:avLst/>
            <a:gdLst>
              <a:gd name="textAreaLeft" fmla="*/ 0 w 1065240"/>
              <a:gd name="textAreaRight" fmla="*/ 1065240 w 1065240"/>
              <a:gd name="textAreaTop" fmla="*/ 0 h 924120"/>
              <a:gd name="textAreaBottom" fmla="*/ 924480 h 924120"/>
            </a:gdLst>
            <a:ahLst/>
            <a:rect l="textAreaLeft" t="textAreaTop" r="textAreaRight" b="textAreaBottom"/>
            <a:pathLst>
              <a:path w="1342" h="1166">
                <a:moveTo>
                  <a:pt x="753" y="1015"/>
                </a:moveTo>
                <a:lnTo>
                  <a:pt x="750" y="1000"/>
                </a:lnTo>
                <a:lnTo>
                  <a:pt x="755" y="978"/>
                </a:lnTo>
                <a:lnTo>
                  <a:pt x="768" y="961"/>
                </a:lnTo>
                <a:lnTo>
                  <a:pt x="768" y="942"/>
                </a:lnTo>
                <a:lnTo>
                  <a:pt x="755" y="930"/>
                </a:lnTo>
                <a:lnTo>
                  <a:pt x="733" y="918"/>
                </a:lnTo>
                <a:lnTo>
                  <a:pt x="736" y="898"/>
                </a:lnTo>
                <a:lnTo>
                  <a:pt x="731" y="874"/>
                </a:lnTo>
                <a:lnTo>
                  <a:pt x="716" y="868"/>
                </a:lnTo>
                <a:lnTo>
                  <a:pt x="704" y="861"/>
                </a:lnTo>
                <a:lnTo>
                  <a:pt x="706" y="835"/>
                </a:lnTo>
                <a:lnTo>
                  <a:pt x="699" y="808"/>
                </a:lnTo>
                <a:lnTo>
                  <a:pt x="687" y="795"/>
                </a:lnTo>
                <a:lnTo>
                  <a:pt x="672" y="781"/>
                </a:lnTo>
                <a:lnTo>
                  <a:pt x="657" y="778"/>
                </a:lnTo>
                <a:lnTo>
                  <a:pt x="660" y="762"/>
                </a:lnTo>
                <a:lnTo>
                  <a:pt x="675" y="761"/>
                </a:lnTo>
                <a:lnTo>
                  <a:pt x="691" y="759"/>
                </a:lnTo>
                <a:lnTo>
                  <a:pt x="701" y="742"/>
                </a:lnTo>
                <a:lnTo>
                  <a:pt x="697" y="725"/>
                </a:lnTo>
                <a:lnTo>
                  <a:pt x="687" y="718"/>
                </a:lnTo>
                <a:lnTo>
                  <a:pt x="677" y="713"/>
                </a:lnTo>
                <a:lnTo>
                  <a:pt x="682" y="700"/>
                </a:lnTo>
                <a:lnTo>
                  <a:pt x="694" y="683"/>
                </a:lnTo>
                <a:lnTo>
                  <a:pt x="699" y="659"/>
                </a:lnTo>
                <a:lnTo>
                  <a:pt x="694" y="644"/>
                </a:lnTo>
                <a:lnTo>
                  <a:pt x="701" y="625"/>
                </a:lnTo>
                <a:lnTo>
                  <a:pt x="706" y="602"/>
                </a:lnTo>
                <a:lnTo>
                  <a:pt x="682" y="593"/>
                </a:lnTo>
                <a:lnTo>
                  <a:pt x="660" y="602"/>
                </a:lnTo>
                <a:lnTo>
                  <a:pt x="652" y="617"/>
                </a:lnTo>
                <a:lnTo>
                  <a:pt x="633" y="620"/>
                </a:lnTo>
                <a:lnTo>
                  <a:pt x="625" y="632"/>
                </a:lnTo>
                <a:lnTo>
                  <a:pt x="616" y="647"/>
                </a:lnTo>
                <a:lnTo>
                  <a:pt x="604" y="654"/>
                </a:lnTo>
                <a:lnTo>
                  <a:pt x="594" y="637"/>
                </a:lnTo>
                <a:lnTo>
                  <a:pt x="586" y="617"/>
                </a:lnTo>
                <a:lnTo>
                  <a:pt x="576" y="598"/>
                </a:lnTo>
                <a:lnTo>
                  <a:pt x="569" y="588"/>
                </a:lnTo>
                <a:lnTo>
                  <a:pt x="555" y="591"/>
                </a:lnTo>
                <a:lnTo>
                  <a:pt x="545" y="603"/>
                </a:lnTo>
                <a:lnTo>
                  <a:pt x="538" y="622"/>
                </a:lnTo>
                <a:lnTo>
                  <a:pt x="528" y="612"/>
                </a:lnTo>
                <a:lnTo>
                  <a:pt x="518" y="602"/>
                </a:lnTo>
                <a:lnTo>
                  <a:pt x="503" y="608"/>
                </a:lnTo>
                <a:lnTo>
                  <a:pt x="493" y="625"/>
                </a:lnTo>
                <a:lnTo>
                  <a:pt x="477" y="639"/>
                </a:lnTo>
                <a:lnTo>
                  <a:pt x="474" y="654"/>
                </a:lnTo>
                <a:lnTo>
                  <a:pt x="488" y="676"/>
                </a:lnTo>
                <a:lnTo>
                  <a:pt x="493" y="701"/>
                </a:lnTo>
                <a:lnTo>
                  <a:pt x="498" y="737"/>
                </a:lnTo>
                <a:lnTo>
                  <a:pt x="489" y="761"/>
                </a:lnTo>
                <a:lnTo>
                  <a:pt x="477" y="778"/>
                </a:lnTo>
                <a:lnTo>
                  <a:pt x="459" y="779"/>
                </a:lnTo>
                <a:lnTo>
                  <a:pt x="440" y="785"/>
                </a:lnTo>
                <a:lnTo>
                  <a:pt x="427" y="798"/>
                </a:lnTo>
                <a:lnTo>
                  <a:pt x="410" y="815"/>
                </a:lnTo>
                <a:lnTo>
                  <a:pt x="393" y="823"/>
                </a:lnTo>
                <a:lnTo>
                  <a:pt x="378" y="822"/>
                </a:lnTo>
                <a:lnTo>
                  <a:pt x="367" y="812"/>
                </a:lnTo>
                <a:lnTo>
                  <a:pt x="361" y="793"/>
                </a:lnTo>
                <a:lnTo>
                  <a:pt x="367" y="776"/>
                </a:lnTo>
                <a:lnTo>
                  <a:pt x="357" y="759"/>
                </a:lnTo>
                <a:lnTo>
                  <a:pt x="349" y="739"/>
                </a:lnTo>
                <a:lnTo>
                  <a:pt x="350" y="718"/>
                </a:lnTo>
                <a:lnTo>
                  <a:pt x="359" y="696"/>
                </a:lnTo>
                <a:lnTo>
                  <a:pt x="356" y="678"/>
                </a:lnTo>
                <a:lnTo>
                  <a:pt x="339" y="666"/>
                </a:lnTo>
                <a:lnTo>
                  <a:pt x="317" y="659"/>
                </a:lnTo>
                <a:lnTo>
                  <a:pt x="303" y="646"/>
                </a:lnTo>
                <a:lnTo>
                  <a:pt x="295" y="622"/>
                </a:lnTo>
                <a:lnTo>
                  <a:pt x="283" y="607"/>
                </a:lnTo>
                <a:lnTo>
                  <a:pt x="262" y="603"/>
                </a:lnTo>
                <a:lnTo>
                  <a:pt x="247" y="613"/>
                </a:lnTo>
                <a:lnTo>
                  <a:pt x="251" y="641"/>
                </a:lnTo>
                <a:lnTo>
                  <a:pt x="239" y="663"/>
                </a:lnTo>
                <a:lnTo>
                  <a:pt x="225" y="673"/>
                </a:lnTo>
                <a:lnTo>
                  <a:pt x="215" y="691"/>
                </a:lnTo>
                <a:lnTo>
                  <a:pt x="196" y="701"/>
                </a:lnTo>
                <a:lnTo>
                  <a:pt x="178" y="712"/>
                </a:lnTo>
                <a:lnTo>
                  <a:pt x="166" y="725"/>
                </a:lnTo>
                <a:lnTo>
                  <a:pt x="142" y="729"/>
                </a:lnTo>
                <a:lnTo>
                  <a:pt x="120" y="722"/>
                </a:lnTo>
                <a:lnTo>
                  <a:pt x="100" y="725"/>
                </a:lnTo>
                <a:lnTo>
                  <a:pt x="76" y="732"/>
                </a:lnTo>
                <a:lnTo>
                  <a:pt x="81" y="696"/>
                </a:lnTo>
                <a:lnTo>
                  <a:pt x="83" y="666"/>
                </a:lnTo>
                <a:lnTo>
                  <a:pt x="78" y="635"/>
                </a:lnTo>
                <a:lnTo>
                  <a:pt x="68" y="624"/>
                </a:lnTo>
                <a:lnTo>
                  <a:pt x="48" y="622"/>
                </a:lnTo>
                <a:lnTo>
                  <a:pt x="29" y="615"/>
                </a:lnTo>
                <a:lnTo>
                  <a:pt x="9" y="607"/>
                </a:lnTo>
                <a:lnTo>
                  <a:pt x="0" y="593"/>
                </a:lnTo>
                <a:lnTo>
                  <a:pt x="2" y="569"/>
                </a:lnTo>
                <a:lnTo>
                  <a:pt x="12" y="549"/>
                </a:lnTo>
                <a:lnTo>
                  <a:pt x="22" y="537"/>
                </a:lnTo>
                <a:lnTo>
                  <a:pt x="44" y="532"/>
                </a:lnTo>
                <a:lnTo>
                  <a:pt x="68" y="541"/>
                </a:lnTo>
                <a:lnTo>
                  <a:pt x="88" y="547"/>
                </a:lnTo>
                <a:lnTo>
                  <a:pt x="112" y="537"/>
                </a:lnTo>
                <a:lnTo>
                  <a:pt x="122" y="520"/>
                </a:lnTo>
                <a:lnTo>
                  <a:pt x="124" y="493"/>
                </a:lnTo>
                <a:lnTo>
                  <a:pt x="119" y="464"/>
                </a:lnTo>
                <a:lnTo>
                  <a:pt x="115" y="442"/>
                </a:lnTo>
                <a:lnTo>
                  <a:pt x="124" y="420"/>
                </a:lnTo>
                <a:lnTo>
                  <a:pt x="134" y="397"/>
                </a:lnTo>
                <a:lnTo>
                  <a:pt x="141" y="368"/>
                </a:lnTo>
                <a:lnTo>
                  <a:pt x="147" y="339"/>
                </a:lnTo>
                <a:lnTo>
                  <a:pt x="149" y="312"/>
                </a:lnTo>
                <a:lnTo>
                  <a:pt x="144" y="285"/>
                </a:lnTo>
                <a:lnTo>
                  <a:pt x="163" y="293"/>
                </a:lnTo>
                <a:lnTo>
                  <a:pt x="169" y="276"/>
                </a:lnTo>
                <a:lnTo>
                  <a:pt x="181" y="264"/>
                </a:lnTo>
                <a:lnTo>
                  <a:pt x="196" y="259"/>
                </a:lnTo>
                <a:lnTo>
                  <a:pt x="207" y="270"/>
                </a:lnTo>
                <a:lnTo>
                  <a:pt x="217" y="286"/>
                </a:lnTo>
                <a:lnTo>
                  <a:pt x="229" y="297"/>
                </a:lnTo>
                <a:lnTo>
                  <a:pt x="232" y="278"/>
                </a:lnTo>
                <a:lnTo>
                  <a:pt x="229" y="256"/>
                </a:lnTo>
                <a:lnTo>
                  <a:pt x="218" y="241"/>
                </a:lnTo>
                <a:lnTo>
                  <a:pt x="198" y="232"/>
                </a:lnTo>
                <a:lnTo>
                  <a:pt x="178" y="234"/>
                </a:lnTo>
                <a:lnTo>
                  <a:pt x="158" y="237"/>
                </a:lnTo>
                <a:lnTo>
                  <a:pt x="141" y="229"/>
                </a:lnTo>
                <a:lnTo>
                  <a:pt x="134" y="210"/>
                </a:lnTo>
                <a:lnTo>
                  <a:pt x="132" y="190"/>
                </a:lnTo>
                <a:lnTo>
                  <a:pt x="142" y="166"/>
                </a:lnTo>
                <a:lnTo>
                  <a:pt x="159" y="158"/>
                </a:lnTo>
                <a:lnTo>
                  <a:pt x="166" y="141"/>
                </a:lnTo>
                <a:lnTo>
                  <a:pt x="152" y="131"/>
                </a:lnTo>
                <a:lnTo>
                  <a:pt x="141" y="119"/>
                </a:lnTo>
                <a:lnTo>
                  <a:pt x="144" y="103"/>
                </a:lnTo>
                <a:lnTo>
                  <a:pt x="159" y="100"/>
                </a:lnTo>
                <a:lnTo>
                  <a:pt x="173" y="102"/>
                </a:lnTo>
                <a:lnTo>
                  <a:pt x="181" y="90"/>
                </a:lnTo>
                <a:lnTo>
                  <a:pt x="196" y="80"/>
                </a:lnTo>
                <a:lnTo>
                  <a:pt x="220" y="75"/>
                </a:lnTo>
                <a:lnTo>
                  <a:pt x="252" y="81"/>
                </a:lnTo>
                <a:lnTo>
                  <a:pt x="284" y="78"/>
                </a:lnTo>
                <a:lnTo>
                  <a:pt x="310" y="71"/>
                </a:lnTo>
                <a:lnTo>
                  <a:pt x="340" y="63"/>
                </a:lnTo>
                <a:lnTo>
                  <a:pt x="369" y="54"/>
                </a:lnTo>
                <a:lnTo>
                  <a:pt x="396" y="53"/>
                </a:lnTo>
                <a:lnTo>
                  <a:pt x="416" y="61"/>
                </a:lnTo>
                <a:lnTo>
                  <a:pt x="425" y="73"/>
                </a:lnTo>
                <a:lnTo>
                  <a:pt x="422" y="92"/>
                </a:lnTo>
                <a:lnTo>
                  <a:pt x="415" y="112"/>
                </a:lnTo>
                <a:lnTo>
                  <a:pt x="416" y="131"/>
                </a:lnTo>
                <a:lnTo>
                  <a:pt x="423" y="148"/>
                </a:lnTo>
                <a:lnTo>
                  <a:pt x="425" y="166"/>
                </a:lnTo>
                <a:lnTo>
                  <a:pt x="416" y="178"/>
                </a:lnTo>
                <a:lnTo>
                  <a:pt x="408" y="190"/>
                </a:lnTo>
                <a:lnTo>
                  <a:pt x="416" y="202"/>
                </a:lnTo>
                <a:lnTo>
                  <a:pt x="428" y="193"/>
                </a:lnTo>
                <a:lnTo>
                  <a:pt x="442" y="200"/>
                </a:lnTo>
                <a:lnTo>
                  <a:pt x="455" y="190"/>
                </a:lnTo>
                <a:lnTo>
                  <a:pt x="472" y="183"/>
                </a:lnTo>
                <a:lnTo>
                  <a:pt x="479" y="171"/>
                </a:lnTo>
                <a:lnTo>
                  <a:pt x="466" y="154"/>
                </a:lnTo>
                <a:lnTo>
                  <a:pt x="471" y="134"/>
                </a:lnTo>
                <a:lnTo>
                  <a:pt x="482" y="120"/>
                </a:lnTo>
                <a:lnTo>
                  <a:pt x="499" y="122"/>
                </a:lnTo>
                <a:lnTo>
                  <a:pt x="508" y="136"/>
                </a:lnTo>
                <a:lnTo>
                  <a:pt x="521" y="144"/>
                </a:lnTo>
                <a:lnTo>
                  <a:pt x="535" y="154"/>
                </a:lnTo>
                <a:lnTo>
                  <a:pt x="525" y="175"/>
                </a:lnTo>
                <a:lnTo>
                  <a:pt x="513" y="192"/>
                </a:lnTo>
                <a:lnTo>
                  <a:pt x="516" y="210"/>
                </a:lnTo>
                <a:lnTo>
                  <a:pt x="520" y="231"/>
                </a:lnTo>
                <a:lnTo>
                  <a:pt x="532" y="215"/>
                </a:lnTo>
                <a:lnTo>
                  <a:pt x="543" y="192"/>
                </a:lnTo>
                <a:lnTo>
                  <a:pt x="552" y="168"/>
                </a:lnTo>
                <a:lnTo>
                  <a:pt x="550" y="158"/>
                </a:lnTo>
                <a:lnTo>
                  <a:pt x="548" y="142"/>
                </a:lnTo>
                <a:lnTo>
                  <a:pt x="535" y="119"/>
                </a:lnTo>
                <a:lnTo>
                  <a:pt x="532" y="92"/>
                </a:lnTo>
                <a:lnTo>
                  <a:pt x="538" y="65"/>
                </a:lnTo>
                <a:lnTo>
                  <a:pt x="548" y="34"/>
                </a:lnTo>
                <a:lnTo>
                  <a:pt x="559" y="10"/>
                </a:lnTo>
                <a:lnTo>
                  <a:pt x="574" y="0"/>
                </a:lnTo>
                <a:lnTo>
                  <a:pt x="587" y="4"/>
                </a:lnTo>
                <a:lnTo>
                  <a:pt x="609" y="17"/>
                </a:lnTo>
                <a:lnTo>
                  <a:pt x="633" y="24"/>
                </a:lnTo>
                <a:lnTo>
                  <a:pt x="653" y="26"/>
                </a:lnTo>
                <a:lnTo>
                  <a:pt x="677" y="19"/>
                </a:lnTo>
                <a:lnTo>
                  <a:pt x="701" y="22"/>
                </a:lnTo>
                <a:lnTo>
                  <a:pt x="718" y="32"/>
                </a:lnTo>
                <a:lnTo>
                  <a:pt x="743" y="34"/>
                </a:lnTo>
                <a:lnTo>
                  <a:pt x="763" y="51"/>
                </a:lnTo>
                <a:lnTo>
                  <a:pt x="773" y="66"/>
                </a:lnTo>
                <a:lnTo>
                  <a:pt x="780" y="80"/>
                </a:lnTo>
                <a:lnTo>
                  <a:pt x="801" y="83"/>
                </a:lnTo>
                <a:lnTo>
                  <a:pt x="816" y="97"/>
                </a:lnTo>
                <a:lnTo>
                  <a:pt x="823" y="115"/>
                </a:lnTo>
                <a:lnTo>
                  <a:pt x="834" y="131"/>
                </a:lnTo>
                <a:lnTo>
                  <a:pt x="853" y="141"/>
                </a:lnTo>
                <a:lnTo>
                  <a:pt x="868" y="148"/>
                </a:lnTo>
                <a:lnTo>
                  <a:pt x="878" y="156"/>
                </a:lnTo>
                <a:lnTo>
                  <a:pt x="885" y="178"/>
                </a:lnTo>
                <a:lnTo>
                  <a:pt x="894" y="200"/>
                </a:lnTo>
                <a:lnTo>
                  <a:pt x="907" y="212"/>
                </a:lnTo>
                <a:lnTo>
                  <a:pt x="926" y="219"/>
                </a:lnTo>
                <a:lnTo>
                  <a:pt x="944" y="212"/>
                </a:lnTo>
                <a:lnTo>
                  <a:pt x="963" y="202"/>
                </a:lnTo>
                <a:lnTo>
                  <a:pt x="978" y="200"/>
                </a:lnTo>
                <a:lnTo>
                  <a:pt x="990" y="210"/>
                </a:lnTo>
                <a:lnTo>
                  <a:pt x="1004" y="220"/>
                </a:lnTo>
                <a:lnTo>
                  <a:pt x="1024" y="220"/>
                </a:lnTo>
                <a:lnTo>
                  <a:pt x="1044" y="212"/>
                </a:lnTo>
                <a:lnTo>
                  <a:pt x="1056" y="227"/>
                </a:lnTo>
                <a:lnTo>
                  <a:pt x="1071" y="234"/>
                </a:lnTo>
                <a:lnTo>
                  <a:pt x="1090" y="234"/>
                </a:lnTo>
                <a:lnTo>
                  <a:pt x="1107" y="234"/>
                </a:lnTo>
                <a:lnTo>
                  <a:pt x="1122" y="239"/>
                </a:lnTo>
                <a:lnTo>
                  <a:pt x="1137" y="256"/>
                </a:lnTo>
                <a:lnTo>
                  <a:pt x="1147" y="271"/>
                </a:lnTo>
                <a:lnTo>
                  <a:pt x="1156" y="285"/>
                </a:lnTo>
                <a:lnTo>
                  <a:pt x="1176" y="292"/>
                </a:lnTo>
                <a:lnTo>
                  <a:pt x="1193" y="302"/>
                </a:lnTo>
                <a:lnTo>
                  <a:pt x="1213" y="314"/>
                </a:lnTo>
                <a:lnTo>
                  <a:pt x="1235" y="324"/>
                </a:lnTo>
                <a:lnTo>
                  <a:pt x="1256" y="327"/>
                </a:lnTo>
                <a:lnTo>
                  <a:pt x="1273" y="337"/>
                </a:lnTo>
                <a:lnTo>
                  <a:pt x="1288" y="354"/>
                </a:lnTo>
                <a:lnTo>
                  <a:pt x="1291" y="354"/>
                </a:lnTo>
                <a:lnTo>
                  <a:pt x="1310" y="358"/>
                </a:lnTo>
                <a:lnTo>
                  <a:pt x="1330" y="349"/>
                </a:lnTo>
                <a:lnTo>
                  <a:pt x="1342" y="356"/>
                </a:lnTo>
                <a:lnTo>
                  <a:pt x="1342" y="381"/>
                </a:lnTo>
                <a:lnTo>
                  <a:pt x="1337" y="403"/>
                </a:lnTo>
                <a:lnTo>
                  <a:pt x="1329" y="417"/>
                </a:lnTo>
                <a:lnTo>
                  <a:pt x="1320" y="430"/>
                </a:lnTo>
                <a:lnTo>
                  <a:pt x="1307" y="436"/>
                </a:lnTo>
                <a:lnTo>
                  <a:pt x="1291" y="436"/>
                </a:lnTo>
                <a:lnTo>
                  <a:pt x="1276" y="425"/>
                </a:lnTo>
                <a:lnTo>
                  <a:pt x="1254" y="430"/>
                </a:lnTo>
                <a:lnTo>
                  <a:pt x="1241" y="437"/>
                </a:lnTo>
                <a:lnTo>
                  <a:pt x="1224" y="446"/>
                </a:lnTo>
                <a:lnTo>
                  <a:pt x="1210" y="454"/>
                </a:lnTo>
                <a:lnTo>
                  <a:pt x="1193" y="451"/>
                </a:lnTo>
                <a:lnTo>
                  <a:pt x="1175" y="459"/>
                </a:lnTo>
                <a:lnTo>
                  <a:pt x="1161" y="478"/>
                </a:lnTo>
                <a:lnTo>
                  <a:pt x="1176" y="498"/>
                </a:lnTo>
                <a:lnTo>
                  <a:pt x="1185" y="529"/>
                </a:lnTo>
                <a:lnTo>
                  <a:pt x="1197" y="561"/>
                </a:lnTo>
                <a:lnTo>
                  <a:pt x="1205" y="585"/>
                </a:lnTo>
                <a:lnTo>
                  <a:pt x="1207" y="610"/>
                </a:lnTo>
                <a:lnTo>
                  <a:pt x="1198" y="627"/>
                </a:lnTo>
                <a:lnTo>
                  <a:pt x="1195" y="647"/>
                </a:lnTo>
                <a:lnTo>
                  <a:pt x="1198" y="678"/>
                </a:lnTo>
                <a:lnTo>
                  <a:pt x="1197" y="705"/>
                </a:lnTo>
                <a:lnTo>
                  <a:pt x="1191" y="730"/>
                </a:lnTo>
                <a:lnTo>
                  <a:pt x="1183" y="751"/>
                </a:lnTo>
                <a:lnTo>
                  <a:pt x="1175" y="774"/>
                </a:lnTo>
                <a:lnTo>
                  <a:pt x="1173" y="795"/>
                </a:lnTo>
                <a:lnTo>
                  <a:pt x="1178" y="817"/>
                </a:lnTo>
                <a:lnTo>
                  <a:pt x="1164" y="832"/>
                </a:lnTo>
                <a:lnTo>
                  <a:pt x="1147" y="840"/>
                </a:lnTo>
                <a:lnTo>
                  <a:pt x="1131" y="844"/>
                </a:lnTo>
                <a:lnTo>
                  <a:pt x="1112" y="840"/>
                </a:lnTo>
                <a:lnTo>
                  <a:pt x="1098" y="844"/>
                </a:lnTo>
                <a:lnTo>
                  <a:pt x="1093" y="856"/>
                </a:lnTo>
                <a:lnTo>
                  <a:pt x="1095" y="878"/>
                </a:lnTo>
                <a:lnTo>
                  <a:pt x="1093" y="901"/>
                </a:lnTo>
                <a:lnTo>
                  <a:pt x="1088" y="917"/>
                </a:lnTo>
                <a:lnTo>
                  <a:pt x="1083" y="934"/>
                </a:lnTo>
                <a:lnTo>
                  <a:pt x="1092" y="962"/>
                </a:lnTo>
                <a:lnTo>
                  <a:pt x="1097" y="983"/>
                </a:lnTo>
                <a:lnTo>
                  <a:pt x="1105" y="1012"/>
                </a:lnTo>
                <a:lnTo>
                  <a:pt x="1110" y="1034"/>
                </a:lnTo>
                <a:lnTo>
                  <a:pt x="1105" y="1047"/>
                </a:lnTo>
                <a:lnTo>
                  <a:pt x="1088" y="1057"/>
                </a:lnTo>
                <a:lnTo>
                  <a:pt x="1073" y="1054"/>
                </a:lnTo>
                <a:lnTo>
                  <a:pt x="1059" y="1037"/>
                </a:lnTo>
                <a:lnTo>
                  <a:pt x="1039" y="1049"/>
                </a:lnTo>
                <a:lnTo>
                  <a:pt x="1032" y="1066"/>
                </a:lnTo>
                <a:lnTo>
                  <a:pt x="1014" y="1079"/>
                </a:lnTo>
                <a:lnTo>
                  <a:pt x="1007" y="1088"/>
                </a:lnTo>
                <a:lnTo>
                  <a:pt x="1002" y="1095"/>
                </a:lnTo>
                <a:lnTo>
                  <a:pt x="982" y="1108"/>
                </a:lnTo>
                <a:lnTo>
                  <a:pt x="958" y="1118"/>
                </a:lnTo>
                <a:lnTo>
                  <a:pt x="933" y="1117"/>
                </a:lnTo>
                <a:lnTo>
                  <a:pt x="907" y="1122"/>
                </a:lnTo>
                <a:lnTo>
                  <a:pt x="897" y="1118"/>
                </a:lnTo>
                <a:lnTo>
                  <a:pt x="882" y="1118"/>
                </a:lnTo>
                <a:lnTo>
                  <a:pt x="865" y="1130"/>
                </a:lnTo>
                <a:lnTo>
                  <a:pt x="851" y="1149"/>
                </a:lnTo>
                <a:lnTo>
                  <a:pt x="846" y="1159"/>
                </a:lnTo>
                <a:lnTo>
                  <a:pt x="828" y="1166"/>
                </a:lnTo>
                <a:lnTo>
                  <a:pt x="807" y="1159"/>
                </a:lnTo>
                <a:lnTo>
                  <a:pt x="792" y="1156"/>
                </a:lnTo>
                <a:lnTo>
                  <a:pt x="787" y="1140"/>
                </a:lnTo>
                <a:lnTo>
                  <a:pt x="801" y="1127"/>
                </a:lnTo>
                <a:lnTo>
                  <a:pt x="809" y="1103"/>
                </a:lnTo>
                <a:lnTo>
                  <a:pt x="812" y="1078"/>
                </a:lnTo>
                <a:lnTo>
                  <a:pt x="809" y="1056"/>
                </a:lnTo>
                <a:lnTo>
                  <a:pt x="817" y="1037"/>
                </a:lnTo>
                <a:lnTo>
                  <a:pt x="809" y="1025"/>
                </a:lnTo>
                <a:lnTo>
                  <a:pt x="794" y="1013"/>
                </a:lnTo>
                <a:lnTo>
                  <a:pt x="773" y="1013"/>
                </a:lnTo>
                <a:lnTo>
                  <a:pt x="753" y="1015"/>
                </a:lnTo>
                <a:close/>
              </a:path>
            </a:pathLst>
          </a:custGeom>
          <a:solidFill>
            <a:srgbClr val="00ffff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Freeform 76"/>
          <p:cNvSpPr/>
          <p:nvPr/>
        </p:nvSpPr>
        <p:spPr>
          <a:xfrm>
            <a:off x="7821720" y="2571840"/>
            <a:ext cx="718920" cy="777960"/>
          </a:xfrm>
          <a:custGeom>
            <a:avLst/>
            <a:gdLst>
              <a:gd name="textAreaLeft" fmla="*/ 0 w 718920"/>
              <a:gd name="textAreaRight" fmla="*/ 719280 w 718920"/>
              <a:gd name="textAreaTop" fmla="*/ 0 h 777960"/>
              <a:gd name="textAreaBottom" fmla="*/ 778320 h 777960"/>
            </a:gdLst>
            <a:ahLst/>
            <a:rect l="textAreaLeft" t="textAreaTop" r="textAreaRight" b="textAreaBottom"/>
            <a:pathLst>
              <a:path w="905" h="981">
                <a:moveTo>
                  <a:pt x="95" y="75"/>
                </a:moveTo>
                <a:lnTo>
                  <a:pt x="83" y="90"/>
                </a:lnTo>
                <a:lnTo>
                  <a:pt x="64" y="88"/>
                </a:lnTo>
                <a:lnTo>
                  <a:pt x="44" y="100"/>
                </a:lnTo>
                <a:lnTo>
                  <a:pt x="20" y="107"/>
                </a:lnTo>
                <a:lnTo>
                  <a:pt x="8" y="120"/>
                </a:lnTo>
                <a:lnTo>
                  <a:pt x="3" y="141"/>
                </a:lnTo>
                <a:lnTo>
                  <a:pt x="10" y="158"/>
                </a:lnTo>
                <a:lnTo>
                  <a:pt x="17" y="173"/>
                </a:lnTo>
                <a:lnTo>
                  <a:pt x="18" y="181"/>
                </a:lnTo>
                <a:lnTo>
                  <a:pt x="5" y="195"/>
                </a:lnTo>
                <a:lnTo>
                  <a:pt x="0" y="208"/>
                </a:lnTo>
                <a:lnTo>
                  <a:pt x="10" y="219"/>
                </a:lnTo>
                <a:lnTo>
                  <a:pt x="29" y="227"/>
                </a:lnTo>
                <a:lnTo>
                  <a:pt x="51" y="234"/>
                </a:lnTo>
                <a:lnTo>
                  <a:pt x="68" y="242"/>
                </a:lnTo>
                <a:lnTo>
                  <a:pt x="79" y="259"/>
                </a:lnTo>
                <a:lnTo>
                  <a:pt x="91" y="275"/>
                </a:lnTo>
                <a:lnTo>
                  <a:pt x="108" y="290"/>
                </a:lnTo>
                <a:lnTo>
                  <a:pt x="127" y="297"/>
                </a:lnTo>
                <a:lnTo>
                  <a:pt x="150" y="302"/>
                </a:lnTo>
                <a:lnTo>
                  <a:pt x="156" y="319"/>
                </a:lnTo>
                <a:lnTo>
                  <a:pt x="150" y="344"/>
                </a:lnTo>
                <a:lnTo>
                  <a:pt x="152" y="368"/>
                </a:lnTo>
                <a:lnTo>
                  <a:pt x="156" y="395"/>
                </a:lnTo>
                <a:lnTo>
                  <a:pt x="152" y="413"/>
                </a:lnTo>
                <a:lnTo>
                  <a:pt x="156" y="434"/>
                </a:lnTo>
                <a:lnTo>
                  <a:pt x="166" y="442"/>
                </a:lnTo>
                <a:lnTo>
                  <a:pt x="184" y="441"/>
                </a:lnTo>
                <a:lnTo>
                  <a:pt x="203" y="442"/>
                </a:lnTo>
                <a:lnTo>
                  <a:pt x="210" y="458"/>
                </a:lnTo>
                <a:lnTo>
                  <a:pt x="205" y="474"/>
                </a:lnTo>
                <a:lnTo>
                  <a:pt x="208" y="493"/>
                </a:lnTo>
                <a:lnTo>
                  <a:pt x="218" y="507"/>
                </a:lnTo>
                <a:lnTo>
                  <a:pt x="232" y="525"/>
                </a:lnTo>
                <a:lnTo>
                  <a:pt x="237" y="541"/>
                </a:lnTo>
                <a:lnTo>
                  <a:pt x="230" y="561"/>
                </a:lnTo>
                <a:lnTo>
                  <a:pt x="228" y="586"/>
                </a:lnTo>
                <a:lnTo>
                  <a:pt x="232" y="607"/>
                </a:lnTo>
                <a:lnTo>
                  <a:pt x="242" y="627"/>
                </a:lnTo>
                <a:lnTo>
                  <a:pt x="259" y="642"/>
                </a:lnTo>
                <a:lnTo>
                  <a:pt x="279" y="652"/>
                </a:lnTo>
                <a:lnTo>
                  <a:pt x="304" y="656"/>
                </a:lnTo>
                <a:lnTo>
                  <a:pt x="323" y="651"/>
                </a:lnTo>
                <a:lnTo>
                  <a:pt x="342" y="644"/>
                </a:lnTo>
                <a:lnTo>
                  <a:pt x="360" y="651"/>
                </a:lnTo>
                <a:lnTo>
                  <a:pt x="372" y="666"/>
                </a:lnTo>
                <a:lnTo>
                  <a:pt x="389" y="678"/>
                </a:lnTo>
                <a:lnTo>
                  <a:pt x="409" y="683"/>
                </a:lnTo>
                <a:lnTo>
                  <a:pt x="426" y="696"/>
                </a:lnTo>
                <a:lnTo>
                  <a:pt x="445" y="703"/>
                </a:lnTo>
                <a:lnTo>
                  <a:pt x="464" y="715"/>
                </a:lnTo>
                <a:lnTo>
                  <a:pt x="474" y="734"/>
                </a:lnTo>
                <a:lnTo>
                  <a:pt x="482" y="754"/>
                </a:lnTo>
                <a:lnTo>
                  <a:pt x="479" y="773"/>
                </a:lnTo>
                <a:lnTo>
                  <a:pt x="486" y="786"/>
                </a:lnTo>
                <a:lnTo>
                  <a:pt x="497" y="803"/>
                </a:lnTo>
                <a:lnTo>
                  <a:pt x="496" y="820"/>
                </a:lnTo>
                <a:lnTo>
                  <a:pt x="484" y="834"/>
                </a:lnTo>
                <a:lnTo>
                  <a:pt x="472" y="856"/>
                </a:lnTo>
                <a:lnTo>
                  <a:pt x="479" y="873"/>
                </a:lnTo>
                <a:lnTo>
                  <a:pt x="492" y="896"/>
                </a:lnTo>
                <a:lnTo>
                  <a:pt x="502" y="917"/>
                </a:lnTo>
                <a:lnTo>
                  <a:pt x="496" y="942"/>
                </a:lnTo>
                <a:lnTo>
                  <a:pt x="491" y="962"/>
                </a:lnTo>
                <a:lnTo>
                  <a:pt x="492" y="976"/>
                </a:lnTo>
                <a:lnTo>
                  <a:pt x="506" y="981"/>
                </a:lnTo>
                <a:lnTo>
                  <a:pt x="519" y="971"/>
                </a:lnTo>
                <a:lnTo>
                  <a:pt x="531" y="952"/>
                </a:lnTo>
                <a:lnTo>
                  <a:pt x="552" y="944"/>
                </a:lnTo>
                <a:lnTo>
                  <a:pt x="575" y="950"/>
                </a:lnTo>
                <a:lnTo>
                  <a:pt x="594" y="962"/>
                </a:lnTo>
                <a:lnTo>
                  <a:pt x="619" y="961"/>
                </a:lnTo>
                <a:lnTo>
                  <a:pt x="653" y="954"/>
                </a:lnTo>
                <a:lnTo>
                  <a:pt x="675" y="945"/>
                </a:lnTo>
                <a:lnTo>
                  <a:pt x="689" y="920"/>
                </a:lnTo>
                <a:lnTo>
                  <a:pt x="692" y="896"/>
                </a:lnTo>
                <a:lnTo>
                  <a:pt x="709" y="883"/>
                </a:lnTo>
                <a:lnTo>
                  <a:pt x="717" y="864"/>
                </a:lnTo>
                <a:lnTo>
                  <a:pt x="731" y="854"/>
                </a:lnTo>
                <a:lnTo>
                  <a:pt x="755" y="861"/>
                </a:lnTo>
                <a:lnTo>
                  <a:pt x="773" y="867"/>
                </a:lnTo>
                <a:lnTo>
                  <a:pt x="785" y="856"/>
                </a:lnTo>
                <a:lnTo>
                  <a:pt x="793" y="834"/>
                </a:lnTo>
                <a:lnTo>
                  <a:pt x="812" y="817"/>
                </a:lnTo>
                <a:lnTo>
                  <a:pt x="829" y="825"/>
                </a:lnTo>
                <a:lnTo>
                  <a:pt x="844" y="835"/>
                </a:lnTo>
                <a:lnTo>
                  <a:pt x="863" y="827"/>
                </a:lnTo>
                <a:lnTo>
                  <a:pt x="888" y="825"/>
                </a:lnTo>
                <a:lnTo>
                  <a:pt x="900" y="815"/>
                </a:lnTo>
                <a:lnTo>
                  <a:pt x="905" y="800"/>
                </a:lnTo>
                <a:lnTo>
                  <a:pt x="887" y="783"/>
                </a:lnTo>
                <a:lnTo>
                  <a:pt x="878" y="764"/>
                </a:lnTo>
                <a:lnTo>
                  <a:pt x="866" y="747"/>
                </a:lnTo>
                <a:lnTo>
                  <a:pt x="854" y="725"/>
                </a:lnTo>
                <a:lnTo>
                  <a:pt x="859" y="703"/>
                </a:lnTo>
                <a:lnTo>
                  <a:pt x="871" y="688"/>
                </a:lnTo>
                <a:lnTo>
                  <a:pt x="885" y="671"/>
                </a:lnTo>
                <a:lnTo>
                  <a:pt x="888" y="644"/>
                </a:lnTo>
                <a:lnTo>
                  <a:pt x="881" y="615"/>
                </a:lnTo>
                <a:lnTo>
                  <a:pt x="885" y="596"/>
                </a:lnTo>
                <a:lnTo>
                  <a:pt x="868" y="581"/>
                </a:lnTo>
                <a:lnTo>
                  <a:pt x="858" y="561"/>
                </a:lnTo>
                <a:lnTo>
                  <a:pt x="863" y="542"/>
                </a:lnTo>
                <a:lnTo>
                  <a:pt x="858" y="525"/>
                </a:lnTo>
                <a:lnTo>
                  <a:pt x="848" y="517"/>
                </a:lnTo>
                <a:lnTo>
                  <a:pt x="824" y="505"/>
                </a:lnTo>
                <a:lnTo>
                  <a:pt x="810" y="488"/>
                </a:lnTo>
                <a:lnTo>
                  <a:pt x="815" y="464"/>
                </a:lnTo>
                <a:lnTo>
                  <a:pt x="829" y="441"/>
                </a:lnTo>
                <a:lnTo>
                  <a:pt x="834" y="419"/>
                </a:lnTo>
                <a:lnTo>
                  <a:pt x="829" y="400"/>
                </a:lnTo>
                <a:lnTo>
                  <a:pt x="810" y="376"/>
                </a:lnTo>
                <a:lnTo>
                  <a:pt x="787" y="352"/>
                </a:lnTo>
                <a:lnTo>
                  <a:pt x="766" y="325"/>
                </a:lnTo>
                <a:lnTo>
                  <a:pt x="749" y="302"/>
                </a:lnTo>
                <a:lnTo>
                  <a:pt x="729" y="280"/>
                </a:lnTo>
                <a:lnTo>
                  <a:pt x="711" y="271"/>
                </a:lnTo>
                <a:lnTo>
                  <a:pt x="692" y="261"/>
                </a:lnTo>
                <a:lnTo>
                  <a:pt x="682" y="237"/>
                </a:lnTo>
                <a:lnTo>
                  <a:pt x="689" y="215"/>
                </a:lnTo>
                <a:lnTo>
                  <a:pt x="699" y="188"/>
                </a:lnTo>
                <a:lnTo>
                  <a:pt x="712" y="168"/>
                </a:lnTo>
                <a:lnTo>
                  <a:pt x="731" y="147"/>
                </a:lnTo>
                <a:lnTo>
                  <a:pt x="744" y="124"/>
                </a:lnTo>
                <a:lnTo>
                  <a:pt x="749" y="103"/>
                </a:lnTo>
                <a:lnTo>
                  <a:pt x="741" y="83"/>
                </a:lnTo>
                <a:lnTo>
                  <a:pt x="736" y="64"/>
                </a:lnTo>
                <a:lnTo>
                  <a:pt x="738" y="46"/>
                </a:lnTo>
                <a:lnTo>
                  <a:pt x="712" y="53"/>
                </a:lnTo>
                <a:lnTo>
                  <a:pt x="700" y="73"/>
                </a:lnTo>
                <a:lnTo>
                  <a:pt x="687" y="92"/>
                </a:lnTo>
                <a:lnTo>
                  <a:pt x="667" y="88"/>
                </a:lnTo>
                <a:lnTo>
                  <a:pt x="650" y="83"/>
                </a:lnTo>
                <a:lnTo>
                  <a:pt x="645" y="66"/>
                </a:lnTo>
                <a:lnTo>
                  <a:pt x="626" y="59"/>
                </a:lnTo>
                <a:lnTo>
                  <a:pt x="618" y="41"/>
                </a:lnTo>
                <a:lnTo>
                  <a:pt x="601" y="29"/>
                </a:lnTo>
                <a:lnTo>
                  <a:pt x="582" y="9"/>
                </a:lnTo>
                <a:lnTo>
                  <a:pt x="560" y="0"/>
                </a:lnTo>
                <a:lnTo>
                  <a:pt x="541" y="10"/>
                </a:lnTo>
                <a:lnTo>
                  <a:pt x="528" y="34"/>
                </a:lnTo>
                <a:lnTo>
                  <a:pt x="518" y="59"/>
                </a:lnTo>
                <a:lnTo>
                  <a:pt x="496" y="64"/>
                </a:lnTo>
                <a:lnTo>
                  <a:pt x="480" y="78"/>
                </a:lnTo>
                <a:lnTo>
                  <a:pt x="465" y="83"/>
                </a:lnTo>
                <a:lnTo>
                  <a:pt x="452" y="85"/>
                </a:lnTo>
                <a:lnTo>
                  <a:pt x="440" y="98"/>
                </a:lnTo>
                <a:lnTo>
                  <a:pt x="435" y="115"/>
                </a:lnTo>
                <a:lnTo>
                  <a:pt x="413" y="120"/>
                </a:lnTo>
                <a:lnTo>
                  <a:pt x="387" y="122"/>
                </a:lnTo>
                <a:lnTo>
                  <a:pt x="367" y="131"/>
                </a:lnTo>
                <a:lnTo>
                  <a:pt x="350" y="137"/>
                </a:lnTo>
                <a:lnTo>
                  <a:pt x="332" y="125"/>
                </a:lnTo>
                <a:lnTo>
                  <a:pt x="315" y="119"/>
                </a:lnTo>
                <a:lnTo>
                  <a:pt x="298" y="119"/>
                </a:lnTo>
                <a:lnTo>
                  <a:pt x="286" y="109"/>
                </a:lnTo>
                <a:lnTo>
                  <a:pt x="272" y="103"/>
                </a:lnTo>
                <a:lnTo>
                  <a:pt x="260" y="110"/>
                </a:lnTo>
                <a:lnTo>
                  <a:pt x="245" y="119"/>
                </a:lnTo>
                <a:lnTo>
                  <a:pt x="227" y="112"/>
                </a:lnTo>
                <a:lnTo>
                  <a:pt x="213" y="93"/>
                </a:lnTo>
                <a:lnTo>
                  <a:pt x="196" y="75"/>
                </a:lnTo>
                <a:lnTo>
                  <a:pt x="178" y="73"/>
                </a:lnTo>
                <a:lnTo>
                  <a:pt x="156" y="75"/>
                </a:lnTo>
                <a:lnTo>
                  <a:pt x="137" y="66"/>
                </a:lnTo>
                <a:lnTo>
                  <a:pt x="122" y="54"/>
                </a:lnTo>
                <a:lnTo>
                  <a:pt x="103" y="56"/>
                </a:lnTo>
                <a:lnTo>
                  <a:pt x="95" y="75"/>
                </a:lnTo>
                <a:close/>
              </a:path>
            </a:pathLst>
          </a:custGeom>
          <a:solidFill>
            <a:srgbClr val="ffffff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Freeform 77"/>
          <p:cNvSpPr/>
          <p:nvPr/>
        </p:nvSpPr>
        <p:spPr>
          <a:xfrm>
            <a:off x="7186680" y="2035080"/>
            <a:ext cx="528480" cy="576360"/>
          </a:xfrm>
          <a:custGeom>
            <a:avLst/>
            <a:gdLst>
              <a:gd name="textAreaLeft" fmla="*/ 0 w 528480"/>
              <a:gd name="textAreaRight" fmla="*/ 528840 w 528480"/>
              <a:gd name="textAreaTop" fmla="*/ 0 h 576360"/>
              <a:gd name="textAreaBottom" fmla="*/ 576360 h 576360"/>
            </a:gdLst>
            <a:ahLst/>
            <a:rect l="textAreaLeft" t="textAreaTop" r="textAreaRight" b="textAreaBottom"/>
            <a:pathLst>
              <a:path w="665" h="727">
                <a:moveTo>
                  <a:pt x="18" y="7"/>
                </a:moveTo>
                <a:lnTo>
                  <a:pt x="6" y="31"/>
                </a:lnTo>
                <a:lnTo>
                  <a:pt x="0" y="51"/>
                </a:lnTo>
                <a:lnTo>
                  <a:pt x="8" y="71"/>
                </a:lnTo>
                <a:lnTo>
                  <a:pt x="22" y="81"/>
                </a:lnTo>
                <a:lnTo>
                  <a:pt x="25" y="104"/>
                </a:lnTo>
                <a:lnTo>
                  <a:pt x="45" y="114"/>
                </a:lnTo>
                <a:lnTo>
                  <a:pt x="54" y="136"/>
                </a:lnTo>
                <a:lnTo>
                  <a:pt x="64" y="159"/>
                </a:lnTo>
                <a:lnTo>
                  <a:pt x="82" y="164"/>
                </a:lnTo>
                <a:lnTo>
                  <a:pt x="96" y="192"/>
                </a:lnTo>
                <a:lnTo>
                  <a:pt x="91" y="212"/>
                </a:lnTo>
                <a:lnTo>
                  <a:pt x="71" y="229"/>
                </a:lnTo>
                <a:lnTo>
                  <a:pt x="45" y="237"/>
                </a:lnTo>
                <a:lnTo>
                  <a:pt x="22" y="258"/>
                </a:lnTo>
                <a:lnTo>
                  <a:pt x="11" y="276"/>
                </a:lnTo>
                <a:lnTo>
                  <a:pt x="15" y="298"/>
                </a:lnTo>
                <a:lnTo>
                  <a:pt x="27" y="303"/>
                </a:lnTo>
                <a:lnTo>
                  <a:pt x="35" y="292"/>
                </a:lnTo>
                <a:lnTo>
                  <a:pt x="52" y="285"/>
                </a:lnTo>
                <a:lnTo>
                  <a:pt x="66" y="290"/>
                </a:lnTo>
                <a:lnTo>
                  <a:pt x="64" y="300"/>
                </a:lnTo>
                <a:lnTo>
                  <a:pt x="54" y="308"/>
                </a:lnTo>
                <a:lnTo>
                  <a:pt x="45" y="317"/>
                </a:lnTo>
                <a:lnTo>
                  <a:pt x="45" y="336"/>
                </a:lnTo>
                <a:lnTo>
                  <a:pt x="37" y="349"/>
                </a:lnTo>
                <a:lnTo>
                  <a:pt x="38" y="364"/>
                </a:lnTo>
                <a:lnTo>
                  <a:pt x="52" y="373"/>
                </a:lnTo>
                <a:lnTo>
                  <a:pt x="71" y="369"/>
                </a:lnTo>
                <a:lnTo>
                  <a:pt x="82" y="378"/>
                </a:lnTo>
                <a:lnTo>
                  <a:pt x="96" y="403"/>
                </a:lnTo>
                <a:lnTo>
                  <a:pt x="101" y="420"/>
                </a:lnTo>
                <a:lnTo>
                  <a:pt x="91" y="425"/>
                </a:lnTo>
                <a:lnTo>
                  <a:pt x="76" y="417"/>
                </a:lnTo>
                <a:lnTo>
                  <a:pt x="62" y="422"/>
                </a:lnTo>
                <a:lnTo>
                  <a:pt x="62" y="436"/>
                </a:lnTo>
                <a:lnTo>
                  <a:pt x="71" y="447"/>
                </a:lnTo>
                <a:lnTo>
                  <a:pt x="72" y="463"/>
                </a:lnTo>
                <a:lnTo>
                  <a:pt x="84" y="478"/>
                </a:lnTo>
                <a:lnTo>
                  <a:pt x="113" y="476"/>
                </a:lnTo>
                <a:lnTo>
                  <a:pt x="143" y="486"/>
                </a:lnTo>
                <a:lnTo>
                  <a:pt x="167" y="500"/>
                </a:lnTo>
                <a:lnTo>
                  <a:pt x="196" y="524"/>
                </a:lnTo>
                <a:lnTo>
                  <a:pt x="213" y="542"/>
                </a:lnTo>
                <a:lnTo>
                  <a:pt x="233" y="556"/>
                </a:lnTo>
                <a:lnTo>
                  <a:pt x="250" y="574"/>
                </a:lnTo>
                <a:lnTo>
                  <a:pt x="258" y="593"/>
                </a:lnTo>
                <a:lnTo>
                  <a:pt x="269" y="615"/>
                </a:lnTo>
                <a:lnTo>
                  <a:pt x="284" y="627"/>
                </a:lnTo>
                <a:lnTo>
                  <a:pt x="299" y="615"/>
                </a:lnTo>
                <a:lnTo>
                  <a:pt x="306" y="598"/>
                </a:lnTo>
                <a:lnTo>
                  <a:pt x="326" y="593"/>
                </a:lnTo>
                <a:lnTo>
                  <a:pt x="338" y="581"/>
                </a:lnTo>
                <a:lnTo>
                  <a:pt x="355" y="564"/>
                </a:lnTo>
                <a:lnTo>
                  <a:pt x="382" y="559"/>
                </a:lnTo>
                <a:lnTo>
                  <a:pt x="392" y="544"/>
                </a:lnTo>
                <a:lnTo>
                  <a:pt x="409" y="535"/>
                </a:lnTo>
                <a:lnTo>
                  <a:pt x="416" y="546"/>
                </a:lnTo>
                <a:lnTo>
                  <a:pt x="419" y="568"/>
                </a:lnTo>
                <a:lnTo>
                  <a:pt x="429" y="580"/>
                </a:lnTo>
                <a:lnTo>
                  <a:pt x="443" y="593"/>
                </a:lnTo>
                <a:lnTo>
                  <a:pt x="438" y="617"/>
                </a:lnTo>
                <a:lnTo>
                  <a:pt x="439" y="647"/>
                </a:lnTo>
                <a:lnTo>
                  <a:pt x="443" y="666"/>
                </a:lnTo>
                <a:lnTo>
                  <a:pt x="460" y="679"/>
                </a:lnTo>
                <a:lnTo>
                  <a:pt x="465" y="700"/>
                </a:lnTo>
                <a:lnTo>
                  <a:pt x="470" y="708"/>
                </a:lnTo>
                <a:lnTo>
                  <a:pt x="480" y="720"/>
                </a:lnTo>
                <a:lnTo>
                  <a:pt x="494" y="727"/>
                </a:lnTo>
                <a:lnTo>
                  <a:pt x="519" y="727"/>
                </a:lnTo>
                <a:lnTo>
                  <a:pt x="538" y="702"/>
                </a:lnTo>
                <a:lnTo>
                  <a:pt x="553" y="681"/>
                </a:lnTo>
                <a:lnTo>
                  <a:pt x="577" y="671"/>
                </a:lnTo>
                <a:lnTo>
                  <a:pt x="592" y="649"/>
                </a:lnTo>
                <a:lnTo>
                  <a:pt x="593" y="619"/>
                </a:lnTo>
                <a:lnTo>
                  <a:pt x="602" y="590"/>
                </a:lnTo>
                <a:lnTo>
                  <a:pt x="604" y="569"/>
                </a:lnTo>
                <a:lnTo>
                  <a:pt x="590" y="556"/>
                </a:lnTo>
                <a:lnTo>
                  <a:pt x="580" y="535"/>
                </a:lnTo>
                <a:lnTo>
                  <a:pt x="582" y="503"/>
                </a:lnTo>
                <a:lnTo>
                  <a:pt x="583" y="471"/>
                </a:lnTo>
                <a:lnTo>
                  <a:pt x="580" y="466"/>
                </a:lnTo>
                <a:lnTo>
                  <a:pt x="566" y="444"/>
                </a:lnTo>
                <a:lnTo>
                  <a:pt x="556" y="422"/>
                </a:lnTo>
                <a:lnTo>
                  <a:pt x="560" y="405"/>
                </a:lnTo>
                <a:lnTo>
                  <a:pt x="571" y="386"/>
                </a:lnTo>
                <a:lnTo>
                  <a:pt x="592" y="378"/>
                </a:lnTo>
                <a:lnTo>
                  <a:pt x="610" y="386"/>
                </a:lnTo>
                <a:lnTo>
                  <a:pt x="621" y="373"/>
                </a:lnTo>
                <a:lnTo>
                  <a:pt x="639" y="366"/>
                </a:lnTo>
                <a:lnTo>
                  <a:pt x="648" y="346"/>
                </a:lnTo>
                <a:lnTo>
                  <a:pt x="637" y="319"/>
                </a:lnTo>
                <a:lnTo>
                  <a:pt x="641" y="300"/>
                </a:lnTo>
                <a:lnTo>
                  <a:pt x="654" y="285"/>
                </a:lnTo>
                <a:lnTo>
                  <a:pt x="665" y="271"/>
                </a:lnTo>
                <a:lnTo>
                  <a:pt x="654" y="261"/>
                </a:lnTo>
                <a:lnTo>
                  <a:pt x="634" y="268"/>
                </a:lnTo>
                <a:lnTo>
                  <a:pt x="619" y="275"/>
                </a:lnTo>
                <a:lnTo>
                  <a:pt x="609" y="261"/>
                </a:lnTo>
                <a:lnTo>
                  <a:pt x="592" y="263"/>
                </a:lnTo>
                <a:lnTo>
                  <a:pt x="580" y="280"/>
                </a:lnTo>
                <a:lnTo>
                  <a:pt x="563" y="295"/>
                </a:lnTo>
                <a:lnTo>
                  <a:pt x="543" y="297"/>
                </a:lnTo>
                <a:lnTo>
                  <a:pt x="534" y="266"/>
                </a:lnTo>
                <a:lnTo>
                  <a:pt x="512" y="256"/>
                </a:lnTo>
                <a:lnTo>
                  <a:pt x="487" y="258"/>
                </a:lnTo>
                <a:lnTo>
                  <a:pt x="468" y="244"/>
                </a:lnTo>
                <a:lnTo>
                  <a:pt x="450" y="246"/>
                </a:lnTo>
                <a:lnTo>
                  <a:pt x="434" y="258"/>
                </a:lnTo>
                <a:lnTo>
                  <a:pt x="419" y="275"/>
                </a:lnTo>
                <a:lnTo>
                  <a:pt x="395" y="286"/>
                </a:lnTo>
                <a:lnTo>
                  <a:pt x="397" y="261"/>
                </a:lnTo>
                <a:lnTo>
                  <a:pt x="411" y="239"/>
                </a:lnTo>
                <a:lnTo>
                  <a:pt x="404" y="217"/>
                </a:lnTo>
                <a:lnTo>
                  <a:pt x="382" y="210"/>
                </a:lnTo>
                <a:lnTo>
                  <a:pt x="350" y="217"/>
                </a:lnTo>
                <a:lnTo>
                  <a:pt x="362" y="197"/>
                </a:lnTo>
                <a:lnTo>
                  <a:pt x="373" y="183"/>
                </a:lnTo>
                <a:lnTo>
                  <a:pt x="382" y="161"/>
                </a:lnTo>
                <a:lnTo>
                  <a:pt x="375" y="146"/>
                </a:lnTo>
                <a:lnTo>
                  <a:pt x="357" y="146"/>
                </a:lnTo>
                <a:lnTo>
                  <a:pt x="335" y="170"/>
                </a:lnTo>
                <a:lnTo>
                  <a:pt x="316" y="193"/>
                </a:lnTo>
                <a:lnTo>
                  <a:pt x="292" y="202"/>
                </a:lnTo>
                <a:lnTo>
                  <a:pt x="280" y="197"/>
                </a:lnTo>
                <a:lnTo>
                  <a:pt x="292" y="171"/>
                </a:lnTo>
                <a:lnTo>
                  <a:pt x="309" y="153"/>
                </a:lnTo>
                <a:lnTo>
                  <a:pt x="328" y="136"/>
                </a:lnTo>
                <a:lnTo>
                  <a:pt x="357" y="126"/>
                </a:lnTo>
                <a:lnTo>
                  <a:pt x="368" y="107"/>
                </a:lnTo>
                <a:lnTo>
                  <a:pt x="372" y="87"/>
                </a:lnTo>
                <a:lnTo>
                  <a:pt x="357" y="71"/>
                </a:lnTo>
                <a:lnTo>
                  <a:pt x="338" y="75"/>
                </a:lnTo>
                <a:lnTo>
                  <a:pt x="316" y="87"/>
                </a:lnTo>
                <a:lnTo>
                  <a:pt x="294" y="68"/>
                </a:lnTo>
                <a:lnTo>
                  <a:pt x="263" y="53"/>
                </a:lnTo>
                <a:lnTo>
                  <a:pt x="233" y="51"/>
                </a:lnTo>
                <a:lnTo>
                  <a:pt x="213" y="59"/>
                </a:lnTo>
                <a:lnTo>
                  <a:pt x="184" y="61"/>
                </a:lnTo>
                <a:lnTo>
                  <a:pt x="157" y="49"/>
                </a:lnTo>
                <a:lnTo>
                  <a:pt x="147" y="43"/>
                </a:lnTo>
                <a:lnTo>
                  <a:pt x="130" y="32"/>
                </a:lnTo>
                <a:lnTo>
                  <a:pt x="101" y="19"/>
                </a:lnTo>
                <a:lnTo>
                  <a:pt x="72" y="5"/>
                </a:lnTo>
                <a:lnTo>
                  <a:pt x="44" y="0"/>
                </a:lnTo>
                <a:lnTo>
                  <a:pt x="18" y="7"/>
                </a:lnTo>
                <a:close/>
              </a:path>
            </a:pathLst>
          </a:custGeom>
          <a:solidFill>
            <a:srgbClr val="b760f9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Group 78"/>
          <p:cNvGrpSpPr/>
          <p:nvPr/>
        </p:nvGrpSpPr>
        <p:grpSpPr>
          <a:xfrm>
            <a:off x="7599240" y="2119320"/>
            <a:ext cx="817560" cy="618840"/>
            <a:chOff x="7599240" y="2119320"/>
            <a:chExt cx="817560" cy="618840"/>
          </a:xfrm>
        </p:grpSpPr>
        <p:sp>
          <p:nvSpPr>
            <p:cNvPr id="173" name="Freeform 79"/>
            <p:cNvSpPr/>
            <p:nvPr/>
          </p:nvSpPr>
          <p:spPr>
            <a:xfrm>
              <a:off x="7599240" y="2192400"/>
              <a:ext cx="817560" cy="545760"/>
            </a:xfrm>
            <a:custGeom>
              <a:avLst/>
              <a:gdLst>
                <a:gd name="textAreaLeft" fmla="*/ 0 w 817560"/>
                <a:gd name="textAreaRight" fmla="*/ 817920 w 817560"/>
                <a:gd name="textAreaTop" fmla="*/ 0 h 545760"/>
                <a:gd name="textAreaBottom" fmla="*/ 546120 h 545760"/>
              </a:gdLst>
              <a:ahLst/>
              <a:rect l="textAreaLeft" t="textAreaTop" r="textAreaRight" b="textAreaBottom"/>
              <a:pathLst>
                <a:path w="1030" h="688">
                  <a:moveTo>
                    <a:pt x="376" y="553"/>
                  </a:moveTo>
                  <a:lnTo>
                    <a:pt x="364" y="568"/>
                  </a:lnTo>
                  <a:lnTo>
                    <a:pt x="345" y="566"/>
                  </a:lnTo>
                  <a:lnTo>
                    <a:pt x="325" y="578"/>
                  </a:lnTo>
                  <a:lnTo>
                    <a:pt x="301" y="585"/>
                  </a:lnTo>
                  <a:lnTo>
                    <a:pt x="289" y="598"/>
                  </a:lnTo>
                  <a:lnTo>
                    <a:pt x="284" y="619"/>
                  </a:lnTo>
                  <a:lnTo>
                    <a:pt x="291" y="636"/>
                  </a:lnTo>
                  <a:lnTo>
                    <a:pt x="299" y="659"/>
                  </a:lnTo>
                  <a:lnTo>
                    <a:pt x="286" y="673"/>
                  </a:lnTo>
                  <a:lnTo>
                    <a:pt x="283" y="688"/>
                  </a:lnTo>
                  <a:lnTo>
                    <a:pt x="276" y="668"/>
                  </a:lnTo>
                  <a:lnTo>
                    <a:pt x="257" y="654"/>
                  </a:lnTo>
                  <a:lnTo>
                    <a:pt x="244" y="649"/>
                  </a:lnTo>
                  <a:lnTo>
                    <a:pt x="235" y="644"/>
                  </a:lnTo>
                  <a:lnTo>
                    <a:pt x="215" y="653"/>
                  </a:lnTo>
                  <a:lnTo>
                    <a:pt x="200" y="649"/>
                  </a:lnTo>
                  <a:lnTo>
                    <a:pt x="191" y="648"/>
                  </a:lnTo>
                  <a:lnTo>
                    <a:pt x="178" y="632"/>
                  </a:lnTo>
                  <a:lnTo>
                    <a:pt x="161" y="622"/>
                  </a:lnTo>
                  <a:lnTo>
                    <a:pt x="140" y="619"/>
                  </a:lnTo>
                  <a:lnTo>
                    <a:pt x="113" y="607"/>
                  </a:lnTo>
                  <a:lnTo>
                    <a:pt x="80" y="585"/>
                  </a:lnTo>
                  <a:lnTo>
                    <a:pt x="59" y="580"/>
                  </a:lnTo>
                  <a:lnTo>
                    <a:pt x="54" y="570"/>
                  </a:lnTo>
                  <a:lnTo>
                    <a:pt x="42" y="553"/>
                  </a:lnTo>
                  <a:lnTo>
                    <a:pt x="27" y="534"/>
                  </a:lnTo>
                  <a:lnTo>
                    <a:pt x="12" y="529"/>
                  </a:lnTo>
                  <a:lnTo>
                    <a:pt x="0" y="529"/>
                  </a:lnTo>
                  <a:lnTo>
                    <a:pt x="19" y="505"/>
                  </a:lnTo>
                  <a:lnTo>
                    <a:pt x="34" y="485"/>
                  </a:lnTo>
                  <a:lnTo>
                    <a:pt x="58" y="473"/>
                  </a:lnTo>
                  <a:lnTo>
                    <a:pt x="73" y="451"/>
                  </a:lnTo>
                  <a:lnTo>
                    <a:pt x="74" y="422"/>
                  </a:lnTo>
                  <a:lnTo>
                    <a:pt x="83" y="393"/>
                  </a:lnTo>
                  <a:lnTo>
                    <a:pt x="85" y="373"/>
                  </a:lnTo>
                  <a:lnTo>
                    <a:pt x="71" y="361"/>
                  </a:lnTo>
                  <a:lnTo>
                    <a:pt x="61" y="339"/>
                  </a:lnTo>
                  <a:lnTo>
                    <a:pt x="63" y="307"/>
                  </a:lnTo>
                  <a:lnTo>
                    <a:pt x="64" y="275"/>
                  </a:lnTo>
                  <a:lnTo>
                    <a:pt x="71" y="297"/>
                  </a:lnTo>
                  <a:lnTo>
                    <a:pt x="83" y="302"/>
                  </a:lnTo>
                  <a:lnTo>
                    <a:pt x="96" y="292"/>
                  </a:lnTo>
                  <a:lnTo>
                    <a:pt x="91" y="268"/>
                  </a:lnTo>
                  <a:lnTo>
                    <a:pt x="93" y="249"/>
                  </a:lnTo>
                  <a:lnTo>
                    <a:pt x="103" y="236"/>
                  </a:lnTo>
                  <a:lnTo>
                    <a:pt x="125" y="231"/>
                  </a:lnTo>
                  <a:lnTo>
                    <a:pt x="144" y="236"/>
                  </a:lnTo>
                  <a:lnTo>
                    <a:pt x="166" y="260"/>
                  </a:lnTo>
                  <a:lnTo>
                    <a:pt x="181" y="254"/>
                  </a:lnTo>
                  <a:lnTo>
                    <a:pt x="198" y="265"/>
                  </a:lnTo>
                  <a:lnTo>
                    <a:pt x="217" y="270"/>
                  </a:lnTo>
                  <a:lnTo>
                    <a:pt x="228" y="254"/>
                  </a:lnTo>
                  <a:lnTo>
                    <a:pt x="227" y="232"/>
                  </a:lnTo>
                  <a:lnTo>
                    <a:pt x="244" y="224"/>
                  </a:lnTo>
                  <a:lnTo>
                    <a:pt x="235" y="214"/>
                  </a:lnTo>
                  <a:lnTo>
                    <a:pt x="234" y="195"/>
                  </a:lnTo>
                  <a:lnTo>
                    <a:pt x="247" y="180"/>
                  </a:lnTo>
                  <a:lnTo>
                    <a:pt x="269" y="187"/>
                  </a:lnTo>
                  <a:lnTo>
                    <a:pt x="283" y="171"/>
                  </a:lnTo>
                  <a:lnTo>
                    <a:pt x="306" y="166"/>
                  </a:lnTo>
                  <a:lnTo>
                    <a:pt x="328" y="170"/>
                  </a:lnTo>
                  <a:lnTo>
                    <a:pt x="347" y="160"/>
                  </a:lnTo>
                  <a:lnTo>
                    <a:pt x="367" y="158"/>
                  </a:lnTo>
                  <a:lnTo>
                    <a:pt x="374" y="177"/>
                  </a:lnTo>
                  <a:lnTo>
                    <a:pt x="381" y="188"/>
                  </a:lnTo>
                  <a:lnTo>
                    <a:pt x="398" y="190"/>
                  </a:lnTo>
                  <a:lnTo>
                    <a:pt x="408" y="178"/>
                  </a:lnTo>
                  <a:lnTo>
                    <a:pt x="393" y="153"/>
                  </a:lnTo>
                  <a:lnTo>
                    <a:pt x="401" y="134"/>
                  </a:lnTo>
                  <a:lnTo>
                    <a:pt x="421" y="116"/>
                  </a:lnTo>
                  <a:lnTo>
                    <a:pt x="437" y="87"/>
                  </a:lnTo>
                  <a:lnTo>
                    <a:pt x="447" y="63"/>
                  </a:lnTo>
                  <a:lnTo>
                    <a:pt x="460" y="39"/>
                  </a:lnTo>
                  <a:lnTo>
                    <a:pt x="474" y="17"/>
                  </a:lnTo>
                  <a:lnTo>
                    <a:pt x="492" y="4"/>
                  </a:lnTo>
                  <a:lnTo>
                    <a:pt x="513" y="7"/>
                  </a:lnTo>
                  <a:lnTo>
                    <a:pt x="538" y="2"/>
                  </a:lnTo>
                  <a:lnTo>
                    <a:pt x="560" y="0"/>
                  </a:lnTo>
                  <a:lnTo>
                    <a:pt x="579" y="2"/>
                  </a:lnTo>
                  <a:lnTo>
                    <a:pt x="589" y="14"/>
                  </a:lnTo>
                  <a:lnTo>
                    <a:pt x="582" y="27"/>
                  </a:lnTo>
                  <a:lnTo>
                    <a:pt x="567" y="33"/>
                  </a:lnTo>
                  <a:lnTo>
                    <a:pt x="541" y="27"/>
                  </a:lnTo>
                  <a:lnTo>
                    <a:pt x="523" y="33"/>
                  </a:lnTo>
                  <a:lnTo>
                    <a:pt x="516" y="41"/>
                  </a:lnTo>
                  <a:lnTo>
                    <a:pt x="496" y="44"/>
                  </a:lnTo>
                  <a:lnTo>
                    <a:pt x="482" y="50"/>
                  </a:lnTo>
                  <a:lnTo>
                    <a:pt x="472" y="65"/>
                  </a:lnTo>
                  <a:lnTo>
                    <a:pt x="460" y="83"/>
                  </a:lnTo>
                  <a:lnTo>
                    <a:pt x="455" y="100"/>
                  </a:lnTo>
                  <a:lnTo>
                    <a:pt x="459" y="110"/>
                  </a:lnTo>
                  <a:lnTo>
                    <a:pt x="472" y="107"/>
                  </a:lnTo>
                  <a:lnTo>
                    <a:pt x="479" y="88"/>
                  </a:lnTo>
                  <a:lnTo>
                    <a:pt x="492" y="68"/>
                  </a:lnTo>
                  <a:lnTo>
                    <a:pt x="506" y="60"/>
                  </a:lnTo>
                  <a:lnTo>
                    <a:pt x="521" y="65"/>
                  </a:lnTo>
                  <a:lnTo>
                    <a:pt x="533" y="51"/>
                  </a:lnTo>
                  <a:lnTo>
                    <a:pt x="548" y="44"/>
                  </a:lnTo>
                  <a:lnTo>
                    <a:pt x="560" y="50"/>
                  </a:lnTo>
                  <a:lnTo>
                    <a:pt x="569" y="63"/>
                  </a:lnTo>
                  <a:lnTo>
                    <a:pt x="582" y="58"/>
                  </a:lnTo>
                  <a:lnTo>
                    <a:pt x="597" y="44"/>
                  </a:lnTo>
                  <a:lnTo>
                    <a:pt x="616" y="46"/>
                  </a:lnTo>
                  <a:lnTo>
                    <a:pt x="619" y="58"/>
                  </a:lnTo>
                  <a:lnTo>
                    <a:pt x="624" y="77"/>
                  </a:lnTo>
                  <a:lnTo>
                    <a:pt x="635" y="94"/>
                  </a:lnTo>
                  <a:lnTo>
                    <a:pt x="658" y="100"/>
                  </a:lnTo>
                  <a:lnTo>
                    <a:pt x="684" y="112"/>
                  </a:lnTo>
                  <a:lnTo>
                    <a:pt x="702" y="126"/>
                  </a:lnTo>
                  <a:lnTo>
                    <a:pt x="716" y="144"/>
                  </a:lnTo>
                  <a:lnTo>
                    <a:pt x="723" y="166"/>
                  </a:lnTo>
                  <a:lnTo>
                    <a:pt x="738" y="170"/>
                  </a:lnTo>
                  <a:lnTo>
                    <a:pt x="748" y="158"/>
                  </a:lnTo>
                  <a:lnTo>
                    <a:pt x="751" y="141"/>
                  </a:lnTo>
                  <a:lnTo>
                    <a:pt x="761" y="133"/>
                  </a:lnTo>
                  <a:lnTo>
                    <a:pt x="772" y="143"/>
                  </a:lnTo>
                  <a:lnTo>
                    <a:pt x="789" y="133"/>
                  </a:lnTo>
                  <a:lnTo>
                    <a:pt x="807" y="138"/>
                  </a:lnTo>
                  <a:lnTo>
                    <a:pt x="817" y="153"/>
                  </a:lnTo>
                  <a:lnTo>
                    <a:pt x="817" y="175"/>
                  </a:lnTo>
                  <a:lnTo>
                    <a:pt x="814" y="199"/>
                  </a:lnTo>
                  <a:lnTo>
                    <a:pt x="819" y="216"/>
                  </a:lnTo>
                  <a:lnTo>
                    <a:pt x="836" y="226"/>
                  </a:lnTo>
                  <a:lnTo>
                    <a:pt x="851" y="246"/>
                  </a:lnTo>
                  <a:lnTo>
                    <a:pt x="844" y="268"/>
                  </a:lnTo>
                  <a:lnTo>
                    <a:pt x="849" y="287"/>
                  </a:lnTo>
                  <a:lnTo>
                    <a:pt x="860" y="297"/>
                  </a:lnTo>
                  <a:lnTo>
                    <a:pt x="880" y="309"/>
                  </a:lnTo>
                  <a:lnTo>
                    <a:pt x="904" y="319"/>
                  </a:lnTo>
                  <a:lnTo>
                    <a:pt x="921" y="326"/>
                  </a:lnTo>
                  <a:lnTo>
                    <a:pt x="934" y="315"/>
                  </a:lnTo>
                  <a:lnTo>
                    <a:pt x="949" y="314"/>
                  </a:lnTo>
                  <a:lnTo>
                    <a:pt x="964" y="321"/>
                  </a:lnTo>
                  <a:lnTo>
                    <a:pt x="970" y="334"/>
                  </a:lnTo>
                  <a:lnTo>
                    <a:pt x="973" y="358"/>
                  </a:lnTo>
                  <a:lnTo>
                    <a:pt x="975" y="392"/>
                  </a:lnTo>
                  <a:lnTo>
                    <a:pt x="983" y="419"/>
                  </a:lnTo>
                  <a:lnTo>
                    <a:pt x="992" y="446"/>
                  </a:lnTo>
                  <a:lnTo>
                    <a:pt x="1007" y="468"/>
                  </a:lnTo>
                  <a:lnTo>
                    <a:pt x="1024" y="492"/>
                  </a:lnTo>
                  <a:lnTo>
                    <a:pt x="1030" y="512"/>
                  </a:lnTo>
                  <a:lnTo>
                    <a:pt x="1019" y="524"/>
                  </a:lnTo>
                  <a:lnTo>
                    <a:pt x="993" y="531"/>
                  </a:lnTo>
                  <a:lnTo>
                    <a:pt x="981" y="551"/>
                  </a:lnTo>
                  <a:lnTo>
                    <a:pt x="968" y="570"/>
                  </a:lnTo>
                  <a:lnTo>
                    <a:pt x="948" y="566"/>
                  </a:lnTo>
                  <a:lnTo>
                    <a:pt x="931" y="561"/>
                  </a:lnTo>
                  <a:lnTo>
                    <a:pt x="926" y="544"/>
                  </a:lnTo>
                  <a:lnTo>
                    <a:pt x="907" y="537"/>
                  </a:lnTo>
                  <a:lnTo>
                    <a:pt x="899" y="519"/>
                  </a:lnTo>
                  <a:lnTo>
                    <a:pt x="882" y="507"/>
                  </a:lnTo>
                  <a:lnTo>
                    <a:pt x="863" y="487"/>
                  </a:lnTo>
                  <a:lnTo>
                    <a:pt x="841" y="478"/>
                  </a:lnTo>
                  <a:lnTo>
                    <a:pt x="822" y="488"/>
                  </a:lnTo>
                  <a:lnTo>
                    <a:pt x="809" y="512"/>
                  </a:lnTo>
                  <a:lnTo>
                    <a:pt x="799" y="537"/>
                  </a:lnTo>
                  <a:lnTo>
                    <a:pt x="777" y="542"/>
                  </a:lnTo>
                  <a:lnTo>
                    <a:pt x="761" y="556"/>
                  </a:lnTo>
                  <a:lnTo>
                    <a:pt x="746" y="561"/>
                  </a:lnTo>
                  <a:lnTo>
                    <a:pt x="733" y="563"/>
                  </a:lnTo>
                  <a:lnTo>
                    <a:pt x="721" y="576"/>
                  </a:lnTo>
                  <a:lnTo>
                    <a:pt x="716" y="593"/>
                  </a:lnTo>
                  <a:lnTo>
                    <a:pt x="694" y="598"/>
                  </a:lnTo>
                  <a:lnTo>
                    <a:pt x="668" y="600"/>
                  </a:lnTo>
                  <a:lnTo>
                    <a:pt x="648" y="609"/>
                  </a:lnTo>
                  <a:lnTo>
                    <a:pt x="631" y="615"/>
                  </a:lnTo>
                  <a:lnTo>
                    <a:pt x="613" y="603"/>
                  </a:lnTo>
                  <a:lnTo>
                    <a:pt x="596" y="597"/>
                  </a:lnTo>
                  <a:lnTo>
                    <a:pt x="579" y="597"/>
                  </a:lnTo>
                  <a:lnTo>
                    <a:pt x="567" y="587"/>
                  </a:lnTo>
                  <a:lnTo>
                    <a:pt x="553" y="581"/>
                  </a:lnTo>
                  <a:lnTo>
                    <a:pt x="541" y="588"/>
                  </a:lnTo>
                  <a:lnTo>
                    <a:pt x="526" y="597"/>
                  </a:lnTo>
                  <a:lnTo>
                    <a:pt x="508" y="590"/>
                  </a:lnTo>
                  <a:lnTo>
                    <a:pt x="494" y="571"/>
                  </a:lnTo>
                  <a:lnTo>
                    <a:pt x="477" y="553"/>
                  </a:lnTo>
                  <a:lnTo>
                    <a:pt x="459" y="551"/>
                  </a:lnTo>
                  <a:lnTo>
                    <a:pt x="437" y="553"/>
                  </a:lnTo>
                  <a:lnTo>
                    <a:pt x="418" y="544"/>
                  </a:lnTo>
                  <a:lnTo>
                    <a:pt x="403" y="532"/>
                  </a:lnTo>
                  <a:lnTo>
                    <a:pt x="384" y="534"/>
                  </a:lnTo>
                  <a:lnTo>
                    <a:pt x="376" y="553"/>
                  </a:lnTo>
                  <a:close/>
                </a:path>
              </a:pathLst>
            </a:custGeom>
            <a:solidFill>
              <a:srgbClr val="00ff00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80"/>
            <p:cNvSpPr/>
            <p:nvPr/>
          </p:nvSpPr>
          <p:spPr>
            <a:xfrm>
              <a:off x="8118360" y="2119320"/>
              <a:ext cx="141480" cy="15372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153720"/>
                <a:gd name="textAreaBottom" fmla="*/ 154080 h 153720"/>
              </a:gdLst>
              <a:ahLst/>
              <a:rect l="textAreaLeft" t="textAreaTop" r="textAreaRight" b="textAreaBottom"/>
              <a:pathLst>
                <a:path w="180" h="193">
                  <a:moveTo>
                    <a:pt x="29" y="8"/>
                  </a:moveTo>
                  <a:lnTo>
                    <a:pt x="41" y="0"/>
                  </a:lnTo>
                  <a:lnTo>
                    <a:pt x="56" y="5"/>
                  </a:lnTo>
                  <a:lnTo>
                    <a:pt x="71" y="0"/>
                  </a:lnTo>
                  <a:lnTo>
                    <a:pt x="86" y="5"/>
                  </a:lnTo>
                  <a:lnTo>
                    <a:pt x="81" y="19"/>
                  </a:lnTo>
                  <a:lnTo>
                    <a:pt x="90" y="29"/>
                  </a:lnTo>
                  <a:lnTo>
                    <a:pt x="107" y="30"/>
                  </a:lnTo>
                  <a:lnTo>
                    <a:pt x="122" y="34"/>
                  </a:lnTo>
                  <a:lnTo>
                    <a:pt x="137" y="42"/>
                  </a:lnTo>
                  <a:lnTo>
                    <a:pt x="146" y="49"/>
                  </a:lnTo>
                  <a:lnTo>
                    <a:pt x="147" y="61"/>
                  </a:lnTo>
                  <a:lnTo>
                    <a:pt x="144" y="68"/>
                  </a:lnTo>
                  <a:lnTo>
                    <a:pt x="141" y="76"/>
                  </a:lnTo>
                  <a:lnTo>
                    <a:pt x="136" y="90"/>
                  </a:lnTo>
                  <a:lnTo>
                    <a:pt x="141" y="102"/>
                  </a:lnTo>
                  <a:lnTo>
                    <a:pt x="152" y="112"/>
                  </a:lnTo>
                  <a:lnTo>
                    <a:pt x="164" y="117"/>
                  </a:lnTo>
                  <a:lnTo>
                    <a:pt x="174" y="127"/>
                  </a:lnTo>
                  <a:lnTo>
                    <a:pt x="180" y="135"/>
                  </a:lnTo>
                  <a:lnTo>
                    <a:pt x="178" y="149"/>
                  </a:lnTo>
                  <a:lnTo>
                    <a:pt x="173" y="164"/>
                  </a:lnTo>
                  <a:lnTo>
                    <a:pt x="164" y="173"/>
                  </a:lnTo>
                  <a:lnTo>
                    <a:pt x="156" y="176"/>
                  </a:lnTo>
                  <a:lnTo>
                    <a:pt x="147" y="169"/>
                  </a:lnTo>
                  <a:lnTo>
                    <a:pt x="144" y="161"/>
                  </a:lnTo>
                  <a:lnTo>
                    <a:pt x="147" y="151"/>
                  </a:lnTo>
                  <a:lnTo>
                    <a:pt x="152" y="142"/>
                  </a:lnTo>
                  <a:lnTo>
                    <a:pt x="154" y="132"/>
                  </a:lnTo>
                  <a:lnTo>
                    <a:pt x="146" y="127"/>
                  </a:lnTo>
                  <a:lnTo>
                    <a:pt x="136" y="129"/>
                  </a:lnTo>
                  <a:lnTo>
                    <a:pt x="127" y="135"/>
                  </a:lnTo>
                  <a:lnTo>
                    <a:pt x="115" y="135"/>
                  </a:lnTo>
                  <a:lnTo>
                    <a:pt x="108" y="137"/>
                  </a:lnTo>
                  <a:lnTo>
                    <a:pt x="105" y="146"/>
                  </a:lnTo>
                  <a:lnTo>
                    <a:pt x="103" y="154"/>
                  </a:lnTo>
                  <a:lnTo>
                    <a:pt x="98" y="157"/>
                  </a:lnTo>
                  <a:lnTo>
                    <a:pt x="90" y="157"/>
                  </a:lnTo>
                  <a:lnTo>
                    <a:pt x="80" y="157"/>
                  </a:lnTo>
                  <a:lnTo>
                    <a:pt x="75" y="161"/>
                  </a:lnTo>
                  <a:lnTo>
                    <a:pt x="70" y="169"/>
                  </a:lnTo>
                  <a:lnTo>
                    <a:pt x="75" y="176"/>
                  </a:lnTo>
                  <a:lnTo>
                    <a:pt x="76" y="183"/>
                  </a:lnTo>
                  <a:lnTo>
                    <a:pt x="75" y="191"/>
                  </a:lnTo>
                  <a:lnTo>
                    <a:pt x="63" y="193"/>
                  </a:lnTo>
                  <a:lnTo>
                    <a:pt x="49" y="193"/>
                  </a:lnTo>
                  <a:lnTo>
                    <a:pt x="37" y="185"/>
                  </a:lnTo>
                  <a:lnTo>
                    <a:pt x="24" y="185"/>
                  </a:lnTo>
                  <a:lnTo>
                    <a:pt x="15" y="176"/>
                  </a:lnTo>
                  <a:lnTo>
                    <a:pt x="5" y="168"/>
                  </a:lnTo>
                  <a:lnTo>
                    <a:pt x="0" y="161"/>
                  </a:lnTo>
                  <a:lnTo>
                    <a:pt x="0" y="151"/>
                  </a:lnTo>
                  <a:lnTo>
                    <a:pt x="5" y="146"/>
                  </a:lnTo>
                  <a:lnTo>
                    <a:pt x="19" y="141"/>
                  </a:lnTo>
                  <a:lnTo>
                    <a:pt x="31" y="142"/>
                  </a:lnTo>
                  <a:lnTo>
                    <a:pt x="39" y="139"/>
                  </a:lnTo>
                  <a:lnTo>
                    <a:pt x="39" y="132"/>
                  </a:lnTo>
                  <a:lnTo>
                    <a:pt x="34" y="127"/>
                  </a:lnTo>
                  <a:lnTo>
                    <a:pt x="27" y="124"/>
                  </a:lnTo>
                  <a:lnTo>
                    <a:pt x="15" y="122"/>
                  </a:lnTo>
                  <a:lnTo>
                    <a:pt x="10" y="117"/>
                  </a:lnTo>
                  <a:lnTo>
                    <a:pt x="14" y="108"/>
                  </a:lnTo>
                  <a:lnTo>
                    <a:pt x="24" y="102"/>
                  </a:lnTo>
                  <a:lnTo>
                    <a:pt x="27" y="95"/>
                  </a:lnTo>
                  <a:lnTo>
                    <a:pt x="19" y="86"/>
                  </a:lnTo>
                  <a:lnTo>
                    <a:pt x="15" y="76"/>
                  </a:lnTo>
                  <a:lnTo>
                    <a:pt x="19" y="66"/>
                  </a:lnTo>
                  <a:lnTo>
                    <a:pt x="27" y="63"/>
                  </a:lnTo>
                  <a:lnTo>
                    <a:pt x="34" y="66"/>
                  </a:lnTo>
                  <a:lnTo>
                    <a:pt x="39" y="74"/>
                  </a:lnTo>
                  <a:lnTo>
                    <a:pt x="41" y="81"/>
                  </a:lnTo>
                  <a:lnTo>
                    <a:pt x="49" y="73"/>
                  </a:lnTo>
                  <a:lnTo>
                    <a:pt x="59" y="71"/>
                  </a:lnTo>
                  <a:lnTo>
                    <a:pt x="71" y="74"/>
                  </a:lnTo>
                  <a:lnTo>
                    <a:pt x="81" y="86"/>
                  </a:lnTo>
                  <a:lnTo>
                    <a:pt x="90" y="100"/>
                  </a:lnTo>
                  <a:lnTo>
                    <a:pt x="100" y="108"/>
                  </a:lnTo>
                  <a:lnTo>
                    <a:pt x="107" y="103"/>
                  </a:lnTo>
                  <a:lnTo>
                    <a:pt x="112" y="91"/>
                  </a:lnTo>
                  <a:lnTo>
                    <a:pt x="112" y="76"/>
                  </a:lnTo>
                  <a:lnTo>
                    <a:pt x="105" y="61"/>
                  </a:lnTo>
                  <a:lnTo>
                    <a:pt x="95" y="56"/>
                  </a:lnTo>
                  <a:lnTo>
                    <a:pt x="76" y="47"/>
                  </a:lnTo>
                  <a:lnTo>
                    <a:pt x="66" y="42"/>
                  </a:lnTo>
                  <a:lnTo>
                    <a:pt x="42" y="35"/>
                  </a:lnTo>
                  <a:lnTo>
                    <a:pt x="32" y="29"/>
                  </a:lnTo>
                  <a:lnTo>
                    <a:pt x="22" y="46"/>
                  </a:lnTo>
                  <a:lnTo>
                    <a:pt x="10" y="44"/>
                  </a:lnTo>
                  <a:lnTo>
                    <a:pt x="9" y="30"/>
                  </a:lnTo>
                  <a:lnTo>
                    <a:pt x="15" y="19"/>
                  </a:lnTo>
                  <a:lnTo>
                    <a:pt x="29" y="8"/>
                  </a:lnTo>
                  <a:close/>
                </a:path>
              </a:pathLst>
            </a:custGeom>
            <a:solidFill>
              <a:srgbClr val="00ff00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Freeform 81"/>
            <p:cNvSpPr/>
            <p:nvPr/>
          </p:nvSpPr>
          <p:spPr>
            <a:xfrm>
              <a:off x="8256600" y="2284200"/>
              <a:ext cx="139680" cy="14472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44720"/>
                <a:gd name="textAreaBottom" fmla="*/ 145080 h 144720"/>
              </a:gdLst>
              <a:ahLst/>
              <a:rect l="textAreaLeft" t="textAreaTop" r="textAreaRight" b="textAreaBottom"/>
              <a:pathLst>
                <a:path w="176" h="183">
                  <a:moveTo>
                    <a:pt x="121" y="100"/>
                  </a:moveTo>
                  <a:lnTo>
                    <a:pt x="136" y="111"/>
                  </a:lnTo>
                  <a:lnTo>
                    <a:pt x="143" y="128"/>
                  </a:lnTo>
                  <a:lnTo>
                    <a:pt x="146" y="144"/>
                  </a:lnTo>
                  <a:lnTo>
                    <a:pt x="151" y="154"/>
                  </a:lnTo>
                  <a:lnTo>
                    <a:pt x="161" y="155"/>
                  </a:lnTo>
                  <a:lnTo>
                    <a:pt x="175" y="164"/>
                  </a:lnTo>
                  <a:lnTo>
                    <a:pt x="176" y="172"/>
                  </a:lnTo>
                  <a:lnTo>
                    <a:pt x="170" y="181"/>
                  </a:lnTo>
                  <a:lnTo>
                    <a:pt x="154" y="183"/>
                  </a:lnTo>
                  <a:lnTo>
                    <a:pt x="137" y="179"/>
                  </a:lnTo>
                  <a:lnTo>
                    <a:pt x="127" y="164"/>
                  </a:lnTo>
                  <a:lnTo>
                    <a:pt x="121" y="154"/>
                  </a:lnTo>
                  <a:lnTo>
                    <a:pt x="109" y="147"/>
                  </a:lnTo>
                  <a:lnTo>
                    <a:pt x="92" y="154"/>
                  </a:lnTo>
                  <a:lnTo>
                    <a:pt x="75" y="159"/>
                  </a:lnTo>
                  <a:lnTo>
                    <a:pt x="65" y="159"/>
                  </a:lnTo>
                  <a:lnTo>
                    <a:pt x="53" y="167"/>
                  </a:lnTo>
                  <a:lnTo>
                    <a:pt x="43" y="171"/>
                  </a:lnTo>
                  <a:lnTo>
                    <a:pt x="36" y="162"/>
                  </a:lnTo>
                  <a:lnTo>
                    <a:pt x="41" y="147"/>
                  </a:lnTo>
                  <a:lnTo>
                    <a:pt x="48" y="137"/>
                  </a:lnTo>
                  <a:lnTo>
                    <a:pt x="46" y="125"/>
                  </a:lnTo>
                  <a:lnTo>
                    <a:pt x="41" y="120"/>
                  </a:lnTo>
                  <a:lnTo>
                    <a:pt x="43" y="110"/>
                  </a:lnTo>
                  <a:lnTo>
                    <a:pt x="53" y="106"/>
                  </a:lnTo>
                  <a:lnTo>
                    <a:pt x="63" y="111"/>
                  </a:lnTo>
                  <a:lnTo>
                    <a:pt x="72" y="111"/>
                  </a:lnTo>
                  <a:lnTo>
                    <a:pt x="75" y="106"/>
                  </a:lnTo>
                  <a:lnTo>
                    <a:pt x="72" y="96"/>
                  </a:lnTo>
                  <a:lnTo>
                    <a:pt x="65" y="84"/>
                  </a:lnTo>
                  <a:lnTo>
                    <a:pt x="58" y="74"/>
                  </a:lnTo>
                  <a:lnTo>
                    <a:pt x="46" y="74"/>
                  </a:lnTo>
                  <a:lnTo>
                    <a:pt x="41" y="83"/>
                  </a:lnTo>
                  <a:lnTo>
                    <a:pt x="34" y="91"/>
                  </a:lnTo>
                  <a:lnTo>
                    <a:pt x="22" y="84"/>
                  </a:lnTo>
                  <a:lnTo>
                    <a:pt x="9" y="83"/>
                  </a:lnTo>
                  <a:lnTo>
                    <a:pt x="4" y="74"/>
                  </a:lnTo>
                  <a:lnTo>
                    <a:pt x="7" y="62"/>
                  </a:lnTo>
                  <a:lnTo>
                    <a:pt x="9" y="50"/>
                  </a:lnTo>
                  <a:lnTo>
                    <a:pt x="7" y="35"/>
                  </a:lnTo>
                  <a:lnTo>
                    <a:pt x="0" y="27"/>
                  </a:lnTo>
                  <a:lnTo>
                    <a:pt x="4" y="15"/>
                  </a:lnTo>
                  <a:lnTo>
                    <a:pt x="9" y="6"/>
                  </a:lnTo>
                  <a:lnTo>
                    <a:pt x="17" y="0"/>
                  </a:lnTo>
                  <a:lnTo>
                    <a:pt x="33" y="3"/>
                  </a:lnTo>
                  <a:lnTo>
                    <a:pt x="38" y="13"/>
                  </a:lnTo>
                  <a:lnTo>
                    <a:pt x="36" y="28"/>
                  </a:lnTo>
                  <a:lnTo>
                    <a:pt x="43" y="37"/>
                  </a:lnTo>
                  <a:lnTo>
                    <a:pt x="51" y="44"/>
                  </a:lnTo>
                  <a:lnTo>
                    <a:pt x="66" y="47"/>
                  </a:lnTo>
                  <a:lnTo>
                    <a:pt x="82" y="55"/>
                  </a:lnTo>
                  <a:lnTo>
                    <a:pt x="95" y="66"/>
                  </a:lnTo>
                  <a:lnTo>
                    <a:pt x="121" y="100"/>
                  </a:lnTo>
                  <a:close/>
                </a:path>
              </a:pathLst>
            </a:custGeom>
            <a:solidFill>
              <a:srgbClr val="00ff00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6" name="Freeform 82"/>
          <p:cNvSpPr/>
          <p:nvPr/>
        </p:nvSpPr>
        <p:spPr>
          <a:xfrm>
            <a:off x="7589880" y="2708280"/>
            <a:ext cx="627120" cy="768240"/>
          </a:xfrm>
          <a:custGeom>
            <a:avLst/>
            <a:gdLst>
              <a:gd name="textAreaLeft" fmla="*/ 0 w 627120"/>
              <a:gd name="textAreaRight" fmla="*/ 627480 w 627120"/>
              <a:gd name="textAreaTop" fmla="*/ 0 h 768240"/>
              <a:gd name="textAreaBottom" fmla="*/ 768600 h 768240"/>
            </a:gdLst>
            <a:ahLst/>
            <a:rect l="textAreaLeft" t="textAreaTop" r="textAreaRight" b="textAreaBottom"/>
            <a:pathLst>
              <a:path w="790" h="967">
                <a:moveTo>
                  <a:pt x="295" y="35"/>
                </a:moveTo>
                <a:lnTo>
                  <a:pt x="303" y="46"/>
                </a:lnTo>
                <a:lnTo>
                  <a:pt x="322" y="54"/>
                </a:lnTo>
                <a:lnTo>
                  <a:pt x="344" y="61"/>
                </a:lnTo>
                <a:lnTo>
                  <a:pt x="361" y="69"/>
                </a:lnTo>
                <a:lnTo>
                  <a:pt x="372" y="86"/>
                </a:lnTo>
                <a:lnTo>
                  <a:pt x="384" y="102"/>
                </a:lnTo>
                <a:lnTo>
                  <a:pt x="401" y="117"/>
                </a:lnTo>
                <a:lnTo>
                  <a:pt x="420" y="124"/>
                </a:lnTo>
                <a:lnTo>
                  <a:pt x="443" y="129"/>
                </a:lnTo>
                <a:lnTo>
                  <a:pt x="449" y="146"/>
                </a:lnTo>
                <a:lnTo>
                  <a:pt x="443" y="171"/>
                </a:lnTo>
                <a:lnTo>
                  <a:pt x="445" y="195"/>
                </a:lnTo>
                <a:lnTo>
                  <a:pt x="449" y="222"/>
                </a:lnTo>
                <a:lnTo>
                  <a:pt x="445" y="240"/>
                </a:lnTo>
                <a:lnTo>
                  <a:pt x="449" y="261"/>
                </a:lnTo>
                <a:lnTo>
                  <a:pt x="459" y="269"/>
                </a:lnTo>
                <a:lnTo>
                  <a:pt x="477" y="268"/>
                </a:lnTo>
                <a:lnTo>
                  <a:pt x="496" y="269"/>
                </a:lnTo>
                <a:lnTo>
                  <a:pt x="503" y="285"/>
                </a:lnTo>
                <a:lnTo>
                  <a:pt x="498" y="301"/>
                </a:lnTo>
                <a:lnTo>
                  <a:pt x="501" y="320"/>
                </a:lnTo>
                <a:lnTo>
                  <a:pt x="511" y="334"/>
                </a:lnTo>
                <a:lnTo>
                  <a:pt x="525" y="352"/>
                </a:lnTo>
                <a:lnTo>
                  <a:pt x="530" y="368"/>
                </a:lnTo>
                <a:lnTo>
                  <a:pt x="523" y="388"/>
                </a:lnTo>
                <a:lnTo>
                  <a:pt x="521" y="413"/>
                </a:lnTo>
                <a:lnTo>
                  <a:pt x="525" y="434"/>
                </a:lnTo>
                <a:lnTo>
                  <a:pt x="535" y="454"/>
                </a:lnTo>
                <a:lnTo>
                  <a:pt x="552" y="469"/>
                </a:lnTo>
                <a:lnTo>
                  <a:pt x="572" y="479"/>
                </a:lnTo>
                <a:lnTo>
                  <a:pt x="597" y="483"/>
                </a:lnTo>
                <a:lnTo>
                  <a:pt x="616" y="478"/>
                </a:lnTo>
                <a:lnTo>
                  <a:pt x="635" y="471"/>
                </a:lnTo>
                <a:lnTo>
                  <a:pt x="653" y="478"/>
                </a:lnTo>
                <a:lnTo>
                  <a:pt x="665" y="493"/>
                </a:lnTo>
                <a:lnTo>
                  <a:pt x="682" y="505"/>
                </a:lnTo>
                <a:lnTo>
                  <a:pt x="702" y="510"/>
                </a:lnTo>
                <a:lnTo>
                  <a:pt x="719" y="523"/>
                </a:lnTo>
                <a:lnTo>
                  <a:pt x="738" y="530"/>
                </a:lnTo>
                <a:lnTo>
                  <a:pt x="757" y="542"/>
                </a:lnTo>
                <a:lnTo>
                  <a:pt x="767" y="561"/>
                </a:lnTo>
                <a:lnTo>
                  <a:pt x="775" y="581"/>
                </a:lnTo>
                <a:lnTo>
                  <a:pt x="772" y="600"/>
                </a:lnTo>
                <a:lnTo>
                  <a:pt x="779" y="613"/>
                </a:lnTo>
                <a:lnTo>
                  <a:pt x="790" y="630"/>
                </a:lnTo>
                <a:lnTo>
                  <a:pt x="789" y="647"/>
                </a:lnTo>
                <a:lnTo>
                  <a:pt x="777" y="661"/>
                </a:lnTo>
                <a:lnTo>
                  <a:pt x="765" y="683"/>
                </a:lnTo>
                <a:lnTo>
                  <a:pt x="750" y="694"/>
                </a:lnTo>
                <a:lnTo>
                  <a:pt x="738" y="708"/>
                </a:lnTo>
                <a:lnTo>
                  <a:pt x="721" y="706"/>
                </a:lnTo>
                <a:lnTo>
                  <a:pt x="701" y="703"/>
                </a:lnTo>
                <a:lnTo>
                  <a:pt x="680" y="689"/>
                </a:lnTo>
                <a:lnTo>
                  <a:pt x="663" y="684"/>
                </a:lnTo>
                <a:lnTo>
                  <a:pt x="647" y="691"/>
                </a:lnTo>
                <a:lnTo>
                  <a:pt x="625" y="688"/>
                </a:lnTo>
                <a:lnTo>
                  <a:pt x="606" y="694"/>
                </a:lnTo>
                <a:lnTo>
                  <a:pt x="592" y="708"/>
                </a:lnTo>
                <a:lnTo>
                  <a:pt x="567" y="715"/>
                </a:lnTo>
                <a:lnTo>
                  <a:pt x="545" y="710"/>
                </a:lnTo>
                <a:lnTo>
                  <a:pt x="520" y="716"/>
                </a:lnTo>
                <a:lnTo>
                  <a:pt x="499" y="730"/>
                </a:lnTo>
                <a:lnTo>
                  <a:pt x="474" y="739"/>
                </a:lnTo>
                <a:lnTo>
                  <a:pt x="457" y="757"/>
                </a:lnTo>
                <a:lnTo>
                  <a:pt x="454" y="783"/>
                </a:lnTo>
                <a:lnTo>
                  <a:pt x="445" y="800"/>
                </a:lnTo>
                <a:lnTo>
                  <a:pt x="443" y="818"/>
                </a:lnTo>
                <a:lnTo>
                  <a:pt x="454" y="828"/>
                </a:lnTo>
                <a:lnTo>
                  <a:pt x="459" y="847"/>
                </a:lnTo>
                <a:lnTo>
                  <a:pt x="472" y="867"/>
                </a:lnTo>
                <a:lnTo>
                  <a:pt x="486" y="886"/>
                </a:lnTo>
                <a:lnTo>
                  <a:pt x="501" y="906"/>
                </a:lnTo>
                <a:lnTo>
                  <a:pt x="493" y="927"/>
                </a:lnTo>
                <a:lnTo>
                  <a:pt x="491" y="947"/>
                </a:lnTo>
                <a:lnTo>
                  <a:pt x="479" y="964"/>
                </a:lnTo>
                <a:lnTo>
                  <a:pt x="455" y="954"/>
                </a:lnTo>
                <a:lnTo>
                  <a:pt x="440" y="957"/>
                </a:lnTo>
                <a:lnTo>
                  <a:pt x="427" y="967"/>
                </a:lnTo>
                <a:lnTo>
                  <a:pt x="418" y="952"/>
                </a:lnTo>
                <a:lnTo>
                  <a:pt x="410" y="927"/>
                </a:lnTo>
                <a:lnTo>
                  <a:pt x="389" y="913"/>
                </a:lnTo>
                <a:lnTo>
                  <a:pt x="371" y="908"/>
                </a:lnTo>
                <a:lnTo>
                  <a:pt x="344" y="911"/>
                </a:lnTo>
                <a:lnTo>
                  <a:pt x="325" y="915"/>
                </a:lnTo>
                <a:lnTo>
                  <a:pt x="305" y="905"/>
                </a:lnTo>
                <a:lnTo>
                  <a:pt x="278" y="894"/>
                </a:lnTo>
                <a:lnTo>
                  <a:pt x="252" y="888"/>
                </a:lnTo>
                <a:lnTo>
                  <a:pt x="234" y="889"/>
                </a:lnTo>
                <a:lnTo>
                  <a:pt x="210" y="893"/>
                </a:lnTo>
                <a:lnTo>
                  <a:pt x="193" y="881"/>
                </a:lnTo>
                <a:lnTo>
                  <a:pt x="185" y="860"/>
                </a:lnTo>
                <a:lnTo>
                  <a:pt x="181" y="840"/>
                </a:lnTo>
                <a:lnTo>
                  <a:pt x="193" y="818"/>
                </a:lnTo>
                <a:lnTo>
                  <a:pt x="190" y="793"/>
                </a:lnTo>
                <a:lnTo>
                  <a:pt x="180" y="774"/>
                </a:lnTo>
                <a:lnTo>
                  <a:pt x="159" y="767"/>
                </a:lnTo>
                <a:lnTo>
                  <a:pt x="141" y="774"/>
                </a:lnTo>
                <a:lnTo>
                  <a:pt x="124" y="767"/>
                </a:lnTo>
                <a:lnTo>
                  <a:pt x="115" y="750"/>
                </a:lnTo>
                <a:lnTo>
                  <a:pt x="112" y="730"/>
                </a:lnTo>
                <a:lnTo>
                  <a:pt x="108" y="706"/>
                </a:lnTo>
                <a:lnTo>
                  <a:pt x="95" y="683"/>
                </a:lnTo>
                <a:lnTo>
                  <a:pt x="75" y="664"/>
                </a:lnTo>
                <a:lnTo>
                  <a:pt x="51" y="652"/>
                </a:lnTo>
                <a:lnTo>
                  <a:pt x="22" y="657"/>
                </a:lnTo>
                <a:lnTo>
                  <a:pt x="14" y="627"/>
                </a:lnTo>
                <a:lnTo>
                  <a:pt x="7" y="600"/>
                </a:lnTo>
                <a:lnTo>
                  <a:pt x="0" y="579"/>
                </a:lnTo>
                <a:lnTo>
                  <a:pt x="4" y="561"/>
                </a:lnTo>
                <a:lnTo>
                  <a:pt x="10" y="545"/>
                </a:lnTo>
                <a:lnTo>
                  <a:pt x="12" y="522"/>
                </a:lnTo>
                <a:lnTo>
                  <a:pt x="10" y="500"/>
                </a:lnTo>
                <a:lnTo>
                  <a:pt x="14" y="489"/>
                </a:lnTo>
                <a:lnTo>
                  <a:pt x="29" y="484"/>
                </a:lnTo>
                <a:lnTo>
                  <a:pt x="49" y="488"/>
                </a:lnTo>
                <a:lnTo>
                  <a:pt x="64" y="484"/>
                </a:lnTo>
                <a:lnTo>
                  <a:pt x="81" y="476"/>
                </a:lnTo>
                <a:lnTo>
                  <a:pt x="95" y="461"/>
                </a:lnTo>
                <a:lnTo>
                  <a:pt x="88" y="439"/>
                </a:lnTo>
                <a:lnTo>
                  <a:pt x="90" y="418"/>
                </a:lnTo>
                <a:lnTo>
                  <a:pt x="98" y="396"/>
                </a:lnTo>
                <a:lnTo>
                  <a:pt x="107" y="374"/>
                </a:lnTo>
                <a:lnTo>
                  <a:pt x="114" y="347"/>
                </a:lnTo>
                <a:lnTo>
                  <a:pt x="115" y="318"/>
                </a:lnTo>
                <a:lnTo>
                  <a:pt x="112" y="290"/>
                </a:lnTo>
                <a:lnTo>
                  <a:pt x="117" y="269"/>
                </a:lnTo>
                <a:lnTo>
                  <a:pt x="124" y="252"/>
                </a:lnTo>
                <a:lnTo>
                  <a:pt x="122" y="230"/>
                </a:lnTo>
                <a:lnTo>
                  <a:pt x="108" y="190"/>
                </a:lnTo>
                <a:lnTo>
                  <a:pt x="102" y="171"/>
                </a:lnTo>
                <a:lnTo>
                  <a:pt x="97" y="157"/>
                </a:lnTo>
                <a:lnTo>
                  <a:pt x="93" y="142"/>
                </a:lnTo>
                <a:lnTo>
                  <a:pt x="78" y="122"/>
                </a:lnTo>
                <a:lnTo>
                  <a:pt x="92" y="103"/>
                </a:lnTo>
                <a:lnTo>
                  <a:pt x="110" y="95"/>
                </a:lnTo>
                <a:lnTo>
                  <a:pt x="127" y="98"/>
                </a:lnTo>
                <a:lnTo>
                  <a:pt x="146" y="88"/>
                </a:lnTo>
                <a:lnTo>
                  <a:pt x="163" y="80"/>
                </a:lnTo>
                <a:lnTo>
                  <a:pt x="173" y="74"/>
                </a:lnTo>
                <a:lnTo>
                  <a:pt x="193" y="69"/>
                </a:lnTo>
                <a:lnTo>
                  <a:pt x="208" y="80"/>
                </a:lnTo>
                <a:lnTo>
                  <a:pt x="224" y="80"/>
                </a:lnTo>
                <a:lnTo>
                  <a:pt x="237" y="74"/>
                </a:lnTo>
                <a:lnTo>
                  <a:pt x="246" y="61"/>
                </a:lnTo>
                <a:lnTo>
                  <a:pt x="256" y="44"/>
                </a:lnTo>
                <a:lnTo>
                  <a:pt x="257" y="30"/>
                </a:lnTo>
                <a:lnTo>
                  <a:pt x="259" y="20"/>
                </a:lnTo>
                <a:lnTo>
                  <a:pt x="259" y="0"/>
                </a:lnTo>
                <a:lnTo>
                  <a:pt x="269" y="3"/>
                </a:lnTo>
                <a:lnTo>
                  <a:pt x="288" y="17"/>
                </a:lnTo>
                <a:lnTo>
                  <a:pt x="295" y="35"/>
                </a:lnTo>
                <a:close/>
              </a:path>
            </a:pathLst>
          </a:custGeom>
          <a:solidFill>
            <a:srgbClr val="ef9100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Freeform 83"/>
          <p:cNvSpPr/>
          <p:nvPr/>
        </p:nvSpPr>
        <p:spPr>
          <a:xfrm>
            <a:off x="7440480" y="3227400"/>
            <a:ext cx="608040" cy="501480"/>
          </a:xfrm>
          <a:custGeom>
            <a:avLst/>
            <a:gdLst>
              <a:gd name="textAreaLeft" fmla="*/ 0 w 608040"/>
              <a:gd name="textAreaRight" fmla="*/ 608400 w 608040"/>
              <a:gd name="textAreaTop" fmla="*/ 0 h 501480"/>
              <a:gd name="textAreaBottom" fmla="*/ 501840 h 501480"/>
            </a:gdLst>
            <a:ahLst/>
            <a:rect l="textAreaLeft" t="textAreaTop" r="textAreaRight" b="textAreaBottom"/>
            <a:pathLst>
              <a:path w="767" h="632">
                <a:moveTo>
                  <a:pt x="681" y="275"/>
                </a:moveTo>
                <a:lnTo>
                  <a:pt x="679" y="295"/>
                </a:lnTo>
                <a:lnTo>
                  <a:pt x="667" y="312"/>
                </a:lnTo>
                <a:lnTo>
                  <a:pt x="643" y="302"/>
                </a:lnTo>
                <a:lnTo>
                  <a:pt x="628" y="305"/>
                </a:lnTo>
                <a:lnTo>
                  <a:pt x="615" y="315"/>
                </a:lnTo>
                <a:lnTo>
                  <a:pt x="606" y="300"/>
                </a:lnTo>
                <a:lnTo>
                  <a:pt x="598" y="275"/>
                </a:lnTo>
                <a:lnTo>
                  <a:pt x="577" y="261"/>
                </a:lnTo>
                <a:lnTo>
                  <a:pt x="559" y="256"/>
                </a:lnTo>
                <a:lnTo>
                  <a:pt x="532" y="259"/>
                </a:lnTo>
                <a:lnTo>
                  <a:pt x="513" y="263"/>
                </a:lnTo>
                <a:lnTo>
                  <a:pt x="493" y="253"/>
                </a:lnTo>
                <a:lnTo>
                  <a:pt x="466" y="242"/>
                </a:lnTo>
                <a:lnTo>
                  <a:pt x="440" y="236"/>
                </a:lnTo>
                <a:lnTo>
                  <a:pt x="422" y="237"/>
                </a:lnTo>
                <a:lnTo>
                  <a:pt x="398" y="241"/>
                </a:lnTo>
                <a:lnTo>
                  <a:pt x="381" y="229"/>
                </a:lnTo>
                <a:lnTo>
                  <a:pt x="373" y="208"/>
                </a:lnTo>
                <a:lnTo>
                  <a:pt x="369" y="188"/>
                </a:lnTo>
                <a:lnTo>
                  <a:pt x="381" y="166"/>
                </a:lnTo>
                <a:lnTo>
                  <a:pt x="378" y="141"/>
                </a:lnTo>
                <a:lnTo>
                  <a:pt x="368" y="122"/>
                </a:lnTo>
                <a:lnTo>
                  <a:pt x="347" y="115"/>
                </a:lnTo>
                <a:lnTo>
                  <a:pt x="329" y="122"/>
                </a:lnTo>
                <a:lnTo>
                  <a:pt x="312" y="115"/>
                </a:lnTo>
                <a:lnTo>
                  <a:pt x="303" y="98"/>
                </a:lnTo>
                <a:lnTo>
                  <a:pt x="300" y="78"/>
                </a:lnTo>
                <a:lnTo>
                  <a:pt x="296" y="54"/>
                </a:lnTo>
                <a:lnTo>
                  <a:pt x="283" y="31"/>
                </a:lnTo>
                <a:lnTo>
                  <a:pt x="263" y="12"/>
                </a:lnTo>
                <a:lnTo>
                  <a:pt x="239" y="0"/>
                </a:lnTo>
                <a:lnTo>
                  <a:pt x="210" y="5"/>
                </a:lnTo>
                <a:lnTo>
                  <a:pt x="215" y="26"/>
                </a:lnTo>
                <a:lnTo>
                  <a:pt x="210" y="39"/>
                </a:lnTo>
                <a:lnTo>
                  <a:pt x="193" y="49"/>
                </a:lnTo>
                <a:lnTo>
                  <a:pt x="178" y="46"/>
                </a:lnTo>
                <a:lnTo>
                  <a:pt x="164" y="29"/>
                </a:lnTo>
                <a:lnTo>
                  <a:pt x="144" y="41"/>
                </a:lnTo>
                <a:lnTo>
                  <a:pt x="137" y="58"/>
                </a:lnTo>
                <a:lnTo>
                  <a:pt x="119" y="71"/>
                </a:lnTo>
                <a:lnTo>
                  <a:pt x="107" y="87"/>
                </a:lnTo>
                <a:lnTo>
                  <a:pt x="87" y="100"/>
                </a:lnTo>
                <a:lnTo>
                  <a:pt x="63" y="110"/>
                </a:lnTo>
                <a:lnTo>
                  <a:pt x="38" y="109"/>
                </a:lnTo>
                <a:lnTo>
                  <a:pt x="10" y="114"/>
                </a:lnTo>
                <a:lnTo>
                  <a:pt x="19" y="136"/>
                </a:lnTo>
                <a:lnTo>
                  <a:pt x="27" y="156"/>
                </a:lnTo>
                <a:lnTo>
                  <a:pt x="44" y="166"/>
                </a:lnTo>
                <a:lnTo>
                  <a:pt x="54" y="181"/>
                </a:lnTo>
                <a:lnTo>
                  <a:pt x="63" y="200"/>
                </a:lnTo>
                <a:lnTo>
                  <a:pt x="82" y="202"/>
                </a:lnTo>
                <a:lnTo>
                  <a:pt x="92" y="222"/>
                </a:lnTo>
                <a:lnTo>
                  <a:pt x="78" y="239"/>
                </a:lnTo>
                <a:lnTo>
                  <a:pt x="63" y="247"/>
                </a:lnTo>
                <a:lnTo>
                  <a:pt x="51" y="261"/>
                </a:lnTo>
                <a:lnTo>
                  <a:pt x="54" y="285"/>
                </a:lnTo>
                <a:lnTo>
                  <a:pt x="60" y="308"/>
                </a:lnTo>
                <a:lnTo>
                  <a:pt x="41" y="314"/>
                </a:lnTo>
                <a:lnTo>
                  <a:pt x="29" y="327"/>
                </a:lnTo>
                <a:lnTo>
                  <a:pt x="24" y="349"/>
                </a:lnTo>
                <a:lnTo>
                  <a:pt x="32" y="364"/>
                </a:lnTo>
                <a:lnTo>
                  <a:pt x="16" y="381"/>
                </a:lnTo>
                <a:lnTo>
                  <a:pt x="5" y="400"/>
                </a:lnTo>
                <a:lnTo>
                  <a:pt x="0" y="420"/>
                </a:lnTo>
                <a:lnTo>
                  <a:pt x="4" y="441"/>
                </a:lnTo>
                <a:lnTo>
                  <a:pt x="17" y="458"/>
                </a:lnTo>
                <a:lnTo>
                  <a:pt x="34" y="449"/>
                </a:lnTo>
                <a:lnTo>
                  <a:pt x="49" y="458"/>
                </a:lnTo>
                <a:lnTo>
                  <a:pt x="56" y="476"/>
                </a:lnTo>
                <a:lnTo>
                  <a:pt x="48" y="495"/>
                </a:lnTo>
                <a:lnTo>
                  <a:pt x="49" y="513"/>
                </a:lnTo>
                <a:lnTo>
                  <a:pt x="51" y="517"/>
                </a:lnTo>
                <a:lnTo>
                  <a:pt x="68" y="512"/>
                </a:lnTo>
                <a:lnTo>
                  <a:pt x="93" y="505"/>
                </a:lnTo>
                <a:lnTo>
                  <a:pt x="114" y="512"/>
                </a:lnTo>
                <a:lnTo>
                  <a:pt x="127" y="530"/>
                </a:lnTo>
                <a:lnTo>
                  <a:pt x="139" y="551"/>
                </a:lnTo>
                <a:lnTo>
                  <a:pt x="159" y="566"/>
                </a:lnTo>
                <a:lnTo>
                  <a:pt x="181" y="576"/>
                </a:lnTo>
                <a:lnTo>
                  <a:pt x="192" y="593"/>
                </a:lnTo>
                <a:lnTo>
                  <a:pt x="197" y="615"/>
                </a:lnTo>
                <a:lnTo>
                  <a:pt x="212" y="629"/>
                </a:lnTo>
                <a:lnTo>
                  <a:pt x="237" y="632"/>
                </a:lnTo>
                <a:lnTo>
                  <a:pt x="249" y="629"/>
                </a:lnTo>
                <a:lnTo>
                  <a:pt x="242" y="603"/>
                </a:lnTo>
                <a:lnTo>
                  <a:pt x="256" y="588"/>
                </a:lnTo>
                <a:lnTo>
                  <a:pt x="274" y="585"/>
                </a:lnTo>
                <a:lnTo>
                  <a:pt x="298" y="591"/>
                </a:lnTo>
                <a:lnTo>
                  <a:pt x="318" y="600"/>
                </a:lnTo>
                <a:lnTo>
                  <a:pt x="334" y="595"/>
                </a:lnTo>
                <a:lnTo>
                  <a:pt x="344" y="610"/>
                </a:lnTo>
                <a:lnTo>
                  <a:pt x="354" y="620"/>
                </a:lnTo>
                <a:lnTo>
                  <a:pt x="371" y="624"/>
                </a:lnTo>
                <a:lnTo>
                  <a:pt x="381" y="613"/>
                </a:lnTo>
                <a:lnTo>
                  <a:pt x="374" y="586"/>
                </a:lnTo>
                <a:lnTo>
                  <a:pt x="366" y="559"/>
                </a:lnTo>
                <a:lnTo>
                  <a:pt x="366" y="539"/>
                </a:lnTo>
                <a:lnTo>
                  <a:pt x="381" y="519"/>
                </a:lnTo>
                <a:lnTo>
                  <a:pt x="400" y="510"/>
                </a:lnTo>
                <a:lnTo>
                  <a:pt x="418" y="513"/>
                </a:lnTo>
                <a:lnTo>
                  <a:pt x="437" y="527"/>
                </a:lnTo>
                <a:lnTo>
                  <a:pt x="440" y="542"/>
                </a:lnTo>
                <a:lnTo>
                  <a:pt x="439" y="561"/>
                </a:lnTo>
                <a:lnTo>
                  <a:pt x="447" y="576"/>
                </a:lnTo>
                <a:lnTo>
                  <a:pt x="464" y="579"/>
                </a:lnTo>
                <a:lnTo>
                  <a:pt x="481" y="576"/>
                </a:lnTo>
                <a:lnTo>
                  <a:pt x="496" y="569"/>
                </a:lnTo>
                <a:lnTo>
                  <a:pt x="520" y="576"/>
                </a:lnTo>
                <a:lnTo>
                  <a:pt x="540" y="583"/>
                </a:lnTo>
                <a:lnTo>
                  <a:pt x="559" y="573"/>
                </a:lnTo>
                <a:lnTo>
                  <a:pt x="567" y="571"/>
                </a:lnTo>
                <a:lnTo>
                  <a:pt x="574" y="535"/>
                </a:lnTo>
                <a:lnTo>
                  <a:pt x="572" y="519"/>
                </a:lnTo>
                <a:lnTo>
                  <a:pt x="576" y="498"/>
                </a:lnTo>
                <a:lnTo>
                  <a:pt x="589" y="485"/>
                </a:lnTo>
                <a:lnTo>
                  <a:pt x="616" y="481"/>
                </a:lnTo>
                <a:lnTo>
                  <a:pt x="642" y="474"/>
                </a:lnTo>
                <a:lnTo>
                  <a:pt x="660" y="463"/>
                </a:lnTo>
                <a:lnTo>
                  <a:pt x="672" y="442"/>
                </a:lnTo>
                <a:lnTo>
                  <a:pt x="670" y="415"/>
                </a:lnTo>
                <a:lnTo>
                  <a:pt x="664" y="391"/>
                </a:lnTo>
                <a:lnTo>
                  <a:pt x="675" y="371"/>
                </a:lnTo>
                <a:lnTo>
                  <a:pt x="697" y="369"/>
                </a:lnTo>
                <a:lnTo>
                  <a:pt x="716" y="361"/>
                </a:lnTo>
                <a:lnTo>
                  <a:pt x="726" y="341"/>
                </a:lnTo>
                <a:lnTo>
                  <a:pt x="745" y="332"/>
                </a:lnTo>
                <a:lnTo>
                  <a:pt x="760" y="327"/>
                </a:lnTo>
                <a:lnTo>
                  <a:pt x="767" y="317"/>
                </a:lnTo>
                <a:lnTo>
                  <a:pt x="757" y="297"/>
                </a:lnTo>
                <a:lnTo>
                  <a:pt x="738" y="290"/>
                </a:lnTo>
                <a:lnTo>
                  <a:pt x="725" y="276"/>
                </a:lnTo>
                <a:lnTo>
                  <a:pt x="728" y="263"/>
                </a:lnTo>
                <a:lnTo>
                  <a:pt x="716" y="259"/>
                </a:lnTo>
                <a:lnTo>
                  <a:pt x="697" y="261"/>
                </a:lnTo>
                <a:lnTo>
                  <a:pt x="681" y="275"/>
                </a:lnTo>
                <a:close/>
              </a:path>
            </a:pathLst>
          </a:custGeom>
          <a:solidFill>
            <a:srgbClr val="ffff00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Freeform 84"/>
          <p:cNvSpPr/>
          <p:nvPr/>
        </p:nvSpPr>
        <p:spPr>
          <a:xfrm>
            <a:off x="7891560" y="3218040"/>
            <a:ext cx="699840" cy="534960"/>
          </a:xfrm>
          <a:custGeom>
            <a:avLst/>
            <a:gdLst>
              <a:gd name="textAreaLeft" fmla="*/ 0 w 699840"/>
              <a:gd name="textAreaRight" fmla="*/ 700200 w 699840"/>
              <a:gd name="textAreaTop" fmla="*/ 0 h 534960"/>
              <a:gd name="textAreaBottom" fmla="*/ 535320 h 534960"/>
            </a:gdLst>
            <a:ahLst/>
            <a:rect l="textAreaLeft" t="textAreaTop" r="textAreaRight" b="textAreaBottom"/>
            <a:pathLst>
              <a:path w="883" h="673">
                <a:moveTo>
                  <a:pt x="393" y="58"/>
                </a:moveTo>
                <a:lnTo>
                  <a:pt x="406" y="81"/>
                </a:lnTo>
                <a:lnTo>
                  <a:pt x="416" y="102"/>
                </a:lnTo>
                <a:lnTo>
                  <a:pt x="410" y="127"/>
                </a:lnTo>
                <a:lnTo>
                  <a:pt x="405" y="147"/>
                </a:lnTo>
                <a:lnTo>
                  <a:pt x="406" y="161"/>
                </a:lnTo>
                <a:lnTo>
                  <a:pt x="420" y="166"/>
                </a:lnTo>
                <a:lnTo>
                  <a:pt x="433" y="156"/>
                </a:lnTo>
                <a:lnTo>
                  <a:pt x="445" y="137"/>
                </a:lnTo>
                <a:lnTo>
                  <a:pt x="466" y="129"/>
                </a:lnTo>
                <a:lnTo>
                  <a:pt x="489" y="135"/>
                </a:lnTo>
                <a:lnTo>
                  <a:pt x="508" y="147"/>
                </a:lnTo>
                <a:lnTo>
                  <a:pt x="533" y="146"/>
                </a:lnTo>
                <a:lnTo>
                  <a:pt x="567" y="139"/>
                </a:lnTo>
                <a:lnTo>
                  <a:pt x="589" y="130"/>
                </a:lnTo>
                <a:lnTo>
                  <a:pt x="603" y="105"/>
                </a:lnTo>
                <a:lnTo>
                  <a:pt x="606" y="81"/>
                </a:lnTo>
                <a:lnTo>
                  <a:pt x="623" y="68"/>
                </a:lnTo>
                <a:lnTo>
                  <a:pt x="631" y="49"/>
                </a:lnTo>
                <a:lnTo>
                  <a:pt x="645" y="39"/>
                </a:lnTo>
                <a:lnTo>
                  <a:pt x="669" y="46"/>
                </a:lnTo>
                <a:lnTo>
                  <a:pt x="687" y="52"/>
                </a:lnTo>
                <a:lnTo>
                  <a:pt x="699" y="41"/>
                </a:lnTo>
                <a:lnTo>
                  <a:pt x="707" y="19"/>
                </a:lnTo>
                <a:lnTo>
                  <a:pt x="726" y="2"/>
                </a:lnTo>
                <a:lnTo>
                  <a:pt x="743" y="10"/>
                </a:lnTo>
                <a:lnTo>
                  <a:pt x="758" y="20"/>
                </a:lnTo>
                <a:lnTo>
                  <a:pt x="777" y="12"/>
                </a:lnTo>
                <a:lnTo>
                  <a:pt x="802" y="10"/>
                </a:lnTo>
                <a:lnTo>
                  <a:pt x="814" y="0"/>
                </a:lnTo>
                <a:lnTo>
                  <a:pt x="812" y="20"/>
                </a:lnTo>
                <a:lnTo>
                  <a:pt x="826" y="34"/>
                </a:lnTo>
                <a:lnTo>
                  <a:pt x="848" y="51"/>
                </a:lnTo>
                <a:lnTo>
                  <a:pt x="867" y="64"/>
                </a:lnTo>
                <a:lnTo>
                  <a:pt x="865" y="90"/>
                </a:lnTo>
                <a:lnTo>
                  <a:pt x="867" y="112"/>
                </a:lnTo>
                <a:lnTo>
                  <a:pt x="880" y="135"/>
                </a:lnTo>
                <a:lnTo>
                  <a:pt x="883" y="161"/>
                </a:lnTo>
                <a:lnTo>
                  <a:pt x="877" y="186"/>
                </a:lnTo>
                <a:lnTo>
                  <a:pt x="863" y="225"/>
                </a:lnTo>
                <a:lnTo>
                  <a:pt x="858" y="257"/>
                </a:lnTo>
                <a:lnTo>
                  <a:pt x="855" y="290"/>
                </a:lnTo>
                <a:lnTo>
                  <a:pt x="846" y="308"/>
                </a:lnTo>
                <a:lnTo>
                  <a:pt x="831" y="322"/>
                </a:lnTo>
                <a:lnTo>
                  <a:pt x="812" y="330"/>
                </a:lnTo>
                <a:lnTo>
                  <a:pt x="792" y="327"/>
                </a:lnTo>
                <a:lnTo>
                  <a:pt x="780" y="320"/>
                </a:lnTo>
                <a:lnTo>
                  <a:pt x="777" y="300"/>
                </a:lnTo>
                <a:lnTo>
                  <a:pt x="768" y="283"/>
                </a:lnTo>
                <a:lnTo>
                  <a:pt x="751" y="273"/>
                </a:lnTo>
                <a:lnTo>
                  <a:pt x="743" y="252"/>
                </a:lnTo>
                <a:lnTo>
                  <a:pt x="721" y="251"/>
                </a:lnTo>
                <a:lnTo>
                  <a:pt x="697" y="244"/>
                </a:lnTo>
                <a:lnTo>
                  <a:pt x="677" y="254"/>
                </a:lnTo>
                <a:lnTo>
                  <a:pt x="674" y="271"/>
                </a:lnTo>
                <a:lnTo>
                  <a:pt x="694" y="283"/>
                </a:lnTo>
                <a:lnTo>
                  <a:pt x="706" y="295"/>
                </a:lnTo>
                <a:lnTo>
                  <a:pt x="704" y="312"/>
                </a:lnTo>
                <a:lnTo>
                  <a:pt x="694" y="320"/>
                </a:lnTo>
                <a:lnTo>
                  <a:pt x="670" y="318"/>
                </a:lnTo>
                <a:lnTo>
                  <a:pt x="657" y="335"/>
                </a:lnTo>
                <a:lnTo>
                  <a:pt x="636" y="349"/>
                </a:lnTo>
                <a:lnTo>
                  <a:pt x="618" y="366"/>
                </a:lnTo>
                <a:lnTo>
                  <a:pt x="596" y="364"/>
                </a:lnTo>
                <a:lnTo>
                  <a:pt x="581" y="357"/>
                </a:lnTo>
                <a:lnTo>
                  <a:pt x="559" y="368"/>
                </a:lnTo>
                <a:lnTo>
                  <a:pt x="545" y="386"/>
                </a:lnTo>
                <a:lnTo>
                  <a:pt x="523" y="393"/>
                </a:lnTo>
                <a:lnTo>
                  <a:pt x="491" y="400"/>
                </a:lnTo>
                <a:lnTo>
                  <a:pt x="467" y="410"/>
                </a:lnTo>
                <a:lnTo>
                  <a:pt x="444" y="425"/>
                </a:lnTo>
                <a:lnTo>
                  <a:pt x="430" y="447"/>
                </a:lnTo>
                <a:lnTo>
                  <a:pt x="415" y="464"/>
                </a:lnTo>
                <a:lnTo>
                  <a:pt x="396" y="468"/>
                </a:lnTo>
                <a:lnTo>
                  <a:pt x="376" y="479"/>
                </a:lnTo>
                <a:lnTo>
                  <a:pt x="361" y="498"/>
                </a:lnTo>
                <a:lnTo>
                  <a:pt x="339" y="508"/>
                </a:lnTo>
                <a:lnTo>
                  <a:pt x="318" y="520"/>
                </a:lnTo>
                <a:lnTo>
                  <a:pt x="308" y="540"/>
                </a:lnTo>
                <a:lnTo>
                  <a:pt x="298" y="561"/>
                </a:lnTo>
                <a:lnTo>
                  <a:pt x="281" y="569"/>
                </a:lnTo>
                <a:lnTo>
                  <a:pt x="266" y="564"/>
                </a:lnTo>
                <a:lnTo>
                  <a:pt x="247" y="554"/>
                </a:lnTo>
                <a:lnTo>
                  <a:pt x="230" y="561"/>
                </a:lnTo>
                <a:lnTo>
                  <a:pt x="224" y="576"/>
                </a:lnTo>
                <a:lnTo>
                  <a:pt x="205" y="573"/>
                </a:lnTo>
                <a:lnTo>
                  <a:pt x="190" y="583"/>
                </a:lnTo>
                <a:lnTo>
                  <a:pt x="180" y="601"/>
                </a:lnTo>
                <a:lnTo>
                  <a:pt x="166" y="606"/>
                </a:lnTo>
                <a:lnTo>
                  <a:pt x="147" y="613"/>
                </a:lnTo>
                <a:lnTo>
                  <a:pt x="141" y="634"/>
                </a:lnTo>
                <a:lnTo>
                  <a:pt x="146" y="654"/>
                </a:lnTo>
                <a:lnTo>
                  <a:pt x="147" y="673"/>
                </a:lnTo>
                <a:lnTo>
                  <a:pt x="124" y="669"/>
                </a:lnTo>
                <a:lnTo>
                  <a:pt x="103" y="652"/>
                </a:lnTo>
                <a:lnTo>
                  <a:pt x="86" y="647"/>
                </a:lnTo>
                <a:lnTo>
                  <a:pt x="68" y="634"/>
                </a:lnTo>
                <a:lnTo>
                  <a:pt x="49" y="630"/>
                </a:lnTo>
                <a:lnTo>
                  <a:pt x="34" y="615"/>
                </a:lnTo>
                <a:lnTo>
                  <a:pt x="20" y="595"/>
                </a:lnTo>
                <a:lnTo>
                  <a:pt x="5" y="581"/>
                </a:lnTo>
                <a:lnTo>
                  <a:pt x="0" y="581"/>
                </a:lnTo>
                <a:lnTo>
                  <a:pt x="7" y="549"/>
                </a:lnTo>
                <a:lnTo>
                  <a:pt x="5" y="529"/>
                </a:lnTo>
                <a:lnTo>
                  <a:pt x="9" y="508"/>
                </a:lnTo>
                <a:lnTo>
                  <a:pt x="22" y="495"/>
                </a:lnTo>
                <a:lnTo>
                  <a:pt x="49" y="490"/>
                </a:lnTo>
                <a:lnTo>
                  <a:pt x="75" y="484"/>
                </a:lnTo>
                <a:lnTo>
                  <a:pt x="93" y="471"/>
                </a:lnTo>
                <a:lnTo>
                  <a:pt x="105" y="452"/>
                </a:lnTo>
                <a:lnTo>
                  <a:pt x="103" y="430"/>
                </a:lnTo>
                <a:lnTo>
                  <a:pt x="100" y="415"/>
                </a:lnTo>
                <a:lnTo>
                  <a:pt x="97" y="403"/>
                </a:lnTo>
                <a:lnTo>
                  <a:pt x="108" y="381"/>
                </a:lnTo>
                <a:lnTo>
                  <a:pt x="130" y="379"/>
                </a:lnTo>
                <a:lnTo>
                  <a:pt x="149" y="371"/>
                </a:lnTo>
                <a:lnTo>
                  <a:pt x="159" y="351"/>
                </a:lnTo>
                <a:lnTo>
                  <a:pt x="180" y="340"/>
                </a:lnTo>
                <a:lnTo>
                  <a:pt x="193" y="337"/>
                </a:lnTo>
                <a:lnTo>
                  <a:pt x="200" y="325"/>
                </a:lnTo>
                <a:lnTo>
                  <a:pt x="190" y="307"/>
                </a:lnTo>
                <a:lnTo>
                  <a:pt x="171" y="302"/>
                </a:lnTo>
                <a:lnTo>
                  <a:pt x="158" y="286"/>
                </a:lnTo>
                <a:lnTo>
                  <a:pt x="161" y="273"/>
                </a:lnTo>
                <a:lnTo>
                  <a:pt x="147" y="269"/>
                </a:lnTo>
                <a:lnTo>
                  <a:pt x="130" y="271"/>
                </a:lnTo>
                <a:lnTo>
                  <a:pt x="114" y="285"/>
                </a:lnTo>
                <a:lnTo>
                  <a:pt x="122" y="264"/>
                </a:lnTo>
                <a:lnTo>
                  <a:pt x="108" y="247"/>
                </a:lnTo>
                <a:lnTo>
                  <a:pt x="93" y="225"/>
                </a:lnTo>
                <a:lnTo>
                  <a:pt x="78" y="205"/>
                </a:lnTo>
                <a:lnTo>
                  <a:pt x="75" y="186"/>
                </a:lnTo>
                <a:lnTo>
                  <a:pt x="64" y="176"/>
                </a:lnTo>
                <a:lnTo>
                  <a:pt x="66" y="158"/>
                </a:lnTo>
                <a:lnTo>
                  <a:pt x="75" y="141"/>
                </a:lnTo>
                <a:lnTo>
                  <a:pt x="78" y="115"/>
                </a:lnTo>
                <a:lnTo>
                  <a:pt x="95" y="97"/>
                </a:lnTo>
                <a:lnTo>
                  <a:pt x="119" y="88"/>
                </a:lnTo>
                <a:lnTo>
                  <a:pt x="139" y="74"/>
                </a:lnTo>
                <a:lnTo>
                  <a:pt x="166" y="68"/>
                </a:lnTo>
                <a:lnTo>
                  <a:pt x="188" y="73"/>
                </a:lnTo>
                <a:lnTo>
                  <a:pt x="213" y="66"/>
                </a:lnTo>
                <a:lnTo>
                  <a:pt x="225" y="54"/>
                </a:lnTo>
                <a:lnTo>
                  <a:pt x="246" y="46"/>
                </a:lnTo>
                <a:lnTo>
                  <a:pt x="268" y="49"/>
                </a:lnTo>
                <a:lnTo>
                  <a:pt x="284" y="42"/>
                </a:lnTo>
                <a:lnTo>
                  <a:pt x="300" y="46"/>
                </a:lnTo>
                <a:lnTo>
                  <a:pt x="322" y="61"/>
                </a:lnTo>
                <a:lnTo>
                  <a:pt x="339" y="63"/>
                </a:lnTo>
                <a:lnTo>
                  <a:pt x="359" y="66"/>
                </a:lnTo>
                <a:lnTo>
                  <a:pt x="372" y="51"/>
                </a:lnTo>
                <a:lnTo>
                  <a:pt x="386" y="41"/>
                </a:lnTo>
                <a:lnTo>
                  <a:pt x="393" y="58"/>
                </a:lnTo>
                <a:close/>
              </a:path>
            </a:pathLst>
          </a:custGeom>
          <a:solidFill>
            <a:srgbClr val="dddddd"/>
          </a:solidFill>
          <a:ln w="324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Freeform 85"/>
          <p:cNvSpPr/>
          <p:nvPr/>
        </p:nvSpPr>
        <p:spPr>
          <a:xfrm>
            <a:off x="501480" y="3859200"/>
            <a:ext cx="1162080" cy="117936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1179360"/>
              <a:gd name="textAreaBottom" fmla="*/ 1179360 h 1179360"/>
            </a:gdLst>
            <a:ahLst/>
            <a:rect l="textAreaLeft" t="textAreaTop" r="textAreaRight" b="textAreaBottom"/>
            <a:pathLst>
              <a:path w="1464" h="1486">
                <a:moveTo>
                  <a:pt x="337" y="14"/>
                </a:moveTo>
                <a:lnTo>
                  <a:pt x="354" y="7"/>
                </a:lnTo>
                <a:lnTo>
                  <a:pt x="379" y="0"/>
                </a:lnTo>
                <a:lnTo>
                  <a:pt x="401" y="7"/>
                </a:lnTo>
                <a:lnTo>
                  <a:pt x="413" y="25"/>
                </a:lnTo>
                <a:lnTo>
                  <a:pt x="425" y="46"/>
                </a:lnTo>
                <a:lnTo>
                  <a:pt x="445" y="61"/>
                </a:lnTo>
                <a:lnTo>
                  <a:pt x="467" y="71"/>
                </a:lnTo>
                <a:lnTo>
                  <a:pt x="478" y="88"/>
                </a:lnTo>
                <a:lnTo>
                  <a:pt x="483" y="110"/>
                </a:lnTo>
                <a:lnTo>
                  <a:pt x="498" y="124"/>
                </a:lnTo>
                <a:lnTo>
                  <a:pt x="523" y="127"/>
                </a:lnTo>
                <a:lnTo>
                  <a:pt x="535" y="124"/>
                </a:lnTo>
                <a:lnTo>
                  <a:pt x="528" y="98"/>
                </a:lnTo>
                <a:lnTo>
                  <a:pt x="542" y="83"/>
                </a:lnTo>
                <a:lnTo>
                  <a:pt x="560" y="80"/>
                </a:lnTo>
                <a:lnTo>
                  <a:pt x="584" y="86"/>
                </a:lnTo>
                <a:lnTo>
                  <a:pt x="604" y="95"/>
                </a:lnTo>
                <a:lnTo>
                  <a:pt x="620" y="90"/>
                </a:lnTo>
                <a:lnTo>
                  <a:pt x="630" y="105"/>
                </a:lnTo>
                <a:lnTo>
                  <a:pt x="640" y="115"/>
                </a:lnTo>
                <a:lnTo>
                  <a:pt x="657" y="119"/>
                </a:lnTo>
                <a:lnTo>
                  <a:pt x="667" y="108"/>
                </a:lnTo>
                <a:lnTo>
                  <a:pt x="660" y="81"/>
                </a:lnTo>
                <a:lnTo>
                  <a:pt x="652" y="54"/>
                </a:lnTo>
                <a:lnTo>
                  <a:pt x="652" y="34"/>
                </a:lnTo>
                <a:lnTo>
                  <a:pt x="667" y="14"/>
                </a:lnTo>
                <a:lnTo>
                  <a:pt x="686" y="5"/>
                </a:lnTo>
                <a:lnTo>
                  <a:pt x="704" y="8"/>
                </a:lnTo>
                <a:lnTo>
                  <a:pt x="723" y="22"/>
                </a:lnTo>
                <a:lnTo>
                  <a:pt x="726" y="37"/>
                </a:lnTo>
                <a:lnTo>
                  <a:pt x="725" y="56"/>
                </a:lnTo>
                <a:lnTo>
                  <a:pt x="733" y="71"/>
                </a:lnTo>
                <a:lnTo>
                  <a:pt x="750" y="74"/>
                </a:lnTo>
                <a:lnTo>
                  <a:pt x="767" y="71"/>
                </a:lnTo>
                <a:lnTo>
                  <a:pt x="782" y="64"/>
                </a:lnTo>
                <a:lnTo>
                  <a:pt x="806" y="71"/>
                </a:lnTo>
                <a:lnTo>
                  <a:pt x="826" y="78"/>
                </a:lnTo>
                <a:lnTo>
                  <a:pt x="845" y="68"/>
                </a:lnTo>
                <a:lnTo>
                  <a:pt x="858" y="66"/>
                </a:lnTo>
                <a:lnTo>
                  <a:pt x="872" y="80"/>
                </a:lnTo>
                <a:lnTo>
                  <a:pt x="885" y="98"/>
                </a:lnTo>
                <a:lnTo>
                  <a:pt x="901" y="113"/>
                </a:lnTo>
                <a:lnTo>
                  <a:pt x="921" y="132"/>
                </a:lnTo>
                <a:lnTo>
                  <a:pt x="926" y="152"/>
                </a:lnTo>
                <a:lnTo>
                  <a:pt x="938" y="173"/>
                </a:lnTo>
                <a:lnTo>
                  <a:pt x="948" y="191"/>
                </a:lnTo>
                <a:lnTo>
                  <a:pt x="943" y="210"/>
                </a:lnTo>
                <a:lnTo>
                  <a:pt x="965" y="213"/>
                </a:lnTo>
                <a:lnTo>
                  <a:pt x="978" y="217"/>
                </a:lnTo>
                <a:lnTo>
                  <a:pt x="989" y="234"/>
                </a:lnTo>
                <a:lnTo>
                  <a:pt x="997" y="251"/>
                </a:lnTo>
                <a:lnTo>
                  <a:pt x="1016" y="259"/>
                </a:lnTo>
                <a:lnTo>
                  <a:pt x="1029" y="271"/>
                </a:lnTo>
                <a:lnTo>
                  <a:pt x="1044" y="290"/>
                </a:lnTo>
                <a:lnTo>
                  <a:pt x="1048" y="308"/>
                </a:lnTo>
                <a:lnTo>
                  <a:pt x="1039" y="325"/>
                </a:lnTo>
                <a:lnTo>
                  <a:pt x="1024" y="334"/>
                </a:lnTo>
                <a:lnTo>
                  <a:pt x="1016" y="352"/>
                </a:lnTo>
                <a:lnTo>
                  <a:pt x="1017" y="369"/>
                </a:lnTo>
                <a:lnTo>
                  <a:pt x="1031" y="381"/>
                </a:lnTo>
                <a:lnTo>
                  <a:pt x="1048" y="396"/>
                </a:lnTo>
                <a:lnTo>
                  <a:pt x="1049" y="418"/>
                </a:lnTo>
                <a:lnTo>
                  <a:pt x="1056" y="435"/>
                </a:lnTo>
                <a:lnTo>
                  <a:pt x="1075" y="444"/>
                </a:lnTo>
                <a:lnTo>
                  <a:pt x="1092" y="452"/>
                </a:lnTo>
                <a:lnTo>
                  <a:pt x="1105" y="471"/>
                </a:lnTo>
                <a:lnTo>
                  <a:pt x="1110" y="490"/>
                </a:lnTo>
                <a:lnTo>
                  <a:pt x="1117" y="505"/>
                </a:lnTo>
                <a:lnTo>
                  <a:pt x="1139" y="517"/>
                </a:lnTo>
                <a:lnTo>
                  <a:pt x="1158" y="520"/>
                </a:lnTo>
                <a:lnTo>
                  <a:pt x="1168" y="535"/>
                </a:lnTo>
                <a:lnTo>
                  <a:pt x="1188" y="529"/>
                </a:lnTo>
                <a:lnTo>
                  <a:pt x="1209" y="537"/>
                </a:lnTo>
                <a:lnTo>
                  <a:pt x="1225" y="551"/>
                </a:lnTo>
                <a:lnTo>
                  <a:pt x="1234" y="573"/>
                </a:lnTo>
                <a:lnTo>
                  <a:pt x="1247" y="593"/>
                </a:lnTo>
                <a:lnTo>
                  <a:pt x="1258" y="613"/>
                </a:lnTo>
                <a:lnTo>
                  <a:pt x="1271" y="630"/>
                </a:lnTo>
                <a:lnTo>
                  <a:pt x="1286" y="637"/>
                </a:lnTo>
                <a:lnTo>
                  <a:pt x="1305" y="637"/>
                </a:lnTo>
                <a:lnTo>
                  <a:pt x="1324" y="642"/>
                </a:lnTo>
                <a:lnTo>
                  <a:pt x="1332" y="661"/>
                </a:lnTo>
                <a:lnTo>
                  <a:pt x="1341" y="686"/>
                </a:lnTo>
                <a:lnTo>
                  <a:pt x="1359" y="703"/>
                </a:lnTo>
                <a:lnTo>
                  <a:pt x="1383" y="706"/>
                </a:lnTo>
                <a:lnTo>
                  <a:pt x="1403" y="722"/>
                </a:lnTo>
                <a:lnTo>
                  <a:pt x="1412" y="745"/>
                </a:lnTo>
                <a:lnTo>
                  <a:pt x="1427" y="764"/>
                </a:lnTo>
                <a:lnTo>
                  <a:pt x="1449" y="772"/>
                </a:lnTo>
                <a:lnTo>
                  <a:pt x="1464" y="798"/>
                </a:lnTo>
                <a:lnTo>
                  <a:pt x="1461" y="823"/>
                </a:lnTo>
                <a:lnTo>
                  <a:pt x="1456" y="852"/>
                </a:lnTo>
                <a:lnTo>
                  <a:pt x="1444" y="876"/>
                </a:lnTo>
                <a:lnTo>
                  <a:pt x="1439" y="898"/>
                </a:lnTo>
                <a:lnTo>
                  <a:pt x="1420" y="883"/>
                </a:lnTo>
                <a:lnTo>
                  <a:pt x="1401" y="876"/>
                </a:lnTo>
                <a:lnTo>
                  <a:pt x="1388" y="888"/>
                </a:lnTo>
                <a:lnTo>
                  <a:pt x="1378" y="903"/>
                </a:lnTo>
                <a:lnTo>
                  <a:pt x="1357" y="898"/>
                </a:lnTo>
                <a:lnTo>
                  <a:pt x="1346" y="918"/>
                </a:lnTo>
                <a:lnTo>
                  <a:pt x="1337" y="947"/>
                </a:lnTo>
                <a:lnTo>
                  <a:pt x="1329" y="974"/>
                </a:lnTo>
                <a:lnTo>
                  <a:pt x="1317" y="996"/>
                </a:lnTo>
                <a:lnTo>
                  <a:pt x="1300" y="1011"/>
                </a:lnTo>
                <a:lnTo>
                  <a:pt x="1275" y="1018"/>
                </a:lnTo>
                <a:lnTo>
                  <a:pt x="1251" y="1021"/>
                </a:lnTo>
                <a:lnTo>
                  <a:pt x="1232" y="1033"/>
                </a:lnTo>
                <a:lnTo>
                  <a:pt x="1214" y="1044"/>
                </a:lnTo>
                <a:lnTo>
                  <a:pt x="1190" y="1040"/>
                </a:lnTo>
                <a:lnTo>
                  <a:pt x="1173" y="1050"/>
                </a:lnTo>
                <a:lnTo>
                  <a:pt x="1159" y="1069"/>
                </a:lnTo>
                <a:lnTo>
                  <a:pt x="1143" y="1082"/>
                </a:lnTo>
                <a:lnTo>
                  <a:pt x="1131" y="1101"/>
                </a:lnTo>
                <a:lnTo>
                  <a:pt x="1129" y="1121"/>
                </a:lnTo>
                <a:lnTo>
                  <a:pt x="1141" y="1143"/>
                </a:lnTo>
                <a:lnTo>
                  <a:pt x="1159" y="1164"/>
                </a:lnTo>
                <a:lnTo>
                  <a:pt x="1176" y="1186"/>
                </a:lnTo>
                <a:lnTo>
                  <a:pt x="1197" y="1204"/>
                </a:lnTo>
                <a:lnTo>
                  <a:pt x="1210" y="1226"/>
                </a:lnTo>
                <a:lnTo>
                  <a:pt x="1207" y="1250"/>
                </a:lnTo>
                <a:lnTo>
                  <a:pt x="1198" y="1272"/>
                </a:lnTo>
                <a:lnTo>
                  <a:pt x="1195" y="1287"/>
                </a:lnTo>
                <a:lnTo>
                  <a:pt x="1207" y="1299"/>
                </a:lnTo>
                <a:lnTo>
                  <a:pt x="1224" y="1308"/>
                </a:lnTo>
                <a:lnTo>
                  <a:pt x="1234" y="1328"/>
                </a:lnTo>
                <a:lnTo>
                  <a:pt x="1237" y="1355"/>
                </a:lnTo>
                <a:lnTo>
                  <a:pt x="1229" y="1377"/>
                </a:lnTo>
                <a:lnTo>
                  <a:pt x="1215" y="1384"/>
                </a:lnTo>
                <a:lnTo>
                  <a:pt x="1197" y="1377"/>
                </a:lnTo>
                <a:lnTo>
                  <a:pt x="1178" y="1369"/>
                </a:lnTo>
                <a:lnTo>
                  <a:pt x="1170" y="1355"/>
                </a:lnTo>
                <a:lnTo>
                  <a:pt x="1163" y="1335"/>
                </a:lnTo>
                <a:lnTo>
                  <a:pt x="1144" y="1321"/>
                </a:lnTo>
                <a:lnTo>
                  <a:pt x="1122" y="1320"/>
                </a:lnTo>
                <a:lnTo>
                  <a:pt x="1104" y="1326"/>
                </a:lnTo>
                <a:lnTo>
                  <a:pt x="1085" y="1337"/>
                </a:lnTo>
                <a:lnTo>
                  <a:pt x="1068" y="1321"/>
                </a:lnTo>
                <a:lnTo>
                  <a:pt x="1055" y="1309"/>
                </a:lnTo>
                <a:lnTo>
                  <a:pt x="1036" y="1311"/>
                </a:lnTo>
                <a:lnTo>
                  <a:pt x="1016" y="1309"/>
                </a:lnTo>
                <a:lnTo>
                  <a:pt x="1000" y="1299"/>
                </a:lnTo>
                <a:lnTo>
                  <a:pt x="990" y="1281"/>
                </a:lnTo>
                <a:lnTo>
                  <a:pt x="983" y="1265"/>
                </a:lnTo>
                <a:lnTo>
                  <a:pt x="972" y="1276"/>
                </a:lnTo>
                <a:lnTo>
                  <a:pt x="961" y="1287"/>
                </a:lnTo>
                <a:lnTo>
                  <a:pt x="956" y="1303"/>
                </a:lnTo>
                <a:lnTo>
                  <a:pt x="951" y="1320"/>
                </a:lnTo>
                <a:lnTo>
                  <a:pt x="939" y="1328"/>
                </a:lnTo>
                <a:lnTo>
                  <a:pt x="923" y="1335"/>
                </a:lnTo>
                <a:lnTo>
                  <a:pt x="907" y="1345"/>
                </a:lnTo>
                <a:lnTo>
                  <a:pt x="895" y="1359"/>
                </a:lnTo>
                <a:lnTo>
                  <a:pt x="873" y="1362"/>
                </a:lnTo>
                <a:lnTo>
                  <a:pt x="850" y="1355"/>
                </a:lnTo>
                <a:lnTo>
                  <a:pt x="826" y="1357"/>
                </a:lnTo>
                <a:lnTo>
                  <a:pt x="813" y="1364"/>
                </a:lnTo>
                <a:lnTo>
                  <a:pt x="796" y="1374"/>
                </a:lnTo>
                <a:lnTo>
                  <a:pt x="780" y="1391"/>
                </a:lnTo>
                <a:lnTo>
                  <a:pt x="765" y="1401"/>
                </a:lnTo>
                <a:lnTo>
                  <a:pt x="733" y="1406"/>
                </a:lnTo>
                <a:lnTo>
                  <a:pt x="708" y="1404"/>
                </a:lnTo>
                <a:lnTo>
                  <a:pt x="684" y="1396"/>
                </a:lnTo>
                <a:lnTo>
                  <a:pt x="657" y="1404"/>
                </a:lnTo>
                <a:lnTo>
                  <a:pt x="637" y="1415"/>
                </a:lnTo>
                <a:lnTo>
                  <a:pt x="620" y="1420"/>
                </a:lnTo>
                <a:lnTo>
                  <a:pt x="610" y="1403"/>
                </a:lnTo>
                <a:lnTo>
                  <a:pt x="598" y="1386"/>
                </a:lnTo>
                <a:lnTo>
                  <a:pt x="572" y="1382"/>
                </a:lnTo>
                <a:lnTo>
                  <a:pt x="542" y="1374"/>
                </a:lnTo>
                <a:lnTo>
                  <a:pt x="515" y="1367"/>
                </a:lnTo>
                <a:lnTo>
                  <a:pt x="494" y="1369"/>
                </a:lnTo>
                <a:lnTo>
                  <a:pt x="476" y="1365"/>
                </a:lnTo>
                <a:lnTo>
                  <a:pt x="469" y="1348"/>
                </a:lnTo>
                <a:lnTo>
                  <a:pt x="454" y="1340"/>
                </a:lnTo>
                <a:lnTo>
                  <a:pt x="440" y="1347"/>
                </a:lnTo>
                <a:lnTo>
                  <a:pt x="439" y="1364"/>
                </a:lnTo>
                <a:lnTo>
                  <a:pt x="442" y="1377"/>
                </a:lnTo>
                <a:lnTo>
                  <a:pt x="450" y="1399"/>
                </a:lnTo>
                <a:lnTo>
                  <a:pt x="445" y="1420"/>
                </a:lnTo>
                <a:lnTo>
                  <a:pt x="428" y="1442"/>
                </a:lnTo>
                <a:lnTo>
                  <a:pt x="408" y="1460"/>
                </a:lnTo>
                <a:lnTo>
                  <a:pt x="393" y="1481"/>
                </a:lnTo>
                <a:lnTo>
                  <a:pt x="379" y="1486"/>
                </a:lnTo>
                <a:lnTo>
                  <a:pt x="373" y="1469"/>
                </a:lnTo>
                <a:lnTo>
                  <a:pt x="362" y="1452"/>
                </a:lnTo>
                <a:lnTo>
                  <a:pt x="344" y="1442"/>
                </a:lnTo>
                <a:lnTo>
                  <a:pt x="342" y="1420"/>
                </a:lnTo>
                <a:lnTo>
                  <a:pt x="332" y="1399"/>
                </a:lnTo>
                <a:lnTo>
                  <a:pt x="318" y="1382"/>
                </a:lnTo>
                <a:lnTo>
                  <a:pt x="300" y="1372"/>
                </a:lnTo>
                <a:lnTo>
                  <a:pt x="290" y="1357"/>
                </a:lnTo>
                <a:lnTo>
                  <a:pt x="278" y="1345"/>
                </a:lnTo>
                <a:lnTo>
                  <a:pt x="254" y="1348"/>
                </a:lnTo>
                <a:lnTo>
                  <a:pt x="230" y="1359"/>
                </a:lnTo>
                <a:lnTo>
                  <a:pt x="207" y="1372"/>
                </a:lnTo>
                <a:lnTo>
                  <a:pt x="183" y="1377"/>
                </a:lnTo>
                <a:lnTo>
                  <a:pt x="163" y="1372"/>
                </a:lnTo>
                <a:lnTo>
                  <a:pt x="176" y="1362"/>
                </a:lnTo>
                <a:lnTo>
                  <a:pt x="193" y="1350"/>
                </a:lnTo>
                <a:lnTo>
                  <a:pt x="214" y="1337"/>
                </a:lnTo>
                <a:lnTo>
                  <a:pt x="236" y="1325"/>
                </a:lnTo>
                <a:lnTo>
                  <a:pt x="251" y="1313"/>
                </a:lnTo>
                <a:lnTo>
                  <a:pt x="263" y="1301"/>
                </a:lnTo>
                <a:lnTo>
                  <a:pt x="280" y="1294"/>
                </a:lnTo>
                <a:lnTo>
                  <a:pt x="290" y="1311"/>
                </a:lnTo>
                <a:lnTo>
                  <a:pt x="313" y="1306"/>
                </a:lnTo>
                <a:lnTo>
                  <a:pt x="332" y="1311"/>
                </a:lnTo>
                <a:lnTo>
                  <a:pt x="342" y="1298"/>
                </a:lnTo>
                <a:lnTo>
                  <a:pt x="332" y="1282"/>
                </a:lnTo>
                <a:lnTo>
                  <a:pt x="342" y="1269"/>
                </a:lnTo>
                <a:lnTo>
                  <a:pt x="335" y="1252"/>
                </a:lnTo>
                <a:lnTo>
                  <a:pt x="334" y="1232"/>
                </a:lnTo>
                <a:lnTo>
                  <a:pt x="342" y="1206"/>
                </a:lnTo>
                <a:lnTo>
                  <a:pt x="337" y="1182"/>
                </a:lnTo>
                <a:lnTo>
                  <a:pt x="344" y="1159"/>
                </a:lnTo>
                <a:lnTo>
                  <a:pt x="351" y="1133"/>
                </a:lnTo>
                <a:lnTo>
                  <a:pt x="344" y="1108"/>
                </a:lnTo>
                <a:lnTo>
                  <a:pt x="339" y="1084"/>
                </a:lnTo>
                <a:lnTo>
                  <a:pt x="335" y="1052"/>
                </a:lnTo>
                <a:lnTo>
                  <a:pt x="327" y="1028"/>
                </a:lnTo>
                <a:lnTo>
                  <a:pt x="320" y="1011"/>
                </a:lnTo>
                <a:lnTo>
                  <a:pt x="324" y="994"/>
                </a:lnTo>
                <a:lnTo>
                  <a:pt x="337" y="981"/>
                </a:lnTo>
                <a:lnTo>
                  <a:pt x="356" y="967"/>
                </a:lnTo>
                <a:lnTo>
                  <a:pt x="362" y="947"/>
                </a:lnTo>
                <a:lnTo>
                  <a:pt x="379" y="932"/>
                </a:lnTo>
                <a:lnTo>
                  <a:pt x="403" y="920"/>
                </a:lnTo>
                <a:lnTo>
                  <a:pt x="413" y="901"/>
                </a:lnTo>
                <a:lnTo>
                  <a:pt x="410" y="883"/>
                </a:lnTo>
                <a:lnTo>
                  <a:pt x="395" y="866"/>
                </a:lnTo>
                <a:lnTo>
                  <a:pt x="403" y="850"/>
                </a:lnTo>
                <a:lnTo>
                  <a:pt x="422" y="854"/>
                </a:lnTo>
                <a:lnTo>
                  <a:pt x="432" y="869"/>
                </a:lnTo>
                <a:lnTo>
                  <a:pt x="450" y="869"/>
                </a:lnTo>
                <a:lnTo>
                  <a:pt x="457" y="854"/>
                </a:lnTo>
                <a:lnTo>
                  <a:pt x="442" y="839"/>
                </a:lnTo>
                <a:lnTo>
                  <a:pt x="440" y="820"/>
                </a:lnTo>
                <a:lnTo>
                  <a:pt x="449" y="794"/>
                </a:lnTo>
                <a:lnTo>
                  <a:pt x="457" y="761"/>
                </a:lnTo>
                <a:lnTo>
                  <a:pt x="449" y="733"/>
                </a:lnTo>
                <a:lnTo>
                  <a:pt x="435" y="713"/>
                </a:lnTo>
                <a:lnTo>
                  <a:pt x="418" y="701"/>
                </a:lnTo>
                <a:lnTo>
                  <a:pt x="408" y="684"/>
                </a:lnTo>
                <a:lnTo>
                  <a:pt x="401" y="664"/>
                </a:lnTo>
                <a:lnTo>
                  <a:pt x="395" y="647"/>
                </a:lnTo>
                <a:lnTo>
                  <a:pt x="381" y="635"/>
                </a:lnTo>
                <a:lnTo>
                  <a:pt x="364" y="627"/>
                </a:lnTo>
                <a:lnTo>
                  <a:pt x="347" y="613"/>
                </a:lnTo>
                <a:lnTo>
                  <a:pt x="337" y="596"/>
                </a:lnTo>
                <a:lnTo>
                  <a:pt x="339" y="573"/>
                </a:lnTo>
                <a:lnTo>
                  <a:pt x="354" y="552"/>
                </a:lnTo>
                <a:lnTo>
                  <a:pt x="357" y="532"/>
                </a:lnTo>
                <a:lnTo>
                  <a:pt x="351" y="512"/>
                </a:lnTo>
                <a:lnTo>
                  <a:pt x="354" y="493"/>
                </a:lnTo>
                <a:lnTo>
                  <a:pt x="361" y="466"/>
                </a:lnTo>
                <a:lnTo>
                  <a:pt x="354" y="447"/>
                </a:lnTo>
                <a:lnTo>
                  <a:pt x="337" y="449"/>
                </a:lnTo>
                <a:lnTo>
                  <a:pt x="324" y="461"/>
                </a:lnTo>
                <a:lnTo>
                  <a:pt x="313" y="479"/>
                </a:lnTo>
                <a:lnTo>
                  <a:pt x="296" y="486"/>
                </a:lnTo>
                <a:lnTo>
                  <a:pt x="288" y="471"/>
                </a:lnTo>
                <a:lnTo>
                  <a:pt x="281" y="456"/>
                </a:lnTo>
                <a:lnTo>
                  <a:pt x="269" y="452"/>
                </a:lnTo>
                <a:lnTo>
                  <a:pt x="261" y="440"/>
                </a:lnTo>
                <a:lnTo>
                  <a:pt x="254" y="427"/>
                </a:lnTo>
                <a:lnTo>
                  <a:pt x="263" y="405"/>
                </a:lnTo>
                <a:lnTo>
                  <a:pt x="258" y="393"/>
                </a:lnTo>
                <a:lnTo>
                  <a:pt x="236" y="400"/>
                </a:lnTo>
                <a:lnTo>
                  <a:pt x="217" y="393"/>
                </a:lnTo>
                <a:lnTo>
                  <a:pt x="212" y="376"/>
                </a:lnTo>
                <a:lnTo>
                  <a:pt x="210" y="354"/>
                </a:lnTo>
                <a:lnTo>
                  <a:pt x="195" y="347"/>
                </a:lnTo>
                <a:lnTo>
                  <a:pt x="181" y="357"/>
                </a:lnTo>
                <a:lnTo>
                  <a:pt x="168" y="373"/>
                </a:lnTo>
                <a:lnTo>
                  <a:pt x="158" y="364"/>
                </a:lnTo>
                <a:lnTo>
                  <a:pt x="146" y="352"/>
                </a:lnTo>
                <a:lnTo>
                  <a:pt x="129" y="356"/>
                </a:lnTo>
                <a:lnTo>
                  <a:pt x="117" y="368"/>
                </a:lnTo>
                <a:lnTo>
                  <a:pt x="122" y="390"/>
                </a:lnTo>
                <a:lnTo>
                  <a:pt x="120" y="405"/>
                </a:lnTo>
                <a:lnTo>
                  <a:pt x="110" y="415"/>
                </a:lnTo>
                <a:lnTo>
                  <a:pt x="93" y="408"/>
                </a:lnTo>
                <a:lnTo>
                  <a:pt x="85" y="427"/>
                </a:lnTo>
                <a:lnTo>
                  <a:pt x="73" y="446"/>
                </a:lnTo>
                <a:lnTo>
                  <a:pt x="55" y="456"/>
                </a:lnTo>
                <a:lnTo>
                  <a:pt x="34" y="447"/>
                </a:lnTo>
                <a:lnTo>
                  <a:pt x="16" y="429"/>
                </a:lnTo>
                <a:lnTo>
                  <a:pt x="14" y="403"/>
                </a:lnTo>
                <a:lnTo>
                  <a:pt x="22" y="383"/>
                </a:lnTo>
                <a:lnTo>
                  <a:pt x="17" y="359"/>
                </a:lnTo>
                <a:lnTo>
                  <a:pt x="9" y="339"/>
                </a:lnTo>
                <a:lnTo>
                  <a:pt x="0" y="312"/>
                </a:lnTo>
                <a:lnTo>
                  <a:pt x="5" y="293"/>
                </a:lnTo>
                <a:lnTo>
                  <a:pt x="17" y="278"/>
                </a:lnTo>
                <a:lnTo>
                  <a:pt x="27" y="256"/>
                </a:lnTo>
                <a:lnTo>
                  <a:pt x="24" y="237"/>
                </a:lnTo>
                <a:lnTo>
                  <a:pt x="22" y="215"/>
                </a:lnTo>
                <a:lnTo>
                  <a:pt x="36" y="205"/>
                </a:lnTo>
                <a:lnTo>
                  <a:pt x="53" y="202"/>
                </a:lnTo>
                <a:lnTo>
                  <a:pt x="70" y="213"/>
                </a:lnTo>
                <a:lnTo>
                  <a:pt x="82" y="198"/>
                </a:lnTo>
                <a:lnTo>
                  <a:pt x="100" y="191"/>
                </a:lnTo>
                <a:lnTo>
                  <a:pt x="120" y="196"/>
                </a:lnTo>
                <a:lnTo>
                  <a:pt x="141" y="202"/>
                </a:lnTo>
                <a:lnTo>
                  <a:pt x="159" y="196"/>
                </a:lnTo>
                <a:lnTo>
                  <a:pt x="168" y="180"/>
                </a:lnTo>
                <a:lnTo>
                  <a:pt x="170" y="161"/>
                </a:lnTo>
                <a:lnTo>
                  <a:pt x="181" y="149"/>
                </a:lnTo>
                <a:lnTo>
                  <a:pt x="197" y="151"/>
                </a:lnTo>
                <a:lnTo>
                  <a:pt x="212" y="149"/>
                </a:lnTo>
                <a:lnTo>
                  <a:pt x="215" y="134"/>
                </a:lnTo>
                <a:lnTo>
                  <a:pt x="225" y="120"/>
                </a:lnTo>
                <a:lnTo>
                  <a:pt x="241" y="115"/>
                </a:lnTo>
                <a:lnTo>
                  <a:pt x="247" y="98"/>
                </a:lnTo>
                <a:lnTo>
                  <a:pt x="241" y="86"/>
                </a:lnTo>
                <a:lnTo>
                  <a:pt x="242" y="71"/>
                </a:lnTo>
                <a:lnTo>
                  <a:pt x="259" y="69"/>
                </a:lnTo>
                <a:lnTo>
                  <a:pt x="276" y="83"/>
                </a:lnTo>
                <a:lnTo>
                  <a:pt x="295" y="88"/>
                </a:lnTo>
                <a:lnTo>
                  <a:pt x="305" y="71"/>
                </a:lnTo>
                <a:lnTo>
                  <a:pt x="310" y="56"/>
                </a:lnTo>
                <a:lnTo>
                  <a:pt x="324" y="47"/>
                </a:lnTo>
                <a:lnTo>
                  <a:pt x="335" y="30"/>
                </a:lnTo>
                <a:lnTo>
                  <a:pt x="337" y="14"/>
                </a:lnTo>
                <a:close/>
              </a:path>
            </a:pathLst>
          </a:custGeom>
          <a:solidFill>
            <a:srgbClr val="ffc5cf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Freeform 86"/>
          <p:cNvSpPr/>
          <p:nvPr/>
        </p:nvSpPr>
        <p:spPr>
          <a:xfrm>
            <a:off x="6853320" y="3903840"/>
            <a:ext cx="723960" cy="812520"/>
          </a:xfrm>
          <a:custGeom>
            <a:avLst/>
            <a:gdLst>
              <a:gd name="textAreaLeft" fmla="*/ 0 w 723960"/>
              <a:gd name="textAreaRight" fmla="*/ 724320 w 723960"/>
              <a:gd name="textAreaTop" fmla="*/ 0 h 812520"/>
              <a:gd name="textAreaBottom" fmla="*/ 812880 h 812520"/>
            </a:gdLst>
            <a:ahLst/>
            <a:rect l="textAreaLeft" t="textAreaTop" r="textAreaRight" b="textAreaBottom"/>
            <a:pathLst>
              <a:path w="910" h="1025">
                <a:moveTo>
                  <a:pt x="616" y="1025"/>
                </a:moveTo>
                <a:lnTo>
                  <a:pt x="629" y="1015"/>
                </a:lnTo>
                <a:lnTo>
                  <a:pt x="646" y="1003"/>
                </a:lnTo>
                <a:lnTo>
                  <a:pt x="667" y="990"/>
                </a:lnTo>
                <a:lnTo>
                  <a:pt x="689" y="978"/>
                </a:lnTo>
                <a:lnTo>
                  <a:pt x="704" y="966"/>
                </a:lnTo>
                <a:lnTo>
                  <a:pt x="716" y="954"/>
                </a:lnTo>
                <a:lnTo>
                  <a:pt x="733" y="947"/>
                </a:lnTo>
                <a:lnTo>
                  <a:pt x="743" y="964"/>
                </a:lnTo>
                <a:lnTo>
                  <a:pt x="766" y="959"/>
                </a:lnTo>
                <a:lnTo>
                  <a:pt x="785" y="964"/>
                </a:lnTo>
                <a:lnTo>
                  <a:pt x="795" y="951"/>
                </a:lnTo>
                <a:lnTo>
                  <a:pt x="785" y="935"/>
                </a:lnTo>
                <a:lnTo>
                  <a:pt x="795" y="922"/>
                </a:lnTo>
                <a:lnTo>
                  <a:pt x="788" y="905"/>
                </a:lnTo>
                <a:lnTo>
                  <a:pt x="787" y="885"/>
                </a:lnTo>
                <a:lnTo>
                  <a:pt x="795" y="859"/>
                </a:lnTo>
                <a:lnTo>
                  <a:pt x="790" y="835"/>
                </a:lnTo>
                <a:lnTo>
                  <a:pt x="797" y="812"/>
                </a:lnTo>
                <a:lnTo>
                  <a:pt x="804" y="786"/>
                </a:lnTo>
                <a:lnTo>
                  <a:pt x="797" y="761"/>
                </a:lnTo>
                <a:lnTo>
                  <a:pt x="792" y="737"/>
                </a:lnTo>
                <a:lnTo>
                  <a:pt x="788" y="705"/>
                </a:lnTo>
                <a:lnTo>
                  <a:pt x="780" y="681"/>
                </a:lnTo>
                <a:lnTo>
                  <a:pt x="773" y="664"/>
                </a:lnTo>
                <a:lnTo>
                  <a:pt x="777" y="647"/>
                </a:lnTo>
                <a:lnTo>
                  <a:pt x="790" y="634"/>
                </a:lnTo>
                <a:lnTo>
                  <a:pt x="809" y="620"/>
                </a:lnTo>
                <a:lnTo>
                  <a:pt x="815" y="600"/>
                </a:lnTo>
                <a:lnTo>
                  <a:pt x="832" y="585"/>
                </a:lnTo>
                <a:lnTo>
                  <a:pt x="856" y="573"/>
                </a:lnTo>
                <a:lnTo>
                  <a:pt x="866" y="554"/>
                </a:lnTo>
                <a:lnTo>
                  <a:pt x="863" y="536"/>
                </a:lnTo>
                <a:lnTo>
                  <a:pt x="848" y="519"/>
                </a:lnTo>
                <a:lnTo>
                  <a:pt x="856" y="503"/>
                </a:lnTo>
                <a:lnTo>
                  <a:pt x="875" y="507"/>
                </a:lnTo>
                <a:lnTo>
                  <a:pt x="885" y="522"/>
                </a:lnTo>
                <a:lnTo>
                  <a:pt x="903" y="522"/>
                </a:lnTo>
                <a:lnTo>
                  <a:pt x="910" y="507"/>
                </a:lnTo>
                <a:lnTo>
                  <a:pt x="895" y="492"/>
                </a:lnTo>
                <a:lnTo>
                  <a:pt x="893" y="473"/>
                </a:lnTo>
                <a:lnTo>
                  <a:pt x="902" y="447"/>
                </a:lnTo>
                <a:lnTo>
                  <a:pt x="910" y="414"/>
                </a:lnTo>
                <a:lnTo>
                  <a:pt x="902" y="386"/>
                </a:lnTo>
                <a:lnTo>
                  <a:pt x="888" y="366"/>
                </a:lnTo>
                <a:lnTo>
                  <a:pt x="871" y="354"/>
                </a:lnTo>
                <a:lnTo>
                  <a:pt x="861" y="337"/>
                </a:lnTo>
                <a:lnTo>
                  <a:pt x="854" y="317"/>
                </a:lnTo>
                <a:lnTo>
                  <a:pt x="848" y="300"/>
                </a:lnTo>
                <a:lnTo>
                  <a:pt x="834" y="288"/>
                </a:lnTo>
                <a:lnTo>
                  <a:pt x="817" y="280"/>
                </a:lnTo>
                <a:lnTo>
                  <a:pt x="800" y="266"/>
                </a:lnTo>
                <a:lnTo>
                  <a:pt x="790" y="249"/>
                </a:lnTo>
                <a:lnTo>
                  <a:pt x="792" y="226"/>
                </a:lnTo>
                <a:lnTo>
                  <a:pt x="807" y="205"/>
                </a:lnTo>
                <a:lnTo>
                  <a:pt x="810" y="185"/>
                </a:lnTo>
                <a:lnTo>
                  <a:pt x="804" y="165"/>
                </a:lnTo>
                <a:lnTo>
                  <a:pt x="807" y="146"/>
                </a:lnTo>
                <a:lnTo>
                  <a:pt x="814" y="119"/>
                </a:lnTo>
                <a:lnTo>
                  <a:pt x="807" y="100"/>
                </a:lnTo>
                <a:lnTo>
                  <a:pt x="790" y="102"/>
                </a:lnTo>
                <a:lnTo>
                  <a:pt x="777" y="114"/>
                </a:lnTo>
                <a:lnTo>
                  <a:pt x="766" y="132"/>
                </a:lnTo>
                <a:lnTo>
                  <a:pt x="749" y="139"/>
                </a:lnTo>
                <a:lnTo>
                  <a:pt x="741" y="124"/>
                </a:lnTo>
                <a:lnTo>
                  <a:pt x="734" y="109"/>
                </a:lnTo>
                <a:lnTo>
                  <a:pt x="722" y="105"/>
                </a:lnTo>
                <a:lnTo>
                  <a:pt x="714" y="93"/>
                </a:lnTo>
                <a:lnTo>
                  <a:pt x="707" y="80"/>
                </a:lnTo>
                <a:lnTo>
                  <a:pt x="716" y="58"/>
                </a:lnTo>
                <a:lnTo>
                  <a:pt x="711" y="46"/>
                </a:lnTo>
                <a:lnTo>
                  <a:pt x="689" y="53"/>
                </a:lnTo>
                <a:lnTo>
                  <a:pt x="670" y="46"/>
                </a:lnTo>
                <a:lnTo>
                  <a:pt x="665" y="29"/>
                </a:lnTo>
                <a:lnTo>
                  <a:pt x="663" y="7"/>
                </a:lnTo>
                <a:lnTo>
                  <a:pt x="648" y="0"/>
                </a:lnTo>
                <a:lnTo>
                  <a:pt x="634" y="10"/>
                </a:lnTo>
                <a:lnTo>
                  <a:pt x="621" y="26"/>
                </a:lnTo>
                <a:lnTo>
                  <a:pt x="611" y="17"/>
                </a:lnTo>
                <a:lnTo>
                  <a:pt x="599" y="5"/>
                </a:lnTo>
                <a:lnTo>
                  <a:pt x="582" y="9"/>
                </a:lnTo>
                <a:lnTo>
                  <a:pt x="570" y="21"/>
                </a:lnTo>
                <a:lnTo>
                  <a:pt x="575" y="43"/>
                </a:lnTo>
                <a:lnTo>
                  <a:pt x="573" y="58"/>
                </a:lnTo>
                <a:lnTo>
                  <a:pt x="563" y="68"/>
                </a:lnTo>
                <a:lnTo>
                  <a:pt x="546" y="61"/>
                </a:lnTo>
                <a:lnTo>
                  <a:pt x="538" y="80"/>
                </a:lnTo>
                <a:lnTo>
                  <a:pt x="526" y="99"/>
                </a:lnTo>
                <a:lnTo>
                  <a:pt x="508" y="109"/>
                </a:lnTo>
                <a:lnTo>
                  <a:pt x="494" y="112"/>
                </a:lnTo>
                <a:lnTo>
                  <a:pt x="499" y="127"/>
                </a:lnTo>
                <a:lnTo>
                  <a:pt x="496" y="143"/>
                </a:lnTo>
                <a:lnTo>
                  <a:pt x="479" y="141"/>
                </a:lnTo>
                <a:lnTo>
                  <a:pt x="462" y="134"/>
                </a:lnTo>
                <a:lnTo>
                  <a:pt x="450" y="144"/>
                </a:lnTo>
                <a:lnTo>
                  <a:pt x="438" y="158"/>
                </a:lnTo>
                <a:lnTo>
                  <a:pt x="425" y="170"/>
                </a:lnTo>
                <a:lnTo>
                  <a:pt x="411" y="165"/>
                </a:lnTo>
                <a:lnTo>
                  <a:pt x="409" y="149"/>
                </a:lnTo>
                <a:lnTo>
                  <a:pt x="414" y="132"/>
                </a:lnTo>
                <a:lnTo>
                  <a:pt x="423" y="115"/>
                </a:lnTo>
                <a:lnTo>
                  <a:pt x="406" y="109"/>
                </a:lnTo>
                <a:lnTo>
                  <a:pt x="392" y="117"/>
                </a:lnTo>
                <a:lnTo>
                  <a:pt x="379" y="109"/>
                </a:lnTo>
                <a:lnTo>
                  <a:pt x="364" y="99"/>
                </a:lnTo>
                <a:lnTo>
                  <a:pt x="347" y="107"/>
                </a:lnTo>
                <a:lnTo>
                  <a:pt x="328" y="104"/>
                </a:lnTo>
                <a:lnTo>
                  <a:pt x="311" y="97"/>
                </a:lnTo>
                <a:lnTo>
                  <a:pt x="301" y="109"/>
                </a:lnTo>
                <a:lnTo>
                  <a:pt x="310" y="131"/>
                </a:lnTo>
                <a:lnTo>
                  <a:pt x="311" y="151"/>
                </a:lnTo>
                <a:lnTo>
                  <a:pt x="318" y="176"/>
                </a:lnTo>
                <a:lnTo>
                  <a:pt x="325" y="198"/>
                </a:lnTo>
                <a:lnTo>
                  <a:pt x="316" y="219"/>
                </a:lnTo>
                <a:lnTo>
                  <a:pt x="313" y="241"/>
                </a:lnTo>
                <a:lnTo>
                  <a:pt x="301" y="254"/>
                </a:lnTo>
                <a:lnTo>
                  <a:pt x="288" y="276"/>
                </a:lnTo>
                <a:lnTo>
                  <a:pt x="284" y="298"/>
                </a:lnTo>
                <a:lnTo>
                  <a:pt x="281" y="319"/>
                </a:lnTo>
                <a:lnTo>
                  <a:pt x="269" y="331"/>
                </a:lnTo>
                <a:lnTo>
                  <a:pt x="252" y="349"/>
                </a:lnTo>
                <a:lnTo>
                  <a:pt x="247" y="376"/>
                </a:lnTo>
                <a:lnTo>
                  <a:pt x="240" y="397"/>
                </a:lnTo>
                <a:lnTo>
                  <a:pt x="223" y="410"/>
                </a:lnTo>
                <a:lnTo>
                  <a:pt x="203" y="420"/>
                </a:lnTo>
                <a:lnTo>
                  <a:pt x="189" y="436"/>
                </a:lnTo>
                <a:lnTo>
                  <a:pt x="179" y="458"/>
                </a:lnTo>
                <a:lnTo>
                  <a:pt x="172" y="476"/>
                </a:lnTo>
                <a:lnTo>
                  <a:pt x="154" y="485"/>
                </a:lnTo>
                <a:lnTo>
                  <a:pt x="137" y="498"/>
                </a:lnTo>
                <a:lnTo>
                  <a:pt x="122" y="517"/>
                </a:lnTo>
                <a:lnTo>
                  <a:pt x="113" y="541"/>
                </a:lnTo>
                <a:lnTo>
                  <a:pt x="103" y="573"/>
                </a:lnTo>
                <a:lnTo>
                  <a:pt x="91" y="610"/>
                </a:lnTo>
                <a:lnTo>
                  <a:pt x="83" y="644"/>
                </a:lnTo>
                <a:lnTo>
                  <a:pt x="76" y="681"/>
                </a:lnTo>
                <a:lnTo>
                  <a:pt x="64" y="705"/>
                </a:lnTo>
                <a:lnTo>
                  <a:pt x="47" y="727"/>
                </a:lnTo>
                <a:lnTo>
                  <a:pt x="35" y="751"/>
                </a:lnTo>
                <a:lnTo>
                  <a:pt x="29" y="774"/>
                </a:lnTo>
                <a:lnTo>
                  <a:pt x="35" y="807"/>
                </a:lnTo>
                <a:lnTo>
                  <a:pt x="27" y="839"/>
                </a:lnTo>
                <a:lnTo>
                  <a:pt x="15" y="863"/>
                </a:lnTo>
                <a:lnTo>
                  <a:pt x="5" y="896"/>
                </a:lnTo>
                <a:lnTo>
                  <a:pt x="0" y="935"/>
                </a:lnTo>
                <a:lnTo>
                  <a:pt x="8" y="974"/>
                </a:lnTo>
                <a:lnTo>
                  <a:pt x="10" y="1001"/>
                </a:lnTo>
                <a:lnTo>
                  <a:pt x="18" y="1012"/>
                </a:lnTo>
                <a:lnTo>
                  <a:pt x="27" y="993"/>
                </a:lnTo>
                <a:lnTo>
                  <a:pt x="44" y="985"/>
                </a:lnTo>
                <a:lnTo>
                  <a:pt x="57" y="988"/>
                </a:lnTo>
                <a:lnTo>
                  <a:pt x="66" y="1007"/>
                </a:lnTo>
                <a:lnTo>
                  <a:pt x="73" y="1020"/>
                </a:lnTo>
                <a:lnTo>
                  <a:pt x="93" y="1012"/>
                </a:lnTo>
                <a:lnTo>
                  <a:pt x="118" y="1008"/>
                </a:lnTo>
                <a:lnTo>
                  <a:pt x="137" y="1017"/>
                </a:lnTo>
                <a:lnTo>
                  <a:pt x="156" y="1022"/>
                </a:lnTo>
                <a:lnTo>
                  <a:pt x="178" y="1020"/>
                </a:lnTo>
                <a:lnTo>
                  <a:pt x="196" y="1007"/>
                </a:lnTo>
                <a:lnTo>
                  <a:pt x="213" y="996"/>
                </a:lnTo>
                <a:lnTo>
                  <a:pt x="233" y="993"/>
                </a:lnTo>
                <a:lnTo>
                  <a:pt x="254" y="1003"/>
                </a:lnTo>
                <a:lnTo>
                  <a:pt x="271" y="1015"/>
                </a:lnTo>
                <a:lnTo>
                  <a:pt x="289" y="1008"/>
                </a:lnTo>
                <a:lnTo>
                  <a:pt x="299" y="990"/>
                </a:lnTo>
                <a:lnTo>
                  <a:pt x="318" y="985"/>
                </a:lnTo>
                <a:lnTo>
                  <a:pt x="335" y="978"/>
                </a:lnTo>
                <a:lnTo>
                  <a:pt x="325" y="956"/>
                </a:lnTo>
                <a:lnTo>
                  <a:pt x="299" y="952"/>
                </a:lnTo>
                <a:lnTo>
                  <a:pt x="279" y="946"/>
                </a:lnTo>
                <a:lnTo>
                  <a:pt x="277" y="927"/>
                </a:lnTo>
                <a:lnTo>
                  <a:pt x="289" y="915"/>
                </a:lnTo>
                <a:lnTo>
                  <a:pt x="306" y="907"/>
                </a:lnTo>
                <a:lnTo>
                  <a:pt x="330" y="900"/>
                </a:lnTo>
                <a:lnTo>
                  <a:pt x="355" y="900"/>
                </a:lnTo>
                <a:lnTo>
                  <a:pt x="377" y="903"/>
                </a:lnTo>
                <a:lnTo>
                  <a:pt x="392" y="917"/>
                </a:lnTo>
                <a:lnTo>
                  <a:pt x="387" y="940"/>
                </a:lnTo>
                <a:lnTo>
                  <a:pt x="392" y="959"/>
                </a:lnTo>
                <a:lnTo>
                  <a:pt x="404" y="973"/>
                </a:lnTo>
                <a:lnTo>
                  <a:pt x="416" y="959"/>
                </a:lnTo>
                <a:lnTo>
                  <a:pt x="438" y="954"/>
                </a:lnTo>
                <a:lnTo>
                  <a:pt x="460" y="961"/>
                </a:lnTo>
                <a:lnTo>
                  <a:pt x="482" y="969"/>
                </a:lnTo>
                <a:lnTo>
                  <a:pt x="496" y="983"/>
                </a:lnTo>
                <a:lnTo>
                  <a:pt x="509" y="1000"/>
                </a:lnTo>
                <a:lnTo>
                  <a:pt x="526" y="1001"/>
                </a:lnTo>
                <a:lnTo>
                  <a:pt x="550" y="990"/>
                </a:lnTo>
                <a:lnTo>
                  <a:pt x="573" y="998"/>
                </a:lnTo>
                <a:lnTo>
                  <a:pt x="597" y="1012"/>
                </a:lnTo>
                <a:lnTo>
                  <a:pt x="616" y="1025"/>
                </a:lnTo>
                <a:close/>
              </a:path>
            </a:pathLst>
          </a:custGeom>
          <a:solidFill>
            <a:srgbClr val="f39fd1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Freeform 87"/>
          <p:cNvSpPr/>
          <p:nvPr/>
        </p:nvSpPr>
        <p:spPr>
          <a:xfrm>
            <a:off x="6956280" y="3230640"/>
            <a:ext cx="557280" cy="806400"/>
          </a:xfrm>
          <a:custGeom>
            <a:avLst/>
            <a:gdLst>
              <a:gd name="textAreaLeft" fmla="*/ 0 w 557280"/>
              <a:gd name="textAreaRight" fmla="*/ 557280 w 557280"/>
              <a:gd name="textAreaTop" fmla="*/ 0 h 806400"/>
              <a:gd name="textAreaBottom" fmla="*/ 806760 h 806400"/>
            </a:gdLst>
            <a:ahLst/>
            <a:rect l="textAreaLeft" t="textAreaTop" r="textAreaRight" b="textAreaBottom"/>
            <a:pathLst>
              <a:path w="703" h="1017">
                <a:moveTo>
                  <a:pt x="662" y="514"/>
                </a:moveTo>
                <a:lnTo>
                  <a:pt x="659" y="490"/>
                </a:lnTo>
                <a:lnTo>
                  <a:pt x="669" y="471"/>
                </a:lnTo>
                <a:lnTo>
                  <a:pt x="660" y="453"/>
                </a:lnTo>
                <a:lnTo>
                  <a:pt x="647" y="444"/>
                </a:lnTo>
                <a:lnTo>
                  <a:pt x="628" y="453"/>
                </a:lnTo>
                <a:lnTo>
                  <a:pt x="616" y="437"/>
                </a:lnTo>
                <a:lnTo>
                  <a:pt x="611" y="415"/>
                </a:lnTo>
                <a:lnTo>
                  <a:pt x="618" y="393"/>
                </a:lnTo>
                <a:lnTo>
                  <a:pt x="628" y="376"/>
                </a:lnTo>
                <a:lnTo>
                  <a:pt x="645" y="359"/>
                </a:lnTo>
                <a:lnTo>
                  <a:pt x="637" y="344"/>
                </a:lnTo>
                <a:lnTo>
                  <a:pt x="640" y="322"/>
                </a:lnTo>
                <a:lnTo>
                  <a:pt x="654" y="309"/>
                </a:lnTo>
                <a:lnTo>
                  <a:pt x="672" y="303"/>
                </a:lnTo>
                <a:lnTo>
                  <a:pt x="667" y="288"/>
                </a:lnTo>
                <a:lnTo>
                  <a:pt x="664" y="256"/>
                </a:lnTo>
                <a:lnTo>
                  <a:pt x="674" y="242"/>
                </a:lnTo>
                <a:lnTo>
                  <a:pt x="691" y="232"/>
                </a:lnTo>
                <a:lnTo>
                  <a:pt x="703" y="215"/>
                </a:lnTo>
                <a:lnTo>
                  <a:pt x="693" y="195"/>
                </a:lnTo>
                <a:lnTo>
                  <a:pt x="674" y="195"/>
                </a:lnTo>
                <a:lnTo>
                  <a:pt x="665" y="175"/>
                </a:lnTo>
                <a:lnTo>
                  <a:pt x="655" y="161"/>
                </a:lnTo>
                <a:lnTo>
                  <a:pt x="638" y="151"/>
                </a:lnTo>
                <a:lnTo>
                  <a:pt x="628" y="126"/>
                </a:lnTo>
                <a:lnTo>
                  <a:pt x="621" y="109"/>
                </a:lnTo>
                <a:lnTo>
                  <a:pt x="610" y="105"/>
                </a:lnTo>
                <a:lnTo>
                  <a:pt x="598" y="105"/>
                </a:lnTo>
                <a:lnTo>
                  <a:pt x="579" y="119"/>
                </a:lnTo>
                <a:lnTo>
                  <a:pt x="572" y="129"/>
                </a:lnTo>
                <a:lnTo>
                  <a:pt x="567" y="136"/>
                </a:lnTo>
                <a:lnTo>
                  <a:pt x="562" y="146"/>
                </a:lnTo>
                <a:lnTo>
                  <a:pt x="544" y="153"/>
                </a:lnTo>
                <a:lnTo>
                  <a:pt x="525" y="146"/>
                </a:lnTo>
                <a:lnTo>
                  <a:pt x="508" y="143"/>
                </a:lnTo>
                <a:lnTo>
                  <a:pt x="505" y="127"/>
                </a:lnTo>
                <a:lnTo>
                  <a:pt x="517" y="114"/>
                </a:lnTo>
                <a:lnTo>
                  <a:pt x="525" y="93"/>
                </a:lnTo>
                <a:lnTo>
                  <a:pt x="528" y="66"/>
                </a:lnTo>
                <a:lnTo>
                  <a:pt x="527" y="43"/>
                </a:lnTo>
                <a:lnTo>
                  <a:pt x="535" y="24"/>
                </a:lnTo>
                <a:lnTo>
                  <a:pt x="527" y="12"/>
                </a:lnTo>
                <a:lnTo>
                  <a:pt x="510" y="2"/>
                </a:lnTo>
                <a:lnTo>
                  <a:pt x="489" y="0"/>
                </a:lnTo>
                <a:lnTo>
                  <a:pt x="467" y="2"/>
                </a:lnTo>
                <a:lnTo>
                  <a:pt x="447" y="15"/>
                </a:lnTo>
                <a:lnTo>
                  <a:pt x="432" y="32"/>
                </a:lnTo>
                <a:lnTo>
                  <a:pt x="424" y="58"/>
                </a:lnTo>
                <a:lnTo>
                  <a:pt x="413" y="85"/>
                </a:lnTo>
                <a:lnTo>
                  <a:pt x="405" y="100"/>
                </a:lnTo>
                <a:lnTo>
                  <a:pt x="393" y="112"/>
                </a:lnTo>
                <a:lnTo>
                  <a:pt x="383" y="102"/>
                </a:lnTo>
                <a:lnTo>
                  <a:pt x="373" y="88"/>
                </a:lnTo>
                <a:lnTo>
                  <a:pt x="361" y="87"/>
                </a:lnTo>
                <a:lnTo>
                  <a:pt x="344" y="92"/>
                </a:lnTo>
                <a:lnTo>
                  <a:pt x="334" y="107"/>
                </a:lnTo>
                <a:lnTo>
                  <a:pt x="325" y="127"/>
                </a:lnTo>
                <a:lnTo>
                  <a:pt x="317" y="144"/>
                </a:lnTo>
                <a:lnTo>
                  <a:pt x="302" y="153"/>
                </a:lnTo>
                <a:lnTo>
                  <a:pt x="285" y="146"/>
                </a:lnTo>
                <a:lnTo>
                  <a:pt x="266" y="141"/>
                </a:lnTo>
                <a:lnTo>
                  <a:pt x="251" y="153"/>
                </a:lnTo>
                <a:lnTo>
                  <a:pt x="248" y="171"/>
                </a:lnTo>
                <a:lnTo>
                  <a:pt x="258" y="187"/>
                </a:lnTo>
                <a:lnTo>
                  <a:pt x="271" y="192"/>
                </a:lnTo>
                <a:lnTo>
                  <a:pt x="278" y="212"/>
                </a:lnTo>
                <a:lnTo>
                  <a:pt x="271" y="232"/>
                </a:lnTo>
                <a:lnTo>
                  <a:pt x="261" y="248"/>
                </a:lnTo>
                <a:lnTo>
                  <a:pt x="246" y="253"/>
                </a:lnTo>
                <a:lnTo>
                  <a:pt x="227" y="251"/>
                </a:lnTo>
                <a:lnTo>
                  <a:pt x="217" y="261"/>
                </a:lnTo>
                <a:lnTo>
                  <a:pt x="219" y="287"/>
                </a:lnTo>
                <a:lnTo>
                  <a:pt x="209" y="302"/>
                </a:lnTo>
                <a:lnTo>
                  <a:pt x="204" y="329"/>
                </a:lnTo>
                <a:lnTo>
                  <a:pt x="193" y="342"/>
                </a:lnTo>
                <a:lnTo>
                  <a:pt x="175" y="351"/>
                </a:lnTo>
                <a:lnTo>
                  <a:pt x="151" y="353"/>
                </a:lnTo>
                <a:lnTo>
                  <a:pt x="131" y="363"/>
                </a:lnTo>
                <a:lnTo>
                  <a:pt x="117" y="380"/>
                </a:lnTo>
                <a:lnTo>
                  <a:pt x="110" y="400"/>
                </a:lnTo>
                <a:lnTo>
                  <a:pt x="102" y="419"/>
                </a:lnTo>
                <a:lnTo>
                  <a:pt x="88" y="427"/>
                </a:lnTo>
                <a:lnTo>
                  <a:pt x="102" y="456"/>
                </a:lnTo>
                <a:lnTo>
                  <a:pt x="95" y="478"/>
                </a:lnTo>
                <a:lnTo>
                  <a:pt x="80" y="488"/>
                </a:lnTo>
                <a:lnTo>
                  <a:pt x="65" y="505"/>
                </a:lnTo>
                <a:lnTo>
                  <a:pt x="63" y="524"/>
                </a:lnTo>
                <a:lnTo>
                  <a:pt x="72" y="547"/>
                </a:lnTo>
                <a:lnTo>
                  <a:pt x="82" y="568"/>
                </a:lnTo>
                <a:lnTo>
                  <a:pt x="94" y="591"/>
                </a:lnTo>
                <a:lnTo>
                  <a:pt x="92" y="610"/>
                </a:lnTo>
                <a:lnTo>
                  <a:pt x="82" y="632"/>
                </a:lnTo>
                <a:lnTo>
                  <a:pt x="65" y="649"/>
                </a:lnTo>
                <a:lnTo>
                  <a:pt x="43" y="661"/>
                </a:lnTo>
                <a:lnTo>
                  <a:pt x="24" y="683"/>
                </a:lnTo>
                <a:lnTo>
                  <a:pt x="11" y="696"/>
                </a:lnTo>
                <a:lnTo>
                  <a:pt x="0" y="717"/>
                </a:lnTo>
                <a:lnTo>
                  <a:pt x="6" y="744"/>
                </a:lnTo>
                <a:lnTo>
                  <a:pt x="14" y="757"/>
                </a:lnTo>
                <a:lnTo>
                  <a:pt x="33" y="754"/>
                </a:lnTo>
                <a:lnTo>
                  <a:pt x="55" y="744"/>
                </a:lnTo>
                <a:lnTo>
                  <a:pt x="77" y="739"/>
                </a:lnTo>
                <a:lnTo>
                  <a:pt x="95" y="725"/>
                </a:lnTo>
                <a:lnTo>
                  <a:pt x="119" y="720"/>
                </a:lnTo>
                <a:lnTo>
                  <a:pt x="134" y="729"/>
                </a:lnTo>
                <a:lnTo>
                  <a:pt x="149" y="744"/>
                </a:lnTo>
                <a:lnTo>
                  <a:pt x="166" y="768"/>
                </a:lnTo>
                <a:lnTo>
                  <a:pt x="171" y="785"/>
                </a:lnTo>
                <a:lnTo>
                  <a:pt x="170" y="807"/>
                </a:lnTo>
                <a:lnTo>
                  <a:pt x="176" y="834"/>
                </a:lnTo>
                <a:lnTo>
                  <a:pt x="187" y="846"/>
                </a:lnTo>
                <a:lnTo>
                  <a:pt x="190" y="864"/>
                </a:lnTo>
                <a:lnTo>
                  <a:pt x="176" y="879"/>
                </a:lnTo>
                <a:lnTo>
                  <a:pt x="170" y="898"/>
                </a:lnTo>
                <a:lnTo>
                  <a:pt x="182" y="915"/>
                </a:lnTo>
                <a:lnTo>
                  <a:pt x="176" y="929"/>
                </a:lnTo>
                <a:lnTo>
                  <a:pt x="180" y="942"/>
                </a:lnTo>
                <a:lnTo>
                  <a:pt x="198" y="949"/>
                </a:lnTo>
                <a:lnTo>
                  <a:pt x="220" y="954"/>
                </a:lnTo>
                <a:lnTo>
                  <a:pt x="236" y="946"/>
                </a:lnTo>
                <a:lnTo>
                  <a:pt x="248" y="954"/>
                </a:lnTo>
                <a:lnTo>
                  <a:pt x="264" y="966"/>
                </a:lnTo>
                <a:lnTo>
                  <a:pt x="278" y="956"/>
                </a:lnTo>
                <a:lnTo>
                  <a:pt x="295" y="962"/>
                </a:lnTo>
                <a:lnTo>
                  <a:pt x="286" y="979"/>
                </a:lnTo>
                <a:lnTo>
                  <a:pt x="281" y="996"/>
                </a:lnTo>
                <a:lnTo>
                  <a:pt x="283" y="1013"/>
                </a:lnTo>
                <a:lnTo>
                  <a:pt x="298" y="1017"/>
                </a:lnTo>
                <a:lnTo>
                  <a:pt x="308" y="1006"/>
                </a:lnTo>
                <a:lnTo>
                  <a:pt x="322" y="991"/>
                </a:lnTo>
                <a:lnTo>
                  <a:pt x="334" y="981"/>
                </a:lnTo>
                <a:lnTo>
                  <a:pt x="352" y="988"/>
                </a:lnTo>
                <a:lnTo>
                  <a:pt x="368" y="990"/>
                </a:lnTo>
                <a:lnTo>
                  <a:pt x="371" y="976"/>
                </a:lnTo>
                <a:lnTo>
                  <a:pt x="366" y="957"/>
                </a:lnTo>
                <a:lnTo>
                  <a:pt x="381" y="956"/>
                </a:lnTo>
                <a:lnTo>
                  <a:pt x="359" y="947"/>
                </a:lnTo>
                <a:lnTo>
                  <a:pt x="341" y="929"/>
                </a:lnTo>
                <a:lnTo>
                  <a:pt x="339" y="903"/>
                </a:lnTo>
                <a:lnTo>
                  <a:pt x="347" y="883"/>
                </a:lnTo>
                <a:lnTo>
                  <a:pt x="342" y="859"/>
                </a:lnTo>
                <a:lnTo>
                  <a:pt x="334" y="839"/>
                </a:lnTo>
                <a:lnTo>
                  <a:pt x="325" y="812"/>
                </a:lnTo>
                <a:lnTo>
                  <a:pt x="330" y="793"/>
                </a:lnTo>
                <a:lnTo>
                  <a:pt x="342" y="778"/>
                </a:lnTo>
                <a:lnTo>
                  <a:pt x="352" y="756"/>
                </a:lnTo>
                <a:lnTo>
                  <a:pt x="349" y="737"/>
                </a:lnTo>
                <a:lnTo>
                  <a:pt x="347" y="715"/>
                </a:lnTo>
                <a:lnTo>
                  <a:pt x="361" y="705"/>
                </a:lnTo>
                <a:lnTo>
                  <a:pt x="378" y="702"/>
                </a:lnTo>
                <a:lnTo>
                  <a:pt x="395" y="713"/>
                </a:lnTo>
                <a:lnTo>
                  <a:pt x="407" y="698"/>
                </a:lnTo>
                <a:lnTo>
                  <a:pt x="425" y="691"/>
                </a:lnTo>
                <a:lnTo>
                  <a:pt x="445" y="696"/>
                </a:lnTo>
                <a:lnTo>
                  <a:pt x="466" y="702"/>
                </a:lnTo>
                <a:lnTo>
                  <a:pt x="484" y="696"/>
                </a:lnTo>
                <a:lnTo>
                  <a:pt x="493" y="680"/>
                </a:lnTo>
                <a:lnTo>
                  <a:pt x="495" y="661"/>
                </a:lnTo>
                <a:lnTo>
                  <a:pt x="506" y="649"/>
                </a:lnTo>
                <a:lnTo>
                  <a:pt x="522" y="651"/>
                </a:lnTo>
                <a:lnTo>
                  <a:pt x="537" y="649"/>
                </a:lnTo>
                <a:lnTo>
                  <a:pt x="540" y="634"/>
                </a:lnTo>
                <a:lnTo>
                  <a:pt x="550" y="620"/>
                </a:lnTo>
                <a:lnTo>
                  <a:pt x="566" y="615"/>
                </a:lnTo>
                <a:lnTo>
                  <a:pt x="572" y="598"/>
                </a:lnTo>
                <a:lnTo>
                  <a:pt x="566" y="586"/>
                </a:lnTo>
                <a:lnTo>
                  <a:pt x="567" y="571"/>
                </a:lnTo>
                <a:lnTo>
                  <a:pt x="584" y="569"/>
                </a:lnTo>
                <a:lnTo>
                  <a:pt x="601" y="583"/>
                </a:lnTo>
                <a:lnTo>
                  <a:pt x="620" y="588"/>
                </a:lnTo>
                <a:lnTo>
                  <a:pt x="630" y="571"/>
                </a:lnTo>
                <a:lnTo>
                  <a:pt x="635" y="556"/>
                </a:lnTo>
                <a:lnTo>
                  <a:pt x="649" y="547"/>
                </a:lnTo>
                <a:lnTo>
                  <a:pt x="660" y="530"/>
                </a:lnTo>
                <a:lnTo>
                  <a:pt x="662" y="514"/>
                </a:lnTo>
                <a:close/>
              </a:path>
            </a:pathLst>
          </a:custGeom>
          <a:solidFill>
            <a:srgbClr val="99ccff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Freeform 88"/>
          <p:cNvSpPr/>
          <p:nvPr/>
        </p:nvSpPr>
        <p:spPr>
          <a:xfrm>
            <a:off x="6561000" y="3486240"/>
            <a:ext cx="551160" cy="722160"/>
          </a:xfrm>
          <a:custGeom>
            <a:avLst/>
            <a:gdLst>
              <a:gd name="textAreaLeft" fmla="*/ 0 w 551160"/>
              <a:gd name="textAreaRight" fmla="*/ 551520 w 551160"/>
              <a:gd name="textAreaTop" fmla="*/ 0 h 722160"/>
              <a:gd name="textAreaBottom" fmla="*/ 722520 h 722160"/>
            </a:gdLst>
            <a:ahLst/>
            <a:rect l="textAreaLeft" t="textAreaTop" r="textAreaRight" b="textAreaBottom"/>
            <a:pathLst>
              <a:path w="694" h="910">
                <a:moveTo>
                  <a:pt x="587" y="105"/>
                </a:moveTo>
                <a:lnTo>
                  <a:pt x="599" y="134"/>
                </a:lnTo>
                <a:lnTo>
                  <a:pt x="592" y="156"/>
                </a:lnTo>
                <a:lnTo>
                  <a:pt x="577" y="166"/>
                </a:lnTo>
                <a:lnTo>
                  <a:pt x="562" y="183"/>
                </a:lnTo>
                <a:lnTo>
                  <a:pt x="560" y="202"/>
                </a:lnTo>
                <a:lnTo>
                  <a:pt x="569" y="225"/>
                </a:lnTo>
                <a:lnTo>
                  <a:pt x="579" y="246"/>
                </a:lnTo>
                <a:lnTo>
                  <a:pt x="591" y="269"/>
                </a:lnTo>
                <a:lnTo>
                  <a:pt x="589" y="288"/>
                </a:lnTo>
                <a:lnTo>
                  <a:pt x="579" y="310"/>
                </a:lnTo>
                <a:lnTo>
                  <a:pt x="562" y="327"/>
                </a:lnTo>
                <a:lnTo>
                  <a:pt x="540" y="339"/>
                </a:lnTo>
                <a:lnTo>
                  <a:pt x="521" y="361"/>
                </a:lnTo>
                <a:lnTo>
                  <a:pt x="508" y="374"/>
                </a:lnTo>
                <a:lnTo>
                  <a:pt x="497" y="395"/>
                </a:lnTo>
                <a:lnTo>
                  <a:pt x="503" y="422"/>
                </a:lnTo>
                <a:lnTo>
                  <a:pt x="511" y="435"/>
                </a:lnTo>
                <a:lnTo>
                  <a:pt x="530" y="432"/>
                </a:lnTo>
                <a:lnTo>
                  <a:pt x="552" y="422"/>
                </a:lnTo>
                <a:lnTo>
                  <a:pt x="574" y="417"/>
                </a:lnTo>
                <a:lnTo>
                  <a:pt x="592" y="403"/>
                </a:lnTo>
                <a:lnTo>
                  <a:pt x="616" y="398"/>
                </a:lnTo>
                <a:lnTo>
                  <a:pt x="631" y="407"/>
                </a:lnTo>
                <a:lnTo>
                  <a:pt x="646" y="422"/>
                </a:lnTo>
                <a:lnTo>
                  <a:pt x="663" y="446"/>
                </a:lnTo>
                <a:lnTo>
                  <a:pt x="668" y="463"/>
                </a:lnTo>
                <a:lnTo>
                  <a:pt x="667" y="485"/>
                </a:lnTo>
                <a:lnTo>
                  <a:pt x="673" y="512"/>
                </a:lnTo>
                <a:lnTo>
                  <a:pt x="684" y="524"/>
                </a:lnTo>
                <a:lnTo>
                  <a:pt x="687" y="542"/>
                </a:lnTo>
                <a:lnTo>
                  <a:pt x="673" y="557"/>
                </a:lnTo>
                <a:lnTo>
                  <a:pt x="667" y="576"/>
                </a:lnTo>
                <a:lnTo>
                  <a:pt x="679" y="593"/>
                </a:lnTo>
                <a:lnTo>
                  <a:pt x="673" y="607"/>
                </a:lnTo>
                <a:lnTo>
                  <a:pt x="679" y="624"/>
                </a:lnTo>
                <a:lnTo>
                  <a:pt x="675" y="637"/>
                </a:lnTo>
                <a:lnTo>
                  <a:pt x="679" y="652"/>
                </a:lnTo>
                <a:lnTo>
                  <a:pt x="682" y="674"/>
                </a:lnTo>
                <a:lnTo>
                  <a:pt x="687" y="700"/>
                </a:lnTo>
                <a:lnTo>
                  <a:pt x="694" y="722"/>
                </a:lnTo>
                <a:lnTo>
                  <a:pt x="687" y="740"/>
                </a:lnTo>
                <a:lnTo>
                  <a:pt x="687" y="761"/>
                </a:lnTo>
                <a:lnTo>
                  <a:pt x="672" y="779"/>
                </a:lnTo>
                <a:lnTo>
                  <a:pt x="660" y="803"/>
                </a:lnTo>
                <a:lnTo>
                  <a:pt x="655" y="822"/>
                </a:lnTo>
                <a:lnTo>
                  <a:pt x="650" y="844"/>
                </a:lnTo>
                <a:lnTo>
                  <a:pt x="636" y="857"/>
                </a:lnTo>
                <a:lnTo>
                  <a:pt x="621" y="874"/>
                </a:lnTo>
                <a:lnTo>
                  <a:pt x="618" y="893"/>
                </a:lnTo>
                <a:lnTo>
                  <a:pt x="614" y="910"/>
                </a:lnTo>
                <a:lnTo>
                  <a:pt x="596" y="900"/>
                </a:lnTo>
                <a:lnTo>
                  <a:pt x="574" y="888"/>
                </a:lnTo>
                <a:lnTo>
                  <a:pt x="553" y="869"/>
                </a:lnTo>
                <a:lnTo>
                  <a:pt x="535" y="859"/>
                </a:lnTo>
                <a:lnTo>
                  <a:pt x="521" y="867"/>
                </a:lnTo>
                <a:lnTo>
                  <a:pt x="506" y="871"/>
                </a:lnTo>
                <a:lnTo>
                  <a:pt x="486" y="864"/>
                </a:lnTo>
                <a:lnTo>
                  <a:pt x="465" y="867"/>
                </a:lnTo>
                <a:lnTo>
                  <a:pt x="437" y="864"/>
                </a:lnTo>
                <a:lnTo>
                  <a:pt x="409" y="856"/>
                </a:lnTo>
                <a:lnTo>
                  <a:pt x="391" y="849"/>
                </a:lnTo>
                <a:lnTo>
                  <a:pt x="381" y="834"/>
                </a:lnTo>
                <a:lnTo>
                  <a:pt x="365" y="817"/>
                </a:lnTo>
                <a:lnTo>
                  <a:pt x="349" y="813"/>
                </a:lnTo>
                <a:lnTo>
                  <a:pt x="338" y="795"/>
                </a:lnTo>
                <a:lnTo>
                  <a:pt x="333" y="769"/>
                </a:lnTo>
                <a:lnTo>
                  <a:pt x="332" y="749"/>
                </a:lnTo>
                <a:lnTo>
                  <a:pt x="342" y="732"/>
                </a:lnTo>
                <a:lnTo>
                  <a:pt x="342" y="710"/>
                </a:lnTo>
                <a:lnTo>
                  <a:pt x="333" y="695"/>
                </a:lnTo>
                <a:lnTo>
                  <a:pt x="328" y="673"/>
                </a:lnTo>
                <a:lnTo>
                  <a:pt x="337" y="652"/>
                </a:lnTo>
                <a:lnTo>
                  <a:pt x="335" y="632"/>
                </a:lnTo>
                <a:lnTo>
                  <a:pt x="323" y="617"/>
                </a:lnTo>
                <a:lnTo>
                  <a:pt x="305" y="608"/>
                </a:lnTo>
                <a:lnTo>
                  <a:pt x="283" y="601"/>
                </a:lnTo>
                <a:lnTo>
                  <a:pt x="269" y="588"/>
                </a:lnTo>
                <a:lnTo>
                  <a:pt x="249" y="578"/>
                </a:lnTo>
                <a:lnTo>
                  <a:pt x="222" y="585"/>
                </a:lnTo>
                <a:lnTo>
                  <a:pt x="201" y="590"/>
                </a:lnTo>
                <a:lnTo>
                  <a:pt x="186" y="607"/>
                </a:lnTo>
                <a:lnTo>
                  <a:pt x="174" y="622"/>
                </a:lnTo>
                <a:lnTo>
                  <a:pt x="154" y="630"/>
                </a:lnTo>
                <a:lnTo>
                  <a:pt x="135" y="625"/>
                </a:lnTo>
                <a:lnTo>
                  <a:pt x="118" y="615"/>
                </a:lnTo>
                <a:lnTo>
                  <a:pt x="100" y="605"/>
                </a:lnTo>
                <a:lnTo>
                  <a:pt x="80" y="607"/>
                </a:lnTo>
                <a:lnTo>
                  <a:pt x="61" y="612"/>
                </a:lnTo>
                <a:lnTo>
                  <a:pt x="69" y="590"/>
                </a:lnTo>
                <a:lnTo>
                  <a:pt x="81" y="569"/>
                </a:lnTo>
                <a:lnTo>
                  <a:pt x="90" y="552"/>
                </a:lnTo>
                <a:lnTo>
                  <a:pt x="103" y="537"/>
                </a:lnTo>
                <a:lnTo>
                  <a:pt x="108" y="510"/>
                </a:lnTo>
                <a:lnTo>
                  <a:pt x="98" y="493"/>
                </a:lnTo>
                <a:lnTo>
                  <a:pt x="81" y="485"/>
                </a:lnTo>
                <a:lnTo>
                  <a:pt x="66" y="468"/>
                </a:lnTo>
                <a:lnTo>
                  <a:pt x="47" y="449"/>
                </a:lnTo>
                <a:lnTo>
                  <a:pt x="29" y="437"/>
                </a:lnTo>
                <a:lnTo>
                  <a:pt x="15" y="420"/>
                </a:lnTo>
                <a:lnTo>
                  <a:pt x="8" y="398"/>
                </a:lnTo>
                <a:lnTo>
                  <a:pt x="0" y="371"/>
                </a:lnTo>
                <a:lnTo>
                  <a:pt x="3" y="344"/>
                </a:lnTo>
                <a:lnTo>
                  <a:pt x="10" y="317"/>
                </a:lnTo>
                <a:lnTo>
                  <a:pt x="25" y="300"/>
                </a:lnTo>
                <a:lnTo>
                  <a:pt x="47" y="290"/>
                </a:lnTo>
                <a:lnTo>
                  <a:pt x="69" y="278"/>
                </a:lnTo>
                <a:lnTo>
                  <a:pt x="76" y="259"/>
                </a:lnTo>
                <a:lnTo>
                  <a:pt x="100" y="276"/>
                </a:lnTo>
                <a:lnTo>
                  <a:pt x="113" y="283"/>
                </a:lnTo>
                <a:lnTo>
                  <a:pt x="127" y="276"/>
                </a:lnTo>
                <a:lnTo>
                  <a:pt x="132" y="259"/>
                </a:lnTo>
                <a:lnTo>
                  <a:pt x="147" y="252"/>
                </a:lnTo>
                <a:lnTo>
                  <a:pt x="164" y="258"/>
                </a:lnTo>
                <a:lnTo>
                  <a:pt x="166" y="241"/>
                </a:lnTo>
                <a:lnTo>
                  <a:pt x="173" y="225"/>
                </a:lnTo>
                <a:lnTo>
                  <a:pt x="188" y="220"/>
                </a:lnTo>
                <a:lnTo>
                  <a:pt x="212" y="214"/>
                </a:lnTo>
                <a:lnTo>
                  <a:pt x="230" y="203"/>
                </a:lnTo>
                <a:lnTo>
                  <a:pt x="250" y="190"/>
                </a:lnTo>
                <a:lnTo>
                  <a:pt x="267" y="183"/>
                </a:lnTo>
                <a:lnTo>
                  <a:pt x="279" y="168"/>
                </a:lnTo>
                <a:lnTo>
                  <a:pt x="296" y="153"/>
                </a:lnTo>
                <a:lnTo>
                  <a:pt x="315" y="146"/>
                </a:lnTo>
                <a:lnTo>
                  <a:pt x="335" y="142"/>
                </a:lnTo>
                <a:lnTo>
                  <a:pt x="354" y="137"/>
                </a:lnTo>
                <a:lnTo>
                  <a:pt x="374" y="142"/>
                </a:lnTo>
                <a:lnTo>
                  <a:pt x="393" y="139"/>
                </a:lnTo>
                <a:lnTo>
                  <a:pt x="409" y="129"/>
                </a:lnTo>
                <a:lnTo>
                  <a:pt x="423" y="114"/>
                </a:lnTo>
                <a:lnTo>
                  <a:pt x="440" y="102"/>
                </a:lnTo>
                <a:lnTo>
                  <a:pt x="459" y="95"/>
                </a:lnTo>
                <a:lnTo>
                  <a:pt x="469" y="81"/>
                </a:lnTo>
                <a:lnTo>
                  <a:pt x="475" y="63"/>
                </a:lnTo>
                <a:lnTo>
                  <a:pt x="489" y="49"/>
                </a:lnTo>
                <a:lnTo>
                  <a:pt x="496" y="29"/>
                </a:lnTo>
                <a:lnTo>
                  <a:pt x="497" y="9"/>
                </a:lnTo>
                <a:lnTo>
                  <a:pt x="508" y="0"/>
                </a:lnTo>
                <a:lnTo>
                  <a:pt x="523" y="12"/>
                </a:lnTo>
                <a:lnTo>
                  <a:pt x="535" y="29"/>
                </a:lnTo>
                <a:lnTo>
                  <a:pt x="545" y="46"/>
                </a:lnTo>
                <a:lnTo>
                  <a:pt x="553" y="75"/>
                </a:lnTo>
                <a:lnTo>
                  <a:pt x="570" y="93"/>
                </a:lnTo>
                <a:lnTo>
                  <a:pt x="587" y="105"/>
                </a:lnTo>
                <a:close/>
              </a:path>
            </a:pathLst>
          </a:custGeom>
          <a:solidFill>
            <a:srgbClr val="618ffd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Freeform 89"/>
          <p:cNvSpPr/>
          <p:nvPr/>
        </p:nvSpPr>
        <p:spPr>
          <a:xfrm>
            <a:off x="6540480" y="2892600"/>
            <a:ext cx="800280" cy="817560"/>
          </a:xfrm>
          <a:custGeom>
            <a:avLst/>
            <a:gdLst>
              <a:gd name="textAreaLeft" fmla="*/ 0 w 800280"/>
              <a:gd name="textAreaRight" fmla="*/ 800640 w 800280"/>
              <a:gd name="textAreaTop" fmla="*/ 0 h 817560"/>
              <a:gd name="textAreaBottom" fmla="*/ 817920 h 817560"/>
            </a:gdLst>
            <a:ahLst/>
            <a:rect l="textAreaLeft" t="textAreaTop" r="textAreaRight" b="textAreaBottom"/>
            <a:pathLst>
              <a:path w="1006" h="1030">
                <a:moveTo>
                  <a:pt x="610" y="852"/>
                </a:moveTo>
                <a:lnTo>
                  <a:pt x="624" y="844"/>
                </a:lnTo>
                <a:lnTo>
                  <a:pt x="632" y="823"/>
                </a:lnTo>
                <a:lnTo>
                  <a:pt x="639" y="805"/>
                </a:lnTo>
                <a:lnTo>
                  <a:pt x="653" y="789"/>
                </a:lnTo>
                <a:lnTo>
                  <a:pt x="673" y="778"/>
                </a:lnTo>
                <a:lnTo>
                  <a:pt x="695" y="776"/>
                </a:lnTo>
                <a:lnTo>
                  <a:pt x="714" y="769"/>
                </a:lnTo>
                <a:lnTo>
                  <a:pt x="726" y="752"/>
                </a:lnTo>
                <a:lnTo>
                  <a:pt x="731" y="727"/>
                </a:lnTo>
                <a:lnTo>
                  <a:pt x="741" y="712"/>
                </a:lnTo>
                <a:lnTo>
                  <a:pt x="739" y="686"/>
                </a:lnTo>
                <a:lnTo>
                  <a:pt x="749" y="676"/>
                </a:lnTo>
                <a:lnTo>
                  <a:pt x="768" y="678"/>
                </a:lnTo>
                <a:lnTo>
                  <a:pt x="783" y="673"/>
                </a:lnTo>
                <a:lnTo>
                  <a:pt x="793" y="656"/>
                </a:lnTo>
                <a:lnTo>
                  <a:pt x="800" y="637"/>
                </a:lnTo>
                <a:lnTo>
                  <a:pt x="793" y="617"/>
                </a:lnTo>
                <a:lnTo>
                  <a:pt x="780" y="612"/>
                </a:lnTo>
                <a:lnTo>
                  <a:pt x="770" y="596"/>
                </a:lnTo>
                <a:lnTo>
                  <a:pt x="773" y="578"/>
                </a:lnTo>
                <a:lnTo>
                  <a:pt x="788" y="566"/>
                </a:lnTo>
                <a:lnTo>
                  <a:pt x="812" y="574"/>
                </a:lnTo>
                <a:lnTo>
                  <a:pt x="824" y="578"/>
                </a:lnTo>
                <a:lnTo>
                  <a:pt x="839" y="569"/>
                </a:lnTo>
                <a:lnTo>
                  <a:pt x="847" y="552"/>
                </a:lnTo>
                <a:lnTo>
                  <a:pt x="854" y="534"/>
                </a:lnTo>
                <a:lnTo>
                  <a:pt x="866" y="518"/>
                </a:lnTo>
                <a:lnTo>
                  <a:pt x="881" y="512"/>
                </a:lnTo>
                <a:lnTo>
                  <a:pt x="896" y="513"/>
                </a:lnTo>
                <a:lnTo>
                  <a:pt x="905" y="525"/>
                </a:lnTo>
                <a:lnTo>
                  <a:pt x="915" y="537"/>
                </a:lnTo>
                <a:lnTo>
                  <a:pt x="927" y="525"/>
                </a:lnTo>
                <a:lnTo>
                  <a:pt x="937" y="507"/>
                </a:lnTo>
                <a:lnTo>
                  <a:pt x="946" y="484"/>
                </a:lnTo>
                <a:lnTo>
                  <a:pt x="954" y="457"/>
                </a:lnTo>
                <a:lnTo>
                  <a:pt x="971" y="440"/>
                </a:lnTo>
                <a:lnTo>
                  <a:pt x="991" y="427"/>
                </a:lnTo>
                <a:lnTo>
                  <a:pt x="988" y="412"/>
                </a:lnTo>
                <a:lnTo>
                  <a:pt x="993" y="390"/>
                </a:lnTo>
                <a:lnTo>
                  <a:pt x="1006" y="373"/>
                </a:lnTo>
                <a:lnTo>
                  <a:pt x="1006" y="354"/>
                </a:lnTo>
                <a:lnTo>
                  <a:pt x="993" y="342"/>
                </a:lnTo>
                <a:lnTo>
                  <a:pt x="971" y="330"/>
                </a:lnTo>
                <a:lnTo>
                  <a:pt x="974" y="310"/>
                </a:lnTo>
                <a:lnTo>
                  <a:pt x="969" y="286"/>
                </a:lnTo>
                <a:lnTo>
                  <a:pt x="954" y="280"/>
                </a:lnTo>
                <a:lnTo>
                  <a:pt x="942" y="273"/>
                </a:lnTo>
                <a:lnTo>
                  <a:pt x="944" y="247"/>
                </a:lnTo>
                <a:lnTo>
                  <a:pt x="937" y="220"/>
                </a:lnTo>
                <a:lnTo>
                  <a:pt x="925" y="207"/>
                </a:lnTo>
                <a:lnTo>
                  <a:pt x="910" y="193"/>
                </a:lnTo>
                <a:lnTo>
                  <a:pt x="895" y="190"/>
                </a:lnTo>
                <a:lnTo>
                  <a:pt x="898" y="174"/>
                </a:lnTo>
                <a:lnTo>
                  <a:pt x="913" y="173"/>
                </a:lnTo>
                <a:lnTo>
                  <a:pt x="929" y="171"/>
                </a:lnTo>
                <a:lnTo>
                  <a:pt x="939" y="154"/>
                </a:lnTo>
                <a:lnTo>
                  <a:pt x="935" y="137"/>
                </a:lnTo>
                <a:lnTo>
                  <a:pt x="925" y="130"/>
                </a:lnTo>
                <a:lnTo>
                  <a:pt x="915" y="125"/>
                </a:lnTo>
                <a:lnTo>
                  <a:pt x="920" y="112"/>
                </a:lnTo>
                <a:lnTo>
                  <a:pt x="932" y="95"/>
                </a:lnTo>
                <a:lnTo>
                  <a:pt x="937" y="71"/>
                </a:lnTo>
                <a:lnTo>
                  <a:pt x="932" y="56"/>
                </a:lnTo>
                <a:lnTo>
                  <a:pt x="939" y="37"/>
                </a:lnTo>
                <a:lnTo>
                  <a:pt x="944" y="14"/>
                </a:lnTo>
                <a:lnTo>
                  <a:pt x="920" y="5"/>
                </a:lnTo>
                <a:lnTo>
                  <a:pt x="898" y="14"/>
                </a:lnTo>
                <a:lnTo>
                  <a:pt x="890" y="29"/>
                </a:lnTo>
                <a:lnTo>
                  <a:pt x="871" y="32"/>
                </a:lnTo>
                <a:lnTo>
                  <a:pt x="863" y="44"/>
                </a:lnTo>
                <a:lnTo>
                  <a:pt x="854" y="59"/>
                </a:lnTo>
                <a:lnTo>
                  <a:pt x="842" y="66"/>
                </a:lnTo>
                <a:lnTo>
                  <a:pt x="832" y="49"/>
                </a:lnTo>
                <a:lnTo>
                  <a:pt x="824" y="29"/>
                </a:lnTo>
                <a:lnTo>
                  <a:pt x="814" y="10"/>
                </a:lnTo>
                <a:lnTo>
                  <a:pt x="807" y="0"/>
                </a:lnTo>
                <a:lnTo>
                  <a:pt x="793" y="3"/>
                </a:lnTo>
                <a:lnTo>
                  <a:pt x="783" y="15"/>
                </a:lnTo>
                <a:lnTo>
                  <a:pt x="776" y="34"/>
                </a:lnTo>
                <a:lnTo>
                  <a:pt x="766" y="24"/>
                </a:lnTo>
                <a:lnTo>
                  <a:pt x="756" y="14"/>
                </a:lnTo>
                <a:lnTo>
                  <a:pt x="741" y="20"/>
                </a:lnTo>
                <a:lnTo>
                  <a:pt x="731" y="37"/>
                </a:lnTo>
                <a:lnTo>
                  <a:pt x="715" y="51"/>
                </a:lnTo>
                <a:lnTo>
                  <a:pt x="712" y="66"/>
                </a:lnTo>
                <a:lnTo>
                  <a:pt x="726" y="88"/>
                </a:lnTo>
                <a:lnTo>
                  <a:pt x="731" y="113"/>
                </a:lnTo>
                <a:lnTo>
                  <a:pt x="736" y="149"/>
                </a:lnTo>
                <a:lnTo>
                  <a:pt x="727" y="173"/>
                </a:lnTo>
                <a:lnTo>
                  <a:pt x="715" y="190"/>
                </a:lnTo>
                <a:lnTo>
                  <a:pt x="697" y="191"/>
                </a:lnTo>
                <a:lnTo>
                  <a:pt x="678" y="197"/>
                </a:lnTo>
                <a:lnTo>
                  <a:pt x="665" y="210"/>
                </a:lnTo>
                <a:lnTo>
                  <a:pt x="648" y="227"/>
                </a:lnTo>
                <a:lnTo>
                  <a:pt x="631" y="235"/>
                </a:lnTo>
                <a:lnTo>
                  <a:pt x="616" y="234"/>
                </a:lnTo>
                <a:lnTo>
                  <a:pt x="605" y="224"/>
                </a:lnTo>
                <a:lnTo>
                  <a:pt x="599" y="205"/>
                </a:lnTo>
                <a:lnTo>
                  <a:pt x="605" y="188"/>
                </a:lnTo>
                <a:lnTo>
                  <a:pt x="595" y="171"/>
                </a:lnTo>
                <a:lnTo>
                  <a:pt x="587" y="151"/>
                </a:lnTo>
                <a:lnTo>
                  <a:pt x="588" y="130"/>
                </a:lnTo>
                <a:lnTo>
                  <a:pt x="597" y="108"/>
                </a:lnTo>
                <a:lnTo>
                  <a:pt x="594" y="90"/>
                </a:lnTo>
                <a:lnTo>
                  <a:pt x="577" y="78"/>
                </a:lnTo>
                <a:lnTo>
                  <a:pt x="555" y="71"/>
                </a:lnTo>
                <a:lnTo>
                  <a:pt x="541" y="58"/>
                </a:lnTo>
                <a:lnTo>
                  <a:pt x="533" y="34"/>
                </a:lnTo>
                <a:lnTo>
                  <a:pt x="521" y="19"/>
                </a:lnTo>
                <a:lnTo>
                  <a:pt x="500" y="15"/>
                </a:lnTo>
                <a:lnTo>
                  <a:pt x="485" y="25"/>
                </a:lnTo>
                <a:lnTo>
                  <a:pt x="489" y="53"/>
                </a:lnTo>
                <a:lnTo>
                  <a:pt x="477" y="75"/>
                </a:lnTo>
                <a:lnTo>
                  <a:pt x="463" y="85"/>
                </a:lnTo>
                <a:lnTo>
                  <a:pt x="453" y="103"/>
                </a:lnTo>
                <a:lnTo>
                  <a:pt x="434" y="113"/>
                </a:lnTo>
                <a:lnTo>
                  <a:pt x="416" y="124"/>
                </a:lnTo>
                <a:lnTo>
                  <a:pt x="404" y="137"/>
                </a:lnTo>
                <a:lnTo>
                  <a:pt x="380" y="141"/>
                </a:lnTo>
                <a:lnTo>
                  <a:pt x="358" y="134"/>
                </a:lnTo>
                <a:lnTo>
                  <a:pt x="338" y="137"/>
                </a:lnTo>
                <a:lnTo>
                  <a:pt x="314" y="144"/>
                </a:lnTo>
                <a:lnTo>
                  <a:pt x="297" y="156"/>
                </a:lnTo>
                <a:lnTo>
                  <a:pt x="284" y="173"/>
                </a:lnTo>
                <a:lnTo>
                  <a:pt x="265" y="186"/>
                </a:lnTo>
                <a:lnTo>
                  <a:pt x="259" y="198"/>
                </a:lnTo>
                <a:lnTo>
                  <a:pt x="257" y="219"/>
                </a:lnTo>
                <a:lnTo>
                  <a:pt x="265" y="244"/>
                </a:lnTo>
                <a:lnTo>
                  <a:pt x="257" y="264"/>
                </a:lnTo>
                <a:lnTo>
                  <a:pt x="240" y="276"/>
                </a:lnTo>
                <a:lnTo>
                  <a:pt x="213" y="281"/>
                </a:lnTo>
                <a:lnTo>
                  <a:pt x="184" y="291"/>
                </a:lnTo>
                <a:lnTo>
                  <a:pt x="155" y="298"/>
                </a:lnTo>
                <a:lnTo>
                  <a:pt x="133" y="308"/>
                </a:lnTo>
                <a:lnTo>
                  <a:pt x="110" y="313"/>
                </a:lnTo>
                <a:lnTo>
                  <a:pt x="91" y="308"/>
                </a:lnTo>
                <a:lnTo>
                  <a:pt x="72" y="298"/>
                </a:lnTo>
                <a:lnTo>
                  <a:pt x="52" y="303"/>
                </a:lnTo>
                <a:lnTo>
                  <a:pt x="40" y="318"/>
                </a:lnTo>
                <a:lnTo>
                  <a:pt x="35" y="342"/>
                </a:lnTo>
                <a:lnTo>
                  <a:pt x="47" y="363"/>
                </a:lnTo>
                <a:lnTo>
                  <a:pt x="66" y="379"/>
                </a:lnTo>
                <a:lnTo>
                  <a:pt x="76" y="400"/>
                </a:lnTo>
                <a:lnTo>
                  <a:pt x="77" y="418"/>
                </a:lnTo>
                <a:lnTo>
                  <a:pt x="98" y="427"/>
                </a:lnTo>
                <a:lnTo>
                  <a:pt x="115" y="444"/>
                </a:lnTo>
                <a:lnTo>
                  <a:pt x="116" y="469"/>
                </a:lnTo>
                <a:lnTo>
                  <a:pt x="106" y="495"/>
                </a:lnTo>
                <a:lnTo>
                  <a:pt x="101" y="522"/>
                </a:lnTo>
                <a:lnTo>
                  <a:pt x="91" y="549"/>
                </a:lnTo>
                <a:lnTo>
                  <a:pt x="79" y="571"/>
                </a:lnTo>
                <a:lnTo>
                  <a:pt x="67" y="596"/>
                </a:lnTo>
                <a:lnTo>
                  <a:pt x="52" y="620"/>
                </a:lnTo>
                <a:lnTo>
                  <a:pt x="32" y="635"/>
                </a:lnTo>
                <a:lnTo>
                  <a:pt x="17" y="657"/>
                </a:lnTo>
                <a:lnTo>
                  <a:pt x="13" y="678"/>
                </a:lnTo>
                <a:lnTo>
                  <a:pt x="22" y="706"/>
                </a:lnTo>
                <a:lnTo>
                  <a:pt x="15" y="728"/>
                </a:lnTo>
                <a:lnTo>
                  <a:pt x="6" y="750"/>
                </a:lnTo>
                <a:lnTo>
                  <a:pt x="0" y="779"/>
                </a:lnTo>
                <a:lnTo>
                  <a:pt x="3" y="803"/>
                </a:lnTo>
                <a:lnTo>
                  <a:pt x="10" y="827"/>
                </a:lnTo>
                <a:lnTo>
                  <a:pt x="25" y="839"/>
                </a:lnTo>
                <a:lnTo>
                  <a:pt x="42" y="854"/>
                </a:lnTo>
                <a:lnTo>
                  <a:pt x="52" y="872"/>
                </a:lnTo>
                <a:lnTo>
                  <a:pt x="62" y="894"/>
                </a:lnTo>
                <a:lnTo>
                  <a:pt x="61" y="915"/>
                </a:lnTo>
                <a:lnTo>
                  <a:pt x="59" y="937"/>
                </a:lnTo>
                <a:lnTo>
                  <a:pt x="79" y="949"/>
                </a:lnTo>
                <a:lnTo>
                  <a:pt x="96" y="962"/>
                </a:lnTo>
                <a:lnTo>
                  <a:pt x="96" y="981"/>
                </a:lnTo>
                <a:lnTo>
                  <a:pt x="101" y="1006"/>
                </a:lnTo>
                <a:lnTo>
                  <a:pt x="125" y="1023"/>
                </a:lnTo>
                <a:lnTo>
                  <a:pt x="138" y="1030"/>
                </a:lnTo>
                <a:lnTo>
                  <a:pt x="152" y="1023"/>
                </a:lnTo>
                <a:lnTo>
                  <a:pt x="157" y="1006"/>
                </a:lnTo>
                <a:lnTo>
                  <a:pt x="172" y="999"/>
                </a:lnTo>
                <a:lnTo>
                  <a:pt x="189" y="1005"/>
                </a:lnTo>
                <a:lnTo>
                  <a:pt x="191" y="988"/>
                </a:lnTo>
                <a:lnTo>
                  <a:pt x="198" y="972"/>
                </a:lnTo>
                <a:lnTo>
                  <a:pt x="213" y="967"/>
                </a:lnTo>
                <a:lnTo>
                  <a:pt x="237" y="961"/>
                </a:lnTo>
                <a:lnTo>
                  <a:pt x="255" y="950"/>
                </a:lnTo>
                <a:lnTo>
                  <a:pt x="275" y="937"/>
                </a:lnTo>
                <a:lnTo>
                  <a:pt x="292" y="930"/>
                </a:lnTo>
                <a:lnTo>
                  <a:pt x="304" y="915"/>
                </a:lnTo>
                <a:lnTo>
                  <a:pt x="321" y="900"/>
                </a:lnTo>
                <a:lnTo>
                  <a:pt x="340" y="893"/>
                </a:lnTo>
                <a:lnTo>
                  <a:pt x="360" y="889"/>
                </a:lnTo>
                <a:lnTo>
                  <a:pt x="379" y="884"/>
                </a:lnTo>
                <a:lnTo>
                  <a:pt x="399" y="889"/>
                </a:lnTo>
                <a:lnTo>
                  <a:pt x="418" y="886"/>
                </a:lnTo>
                <a:lnTo>
                  <a:pt x="434" y="876"/>
                </a:lnTo>
                <a:lnTo>
                  <a:pt x="448" y="861"/>
                </a:lnTo>
                <a:lnTo>
                  <a:pt x="465" y="849"/>
                </a:lnTo>
                <a:lnTo>
                  <a:pt x="484" y="842"/>
                </a:lnTo>
                <a:lnTo>
                  <a:pt x="494" y="828"/>
                </a:lnTo>
                <a:lnTo>
                  <a:pt x="500" y="810"/>
                </a:lnTo>
                <a:lnTo>
                  <a:pt x="514" y="796"/>
                </a:lnTo>
                <a:lnTo>
                  <a:pt x="521" y="776"/>
                </a:lnTo>
                <a:lnTo>
                  <a:pt x="522" y="756"/>
                </a:lnTo>
                <a:lnTo>
                  <a:pt x="533" y="747"/>
                </a:lnTo>
                <a:lnTo>
                  <a:pt x="548" y="759"/>
                </a:lnTo>
                <a:lnTo>
                  <a:pt x="560" y="776"/>
                </a:lnTo>
                <a:lnTo>
                  <a:pt x="570" y="793"/>
                </a:lnTo>
                <a:lnTo>
                  <a:pt x="578" y="822"/>
                </a:lnTo>
                <a:lnTo>
                  <a:pt x="595" y="840"/>
                </a:lnTo>
                <a:lnTo>
                  <a:pt x="610" y="852"/>
                </a:lnTo>
                <a:close/>
              </a:path>
            </a:pathLst>
          </a:custGeom>
          <a:solidFill>
            <a:srgbClr val="60c900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Freeform 90"/>
          <p:cNvSpPr/>
          <p:nvPr/>
        </p:nvSpPr>
        <p:spPr>
          <a:xfrm>
            <a:off x="7412040" y="2460600"/>
            <a:ext cx="146160" cy="141480"/>
          </a:xfrm>
          <a:custGeom>
            <a:avLst/>
            <a:gdLst>
              <a:gd name="textAreaLeft" fmla="*/ 0 w 146160"/>
              <a:gd name="textAreaRight" fmla="*/ 146520 w 146160"/>
              <a:gd name="textAreaTop" fmla="*/ 0 h 141480"/>
              <a:gd name="textAreaBottom" fmla="*/ 141840 h 141480"/>
            </a:gdLst>
            <a:ahLst/>
            <a:rect l="textAreaLeft" t="textAreaTop" r="textAreaRight" b="textAreaBottom"/>
            <a:pathLst>
              <a:path w="183" h="178">
                <a:moveTo>
                  <a:pt x="0" y="92"/>
                </a:moveTo>
                <a:lnTo>
                  <a:pt x="15" y="80"/>
                </a:lnTo>
                <a:lnTo>
                  <a:pt x="22" y="63"/>
                </a:lnTo>
                <a:lnTo>
                  <a:pt x="42" y="58"/>
                </a:lnTo>
                <a:lnTo>
                  <a:pt x="54" y="46"/>
                </a:lnTo>
                <a:lnTo>
                  <a:pt x="71" y="29"/>
                </a:lnTo>
                <a:lnTo>
                  <a:pt x="98" y="24"/>
                </a:lnTo>
                <a:lnTo>
                  <a:pt x="108" y="9"/>
                </a:lnTo>
                <a:lnTo>
                  <a:pt x="125" y="0"/>
                </a:lnTo>
                <a:lnTo>
                  <a:pt x="132" y="11"/>
                </a:lnTo>
                <a:lnTo>
                  <a:pt x="135" y="33"/>
                </a:lnTo>
                <a:lnTo>
                  <a:pt x="145" y="45"/>
                </a:lnTo>
                <a:lnTo>
                  <a:pt x="159" y="58"/>
                </a:lnTo>
                <a:lnTo>
                  <a:pt x="154" y="82"/>
                </a:lnTo>
                <a:lnTo>
                  <a:pt x="155" y="112"/>
                </a:lnTo>
                <a:lnTo>
                  <a:pt x="159" y="131"/>
                </a:lnTo>
                <a:lnTo>
                  <a:pt x="176" y="144"/>
                </a:lnTo>
                <a:lnTo>
                  <a:pt x="183" y="172"/>
                </a:lnTo>
                <a:lnTo>
                  <a:pt x="164" y="178"/>
                </a:lnTo>
                <a:lnTo>
                  <a:pt x="144" y="178"/>
                </a:lnTo>
                <a:lnTo>
                  <a:pt x="137" y="173"/>
                </a:lnTo>
                <a:lnTo>
                  <a:pt x="128" y="167"/>
                </a:lnTo>
                <a:lnTo>
                  <a:pt x="118" y="158"/>
                </a:lnTo>
                <a:lnTo>
                  <a:pt x="111" y="160"/>
                </a:lnTo>
                <a:lnTo>
                  <a:pt x="103" y="160"/>
                </a:lnTo>
                <a:lnTo>
                  <a:pt x="96" y="165"/>
                </a:lnTo>
                <a:lnTo>
                  <a:pt x="88" y="170"/>
                </a:lnTo>
                <a:lnTo>
                  <a:pt x="78" y="173"/>
                </a:lnTo>
                <a:lnTo>
                  <a:pt x="66" y="177"/>
                </a:lnTo>
                <a:lnTo>
                  <a:pt x="59" y="173"/>
                </a:lnTo>
                <a:lnTo>
                  <a:pt x="49" y="170"/>
                </a:lnTo>
                <a:lnTo>
                  <a:pt x="42" y="167"/>
                </a:lnTo>
                <a:lnTo>
                  <a:pt x="34" y="158"/>
                </a:lnTo>
                <a:lnTo>
                  <a:pt x="30" y="150"/>
                </a:lnTo>
                <a:lnTo>
                  <a:pt x="25" y="139"/>
                </a:lnTo>
                <a:lnTo>
                  <a:pt x="22" y="126"/>
                </a:lnTo>
                <a:lnTo>
                  <a:pt x="18" y="114"/>
                </a:lnTo>
                <a:lnTo>
                  <a:pt x="13" y="109"/>
                </a:lnTo>
                <a:lnTo>
                  <a:pt x="5" y="104"/>
                </a:lnTo>
                <a:lnTo>
                  <a:pt x="3" y="99"/>
                </a:lnTo>
                <a:lnTo>
                  <a:pt x="0" y="92"/>
                </a:lnTo>
                <a:close/>
              </a:path>
            </a:pathLst>
          </a:custGeom>
          <a:solidFill>
            <a:srgbClr val="fde3ba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Freeform 91"/>
          <p:cNvSpPr/>
          <p:nvPr/>
        </p:nvSpPr>
        <p:spPr>
          <a:xfrm>
            <a:off x="8131320" y="2857680"/>
            <a:ext cx="168120" cy="129960"/>
          </a:xfrm>
          <a:custGeom>
            <a:avLst/>
            <a:gdLst>
              <a:gd name="textAreaLeft" fmla="*/ 0 w 168120"/>
              <a:gd name="textAreaRight" fmla="*/ 168480 w 168120"/>
              <a:gd name="textAreaTop" fmla="*/ 0 h 129960"/>
              <a:gd name="textAreaBottom" fmla="*/ 130320 h 129960"/>
            </a:gdLst>
            <a:ahLst/>
            <a:rect l="textAreaLeft" t="textAreaTop" r="textAreaRight" b="textAreaBottom"/>
            <a:pathLst>
              <a:path w="212" h="163">
                <a:moveTo>
                  <a:pt x="142" y="5"/>
                </a:moveTo>
                <a:lnTo>
                  <a:pt x="159" y="17"/>
                </a:lnTo>
                <a:lnTo>
                  <a:pt x="169" y="34"/>
                </a:lnTo>
                <a:lnTo>
                  <a:pt x="164" y="51"/>
                </a:lnTo>
                <a:lnTo>
                  <a:pt x="163" y="61"/>
                </a:lnTo>
                <a:lnTo>
                  <a:pt x="168" y="69"/>
                </a:lnTo>
                <a:lnTo>
                  <a:pt x="183" y="73"/>
                </a:lnTo>
                <a:lnTo>
                  <a:pt x="198" y="85"/>
                </a:lnTo>
                <a:lnTo>
                  <a:pt x="208" y="102"/>
                </a:lnTo>
                <a:lnTo>
                  <a:pt x="212" y="122"/>
                </a:lnTo>
                <a:lnTo>
                  <a:pt x="208" y="137"/>
                </a:lnTo>
                <a:lnTo>
                  <a:pt x="198" y="146"/>
                </a:lnTo>
                <a:lnTo>
                  <a:pt x="183" y="152"/>
                </a:lnTo>
                <a:lnTo>
                  <a:pt x="169" y="147"/>
                </a:lnTo>
                <a:lnTo>
                  <a:pt x="151" y="137"/>
                </a:lnTo>
                <a:lnTo>
                  <a:pt x="139" y="134"/>
                </a:lnTo>
                <a:lnTo>
                  <a:pt x="127" y="137"/>
                </a:lnTo>
                <a:lnTo>
                  <a:pt x="122" y="147"/>
                </a:lnTo>
                <a:lnTo>
                  <a:pt x="113" y="157"/>
                </a:lnTo>
                <a:lnTo>
                  <a:pt x="102" y="163"/>
                </a:lnTo>
                <a:lnTo>
                  <a:pt x="88" y="157"/>
                </a:lnTo>
                <a:lnTo>
                  <a:pt x="78" y="147"/>
                </a:lnTo>
                <a:lnTo>
                  <a:pt x="68" y="139"/>
                </a:lnTo>
                <a:lnTo>
                  <a:pt x="56" y="139"/>
                </a:lnTo>
                <a:lnTo>
                  <a:pt x="46" y="147"/>
                </a:lnTo>
                <a:lnTo>
                  <a:pt x="31" y="154"/>
                </a:lnTo>
                <a:lnTo>
                  <a:pt x="19" y="156"/>
                </a:lnTo>
                <a:lnTo>
                  <a:pt x="5" y="149"/>
                </a:lnTo>
                <a:lnTo>
                  <a:pt x="0" y="134"/>
                </a:lnTo>
                <a:lnTo>
                  <a:pt x="3" y="110"/>
                </a:lnTo>
                <a:lnTo>
                  <a:pt x="14" y="85"/>
                </a:lnTo>
                <a:lnTo>
                  <a:pt x="19" y="64"/>
                </a:lnTo>
                <a:lnTo>
                  <a:pt x="14" y="46"/>
                </a:lnTo>
                <a:lnTo>
                  <a:pt x="19" y="32"/>
                </a:lnTo>
                <a:lnTo>
                  <a:pt x="32" y="24"/>
                </a:lnTo>
                <a:lnTo>
                  <a:pt x="47" y="27"/>
                </a:lnTo>
                <a:lnTo>
                  <a:pt x="54" y="32"/>
                </a:lnTo>
                <a:lnTo>
                  <a:pt x="58" y="17"/>
                </a:lnTo>
                <a:lnTo>
                  <a:pt x="68" y="7"/>
                </a:lnTo>
                <a:lnTo>
                  <a:pt x="85" y="2"/>
                </a:lnTo>
                <a:lnTo>
                  <a:pt x="105" y="8"/>
                </a:lnTo>
                <a:lnTo>
                  <a:pt x="112" y="8"/>
                </a:lnTo>
                <a:lnTo>
                  <a:pt x="117" y="0"/>
                </a:lnTo>
                <a:lnTo>
                  <a:pt x="142" y="5"/>
                </a:lnTo>
                <a:close/>
              </a:path>
            </a:pathLst>
          </a:custGeom>
          <a:solidFill>
            <a:srgbClr val="c1ceff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Freeform 92"/>
          <p:cNvSpPr/>
          <p:nvPr/>
        </p:nvSpPr>
        <p:spPr>
          <a:xfrm>
            <a:off x="6608880" y="3944880"/>
            <a:ext cx="228600" cy="187560"/>
          </a:xfrm>
          <a:custGeom>
            <a:avLst/>
            <a:gdLst>
              <a:gd name="textAreaLeft" fmla="*/ 0 w 228600"/>
              <a:gd name="textAreaRight" fmla="*/ 228960 w 228600"/>
              <a:gd name="textAreaTop" fmla="*/ 0 h 187560"/>
              <a:gd name="textAreaBottom" fmla="*/ 187920 h 187560"/>
            </a:gdLst>
            <a:ahLst/>
            <a:rect l="textAreaLeft" t="textAreaTop" r="textAreaRight" b="textAreaBottom"/>
            <a:pathLst>
              <a:path w="288" h="237">
                <a:moveTo>
                  <a:pt x="8" y="57"/>
                </a:moveTo>
                <a:lnTo>
                  <a:pt x="19" y="69"/>
                </a:lnTo>
                <a:lnTo>
                  <a:pt x="34" y="79"/>
                </a:lnTo>
                <a:lnTo>
                  <a:pt x="42" y="101"/>
                </a:lnTo>
                <a:lnTo>
                  <a:pt x="47" y="125"/>
                </a:lnTo>
                <a:lnTo>
                  <a:pt x="52" y="149"/>
                </a:lnTo>
                <a:lnTo>
                  <a:pt x="59" y="167"/>
                </a:lnTo>
                <a:lnTo>
                  <a:pt x="74" y="183"/>
                </a:lnTo>
                <a:lnTo>
                  <a:pt x="90" y="191"/>
                </a:lnTo>
                <a:lnTo>
                  <a:pt x="107" y="188"/>
                </a:lnTo>
                <a:lnTo>
                  <a:pt x="132" y="186"/>
                </a:lnTo>
                <a:lnTo>
                  <a:pt x="159" y="188"/>
                </a:lnTo>
                <a:lnTo>
                  <a:pt x="174" y="198"/>
                </a:lnTo>
                <a:lnTo>
                  <a:pt x="189" y="210"/>
                </a:lnTo>
                <a:lnTo>
                  <a:pt x="196" y="228"/>
                </a:lnTo>
                <a:lnTo>
                  <a:pt x="215" y="235"/>
                </a:lnTo>
                <a:lnTo>
                  <a:pt x="233" y="228"/>
                </a:lnTo>
                <a:lnTo>
                  <a:pt x="252" y="237"/>
                </a:lnTo>
                <a:lnTo>
                  <a:pt x="266" y="234"/>
                </a:lnTo>
                <a:lnTo>
                  <a:pt x="288" y="235"/>
                </a:lnTo>
                <a:lnTo>
                  <a:pt x="277" y="217"/>
                </a:lnTo>
                <a:lnTo>
                  <a:pt x="272" y="191"/>
                </a:lnTo>
                <a:lnTo>
                  <a:pt x="271" y="171"/>
                </a:lnTo>
                <a:lnTo>
                  <a:pt x="281" y="154"/>
                </a:lnTo>
                <a:lnTo>
                  <a:pt x="281" y="132"/>
                </a:lnTo>
                <a:lnTo>
                  <a:pt x="272" y="117"/>
                </a:lnTo>
                <a:lnTo>
                  <a:pt x="267" y="95"/>
                </a:lnTo>
                <a:lnTo>
                  <a:pt x="276" y="74"/>
                </a:lnTo>
                <a:lnTo>
                  <a:pt x="274" y="54"/>
                </a:lnTo>
                <a:lnTo>
                  <a:pt x="262" y="39"/>
                </a:lnTo>
                <a:lnTo>
                  <a:pt x="244" y="30"/>
                </a:lnTo>
                <a:lnTo>
                  <a:pt x="222" y="23"/>
                </a:lnTo>
                <a:lnTo>
                  <a:pt x="208" y="10"/>
                </a:lnTo>
                <a:lnTo>
                  <a:pt x="188" y="0"/>
                </a:lnTo>
                <a:lnTo>
                  <a:pt x="161" y="7"/>
                </a:lnTo>
                <a:lnTo>
                  <a:pt x="140" y="12"/>
                </a:lnTo>
                <a:lnTo>
                  <a:pt x="125" y="29"/>
                </a:lnTo>
                <a:lnTo>
                  <a:pt x="113" y="44"/>
                </a:lnTo>
                <a:lnTo>
                  <a:pt x="93" y="52"/>
                </a:lnTo>
                <a:lnTo>
                  <a:pt x="74" y="47"/>
                </a:lnTo>
                <a:lnTo>
                  <a:pt x="57" y="37"/>
                </a:lnTo>
                <a:lnTo>
                  <a:pt x="39" y="27"/>
                </a:lnTo>
                <a:lnTo>
                  <a:pt x="19" y="29"/>
                </a:lnTo>
                <a:lnTo>
                  <a:pt x="0" y="34"/>
                </a:lnTo>
                <a:lnTo>
                  <a:pt x="2" y="47"/>
                </a:lnTo>
                <a:lnTo>
                  <a:pt x="8" y="57"/>
                </a:lnTo>
                <a:close/>
              </a:path>
            </a:pathLst>
          </a:custGeom>
          <a:solidFill>
            <a:srgbClr val="e3beff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" name="Group 93"/>
          <p:cNvGrpSpPr/>
          <p:nvPr/>
        </p:nvGrpSpPr>
        <p:grpSpPr>
          <a:xfrm>
            <a:off x="7159680" y="2505240"/>
            <a:ext cx="109440" cy="255600"/>
            <a:chOff x="7159680" y="2505240"/>
            <a:chExt cx="109440" cy="255600"/>
          </a:xfrm>
        </p:grpSpPr>
        <p:sp>
          <p:nvSpPr>
            <p:cNvPr id="188" name="Freeform 94"/>
            <p:cNvSpPr/>
            <p:nvPr/>
          </p:nvSpPr>
          <p:spPr>
            <a:xfrm>
              <a:off x="7159680" y="2651400"/>
              <a:ext cx="109440" cy="10944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137" h="139">
                  <a:moveTo>
                    <a:pt x="10" y="37"/>
                  </a:moveTo>
                  <a:lnTo>
                    <a:pt x="17" y="46"/>
                  </a:lnTo>
                  <a:lnTo>
                    <a:pt x="22" y="56"/>
                  </a:lnTo>
                  <a:lnTo>
                    <a:pt x="27" y="68"/>
                  </a:lnTo>
                  <a:lnTo>
                    <a:pt x="27" y="81"/>
                  </a:lnTo>
                  <a:lnTo>
                    <a:pt x="23" y="97"/>
                  </a:lnTo>
                  <a:lnTo>
                    <a:pt x="27" y="105"/>
                  </a:lnTo>
                  <a:lnTo>
                    <a:pt x="34" y="117"/>
                  </a:lnTo>
                  <a:lnTo>
                    <a:pt x="42" y="124"/>
                  </a:lnTo>
                  <a:lnTo>
                    <a:pt x="52" y="127"/>
                  </a:lnTo>
                  <a:lnTo>
                    <a:pt x="64" y="125"/>
                  </a:lnTo>
                  <a:lnTo>
                    <a:pt x="67" y="130"/>
                  </a:lnTo>
                  <a:lnTo>
                    <a:pt x="74" y="136"/>
                  </a:lnTo>
                  <a:lnTo>
                    <a:pt x="81" y="139"/>
                  </a:lnTo>
                  <a:lnTo>
                    <a:pt x="88" y="139"/>
                  </a:lnTo>
                  <a:lnTo>
                    <a:pt x="94" y="136"/>
                  </a:lnTo>
                  <a:lnTo>
                    <a:pt x="96" y="127"/>
                  </a:lnTo>
                  <a:lnTo>
                    <a:pt x="100" y="120"/>
                  </a:lnTo>
                  <a:lnTo>
                    <a:pt x="108" y="122"/>
                  </a:lnTo>
                  <a:lnTo>
                    <a:pt x="118" y="122"/>
                  </a:lnTo>
                  <a:lnTo>
                    <a:pt x="125" y="117"/>
                  </a:lnTo>
                  <a:lnTo>
                    <a:pt x="128" y="110"/>
                  </a:lnTo>
                  <a:lnTo>
                    <a:pt x="127" y="102"/>
                  </a:lnTo>
                  <a:lnTo>
                    <a:pt x="123" y="95"/>
                  </a:lnTo>
                  <a:lnTo>
                    <a:pt x="123" y="88"/>
                  </a:lnTo>
                  <a:lnTo>
                    <a:pt x="125" y="81"/>
                  </a:lnTo>
                  <a:lnTo>
                    <a:pt x="130" y="76"/>
                  </a:lnTo>
                  <a:lnTo>
                    <a:pt x="133" y="71"/>
                  </a:lnTo>
                  <a:lnTo>
                    <a:pt x="137" y="61"/>
                  </a:lnTo>
                  <a:lnTo>
                    <a:pt x="137" y="51"/>
                  </a:lnTo>
                  <a:lnTo>
                    <a:pt x="133" y="41"/>
                  </a:lnTo>
                  <a:lnTo>
                    <a:pt x="127" y="34"/>
                  </a:lnTo>
                  <a:lnTo>
                    <a:pt x="115" y="31"/>
                  </a:lnTo>
                  <a:lnTo>
                    <a:pt x="108" y="31"/>
                  </a:lnTo>
                  <a:lnTo>
                    <a:pt x="101" y="27"/>
                  </a:lnTo>
                  <a:lnTo>
                    <a:pt x="94" y="25"/>
                  </a:lnTo>
                  <a:lnTo>
                    <a:pt x="86" y="27"/>
                  </a:lnTo>
                  <a:lnTo>
                    <a:pt x="81" y="29"/>
                  </a:lnTo>
                  <a:lnTo>
                    <a:pt x="71" y="27"/>
                  </a:lnTo>
                  <a:lnTo>
                    <a:pt x="66" y="20"/>
                  </a:lnTo>
                  <a:lnTo>
                    <a:pt x="61" y="12"/>
                  </a:lnTo>
                  <a:lnTo>
                    <a:pt x="54" y="7"/>
                  </a:lnTo>
                  <a:lnTo>
                    <a:pt x="45" y="2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3"/>
                  </a:lnTo>
                  <a:lnTo>
                    <a:pt x="1" y="9"/>
                  </a:lnTo>
                  <a:lnTo>
                    <a:pt x="0" y="14"/>
                  </a:lnTo>
                  <a:lnTo>
                    <a:pt x="1" y="19"/>
                  </a:lnTo>
                  <a:lnTo>
                    <a:pt x="10" y="37"/>
                  </a:lnTo>
                  <a:close/>
                </a:path>
              </a:pathLst>
            </a:custGeom>
            <a:solidFill>
              <a:srgbClr val="dbffb8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95"/>
            <p:cNvSpPr/>
            <p:nvPr/>
          </p:nvSpPr>
          <p:spPr>
            <a:xfrm>
              <a:off x="7159680" y="2505240"/>
              <a:ext cx="52200" cy="81000"/>
            </a:xfrm>
            <a:custGeom>
              <a:avLst/>
              <a:gdLst>
                <a:gd name="textAreaLeft" fmla="*/ 0 w 52200"/>
                <a:gd name="textAreaRight" fmla="*/ 52560 w 52200"/>
                <a:gd name="textAreaTop" fmla="*/ 0 h 81000"/>
                <a:gd name="textAreaBottom" fmla="*/ 81000 h 81000"/>
              </a:gdLst>
              <a:ahLst/>
              <a:rect l="textAreaLeft" t="textAreaTop" r="textAreaRight" b="textAreaBottom"/>
              <a:pathLst>
                <a:path w="66" h="104">
                  <a:moveTo>
                    <a:pt x="6" y="46"/>
                  </a:moveTo>
                  <a:lnTo>
                    <a:pt x="8" y="63"/>
                  </a:lnTo>
                  <a:lnTo>
                    <a:pt x="12" y="80"/>
                  </a:lnTo>
                  <a:lnTo>
                    <a:pt x="17" y="88"/>
                  </a:lnTo>
                  <a:lnTo>
                    <a:pt x="23" y="97"/>
                  </a:lnTo>
                  <a:lnTo>
                    <a:pt x="32" y="102"/>
                  </a:lnTo>
                  <a:lnTo>
                    <a:pt x="44" y="104"/>
                  </a:lnTo>
                  <a:lnTo>
                    <a:pt x="54" y="100"/>
                  </a:lnTo>
                  <a:lnTo>
                    <a:pt x="61" y="92"/>
                  </a:lnTo>
                  <a:lnTo>
                    <a:pt x="61" y="78"/>
                  </a:lnTo>
                  <a:lnTo>
                    <a:pt x="59" y="66"/>
                  </a:lnTo>
                  <a:lnTo>
                    <a:pt x="57" y="58"/>
                  </a:lnTo>
                  <a:lnTo>
                    <a:pt x="62" y="50"/>
                  </a:lnTo>
                  <a:lnTo>
                    <a:pt x="66" y="39"/>
                  </a:lnTo>
                  <a:lnTo>
                    <a:pt x="66" y="26"/>
                  </a:lnTo>
                  <a:lnTo>
                    <a:pt x="61" y="12"/>
                  </a:lnTo>
                  <a:lnTo>
                    <a:pt x="56" y="4"/>
                  </a:lnTo>
                  <a:lnTo>
                    <a:pt x="49" y="0"/>
                  </a:lnTo>
                  <a:lnTo>
                    <a:pt x="40" y="2"/>
                  </a:lnTo>
                  <a:lnTo>
                    <a:pt x="34" y="9"/>
                  </a:lnTo>
                  <a:lnTo>
                    <a:pt x="30" y="14"/>
                  </a:lnTo>
                  <a:lnTo>
                    <a:pt x="27" y="16"/>
                  </a:lnTo>
                  <a:lnTo>
                    <a:pt x="20" y="12"/>
                  </a:lnTo>
                  <a:lnTo>
                    <a:pt x="12" y="12"/>
                  </a:lnTo>
                  <a:lnTo>
                    <a:pt x="5" y="16"/>
                  </a:lnTo>
                  <a:lnTo>
                    <a:pt x="1" y="22"/>
                  </a:lnTo>
                  <a:lnTo>
                    <a:pt x="0" y="33"/>
                  </a:lnTo>
                  <a:lnTo>
                    <a:pt x="6" y="46"/>
                  </a:lnTo>
                  <a:close/>
                </a:path>
              </a:pathLst>
            </a:custGeom>
            <a:solidFill>
              <a:srgbClr val="dbffb8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0" name="Text Box 96"/>
          <p:cNvSpPr/>
          <p:nvPr/>
        </p:nvSpPr>
        <p:spPr>
          <a:xfrm>
            <a:off x="6403320" y="2919240"/>
            <a:ext cx="2195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татистические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ето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Freeform 97"/>
          <p:cNvSpPr/>
          <p:nvPr/>
        </p:nvSpPr>
        <p:spPr>
          <a:xfrm>
            <a:off x="1866960" y="5727600"/>
            <a:ext cx="1671480" cy="1016280"/>
          </a:xfrm>
          <a:custGeom>
            <a:avLst/>
            <a:gdLst>
              <a:gd name="textAreaLeft" fmla="*/ 0 w 1671480"/>
              <a:gd name="textAreaRight" fmla="*/ 1671840 w 1671480"/>
              <a:gd name="textAreaTop" fmla="*/ 0 h 1016280"/>
              <a:gd name="textAreaBottom" fmla="*/ 1016640 h 1016280"/>
            </a:gdLst>
            <a:ahLst/>
            <a:rect l="textAreaLeft" t="textAreaTop" r="textAreaRight" b="textAreaBottom"/>
            <a:pathLst>
              <a:path w="898" h="741">
                <a:moveTo>
                  <a:pt x="797" y="322"/>
                </a:moveTo>
                <a:lnTo>
                  <a:pt x="795" y="346"/>
                </a:lnTo>
                <a:lnTo>
                  <a:pt x="781" y="365"/>
                </a:lnTo>
                <a:lnTo>
                  <a:pt x="753" y="354"/>
                </a:lnTo>
                <a:lnTo>
                  <a:pt x="735" y="358"/>
                </a:lnTo>
                <a:lnTo>
                  <a:pt x="719" y="369"/>
                </a:lnTo>
                <a:lnTo>
                  <a:pt x="710" y="352"/>
                </a:lnTo>
                <a:lnTo>
                  <a:pt x="700" y="322"/>
                </a:lnTo>
                <a:lnTo>
                  <a:pt x="676" y="306"/>
                </a:lnTo>
                <a:lnTo>
                  <a:pt x="654" y="300"/>
                </a:lnTo>
                <a:lnTo>
                  <a:pt x="622" y="304"/>
                </a:lnTo>
                <a:lnTo>
                  <a:pt x="600" y="308"/>
                </a:lnTo>
                <a:lnTo>
                  <a:pt x="577" y="296"/>
                </a:lnTo>
                <a:lnTo>
                  <a:pt x="545" y="284"/>
                </a:lnTo>
                <a:lnTo>
                  <a:pt x="515" y="276"/>
                </a:lnTo>
                <a:lnTo>
                  <a:pt x="493" y="278"/>
                </a:lnTo>
                <a:lnTo>
                  <a:pt x="466" y="282"/>
                </a:lnTo>
                <a:lnTo>
                  <a:pt x="446" y="268"/>
                </a:lnTo>
                <a:lnTo>
                  <a:pt x="436" y="244"/>
                </a:lnTo>
                <a:lnTo>
                  <a:pt x="432" y="221"/>
                </a:lnTo>
                <a:lnTo>
                  <a:pt x="446" y="195"/>
                </a:lnTo>
                <a:lnTo>
                  <a:pt x="442" y="165"/>
                </a:lnTo>
                <a:lnTo>
                  <a:pt x="430" y="143"/>
                </a:lnTo>
                <a:lnTo>
                  <a:pt x="406" y="135"/>
                </a:lnTo>
                <a:lnTo>
                  <a:pt x="384" y="143"/>
                </a:lnTo>
                <a:lnTo>
                  <a:pt x="364" y="135"/>
                </a:lnTo>
                <a:lnTo>
                  <a:pt x="355" y="115"/>
                </a:lnTo>
                <a:lnTo>
                  <a:pt x="351" y="91"/>
                </a:lnTo>
                <a:lnTo>
                  <a:pt x="347" y="64"/>
                </a:lnTo>
                <a:lnTo>
                  <a:pt x="331" y="36"/>
                </a:lnTo>
                <a:lnTo>
                  <a:pt x="307" y="14"/>
                </a:lnTo>
                <a:lnTo>
                  <a:pt x="279" y="0"/>
                </a:lnTo>
                <a:lnTo>
                  <a:pt x="245" y="6"/>
                </a:lnTo>
                <a:lnTo>
                  <a:pt x="251" y="30"/>
                </a:lnTo>
                <a:lnTo>
                  <a:pt x="245" y="46"/>
                </a:lnTo>
                <a:lnTo>
                  <a:pt x="226" y="58"/>
                </a:lnTo>
                <a:lnTo>
                  <a:pt x="208" y="54"/>
                </a:lnTo>
                <a:lnTo>
                  <a:pt x="192" y="34"/>
                </a:lnTo>
                <a:lnTo>
                  <a:pt x="168" y="48"/>
                </a:lnTo>
                <a:lnTo>
                  <a:pt x="160" y="68"/>
                </a:lnTo>
                <a:lnTo>
                  <a:pt x="138" y="84"/>
                </a:lnTo>
                <a:lnTo>
                  <a:pt x="124" y="101"/>
                </a:lnTo>
                <a:lnTo>
                  <a:pt x="101" y="117"/>
                </a:lnTo>
                <a:lnTo>
                  <a:pt x="73" y="129"/>
                </a:lnTo>
                <a:lnTo>
                  <a:pt x="43" y="127"/>
                </a:lnTo>
                <a:lnTo>
                  <a:pt x="11" y="133"/>
                </a:lnTo>
                <a:lnTo>
                  <a:pt x="21" y="159"/>
                </a:lnTo>
                <a:lnTo>
                  <a:pt x="31" y="183"/>
                </a:lnTo>
                <a:lnTo>
                  <a:pt x="51" y="195"/>
                </a:lnTo>
                <a:lnTo>
                  <a:pt x="63" y="213"/>
                </a:lnTo>
                <a:lnTo>
                  <a:pt x="73" y="234"/>
                </a:lnTo>
                <a:lnTo>
                  <a:pt x="95" y="236"/>
                </a:lnTo>
                <a:lnTo>
                  <a:pt x="107" y="260"/>
                </a:lnTo>
                <a:lnTo>
                  <a:pt x="91" y="280"/>
                </a:lnTo>
                <a:lnTo>
                  <a:pt x="73" y="290"/>
                </a:lnTo>
                <a:lnTo>
                  <a:pt x="59" y="306"/>
                </a:lnTo>
                <a:lnTo>
                  <a:pt x="63" y="334"/>
                </a:lnTo>
                <a:lnTo>
                  <a:pt x="69" y="362"/>
                </a:lnTo>
                <a:lnTo>
                  <a:pt x="47" y="367"/>
                </a:lnTo>
                <a:lnTo>
                  <a:pt x="33" y="383"/>
                </a:lnTo>
                <a:lnTo>
                  <a:pt x="27" y="409"/>
                </a:lnTo>
                <a:lnTo>
                  <a:pt x="37" y="427"/>
                </a:lnTo>
                <a:lnTo>
                  <a:pt x="17" y="447"/>
                </a:lnTo>
                <a:lnTo>
                  <a:pt x="5" y="469"/>
                </a:lnTo>
                <a:lnTo>
                  <a:pt x="0" y="493"/>
                </a:lnTo>
                <a:lnTo>
                  <a:pt x="4" y="516"/>
                </a:lnTo>
                <a:lnTo>
                  <a:pt x="19" y="536"/>
                </a:lnTo>
                <a:lnTo>
                  <a:pt x="39" y="526"/>
                </a:lnTo>
                <a:lnTo>
                  <a:pt x="57" y="536"/>
                </a:lnTo>
                <a:lnTo>
                  <a:pt x="65" y="558"/>
                </a:lnTo>
                <a:lnTo>
                  <a:pt x="55" y="580"/>
                </a:lnTo>
                <a:lnTo>
                  <a:pt x="57" y="602"/>
                </a:lnTo>
                <a:lnTo>
                  <a:pt x="59" y="606"/>
                </a:lnTo>
                <a:lnTo>
                  <a:pt x="79" y="600"/>
                </a:lnTo>
                <a:lnTo>
                  <a:pt x="109" y="592"/>
                </a:lnTo>
                <a:lnTo>
                  <a:pt x="132" y="600"/>
                </a:lnTo>
                <a:lnTo>
                  <a:pt x="148" y="622"/>
                </a:lnTo>
                <a:lnTo>
                  <a:pt x="162" y="645"/>
                </a:lnTo>
                <a:lnTo>
                  <a:pt x="186" y="663"/>
                </a:lnTo>
                <a:lnTo>
                  <a:pt x="212" y="675"/>
                </a:lnTo>
                <a:lnTo>
                  <a:pt x="224" y="695"/>
                </a:lnTo>
                <a:lnTo>
                  <a:pt x="230" y="721"/>
                </a:lnTo>
                <a:lnTo>
                  <a:pt x="247" y="737"/>
                </a:lnTo>
                <a:lnTo>
                  <a:pt x="277" y="741"/>
                </a:lnTo>
                <a:lnTo>
                  <a:pt x="291" y="737"/>
                </a:lnTo>
                <a:lnTo>
                  <a:pt x="283" y="707"/>
                </a:lnTo>
                <a:lnTo>
                  <a:pt x="299" y="689"/>
                </a:lnTo>
                <a:lnTo>
                  <a:pt x="321" y="685"/>
                </a:lnTo>
                <a:lnTo>
                  <a:pt x="349" y="693"/>
                </a:lnTo>
                <a:lnTo>
                  <a:pt x="372" y="703"/>
                </a:lnTo>
                <a:lnTo>
                  <a:pt x="390" y="697"/>
                </a:lnTo>
                <a:lnTo>
                  <a:pt x="402" y="715"/>
                </a:lnTo>
                <a:lnTo>
                  <a:pt x="414" y="727"/>
                </a:lnTo>
                <a:lnTo>
                  <a:pt x="434" y="731"/>
                </a:lnTo>
                <a:lnTo>
                  <a:pt x="446" y="719"/>
                </a:lnTo>
                <a:lnTo>
                  <a:pt x="438" y="687"/>
                </a:lnTo>
                <a:lnTo>
                  <a:pt x="428" y="655"/>
                </a:lnTo>
                <a:lnTo>
                  <a:pt x="428" y="632"/>
                </a:lnTo>
                <a:lnTo>
                  <a:pt x="446" y="608"/>
                </a:lnTo>
                <a:lnTo>
                  <a:pt x="468" y="598"/>
                </a:lnTo>
                <a:lnTo>
                  <a:pt x="489" y="602"/>
                </a:lnTo>
                <a:lnTo>
                  <a:pt x="511" y="618"/>
                </a:lnTo>
                <a:lnTo>
                  <a:pt x="515" y="636"/>
                </a:lnTo>
                <a:lnTo>
                  <a:pt x="513" y="657"/>
                </a:lnTo>
                <a:lnTo>
                  <a:pt x="523" y="675"/>
                </a:lnTo>
                <a:lnTo>
                  <a:pt x="543" y="679"/>
                </a:lnTo>
                <a:lnTo>
                  <a:pt x="563" y="675"/>
                </a:lnTo>
                <a:lnTo>
                  <a:pt x="581" y="667"/>
                </a:lnTo>
                <a:lnTo>
                  <a:pt x="608" y="675"/>
                </a:lnTo>
                <a:lnTo>
                  <a:pt x="632" y="683"/>
                </a:lnTo>
                <a:lnTo>
                  <a:pt x="654" y="671"/>
                </a:lnTo>
                <a:lnTo>
                  <a:pt x="664" y="669"/>
                </a:lnTo>
                <a:lnTo>
                  <a:pt x="672" y="628"/>
                </a:lnTo>
                <a:lnTo>
                  <a:pt x="670" y="608"/>
                </a:lnTo>
                <a:lnTo>
                  <a:pt x="674" y="584"/>
                </a:lnTo>
                <a:lnTo>
                  <a:pt x="690" y="568"/>
                </a:lnTo>
                <a:lnTo>
                  <a:pt x="721" y="564"/>
                </a:lnTo>
                <a:lnTo>
                  <a:pt x="751" y="556"/>
                </a:lnTo>
                <a:lnTo>
                  <a:pt x="773" y="542"/>
                </a:lnTo>
                <a:lnTo>
                  <a:pt x="787" y="518"/>
                </a:lnTo>
                <a:lnTo>
                  <a:pt x="785" y="487"/>
                </a:lnTo>
                <a:lnTo>
                  <a:pt x="777" y="459"/>
                </a:lnTo>
                <a:lnTo>
                  <a:pt x="791" y="435"/>
                </a:lnTo>
                <a:lnTo>
                  <a:pt x="817" y="433"/>
                </a:lnTo>
                <a:lnTo>
                  <a:pt x="838" y="423"/>
                </a:lnTo>
                <a:lnTo>
                  <a:pt x="850" y="399"/>
                </a:lnTo>
                <a:lnTo>
                  <a:pt x="872" y="389"/>
                </a:lnTo>
                <a:lnTo>
                  <a:pt x="890" y="383"/>
                </a:lnTo>
                <a:lnTo>
                  <a:pt x="898" y="371"/>
                </a:lnTo>
                <a:lnTo>
                  <a:pt x="886" y="348"/>
                </a:lnTo>
                <a:lnTo>
                  <a:pt x="864" y="340"/>
                </a:lnTo>
                <a:lnTo>
                  <a:pt x="848" y="324"/>
                </a:lnTo>
                <a:lnTo>
                  <a:pt x="852" y="308"/>
                </a:lnTo>
                <a:lnTo>
                  <a:pt x="838" y="304"/>
                </a:lnTo>
                <a:lnTo>
                  <a:pt x="817" y="306"/>
                </a:lnTo>
                <a:lnTo>
                  <a:pt x="797" y="322"/>
                </a:lnTo>
                <a:close/>
              </a:path>
            </a:pathLst>
          </a:custGeom>
          <a:solidFill>
            <a:srgbClr val="dddddd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Freeform 98"/>
          <p:cNvSpPr/>
          <p:nvPr/>
        </p:nvSpPr>
        <p:spPr>
          <a:xfrm flipV="1">
            <a:off x="4451400" y="1671480"/>
            <a:ext cx="912600" cy="1236960"/>
          </a:xfrm>
          <a:custGeom>
            <a:avLst/>
            <a:gdLst>
              <a:gd name="textAreaLeft" fmla="*/ 0 w 912600"/>
              <a:gd name="textAreaRight" fmla="*/ 912960 w 912600"/>
              <a:gd name="textAreaTop" fmla="*/ 360 h 1236960"/>
              <a:gd name="textAreaBottom" fmla="*/ 1237680 h 1236960"/>
            </a:gdLst>
            <a:ahLst/>
            <a:rect l="textAreaLeft" t="textAreaTop" r="textAreaRight" b="textAreaBottom"/>
            <a:pathLst>
              <a:path w="926" h="1133">
                <a:moveTo>
                  <a:pt x="345" y="41"/>
                </a:moveTo>
                <a:lnTo>
                  <a:pt x="355" y="53"/>
                </a:lnTo>
                <a:lnTo>
                  <a:pt x="376" y="63"/>
                </a:lnTo>
                <a:lnTo>
                  <a:pt x="402" y="71"/>
                </a:lnTo>
                <a:lnTo>
                  <a:pt x="422" y="81"/>
                </a:lnTo>
                <a:lnTo>
                  <a:pt x="436" y="101"/>
                </a:lnTo>
                <a:lnTo>
                  <a:pt x="450" y="119"/>
                </a:lnTo>
                <a:lnTo>
                  <a:pt x="470" y="137"/>
                </a:lnTo>
                <a:lnTo>
                  <a:pt x="492" y="145"/>
                </a:lnTo>
                <a:lnTo>
                  <a:pt x="519" y="151"/>
                </a:lnTo>
                <a:lnTo>
                  <a:pt x="525" y="170"/>
                </a:lnTo>
                <a:lnTo>
                  <a:pt x="519" y="200"/>
                </a:lnTo>
                <a:lnTo>
                  <a:pt x="521" y="228"/>
                </a:lnTo>
                <a:lnTo>
                  <a:pt x="525" y="260"/>
                </a:lnTo>
                <a:lnTo>
                  <a:pt x="521" y="282"/>
                </a:lnTo>
                <a:lnTo>
                  <a:pt x="525" y="305"/>
                </a:lnTo>
                <a:lnTo>
                  <a:pt x="537" y="315"/>
                </a:lnTo>
                <a:lnTo>
                  <a:pt x="559" y="313"/>
                </a:lnTo>
                <a:lnTo>
                  <a:pt x="581" y="315"/>
                </a:lnTo>
                <a:lnTo>
                  <a:pt x="589" y="333"/>
                </a:lnTo>
                <a:lnTo>
                  <a:pt x="583" y="353"/>
                </a:lnTo>
                <a:lnTo>
                  <a:pt x="587" y="375"/>
                </a:lnTo>
                <a:lnTo>
                  <a:pt x="599" y="391"/>
                </a:lnTo>
                <a:lnTo>
                  <a:pt x="614" y="413"/>
                </a:lnTo>
                <a:lnTo>
                  <a:pt x="620" y="431"/>
                </a:lnTo>
                <a:lnTo>
                  <a:pt x="612" y="454"/>
                </a:lnTo>
                <a:lnTo>
                  <a:pt x="611" y="484"/>
                </a:lnTo>
                <a:lnTo>
                  <a:pt x="614" y="508"/>
                </a:lnTo>
                <a:lnTo>
                  <a:pt x="626" y="532"/>
                </a:lnTo>
                <a:lnTo>
                  <a:pt x="646" y="550"/>
                </a:lnTo>
                <a:lnTo>
                  <a:pt x="670" y="562"/>
                </a:lnTo>
                <a:lnTo>
                  <a:pt x="700" y="566"/>
                </a:lnTo>
                <a:lnTo>
                  <a:pt x="722" y="560"/>
                </a:lnTo>
                <a:lnTo>
                  <a:pt x="743" y="552"/>
                </a:lnTo>
                <a:lnTo>
                  <a:pt x="765" y="560"/>
                </a:lnTo>
                <a:lnTo>
                  <a:pt x="779" y="577"/>
                </a:lnTo>
                <a:lnTo>
                  <a:pt x="799" y="591"/>
                </a:lnTo>
                <a:lnTo>
                  <a:pt x="823" y="597"/>
                </a:lnTo>
                <a:lnTo>
                  <a:pt x="843" y="613"/>
                </a:lnTo>
                <a:lnTo>
                  <a:pt x="864" y="621"/>
                </a:lnTo>
                <a:lnTo>
                  <a:pt x="886" y="635"/>
                </a:lnTo>
                <a:lnTo>
                  <a:pt x="898" y="657"/>
                </a:lnTo>
                <a:lnTo>
                  <a:pt x="908" y="681"/>
                </a:lnTo>
                <a:lnTo>
                  <a:pt x="904" y="703"/>
                </a:lnTo>
                <a:lnTo>
                  <a:pt x="912" y="718"/>
                </a:lnTo>
                <a:lnTo>
                  <a:pt x="926" y="738"/>
                </a:lnTo>
                <a:lnTo>
                  <a:pt x="924" y="758"/>
                </a:lnTo>
                <a:lnTo>
                  <a:pt x="910" y="774"/>
                </a:lnTo>
                <a:lnTo>
                  <a:pt x="896" y="800"/>
                </a:lnTo>
                <a:lnTo>
                  <a:pt x="878" y="814"/>
                </a:lnTo>
                <a:lnTo>
                  <a:pt x="864" y="830"/>
                </a:lnTo>
                <a:lnTo>
                  <a:pt x="845" y="828"/>
                </a:lnTo>
                <a:lnTo>
                  <a:pt x="821" y="824"/>
                </a:lnTo>
                <a:lnTo>
                  <a:pt x="797" y="808"/>
                </a:lnTo>
                <a:lnTo>
                  <a:pt x="777" y="802"/>
                </a:lnTo>
                <a:lnTo>
                  <a:pt x="757" y="810"/>
                </a:lnTo>
                <a:lnTo>
                  <a:pt x="731" y="806"/>
                </a:lnTo>
                <a:lnTo>
                  <a:pt x="710" y="814"/>
                </a:lnTo>
                <a:lnTo>
                  <a:pt x="694" y="830"/>
                </a:lnTo>
                <a:lnTo>
                  <a:pt x="664" y="838"/>
                </a:lnTo>
                <a:lnTo>
                  <a:pt x="638" y="832"/>
                </a:lnTo>
                <a:lnTo>
                  <a:pt x="609" y="840"/>
                </a:lnTo>
                <a:lnTo>
                  <a:pt x="585" y="855"/>
                </a:lnTo>
                <a:lnTo>
                  <a:pt x="555" y="865"/>
                </a:lnTo>
                <a:lnTo>
                  <a:pt x="535" y="887"/>
                </a:lnTo>
                <a:lnTo>
                  <a:pt x="531" y="917"/>
                </a:lnTo>
                <a:lnTo>
                  <a:pt x="521" y="937"/>
                </a:lnTo>
                <a:lnTo>
                  <a:pt x="519" y="959"/>
                </a:lnTo>
                <a:lnTo>
                  <a:pt x="531" y="971"/>
                </a:lnTo>
                <a:lnTo>
                  <a:pt x="537" y="992"/>
                </a:lnTo>
                <a:lnTo>
                  <a:pt x="553" y="1016"/>
                </a:lnTo>
                <a:lnTo>
                  <a:pt x="569" y="1038"/>
                </a:lnTo>
                <a:lnTo>
                  <a:pt x="587" y="1062"/>
                </a:lnTo>
                <a:lnTo>
                  <a:pt x="577" y="1086"/>
                </a:lnTo>
                <a:lnTo>
                  <a:pt x="575" y="1110"/>
                </a:lnTo>
                <a:lnTo>
                  <a:pt x="561" y="1129"/>
                </a:lnTo>
                <a:lnTo>
                  <a:pt x="533" y="1118"/>
                </a:lnTo>
                <a:lnTo>
                  <a:pt x="515" y="1122"/>
                </a:lnTo>
                <a:lnTo>
                  <a:pt x="499" y="1133"/>
                </a:lnTo>
                <a:lnTo>
                  <a:pt x="490" y="1116"/>
                </a:lnTo>
                <a:lnTo>
                  <a:pt x="480" y="1086"/>
                </a:lnTo>
                <a:lnTo>
                  <a:pt x="456" y="1070"/>
                </a:lnTo>
                <a:lnTo>
                  <a:pt x="434" y="1064"/>
                </a:lnTo>
                <a:lnTo>
                  <a:pt x="402" y="1068"/>
                </a:lnTo>
                <a:lnTo>
                  <a:pt x="380" y="1072"/>
                </a:lnTo>
                <a:lnTo>
                  <a:pt x="357" y="1060"/>
                </a:lnTo>
                <a:lnTo>
                  <a:pt x="325" y="1048"/>
                </a:lnTo>
                <a:lnTo>
                  <a:pt x="295" y="1040"/>
                </a:lnTo>
                <a:lnTo>
                  <a:pt x="273" y="1042"/>
                </a:lnTo>
                <a:lnTo>
                  <a:pt x="246" y="1046"/>
                </a:lnTo>
                <a:lnTo>
                  <a:pt x="226" y="1032"/>
                </a:lnTo>
                <a:lnTo>
                  <a:pt x="216" y="1008"/>
                </a:lnTo>
                <a:lnTo>
                  <a:pt x="212" y="985"/>
                </a:lnTo>
                <a:lnTo>
                  <a:pt x="226" y="959"/>
                </a:lnTo>
                <a:lnTo>
                  <a:pt x="222" y="929"/>
                </a:lnTo>
                <a:lnTo>
                  <a:pt x="210" y="907"/>
                </a:lnTo>
                <a:lnTo>
                  <a:pt x="186" y="899"/>
                </a:lnTo>
                <a:lnTo>
                  <a:pt x="164" y="907"/>
                </a:lnTo>
                <a:lnTo>
                  <a:pt x="144" y="899"/>
                </a:lnTo>
                <a:lnTo>
                  <a:pt x="135" y="879"/>
                </a:lnTo>
                <a:lnTo>
                  <a:pt x="131" y="855"/>
                </a:lnTo>
                <a:lnTo>
                  <a:pt x="127" y="828"/>
                </a:lnTo>
                <a:lnTo>
                  <a:pt x="111" y="800"/>
                </a:lnTo>
                <a:lnTo>
                  <a:pt x="87" y="778"/>
                </a:lnTo>
                <a:lnTo>
                  <a:pt x="59" y="764"/>
                </a:lnTo>
                <a:lnTo>
                  <a:pt x="25" y="770"/>
                </a:lnTo>
                <a:lnTo>
                  <a:pt x="16" y="734"/>
                </a:lnTo>
                <a:lnTo>
                  <a:pt x="8" y="703"/>
                </a:lnTo>
                <a:lnTo>
                  <a:pt x="0" y="679"/>
                </a:lnTo>
                <a:lnTo>
                  <a:pt x="4" y="657"/>
                </a:lnTo>
                <a:lnTo>
                  <a:pt x="12" y="639"/>
                </a:lnTo>
                <a:lnTo>
                  <a:pt x="14" y="611"/>
                </a:lnTo>
                <a:lnTo>
                  <a:pt x="12" y="585"/>
                </a:lnTo>
                <a:lnTo>
                  <a:pt x="16" y="574"/>
                </a:lnTo>
                <a:lnTo>
                  <a:pt x="33" y="568"/>
                </a:lnTo>
                <a:lnTo>
                  <a:pt x="57" y="572"/>
                </a:lnTo>
                <a:lnTo>
                  <a:pt x="75" y="568"/>
                </a:lnTo>
                <a:lnTo>
                  <a:pt x="95" y="558"/>
                </a:lnTo>
                <a:lnTo>
                  <a:pt x="111" y="540"/>
                </a:lnTo>
                <a:lnTo>
                  <a:pt x="103" y="514"/>
                </a:lnTo>
                <a:lnTo>
                  <a:pt x="105" y="490"/>
                </a:lnTo>
                <a:lnTo>
                  <a:pt x="115" y="464"/>
                </a:lnTo>
                <a:lnTo>
                  <a:pt x="125" y="438"/>
                </a:lnTo>
                <a:lnTo>
                  <a:pt x="133" y="407"/>
                </a:lnTo>
                <a:lnTo>
                  <a:pt x="135" y="373"/>
                </a:lnTo>
                <a:lnTo>
                  <a:pt x="131" y="339"/>
                </a:lnTo>
                <a:lnTo>
                  <a:pt x="137" y="315"/>
                </a:lnTo>
                <a:lnTo>
                  <a:pt x="144" y="296"/>
                </a:lnTo>
                <a:lnTo>
                  <a:pt x="142" y="270"/>
                </a:lnTo>
                <a:lnTo>
                  <a:pt x="127" y="222"/>
                </a:lnTo>
                <a:lnTo>
                  <a:pt x="119" y="200"/>
                </a:lnTo>
                <a:lnTo>
                  <a:pt x="113" y="184"/>
                </a:lnTo>
                <a:lnTo>
                  <a:pt x="109" y="166"/>
                </a:lnTo>
                <a:lnTo>
                  <a:pt x="91" y="143"/>
                </a:lnTo>
                <a:lnTo>
                  <a:pt x="107" y="121"/>
                </a:lnTo>
                <a:lnTo>
                  <a:pt x="129" y="111"/>
                </a:lnTo>
                <a:lnTo>
                  <a:pt x="148" y="115"/>
                </a:lnTo>
                <a:lnTo>
                  <a:pt x="170" y="103"/>
                </a:lnTo>
                <a:lnTo>
                  <a:pt x="190" y="93"/>
                </a:lnTo>
                <a:lnTo>
                  <a:pt x="202" y="87"/>
                </a:lnTo>
                <a:lnTo>
                  <a:pt x="226" y="81"/>
                </a:lnTo>
                <a:lnTo>
                  <a:pt x="244" y="93"/>
                </a:lnTo>
                <a:lnTo>
                  <a:pt x="261" y="93"/>
                </a:lnTo>
                <a:lnTo>
                  <a:pt x="277" y="87"/>
                </a:lnTo>
                <a:lnTo>
                  <a:pt x="287" y="71"/>
                </a:lnTo>
                <a:lnTo>
                  <a:pt x="299" y="51"/>
                </a:lnTo>
                <a:lnTo>
                  <a:pt x="301" y="35"/>
                </a:lnTo>
                <a:lnTo>
                  <a:pt x="303" y="24"/>
                </a:lnTo>
                <a:lnTo>
                  <a:pt x="303" y="0"/>
                </a:lnTo>
                <a:lnTo>
                  <a:pt x="315" y="4"/>
                </a:lnTo>
                <a:lnTo>
                  <a:pt x="337" y="20"/>
                </a:lnTo>
                <a:lnTo>
                  <a:pt x="345" y="41"/>
                </a:lnTo>
                <a:close/>
              </a:path>
            </a:pathLst>
          </a:custGeom>
          <a:solidFill>
            <a:srgbClr val="ef91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99"/>
          <p:cNvSpPr/>
          <p:nvPr/>
        </p:nvSpPr>
        <p:spPr>
          <a:xfrm>
            <a:off x="3574800" y="2303640"/>
            <a:ext cx="631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ISO</a:t>
            </a:r>
            <a:br>
              <a:rPr sz="1600"/>
            </a:b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9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100"/>
          <p:cNvSpPr/>
          <p:nvPr/>
        </p:nvSpPr>
        <p:spPr>
          <a:xfrm>
            <a:off x="2456280" y="5092560"/>
            <a:ext cx="73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РА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101"/>
          <p:cNvSpPr/>
          <p:nvPr/>
        </p:nvSpPr>
        <p:spPr>
          <a:xfrm>
            <a:off x="4437000" y="1860480"/>
            <a:ext cx="744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O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4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6" name="Group 102"/>
          <p:cNvGrpSpPr/>
          <p:nvPr/>
        </p:nvGrpSpPr>
        <p:grpSpPr>
          <a:xfrm>
            <a:off x="-24120" y="4876920"/>
            <a:ext cx="1527840" cy="1464480"/>
            <a:chOff x="-24120" y="4876920"/>
            <a:chExt cx="1527840" cy="1464480"/>
          </a:xfrm>
        </p:grpSpPr>
        <p:sp>
          <p:nvSpPr>
            <p:cNvPr id="197" name="Freeform 103"/>
            <p:cNvSpPr/>
            <p:nvPr/>
          </p:nvSpPr>
          <p:spPr>
            <a:xfrm flipV="1" rot="19433400">
              <a:off x="131400" y="5146200"/>
              <a:ext cx="1216080" cy="925560"/>
            </a:xfrm>
            <a:custGeom>
              <a:avLst/>
              <a:gdLst>
                <a:gd name="textAreaLeft" fmla="*/ 0 w 1216080"/>
                <a:gd name="textAreaRight" fmla="*/ 1216440 w 1216080"/>
                <a:gd name="textAreaTop" fmla="*/ -360 h 925560"/>
                <a:gd name="textAreaBottom" fmla="*/ 925560 h 925560"/>
              </a:gdLst>
              <a:ahLst/>
              <a:rect l="textAreaLeft" t="textAreaTop" r="textAreaRight" b="textAreaBottom"/>
              <a:pathLst>
                <a:path w="1035" h="788">
                  <a:moveTo>
                    <a:pt x="460" y="68"/>
                  </a:moveTo>
                  <a:lnTo>
                    <a:pt x="476" y="96"/>
                  </a:lnTo>
                  <a:lnTo>
                    <a:pt x="488" y="119"/>
                  </a:lnTo>
                  <a:lnTo>
                    <a:pt x="480" y="149"/>
                  </a:lnTo>
                  <a:lnTo>
                    <a:pt x="474" y="173"/>
                  </a:lnTo>
                  <a:lnTo>
                    <a:pt x="476" y="189"/>
                  </a:lnTo>
                  <a:lnTo>
                    <a:pt x="492" y="195"/>
                  </a:lnTo>
                  <a:lnTo>
                    <a:pt x="508" y="183"/>
                  </a:lnTo>
                  <a:lnTo>
                    <a:pt x="521" y="161"/>
                  </a:lnTo>
                  <a:lnTo>
                    <a:pt x="545" y="151"/>
                  </a:lnTo>
                  <a:lnTo>
                    <a:pt x="573" y="159"/>
                  </a:lnTo>
                  <a:lnTo>
                    <a:pt x="595" y="173"/>
                  </a:lnTo>
                  <a:lnTo>
                    <a:pt x="625" y="171"/>
                  </a:lnTo>
                  <a:lnTo>
                    <a:pt x="664" y="163"/>
                  </a:lnTo>
                  <a:lnTo>
                    <a:pt x="690" y="153"/>
                  </a:lnTo>
                  <a:lnTo>
                    <a:pt x="706" y="123"/>
                  </a:lnTo>
                  <a:lnTo>
                    <a:pt x="710" y="96"/>
                  </a:lnTo>
                  <a:lnTo>
                    <a:pt x="730" y="80"/>
                  </a:lnTo>
                  <a:lnTo>
                    <a:pt x="740" y="58"/>
                  </a:lnTo>
                  <a:lnTo>
                    <a:pt x="756" y="46"/>
                  </a:lnTo>
                  <a:lnTo>
                    <a:pt x="783" y="54"/>
                  </a:lnTo>
                  <a:lnTo>
                    <a:pt x="805" y="62"/>
                  </a:lnTo>
                  <a:lnTo>
                    <a:pt x="819" y="48"/>
                  </a:lnTo>
                  <a:lnTo>
                    <a:pt x="829" y="22"/>
                  </a:lnTo>
                  <a:lnTo>
                    <a:pt x="851" y="2"/>
                  </a:lnTo>
                  <a:lnTo>
                    <a:pt x="871" y="12"/>
                  </a:lnTo>
                  <a:lnTo>
                    <a:pt x="888" y="24"/>
                  </a:lnTo>
                  <a:lnTo>
                    <a:pt x="910" y="14"/>
                  </a:lnTo>
                  <a:lnTo>
                    <a:pt x="940" y="12"/>
                  </a:lnTo>
                  <a:lnTo>
                    <a:pt x="954" y="0"/>
                  </a:lnTo>
                  <a:lnTo>
                    <a:pt x="952" y="24"/>
                  </a:lnTo>
                  <a:lnTo>
                    <a:pt x="968" y="40"/>
                  </a:lnTo>
                  <a:lnTo>
                    <a:pt x="993" y="60"/>
                  </a:lnTo>
                  <a:lnTo>
                    <a:pt x="1015" y="76"/>
                  </a:lnTo>
                  <a:lnTo>
                    <a:pt x="1013" y="105"/>
                  </a:lnTo>
                  <a:lnTo>
                    <a:pt x="1015" y="131"/>
                  </a:lnTo>
                  <a:lnTo>
                    <a:pt x="1031" y="159"/>
                  </a:lnTo>
                  <a:lnTo>
                    <a:pt x="1035" y="189"/>
                  </a:lnTo>
                  <a:lnTo>
                    <a:pt x="1027" y="219"/>
                  </a:lnTo>
                  <a:lnTo>
                    <a:pt x="1011" y="264"/>
                  </a:lnTo>
                  <a:lnTo>
                    <a:pt x="1005" y="302"/>
                  </a:lnTo>
                  <a:lnTo>
                    <a:pt x="1001" y="340"/>
                  </a:lnTo>
                  <a:lnTo>
                    <a:pt x="992" y="362"/>
                  </a:lnTo>
                  <a:lnTo>
                    <a:pt x="974" y="377"/>
                  </a:lnTo>
                  <a:lnTo>
                    <a:pt x="952" y="387"/>
                  </a:lnTo>
                  <a:lnTo>
                    <a:pt x="928" y="383"/>
                  </a:lnTo>
                  <a:lnTo>
                    <a:pt x="914" y="375"/>
                  </a:lnTo>
                  <a:lnTo>
                    <a:pt x="910" y="352"/>
                  </a:lnTo>
                  <a:lnTo>
                    <a:pt x="900" y="332"/>
                  </a:lnTo>
                  <a:lnTo>
                    <a:pt x="880" y="320"/>
                  </a:lnTo>
                  <a:lnTo>
                    <a:pt x="871" y="296"/>
                  </a:lnTo>
                  <a:lnTo>
                    <a:pt x="845" y="294"/>
                  </a:lnTo>
                  <a:lnTo>
                    <a:pt x="817" y="286"/>
                  </a:lnTo>
                  <a:lnTo>
                    <a:pt x="793" y="298"/>
                  </a:lnTo>
                  <a:lnTo>
                    <a:pt x="789" y="318"/>
                  </a:lnTo>
                  <a:lnTo>
                    <a:pt x="813" y="332"/>
                  </a:lnTo>
                  <a:lnTo>
                    <a:pt x="827" y="346"/>
                  </a:lnTo>
                  <a:lnTo>
                    <a:pt x="825" y="366"/>
                  </a:lnTo>
                  <a:lnTo>
                    <a:pt x="813" y="375"/>
                  </a:lnTo>
                  <a:lnTo>
                    <a:pt x="785" y="374"/>
                  </a:lnTo>
                  <a:lnTo>
                    <a:pt x="769" y="393"/>
                  </a:lnTo>
                  <a:lnTo>
                    <a:pt x="746" y="409"/>
                  </a:lnTo>
                  <a:lnTo>
                    <a:pt x="724" y="429"/>
                  </a:lnTo>
                  <a:lnTo>
                    <a:pt x="698" y="427"/>
                  </a:lnTo>
                  <a:lnTo>
                    <a:pt x="680" y="419"/>
                  </a:lnTo>
                  <a:lnTo>
                    <a:pt x="654" y="431"/>
                  </a:lnTo>
                  <a:lnTo>
                    <a:pt x="638" y="453"/>
                  </a:lnTo>
                  <a:lnTo>
                    <a:pt x="613" y="461"/>
                  </a:lnTo>
                  <a:lnTo>
                    <a:pt x="575" y="469"/>
                  </a:lnTo>
                  <a:lnTo>
                    <a:pt x="547" y="481"/>
                  </a:lnTo>
                  <a:lnTo>
                    <a:pt x="520" y="499"/>
                  </a:lnTo>
                  <a:lnTo>
                    <a:pt x="504" y="524"/>
                  </a:lnTo>
                  <a:lnTo>
                    <a:pt x="486" y="544"/>
                  </a:lnTo>
                  <a:lnTo>
                    <a:pt x="464" y="548"/>
                  </a:lnTo>
                  <a:lnTo>
                    <a:pt x="440" y="562"/>
                  </a:lnTo>
                  <a:lnTo>
                    <a:pt x="422" y="584"/>
                  </a:lnTo>
                  <a:lnTo>
                    <a:pt x="397" y="596"/>
                  </a:lnTo>
                  <a:lnTo>
                    <a:pt x="373" y="610"/>
                  </a:lnTo>
                  <a:lnTo>
                    <a:pt x="361" y="634"/>
                  </a:lnTo>
                  <a:lnTo>
                    <a:pt x="349" y="657"/>
                  </a:lnTo>
                  <a:lnTo>
                    <a:pt x="329" y="667"/>
                  </a:lnTo>
                  <a:lnTo>
                    <a:pt x="311" y="661"/>
                  </a:lnTo>
                  <a:lnTo>
                    <a:pt x="289" y="649"/>
                  </a:lnTo>
                  <a:lnTo>
                    <a:pt x="270" y="657"/>
                  </a:lnTo>
                  <a:lnTo>
                    <a:pt x="262" y="675"/>
                  </a:lnTo>
                  <a:lnTo>
                    <a:pt x="240" y="671"/>
                  </a:lnTo>
                  <a:lnTo>
                    <a:pt x="222" y="683"/>
                  </a:lnTo>
                  <a:lnTo>
                    <a:pt x="210" y="705"/>
                  </a:lnTo>
                  <a:lnTo>
                    <a:pt x="194" y="711"/>
                  </a:lnTo>
                  <a:lnTo>
                    <a:pt x="172" y="719"/>
                  </a:lnTo>
                  <a:lnTo>
                    <a:pt x="165" y="743"/>
                  </a:lnTo>
                  <a:lnTo>
                    <a:pt x="170" y="767"/>
                  </a:lnTo>
                  <a:lnTo>
                    <a:pt x="172" y="788"/>
                  </a:lnTo>
                  <a:lnTo>
                    <a:pt x="145" y="785"/>
                  </a:lnTo>
                  <a:lnTo>
                    <a:pt x="121" y="765"/>
                  </a:lnTo>
                  <a:lnTo>
                    <a:pt x="101" y="759"/>
                  </a:lnTo>
                  <a:lnTo>
                    <a:pt x="79" y="743"/>
                  </a:lnTo>
                  <a:lnTo>
                    <a:pt x="57" y="739"/>
                  </a:lnTo>
                  <a:lnTo>
                    <a:pt x="40" y="721"/>
                  </a:lnTo>
                  <a:lnTo>
                    <a:pt x="24" y="697"/>
                  </a:lnTo>
                  <a:lnTo>
                    <a:pt x="6" y="681"/>
                  </a:lnTo>
                  <a:lnTo>
                    <a:pt x="0" y="681"/>
                  </a:lnTo>
                  <a:lnTo>
                    <a:pt x="8" y="644"/>
                  </a:lnTo>
                  <a:lnTo>
                    <a:pt x="6" y="620"/>
                  </a:lnTo>
                  <a:lnTo>
                    <a:pt x="10" y="596"/>
                  </a:lnTo>
                  <a:lnTo>
                    <a:pt x="26" y="580"/>
                  </a:lnTo>
                  <a:lnTo>
                    <a:pt x="57" y="574"/>
                  </a:lnTo>
                  <a:lnTo>
                    <a:pt x="87" y="568"/>
                  </a:lnTo>
                  <a:lnTo>
                    <a:pt x="109" y="552"/>
                  </a:lnTo>
                  <a:lnTo>
                    <a:pt x="123" y="530"/>
                  </a:lnTo>
                  <a:lnTo>
                    <a:pt x="121" y="505"/>
                  </a:lnTo>
                  <a:lnTo>
                    <a:pt x="117" y="487"/>
                  </a:lnTo>
                  <a:lnTo>
                    <a:pt x="113" y="473"/>
                  </a:lnTo>
                  <a:lnTo>
                    <a:pt x="127" y="447"/>
                  </a:lnTo>
                  <a:lnTo>
                    <a:pt x="153" y="445"/>
                  </a:lnTo>
                  <a:lnTo>
                    <a:pt x="174" y="435"/>
                  </a:lnTo>
                  <a:lnTo>
                    <a:pt x="186" y="411"/>
                  </a:lnTo>
                  <a:lnTo>
                    <a:pt x="210" y="399"/>
                  </a:lnTo>
                  <a:lnTo>
                    <a:pt x="226" y="395"/>
                  </a:lnTo>
                  <a:lnTo>
                    <a:pt x="234" y="381"/>
                  </a:lnTo>
                  <a:lnTo>
                    <a:pt x="222" y="360"/>
                  </a:lnTo>
                  <a:lnTo>
                    <a:pt x="200" y="354"/>
                  </a:lnTo>
                  <a:lnTo>
                    <a:pt x="184" y="336"/>
                  </a:lnTo>
                  <a:lnTo>
                    <a:pt x="188" y="320"/>
                  </a:lnTo>
                  <a:lnTo>
                    <a:pt x="172" y="316"/>
                  </a:lnTo>
                  <a:lnTo>
                    <a:pt x="153" y="318"/>
                  </a:lnTo>
                  <a:lnTo>
                    <a:pt x="133" y="334"/>
                  </a:lnTo>
                  <a:lnTo>
                    <a:pt x="143" y="310"/>
                  </a:lnTo>
                  <a:lnTo>
                    <a:pt x="127" y="290"/>
                  </a:lnTo>
                  <a:lnTo>
                    <a:pt x="109" y="264"/>
                  </a:lnTo>
                  <a:lnTo>
                    <a:pt x="91" y="240"/>
                  </a:lnTo>
                  <a:lnTo>
                    <a:pt x="87" y="219"/>
                  </a:lnTo>
                  <a:lnTo>
                    <a:pt x="75" y="207"/>
                  </a:lnTo>
                  <a:lnTo>
                    <a:pt x="77" y="185"/>
                  </a:lnTo>
                  <a:lnTo>
                    <a:pt x="87" y="165"/>
                  </a:lnTo>
                  <a:lnTo>
                    <a:pt x="91" y="135"/>
                  </a:lnTo>
                  <a:lnTo>
                    <a:pt x="111" y="113"/>
                  </a:lnTo>
                  <a:lnTo>
                    <a:pt x="139" y="103"/>
                  </a:lnTo>
                  <a:lnTo>
                    <a:pt x="163" y="88"/>
                  </a:lnTo>
                  <a:lnTo>
                    <a:pt x="194" y="80"/>
                  </a:lnTo>
                  <a:lnTo>
                    <a:pt x="220" y="86"/>
                  </a:lnTo>
                  <a:lnTo>
                    <a:pt x="250" y="78"/>
                  </a:lnTo>
                  <a:lnTo>
                    <a:pt x="264" y="64"/>
                  </a:lnTo>
                  <a:lnTo>
                    <a:pt x="287" y="54"/>
                  </a:lnTo>
                  <a:lnTo>
                    <a:pt x="313" y="58"/>
                  </a:lnTo>
                  <a:lnTo>
                    <a:pt x="333" y="50"/>
                  </a:lnTo>
                  <a:lnTo>
                    <a:pt x="351" y="54"/>
                  </a:lnTo>
                  <a:lnTo>
                    <a:pt x="377" y="72"/>
                  </a:lnTo>
                  <a:lnTo>
                    <a:pt x="397" y="74"/>
                  </a:lnTo>
                  <a:lnTo>
                    <a:pt x="420" y="78"/>
                  </a:lnTo>
                  <a:lnTo>
                    <a:pt x="436" y="60"/>
                  </a:lnTo>
                  <a:lnTo>
                    <a:pt x="452" y="48"/>
                  </a:lnTo>
                  <a:lnTo>
                    <a:pt x="460" y="68"/>
                  </a:lnTo>
                  <a:close/>
                </a:path>
              </a:pathLst>
            </a:custGeom>
            <a:solidFill>
              <a:srgbClr val="dddddd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Text Box 104"/>
            <p:cNvSpPr/>
            <p:nvPr/>
          </p:nvSpPr>
          <p:spPr>
            <a:xfrm>
              <a:off x="450360" y="5493960"/>
              <a:ext cx="499320" cy="36828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L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9" name="Group 105"/>
          <p:cNvGrpSpPr/>
          <p:nvPr/>
        </p:nvGrpSpPr>
        <p:grpSpPr>
          <a:xfrm>
            <a:off x="952560" y="5767560"/>
            <a:ext cx="841320" cy="912600"/>
            <a:chOff x="952560" y="5767560"/>
            <a:chExt cx="841320" cy="912600"/>
          </a:xfrm>
        </p:grpSpPr>
        <p:sp>
          <p:nvSpPr>
            <p:cNvPr id="200" name="Freeform 106"/>
            <p:cNvSpPr/>
            <p:nvPr/>
          </p:nvSpPr>
          <p:spPr>
            <a:xfrm>
              <a:off x="952560" y="5767560"/>
              <a:ext cx="841320" cy="912600"/>
            </a:xfrm>
            <a:custGeom>
              <a:avLst/>
              <a:gdLst>
                <a:gd name="textAreaLeft" fmla="*/ 0 w 841320"/>
                <a:gd name="textAreaRight" fmla="*/ 841680 w 841320"/>
                <a:gd name="textAreaTop" fmla="*/ 0 h 912600"/>
                <a:gd name="textAreaBottom" fmla="*/ 912960 h 912600"/>
              </a:gdLst>
              <a:ahLst/>
              <a:rect l="textAreaLeft" t="textAreaTop" r="textAreaRight" b="textAreaBottom"/>
              <a:pathLst>
                <a:path w="1061" h="1150">
                  <a:moveTo>
                    <a:pt x="111" y="88"/>
                  </a:moveTo>
                  <a:lnTo>
                    <a:pt x="97" y="105"/>
                  </a:lnTo>
                  <a:lnTo>
                    <a:pt x="75" y="103"/>
                  </a:lnTo>
                  <a:lnTo>
                    <a:pt x="51" y="117"/>
                  </a:lnTo>
                  <a:lnTo>
                    <a:pt x="24" y="125"/>
                  </a:lnTo>
                  <a:lnTo>
                    <a:pt x="10" y="141"/>
                  </a:lnTo>
                  <a:lnTo>
                    <a:pt x="4" y="165"/>
                  </a:lnTo>
                  <a:lnTo>
                    <a:pt x="12" y="185"/>
                  </a:lnTo>
                  <a:lnTo>
                    <a:pt x="20" y="203"/>
                  </a:lnTo>
                  <a:lnTo>
                    <a:pt x="22" y="213"/>
                  </a:lnTo>
                  <a:lnTo>
                    <a:pt x="6" y="228"/>
                  </a:lnTo>
                  <a:lnTo>
                    <a:pt x="0" y="244"/>
                  </a:lnTo>
                  <a:lnTo>
                    <a:pt x="12" y="256"/>
                  </a:lnTo>
                  <a:lnTo>
                    <a:pt x="33" y="266"/>
                  </a:lnTo>
                  <a:lnTo>
                    <a:pt x="59" y="274"/>
                  </a:lnTo>
                  <a:lnTo>
                    <a:pt x="79" y="284"/>
                  </a:lnTo>
                  <a:lnTo>
                    <a:pt x="93" y="304"/>
                  </a:lnTo>
                  <a:lnTo>
                    <a:pt x="107" y="322"/>
                  </a:lnTo>
                  <a:lnTo>
                    <a:pt x="127" y="340"/>
                  </a:lnTo>
                  <a:lnTo>
                    <a:pt x="149" y="348"/>
                  </a:lnTo>
                  <a:lnTo>
                    <a:pt x="176" y="354"/>
                  </a:lnTo>
                  <a:lnTo>
                    <a:pt x="182" y="373"/>
                  </a:lnTo>
                  <a:lnTo>
                    <a:pt x="176" y="403"/>
                  </a:lnTo>
                  <a:lnTo>
                    <a:pt x="178" y="431"/>
                  </a:lnTo>
                  <a:lnTo>
                    <a:pt x="182" y="463"/>
                  </a:lnTo>
                  <a:lnTo>
                    <a:pt x="178" y="485"/>
                  </a:lnTo>
                  <a:lnTo>
                    <a:pt x="182" y="508"/>
                  </a:lnTo>
                  <a:lnTo>
                    <a:pt x="194" y="518"/>
                  </a:lnTo>
                  <a:lnTo>
                    <a:pt x="216" y="516"/>
                  </a:lnTo>
                  <a:lnTo>
                    <a:pt x="238" y="518"/>
                  </a:lnTo>
                  <a:lnTo>
                    <a:pt x="246" y="536"/>
                  </a:lnTo>
                  <a:lnTo>
                    <a:pt x="240" y="556"/>
                  </a:lnTo>
                  <a:lnTo>
                    <a:pt x="244" y="578"/>
                  </a:lnTo>
                  <a:lnTo>
                    <a:pt x="256" y="594"/>
                  </a:lnTo>
                  <a:lnTo>
                    <a:pt x="271" y="616"/>
                  </a:lnTo>
                  <a:lnTo>
                    <a:pt x="277" y="634"/>
                  </a:lnTo>
                  <a:lnTo>
                    <a:pt x="269" y="657"/>
                  </a:lnTo>
                  <a:lnTo>
                    <a:pt x="268" y="687"/>
                  </a:lnTo>
                  <a:lnTo>
                    <a:pt x="271" y="711"/>
                  </a:lnTo>
                  <a:lnTo>
                    <a:pt x="283" y="735"/>
                  </a:lnTo>
                  <a:lnTo>
                    <a:pt x="303" y="753"/>
                  </a:lnTo>
                  <a:lnTo>
                    <a:pt x="327" y="765"/>
                  </a:lnTo>
                  <a:lnTo>
                    <a:pt x="357" y="769"/>
                  </a:lnTo>
                  <a:lnTo>
                    <a:pt x="379" y="763"/>
                  </a:lnTo>
                  <a:lnTo>
                    <a:pt x="400" y="755"/>
                  </a:lnTo>
                  <a:lnTo>
                    <a:pt x="422" y="763"/>
                  </a:lnTo>
                  <a:lnTo>
                    <a:pt x="436" y="780"/>
                  </a:lnTo>
                  <a:lnTo>
                    <a:pt x="456" y="794"/>
                  </a:lnTo>
                  <a:lnTo>
                    <a:pt x="480" y="800"/>
                  </a:lnTo>
                  <a:lnTo>
                    <a:pt x="500" y="816"/>
                  </a:lnTo>
                  <a:lnTo>
                    <a:pt x="521" y="824"/>
                  </a:lnTo>
                  <a:lnTo>
                    <a:pt x="543" y="838"/>
                  </a:lnTo>
                  <a:lnTo>
                    <a:pt x="555" y="860"/>
                  </a:lnTo>
                  <a:lnTo>
                    <a:pt x="565" y="884"/>
                  </a:lnTo>
                  <a:lnTo>
                    <a:pt x="561" y="906"/>
                  </a:lnTo>
                  <a:lnTo>
                    <a:pt x="569" y="921"/>
                  </a:lnTo>
                  <a:lnTo>
                    <a:pt x="583" y="941"/>
                  </a:lnTo>
                  <a:lnTo>
                    <a:pt x="581" y="961"/>
                  </a:lnTo>
                  <a:lnTo>
                    <a:pt x="567" y="977"/>
                  </a:lnTo>
                  <a:lnTo>
                    <a:pt x="553" y="1003"/>
                  </a:lnTo>
                  <a:lnTo>
                    <a:pt x="561" y="1023"/>
                  </a:lnTo>
                  <a:lnTo>
                    <a:pt x="577" y="1051"/>
                  </a:lnTo>
                  <a:lnTo>
                    <a:pt x="589" y="1074"/>
                  </a:lnTo>
                  <a:lnTo>
                    <a:pt x="581" y="1104"/>
                  </a:lnTo>
                  <a:lnTo>
                    <a:pt x="575" y="1128"/>
                  </a:lnTo>
                  <a:lnTo>
                    <a:pt x="577" y="1144"/>
                  </a:lnTo>
                  <a:lnTo>
                    <a:pt x="593" y="1150"/>
                  </a:lnTo>
                  <a:lnTo>
                    <a:pt x="609" y="1138"/>
                  </a:lnTo>
                  <a:lnTo>
                    <a:pt x="622" y="1116"/>
                  </a:lnTo>
                  <a:lnTo>
                    <a:pt x="646" y="1106"/>
                  </a:lnTo>
                  <a:lnTo>
                    <a:pt x="674" y="1114"/>
                  </a:lnTo>
                  <a:lnTo>
                    <a:pt x="696" y="1128"/>
                  </a:lnTo>
                  <a:lnTo>
                    <a:pt x="726" y="1126"/>
                  </a:lnTo>
                  <a:lnTo>
                    <a:pt x="765" y="1118"/>
                  </a:lnTo>
                  <a:lnTo>
                    <a:pt x="791" y="1108"/>
                  </a:lnTo>
                  <a:lnTo>
                    <a:pt x="807" y="1078"/>
                  </a:lnTo>
                  <a:lnTo>
                    <a:pt x="811" y="1051"/>
                  </a:lnTo>
                  <a:lnTo>
                    <a:pt x="831" y="1035"/>
                  </a:lnTo>
                  <a:lnTo>
                    <a:pt x="841" y="1013"/>
                  </a:lnTo>
                  <a:lnTo>
                    <a:pt x="857" y="1001"/>
                  </a:lnTo>
                  <a:lnTo>
                    <a:pt x="884" y="1009"/>
                  </a:lnTo>
                  <a:lnTo>
                    <a:pt x="906" y="1017"/>
                  </a:lnTo>
                  <a:lnTo>
                    <a:pt x="920" y="1003"/>
                  </a:lnTo>
                  <a:lnTo>
                    <a:pt x="930" y="977"/>
                  </a:lnTo>
                  <a:lnTo>
                    <a:pt x="952" y="957"/>
                  </a:lnTo>
                  <a:lnTo>
                    <a:pt x="972" y="967"/>
                  </a:lnTo>
                  <a:lnTo>
                    <a:pt x="989" y="979"/>
                  </a:lnTo>
                  <a:lnTo>
                    <a:pt x="1011" y="969"/>
                  </a:lnTo>
                  <a:lnTo>
                    <a:pt x="1041" y="967"/>
                  </a:lnTo>
                  <a:lnTo>
                    <a:pt x="1055" y="955"/>
                  </a:lnTo>
                  <a:lnTo>
                    <a:pt x="1061" y="937"/>
                  </a:lnTo>
                  <a:lnTo>
                    <a:pt x="1039" y="917"/>
                  </a:lnTo>
                  <a:lnTo>
                    <a:pt x="1029" y="896"/>
                  </a:lnTo>
                  <a:lnTo>
                    <a:pt x="1015" y="876"/>
                  </a:lnTo>
                  <a:lnTo>
                    <a:pt x="1001" y="850"/>
                  </a:lnTo>
                  <a:lnTo>
                    <a:pt x="1007" y="824"/>
                  </a:lnTo>
                  <a:lnTo>
                    <a:pt x="1021" y="806"/>
                  </a:lnTo>
                  <a:lnTo>
                    <a:pt x="1037" y="786"/>
                  </a:lnTo>
                  <a:lnTo>
                    <a:pt x="1041" y="755"/>
                  </a:lnTo>
                  <a:lnTo>
                    <a:pt x="1033" y="721"/>
                  </a:lnTo>
                  <a:lnTo>
                    <a:pt x="1037" y="699"/>
                  </a:lnTo>
                  <a:lnTo>
                    <a:pt x="1017" y="681"/>
                  </a:lnTo>
                  <a:lnTo>
                    <a:pt x="1005" y="657"/>
                  </a:lnTo>
                  <a:lnTo>
                    <a:pt x="1011" y="636"/>
                  </a:lnTo>
                  <a:lnTo>
                    <a:pt x="1005" y="616"/>
                  </a:lnTo>
                  <a:lnTo>
                    <a:pt x="993" y="606"/>
                  </a:lnTo>
                  <a:lnTo>
                    <a:pt x="966" y="592"/>
                  </a:lnTo>
                  <a:lnTo>
                    <a:pt x="950" y="572"/>
                  </a:lnTo>
                  <a:lnTo>
                    <a:pt x="956" y="544"/>
                  </a:lnTo>
                  <a:lnTo>
                    <a:pt x="972" y="516"/>
                  </a:lnTo>
                  <a:lnTo>
                    <a:pt x="977" y="491"/>
                  </a:lnTo>
                  <a:lnTo>
                    <a:pt x="972" y="469"/>
                  </a:lnTo>
                  <a:lnTo>
                    <a:pt x="950" y="441"/>
                  </a:lnTo>
                  <a:lnTo>
                    <a:pt x="922" y="413"/>
                  </a:lnTo>
                  <a:lnTo>
                    <a:pt x="898" y="381"/>
                  </a:lnTo>
                  <a:lnTo>
                    <a:pt x="878" y="354"/>
                  </a:lnTo>
                  <a:lnTo>
                    <a:pt x="855" y="328"/>
                  </a:lnTo>
                  <a:lnTo>
                    <a:pt x="833" y="318"/>
                  </a:lnTo>
                  <a:lnTo>
                    <a:pt x="811" y="306"/>
                  </a:lnTo>
                  <a:lnTo>
                    <a:pt x="799" y="278"/>
                  </a:lnTo>
                  <a:lnTo>
                    <a:pt x="807" y="252"/>
                  </a:lnTo>
                  <a:lnTo>
                    <a:pt x="819" y="221"/>
                  </a:lnTo>
                  <a:lnTo>
                    <a:pt x="835" y="197"/>
                  </a:lnTo>
                  <a:lnTo>
                    <a:pt x="857" y="173"/>
                  </a:lnTo>
                  <a:lnTo>
                    <a:pt x="872" y="145"/>
                  </a:lnTo>
                  <a:lnTo>
                    <a:pt x="878" y="121"/>
                  </a:lnTo>
                  <a:lnTo>
                    <a:pt x="868" y="97"/>
                  </a:lnTo>
                  <a:lnTo>
                    <a:pt x="862" y="76"/>
                  </a:lnTo>
                  <a:lnTo>
                    <a:pt x="864" y="54"/>
                  </a:lnTo>
                  <a:lnTo>
                    <a:pt x="835" y="62"/>
                  </a:lnTo>
                  <a:lnTo>
                    <a:pt x="821" y="86"/>
                  </a:lnTo>
                  <a:lnTo>
                    <a:pt x="805" y="107"/>
                  </a:lnTo>
                  <a:lnTo>
                    <a:pt x="781" y="103"/>
                  </a:lnTo>
                  <a:lnTo>
                    <a:pt x="761" y="97"/>
                  </a:lnTo>
                  <a:lnTo>
                    <a:pt x="755" y="78"/>
                  </a:lnTo>
                  <a:lnTo>
                    <a:pt x="734" y="70"/>
                  </a:lnTo>
                  <a:lnTo>
                    <a:pt x="724" y="48"/>
                  </a:lnTo>
                  <a:lnTo>
                    <a:pt x="704" y="34"/>
                  </a:lnTo>
                  <a:lnTo>
                    <a:pt x="682" y="10"/>
                  </a:lnTo>
                  <a:lnTo>
                    <a:pt x="656" y="0"/>
                  </a:lnTo>
                  <a:lnTo>
                    <a:pt x="634" y="12"/>
                  </a:lnTo>
                  <a:lnTo>
                    <a:pt x="619" y="40"/>
                  </a:lnTo>
                  <a:lnTo>
                    <a:pt x="607" y="70"/>
                  </a:lnTo>
                  <a:lnTo>
                    <a:pt x="581" y="76"/>
                  </a:lnTo>
                  <a:lnTo>
                    <a:pt x="563" y="91"/>
                  </a:lnTo>
                  <a:lnTo>
                    <a:pt x="545" y="97"/>
                  </a:lnTo>
                  <a:lnTo>
                    <a:pt x="529" y="99"/>
                  </a:lnTo>
                  <a:lnTo>
                    <a:pt x="515" y="115"/>
                  </a:lnTo>
                  <a:lnTo>
                    <a:pt x="509" y="135"/>
                  </a:lnTo>
                  <a:lnTo>
                    <a:pt x="484" y="141"/>
                  </a:lnTo>
                  <a:lnTo>
                    <a:pt x="454" y="143"/>
                  </a:lnTo>
                  <a:lnTo>
                    <a:pt x="430" y="153"/>
                  </a:lnTo>
                  <a:lnTo>
                    <a:pt x="410" y="161"/>
                  </a:lnTo>
                  <a:lnTo>
                    <a:pt x="388" y="147"/>
                  </a:lnTo>
                  <a:lnTo>
                    <a:pt x="369" y="139"/>
                  </a:lnTo>
                  <a:lnTo>
                    <a:pt x="349" y="139"/>
                  </a:lnTo>
                  <a:lnTo>
                    <a:pt x="335" y="127"/>
                  </a:lnTo>
                  <a:lnTo>
                    <a:pt x="319" y="121"/>
                  </a:lnTo>
                  <a:lnTo>
                    <a:pt x="305" y="129"/>
                  </a:lnTo>
                  <a:lnTo>
                    <a:pt x="287" y="139"/>
                  </a:lnTo>
                  <a:lnTo>
                    <a:pt x="266" y="131"/>
                  </a:lnTo>
                  <a:lnTo>
                    <a:pt x="250" y="109"/>
                  </a:lnTo>
                  <a:lnTo>
                    <a:pt x="230" y="88"/>
                  </a:lnTo>
                  <a:lnTo>
                    <a:pt x="208" y="86"/>
                  </a:lnTo>
                  <a:lnTo>
                    <a:pt x="182" y="88"/>
                  </a:lnTo>
                  <a:lnTo>
                    <a:pt x="160" y="78"/>
                  </a:lnTo>
                  <a:lnTo>
                    <a:pt x="143" y="64"/>
                  </a:lnTo>
                  <a:lnTo>
                    <a:pt x="121" y="66"/>
                  </a:lnTo>
                  <a:lnTo>
                    <a:pt x="111" y="88"/>
                  </a:lnTo>
                  <a:close/>
                </a:path>
              </a:pathLst>
            </a:custGeom>
            <a:solidFill>
              <a:srgbClr val="dddddd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Text Box 107"/>
            <p:cNvSpPr/>
            <p:nvPr/>
          </p:nvSpPr>
          <p:spPr>
            <a:xfrm>
              <a:off x="1147680" y="5991120"/>
              <a:ext cx="572400" cy="36828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QL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Text Box 108"/>
          <p:cNvSpPr/>
          <p:nvPr/>
        </p:nvSpPr>
        <p:spPr>
          <a:xfrm>
            <a:off x="1922400" y="6111720"/>
            <a:ext cx="1428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отивация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без «гвоздей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Freeform 109"/>
          <p:cNvSpPr/>
          <p:nvPr/>
        </p:nvSpPr>
        <p:spPr>
          <a:xfrm>
            <a:off x="3541680" y="5757840"/>
            <a:ext cx="712800" cy="587520"/>
          </a:xfrm>
          <a:custGeom>
            <a:avLst/>
            <a:gdLst>
              <a:gd name="textAreaLeft" fmla="*/ 0 w 712800"/>
              <a:gd name="textAreaRight" fmla="*/ 713160 w 712800"/>
              <a:gd name="textAreaTop" fmla="*/ 0 h 587520"/>
              <a:gd name="textAreaBottom" fmla="*/ 587520 h 587520"/>
            </a:gdLst>
            <a:ahLst/>
            <a:rect l="textAreaLeft" t="textAreaTop" r="textAreaRight" b="textAreaBottom"/>
            <a:pathLst>
              <a:path w="898" h="741">
                <a:moveTo>
                  <a:pt x="797" y="322"/>
                </a:moveTo>
                <a:lnTo>
                  <a:pt x="795" y="346"/>
                </a:lnTo>
                <a:lnTo>
                  <a:pt x="781" y="365"/>
                </a:lnTo>
                <a:lnTo>
                  <a:pt x="753" y="354"/>
                </a:lnTo>
                <a:lnTo>
                  <a:pt x="735" y="358"/>
                </a:lnTo>
                <a:lnTo>
                  <a:pt x="719" y="369"/>
                </a:lnTo>
                <a:lnTo>
                  <a:pt x="710" y="352"/>
                </a:lnTo>
                <a:lnTo>
                  <a:pt x="700" y="322"/>
                </a:lnTo>
                <a:lnTo>
                  <a:pt x="676" y="306"/>
                </a:lnTo>
                <a:lnTo>
                  <a:pt x="654" y="300"/>
                </a:lnTo>
                <a:lnTo>
                  <a:pt x="622" y="304"/>
                </a:lnTo>
                <a:lnTo>
                  <a:pt x="600" y="308"/>
                </a:lnTo>
                <a:lnTo>
                  <a:pt x="577" y="296"/>
                </a:lnTo>
                <a:lnTo>
                  <a:pt x="545" y="284"/>
                </a:lnTo>
                <a:lnTo>
                  <a:pt x="515" y="276"/>
                </a:lnTo>
                <a:lnTo>
                  <a:pt x="493" y="278"/>
                </a:lnTo>
                <a:lnTo>
                  <a:pt x="466" y="282"/>
                </a:lnTo>
                <a:lnTo>
                  <a:pt x="446" y="268"/>
                </a:lnTo>
                <a:lnTo>
                  <a:pt x="436" y="244"/>
                </a:lnTo>
                <a:lnTo>
                  <a:pt x="432" y="221"/>
                </a:lnTo>
                <a:lnTo>
                  <a:pt x="446" y="195"/>
                </a:lnTo>
                <a:lnTo>
                  <a:pt x="442" y="165"/>
                </a:lnTo>
                <a:lnTo>
                  <a:pt x="430" y="143"/>
                </a:lnTo>
                <a:lnTo>
                  <a:pt x="406" y="135"/>
                </a:lnTo>
                <a:lnTo>
                  <a:pt x="384" y="143"/>
                </a:lnTo>
                <a:lnTo>
                  <a:pt x="364" y="135"/>
                </a:lnTo>
                <a:lnTo>
                  <a:pt x="355" y="115"/>
                </a:lnTo>
                <a:lnTo>
                  <a:pt x="351" y="91"/>
                </a:lnTo>
                <a:lnTo>
                  <a:pt x="347" y="64"/>
                </a:lnTo>
                <a:lnTo>
                  <a:pt x="331" y="36"/>
                </a:lnTo>
                <a:lnTo>
                  <a:pt x="307" y="14"/>
                </a:lnTo>
                <a:lnTo>
                  <a:pt x="279" y="0"/>
                </a:lnTo>
                <a:lnTo>
                  <a:pt x="245" y="6"/>
                </a:lnTo>
                <a:lnTo>
                  <a:pt x="251" y="30"/>
                </a:lnTo>
                <a:lnTo>
                  <a:pt x="245" y="46"/>
                </a:lnTo>
                <a:lnTo>
                  <a:pt x="226" y="58"/>
                </a:lnTo>
                <a:lnTo>
                  <a:pt x="208" y="54"/>
                </a:lnTo>
                <a:lnTo>
                  <a:pt x="192" y="34"/>
                </a:lnTo>
                <a:lnTo>
                  <a:pt x="168" y="48"/>
                </a:lnTo>
                <a:lnTo>
                  <a:pt x="160" y="68"/>
                </a:lnTo>
                <a:lnTo>
                  <a:pt x="138" y="84"/>
                </a:lnTo>
                <a:lnTo>
                  <a:pt x="124" y="101"/>
                </a:lnTo>
                <a:lnTo>
                  <a:pt x="101" y="117"/>
                </a:lnTo>
                <a:lnTo>
                  <a:pt x="73" y="129"/>
                </a:lnTo>
                <a:lnTo>
                  <a:pt x="43" y="127"/>
                </a:lnTo>
                <a:lnTo>
                  <a:pt x="11" y="133"/>
                </a:lnTo>
                <a:lnTo>
                  <a:pt x="21" y="159"/>
                </a:lnTo>
                <a:lnTo>
                  <a:pt x="31" y="183"/>
                </a:lnTo>
                <a:lnTo>
                  <a:pt x="51" y="195"/>
                </a:lnTo>
                <a:lnTo>
                  <a:pt x="63" y="213"/>
                </a:lnTo>
                <a:lnTo>
                  <a:pt x="73" y="234"/>
                </a:lnTo>
                <a:lnTo>
                  <a:pt x="95" y="236"/>
                </a:lnTo>
                <a:lnTo>
                  <a:pt x="107" y="260"/>
                </a:lnTo>
                <a:lnTo>
                  <a:pt x="91" y="280"/>
                </a:lnTo>
                <a:lnTo>
                  <a:pt x="73" y="290"/>
                </a:lnTo>
                <a:lnTo>
                  <a:pt x="59" y="306"/>
                </a:lnTo>
                <a:lnTo>
                  <a:pt x="63" y="334"/>
                </a:lnTo>
                <a:lnTo>
                  <a:pt x="69" y="362"/>
                </a:lnTo>
                <a:lnTo>
                  <a:pt x="47" y="367"/>
                </a:lnTo>
                <a:lnTo>
                  <a:pt x="33" y="383"/>
                </a:lnTo>
                <a:lnTo>
                  <a:pt x="27" y="409"/>
                </a:lnTo>
                <a:lnTo>
                  <a:pt x="37" y="427"/>
                </a:lnTo>
                <a:lnTo>
                  <a:pt x="17" y="447"/>
                </a:lnTo>
                <a:lnTo>
                  <a:pt x="5" y="469"/>
                </a:lnTo>
                <a:lnTo>
                  <a:pt x="0" y="493"/>
                </a:lnTo>
                <a:lnTo>
                  <a:pt x="4" y="516"/>
                </a:lnTo>
                <a:lnTo>
                  <a:pt x="19" y="536"/>
                </a:lnTo>
                <a:lnTo>
                  <a:pt x="39" y="526"/>
                </a:lnTo>
                <a:lnTo>
                  <a:pt x="57" y="536"/>
                </a:lnTo>
                <a:lnTo>
                  <a:pt x="65" y="558"/>
                </a:lnTo>
                <a:lnTo>
                  <a:pt x="55" y="580"/>
                </a:lnTo>
                <a:lnTo>
                  <a:pt x="57" y="602"/>
                </a:lnTo>
                <a:lnTo>
                  <a:pt x="59" y="606"/>
                </a:lnTo>
                <a:lnTo>
                  <a:pt x="79" y="600"/>
                </a:lnTo>
                <a:lnTo>
                  <a:pt x="109" y="592"/>
                </a:lnTo>
                <a:lnTo>
                  <a:pt x="132" y="600"/>
                </a:lnTo>
                <a:lnTo>
                  <a:pt x="148" y="622"/>
                </a:lnTo>
                <a:lnTo>
                  <a:pt x="162" y="645"/>
                </a:lnTo>
                <a:lnTo>
                  <a:pt x="186" y="663"/>
                </a:lnTo>
                <a:lnTo>
                  <a:pt x="212" y="675"/>
                </a:lnTo>
                <a:lnTo>
                  <a:pt x="224" y="695"/>
                </a:lnTo>
                <a:lnTo>
                  <a:pt x="230" y="721"/>
                </a:lnTo>
                <a:lnTo>
                  <a:pt x="247" y="737"/>
                </a:lnTo>
                <a:lnTo>
                  <a:pt x="277" y="741"/>
                </a:lnTo>
                <a:lnTo>
                  <a:pt x="291" y="737"/>
                </a:lnTo>
                <a:lnTo>
                  <a:pt x="283" y="707"/>
                </a:lnTo>
                <a:lnTo>
                  <a:pt x="299" y="689"/>
                </a:lnTo>
                <a:lnTo>
                  <a:pt x="321" y="685"/>
                </a:lnTo>
                <a:lnTo>
                  <a:pt x="349" y="693"/>
                </a:lnTo>
                <a:lnTo>
                  <a:pt x="372" y="703"/>
                </a:lnTo>
                <a:lnTo>
                  <a:pt x="390" y="697"/>
                </a:lnTo>
                <a:lnTo>
                  <a:pt x="402" y="715"/>
                </a:lnTo>
                <a:lnTo>
                  <a:pt x="414" y="727"/>
                </a:lnTo>
                <a:lnTo>
                  <a:pt x="434" y="731"/>
                </a:lnTo>
                <a:lnTo>
                  <a:pt x="446" y="719"/>
                </a:lnTo>
                <a:lnTo>
                  <a:pt x="438" y="687"/>
                </a:lnTo>
                <a:lnTo>
                  <a:pt x="428" y="655"/>
                </a:lnTo>
                <a:lnTo>
                  <a:pt x="428" y="632"/>
                </a:lnTo>
                <a:lnTo>
                  <a:pt x="446" y="608"/>
                </a:lnTo>
                <a:lnTo>
                  <a:pt x="468" y="598"/>
                </a:lnTo>
                <a:lnTo>
                  <a:pt x="489" y="602"/>
                </a:lnTo>
                <a:lnTo>
                  <a:pt x="511" y="618"/>
                </a:lnTo>
                <a:lnTo>
                  <a:pt x="515" y="636"/>
                </a:lnTo>
                <a:lnTo>
                  <a:pt x="513" y="657"/>
                </a:lnTo>
                <a:lnTo>
                  <a:pt x="523" y="675"/>
                </a:lnTo>
                <a:lnTo>
                  <a:pt x="543" y="679"/>
                </a:lnTo>
                <a:lnTo>
                  <a:pt x="563" y="675"/>
                </a:lnTo>
                <a:lnTo>
                  <a:pt x="581" y="667"/>
                </a:lnTo>
                <a:lnTo>
                  <a:pt x="608" y="675"/>
                </a:lnTo>
                <a:lnTo>
                  <a:pt x="632" y="683"/>
                </a:lnTo>
                <a:lnTo>
                  <a:pt x="654" y="671"/>
                </a:lnTo>
                <a:lnTo>
                  <a:pt x="664" y="669"/>
                </a:lnTo>
                <a:lnTo>
                  <a:pt x="672" y="628"/>
                </a:lnTo>
                <a:lnTo>
                  <a:pt x="670" y="608"/>
                </a:lnTo>
                <a:lnTo>
                  <a:pt x="674" y="584"/>
                </a:lnTo>
                <a:lnTo>
                  <a:pt x="690" y="568"/>
                </a:lnTo>
                <a:lnTo>
                  <a:pt x="721" y="564"/>
                </a:lnTo>
                <a:lnTo>
                  <a:pt x="751" y="556"/>
                </a:lnTo>
                <a:lnTo>
                  <a:pt x="773" y="542"/>
                </a:lnTo>
                <a:lnTo>
                  <a:pt x="787" y="518"/>
                </a:lnTo>
                <a:lnTo>
                  <a:pt x="785" y="487"/>
                </a:lnTo>
                <a:lnTo>
                  <a:pt x="777" y="459"/>
                </a:lnTo>
                <a:lnTo>
                  <a:pt x="791" y="435"/>
                </a:lnTo>
                <a:lnTo>
                  <a:pt x="817" y="433"/>
                </a:lnTo>
                <a:lnTo>
                  <a:pt x="838" y="423"/>
                </a:lnTo>
                <a:lnTo>
                  <a:pt x="850" y="399"/>
                </a:lnTo>
                <a:lnTo>
                  <a:pt x="872" y="389"/>
                </a:lnTo>
                <a:lnTo>
                  <a:pt x="890" y="383"/>
                </a:lnTo>
                <a:lnTo>
                  <a:pt x="898" y="371"/>
                </a:lnTo>
                <a:lnTo>
                  <a:pt x="886" y="348"/>
                </a:lnTo>
                <a:lnTo>
                  <a:pt x="864" y="340"/>
                </a:lnTo>
                <a:lnTo>
                  <a:pt x="848" y="324"/>
                </a:lnTo>
                <a:lnTo>
                  <a:pt x="852" y="308"/>
                </a:lnTo>
                <a:lnTo>
                  <a:pt x="838" y="304"/>
                </a:lnTo>
                <a:lnTo>
                  <a:pt x="817" y="306"/>
                </a:lnTo>
                <a:lnTo>
                  <a:pt x="797" y="322"/>
                </a:lnTo>
                <a:close/>
              </a:path>
            </a:pathLst>
          </a:custGeom>
          <a:solidFill>
            <a:srgbClr val="dddddd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110"/>
          <p:cNvSpPr/>
          <p:nvPr/>
        </p:nvSpPr>
        <p:spPr>
          <a:xfrm>
            <a:off x="3488040" y="5908680"/>
            <a:ext cx="69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«5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:0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Freeform 111"/>
          <p:cNvSpPr/>
          <p:nvPr/>
        </p:nvSpPr>
        <p:spPr>
          <a:xfrm>
            <a:off x="4268880" y="5538960"/>
            <a:ext cx="1508040" cy="1179360"/>
          </a:xfrm>
          <a:custGeom>
            <a:avLst/>
            <a:gdLst>
              <a:gd name="textAreaLeft" fmla="*/ 0 w 1508040"/>
              <a:gd name="textAreaRight" fmla="*/ 1508400 w 1508040"/>
              <a:gd name="textAreaTop" fmla="*/ 0 h 1179360"/>
              <a:gd name="textAreaBottom" fmla="*/ 1179360 h 1179360"/>
            </a:gdLst>
            <a:ahLst/>
            <a:rect l="textAreaLeft" t="textAreaTop" r="textAreaRight" b="textAreaBottom"/>
            <a:pathLst>
              <a:path w="1464" h="1486">
                <a:moveTo>
                  <a:pt x="337" y="14"/>
                </a:moveTo>
                <a:lnTo>
                  <a:pt x="354" y="7"/>
                </a:lnTo>
                <a:lnTo>
                  <a:pt x="379" y="0"/>
                </a:lnTo>
                <a:lnTo>
                  <a:pt x="401" y="7"/>
                </a:lnTo>
                <a:lnTo>
                  <a:pt x="413" y="25"/>
                </a:lnTo>
                <a:lnTo>
                  <a:pt x="425" y="46"/>
                </a:lnTo>
                <a:lnTo>
                  <a:pt x="445" y="61"/>
                </a:lnTo>
                <a:lnTo>
                  <a:pt x="467" y="71"/>
                </a:lnTo>
                <a:lnTo>
                  <a:pt x="478" y="88"/>
                </a:lnTo>
                <a:lnTo>
                  <a:pt x="483" y="110"/>
                </a:lnTo>
                <a:lnTo>
                  <a:pt x="498" y="124"/>
                </a:lnTo>
                <a:lnTo>
                  <a:pt x="523" y="127"/>
                </a:lnTo>
                <a:lnTo>
                  <a:pt x="535" y="124"/>
                </a:lnTo>
                <a:lnTo>
                  <a:pt x="528" y="98"/>
                </a:lnTo>
                <a:lnTo>
                  <a:pt x="542" y="83"/>
                </a:lnTo>
                <a:lnTo>
                  <a:pt x="560" y="80"/>
                </a:lnTo>
                <a:lnTo>
                  <a:pt x="584" y="86"/>
                </a:lnTo>
                <a:lnTo>
                  <a:pt x="604" y="95"/>
                </a:lnTo>
                <a:lnTo>
                  <a:pt x="620" y="90"/>
                </a:lnTo>
                <a:lnTo>
                  <a:pt x="630" y="105"/>
                </a:lnTo>
                <a:lnTo>
                  <a:pt x="640" y="115"/>
                </a:lnTo>
                <a:lnTo>
                  <a:pt x="657" y="119"/>
                </a:lnTo>
                <a:lnTo>
                  <a:pt x="667" y="108"/>
                </a:lnTo>
                <a:lnTo>
                  <a:pt x="660" y="81"/>
                </a:lnTo>
                <a:lnTo>
                  <a:pt x="652" y="54"/>
                </a:lnTo>
                <a:lnTo>
                  <a:pt x="652" y="34"/>
                </a:lnTo>
                <a:lnTo>
                  <a:pt x="667" y="14"/>
                </a:lnTo>
                <a:lnTo>
                  <a:pt x="686" y="5"/>
                </a:lnTo>
                <a:lnTo>
                  <a:pt x="704" y="8"/>
                </a:lnTo>
                <a:lnTo>
                  <a:pt x="723" y="22"/>
                </a:lnTo>
                <a:lnTo>
                  <a:pt x="726" y="37"/>
                </a:lnTo>
                <a:lnTo>
                  <a:pt x="725" y="56"/>
                </a:lnTo>
                <a:lnTo>
                  <a:pt x="733" y="71"/>
                </a:lnTo>
                <a:lnTo>
                  <a:pt x="750" y="74"/>
                </a:lnTo>
                <a:lnTo>
                  <a:pt x="767" y="71"/>
                </a:lnTo>
                <a:lnTo>
                  <a:pt x="782" y="64"/>
                </a:lnTo>
                <a:lnTo>
                  <a:pt x="806" y="71"/>
                </a:lnTo>
                <a:lnTo>
                  <a:pt x="826" y="78"/>
                </a:lnTo>
                <a:lnTo>
                  <a:pt x="845" y="68"/>
                </a:lnTo>
                <a:lnTo>
                  <a:pt x="858" y="66"/>
                </a:lnTo>
                <a:lnTo>
                  <a:pt x="872" y="80"/>
                </a:lnTo>
                <a:lnTo>
                  <a:pt x="885" y="98"/>
                </a:lnTo>
                <a:lnTo>
                  <a:pt x="901" y="113"/>
                </a:lnTo>
                <a:lnTo>
                  <a:pt x="921" y="132"/>
                </a:lnTo>
                <a:lnTo>
                  <a:pt x="926" y="152"/>
                </a:lnTo>
                <a:lnTo>
                  <a:pt x="938" y="173"/>
                </a:lnTo>
                <a:lnTo>
                  <a:pt x="948" y="191"/>
                </a:lnTo>
                <a:lnTo>
                  <a:pt x="943" y="210"/>
                </a:lnTo>
                <a:lnTo>
                  <a:pt x="965" y="213"/>
                </a:lnTo>
                <a:lnTo>
                  <a:pt x="978" y="217"/>
                </a:lnTo>
                <a:lnTo>
                  <a:pt x="989" y="234"/>
                </a:lnTo>
                <a:lnTo>
                  <a:pt x="997" y="251"/>
                </a:lnTo>
                <a:lnTo>
                  <a:pt x="1016" y="259"/>
                </a:lnTo>
                <a:lnTo>
                  <a:pt x="1029" y="271"/>
                </a:lnTo>
                <a:lnTo>
                  <a:pt x="1044" y="290"/>
                </a:lnTo>
                <a:lnTo>
                  <a:pt x="1048" y="308"/>
                </a:lnTo>
                <a:lnTo>
                  <a:pt x="1039" y="325"/>
                </a:lnTo>
                <a:lnTo>
                  <a:pt x="1024" y="334"/>
                </a:lnTo>
                <a:lnTo>
                  <a:pt x="1016" y="352"/>
                </a:lnTo>
                <a:lnTo>
                  <a:pt x="1017" y="369"/>
                </a:lnTo>
                <a:lnTo>
                  <a:pt x="1031" y="381"/>
                </a:lnTo>
                <a:lnTo>
                  <a:pt x="1048" y="396"/>
                </a:lnTo>
                <a:lnTo>
                  <a:pt x="1049" y="418"/>
                </a:lnTo>
                <a:lnTo>
                  <a:pt x="1056" y="435"/>
                </a:lnTo>
                <a:lnTo>
                  <a:pt x="1075" y="444"/>
                </a:lnTo>
                <a:lnTo>
                  <a:pt x="1092" y="452"/>
                </a:lnTo>
                <a:lnTo>
                  <a:pt x="1105" y="471"/>
                </a:lnTo>
                <a:lnTo>
                  <a:pt x="1110" y="490"/>
                </a:lnTo>
                <a:lnTo>
                  <a:pt x="1117" y="505"/>
                </a:lnTo>
                <a:lnTo>
                  <a:pt x="1139" y="517"/>
                </a:lnTo>
                <a:lnTo>
                  <a:pt x="1158" y="520"/>
                </a:lnTo>
                <a:lnTo>
                  <a:pt x="1168" y="535"/>
                </a:lnTo>
                <a:lnTo>
                  <a:pt x="1188" y="529"/>
                </a:lnTo>
                <a:lnTo>
                  <a:pt x="1209" y="537"/>
                </a:lnTo>
                <a:lnTo>
                  <a:pt x="1225" y="551"/>
                </a:lnTo>
                <a:lnTo>
                  <a:pt x="1234" y="573"/>
                </a:lnTo>
                <a:lnTo>
                  <a:pt x="1247" y="593"/>
                </a:lnTo>
                <a:lnTo>
                  <a:pt x="1258" y="613"/>
                </a:lnTo>
                <a:lnTo>
                  <a:pt x="1271" y="630"/>
                </a:lnTo>
                <a:lnTo>
                  <a:pt x="1286" y="637"/>
                </a:lnTo>
                <a:lnTo>
                  <a:pt x="1305" y="637"/>
                </a:lnTo>
                <a:lnTo>
                  <a:pt x="1324" y="642"/>
                </a:lnTo>
                <a:lnTo>
                  <a:pt x="1332" y="661"/>
                </a:lnTo>
                <a:lnTo>
                  <a:pt x="1341" y="686"/>
                </a:lnTo>
                <a:lnTo>
                  <a:pt x="1359" y="703"/>
                </a:lnTo>
                <a:lnTo>
                  <a:pt x="1383" y="706"/>
                </a:lnTo>
                <a:lnTo>
                  <a:pt x="1403" y="722"/>
                </a:lnTo>
                <a:lnTo>
                  <a:pt x="1412" y="745"/>
                </a:lnTo>
                <a:lnTo>
                  <a:pt x="1427" y="764"/>
                </a:lnTo>
                <a:lnTo>
                  <a:pt x="1449" y="772"/>
                </a:lnTo>
                <a:lnTo>
                  <a:pt x="1464" y="798"/>
                </a:lnTo>
                <a:lnTo>
                  <a:pt x="1461" y="823"/>
                </a:lnTo>
                <a:lnTo>
                  <a:pt x="1456" y="852"/>
                </a:lnTo>
                <a:lnTo>
                  <a:pt x="1444" y="876"/>
                </a:lnTo>
                <a:lnTo>
                  <a:pt x="1439" y="898"/>
                </a:lnTo>
                <a:lnTo>
                  <a:pt x="1420" y="883"/>
                </a:lnTo>
                <a:lnTo>
                  <a:pt x="1401" y="876"/>
                </a:lnTo>
                <a:lnTo>
                  <a:pt x="1388" y="888"/>
                </a:lnTo>
                <a:lnTo>
                  <a:pt x="1378" y="903"/>
                </a:lnTo>
                <a:lnTo>
                  <a:pt x="1357" y="898"/>
                </a:lnTo>
                <a:lnTo>
                  <a:pt x="1346" y="918"/>
                </a:lnTo>
                <a:lnTo>
                  <a:pt x="1337" y="947"/>
                </a:lnTo>
                <a:lnTo>
                  <a:pt x="1329" y="974"/>
                </a:lnTo>
                <a:lnTo>
                  <a:pt x="1317" y="996"/>
                </a:lnTo>
                <a:lnTo>
                  <a:pt x="1300" y="1011"/>
                </a:lnTo>
                <a:lnTo>
                  <a:pt x="1275" y="1018"/>
                </a:lnTo>
                <a:lnTo>
                  <a:pt x="1251" y="1021"/>
                </a:lnTo>
                <a:lnTo>
                  <a:pt x="1232" y="1033"/>
                </a:lnTo>
                <a:lnTo>
                  <a:pt x="1214" y="1044"/>
                </a:lnTo>
                <a:lnTo>
                  <a:pt x="1190" y="1040"/>
                </a:lnTo>
                <a:lnTo>
                  <a:pt x="1173" y="1050"/>
                </a:lnTo>
                <a:lnTo>
                  <a:pt x="1159" y="1069"/>
                </a:lnTo>
                <a:lnTo>
                  <a:pt x="1143" y="1082"/>
                </a:lnTo>
                <a:lnTo>
                  <a:pt x="1131" y="1101"/>
                </a:lnTo>
                <a:lnTo>
                  <a:pt x="1129" y="1121"/>
                </a:lnTo>
                <a:lnTo>
                  <a:pt x="1141" y="1143"/>
                </a:lnTo>
                <a:lnTo>
                  <a:pt x="1159" y="1164"/>
                </a:lnTo>
                <a:lnTo>
                  <a:pt x="1176" y="1186"/>
                </a:lnTo>
                <a:lnTo>
                  <a:pt x="1197" y="1204"/>
                </a:lnTo>
                <a:lnTo>
                  <a:pt x="1210" y="1226"/>
                </a:lnTo>
                <a:lnTo>
                  <a:pt x="1207" y="1250"/>
                </a:lnTo>
                <a:lnTo>
                  <a:pt x="1198" y="1272"/>
                </a:lnTo>
                <a:lnTo>
                  <a:pt x="1195" y="1287"/>
                </a:lnTo>
                <a:lnTo>
                  <a:pt x="1207" y="1299"/>
                </a:lnTo>
                <a:lnTo>
                  <a:pt x="1224" y="1308"/>
                </a:lnTo>
                <a:lnTo>
                  <a:pt x="1234" y="1328"/>
                </a:lnTo>
                <a:lnTo>
                  <a:pt x="1237" y="1355"/>
                </a:lnTo>
                <a:lnTo>
                  <a:pt x="1229" y="1377"/>
                </a:lnTo>
                <a:lnTo>
                  <a:pt x="1215" y="1384"/>
                </a:lnTo>
                <a:lnTo>
                  <a:pt x="1197" y="1377"/>
                </a:lnTo>
                <a:lnTo>
                  <a:pt x="1178" y="1369"/>
                </a:lnTo>
                <a:lnTo>
                  <a:pt x="1170" y="1355"/>
                </a:lnTo>
                <a:lnTo>
                  <a:pt x="1163" y="1335"/>
                </a:lnTo>
                <a:lnTo>
                  <a:pt x="1144" y="1321"/>
                </a:lnTo>
                <a:lnTo>
                  <a:pt x="1122" y="1320"/>
                </a:lnTo>
                <a:lnTo>
                  <a:pt x="1104" y="1326"/>
                </a:lnTo>
                <a:lnTo>
                  <a:pt x="1085" y="1337"/>
                </a:lnTo>
                <a:lnTo>
                  <a:pt x="1068" y="1321"/>
                </a:lnTo>
                <a:lnTo>
                  <a:pt x="1055" y="1309"/>
                </a:lnTo>
                <a:lnTo>
                  <a:pt x="1036" y="1311"/>
                </a:lnTo>
                <a:lnTo>
                  <a:pt x="1016" y="1309"/>
                </a:lnTo>
                <a:lnTo>
                  <a:pt x="1000" y="1299"/>
                </a:lnTo>
                <a:lnTo>
                  <a:pt x="990" y="1281"/>
                </a:lnTo>
                <a:lnTo>
                  <a:pt x="983" y="1265"/>
                </a:lnTo>
                <a:lnTo>
                  <a:pt x="972" y="1276"/>
                </a:lnTo>
                <a:lnTo>
                  <a:pt x="961" y="1287"/>
                </a:lnTo>
                <a:lnTo>
                  <a:pt x="956" y="1303"/>
                </a:lnTo>
                <a:lnTo>
                  <a:pt x="951" y="1320"/>
                </a:lnTo>
                <a:lnTo>
                  <a:pt x="939" y="1328"/>
                </a:lnTo>
                <a:lnTo>
                  <a:pt x="923" y="1335"/>
                </a:lnTo>
                <a:lnTo>
                  <a:pt x="907" y="1345"/>
                </a:lnTo>
                <a:lnTo>
                  <a:pt x="895" y="1359"/>
                </a:lnTo>
                <a:lnTo>
                  <a:pt x="873" y="1362"/>
                </a:lnTo>
                <a:lnTo>
                  <a:pt x="850" y="1355"/>
                </a:lnTo>
                <a:lnTo>
                  <a:pt x="826" y="1357"/>
                </a:lnTo>
                <a:lnTo>
                  <a:pt x="813" y="1364"/>
                </a:lnTo>
                <a:lnTo>
                  <a:pt x="796" y="1374"/>
                </a:lnTo>
                <a:lnTo>
                  <a:pt x="780" y="1391"/>
                </a:lnTo>
                <a:lnTo>
                  <a:pt x="765" y="1401"/>
                </a:lnTo>
                <a:lnTo>
                  <a:pt x="733" y="1406"/>
                </a:lnTo>
                <a:lnTo>
                  <a:pt x="708" y="1404"/>
                </a:lnTo>
                <a:lnTo>
                  <a:pt x="684" y="1396"/>
                </a:lnTo>
                <a:lnTo>
                  <a:pt x="657" y="1404"/>
                </a:lnTo>
                <a:lnTo>
                  <a:pt x="637" y="1415"/>
                </a:lnTo>
                <a:lnTo>
                  <a:pt x="620" y="1420"/>
                </a:lnTo>
                <a:lnTo>
                  <a:pt x="610" y="1403"/>
                </a:lnTo>
                <a:lnTo>
                  <a:pt x="598" y="1386"/>
                </a:lnTo>
                <a:lnTo>
                  <a:pt x="572" y="1382"/>
                </a:lnTo>
                <a:lnTo>
                  <a:pt x="542" y="1374"/>
                </a:lnTo>
                <a:lnTo>
                  <a:pt x="515" y="1367"/>
                </a:lnTo>
                <a:lnTo>
                  <a:pt x="494" y="1369"/>
                </a:lnTo>
                <a:lnTo>
                  <a:pt x="476" y="1365"/>
                </a:lnTo>
                <a:lnTo>
                  <a:pt x="469" y="1348"/>
                </a:lnTo>
                <a:lnTo>
                  <a:pt x="454" y="1340"/>
                </a:lnTo>
                <a:lnTo>
                  <a:pt x="440" y="1347"/>
                </a:lnTo>
                <a:lnTo>
                  <a:pt x="439" y="1364"/>
                </a:lnTo>
                <a:lnTo>
                  <a:pt x="442" y="1377"/>
                </a:lnTo>
                <a:lnTo>
                  <a:pt x="450" y="1399"/>
                </a:lnTo>
                <a:lnTo>
                  <a:pt x="445" y="1420"/>
                </a:lnTo>
                <a:lnTo>
                  <a:pt x="428" y="1442"/>
                </a:lnTo>
                <a:lnTo>
                  <a:pt x="408" y="1460"/>
                </a:lnTo>
                <a:lnTo>
                  <a:pt x="393" y="1481"/>
                </a:lnTo>
                <a:lnTo>
                  <a:pt x="379" y="1486"/>
                </a:lnTo>
                <a:lnTo>
                  <a:pt x="373" y="1469"/>
                </a:lnTo>
                <a:lnTo>
                  <a:pt x="362" y="1452"/>
                </a:lnTo>
                <a:lnTo>
                  <a:pt x="344" y="1442"/>
                </a:lnTo>
                <a:lnTo>
                  <a:pt x="342" y="1420"/>
                </a:lnTo>
                <a:lnTo>
                  <a:pt x="332" y="1399"/>
                </a:lnTo>
                <a:lnTo>
                  <a:pt x="318" y="1382"/>
                </a:lnTo>
                <a:lnTo>
                  <a:pt x="300" y="1372"/>
                </a:lnTo>
                <a:lnTo>
                  <a:pt x="290" y="1357"/>
                </a:lnTo>
                <a:lnTo>
                  <a:pt x="278" y="1345"/>
                </a:lnTo>
                <a:lnTo>
                  <a:pt x="254" y="1348"/>
                </a:lnTo>
                <a:lnTo>
                  <a:pt x="230" y="1359"/>
                </a:lnTo>
                <a:lnTo>
                  <a:pt x="207" y="1372"/>
                </a:lnTo>
                <a:lnTo>
                  <a:pt x="183" y="1377"/>
                </a:lnTo>
                <a:lnTo>
                  <a:pt x="163" y="1372"/>
                </a:lnTo>
                <a:lnTo>
                  <a:pt x="176" y="1362"/>
                </a:lnTo>
                <a:lnTo>
                  <a:pt x="193" y="1350"/>
                </a:lnTo>
                <a:lnTo>
                  <a:pt x="214" y="1337"/>
                </a:lnTo>
                <a:lnTo>
                  <a:pt x="236" y="1325"/>
                </a:lnTo>
                <a:lnTo>
                  <a:pt x="251" y="1313"/>
                </a:lnTo>
                <a:lnTo>
                  <a:pt x="263" y="1301"/>
                </a:lnTo>
                <a:lnTo>
                  <a:pt x="280" y="1294"/>
                </a:lnTo>
                <a:lnTo>
                  <a:pt x="290" y="1311"/>
                </a:lnTo>
                <a:lnTo>
                  <a:pt x="313" y="1306"/>
                </a:lnTo>
                <a:lnTo>
                  <a:pt x="332" y="1311"/>
                </a:lnTo>
                <a:lnTo>
                  <a:pt x="342" y="1298"/>
                </a:lnTo>
                <a:lnTo>
                  <a:pt x="332" y="1282"/>
                </a:lnTo>
                <a:lnTo>
                  <a:pt x="342" y="1269"/>
                </a:lnTo>
                <a:lnTo>
                  <a:pt x="335" y="1252"/>
                </a:lnTo>
                <a:lnTo>
                  <a:pt x="334" y="1232"/>
                </a:lnTo>
                <a:lnTo>
                  <a:pt x="342" y="1206"/>
                </a:lnTo>
                <a:lnTo>
                  <a:pt x="337" y="1182"/>
                </a:lnTo>
                <a:lnTo>
                  <a:pt x="344" y="1159"/>
                </a:lnTo>
                <a:lnTo>
                  <a:pt x="351" y="1133"/>
                </a:lnTo>
                <a:lnTo>
                  <a:pt x="344" y="1108"/>
                </a:lnTo>
                <a:lnTo>
                  <a:pt x="339" y="1084"/>
                </a:lnTo>
                <a:lnTo>
                  <a:pt x="335" y="1052"/>
                </a:lnTo>
                <a:lnTo>
                  <a:pt x="327" y="1028"/>
                </a:lnTo>
                <a:lnTo>
                  <a:pt x="320" y="1011"/>
                </a:lnTo>
                <a:lnTo>
                  <a:pt x="324" y="994"/>
                </a:lnTo>
                <a:lnTo>
                  <a:pt x="337" y="981"/>
                </a:lnTo>
                <a:lnTo>
                  <a:pt x="356" y="967"/>
                </a:lnTo>
                <a:lnTo>
                  <a:pt x="362" y="947"/>
                </a:lnTo>
                <a:lnTo>
                  <a:pt x="379" y="932"/>
                </a:lnTo>
                <a:lnTo>
                  <a:pt x="403" y="920"/>
                </a:lnTo>
                <a:lnTo>
                  <a:pt x="413" y="901"/>
                </a:lnTo>
                <a:lnTo>
                  <a:pt x="410" y="883"/>
                </a:lnTo>
                <a:lnTo>
                  <a:pt x="395" y="866"/>
                </a:lnTo>
                <a:lnTo>
                  <a:pt x="403" y="850"/>
                </a:lnTo>
                <a:lnTo>
                  <a:pt x="422" y="854"/>
                </a:lnTo>
                <a:lnTo>
                  <a:pt x="432" y="869"/>
                </a:lnTo>
                <a:lnTo>
                  <a:pt x="450" y="869"/>
                </a:lnTo>
                <a:lnTo>
                  <a:pt x="457" y="854"/>
                </a:lnTo>
                <a:lnTo>
                  <a:pt x="442" y="839"/>
                </a:lnTo>
                <a:lnTo>
                  <a:pt x="440" y="820"/>
                </a:lnTo>
                <a:lnTo>
                  <a:pt x="449" y="794"/>
                </a:lnTo>
                <a:lnTo>
                  <a:pt x="457" y="761"/>
                </a:lnTo>
                <a:lnTo>
                  <a:pt x="449" y="733"/>
                </a:lnTo>
                <a:lnTo>
                  <a:pt x="435" y="713"/>
                </a:lnTo>
                <a:lnTo>
                  <a:pt x="418" y="701"/>
                </a:lnTo>
                <a:lnTo>
                  <a:pt x="408" y="684"/>
                </a:lnTo>
                <a:lnTo>
                  <a:pt x="401" y="664"/>
                </a:lnTo>
                <a:lnTo>
                  <a:pt x="395" y="647"/>
                </a:lnTo>
                <a:lnTo>
                  <a:pt x="381" y="635"/>
                </a:lnTo>
                <a:lnTo>
                  <a:pt x="364" y="627"/>
                </a:lnTo>
                <a:lnTo>
                  <a:pt x="347" y="613"/>
                </a:lnTo>
                <a:lnTo>
                  <a:pt x="337" y="596"/>
                </a:lnTo>
                <a:lnTo>
                  <a:pt x="339" y="573"/>
                </a:lnTo>
                <a:lnTo>
                  <a:pt x="354" y="552"/>
                </a:lnTo>
                <a:lnTo>
                  <a:pt x="357" y="532"/>
                </a:lnTo>
                <a:lnTo>
                  <a:pt x="351" y="512"/>
                </a:lnTo>
                <a:lnTo>
                  <a:pt x="354" y="493"/>
                </a:lnTo>
                <a:lnTo>
                  <a:pt x="361" y="466"/>
                </a:lnTo>
                <a:lnTo>
                  <a:pt x="354" y="447"/>
                </a:lnTo>
                <a:lnTo>
                  <a:pt x="337" y="449"/>
                </a:lnTo>
                <a:lnTo>
                  <a:pt x="324" y="461"/>
                </a:lnTo>
                <a:lnTo>
                  <a:pt x="313" y="479"/>
                </a:lnTo>
                <a:lnTo>
                  <a:pt x="296" y="486"/>
                </a:lnTo>
                <a:lnTo>
                  <a:pt x="288" y="471"/>
                </a:lnTo>
                <a:lnTo>
                  <a:pt x="281" y="456"/>
                </a:lnTo>
                <a:lnTo>
                  <a:pt x="269" y="452"/>
                </a:lnTo>
                <a:lnTo>
                  <a:pt x="261" y="440"/>
                </a:lnTo>
                <a:lnTo>
                  <a:pt x="254" y="427"/>
                </a:lnTo>
                <a:lnTo>
                  <a:pt x="263" y="405"/>
                </a:lnTo>
                <a:lnTo>
                  <a:pt x="258" y="393"/>
                </a:lnTo>
                <a:lnTo>
                  <a:pt x="236" y="400"/>
                </a:lnTo>
                <a:lnTo>
                  <a:pt x="217" y="393"/>
                </a:lnTo>
                <a:lnTo>
                  <a:pt x="212" y="376"/>
                </a:lnTo>
                <a:lnTo>
                  <a:pt x="210" y="354"/>
                </a:lnTo>
                <a:lnTo>
                  <a:pt x="195" y="347"/>
                </a:lnTo>
                <a:lnTo>
                  <a:pt x="181" y="357"/>
                </a:lnTo>
                <a:lnTo>
                  <a:pt x="168" y="373"/>
                </a:lnTo>
                <a:lnTo>
                  <a:pt x="158" y="364"/>
                </a:lnTo>
                <a:lnTo>
                  <a:pt x="146" y="352"/>
                </a:lnTo>
                <a:lnTo>
                  <a:pt x="129" y="356"/>
                </a:lnTo>
                <a:lnTo>
                  <a:pt x="117" y="368"/>
                </a:lnTo>
                <a:lnTo>
                  <a:pt x="122" y="390"/>
                </a:lnTo>
                <a:lnTo>
                  <a:pt x="120" y="405"/>
                </a:lnTo>
                <a:lnTo>
                  <a:pt x="110" y="415"/>
                </a:lnTo>
                <a:lnTo>
                  <a:pt x="93" y="408"/>
                </a:lnTo>
                <a:lnTo>
                  <a:pt x="85" y="427"/>
                </a:lnTo>
                <a:lnTo>
                  <a:pt x="73" y="446"/>
                </a:lnTo>
                <a:lnTo>
                  <a:pt x="55" y="456"/>
                </a:lnTo>
                <a:lnTo>
                  <a:pt x="34" y="447"/>
                </a:lnTo>
                <a:lnTo>
                  <a:pt x="16" y="429"/>
                </a:lnTo>
                <a:lnTo>
                  <a:pt x="14" y="403"/>
                </a:lnTo>
                <a:lnTo>
                  <a:pt x="22" y="383"/>
                </a:lnTo>
                <a:lnTo>
                  <a:pt x="17" y="359"/>
                </a:lnTo>
                <a:lnTo>
                  <a:pt x="9" y="339"/>
                </a:lnTo>
                <a:lnTo>
                  <a:pt x="0" y="312"/>
                </a:lnTo>
                <a:lnTo>
                  <a:pt x="5" y="293"/>
                </a:lnTo>
                <a:lnTo>
                  <a:pt x="17" y="278"/>
                </a:lnTo>
                <a:lnTo>
                  <a:pt x="27" y="256"/>
                </a:lnTo>
                <a:lnTo>
                  <a:pt x="24" y="237"/>
                </a:lnTo>
                <a:lnTo>
                  <a:pt x="22" y="215"/>
                </a:lnTo>
                <a:lnTo>
                  <a:pt x="36" y="205"/>
                </a:lnTo>
                <a:lnTo>
                  <a:pt x="53" y="202"/>
                </a:lnTo>
                <a:lnTo>
                  <a:pt x="70" y="213"/>
                </a:lnTo>
                <a:lnTo>
                  <a:pt x="82" y="198"/>
                </a:lnTo>
                <a:lnTo>
                  <a:pt x="100" y="191"/>
                </a:lnTo>
                <a:lnTo>
                  <a:pt x="120" y="196"/>
                </a:lnTo>
                <a:lnTo>
                  <a:pt x="141" y="202"/>
                </a:lnTo>
                <a:lnTo>
                  <a:pt x="159" y="196"/>
                </a:lnTo>
                <a:lnTo>
                  <a:pt x="168" y="180"/>
                </a:lnTo>
                <a:lnTo>
                  <a:pt x="170" y="161"/>
                </a:lnTo>
                <a:lnTo>
                  <a:pt x="181" y="149"/>
                </a:lnTo>
                <a:lnTo>
                  <a:pt x="197" y="151"/>
                </a:lnTo>
                <a:lnTo>
                  <a:pt x="212" y="149"/>
                </a:lnTo>
                <a:lnTo>
                  <a:pt x="215" y="134"/>
                </a:lnTo>
                <a:lnTo>
                  <a:pt x="225" y="120"/>
                </a:lnTo>
                <a:lnTo>
                  <a:pt x="241" y="115"/>
                </a:lnTo>
                <a:lnTo>
                  <a:pt x="247" y="98"/>
                </a:lnTo>
                <a:lnTo>
                  <a:pt x="241" y="86"/>
                </a:lnTo>
                <a:lnTo>
                  <a:pt x="242" y="71"/>
                </a:lnTo>
                <a:lnTo>
                  <a:pt x="259" y="69"/>
                </a:lnTo>
                <a:lnTo>
                  <a:pt x="276" y="83"/>
                </a:lnTo>
                <a:lnTo>
                  <a:pt x="295" y="88"/>
                </a:lnTo>
                <a:lnTo>
                  <a:pt x="305" y="71"/>
                </a:lnTo>
                <a:lnTo>
                  <a:pt x="310" y="56"/>
                </a:lnTo>
                <a:lnTo>
                  <a:pt x="324" y="47"/>
                </a:lnTo>
                <a:lnTo>
                  <a:pt x="335" y="30"/>
                </a:lnTo>
                <a:lnTo>
                  <a:pt x="337" y="14"/>
                </a:lnTo>
                <a:close/>
              </a:path>
            </a:pathLst>
          </a:custGeom>
          <a:solidFill>
            <a:srgbClr val="dddddd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112"/>
          <p:cNvSpPr/>
          <p:nvPr/>
        </p:nvSpPr>
        <p:spPr>
          <a:xfrm>
            <a:off x="4326840" y="5783400"/>
            <a:ext cx="1596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Лидерство как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истема. Школа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лидерств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Freeform 113"/>
          <p:cNvSpPr/>
          <p:nvPr/>
        </p:nvSpPr>
        <p:spPr>
          <a:xfrm flipV="1" rot="17436600">
            <a:off x="5902560" y="4951440"/>
            <a:ext cx="866880" cy="1579680"/>
          </a:xfrm>
          <a:custGeom>
            <a:avLst/>
            <a:gdLst>
              <a:gd name="textAreaLeft" fmla="*/ 0 w 866880"/>
              <a:gd name="textAreaRight" fmla="*/ 867240 w 866880"/>
              <a:gd name="textAreaTop" fmla="*/ 360 h 1579680"/>
              <a:gd name="textAreaBottom" fmla="*/ 1580400 h 1579680"/>
            </a:gdLst>
            <a:ahLst/>
            <a:rect l="textAreaLeft" t="textAreaTop" r="textAreaRight" b="textAreaBottom"/>
            <a:pathLst>
              <a:path w="823" h="1191">
                <a:moveTo>
                  <a:pt x="775" y="602"/>
                </a:moveTo>
                <a:lnTo>
                  <a:pt x="771" y="574"/>
                </a:lnTo>
                <a:lnTo>
                  <a:pt x="783" y="552"/>
                </a:lnTo>
                <a:lnTo>
                  <a:pt x="773" y="530"/>
                </a:lnTo>
                <a:lnTo>
                  <a:pt x="757" y="520"/>
                </a:lnTo>
                <a:lnTo>
                  <a:pt x="735" y="530"/>
                </a:lnTo>
                <a:lnTo>
                  <a:pt x="721" y="512"/>
                </a:lnTo>
                <a:lnTo>
                  <a:pt x="716" y="487"/>
                </a:lnTo>
                <a:lnTo>
                  <a:pt x="723" y="461"/>
                </a:lnTo>
                <a:lnTo>
                  <a:pt x="735" y="441"/>
                </a:lnTo>
                <a:lnTo>
                  <a:pt x="755" y="421"/>
                </a:lnTo>
                <a:lnTo>
                  <a:pt x="745" y="403"/>
                </a:lnTo>
                <a:lnTo>
                  <a:pt x="749" y="377"/>
                </a:lnTo>
                <a:lnTo>
                  <a:pt x="765" y="361"/>
                </a:lnTo>
                <a:lnTo>
                  <a:pt x="787" y="356"/>
                </a:lnTo>
                <a:lnTo>
                  <a:pt x="781" y="338"/>
                </a:lnTo>
                <a:lnTo>
                  <a:pt x="777" y="300"/>
                </a:lnTo>
                <a:lnTo>
                  <a:pt x="789" y="284"/>
                </a:lnTo>
                <a:lnTo>
                  <a:pt x="809" y="272"/>
                </a:lnTo>
                <a:lnTo>
                  <a:pt x="823" y="252"/>
                </a:lnTo>
                <a:lnTo>
                  <a:pt x="811" y="228"/>
                </a:lnTo>
                <a:lnTo>
                  <a:pt x="789" y="228"/>
                </a:lnTo>
                <a:lnTo>
                  <a:pt x="779" y="205"/>
                </a:lnTo>
                <a:lnTo>
                  <a:pt x="767" y="189"/>
                </a:lnTo>
                <a:lnTo>
                  <a:pt x="747" y="177"/>
                </a:lnTo>
                <a:lnTo>
                  <a:pt x="735" y="147"/>
                </a:lnTo>
                <a:lnTo>
                  <a:pt x="727" y="127"/>
                </a:lnTo>
                <a:lnTo>
                  <a:pt x="714" y="123"/>
                </a:lnTo>
                <a:lnTo>
                  <a:pt x="700" y="123"/>
                </a:lnTo>
                <a:lnTo>
                  <a:pt x="678" y="139"/>
                </a:lnTo>
                <a:lnTo>
                  <a:pt x="670" y="151"/>
                </a:lnTo>
                <a:lnTo>
                  <a:pt x="664" y="159"/>
                </a:lnTo>
                <a:lnTo>
                  <a:pt x="658" y="171"/>
                </a:lnTo>
                <a:lnTo>
                  <a:pt x="636" y="179"/>
                </a:lnTo>
                <a:lnTo>
                  <a:pt x="614" y="171"/>
                </a:lnTo>
                <a:lnTo>
                  <a:pt x="595" y="167"/>
                </a:lnTo>
                <a:lnTo>
                  <a:pt x="591" y="149"/>
                </a:lnTo>
                <a:lnTo>
                  <a:pt x="604" y="133"/>
                </a:lnTo>
                <a:lnTo>
                  <a:pt x="614" y="109"/>
                </a:lnTo>
                <a:lnTo>
                  <a:pt x="618" y="78"/>
                </a:lnTo>
                <a:lnTo>
                  <a:pt x="616" y="50"/>
                </a:lnTo>
                <a:lnTo>
                  <a:pt x="626" y="28"/>
                </a:lnTo>
                <a:lnTo>
                  <a:pt x="616" y="14"/>
                </a:lnTo>
                <a:lnTo>
                  <a:pt x="597" y="2"/>
                </a:lnTo>
                <a:lnTo>
                  <a:pt x="573" y="0"/>
                </a:lnTo>
                <a:lnTo>
                  <a:pt x="547" y="2"/>
                </a:lnTo>
                <a:lnTo>
                  <a:pt x="523" y="18"/>
                </a:lnTo>
                <a:lnTo>
                  <a:pt x="505" y="38"/>
                </a:lnTo>
                <a:lnTo>
                  <a:pt x="495" y="68"/>
                </a:lnTo>
                <a:lnTo>
                  <a:pt x="484" y="99"/>
                </a:lnTo>
                <a:lnTo>
                  <a:pt x="474" y="117"/>
                </a:lnTo>
                <a:lnTo>
                  <a:pt x="460" y="131"/>
                </a:lnTo>
                <a:lnTo>
                  <a:pt x="448" y="119"/>
                </a:lnTo>
                <a:lnTo>
                  <a:pt x="436" y="103"/>
                </a:lnTo>
                <a:lnTo>
                  <a:pt x="422" y="101"/>
                </a:lnTo>
                <a:lnTo>
                  <a:pt x="402" y="107"/>
                </a:lnTo>
                <a:lnTo>
                  <a:pt x="390" y="125"/>
                </a:lnTo>
                <a:lnTo>
                  <a:pt x="380" y="149"/>
                </a:lnTo>
                <a:lnTo>
                  <a:pt x="370" y="169"/>
                </a:lnTo>
                <a:lnTo>
                  <a:pt x="353" y="179"/>
                </a:lnTo>
                <a:lnTo>
                  <a:pt x="333" y="171"/>
                </a:lnTo>
                <a:lnTo>
                  <a:pt x="311" y="165"/>
                </a:lnTo>
                <a:lnTo>
                  <a:pt x="293" y="179"/>
                </a:lnTo>
                <a:lnTo>
                  <a:pt x="289" y="201"/>
                </a:lnTo>
                <a:lnTo>
                  <a:pt x="301" y="218"/>
                </a:lnTo>
                <a:lnTo>
                  <a:pt x="317" y="224"/>
                </a:lnTo>
                <a:lnTo>
                  <a:pt x="325" y="248"/>
                </a:lnTo>
                <a:lnTo>
                  <a:pt x="317" y="272"/>
                </a:lnTo>
                <a:lnTo>
                  <a:pt x="305" y="290"/>
                </a:lnTo>
                <a:lnTo>
                  <a:pt x="287" y="296"/>
                </a:lnTo>
                <a:lnTo>
                  <a:pt x="265" y="294"/>
                </a:lnTo>
                <a:lnTo>
                  <a:pt x="253" y="306"/>
                </a:lnTo>
                <a:lnTo>
                  <a:pt x="255" y="336"/>
                </a:lnTo>
                <a:lnTo>
                  <a:pt x="244" y="354"/>
                </a:lnTo>
                <a:lnTo>
                  <a:pt x="238" y="385"/>
                </a:lnTo>
                <a:lnTo>
                  <a:pt x="226" y="401"/>
                </a:lnTo>
                <a:lnTo>
                  <a:pt x="204" y="411"/>
                </a:lnTo>
                <a:lnTo>
                  <a:pt x="176" y="413"/>
                </a:lnTo>
                <a:lnTo>
                  <a:pt x="152" y="425"/>
                </a:lnTo>
                <a:lnTo>
                  <a:pt x="136" y="445"/>
                </a:lnTo>
                <a:lnTo>
                  <a:pt x="129" y="469"/>
                </a:lnTo>
                <a:lnTo>
                  <a:pt x="119" y="491"/>
                </a:lnTo>
                <a:lnTo>
                  <a:pt x="103" y="500"/>
                </a:lnTo>
                <a:lnTo>
                  <a:pt x="119" y="534"/>
                </a:lnTo>
                <a:lnTo>
                  <a:pt x="111" y="560"/>
                </a:lnTo>
                <a:lnTo>
                  <a:pt x="93" y="572"/>
                </a:lnTo>
                <a:lnTo>
                  <a:pt x="75" y="592"/>
                </a:lnTo>
                <a:lnTo>
                  <a:pt x="73" y="614"/>
                </a:lnTo>
                <a:lnTo>
                  <a:pt x="83" y="641"/>
                </a:lnTo>
                <a:lnTo>
                  <a:pt x="95" y="665"/>
                </a:lnTo>
                <a:lnTo>
                  <a:pt x="109" y="693"/>
                </a:lnTo>
                <a:lnTo>
                  <a:pt x="107" y="715"/>
                </a:lnTo>
                <a:lnTo>
                  <a:pt x="95" y="741"/>
                </a:lnTo>
                <a:lnTo>
                  <a:pt x="75" y="761"/>
                </a:lnTo>
                <a:lnTo>
                  <a:pt x="49" y="774"/>
                </a:lnTo>
                <a:lnTo>
                  <a:pt x="27" y="800"/>
                </a:lnTo>
                <a:lnTo>
                  <a:pt x="12" y="816"/>
                </a:lnTo>
                <a:lnTo>
                  <a:pt x="0" y="840"/>
                </a:lnTo>
                <a:lnTo>
                  <a:pt x="6" y="872"/>
                </a:lnTo>
                <a:lnTo>
                  <a:pt x="15" y="888"/>
                </a:lnTo>
                <a:lnTo>
                  <a:pt x="37" y="884"/>
                </a:lnTo>
                <a:lnTo>
                  <a:pt x="63" y="872"/>
                </a:lnTo>
                <a:lnTo>
                  <a:pt x="89" y="866"/>
                </a:lnTo>
                <a:lnTo>
                  <a:pt x="111" y="850"/>
                </a:lnTo>
                <a:lnTo>
                  <a:pt x="138" y="844"/>
                </a:lnTo>
                <a:lnTo>
                  <a:pt x="156" y="854"/>
                </a:lnTo>
                <a:lnTo>
                  <a:pt x="174" y="872"/>
                </a:lnTo>
                <a:lnTo>
                  <a:pt x="194" y="900"/>
                </a:lnTo>
                <a:lnTo>
                  <a:pt x="200" y="919"/>
                </a:lnTo>
                <a:lnTo>
                  <a:pt x="198" y="945"/>
                </a:lnTo>
                <a:lnTo>
                  <a:pt x="206" y="977"/>
                </a:lnTo>
                <a:lnTo>
                  <a:pt x="218" y="991"/>
                </a:lnTo>
                <a:lnTo>
                  <a:pt x="222" y="1013"/>
                </a:lnTo>
                <a:lnTo>
                  <a:pt x="206" y="1031"/>
                </a:lnTo>
                <a:lnTo>
                  <a:pt x="198" y="1052"/>
                </a:lnTo>
                <a:lnTo>
                  <a:pt x="212" y="1072"/>
                </a:lnTo>
                <a:lnTo>
                  <a:pt x="206" y="1088"/>
                </a:lnTo>
                <a:lnTo>
                  <a:pt x="210" y="1104"/>
                </a:lnTo>
                <a:lnTo>
                  <a:pt x="232" y="1112"/>
                </a:lnTo>
                <a:lnTo>
                  <a:pt x="257" y="1118"/>
                </a:lnTo>
                <a:lnTo>
                  <a:pt x="275" y="1108"/>
                </a:lnTo>
                <a:lnTo>
                  <a:pt x="289" y="1118"/>
                </a:lnTo>
                <a:lnTo>
                  <a:pt x="309" y="1132"/>
                </a:lnTo>
                <a:lnTo>
                  <a:pt x="325" y="1120"/>
                </a:lnTo>
                <a:lnTo>
                  <a:pt x="345" y="1128"/>
                </a:lnTo>
                <a:lnTo>
                  <a:pt x="335" y="1148"/>
                </a:lnTo>
                <a:lnTo>
                  <a:pt x="329" y="1168"/>
                </a:lnTo>
                <a:lnTo>
                  <a:pt x="331" y="1187"/>
                </a:lnTo>
                <a:lnTo>
                  <a:pt x="349" y="1191"/>
                </a:lnTo>
                <a:lnTo>
                  <a:pt x="361" y="1180"/>
                </a:lnTo>
                <a:lnTo>
                  <a:pt x="376" y="1162"/>
                </a:lnTo>
                <a:lnTo>
                  <a:pt x="390" y="1150"/>
                </a:lnTo>
                <a:lnTo>
                  <a:pt x="412" y="1158"/>
                </a:lnTo>
                <a:lnTo>
                  <a:pt x="430" y="1160"/>
                </a:lnTo>
                <a:lnTo>
                  <a:pt x="434" y="1144"/>
                </a:lnTo>
                <a:lnTo>
                  <a:pt x="428" y="1122"/>
                </a:lnTo>
                <a:lnTo>
                  <a:pt x="446" y="1120"/>
                </a:lnTo>
                <a:lnTo>
                  <a:pt x="420" y="1110"/>
                </a:lnTo>
                <a:lnTo>
                  <a:pt x="398" y="1088"/>
                </a:lnTo>
                <a:lnTo>
                  <a:pt x="396" y="1058"/>
                </a:lnTo>
                <a:lnTo>
                  <a:pt x="406" y="1035"/>
                </a:lnTo>
                <a:lnTo>
                  <a:pt x="400" y="1007"/>
                </a:lnTo>
                <a:lnTo>
                  <a:pt x="390" y="983"/>
                </a:lnTo>
                <a:lnTo>
                  <a:pt x="380" y="951"/>
                </a:lnTo>
                <a:lnTo>
                  <a:pt x="386" y="929"/>
                </a:lnTo>
                <a:lnTo>
                  <a:pt x="400" y="911"/>
                </a:lnTo>
                <a:lnTo>
                  <a:pt x="412" y="886"/>
                </a:lnTo>
                <a:lnTo>
                  <a:pt x="408" y="864"/>
                </a:lnTo>
                <a:lnTo>
                  <a:pt x="406" y="838"/>
                </a:lnTo>
                <a:lnTo>
                  <a:pt x="422" y="826"/>
                </a:lnTo>
                <a:lnTo>
                  <a:pt x="442" y="822"/>
                </a:lnTo>
                <a:lnTo>
                  <a:pt x="462" y="836"/>
                </a:lnTo>
                <a:lnTo>
                  <a:pt x="476" y="818"/>
                </a:lnTo>
                <a:lnTo>
                  <a:pt x="497" y="810"/>
                </a:lnTo>
                <a:lnTo>
                  <a:pt x="521" y="816"/>
                </a:lnTo>
                <a:lnTo>
                  <a:pt x="545" y="822"/>
                </a:lnTo>
                <a:lnTo>
                  <a:pt x="567" y="816"/>
                </a:lnTo>
                <a:lnTo>
                  <a:pt x="577" y="796"/>
                </a:lnTo>
                <a:lnTo>
                  <a:pt x="579" y="774"/>
                </a:lnTo>
                <a:lnTo>
                  <a:pt x="593" y="761"/>
                </a:lnTo>
                <a:lnTo>
                  <a:pt x="610" y="763"/>
                </a:lnTo>
                <a:lnTo>
                  <a:pt x="628" y="761"/>
                </a:lnTo>
                <a:lnTo>
                  <a:pt x="632" y="743"/>
                </a:lnTo>
                <a:lnTo>
                  <a:pt x="644" y="727"/>
                </a:lnTo>
                <a:lnTo>
                  <a:pt x="662" y="721"/>
                </a:lnTo>
                <a:lnTo>
                  <a:pt x="670" y="701"/>
                </a:lnTo>
                <a:lnTo>
                  <a:pt x="662" y="687"/>
                </a:lnTo>
                <a:lnTo>
                  <a:pt x="664" y="669"/>
                </a:lnTo>
                <a:lnTo>
                  <a:pt x="684" y="667"/>
                </a:lnTo>
                <a:lnTo>
                  <a:pt x="704" y="683"/>
                </a:lnTo>
                <a:lnTo>
                  <a:pt x="725" y="689"/>
                </a:lnTo>
                <a:lnTo>
                  <a:pt x="737" y="669"/>
                </a:lnTo>
                <a:lnTo>
                  <a:pt x="743" y="651"/>
                </a:lnTo>
                <a:lnTo>
                  <a:pt x="759" y="641"/>
                </a:lnTo>
                <a:lnTo>
                  <a:pt x="773" y="622"/>
                </a:lnTo>
                <a:lnTo>
                  <a:pt x="775" y="602"/>
                </a:lnTo>
                <a:close/>
              </a:path>
            </a:pathLst>
          </a:custGeom>
          <a:solidFill>
            <a:srgbClr val="dddddd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114"/>
          <p:cNvSpPr/>
          <p:nvPr/>
        </p:nvSpPr>
        <p:spPr>
          <a:xfrm>
            <a:off x="5666760" y="5580000"/>
            <a:ext cx="1553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 -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енеджмен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115"/>
          <p:cNvSpPr/>
          <p:nvPr/>
        </p:nvSpPr>
        <p:spPr>
          <a:xfrm>
            <a:off x="6915240" y="4118040"/>
            <a:ext cx="7077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P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116"/>
          <p:cNvSpPr/>
          <p:nvPr/>
        </p:nvSpPr>
        <p:spPr>
          <a:xfrm>
            <a:off x="787680" y="4216320"/>
            <a:ext cx="79956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Хосин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анр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Freeform 117"/>
          <p:cNvSpPr/>
          <p:nvPr/>
        </p:nvSpPr>
        <p:spPr>
          <a:xfrm>
            <a:off x="662040" y="774720"/>
            <a:ext cx="1330200" cy="1096920"/>
          </a:xfrm>
          <a:custGeom>
            <a:avLst/>
            <a:gdLst>
              <a:gd name="textAreaLeft" fmla="*/ 0 w 1330200"/>
              <a:gd name="textAreaRight" fmla="*/ 1330560 w 1330200"/>
              <a:gd name="textAreaTop" fmla="*/ 0 h 1096920"/>
              <a:gd name="textAreaBottom" fmla="*/ 1097280 h 1096920"/>
            </a:gdLst>
            <a:ahLst/>
            <a:rect l="textAreaLeft" t="textAreaTop" r="textAreaRight" b="textAreaBottom"/>
            <a:pathLst>
              <a:path w="926" h="1133">
                <a:moveTo>
                  <a:pt x="345" y="41"/>
                </a:moveTo>
                <a:lnTo>
                  <a:pt x="355" y="53"/>
                </a:lnTo>
                <a:lnTo>
                  <a:pt x="376" y="63"/>
                </a:lnTo>
                <a:lnTo>
                  <a:pt x="402" y="71"/>
                </a:lnTo>
                <a:lnTo>
                  <a:pt x="422" y="81"/>
                </a:lnTo>
                <a:lnTo>
                  <a:pt x="436" y="101"/>
                </a:lnTo>
                <a:lnTo>
                  <a:pt x="450" y="119"/>
                </a:lnTo>
                <a:lnTo>
                  <a:pt x="470" y="137"/>
                </a:lnTo>
                <a:lnTo>
                  <a:pt x="492" y="145"/>
                </a:lnTo>
                <a:lnTo>
                  <a:pt x="519" y="151"/>
                </a:lnTo>
                <a:lnTo>
                  <a:pt x="525" y="170"/>
                </a:lnTo>
                <a:lnTo>
                  <a:pt x="519" y="200"/>
                </a:lnTo>
                <a:lnTo>
                  <a:pt x="521" y="228"/>
                </a:lnTo>
                <a:lnTo>
                  <a:pt x="525" y="260"/>
                </a:lnTo>
                <a:lnTo>
                  <a:pt x="521" y="282"/>
                </a:lnTo>
                <a:lnTo>
                  <a:pt x="525" y="305"/>
                </a:lnTo>
                <a:lnTo>
                  <a:pt x="537" y="315"/>
                </a:lnTo>
                <a:lnTo>
                  <a:pt x="559" y="313"/>
                </a:lnTo>
                <a:lnTo>
                  <a:pt x="581" y="315"/>
                </a:lnTo>
                <a:lnTo>
                  <a:pt x="589" y="333"/>
                </a:lnTo>
                <a:lnTo>
                  <a:pt x="583" y="353"/>
                </a:lnTo>
                <a:lnTo>
                  <a:pt x="587" y="375"/>
                </a:lnTo>
                <a:lnTo>
                  <a:pt x="599" y="391"/>
                </a:lnTo>
                <a:lnTo>
                  <a:pt x="614" y="413"/>
                </a:lnTo>
                <a:lnTo>
                  <a:pt x="620" y="431"/>
                </a:lnTo>
                <a:lnTo>
                  <a:pt x="612" y="454"/>
                </a:lnTo>
                <a:lnTo>
                  <a:pt x="611" y="484"/>
                </a:lnTo>
                <a:lnTo>
                  <a:pt x="614" y="508"/>
                </a:lnTo>
                <a:lnTo>
                  <a:pt x="626" y="532"/>
                </a:lnTo>
                <a:lnTo>
                  <a:pt x="646" y="550"/>
                </a:lnTo>
                <a:lnTo>
                  <a:pt x="670" y="562"/>
                </a:lnTo>
                <a:lnTo>
                  <a:pt x="700" y="566"/>
                </a:lnTo>
                <a:lnTo>
                  <a:pt x="722" y="560"/>
                </a:lnTo>
                <a:lnTo>
                  <a:pt x="743" y="552"/>
                </a:lnTo>
                <a:lnTo>
                  <a:pt x="765" y="560"/>
                </a:lnTo>
                <a:lnTo>
                  <a:pt x="779" y="577"/>
                </a:lnTo>
                <a:lnTo>
                  <a:pt x="799" y="591"/>
                </a:lnTo>
                <a:lnTo>
                  <a:pt x="823" y="597"/>
                </a:lnTo>
                <a:lnTo>
                  <a:pt x="843" y="613"/>
                </a:lnTo>
                <a:lnTo>
                  <a:pt x="864" y="621"/>
                </a:lnTo>
                <a:lnTo>
                  <a:pt x="886" y="635"/>
                </a:lnTo>
                <a:lnTo>
                  <a:pt x="898" y="657"/>
                </a:lnTo>
                <a:lnTo>
                  <a:pt x="908" y="681"/>
                </a:lnTo>
                <a:lnTo>
                  <a:pt x="904" y="703"/>
                </a:lnTo>
                <a:lnTo>
                  <a:pt x="912" y="718"/>
                </a:lnTo>
                <a:lnTo>
                  <a:pt x="926" y="738"/>
                </a:lnTo>
                <a:lnTo>
                  <a:pt x="924" y="758"/>
                </a:lnTo>
                <a:lnTo>
                  <a:pt x="910" y="774"/>
                </a:lnTo>
                <a:lnTo>
                  <a:pt x="896" y="800"/>
                </a:lnTo>
                <a:lnTo>
                  <a:pt x="878" y="814"/>
                </a:lnTo>
                <a:lnTo>
                  <a:pt x="864" y="830"/>
                </a:lnTo>
                <a:lnTo>
                  <a:pt x="845" y="828"/>
                </a:lnTo>
                <a:lnTo>
                  <a:pt x="821" y="824"/>
                </a:lnTo>
                <a:lnTo>
                  <a:pt x="797" y="808"/>
                </a:lnTo>
                <a:lnTo>
                  <a:pt x="777" y="802"/>
                </a:lnTo>
                <a:lnTo>
                  <a:pt x="757" y="810"/>
                </a:lnTo>
                <a:lnTo>
                  <a:pt x="731" y="806"/>
                </a:lnTo>
                <a:lnTo>
                  <a:pt x="710" y="814"/>
                </a:lnTo>
                <a:lnTo>
                  <a:pt x="694" y="830"/>
                </a:lnTo>
                <a:lnTo>
                  <a:pt x="664" y="838"/>
                </a:lnTo>
                <a:lnTo>
                  <a:pt x="638" y="832"/>
                </a:lnTo>
                <a:lnTo>
                  <a:pt x="609" y="840"/>
                </a:lnTo>
                <a:lnTo>
                  <a:pt x="585" y="855"/>
                </a:lnTo>
                <a:lnTo>
                  <a:pt x="555" y="865"/>
                </a:lnTo>
                <a:lnTo>
                  <a:pt x="535" y="887"/>
                </a:lnTo>
                <a:lnTo>
                  <a:pt x="531" y="917"/>
                </a:lnTo>
                <a:lnTo>
                  <a:pt x="521" y="937"/>
                </a:lnTo>
                <a:lnTo>
                  <a:pt x="519" y="959"/>
                </a:lnTo>
                <a:lnTo>
                  <a:pt x="531" y="971"/>
                </a:lnTo>
                <a:lnTo>
                  <a:pt x="537" y="992"/>
                </a:lnTo>
                <a:lnTo>
                  <a:pt x="553" y="1016"/>
                </a:lnTo>
                <a:lnTo>
                  <a:pt x="569" y="1038"/>
                </a:lnTo>
                <a:lnTo>
                  <a:pt x="587" y="1062"/>
                </a:lnTo>
                <a:lnTo>
                  <a:pt x="577" y="1086"/>
                </a:lnTo>
                <a:lnTo>
                  <a:pt x="575" y="1110"/>
                </a:lnTo>
                <a:lnTo>
                  <a:pt x="561" y="1129"/>
                </a:lnTo>
                <a:lnTo>
                  <a:pt x="533" y="1118"/>
                </a:lnTo>
                <a:lnTo>
                  <a:pt x="515" y="1122"/>
                </a:lnTo>
                <a:lnTo>
                  <a:pt x="499" y="1133"/>
                </a:lnTo>
                <a:lnTo>
                  <a:pt x="490" y="1116"/>
                </a:lnTo>
                <a:lnTo>
                  <a:pt x="480" y="1086"/>
                </a:lnTo>
                <a:lnTo>
                  <a:pt x="456" y="1070"/>
                </a:lnTo>
                <a:lnTo>
                  <a:pt x="434" y="1064"/>
                </a:lnTo>
                <a:lnTo>
                  <a:pt x="402" y="1068"/>
                </a:lnTo>
                <a:lnTo>
                  <a:pt x="380" y="1072"/>
                </a:lnTo>
                <a:lnTo>
                  <a:pt x="357" y="1060"/>
                </a:lnTo>
                <a:lnTo>
                  <a:pt x="325" y="1048"/>
                </a:lnTo>
                <a:lnTo>
                  <a:pt x="295" y="1040"/>
                </a:lnTo>
                <a:lnTo>
                  <a:pt x="273" y="1042"/>
                </a:lnTo>
                <a:lnTo>
                  <a:pt x="246" y="1046"/>
                </a:lnTo>
                <a:lnTo>
                  <a:pt x="226" y="1032"/>
                </a:lnTo>
                <a:lnTo>
                  <a:pt x="216" y="1008"/>
                </a:lnTo>
                <a:lnTo>
                  <a:pt x="212" y="985"/>
                </a:lnTo>
                <a:lnTo>
                  <a:pt x="226" y="959"/>
                </a:lnTo>
                <a:lnTo>
                  <a:pt x="222" y="929"/>
                </a:lnTo>
                <a:lnTo>
                  <a:pt x="210" y="907"/>
                </a:lnTo>
                <a:lnTo>
                  <a:pt x="186" y="899"/>
                </a:lnTo>
                <a:lnTo>
                  <a:pt x="164" y="907"/>
                </a:lnTo>
                <a:lnTo>
                  <a:pt x="144" y="899"/>
                </a:lnTo>
                <a:lnTo>
                  <a:pt x="135" y="879"/>
                </a:lnTo>
                <a:lnTo>
                  <a:pt x="131" y="855"/>
                </a:lnTo>
                <a:lnTo>
                  <a:pt x="127" y="828"/>
                </a:lnTo>
                <a:lnTo>
                  <a:pt x="111" y="800"/>
                </a:lnTo>
                <a:lnTo>
                  <a:pt x="87" y="778"/>
                </a:lnTo>
                <a:lnTo>
                  <a:pt x="59" y="764"/>
                </a:lnTo>
                <a:lnTo>
                  <a:pt x="25" y="770"/>
                </a:lnTo>
                <a:lnTo>
                  <a:pt x="16" y="734"/>
                </a:lnTo>
                <a:lnTo>
                  <a:pt x="8" y="703"/>
                </a:lnTo>
                <a:lnTo>
                  <a:pt x="0" y="679"/>
                </a:lnTo>
                <a:lnTo>
                  <a:pt x="4" y="657"/>
                </a:lnTo>
                <a:lnTo>
                  <a:pt x="12" y="639"/>
                </a:lnTo>
                <a:lnTo>
                  <a:pt x="14" y="611"/>
                </a:lnTo>
                <a:lnTo>
                  <a:pt x="12" y="585"/>
                </a:lnTo>
                <a:lnTo>
                  <a:pt x="16" y="574"/>
                </a:lnTo>
                <a:lnTo>
                  <a:pt x="33" y="568"/>
                </a:lnTo>
                <a:lnTo>
                  <a:pt x="57" y="572"/>
                </a:lnTo>
                <a:lnTo>
                  <a:pt x="75" y="568"/>
                </a:lnTo>
                <a:lnTo>
                  <a:pt x="95" y="558"/>
                </a:lnTo>
                <a:lnTo>
                  <a:pt x="111" y="540"/>
                </a:lnTo>
                <a:lnTo>
                  <a:pt x="103" y="514"/>
                </a:lnTo>
                <a:lnTo>
                  <a:pt x="105" y="490"/>
                </a:lnTo>
                <a:lnTo>
                  <a:pt x="115" y="464"/>
                </a:lnTo>
                <a:lnTo>
                  <a:pt x="125" y="438"/>
                </a:lnTo>
                <a:lnTo>
                  <a:pt x="133" y="407"/>
                </a:lnTo>
                <a:lnTo>
                  <a:pt x="135" y="373"/>
                </a:lnTo>
                <a:lnTo>
                  <a:pt x="131" y="339"/>
                </a:lnTo>
                <a:lnTo>
                  <a:pt x="137" y="315"/>
                </a:lnTo>
                <a:lnTo>
                  <a:pt x="144" y="296"/>
                </a:lnTo>
                <a:lnTo>
                  <a:pt x="142" y="270"/>
                </a:lnTo>
                <a:lnTo>
                  <a:pt x="127" y="222"/>
                </a:lnTo>
                <a:lnTo>
                  <a:pt x="119" y="200"/>
                </a:lnTo>
                <a:lnTo>
                  <a:pt x="113" y="184"/>
                </a:lnTo>
                <a:lnTo>
                  <a:pt x="109" y="166"/>
                </a:lnTo>
                <a:lnTo>
                  <a:pt x="91" y="143"/>
                </a:lnTo>
                <a:lnTo>
                  <a:pt x="107" y="121"/>
                </a:lnTo>
                <a:lnTo>
                  <a:pt x="129" y="111"/>
                </a:lnTo>
                <a:lnTo>
                  <a:pt x="148" y="115"/>
                </a:lnTo>
                <a:lnTo>
                  <a:pt x="170" y="103"/>
                </a:lnTo>
                <a:lnTo>
                  <a:pt x="190" y="93"/>
                </a:lnTo>
                <a:lnTo>
                  <a:pt x="202" y="87"/>
                </a:lnTo>
                <a:lnTo>
                  <a:pt x="226" y="81"/>
                </a:lnTo>
                <a:lnTo>
                  <a:pt x="244" y="93"/>
                </a:lnTo>
                <a:lnTo>
                  <a:pt x="261" y="93"/>
                </a:lnTo>
                <a:lnTo>
                  <a:pt x="277" y="87"/>
                </a:lnTo>
                <a:lnTo>
                  <a:pt x="287" y="71"/>
                </a:lnTo>
                <a:lnTo>
                  <a:pt x="299" y="51"/>
                </a:lnTo>
                <a:lnTo>
                  <a:pt x="301" y="35"/>
                </a:lnTo>
                <a:lnTo>
                  <a:pt x="303" y="24"/>
                </a:lnTo>
                <a:lnTo>
                  <a:pt x="303" y="0"/>
                </a:lnTo>
                <a:lnTo>
                  <a:pt x="315" y="4"/>
                </a:lnTo>
                <a:lnTo>
                  <a:pt x="337" y="20"/>
                </a:lnTo>
                <a:lnTo>
                  <a:pt x="345" y="41"/>
                </a:lnTo>
                <a:close/>
              </a:path>
            </a:pathLst>
          </a:custGeom>
          <a:solidFill>
            <a:srgbClr val="33cccc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118"/>
          <p:cNvSpPr/>
          <p:nvPr/>
        </p:nvSpPr>
        <p:spPr>
          <a:xfrm>
            <a:off x="554040" y="1131840"/>
            <a:ext cx="1584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тратегический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енеджмен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119"/>
          <p:cNvSpPr/>
          <p:nvPr/>
        </p:nvSpPr>
        <p:spPr>
          <a:xfrm>
            <a:off x="5263560" y="2506680"/>
            <a:ext cx="64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M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120"/>
          <p:cNvSpPr/>
          <p:nvPr/>
        </p:nvSpPr>
        <p:spPr>
          <a:xfrm>
            <a:off x="431280" y="3073320"/>
            <a:ext cx="13010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енеджмент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олити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Freeform 121"/>
          <p:cNvSpPr/>
          <p:nvPr/>
        </p:nvSpPr>
        <p:spPr>
          <a:xfrm>
            <a:off x="7331040" y="4929120"/>
            <a:ext cx="846000" cy="954000"/>
          </a:xfrm>
          <a:custGeom>
            <a:avLst/>
            <a:gdLst>
              <a:gd name="textAreaLeft" fmla="*/ 0 w 846000"/>
              <a:gd name="textAreaRight" fmla="*/ 846360 w 846000"/>
              <a:gd name="textAreaTop" fmla="*/ 0 h 954000"/>
              <a:gd name="textAreaBottom" fmla="*/ 954360 h 954000"/>
            </a:gdLst>
            <a:ahLst/>
            <a:rect l="textAreaLeft" t="textAreaTop" r="textAreaRight" b="textAreaBottom"/>
            <a:pathLst>
              <a:path w="1067" h="1201">
                <a:moveTo>
                  <a:pt x="722" y="1201"/>
                </a:moveTo>
                <a:lnTo>
                  <a:pt x="738" y="1189"/>
                </a:lnTo>
                <a:lnTo>
                  <a:pt x="757" y="1175"/>
                </a:lnTo>
                <a:lnTo>
                  <a:pt x="781" y="1159"/>
                </a:lnTo>
                <a:lnTo>
                  <a:pt x="807" y="1146"/>
                </a:lnTo>
                <a:lnTo>
                  <a:pt x="825" y="1132"/>
                </a:lnTo>
                <a:lnTo>
                  <a:pt x="839" y="1118"/>
                </a:lnTo>
                <a:lnTo>
                  <a:pt x="859" y="1110"/>
                </a:lnTo>
                <a:lnTo>
                  <a:pt x="871" y="1130"/>
                </a:lnTo>
                <a:lnTo>
                  <a:pt x="898" y="1124"/>
                </a:lnTo>
                <a:lnTo>
                  <a:pt x="920" y="1130"/>
                </a:lnTo>
                <a:lnTo>
                  <a:pt x="932" y="1114"/>
                </a:lnTo>
                <a:lnTo>
                  <a:pt x="920" y="1096"/>
                </a:lnTo>
                <a:lnTo>
                  <a:pt x="932" y="1080"/>
                </a:lnTo>
                <a:lnTo>
                  <a:pt x="924" y="1060"/>
                </a:lnTo>
                <a:lnTo>
                  <a:pt x="922" y="1036"/>
                </a:lnTo>
                <a:lnTo>
                  <a:pt x="932" y="1007"/>
                </a:lnTo>
                <a:lnTo>
                  <a:pt x="926" y="979"/>
                </a:lnTo>
                <a:lnTo>
                  <a:pt x="934" y="951"/>
                </a:lnTo>
                <a:lnTo>
                  <a:pt x="942" y="921"/>
                </a:lnTo>
                <a:lnTo>
                  <a:pt x="934" y="891"/>
                </a:lnTo>
                <a:lnTo>
                  <a:pt x="928" y="864"/>
                </a:lnTo>
                <a:lnTo>
                  <a:pt x="924" y="826"/>
                </a:lnTo>
                <a:lnTo>
                  <a:pt x="914" y="798"/>
                </a:lnTo>
                <a:lnTo>
                  <a:pt x="906" y="778"/>
                </a:lnTo>
                <a:lnTo>
                  <a:pt x="910" y="758"/>
                </a:lnTo>
                <a:lnTo>
                  <a:pt x="926" y="742"/>
                </a:lnTo>
                <a:lnTo>
                  <a:pt x="948" y="727"/>
                </a:lnTo>
                <a:lnTo>
                  <a:pt x="956" y="703"/>
                </a:lnTo>
                <a:lnTo>
                  <a:pt x="976" y="685"/>
                </a:lnTo>
                <a:lnTo>
                  <a:pt x="1003" y="671"/>
                </a:lnTo>
                <a:lnTo>
                  <a:pt x="1015" y="649"/>
                </a:lnTo>
                <a:lnTo>
                  <a:pt x="1011" y="627"/>
                </a:lnTo>
                <a:lnTo>
                  <a:pt x="993" y="607"/>
                </a:lnTo>
                <a:lnTo>
                  <a:pt x="1003" y="590"/>
                </a:lnTo>
                <a:lnTo>
                  <a:pt x="1025" y="594"/>
                </a:lnTo>
                <a:lnTo>
                  <a:pt x="1037" y="611"/>
                </a:lnTo>
                <a:lnTo>
                  <a:pt x="1059" y="611"/>
                </a:lnTo>
                <a:lnTo>
                  <a:pt x="1067" y="594"/>
                </a:lnTo>
                <a:lnTo>
                  <a:pt x="1049" y="576"/>
                </a:lnTo>
                <a:lnTo>
                  <a:pt x="1047" y="554"/>
                </a:lnTo>
                <a:lnTo>
                  <a:pt x="1057" y="524"/>
                </a:lnTo>
                <a:lnTo>
                  <a:pt x="1067" y="484"/>
                </a:lnTo>
                <a:lnTo>
                  <a:pt x="1057" y="453"/>
                </a:lnTo>
                <a:lnTo>
                  <a:pt x="1041" y="429"/>
                </a:lnTo>
                <a:lnTo>
                  <a:pt x="1021" y="415"/>
                </a:lnTo>
                <a:lnTo>
                  <a:pt x="1009" y="395"/>
                </a:lnTo>
                <a:lnTo>
                  <a:pt x="1001" y="371"/>
                </a:lnTo>
                <a:lnTo>
                  <a:pt x="993" y="351"/>
                </a:lnTo>
                <a:lnTo>
                  <a:pt x="978" y="337"/>
                </a:lnTo>
                <a:lnTo>
                  <a:pt x="958" y="327"/>
                </a:lnTo>
                <a:lnTo>
                  <a:pt x="938" y="312"/>
                </a:lnTo>
                <a:lnTo>
                  <a:pt x="926" y="292"/>
                </a:lnTo>
                <a:lnTo>
                  <a:pt x="928" y="264"/>
                </a:lnTo>
                <a:lnTo>
                  <a:pt x="946" y="240"/>
                </a:lnTo>
                <a:lnTo>
                  <a:pt x="950" y="216"/>
                </a:lnTo>
                <a:lnTo>
                  <a:pt x="942" y="192"/>
                </a:lnTo>
                <a:lnTo>
                  <a:pt x="946" y="171"/>
                </a:lnTo>
                <a:lnTo>
                  <a:pt x="954" y="139"/>
                </a:lnTo>
                <a:lnTo>
                  <a:pt x="946" y="117"/>
                </a:lnTo>
                <a:lnTo>
                  <a:pt x="926" y="119"/>
                </a:lnTo>
                <a:lnTo>
                  <a:pt x="910" y="133"/>
                </a:lnTo>
                <a:lnTo>
                  <a:pt x="898" y="155"/>
                </a:lnTo>
                <a:lnTo>
                  <a:pt x="878" y="163"/>
                </a:lnTo>
                <a:lnTo>
                  <a:pt x="869" y="145"/>
                </a:lnTo>
                <a:lnTo>
                  <a:pt x="861" y="127"/>
                </a:lnTo>
                <a:lnTo>
                  <a:pt x="847" y="123"/>
                </a:lnTo>
                <a:lnTo>
                  <a:pt x="837" y="109"/>
                </a:lnTo>
                <a:lnTo>
                  <a:pt x="829" y="93"/>
                </a:lnTo>
                <a:lnTo>
                  <a:pt x="839" y="67"/>
                </a:lnTo>
                <a:lnTo>
                  <a:pt x="833" y="53"/>
                </a:lnTo>
                <a:lnTo>
                  <a:pt x="807" y="61"/>
                </a:lnTo>
                <a:lnTo>
                  <a:pt x="785" y="53"/>
                </a:lnTo>
                <a:lnTo>
                  <a:pt x="779" y="34"/>
                </a:lnTo>
                <a:lnTo>
                  <a:pt x="777" y="8"/>
                </a:lnTo>
                <a:lnTo>
                  <a:pt x="759" y="0"/>
                </a:lnTo>
                <a:lnTo>
                  <a:pt x="744" y="12"/>
                </a:lnTo>
                <a:lnTo>
                  <a:pt x="728" y="30"/>
                </a:lnTo>
                <a:lnTo>
                  <a:pt x="716" y="20"/>
                </a:lnTo>
                <a:lnTo>
                  <a:pt x="702" y="6"/>
                </a:lnTo>
                <a:lnTo>
                  <a:pt x="682" y="10"/>
                </a:lnTo>
                <a:lnTo>
                  <a:pt x="668" y="24"/>
                </a:lnTo>
                <a:lnTo>
                  <a:pt x="674" y="50"/>
                </a:lnTo>
                <a:lnTo>
                  <a:pt x="672" y="67"/>
                </a:lnTo>
                <a:lnTo>
                  <a:pt x="660" y="79"/>
                </a:lnTo>
                <a:lnTo>
                  <a:pt x="640" y="71"/>
                </a:lnTo>
                <a:lnTo>
                  <a:pt x="631" y="93"/>
                </a:lnTo>
                <a:lnTo>
                  <a:pt x="617" y="115"/>
                </a:lnTo>
                <a:lnTo>
                  <a:pt x="595" y="127"/>
                </a:lnTo>
                <a:lnTo>
                  <a:pt x="579" y="131"/>
                </a:lnTo>
                <a:lnTo>
                  <a:pt x="585" y="149"/>
                </a:lnTo>
                <a:lnTo>
                  <a:pt x="581" y="167"/>
                </a:lnTo>
                <a:lnTo>
                  <a:pt x="561" y="165"/>
                </a:lnTo>
                <a:lnTo>
                  <a:pt x="541" y="157"/>
                </a:lnTo>
                <a:lnTo>
                  <a:pt x="527" y="169"/>
                </a:lnTo>
                <a:lnTo>
                  <a:pt x="514" y="185"/>
                </a:lnTo>
                <a:lnTo>
                  <a:pt x="498" y="198"/>
                </a:lnTo>
                <a:lnTo>
                  <a:pt x="482" y="192"/>
                </a:lnTo>
                <a:lnTo>
                  <a:pt x="480" y="175"/>
                </a:lnTo>
                <a:lnTo>
                  <a:pt x="486" y="155"/>
                </a:lnTo>
                <a:lnTo>
                  <a:pt x="496" y="135"/>
                </a:lnTo>
                <a:lnTo>
                  <a:pt x="476" y="127"/>
                </a:lnTo>
                <a:lnTo>
                  <a:pt x="460" y="137"/>
                </a:lnTo>
                <a:lnTo>
                  <a:pt x="444" y="127"/>
                </a:lnTo>
                <a:lnTo>
                  <a:pt x="426" y="115"/>
                </a:lnTo>
                <a:lnTo>
                  <a:pt x="406" y="125"/>
                </a:lnTo>
                <a:lnTo>
                  <a:pt x="385" y="121"/>
                </a:lnTo>
                <a:lnTo>
                  <a:pt x="365" y="113"/>
                </a:lnTo>
                <a:lnTo>
                  <a:pt x="353" y="127"/>
                </a:lnTo>
                <a:lnTo>
                  <a:pt x="363" y="153"/>
                </a:lnTo>
                <a:lnTo>
                  <a:pt x="365" y="177"/>
                </a:lnTo>
                <a:lnTo>
                  <a:pt x="373" y="206"/>
                </a:lnTo>
                <a:lnTo>
                  <a:pt x="381" y="232"/>
                </a:lnTo>
                <a:lnTo>
                  <a:pt x="371" y="256"/>
                </a:lnTo>
                <a:lnTo>
                  <a:pt x="367" y="282"/>
                </a:lnTo>
                <a:lnTo>
                  <a:pt x="353" y="298"/>
                </a:lnTo>
                <a:lnTo>
                  <a:pt x="337" y="324"/>
                </a:lnTo>
                <a:lnTo>
                  <a:pt x="333" y="349"/>
                </a:lnTo>
                <a:lnTo>
                  <a:pt x="329" y="373"/>
                </a:lnTo>
                <a:lnTo>
                  <a:pt x="315" y="387"/>
                </a:lnTo>
                <a:lnTo>
                  <a:pt x="295" y="409"/>
                </a:lnTo>
                <a:lnTo>
                  <a:pt x="289" y="441"/>
                </a:lnTo>
                <a:lnTo>
                  <a:pt x="282" y="464"/>
                </a:lnTo>
                <a:lnTo>
                  <a:pt x="262" y="480"/>
                </a:lnTo>
                <a:lnTo>
                  <a:pt x="238" y="492"/>
                </a:lnTo>
                <a:lnTo>
                  <a:pt x="222" y="510"/>
                </a:lnTo>
                <a:lnTo>
                  <a:pt x="210" y="536"/>
                </a:lnTo>
                <a:lnTo>
                  <a:pt x="202" y="558"/>
                </a:lnTo>
                <a:lnTo>
                  <a:pt x="180" y="568"/>
                </a:lnTo>
                <a:lnTo>
                  <a:pt x="161" y="584"/>
                </a:lnTo>
                <a:lnTo>
                  <a:pt x="143" y="605"/>
                </a:lnTo>
                <a:lnTo>
                  <a:pt x="133" y="633"/>
                </a:lnTo>
                <a:lnTo>
                  <a:pt x="121" y="671"/>
                </a:lnTo>
                <a:lnTo>
                  <a:pt x="107" y="715"/>
                </a:lnTo>
                <a:lnTo>
                  <a:pt x="97" y="754"/>
                </a:lnTo>
                <a:lnTo>
                  <a:pt x="89" y="798"/>
                </a:lnTo>
                <a:lnTo>
                  <a:pt x="75" y="826"/>
                </a:lnTo>
                <a:lnTo>
                  <a:pt x="55" y="852"/>
                </a:lnTo>
                <a:lnTo>
                  <a:pt x="42" y="879"/>
                </a:lnTo>
                <a:lnTo>
                  <a:pt x="34" y="907"/>
                </a:lnTo>
                <a:lnTo>
                  <a:pt x="42" y="945"/>
                </a:lnTo>
                <a:lnTo>
                  <a:pt x="32" y="983"/>
                </a:lnTo>
                <a:lnTo>
                  <a:pt x="18" y="1011"/>
                </a:lnTo>
                <a:lnTo>
                  <a:pt x="6" y="1050"/>
                </a:lnTo>
                <a:lnTo>
                  <a:pt x="0" y="1096"/>
                </a:lnTo>
                <a:lnTo>
                  <a:pt x="10" y="1142"/>
                </a:lnTo>
                <a:lnTo>
                  <a:pt x="12" y="1173"/>
                </a:lnTo>
                <a:lnTo>
                  <a:pt x="22" y="1185"/>
                </a:lnTo>
                <a:lnTo>
                  <a:pt x="32" y="1163"/>
                </a:lnTo>
                <a:lnTo>
                  <a:pt x="51" y="1153"/>
                </a:lnTo>
                <a:lnTo>
                  <a:pt x="67" y="1157"/>
                </a:lnTo>
                <a:lnTo>
                  <a:pt x="77" y="1179"/>
                </a:lnTo>
                <a:lnTo>
                  <a:pt x="85" y="1195"/>
                </a:lnTo>
                <a:lnTo>
                  <a:pt x="109" y="1185"/>
                </a:lnTo>
                <a:lnTo>
                  <a:pt x="139" y="1181"/>
                </a:lnTo>
                <a:lnTo>
                  <a:pt x="161" y="1191"/>
                </a:lnTo>
                <a:lnTo>
                  <a:pt x="182" y="1197"/>
                </a:lnTo>
                <a:lnTo>
                  <a:pt x="208" y="1195"/>
                </a:lnTo>
                <a:lnTo>
                  <a:pt x="230" y="1179"/>
                </a:lnTo>
                <a:lnTo>
                  <a:pt x="250" y="1167"/>
                </a:lnTo>
                <a:lnTo>
                  <a:pt x="274" y="1163"/>
                </a:lnTo>
                <a:lnTo>
                  <a:pt x="297" y="1175"/>
                </a:lnTo>
                <a:lnTo>
                  <a:pt x="317" y="1189"/>
                </a:lnTo>
                <a:lnTo>
                  <a:pt x="339" y="1181"/>
                </a:lnTo>
                <a:lnTo>
                  <a:pt x="351" y="1159"/>
                </a:lnTo>
                <a:lnTo>
                  <a:pt x="373" y="1153"/>
                </a:lnTo>
                <a:lnTo>
                  <a:pt x="393" y="1146"/>
                </a:lnTo>
                <a:lnTo>
                  <a:pt x="381" y="1120"/>
                </a:lnTo>
                <a:lnTo>
                  <a:pt x="351" y="1116"/>
                </a:lnTo>
                <a:lnTo>
                  <a:pt x="327" y="1108"/>
                </a:lnTo>
                <a:lnTo>
                  <a:pt x="325" y="1086"/>
                </a:lnTo>
                <a:lnTo>
                  <a:pt x="339" y="1072"/>
                </a:lnTo>
                <a:lnTo>
                  <a:pt x="359" y="1062"/>
                </a:lnTo>
                <a:lnTo>
                  <a:pt x="387" y="1054"/>
                </a:lnTo>
                <a:lnTo>
                  <a:pt x="416" y="1054"/>
                </a:lnTo>
                <a:lnTo>
                  <a:pt x="442" y="1058"/>
                </a:lnTo>
                <a:lnTo>
                  <a:pt x="460" y="1074"/>
                </a:lnTo>
                <a:lnTo>
                  <a:pt x="454" y="1102"/>
                </a:lnTo>
                <a:lnTo>
                  <a:pt x="460" y="1124"/>
                </a:lnTo>
                <a:lnTo>
                  <a:pt x="474" y="1140"/>
                </a:lnTo>
                <a:lnTo>
                  <a:pt x="488" y="1124"/>
                </a:lnTo>
                <a:lnTo>
                  <a:pt x="514" y="1118"/>
                </a:lnTo>
                <a:lnTo>
                  <a:pt x="539" y="1126"/>
                </a:lnTo>
                <a:lnTo>
                  <a:pt x="565" y="1136"/>
                </a:lnTo>
                <a:lnTo>
                  <a:pt x="581" y="1152"/>
                </a:lnTo>
                <a:lnTo>
                  <a:pt x="597" y="1171"/>
                </a:lnTo>
                <a:lnTo>
                  <a:pt x="617" y="1173"/>
                </a:lnTo>
                <a:lnTo>
                  <a:pt x="644" y="1159"/>
                </a:lnTo>
                <a:lnTo>
                  <a:pt x="672" y="1169"/>
                </a:lnTo>
                <a:lnTo>
                  <a:pt x="700" y="1185"/>
                </a:lnTo>
                <a:lnTo>
                  <a:pt x="722" y="1201"/>
                </a:lnTo>
                <a:close/>
              </a:path>
            </a:pathLst>
          </a:custGeom>
          <a:solidFill>
            <a:srgbClr val="666699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122"/>
          <p:cNvSpPr/>
          <p:nvPr/>
        </p:nvSpPr>
        <p:spPr>
          <a:xfrm>
            <a:off x="7402320" y="530712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B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ff"/>
                </a:solidFill>
                <a:latin typeface="Arial"/>
              </a:rPr>
              <a:t>Качество культуры организ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Picture 2" descr="01-04"/>
          <p:cNvPicPr/>
          <p:nvPr/>
        </p:nvPicPr>
        <p:blipFill>
          <a:blip r:embed="rId1"/>
          <a:srcRect l="0" t="7094" r="0" b="0"/>
          <a:stretch/>
        </p:blipFill>
        <p:spPr>
          <a:xfrm>
            <a:off x="1393920" y="1330200"/>
            <a:ext cx="6460920" cy="51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2"/>
          <p:cNvSpPr/>
          <p:nvPr/>
        </p:nvSpPr>
        <p:spPr>
          <a:xfrm>
            <a:off x="657360" y="380880"/>
            <a:ext cx="777240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Аспекты организационного профил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ectangle 3"/>
          <p:cNvSpPr/>
          <p:nvPr/>
        </p:nvSpPr>
        <p:spPr>
          <a:xfrm>
            <a:off x="393840" y="1201680"/>
            <a:ext cx="8424720" cy="52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А.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Область применения СМК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Б.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Понимание возможностей организаци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В.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Понимание человеческого потенциал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Г.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2000" spc="-1" strike="noStrike" u="sng">
                <a:solidFill>
                  <a:srgbClr val="3333ff"/>
                </a:solidFill>
                <a:uFillTx/>
                <a:latin typeface="Arial"/>
              </a:rPr>
              <a:t>Понимание окружающей среды</a:t>
            </a:r>
            <a:r>
              <a:rPr b="0" lang="ru-RU" sz="2000" spc="-1" strike="noStrike">
                <a:solidFill>
                  <a:srgbClr val="3333ff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Д.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Конкурентная ситуа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0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9" dur="80"/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0" dur="80"/>
                                        <p:tgtEl>
                                          <p:spTgt spid="4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1" dur="80"/>
                                        <p:tgtEl>
                                          <p:spTgt spid="4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1240"/>
                            </p:stCondLst>
                            <p:childTnLst>
                              <p:par>
                                <p:cTn id="36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7" dur="1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1026"/>
          <p:cNvSpPr/>
          <p:nvPr/>
        </p:nvSpPr>
        <p:spPr>
          <a:xfrm>
            <a:off x="657360" y="380880"/>
            <a:ext cx="777240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Аспекты организационного профил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ectangle 1027"/>
          <p:cNvSpPr/>
          <p:nvPr/>
        </p:nvSpPr>
        <p:spPr>
          <a:xfrm>
            <a:off x="393840" y="1201680"/>
            <a:ext cx="8424720" cy="52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Г.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Понимание окружающей сред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Рынок и потребители (основные требования к ключевым клиентам и сегментам рынка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Заинтересованные стороны (ключевые партнеры и их требования, требования к основным инвесторам и акционерам и др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Требования общества (законодательные и регулирующие требования, экологические аспекты деятельности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Культура организации в отношении безопасности окружающей среды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Степень свободы в принятии решени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0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4" dur="80"/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5" dur="80"/>
                                        <p:tgtEl>
                                          <p:spTgt spid="4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6" dur="80"/>
                                        <p:tgtEl>
                                          <p:spTgt spid="4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1240"/>
                            </p:stCondLst>
                            <p:childTnLst>
                              <p:par>
                                <p:cTn id="37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2" dur="1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2"/>
          <p:cNvSpPr/>
          <p:nvPr/>
        </p:nvSpPr>
        <p:spPr>
          <a:xfrm>
            <a:off x="657360" y="380880"/>
            <a:ext cx="777240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Аспекты организационного профил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Rectangle 3"/>
          <p:cNvSpPr/>
          <p:nvPr/>
        </p:nvSpPr>
        <p:spPr>
          <a:xfrm>
            <a:off x="393840" y="1201680"/>
            <a:ext cx="8424720" cy="52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А.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Область применения СМК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Б.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Понимание возможностей организаци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В.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Понимание человеческого потенциал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Г.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Понимание окружающей сред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Д.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2000" spc="-1" strike="noStrike" u="sng">
                <a:solidFill>
                  <a:srgbClr val="3333ff"/>
                </a:solidFill>
                <a:uFillTx/>
                <a:latin typeface="Arial"/>
              </a:rPr>
              <a:t>Конкурентная ситуа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0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9" dur="80"/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0" dur="80"/>
                                        <p:tgtEl>
                                          <p:spTgt spid="4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1" dur="80"/>
                                        <p:tgtEl>
                                          <p:spTgt spid="4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1240"/>
                            </p:stCondLst>
                            <p:childTnLst>
                              <p:par>
                                <p:cTn id="39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7" dur="1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1026"/>
          <p:cNvSpPr/>
          <p:nvPr/>
        </p:nvSpPr>
        <p:spPr>
          <a:xfrm>
            <a:off x="657360" y="380880"/>
            <a:ext cx="777240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Аспекты организационного профил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Rectangle 1027"/>
          <p:cNvSpPr/>
          <p:nvPr/>
        </p:nvSpPr>
        <p:spPr>
          <a:xfrm>
            <a:off x="393840" y="1201680"/>
            <a:ext cx="8424720" cy="52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Д.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Конкурентная ситуац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Рынок и потребители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(основные требования к ключевым клиентам и сегментам рынка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Угроза появления новых производителе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Угроза появления альтернативных продукт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Стабильный состав потребителе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Стабильный состав поставщик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Конкуренция в рамках отрасл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0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4" dur="80"/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5" dur="80"/>
                                        <p:tgtEl>
                                          <p:spTgt spid="4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6" dur="80"/>
                                        <p:tgtEl>
                                          <p:spTgt spid="4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1240"/>
                            </p:stCondLst>
                            <p:childTnLst>
                              <p:par>
                                <p:cTn id="40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2" dur="1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ff"/>
                </a:solidFill>
                <a:latin typeface="Arial"/>
              </a:rPr>
              <a:t>Учебное зад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ределить ситуацию «</a:t>
            </a: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Как ест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» для организации на базе функциональной модели оценки менеджмента (</a:t>
            </a:r>
            <a:r>
              <a:rPr b="0" lang="ru-RU" sz="2400" spc="-1" strike="noStrike">
                <a:solidFill>
                  <a:srgbClr val="3333ff"/>
                </a:solidFill>
                <a:latin typeface="Arial"/>
              </a:rPr>
              <a:t>ФМО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 и модели </a:t>
            </a:r>
            <a:r>
              <a:rPr b="0" lang="ru-RU" sz="2400" spc="-1" strike="noStrike">
                <a:solidFill>
                  <a:srgbClr val="3333ff"/>
                </a:solidFill>
                <a:latin typeface="Arial"/>
              </a:rPr>
              <a:t>результативного менеджмент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ределить ситуацию «</a:t>
            </a: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Как надо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» для организации в рамках концепции постоянного улучшения системы управл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ределить </a:t>
            </a:r>
            <a:r>
              <a:rPr b="0" lang="ru-RU" sz="2400" spc="-1" strike="noStrike">
                <a:solidFill>
                  <a:srgbClr val="3333ff"/>
                </a:solidFill>
                <a:latin typeface="Arial"/>
              </a:rPr>
              <a:t>перечень элементов организационного профил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требующих улучшения в режиме управляемых измен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3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ff"/>
                </a:solidFill>
                <a:latin typeface="Arial"/>
              </a:rPr>
              <a:t>Список литерату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276200"/>
            <a:ext cx="8229600" cy="484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Качество в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XI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еке. Роль качества в обеспечении конкурентоспособности и устойчивого развития / Под ред. Т. Конти. - М.: «Стандарты и качество», 2005. - 280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Швец В.Е. Устойчивое развитие и менеджмент качества // Стандарты и качество.- 2005.- №11.- С.38-43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Чайка И.И. Что будет со стандартами ИСО серии 9000 в 2008 году // Стандарты и качество.- 2006.-№3.- С.64-69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Аванесов Е.К., Швец В.Е. Самооценка организационного профиля компании и СМК // Методы менеджмента качества.- 2005.- №1.- С.4-1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.Ливиц И.М. Номенклатура критериев конкурентоспособности товаров и услуг. Методические основы выбора // Стандарты и качество.- 2005.- №11.- С.50-5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6.Кузнецов Л.А. Инновационные технологии управления качеством // Методы менеджмента качества.- 2008.- №11.- 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ff"/>
                </a:solidFill>
                <a:latin typeface="Arial"/>
              </a:rPr>
              <a:t>Список литературы</a:t>
            </a:r>
            <a:br>
              <a:rPr sz="3200"/>
            </a:br>
            <a:r>
              <a:rPr b="0" lang="ru-RU" sz="3200" spc="-1" strike="noStrike">
                <a:solidFill>
                  <a:srgbClr val="3333ff"/>
                </a:solidFill>
                <a:latin typeface="Arial"/>
              </a:rPr>
              <a:t>(продолжение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7.Маслов Д.В. Самооценка в системе координат «измерение показателей – внутренний аудит – модели совершенства» // Методы менеджмента качества.-2008.-№1.-С.15-2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8.Маслов Д.В. Самооценка в системе координат «измерение показателей – внутренний аудит – модели совершенства» // Методы менеджмента качества.-2008.-№2.-С.30-3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9. Ситниченко В.М., Киселева А.Б., Стоякин Е.А. Определение степени эффективности применения восьми принципов менеджмента // Методы менеджмента качества.- 2007.- №10.- С.16-2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0.Ситниченко В.М., Киселева А.Б., Стоякин Е.А. Восемь принципов менеджмента: достижение финансовых и экономических выгод // Методы менеджмента качества.- 2007.-№11.- С.16-2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1.Харрингтон Дж. Совершенство управления изменениями.- М.: РИА «Стандарты и качество», 2008.- 192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522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3399"/>
                </a:solidFill>
                <a:latin typeface="Times New Roman Cyr"/>
              </a:rPr>
              <a:t>Спасибо за внимание</a:t>
            </a:r>
            <a:r>
              <a:rPr b="1" i="1" lang="en-US" sz="4000" spc="-1" strike="noStrike">
                <a:solidFill>
                  <a:srgbClr val="333399"/>
                </a:solidFill>
                <a:latin typeface="Times New Roman Cyr"/>
              </a:rPr>
              <a:t>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4676760"/>
            <a:ext cx="8229600" cy="143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imes New Roman Cyr"/>
              </a:rPr>
              <a:t>Тел.: (8162) 62032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 Cyr"/>
              </a:rPr>
              <a:t>E-mail: vladimir.isaev@novsu.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Line 1028"/>
          <p:cNvSpPr/>
          <p:nvPr/>
        </p:nvSpPr>
        <p:spPr>
          <a:xfrm>
            <a:off x="1074600" y="4456080"/>
            <a:ext cx="6689880" cy="0"/>
          </a:xfrm>
          <a:prstGeom prst="line">
            <a:avLst/>
          </a:prstGeom>
          <a:ln w="572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0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9" dur="80"/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0" dur="80"/>
                                        <p:tgtEl>
                                          <p:spTgt spid="4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1" dur="80"/>
                                        <p:tgtEl>
                                          <p:spTgt spid="4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760"/>
                            </p:stCondLst>
                            <p:childTnLst>
                              <p:par>
                                <p:cTn id="42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5" dur="80"/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6" dur="80"/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7" dur="80"/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1480"/>
                            </p:stCondLst>
                            <p:childTnLst>
                              <p:par>
                                <p:cTn id="42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1" dur="80"/>
                                        <p:tgtEl>
                                          <p:spTgt spid="4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2" dur="80"/>
                                        <p:tgtEl>
                                          <p:spTgt spid="4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3" dur="80"/>
                                        <p:tgtEl>
                                          <p:spTgt spid="4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2720"/>
                            </p:stCondLst>
                            <p:childTnLst>
                              <p:par>
                                <p:cTn id="43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Для достижения делового совершенства компании достаточно эффективно управлять всего пятью составляющими ее деятельности – </a:t>
            </a:r>
            <a:r>
              <a:rPr b="0" lang="ru-RU" sz="2400" spc="-1" strike="noStrike" u="sng">
                <a:solidFill>
                  <a:srgbClr val="333399"/>
                </a:solidFill>
                <a:uFillTx/>
                <a:latin typeface="Arial"/>
              </a:rPr>
              <a:t>пятью столпами организационного совершен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8" name="Object 1027"/>
          <p:cNvGraphicFramePr/>
          <p:nvPr/>
        </p:nvGraphicFramePr>
        <p:xfrm>
          <a:off x="395280" y="1989000"/>
          <a:ext cx="8435880" cy="4146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9" name="Object 102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989000"/>
                    <a:ext cx="8435880" cy="414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2"/>
          <p:cNvSpPr/>
          <p:nvPr/>
        </p:nvSpPr>
        <p:spPr>
          <a:xfrm>
            <a:off x="371520" y="380880"/>
            <a:ext cx="843912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Трактовка термин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«</a:t>
            </a:r>
            <a:r>
              <a:rPr b="0" i="1" lang="ru-RU" sz="3200" spc="-1" strike="noStrike">
                <a:solidFill>
                  <a:srgbClr val="333399"/>
                </a:solidFill>
                <a:latin typeface="Arial"/>
              </a:rPr>
              <a:t>Стоимость </a:t>
            </a: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Value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)</a:t>
            </a: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 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333399"/>
                </a:solidFill>
                <a:latin typeface="Arial"/>
              </a:rPr>
              <a:t>Ценность </a:t>
            </a: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Worth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3"/>
          <p:cNvSpPr/>
          <p:nvPr/>
        </p:nvSpPr>
        <p:spPr>
          <a:xfrm>
            <a:off x="393840" y="1201680"/>
            <a:ext cx="8424720" cy="52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Стоимость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Value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) –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справедливое возмещение или эквивалент в виде товара, услуг или в денежном выражении за объект обмена, т.е. это </a:t>
            </a:r>
            <a:r>
              <a:rPr b="0" i="1" lang="ru-RU" sz="2000" spc="-1" strike="noStrike">
                <a:solidFill>
                  <a:srgbClr val="c00000"/>
                </a:solidFill>
                <a:latin typeface="Arial"/>
              </a:rPr>
              <a:t>объективная оценка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, определяемая в рыночных условиях, которая основана на меновых пропорциях, сложившихся в ходе конкуренци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Ценность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Worth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) – </a:t>
            </a: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стоимость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объекта, выраженная через качество или престижность, которые его характеризуют, т.е. это </a:t>
            </a:r>
            <a:r>
              <a:rPr b="0" i="1" lang="ru-RU" sz="2000" spc="-1" strike="noStrike">
                <a:solidFill>
                  <a:srgbClr val="c00000"/>
                </a:solidFill>
                <a:latin typeface="Arial"/>
              </a:rPr>
              <a:t>субъективная оценка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, определяемая путем сравнения, на основании исторических фактов или личного опыта; </a:t>
            </a:r>
            <a:r>
              <a:rPr b="0" i="1" lang="ru-RU" sz="2000" spc="-1" strike="noStrike">
                <a:solidFill>
                  <a:srgbClr val="c00000"/>
                </a:solidFill>
                <a:latin typeface="Arial"/>
              </a:rPr>
              <a:t>степень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, с которой совокупность свойств объекта делает его полезным, нужным конкретному потребителю в качестве средства удовлетворения его потребностей и интерес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" dur="8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" dur="8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" dur="8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040"/>
                            </p:stCondLst>
                            <p:childTnLst>
                              <p:par>
                                <p:cTn id="5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0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Действия по созданию цен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257120"/>
            <a:ext cx="8229600" cy="537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ходе производства в организации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выполняется множество действи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Их можно разделить на </a:t>
            </a:r>
            <a:r>
              <a:rPr b="0" i="1" lang="ru-RU" sz="2000" spc="-1" strike="noStrike">
                <a:solidFill>
                  <a:srgbClr val="ff3300"/>
                </a:solidFill>
                <a:latin typeface="Arial"/>
              </a:rPr>
              <a:t>три категори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действия, реально добавляющие ценность (ДДЦ)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Действия, добавляющие продукции ценность с точки зрения конечного потребителя (покупателя). Это типичные операции, создающие </a:t>
            </a:r>
            <a:r>
              <a:rPr b="0" lang="ru-RU" sz="2000" spc="-1" strike="noStrike">
                <a:solidFill>
                  <a:srgbClr val="a50021"/>
                </a:solidFill>
                <a:latin typeface="Arial"/>
              </a:rPr>
              <a:t>функциональность продукции и соответствующий внешний вид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действия, добавляющие ценность организации (ДДО)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Это операции, во время которых с точки зрения потребителя (покупателя) </a:t>
            </a:r>
            <a:r>
              <a:rPr b="0" lang="ru-RU" sz="2000" spc="-1" strike="noStrike">
                <a:solidFill>
                  <a:srgbClr val="a50021"/>
                </a:solidFill>
                <a:latin typeface="Arial"/>
              </a:rPr>
              <a:t>никакой новой ценности не добавляетс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Однако они нужны с точки зрения организации. Это может быть планирование производства, обслуживание и ремонт оборудования, управление персоналом и т.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действия, не добавляющие ценность (ДНЦ)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Это действия, которые вообще </a:t>
            </a:r>
            <a:r>
              <a:rPr b="0" lang="ru-RU" sz="2000" spc="-1" strike="noStrike">
                <a:solidFill>
                  <a:srgbClr val="a50021"/>
                </a:solidFill>
                <a:latin typeface="Arial"/>
              </a:rPr>
              <a:t>не добавляют ценность ни для потребителя, ни для организаци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Типичные примеры – вынужденные простои производства, складирование, переделка продукции и т.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8T11:36:21Z</dcterms:created>
  <dc:creator>Vladimir Isaev</dc:creator>
  <dc:description/>
  <dc:language>en-US</dc:language>
  <cp:lastModifiedBy>ASI2</cp:lastModifiedBy>
  <dcterms:modified xsi:type="dcterms:W3CDTF">2013-08-09T18:20:20Z</dcterms:modified>
  <cp:revision>282</cp:revision>
  <dc:subject/>
  <dc:title>Слайд 1</dc:title>
</cp:coreProperties>
</file>