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1C7-F72F-4533-AF43-FAF9EC6E8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B12-0C07-4195-860F-59949758A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E8B-081F-43C0-BE64-E1E02B06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8E9-AFCD-4B6F-A4EA-1539D581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781-1C38-44C0-B071-2F4F1AF9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EFC-92D3-401E-913C-E801FDB8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050A-62A9-4789-B50D-8F9A1981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8F07-6F35-4D03-823C-7B3A466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F682-1C8B-443B-BB3E-70A5E08E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F6B1-6883-4B63-8692-ABEC0336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D990-3AF8-461D-8EE2-C832D5F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116-691C-4273-87CB-DD51DCD1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D19-B7A4-4CBB-AFD8-79354034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E18-5D9B-4600-9707-A2AAE53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58C2-0FB9-47F9-B0E5-EF5F381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5AE7-FB82-4B41-AE1D-E8AC6FC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4B9-DAAD-4A3E-A054-80A668D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5759-C693-4DF7-BE8F-DDB99A61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843E-25AC-495C-9739-ED808895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DFAA-9657-4B88-A245-F658C0F9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6241-814F-4B37-9087-75717730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52A5-CEB6-46F4-A9B6-DDBDC14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656D-6EF5-4115-AE27-E1B490C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BCC8-E70C-4BA7-A54F-D367BA3F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9B4-1492-4E58-A31A-85379133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F10D-0636-4932-9D29-8E52802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89FE-B276-45DD-ABF8-D9C1154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686F-B07D-466B-B2F2-E2865F0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1BF3-8DDF-4D9E-BE36-E5D7270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42C5-BFBC-454E-BC14-A3CC392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EADB-4E53-4739-94AF-2385B7C1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9E54-BD22-4922-9585-952EC3A2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A298-6616-4322-A73D-EF70C677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E793-0B19-4456-9938-577B68ED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DF44-54DB-4E3D-B32A-FC0157F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439-1896-4929-8AFF-F2689E87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9431-63B2-49F7-81A8-EDC10C9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6125-507C-4EB6-A888-8F3C73E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3584-1C47-4DC2-8165-83142D0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8F79-AAE4-44AC-84F4-6F9BE99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6449-FA10-4401-8103-7D7C2EC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B8C3-F5BE-45EF-9AA0-5665878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11BF-D51B-46FA-971A-84D36242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7E66-7E40-410F-AAB1-E0EEF0CB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7624-7A7D-4337-B1E0-3247DBF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A31-D050-4195-83EF-6AE468C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096-A5D7-4012-892A-91FA951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6D9-30CD-4BB3-9EB5-0C9B208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2C9-E7AF-43DF-B087-D79A22E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128-14C4-4BA1-AEF2-32E4879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C2F-3A72-4E88-A3FB-B2FB48F381C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08E0-556F-4A3D-B904-91EB84069A6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567-879F-4894-9600-945840D138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26E-F63D-417A-80CC-B6EC398BD53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33440" y="1365120"/>
            <a:ext cx="8472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Циклон сепаратора А1-БИС-12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58920" y="2143080"/>
            <a:ext cx="64152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Технологическая схема процесса в сепараторах А1-БИС-12 и А1-БИС-100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979640" y="2327400"/>
            <a:ext cx="54720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Очищенное на ситах от крупных и мелких примесей зерно поступает на вибролоток 10 и далее в пневмосепарирующий канал 6; при прохождении воздуха через поток зерна легкие примеси выделяются из зерновой смеси и выносятся воздухом через канал в горизонтальный циклон. С помощью дроссельного клапана 7 и подвижной стенки 8 регулируется аэродинамический режим, обеспечивающий эффективное удаление легких примесей из сепаратора. Очищенное зерно из пневмосепарирующего канала через отверстие в полу по самотечным трубам идет на дальнейшую обработк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 время работы сепаратора под нагрузкой особое внимание обращают на равномерность подачи зерна в ситовой корпус, равномерность распределения зерна по ширине сортировочных сит, плавность хода ситового корпуса, отсутствие подпора зерна и чрезмерного пыления, наличие подпора зерна в питающих коробках 11 над вибролотками 10, эффективность сепарирования в пневмосепарирующем канале, отсутствие забиваемости сит зерном и примеся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4617b"/>
                </a:solidFill>
                <a:latin typeface="Calibri"/>
              </a:rPr>
              <a:t>Техническая характеристика сепараторов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1484280"/>
          <a:ext cx="8229600" cy="5091120"/>
        </p:xfrm>
        <a:graphic>
          <a:graphicData uri="http://schemas.openxmlformats.org/drawingml/2006/table">
            <a:tbl>
              <a:tblPr/>
              <a:tblGrid>
                <a:gridCol w="4392720"/>
                <a:gridCol w="1871640"/>
                <a:gridCol w="196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1-БИС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1-БИС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Производительность, т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Эффективность очистк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Установленная мощность, к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Масса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Габаритны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00 х 365 х  1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00 х 2520 х 1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Частота колебаний ситового кузова, колеб/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диус колебания ситового кузова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+/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+/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сход воздуха, м3/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змер решет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0 х 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0 х 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Площадь сит, м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Число ситовых рамок в яру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Общее число ситовых рам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User\Desktop\konstru2.jpg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4022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User\Desktop\konstru2 - копия.jpg"/>
          <p:cNvPicPr/>
          <p:nvPr/>
        </p:nvPicPr>
        <p:blipFill>
          <a:blip r:embed="rId2"/>
          <a:stretch/>
        </p:blipFill>
        <p:spPr>
          <a:xfrm>
            <a:off x="1422360" y="3854520"/>
            <a:ext cx="6029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Определение технологических параметров сепаратор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изводительность машины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пределяется по зависимост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Q=q*B</a:t>
            </a:r>
            <a:r>
              <a:rPr b="1" i="1" lang="kk-KZ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 удельная нагрузка на 1 м ширины сита, кг/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ширина сита, 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764640"/>
            <a:ext cx="85690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 удельной нагрузк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зависит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толщина  слоя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а, движущегося по ситу. Для определения этой толщины рекомендована форму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h’ = q/ V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ср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1" i="1" lang="el-GR" sz="26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* 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р 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редняя скорость перемещения зерна по си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i="1" lang="el-GR" sz="26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– объемная масса зерна, кг/м3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- коэффициент разрыхления зернов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меси, движущейся по ситу (для пшеницы=1,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Эффективность процесса сепарирования Е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%) определяется по формул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= ((B-Ba) * 100 )/A = B/A * (1- a) *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А- масса отделимых примесей в исход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осмеси, 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- масса отходов, кг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- относительное содержание нормальн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а в отходах, 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оздушно-ситовые сепараторы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агрегаты (комбинация воздушного и ситового сепараторов). Комбинирование 2-ух сепараторов в одном позволяет не только упростить технологическую схему и избежать лишних транспортных операций, но и повысить техно-экономические показатели (удельные энергозатраты, удельную металлоемкость, занимаемую площадь помещений и т.д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оздушно-ситовые сепараторы предназначены для отделения от зерна примесей, отличающихся шириной, толщиной и аэродинамическими свойств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Классификация воздушно-ситовых сепараторо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C:\Users\User\Desktop\Отсканировано 22.02.2012 17-13.jpg"/>
          <p:cNvPicPr/>
          <p:nvPr/>
        </p:nvPicPr>
        <p:blipFill>
          <a:blip r:embed="rId1"/>
          <a:stretch/>
        </p:blipFill>
        <p:spPr>
          <a:xfrm>
            <a:off x="1158840" y="2039760"/>
            <a:ext cx="669132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и сепараторы использу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предварительной очистки зерна на элеваторах (как ворохоочистител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очистки зерна от сорных примесей на элеваторах и крупозаво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первой технологической очистки зерна на мукомольных заво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и выделении мелкого зерна для фуражных ц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Сепараторы А1-БИС-12, А1-БИС-100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Сепараторы типа А1-БИС-100, А1-БИС-12 предназначены для первичной очистки зерна пшеницы (и других культур) от примесей, отличающихся шириной, толщиной и аэродинамическими свойствами, с помощью решет и воздушного пото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Сепараторы для первичной очистки зерна эксплуатируются в зерноподготовительных отделениях и на элеваторах мукомольных заводов, в том числе, в составе комплектного оборудования для вновь строящихся мельниц; конструкция сепараторов очистки зерна марки А1-БИС-12 подразумевает под собой комплектацию горизонтальными циклонами со шлюзовыми затворами для вновь строящихся комплектных мельниц, а сепараторы А1-БИС-12-02, укомплектованны горизонтальными циклонами с противоподсосными клапанами для действующих мельниц. Сепараторы для очистки зерна марки А1-БИС-100 выпускаются без циклон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Сепаратор А1-БИС-12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166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86840" y="836280"/>
            <a:ext cx="892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Сепараторы типа А1-БИС-12 состоят из двухсекционного ситового корпуса, подвешенного к станине на гибких подвесках, и вертикального пневмосепарирующего канала. В корпусе сепаратора А1-БИС-12 установлены выдвигающиеся рамы с сортировочными 11 и подсевными 10 ситами, зафиксированные эксцентриковыми механизмами. Ситовые рамы продольными и поперечными брусками разделены на ячейки, в каждой из которых имеется по два резиновых шарика 13, предназначенных для очистки сит. К нижней плоскости ситовой рамы прикреплены сетчатые фордоны.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а передней стенке ситового корпуса установлен электродвигатель 9, который посредством клиноременной передачи приводит во вращение шкив 8 с дебалансным грузом, обеспечивающий круговое поступательное движение ситового корпуса. В верхней части станины установлен приемный патрубок 12 для поступления исходного зерна и патрубок 14 для подключения к аспирационной сети. Очищенное зерно выходит через выпускной канал 3. Для вывода крупных примесей служит лоток 7, для мелких — лоток 6. Со стороны сходовой части корпуса установлен пневмосепарирующий канал 2 с вибролотком 4, предназначенным для подачи зерна в кана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76464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Для наиболее эффективного выделения легких примесей в пневмосепарирующем канале регулируют амплитуду колебаний вибролотка с помощью вибратора 5, величину вылета его в канал, размер выходной щели и скорость воздушного потока (положением подвижной стенки 1) в верхней и нижней частях канала, а также расход воздух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В комплект  сепаратора  А1-БИС-12 входит специальный горизонтальный циклон, предназначенный для осаждения относов и устанавливаемый после сепаратора. Циклон представляет собой усеченный конус 2 (рис.), внутри которого на общей горизонтальной оси расположены два внутренних конуса 3, 4 меньших размеров. Они сварены между собой большими основаниями так, что образованный между конусами кольцевой канал вначале постепенно сужается, а затем резко расширяется, переходя в расширительную камеру 5, присоединенную к большему основанию наружного конуса 2. С противоположной стороны камера 5 имеет выходной патрубок 6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Во входной части циклона приварены четыре криволинейные лопасти 1, обеспечивающие закручивание воздушного потока в кольцевом канале. Снизу к расширительной камере присоединяют шлюзовой затвор 7 либо противоподсосный клапа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ринцип работы сепараторов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следующий: очищаемое зерно из приемного патрубка 1 самотеком поступает в ситовой корпус на распределительное днище 2, крупные примеси (сход с сортировочного сита 3) выводятся через фартук 5 по лотку 9 из сепаратора, а смесь зерна с мелкими примесями проходом через сортировочное сито 3 направляется на подсевное сито 4. Мелкие примеси (проход подсевного сита) поступают в лоток 12 и удаляются из сепарато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0:58:23Z</dcterms:created>
  <dc:creator>User</dc:creator>
  <dc:description/>
  <dc:language>en-US</dc:language>
  <cp:lastModifiedBy>User</cp:lastModifiedBy>
  <cp:lastPrinted>2012-02-22T13:03:01Z</cp:lastPrinted>
  <dcterms:modified xsi:type="dcterms:W3CDTF">2012-02-22T15:45:05Z</dcterms:modified>
  <cp:revision>9</cp:revision>
  <dc:subject/>
  <dc:title>Воздушно-ситовые сепараторы. Сепараторы А1-БИС-12, А1-БИС-100.</dc:title>
</cp:coreProperties>
</file>