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33.wmf" ContentType="image/x-wmf"/>
  <Override PartName="/ppt/media/image3.wmf" ContentType="image/x-wmf"/>
  <Override PartName="/ppt/media/image25.png" ContentType="image/png"/>
  <Override PartName="/ppt/media/image4.wmf" ContentType="image/x-wmf"/>
  <Override PartName="/ppt/media/image16.wmf" ContentType="image/x-wmf"/>
  <Override PartName="/ppt/media/image50.wmf" ContentType="image/x-wmf"/>
  <Override PartName="/ppt/media/image28.png" ContentType="image/png"/>
  <Override PartName="/ppt/media/image31.wmf" ContentType="image/x-wmf"/>
  <Override PartName="/ppt/media/image1.jpeg" ContentType="image/jpeg"/>
  <Override PartName="/ppt/media/image21.png" ContentType="image/png"/>
  <Override PartName="/ppt/media/image61.wmf" ContentType="image/x-wmf"/>
  <Override PartName="/ppt/media/image22.wmf" ContentType="image/x-wmf"/>
  <Override PartName="/ppt/media/image59.wmf" ContentType="image/x-wmf"/>
  <Override PartName="/ppt/media/image20.jpeg" ContentType="image/jpeg"/>
  <Override PartName="/ppt/media/image15.jpeg" ContentType="image/jpeg"/>
  <Override PartName="/ppt/media/image63.wmf" ContentType="image/x-wmf"/>
  <Override PartName="/ppt/media/image29.png" ContentType="image/png"/>
  <Override PartName="/ppt/media/image32.wmf" ContentType="image/x-wmf"/>
  <Override PartName="/ppt/media/image6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36.jpeg" ContentType="image/jpeg"/>
  <Override PartName="/ppt/media/image60.wmf" ContentType="image/x-wmf"/>
  <Override PartName="/ppt/media/image26.png" ContentType="image/png"/>
  <Override PartName="/ppt/media/image5.wmf" ContentType="image/x-wmf"/>
  <Override PartName="/ppt/media/image35.wmf" ContentType="image/x-wmf"/>
  <Override PartName="/ppt/media/image24.png" ContentType="image/png"/>
  <Override PartName="/ppt/media/image12.png" ContentType="image/png"/>
  <Override PartName="/ppt/media/image52.wmf" ContentType="image/x-wmf"/>
  <Override PartName="/ppt/media/image11.png" ContentType="image/png"/>
  <Override PartName="/ppt/media/image18.wmf" ContentType="image/x-wmf"/>
  <Override PartName="/ppt/media/image6.wmf" ContentType="image/x-wmf"/>
  <Override PartName="/ppt/media/image19.wmf" ContentType="image/x-wmf"/>
  <Override PartName="/ppt/media/image7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34.png" ContentType="image/png"/>
  <Override PartName="/ppt/media/image37.png" ContentType="image/png"/>
  <Override PartName="/ppt/media/image40.wmf" ContentType="image/x-wmf"/>
  <Override PartName="/ppt/media/image39.jpeg" ContentType="image/jpeg"/>
  <Override PartName="/ppt/media/image41.wmf" ContentType="image/x-wmf"/>
  <Override PartName="/ppt/media/image23.jpeg" ContentType="image/jpeg"/>
  <Override PartName="/ppt/media/image17.gif" ContentType="image/gif"/>
  <Override PartName="/ppt/media/image42.wmf" ContentType="image/x-wmf"/>
  <Override PartName="/ppt/media/image43.wmf" ContentType="image/x-wmf"/>
  <Override PartName="/ppt/media/image47.gif" ContentType="image/gif"/>
  <Override PartName="/ppt/media/image44.wmf" ContentType="image/x-wmf"/>
  <Override PartName="/ppt/media/image48.gif" ContentType="image/gif"/>
  <Override PartName="/ppt/media/image45.wmf" ContentType="image/x-wmf"/>
  <Override PartName="/ppt/media/image46.wmf" ContentType="image/x-wmf"/>
  <Override PartName="/ppt/media/image49.wmf" ContentType="image/x-wmf"/>
  <Override PartName="/ppt/media/image51.png" ContentType="image/pn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69CA-6E2F-49E0-B6D5-182BE255F2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B6BF-3A8C-412A-B837-BB87A92149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4804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946-AC71-4845-942A-BD501E2C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D4E-D46F-448E-BAE0-AB8A96D2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6BF-921C-4741-AB37-19894079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BCA-5DA7-4899-947D-A15AB4BC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4E4E2-3573-44DC-9715-327971F7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D219A-EB9E-4B84-AD2B-173C8A87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A6971-64A7-456D-9DC7-7A4806F2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19E59-CE40-4181-8A72-8F1E8A3D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481A0-7562-419A-A6E1-9F9ADD14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DC50E-B9E1-4B55-AAF0-CDEBDF00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8E33-714C-48E7-87A8-F1C5C77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871-7932-4F18-A3C9-63B4177A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E6F61-CD92-41C1-AB31-4AE1146F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71169-4933-4A54-A659-83144285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AE70D-2338-400E-95EA-A88AF872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B5044-DB53-4953-B2CA-22D31667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1E2C6-E6B2-406D-928B-AF2ED6A9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27B-E5A9-4C0E-802F-3FF7E5A1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99E-C3A6-47B6-BE11-4625254C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C18-B22E-49E7-A0CD-EE346AE1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E5A-CC8E-4FF1-8E31-6A5C6AC7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7AB-6C02-40A8-A13C-D5E717BB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9B9-1FDA-4037-91B3-ECDB645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1AA-5AB7-414B-83CE-AD732FB1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79BA-75BB-4635-9693-9FB4BEED54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C62F-2316-4612-9710-56031A7BE5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848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истем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экологического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менеджмента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 основе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тандартов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ИСО 1400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1920"/>
            <a:ext cx="365904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6 год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/ТК 207 опубликовал комплекс стандартов ИСО серии 14000, базу которых составляют стандарты ИСО 14001 и ИСО 14004, позволяющие выполнять все необходимые требования от общих принципов самооценки, до процедуры регистрации и сертифик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енно, что стандарты этой серии не устанавливают конкретизированные уровни оценки состояния окружающей среды, а определяют требования к системе управления, мерам по её контролю и охра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Цели аудит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ответствует ли система управления окружающей средой запланированным мероприятиям по управлению окружающей средой, в том числе  запланированным требованиям станда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жным ли образом система окружающей средой реализуется и поддерживается в рабочем состоя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оставить информацию о результатах аудита руковод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955440" y="13413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Цели ауди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11280" y="1052640"/>
            <a:ext cx="71215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аудито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й стороны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полняется организацией в своих целя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внутренний ауд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торой сторон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выполняется заинтересованной или иной организацией, например, потребителем у поставщ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ей стороны - выполняется независимой организацией,                             обычно в целях сертифик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880240" y="5157720"/>
            <a:ext cx="3263760" cy="1474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8893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58920" y="1943280"/>
            <a:ext cx="59770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ы сертификационных аудитов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ны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ертификационный) аудит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нспекцион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cccc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-сертификационный аудит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19051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95280" y="333360"/>
            <a:ext cx="87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360" y="866880"/>
            <a:ext cx="806436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ые принципы проведения аудит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чно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веден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основ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фессионализ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Беспристраст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обязательство по предоставлению правдивых и точных отчет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фессиональная осмотритель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прилежание и здравый смысл при проведении ауди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зависим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основ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еспристрастности и объективности заключений ауди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видетельств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разумная основа для достижения надежных и воспроизводимых заключений в процессе систематического аудита;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ление результат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точный и честный отче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ная старательно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касается всех вопросо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9"/>
          <a:stretch/>
        </p:blipFill>
        <p:spPr>
          <a:xfrm>
            <a:off x="7020000" y="2965320"/>
            <a:ext cx="1944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627280" y="33336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4360" y="333360"/>
            <a:ext cx="70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сс аудит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877080" y="2349360"/>
            <a:ext cx="16495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1835280" y="907920"/>
            <a:ext cx="4608360" cy="5949720"/>
            <a:chOff x="1835280" y="907920"/>
            <a:chExt cx="4608360" cy="5949720"/>
          </a:xfrm>
        </p:grpSpPr>
        <p:sp>
          <p:nvSpPr>
            <p:cNvPr id="478" name=""/>
            <p:cNvSpPr/>
            <p:nvPr/>
          </p:nvSpPr>
          <p:spPr>
            <a:xfrm>
              <a:off x="1835280" y="907920"/>
              <a:ext cx="4608360" cy="992160"/>
            </a:xfrm>
            <a:prstGeom prst="flowChartTerminator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Инициирование ауди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определение целей, области распространения и критериев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определение выполнимости аудита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создание группы аудиторов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начальный контакт с проверяемой организацией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35280" y="2053080"/>
              <a:ext cx="4608360" cy="61236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Анализ документаци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анализ соответствующих документов и протокол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системы менеджмента   и определение их адекват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35280" y="2814840"/>
              <a:ext cx="4608360" cy="76320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Подготовка к аудиту «на месте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планирование аудита на месте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распределение работы между аудиторами группы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подготовка рабочих документ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35280" y="3731400"/>
              <a:ext cx="4608360" cy="122256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Аудит «на месте»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проведение предварительного совещания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сбор и подтверждение информации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идентификация результатов аудита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получение наблюдений аудита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подготовка  к заключительному совещанию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проведение заключительного совеща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35280" y="5104080"/>
              <a:ext cx="4608360" cy="763200"/>
            </a:xfrm>
            <a:prstGeom prst="flowChartProcess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Отчет о проведенном аудит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подготовка отчета по аудиту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утверждение и рассылка отчета о аудите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 хранение документ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35280" y="6020280"/>
              <a:ext cx="4608360" cy="304200"/>
            </a:xfrm>
            <a:prstGeom prst="flowChartTerminator">
              <a:avLst/>
            </a:prstGeom>
            <a:solidFill>
              <a:srgbClr val="33cc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Завершение ауди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35280" y="6553440"/>
              <a:ext cx="4608360" cy="304200"/>
            </a:xfrm>
            <a:prstGeom prst="flowChartTerminator">
              <a:avLst/>
            </a:prstGeom>
            <a:solidFill>
              <a:srgbClr val="ccff99"/>
            </a:solidFill>
            <a:ln w="38160">
              <a:solidFill>
                <a:srgbClr val="00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Times New Roman"/>
                </a:rPr>
                <a:t>Последующие аудиты</a:t>
              </a:r>
              <a:r>
                <a:rPr b="0" lang="en-US" sz="18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70240" y="1900080"/>
              <a:ext cx="0" cy="151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70240" y="2663640"/>
              <a:ext cx="0" cy="151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70240" y="357840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70240" y="4950720"/>
              <a:ext cx="0" cy="151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70240" y="58672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8560" y="6324480"/>
              <a:ext cx="0" cy="228600"/>
            </a:xfrm>
            <a:prstGeom prst="line">
              <a:avLst/>
            </a:prstGeom>
            <a:ln w="38160">
              <a:solidFill>
                <a:srgbClr val="cc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ысшее руководств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лжно анализировать через запланированные промежутки времени систему экологического менеджмента организации с целью обеспечения её постоянной пригодности, адекватности и эффективности. Такой анализ должен включать оценку возможностей по улучшению, а также потребности 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несении изменений в систему экологического менеджмента, включая экологическую политику, цели и задач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ледует хранить записи в отнош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нализа со стороны руко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7236000" y="4149720"/>
            <a:ext cx="2176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нализ со стороны руководства не требует «документированных процедур», однако рекомендуется разработать документ, который должен уствнавлива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ту проведения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вестку дня заседаний д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ведения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особ документального оформления результ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ветственного за организацию засед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итерии для обоснования проведения внепланового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6012000" y="2854440"/>
            <a:ext cx="2663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Входные данные для ана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зультаты внутренних аудитов и оценки соответствия законодательным и другим требования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ю, поступающую от внешних заинтересованных сторон, включая жало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епень достижения целей и выполнения зада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кологическая эффективность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атус корректирующих и предупреждающих действ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следующие действия, вытекающие из предыду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нализов со стороны руко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менение обстоятельств, включая  изме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законодательных и других требования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вязанных с экологическими аспектами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комендации по улучш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6983280" y="4829040"/>
            <a:ext cx="21607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зультаты анализа обычно оформляются в виде документа который чаще всего содержит следующие дан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сто и время проведения ана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ъект ана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токол об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шения, планируемые мероприятия, сроки выполнения и ответств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227640" y="2637000"/>
            <a:ext cx="2460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 этапа проведения анализа СЭМ со стороны руко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   Сбор и подготовка исход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нных для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   Систематизация данны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едварительный анализ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кументирование результ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   Согласование с заинтересованны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орон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    Рассмотрение и принятие ре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227640" y="2924280"/>
            <a:ext cx="28558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дальнейшем стандарты ИСО серии 14000 были пересмотрены и в 2004 году вышли новые версии стандартов ИСО 14001 и  ИСО 1400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иод с 2004 года по 2006 год в международной экологической стандартизации был объявлен переходным к обновленным версиям основных стандартов серии 14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этап -СБОР ДАН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может использовать собственные данные из следующих источни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ниторинг и измер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тервью и наблю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надзор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инансовые и бухгалтерские запи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о закуп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по экологической эксперт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учные отчеты и 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вщики и субподрядч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требители, продавцы и заинтересованн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по экологическому обу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6997680" y="278136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этап-Анализ и преобразование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бранные данные должны быть проанализированы и преобразованы в информацию, описывающую экологическую эффективность организации. Чтобы избежать необъективности результатов, должны быть проанализированы все достоверные собранные дан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данных охватывать качество данных, их значимость, адекватность и полноту. Необходимые для получения полн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формация об экологической эффективности организации может быть получена с использованием расчетов, экспертных оценок, статистических методов или графических сред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012000" y="5259240"/>
            <a:ext cx="19047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 этап -СБОР ДАНН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может использовать собственные данные из следующих источни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ниторинг и измер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тервью и наблю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надзор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инансовые и бухгалтерские запи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о закуп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четы по экологической эксперт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учные отчеты и 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вщики и субподрядч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требители, продавцы и заинтересованные стор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и по экологическому обу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997680" y="278136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 этап- Оценивание информ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ю, полученную в результате анализа данных, следует сравнивать с критериями экологической эффективности организации. Такое сравнение может указывать на улучшение или ухудшение экологической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я об экологическ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ффективности организации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зультаты сравнения долж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ыть представлены в виде отч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уковод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688080" y="3807000"/>
            <a:ext cx="24559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.4.6 Анализ со стороны руков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81583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формация об экологической эффективности может быть представлена в виде отчета или передана заинтересованным сторонам внутри или вне организации, в зависимости от оценки руководством потребностей в её распростран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Результатом отчетности и распространения информации об экологической эффективности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помощь организации в достижении критериев экологической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повышение осведомленности о соответствующих достижениях орган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демонстрация возможностей и действий организации по улучшению экологической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позволяйте себе увязну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утине «текучк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работы – это условие успех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размышлений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источник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чтения – это основа зн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дружбы – это условие счаст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любви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истинная радость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ходите время для веселья – это музыка душ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мните: время не обратим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нельзя накопить, передать, куп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РЕМЯ проходит БЕЗВОЗВРАТН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0880" y="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му нужн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907920"/>
            <a:ext cx="8353440" cy="559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ы ли нам озоновые дыры? Чернобыльские ветры нам к чему?             Нужны ли нам толчки подземных взрывов? И реки, разносящие чу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Кого не угнетает вид убогий в болота превращающихся рек?                           И сколько натворит еще жесто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с и природу не щадящий век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Нужны ли нам отвалов небоскребы? Карьеров полумертвых глубина?                         И благости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ой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огоды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 сваленного леса тишина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          Нужны ли нам болезни почв 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хожих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 эрозией, с нитратами по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И до каких же пор терпеть нас может не в меру оскорбленная земля?                  Нужны ль “моря”, подобные Арал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умелая игра притворных с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Нужны ли “освоение” Байкала и повторение экокатастро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Законов много издано в у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в угоду экономике, жулью…                                      А надо угождать самой природе, она – исток земному бытию.                        Нужны ли нам озоновые дыры? Чернобыльские ветры нам к чему?                     И гибель рек, и атомные взрыв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И если – да,  ответят пусть – ко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ев Руф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00000" y="74520"/>
            <a:ext cx="7632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ия стандартов ИСО 14000 содержит как основополагающие, так и нормативные стандарты, охватывающие такие аспекты, ка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оздание системы экологическ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кологический ауди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кологическая маркиров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ценка характеристик экологичн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14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ерия стандартов ИСО серии 14000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0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истема экологического менеджмента.  Требования и руководство к применению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Система экологического менеджмента. Руководящие указания по принципам, системам и средствам обеспечения функционир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Руководящие указания по экологическому ауди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ерия стандартов ИСО серии 14000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40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Экологическая экспертиза мест и объе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0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Экологические этикетки и декларации – основные принцип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Управление окружающей средой – оценка экологической производи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ерия стандартов ИСО серии 14000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Принципы и структу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Оценка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Оценка воздействия на протяжении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O 14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3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Система экологического менеджмента. Оценка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терпретация жизненного цик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989000"/>
          <a:ext cx="274320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900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2960" y="1700280"/>
            <a:ext cx="877104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стема экологического  менеджмента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часть систе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неджмента организац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ИСО 1400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используемая для разрабо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осуществления её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ой поли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управления её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ми аспект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               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од окружающей средо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едует понимать внешнюю среду, в которой функционирует предприятие, включая не только природные объекты и ресурсы, флору, фауну, но также человека и взаимоотношения всех компонентов сре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остоянное улучшение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вторяющийся процесс совершенствования СЭМ с целью улучшения экологической эффективности в соответствии с экологической политикой орган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рганизация рассматривается не отдельно, а в системе взаимодействия внешних факторов среды и окруж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то позволяет компании постоянно находить новые возможности для повышения эффективности организации на рынке, с одной стороны, и для снижения экономических и экологических рисков, связанных с производственной деятельностью, с друг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настоящее время стандарты ИСО серии 14000 получили широкое  распространение во всем ми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е больше и больше компаний используют Серию международных стандартов ИСО 14000 для внедрения  у себя систем управления окружающей средой  в соответствии с современными требованиями. Сегодня крупнейшие банки Швейцарии и Германии не предоставляют кредит компаниям без доказательств экологической целесообразности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му нужн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353440" cy="559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ы ли нам озоновые дыры? Чернобыльские ветры нам к чему?             Нужны ли нам толчки подземных взрывов? И реки, разносящие чу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Кого не угнетает вид убогий в болота превращающихся рек?                           И сколько натворит еще жесто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с и природу не щадящий век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Нужны ли нам отвалов небоскребы? Карьеров полумертвых глубина?                         И благости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ой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огоды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 сваленного леса тишина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?                            Нужны ли нам болезни почв 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хожих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 эрозией, с нитратами по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И до каких же пор терпеть нас может не в меру оскорбленная земля?                  Нужны ль “моря”, подобные Арал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умелая игра притворных с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Нужны ли “освоение” Байкала и повторение экокатастро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Законов много издано в у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в угоду экономике, жулью…                                      А надо угождать самой природе, она – исток земному бытию.                        Нужны ли нам озоновые дыры? Чернобыльские ветры нам к чему?                     И гибель рек, и атомные взрыв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И если – да,  ответят пусть – ком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ев Руф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74520"/>
            <a:ext cx="7632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                        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1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роблемы являются международными и требуют международного сотрудниче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е это направлено на то, чтобы стимулировать производителей во всех государствах на внедрение таких технологических процессов и разработку таких товаров, которые в минимальной степени загрязняют природную среду и дают потребителю гарантию безопасности продукции для его жизни, здоровья, имущества и среды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23367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тандарты </a:t>
            </a: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Системы экологического менеджмента</a:t>
            </a: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Tahoma"/>
              </a:rPr>
              <a:t>         СТ РК ИСО 14001-2006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ждународный стандарт ИСО 14001 уже «отпраздновал» свое 12-летие. Он стал международным  эталоном системы экологического менеджмента и прочно интегрировался с глобальной экономи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Система экологического менеджмента (СЭМ) предполаг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ственность за защиту окружающей среды, постоянное её совершенств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ределение риска для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оянное соответствие требованиям защиты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ятельность предприятия с учетом защиты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еимущества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лучшение имиджа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равление аварийными ситуац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егкая адаптация к изменениям в законодательст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еньшении количества штрафов со стороны контролирующих орга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имущества в тенде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Условия системы экологического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блюдение законодательных требований в области окружающей ср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блюдение требований стандарта ИСО 14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дтверждение постоянного улуч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Экологическая политик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явление орган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своих намерениях и принципах, связанных с её общей экологической эффективностью, которое служит основанием для действия и для установления целевых и плановых показа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563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кологическая политик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АО «Мосэнерго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АО «Мосэнерго», являясь крупнейшей генерирующей компанией, обеспечивает потребителей высокоэффективным экологически чистым видом энергии, что объективно определяет воздействие производственной деятельности Общества на окружающую среду: выбросы загрязняющих веществ в атмосферный воздух, сбросы загрязняющих веществ в водные объекты, размещение отходов производства, а также негативное воздействие шума, тепла, вибрации, электромагнитных по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ополагающие принципы экологической политики ОАО «Мосэнерго»- признание конституционного права человека на благоприятную окружающую сред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истема экологического менеджмента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часть менеджмента организации, используемая для разработки и осуществления её экологической политики и управления её экологическими аспек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аинтересованная сторона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тдельное лицо или группа лиц, которые заинтересованы в экологической эффективности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Экологический аспект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лемент деятельности организации, её продукции и услуг, который может взаимодействовать с окружающей сре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оздействие на окружающую среду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юбое отрицательное или положительное изменение в окружающей среде, полностью или частично являющееся результатом деятельности орган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Экологическая цель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ая цель в области окружающей среды, установленная исходя из экологической политики, к которой стремится орган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Экологическая эффективность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змеримые результаты менеджмента организации с её экологическими аспек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ждународное сообщество проявляет все большую заинтересованность 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охране окружающей сред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еспечении устойчивости развития стран и регион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щите интересов будущих поколен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егодня все понимают, что вредные  выбросы в атмосферу,  загрязнения рек, озер, морей  и т. п.  не ограничены территорией одной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Экологическая задача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тализированное требование в отношении эффективности, предъявляемое организации, которое вытекает из экологических целей и которое должно быть установлено и выполнено для достижения ц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Предотвращение загрязнения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процессов, практических методов, материалов, продукции, услуг и энергии, позволяющих исключить, уменьшить или проконтролировать создание, выброс, утилизацию любого вида загрязнений или отходов с целью уменьшения воздействия на окружающую сре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СТ РК ИСО 14001-2006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Корректирующее действие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е причины выявленного несоответ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редупреждающее действие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я причины потенциального несоответ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Требования СТ РК ИСО 14001-200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2800" y="1876320"/>
            <a:ext cx="8208720" cy="4102200"/>
            <a:chOff x="442800" y="1876320"/>
            <a:chExt cx="8208720" cy="4102200"/>
          </a:xfrm>
        </p:grpSpPr>
        <p:cxnSp>
          <p:nvCxnSpPr>
            <p:cNvPr id="172" name="_s261135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732640" y="2330640"/>
              <a:ext cx="821160" cy="31928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5" name="_s261133"/>
            <p:cNvCxnSpPr>
              <a:stCxn id="176" idx="0"/>
              <a:endCxn id="174" idx="2"/>
            </p:cNvCxnSpPr>
            <p:nvPr/>
          </p:nvCxnSpPr>
          <p:spPr>
            <a:xfrm flipV="1" rot="16200000">
              <a:off x="4668480" y="3394800"/>
              <a:ext cx="821160" cy="106452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261132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3605760" y="3395880"/>
              <a:ext cx="821160" cy="10623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261131"/>
            <p:cNvCxnSpPr>
              <a:stCxn id="180" idx="0"/>
              <a:endCxn id="174" idx="2"/>
            </p:cNvCxnSpPr>
            <p:nvPr/>
          </p:nvCxnSpPr>
          <p:spPr>
            <a:xfrm flipH="1" flipV="1" rot="5400000">
              <a:off x="2540520" y="2330640"/>
              <a:ext cx="821160" cy="319320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261127"/>
            <p:cNvSpPr/>
            <p:nvPr/>
          </p:nvSpPr>
          <p:spPr>
            <a:xfrm>
              <a:off x="3635280" y="187632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Требования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СТ РК ИС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4001-2006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П.4.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_s261128"/>
            <p:cNvSpPr/>
            <p:nvPr/>
          </p:nvSpPr>
          <p:spPr>
            <a:xfrm>
              <a:off x="44280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олитика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кружающей 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_s261129"/>
            <p:cNvSpPr/>
            <p:nvPr/>
          </p:nvSpPr>
          <p:spPr>
            <a:xfrm>
              <a:off x="257076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Цел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кружающей 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_s261130"/>
            <p:cNvSpPr/>
            <p:nvPr/>
          </p:nvSpPr>
          <p:spPr>
            <a:xfrm>
              <a:off x="469908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Задач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кружающей 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_s261134"/>
            <p:cNvSpPr/>
            <p:nvPr/>
          </p:nvSpPr>
          <p:spPr>
            <a:xfrm>
              <a:off x="6827400" y="4337640"/>
              <a:ext cx="182412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рограмм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 област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храны окружающе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ре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4.2  Экологическая политика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еспечивает основу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еспечивает постановку целей и зад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приятия по охране 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ает общее осмысление направлениям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еспечивает эталон или основу д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ведения сравнения стратегий, планов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йств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здает основу системы управления окружающей сре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4.2 Экологическая политика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олжн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ределяться высшим руковод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ответствовать характеру и масштабу организации, её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ключать обязательства последовательно улучшать свою деятельность и предотвращать загрязнение 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ключать обязательство соблюдать законодательные и другие треб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вать основу для постановки целевых и плановых показа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ыть документально оформленной, внедренной и поддерживаться в рабочем состоя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водиться до сведения всех лиц, работающ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организации или от её им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ыть доступной для обществен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767640" y="5014800"/>
            <a:ext cx="23763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Tahoma"/>
              </a:rPr>
              <a:t>Цели, задачи, программы п.4.3.3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ковы взаимоотношения между политикой, целями и задач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3213000"/>
            <a:ext cx="4174920" cy="33116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Цел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кращение энергопотреб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кращение использования опас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химических соедин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учение работников по вопросам 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учшее соблюдение требован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цензий на сброс сточных во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3141720"/>
            <a:ext cx="4643280" cy="33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ижение потребления электриче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10% в 2000г. по сравнен.с 1999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кращение использова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зоноразрушающих веществ к 200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ижение применения растворителе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25% в 200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дение ежемесяч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урсов обу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кращение платы за сверхлимит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грязнение на 30% к 200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, задачи, программы п.4.3.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Цели и задачи должны бы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меримыми по возмо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гласовываться с экологической полити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ответствовать действующим законодательным и другим требовани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61160" y="1268280"/>
            <a:ext cx="23828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4.2  Экологическая политика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овещение о политике внутри компании и за её пределами позволяет обеспечить её широкое понимание работникам предприятия и другими заинтересованными сторон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овещение                                       Оповещ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нутри компании                     за пределами компа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3933720"/>
            <a:ext cx="3168720" cy="2448000"/>
          </a:xfrm>
          <a:prstGeom prst="rect">
            <a:avLst/>
          </a:prstGeom>
          <a:solidFill>
            <a:srgbClr val="33cccc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Личные письма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вляющего директо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Внутренняя почта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формационные бюллете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Доски объяв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Соб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) Курсы подготов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3933720"/>
            <a:ext cx="3671640" cy="244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рошюры и букле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довой отч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кла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тречи заинтересованным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.2   Экологическая политик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734200" y="1326960"/>
            <a:ext cx="3697200" cy="4109760"/>
            <a:chOff x="2734200" y="1326960"/>
            <a:chExt cx="3697200" cy="4109760"/>
          </a:xfrm>
        </p:grpSpPr>
        <p:sp>
          <p:nvSpPr>
            <p:cNvPr id="199" name="_s268307"/>
            <p:cNvSpPr/>
            <p:nvPr/>
          </p:nvSpPr>
          <p:spPr>
            <a:xfrm flipH="1" flipV="1">
              <a:off x="3692520" y="2867040"/>
              <a:ext cx="446400" cy="2602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_s268306"/>
            <p:cNvSpPr/>
            <p:nvPr/>
          </p:nvSpPr>
          <p:spPr>
            <a:xfrm>
              <a:off x="2734200" y="2097360"/>
              <a:ext cx="1028520" cy="10285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екларируе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Корпоратив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цел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268305"/>
            <p:cNvSpPr/>
            <p:nvPr/>
          </p:nvSpPr>
          <p:spPr>
            <a:xfrm flipH="1">
              <a:off x="3692520" y="3640320"/>
              <a:ext cx="448560" cy="2556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_s268304"/>
            <p:cNvSpPr/>
            <p:nvPr/>
          </p:nvSpPr>
          <p:spPr>
            <a:xfrm>
              <a:off x="2734200" y="3638160"/>
              <a:ext cx="1028520" cy="1028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беспечивае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озицию лидерств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 ответственност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_s268303"/>
            <p:cNvSpPr/>
            <p:nvPr/>
          </p:nvSpPr>
          <p:spPr>
            <a:xfrm>
              <a:off x="4582800" y="3894120"/>
              <a:ext cx="1800" cy="51624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_s268302"/>
            <p:cNvSpPr/>
            <p:nvPr/>
          </p:nvSpPr>
          <p:spPr>
            <a:xfrm>
              <a:off x="4068720" y="4408200"/>
              <a:ext cx="1028520" cy="1028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ыражает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Корпоратив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бязательства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_s268300"/>
            <p:cNvSpPr/>
            <p:nvPr/>
          </p:nvSpPr>
          <p:spPr>
            <a:xfrm>
              <a:off x="5026680" y="3638160"/>
              <a:ext cx="446400" cy="2577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_s268299"/>
            <p:cNvSpPr/>
            <p:nvPr/>
          </p:nvSpPr>
          <p:spPr>
            <a:xfrm>
              <a:off x="5402880" y="3638160"/>
              <a:ext cx="1028520" cy="1028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Улучшает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взаимоотноше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 общественность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_s268298"/>
            <p:cNvSpPr/>
            <p:nvPr/>
          </p:nvSpPr>
          <p:spPr>
            <a:xfrm flipV="1">
              <a:off x="5026680" y="2869920"/>
              <a:ext cx="446400" cy="25560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_s268297"/>
            <p:cNvSpPr/>
            <p:nvPr/>
          </p:nvSpPr>
          <p:spPr>
            <a:xfrm>
              <a:off x="5402880" y="2097360"/>
              <a:ext cx="1028520" cy="10285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нформирует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О принципах 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тандартах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_s268296"/>
            <p:cNvSpPr/>
            <p:nvPr/>
          </p:nvSpPr>
          <p:spPr>
            <a:xfrm flipV="1">
              <a:off x="4582800" y="2355480"/>
              <a:ext cx="0" cy="5140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_s268295"/>
            <p:cNvSpPr/>
            <p:nvPr/>
          </p:nvSpPr>
          <p:spPr>
            <a:xfrm>
              <a:off x="4068720" y="1326960"/>
              <a:ext cx="1028520" cy="10285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Требуетс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тандартом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ИСО 1400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_s268294"/>
            <p:cNvSpPr/>
            <p:nvPr/>
          </p:nvSpPr>
          <p:spPr>
            <a:xfrm>
              <a:off x="4068720" y="2869920"/>
              <a:ext cx="1028520" cy="10285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Экологическа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олити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ahoma"/>
              </a:rPr>
              <a:t>Программы управления окружающей средой п.4.3.3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1916280"/>
          <a:ext cx="8229600" cy="4848120"/>
        </p:xfrm>
        <a:graphic>
          <a:graphicData uri="http://schemas.openxmlformats.org/drawingml/2006/table">
            <a:tbl>
              <a:tblPr/>
              <a:tblGrid>
                <a:gridCol w="2879640"/>
                <a:gridCol w="2016000"/>
                <a:gridCol w="1276560"/>
                <a:gridCol w="2057400"/>
              </a:tblGrid>
              <a:tr h="119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овый показатель: Сокращение производства отходов от растворителей на 25 % к 2000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тветствен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о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есур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Определение обезжиривате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Оценка целесообразности приме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Составление сметы рас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т.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1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мышленно развитые страны прежде других ощутили приближение экологического кризи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ще в 1970-х годах они предприняли природоохранные меры законодательного и нормативного характера, выработали и в последующем реализовали определенную стратегию управления окружающей средой, иными словами,  применили экологически ориентированные методы упр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j0285360" descr=""/>
          <p:cNvPicPr/>
          <p:nvPr/>
        </p:nvPicPr>
        <p:blipFill>
          <a:blip r:embed="rId2"/>
          <a:stretch/>
        </p:blipFill>
        <p:spPr>
          <a:xfrm>
            <a:off x="0" y="3500280"/>
            <a:ext cx="19432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граммы экологического менеджмента п.4.3.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ри разработке программ необходимо учитыва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влечение к разработке и реализации на раннем этапе работников предприя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сное информирование об ожидаемом результате и ответственных за выполнение програм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переоценки программы при внесении значительных изменений в процессы, услуг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грамма должна быть простой  и предусматривать постоянное совершенств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024000" cy="19749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9616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имеры экологических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спек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Выбросы в возд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Сбросы в в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Загрязнение поч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Использование сырья 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родных ресурсов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Отходы и побочные проду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.Физические характеристики: размер, форма, цв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й аспект – элемент деятельности организации, ее продукции или услуг, который может взаимодействовать с окружающей средой</a:t>
            </a:r>
            <a:br>
              <a:rPr sz="2400"/>
            </a:br>
            <a:br>
              <a:rPr sz="37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ние и выполнение процедуры идентифик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того, какие аспекты оказывают значительное воздействие на окружающую сре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еспечение того, чтобы аспекты, оказывающие значительное воздействие на окружающую среду, учитывались при постановке экологических целей и задач, разработке, внедрении и поддержании СЭ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новление информации по аспектам/воздейств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br>
              <a:rPr sz="37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оздействия на ОС представляют собой изменения этой среды в результате деятельности предпри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916280"/>
            <a:ext cx="4103640" cy="41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Асп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1.Эффект глобаль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отеп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2. Разрушение стратосфер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сло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3.Истощение природ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сур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4.Кислотные дож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5.Загрязнение поверхност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6.Биологическое накопл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оксин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916280"/>
            <a:ext cx="4105440" cy="41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1.Влияние на кач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атмосфер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дух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2.Шу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3.Загрязнение почвы 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одземных в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4.5. Экологический ущер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/уничтожение ви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6. Социально-экономическ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ослед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nt"/>
          <p:cNvSpPr/>
          <p:nvPr/>
        </p:nvSpPr>
        <p:spPr>
          <a:xfrm>
            <a:off x="7083360" y="5445000"/>
            <a:ext cx="1809720" cy="1413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ажный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значимый, существенный,  значительный)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экологический аспект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спект, который оказывает или может оказать значительное воздействие на окружающую среду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219640" y="4295880"/>
            <a:ext cx="3313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рямой экологический аспект/воздействие-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аспект/воздействие непосредственно связанное с деятельностью организации, её продукцией и услугами, которые организация может контролиров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епрямой (косвенный) экологический аспект/воздействи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аспект не связанный с деятельностью организации, но на который она может оказывать опосредственное влия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например, оказывать влияние на поставщиков, через договорные обязательст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Исторический экологический аспект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епрямой экологический аспект, связанный с прошлой деятельностью пред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708360" y="4410000"/>
            <a:ext cx="381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br>
              <a:rPr sz="37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е аспекты условно можно разделить на несколько категор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ходные пото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аспекты, связанные с использованием сырья и природных ресур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ыходные пото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спекты, связанные с выбросами в атмосфе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аспекты, связанные со сбросами в подземные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аспекты, связанные с загрязнением почв, зем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спекты связанные с аварийными ситуац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очие аспекты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шум, вибрация, электромагнитное излуч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4.3.1 Экологические аспекты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1393920"/>
          <a:ext cx="8426520" cy="5159160"/>
        </p:xfrm>
        <a:graphic>
          <a:graphicData uri="http://schemas.openxmlformats.org/drawingml/2006/table">
            <a:tbl>
              <a:tblPr/>
              <a:tblGrid>
                <a:gridCol w="2868120"/>
                <a:gridCol w="2509200"/>
                <a:gridCol w="2833560"/>
                <a:gridCol w="216000"/>
              </a:tblGrid>
              <a:tr h="908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имеры экологических аспектов и воздейств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ятельность, проду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сп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бота с опасными материал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можность случайных утеч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грязнение почвы и в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раска транспортных средст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росы летучих соединений в атмосфер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худшение качества возду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имический реак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щение на полигоне после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грязнение грунтовых в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служивание АТ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росы из систем выхл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кальное загрязнение возду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гласно Декларации Конференции ООН по окружающей среде и устойчивому развитию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CED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92), экологическая доминанта должна стать составной частью процесса развития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сткая необходимость адекватных мер для повышения экологической безопасности и охраны окружающей среды привела к идее использования процедуры сертификации  и создания стандартов системы управления охраны окружающей сре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3111480" cy="2801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 algn="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.4.3.2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Организация должна установить и поддерживать в рабочем состоянии процедуру идентификации требований законодательных актов, других требований и получения доступа к тем требованиям, с которыми организация соглашается и которые применяются к экологическим аспектам её деятельности, продукции или услу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013360"/>
            <a:ext cx="3276720" cy="996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аконы и нормативные акты по охране окружающей сре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ормативно-правовые докумен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дексы Р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коны и Указы Президента Р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новления и распоряжения Правительства Р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тановления, приказы, распоряжения, правила, инструкции и положения уполномоченных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ждународные согла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чие требова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ебования  в нормативных и разрешительных документах внешнего происхождения, или любые другие документально оформленные требования заинтересованных сторон, которые предприятие обязалось выпол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5280" y="692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аконодательные и другие экологические требования п.4.3.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989000"/>
            <a:ext cx="3830760" cy="412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«Об охране окружающей сред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«Об охране атмосферного воздух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«Об экологической экспертиз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1773360"/>
            <a:ext cx="1150920" cy="4464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4464000"/>
              <a:gd name="textAreaBottom" fmla="*/ 446436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7" y="0"/>
                </a:lnTo>
                <a:lnTo>
                  <a:pt x="21600" y="10800"/>
                </a:lnTo>
                <a:lnTo>
                  <a:pt x="4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0360" y="2421000"/>
            <a:ext cx="2448000" cy="3240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дек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спубл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зах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7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692280"/>
            <a:ext cx="7632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Законодательные и другие экологические требования п.4.3.2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640" y="2063880"/>
            <a:ext cx="763272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области природоохран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онодательства и рациона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родопользования изда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 закон «О недрах и недропользовании»1996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 закон «О нефти»1997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 кодексы «Лесной», «Водный», «Земельный»200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3573360"/>
          <a:ext cx="2995560" cy="27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573360"/>
                    <a:ext cx="299556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ahoma"/>
              </a:rPr>
              <a:t>РЕЕСТР ЭКОЛОГИЧЕСКИХ ТРЕБОВАНИЙ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9640" y="1998720"/>
          <a:ext cx="8425080" cy="4554360"/>
        </p:xfrm>
        <a:graphic>
          <a:graphicData uri="http://schemas.openxmlformats.org/drawingml/2006/table">
            <a:tbl>
              <a:tblPr/>
              <a:tblGrid>
                <a:gridCol w="1152720"/>
                <a:gridCol w="3166920"/>
                <a:gridCol w="2737080"/>
                <a:gridCol w="1368360"/>
              </a:tblGrid>
              <a:tr h="1135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№   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    Требован  Подраз      Сроки         Мес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кум       документа    докумен   деления   действия хран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н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1671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916280"/>
            <a:ext cx="0" cy="86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59280" y="2060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96360" y="2060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1989000"/>
            <a:ext cx="0" cy="424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56360" y="1989000"/>
            <a:ext cx="71280" cy="41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27640" y="6165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6165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 Кодекс №212-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ЗРК от 09.01.0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декс РК об административных правонарушениях № 155-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от 30.01.01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головный кодекс РК № 167-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от 16.07.9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кон РК «О пожарной безопасности»  №48 от 22.11.96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становление Министра ООС РК «Об утверждении форм документов для выдачи разрешений на эмиссии в окружающую среду и правил их заполнения» №94-п от 30.03.07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иповой перечень мероприятий по охране окружающей среды, утв. Приказом    Министра ООС РК №119-п от 24.04.0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Законодательные и другие экологические требования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3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Правила пожарной безопасности в РК. Основные требования. Приказ Министра по Чрезвычайным ситуациям РК №35 от 08.02.06г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Ориентировочные безопасные уровни воздействий(ОБУВ) загрязняющих веществ в атмосферном воздухе населенных мест ГН 2.1.6.696-98 РК  3.02.037.99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Инструкция по инвентаризации выбросов вредных веществ в атмосферу. Утверждена приказом И.О. Министра природных ресурсов и охраны окружающей среды РК №516-п от 21.12.00г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Предельно допустимые концентрации (ПДК) загрязняющих веществ в атмосферном воздухе населенных мест ГН.2.1.6.695-98 РК 3.02.036.99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Внедрение и функционирование п. 4.4</a:t>
            </a: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4.1 Ресурсы, обязанности, ответственность и полномоч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уководство должно обеспечить наличие ресурсов, необходимых для разработки, внедрения, поддерживания в рабочем состоянии и улучшения системы Э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сурсы включают кадры со специальными навыками, инфраструктуру организации, технологические и финансовые ресур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596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ahoma"/>
              </a:rPr>
              <a:t>4.4.1 Ресурсы, обязанности, ответственность и полномочия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843280" y="3357720"/>
            <a:ext cx="3456000" cy="115092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БУЧ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2133720"/>
            <a:ext cx="3024000" cy="790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ВАЛИФИК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16720" y="3645000"/>
            <a:ext cx="208764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еподготов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д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3716280"/>
            <a:ext cx="194292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ГОТОВ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ДР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5300640"/>
            <a:ext cx="136836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Н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43280" y="5229360"/>
            <a:ext cx="122400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М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88000" y="5229360"/>
            <a:ext cx="122400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59640" y="5300640"/>
            <a:ext cx="151272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дновременно такой подход углубил и философию самого производства, ибо наличие сертификатов соответствия, гарантирующих качество продукции и услуг, уже не удовлетворяет общество, так как необходимо гарантировать безопасность не только человека, но и окружающей 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42880" y="734400"/>
            <a:ext cx="80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1509840" cy="2265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27640" y="1557360"/>
            <a:ext cx="4608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ыделить адекватные людские, технические и финансовые ресур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ить, документировать и информировать персонал о обязанностях, ответственности и полномочия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значить Представителя высшего руководства, курирующего вопросы внедрения и функционирования СЭ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7640" y="4292640"/>
            <a:ext cx="4608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ить потребности  в обуч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се соответствующие сотрудники проходят необходимую подготовк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держивается высокий уровень осведомленности персона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мпетенция обеспечивается через соответствующее образование, обучение и опы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9080" y="126792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сурсы, обязанност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ственность и полномочия (п.4.4.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0520" y="3860640"/>
            <a:ext cx="3057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петентность, подготов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осведомлённость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.4.4.2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11280" y="2318040"/>
            <a:ext cx="3238200" cy="1285560"/>
            <a:chOff x="611280" y="2318040"/>
            <a:chExt cx="3238200" cy="1285560"/>
          </a:xfrm>
        </p:grpSpPr>
        <p:cxnSp>
          <p:nvCxnSpPr>
            <p:cNvPr id="291" name="_s302090"/>
            <p:cNvCxnSpPr>
              <a:stCxn id="292" idx="0"/>
              <a:endCxn id="293" idx="2"/>
            </p:cNvCxnSpPr>
            <p:nvPr/>
          </p:nvCxnSpPr>
          <p:spPr>
            <a:xfrm flipV="1">
              <a:off x="2230560" y="3042000"/>
              <a:ext cx="1440" cy="18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4" name="_s302091"/>
            <p:cNvCxnSpPr>
              <a:stCxn id="295" idx="0"/>
              <a:endCxn id="296" idx="2"/>
            </p:cNvCxnSpPr>
            <p:nvPr/>
          </p:nvCxnSpPr>
          <p:spPr>
            <a:xfrm flipV="1" rot="16200000">
              <a:off x="2712960" y="2102400"/>
              <a:ext cx="187200" cy="1152720"/>
            </a:xfrm>
            <a:prstGeom prst="bentConnector3">
              <a:avLst>
                <a:gd name="adj1" fmla="val 49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7" name="_s302092"/>
            <p:cNvCxnSpPr>
              <a:stCxn id="293" idx="0"/>
              <a:endCxn id="296" idx="2"/>
            </p:cNvCxnSpPr>
            <p:nvPr/>
          </p:nvCxnSpPr>
          <p:spPr>
            <a:xfrm flipV="1">
              <a:off x="2230560" y="2585520"/>
              <a:ext cx="1440" cy="18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2093"/>
            <p:cNvCxnSpPr>
              <a:stCxn id="299" idx="0"/>
              <a:endCxn id="296" idx="2"/>
            </p:cNvCxnSpPr>
            <p:nvPr/>
          </p:nvCxnSpPr>
          <p:spPr>
            <a:xfrm flipH="1" flipV="1" rot="5400000">
              <a:off x="1559880" y="2102760"/>
              <a:ext cx="187200" cy="1152720"/>
            </a:xfrm>
            <a:prstGeom prst="bentConnector3">
              <a:avLst>
                <a:gd name="adj1" fmla="val 49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6" name="_s302094"/>
            <p:cNvSpPr/>
            <p:nvPr/>
          </p:nvSpPr>
          <p:spPr>
            <a:xfrm>
              <a:off x="1763640" y="2318040"/>
              <a:ext cx="933120" cy="266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_s302095"/>
            <p:cNvSpPr/>
            <p:nvPr/>
          </p:nvSpPr>
          <p:spPr>
            <a:xfrm>
              <a:off x="611280" y="2772360"/>
              <a:ext cx="933120" cy="269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_s302096"/>
            <p:cNvSpPr/>
            <p:nvPr/>
          </p:nvSpPr>
          <p:spPr>
            <a:xfrm>
              <a:off x="1763640" y="2772360"/>
              <a:ext cx="933120" cy="269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_s302097"/>
            <p:cNvSpPr/>
            <p:nvPr/>
          </p:nvSpPr>
          <p:spPr>
            <a:xfrm>
              <a:off x="2916360" y="2772360"/>
              <a:ext cx="933120" cy="269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_s302098"/>
            <p:cNvSpPr/>
            <p:nvPr/>
          </p:nvSpPr>
          <p:spPr>
            <a:xfrm>
              <a:off x="1478520" y="3229920"/>
              <a:ext cx="1503360" cy="373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920" rIns="4392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Производство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6360" y="122400"/>
            <a:ext cx="755964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Имея разработанные планы, организация на этом этапе должна выполнять следующее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9640" y="907920"/>
            <a:ext cx="8153640" cy="5335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4.4.2 КОМПЕТЕНТНОСТЬ, ОБУЧЕНИЕ   И   ОСВЕДОМЛЕННОСТЬ</a:t>
            </a:r>
            <a:r>
              <a:rPr b="0" i="1" lang="en-US" sz="2000" spc="-1" strike="noStrike">
                <a:solidFill>
                  <a:srgbClr val="00cc99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587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8466120" y="258840"/>
          <a:ext cx="390600" cy="7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6120" y="258840"/>
                    <a:ext cx="3906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826920" y="2205000"/>
            <a:ext cx="7086600" cy="3733920"/>
            <a:chOff x="826920" y="2205000"/>
            <a:chExt cx="7086600" cy="3733920"/>
          </a:xfrm>
        </p:grpSpPr>
        <p:sp>
          <p:nvSpPr>
            <p:cNvPr id="306" name=""/>
            <p:cNvSpPr/>
            <p:nvPr/>
          </p:nvSpPr>
          <p:spPr>
            <a:xfrm>
              <a:off x="826920" y="2205000"/>
              <a:ext cx="7086600" cy="3733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0800" bIns="10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10199"/>
                  </a:solidFill>
                  <a:latin typeface="Times New Roman"/>
                </a:rPr>
                <a:t>Формирование резерва организ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1893960" y="372924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1893960" y="479592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1893960" y="532944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1893960" y="3195720"/>
              <a:ext cx="5181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1893960" y="2662200"/>
              <a:ext cx="51814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969920" y="2662200"/>
              <a:ext cx="2957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ОБУЧ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69920" y="3195720"/>
              <a:ext cx="3041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СТАЖИРОВК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69920" y="3729240"/>
              <a:ext cx="3276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ВРЕМЕННОЕ ЗАМЕЩ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69920" y="4795920"/>
              <a:ext cx="509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УЧАСТИЕ В ПРЕПОДАВАНИ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69920" y="5329440"/>
              <a:ext cx="3498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УЧАСТИЕ В ПРОВЕРКАХ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11"/>
            <a:stretch/>
          </p:blipFill>
          <p:spPr>
            <a:xfrm>
              <a:off x="1893960" y="4262400"/>
              <a:ext cx="51814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969920" y="4338720"/>
              <a:ext cx="2508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ИЗУЧЕНИЕ ОПЫТ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олжна включать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 экологической политики, целей, зада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 области применения системы экологического менедж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 основных элементов системы экологического менеджмента и их взаимодейств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кументы, включая записи, требуемые в соответствии с настоящим стандар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кументы, включая записи, которые организация считает необходимыми для обеспечения эффективного планирования работы и управления процессами, имеющими отношение к значимым экологическим аспектам организ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hh00892_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52424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Документ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информация и соответствующий нос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апись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-документ, содержащий достигнутые результаты или свидетельства осуществленн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804000" y="1268280"/>
            <a:ext cx="1971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Документация СЭМ  организации должна включа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Экологическую полит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уководство по ЭМ с описанием основных элементов СЭМ и их взаимодействия с установлением области применения СЭМ (причем само Руководство может и не быт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еестр экологических аспектов, значимых экологических аспект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еестр нормативных, законодательных и других требова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окумент, определяющий  экологические цели и задач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рограмму экологического менеджмен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обходимые стандарты и  методики, в том числе методику определения значимости экологических аспект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обходимые организации документы по операциям, которые связаны с ЭА и воздействиями на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ланы подготовленности к аварийным ситуациям и процедуры по реагированию на н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Запис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4.4.5 Документайцией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Tahoma"/>
              </a:rPr>
              <a:t> необходимо управлять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Документы должны бы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тверждены на адекватность до их выпус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нализ, актуализация по мере необходимости и пере- утверждения доку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е идентификации и изменения статуса пересмотра действующих доку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я наличия соответствующих экземпляров в местах их поль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я того, чтобы документы оставались читаемыми и легко идентифицируемы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еспечения идентификации внешних документов определённых организацией как необходимые для планирования и функционирования системы экологического менеджмент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рхивные документы должны быть сохранены и идентифицированы в течении установленного срока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Documents"/>
          <p:cNvSpPr/>
          <p:nvPr/>
        </p:nvSpPr>
        <p:spPr>
          <a:xfrm>
            <a:off x="539640" y="404640"/>
            <a:ext cx="2374920" cy="1511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4 Документация системы          экологического менеджмент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писок обязательных процедур и записей по СЭ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Экологическая поли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Цели и зад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.Программа экологического менедж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. Документированная процеду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«УПРАВЛЕНИЕ ОПЕРАЦИЯМ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ганизация должна идентифицировать и запланировать выполнение операций, котор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меют отношение к значительным экологическим аспектам, так, чтобы они соответствовали её экологической политике, целям и задачам, а также обеспечить основу для выполнения этих операций в определенных условиях, пут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1979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ки, внедрения и поддержания в рабочем состоянии документально оформленной процедуры, позволяющей управлять операциями в таких ситуациях, где отсутствие процедуры может привести к отклонению от экологической политики, целей и зада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овления в процедуре рабочих критериев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ки, внедрения и поддержания в рабочем состоянии процедур, связанных с идентифицируемыми важными экологическими аспектами, продукции и услуг, используемых организацией , и информирование о применяемых процедурах и требованиях поставщиков и подрядч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Пример инструкций и процеду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Хранение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Управление выбро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Управление сбро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Техническое обслуживание АТ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Хранение опасных материа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Работа механизмов очистных сооружений и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808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в 1992 году появился первый национальный стандарт в этой области - британский стандарт В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7750 «Спецификация системы управления в области охраны окружающей среды», ставший стартовой площадкой для разработки международных стандар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итоге англичане, исторически первыми в 1992 году начали готовить некоторые фирмы к проведению экологической сертификации 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йствия по управлению операциями должны быть направлены на уменьшения риска наступления конкретного опасного события и предотвращение воздействия опасных и вредных производственных факторов на 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4.4.6 Управление опе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БОЧИЕ КРИТЕ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раметры управления окружающей сре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ормы выбро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а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м отход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нергопотреб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астота техобслу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292720" y="3141720"/>
            <a:ext cx="30243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Как управлять своими отходам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ставить список всех образующихся отх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ределить класс отх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одательные требования к конкретному виду или наименованию отх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сли требования не установлены, то установить свои нор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ать отдельную процедуру по управлению отход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формирование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624720" y="4552920"/>
            <a:ext cx="2519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Как управлять своими отходам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новным документом в Республике Казахстан по ОС являетс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Й КОДЕКС Р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№212 ЗРК от 09.11.2007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 оформлении паспортов отходов необходимо руководствоваться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тодическими указаниями по заполнению типовой формы паспорта отходов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утверждены приказом Министра охраны окружающей среды РК от 23.05.06г. №162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ГОСТ 30774-2001 Ресурсосбережение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Обращение с отход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335640" y="4403880"/>
            <a:ext cx="28083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Организация должна устанавливать и поддерживать  в рабочем состоянии процедуры идентификации возможности возникновения катастроф и аварийных ситуаций и реагирования на них, а также предотвращения и смягчения воздействий на окружающую среду, которые могут быть связаны с этими ситуациям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54936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1700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ея разработанные планы организация должна выполнять следующе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7240" y="1844640"/>
            <a:ext cx="4191120" cy="381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аботка и выполнение процедур идентификации потенциальных катастроф и аварийных ситуац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цедуры,  обеспечивающие предотвращение  и смягчение воздействий на окружающую среду, связанных с катастрофами и аварийными ситуация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длежащий анализ и, при необходимости, пересмотр процеду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иодическая поверка процедур там, где это возмож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08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ать и выполнять процедуры идентификации ЧС, проведения ответных мероприятий, т.е выявить все потенциальные катастрофы и аварийные ситуации, которые могут возникнуть на предприятии, определить процедуру реагирования в этих ситуа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работать процедуры, обеспечивающие предотвращение и смягчение воздействий на окружающую среду, связанных с Ч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одить систематический анализ и пересмотр этих процедур, по мере необходим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ически проверять эффективность этих процедур там, где это возмож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АРИЙНЫЕ ПЛ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Аварийные планы должны содержать инструкции, которые описывают действия, которые нужно предпринять, чтобы смягчить воздействие на О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соответствующее каждой идентифицируемой ситуации, а имен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учайные выбросы в атмосфе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учайные сбросы в воду и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пецифические эффекты на экосистему от случайных выбросов (включая флору, фауну, человеческий факт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варийные планы и планы реагирования могут включать в себ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организационные меры на случай аварии и ответственность за н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еречень ответственных ли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одробные данные об аварийных служ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ланы передачи внутренних и внешних сообщ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действия, предпринимаемые при различных видов ава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информацию об опасных материалах, включая потенциальное воздействие каждого материала на ОС и меры, которые следует принять в случае аварийного выбро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планы подготовки и проверку эффе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4.7 Готовность к аварийным ситуациям и реагирование на них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ВЕТСТВ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000" y="1930320"/>
            <a:ext cx="821844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организацию мер, направленных на предупреждение аварий, несут руководители структурных подраздел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выполнение мероприятий, их достаточность при ликвидации аварий или смягчение их последствий на ОС несут лица в соответствии с должностными инструкци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определение необходимости и проведение тренинга с персоналом несут руководители структурных подраздел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ветственность за расследование аварий с экологическим ущербом, проведении работ по ликвидации последствий аварий несёт руководитель отдела  ТБ (или назначенные лица организаци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Системы экологического менеджмен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итие работ в области  управления окружающей средой потребовало создания стандартов определяющих единую методологию их пр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еждународная организация по стандартизации ИСО приступила к разработке комплекса международных стандартов на системы экологического управления – стандарты ИСО серии 1400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24000" y="260280"/>
          <a:ext cx="8426160" cy="6346800"/>
        </p:xfrm>
        <a:graphic>
          <a:graphicData uri="http://schemas.openxmlformats.org/drawingml/2006/table">
            <a:tbl>
              <a:tblPr/>
              <a:tblGrid>
                <a:gridCol w="1800000"/>
                <a:gridCol w="2881440"/>
                <a:gridCol w="2519280"/>
                <a:gridCol w="1225440"/>
              </a:tblGrid>
              <a:tr h="825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лан реагирования в аварийных ситуациях ТОО «ХХХ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варий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ероприятия по предотвращ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ероприятия по снижен.воз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дразд/ответ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ушение ртутьсодержащих лам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работ по замене ламп в соответствии с инструкцией «Порядок обращения с отходами» ЕМС.ХХ Методические указ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ушенные ртутьсодержащие лампы собрать и разместить 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рметичный контейн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я организация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р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.П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жар в гараж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работ в соответствии с правилами пожар. Безопасности ЕМС/ХХ. МУ. Не допускать хранения в гараже легковоспламеняющихся материа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е действий в аварийных ситуациях в соответствии с правилами пожарной безопасности ЕМС/ХХ М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тохозяйство/  Сидор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.С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т лат. «МОНИТОР»-напоминающий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дзир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давна применялся метод наблюдения -способ познания, основанный на относительно длительном, целенаправленном и планомерном восприятии предметов и явлений окружающей действи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Й МОНИТОРИНГ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формационная система наблюдений, оценки и прогноза изменений в состоянии ОС, созданная с целью выделения антропогенной составляющей этих изменений на фоне природных процесс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064280" y="836640"/>
            <a:ext cx="20797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Экологические показатели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чественные или количественные характеристики экологических аспектов организации, показатели выполнения экологических целей и зад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ормативный экологический показатель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й показатель, величина которого устанавливается на определённый период в качестве нормат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508720" y="4565520"/>
            <a:ext cx="31669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стема экологического мониторин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жна накапливать, систематизиров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 анализировать информацию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состоянии окружающей ср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причинах наблюдаемых и вероятных изменений состоя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допустимости изменений и нагрузок на среду в це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существующих резервах биосф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458120" y="2060640"/>
            <a:ext cx="1685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Г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лобальная система мониторин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га-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кр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икр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ониторин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2916360" y="2133720"/>
            <a:ext cx="2952720" cy="35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80000" y="3141720"/>
            <a:ext cx="1295280" cy="251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4076640"/>
            <a:ext cx="107964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3640" y="2565360"/>
            <a:ext cx="3603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84360" y="3933720"/>
            <a:ext cx="144000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484360" y="5229360"/>
            <a:ext cx="15829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79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24000" y="260280"/>
          <a:ext cx="8426160" cy="5364360"/>
        </p:xfrm>
        <a:graphic>
          <a:graphicData uri="http://schemas.openxmlformats.org/drawingml/2006/table">
            <a:tbl>
              <a:tblPr/>
              <a:tblGrid>
                <a:gridCol w="502920"/>
                <a:gridCol w="2376720"/>
                <a:gridCol w="1655640"/>
                <a:gridCol w="3890880"/>
              </a:tblGrid>
              <a:tr h="791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.4.5.1 Мониторинг и измер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чень показателей мониторин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бъкт управления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кологический асп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ормативный 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раз     ед        способ    периоди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лен     изм     измер      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исполь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ма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хнич    кг       взвеш     1р. в м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5867280" y="1052640"/>
            <a:ext cx="7308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16720" y="1052640"/>
            <a:ext cx="712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51640" y="1052640"/>
            <a:ext cx="730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40360" y="551664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8800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2472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24000" y="260280"/>
          <a:ext cx="8426160" cy="5657760"/>
        </p:xfrm>
        <a:graphic>
          <a:graphicData uri="http://schemas.openxmlformats.org/drawingml/2006/table">
            <a:tbl>
              <a:tblPr/>
              <a:tblGrid>
                <a:gridCol w="502920"/>
                <a:gridCol w="2376720"/>
                <a:gridCol w="1297080"/>
                <a:gridCol w="4249440"/>
              </a:tblGrid>
              <a:tr h="791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.4.5.1 Мониторинг и измер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ультаты  мониторинга показа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бъкт управления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кологический аспе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ормативн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оказа     ед             фа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ель          измер     значен    примеч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акт                         за от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                  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исполь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ума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5 т             кг                         прев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5580000" y="1052640"/>
            <a:ext cx="7308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16720" y="1052640"/>
            <a:ext cx="712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451640" y="1052640"/>
            <a:ext cx="73080" cy="43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551664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8800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537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5164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24720" y="530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br>
              <a:rPr sz="37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В перечень экологических показателей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лжны быть включе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оказатели, характеризующие значимые экологические аспе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оказатели, контроль за которыми регламентируется экологическими требован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логические показатели, характеризующие выполнение установленных на предприятии экологических целей и задач, выполнения мероприятий програм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кон Республики Казахст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«Об обеспечении единства измерений» от 07.07.2000г. №53-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авливает правовые, экономические и организационные основы обеспечения единства измерений в Республике Казахстан, регулирует отношения между государственными органами управления, физическими и юридическими лицами в сфере метрологической деятельности и направлен на защиту прав и законных интересов граждан и экономики РК от последствий недостоверных результатов измер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6370560" y="4797360"/>
            <a:ext cx="26654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1 Мониторинг и изме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Т РК 2.4-2000  Поверка средств измерений. Организация и порядок про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авливает основные требования к организации и порядку проведения поверки средств измерений и эталонов единиц величин, выпускаемых из производства и ремонта, приобретаемых по импорту, а также находящихся в эксплуатации и на хран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обходимо составить реестр средств измерений, находящихся в организации, составить график поверок, назначить ответственных за своевременную поверку, согласно граф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300720" y="5289480"/>
            <a:ext cx="24843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2133720"/>
            <a:ext cx="1727280" cy="2610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2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итанский        стандар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7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48840"/>
            <a:ext cx="889308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тандарты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Системы экологического менеджмента(СЭМ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205000"/>
            <a:ext cx="1655640" cy="21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13372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220500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227664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Т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2997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О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ии 14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270828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357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299736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2133720"/>
            <a:ext cx="1656000" cy="21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80200" y="208116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80200" y="2152800"/>
            <a:ext cx="117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2133720"/>
            <a:ext cx="1440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/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04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68360" y="22039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. 4.5.2 Оценка соответ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9810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дчёркивая важность соответствия природоохранном законодательству, это требование выделено в новой версии в отдельный пункт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64000" y="2133720"/>
            <a:ext cx="5184720" cy="391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рабатывается, документально оформляется и выполняется процедура периодической оценки соответствия законодательным требовани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рабатывается, документально оформляется и выполняется процедура периодической оценки соответствия другим принятым организацией требовани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лжны сохраняться записи результатов таких периодических оцен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37520" y="4944240"/>
            <a:ext cx="1368720" cy="1329840"/>
            <a:chOff x="1937520" y="4944240"/>
            <a:chExt cx="1368720" cy="1329840"/>
          </a:xfrm>
        </p:grpSpPr>
        <p:sp>
          <p:nvSpPr>
            <p:cNvPr id="418" name=""/>
            <p:cNvSpPr/>
            <p:nvPr/>
          </p:nvSpPr>
          <p:spPr>
            <a:xfrm rot="18134400">
              <a:off x="2774880" y="6066360"/>
              <a:ext cx="163440" cy="101880"/>
            </a:xfrm>
            <a:custGeom>
              <a:avLst/>
              <a:gdLst/>
              <a:ahLst/>
              <a:rect l="l" t="t" r="r" b="b"/>
              <a:pathLst>
                <a:path w="824" h="279">
                  <a:moveTo>
                    <a:pt x="526" y="0"/>
                  </a:moveTo>
                  <a:lnTo>
                    <a:pt x="107" y="24"/>
                  </a:lnTo>
                  <a:lnTo>
                    <a:pt x="65" y="42"/>
                  </a:lnTo>
                  <a:lnTo>
                    <a:pt x="39" y="63"/>
                  </a:lnTo>
                  <a:lnTo>
                    <a:pt x="16" y="87"/>
                  </a:lnTo>
                  <a:lnTo>
                    <a:pt x="0" y="126"/>
                  </a:lnTo>
                  <a:lnTo>
                    <a:pt x="2" y="169"/>
                  </a:lnTo>
                  <a:lnTo>
                    <a:pt x="16" y="193"/>
                  </a:lnTo>
                  <a:lnTo>
                    <a:pt x="39" y="219"/>
                  </a:lnTo>
                  <a:lnTo>
                    <a:pt x="84" y="241"/>
                  </a:lnTo>
                  <a:lnTo>
                    <a:pt x="135" y="260"/>
                  </a:lnTo>
                  <a:lnTo>
                    <a:pt x="188" y="270"/>
                  </a:lnTo>
                  <a:lnTo>
                    <a:pt x="233" y="275"/>
                  </a:lnTo>
                  <a:lnTo>
                    <a:pt x="293" y="278"/>
                  </a:lnTo>
                  <a:lnTo>
                    <a:pt x="289" y="275"/>
                  </a:lnTo>
                  <a:lnTo>
                    <a:pt x="615" y="257"/>
                  </a:lnTo>
                  <a:lnTo>
                    <a:pt x="823" y="0"/>
                  </a:lnTo>
                  <a:lnTo>
                    <a:pt x="526" y="0"/>
                  </a:lnTo>
                </a:path>
              </a:pathLst>
            </a:custGeom>
            <a:solidFill>
              <a:srgbClr val="80808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8134400">
              <a:off x="2163600" y="5088600"/>
              <a:ext cx="915840" cy="1040400"/>
            </a:xfrm>
            <a:custGeom>
              <a:avLst/>
              <a:gdLst/>
              <a:ahLst/>
              <a:rect l="l" t="t" r="r" b="b"/>
              <a:pathLst>
                <a:path w="4615" h="2842">
                  <a:moveTo>
                    <a:pt x="292" y="5"/>
                  </a:moveTo>
                  <a:lnTo>
                    <a:pt x="259" y="11"/>
                  </a:lnTo>
                  <a:lnTo>
                    <a:pt x="217" y="22"/>
                  </a:lnTo>
                  <a:lnTo>
                    <a:pt x="166" y="49"/>
                  </a:lnTo>
                  <a:lnTo>
                    <a:pt x="98" y="87"/>
                  </a:lnTo>
                  <a:lnTo>
                    <a:pt x="49" y="127"/>
                  </a:lnTo>
                  <a:lnTo>
                    <a:pt x="21" y="170"/>
                  </a:lnTo>
                  <a:lnTo>
                    <a:pt x="10" y="208"/>
                  </a:lnTo>
                  <a:lnTo>
                    <a:pt x="0" y="258"/>
                  </a:lnTo>
                  <a:lnTo>
                    <a:pt x="0" y="307"/>
                  </a:lnTo>
                  <a:lnTo>
                    <a:pt x="12" y="347"/>
                  </a:lnTo>
                  <a:lnTo>
                    <a:pt x="21" y="389"/>
                  </a:lnTo>
                  <a:lnTo>
                    <a:pt x="35" y="426"/>
                  </a:lnTo>
                  <a:lnTo>
                    <a:pt x="82" y="523"/>
                  </a:lnTo>
                  <a:lnTo>
                    <a:pt x="147" y="630"/>
                  </a:lnTo>
                  <a:lnTo>
                    <a:pt x="245" y="748"/>
                  </a:lnTo>
                  <a:lnTo>
                    <a:pt x="343" y="883"/>
                  </a:lnTo>
                  <a:lnTo>
                    <a:pt x="441" y="1001"/>
                  </a:lnTo>
                  <a:lnTo>
                    <a:pt x="525" y="1119"/>
                  </a:lnTo>
                  <a:lnTo>
                    <a:pt x="623" y="1260"/>
                  </a:lnTo>
                  <a:lnTo>
                    <a:pt x="707" y="1441"/>
                  </a:lnTo>
                  <a:lnTo>
                    <a:pt x="763" y="1598"/>
                  </a:lnTo>
                  <a:lnTo>
                    <a:pt x="819" y="1795"/>
                  </a:lnTo>
                  <a:lnTo>
                    <a:pt x="847" y="2007"/>
                  </a:lnTo>
                  <a:lnTo>
                    <a:pt x="888" y="2196"/>
                  </a:lnTo>
                  <a:lnTo>
                    <a:pt x="888" y="2299"/>
                  </a:lnTo>
                  <a:lnTo>
                    <a:pt x="888" y="2433"/>
                  </a:lnTo>
                  <a:lnTo>
                    <a:pt x="888" y="2519"/>
                  </a:lnTo>
                  <a:lnTo>
                    <a:pt x="877" y="2600"/>
                  </a:lnTo>
                  <a:lnTo>
                    <a:pt x="833" y="2684"/>
                  </a:lnTo>
                  <a:lnTo>
                    <a:pt x="802" y="2734"/>
                  </a:lnTo>
                  <a:lnTo>
                    <a:pt x="763" y="2779"/>
                  </a:lnTo>
                  <a:lnTo>
                    <a:pt x="723" y="2807"/>
                  </a:lnTo>
                  <a:lnTo>
                    <a:pt x="695" y="2824"/>
                  </a:lnTo>
                  <a:lnTo>
                    <a:pt x="665" y="2841"/>
                  </a:lnTo>
                  <a:lnTo>
                    <a:pt x="1075" y="2816"/>
                  </a:lnTo>
                  <a:lnTo>
                    <a:pt x="1870" y="2755"/>
                  </a:lnTo>
                  <a:lnTo>
                    <a:pt x="2527" y="2708"/>
                  </a:lnTo>
                  <a:lnTo>
                    <a:pt x="3283" y="2661"/>
                  </a:lnTo>
                  <a:lnTo>
                    <a:pt x="3844" y="2645"/>
                  </a:lnTo>
                  <a:lnTo>
                    <a:pt x="4278" y="2653"/>
                  </a:lnTo>
                  <a:lnTo>
                    <a:pt x="4390" y="2653"/>
                  </a:lnTo>
                  <a:lnTo>
                    <a:pt x="4460" y="2645"/>
                  </a:lnTo>
                  <a:lnTo>
                    <a:pt x="4502" y="2606"/>
                  </a:lnTo>
                  <a:lnTo>
                    <a:pt x="4544" y="2562"/>
                  </a:lnTo>
                  <a:lnTo>
                    <a:pt x="4579" y="2498"/>
                  </a:lnTo>
                  <a:lnTo>
                    <a:pt x="4600" y="2421"/>
                  </a:lnTo>
                  <a:lnTo>
                    <a:pt x="4614" y="2346"/>
                  </a:lnTo>
                  <a:lnTo>
                    <a:pt x="4614" y="2238"/>
                  </a:lnTo>
                  <a:lnTo>
                    <a:pt x="4607" y="2152"/>
                  </a:lnTo>
                  <a:lnTo>
                    <a:pt x="4600" y="2015"/>
                  </a:lnTo>
                  <a:lnTo>
                    <a:pt x="4558" y="1866"/>
                  </a:lnTo>
                  <a:lnTo>
                    <a:pt x="4488" y="1673"/>
                  </a:lnTo>
                  <a:lnTo>
                    <a:pt x="4404" y="1496"/>
                  </a:lnTo>
                  <a:lnTo>
                    <a:pt x="4334" y="1339"/>
                  </a:lnTo>
                  <a:lnTo>
                    <a:pt x="4222" y="1166"/>
                  </a:lnTo>
                  <a:lnTo>
                    <a:pt x="4110" y="1009"/>
                  </a:lnTo>
                  <a:lnTo>
                    <a:pt x="4012" y="859"/>
                  </a:lnTo>
                  <a:lnTo>
                    <a:pt x="3858" y="646"/>
                  </a:lnTo>
                  <a:lnTo>
                    <a:pt x="3774" y="520"/>
                  </a:lnTo>
                  <a:lnTo>
                    <a:pt x="3723" y="436"/>
                  </a:lnTo>
                  <a:lnTo>
                    <a:pt x="3695" y="371"/>
                  </a:lnTo>
                  <a:lnTo>
                    <a:pt x="3684" y="309"/>
                  </a:lnTo>
                  <a:lnTo>
                    <a:pt x="3684" y="256"/>
                  </a:lnTo>
                  <a:lnTo>
                    <a:pt x="3747" y="64"/>
                  </a:lnTo>
                  <a:lnTo>
                    <a:pt x="3774" y="25"/>
                  </a:lnTo>
                  <a:lnTo>
                    <a:pt x="336" y="0"/>
                  </a:lnTo>
                  <a:lnTo>
                    <a:pt x="292" y="5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134400">
              <a:off x="2014560" y="5655600"/>
              <a:ext cx="75600" cy="68400"/>
            </a:xfrm>
            <a:custGeom>
              <a:avLst/>
              <a:gdLst/>
              <a:ahLst/>
              <a:rect l="l" t="t" r="r" b="b"/>
              <a:pathLst>
                <a:path w="381" h="187">
                  <a:moveTo>
                    <a:pt x="380" y="13"/>
                  </a:moveTo>
                  <a:lnTo>
                    <a:pt x="282" y="170"/>
                  </a:lnTo>
                  <a:lnTo>
                    <a:pt x="184" y="186"/>
                  </a:lnTo>
                  <a:lnTo>
                    <a:pt x="135" y="183"/>
                  </a:lnTo>
                  <a:lnTo>
                    <a:pt x="86" y="173"/>
                  </a:lnTo>
                  <a:lnTo>
                    <a:pt x="49" y="154"/>
                  </a:lnTo>
                  <a:lnTo>
                    <a:pt x="23" y="136"/>
                  </a:lnTo>
                  <a:lnTo>
                    <a:pt x="7" y="113"/>
                  </a:lnTo>
                  <a:lnTo>
                    <a:pt x="0" y="92"/>
                  </a:lnTo>
                  <a:lnTo>
                    <a:pt x="2" y="64"/>
                  </a:lnTo>
                  <a:lnTo>
                    <a:pt x="16" y="44"/>
                  </a:lnTo>
                  <a:lnTo>
                    <a:pt x="44" y="29"/>
                  </a:lnTo>
                  <a:lnTo>
                    <a:pt x="79" y="16"/>
                  </a:lnTo>
                  <a:lnTo>
                    <a:pt x="121" y="9"/>
                  </a:lnTo>
                  <a:lnTo>
                    <a:pt x="156" y="5"/>
                  </a:lnTo>
                  <a:lnTo>
                    <a:pt x="196" y="1"/>
                  </a:lnTo>
                  <a:lnTo>
                    <a:pt x="226" y="1"/>
                  </a:lnTo>
                  <a:lnTo>
                    <a:pt x="266" y="0"/>
                  </a:lnTo>
                  <a:lnTo>
                    <a:pt x="380" y="13"/>
                  </a:lnTo>
                </a:path>
              </a:pathLst>
            </a:custGeom>
            <a:solidFill>
              <a:srgbClr val="80808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8134400">
              <a:off x="2026800" y="5641560"/>
              <a:ext cx="52560" cy="55800"/>
            </a:xfrm>
            <a:custGeom>
              <a:avLst/>
              <a:gdLst/>
              <a:ahLst/>
              <a:rect l="l" t="t" r="r" b="b"/>
              <a:pathLst>
                <a:path w="266" h="153">
                  <a:moveTo>
                    <a:pt x="0" y="19"/>
                  </a:moveTo>
                  <a:lnTo>
                    <a:pt x="49" y="38"/>
                  </a:lnTo>
                  <a:lnTo>
                    <a:pt x="72" y="58"/>
                  </a:lnTo>
                  <a:lnTo>
                    <a:pt x="84" y="78"/>
                  </a:lnTo>
                  <a:lnTo>
                    <a:pt x="86" y="107"/>
                  </a:lnTo>
                  <a:lnTo>
                    <a:pt x="77" y="130"/>
                  </a:lnTo>
                  <a:lnTo>
                    <a:pt x="49" y="152"/>
                  </a:lnTo>
                  <a:lnTo>
                    <a:pt x="265" y="126"/>
                  </a:lnTo>
                  <a:lnTo>
                    <a:pt x="247" y="0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8134400">
              <a:off x="1841040" y="5315400"/>
              <a:ext cx="766800" cy="115200"/>
            </a:xfrm>
            <a:custGeom>
              <a:avLst/>
              <a:gdLst/>
              <a:ahLst/>
              <a:rect l="l" t="t" r="r" b="b"/>
              <a:pathLst>
                <a:path w="3864" h="315">
                  <a:moveTo>
                    <a:pt x="3655" y="23"/>
                  </a:moveTo>
                  <a:lnTo>
                    <a:pt x="0" y="0"/>
                  </a:lnTo>
                  <a:lnTo>
                    <a:pt x="103" y="9"/>
                  </a:lnTo>
                  <a:lnTo>
                    <a:pt x="140" y="15"/>
                  </a:lnTo>
                  <a:lnTo>
                    <a:pt x="180" y="24"/>
                  </a:lnTo>
                  <a:lnTo>
                    <a:pt x="205" y="39"/>
                  </a:lnTo>
                  <a:lnTo>
                    <a:pt x="235" y="60"/>
                  </a:lnTo>
                  <a:lnTo>
                    <a:pt x="249" y="85"/>
                  </a:lnTo>
                  <a:lnTo>
                    <a:pt x="259" y="111"/>
                  </a:lnTo>
                  <a:lnTo>
                    <a:pt x="263" y="137"/>
                  </a:lnTo>
                  <a:lnTo>
                    <a:pt x="266" y="159"/>
                  </a:lnTo>
                  <a:lnTo>
                    <a:pt x="259" y="192"/>
                  </a:lnTo>
                  <a:lnTo>
                    <a:pt x="249" y="224"/>
                  </a:lnTo>
                  <a:lnTo>
                    <a:pt x="224" y="251"/>
                  </a:lnTo>
                  <a:lnTo>
                    <a:pt x="184" y="279"/>
                  </a:lnTo>
                  <a:lnTo>
                    <a:pt x="135" y="297"/>
                  </a:lnTo>
                  <a:lnTo>
                    <a:pt x="96" y="314"/>
                  </a:lnTo>
                  <a:lnTo>
                    <a:pt x="336" y="298"/>
                  </a:lnTo>
                  <a:lnTo>
                    <a:pt x="601" y="275"/>
                  </a:lnTo>
                  <a:lnTo>
                    <a:pt x="1023" y="259"/>
                  </a:lnTo>
                  <a:lnTo>
                    <a:pt x="1373" y="243"/>
                  </a:lnTo>
                  <a:lnTo>
                    <a:pt x="1793" y="243"/>
                  </a:lnTo>
                  <a:lnTo>
                    <a:pt x="2254" y="251"/>
                  </a:lnTo>
                  <a:lnTo>
                    <a:pt x="2828" y="259"/>
                  </a:lnTo>
                  <a:lnTo>
                    <a:pt x="3376" y="282"/>
                  </a:lnTo>
                  <a:lnTo>
                    <a:pt x="3599" y="306"/>
                  </a:lnTo>
                  <a:lnTo>
                    <a:pt x="3662" y="311"/>
                  </a:lnTo>
                  <a:lnTo>
                    <a:pt x="3732" y="313"/>
                  </a:lnTo>
                  <a:lnTo>
                    <a:pt x="3781" y="306"/>
                  </a:lnTo>
                  <a:lnTo>
                    <a:pt x="3823" y="282"/>
                  </a:lnTo>
                  <a:lnTo>
                    <a:pt x="3846" y="254"/>
                  </a:lnTo>
                  <a:lnTo>
                    <a:pt x="3858" y="229"/>
                  </a:lnTo>
                  <a:lnTo>
                    <a:pt x="3863" y="201"/>
                  </a:lnTo>
                  <a:lnTo>
                    <a:pt x="3853" y="151"/>
                  </a:lnTo>
                  <a:lnTo>
                    <a:pt x="3835" y="120"/>
                  </a:lnTo>
                  <a:lnTo>
                    <a:pt x="3807" y="87"/>
                  </a:lnTo>
                  <a:lnTo>
                    <a:pt x="3781" y="66"/>
                  </a:lnTo>
                  <a:lnTo>
                    <a:pt x="3751" y="49"/>
                  </a:lnTo>
                  <a:lnTo>
                    <a:pt x="3707" y="32"/>
                  </a:lnTo>
                  <a:lnTo>
                    <a:pt x="3655" y="23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23" name=""/>
          <p:cNvGraphicFramePr/>
          <p:nvPr/>
        </p:nvGraphicFramePr>
        <p:xfrm>
          <a:off x="324000" y="3429000"/>
          <a:ext cx="1944360" cy="20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429000"/>
                    <a:ext cx="194436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5" name=""/>
          <p:cNvGrpSpPr/>
          <p:nvPr/>
        </p:nvGrpSpPr>
        <p:grpSpPr>
          <a:xfrm>
            <a:off x="1839960" y="5670720"/>
            <a:ext cx="577800" cy="747720"/>
            <a:chOff x="1839960" y="5670720"/>
            <a:chExt cx="577800" cy="747720"/>
          </a:xfrm>
        </p:grpSpPr>
        <p:sp>
          <p:nvSpPr>
            <p:cNvPr id="426" name=""/>
            <p:cNvSpPr/>
            <p:nvPr/>
          </p:nvSpPr>
          <p:spPr>
            <a:xfrm>
              <a:off x="1839960" y="5864760"/>
              <a:ext cx="577800" cy="553680"/>
            </a:xfrm>
            <a:custGeom>
              <a:avLst/>
              <a:gdLst/>
              <a:ahLst/>
              <a:rect l="l" t="t" r="r" b="b"/>
              <a:pathLst>
                <a:path w="1238" h="770">
                  <a:moveTo>
                    <a:pt x="426" y="39"/>
                  </a:moveTo>
                  <a:lnTo>
                    <a:pt x="305" y="297"/>
                  </a:lnTo>
                  <a:lnTo>
                    <a:pt x="163" y="517"/>
                  </a:lnTo>
                  <a:lnTo>
                    <a:pt x="0" y="769"/>
                  </a:lnTo>
                  <a:lnTo>
                    <a:pt x="137" y="719"/>
                  </a:lnTo>
                  <a:lnTo>
                    <a:pt x="296" y="663"/>
                  </a:lnTo>
                  <a:lnTo>
                    <a:pt x="384" y="637"/>
                  </a:lnTo>
                  <a:lnTo>
                    <a:pt x="454" y="620"/>
                  </a:lnTo>
                  <a:lnTo>
                    <a:pt x="524" y="610"/>
                  </a:lnTo>
                  <a:lnTo>
                    <a:pt x="589" y="606"/>
                  </a:lnTo>
                  <a:lnTo>
                    <a:pt x="680" y="596"/>
                  </a:lnTo>
                  <a:lnTo>
                    <a:pt x="624" y="512"/>
                  </a:lnTo>
                  <a:lnTo>
                    <a:pt x="694" y="507"/>
                  </a:lnTo>
                  <a:lnTo>
                    <a:pt x="778" y="517"/>
                  </a:lnTo>
                  <a:lnTo>
                    <a:pt x="862" y="541"/>
                  </a:lnTo>
                  <a:lnTo>
                    <a:pt x="927" y="563"/>
                  </a:lnTo>
                  <a:lnTo>
                    <a:pt x="983" y="589"/>
                  </a:lnTo>
                  <a:lnTo>
                    <a:pt x="1042" y="616"/>
                  </a:lnTo>
                  <a:lnTo>
                    <a:pt x="1133" y="663"/>
                  </a:lnTo>
                  <a:lnTo>
                    <a:pt x="1237" y="709"/>
                  </a:lnTo>
                  <a:lnTo>
                    <a:pt x="1214" y="545"/>
                  </a:lnTo>
                  <a:lnTo>
                    <a:pt x="1158" y="414"/>
                  </a:lnTo>
                  <a:lnTo>
                    <a:pt x="1100" y="262"/>
                  </a:lnTo>
                  <a:lnTo>
                    <a:pt x="1051" y="151"/>
                  </a:lnTo>
                  <a:lnTo>
                    <a:pt x="1018" y="63"/>
                  </a:lnTo>
                  <a:lnTo>
                    <a:pt x="1004" y="0"/>
                  </a:lnTo>
                  <a:lnTo>
                    <a:pt x="426" y="39"/>
                  </a:lnTo>
                </a:path>
              </a:pathLst>
            </a:custGeom>
            <a:solidFill>
              <a:srgbClr val="ff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93320" y="5670720"/>
              <a:ext cx="348120" cy="279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98360" y="5675760"/>
              <a:ext cx="336600" cy="281880"/>
            </a:xfrm>
            <a:custGeom>
              <a:avLst/>
              <a:gdLst/>
              <a:ahLst/>
              <a:rect l="l" t="t" r="r" b="b"/>
              <a:pathLst>
                <a:path w="721" h="392">
                  <a:moveTo>
                    <a:pt x="354" y="0"/>
                  </a:moveTo>
                  <a:lnTo>
                    <a:pt x="329" y="72"/>
                  </a:lnTo>
                  <a:lnTo>
                    <a:pt x="254" y="9"/>
                  </a:lnTo>
                  <a:lnTo>
                    <a:pt x="270" y="78"/>
                  </a:lnTo>
                  <a:lnTo>
                    <a:pt x="179" y="26"/>
                  </a:lnTo>
                  <a:lnTo>
                    <a:pt x="214" y="95"/>
                  </a:lnTo>
                  <a:lnTo>
                    <a:pt x="117" y="53"/>
                  </a:lnTo>
                  <a:lnTo>
                    <a:pt x="172" y="119"/>
                  </a:lnTo>
                  <a:lnTo>
                    <a:pt x="51" y="94"/>
                  </a:lnTo>
                  <a:lnTo>
                    <a:pt x="138" y="148"/>
                  </a:lnTo>
                  <a:lnTo>
                    <a:pt x="12" y="140"/>
                  </a:lnTo>
                  <a:lnTo>
                    <a:pt x="131" y="175"/>
                  </a:lnTo>
                  <a:lnTo>
                    <a:pt x="0" y="193"/>
                  </a:lnTo>
                  <a:lnTo>
                    <a:pt x="131" y="211"/>
                  </a:lnTo>
                  <a:lnTo>
                    <a:pt x="12" y="242"/>
                  </a:lnTo>
                  <a:lnTo>
                    <a:pt x="140" y="243"/>
                  </a:lnTo>
                  <a:lnTo>
                    <a:pt x="47" y="293"/>
                  </a:lnTo>
                  <a:lnTo>
                    <a:pt x="170" y="272"/>
                  </a:lnTo>
                  <a:lnTo>
                    <a:pt x="103" y="332"/>
                  </a:lnTo>
                  <a:lnTo>
                    <a:pt x="214" y="297"/>
                  </a:lnTo>
                  <a:lnTo>
                    <a:pt x="179" y="364"/>
                  </a:lnTo>
                  <a:lnTo>
                    <a:pt x="259" y="315"/>
                  </a:lnTo>
                  <a:lnTo>
                    <a:pt x="256" y="385"/>
                  </a:lnTo>
                  <a:lnTo>
                    <a:pt x="315" y="321"/>
                  </a:lnTo>
                  <a:lnTo>
                    <a:pt x="354" y="391"/>
                  </a:lnTo>
                  <a:lnTo>
                    <a:pt x="385" y="323"/>
                  </a:lnTo>
                  <a:lnTo>
                    <a:pt x="424" y="387"/>
                  </a:lnTo>
                  <a:lnTo>
                    <a:pt x="448" y="317"/>
                  </a:lnTo>
                  <a:lnTo>
                    <a:pt x="513" y="372"/>
                  </a:lnTo>
                  <a:lnTo>
                    <a:pt x="497" y="301"/>
                  </a:lnTo>
                  <a:lnTo>
                    <a:pt x="587" y="342"/>
                  </a:lnTo>
                  <a:lnTo>
                    <a:pt x="543" y="276"/>
                  </a:lnTo>
                  <a:lnTo>
                    <a:pt x="660" y="300"/>
                  </a:lnTo>
                  <a:lnTo>
                    <a:pt x="580" y="249"/>
                  </a:lnTo>
                  <a:lnTo>
                    <a:pt x="704" y="247"/>
                  </a:lnTo>
                  <a:lnTo>
                    <a:pt x="594" y="218"/>
                  </a:lnTo>
                  <a:lnTo>
                    <a:pt x="720" y="193"/>
                  </a:lnTo>
                  <a:lnTo>
                    <a:pt x="590" y="176"/>
                  </a:lnTo>
                  <a:lnTo>
                    <a:pt x="711" y="149"/>
                  </a:lnTo>
                  <a:lnTo>
                    <a:pt x="576" y="145"/>
                  </a:lnTo>
                  <a:lnTo>
                    <a:pt x="683" y="106"/>
                  </a:lnTo>
                  <a:lnTo>
                    <a:pt x="555" y="116"/>
                  </a:lnTo>
                  <a:lnTo>
                    <a:pt x="632" y="64"/>
                  </a:lnTo>
                  <a:lnTo>
                    <a:pt x="515" y="94"/>
                  </a:lnTo>
                  <a:lnTo>
                    <a:pt x="559" y="35"/>
                  </a:lnTo>
                  <a:lnTo>
                    <a:pt x="464" y="78"/>
                  </a:lnTo>
                  <a:lnTo>
                    <a:pt x="480" y="11"/>
                  </a:lnTo>
                  <a:lnTo>
                    <a:pt x="403" y="68"/>
                  </a:lnTo>
                  <a:lnTo>
                    <a:pt x="354" y="0"/>
                  </a:lnTo>
                </a:path>
              </a:pathLst>
            </a:custGeom>
            <a:solidFill>
              <a:srgbClr val="808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8480" y="5718600"/>
              <a:ext cx="218520" cy="18396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80080" y="5952600"/>
              <a:ext cx="52560" cy="302400"/>
            </a:xfrm>
            <a:custGeom>
              <a:avLst/>
              <a:gdLst/>
              <a:ahLst/>
              <a:rect l="l" t="t" r="r" b="b"/>
              <a:pathLst>
                <a:path w="113" h="421">
                  <a:moveTo>
                    <a:pt x="112" y="386"/>
                  </a:moveTo>
                  <a:lnTo>
                    <a:pt x="49" y="403"/>
                  </a:lnTo>
                  <a:lnTo>
                    <a:pt x="0" y="420"/>
                  </a:lnTo>
                  <a:lnTo>
                    <a:pt x="107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00000" y="48600"/>
            <a:ext cx="7632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2 Оценка соотве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4.5.2 Оценка соответствия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ценка деятельности организации на предмет соответствия экологическим требованиям может осуществляться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ственным за процесс идентификации требований на основании имеющейся информации, результатов мониторинга и измерений, проведенных аудитов и инспекционных провер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удиторскими или инспекционными групп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ставителями органов Государственного контроля, органа по сертификации систем менеджмента или другими заинтересованными сторон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56880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есоответствие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невыполнение требован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Значительное несоответствие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выполняется требований стандарта или элемента системы менедж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алозначительное несоответствие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днократное отклонение от требов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5867280" y="1628640"/>
          <a:ext cx="3276720" cy="34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628640"/>
                    <a:ext cx="327672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. 4.5.3 Несоответствие,  корректирующие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орректирующее действие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е причины выявленного несоотве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Предупреждающее действие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йствие, предпринятое для устранения причины потенциального несоотве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44680" y="1700280"/>
            <a:ext cx="323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1413000"/>
            <a:ext cx="4267080" cy="476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абатываются и выполняются процедуры идентификации, коррекции и анализа несоответствия, смягчения воздействий на окружающую среду и принятия корректирующих дей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ведение корректирующих/предупреждающих действий, соответствующих масштабам воздействий на окружающую среду, и анализ из результатив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есмотр документально оформленных процедур с целью отражения принятых корректирующих действ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6206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3456000" cy="2292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468360" y="546120"/>
            <a:ext cx="8064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дьте уверены в правильности определения несоответ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рассматривайте несоответствие как недоста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явление несоответствия предоставляет возможность улучшения посредством корректирующих действ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7287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п. 4.5.3 Несоответствие,  корректирующие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и предупрежда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ктивное доказатель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актическое доказательство различий между руководством по экологии и существующими процеду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актическое доказательство различий между процедурами и сложившейся практикой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сутствие доказательств, демонстрирующих постоянное улучшение различных частей сист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900920" y="5084640"/>
            <a:ext cx="1243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24000" y="620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. 4.5.4 Управление запися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2060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1916280"/>
            <a:ext cx="6588360" cy="468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работка и выполнение процедур по идентификации, хранению, защите, поиску, определению сроков хранения и изъятию запис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и должны быть четкими, идентифицируемыми и прослеживаемы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и должны демонстрировать соответствие системы экологического менеджмента требованиям и достигнутым результатам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27129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. 4.5.4 Управление записям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Записи, касающиеся окружающей среды могу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ключа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о жало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по обучен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по процессу мониторин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по осмотру и  тех.обслуживанию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, касающиеся подрядчиков и постав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о проверках готовности к аварийным ситуац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зультаты ауди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зультаты анализа со стороны руковод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 об экологической эффе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писи, касающиеся важных экологических аспек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6516720" y="2349360"/>
            <a:ext cx="262728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4.5.5 Внутренний аудит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Экологический ауди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это систематический, документально оформленный процесс провер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ивно получаемых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цениваемых аудиторских д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ля определения соответствия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соответствия критериям аудита определенных видов экологической  деятельности, событий, услов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стем административ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правления или информация об эт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ах, а также сообщения клиенту результатов, полученных в ходе этого проце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915240" y="2565360"/>
            <a:ext cx="22287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11:28:10Z</dcterms:created>
  <dc:creator>EPetrosyan</dc:creator>
  <dc:description/>
  <dc:language>en-US</dc:language>
  <cp:lastModifiedBy>Admin</cp:lastModifiedBy>
  <cp:lastPrinted>2003-02-05T14:15:09Z</cp:lastPrinted>
  <dcterms:modified xsi:type="dcterms:W3CDTF">2011-12-23T03:49:04Z</dcterms:modified>
  <cp:revision>175</cp:revision>
  <dc:subject/>
  <dc:title>Заголовок слайда отсутствует</dc:title>
</cp:coreProperties>
</file>