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DBD-DFAA-4C9B-BD73-07B1AD49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C98-C48A-498B-B206-9DAECCFB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2DF-3AFB-46AD-A9C4-E7B7A264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0CB-72C8-4246-8768-7D8AECF3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55AD-1CA8-4CB0-97CE-E5D98714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B17D-9797-4EE3-A59E-C2BDFE82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372-D2CE-4513-87FC-C1C47EF1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11B9-050B-4E5D-A01B-3CF80F5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1ECE-5136-4CB3-8592-F52E19D8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58CA-A80B-41C4-BCDF-95B4158B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F011-EE7D-48DE-9F49-89903B0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837-9401-49C7-9612-691D586B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859C-1BA3-46E9-B85C-644F452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B97A-97AC-480A-8B26-F89F2CE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B980-8647-454D-9F90-531FFFD1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83C4-396D-4B16-B0CF-82C582F8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6D0-6922-4AEC-8EBB-ADFB3F15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715-0A9C-422A-8EA9-63B68400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F24-367C-4F29-ADE0-94A5FB7B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BFC-930F-4158-9BDD-25D5BD4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6D4-BDEA-4C41-B996-237FE81E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FEE-EF1E-44A5-84D4-DBCC2AEB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EB7-07A4-4177-B703-9DD81FCC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4A7-414B-44BE-B4CA-415835D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9FDF-0194-4CE8-9C64-DFB3F5F9E5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251E-6C83-47B9-A77E-E2579D50DA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МАССООБМЕННЫ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А  Абсорб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Г  Ректифик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Б  Адсорб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Д  Суш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В  Экстра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Е  Раствор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Ж  Кристаллиз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60280"/>
            <a:ext cx="820728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ля описания состояния и его изменения различных тел используют физические величины, для их измерения – единицы системы СИ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а новых процессов и аппаратов состоит из нескольких стад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работка технического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 эскизного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технического проек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 конструкторской документ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Данные стадии предусматривают аналитические и экспериментальные исследования – для этого теория моделирован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384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.Математическое моделирова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. Детерминированный подход – анализ элементарных явл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.Стохатический – изучение влияния входных параметров на выход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2. Физическое моделирование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ение процессов на конкретных модел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новы теории подоб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роцессы, происходящие в модели и натуральном аппарате, должны описываться одинаковыми уравн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одель должна быть геометрически подобна натуральному образ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начения начальные и граничных условий процесса, выраженные в виде критериев, должны быть одинаков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се критерии и безразмерные компоненты во всех сходных точках должны быть одинаковыми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628640"/>
            <a:ext cx="403236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1628640"/>
            <a:ext cx="388764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ребования, предъявляемые к аппаратам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– качество, короткое время, энерго-ресурсосберегающ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луатационные – простота обслуживания при минимальных затратах и времени, доступность для ремонта и чис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етические – энергосбере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руктивные – унификация, стандартизация, снижение материалоемкости, эстетичность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та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КЦИЯ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ения и 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ификация проце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ые принципы проектирования новых аппар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сновные понятия и определ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оследовательные и закономерные изменения в системе, приводящие к возникновению в ней новых свой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ш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еханизм (их сочетание) предназначенные для преобразования механической энергии в полезную раб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пара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устройство для проведения какого-либ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В основе всех технологических процессов лежат законы сохранения энергии и массы: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тепловой бал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материальный бал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619280" y="2421000"/>
                <a:ext cx="3529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ОТ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47640" y="4076640"/>
                <a:ext cx="360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ОТ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5084640"/>
                <a:ext cx="30243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411280" y="4941720"/>
            <a:ext cx="432144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лассификация процессо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о-техн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отношению ко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кинетическим закономерност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рость процесса прямо пропорциональна движущейся силе и обратно сопротивле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х – движущая си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84360" y="4221000"/>
                <a:ext cx="208764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 Организационно-техническ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ериод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епрерыв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комбинирова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 По отношению ко време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становившиеся П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τ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 – параметр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еустановившиеся П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τ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549360"/>
            <a:ext cx="7343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кинетическим закономерностя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гидромехан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ехан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тепловые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) массообменны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хим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) микробиолог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) электрофиз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=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1125360"/>
            <a:ext cx="466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 ГИДРОМЕХАНИЧЕСКИ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628640"/>
          <a:ext cx="8208360" cy="4254480"/>
        </p:xfrm>
        <a:graphic>
          <a:graphicData uri="http://schemas.openxmlformats.org/drawingml/2006/table">
            <a:tbl>
              <a:tblPr/>
              <a:tblGrid>
                <a:gridCol w="710640"/>
                <a:gridCol w="2023200"/>
                <a:gridCol w="756360"/>
                <a:gridCol w="1984320"/>
                <a:gridCol w="792000"/>
                <a:gridCol w="194184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неоднородных жидкостн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жидкостн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газов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ш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а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ждение под действием силы тяж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ерг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т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ждение под действием центробежных си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ифуг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тр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евдоожи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оса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ушение и удаление неоднородных сл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76360" y="1140480"/>
            <a:ext cx="328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 МЕХАНИЧЕСКИ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739880"/>
          <a:ext cx="7920000" cy="2317680"/>
        </p:xfrm>
        <a:graphic>
          <a:graphicData uri="http://schemas.openxmlformats.org/drawingml/2006/table">
            <a:tbl>
              <a:tblPr/>
              <a:tblGrid>
                <a:gridCol w="684000"/>
                <a:gridCol w="3129120"/>
                <a:gridCol w="744480"/>
                <a:gridCol w="3362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однородных и неоднородных твердых, пластичных и сыпучи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твердых и сыпучи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ль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многокомпонентных систем с получением однокомпонентн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ш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систем по размерам компон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с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721600" y="4091760"/>
            <a:ext cx="27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 ТЕПЛОВЫ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5280" y="4724280"/>
          <a:ext cx="8064360" cy="1919520"/>
        </p:xfrm>
        <a:graphic>
          <a:graphicData uri="http://schemas.openxmlformats.org/drawingml/2006/table">
            <a:tbl>
              <a:tblPr/>
              <a:tblGrid>
                <a:gridCol w="698400"/>
                <a:gridCol w="3184560"/>
                <a:gridCol w="758880"/>
                <a:gridCol w="3422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изменения агрегатного состоя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изменением агрегатного состоя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денс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ла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Б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ораживание-размораж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ление-отверде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3:56:42Z</dcterms:created>
  <dc:creator>User</dc:creator>
  <dc:description/>
  <dc:language>en-US</dc:language>
  <cp:lastModifiedBy>User</cp:lastModifiedBy>
  <dcterms:modified xsi:type="dcterms:W3CDTF">2006-12-19T12:05:04Z</dcterms:modified>
  <cp:revision>5</cp:revision>
  <dc:subject/>
  <dc:title> «Процессы и аппараты пищевых производств»  </dc:title>
</cp:coreProperties>
</file>