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6FC-3A04-494F-A6D0-55A10309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B16-6049-4427-9007-DCC54276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994-18A9-432F-8793-22748104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C08-B484-471F-A0AE-BB0CAB6B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069F-23AF-4886-9A24-D59FB8A1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90FD-D0E1-4D11-9AE0-563A3D98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C9EC-5E0F-47FD-B139-4FA98FD3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95D4-0493-478F-8E52-E7FEEFF0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82AD-30D1-4F6C-91B8-AAA8C90D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EDD4-4F56-4C25-80A7-B2FE8879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5170-4D59-4212-928D-B88BA4F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EB8-F8F5-42FE-A01E-00102788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821E-9E95-4103-AC5B-EE5E413B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A623-C1C9-473D-A0B6-4CD3B459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7AEE-A7DE-4AA2-AC04-D992837C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0C7D-5CFC-4796-9AFD-BFFBA18A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BFE1-89D7-47E3-9073-025F6BB1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321-51A4-4115-BD5A-AA2C6C7F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9EE-7D94-45E8-AB4D-B3E77C8C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253-1DA1-4240-9A93-A8FCE9BF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26B-6C48-47A6-B699-EDE39D92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FE2-F91B-4C3D-A50D-41C831C7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7F9-D113-4481-B53E-804538C7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95A-B994-426E-A3DB-9B0A0BE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66CF-7DAE-4965-9AFE-1FC2002F89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B0B9-3F76-4E6B-9C4D-63C5D4145E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дина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6 Расчет диаметра трубопро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7 Истечение жидк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8 Понятие о ре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чет диаметров трубопров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жно при проектирова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объемного расход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определяют диамет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ые значения средней скорости теч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м/с         (для капельных жидкост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– 15 м/с     (газ, воздух при небольшом давле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– 20 м/с   (газ, воздух при высоком давле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– 30 м/с   (насыщенный па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– 50 м/с   (перегретый пар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33520"/>
            <a:ext cx="426744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95480" y="2362320"/>
                <a:ext cx="1832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0400" y="3505320"/>
                <a:ext cx="11984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υ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р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ечение жидк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ем уравнение Бернулли. Сначала исследуем истечение при постоянном уровн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533520"/>
            <a:ext cx="419112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2514600"/>
            <a:ext cx="3962520" cy="2408400"/>
            <a:chOff x="457200" y="2514600"/>
            <a:chExt cx="3962520" cy="2408400"/>
          </a:xfrm>
        </p:grpSpPr>
        <p:sp>
          <p:nvSpPr>
            <p:cNvPr id="117" name=""/>
            <p:cNvSpPr/>
            <p:nvPr/>
          </p:nvSpPr>
          <p:spPr>
            <a:xfrm>
              <a:off x="3231000" y="4214160"/>
              <a:ext cx="48420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z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59120" y="378900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z</a:t>
              </a:r>
              <a:r>
                <a:rPr b="0" lang="ru-RU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4640" y="40723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7440" y="40723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3200" y="3080880"/>
              <a:ext cx="3963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8880" y="308088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06160" y="44971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9800" y="3177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306160" y="4310640"/>
              <a:ext cx="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4040" y="388584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2174040" y="3301920"/>
              <a:ext cx="52704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641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9560" y="3035880"/>
              <a:ext cx="184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49560" y="303588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8880" y="303588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49560" y="40276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305800" y="40276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3200" y="3364920"/>
              <a:ext cx="30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3200" y="4072320"/>
              <a:ext cx="250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8280" y="275292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41920" y="4027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06160" y="4027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13800" y="360252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74040" y="360252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8040" y="374436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0400" y="374436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13800" y="388584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34640" y="388584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2520" y="360252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31000" y="4073040"/>
              <a:ext cx="0" cy="8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364920"/>
              <a:ext cx="0" cy="15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5320" y="3364920"/>
              <a:ext cx="0" cy="70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74040" y="4214880"/>
              <a:ext cx="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174040" y="3726720"/>
              <a:ext cx="52704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641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382400" y="3177000"/>
              <a:ext cx="791280" cy="141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382400" y="3320280"/>
              <a:ext cx="791280" cy="141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382400" y="3460320"/>
              <a:ext cx="791280" cy="141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174040" y="3443400"/>
              <a:ext cx="52704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641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8040" y="3364920"/>
              <a:ext cx="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1440" y="4923000"/>
              <a:ext cx="33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81680" y="3506400"/>
              <a:ext cx="4708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9800" y="44989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9320" y="350568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3360" y="4497120"/>
              <a:ext cx="3963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" y="44971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9800" y="2514600"/>
              <a:ext cx="3963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29200" y="2209680"/>
                <a:ext cx="2778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267080" y="3025800"/>
            <a:ext cx="43434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) При атмосферном давлении р</a:t>
            </a:r>
            <a:r>
              <a:rPr b="0" lang="ru-RU" sz="1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=р</a:t>
            </a:r>
            <a:r>
              <a:rPr b="0" lang="ru-RU" sz="1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в сечении 1-1 скорость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, тог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87480" y="3319560"/>
                <a:ext cx="4190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00600" y="3733920"/>
                <a:ext cx="13669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705720" y="3886200"/>
                <a:ext cx="15332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806720" y="4357440"/>
            <a:ext cx="31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эффициент истеч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8480" y="51048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При избыточном давлен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33720" y="5562720"/>
                <a:ext cx="1323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81480" y="5562720"/>
                <a:ext cx="2249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ρ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876920" y="5410080"/>
            <a:ext cx="27432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3809880"/>
            <a:ext cx="17528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ечение при снижающемся уровн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е значение имеет время истечения, а не скор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учетом полученных зависимостей, при убывающем уровн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ля открытого резерву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533520"/>
            <a:ext cx="426708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91120" y="2514600"/>
                <a:ext cx="12301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и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32800" y="327600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и избыточном давлени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267080" y="3200400"/>
                <a:ext cx="1230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и</m:t>
                            </m:r>
                          </m:sub>
                        </m:sSub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и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34400" y="3809160"/>
            <a:ext cx="58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струй применяются насадки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3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43000" y="4228920"/>
            <a:ext cx="5256720" cy="1028880"/>
            <a:chOff x="1143000" y="4228920"/>
            <a:chExt cx="5256720" cy="1028880"/>
          </a:xfrm>
        </p:grpSpPr>
        <p:sp>
          <p:nvSpPr>
            <p:cNvPr id="188" name=""/>
            <p:cNvSpPr/>
            <p:nvPr/>
          </p:nvSpPr>
          <p:spPr>
            <a:xfrm>
              <a:off x="2971800" y="43434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143000" y="4228920"/>
              <a:ext cx="5256720" cy="849960"/>
              <a:chOff x="1143000" y="4228920"/>
              <a:chExt cx="5256720" cy="8499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143000" y="4457520"/>
                <a:ext cx="1714320" cy="228600"/>
                <a:chOff x="1143000" y="4457520"/>
                <a:chExt cx="1714320" cy="2286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485720" y="4457520"/>
                  <a:ext cx="10285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143000" y="4571640"/>
                  <a:ext cx="79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71520" y="45716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314520" y="4343040"/>
                <a:ext cx="1256760" cy="457560"/>
                <a:chOff x="3314520" y="4343040"/>
                <a:chExt cx="1256760" cy="457560"/>
              </a:xfrm>
            </p:grpSpPr>
            <p:sp>
              <p:nvSpPr>
                <p:cNvPr id="195" name=""/>
                <p:cNvSpPr/>
                <p:nvPr/>
              </p:nvSpPr>
              <p:spPr>
                <a:xfrm rot="16200000">
                  <a:off x="3828600" y="4171680"/>
                  <a:ext cx="228600" cy="57132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125640 h 571320"/>
                    <a:gd name="textAreaBottom" fmla="*/ 445680 h 571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5400000">
                  <a:off x="3828240" y="4400640"/>
                  <a:ext cx="228600" cy="57132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125640 h 571320"/>
                    <a:gd name="textAreaBottom" fmla="*/ 445680 h 571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314520" y="44575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999960" y="44575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314520" y="4686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999960" y="4686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029200" y="4228920"/>
                <a:ext cx="1370520" cy="685440"/>
                <a:chOff x="5029200" y="4228920"/>
                <a:chExt cx="1370520" cy="685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257800" y="4343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29120" y="4457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>
                  <a:off x="5257800" y="4228560"/>
                  <a:ext cx="1141920" cy="22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5257800" y="4686480"/>
                  <a:ext cx="1141920" cy="22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029200" y="457200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1718280" y="47361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04560" y="47361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914400" y="510516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- Цилиндрические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=0,8), 2 - Конические: А - сужающиеся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=0,9–0,95, для дальнобойной струи), Б – расширяющиеся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=0,5–0,55, для большого расхода при малой кинетической энергии), 3 – Коноидальные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0,9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ньютоновские жидкости (3 основные группы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Скорость сдвига зависит от направления и не зависит от продолжительности воздействия – вязк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бингамовски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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 – коэффициент пластической вязкости (густые суспензии, паст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псевдопластичные малые значения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 ( кажущаяся вязкост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), который уменьшается с увеличением градиента скорости (суспензии с асимметричными частицам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дилантные -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растет с увеличением градиента скорости (суспензии с большим количеством твердой фаз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Напряжение сдвига зависит от градиента скорости и изменяется во времен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тиксотропные – со временем падает напряжение сдвига (разрушается структур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  реопектические – со временем растет напряжение сдви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Вязкоупругие (максвелловские) – текут при приложении напряжения, а после снятия восстанавливают частично форму (тесто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счете трубопроводов определяют объемный расх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 о н я т и е  о  р е о л о г и 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33520"/>
            <a:ext cx="48006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315200" y="5410080"/>
                <a:ext cx="601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57560" y="586656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ем -  диамет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895480" y="5791320"/>
                <a:ext cx="738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πυ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2-19T12:11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