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188E-A20F-4578-BE77-595F1D3BA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6F0C-429D-4730-B1A0-528F9D544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72F3-2A47-48BE-92CA-BDF517184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5F65-6668-4A93-B542-D66DDCD76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C75CA-C10D-4CB6-98BF-4185DCD09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C17C4-35A3-4B9C-8180-E3CCC3200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F7DCD-DD48-49DE-BF5B-687EA8D65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13243-AB25-444D-959D-163F39215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5116B-62E9-4D89-88C0-E49406264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6BB97-D9B7-4B93-BCCC-613FB9D2B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F916B-4C90-4F47-9D7D-FD10EEC0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0B0F-D655-4459-9005-622A575A6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3C0A8-8A44-40D3-ABDB-408C0586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05F6C-6628-4257-8FFD-313C3203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736A7-7BC5-4BBA-A7C7-4EA08BE1F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5D291-9A9F-4867-A96C-56F5D8139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EC125-2D2B-4F44-AB4B-976DFC76C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1B7E-CF42-463F-92E0-B1C7FB4CD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9994-B45B-4B3D-87C2-B69B31568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281A-97F1-4BAF-9D02-06ADCB1F2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7E13-A6A4-4629-957B-F6521F50E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BBDF-92F2-41FA-9F81-79DA1010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8D0E-C687-4100-B100-8BBE25CB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78EA-57FD-4C3E-860F-BBB48FA9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06C40-70DB-4F75-A254-512AEBCFAB8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11321-4A99-440A-B961-6876664CF28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3200" spc="-1" strike="noStrike">
                <a:solidFill>
                  <a:srgbClr val="b2b2b2"/>
                </a:solidFill>
                <a:latin typeface="Arial"/>
              </a:rPr>
              <a:t>«Процессы и аппараты пищевых производств» </a:t>
            </a:r>
            <a:br>
              <a:rPr sz="3200"/>
            </a:b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87280" y="2565000"/>
            <a:ext cx="73454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КОНСПЕКТ ЛЕКЦИЙ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для специальностей 050727 – Технология продовольственных продуктов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050728 – Технология перерабатывающих производств, 050724 – Технологические машины и оборудование, 050701 – Биотехнолог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627280" y="1413000"/>
            <a:ext cx="575964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ЕКЦИЯ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Ы ГИДРАВЛ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идростатик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1 Свойства жидкост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2 Уравнение Эйле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3 Закон Паскал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4 Закон Архиме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5 Сообщающиеся сосу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277920"/>
            <a:ext cx="67816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С В О Й С Т В А   Ж И Д К О С Т И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идкость рассматривают как непрерывную материальную среду. Ее свойств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   Плотность                  (кг/м3)                    удельный объе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   Упругость                       (коэффициент объемного сжатия)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    Модуль объемной упругости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    Коэффициент температурного расшире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    Поверхность натяже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    Капиллярн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    Вязкост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корость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линейный размер поперечного сеч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438280" y="1585800"/>
                <a:ext cx="75276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495680" y="1600200"/>
                <a:ext cx="87480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уд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590920" y="2286000"/>
                <a:ext cx="10620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ж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p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724280" y="2895480"/>
                <a:ext cx="82080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сж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6477120" y="3505320"/>
                <a:ext cx="87444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267080" y="4191120"/>
                <a:ext cx="82080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н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590920" y="5257800"/>
                <a:ext cx="117612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Δ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dυ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h</m:t>
                                </m:r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1752480" y="304920"/>
            <a:ext cx="5334120" cy="533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0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277920"/>
            <a:ext cx="67816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С В О Й С Т В А   Ж И Д К О С Т И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гласно уравнению Ньютона для ньютоновской жидкости удельная сила трения определяетс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ньютоновские жидкости (Бингама) – тесто, фарш, творог.Для них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 – удельная сила трения, П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т – предельное значения силы трения (Па), свыше которого         жидкость приходит в движ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733920" y="2133720"/>
                <a:ext cx="96516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ηdυ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809880" y="3429000"/>
                <a:ext cx="16272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уд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т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ηdυ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1066680" y="380880"/>
            <a:ext cx="609624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Г и д р о с т а т и к а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сновное уравнение гидростатики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Эйлер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5486400" y="1219320"/>
            <a:ext cx="2857680" cy="1371600"/>
            <a:chOff x="5486400" y="1219320"/>
            <a:chExt cx="2857680" cy="1371600"/>
          </a:xfrm>
        </p:grpSpPr>
        <p:sp>
          <p:nvSpPr>
            <p:cNvPr id="134" name=""/>
            <p:cNvSpPr/>
            <p:nvPr/>
          </p:nvSpPr>
          <p:spPr>
            <a:xfrm>
              <a:off x="7922880" y="2063880"/>
              <a:ext cx="420840" cy="3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600520" y="1905120"/>
              <a:ext cx="43092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22880" y="1641240"/>
              <a:ext cx="210600" cy="3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079040" y="1219320"/>
              <a:ext cx="4644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45080" y="1219320"/>
              <a:ext cx="412560" cy="31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119280" y="1536120"/>
              <a:ext cx="1478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119280" y="1536120"/>
              <a:ext cx="1468800" cy="95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803200" y="1641240"/>
              <a:ext cx="22158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230520" y="1759680"/>
              <a:ext cx="21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61520" y="1852200"/>
              <a:ext cx="21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45080" y="2063880"/>
              <a:ext cx="2106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289280" y="1746720"/>
              <a:ext cx="1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972480" y="1958400"/>
              <a:ext cx="21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89280" y="2063880"/>
              <a:ext cx="21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91520" y="1953360"/>
              <a:ext cx="53064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339240" y="1324440"/>
              <a:ext cx="0" cy="31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706000" y="2485440"/>
              <a:ext cx="23209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394760" y="1324440"/>
              <a:ext cx="0" cy="63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922520" y="1958400"/>
              <a:ext cx="0" cy="52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908320" y="1641240"/>
              <a:ext cx="0" cy="84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922520" y="1641240"/>
              <a:ext cx="0" cy="31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027280" y="2274840"/>
              <a:ext cx="316800" cy="3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486400" y="2274840"/>
              <a:ext cx="316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752520" y="2295720"/>
              <a:ext cx="21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330960" y="2211120"/>
              <a:ext cx="21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174800" y="2379960"/>
              <a:ext cx="21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676520" y="1752480"/>
                <a:ext cx="220968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ρg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609480" y="2563920"/>
                <a:ext cx="128592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ρg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ρ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514600" y="2590920"/>
                <a:ext cx="129528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ρ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457200" y="3244680"/>
            <a:ext cx="7391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Закон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Паскал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Обозначи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–  глубина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погруж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Тогда из уравнения (2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4639680"/>
            <a:ext cx="8381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Давление на глубин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увеличивается на величину гидростатического дав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56383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Следствие: Давление создаваемое в любой точке передается всем точкам объема жидк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095880" y="4419720"/>
                <a:ext cx="137160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Р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Р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ρ</m:t>
                    </m:r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 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3124080" y="3886200"/>
                <a:ext cx="94320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2133720" y="5181480"/>
                <a:ext cx="50472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 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733920" y="4952880"/>
                <a:ext cx="176040" cy="2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2133720" y="457200"/>
            <a:ext cx="472428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кон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рхимед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 тело, погруженное в жидкость, действует выталкивающая сила равная весу вытесненной вод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791320" y="4724280"/>
            <a:ext cx="2286000" cy="1257120"/>
            <a:chOff x="5791320" y="4724280"/>
            <a:chExt cx="2286000" cy="1257120"/>
          </a:xfrm>
        </p:grpSpPr>
        <p:sp>
          <p:nvSpPr>
            <p:cNvPr id="181" name=""/>
            <p:cNvSpPr/>
            <p:nvPr/>
          </p:nvSpPr>
          <p:spPr>
            <a:xfrm>
              <a:off x="7696800" y="5410080"/>
              <a:ext cx="285120" cy="34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934680" y="5181120"/>
              <a:ext cx="40572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648480" y="5181120"/>
              <a:ext cx="334080" cy="34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91320" y="5639040"/>
              <a:ext cx="28584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792200" y="5639040"/>
              <a:ext cx="28512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600680" y="5181120"/>
              <a:ext cx="95040" cy="4579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315560" y="4838760"/>
              <a:ext cx="666360" cy="3416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886360" y="5067720"/>
              <a:ext cx="667080" cy="3423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172560" y="5410080"/>
              <a:ext cx="93960" cy="3434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172560" y="5753520"/>
              <a:ext cx="1522800" cy="1134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00680" y="5639040"/>
              <a:ext cx="95760" cy="11448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886360" y="4952160"/>
              <a:ext cx="66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315560" y="4724280"/>
              <a:ext cx="66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86360" y="4952160"/>
              <a:ext cx="0" cy="45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553440" y="4952160"/>
              <a:ext cx="0" cy="45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886360" y="5410080"/>
              <a:ext cx="28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6267960" y="5410080"/>
              <a:ext cx="28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72560" y="541008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267960" y="5410080"/>
              <a:ext cx="0" cy="34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267960" y="5753520"/>
              <a:ext cx="1332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315560" y="472428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981920" y="472428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315560" y="5181120"/>
              <a:ext cx="28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7696800" y="5181120"/>
              <a:ext cx="28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600680" y="5181120"/>
              <a:ext cx="0" cy="57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696800" y="5181120"/>
              <a:ext cx="0" cy="68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72560" y="586728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91320" y="5639040"/>
              <a:ext cx="22860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886360" y="5067720"/>
              <a:ext cx="857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220520" y="4838760"/>
              <a:ext cx="761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648480" y="50677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220520" y="4838760"/>
              <a:ext cx="0" cy="80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172560" y="5753520"/>
              <a:ext cx="0" cy="11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00680" y="5639040"/>
              <a:ext cx="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2057400" y="38088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Г и д р о с т а т и к а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0" y="457200"/>
            <a:ext cx="441972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914400" y="2590920"/>
            <a:ext cx="1690560" cy="1712880"/>
            <a:chOff x="914400" y="2590920"/>
            <a:chExt cx="1690560" cy="1712880"/>
          </a:xfrm>
        </p:grpSpPr>
        <p:grpSp>
          <p:nvGrpSpPr>
            <p:cNvPr id="218" name=""/>
            <p:cNvGrpSpPr/>
            <p:nvPr/>
          </p:nvGrpSpPr>
          <p:grpSpPr>
            <a:xfrm>
              <a:off x="914400" y="2819520"/>
              <a:ext cx="1622520" cy="1141200"/>
              <a:chOff x="914400" y="2819520"/>
              <a:chExt cx="1622520" cy="1141200"/>
            </a:xfrm>
          </p:grpSpPr>
          <p:sp>
            <p:nvSpPr>
              <p:cNvPr id="219" name=""/>
              <p:cNvSpPr/>
              <p:nvPr/>
            </p:nvSpPr>
            <p:spPr>
              <a:xfrm>
                <a:off x="914400" y="3960720"/>
                <a:ext cx="1029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20" name=""/>
              <p:cNvGrpSpPr/>
              <p:nvPr/>
            </p:nvGrpSpPr>
            <p:grpSpPr>
              <a:xfrm>
                <a:off x="935280" y="2819520"/>
                <a:ext cx="1601640" cy="1141200"/>
                <a:chOff x="935280" y="2819520"/>
                <a:chExt cx="1601640" cy="114120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935280" y="2819520"/>
                  <a:ext cx="0" cy="1141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1944000" y="2819520"/>
                  <a:ext cx="0" cy="1141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935280" y="2933640"/>
                  <a:ext cx="1601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1148760" y="3161880"/>
                  <a:ext cx="571680" cy="570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1392840" y="3161880"/>
                  <a:ext cx="0" cy="570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1491840" y="3161880"/>
                  <a:ext cx="0" cy="570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1491840" y="3161880"/>
                  <a:ext cx="800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1392840" y="3732480"/>
                  <a:ext cx="1144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2058480" y="3161880"/>
                  <a:ext cx="0" cy="570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2401560" y="2933640"/>
                  <a:ext cx="0" cy="798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flipV="1">
                  <a:off x="2058480" y="293364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049400" y="3047760"/>
                  <a:ext cx="114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1049400" y="3732480"/>
                  <a:ext cx="114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1049400" y="3390120"/>
                  <a:ext cx="114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1392840" y="3846600"/>
                  <a:ext cx="114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1735920" y="3846600"/>
                  <a:ext cx="114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1392840" y="30477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163880" y="3161880"/>
                  <a:ext cx="114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9" name=""/>
            <p:cNvSpPr/>
            <p:nvPr/>
          </p:nvSpPr>
          <p:spPr>
            <a:xfrm>
              <a:off x="1143000" y="2590920"/>
              <a:ext cx="22860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dp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257480" y="281952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1371600" y="3733920"/>
              <a:ext cx="0" cy="3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57480" y="4075200"/>
              <a:ext cx="228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dp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171880" y="2933640"/>
              <a:ext cx="11412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490840" y="3276720"/>
              <a:ext cx="11412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171880" y="3390840"/>
              <a:ext cx="114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486080" y="3505320"/>
              <a:ext cx="342720" cy="79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1828800" y="4303800"/>
            <a:ext cx="2286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3733920" y="2666880"/>
                <a:ext cx="1066680" cy="3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ж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g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3429000" y="3048120"/>
                <a:ext cx="137160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ж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2" name=""/>
          <p:cNvSpPr/>
          <p:nvPr/>
        </p:nvSpPr>
        <p:spPr>
          <a:xfrm>
            <a:off x="5485680" y="2971080"/>
            <a:ext cx="152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Результирующая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3276720" y="3429000"/>
                <a:ext cx="152388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ж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486400" y="2559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Сила тяжести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054320" y="3526200"/>
            <a:ext cx="96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6934320" y="2666880"/>
                <a:ext cx="1171440" cy="3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р</m:t>
                        </m:r>
                      </m:e>
                      <m:sub>
                        <m:r>
                          <m:t xml:space="preserve">Т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Т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 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5562720" y="3429000"/>
                <a:ext cx="275256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р</m:t>
                        </m:r>
                      </m:e>
                      <m:sub>
                        <m:r>
                          <m:t xml:space="preserve">Р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р</m:t>
                        </m:r>
                      </m:e>
                      <m:sub>
                        <m:r>
                          <m:t xml:space="preserve">Т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р</m:t>
                    </m:r>
                    <m:sSub>
                      <m:e>
                        <m:r>
                          <m:t xml:space="preserve"> </m:t>
                        </m:r>
                      </m:e>
                      <m:sub>
                        <m:r>
                          <m:t xml:space="preserve">Ж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Т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Ж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 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2438280" y="3886200"/>
                <a:ext cx="239076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t xml:space="preserve">Ж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ж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 </m:t>
                    </m:r>
                    <m:r>
                      <m:t xml:space="preserve">h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 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2" name=""/>
          <p:cNvSpPr/>
          <p:nvPr/>
        </p:nvSpPr>
        <p:spPr>
          <a:xfrm>
            <a:off x="5019480" y="3809160"/>
            <a:ext cx="358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Если  </a:t>
            </a:r>
            <a:r>
              <a:rPr b="0" i="1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т &gt;</a:t>
            </a:r>
            <a:r>
              <a:rPr b="0" i="1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ж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, то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  (+ Рр) – тело тонет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029200" y="4190040"/>
            <a:ext cx="396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Если  </a:t>
            </a:r>
            <a:r>
              <a:rPr b="0" i="1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т &lt;</a:t>
            </a:r>
            <a:r>
              <a:rPr b="0" i="1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ж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, то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  (- Рр) – тело всплывает.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3124080" y="4876920"/>
                <a:ext cx="22021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ρ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ρ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304920" y="4403520"/>
            <a:ext cx="403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Сообщающиеся сосу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378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36640" y="4927680"/>
            <a:ext cx="204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Из уравнения Эйлера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33520" y="5334120"/>
            <a:ext cx="5105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тсюда: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если               ,  то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2209680" y="5410080"/>
                <a:ext cx="68580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3505320" y="5562720"/>
                <a:ext cx="6094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4724280" y="5562720"/>
                <a:ext cx="60984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6-10-25T02:54:3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