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902-0FA7-418A-BC84-A66612C0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849-C233-454C-83D8-F6A6A6D9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61E-5251-4CD8-999A-B92BD041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6BA-74F7-40FA-B946-07E854A0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59D9-26B1-4999-AD04-A8CE99B1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DAED-108E-4F4B-BB47-EC75383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017F-148D-402A-B2DC-1236701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56B-D270-4D73-9BFF-C42F5A9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F4D1-59B3-43AC-AF0C-3501DB07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4B3B-0536-46BA-B83B-F2969F20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B084-4988-4D86-B093-35D231C7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1A7-2F9E-4135-8583-AA010A44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441-1960-4DA5-8FB1-874448D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556-5061-4E94-B023-BC8D687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F89-2CAB-49EF-BC93-ADA6EB9E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D891-B81E-49CC-84EB-D17265AA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251D-C733-481F-8B78-B565D74D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8494-7044-4201-ACA7-F1EAD115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6A77-8637-42B4-8F72-F2C3760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D7AE-B911-4102-B6F6-CC61A56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CBB7-039E-4D2C-92E1-B9D95914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0F89-E208-44B3-BE94-89F6AE2C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FA1-7DED-42AC-8E91-F5B9ACD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DB7F-68FB-4C01-ADAC-9D13587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E50D-EDF6-45C5-B211-4E19E6A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531C-CEF1-4954-8281-4389D37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D986-C58C-4BF3-94D4-426D080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0979-2E68-4BF0-B8DA-A671809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CD85-3E3E-4FDF-A92C-161C641A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9340-EBF8-4956-AF17-69E5F7CB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F04-A42E-42F1-9DAE-36D7FCC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248-F25E-4208-913F-2448CD2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E64-C4DD-4446-AB12-46C639E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A9C-6ADB-4851-B540-6E33616C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225-6753-4122-B508-518727D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0C9-C553-491C-A644-82B4DA2E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176-98E3-4170-9A69-61BC6937A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1F0B-9064-49D8-A00E-4891945051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D16-2C3A-48ED-A28E-E68BA41058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27280" y="1413000"/>
            <a:ext cx="5759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ческие процессы требуют перемешивание, перекачивание, подвод и отвод жидкостей и газ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жидкостей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ос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  Для газов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Нас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напора, создаваемого насо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57200"/>
            <a:ext cx="403848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3200400"/>
            <a:ext cx="3314520" cy="1839960"/>
            <a:chOff x="762120" y="3200400"/>
            <a:chExt cx="3314520" cy="1839960"/>
          </a:xfrm>
        </p:grpSpPr>
        <p:sp>
          <p:nvSpPr>
            <p:cNvPr id="147" name=""/>
            <p:cNvSpPr/>
            <p:nvPr/>
          </p:nvSpPr>
          <p:spPr>
            <a:xfrm>
              <a:off x="1365120" y="42224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65120" y="36086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120" y="3813840"/>
              <a:ext cx="402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0840" y="4017960"/>
              <a:ext cx="603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асо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680" y="4426920"/>
              <a:ext cx="1004400" cy="10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62640" y="3302640"/>
              <a:ext cx="21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2240" y="3302640"/>
              <a:ext cx="1004400" cy="510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2240" y="3200400"/>
              <a:ext cx="1004400" cy="10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400" y="381384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0400" y="381384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9960" y="4017960"/>
              <a:ext cx="200880" cy="20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6000" y="4120200"/>
              <a:ext cx="90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67400" y="412020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4680" y="4529880"/>
              <a:ext cx="1004400" cy="510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45298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063080" y="3302280"/>
              <a:ext cx="0" cy="12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666080" y="411984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666080" y="33022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080" y="4630680"/>
              <a:ext cx="2005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4280" y="3404880"/>
              <a:ext cx="2001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72000" y="31460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давление в резервуарах различ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4191120"/>
                <a:ext cx="3692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Н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5196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ая высота всасывания может быть равна атмосферному давлению, однако сильно зависит от температуры (закип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9 м, а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 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34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осы делятся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поршневые (плунжерные):   простого и двойного действия, многоплунж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центробежные: одно- и многоступенча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роторные: шестеренчатые, шиб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мембра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винтов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руй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419360"/>
            <a:ext cx="7467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ются для перемещения газов и делятся в зависимости от соотношения давлений на выходе Р2 и входе Р1 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вентилят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газодувки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компресс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362320"/>
            <a:ext cx="3752280" cy="2639160"/>
            <a:chOff x="1219320" y="2362320"/>
            <a:chExt cx="3752280" cy="2639160"/>
          </a:xfrm>
        </p:grpSpPr>
        <p:sp>
          <p:nvSpPr>
            <p:cNvPr id="179" name=""/>
            <p:cNvSpPr/>
            <p:nvPr/>
          </p:nvSpPr>
          <p:spPr>
            <a:xfrm>
              <a:off x="2053080" y="27799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92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95800" y="305640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1040" y="305640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88640" y="3056400"/>
              <a:ext cx="55224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1219680" y="3055680"/>
              <a:ext cx="55584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1219680" y="3891960"/>
              <a:ext cx="5522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889360" y="3887640"/>
              <a:ext cx="55152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35120" y="333504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1472040" y="3358800"/>
              <a:ext cx="32904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580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476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885040" y="3888000"/>
              <a:ext cx="27720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1496160" y="3890520"/>
              <a:ext cx="33336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7200" y="3335040"/>
              <a:ext cx="277200" cy="2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5800" y="361332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5800" y="388980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580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35120" y="416808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6476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6840" y="3474360"/>
              <a:ext cx="180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02912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347436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76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68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4760" y="3474360"/>
              <a:ext cx="2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444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4760" y="4029120"/>
              <a:ext cx="27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044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95800" y="444708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2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1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71040" y="444708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3080" y="472356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6800" y="3750840"/>
              <a:ext cx="1251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1040" y="3613320"/>
              <a:ext cx="27576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3400" y="3613320"/>
              <a:ext cx="27828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53080" y="3613320"/>
              <a:ext cx="55656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9880" y="361332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6360" y="2779920"/>
              <a:ext cx="975240" cy="41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клапа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80920" y="2362320"/>
              <a:ext cx="1043280" cy="3920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уанс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6360" y="4329000"/>
              <a:ext cx="8355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т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331360" y="472320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331360" y="250128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33640" y="1370880"/>
            <a:ext cx="85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шневые (плунжерные):   простого и двойного действия, многоплунже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438280"/>
            <a:ext cx="37036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изводительность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ru-RU" sz="1400" spc="-1" strike="noStrike" baseline="-25000">
                <a:solidFill>
                  <a:srgbClr val="ffffff"/>
                </a:solidFill>
                <a:latin typeface="Arial"/>
              </a:rPr>
              <a:t>п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0,85 – 0,95;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площадь поршня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д поршня,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частота вращения вала,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плунже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вает высо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достаток – пульсирующая по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сглаживания пульсации – двойного действия и многоплунжерны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5333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унж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йного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52352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обежные: одно- и многоступенчатые – для перемешивания маловязких жидкостей.     Перед пуском должен быть заполнен, поэтому устанавливается ниже уровня жидк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43000" y="2743200"/>
            <a:ext cx="6002280" cy="2243160"/>
            <a:chOff x="1143000" y="2743200"/>
            <a:chExt cx="6002280" cy="2243160"/>
          </a:xfrm>
        </p:grpSpPr>
        <p:grpSp>
          <p:nvGrpSpPr>
            <p:cNvPr id="233" name=""/>
            <p:cNvGrpSpPr/>
            <p:nvPr/>
          </p:nvGrpSpPr>
          <p:grpSpPr>
            <a:xfrm>
              <a:off x="1657440" y="2743200"/>
              <a:ext cx="5487840" cy="2243160"/>
              <a:chOff x="1657440" y="2743200"/>
              <a:chExt cx="5487840" cy="2243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972480" y="4113720"/>
                <a:ext cx="171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0760" y="4285080"/>
                <a:ext cx="34452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657440" y="2743200"/>
                <a:ext cx="1899720" cy="2243160"/>
                <a:chOff x="1657440" y="2743200"/>
                <a:chExt cx="1899720" cy="2243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28800" y="3257640"/>
                  <a:ext cx="684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43600" y="3257640"/>
                  <a:ext cx="1080" cy="34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000160" y="3257640"/>
                  <a:ext cx="14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72240" y="3257640"/>
                  <a:ext cx="13694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00160" y="3429000"/>
                  <a:ext cx="1369800" cy="136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809360" y="3240720"/>
                  <a:ext cx="1747800" cy="1745640"/>
                  <a:chOff x="1809360" y="3240720"/>
                  <a:chExt cx="1747800" cy="1745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14240" y="3940920"/>
                    <a:ext cx="343800" cy="34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963200">
                    <a:off x="1928160" y="3828600"/>
                    <a:ext cx="681840" cy="68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936000">
                    <a:off x="1961640" y="3547800"/>
                    <a:ext cx="68292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090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0908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0800000">
                    <a:off x="2685960" y="3942360"/>
                    <a:ext cx="6818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5733000">
                    <a:off x="2531520" y="3412800"/>
                    <a:ext cx="68472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3906600">
                    <a:off x="2296440" y="3351600"/>
                    <a:ext cx="675000" cy="67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576" y="28"/>
                        </a:moveTo>
                        <a:arcTo wR="10800" hR="10800" stAng="-5152697" swAng="524371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576" y="28"/>
                        </a:moveTo>
                        <a:arcTo wR="10800" hR="10800" stAng="-5152697" swAng="524371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9152400">
                    <a:off x="2758680" y="3711240"/>
                    <a:ext cx="67896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16200000">
                    <a:off x="2171520" y="41122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4493000">
                    <a:off x="2403360" y="41824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1657440" y="4113720"/>
                  <a:ext cx="102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2171520" y="2743200"/>
                  <a:ext cx="108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71640" y="3429000"/>
                <a:ext cx="1885680" cy="857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1640" y="3257640"/>
                <a:ext cx="1885680" cy="17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7680" y="428508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29040" y="4285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29040" y="445680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972480" y="35992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1430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752480" y="5410080"/>
                <a:ext cx="1457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876920" y="5410080"/>
                <a:ext cx="1417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H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94560"/>
            <a:ext cx="829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оторные: шестеренчатые, шиберные – для вязких жидкостей и па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71600" y="2286000"/>
                <a:ext cx="1525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rPr>
                        <m:lit/>
                        <m:nor/>
                      </m:rPr>
                      <m:t xml:space="preserve">qzn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86920" y="2285640"/>
            <a:ext cx="55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굴림"/>
              </a:rPr>
              <a:t> – число зубьев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q</a:t>
            </a:r>
            <a:r>
              <a:rPr b="0" lang="ru-MD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м межзубьевого простран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66680" y="2895480"/>
            <a:ext cx="2717280" cy="2556720"/>
            <a:chOff x="1066680" y="2895480"/>
            <a:chExt cx="2717280" cy="2556720"/>
          </a:xfrm>
        </p:grpSpPr>
        <p:grpSp>
          <p:nvGrpSpPr>
            <p:cNvPr id="275" name=""/>
            <p:cNvGrpSpPr/>
            <p:nvPr/>
          </p:nvGrpSpPr>
          <p:grpSpPr>
            <a:xfrm>
              <a:off x="1204560" y="2895480"/>
              <a:ext cx="2551680" cy="2556720"/>
              <a:chOff x="1204560" y="2895480"/>
              <a:chExt cx="2551680" cy="2556720"/>
            </a:xfrm>
          </p:grpSpPr>
          <p:sp>
            <p:nvSpPr>
              <p:cNvPr id="276" name=""/>
              <p:cNvSpPr/>
              <p:nvPr/>
            </p:nvSpPr>
            <p:spPr>
              <a:xfrm rot="21462600">
                <a:off x="1226160" y="3535200"/>
                <a:ext cx="1283040" cy="1117440"/>
              </a:xfrm>
              <a:custGeom>
                <a:avLst/>
                <a:gdLst>
                  <a:gd name="textAreaLeft" fmla="*/ 402840 w 1283040"/>
                  <a:gd name="textAreaRight" fmla="*/ 880200 w 1283040"/>
                  <a:gd name="textAreaTop" fmla="*/ 351000 h 1117440"/>
                  <a:gd name="textAreaBottom" fmla="*/ 7664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978000">
                <a:off x="2334240" y="3535200"/>
                <a:ext cx="1290600" cy="1119600"/>
              </a:xfrm>
              <a:custGeom>
                <a:avLst/>
                <a:gdLst>
                  <a:gd name="textAreaLeft" fmla="*/ 405360 w 1290600"/>
                  <a:gd name="textAreaRight" fmla="*/ 885240 w 1290600"/>
                  <a:gd name="textAreaTop" fmla="*/ 351720 h 1119600"/>
                  <a:gd name="textAreaBottom" fmla="*/ 767880 h 111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55120" y="3535200"/>
                <a:ext cx="1285920" cy="110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220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2209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2359800" y="3531240"/>
                <a:ext cx="1276560" cy="128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5880" y="353520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67588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19204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31120" y="3215160"/>
                <a:ext cx="805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1226520" y="3539520"/>
                <a:ext cx="1285920" cy="12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00000">
                <a:off x="1228680" y="3532680"/>
                <a:ext cx="1274400" cy="127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69840" y="481428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69840" y="353520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5880" y="481428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92040" y="481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5880" y="48142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1120" y="5133960"/>
                <a:ext cx="80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353320" y="5133600"/>
                <a:ext cx="10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2353320" y="28954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16200000">
              <a:off x="1064160" y="3377160"/>
              <a:ext cx="1278000" cy="127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5960" y="3374640"/>
              <a:ext cx="127800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648320" y="3124080"/>
            <a:ext cx="3522240" cy="2241720"/>
            <a:chOff x="4648320" y="3124080"/>
            <a:chExt cx="3522240" cy="2241720"/>
          </a:xfrm>
        </p:grpSpPr>
        <p:sp>
          <p:nvSpPr>
            <p:cNvPr id="297" name=""/>
            <p:cNvSpPr/>
            <p:nvPr/>
          </p:nvSpPr>
          <p:spPr>
            <a:xfrm>
              <a:off x="5608080" y="3444120"/>
              <a:ext cx="1601280" cy="159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7680" y="37634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444120"/>
              <a:ext cx="12805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9440" y="3124080"/>
              <a:ext cx="0" cy="2241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87680" y="4083840"/>
              <a:ext cx="2402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9440" y="4564440"/>
              <a:ext cx="0" cy="4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8080" y="4083840"/>
              <a:ext cx="4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729480" y="4083840"/>
              <a:ext cx="4806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9440" y="3444120"/>
              <a:ext cx="108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7680" y="4244040"/>
              <a:ext cx="32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8768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48320" y="39236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49160" y="3763440"/>
              <a:ext cx="6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9360" y="42440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996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50160" y="3923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5448240" y="3924360"/>
              <a:ext cx="128304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064880" y="5790600"/>
            <a:ext cx="61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Шестеренчатый насо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Б - Шиб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1097640"/>
            <a:ext cx="864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мембранные – для структурированных жидкостных систем (фарш, творог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винтовые – для высоковязких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труйные – не имеют движущихся частей, основан на инжекционном принци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837720" y="2666520"/>
            <a:ext cx="3253680" cy="2970000"/>
            <a:chOff x="-837720" y="2666520"/>
            <a:chExt cx="3253680" cy="2970000"/>
          </a:xfrm>
        </p:grpSpPr>
        <p:sp>
          <p:nvSpPr>
            <p:cNvPr id="322" name=""/>
            <p:cNvSpPr/>
            <p:nvPr/>
          </p:nvSpPr>
          <p:spPr>
            <a:xfrm>
              <a:off x="930960" y="3112560"/>
              <a:ext cx="72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2280" y="3112560"/>
              <a:ext cx="59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7960" y="311256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27960" y="3557160"/>
              <a:ext cx="444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280" y="519120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227960" y="474624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7960" y="4746600"/>
              <a:ext cx="444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2920" y="3557160"/>
              <a:ext cx="72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0960" y="3408840"/>
              <a:ext cx="297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9280" y="3408840"/>
              <a:ext cx="108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0960" y="4894920"/>
              <a:ext cx="297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79280" y="48949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4240" y="4151880"/>
              <a:ext cx="891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862000">
              <a:off x="-359640" y="3235680"/>
              <a:ext cx="1782360" cy="208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175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1757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70280" y="4003200"/>
              <a:ext cx="44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79280" y="5339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079280" y="2666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415240" y="3124080"/>
            <a:ext cx="2858040" cy="1473120"/>
            <a:chOff x="2415240" y="3124080"/>
            <a:chExt cx="2858040" cy="1473120"/>
          </a:xfrm>
        </p:grpSpPr>
        <p:sp>
          <p:nvSpPr>
            <p:cNvPr id="340" name=""/>
            <p:cNvSpPr/>
            <p:nvPr/>
          </p:nvSpPr>
          <p:spPr>
            <a:xfrm>
              <a:off x="3341520" y="3569040"/>
              <a:ext cx="10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92840" y="35690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638880" y="3569040"/>
              <a:ext cx="72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8880" y="3866400"/>
              <a:ext cx="1186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4160" y="4163760"/>
              <a:ext cx="2080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1520" y="4461480"/>
              <a:ext cx="1783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827600" y="35690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78560" y="35690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24600" y="356904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34152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8880" y="3866400"/>
              <a:ext cx="29628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3516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3252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52988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760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9020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97592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456400">
              <a:off x="2537280" y="3880800"/>
              <a:ext cx="594000" cy="59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67280" y="3200400"/>
            <a:ext cx="3044880" cy="1522080"/>
            <a:chOff x="5867280" y="3200400"/>
            <a:chExt cx="3044880" cy="1522080"/>
          </a:xfrm>
        </p:grpSpPr>
        <p:sp>
          <p:nvSpPr>
            <p:cNvPr id="359" name=""/>
            <p:cNvSpPr/>
            <p:nvPr/>
          </p:nvSpPr>
          <p:spPr>
            <a:xfrm>
              <a:off x="6437880" y="3200400"/>
              <a:ext cx="951120" cy="95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7151400" y="3438720"/>
              <a:ext cx="380880" cy="47520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04400 h 475200"/>
                <a:gd name="textAreaBottom" fmla="*/ 370800 h 4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8160" y="3581280"/>
              <a:ext cx="85536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9800" y="3581280"/>
              <a:ext cx="19008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960320" y="3295800"/>
              <a:ext cx="380880" cy="76104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67400 h 761040"/>
                <a:gd name="textAreaBottom" fmla="*/ 593640 h 76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26680" y="36763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3676320"/>
              <a:ext cx="285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18760" y="4151520"/>
              <a:ext cx="19008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3360" y="4437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913800" y="4532400"/>
              <a:ext cx="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3520" y="59428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Мембра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7000" y="50284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 - Винтовой насос                 В - Струй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