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0787-6CEA-4E38-BA95-EE51A7AB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D560-FEE8-4830-B7AA-417EF397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9E7-F86F-4712-B241-476E00BE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04A-14DE-47CA-860B-3D9A7701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1381-4994-4ED2-A44F-317DBE70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BFE4-053C-4367-88A8-D7F92C1D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CB37-E0E8-449E-8F6E-1114AA37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FACF-C64A-4A88-96C8-B3C612CD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4721-3736-4B0C-955A-4E05583B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FD8D-E6E8-408A-AC8C-A40D290A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C547-68F3-4B6E-87BE-AF2A268A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249E-4A9C-458B-8E69-A8F50C8C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5B9E-A81C-477C-9238-5BB3F8B4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62D1-2D31-4B75-83BC-02BF638E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95A9-24C2-4F06-887B-48BD23CA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6DB7-1D8C-4427-860F-09B83CD9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2AFC-660D-4DA9-821C-D84E7FFD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C32F-6811-4590-80F4-4C91476D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EDBB-E5D4-441F-8FD3-D4CAC817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BB4-3F02-4535-BDED-F116E824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44D-4E36-4347-AB1D-1F4E9768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C6A-B4F5-4B11-BB9D-3B0D82D0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271-4C08-4705-B54F-9E705FAB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14D1-3642-43C0-97F4-8FA8A369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AE18-81D6-47C0-8D65-8B9BBDCBE9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E720-FA86-4C1C-AFF7-DD506A51A6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«Процессы и аппараты пищевых производств» 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1413000"/>
            <a:ext cx="575964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Ы ГИДРАВЛ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дродинам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1 Основные опред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2 Уравнение неразрыв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3 Уравнения движения Эйл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4 Уравнение Бернул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5 Гидродинамическое подоб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ает закономерности движения жидк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понят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Объемный расход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Массовый расхо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Средняя скор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Гидравлический радиус канала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моченный периме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Эквивалентный диаме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380880"/>
            <a:ext cx="4343400" cy="533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419720" y="2590920"/>
                <a:ext cx="97128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343400" y="3048120"/>
                <a:ext cx="12384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343400" y="3657600"/>
                <a:ext cx="8460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019920" y="4572000"/>
                <a:ext cx="982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И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П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219320" y="5181480"/>
                <a:ext cx="2984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П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029200" y="5638680"/>
                <a:ext cx="109368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Э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ИД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жимы те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минарный - слои жидкости движутся параллельно друг другу без ускорения или равноускорен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рбулентный – слои перемешиваются, наблюдаются завихрения и пульс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жим движения определяют по числу Рейнольдса (критери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итерий Рейнольдса: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коэффициент кинематической вязк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кр=2320  - критическое значение числа Рейнольдса для труб (указывает на переход от ламинарного к турбулентному режиму)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533520"/>
            <a:ext cx="449568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267080" y="3581280"/>
                <a:ext cx="19796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э</m:t>
                        </m:r>
                      </m:num>
                      <m:den>
                        <m:r>
                          <m:t xml:space="preserve">ν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ρ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371600" y="4267080"/>
                <a:ext cx="80316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корость течения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дкости в произвольном радиус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авнение неразрыв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ъемный расход через любое сечение потока жидкости величина постоянн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80880"/>
            <a:ext cx="4191120" cy="533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14400" y="1447920"/>
            <a:ext cx="2437920" cy="914040"/>
            <a:chOff x="914400" y="1447920"/>
            <a:chExt cx="2437920" cy="914040"/>
          </a:xfrm>
        </p:grpSpPr>
        <p:sp>
          <p:nvSpPr>
            <p:cNvPr id="131" name=""/>
            <p:cNvSpPr/>
            <p:nvPr/>
          </p:nvSpPr>
          <p:spPr>
            <a:xfrm>
              <a:off x="914400" y="14479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14400" y="23583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38120" y="1447920"/>
              <a:ext cx="91296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05" y="269"/>
                  </a:moveTo>
                  <a:arcTo wR="10800" hR="10800" stAng="-6168615" swAng="12471707"/>
                  <a:lnTo>
                    <a:pt x="10800" y="10800"/>
                  </a:lnTo>
                  <a:close/>
                </a:path>
                <a:path fill="none" w="21600" h="21600">
                  <a:moveTo>
                    <a:pt x="8405" y="269"/>
                  </a:moveTo>
                  <a:arcTo wR="10800" hR="10800" stAng="-6168615" swAng="12471707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3880" y="16754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19029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21308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0560" y="1614600"/>
              <a:ext cx="761760" cy="7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66680" y="1902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1447920"/>
              <a:ext cx="0" cy="91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038480" y="1066680"/>
                <a:ext cx="1886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η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962520" y="1600200"/>
                <a:ext cx="16160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685800" y="4038480"/>
            <a:ext cx="3428640" cy="1360080"/>
            <a:chOff x="685800" y="4038480"/>
            <a:chExt cx="3428640" cy="1360080"/>
          </a:xfrm>
        </p:grpSpPr>
        <p:grpSp>
          <p:nvGrpSpPr>
            <p:cNvPr id="145" name=""/>
            <p:cNvGrpSpPr/>
            <p:nvPr/>
          </p:nvGrpSpPr>
          <p:grpSpPr>
            <a:xfrm>
              <a:off x="685800" y="4038480"/>
              <a:ext cx="3025080" cy="805320"/>
              <a:chOff x="685800" y="4038480"/>
              <a:chExt cx="3025080" cy="805320"/>
            </a:xfrm>
          </p:grpSpPr>
          <p:sp>
            <p:nvSpPr>
              <p:cNvPr id="146" name=""/>
              <p:cNvSpPr/>
              <p:nvPr/>
            </p:nvSpPr>
            <p:spPr>
              <a:xfrm rot="5400000">
                <a:off x="1593720" y="4340520"/>
                <a:ext cx="805320" cy="201240"/>
              </a:xfrm>
              <a:custGeom>
                <a:avLst/>
                <a:gdLst>
                  <a:gd name="textAreaLeft" fmla="*/ 191880 w 805320"/>
                  <a:gd name="textAreaRight" fmla="*/ 613440 w 805320"/>
                  <a:gd name="textAreaTop" fmla="*/ 47880 h 201240"/>
                  <a:gd name="textAreaBottom" fmla="*/ 153360 h 20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480" y="21600"/>
                    </a:lnTo>
                    <a:lnTo>
                      <a:pt x="612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685800" y="4239720"/>
                <a:ext cx="121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685800" y="4642200"/>
                <a:ext cx="121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97360" y="4038480"/>
                <a:ext cx="161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097360" y="4843800"/>
                <a:ext cx="161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7400" y="4440960"/>
                <a:ext cx="60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500920" y="4440960"/>
                <a:ext cx="10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2702520" y="4045320"/>
              <a:ext cx="403200" cy="7920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87400" y="4246560"/>
              <a:ext cx="201240" cy="4024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" y="4649040"/>
              <a:ext cx="6048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2520" y="4850640"/>
              <a:ext cx="605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92560" y="4246560"/>
              <a:ext cx="6048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09280" y="4246560"/>
              <a:ext cx="605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914400" y="1828800"/>
            <a:ext cx="6933960" cy="1752120"/>
            <a:chOff x="914400" y="1828800"/>
            <a:chExt cx="6933960" cy="1752120"/>
          </a:xfrm>
        </p:grpSpPr>
        <p:sp>
          <p:nvSpPr>
            <p:cNvPr id="160" name=""/>
            <p:cNvSpPr/>
            <p:nvPr/>
          </p:nvSpPr>
          <p:spPr>
            <a:xfrm>
              <a:off x="1458000" y="2963520"/>
              <a:ext cx="81540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14400" y="2147040"/>
              <a:ext cx="8154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65880" y="1974960"/>
              <a:ext cx="1087560" cy="108576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729800" y="2428560"/>
              <a:ext cx="543600" cy="27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273760" y="2835720"/>
              <a:ext cx="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2682000" y="2293200"/>
              <a:ext cx="54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594080" y="1839240"/>
              <a:ext cx="0" cy="13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94080" y="2972160"/>
              <a:ext cx="19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185840" y="2972160"/>
              <a:ext cx="40788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89880" y="1828800"/>
              <a:ext cx="8154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14400" y="2963520"/>
              <a:ext cx="341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25960" y="3098520"/>
              <a:ext cx="3412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86200" y="1828800"/>
              <a:ext cx="3412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41360" y="1828800"/>
              <a:ext cx="3807000" cy="14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                       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- ускор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- сила, вызывающая      движение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  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     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авнения движения Эйл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80880"/>
            <a:ext cx="4191120" cy="533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304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200400" y="1752480"/>
                <a:ext cx="5284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d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828800" y="3200400"/>
                <a:ext cx="5176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d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990720" y="2362320"/>
                <a:ext cx="4284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d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029200" y="1752480"/>
                <a:ext cx="3348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t xml:space="preserve">d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267080" y="2362320"/>
                <a:ext cx="5511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t xml:space="preserve">d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380880" y="373356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элементарный объем действует силы давления и тяже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752480" y="4495680"/>
                <a:ext cx="183852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dydz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dydz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191120" y="3733560"/>
            <a:ext cx="464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авновесии приравниваем к силам вызывающим движение. После преобразов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400800" y="4495680"/>
                <a:ext cx="1633680" cy="17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ρdυ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dτ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ρdυ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dτ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dρ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авнение Бернул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ожив и продифференцировав (1), получаем уравнение Бернулли для идеальной жидкости (без трения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380880"/>
            <a:ext cx="4343400" cy="4572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648320" y="2286000"/>
                <a:ext cx="19825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8" name=""/>
          <p:cNvGrpSpPr/>
          <p:nvPr/>
        </p:nvGrpSpPr>
        <p:grpSpPr>
          <a:xfrm>
            <a:off x="685800" y="2133720"/>
            <a:ext cx="3200400" cy="2554200"/>
            <a:chOff x="685800" y="2133720"/>
            <a:chExt cx="3200400" cy="2554200"/>
          </a:xfrm>
        </p:grpSpPr>
        <p:sp>
          <p:nvSpPr>
            <p:cNvPr id="199" name=""/>
            <p:cNvSpPr/>
            <p:nvPr/>
          </p:nvSpPr>
          <p:spPr>
            <a:xfrm flipV="1">
              <a:off x="914040" y="2133720"/>
              <a:ext cx="0" cy="228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971800" y="38473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00120" y="28191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4040" y="44190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28520" y="3276000"/>
              <a:ext cx="5713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85720" y="2819160"/>
              <a:ext cx="5713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00200" y="37332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57400" y="327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28800" y="3733200"/>
              <a:ext cx="5713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7400" y="3504600"/>
              <a:ext cx="5713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57120" y="3047760"/>
              <a:ext cx="5713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42920" y="3619080"/>
              <a:ext cx="5713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0200" y="224784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85720" y="224784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171520" y="2247840"/>
              <a:ext cx="0" cy="137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0" y="2247840"/>
              <a:ext cx="0" cy="14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00120" y="2247840"/>
              <a:ext cx="0" cy="17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14600" y="2247840"/>
              <a:ext cx="0" cy="18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371600" y="304812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054" y="873"/>
                  </a:moveTo>
                  <a:arcTo wR="10800" hR="10800" stAng="-4008315" swAng="40083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5054" y="873"/>
                  </a:moveTo>
                  <a:arcTo wR="10800" hR="10800" stAng="-4008315" swAng="400831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257120" y="2933640"/>
              <a:ext cx="227880" cy="22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09" y="12"/>
                  </a:moveTo>
                  <a:arcTo wR="10800" hR="10800" stAng="-5237780" swAng="52377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09" y="12"/>
                  </a:moveTo>
                  <a:arcTo wR="10800" hR="10800" stAng="-5237780" swAng="523778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1929960" y="3503160"/>
              <a:ext cx="227880" cy="22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054" y="873"/>
                  </a:moveTo>
                  <a:arcTo wR="10800" hR="10800" stAng="-4008315" swAng="40083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5054" y="873"/>
                  </a:moveTo>
                  <a:arcTo wR="10800" hR="10800" stAng="-4008315" swAng="400831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044080" y="359784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054" y="873"/>
                  </a:moveTo>
                  <a:arcTo wR="10800" hR="10800" stAng="-4008315" swAng="40083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5054" y="873"/>
                  </a:moveTo>
                  <a:arcTo wR="10800" hR="10800" stAng="-4008315" swAng="400831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14320" y="2247840"/>
              <a:ext cx="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28800" y="2247840"/>
              <a:ext cx="0" cy="12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14320" y="24764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4040" y="224784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00120" y="2704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0" y="38476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71800" y="224784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71800" y="2704680"/>
              <a:ext cx="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14520" y="2247840"/>
              <a:ext cx="0" cy="21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00120" y="2704680"/>
              <a:ext cx="114120" cy="938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71520" y="2247840"/>
              <a:ext cx="114120" cy="137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14320" y="2476440"/>
              <a:ext cx="114120" cy="914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85720" y="2247840"/>
              <a:ext cx="114120" cy="914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86280" y="3047760"/>
              <a:ext cx="3427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28720" y="29332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43200" y="3961800"/>
              <a:ext cx="34272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28720" y="2247840"/>
              <a:ext cx="36864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43480" y="4419000"/>
              <a:ext cx="34272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5800" y="2247840"/>
              <a:ext cx="34272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624040" y="2209680"/>
                <a:ext cx="303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666880" y="3048120"/>
                <a:ext cx="330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р</m:t>
                        </m:r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3657600" y="2698560"/>
            <a:ext cx="486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В соответствии с рисунком  с учетом потерь напора на преодоление сил трения можно записать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267080" y="3505320"/>
                <a:ext cx="3189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4561920" y="4190040"/>
            <a:ext cx="236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(для реальной жидкост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678040" y="3321000"/>
                <a:ext cx="2574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2895120" y="177516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5038920"/>
            <a:ext cx="434340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 полный напор 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i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геометрический нап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4761720"/>
            <a:ext cx="411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статический (пьезометрический) нап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42960" y="5561640"/>
            <a:ext cx="31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скоростной (динамический) нап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09480" y="4876920"/>
                <a:ext cx="1096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191120" y="4800600"/>
                <a:ext cx="323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191120" y="5486400"/>
                <a:ext cx="284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0" y="0"/>
                <a:ext cx="2379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отеря напора. Возникает за счет трения. Коэффициенты потери напора по длине трубопровод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минарный  ,                      турбулентн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дравлические сопротивления (трение и места возникновения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Вводный и переходной патрубки         4. Поворот труб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Сосуд большого объема                       5. Вентили, кр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Сужение, расшир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нергетический смысл уравнения Бернул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олная энергия;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– потенциальная энерг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–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дельная кинетическая энерг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14600" y="380880"/>
            <a:ext cx="4191120" cy="609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523880" y="1981080"/>
                <a:ext cx="8748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572000" y="1981080"/>
                <a:ext cx="11160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164</m:t>
                        </m:r>
                      </m:num>
                      <m:den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R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429000" y="5105520"/>
                <a:ext cx="3348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р</m:t>
                        </m:r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457200" y="5791320"/>
                <a:ext cx="306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гидродинамического подоб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ометрическое подобие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дродинамическое подобие – подобны поля физических величин характеризующих яв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критерий Ньютона                   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модель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нату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Критерий Фруда:                                              - соотношение силы тяжести и инерци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Критерий Эйлера:                                            - соотношение силы давления и инерци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Критерий Галлилея:                                         - соотношение силы вязкого трения и тяже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. Критерий  Грасгофа:                              - соотношение силы вязкого трения и подъемной сил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. Критерий гомохронности:                                         - неустановившийся характер движ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14600" y="457200"/>
            <a:ext cx="4114800" cy="4572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67080" y="1752480"/>
                <a:ext cx="14749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Г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590920" y="3124080"/>
                <a:ext cx="880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num>
                      <m:den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429000" y="3505320"/>
                <a:ext cx="684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num>
                      <m:den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590920" y="3962520"/>
                <a:ext cx="8175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ρ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3429000" y="4343400"/>
                <a:ext cx="7444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666880" y="4800600"/>
                <a:ext cx="10875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Δt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657600" y="5257800"/>
                <a:ext cx="704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τ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0-25T12:24:4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