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48A-CB1A-41EF-AB28-45492EEC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9B5-F5F3-4712-8055-BD0FA216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F5C-1992-436D-986E-809137F9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8EA-94A6-4FDC-8144-401B301B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5C3-2E79-45A0-B095-BA7867F3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230-846D-498C-818E-743312AA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A0D-952A-446A-B2FB-6E1844AC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A21-964D-4009-98F8-C2D81575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80C-1E56-4245-90E4-51C7912F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BFE-B06D-4723-8B49-47DB3808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E7C-280D-4C44-9B8A-4C0D4E51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88D-9317-4BED-9DED-CB7FE5DB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77BE-44F4-42E0-AC0B-7788517754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e3ebf1"/>
                </a:solidFill>
                <a:latin typeface="Arial"/>
              </a:rPr>
              <a:t>«Процессы и аппараты пищевых производств» 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413000"/>
            <a:ext cx="5759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МЕХАНИЧЕСКИЕ ПРОЦЕС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ение дисперсных сист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ение в поле силы тяже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е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оле центробежных с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ение гетерогенных сист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еление гетерогенных систем необходимо, когда нужно осветлить раств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и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В поле силы тяже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В поле центробежных си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Фильтра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Мембранные методы разде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В поле силы тяже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итерий Рейнольдс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 – ламинар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&gt; 300 – турбулент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еление в поле силы тяжести происходит под действием силы (закон Архимеда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аждение происходит при положительном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Fp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всплытие  при отрицательном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Fp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ла сопротивления среды (Стокса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ость осаждения частиц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404640"/>
            <a:ext cx="5545080" cy="503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851280" y="3213000"/>
                <a:ext cx="831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υ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492360" y="4437000"/>
                <a:ext cx="2519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092560" y="5373720"/>
                <a:ext cx="110520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229280" y="5797440"/>
                <a:ext cx="15620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ч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ж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900000" y="1557360"/>
            <a:ext cx="5943240" cy="2057400"/>
            <a:chOff x="900000" y="1557360"/>
            <a:chExt cx="5943240" cy="2057400"/>
          </a:xfrm>
        </p:grpSpPr>
        <p:sp>
          <p:nvSpPr>
            <p:cNvPr id="61" name=""/>
            <p:cNvSpPr/>
            <p:nvPr/>
          </p:nvSpPr>
          <p:spPr>
            <a:xfrm>
              <a:off x="900000" y="2013840"/>
              <a:ext cx="34200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r>
                <a:rPr b="0" lang="en-US" sz="10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127880" y="1785600"/>
              <a:ext cx="1080" cy="9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57200" y="1900080"/>
              <a:ext cx="1141920" cy="800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57200" y="1785960"/>
              <a:ext cx="114192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014120" y="17859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4120" y="270072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57200" y="2700720"/>
              <a:ext cx="1141920" cy="342720"/>
            </a:xfrm>
            <a:custGeom>
              <a:avLst/>
              <a:gdLst>
                <a:gd name="textAreaLeft" fmla="*/ 351720 w 1141920"/>
                <a:gd name="textAreaRight" fmla="*/ 790200 w 1141920"/>
                <a:gd name="textAreaTop" fmla="*/ 105480 h 342720"/>
                <a:gd name="textAreaBottom" fmla="*/ 23724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775" y="21600"/>
                  </a:lnTo>
                  <a:lnTo>
                    <a:pt x="8825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13680" y="3043440"/>
              <a:ext cx="22896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99560" y="3157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28160" y="32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99120" y="2585520"/>
              <a:ext cx="114840" cy="11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13960" y="24721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28440" y="2585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3271680"/>
              <a:ext cx="685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садо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28440" y="2013840"/>
              <a:ext cx="91368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светленная жидкост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57680" y="2357640"/>
              <a:ext cx="343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r>
                <a:rPr b="0" lang="en-US" sz="10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44760" y="3273120"/>
              <a:ext cx="6858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садо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30280" y="1900080"/>
              <a:ext cx="91296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светленная жидкост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87000" y="1557360"/>
              <a:ext cx="11422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Исходная смес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01480" y="2128680"/>
              <a:ext cx="1714680" cy="22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01480" y="2358000"/>
              <a:ext cx="1715400" cy="456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4101120" y="2814840"/>
              <a:ext cx="1715400" cy="4579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16160" y="3157920"/>
              <a:ext cx="114120" cy="11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30280" y="304344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1480" y="2015280"/>
              <a:ext cx="1714680" cy="11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16160" y="2243160"/>
              <a:ext cx="114120" cy="11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30280" y="212868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44760" y="327312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44760" y="235800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29360" y="178596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72800" y="2128680"/>
              <a:ext cx="4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2800" y="2128680"/>
              <a:ext cx="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72800" y="2128680"/>
              <a:ext cx="45648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72160" y="212868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72160" y="235764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86280" y="1900080"/>
              <a:ext cx="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986280" y="23576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86280" y="212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29640" y="2358000"/>
              <a:ext cx="228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29640" y="2015280"/>
              <a:ext cx="34272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v</a:t>
              </a:r>
              <a:r>
                <a:rPr b="0" lang="ru-RU" sz="10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п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9360" y="2358000"/>
              <a:ext cx="34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v</a:t>
              </a:r>
              <a:r>
                <a:rPr b="0" lang="ru-RU" sz="10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ч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29640" y="201528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ение гетерогенных сист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404640"/>
            <a:ext cx="5545080" cy="503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284720" y="3789360"/>
                <a:ext cx="237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47640" y="3860640"/>
                <a:ext cx="21924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659640" y="3716280"/>
                <a:ext cx="1485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4365720"/>
                <a:ext cx="19717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132000" y="4797360"/>
                <a:ext cx="20624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</m:sub>
                    </m:sSub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16000" y="5734080"/>
                <a:ext cx="5875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042920" y="2924280"/>
            <a:ext cx="343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64000" y="2924280"/>
            <a:ext cx="342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760" y="1010520"/>
            <a:ext cx="683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цессы отстаивания и осаждения бывают периодическим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и непрерывны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7920" y="3788280"/>
            <a:ext cx="203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время переноса,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3712680"/>
            <a:ext cx="210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время осажд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9880" y="429156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ход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920" y="4723200"/>
            <a:ext cx="21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атериальный баланс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513108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М – количество жидкости в исходном, осветленном, осадке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 – количество дисперсной фазы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80680" y="5733000"/>
            <a:ext cx="61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соответственно высота осветленного слоя, ширина и длина аппара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148360" y="1916280"/>
                <a:ext cx="237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427640" y="2276640"/>
                <a:ext cx="2286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076720" y="2349360"/>
                <a:ext cx="133560" cy="1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ение гетерогенных сист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404640"/>
            <a:ext cx="5545080" cy="503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987640" y="1773360"/>
                <a:ext cx="2133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3068640"/>
                <a:ext cx="1601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84360" y="4005360"/>
                <a:ext cx="1616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51280" y="4653000"/>
                <a:ext cx="11732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5516640"/>
                <a:ext cx="3860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p>
                        </m:sSup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Ч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Ж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Ч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Ж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9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95280" y="907200"/>
            <a:ext cx="73454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В поле центробежных с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ение происходит под действием центробежных сил. Интенсивность центрифугирования определяют критерием Фруд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4320" y="2347920"/>
            <a:ext cx="349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Fr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굴림"/>
              </a:rPr>
              <a:t>3000 необходимы сверхцентрифуг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На частицу действуют сил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1) Центробежная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1720" y="364392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) Архимеда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960" y="4651920"/>
            <a:ext cx="32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) Сопротивления среды (Стокса)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760" y="5083560"/>
            <a:ext cx="588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ешая совместно уравнения, находят скорость осаждения частиц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ение гетерогенных сист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404640"/>
            <a:ext cx="5545080" cy="503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719000" y="1341360"/>
            <a:ext cx="5975280" cy="2886840"/>
            <a:chOff x="1719000" y="1341360"/>
            <a:chExt cx="5975280" cy="2886840"/>
          </a:xfrm>
        </p:grpSpPr>
        <p:sp>
          <p:nvSpPr>
            <p:cNvPr id="159" name=""/>
            <p:cNvSpPr/>
            <p:nvPr/>
          </p:nvSpPr>
          <p:spPr>
            <a:xfrm>
              <a:off x="6629040" y="1341360"/>
              <a:ext cx="1065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светленная жидк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67320" y="1475280"/>
              <a:ext cx="106524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светленная жидк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00520" y="2144880"/>
              <a:ext cx="7984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садо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35280" y="1876320"/>
              <a:ext cx="1065240" cy="133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35280" y="2010960"/>
              <a:ext cx="133200" cy="1204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67320" y="2010960"/>
              <a:ext cx="133200" cy="12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68480" y="2010960"/>
              <a:ext cx="798480" cy="12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7720" y="3215520"/>
              <a:ext cx="0" cy="26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9716600">
              <a:off x="1789200" y="3437640"/>
              <a:ext cx="79668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71" y="361"/>
                  </a:moveTo>
                  <a:arcTo wR="10800" hR="10800" stAng="-4508134" swAng="4895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71" y="361"/>
                  </a:moveTo>
                  <a:arcTo wR="10800" hR="10800" stAng="-4508134" swAng="4895098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66440" y="3215520"/>
              <a:ext cx="0" cy="40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99360" y="1876320"/>
              <a:ext cx="0" cy="13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32920" y="3349800"/>
              <a:ext cx="1198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31000" y="187632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66160" y="3215520"/>
              <a:ext cx="13320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99360" y="3349800"/>
              <a:ext cx="1332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32920" y="2010960"/>
              <a:ext cx="10645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32920" y="3215520"/>
              <a:ext cx="106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7440" y="2010960"/>
              <a:ext cx="0" cy="12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2920" y="2010960"/>
              <a:ext cx="0" cy="12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65400" y="2010960"/>
              <a:ext cx="0" cy="12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64960" y="2010960"/>
              <a:ext cx="0" cy="12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32920" y="1876320"/>
              <a:ext cx="1064520" cy="13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65400" y="2010960"/>
              <a:ext cx="799200" cy="1204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832920" y="201096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32920" y="214488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832920" y="227844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32920" y="241272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832920" y="254628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32920" y="268020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832920" y="2813760"/>
              <a:ext cx="13248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32920" y="294804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32920" y="308160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64960" y="201096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64960" y="214488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764960" y="2278440"/>
              <a:ext cx="13248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764960" y="241272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764960" y="254628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764960" y="268020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764960" y="281376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764960" y="308160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764960" y="294804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716600">
              <a:off x="3782880" y="3564000"/>
              <a:ext cx="79812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71" y="361"/>
                  </a:moveTo>
                  <a:arcTo wR="10800" hR="10800" stAng="-4508134" swAng="4895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71" y="361"/>
                  </a:moveTo>
                  <a:arcTo wR="10800" hR="10800" stAng="-4508134" swAng="4895098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433320" y="3349800"/>
              <a:ext cx="26568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900520" y="241272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33320" y="2412720"/>
              <a:ext cx="53172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699000" y="2813760"/>
              <a:ext cx="39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3699000" y="2412720"/>
              <a:ext cx="39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31400" y="2412720"/>
              <a:ext cx="399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31400" y="2813760"/>
              <a:ext cx="399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234520" y="1742760"/>
              <a:ext cx="53244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99360" y="1743120"/>
              <a:ext cx="53244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00520" y="3617640"/>
              <a:ext cx="10645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светленная жидк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430240" y="1608840"/>
              <a:ext cx="1598040" cy="2543760"/>
              <a:chOff x="5430240" y="1608840"/>
              <a:chExt cx="1598040" cy="2543760"/>
            </a:xfrm>
          </p:grpSpPr>
          <p:sp>
            <p:nvSpPr>
              <p:cNvPr id="212" name=""/>
              <p:cNvSpPr/>
              <p:nvPr/>
            </p:nvSpPr>
            <p:spPr>
              <a:xfrm>
                <a:off x="5829480" y="2010600"/>
                <a:ext cx="666000" cy="40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29480" y="1608840"/>
                <a:ext cx="666000" cy="40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95880" y="1876320"/>
                <a:ext cx="132840" cy="40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95840" y="1743120"/>
                <a:ext cx="133200" cy="13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696280" y="2144880"/>
                <a:ext cx="132840" cy="13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829480" y="2412720"/>
                <a:ext cx="266040" cy="13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6228720" y="2412720"/>
                <a:ext cx="266760" cy="13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5880" y="3751200"/>
                <a:ext cx="132840" cy="133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6095880" y="2278080"/>
                <a:ext cx="0" cy="80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229080" y="2278080"/>
                <a:ext cx="0" cy="80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430240" y="2278440"/>
                <a:ext cx="26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629040" y="1876320"/>
                <a:ext cx="39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95880" y="3885120"/>
                <a:ext cx="0" cy="26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164200" y="3750840"/>
              <a:ext cx="79956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садо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78800" y="2215800"/>
              <a:ext cx="543600" cy="1260360"/>
            </a:xfrm>
            <a:custGeom>
              <a:avLst/>
              <a:gdLst/>
              <a:ahLst/>
              <a:rect l="l" t="t" r="r" b="b"/>
              <a:pathLst>
                <a:path w="735" h="1695">
                  <a:moveTo>
                    <a:pt x="0" y="0"/>
                  </a:moveTo>
                  <a:cubicBezTo>
                    <a:pt x="181" y="10"/>
                    <a:pt x="337" y="17"/>
                    <a:pt x="510" y="60"/>
                  </a:cubicBezTo>
                  <a:cubicBezTo>
                    <a:pt x="540" y="80"/>
                    <a:pt x="570" y="100"/>
                    <a:pt x="600" y="120"/>
                  </a:cubicBezTo>
                  <a:cubicBezTo>
                    <a:pt x="615" y="130"/>
                    <a:pt x="645" y="150"/>
                    <a:pt x="645" y="150"/>
                  </a:cubicBezTo>
                  <a:cubicBezTo>
                    <a:pt x="650" y="165"/>
                    <a:pt x="650" y="183"/>
                    <a:pt x="660" y="195"/>
                  </a:cubicBezTo>
                  <a:cubicBezTo>
                    <a:pt x="671" y="209"/>
                    <a:pt x="703" y="207"/>
                    <a:pt x="705" y="225"/>
                  </a:cubicBezTo>
                  <a:cubicBezTo>
                    <a:pt x="712" y="290"/>
                    <a:pt x="735" y="405"/>
                    <a:pt x="660" y="480"/>
                  </a:cubicBezTo>
                  <a:cubicBezTo>
                    <a:pt x="639" y="501"/>
                    <a:pt x="553" y="603"/>
                    <a:pt x="525" y="615"/>
                  </a:cubicBezTo>
                  <a:cubicBezTo>
                    <a:pt x="496" y="628"/>
                    <a:pt x="465" y="635"/>
                    <a:pt x="435" y="645"/>
                  </a:cubicBezTo>
                  <a:cubicBezTo>
                    <a:pt x="420" y="650"/>
                    <a:pt x="390" y="660"/>
                    <a:pt x="390" y="660"/>
                  </a:cubicBezTo>
                  <a:cubicBezTo>
                    <a:pt x="310" y="655"/>
                    <a:pt x="226" y="671"/>
                    <a:pt x="150" y="645"/>
                  </a:cubicBezTo>
                  <a:cubicBezTo>
                    <a:pt x="103" y="625"/>
                    <a:pt x="90" y="607"/>
                    <a:pt x="75" y="585"/>
                  </a:cubicBezTo>
                  <a:cubicBezTo>
                    <a:pt x="60" y="563"/>
                    <a:pt x="58" y="532"/>
                    <a:pt x="60" y="510"/>
                  </a:cubicBezTo>
                  <a:cubicBezTo>
                    <a:pt x="65" y="490"/>
                    <a:pt x="77" y="466"/>
                    <a:pt x="90" y="450"/>
                  </a:cubicBezTo>
                  <a:cubicBezTo>
                    <a:pt x="100" y="438"/>
                    <a:pt x="119" y="435"/>
                    <a:pt x="135" y="435"/>
                  </a:cubicBezTo>
                  <a:cubicBezTo>
                    <a:pt x="154" y="429"/>
                    <a:pt x="178" y="415"/>
                    <a:pt x="210" y="405"/>
                  </a:cubicBezTo>
                  <a:cubicBezTo>
                    <a:pt x="242" y="395"/>
                    <a:pt x="293" y="377"/>
                    <a:pt x="330" y="375"/>
                  </a:cubicBezTo>
                  <a:cubicBezTo>
                    <a:pt x="367" y="373"/>
                    <a:pt x="403" y="378"/>
                    <a:pt x="435" y="390"/>
                  </a:cubicBezTo>
                  <a:cubicBezTo>
                    <a:pt x="467" y="402"/>
                    <a:pt x="490" y="420"/>
                    <a:pt x="525" y="450"/>
                  </a:cubicBezTo>
                  <a:cubicBezTo>
                    <a:pt x="576" y="484"/>
                    <a:pt x="602" y="527"/>
                    <a:pt x="645" y="570"/>
                  </a:cubicBezTo>
                  <a:cubicBezTo>
                    <a:pt x="682" y="680"/>
                    <a:pt x="704" y="666"/>
                    <a:pt x="660" y="810"/>
                  </a:cubicBezTo>
                  <a:cubicBezTo>
                    <a:pt x="653" y="834"/>
                    <a:pt x="603" y="877"/>
                    <a:pt x="585" y="885"/>
                  </a:cubicBezTo>
                  <a:cubicBezTo>
                    <a:pt x="524" y="913"/>
                    <a:pt x="443" y="971"/>
                    <a:pt x="375" y="990"/>
                  </a:cubicBezTo>
                  <a:cubicBezTo>
                    <a:pt x="335" y="1001"/>
                    <a:pt x="255" y="1020"/>
                    <a:pt x="255" y="1020"/>
                  </a:cubicBezTo>
                  <a:cubicBezTo>
                    <a:pt x="220" y="1015"/>
                    <a:pt x="182" y="1021"/>
                    <a:pt x="150" y="1005"/>
                  </a:cubicBezTo>
                  <a:cubicBezTo>
                    <a:pt x="136" y="998"/>
                    <a:pt x="135" y="976"/>
                    <a:pt x="135" y="960"/>
                  </a:cubicBezTo>
                  <a:cubicBezTo>
                    <a:pt x="135" y="915"/>
                    <a:pt x="205" y="915"/>
                    <a:pt x="210" y="870"/>
                  </a:cubicBezTo>
                  <a:cubicBezTo>
                    <a:pt x="281" y="879"/>
                    <a:pt x="313" y="831"/>
                    <a:pt x="375" y="870"/>
                  </a:cubicBezTo>
                  <a:cubicBezTo>
                    <a:pt x="494" y="944"/>
                    <a:pt x="297" y="835"/>
                    <a:pt x="435" y="870"/>
                  </a:cubicBezTo>
                  <a:cubicBezTo>
                    <a:pt x="450" y="885"/>
                    <a:pt x="507" y="948"/>
                    <a:pt x="525" y="960"/>
                  </a:cubicBezTo>
                  <a:cubicBezTo>
                    <a:pt x="538" y="969"/>
                    <a:pt x="528" y="980"/>
                    <a:pt x="540" y="990"/>
                  </a:cubicBezTo>
                  <a:cubicBezTo>
                    <a:pt x="566" y="1011"/>
                    <a:pt x="575" y="1050"/>
                    <a:pt x="585" y="1080"/>
                  </a:cubicBezTo>
                  <a:cubicBezTo>
                    <a:pt x="580" y="1125"/>
                    <a:pt x="590" y="1175"/>
                    <a:pt x="570" y="1215"/>
                  </a:cubicBezTo>
                  <a:cubicBezTo>
                    <a:pt x="561" y="1233"/>
                    <a:pt x="528" y="1251"/>
                    <a:pt x="510" y="1260"/>
                  </a:cubicBezTo>
                  <a:cubicBezTo>
                    <a:pt x="363" y="1334"/>
                    <a:pt x="543" y="1256"/>
                    <a:pt x="375" y="1290"/>
                  </a:cubicBezTo>
                  <a:cubicBezTo>
                    <a:pt x="310" y="1285"/>
                    <a:pt x="287" y="1326"/>
                    <a:pt x="225" y="1305"/>
                  </a:cubicBezTo>
                  <a:cubicBezTo>
                    <a:pt x="210" y="1300"/>
                    <a:pt x="184" y="1241"/>
                    <a:pt x="195" y="1230"/>
                  </a:cubicBezTo>
                  <a:cubicBezTo>
                    <a:pt x="206" y="1219"/>
                    <a:pt x="225" y="1220"/>
                    <a:pt x="240" y="1215"/>
                  </a:cubicBezTo>
                  <a:cubicBezTo>
                    <a:pt x="354" y="1226"/>
                    <a:pt x="395" y="1219"/>
                    <a:pt x="480" y="1275"/>
                  </a:cubicBezTo>
                  <a:cubicBezTo>
                    <a:pt x="490" y="1290"/>
                    <a:pt x="509" y="1302"/>
                    <a:pt x="510" y="1320"/>
                  </a:cubicBezTo>
                  <a:cubicBezTo>
                    <a:pt x="524" y="1517"/>
                    <a:pt x="489" y="1510"/>
                    <a:pt x="330" y="1530"/>
                  </a:cubicBezTo>
                  <a:cubicBezTo>
                    <a:pt x="315" y="1525"/>
                    <a:pt x="292" y="1529"/>
                    <a:pt x="285" y="1515"/>
                  </a:cubicBezTo>
                  <a:cubicBezTo>
                    <a:pt x="278" y="1501"/>
                    <a:pt x="285" y="1476"/>
                    <a:pt x="300" y="1470"/>
                  </a:cubicBezTo>
                  <a:cubicBezTo>
                    <a:pt x="309" y="1467"/>
                    <a:pt x="392" y="1496"/>
                    <a:pt x="405" y="1500"/>
                  </a:cubicBezTo>
                  <a:cubicBezTo>
                    <a:pt x="481" y="1576"/>
                    <a:pt x="465" y="1580"/>
                    <a:pt x="465" y="169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21120" y="3771720"/>
              <a:ext cx="285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64560" y="3771720"/>
              <a:ext cx="285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07920" y="3342960"/>
              <a:ext cx="285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987640" y="4724280"/>
                <a:ext cx="846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924360" y="5229360"/>
                <a:ext cx="6904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132000" y="5805360"/>
                <a:ext cx="82728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ϕτ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076720" y="5805360"/>
                <a:ext cx="17964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870120" y="4258080"/>
            <a:ext cx="2477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азатели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Фактор разделе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85600" y="52282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Индекс производительности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2160" y="580428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изводительность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69560" y="5733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 (м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/с), где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09240" y="5733000"/>
            <a:ext cx="37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оэффициент эффективности (0,7 – 0,9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75160" y="472428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(м/с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60320" y="5229360"/>
            <a:ext cx="32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(м/с2)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верхность осажд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0:50:12Z</dcterms:created>
  <dc:creator>User</dc:creator>
  <dc:description/>
  <dc:language>en-US</dc:language>
  <cp:lastModifiedBy>User</cp:lastModifiedBy>
  <dcterms:modified xsi:type="dcterms:W3CDTF">2007-04-01T05:59:19Z</dcterms:modified>
  <cp:revision>4</cp:revision>
  <dc:subject/>
  <dc:title> «Процессы и аппараты пищевых производств»  </dc:title>
</cp:coreProperties>
</file>