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646-09C6-4F0F-9249-8F64A19A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EE6-8411-46B4-B5B6-9883D94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12C-2A1B-4238-A9C5-715F4056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3B8-EFD8-4431-9A81-9C4FFBB1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6BF5-E3CC-4BE0-A4F0-6C28CC1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0F47-02E5-428C-B457-23BAA2EB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C09-7DB6-4C18-A1BC-6EE3B2A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B09F-B630-4051-B4B2-16AF8DB0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30D2-E90C-4024-BE5D-40FB0D5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9AF6-91AA-4F62-8A35-CFF74B2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BA65-12D6-42CC-B6DF-0DBDBE6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F10-5C0A-4C4A-98DF-2BEC266A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E429-8484-4F5D-85FB-56508E3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1397-C768-4363-8EF8-86462AF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3C43-1F04-4268-96D5-3CD3404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98C-2295-49B8-880B-A4DD8496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BEB0-69BF-40A6-B8CB-0C8B4C13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978-A678-4C38-AB6F-F09AB02A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9DF-557D-4144-A61C-751EFF52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506-543B-4511-80E4-FB019E6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ADC-5D8B-4323-AE1F-D865DF8C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FC1-ECCF-46DF-AEA4-CEC1CEC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4C1-39A8-4B92-B0B5-5D339E02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C88-926B-43C4-8BC4-0B8B7C8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83C-C8C4-4C9A-8C58-3DD7E80357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A1E3-8DC0-4927-80CF-FF310F2E49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Международный стандар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ИСО/МЭК 17025 (ISO/IEC 17025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Область приме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ормативные ссы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Термины и опред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.Требование к управл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Технические треб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Консульт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Ценность аккредитированного стату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кумент об аккредитации может оцениваться той пользой, которую система менеджмента качества (к которому он относится) принесёт её владель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польза не значительна, то нам удалось построить лишь систему менеджмента бумаг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75520" y="2052720"/>
            <a:ext cx="1909800" cy="1839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2362320" cy="2216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7269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Что помогло такому большому количеству творчеств человеческих рук пережить разные эпохи, противостоять векам; что помогло человечеству, даже в самых диких временах сохранить их от разрушения? Это – качество»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ас Ман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86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едение Структура, Система каче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кументацией, Анализ запросов, заявок на подряд и контрактов, Заключение субподрядов на проведение испытаний и поверок, Приобретение услуг и запасов, Обслуживание кли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.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7386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. Управление несоответствующей работой по испытаниям и/или поверкам, Корректируюшее действие. Управление регистрацией данных, Внутренние проверки, Анализы со стороны руководст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е описание технических требований, Персонал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6800"/>
            <a:ext cx="739116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ещения и условия окружающей среды, Методы испытаний и поверок, оценка пригодности мет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рудование, Прослеживаемость измер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етность о результа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6800"/>
            <a:ext cx="762012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Общие требования к компетентности испытательных лабораторий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21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и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процес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ие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общее управление качеств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77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нтроль качеств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8195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11480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8195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819520"/>
            <a:ext cx="2133720" cy="533160"/>
          </a:xfrm>
          <a:prstGeom prst="rightArrow">
            <a:avLst>
              <a:gd name="adj1" fmla="val 50000"/>
              <a:gd name="adj2" fmla="val 1000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2767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54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рьё, энер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0292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0" y="5791320"/>
            <a:ext cx="1447920" cy="642600"/>
            <a:chOff x="4572000" y="5791320"/>
            <a:chExt cx="1447920" cy="642600"/>
          </a:xfrm>
        </p:grpSpPr>
        <p:sp>
          <p:nvSpPr>
            <p:cNvPr id="122" name=""/>
            <p:cNvSpPr/>
            <p:nvPr/>
          </p:nvSpPr>
          <p:spPr>
            <a:xfrm>
              <a:off x="4876920" y="579132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5867280"/>
              <a:ext cx="144792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257800" y="32767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819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ые данны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укт услуга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76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3.Общие требования к компетентности испытательных лаборатор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157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ие каче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8600"/>
            <a:ext cx="7477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3520" y="1828800"/>
            <a:ext cx="750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905120"/>
            <a:ext cx="18288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666880"/>
            <a:ext cx="2057400" cy="825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ение, контроль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051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1905120"/>
            <a:ext cx="2133360" cy="533160"/>
          </a:xfrm>
          <a:prstGeom prst="rightArrow">
            <a:avLst>
              <a:gd name="adj1" fmla="val 50000"/>
              <a:gd name="adj2" fmla="val 1000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362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257800"/>
            <a:ext cx="609480" cy="781200"/>
          </a:xfrm>
          <a:prstGeom prst="downArrow">
            <a:avLst>
              <a:gd name="adj1" fmla="val 50000"/>
              <a:gd name="adj2" fmla="val 3204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505320" y="6019920"/>
            <a:ext cx="1447560" cy="642600"/>
            <a:chOff x="3505320" y="6019920"/>
            <a:chExt cx="1447560" cy="642600"/>
          </a:xfrm>
        </p:grpSpPr>
        <p:sp>
          <p:nvSpPr>
            <p:cNvPr id="138" name=""/>
            <p:cNvSpPr/>
            <p:nvPr/>
          </p:nvSpPr>
          <p:spPr>
            <a:xfrm>
              <a:off x="3809880" y="60199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5320" y="6095880"/>
              <a:ext cx="144756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62520" y="2362320"/>
            <a:ext cx="15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3809880"/>
            <a:ext cx="2285640" cy="1377720"/>
            <a:chOff x="3048120" y="3809880"/>
            <a:chExt cx="2285640" cy="1377720"/>
          </a:xfrm>
        </p:grpSpPr>
        <p:sp>
          <p:nvSpPr>
            <p:cNvPr id="142" name=""/>
            <p:cNvSpPr/>
            <p:nvPr/>
          </p:nvSpPr>
          <p:spPr>
            <a:xfrm>
              <a:off x="3779280" y="4203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Хорошо?</a:t>
              </a:r>
              <a:r>
                <a:rPr b="0" lang="hu-H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3809880"/>
              <a:ext cx="2285640" cy="1377720"/>
            </a:xfrm>
            <a:prstGeom prst="flowChartDecision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4" name=""/>
          <p:cNvCxnSpPr/>
          <p:nvPr/>
        </p:nvCxnSpPr>
        <p:spPr>
          <a:xfrm rot="10800000">
            <a:off x="2133000" y="3809160"/>
            <a:ext cx="1014840" cy="681840"/>
          </a:xfrm>
          <a:prstGeom prst="bentConnector3">
            <a:avLst>
              <a:gd name="adj1" fmla="val 51312"/>
            </a:avLst>
          </a:prstGeom>
          <a:ln w="255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45" name=""/>
          <p:cNvSpPr/>
          <p:nvPr/>
        </p:nvSpPr>
        <p:spPr>
          <a:xfrm>
            <a:off x="228600" y="3200400"/>
            <a:ext cx="190512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ти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ющее действие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808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7432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352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2437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81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т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системах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0    Терминология и основ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1   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 9004    Улучш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ИСО 19011  Проверка (ауди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О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О МЭК 17025  Требования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38088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ahoma"/>
              </a:rPr>
              <a:t>3.1.Необходимые стандар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25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аменяет руководство ИСО/МЭК 25 и европейский стандарт ЭН 45001 (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4500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дел 4 относится к менеджменту (управлению), а раздел 5 к лабораторным испытаниям и / или поверк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 содержит элементы ИСО 9001 и ИСО 9002, 9000:20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достичь аккредитации на международном уровне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одготовки специалистов из  лабораторий и из национальной организации по аккреди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ём проведения анализа лаборатории на соответствие требованиям стандарта ИСО/МЭК 17025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овать анализ профессиональной опытности с участием выбранных лаборатор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3.2. Осн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в</a:t>
            </a: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ные понят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(аудит) ~ поверка (слич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сличение (эталон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анализ (со стороны руковод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менеджмент (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д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ерификация ~ валида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испыта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любая деятель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чтобы убедиться в правильности чего-либо или в соответствии чему-либо (осмотр, испытание);тоже самое как 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 менеджмента качества (аудит)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совокупность дейсвий для определения соответствия системы качества стандарту ИСО 9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e5ffff"/>
                </a:solidFill>
                <a:latin typeface="Times New Roman"/>
              </a:rPr>
              <a:t>Проверка (аудит) ~ поверка (сличение</a:t>
            </a:r>
            <a:r>
              <a:rPr b="1" lang="ru-RU" sz="3600" spc="-1" strike="noStrike">
                <a:solidFill>
                  <a:srgbClr val="e5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Tahoma"/>
              </a:rPr>
              <a:t>Поверка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 средств измерения-определение погрешностей и установление их пригодности к применению соответствия классу точности (для точного определения см.МС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Сличен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равнение, сопоставление и установление схо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В метр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Сличение эталонов:сравнение отк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нений эталонов от их номинальных знач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Анал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Обш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определение состава и свойств какого-либо вещества (хим.анали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переносном смысле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Разбор, рассмотрение чего-либ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В области менеджмента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анализ со стороны руководства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рассмотрение руководством состояния и функционирования системы качества, по определенным в ИСО 9001 правил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Менеджмен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В толковых словарях русского языка такого слова н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 дословный перевод английского выражения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Management”, которое обозначает систему управления предприятием с целью обеспечений качества, согласно ИСО 9001. Из этого вытекает, что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 качества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-это не управление качеством, а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управление предприятием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( с целью обеспечения осуществления запланированного качест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родук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Общее значение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1. Предмет, как результат человеческого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2. Продукция, следствие, результат чего-либо (в переносном смысл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В обл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менеджмента качества </a:t>
            </a:r>
            <a:r>
              <a:rPr b="1" lang="hu-HU" sz="2800" spc="-1" strike="noStrike">
                <a:solidFill>
                  <a:srgbClr val="ff0000"/>
                </a:solidFill>
                <a:latin typeface="Times New Roman"/>
              </a:rPr>
              <a:t>предметы и/или услу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KZ Times New Roman"/>
              </a:rPr>
              <a:t>В области технического рег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KZ Times New Roman"/>
              </a:rPr>
              <a:t>Результат процесса или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соответствия (верификация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соответствия требован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( напр. Стандарта,заказа и т.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4916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Оценка пригодности (валидация)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1920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Контроль и/или потверждение пригодности к назна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e5ffff"/>
                </a:solidFill>
                <a:latin typeface="Tahoma"/>
              </a:rPr>
              <a:t>Подготовленнос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подготовленности персон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оверка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Проверка совпадения результатов испытаний, проведенных в разных лаборатор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0000"/>
                </a:solidFill>
                <a:latin typeface="Times New Roman"/>
              </a:rPr>
              <a:t>Межлабораторные с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Что такое: аккредитация?</a:t>
            </a:r>
            <a:r>
              <a:rPr b="0" lang="hu-H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1928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, посредством которой орган по аккредитации официально признает правомочие юридического лица выполнять работы в определенной сфере по подтверждению соответствия объектов технического регулирования установленны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ь аккредитации – улучшение качества работы органов по подтверждению соответствия и испытательных лабораторий и подтверждение их правомочн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47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ндарт распростран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деятельность организаций, проводящих испытания и /или поверки (включая отбор образц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аборатории, являющие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ой стороной – сам изготови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стороной – покупатель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тьей стороной – независимая лаборатория проводит испыт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СО/МЭК 17025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1. Область распростран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ытания /поверки могут составлять часть контроля качества и сертификации продук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стандарту ИСО / МЭК 17025 обеспечивает соответствие стандарту ИСО 9001 или ИСО 9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800" y="380520"/>
            <a:ext cx="8136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2. Нормативные ссылки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3. Термины и определ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0 Системы  менеджмента качества. Основные положения и слов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1 Системы менеджмента качества. Треб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9004:2000 Системы менеджмента качества. Рекомендации по улучшению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ство ИСО/МЭК 2. Общие термины и определения в области стандардизации и смежных видов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М 1993 Международный словарь основных и общих терминов метрол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МЭК 17000 Оценка соответствия Словарь и общие принци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овлетворить требованиям стандарта, потребностям клиента и требованиям органов вл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 должно охватывать работы, выполняемые на своей территории, в удалённых местах и на времённых передвижных точ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ответственность руководящего персонала, и в случае осуществления деятельности, отличную от испытаний и / или поверок, избежать конфли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олагать руководящим и техническим персоналом, имеющим необходимое полномочие, выявить случаи откло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228600"/>
            <a:ext cx="738684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рганизационную структур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беспечивающую независимость персонала от внутренних и внешних давл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у п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е дан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 клиентах, на любых носителя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процедуры, обеспечивающу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определение круг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етен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 Организационная структу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бразованный персонал и документировать повышение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ответственн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 качеств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с определённым кругом ответственности и компетенции подчинённый непосредственно высшему руководител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тановить поряд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мещ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ачества должна соответствовать области распростра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окументированные процедуры для обеспечения качества результ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известны и поняты тем, к кому они относятся, они были им легко доступы и выполняться 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2 Система ка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руководство по качеству, в котором изложены цели, основные принципы, указаны ссылки на процедуры, структура документации, задачи руководителей; его содержание должно актуализировать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ть декларацию высшего руководства о политике по качеству, с указанием целей и стремлени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сновные принципы аккредитац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во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етен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дискримин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фиденциа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диные требования к обязательной и добровольной сфере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кредитация имеет силу на 3 года, при условии проведения ежегодного инспекционного контро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требование по аккредитации  - соответствие стандарту ИСО/МЭК 170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386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умен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ивы, процедура, спецификация, таблица для поверки, график, текст,  сообщение, запись, софтвер, чертёж, план и.т.д. Они могут быть на любом носителе данных, в напечатанном виде или в электронной форме, являются  аналогами, в виде фото или в письменном вид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контроля документов нужна для внутренних и внешних док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надо контролировать до их подтверждения и выпус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регистрации, идентификации пересмотренного статуса, предупреждения использования недействительных или устаревших докумен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ы должны быть доступны там, где происходит основная деятельность для функцион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документ должен быть идентифицирован индивидуально, должен содержать дату выпуска и пересмотра, конца, документацию страниц, общее число страниц или отметка конца документ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7386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3 Управление документацией, изменения в докумен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ённые документы должны быть проверены и подтверждены точно так, как оригин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ь изменения должна быть объяснена в самом документе или в его прилож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можно вносить и от руки, если внутренний порядок разрешает э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а внесения изменений в документы и их контроля, храняющиеся в компьютерных системах должны быть установлены в процедуре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864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 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для анализа запросов, заявок на подряд и контракт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о обеспечить составление документов согласно требованиям, доступность, наличие ресурсов (физических, людских и информационных) и подходящих методов по запросам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4.Анализ запросов, заявок на подряд и контрак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ые различия между запросом или заявкой на подряд и контрактом должны быть улажены до начала работ или клиент должен быть информирован об отклон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охватывать межлабораторные программы поверки, круговые испытания и.т.д., с целью определения предела выявления и диапазона надёжности, деятельности по субподряд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лучае изменений в контракте или заказе контроль должен быть повторен и все заинтересованные лица должны быть информиро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65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5. Заключение субподрядов на проведение испытаний и пове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брать компетентного, проверенного субподряд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возможности просить письменного согласия заказч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несёт ответственность и за работу, выполненную подрядчико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учёт о подрядчика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иметь запись о всех испытаниях / поверках, выполненных подрядчи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.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выбору и приобретению услуг и запасов, влияющих на качество (на заказ, приёмку, хранение и сервис расходуемых материалов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беспечить входной контроль до использования материал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ение услуг должно быть проверено и документирова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6 Приобретение услуг и запа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упочная документация на изделия, влияющие на качество, должна содержать параметры качества изделий. Их выбор подлежит проверке и подтверждению до выдачи зака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ценить поставщиков и документировать результаты оцен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составить перечень утверждённых поставщ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обеспечить возможность участия клиентов 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ъяснении запроса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, связанных с выполняемой работо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просах контроля функционирования лаборатории, разрешить доступ к испытаниям, проводимым для клиен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то имеет право производить аккредитац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?</a:t>
            </a:r>
            <a:r>
              <a:rPr b="0" lang="hu-H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86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кредитация производится внешней, независимой, уполномоченной на государственном уровне организацией в соответствии с международными нормами - Комитет по техническому регулированию и метр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АК – Международная Организация Сотрудничества по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7. Обслуживание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одготовке, упаковке и отправке образ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ен информацией должен бы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ен, и обратная связь должна быть обеспечена во время все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информацию (положительную и отрицательную) следует использовать для улучшения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864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8. 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и правила по разрешению претензий со стороны клиентов и других сторон. Записи надо сохра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9 Контроль несоответствующей работы по испытаниям и повер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боратория должна иметь процедуру по принятию мер в случае несоответствия собственным процедурам или согласованным с клиентом требован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дура должна содержать ответственность за принятия мер, оценку значимости несоответствия, условия принятия корректирующих действий, критерии приемлемости, извещения клиента и возобновлени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 Корректирующие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разработать процедуру по корректирующим дейст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определить причины несоответствия. (Возможные причины – требования клиента, образцы и их спецификации, методы, процедуры, квалификация и опыт персонала, материалы, инструмент и его поверк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0. Корректиру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соответствовать масштабу проблем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действия должны подвергаться контро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масштаб несоответствия угрожает достижения целей лаборатории, то необходимо провести дополнительные прове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1. Предупреждающее дей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выявить возможности развития технических систем и систем качества, а также идентифицировать причины несоответствий для того, чтобы лаборатория могла определить подходящее предупреждающее действ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запланировать, а его выполнение  - контролир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ающее действие может включить анализ данных, анализ тенденций и риска а также результаты оценок опы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86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установить процедуру по идентификации, сбору, индексированию, доступу, систематизации, хранению, ведению и изъятию регистрационных данных по качеству и техническим вопрос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ы быть установлены сроки хранения и обеспечена конфиденциа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7386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2. Управление регистрацией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ужна процедура по защите и восстановлению данных на электронных носителях и для предупреждения несанкционированного доступа или внесения изменений в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и должны содержать всю информацию, необходимую для повторения испытаний и повер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, ответственные за эту деятельность должны быть определ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386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ические записи (первичные данные, источн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данные, информация, накопленные в ходе испытаний /поверок, которые показывают, достигнуты-ли определённые параметры по качеству или мето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охватыв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чатные материалы, контракты, записи и тетради о выполненных работах, контрольные карточки, промежуточные записи, контрольные диаграммы, заключения внутренних и внешних испытаний, сертификаты, записи клиента, письменные и устные сообщения, протоколы испытаний и поверок, посланные клиен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равление, вносимые в записи, должны быть подписаны, с указанием даты; ошибка должна остаться разбирае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1: Создать международную организац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3028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жегодные совещ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ленские в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юрокра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оголетние диску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ездка  на совещание доро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ждународная  группа поедет в каждую страну поверить лаборатор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3. Внутренние провер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периодически, с предварительно установленным графиком и процедурой проводить внутренние проверки функционирования системы качества и соответствия стандар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явленные недостатки и необходимые меры должны быть зарегистрированы. Выполнение предусмотренных мер должно проверяться зафиксировано в документе, их эффективность также должна быть опред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7386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о всех несоответствиях, которые угрожают точность результатов испытаний / поверок необходимо информировать клиента.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 Требования по управлени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14. Анализ со стороны руко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ответствии с предварительно установленным графиком и процедурой руководство должно периодически проводить анализ деятельности по проведению испытаний / поверок для обеспечения соответствия, эффективности и проведения необходимых изменений и улуч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7386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лиз должен учиты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годность политики и процед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чёты руководящих и контролирующих сотрудни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последних провер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ректирующие и предупреждающие действ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и проведённые сторонними органа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зультаты межлабораторных сравнений или оценок квалиф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я объёма и вида раб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тную связь от кли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тен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 факторы контроля и подготовку персонала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ариант № 2:  создать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00120"/>
            <a:ext cx="8229600" cy="36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национальные системы для аккредитации лаборато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пусть они признают друг друга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Национальные системы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ловие применимости варианта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инаковый подход в каждой стра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этого нужен международный станда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разработал проек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 издал «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uide 2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19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О/ МЭК 17025: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усть они признают друг друг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69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облегчения обоюдного призн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АК стал Международным Сотрудничеством по Аккредитации Лабораторий (Конференция – Коопера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АФ: Международный Форум по Аккреди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разрабатывают рекомендации для облегчения взаимного при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ение: правительства заключают соглашения о взаимном признании лабораторий.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55:01Z</dcterms:created>
  <dc:creator>Parkany Mihaly</dc:creator>
  <dc:description/>
  <dc:language>en-US</dc:language>
  <cp:lastModifiedBy>User</cp:lastModifiedBy>
  <cp:lastPrinted>2005-03-28T07:13:56Z</cp:lastPrinted>
  <dcterms:modified xsi:type="dcterms:W3CDTF">2006-09-13T12:27:24Z</dcterms:modified>
  <cp:revision>44</cp:revision>
  <dc:subject/>
  <dc:title>Курс семинара для специалистов лаборатории по качеству « Международный стандарт ИСО/МЭК 17025 (ISO/IEC 17025): Общие требования к компетентности испытательных и поверочных лабораторий» проведенного Международным Торговым Центром (UNCTAD/WTO) как часть проекта «Продвижение Торговли в Казахстане и  в Кыргызии»  30 марта 2005 года, г.Алматы и г. Бишкек Элизабет Паркань Марта Паполци Инженер химик  Инженер механик Консультанты по ИСО/МЭК 17025:199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