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45D3-D22F-40B4-98CA-A5DB19D25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9593-1960-4E9F-951C-89EF1363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04A3-8960-485B-9D8F-A5099FDC8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D5DB-8EAF-4487-B914-774985971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3F91B-006E-4484-94AD-042A54553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309FD-8335-4745-96CF-5EDE4A8F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2DDA0-781A-4616-B48D-8E075BAF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7F954-45F4-4681-8270-95CE9A72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A91C8-D2BE-48B8-8477-EBE38BE6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B58329-886F-4A6E-A399-A736F2D3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092AC-E8DB-4152-AE7B-AED5211F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4FDE-00BF-46A9-AAC6-9196A968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5C411-4739-4BFF-9891-9A948B13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176CAB-843F-4500-A922-930E4750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1AA695-4495-4651-AEDE-281C765D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725D4-9F5C-43DA-91E8-AA0668D00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6944E-80E2-433E-A4AE-B67C16C16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C32C-BF32-4FE8-ADA3-2C556DA0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D40E-FDB2-49A9-BF00-D559CAF4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FADA-88BA-43A0-957B-3B7C7FAE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65F9-528F-46DD-A237-CF9B1B19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1467-0207-4AD9-A79E-4D8A5014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1EE3-2CB0-4874-82C1-2B161201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1F12-6A94-4FE7-8BD2-EF055E83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B18C-FF34-474D-B69A-28B3FB0A227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2941-8975-4AF9-AE56-F701C29E3C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621C-79B8-4A2B-8E12-944C1470F96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03D1-9F6C-460E-A541-87F12BA6EDFB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СНОВНЫЕ ПОНЯТИЯ И ЗАКОНЫ ХИМ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iрнгпн"/>
          <p:cNvPicPr/>
          <p:nvPr/>
        </p:nvPicPr>
        <p:blipFill>
          <a:blip r:embed="rId2"/>
          <a:stretch/>
        </p:blipFill>
        <p:spPr>
          <a:xfrm>
            <a:off x="2971800" y="2743200"/>
            <a:ext cx="30402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C3072-BBC0-42A4-BAB9-1AE9139478A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томно - молекулярное учени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     Все вещества состоят из молекул. Молекула - наименьшая частица вещества, обладающая его химическими свойств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     Молекулы состоят из атомов. Атом - наименьшая частица химического элемента, сохраняющая все его химические свойства. Различным элементам соответствуют различные ато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     Молекулы и атомы находятся в непрерывном движении; между ними существуют силы притяжения и отталкив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DE92-A35B-48AF-AA71-62D992C523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ждународная единица атомных масс равна 1/12 массы изотопа  12C - основного изотопа природного углеро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 а.е.м = 1/12 • m (12C) = 1,66057 • 10-24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B9F1-6F05-4B37-8F42-648A490CA5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носительная молекулярная масса (Mr) - безразмерная величина, показывающая, во сколько раз масса молекулы данного вещества больше 1/12 массы атома углерода 12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Mг = mг / (1/12 mа(12C)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mr - масса молекулы данного вещест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mа(12C) - масса атома углерода 12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Mг = S Aг(э). Относительная молекулярная масса вещества равна  сумме относительных атомных масс всех элементов с учетом индекс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CFEF-2032-49DC-BFCF-F910C1495C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исло Авогадро ди Кваренья (NA). Количество частиц в 1 моль любого вещества одно и то же и равно 6,02 • 1023. (Постоянная Авогадро имеет размерность - моль-1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3377-3466-4834-BA79-19EE005D75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акон сохранения массы вещест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М.В.Ломоносов, 1748 г.; А.Лавуазье, 1789 г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асса всех веществ, вступивших в химическую реакцию, равна массе всех продуктов реак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A199-63CA-4E0C-9F02-A569C2EC98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оставление химических уравнений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Включает три этап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     Запись формул веществ, вступивших в реакцию (слева) и продуктов реакции (справа), соединив их по смыслу знаками "+" и "®"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gO ® Hg + O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     Подбор коэффициентов для каждого вещества так, чтобы количество атомов каждого элемента в левой и правой части уравнения было одинаково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HgO ® 2Hg + O23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верка числа атомов каждого элемента в левой и правой частях уравн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BC09-F475-4AC2-95FF-52F7720E06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акон кратных отношен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Д.Дальтон, 1803 г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сли два химических элемента дают несколько соединений, то весовые доли одного и того же элемента в этих соединениях, приходящиеся на одну и ту же весовую долю второго элемента, относятся между собой как небольшие целые чис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63E2-17EC-40B2-B484-E0D09B04E6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акон объемных отношен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Гей-Люссак, 1808 г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"Объемы газов, вступающих в химические реакции, и  объемы газов, образующихся в результате реакции, относятся между собой как небольшие целые числ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03F6-BEB6-4AF9-883A-9DB2D0A266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кон Авогадро ди Кварень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1811 г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равных объемах различных газов при одинаковых условиях (температура, давление и т.д.) содержится одинаковое число молеку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кон справедлив только для газообразных вещест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4" descr="i"/>
          <p:cNvPicPr/>
          <p:nvPr/>
        </p:nvPicPr>
        <p:blipFill>
          <a:blip r:embed="rId2"/>
          <a:stretch/>
        </p:blipFill>
        <p:spPr>
          <a:xfrm>
            <a:off x="5834160" y="2209680"/>
            <a:ext cx="2577960" cy="358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C6A6-6D69-482D-8813-0D32151274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Уравнение Клайперона-Менделее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записать объединенный газовый закон для любой массы любого газа, то получается уравнение Клайперона-Менделеев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pV= (m / M) 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99F7-DB53-4E18-A7DC-EBA69BBB5D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Хими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наука о веществах, закономерностях их превращений (физических и химических свойствах) и применении. В настоящее время известно более 100 тыс. неорганических и более 4 млн. органических соедин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953D-18B2-4584-AEE0-F9D4044F9D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ланетарная модель строения атом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Э.Резерфорд, 1911 г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     Атомы химических элементов имеют сложное внутреннее строени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     В центре атома находится положительно заряженное ядро, занимающее ничтожную часть пространства внутри ато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D40A-DFAD-4B8D-9721-A1D3C2E367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   Весь положительный заряд и почти вся масса атома сосредоточена в ядре атома(масса электрона равна 1/1823 а.е.м.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    Вокруг ядра по замкнутым орбиталям движутся электроны. Их число равно заряду ядра. Поэтому атом в целом - электронейтрале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B220-5006-4501-B6F8-837714C10B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Ядро ато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Ядро атома состоит из протонов и нейтронов (общее название - нуклоны). Число протонов в ядре атома элемента строго определено - равно порядковому номеру элемента в периодической системе - Z. Число нейтронов в ядре атомов одного и того же элемента может быть различным - A - Z (где А - относительная атомная масса элемента; Z - порядковый номер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186C-120D-49F0-8D48-6C731C93F8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Химический элемент - это вид атомов, характеризующийся определенными зарядами ядер и строением электронных оболочек. В настоящее время известно 110 элементов: 89 из них найдены в природе (на Земле), остальные получены искусственным путем. Атомы существуют в свободном состоянии, в соединениях с атомами того же или других элементов, образуя молекул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C221-ACEE-42E9-AFA2-3946764B44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томное ядро - центральная часть атома, состоящая из Z протонов и N нейтронов, в которой сосредоточена основная масса атом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C469-F44F-4F2F-B533-0058103F19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ряд ядра - положительный, по величине равен количеству протонов в ядре или электронов в нейтральном атоме и совпадает с порядковым номером элемента в периодической системе. Сумма протонов и нейтронов атомного ядра называется массовым числом A = Z + 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F111-0C35-4999-8556-CEC472AF2E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отопы - химические элементы с одинаковыми зарядами ядер, но различными массовыми числами за счет разного числа нейтронов в ядр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4477-9647-43CF-8A1A-BB355E8152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Химическая формула - это условная запись состава вещества с помощью химических знаков (предложены в 1814 г. Й. Берцелиусом) и индексов (индекс - цифра, стоящая справа внизу от символа. Обозначает число атомов в молекуле). Химическая формула показывает,  атомы каких элементов и в каком отношении соединены между собой в молекул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483F-D927-47B7-A132-A6421B4F76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ллотропия - явление образования химическим элементом нескольких простых веществ, различающихся по строению и свойствам. Простые вещества- молекулы, состоят из атомов одного и того же элемен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1365-C0E6-497A-A297-22972090DA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Химические явления: одни вещества превращаются в другие, отличающиеся от исходных составом и свойствами, при этом состав ядер атомов не изменяет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Физические явления: меняется физическое состояние веществ (парообразование, плавление, электропроводность, выделение тепла и света, ковкость и др.) или образуются новые вещества с изменением состава ядер атом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C74B-3B66-4E7F-BEFA-03720BCF28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2T07:40:39Z</dcterms:created>
  <dc:creator>User</dc:creator>
  <dc:description/>
  <dc:language>en-US</dc:language>
  <cp:lastModifiedBy>Student</cp:lastModifiedBy>
  <dcterms:modified xsi:type="dcterms:W3CDTF">2013-05-02T10:36:3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