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2C1-9CB9-42AD-8675-32FAF164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CC7-46A7-4D92-83B3-E9FD3EB0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5A2-6D9D-45BE-969A-0F16FCE4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7C0-EC25-4314-AA51-D24593ED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32BC-A004-463D-97AD-957CDFF9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9CA0-9AA3-4F6E-822E-70A9AE92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AE23-284C-4242-9028-1B8C76E2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D473-09F6-409B-9C02-FBF04854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1CE6-CC43-42A8-AEFF-4E5102B2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2694-85DF-4DD1-B5C2-F43E5B3F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6016-AC3A-4F42-9ECD-F25E2761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577-C4FA-47B2-A51A-1523FD2A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506E-BFAF-4EAA-A71D-E4DAD223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225A-6743-4335-B741-683FC657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3171-DB7A-44E8-9EE7-E1D7629D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C898-1F3A-4540-A790-E52AE21F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A2FE-7B92-448B-9B9F-AA7CE381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5ACC-99ED-4CCD-9975-8F55D512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2891-AEBE-49E6-9D21-DA5B7BF8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C470-5071-4286-A35C-4A4E59E4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7E0C-B485-4B98-8927-FC7F35D7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C1BDA-9439-4605-B492-B95D57AD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5AB-460E-433B-AF99-50D6B1EC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59B8-3952-42F5-8FEB-1399EBAB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72AC4-9936-4FEF-897F-AB978409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D6FA-97BA-48C9-84C7-E0782C6A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C1CE-3907-455D-A677-3E167C34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09D9-9769-41F1-A254-283B8B62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60453-479E-4038-9110-258514C4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447C-3F07-4D1B-BDD4-994DE1A2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4AF12-1C78-4533-94F6-28C28929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DCF8A-BD37-4DAB-AA28-BA227615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4D08-2CFF-4358-9449-E636CECB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6E3-B258-45F3-9412-2B383802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7F54D-0B4B-43EC-9C1F-EA5A258C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FAE9D-09A4-4B74-AD28-CCE1492B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A7E32-0DCE-42A8-93CF-D106A322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38E3D-A88F-4F5B-8BB0-A4DB54C3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CB0ED-0293-4AD6-A535-34BF7543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1FC37-8332-4EFC-B1BE-67F8103C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7F951-FC7A-485D-867D-27040B12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D4C16-F42A-4561-9573-A8AD21CB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EE195-239B-47C6-9CF9-6B4C0BF1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4230C-DB85-40AB-A35E-34A5B6BE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567-11FD-4AC5-AA97-E7D36663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9B1E0-8829-431D-BF8C-F5640876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44A05-DB10-4913-A8F1-69B667DD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6E39C-1E79-4FB4-A129-DB28C7ED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D605-C446-474F-9C1B-92A1D61D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A7B23-9FB3-47C2-A246-249092B1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897BD-DD59-418F-9C6E-EA92491E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A8350-152A-4D38-A407-8B5841A6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10D39-9887-45E6-837E-BD3D69A3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77FDE-23F2-4A34-86BC-311CEE14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C717F-1DBA-4BB9-A0A5-1B1DC9A7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5B4-E9C9-4808-B1E8-1BEF3970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F6931-F2A2-4F3A-A1CA-8E48CA09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03CB0-5A90-464B-A438-DAA649F8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89E80-3C1B-4D14-8F7B-71DE6FF7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613A2-D973-4337-B43B-39EFC23A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144A-9BC7-4AF4-9745-2DCB1265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72CE5-289C-46F7-9780-8BE9B1C1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E723C-4974-4638-A811-823CA271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7474A-36BA-408E-BEC0-2E9402C1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BD44A-6610-4C7A-B6B3-F38F85F7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2652E-7A6E-47DA-8E2F-598091EC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D41-2A5B-45A5-BEB3-4F65B119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1D091-21FA-4721-8F85-42B95BCE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60594-6386-4A4D-82EC-80C4312E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D8B75-1846-4229-A019-4FDEE77C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126F7-C403-4C17-B890-A5686E4F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FD6A0-2E49-42A1-AF3D-64553950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49749-1A5E-40F6-B74A-9D45CF4F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784EA-699D-4D9C-AE4D-70A53FEB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0F7BE-E5DC-4720-94AB-5D42EC8D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1F1C8-82DC-4297-8DB4-02E9F005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6F748-1053-48EB-ACFF-32B9DE0F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41E-3692-4BB0-967B-5BC2CE48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2B070-2E3A-4799-B190-14B8CDD2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5971D-05A0-4AFA-ABDC-3E93109C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DB6FC-6A62-41BD-9F3E-345CD6FE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828F6-AB29-420C-ADC2-5283ECC5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C0B57-955B-46BF-B8AB-8CCB82F9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2DBF8-8995-4574-AA6E-9AD5F888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57557-64C3-4135-AD7C-476341A5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17814-56D4-4352-A436-DC27E3B1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68868-F09F-49CE-A788-B991859F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9D629-D2A4-45BB-9BE0-0C7E906E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6B4-0722-4793-AEEA-0F9E5ABB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E2770-1340-471B-9022-92F722ED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83442-8293-49F2-B753-A1098E98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9BF61-D091-4024-8E62-EF7ED8C3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FC4B6-5130-4B80-A349-1BAD1FAA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CB963-4DE0-437F-9DCC-798C28F9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59FF9-0DB8-418E-B3FB-6045EB28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4826D-246E-44BF-A28F-DA243200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8F4C-3FEF-4342-A15A-F76A51BA6F6D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DFCB-9991-4705-B401-AD13DA2F11B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67AA-8AAE-43D1-BE29-B071677DDB83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94C6-EF92-49DB-AC91-76D9EEB28D7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9352-FAEC-419B-B5F2-E02A4644EB2E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A344-1E13-410A-95AE-2B59DBF38E8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D79E-D9FE-4EDF-94A0-562A5083FD53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45A5-DC60-4137-B837-95464256AFD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EE8F-2426-4293-B4C5-6151B41B9FA3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8581-5E00-45AF-B41D-5C4829E1FDA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A0FE-4F5A-4078-BADB-EAEA9FE3978C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C9AB-D75B-46F4-B15A-74B48DFDCCA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C0DA-1391-4B97-9D69-4F9403FB6105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A72E-89EE-4B3C-A4E1-837E1F2FB06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93C6-386C-4450-841B-F28A363A44FF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FD5A-C338-4AF2-B4C5-BB828266F9C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image" Target="../media/image5.jpeg"/><Relationship Id="rId29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7201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3e5d78"/>
                </a:solidFill>
                <a:latin typeface="Arial"/>
              </a:rPr>
              <a:t>Химические процессы в растворах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7F0D-C002-4D2D-820F-4BFDEA419C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6300720" cy="51577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Cambria"/>
              </a:rPr>
              <a:t>Схема диссоциации полярной молекулы хлороводорода:</a:t>
            </a:r>
            <a:r>
              <a:rPr b="0" lang="ru-RU" sz="40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2"/>
          <a:stretch/>
        </p:blipFill>
        <p:spPr>
          <a:xfrm>
            <a:off x="0" y="4311720"/>
            <a:ext cx="3419640" cy="254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07B-D30C-46C1-9F3F-6BD31F4050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Электролиты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92ca"/>
                </a:solidFill>
                <a:latin typeface="Calibri"/>
              </a:rPr>
              <a:t>Силь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и растворени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 воде практическ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олностью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распадаются 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он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427640" y="1628640"/>
            <a:ext cx="4402080" cy="45259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Слабые</a:t>
            </a:r>
            <a:r>
              <a:rPr b="0" lang="ru-RU" sz="2400" spc="-1" strike="noStrike">
                <a:solidFill>
                  <a:srgbClr val="b292c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ичн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адаются 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оны. Их раствор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ржат  ионы 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распавшиес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лекулы, поэтому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центрация ионо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5D9-C9CE-480E-8A0B-E1DBFAC1B0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700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0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Сильные электролиты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щества с ионными или сильно полярными связя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хорошо растворимые соли, сильные кислот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Cl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B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Cl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N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сильные основания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b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s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В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9E38-3C1B-49C1-A434-E853165DA6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 </a:t>
            </a:r>
            <a:r>
              <a:rPr b="1" lang="ru-RU" sz="3200" spc="-1" strike="noStrike">
                <a:solidFill>
                  <a:srgbClr val="669900"/>
                </a:solidFill>
                <a:latin typeface="Cambria"/>
              </a:rPr>
              <a:t>Слабые электролиты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 с неполярными и малополярными связя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почти все органические кислоты (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некоторые неорганические кислоты (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почти все малорастворимые в воде соли, основания и гидроксид аммония 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H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6AC-6177-4055-A6BA-46D62B125D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Степень диссоциаци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b292ca"/>
                </a:solidFill>
                <a:latin typeface="Calibri"/>
              </a:rPr>
              <a:t>Степень диссоциации (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α</a:t>
            </a:r>
            <a:r>
              <a:rPr b="0" lang="ru-RU" sz="3600" spc="-1" strike="noStrike">
                <a:solidFill>
                  <a:srgbClr val="b292ca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b292ca"/>
                </a:solidFill>
                <a:latin typeface="Calibri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отношение числа распавшихся на ионы молекул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к общему числу растворенных молекул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:  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5651640" y="4254480"/>
            <a:ext cx="3492360" cy="26035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n331"/>
          <p:cNvPicPr/>
          <p:nvPr/>
        </p:nvPicPr>
        <p:blipFill>
          <a:blip r:embed="rId2"/>
          <a:stretch/>
        </p:blipFill>
        <p:spPr>
          <a:xfrm>
            <a:off x="324000" y="4202280"/>
            <a:ext cx="4968720" cy="188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79A-36FF-4CA5-B66B-1BF8A6526A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92ca"/>
                </a:solidFill>
                <a:latin typeface="Cambria"/>
              </a:rPr>
              <a:t>Электролитическая диссоциация веществ, идущая с образованием свободных ионов объясняет электрическую проводимость растворов</a:t>
            </a:r>
            <a:r>
              <a:rPr b="0" lang="en-US" sz="2900" spc="-1" strike="noStrike">
                <a:solidFill>
                  <a:srgbClr val="b292ca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68360" y="314136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CaCl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2  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C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2+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+ 2Cl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KAl(S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K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+ Al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3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+ 2S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4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HN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+ N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3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Ba(OH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2 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B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2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+ 2O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AB1-16C3-412D-8699-66900BBF25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Диссоциация кислот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уществляется ступенчато. На каждой ступени отщепляется один ион водор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H Cl =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H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+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 +  Cl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- 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H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Calibri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Gill Sans MT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 =  H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H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Gill Sans MT"/>
                <a:ea typeface="Times New Roman"/>
              </a:rPr>
              <a:t>4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упен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H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Gill Sans MT"/>
                <a:ea typeface="Times New Roman"/>
              </a:rPr>
              <a:t>4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-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  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=   H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Gill Sans MT"/>
                <a:ea typeface="Times New Roman"/>
              </a:rPr>
              <a:t>4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2-</a:t>
            </a:r>
            <a:r>
              <a:rPr b="0" lang="ru-RU" sz="2800" spc="-1" strike="noStrike" baseline="30000">
                <a:solidFill>
                  <a:srgbClr val="0000ff"/>
                </a:solidFill>
                <a:latin typeface="Calibri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I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упен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b292ca"/>
                </a:solidFill>
                <a:latin typeface="Calibri"/>
              </a:rPr>
              <a:t>Кислот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при диссоциации образую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тионы водорода и анионы кислотног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тат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CD4-59D1-461B-8B49-BDA8534849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Диссоциация основани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Ba(OH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B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2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+ 2O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a(OH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2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+ 2O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292ca"/>
                </a:solidFill>
                <a:latin typeface="Calibri"/>
              </a:rPr>
              <a:t>Основа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при диссоциации образуют катионы металла и анионы - гидроксид-ион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2E8-AA78-4746-B4FD-956B39D118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Диссоциация соле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600200"/>
            <a:ext cx="8075520" cy="39895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92ca"/>
                </a:solidFill>
                <a:latin typeface="Calibri"/>
              </a:rPr>
              <a:t>Средние со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оли, состоящие из атомов металла и кислотного остатка, диссоциируют в одну ступен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CaCl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Gill Sans MT"/>
                <a:ea typeface="Times New Roman"/>
              </a:rPr>
              <a:t>2  </a:t>
            </a:r>
            <a:r>
              <a:rPr b="1" lang="ru-RU" sz="3600" spc="-1" strike="noStrike" baseline="-30000">
                <a:solidFill>
                  <a:srgbClr val="0000ff"/>
                </a:solidFill>
                <a:latin typeface="Calibri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 Ca</a:t>
            </a:r>
            <a:r>
              <a:rPr b="1" lang="en-US" sz="3600" spc="-1" strike="noStrike" baseline="30000">
                <a:solidFill>
                  <a:srgbClr val="0000ff"/>
                </a:solidFill>
                <a:latin typeface="Gill Sans MT"/>
                <a:ea typeface="Times New Roman"/>
              </a:rPr>
              <a:t>2+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Gill Sans MT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+ 2Cl</a:t>
            </a:r>
            <a:r>
              <a:rPr b="1" lang="en-US" sz="3600" spc="-1" strike="noStrike" baseline="30000">
                <a:solidFill>
                  <a:srgbClr val="0000ff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KBr =  K</a:t>
            </a:r>
            <a:r>
              <a:rPr b="1" lang="en-US" sz="3600" spc="-1" strike="noStrike" baseline="30000">
                <a:solidFill>
                  <a:srgbClr val="0000ff"/>
                </a:solidFill>
                <a:latin typeface="Gill Sans MT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 + Br</a:t>
            </a:r>
            <a:r>
              <a:rPr b="1" lang="ru-RU" sz="3600" spc="-1" strike="noStrike" baseline="30000">
                <a:solidFill>
                  <a:srgbClr val="0000ff"/>
                </a:solidFill>
                <a:latin typeface="Calibri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NaCl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 =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Na</a:t>
            </a:r>
            <a:r>
              <a:rPr b="1" lang="en-US" sz="3600" spc="-1" strike="noStrike" baseline="30000">
                <a:solidFill>
                  <a:srgbClr val="0000ff"/>
                </a:solidFill>
                <a:latin typeface="Gill Sans MT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Cl</a:t>
            </a:r>
            <a:r>
              <a:rPr b="1" lang="en-US" sz="3600" spc="-1" strike="noStrike" baseline="30000">
                <a:solidFill>
                  <a:srgbClr val="0000ff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7D3-21CA-4A86-ACCE-D2DB5754F8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Диссоциация соле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92ca"/>
                </a:solidFill>
                <a:latin typeface="Calibri"/>
              </a:rPr>
              <a:t>Кислые со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оли, в состав молекул которых кроме атомов металла входят атомы водорода, распадаются ступенчато. Сначала отрываются все атомы металла, а затем атомы водорода по- одном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alibri"/>
              </a:rPr>
              <a:t>KHCO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Calibri"/>
              </a:rPr>
              <a:t>3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</a:rPr>
              <a:t> = K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</a:rPr>
              <a:t>+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</a:rPr>
              <a:t> + HCO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Calibri"/>
              </a:rPr>
              <a:t>3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</a:rPr>
              <a:t>−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alibri"/>
              </a:rPr>
              <a:t>HCO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Calibri"/>
              </a:rPr>
              <a:t>3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</a:rPr>
              <a:t>−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</a:rPr>
              <a:t>=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</a:rPr>
              <a:t>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</a:rPr>
              <a:t>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</a:rPr>
              <a:t> + C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Gill Sans MT"/>
              </a:rPr>
              <a:t>3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2F1-CEDB-4BD2-BBEF-188ECE924E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Вещества</a:t>
            </a: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4038480" cy="39895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92ca"/>
                </a:solidFill>
                <a:latin typeface="Calibri"/>
              </a:rPr>
              <a:t>Электроли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ещества, растворы и расплавы которых не проводят электрический 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8320" y="1600200"/>
            <a:ext cx="4038480" cy="39895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92ca"/>
                </a:solidFill>
                <a:latin typeface="Calibri"/>
              </a:rPr>
              <a:t>Неэлектроли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ещества, растворы и расплавы которых не проводят электрический 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4E5-43B0-4B59-BC92-24CE26EC4B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00"/>
                </a:solidFill>
                <a:latin typeface="Cambria"/>
              </a:rPr>
              <a:t>Шведский ученый Сванте Аррениус(1859-1927)</a:t>
            </a:r>
            <a:r>
              <a:rPr b="0" lang="ru-RU" sz="36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68360" y="1916280"/>
            <a:ext cx="4751280" cy="45259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1887 году создал теорию Э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1903году был удостоен Нобелевской прем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За чрезвычайные заслуги в развитии химии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"/>
          <a:stretch/>
        </p:blipFill>
        <p:spPr>
          <a:xfrm>
            <a:off x="5624640" y="1700280"/>
            <a:ext cx="3124080" cy="4392720"/>
          </a:xfrm>
          <a:prstGeom prst="rect">
            <a:avLst/>
          </a:prstGeom>
          <a:ln w="0">
            <a:noFill/>
          </a:ln>
        </p:spPr>
      </p:pic>
      <p:pic>
        <p:nvPicPr>
          <p:cNvPr id="441" name="Аррениус.wav" descr=""/>
          <p:cNvPicPr/>
          <p:nvPr/>
        </p:nvPicPr>
        <p:blipFill>
          <a:blip r:embed="rId2"/>
          <a:stretch/>
        </p:blipFill>
        <p:spPr>
          <a:xfrm>
            <a:off x="802800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36C-F905-4244-AC72-48714E141E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29743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3311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Каблуков И</a:t>
            </a: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.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А</a:t>
            </a: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.</a:t>
            </a:r>
            <a:r>
              <a:rPr b="0" lang="en-US" sz="36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43" name="Picture 4" descr="Каблуков"/>
          <p:cNvPicPr/>
          <p:nvPr/>
        </p:nvPicPr>
        <p:blipFill>
          <a:blip r:embed="rId1"/>
          <a:stretch/>
        </p:blipFill>
        <p:spPr>
          <a:xfrm>
            <a:off x="250920" y="260280"/>
            <a:ext cx="3397320" cy="4411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Кистяковский"/>
          <p:cNvPicPr/>
          <p:nvPr/>
        </p:nvPicPr>
        <p:blipFill>
          <a:blip r:embed="rId2"/>
          <a:stretch/>
        </p:blipFill>
        <p:spPr>
          <a:xfrm>
            <a:off x="4500720" y="404640"/>
            <a:ext cx="4249440" cy="46310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8"/>
          <p:cNvSpPr/>
          <p:nvPr/>
        </p:nvSpPr>
        <p:spPr>
          <a:xfrm>
            <a:off x="4643280" y="5445000"/>
            <a:ext cx="41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Arial"/>
              </a:rPr>
              <a:t>Кистяковский В.А.</a:t>
            </a: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645-58C3-44EA-9D6E-85C0B7B137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усские химики И.А.Каблуков и В.А.Кистяковский применили к объяснению электролитической диссоциации химическую теорию растворов Д.И.Менделеева и доказали, что при растворении электролита происходит химическое взаимодействие растворенного вещества с водой, которое приводит к образованию гидратов, а затем они диссоциируют на ион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C66-F386-445E-99B2-48972FA282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Основные положения </a:t>
            </a:r>
            <a:br>
              <a:rPr sz="3200"/>
            </a:b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теории Э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68360" y="2349000"/>
            <a:ext cx="8229600" cy="324036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 Электролиты в водной среде (и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расплавленном состоянии) распадаютс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 положительно заряженные ион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катионы) и отрицательно заряженны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оны (анионы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37A-A02C-4116-8E19-B1E4086B88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D6128-EAAA-4065-BC79-0FEAC8A6F1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Основные положения </a:t>
            </a:r>
            <a:br>
              <a:rPr sz="3200"/>
            </a:b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теории Э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23640" y="2420640"/>
            <a:ext cx="8373960" cy="381636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Беспорядочное движение ионов в растворе под действием электрического поля становится направленным: положительно заряженные ионы (катионы) движутся к электроду с отрицательным зарядом (катоду), а анионы – к анод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BA3-FC68-4E6A-BDAA-0EB556D90D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Основные положения </a:t>
            </a:r>
            <a:br>
              <a:rPr sz="3200"/>
            </a:b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теории Э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Диссоциация – обратимый процесс: параллельно с распадом молекул на ионы (диссоциацией) протекает процесс соединения ионов (ассоциация). Поэтому в уравнениях электролитической диссоциации вместо знака равенства ставят знак обратимости. 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NaCl       Na</a:t>
            </a:r>
            <a:r>
              <a:rPr b="1" lang="en-US" sz="3600" spc="-1" strike="noStrike" baseline="30000">
                <a:solidFill>
                  <a:srgbClr val="b292ca"/>
                </a:solidFill>
                <a:latin typeface="Gill Sans MT"/>
              </a:rPr>
              <a:t>+ 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+ Cl</a:t>
            </a:r>
            <a:r>
              <a:rPr b="1" lang="en-US" sz="3600" spc="-1" strike="noStrike" baseline="30000">
                <a:solidFill>
                  <a:srgbClr val="b292ca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Line 4"/>
          <p:cNvSpPr/>
          <p:nvPr/>
        </p:nvSpPr>
        <p:spPr>
          <a:xfrm>
            <a:off x="4716360" y="5589720"/>
            <a:ext cx="576360" cy="0"/>
          </a:xfrm>
          <a:prstGeom prst="line">
            <a:avLst/>
          </a:prstGeom>
          <a:ln w="38160">
            <a:solidFill>
              <a:srgbClr val="b292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"/>
          <p:cNvSpPr/>
          <p:nvPr/>
        </p:nvSpPr>
        <p:spPr>
          <a:xfrm flipH="1">
            <a:off x="4716360" y="5734080"/>
            <a:ext cx="503280" cy="0"/>
          </a:xfrm>
          <a:prstGeom prst="line">
            <a:avLst/>
          </a:prstGeom>
          <a:ln w="38160">
            <a:solidFill>
              <a:srgbClr val="b292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73C-F413-466D-AAFE-F55D9FF253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Основные положения </a:t>
            </a:r>
            <a:br>
              <a:rPr sz="3200"/>
            </a:b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теории Э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8360" y="2637000"/>
            <a:ext cx="8229600" cy="341784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епень электролитической диссоциаци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зависит от природы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ектролита и растворителя, температуры и концентрации. Она показывает отношение числа молекул, распавшихся на ион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к общему числу молекул, введенных в раствор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FF1-5529-4D10-B067-99C823B9A9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Основные положения </a:t>
            </a:r>
            <a:br>
              <a:rPr sz="3200"/>
            </a:b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теории Э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8360" y="2565000"/>
            <a:ext cx="8229600" cy="269244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Свойства ионов резко отличаются 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йств нейтральных атомо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авляющих их элементов. Ионы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дных растворах гидратирова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отличие ионов от молекул_xvid.avi" descr=""/>
          <p:cNvPicPr/>
          <p:nvPr/>
        </p:nvPicPr>
        <p:blipFill>
          <a:blip r:embed="rId1"/>
          <a:stretch/>
        </p:blipFill>
        <p:spPr>
          <a:xfrm>
            <a:off x="7764480" y="5823000"/>
            <a:ext cx="1379520" cy="10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018-D31B-4E58-8213-639DCDF1BE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54600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00"/>
                </a:solidFill>
                <a:latin typeface="Cambria"/>
              </a:rPr>
              <a:t>Неэлектролиты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ещества, которые содержат ковалентные неполярные или малополярные связи. Эти связи не распадаются на ион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газы, твердые вещества (неметаллы), органические соединения (сахароза, бензин, спирт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A96-B689-4C02-A04C-1459B2DB85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Электролиты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ещества, которые содержат ионные и ковалентные полярные связи. Эти связи легко распадаются на и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еорганические кислоты, основания, со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5003640" y="3767040"/>
            <a:ext cx="4140360" cy="309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D5A-B996-4C02-A79B-D513E273E0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0424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Электролитическая диссоциация</a:t>
            </a:r>
            <a:r>
              <a:rPr b="0" lang="en-US" sz="4000" spc="-1" strike="noStrike">
                <a:solidFill>
                  <a:srgbClr val="464653"/>
                </a:solidFill>
                <a:latin typeface="Cambria"/>
              </a:rPr>
              <a:t> – процесс распада электролита на ионы при растворении его в воде или расплавлении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7E9-6995-483C-A661-790C47AE20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Вещества с ионной связью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673800" cy="3008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408120" cy="353988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9"/>
          <p:cNvSpPr/>
          <p:nvPr/>
        </p:nvSpPr>
        <p:spPr>
          <a:xfrm>
            <a:off x="539640" y="5373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сталлическая решет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5508720" y="5877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стал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753-6F7E-4DA6-98E0-C214397C0A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9900"/>
                </a:solidFill>
                <a:latin typeface="Cambria"/>
              </a:rPr>
              <a:t>Механизм ЭД </a:t>
            </a:r>
            <a:br>
              <a:rPr sz="2900"/>
            </a:br>
            <a:r>
              <a:rPr b="1" lang="en-US" sz="2900" spc="-1" strike="noStrike">
                <a:solidFill>
                  <a:srgbClr val="669900"/>
                </a:solidFill>
                <a:latin typeface="Cambria"/>
              </a:rPr>
              <a:t>ионных веществ</a:t>
            </a:r>
            <a:r>
              <a:rPr b="0" lang="en-US" sz="36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иентация  диполей воды вокруг кристаллов со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разование между молекулами воды и ионами кристаллов слабых связ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ушение  кристаллической решетки и образование гидратированных ион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F32-A7BA-4954-BD39-FF9FFB8B7B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Oval 4"/>
          <p:cNvSpPr/>
          <p:nvPr/>
        </p:nvSpPr>
        <p:spPr>
          <a:xfrm>
            <a:off x="1116000" y="1413000"/>
            <a:ext cx="720720" cy="71892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"/>
          <p:cNvSpPr/>
          <p:nvPr/>
        </p:nvSpPr>
        <p:spPr>
          <a:xfrm>
            <a:off x="1908000" y="1413000"/>
            <a:ext cx="721080" cy="71892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187280" y="1557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197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cz_wody_dipol"/>
          <p:cNvPicPr/>
          <p:nvPr/>
        </p:nvPicPr>
        <p:blipFill>
          <a:blip r:embed="rId1"/>
          <a:stretch/>
        </p:blipFill>
        <p:spPr>
          <a:xfrm>
            <a:off x="1908000" y="2205000"/>
            <a:ext cx="443160" cy="1008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cz_wody_dipol"/>
          <p:cNvPicPr/>
          <p:nvPr/>
        </p:nvPicPr>
        <p:blipFill>
          <a:blip r:embed="rId2"/>
          <a:stretch/>
        </p:blipFill>
        <p:spPr>
          <a:xfrm rot="19456200">
            <a:off x="2627280" y="1971360"/>
            <a:ext cx="506520" cy="1152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cz_wody_dipol"/>
          <p:cNvPicPr/>
          <p:nvPr/>
        </p:nvPicPr>
        <p:blipFill>
          <a:blip r:embed="rId3"/>
          <a:stretch/>
        </p:blipFill>
        <p:spPr>
          <a:xfrm rot="13458600">
            <a:off x="2700000" y="404280"/>
            <a:ext cx="506520" cy="1152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cz_wody_dipol"/>
          <p:cNvPicPr/>
          <p:nvPr/>
        </p:nvPicPr>
        <p:blipFill>
          <a:blip r:embed="rId4"/>
          <a:stretch/>
        </p:blipFill>
        <p:spPr>
          <a:xfrm rot="16478400">
            <a:off x="2950200" y="1160640"/>
            <a:ext cx="506520" cy="1152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cz_wody_dipol"/>
          <p:cNvPicPr/>
          <p:nvPr/>
        </p:nvPicPr>
        <p:blipFill>
          <a:blip r:embed="rId5"/>
          <a:stretch/>
        </p:blipFill>
        <p:spPr>
          <a:xfrm rot="10401600">
            <a:off x="1834920" y="260280"/>
            <a:ext cx="506160" cy="1152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cz_wody_dipol"/>
          <p:cNvPicPr/>
          <p:nvPr/>
        </p:nvPicPr>
        <p:blipFill>
          <a:blip r:embed="rId6"/>
          <a:stretch/>
        </p:blipFill>
        <p:spPr>
          <a:xfrm rot="13795200">
            <a:off x="573480" y="1881360"/>
            <a:ext cx="506520" cy="1152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cz_wody_dipol"/>
          <p:cNvPicPr/>
          <p:nvPr/>
        </p:nvPicPr>
        <p:blipFill>
          <a:blip r:embed="rId7"/>
          <a:stretch/>
        </p:blipFill>
        <p:spPr>
          <a:xfrm rot="20142600">
            <a:off x="900000" y="259920"/>
            <a:ext cx="506520" cy="1152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5" descr="cz_wody_dipol"/>
          <p:cNvPicPr/>
          <p:nvPr/>
        </p:nvPicPr>
        <p:blipFill>
          <a:blip r:embed="rId8"/>
          <a:stretch/>
        </p:blipFill>
        <p:spPr>
          <a:xfrm rot="10492800">
            <a:off x="1328400" y="2275920"/>
            <a:ext cx="474480" cy="1081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6" descr="cz_wody_dipol"/>
          <p:cNvPicPr/>
          <p:nvPr/>
        </p:nvPicPr>
        <p:blipFill>
          <a:blip r:embed="rId9"/>
          <a:stretch/>
        </p:blipFill>
        <p:spPr>
          <a:xfrm rot="17552400">
            <a:off x="322920" y="802080"/>
            <a:ext cx="506520" cy="1152360"/>
          </a:xfrm>
          <a:prstGeom prst="rect">
            <a:avLst/>
          </a:prstGeom>
          <a:ln w="0">
            <a:noFill/>
          </a:ln>
        </p:spPr>
      </p:pic>
      <p:sp>
        <p:nvSpPr>
          <p:cNvPr id="382" name="Line 17"/>
          <p:cNvSpPr/>
          <p:nvPr/>
        </p:nvSpPr>
        <p:spPr>
          <a:xfrm>
            <a:off x="3635280" y="1989000"/>
            <a:ext cx="936720" cy="144720"/>
          </a:xfrm>
          <a:prstGeom prst="line">
            <a:avLst/>
          </a:prstGeom>
          <a:ln w="824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8"/>
          <p:cNvSpPr/>
          <p:nvPr/>
        </p:nvSpPr>
        <p:spPr>
          <a:xfrm>
            <a:off x="5651640" y="1773360"/>
            <a:ext cx="720720" cy="71892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9"/>
          <p:cNvSpPr/>
          <p:nvPr/>
        </p:nvSpPr>
        <p:spPr>
          <a:xfrm>
            <a:off x="5724360" y="1916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2" descr="cz_wody_dipol"/>
          <p:cNvPicPr/>
          <p:nvPr/>
        </p:nvPicPr>
        <p:blipFill>
          <a:blip r:embed="rId10"/>
          <a:stretch/>
        </p:blipFill>
        <p:spPr>
          <a:xfrm>
            <a:off x="5867280" y="692280"/>
            <a:ext cx="443160" cy="100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3" descr="cz_wody_dipol"/>
          <p:cNvPicPr/>
          <p:nvPr/>
        </p:nvPicPr>
        <p:blipFill>
          <a:blip r:embed="rId11"/>
          <a:stretch/>
        </p:blipFill>
        <p:spPr>
          <a:xfrm rot="13921200">
            <a:off x="4893840" y="202680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4" descr="cz_wody_dipol"/>
          <p:cNvPicPr/>
          <p:nvPr/>
        </p:nvPicPr>
        <p:blipFill>
          <a:blip r:embed="rId12"/>
          <a:stretch/>
        </p:blipFill>
        <p:spPr>
          <a:xfrm rot="18654000">
            <a:off x="5038560" y="94572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1" descr="cz_wody_dipol"/>
          <p:cNvPicPr/>
          <p:nvPr/>
        </p:nvPicPr>
        <p:blipFill>
          <a:blip r:embed="rId13"/>
          <a:stretch/>
        </p:blipFill>
        <p:spPr>
          <a:xfrm rot="10610400">
            <a:off x="5866560" y="249192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389" name="Oval 25"/>
          <p:cNvSpPr/>
          <p:nvPr/>
        </p:nvSpPr>
        <p:spPr>
          <a:xfrm>
            <a:off x="6804000" y="1773360"/>
            <a:ext cx="720720" cy="71892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6877080" y="19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7" descr="cz_wody_dipol"/>
          <p:cNvPicPr/>
          <p:nvPr/>
        </p:nvPicPr>
        <p:blipFill>
          <a:blip r:embed="rId14"/>
          <a:stretch/>
        </p:blipFill>
        <p:spPr>
          <a:xfrm rot="18454200">
            <a:off x="7740720" y="1989000"/>
            <a:ext cx="506160" cy="115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8" descr="cz_wody_dipol"/>
          <p:cNvPicPr/>
          <p:nvPr/>
        </p:nvPicPr>
        <p:blipFill>
          <a:blip r:embed="rId15"/>
          <a:stretch/>
        </p:blipFill>
        <p:spPr>
          <a:xfrm rot="21172800">
            <a:off x="7092720" y="2565000"/>
            <a:ext cx="506160" cy="1150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9" descr="cz_wody_dipol"/>
          <p:cNvPicPr/>
          <p:nvPr/>
        </p:nvPicPr>
        <p:blipFill>
          <a:blip r:embed="rId16"/>
          <a:stretch/>
        </p:blipFill>
        <p:spPr>
          <a:xfrm rot="12843000">
            <a:off x="7524360" y="83628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0" descr="cz_wody_dipol"/>
          <p:cNvPicPr/>
          <p:nvPr/>
        </p:nvPicPr>
        <p:blipFill>
          <a:blip r:embed="rId17"/>
          <a:stretch/>
        </p:blipFill>
        <p:spPr>
          <a:xfrm rot="10610400">
            <a:off x="6803280" y="62028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395" name="Line 31"/>
          <p:cNvSpPr/>
          <p:nvPr/>
        </p:nvSpPr>
        <p:spPr>
          <a:xfrm flipH="1">
            <a:off x="4284360" y="3068640"/>
            <a:ext cx="934920" cy="936720"/>
          </a:xfrm>
          <a:prstGeom prst="line">
            <a:avLst/>
          </a:prstGeom>
          <a:ln w="824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2"/>
          <p:cNvSpPr/>
          <p:nvPr/>
        </p:nvSpPr>
        <p:spPr>
          <a:xfrm>
            <a:off x="6877080" y="3357720"/>
            <a:ext cx="0" cy="647640"/>
          </a:xfrm>
          <a:prstGeom prst="line">
            <a:avLst/>
          </a:prstGeom>
          <a:ln w="824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33"/>
          <p:cNvSpPr/>
          <p:nvPr/>
        </p:nvSpPr>
        <p:spPr>
          <a:xfrm>
            <a:off x="2700360" y="4797360"/>
            <a:ext cx="720720" cy="71928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4"/>
          <p:cNvSpPr/>
          <p:nvPr/>
        </p:nvSpPr>
        <p:spPr>
          <a:xfrm>
            <a:off x="2771640" y="5013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5" descr="cz_wody_dipol"/>
          <p:cNvPicPr/>
          <p:nvPr/>
        </p:nvPicPr>
        <p:blipFill>
          <a:blip r:embed="rId18"/>
          <a:stretch/>
        </p:blipFill>
        <p:spPr>
          <a:xfrm rot="12173400">
            <a:off x="2410920" y="54446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" descr="cz_wody_dipol"/>
          <p:cNvPicPr/>
          <p:nvPr/>
        </p:nvPicPr>
        <p:blipFill>
          <a:blip r:embed="rId19"/>
          <a:stretch/>
        </p:blipFill>
        <p:spPr>
          <a:xfrm rot="20915400">
            <a:off x="2627280" y="357336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7" descr="cz_wody_dipol"/>
          <p:cNvPicPr/>
          <p:nvPr/>
        </p:nvPicPr>
        <p:blipFill>
          <a:blip r:embed="rId20"/>
          <a:stretch/>
        </p:blipFill>
        <p:spPr>
          <a:xfrm rot="7428000">
            <a:off x="3669480" y="51224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8" descr="cz_wody_dipol"/>
          <p:cNvPicPr/>
          <p:nvPr/>
        </p:nvPicPr>
        <p:blipFill>
          <a:blip r:embed="rId21"/>
          <a:stretch/>
        </p:blipFill>
        <p:spPr>
          <a:xfrm rot="2473800">
            <a:off x="3492360" y="378936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9" descr="cz_wody_dipol"/>
          <p:cNvPicPr/>
          <p:nvPr/>
        </p:nvPicPr>
        <p:blipFill>
          <a:blip r:embed="rId22"/>
          <a:stretch/>
        </p:blipFill>
        <p:spPr>
          <a:xfrm rot="17331600">
            <a:off x="1798560" y="425880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404" name="Oval 40"/>
          <p:cNvSpPr/>
          <p:nvPr/>
        </p:nvSpPr>
        <p:spPr>
          <a:xfrm>
            <a:off x="6588000" y="5013360"/>
            <a:ext cx="720720" cy="71928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1"/>
          <p:cNvSpPr/>
          <p:nvPr/>
        </p:nvSpPr>
        <p:spPr>
          <a:xfrm>
            <a:off x="6659640" y="5229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2" descr="cz_wody_dipol"/>
          <p:cNvPicPr/>
          <p:nvPr/>
        </p:nvPicPr>
        <p:blipFill>
          <a:blip r:embed="rId23"/>
          <a:stretch/>
        </p:blipFill>
        <p:spPr>
          <a:xfrm rot="11200200">
            <a:off x="6803640" y="386028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3" descr="cz_wody_dipol"/>
          <p:cNvPicPr/>
          <p:nvPr/>
        </p:nvPicPr>
        <p:blipFill>
          <a:blip r:embed="rId24"/>
          <a:stretch/>
        </p:blipFill>
        <p:spPr>
          <a:xfrm rot="4032000">
            <a:off x="5686560" y="5193720"/>
            <a:ext cx="506160" cy="1151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4" descr="cz_wody_dipol"/>
          <p:cNvPicPr/>
          <p:nvPr/>
        </p:nvPicPr>
        <p:blipFill>
          <a:blip r:embed="rId25"/>
          <a:stretch/>
        </p:blipFill>
        <p:spPr>
          <a:xfrm rot="7872600">
            <a:off x="5901480" y="41144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5" descr="cz_wody_dipol"/>
          <p:cNvPicPr/>
          <p:nvPr/>
        </p:nvPicPr>
        <p:blipFill>
          <a:blip r:embed="rId26"/>
          <a:stretch/>
        </p:blipFill>
        <p:spPr>
          <a:xfrm rot="14474400">
            <a:off x="7630920" y="4186080"/>
            <a:ext cx="506160" cy="1150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6" descr="cz_wody_dipol"/>
          <p:cNvPicPr/>
          <p:nvPr/>
        </p:nvPicPr>
        <p:blipFill>
          <a:blip r:embed="rId27"/>
          <a:stretch/>
        </p:blipFill>
        <p:spPr>
          <a:xfrm rot="18454200">
            <a:off x="7558200" y="53384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7" descr="cz_wody_dipol"/>
          <p:cNvPicPr/>
          <p:nvPr/>
        </p:nvPicPr>
        <p:blipFill>
          <a:blip r:embed="rId28"/>
          <a:stretch/>
        </p:blipFill>
        <p:spPr>
          <a:xfrm rot="520200">
            <a:off x="6587640" y="570672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D436A-E543-4470-B2BE-F72EBCDCF3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Механизм ЭД</a:t>
            </a:r>
            <a:br>
              <a:rPr sz="3200"/>
            </a:b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 полярных веществ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иентация диполей воды вокруг полярной молекул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ще большая поляризация полярной молекулы и превращение полярной связи ее в ионну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разование свободных гидратирован-ных ионов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2EB-0DD5-4AF1-AA89-F8BF41593E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7:41:11Z</dcterms:created>
  <dc:creator>Зорина И.Г</dc:creator>
  <dc:description/>
  <dc:language>en-US</dc:language>
  <cp:lastModifiedBy>Student</cp:lastModifiedBy>
  <dcterms:modified xsi:type="dcterms:W3CDTF">2013-05-02T10:33:18Z</dcterms:modified>
  <cp:revision>28</cp:revision>
  <dc:subject/>
  <dc:title>ЭДС</dc:title>
</cp:coreProperties>
</file>