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glass.wav" ContentType="audio/x-wav"/>
  <Override PartName="/ppt/media/image6.png" ContentType="image/png"/>
  <Override PartName="/ppt/media/explode.wav" ContentType="audio/x-wav"/>
  <Override PartName="/ppt/media/image9.png" ContentType="image/png"/>
  <Override PartName="/ppt/media/cashreg.wav" ContentType="audio/x-wav"/>
  <Override PartName="/ppt/media/image13.png" ContentType="image/png"/>
  <Override PartName="/ppt/media/applause.wav" ContentType="audio/x-wav"/>
  <Override PartName="/ppt/media/image5.png" ContentType="image/png"/>
  <Override PartName="/ppt/media/image4.wmf" ContentType="image/x-wmf"/>
  <Override PartName="/ppt/media/image7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25.png" ContentType="image/png"/>
  <Override PartName="/ppt/media/driveby.wav" ContentType="audio/x-wav"/>
  <Override PartName="/ppt/media/image19.png" ContentType="image/png"/>
  <Override PartName="/ppt/media/image21.png" ContentType="image/png"/>
  <Override PartName="/ppt/media/clap.wav" ContentType="audio/x-wav"/>
  <Override PartName="/ppt/media/image16.png" ContentType="image/png"/>
  <Override PartName="/ppt/media/ricochet.wav" ContentType="audio/x-wav"/>
  <Override PartName="/ppt/media/image23.png" ContentType="image/png"/>
  <Override PartName="/ppt/media/image3.png" ContentType="image/png"/>
  <Override PartName="/ppt/media/gunshot.wav" ContentType="audio/x-wav"/>
  <Override PartName="/ppt/media/image11.png" ContentType="image/png"/>
  <Override PartName="/ppt/media/image12.png" ContentType="image/png"/>
  <Override PartName="/ppt/media/image14.png" ContentType="image/png"/>
  <Override PartName="/ppt/media/image15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5A4-615D-40ED-BD38-3DC81A92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4D1-14E7-4926-A501-0CCF055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FDD-643B-4B12-B9C4-3999B228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2C7-B674-4D85-866D-AE754D83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E91-F4F0-4065-93F3-C1F2F9EE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FA45-0D32-427B-AC17-867B65B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8E8-1AA8-4649-891B-A8B7BC95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F64-3947-4BA9-BF83-F2478729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FEC-FA18-484B-B9AF-3446260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0BA-B1FF-47C8-B38B-C3016DF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3677-B09F-4D86-8434-BD6F88A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911-2F22-4A83-9A01-69149EAD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3D1E-D09A-47DA-AFA8-7811FBD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5B09-8121-4A99-90DE-1EA410C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1B40-7390-4415-9399-0CFBC21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D2E-2E8C-4F1A-974C-01271747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C5D2-297C-4682-B386-EC9987E1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046-B37A-4E18-AA76-5632C3A1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3F9-D02B-4DAE-BAE0-DBF8135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63F-142F-42C2-B995-F9E79F7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276-144E-43BD-9042-7FC27CF3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9A0-0CCC-49E2-BFC1-2A75E1F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0C4-7370-4FA9-90E6-DCDF2E9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349-2C62-4881-B83C-DEF7FC3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0A1E-897D-4FCE-BAFF-3B50EEC975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59C0-5315-4E91-AC28-FFE4DCADB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A17-C62F-4B04-A0CD-FA1BBB388F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681-D69D-4B8A-85CC-A474567D5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Растворы электролитов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10E-6A5A-4AA3-B605-9A265D5B6E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643040"/>
            <a:ext cx="8466120" cy="19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6BE-DD5D-4488-A486-EB44471114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1"/>
          <a:stretch/>
        </p:blipFill>
        <p:spPr>
          <a:xfrm>
            <a:off x="1500120" y="1752480"/>
            <a:ext cx="6751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468-E788-4A04-AB06-69173C73D7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6DD-D2DB-4511-8B68-5002CA530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23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DE4-CC46-4776-B466-0B78284E00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43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25-3AD3-46C8-8CB9-47C9786F40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60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6DA-35C7-4620-8946-5DACB72261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444-205F-465C-90C4-EB37E5BA3F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B00-7ABE-410B-861F-170301ADA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5BF-EA8B-4341-8676-1A92CB851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9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952-3AA8-40BB-8AF2-02B26113DD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л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ЭД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: теория электролитической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положения Т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ссоци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780-91E9-499A-952E-D19D8365F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214280" y="3500280"/>
            <a:ext cx="7620120" cy="314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FDD-80CE-44B8-ABBA-532157305D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en-US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E79-ACFC-4387-944F-457B6982F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2908440" y="2192400"/>
          <a:ext cx="3936960" cy="32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8440" y="2192400"/>
                    <a:ext cx="393696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238-2E13-4454-918D-A962A1C969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3571920" y="2571840"/>
            <a:ext cx="5572080" cy="31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B69-938E-485B-8A1B-03558FD52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643040"/>
            <a:ext cx="8323200" cy="1743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B90-45C1-475E-8F6F-74F0655AD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233880" y="2717640"/>
            <a:ext cx="3286080" cy="21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2F3-10D4-4874-BE18-3D33FD845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53C-5D53-4B17-9365-917692090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630520" y="2981160"/>
            <a:ext cx="449244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D02-64F2-4F93-A2AA-B23E037FC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Student</cp:lastModifiedBy>
  <dcterms:modified xsi:type="dcterms:W3CDTF">2013-05-02T10:27:33Z</dcterms:modified>
  <cp:revision>18</cp:revision>
  <dc:subject/>
  <dc:title>Презентация PowerPoint</dc:title>
</cp:coreProperties>
</file>