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4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0.png" ContentType="image/png"/>
  <Override PartName="/ppt/media/glass.wav" ContentType="audio/x-wav"/>
  <Override PartName="/ppt/media/cashreg.wav" ContentType="audio/x-wav"/>
  <Override PartName="/ppt/media/image62.wmf" ContentType="image/x-wmf"/>
  <Override PartName="/ppt/media/image39.png" ContentType="image/png"/>
  <Override PartName="/ppt/media/image60.png" ContentType="image/png"/>
  <Override PartName="/ppt/media/image47.png" ContentType="image/png"/>
  <Override PartName="/ppt/media/image10.png" ContentType="image/png"/>
  <Override PartName="/ppt/media/applause.wav" ContentType="audio/x-wav"/>
  <Override PartName="/ppt/media/image35.png" ContentType="image/png"/>
  <Override PartName="/ppt/media/image5.png" ContentType="image/png"/>
  <Override PartName="/ppt/media/image17.png" ContentType="image/png"/>
  <Override PartName="/ppt/media/image57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4.wmf" ContentType="image/x-wmf"/>
  <Override PartName="/ppt/media/image53.png" ContentType="image/png"/>
  <Override PartName="/ppt/media/image31.png" ContentType="image/png"/>
  <Override PartName="/ppt/media/image61.png" ContentType="image/png"/>
  <Override PartName="/ppt/media/image59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55.wmf" ContentType="image/x-wmf"/>
  <Override PartName="/ppt/media/image54.wmf" ContentType="image/x-wmf"/>
  <Override PartName="/ppt/media/image52.png" ContentType="image/png"/>
  <Override PartName="/ppt/media/image11.wmf" ContentType="image/x-wmf"/>
  <Override PartName="/ppt/media/gunshot.wav" ContentType="audio/x-wav"/>
  <Override PartName="/ppt/media/image22.png" ContentType="image/png"/>
  <Override PartName="/ppt/media/explode.wav" ContentType="audio/x-wav"/>
  <Override PartName="/ppt/media/image20.wmf" ContentType="image/x-wmf"/>
  <Override PartName="/ppt/media/image63.png" ContentType="image/png"/>
  <Override PartName="/ppt/media/driveby.wav" ContentType="audio/x-wav"/>
  <Override PartName="/ppt/media/image56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5.png" ContentType="image/png"/>
  <Override PartName="/ppt/media/image3.png" ContentType="image/png"/>
  <Override PartName="/ppt/media/clap.wav" ContentType="audio/x-wav"/>
  <Override PartName="/ppt/media/image33.png" ContentType="image/png"/>
  <Override PartName="/ppt/media/image8.png" ContentType="image/png"/>
  <Override PartName="/ppt/media/image38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2.wmf" ContentType="image/x-wmf"/>
  <Override PartName="/ppt/media/image49.wmf" ContentType="image/x-wmf"/>
  <Override PartName="/ppt/media/image1.png" ContentType="image/png"/>
  <Override PartName="/ppt/media/ricochet.wav" ContentType="audio/x-wav"/>
  <Override PartName="/ppt/media/image13.png" ContentType="image/png"/>
  <Override PartName="/ppt/media/image9.wmf" ContentType="image/x-wmf"/>
  <Override PartName="/ppt/media/image41.png" ContentType="image/png"/>
  <Override PartName="/ppt/media/image26.png" ContentType="image/png"/>
  <Override PartName="/ppt/media/image27.png" ContentType="image/png"/>
  <Override PartName="/ppt/media/drumroll.wav" ContentType="audio/x-wav"/>
  <Override PartName="/ppt/media/image24.png" ContentType="image/png"/>
  <Override PartName="/ppt/media/image50.wmf" ContentType="image/x-wmf"/>
  <Override PartName="/ppt/media/image28.png" ContentType="image/png"/>
  <Override PartName="/ppt/media/image51.wmf" ContentType="image/x-wmf"/>
  <Override PartName="/ppt/media/image29.png" ContentType="image/png"/>
  <Override PartName="/ppt/media/image3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89EF-E1FB-4D23-931A-80C39DD4C2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аска металлических изделий (покрытие полимерными пленкам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сидирование – получение на поверхности металла плотного слоя оксидов этого же метал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защита. К защищаемому объекту присоединяется отрицательный полюс источника тока. Положительный полюс – к куску металла. Тогда разрушается метал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ингибиторов коррозии. Ингибиторы – это вещества, которые адсорбируясь на поверхности металла, делают ее потенциал более положительным, т.о. замедляя процесс корро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266E-6669-4C82-9882-E9520B4F50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B3B8-2ED9-4105-B9AF-215887A6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76C9-6A27-4BE2-BD6B-F0353CAE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65AC-F38C-4EE4-ACD4-04DFDE68E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E9AF-E193-4207-8AAE-4ACFD31FF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6F96-4E08-499B-BFC5-BB782517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E5DF-C74B-44AD-9024-53697F2E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DC5C-BC12-4ACF-BBAA-666DDE67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13A6-A695-4AA8-B937-FEB76614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FA81-A385-4584-9339-A4F905CD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6B19-8B3D-4962-83BE-455F29DA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98DF-C931-4539-8898-9A719BE9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829A-035C-4CC6-9669-7A47C9C1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BE5D-486D-4E21-8981-3AE1E6D48A0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C8AD-A799-4900-82CF-57AC14EA8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4.wmf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wm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audio" Target="../media/gunshot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audio" Target="../media/ricochet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51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wmf"/><Relationship Id="rId3" Type="http://schemas.openxmlformats.org/officeDocument/2006/relationships/image" Target="../media/image57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wmf"/><Relationship Id="rId3" Type="http://schemas.openxmlformats.org/officeDocument/2006/relationships/image" Target="../media/image62.wm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одзаголовок 2"/>
          <p:cNvSpPr/>
          <p:nvPr/>
        </p:nvSpPr>
        <p:spPr>
          <a:xfrm>
            <a:off x="1042920" y="2997360"/>
            <a:ext cx="417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Электролиз. Коррозия металлов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fizika6"/>
          <p:cNvPicPr/>
          <p:nvPr/>
        </p:nvPicPr>
        <p:blipFill>
          <a:blip r:embed="rId1"/>
          <a:stretch/>
        </p:blipFill>
        <p:spPr>
          <a:xfrm>
            <a:off x="5651640" y="907920"/>
            <a:ext cx="3206520" cy="478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8739-CC64-499A-A203-2B9669834D6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468360" y="620640"/>
            <a:ext cx="82296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a1bd6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0033"/>
                </a:solidFill>
                <a:latin typeface="Georgia"/>
              </a:rPr>
              <a:t>Выход по току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– это отношение массы практически выделевшегося вещества к массе, рассчитанной по закону Фарадея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a1bd6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Georgia"/>
              </a:rPr>
              <a:t>η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= (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Georgia"/>
              </a:rPr>
              <a:t>практ.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/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Georgia"/>
              </a:rPr>
              <a:t>теор.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·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992A-D388-4C93-80E3-703F2A82955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457200" y="1197000"/>
            <a:ext cx="822960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ассчитайте массу меди, которая выделится на катоде при пропускании через раствор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O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постоянного электрического тока силой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ампер в течение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асов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Дано: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O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аствор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 10 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5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ов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(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) -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987640" y="3429000"/>
            <a:ext cx="5802480" cy="27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ешение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(+)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+ 2ē = C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 (-)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MS Mincho"/>
              </a:rPr>
              <a:t>2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Georgia"/>
                <a:ea typeface="MS Mincho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MS Mincho"/>
              </a:rPr>
              <a:t>O – 4e = 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Georgia"/>
                <a:ea typeface="MS Mincho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MS Mincho"/>
              </a:rPr>
              <a:t> +4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  <a:ea typeface="MS Mincho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(Cu) = 6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/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250920" y="260280"/>
            <a:ext cx="26971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Georgia"/>
              </a:rPr>
              <a:t>Пример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1B48-8A23-40D2-A434-17E08772A4A8}" type="slidenum">
              <a:t>11</a:t>
            </a:fld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1187280" y="16286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ди  _______ 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1083240" y="2708280"/>
            <a:ext cx="35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  ______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·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Прямоугольник 3"/>
          <p:cNvSpPr/>
          <p:nvPr/>
        </p:nvSpPr>
        <p:spPr>
          <a:xfrm>
            <a:off x="449640" y="692280"/>
            <a:ext cx="37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ем пропорцию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58920" y="4135320"/>
            <a:ext cx="6297480" cy="13096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5"/>
          <p:cNvSpPr/>
          <p:nvPr/>
        </p:nvSpPr>
        <p:spPr>
          <a:xfrm>
            <a:off x="6597000" y="1773360"/>
            <a:ext cx="21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По 2 закону Фарадея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6597000" y="2801880"/>
            <a:ext cx="21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По 1 закону Фарадея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7060320" y="4476600"/>
            <a:ext cx="13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59,7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Группа 10"/>
          <p:cNvGrpSpPr/>
          <p:nvPr/>
        </p:nvGrpSpPr>
        <p:grpSpPr>
          <a:xfrm>
            <a:off x="6820200" y="2060640"/>
            <a:ext cx="1679040" cy="504720"/>
            <a:chOff x="6820200" y="2060640"/>
            <a:chExt cx="1679040" cy="504720"/>
          </a:xfrm>
        </p:grpSpPr>
        <p:sp>
          <p:nvSpPr>
            <p:cNvPr id="137" name="Прямоугольник 8"/>
            <p:cNvSpPr/>
            <p:nvPr/>
          </p:nvSpPr>
          <p:spPr>
            <a:xfrm>
              <a:off x="6820200" y="2132640"/>
              <a:ext cx="167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+ 2ē = Cu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Овал 9"/>
            <p:cNvSpPr/>
            <p:nvPr/>
          </p:nvSpPr>
          <p:spPr>
            <a:xfrm>
              <a:off x="7596360" y="2060640"/>
              <a:ext cx="288720" cy="504720"/>
            </a:xfrm>
            <a:prstGeom prst="ellipse">
              <a:avLst/>
            </a:prstGeom>
            <a:solidFill>
              <a:srgbClr val="a1bd69">
                <a:alpha val="36000"/>
              </a:srgbClr>
            </a:solidFill>
            <a:ln w="11520">
              <a:solidFill>
                <a:srgbClr val="99473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8CAB-3DFD-45A8-8C24-68AB3D8E5A00}" type="slidenum">
              <a:t>12</a:t>
            </a:fld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Группа 1" descr=""/>
          <p:cNvPicPr/>
          <p:nvPr/>
        </p:nvPicPr>
        <p:blipFill>
          <a:blip r:embed="rId1"/>
          <a:stretch/>
        </p:blipFill>
        <p:spPr>
          <a:xfrm>
            <a:off x="133200" y="212760"/>
            <a:ext cx="3713400" cy="860400"/>
          </a:xfrm>
          <a:prstGeom prst="rect">
            <a:avLst/>
          </a:prstGeom>
          <a:ln w="0">
            <a:noFill/>
          </a:ln>
        </p:spPr>
      </p:pic>
      <p:pic>
        <p:nvPicPr>
          <p:cNvPr id="140" name="Object 3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5137200" cy="1019160"/>
          </a:xfrm>
          <a:prstGeom prst="rect">
            <a:avLst/>
          </a:prstGeom>
          <a:ln cap="rnd" w="25560">
            <a:solidFill>
              <a:srgbClr val="5c0000"/>
            </a:solidFill>
            <a:custDash>
              <a:ds d="100000" sp="1000"/>
            </a:custDash>
            <a:miter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826920" y="3357720"/>
            <a:ext cx="6440760" cy="792000"/>
          </a:xfrm>
          <a:prstGeom prst="rect">
            <a:avLst/>
          </a:prstGeom>
          <a:ln cap="rnd" w="38160">
            <a:solidFill>
              <a:srgbClr val="5c0000"/>
            </a:solidFill>
            <a:custDash>
              <a:ds d="100000" sp="1000"/>
            </a:custDash>
            <a:miter/>
          </a:ln>
        </p:spPr>
      </p:pic>
      <p:pic>
        <p:nvPicPr>
          <p:cNvPr id="142" name="Группа 13" descr=""/>
          <p:cNvPicPr/>
          <p:nvPr/>
        </p:nvPicPr>
        <p:blipFill>
          <a:blip r:embed="rId4"/>
          <a:stretch/>
        </p:blipFill>
        <p:spPr>
          <a:xfrm>
            <a:off x="133200" y="2371680"/>
            <a:ext cx="3713400" cy="865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826920" y="5373720"/>
            <a:ext cx="4962600" cy="928800"/>
          </a:xfrm>
          <a:prstGeom prst="rect">
            <a:avLst/>
          </a:prstGeom>
          <a:ln cap="rnd" w="38160">
            <a:solidFill>
              <a:srgbClr val="000066"/>
            </a:solidFill>
            <a:custDash>
              <a:ds d="100000" sp="1000"/>
            </a:custDash>
            <a:miter/>
          </a:ln>
        </p:spPr>
      </p:pic>
      <p:pic>
        <p:nvPicPr>
          <p:cNvPr id="144" name="Группа 17" descr=""/>
          <p:cNvPicPr/>
          <p:nvPr/>
        </p:nvPicPr>
        <p:blipFill>
          <a:blip r:embed="rId6"/>
          <a:stretch/>
        </p:blipFill>
        <p:spPr>
          <a:xfrm>
            <a:off x="176040" y="4316400"/>
            <a:ext cx="8639280" cy="89532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20"/>
          <p:cNvSpPr/>
          <p:nvPr/>
        </p:nvSpPr>
        <p:spPr>
          <a:xfrm>
            <a:off x="6227640" y="5589720"/>
            <a:ext cx="2737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Е = </a:t>
            </a:r>
            <a:r>
              <a:rPr b="1" lang="pt-BR" sz="3600" spc="-1" strike="noStrike">
                <a:solidFill>
                  <a:srgbClr val="c00000"/>
                </a:solidFill>
                <a:latin typeface="Times New Roman"/>
              </a:rPr>
              <a:t>φ</a:t>
            </a:r>
            <a:r>
              <a:rPr b="1" lang="ru-RU" sz="3600" spc="-1" strike="noStrike" baseline="-25000">
                <a:solidFill>
                  <a:srgbClr val="c00000"/>
                </a:solidFill>
                <a:latin typeface="Times New Roman"/>
              </a:rPr>
              <a:t>(+)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 – </a:t>
            </a:r>
            <a:r>
              <a:rPr b="1" lang="pt-BR" sz="3600" spc="-1" strike="noStrike">
                <a:solidFill>
                  <a:srgbClr val="c00000"/>
                </a:solidFill>
                <a:latin typeface="Times New Roman"/>
              </a:rPr>
              <a:t>φ</a:t>
            </a:r>
            <a:r>
              <a:rPr b="1" lang="ru-RU" sz="3600" spc="-1" strike="noStrike" baseline="-25000">
                <a:solidFill>
                  <a:srgbClr val="c00000"/>
                </a:solidFill>
                <a:latin typeface="Times New Roman"/>
              </a:rPr>
              <a:t>(-)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Прямая соединительная линия 22" descr=""/>
          <p:cNvPicPr/>
          <p:nvPr/>
        </p:nvPicPr>
        <p:blipFill>
          <a:blip r:embed="rId7"/>
          <a:stretch/>
        </p:blipFill>
        <p:spPr>
          <a:xfrm>
            <a:off x="6089760" y="5346720"/>
            <a:ext cx="2944800" cy="15228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ая соединительная линия 25" descr=""/>
          <p:cNvPicPr/>
          <p:nvPr/>
        </p:nvPicPr>
        <p:blipFill>
          <a:blip r:embed="rId8"/>
          <a:stretch/>
        </p:blipFill>
        <p:spPr>
          <a:xfrm>
            <a:off x="6083280" y="4889520"/>
            <a:ext cx="146160" cy="1073160"/>
          </a:xfrm>
          <a:prstGeom prst="rect">
            <a:avLst/>
          </a:prstGeom>
          <a:ln w="0">
            <a:noFill/>
          </a:ln>
        </p:spPr>
      </p:pic>
      <p:sp>
        <p:nvSpPr>
          <p:cNvPr id="148" name="Управляющая кнопка: домой 28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468360" cy="432000"/>
          </a:xfrm>
          <a:custGeom>
            <a:avLst/>
            <a:gdLst>
              <a:gd name="textAreaLeft" fmla="*/ 27720 w 468360"/>
              <a:gd name="textAreaRight" fmla="*/ 440640 w 468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3416" h="21600">
                <a:moveTo>
                  <a:pt x="0" y="0"/>
                </a:moveTo>
                <a:lnTo>
                  <a:pt x="23416" y="0"/>
                </a:lnTo>
                <a:lnTo>
                  <a:pt x="23416" y="21600"/>
                </a:lnTo>
                <a:lnTo>
                  <a:pt x="0" y="21600"/>
                </a:lnTo>
                <a:close/>
              </a:path>
              <a:path fill="lightenLess" w="23416" h="21600">
                <a:moveTo>
                  <a:pt x="0" y="0"/>
                </a:moveTo>
                <a:lnTo>
                  <a:pt x="23416" y="0"/>
                </a:lnTo>
                <a:lnTo>
                  <a:pt x="22016" y="1400"/>
                </a:lnTo>
                <a:lnTo>
                  <a:pt x="1400" y="1400"/>
                </a:lnTo>
                <a:close/>
              </a:path>
              <a:path fill="darken" w="23416" h="21600">
                <a:moveTo>
                  <a:pt x="23416" y="0"/>
                </a:moveTo>
                <a:lnTo>
                  <a:pt x="23416" y="21600"/>
                </a:lnTo>
                <a:lnTo>
                  <a:pt x="22016" y="20200"/>
                </a:lnTo>
                <a:lnTo>
                  <a:pt x="22016" y="1400"/>
                </a:lnTo>
                <a:close/>
              </a:path>
              <a:path fill="darkenLess" w="23416" h="21600">
                <a:moveTo>
                  <a:pt x="234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16" y="20200"/>
                </a:lnTo>
                <a:close/>
              </a:path>
              <a:path fill="lighten" w="234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16" h="21600">
                <a:moveTo>
                  <a:pt x="11708" y="3837"/>
                </a:moveTo>
                <a:lnTo>
                  <a:pt x="14285" y="6448"/>
                </a:lnTo>
                <a:lnTo>
                  <a:pt x="14285" y="4707"/>
                </a:lnTo>
                <a:lnTo>
                  <a:pt x="16060" y="4707"/>
                </a:lnTo>
                <a:lnTo>
                  <a:pt x="16060" y="8224"/>
                </a:lnTo>
                <a:lnTo>
                  <a:pt x="18671" y="10800"/>
                </a:lnTo>
                <a:lnTo>
                  <a:pt x="17018" y="10800"/>
                </a:lnTo>
                <a:lnTo>
                  <a:pt x="17018" y="17989"/>
                </a:lnTo>
                <a:lnTo>
                  <a:pt x="6399" y="17989"/>
                </a:lnTo>
                <a:lnTo>
                  <a:pt x="6399" y="10800"/>
                </a:lnTo>
                <a:lnTo>
                  <a:pt x="4745" y="10800"/>
                </a:lnTo>
                <a:close/>
              </a:path>
              <a:path fill="darkenLess" w="23416" h="21600">
                <a:moveTo>
                  <a:pt x="14285" y="6448"/>
                </a:moveTo>
                <a:lnTo>
                  <a:pt x="14285" y="4707"/>
                </a:lnTo>
                <a:lnTo>
                  <a:pt x="16060" y="4707"/>
                </a:lnTo>
                <a:lnTo>
                  <a:pt x="16060" y="8224"/>
                </a:lnTo>
                <a:close/>
              </a:path>
              <a:path fill="darkenLess" w="23416" h="21600">
                <a:moveTo>
                  <a:pt x="10786" y="14299"/>
                </a:moveTo>
                <a:lnTo>
                  <a:pt x="12631" y="14299"/>
                </a:lnTo>
                <a:lnTo>
                  <a:pt x="12631" y="17989"/>
                </a:lnTo>
                <a:lnTo>
                  <a:pt x="17018" y="17989"/>
                </a:lnTo>
                <a:lnTo>
                  <a:pt x="17018" y="10800"/>
                </a:lnTo>
                <a:lnTo>
                  <a:pt x="6399" y="10800"/>
                </a:lnTo>
                <a:lnTo>
                  <a:pt x="6399" y="17989"/>
                </a:lnTo>
                <a:lnTo>
                  <a:pt x="10786" y="17989"/>
                </a:lnTo>
                <a:close/>
              </a:path>
            </a:pathLst>
          </a:custGeom>
          <a:solidFill>
            <a:srgbClr val="abf3f7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A46B-82AC-4BDC-B58B-3B43911DCB23}" type="slidenum">
              <a:t>13</a:t>
            </a:fld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«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Электролиты»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714320" y="5715000"/>
            <a:ext cx="70722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00FB-921F-4E9E-A235-5E47979B64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1bd6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лектроли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1bd6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ЭД </a:t>
            </a: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</a:rPr>
              <a:t>: теория электролитической диссоци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1bd6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сновные положения ТЭ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1bd6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иссоциация электроли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1bd6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епень диссоци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1bd6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лассификация электроли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70DC-9A5C-484F-953B-5B112F6D37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5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0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5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8545"/>
                </a:solidFill>
                <a:latin typeface="Times New Roman"/>
              </a:rPr>
              <a:t>ЭЛЕКТРОЛИТЫ И</a:t>
            </a:r>
            <a:r>
              <a:rPr b="0" lang="en-US" sz="4400" spc="-1" strike="noStrike">
                <a:solidFill>
                  <a:srgbClr val="6b8545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6b8545"/>
                </a:solidFill>
                <a:latin typeface="Times New Roman"/>
              </a:rPr>
              <a:t>НЕЭЛЕКТРОЛИТ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1" descr="E:\INORG\CHAPTR03\TOPIC01\t311.png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1066680" y="1600200"/>
            <a:ext cx="754380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Object 12"/>
          <p:cNvGraphicFramePr/>
          <p:nvPr/>
        </p:nvGraphicFramePr>
        <p:xfrm>
          <a:off x="1828800" y="3200400"/>
          <a:ext cx="5486400" cy="2666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8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3200400"/>
                    <a:ext cx="54864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7B5C-CCAE-4DAD-A290-05DC118924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E:\INORG\CHAPTR03\TOPIC01\n312.png"/>
          <p:cNvPicPr/>
          <p:nvPr/>
        </p:nvPicPr>
        <p:blipFill>
          <a:blip r:embed="rId1"/>
          <a:stretch/>
        </p:blipFill>
        <p:spPr>
          <a:xfrm>
            <a:off x="1071720" y="1571760"/>
            <a:ext cx="7467480" cy="4878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66831"/>
                </a:solidFill>
                <a:latin typeface="Times New Roman"/>
              </a:rPr>
              <a:t>Теория электролитической диссоциации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1" name="Picture 8" descr="E:\INORG\CHAPTR03\TOPIC01\t312.png"/>
          <p:cNvPicPr/>
          <p:nvPr/>
        </p:nvPicPr>
        <p:blipFill>
          <a:blip r:embed="rId2"/>
          <a:stretch/>
        </p:blipFill>
        <p:spPr>
          <a:xfrm>
            <a:off x="3571920" y="2571840"/>
            <a:ext cx="5572080" cy="317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6AE5-DE7B-4C2A-A311-1EDBE0F2B9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imes New Roman"/>
              </a:rPr>
              <a:t>Основные положения ТЭ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3" name="Picture 4" descr="E:\INORG\CHAPTR03\TOPIC01\t313.png"/>
          <p:cNvPicPr/>
          <p:nvPr/>
        </p:nvPicPr>
        <p:blipFill>
          <a:blip r:embed="rId1"/>
          <a:stretch/>
        </p:blipFill>
        <p:spPr>
          <a:xfrm>
            <a:off x="500040" y="1643040"/>
            <a:ext cx="8323200" cy="17431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216684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2286000" y="3429000"/>
            <a:ext cx="4809960" cy="300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5AD6-77AE-45D9-BAF7-3EB7D870EB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42840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892c"/>
                </a:solidFill>
                <a:latin typeface="Times New Roman"/>
              </a:rPr>
              <a:t>Диссоциация электролит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4" descr="E:\INORG\CHAPTR03\TOPIC02\t321.png"/>
          <p:cNvPicPr/>
          <p:nvPr/>
        </p:nvPicPr>
        <p:blipFill>
          <a:blip r:embed="rId1"/>
          <a:stretch/>
        </p:blipFill>
        <p:spPr>
          <a:xfrm>
            <a:off x="1066680" y="1676520"/>
            <a:ext cx="7620120" cy="22096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7"/>
          <p:cNvSpPr/>
          <p:nvPr/>
        </p:nvSpPr>
        <p:spPr>
          <a:xfrm>
            <a:off x="207180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1214280" y="3857760"/>
            <a:ext cx="7364520" cy="26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B484-E228-4D28-8E18-C094DE77A7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250920" y="765000"/>
            <a:ext cx="8497800" cy="49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612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Georgia"/>
              </a:rPr>
              <a:t>	</a:t>
            </a:r>
            <a:r>
              <a:rPr b="1" lang="ru-RU" sz="3600" spc="-1" strike="noStrike">
                <a:solidFill>
                  <a:srgbClr val="800000"/>
                </a:solidFill>
                <a:latin typeface="Georgia"/>
              </a:rPr>
              <a:t>Электролиз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–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кислительно-восстановительный процесс, протекающий на электродах при прохождении постоянного электрического тока через раствор или расплав электролита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612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6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Georgia"/>
              </a:rPr>
              <a:t>Электролиз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– процесс несамопроизвольный, т.е.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∆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G 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6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612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612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F382-7C78-4B3B-9430-799E4CE5D58D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892c"/>
                </a:solidFill>
                <a:latin typeface="Times New Roman"/>
              </a:rPr>
              <a:t>Диссоциация электролит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028" descr="E:\INORG\CHAPTR03\TOPIC02\t322.png"/>
          <p:cNvPicPr/>
          <p:nvPr/>
        </p:nvPicPr>
        <p:blipFill>
          <a:blip r:embed="rId1"/>
          <a:stretch/>
        </p:blipFill>
        <p:spPr>
          <a:xfrm>
            <a:off x="677880" y="1643040"/>
            <a:ext cx="8466120" cy="1957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30" descr="C:\Documents and Settings\администратор.USER02\Мои документы\Мои рисунки\Электролитическая диссоциация.bmp"/>
          <p:cNvPicPr/>
          <p:nvPr/>
        </p:nvPicPr>
        <p:blipFill>
          <a:blip r:embed="rId2"/>
          <a:stretch/>
        </p:blipFill>
        <p:spPr>
          <a:xfrm>
            <a:off x="1295280" y="2819520"/>
            <a:ext cx="692316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1D60-8DDF-404B-9B1D-4BA0FAD680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6f88"/>
                </a:solidFill>
                <a:latin typeface="Times New Roman"/>
              </a:rPr>
              <a:t>Уравнение диссоциа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E:\INORG\CHAPTR03\TOPIC02\t323.png"/>
          <p:cNvPicPr/>
          <p:nvPr/>
        </p:nvPicPr>
        <p:blipFill>
          <a:blip r:embed="rId1"/>
          <a:stretch/>
        </p:blipFill>
        <p:spPr>
          <a:xfrm>
            <a:off x="1066680" y="1571760"/>
            <a:ext cx="7293240" cy="1780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E:\INORG\CHAPTR03\TOPIC02\f323.png"/>
          <p:cNvPicPr/>
          <p:nvPr/>
        </p:nvPicPr>
        <p:blipFill>
          <a:blip r:embed="rId2"/>
          <a:stretch/>
        </p:blipFill>
        <p:spPr>
          <a:xfrm>
            <a:off x="1066680" y="3505320"/>
            <a:ext cx="7543800" cy="233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833D-4EDB-4BA2-9B4F-CEB12B8FFE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Группа 2"/>
          <p:cNvGrpSpPr/>
          <p:nvPr/>
        </p:nvGrpSpPr>
        <p:grpSpPr>
          <a:xfrm>
            <a:off x="1727280" y="1228680"/>
            <a:ext cx="5618160" cy="3090600"/>
            <a:chOff x="1727280" y="1228680"/>
            <a:chExt cx="5618160" cy="3090600"/>
          </a:xfrm>
        </p:grpSpPr>
        <p:sp>
          <p:nvSpPr>
            <p:cNvPr id="180" name="Text Box 8"/>
            <p:cNvSpPr/>
            <p:nvPr/>
          </p:nvSpPr>
          <p:spPr>
            <a:xfrm>
              <a:off x="1727280" y="3462480"/>
              <a:ext cx="216072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SO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9"/>
            <p:cNvSpPr/>
            <p:nvPr/>
          </p:nvSpPr>
          <p:spPr>
            <a:xfrm>
              <a:off x="3240000" y="346248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3888000" y="346248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2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11"/>
            <p:cNvSpPr/>
            <p:nvPr/>
          </p:nvSpPr>
          <p:spPr>
            <a:xfrm>
              <a:off x="4896000" y="346248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12"/>
            <p:cNvSpPr/>
            <p:nvPr/>
          </p:nvSpPr>
          <p:spPr>
            <a:xfrm>
              <a:off x="5400720" y="3462480"/>
              <a:ext cx="194472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SO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2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15"/>
            <p:cNvSpPr/>
            <p:nvPr/>
          </p:nvSpPr>
          <p:spPr>
            <a:xfrm>
              <a:off x="3959280" y="230976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16"/>
            <p:cNvSpPr/>
            <p:nvPr/>
          </p:nvSpPr>
          <p:spPr>
            <a:xfrm>
              <a:off x="3959280" y="122868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17"/>
            <p:cNvSpPr/>
            <p:nvPr/>
          </p:nvSpPr>
          <p:spPr>
            <a:xfrm>
              <a:off x="3311640" y="122868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18"/>
            <p:cNvSpPr/>
            <p:nvPr/>
          </p:nvSpPr>
          <p:spPr>
            <a:xfrm>
              <a:off x="3240000" y="230976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19"/>
            <p:cNvSpPr/>
            <p:nvPr/>
          </p:nvSpPr>
          <p:spPr>
            <a:xfrm>
              <a:off x="1800000" y="2309760"/>
              <a:ext cx="201600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HNO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20"/>
            <p:cNvSpPr/>
            <p:nvPr/>
          </p:nvSpPr>
          <p:spPr>
            <a:xfrm>
              <a:off x="2160360" y="1301400"/>
              <a:ext cx="1511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r>
                <a:rPr b="1" lang="ru-RU" sz="4400" spc="-1" strike="noStrike">
                  <a:solidFill>
                    <a:srgbClr val="3333cc"/>
                  </a:solidFill>
                  <a:latin typeface="Times New Roman"/>
                </a:rPr>
                <a:t>С</a:t>
              </a: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21"/>
            <p:cNvSpPr/>
            <p:nvPr/>
          </p:nvSpPr>
          <p:spPr>
            <a:xfrm>
              <a:off x="4751640" y="230976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22"/>
            <p:cNvSpPr/>
            <p:nvPr/>
          </p:nvSpPr>
          <p:spPr>
            <a:xfrm>
              <a:off x="4751640" y="122868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23"/>
            <p:cNvSpPr/>
            <p:nvPr/>
          </p:nvSpPr>
          <p:spPr>
            <a:xfrm>
              <a:off x="5400720" y="2309760"/>
              <a:ext cx="194472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NO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24"/>
            <p:cNvSpPr/>
            <p:nvPr/>
          </p:nvSpPr>
          <p:spPr>
            <a:xfrm>
              <a:off x="5327640" y="122868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Cl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Скругленный прямоугольник 18"/>
          <p:cNvSpPr/>
          <p:nvPr/>
        </p:nvSpPr>
        <p:spPr>
          <a:xfrm>
            <a:off x="1214280" y="214200"/>
            <a:ext cx="7286760" cy="1073160"/>
          </a:xfrm>
          <a:prstGeom prst="roundRect">
            <a:avLst>
              <a:gd name="adj" fmla="val 16667"/>
            </a:avLst>
          </a:prstGeom>
          <a:solidFill>
            <a:srgbClr val="24647c"/>
          </a:solidFill>
          <a:ln w="25560">
            <a:solidFill>
              <a:srgbClr val="3086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efde3"/>
                </a:solidFill>
                <a:uFillTx/>
                <a:latin typeface="Times New Roman"/>
              </a:rPr>
              <a:t>Кислоты</a:t>
            </a:r>
            <a:r>
              <a:rPr b="0" lang="ru-RU" sz="2400" spc="-1" strike="noStrike">
                <a:solidFill>
                  <a:srgbClr val="fefde3"/>
                </a:solidFill>
                <a:latin typeface="Times New Roman"/>
              </a:rPr>
              <a:t> – это электролиты, которые в водном растворе или расплаве диссоциируют на катионы водорода и анионы кислотного остат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19"/>
          <p:cNvSpPr/>
          <p:nvPr/>
        </p:nvSpPr>
        <p:spPr>
          <a:xfrm>
            <a:off x="357120" y="507204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 наличия ионов водорода в растворе кислот зависит среда раствора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 кислот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1758-F0C5-49F5-952E-63CBFD42D6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Скругленный прямоугольник 18"/>
          <p:cNvSpPr/>
          <p:nvPr/>
        </p:nvSpPr>
        <p:spPr>
          <a:xfrm>
            <a:off x="1143000" y="285840"/>
            <a:ext cx="7286760" cy="1073160"/>
          </a:xfrm>
          <a:prstGeom prst="roundRect">
            <a:avLst>
              <a:gd name="adj" fmla="val 16667"/>
            </a:avLst>
          </a:prstGeom>
          <a:solidFill>
            <a:srgbClr val="24647c"/>
          </a:solidFill>
          <a:ln w="25560">
            <a:solidFill>
              <a:srgbClr val="3086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efde3"/>
                </a:solidFill>
                <a:uFillTx/>
                <a:latin typeface="Times New Roman"/>
              </a:rPr>
              <a:t>Основания</a:t>
            </a:r>
            <a:r>
              <a:rPr b="0" lang="ru-RU" sz="2400" spc="-1" strike="noStrike">
                <a:solidFill>
                  <a:srgbClr val="fefde3"/>
                </a:solidFill>
                <a:latin typeface="Times New Roman"/>
              </a:rPr>
              <a:t> – это электролиты, которые в водном растворе или расплаве диссоциируют на катионы металла и анионы группы 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9"/>
          <p:cNvSpPr/>
          <p:nvPr/>
        </p:nvSpPr>
        <p:spPr>
          <a:xfrm>
            <a:off x="357120" y="507204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 наличия ионов группы ОН в растворе щелочей  зависит среда раствора -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щелоч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Группа 20"/>
          <p:cNvGrpSpPr/>
          <p:nvPr/>
        </p:nvGrpSpPr>
        <p:grpSpPr>
          <a:xfrm>
            <a:off x="1403280" y="1285920"/>
            <a:ext cx="6626160" cy="3090240"/>
            <a:chOff x="1403280" y="1285920"/>
            <a:chExt cx="6626160" cy="3090240"/>
          </a:xfrm>
        </p:grpSpPr>
        <p:sp>
          <p:nvSpPr>
            <p:cNvPr id="200" name="Text Box 3"/>
            <p:cNvSpPr/>
            <p:nvPr/>
          </p:nvSpPr>
          <p:spPr>
            <a:xfrm>
              <a:off x="1403280" y="3519360"/>
              <a:ext cx="280836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Ca(OH)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4"/>
            <p:cNvSpPr/>
            <p:nvPr/>
          </p:nvSpPr>
          <p:spPr>
            <a:xfrm>
              <a:off x="3563640" y="351936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5"/>
            <p:cNvSpPr/>
            <p:nvPr/>
          </p:nvSpPr>
          <p:spPr>
            <a:xfrm>
              <a:off x="6156360" y="3591000"/>
              <a:ext cx="1873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2O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6"/>
            <p:cNvSpPr/>
            <p:nvPr/>
          </p:nvSpPr>
          <p:spPr>
            <a:xfrm>
              <a:off x="5651280" y="359100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7"/>
            <p:cNvSpPr/>
            <p:nvPr/>
          </p:nvSpPr>
          <p:spPr>
            <a:xfrm>
              <a:off x="4356000" y="3591000"/>
              <a:ext cx="143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Ca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2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9"/>
            <p:cNvSpPr/>
            <p:nvPr/>
          </p:nvSpPr>
          <p:spPr>
            <a:xfrm>
              <a:off x="5796000" y="2367000"/>
              <a:ext cx="1514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O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10"/>
            <p:cNvSpPr/>
            <p:nvPr/>
          </p:nvSpPr>
          <p:spPr>
            <a:xfrm>
              <a:off x="5796000" y="1285920"/>
              <a:ext cx="1801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O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1"/>
            <p:cNvSpPr/>
            <p:nvPr/>
          </p:nvSpPr>
          <p:spPr>
            <a:xfrm>
              <a:off x="3635280" y="128592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12"/>
            <p:cNvSpPr/>
            <p:nvPr/>
          </p:nvSpPr>
          <p:spPr>
            <a:xfrm>
              <a:off x="3563640" y="23670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13"/>
            <p:cNvSpPr/>
            <p:nvPr/>
          </p:nvSpPr>
          <p:spPr>
            <a:xfrm>
              <a:off x="2195280" y="2367000"/>
              <a:ext cx="194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KOH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14"/>
            <p:cNvSpPr/>
            <p:nvPr/>
          </p:nvSpPr>
          <p:spPr>
            <a:xfrm>
              <a:off x="1979280" y="1358640"/>
              <a:ext cx="2016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NaOH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15"/>
            <p:cNvSpPr/>
            <p:nvPr/>
          </p:nvSpPr>
          <p:spPr>
            <a:xfrm>
              <a:off x="5219640" y="236700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16"/>
            <p:cNvSpPr/>
            <p:nvPr/>
          </p:nvSpPr>
          <p:spPr>
            <a:xfrm>
              <a:off x="5292720" y="128592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17"/>
            <p:cNvSpPr/>
            <p:nvPr/>
          </p:nvSpPr>
          <p:spPr>
            <a:xfrm>
              <a:off x="4282920" y="236700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18"/>
            <p:cNvSpPr/>
            <p:nvPr/>
          </p:nvSpPr>
          <p:spPr>
            <a:xfrm>
              <a:off x="4282920" y="128592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Na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A378-0B37-4040-AF81-3457FE8F48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Скругленный прямоугольник 18"/>
          <p:cNvSpPr/>
          <p:nvPr/>
        </p:nvSpPr>
        <p:spPr>
          <a:xfrm>
            <a:off x="1143000" y="428760"/>
            <a:ext cx="7286760" cy="1073160"/>
          </a:xfrm>
          <a:prstGeom prst="roundRect">
            <a:avLst>
              <a:gd name="adj" fmla="val 16667"/>
            </a:avLst>
          </a:prstGeom>
          <a:solidFill>
            <a:srgbClr val="24647c"/>
          </a:solidFill>
          <a:ln w="25560">
            <a:solidFill>
              <a:srgbClr val="3086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de3"/>
                </a:solidFill>
                <a:latin typeface="Times New Roman"/>
              </a:rPr>
              <a:t>Соли – это электролиты, которые в водном растворе или расплаве диссоциируют на катионы металла и анионы кислотного остат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Группа 36"/>
          <p:cNvGrpSpPr/>
          <p:nvPr/>
        </p:nvGrpSpPr>
        <p:grpSpPr>
          <a:xfrm>
            <a:off x="1258920" y="1533600"/>
            <a:ext cx="6553080" cy="3090600"/>
            <a:chOff x="1258920" y="1533600"/>
            <a:chExt cx="6553080" cy="3090600"/>
          </a:xfrm>
        </p:grpSpPr>
        <p:sp>
          <p:nvSpPr>
            <p:cNvPr id="217" name="Text Box 3"/>
            <p:cNvSpPr/>
            <p:nvPr/>
          </p:nvSpPr>
          <p:spPr>
            <a:xfrm>
              <a:off x="1258920" y="3767400"/>
              <a:ext cx="287964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Ba(NO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4"/>
            <p:cNvSpPr/>
            <p:nvPr/>
          </p:nvSpPr>
          <p:spPr>
            <a:xfrm>
              <a:off x="3490920" y="37674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5"/>
            <p:cNvSpPr/>
            <p:nvPr/>
          </p:nvSpPr>
          <p:spPr>
            <a:xfrm>
              <a:off x="4138560" y="3767400"/>
              <a:ext cx="1368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Ba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2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6"/>
            <p:cNvSpPr/>
            <p:nvPr/>
          </p:nvSpPr>
          <p:spPr>
            <a:xfrm>
              <a:off x="5291280" y="376740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7"/>
            <p:cNvSpPr/>
            <p:nvPr/>
          </p:nvSpPr>
          <p:spPr>
            <a:xfrm>
              <a:off x="5794560" y="3767400"/>
              <a:ext cx="194472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2NO</a:t>
              </a:r>
              <a:r>
                <a:rPr b="1" lang="en-US" sz="44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9"/>
            <p:cNvSpPr/>
            <p:nvPr/>
          </p:nvSpPr>
          <p:spPr>
            <a:xfrm>
              <a:off x="4209840" y="261468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Al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3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10"/>
            <p:cNvSpPr/>
            <p:nvPr/>
          </p:nvSpPr>
          <p:spPr>
            <a:xfrm>
              <a:off x="4209840" y="153360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Na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11"/>
            <p:cNvSpPr/>
            <p:nvPr/>
          </p:nvSpPr>
          <p:spPr>
            <a:xfrm>
              <a:off x="3562200" y="153360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12"/>
            <p:cNvSpPr/>
            <p:nvPr/>
          </p:nvSpPr>
          <p:spPr>
            <a:xfrm>
              <a:off x="3490920" y="261468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3"/>
            <p:cNvSpPr/>
            <p:nvPr/>
          </p:nvSpPr>
          <p:spPr>
            <a:xfrm>
              <a:off x="2050920" y="2614680"/>
              <a:ext cx="201600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AlCl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2193840" y="1606320"/>
              <a:ext cx="172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Na</a:t>
              </a:r>
              <a:r>
                <a:rPr b="1" lang="ru-RU" sz="4400" spc="-1" strike="noStrike">
                  <a:solidFill>
                    <a:srgbClr val="3333cc"/>
                  </a:solidFill>
                  <a:latin typeface="Times New Roman"/>
                </a:rPr>
                <a:t>С</a:t>
              </a: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15"/>
            <p:cNvSpPr/>
            <p:nvPr/>
          </p:nvSpPr>
          <p:spPr>
            <a:xfrm>
              <a:off x="5291280" y="261468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16"/>
            <p:cNvSpPr/>
            <p:nvPr/>
          </p:nvSpPr>
          <p:spPr>
            <a:xfrm>
              <a:off x="5291280" y="153360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5867280" y="2614680"/>
              <a:ext cx="194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Cl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18"/>
            <p:cNvSpPr/>
            <p:nvPr/>
          </p:nvSpPr>
          <p:spPr>
            <a:xfrm>
              <a:off x="5794560" y="153360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Cl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96C1-2BE8-4F21-9551-8894701B6D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47407"/>
                </a:solidFill>
                <a:latin typeface="Times New Roman"/>
              </a:rPr>
              <a:t>Степень диссоциа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5" descr="E:\INORG\CHAPTR03\TOPIC03\n331.png"/>
          <p:cNvPicPr/>
          <p:nvPr/>
        </p:nvPicPr>
        <p:blipFill>
          <a:blip r:embed="rId1"/>
          <a:stretch/>
        </p:blipFill>
        <p:spPr>
          <a:xfrm>
            <a:off x="5410080" y="2895480"/>
            <a:ext cx="3048120" cy="2987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E:\INORG\CHAPTR03\TOPIC03\t332.png"/>
          <p:cNvPicPr/>
          <p:nvPr/>
        </p:nvPicPr>
        <p:blipFill>
          <a:blip r:embed="rId2"/>
          <a:stretch/>
        </p:blipFill>
        <p:spPr>
          <a:xfrm>
            <a:off x="500040" y="4143240"/>
            <a:ext cx="6073920" cy="2105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E:\INORG\CHAPTR03\TOPIC03\t331.png"/>
          <p:cNvPicPr/>
          <p:nvPr/>
        </p:nvPicPr>
        <p:blipFill>
          <a:blip r:embed="rId3"/>
          <a:stretch/>
        </p:blipFill>
        <p:spPr>
          <a:xfrm>
            <a:off x="1143000" y="1523880"/>
            <a:ext cx="7315200" cy="266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9D83-9D3D-4DC5-B6D1-C7C695C3F0F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7898"/>
                </a:solidFill>
                <a:latin typeface="Times New Roman"/>
              </a:rPr>
              <a:t>Классификация электролит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6" descr="E:\INORG\CHAPTR03\TOPIC03\t333.png"/>
          <p:cNvPicPr/>
          <p:nvPr/>
        </p:nvPicPr>
        <p:blipFill>
          <a:blip r:embed="rId1"/>
          <a:stretch/>
        </p:blipFill>
        <p:spPr>
          <a:xfrm>
            <a:off x="1066680" y="1571760"/>
            <a:ext cx="6215040" cy="1704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E:\INORG\CHAPTR03\TOPIC03\n333.png"/>
          <p:cNvPicPr/>
          <p:nvPr/>
        </p:nvPicPr>
        <p:blipFill>
          <a:blip r:embed="rId2"/>
          <a:stretch/>
        </p:blipFill>
        <p:spPr>
          <a:xfrm>
            <a:off x="3071880" y="3000240"/>
            <a:ext cx="5821200" cy="340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B461-8C1F-4C5D-BF1B-ACF29A61E8A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Сильные электролит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4" descr="E:\INORG\CHAPTR03\TOPIC03\n334.png"/>
          <p:cNvPicPr/>
          <p:nvPr/>
        </p:nvPicPr>
        <p:blipFill>
          <a:blip r:embed="rId1"/>
          <a:stretch/>
        </p:blipFill>
        <p:spPr>
          <a:xfrm>
            <a:off x="4714920" y="2643120"/>
            <a:ext cx="4084560" cy="4040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E:\INORG\CHAPTR03\TOPIC03\t334.png"/>
          <p:cNvPicPr/>
          <p:nvPr/>
        </p:nvPicPr>
        <p:blipFill>
          <a:blip r:embed="rId2">
            <a:lum contrast="-30000"/>
          </a:blip>
          <a:stretch/>
        </p:blipFill>
        <p:spPr>
          <a:xfrm>
            <a:off x="642960" y="1357200"/>
            <a:ext cx="4572000" cy="217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BE68-269A-4651-A433-6079F19817F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Электролиты средней сил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6" name="Picture 4" descr="E:\INORG\CHAPTR03\TOPIC03\n335.png"/>
          <p:cNvPicPr/>
          <p:nvPr/>
        </p:nvPicPr>
        <p:blipFill>
          <a:blip r:embed="rId1"/>
          <a:stretch/>
        </p:blipFill>
        <p:spPr>
          <a:xfrm>
            <a:off x="2500200" y="1714680"/>
            <a:ext cx="4675320" cy="2628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E:\INORG\CHAPTR03\TOPIC03\t335.png"/>
          <p:cNvPicPr/>
          <p:nvPr/>
        </p:nvPicPr>
        <p:blipFill>
          <a:blip r:embed="rId2"/>
          <a:stretch/>
        </p:blipFill>
        <p:spPr>
          <a:xfrm>
            <a:off x="1143000" y="4419720"/>
            <a:ext cx="7068960" cy="165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9B4A-A6F6-42FC-8D4B-351B0BA0E3D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Слабые электролит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4" descr="E:\INORG\CHAPTR03\TOPIC03\n336.png"/>
          <p:cNvPicPr/>
          <p:nvPr/>
        </p:nvPicPr>
        <p:blipFill>
          <a:blip r:embed="rId1"/>
          <a:stretch/>
        </p:blipFill>
        <p:spPr>
          <a:xfrm>
            <a:off x="1214280" y="3500280"/>
            <a:ext cx="7620120" cy="31435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E:\INORG\CHAPTR03\TOPIC03\t336.png"/>
          <p:cNvPicPr/>
          <p:nvPr/>
        </p:nvPicPr>
        <p:blipFill>
          <a:blip r:embed="rId2"/>
          <a:stretch/>
        </p:blipFill>
        <p:spPr>
          <a:xfrm>
            <a:off x="1066680" y="1600200"/>
            <a:ext cx="5648400" cy="171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32B4-0E83-43B9-83E2-29F7BC1656E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6"/>
          <p:cNvSpPr/>
          <p:nvPr/>
        </p:nvSpPr>
        <p:spPr>
          <a:xfrm>
            <a:off x="684360" y="1844640"/>
            <a:ext cx="3381120" cy="4464000"/>
          </a:xfrm>
          <a:prstGeom prst="can">
            <a:avLst>
              <a:gd name="adj" fmla="val 23162"/>
            </a:avLst>
          </a:prstGeom>
          <a:noFill/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Блок-схема: магнитный диск 3"/>
          <p:cNvSpPr/>
          <p:nvPr/>
        </p:nvSpPr>
        <p:spPr>
          <a:xfrm>
            <a:off x="684360" y="3284640"/>
            <a:ext cx="3382920" cy="3024000"/>
          </a:xfrm>
          <a:prstGeom prst="flowChartMagneticDisk">
            <a:avLst/>
          </a:prstGeom>
          <a:solidFill>
            <a:srgbClr val="48e6ee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Скругленный прямоугольник 5"/>
          <p:cNvSpPr/>
          <p:nvPr/>
        </p:nvSpPr>
        <p:spPr>
          <a:xfrm>
            <a:off x="1187280" y="1125360"/>
            <a:ext cx="289080" cy="446436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4464360"/>
              <a:gd name="textAreaBottom" fmla="*/ 4450320 h 4464360"/>
            </a:gdLst>
            <a:ahLst/>
            <a:rect l="textAreaLeft" t="textAreaTop" r="textAreaRight" b="textAreaBottom"/>
            <a:pathLst>
              <a:path w="21600" h="333188">
                <a:moveTo>
                  <a:pt x="3600" y="0"/>
                </a:moveTo>
                <a:arcTo wR="3600" hR="3600" stAng="16200000" swAng="-5400000"/>
                <a:lnTo>
                  <a:pt x="0" y="329588"/>
                </a:lnTo>
                <a:arcTo wR="3600" hR="3600" stAng="10800000" swAng="-5400000"/>
                <a:lnTo>
                  <a:pt x="18000" y="333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15b5c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Скругленный прямоугольник 6"/>
          <p:cNvSpPr/>
          <p:nvPr/>
        </p:nvSpPr>
        <p:spPr>
          <a:xfrm>
            <a:off x="3276720" y="1125360"/>
            <a:ext cx="287280" cy="4464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464360"/>
              <a:gd name="textAreaBottom" fmla="*/ 4450320 h 4464360"/>
            </a:gdLst>
            <a:ahLst/>
            <a:rect l="textAreaLeft" t="textAreaTop" r="textAreaRight" b="textAreaBottom"/>
            <a:pathLst>
              <a:path w="21600" h="335273">
                <a:moveTo>
                  <a:pt x="3600" y="0"/>
                </a:moveTo>
                <a:arcTo wR="3600" hR="3600" stAng="16200000" swAng="-5400000"/>
                <a:lnTo>
                  <a:pt x="0" y="331673"/>
                </a:lnTo>
                <a:arcTo wR="3600" hR="3600" stAng="10800000" swAng="-5400000"/>
                <a:lnTo>
                  <a:pt x="18000" y="3352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15b5c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Овал 7"/>
          <p:cNvSpPr/>
          <p:nvPr/>
        </p:nvSpPr>
        <p:spPr>
          <a:xfrm>
            <a:off x="2556000" y="5589720"/>
            <a:ext cx="647640" cy="576000"/>
          </a:xfrm>
          <a:prstGeom prst="ellipse">
            <a:avLst/>
          </a:prstGeom>
          <a:solidFill>
            <a:srgbClr val="ff000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eorgia"/>
              </a:rPr>
              <a:t>С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l</a:t>
            </a:r>
            <a:r>
              <a:rPr b="0" lang="en-US" sz="1600" spc="-1" strike="noStrike" baseline="30000">
                <a:solidFill>
                  <a:srgbClr val="ffffff"/>
                </a:solidFill>
                <a:latin typeface="Georgia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Овал 8"/>
          <p:cNvSpPr/>
          <p:nvPr/>
        </p:nvSpPr>
        <p:spPr>
          <a:xfrm>
            <a:off x="1547640" y="5300640"/>
            <a:ext cx="792360" cy="720720"/>
          </a:xfrm>
          <a:prstGeom prst="ellipse">
            <a:avLst/>
          </a:prstGeom>
          <a:solidFill>
            <a:srgbClr val="003db8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С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u</a:t>
            </a:r>
            <a:r>
              <a:rPr b="0" lang="en-US" sz="1400" spc="-1" strike="noStrike" baseline="30000">
                <a:solidFill>
                  <a:srgbClr val="ffffff"/>
                </a:solidFill>
                <a:latin typeface="Georgia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Овал 9"/>
          <p:cNvSpPr/>
          <p:nvPr/>
        </p:nvSpPr>
        <p:spPr>
          <a:xfrm>
            <a:off x="1908000" y="3789360"/>
            <a:ext cx="648000" cy="576360"/>
          </a:xfrm>
          <a:prstGeom prst="ellipse">
            <a:avLst/>
          </a:prstGeom>
          <a:solidFill>
            <a:srgbClr val="ff000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eorgia"/>
              </a:rPr>
              <a:t>С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l</a:t>
            </a:r>
            <a:r>
              <a:rPr b="0" lang="en-US" sz="1600" spc="-1" strike="noStrike" baseline="30000">
                <a:solidFill>
                  <a:srgbClr val="ffffff"/>
                </a:solidFill>
                <a:latin typeface="Georgia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Овал 10"/>
          <p:cNvSpPr/>
          <p:nvPr/>
        </p:nvSpPr>
        <p:spPr>
          <a:xfrm>
            <a:off x="2195640" y="4365720"/>
            <a:ext cx="792000" cy="718920"/>
          </a:xfrm>
          <a:prstGeom prst="ellipse">
            <a:avLst/>
          </a:prstGeom>
          <a:solidFill>
            <a:srgbClr val="003db8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С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u</a:t>
            </a:r>
            <a:r>
              <a:rPr b="0" lang="en-US" sz="1400" spc="-1" strike="noStrike" baseline="30000">
                <a:solidFill>
                  <a:srgbClr val="ffffff"/>
                </a:solidFill>
                <a:latin typeface="Georgia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Группа 33"/>
          <p:cNvGrpSpPr/>
          <p:nvPr/>
        </p:nvGrpSpPr>
        <p:grpSpPr>
          <a:xfrm>
            <a:off x="1332000" y="333360"/>
            <a:ext cx="2087640" cy="792000"/>
            <a:chOff x="1332000" y="333360"/>
            <a:chExt cx="2087640" cy="792000"/>
          </a:xfrm>
        </p:grpSpPr>
        <p:pic>
          <p:nvPicPr>
            <p:cNvPr id="64" name="Прямая соединительная линия 12" descr=""/>
            <p:cNvPicPr/>
            <p:nvPr/>
          </p:nvPicPr>
          <p:blipFill>
            <a:blip r:embed="rId1"/>
            <a:stretch/>
          </p:blipFill>
          <p:spPr>
            <a:xfrm>
              <a:off x="1332000" y="706680"/>
              <a:ext cx="136440" cy="41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Прямая соединительная линия 14" descr=""/>
            <p:cNvPicPr/>
            <p:nvPr/>
          </p:nvPicPr>
          <p:blipFill>
            <a:blip r:embed="rId2"/>
            <a:stretch/>
          </p:blipFill>
          <p:spPr>
            <a:xfrm>
              <a:off x="1337400" y="855360"/>
              <a:ext cx="796320" cy="11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Прямая соединительная линия 16" descr=""/>
            <p:cNvPicPr/>
            <p:nvPr/>
          </p:nvPicPr>
          <p:blipFill>
            <a:blip r:embed="rId3"/>
            <a:stretch/>
          </p:blipFill>
          <p:spPr>
            <a:xfrm>
              <a:off x="2008800" y="333360"/>
              <a:ext cx="136440" cy="63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Прямая соединительная линия 20" descr=""/>
            <p:cNvPicPr/>
            <p:nvPr/>
          </p:nvPicPr>
          <p:blipFill>
            <a:blip r:embed="rId4"/>
            <a:stretch/>
          </p:blipFill>
          <p:spPr>
            <a:xfrm>
              <a:off x="2207880" y="648360"/>
              <a:ext cx="136440" cy="31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Прямая соединительная линия 24" descr=""/>
            <p:cNvPicPr/>
            <p:nvPr/>
          </p:nvPicPr>
          <p:blipFill>
            <a:blip r:embed="rId5"/>
            <a:stretch/>
          </p:blipFill>
          <p:spPr>
            <a:xfrm>
              <a:off x="2213640" y="855360"/>
              <a:ext cx="1200240" cy="11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Прямая соединительная линия 26" descr=""/>
            <p:cNvPicPr/>
            <p:nvPr/>
          </p:nvPicPr>
          <p:blipFill>
            <a:blip r:embed="rId6"/>
            <a:stretch/>
          </p:blipFill>
          <p:spPr>
            <a:xfrm>
              <a:off x="3283200" y="706680"/>
              <a:ext cx="136440" cy="418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TextBox 31"/>
          <p:cNvSpPr/>
          <p:nvPr/>
        </p:nvSpPr>
        <p:spPr>
          <a:xfrm>
            <a:off x="830160" y="874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32"/>
          <p:cNvSpPr/>
          <p:nvPr/>
        </p:nvSpPr>
        <p:spPr>
          <a:xfrm>
            <a:off x="3133800" y="11592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4572000" y="1753560"/>
            <a:ext cx="439272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8200" indent="-268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ство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uCl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грузили 2 графитовых электрода и к ним присоединили источник тока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трицательный полюс – КАТ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ожительный полюс – АНО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Прямоугольник 35"/>
          <p:cNvSpPr/>
          <p:nvPr/>
        </p:nvSpPr>
        <p:spPr>
          <a:xfrm>
            <a:off x="4643280" y="333360"/>
            <a:ext cx="424980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стакан налит раство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uCl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который диссоциирует на беспорядочно двигающиеся ио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l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Прямоугольник 36"/>
          <p:cNvSpPr/>
          <p:nvPr/>
        </p:nvSpPr>
        <p:spPr>
          <a:xfrm>
            <a:off x="4643280" y="3933720"/>
            <a:ext cx="439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вижение ионов в растворе станет упорядоченны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двигается 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КАТОД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он меди – катион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вигает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к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АНОД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он хлора – анио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EF13-90E9-4C95-9349-6954C0BE9006}" type="slidenum">
              <a:t>3</a:t>
            </a:fld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1 1.11111E-006 L 0.03142 1.11111E-006 E">
                                      <p:cBhvr>
                                        <p:cTn id="71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2.96296E-006 L 0.10642 -0.0419 E">
                                      <p:cBhvr>
                                        <p:cTn id="73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44444E-006 L -0.05122 0.08403 E">
                                      <p:cBhvr>
                                        <p:cTn id="75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4.44444E-006 L -0.11805 -0.09444 E">
                                      <p:cBhvr>
                                        <p:cTn id="77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684360" y="907920"/>
            <a:ext cx="786276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Arial"/>
              </a:rPr>
              <a:t>III</a:t>
            </a:r>
            <a:r>
              <a:rPr b="0" lang="ru-RU" sz="5400" spc="-1" strike="noStrike">
                <a:solidFill>
                  <a:srgbClr val="000066"/>
                </a:solidFill>
                <a:latin typeface="Arial"/>
              </a:rPr>
              <a:t>. КОРРОЗИ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2" descr="image7"/>
          <p:cNvPicPr/>
          <p:nvPr/>
        </p:nvPicPr>
        <p:blipFill>
          <a:blip r:embed="rId1"/>
          <a:stretch/>
        </p:blipFill>
        <p:spPr>
          <a:xfrm>
            <a:off x="4067280" y="2852640"/>
            <a:ext cx="4298760" cy="314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23A8-EB57-426B-9182-D4186F5D4A6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8"/>
          <p:cNvSpPr/>
          <p:nvPr/>
        </p:nvSpPr>
        <p:spPr>
          <a:xfrm>
            <a:off x="1908000" y="2924280"/>
            <a:ext cx="5688360" cy="1230120"/>
          </a:xfrm>
          <a:prstGeom prst="rect">
            <a:avLst/>
          </a:prstGeom>
          <a:noFill/>
          <a:ln w="38160">
            <a:solidFill>
              <a:srgbClr val="0303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037d"/>
                </a:solidFill>
                <a:latin typeface="Times New Roman"/>
              </a:rPr>
              <a:t>КОРРОЗ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по механизму протека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4368960" y="5378400"/>
            <a:ext cx="4508280" cy="581400"/>
          </a:xfrm>
          <a:prstGeom prst="rect">
            <a:avLst/>
          </a:prstGeom>
          <a:noFill/>
          <a:ln w="38160">
            <a:solidFill>
              <a:srgbClr val="0303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037d"/>
                </a:solidFill>
                <a:latin typeface="Times New Roman"/>
              </a:rPr>
              <a:t>электрохимическ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431640" y="5403960"/>
            <a:ext cx="3187800" cy="581400"/>
          </a:xfrm>
          <a:prstGeom prst="rect">
            <a:avLst/>
          </a:prstGeom>
          <a:noFill/>
          <a:ln w="38160">
            <a:solidFill>
              <a:srgbClr val="0303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037d"/>
                </a:solidFill>
                <a:latin typeface="Times New Roman"/>
              </a:rPr>
              <a:t>химическ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1"/>
          <p:cNvSpPr/>
          <p:nvPr/>
        </p:nvSpPr>
        <p:spPr>
          <a:xfrm flipH="1">
            <a:off x="2268000" y="4149720"/>
            <a:ext cx="1257480" cy="1117440"/>
          </a:xfrm>
          <a:prstGeom prst="line">
            <a:avLst/>
          </a:prstGeom>
          <a:ln w="38160">
            <a:solidFill>
              <a:srgbClr val="0303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2"/>
          <p:cNvSpPr/>
          <p:nvPr/>
        </p:nvSpPr>
        <p:spPr>
          <a:xfrm>
            <a:off x="5364000" y="4149720"/>
            <a:ext cx="1257480" cy="1117440"/>
          </a:xfrm>
          <a:prstGeom prst="line">
            <a:avLst/>
          </a:prstGeom>
          <a:ln w="38160">
            <a:solidFill>
              <a:srgbClr val="0303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"/>
          <p:cNvSpPr/>
          <p:nvPr/>
        </p:nvSpPr>
        <p:spPr>
          <a:xfrm>
            <a:off x="611280" y="1058400"/>
            <a:ext cx="77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самопроизвольный (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Arial"/>
              </a:rPr>
              <a:t>∆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Arial"/>
              </a:rPr>
              <a:t>G &lt; 0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Arial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сс разрушения металлов и сплавов под действием окружающей сре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395280" y="203040"/>
            <a:ext cx="4176720" cy="77796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Georgia"/>
              </a:rPr>
              <a:t>Корроз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Прямая соединительная линия 10" descr=""/>
          <p:cNvPicPr/>
          <p:nvPr/>
        </p:nvPicPr>
        <p:blipFill>
          <a:blip r:embed="rId1"/>
          <a:stretch/>
        </p:blipFill>
        <p:spPr>
          <a:xfrm>
            <a:off x="182520" y="811080"/>
            <a:ext cx="5462640" cy="15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6F6C-7CAE-4F5D-884E-86D47A369011}" type="slidenum">
              <a:t>31</a:t>
            </a:fld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Заголовок 1"/>
          <p:cNvSpPr/>
          <p:nvPr/>
        </p:nvSpPr>
        <p:spPr>
          <a:xfrm>
            <a:off x="395280" y="189000"/>
            <a:ext cx="8229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Georgia"/>
              </a:rPr>
              <a:t>Механизм корроз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Заголовок 1"/>
          <p:cNvSpPr/>
          <p:nvPr/>
        </p:nvSpPr>
        <p:spPr>
          <a:xfrm>
            <a:off x="6012000" y="981000"/>
            <a:ext cx="2736720" cy="57636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Georgia"/>
              </a:rPr>
              <a:t>КАТОД (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Заголовок 1"/>
          <p:cNvSpPr/>
          <p:nvPr/>
        </p:nvSpPr>
        <p:spPr>
          <a:xfrm>
            <a:off x="611280" y="981000"/>
            <a:ext cx="2665440" cy="57636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Georgia"/>
              </a:rPr>
              <a:t>АНОД (-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4"/>
          <p:cNvSpPr/>
          <p:nvPr/>
        </p:nvSpPr>
        <p:spPr>
          <a:xfrm>
            <a:off x="250920" y="1773360"/>
            <a:ext cx="3203640" cy="1008720"/>
          </a:xfrm>
          <a:prstGeom prst="rect">
            <a:avLst/>
          </a:prstGeom>
          <a:solidFill>
            <a:srgbClr val="fefde3"/>
          </a:solidFill>
          <a:ln w="11520">
            <a:solidFill>
              <a:srgbClr val="8cada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олее активный Ме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Georgia"/>
              </a:rPr>
              <a:t>φ</a:t>
            </a:r>
            <a:r>
              <a:rPr b="0" lang="ru-RU" sz="20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меньш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(-е) окисл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5"/>
          <p:cNvSpPr/>
          <p:nvPr/>
        </p:nvSpPr>
        <p:spPr>
          <a:xfrm>
            <a:off x="5651640" y="1773360"/>
            <a:ext cx="3348000" cy="1008720"/>
          </a:xfrm>
          <a:prstGeom prst="rect">
            <a:avLst/>
          </a:prstGeom>
          <a:solidFill>
            <a:srgbClr val="fefde3"/>
          </a:solidFill>
          <a:ln w="11520">
            <a:solidFill>
              <a:srgbClr val="8cada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нее активный Ме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Georgia"/>
              </a:rPr>
              <a:t>φ</a:t>
            </a:r>
            <a:r>
              <a:rPr b="0" lang="ru-RU" sz="20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больш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(+е) восстано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Box 6"/>
          <p:cNvSpPr/>
          <p:nvPr/>
        </p:nvSpPr>
        <p:spPr>
          <a:xfrm>
            <a:off x="3276720" y="3308400"/>
            <a:ext cx="2087280" cy="82548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Georgia"/>
              </a:rPr>
              <a:t>Кисл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Georgia"/>
              </a:rPr>
              <a:t>сре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7"/>
          <p:cNvSpPr/>
          <p:nvPr/>
        </p:nvSpPr>
        <p:spPr>
          <a:xfrm>
            <a:off x="3059280" y="4869000"/>
            <a:ext cx="2592360" cy="119124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Georgia"/>
              </a:rPr>
              <a:t>Нейтральная и щелочная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Georgia"/>
              </a:rPr>
              <a:t>сре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Группа 16"/>
          <p:cNvGrpSpPr/>
          <p:nvPr/>
        </p:nvGrpSpPr>
        <p:grpSpPr>
          <a:xfrm>
            <a:off x="179280" y="3502080"/>
            <a:ext cx="3097440" cy="429120"/>
            <a:chOff x="179280" y="3502080"/>
            <a:chExt cx="3097440" cy="429120"/>
          </a:xfrm>
        </p:grpSpPr>
        <p:sp>
          <p:nvSpPr>
            <p:cNvPr id="270" name="Прямоугольник 9"/>
            <p:cNvSpPr/>
            <p:nvPr/>
          </p:nvSpPr>
          <p:spPr>
            <a:xfrm>
              <a:off x="179280" y="3502080"/>
              <a:ext cx="2606760" cy="429120"/>
            </a:xfrm>
            <a:prstGeom prst="rect">
              <a:avLst/>
            </a:prstGeom>
            <a:solidFill>
              <a:srgbClr val="fefde3"/>
            </a:solidFill>
            <a:ln w="28440">
              <a:solidFill>
                <a:srgbClr val="003d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Georgia"/>
                </a:rPr>
                <a:t>Ме</a:t>
              </a:r>
              <a:r>
                <a:rPr b="1" lang="ru-RU" sz="2200" spc="-1" strike="noStrike" baseline="30000">
                  <a:solidFill>
                    <a:srgbClr val="000000"/>
                  </a:solidFill>
                  <a:latin typeface="Georgia"/>
                </a:rPr>
                <a:t>0 </a:t>
              </a:r>
              <a:r>
                <a:rPr b="1" lang="ru-RU" sz="2200" spc="-1" strike="noStrike">
                  <a:solidFill>
                    <a:srgbClr val="000000"/>
                  </a:solidFill>
                  <a:latin typeface="Georgia"/>
                </a:rPr>
                <a:t>– </a:t>
              </a:r>
              <a:r>
                <a:rPr b="1" lang="en-US" sz="2200" spc="-1" strike="noStrike">
                  <a:solidFill>
                    <a:srgbClr val="000000"/>
                  </a:solidFill>
                  <a:latin typeface="Georgia"/>
                </a:rPr>
                <a:t>ne</a:t>
              </a:r>
              <a:r>
                <a:rPr b="1" lang="ru-RU" sz="2200" spc="-1" strike="noStrike">
                  <a:solidFill>
                    <a:srgbClr val="000000"/>
                  </a:solidFill>
                  <a:latin typeface="Georgia"/>
                </a:rPr>
                <a:t>  =  </a:t>
              </a:r>
              <a:r>
                <a:rPr b="1" lang="en-US" sz="2200" spc="-1" strike="noStrike">
                  <a:solidFill>
                    <a:srgbClr val="000000"/>
                  </a:solidFill>
                  <a:latin typeface="Georgia"/>
                </a:rPr>
                <a:t>Me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Georgia"/>
                </a:rPr>
                <a:t>n</a:t>
              </a:r>
              <a:r>
                <a:rPr b="1" lang="ru-RU" sz="2200" spc="-1" strike="noStrike" baseline="30000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1" name="Прямая со стрелкой 11" descr=""/>
            <p:cNvPicPr/>
            <p:nvPr/>
          </p:nvPicPr>
          <p:blipFill>
            <a:blip r:embed="rId1"/>
            <a:stretch/>
          </p:blipFill>
          <p:spPr>
            <a:xfrm>
              <a:off x="2638800" y="3590640"/>
              <a:ext cx="637920" cy="31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2" name="Группа 17"/>
          <p:cNvGrpSpPr/>
          <p:nvPr/>
        </p:nvGrpSpPr>
        <p:grpSpPr>
          <a:xfrm>
            <a:off x="179280" y="5229360"/>
            <a:ext cx="2880000" cy="429120"/>
            <a:chOff x="179280" y="5229360"/>
            <a:chExt cx="2880000" cy="429120"/>
          </a:xfrm>
        </p:grpSpPr>
        <p:sp>
          <p:nvSpPr>
            <p:cNvPr id="273" name="Прямоугольник 12"/>
            <p:cNvSpPr/>
            <p:nvPr/>
          </p:nvSpPr>
          <p:spPr>
            <a:xfrm>
              <a:off x="179280" y="5229360"/>
              <a:ext cx="2608200" cy="429120"/>
            </a:xfrm>
            <a:prstGeom prst="rect">
              <a:avLst/>
            </a:prstGeom>
            <a:solidFill>
              <a:srgbClr val="fefde3"/>
            </a:solidFill>
            <a:ln w="28440">
              <a:solidFill>
                <a:srgbClr val="003d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Georgia"/>
                </a:rPr>
                <a:t>Ме</a:t>
              </a:r>
              <a:r>
                <a:rPr b="1" lang="ru-RU" sz="2200" spc="-1" strike="noStrike" baseline="30000">
                  <a:solidFill>
                    <a:srgbClr val="000000"/>
                  </a:solidFill>
                  <a:latin typeface="Georgia"/>
                </a:rPr>
                <a:t>0 </a:t>
              </a:r>
              <a:r>
                <a:rPr b="1" lang="ru-RU" sz="2200" spc="-1" strike="noStrike">
                  <a:solidFill>
                    <a:srgbClr val="000000"/>
                  </a:solidFill>
                  <a:latin typeface="Georgia"/>
                </a:rPr>
                <a:t>– </a:t>
              </a:r>
              <a:r>
                <a:rPr b="1" lang="en-US" sz="2200" spc="-1" strike="noStrike">
                  <a:solidFill>
                    <a:srgbClr val="000000"/>
                  </a:solidFill>
                  <a:latin typeface="Georgia"/>
                </a:rPr>
                <a:t>ne</a:t>
              </a:r>
              <a:r>
                <a:rPr b="1" lang="ru-RU" sz="2200" spc="-1" strike="noStrike">
                  <a:solidFill>
                    <a:srgbClr val="000000"/>
                  </a:solidFill>
                  <a:latin typeface="Georgia"/>
                </a:rPr>
                <a:t>  =  </a:t>
              </a:r>
              <a:r>
                <a:rPr b="1" lang="en-US" sz="2200" spc="-1" strike="noStrike">
                  <a:solidFill>
                    <a:srgbClr val="000000"/>
                  </a:solidFill>
                  <a:latin typeface="Georgia"/>
                </a:rPr>
                <a:t>Me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Georgia"/>
                </a:rPr>
                <a:t>n</a:t>
              </a:r>
              <a:r>
                <a:rPr b="1" lang="ru-RU" sz="2200" spc="-1" strike="noStrike" baseline="30000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4" name="Прямая со стрелкой 27" descr=""/>
            <p:cNvPicPr/>
            <p:nvPr/>
          </p:nvPicPr>
          <p:blipFill>
            <a:blip r:embed="rId2"/>
            <a:stretch/>
          </p:blipFill>
          <p:spPr>
            <a:xfrm>
              <a:off x="2635560" y="5315760"/>
              <a:ext cx="423720" cy="31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5" name="Группа 18"/>
          <p:cNvGrpSpPr/>
          <p:nvPr/>
        </p:nvGrpSpPr>
        <p:grpSpPr>
          <a:xfrm>
            <a:off x="5364000" y="3500280"/>
            <a:ext cx="2962080" cy="475200"/>
            <a:chOff x="5364000" y="3500280"/>
            <a:chExt cx="2962080" cy="475200"/>
          </a:xfrm>
        </p:grpSpPr>
        <p:sp>
          <p:nvSpPr>
            <p:cNvPr id="276" name="Прямоугольник 19"/>
            <p:cNvSpPr/>
            <p:nvPr/>
          </p:nvSpPr>
          <p:spPr>
            <a:xfrm>
              <a:off x="6418800" y="3500280"/>
              <a:ext cx="1907280" cy="475200"/>
            </a:xfrm>
            <a:prstGeom prst="rect">
              <a:avLst/>
            </a:prstGeom>
            <a:noFill/>
            <a:ln w="28440">
              <a:solidFill>
                <a:srgbClr val="003d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2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ē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→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7" name="Прямая со стрелкой 31" descr=""/>
            <p:cNvPicPr/>
            <p:nvPr/>
          </p:nvPicPr>
          <p:blipFill>
            <a:blip r:embed="rId3"/>
            <a:stretch/>
          </p:blipFill>
          <p:spPr>
            <a:xfrm>
              <a:off x="5364000" y="3590280"/>
              <a:ext cx="1132920" cy="31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8" name="Группа 20"/>
          <p:cNvGrpSpPr/>
          <p:nvPr/>
        </p:nvGrpSpPr>
        <p:grpSpPr>
          <a:xfrm>
            <a:off x="5651640" y="5157720"/>
            <a:ext cx="3403800" cy="510120"/>
            <a:chOff x="5651640" y="5157720"/>
            <a:chExt cx="3403800" cy="510120"/>
          </a:xfrm>
        </p:grpSpPr>
        <p:pic>
          <p:nvPicPr>
            <p:cNvPr id="279" name="Прямая соединительная линия 35" descr=""/>
            <p:cNvPicPr/>
            <p:nvPr/>
          </p:nvPicPr>
          <p:blipFill>
            <a:blip r:embed="rId4"/>
            <a:stretch/>
          </p:blipFill>
          <p:spPr>
            <a:xfrm>
              <a:off x="5651640" y="5394960"/>
              <a:ext cx="340560" cy="17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Прямоугольник 25"/>
            <p:cNvSpPr/>
            <p:nvPr/>
          </p:nvSpPr>
          <p:spPr>
            <a:xfrm>
              <a:off x="5932440" y="5157720"/>
              <a:ext cx="3123000" cy="510120"/>
            </a:xfrm>
            <a:prstGeom prst="rect">
              <a:avLst/>
            </a:prstGeom>
            <a:noFill/>
            <a:ln w="28440">
              <a:solidFill>
                <a:srgbClr val="003d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ē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→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</a:t>
              </a:r>
              <a:r>
                <a:rPr b="1" lang="ru-RU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C029-94A0-472E-93AD-A5EEDB25BAE7}" type="slidenum">
              <a:t>32</a:t>
            </a:fld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1258920" y="5084640"/>
            <a:ext cx="68421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одный процес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-)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→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440" indent="-253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тодный процесс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+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→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Группа 18"/>
          <p:cNvGrpSpPr/>
          <p:nvPr/>
        </p:nvGrpSpPr>
        <p:grpSpPr>
          <a:xfrm>
            <a:off x="2654280" y="1598760"/>
            <a:ext cx="3695760" cy="2209680"/>
            <a:chOff x="2654280" y="1598760"/>
            <a:chExt cx="3695760" cy="2209680"/>
          </a:xfrm>
        </p:grpSpPr>
        <p:sp>
          <p:nvSpPr>
            <p:cNvPr id="283" name="AutoShape 5"/>
            <p:cNvSpPr/>
            <p:nvPr/>
          </p:nvSpPr>
          <p:spPr>
            <a:xfrm>
              <a:off x="2666880" y="1878120"/>
              <a:ext cx="3683160" cy="193032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O</a:t>
              </a:r>
              <a:r>
                <a:rPr b="1" lang="ru-RU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6"/>
            <p:cNvSpPr/>
            <p:nvPr/>
          </p:nvSpPr>
          <p:spPr>
            <a:xfrm>
              <a:off x="2654280" y="1598760"/>
              <a:ext cx="3695760" cy="952560"/>
            </a:xfrm>
            <a:prstGeom prst="rect">
              <a:avLst/>
            </a:prstGeom>
            <a:solidFill>
              <a:srgbClr val="e9f8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Rectangle 9"/>
          <p:cNvSpPr/>
          <p:nvPr/>
        </p:nvSpPr>
        <p:spPr>
          <a:xfrm>
            <a:off x="3784680" y="1052640"/>
            <a:ext cx="749160" cy="21207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4521240" y="1052640"/>
            <a:ext cx="749160" cy="2120760"/>
          </a:xfrm>
          <a:prstGeom prst="rect">
            <a:avLst/>
          </a:prstGeom>
          <a:solidFill>
            <a:srgbClr val="eb98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13"/>
          <p:cNvSpPr/>
          <p:nvPr/>
        </p:nvSpPr>
        <p:spPr>
          <a:xfrm flipH="1" rot="10800000">
            <a:off x="6806160" y="1928520"/>
            <a:ext cx="1942920" cy="1307880"/>
          </a:xfrm>
          <a:prstGeom prst="wedgeRoundRectCallout">
            <a:avLst>
              <a:gd name="adj1" fmla="val -141504"/>
              <a:gd name="adj2" fmla="val 81430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енее активный метал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14"/>
          <p:cNvSpPr/>
          <p:nvPr/>
        </p:nvSpPr>
        <p:spPr>
          <a:xfrm rot="10800000">
            <a:off x="469800" y="1915920"/>
            <a:ext cx="1943280" cy="1307880"/>
          </a:xfrm>
          <a:prstGeom prst="wedgeRoundRectCallout">
            <a:avLst>
              <a:gd name="adj1" fmla="val -141504"/>
              <a:gd name="adj2" fmla="val 81430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олее активный метал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0" y="72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395280" y="4005360"/>
            <a:ext cx="2639880" cy="71892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12"/>
          <p:cNvSpPr/>
          <p:nvPr/>
        </p:nvSpPr>
        <p:spPr>
          <a:xfrm>
            <a:off x="543960" y="3429000"/>
            <a:ext cx="177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i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анод (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6108840" y="4005360"/>
            <a:ext cx="2736720" cy="72072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14"/>
          <p:cNvSpPr/>
          <p:nvPr/>
        </p:nvSpPr>
        <p:spPr>
          <a:xfrm>
            <a:off x="6805800" y="3500280"/>
            <a:ext cx="2017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u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катод (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Box 19"/>
          <p:cNvSpPr/>
          <p:nvPr/>
        </p:nvSpPr>
        <p:spPr>
          <a:xfrm>
            <a:off x="344880" y="189000"/>
            <a:ext cx="601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Коррозия пары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Ni – Cu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в кислой сред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089A-C0D1-4030-A782-47E5DBB390F0}" type="slidenum">
              <a:t>33</a:t>
            </a:fld>
          </a:p>
        </p:txBody>
      </p:sp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900000" y="5084640"/>
            <a:ext cx="7632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Анодный процесс: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(-) 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2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Arial"/>
              </a:rPr>
              <a:t>→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34360" indent="-23436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Катодный процесс: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+)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ē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4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31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343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343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Группа 18"/>
          <p:cNvGrpSpPr/>
          <p:nvPr/>
        </p:nvGrpSpPr>
        <p:grpSpPr>
          <a:xfrm>
            <a:off x="2654280" y="1598760"/>
            <a:ext cx="3695760" cy="2209680"/>
            <a:chOff x="2654280" y="1598760"/>
            <a:chExt cx="3695760" cy="2209680"/>
          </a:xfrm>
        </p:grpSpPr>
        <p:sp>
          <p:nvSpPr>
            <p:cNvPr id="297" name="AutoShape 5"/>
            <p:cNvSpPr/>
            <p:nvPr/>
          </p:nvSpPr>
          <p:spPr>
            <a:xfrm>
              <a:off x="2666880" y="1878120"/>
              <a:ext cx="3683160" cy="193032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KO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6"/>
            <p:cNvSpPr/>
            <p:nvPr/>
          </p:nvSpPr>
          <p:spPr>
            <a:xfrm>
              <a:off x="2654280" y="1598760"/>
              <a:ext cx="3695760" cy="952560"/>
            </a:xfrm>
            <a:prstGeom prst="rect">
              <a:avLst/>
            </a:prstGeom>
            <a:solidFill>
              <a:srgbClr val="e9f8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Rectangle 9"/>
          <p:cNvSpPr/>
          <p:nvPr/>
        </p:nvSpPr>
        <p:spPr>
          <a:xfrm>
            <a:off x="3784680" y="1052640"/>
            <a:ext cx="749160" cy="21207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4521240" y="1052640"/>
            <a:ext cx="749160" cy="2120760"/>
          </a:xfrm>
          <a:prstGeom prst="rect">
            <a:avLst/>
          </a:prstGeom>
          <a:solidFill>
            <a:srgbClr val="eb98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13"/>
          <p:cNvSpPr/>
          <p:nvPr/>
        </p:nvSpPr>
        <p:spPr>
          <a:xfrm flipH="1" rot="10800000">
            <a:off x="6806160" y="1928520"/>
            <a:ext cx="1942920" cy="1307880"/>
          </a:xfrm>
          <a:prstGeom prst="wedgeRoundRectCallout">
            <a:avLst>
              <a:gd name="adj1" fmla="val -141504"/>
              <a:gd name="adj2" fmla="val 81430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енее активный метал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utoShape 14"/>
          <p:cNvSpPr/>
          <p:nvPr/>
        </p:nvSpPr>
        <p:spPr>
          <a:xfrm rot="10800000">
            <a:off x="469800" y="1915920"/>
            <a:ext cx="1943280" cy="1307880"/>
          </a:xfrm>
          <a:prstGeom prst="wedgeRoundRectCallout">
            <a:avLst>
              <a:gd name="adj1" fmla="val -141504"/>
              <a:gd name="adj2" fmla="val 81430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олее активный метал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0" y="72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Object 1" descr=""/>
          <p:cNvPicPr/>
          <p:nvPr/>
        </p:nvPicPr>
        <p:blipFill>
          <a:blip r:embed="rId2"/>
          <a:stretch/>
        </p:blipFill>
        <p:spPr>
          <a:xfrm>
            <a:off x="363600" y="4005360"/>
            <a:ext cx="2703600" cy="718920"/>
          </a:xfrm>
          <a:prstGeom prst="rect">
            <a:avLst/>
          </a:prstGeom>
          <a:ln w="0">
            <a:noFill/>
          </a:ln>
        </p:spPr>
      </p:pic>
      <p:sp>
        <p:nvSpPr>
          <p:cNvPr id="305" name="Прямоугольник 12"/>
          <p:cNvSpPr/>
          <p:nvPr/>
        </p:nvSpPr>
        <p:spPr>
          <a:xfrm>
            <a:off x="544680" y="3429000"/>
            <a:ext cx="18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n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анод (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Object 3" descr=""/>
          <p:cNvPicPr/>
          <p:nvPr/>
        </p:nvPicPr>
        <p:blipFill>
          <a:blip r:embed="rId3"/>
          <a:stretch/>
        </p:blipFill>
        <p:spPr>
          <a:xfrm>
            <a:off x="6108840" y="4005360"/>
            <a:ext cx="2736720" cy="720720"/>
          </a:xfrm>
          <a:prstGeom prst="rect">
            <a:avLst/>
          </a:prstGeom>
          <a:ln w="0">
            <a:noFill/>
          </a:ln>
        </p:spPr>
      </p:pic>
      <p:sp>
        <p:nvSpPr>
          <p:cNvPr id="307" name="Прямоугольник 14"/>
          <p:cNvSpPr/>
          <p:nvPr/>
        </p:nvSpPr>
        <p:spPr>
          <a:xfrm>
            <a:off x="6805800" y="3500280"/>
            <a:ext cx="2017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u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катод (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Box 19"/>
          <p:cNvSpPr/>
          <p:nvPr/>
        </p:nvSpPr>
        <p:spPr>
          <a:xfrm>
            <a:off x="343440" y="189000"/>
            <a:ext cx="660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Коррозия пары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Zn – Cu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в щелочной сред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C842-E967-4F7E-83BE-35B23E681FF5}" type="slidenum">
              <a:t>34</a:t>
            </a:fld>
          </a:p>
        </p:txBody>
      </p:sp>
    </p:spTree>
  </p:cSld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395280" y="1268280"/>
            <a:ext cx="822960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Georgia"/>
              </a:rPr>
              <a:t>Методы защиты от корроз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Прямая соединительная линия 3" descr=""/>
          <p:cNvPicPr/>
          <p:nvPr/>
        </p:nvPicPr>
        <p:blipFill>
          <a:blip r:embed="rId1"/>
          <a:stretch/>
        </p:blipFill>
        <p:spPr>
          <a:xfrm>
            <a:off x="42840" y="1962000"/>
            <a:ext cx="6033960" cy="152640"/>
          </a:xfrm>
          <a:prstGeom prst="rect">
            <a:avLst/>
          </a:prstGeom>
          <a:ln w="0">
            <a:noFill/>
          </a:ln>
        </p:spPr>
      </p:pic>
      <p:sp>
        <p:nvSpPr>
          <p:cNvPr id="311" name="Прямоугольник 4"/>
          <p:cNvSpPr/>
          <p:nvPr/>
        </p:nvSpPr>
        <p:spPr>
          <a:xfrm>
            <a:off x="324000" y="18900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ррозия процесс нежелательный, приносящий большие убыт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Управляющая кнопка: фильм 5"/>
          <p:cNvSpPr/>
          <p:nvPr/>
        </p:nvSpPr>
        <p:spPr>
          <a:xfrm>
            <a:off x="7380360" y="333360"/>
            <a:ext cx="1224000" cy="719280"/>
          </a:xfrm>
          <a:custGeom>
            <a:avLst/>
            <a:gdLst>
              <a:gd name="textAreaLeft" fmla="*/ 46440 w 1224000"/>
              <a:gd name="textAreaRight" fmla="*/ 1177560 w 1224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6749" h="21600">
                <a:moveTo>
                  <a:pt x="0" y="0"/>
                </a:moveTo>
                <a:lnTo>
                  <a:pt x="36749" y="0"/>
                </a:lnTo>
                <a:lnTo>
                  <a:pt x="36749" y="21600"/>
                </a:lnTo>
                <a:lnTo>
                  <a:pt x="0" y="21600"/>
                </a:lnTo>
                <a:close/>
              </a:path>
              <a:path fill="lightenLess" w="36749" h="21600">
                <a:moveTo>
                  <a:pt x="0" y="0"/>
                </a:moveTo>
                <a:lnTo>
                  <a:pt x="36749" y="0"/>
                </a:lnTo>
                <a:lnTo>
                  <a:pt x="35349" y="1400"/>
                </a:lnTo>
                <a:lnTo>
                  <a:pt x="1400" y="1400"/>
                </a:lnTo>
                <a:close/>
              </a:path>
              <a:path fill="darken" w="36749" h="21600">
                <a:moveTo>
                  <a:pt x="36749" y="0"/>
                </a:moveTo>
                <a:lnTo>
                  <a:pt x="36749" y="21600"/>
                </a:lnTo>
                <a:lnTo>
                  <a:pt x="35349" y="20200"/>
                </a:lnTo>
                <a:lnTo>
                  <a:pt x="35349" y="1400"/>
                </a:lnTo>
                <a:close/>
              </a:path>
              <a:path fill="darkenLess" w="36749" h="21600">
                <a:moveTo>
                  <a:pt x="36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49" y="20200"/>
                </a:lnTo>
                <a:close/>
              </a:path>
              <a:path fill="lighten" w="36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49" h="21600">
                <a:moveTo>
                  <a:pt x="11368" y="7301"/>
                </a:moveTo>
                <a:lnTo>
                  <a:pt x="12282" y="7301"/>
                </a:lnTo>
                <a:lnTo>
                  <a:pt x="12665" y="7667"/>
                </a:lnTo>
                <a:lnTo>
                  <a:pt x="21873" y="7667"/>
                </a:lnTo>
                <a:lnTo>
                  <a:pt x="22431" y="8224"/>
                </a:lnTo>
                <a:lnTo>
                  <a:pt x="22431" y="8772"/>
                </a:lnTo>
                <a:lnTo>
                  <a:pt x="24276" y="8772"/>
                </a:lnTo>
                <a:lnTo>
                  <a:pt x="24641" y="8224"/>
                </a:lnTo>
                <a:lnTo>
                  <a:pt x="25381" y="8224"/>
                </a:lnTo>
                <a:lnTo>
                  <a:pt x="25381" y="13376"/>
                </a:lnTo>
                <a:lnTo>
                  <a:pt x="24641" y="13376"/>
                </a:lnTo>
                <a:lnTo>
                  <a:pt x="24276" y="12828"/>
                </a:lnTo>
                <a:lnTo>
                  <a:pt x="22431" y="12828"/>
                </a:lnTo>
                <a:lnTo>
                  <a:pt x="22431" y="14107"/>
                </a:lnTo>
                <a:lnTo>
                  <a:pt x="12848" y="14107"/>
                </a:lnTo>
                <a:lnTo>
                  <a:pt x="12848" y="9877"/>
                </a:lnTo>
                <a:lnTo>
                  <a:pt x="12665" y="9877"/>
                </a:lnTo>
                <a:lnTo>
                  <a:pt x="12282" y="10243"/>
                </a:lnTo>
                <a:lnTo>
                  <a:pt x="11368" y="10243"/>
                </a:lnTo>
                <a:close/>
              </a:path>
            </a:pathLst>
          </a:custGeom>
          <a:solidFill>
            <a:srgbClr val="adbec6"/>
          </a:solidFill>
          <a:ln w="11520">
            <a:solidFill>
              <a:srgbClr val="003d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1332000" y="2349360"/>
            <a:ext cx="662472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100000"/>
              </a:lnSpc>
              <a:spcBef>
                <a:spcPts val="901"/>
              </a:spcBef>
              <a:buClr>
                <a:srgbClr val="a1bd6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Окра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901"/>
              </a:spcBef>
              <a:buClr>
                <a:srgbClr val="a1bd6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Оксид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901"/>
              </a:spcBef>
              <a:buClr>
                <a:srgbClr val="a1bd6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Нанесение металлических покрытий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 анод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 катод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901"/>
              </a:spcBef>
              <a:buClr>
                <a:srgbClr val="a1bd6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ротекторная защи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901"/>
              </a:spcBef>
              <a:buClr>
                <a:srgbClr val="a1bd6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Электрозащи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901"/>
              </a:spcBef>
              <a:buClr>
                <a:srgbClr val="a1bd6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рименение ингибиторов корроз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A2EE-AC5D-4BB4-A666-307B2C40C20B}" type="slidenum">
              <a:t>35</a:t>
            </a:fld>
          </a:p>
        </p:txBody>
      </p:sp>
    </p:spTree>
  </p:cSld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000"/>
                            </p:stCondLst>
                            <p:childTnLst>
                              <p:par>
                                <p:cTn id="8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2000"/>
                            </p:stCondLst>
                            <p:childTnLst>
                              <p:par>
                                <p:cTn id="8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539640" y="115920"/>
            <a:ext cx="82296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Georgia"/>
              </a:rPr>
              <a:t>Нанесение катодных покрыт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0" y="3284640"/>
            <a:ext cx="9144000" cy="576000"/>
          </a:xfrm>
          <a:prstGeom prst="rect">
            <a:avLst/>
          </a:prstGeom>
          <a:solidFill>
            <a:srgbClr val="ecccc8"/>
          </a:solidFill>
          <a:ln w="9360">
            <a:solidFill>
              <a:srgbClr val="a1bd69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Georgia"/>
              </a:rPr>
              <a:t>Электрохимическая коррозия железа, покрытого олов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Прямоугольник 3"/>
          <p:cNvSpPr/>
          <p:nvPr/>
        </p:nvSpPr>
        <p:spPr>
          <a:xfrm>
            <a:off x="250920" y="952560"/>
            <a:ext cx="8497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Times New Roman"/>
              </a:rPr>
              <a:t>Катодные покрыти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это покрытия защищаемого металла менее активным металл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"/>
          <p:cNvSpPr/>
          <p:nvPr/>
        </p:nvSpPr>
        <p:spPr>
          <a:xfrm>
            <a:off x="250920" y="194508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это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ан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более активный металл (защищаемый металл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като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менее активный метал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Прямая соединительная линия 6" descr=""/>
          <p:cNvPicPr/>
          <p:nvPr/>
        </p:nvPicPr>
        <p:blipFill>
          <a:blip r:embed="rId1"/>
          <a:stretch/>
        </p:blipFill>
        <p:spPr>
          <a:xfrm>
            <a:off x="109440" y="738360"/>
            <a:ext cx="6540480" cy="152280"/>
          </a:xfrm>
          <a:prstGeom prst="rect">
            <a:avLst/>
          </a:prstGeom>
          <a:ln w="0">
            <a:noFill/>
          </a:ln>
        </p:spPr>
      </p:pic>
      <p:sp>
        <p:nvSpPr>
          <p:cNvPr id="319" name="Прямоугольник 7"/>
          <p:cNvSpPr/>
          <p:nvPr/>
        </p:nvSpPr>
        <p:spPr>
          <a:xfrm>
            <a:off x="250920" y="5445000"/>
            <a:ext cx="84978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одный процесс (-)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тодный процесс (+)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(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г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Object 1" descr=""/>
          <p:cNvPicPr/>
          <p:nvPr/>
        </p:nvPicPr>
        <p:blipFill>
          <a:blip r:embed="rId2"/>
          <a:stretch/>
        </p:blipFill>
        <p:spPr>
          <a:xfrm>
            <a:off x="1436760" y="4076640"/>
            <a:ext cx="2703600" cy="7192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5219640" y="4005360"/>
            <a:ext cx="2638440" cy="718920"/>
          </a:xfrm>
          <a:prstGeom prst="rect">
            <a:avLst/>
          </a:prstGeom>
          <a:ln w="0">
            <a:noFill/>
          </a:ln>
        </p:spPr>
      </p:pic>
      <p:sp>
        <p:nvSpPr>
          <p:cNvPr id="322" name="TextBox 10"/>
          <p:cNvSpPr/>
          <p:nvPr/>
        </p:nvSpPr>
        <p:spPr>
          <a:xfrm>
            <a:off x="4430160" y="407664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7"/>
          <p:cNvSpPr/>
          <p:nvPr/>
        </p:nvSpPr>
        <p:spPr>
          <a:xfrm flipH="1" rot="10800000">
            <a:off x="1403280" y="4868640"/>
            <a:ext cx="3240000" cy="431640"/>
          </a:xfrm>
          <a:prstGeom prst="wedgeRoundRectCallout">
            <a:avLst>
              <a:gd name="adj1" fmla="val -38398"/>
              <a:gd name="adj2" fmla="val 88189"/>
              <a:gd name="adj3" fmla="val 16667"/>
            </a:avLst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восстановител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7"/>
          <p:cNvSpPr/>
          <p:nvPr/>
        </p:nvSpPr>
        <p:spPr>
          <a:xfrm flipH="1" rot="10800000">
            <a:off x="5508720" y="4868640"/>
            <a:ext cx="3240000" cy="431640"/>
          </a:xfrm>
          <a:prstGeom prst="wedgeRoundRectCallout">
            <a:avLst>
              <a:gd name="adj1" fmla="val -38398"/>
              <a:gd name="adj2" fmla="val 88189"/>
              <a:gd name="adj3" fmla="val 16667"/>
            </a:avLst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окислител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BEAB-09D7-460E-9665-B4B5EBB7B273}" type="slidenum">
              <a:t>36</a:t>
            </a:fld>
          </a:p>
        </p:txBody>
      </p:sp>
    </p:spTree>
  </p:cSld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3079-FFFC-40D3-8D07-EB43F8BDB1D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539640" y="115920"/>
            <a:ext cx="82296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Georgia"/>
              </a:rPr>
              <a:t>Нанесение анодных покрыт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0" y="3284640"/>
            <a:ext cx="9144000" cy="576000"/>
          </a:xfrm>
          <a:prstGeom prst="rect">
            <a:avLst/>
          </a:prstGeom>
          <a:solidFill>
            <a:srgbClr val="ecccc8"/>
          </a:solidFill>
          <a:ln w="9360">
            <a:solidFill>
              <a:srgbClr val="a1bd69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Georgia"/>
              </a:rPr>
              <a:t>Электрохимическая коррозия железа, покрытого цин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250920" y="952560"/>
            <a:ext cx="8497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Times New Roman"/>
              </a:rPr>
              <a:t>Анодные покрыти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это покрытия защищаемого металла более активным металл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"/>
          <p:cNvSpPr/>
          <p:nvPr/>
        </p:nvSpPr>
        <p:spPr>
          <a:xfrm>
            <a:off x="250920" y="194508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это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ан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более активный метал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като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менее активный металл (защищаемый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Прямая соединительная линия 6" descr=""/>
          <p:cNvPicPr/>
          <p:nvPr/>
        </p:nvPicPr>
        <p:blipFill>
          <a:blip r:embed="rId1"/>
          <a:stretch/>
        </p:blipFill>
        <p:spPr>
          <a:xfrm>
            <a:off x="109440" y="738360"/>
            <a:ext cx="6540480" cy="152280"/>
          </a:xfrm>
          <a:prstGeom prst="rect">
            <a:avLst/>
          </a:prstGeom>
          <a:ln w="0">
            <a:noFill/>
          </a:ln>
        </p:spPr>
      </p:pic>
      <p:sp>
        <p:nvSpPr>
          <p:cNvPr id="331" name="Прямоугольник 7"/>
          <p:cNvSpPr/>
          <p:nvPr/>
        </p:nvSpPr>
        <p:spPr>
          <a:xfrm>
            <a:off x="250920" y="5445000"/>
            <a:ext cx="84978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одный процесс (-)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тодный процесс (+)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(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г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Object 1" descr=""/>
          <p:cNvPicPr/>
          <p:nvPr/>
        </p:nvPicPr>
        <p:blipFill>
          <a:blip r:embed="rId2"/>
          <a:stretch/>
        </p:blipFill>
        <p:spPr>
          <a:xfrm>
            <a:off x="1436760" y="4076640"/>
            <a:ext cx="2703600" cy="7192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5187960" y="4005360"/>
            <a:ext cx="2703600" cy="718920"/>
          </a:xfrm>
          <a:prstGeom prst="rect">
            <a:avLst/>
          </a:prstGeom>
          <a:ln w="0">
            <a:noFill/>
          </a:ln>
        </p:spPr>
      </p:pic>
      <p:sp>
        <p:nvSpPr>
          <p:cNvPr id="334" name="TextBox 10"/>
          <p:cNvSpPr/>
          <p:nvPr/>
        </p:nvSpPr>
        <p:spPr>
          <a:xfrm>
            <a:off x="4430160" y="407664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7"/>
          <p:cNvSpPr/>
          <p:nvPr/>
        </p:nvSpPr>
        <p:spPr>
          <a:xfrm flipH="1" rot="10800000">
            <a:off x="1403280" y="4868640"/>
            <a:ext cx="3240000" cy="431640"/>
          </a:xfrm>
          <a:prstGeom prst="wedgeRoundRectCallout">
            <a:avLst>
              <a:gd name="adj1" fmla="val -38398"/>
              <a:gd name="adj2" fmla="val 88189"/>
              <a:gd name="adj3" fmla="val 16667"/>
            </a:avLst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окислител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7"/>
          <p:cNvSpPr/>
          <p:nvPr/>
        </p:nvSpPr>
        <p:spPr>
          <a:xfrm flipH="1" rot="10800000">
            <a:off x="5508720" y="4868640"/>
            <a:ext cx="3240000" cy="431640"/>
          </a:xfrm>
          <a:prstGeom prst="wedgeRoundRectCallout">
            <a:avLst>
              <a:gd name="adj1" fmla="val -38398"/>
              <a:gd name="adj2" fmla="val 88189"/>
              <a:gd name="adj3" fmla="val 16667"/>
            </a:avLst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восстановител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FC65-A742-460C-9CBD-1555C613072F}" type="slidenum">
              <a:t>38</a:t>
            </a:fld>
          </a:p>
        </p:txBody>
      </p:sp>
    </p:spTree>
  </p:cSld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10"/>
          <p:cNvGrpSpPr/>
          <p:nvPr/>
        </p:nvGrpSpPr>
        <p:grpSpPr>
          <a:xfrm>
            <a:off x="-12600" y="12600"/>
            <a:ext cx="9156600" cy="6858000"/>
            <a:chOff x="-12600" y="12600"/>
            <a:chExt cx="9156600" cy="6858000"/>
          </a:xfrm>
        </p:grpSpPr>
        <p:grpSp>
          <p:nvGrpSpPr>
            <p:cNvPr id="338" name="Group 8"/>
            <p:cNvGrpSpPr/>
            <p:nvPr/>
          </p:nvGrpSpPr>
          <p:grpSpPr>
            <a:xfrm>
              <a:off x="-12600" y="12600"/>
              <a:ext cx="9156600" cy="6858000"/>
              <a:chOff x="-12600" y="12600"/>
              <a:chExt cx="9156600" cy="6858000"/>
            </a:xfrm>
          </p:grpSpPr>
          <p:pic>
            <p:nvPicPr>
              <p:cNvPr id="339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-12600" y="1226880"/>
                <a:ext cx="9144000" cy="451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0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-12600" y="5680080"/>
                <a:ext cx="9156600" cy="119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1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-12600" y="12600"/>
                <a:ext cx="9144000" cy="1217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42" name="Picture 9" descr=""/>
            <p:cNvPicPr/>
            <p:nvPr/>
          </p:nvPicPr>
          <p:blipFill>
            <a:blip r:embed="rId4"/>
            <a:stretch/>
          </p:blipFill>
          <p:spPr>
            <a:xfrm>
              <a:off x="4233960" y="5216400"/>
              <a:ext cx="336600" cy="16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7BEE-2C31-4F2F-B0C0-5FDFDA30D223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539640" y="69228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a1bd6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При электролизе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a1bd69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на </a:t>
            </a:r>
            <a:r>
              <a:rPr b="0" i="1" lang="en-US" sz="2700" spc="-1" strike="noStrike">
                <a:solidFill>
                  <a:srgbClr val="800000"/>
                </a:solidFill>
                <a:latin typeface="Georgia"/>
              </a:rPr>
              <a:t>отрицательном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 электроде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700" spc="-1" strike="noStrike">
                <a:solidFill>
                  <a:srgbClr val="990000"/>
                </a:solidFill>
                <a:latin typeface="Georgia"/>
              </a:rPr>
              <a:t>(</a:t>
            </a:r>
            <a:r>
              <a:rPr b="1" lang="en-US" sz="2700" spc="-1" strike="noStrike">
                <a:solidFill>
                  <a:srgbClr val="800000"/>
                </a:solidFill>
                <a:latin typeface="Georgia"/>
              </a:rPr>
              <a:t>катоде)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идет процесс </a:t>
            </a:r>
            <a:r>
              <a:rPr b="1" lang="en-US" sz="2700" spc="-1" strike="noStrike">
                <a:solidFill>
                  <a:srgbClr val="03037d"/>
                </a:solidFill>
                <a:latin typeface="Georgia"/>
              </a:rPr>
              <a:t>восстановления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,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a1bd69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а на </a:t>
            </a:r>
            <a:r>
              <a:rPr b="0" i="1" lang="en-US" sz="2700" spc="-1" strike="noStrike">
                <a:solidFill>
                  <a:srgbClr val="800000"/>
                </a:solidFill>
                <a:latin typeface="Georgia"/>
              </a:rPr>
              <a:t>положительном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электроде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700" spc="-1" strike="noStrike">
                <a:solidFill>
                  <a:srgbClr val="990000"/>
                </a:solidFill>
                <a:latin typeface="Georgia"/>
              </a:rPr>
              <a:t>(</a:t>
            </a:r>
            <a:r>
              <a:rPr b="1" lang="en-US" sz="2700" spc="-1" strike="noStrike">
                <a:solidFill>
                  <a:srgbClr val="800000"/>
                </a:solidFill>
                <a:latin typeface="Georgia"/>
              </a:rPr>
              <a:t>аноде)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идет процесс </a:t>
            </a:r>
            <a:r>
              <a:rPr b="1" lang="en-US" sz="2700" spc="-1" strike="noStrike">
                <a:solidFill>
                  <a:srgbClr val="03037d"/>
                </a:solidFill>
                <a:latin typeface="Georgia"/>
              </a:rPr>
              <a:t>окисления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a1bd6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a1bd6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a1bd6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Анодные и катодные процессы зависят от природы электролит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раствор или расплав)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и материала, из которого изготовлены электроды (инертный или растворимый электрод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8A24-2955-4AE5-B853-9D23433FD78D}" type="slidenum">
              <a:t>4</a:t>
            </a:fld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"/>
          <p:cNvSpPr/>
          <p:nvPr/>
        </p:nvSpPr>
        <p:spPr>
          <a:xfrm>
            <a:off x="395280" y="11991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 защищаемому металлу  крепится металл потенциал которого меньше. Этот металл называют протектор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2"/>
          <p:cNvSpPr/>
          <p:nvPr/>
        </p:nvSpPr>
        <p:spPr>
          <a:xfrm>
            <a:off x="539640" y="115920"/>
            <a:ext cx="82296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Georgia"/>
              </a:rPr>
              <a:t>Протекторная защи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Прямая соединительная линия 3" descr=""/>
          <p:cNvPicPr/>
          <p:nvPr/>
        </p:nvPicPr>
        <p:blipFill>
          <a:blip r:embed="rId1"/>
          <a:stretch/>
        </p:blipFill>
        <p:spPr>
          <a:xfrm>
            <a:off x="109440" y="738360"/>
            <a:ext cx="6540480" cy="15228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1"/>
          <p:cNvSpPr/>
          <p:nvPr/>
        </p:nvSpPr>
        <p:spPr>
          <a:xfrm>
            <a:off x="324000" y="213804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это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ан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более активный металл (протектор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като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менее активный металл (защищаемый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2"/>
          <p:cNvSpPr/>
          <p:nvPr/>
        </p:nvSpPr>
        <p:spPr>
          <a:xfrm>
            <a:off x="0" y="3500280"/>
            <a:ext cx="9144000" cy="576360"/>
          </a:xfrm>
          <a:prstGeom prst="rect">
            <a:avLst/>
          </a:prstGeom>
          <a:solidFill>
            <a:srgbClr val="ecccc8"/>
          </a:solidFill>
          <a:ln w="9360">
            <a:solidFill>
              <a:srgbClr val="a1bd69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Georgia"/>
              </a:rPr>
              <a:t>Электрохимическая коррозия пары железо - маг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Object 1" descr=""/>
          <p:cNvPicPr/>
          <p:nvPr/>
        </p:nvPicPr>
        <p:blipFill>
          <a:blip r:embed="rId2"/>
          <a:stretch/>
        </p:blipFill>
        <p:spPr>
          <a:xfrm>
            <a:off x="1436760" y="4294080"/>
            <a:ext cx="2703600" cy="7192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5122800" y="4222800"/>
            <a:ext cx="2832120" cy="718920"/>
          </a:xfrm>
          <a:prstGeom prst="rect">
            <a:avLst/>
          </a:prstGeom>
          <a:ln w="0">
            <a:noFill/>
          </a:ln>
        </p:spPr>
      </p:pic>
      <p:sp>
        <p:nvSpPr>
          <p:cNvPr id="350" name="TextBox 8"/>
          <p:cNvSpPr/>
          <p:nvPr/>
        </p:nvSpPr>
        <p:spPr>
          <a:xfrm>
            <a:off x="4430160" y="429408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Прямоугольник 9"/>
          <p:cNvSpPr/>
          <p:nvPr/>
        </p:nvSpPr>
        <p:spPr>
          <a:xfrm>
            <a:off x="324000" y="5229360"/>
            <a:ext cx="8496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одный процесс (-)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тодный процесс (+)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(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г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68BE-DC34-4B5B-8C22-876192A434A8}" type="slidenum">
              <a:t>40</a:t>
            </a:fld>
          </a:p>
        </p:txBody>
      </p:sp>
    </p:spTree>
  </p:cSld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353" name="TextBox 2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solidFill>
            <a:srgbClr val="eae1c4"/>
          </a:solidFill>
          <a:ln w="9360">
            <a:solidFill>
              <a:srgbClr val="3694b6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Защита стальных труб, помещенных в грун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861C-D075-4F21-BD60-FD7A4764CA0A}" type="slidenum">
              <a:t>41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2"/>
          <p:cNvSpPr/>
          <p:nvPr/>
        </p:nvSpPr>
        <p:spPr>
          <a:xfrm>
            <a:off x="324000" y="2009880"/>
            <a:ext cx="3384360" cy="93636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С растворимым анодо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(если электрод изготовлен из Ме, ионы которого есть в растворе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5219640" y="2225520"/>
            <a:ext cx="3591000" cy="72864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С инертным электродо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(С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Pt, графит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755640" y="3378240"/>
            <a:ext cx="2160720" cy="33804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MS Mincho"/>
              </a:rPr>
              <a:t>Ме</a:t>
            </a:r>
            <a:r>
              <a:rPr b="1" lang="en-US" sz="1600" spc="-1" strike="noStrike" baseline="30000">
                <a:solidFill>
                  <a:srgbClr val="000000"/>
                </a:solidFill>
                <a:latin typeface="Georgia"/>
                <a:ea typeface="MS Mincho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MS Mincho"/>
              </a:rPr>
              <a:t> – ne = Me</a:t>
            </a:r>
            <a:r>
              <a:rPr b="1" lang="en-US" sz="1600" spc="-1" strike="noStrike" baseline="30000">
                <a:solidFill>
                  <a:srgbClr val="000000"/>
                </a:solidFill>
                <a:latin typeface="Georgia"/>
                <a:ea typeface="MS Mincho"/>
              </a:rPr>
              <a:t>n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"/>
          <p:cNvSpPr/>
          <p:nvPr/>
        </p:nvSpPr>
        <p:spPr>
          <a:xfrm>
            <a:off x="1908000" y="29462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8"/>
          <p:cNvSpPr/>
          <p:nvPr/>
        </p:nvSpPr>
        <p:spPr>
          <a:xfrm flipH="1">
            <a:off x="2268360" y="1557360"/>
            <a:ext cx="24480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4716360" y="1557360"/>
            <a:ext cx="2232000" cy="66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468360" y="4530600"/>
            <a:ext cx="2663640" cy="93672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 растворе есть галогенсодержащие ион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(Сl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MS Mincho"/>
              </a:rPr>
              <a:t>-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, Br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MS Mincho"/>
              </a:rPr>
              <a:t>-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, I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MS Mincho"/>
              </a:rPr>
              <a:t>-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, кроме F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MS Mincho"/>
              </a:rPr>
              <a:t>-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564000" y="4530600"/>
            <a:ext cx="2808360" cy="93672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 растворе есть анионы кислородсодержащих кисло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( SO</a:t>
            </a:r>
            <a:r>
              <a:rPr b="0" i="1" lang="en-US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4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MS Mincho"/>
              </a:rPr>
              <a:t>2-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, PO</a:t>
            </a:r>
            <a:r>
              <a:rPr b="0" i="1" lang="en-US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4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MS Mincho"/>
              </a:rPr>
              <a:t>3-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, NO</a:t>
            </a:r>
            <a:r>
              <a:rPr b="0" i="1" lang="en-US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3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MS Mincho"/>
              </a:rPr>
              <a:t>-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и F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MS Mincho"/>
              </a:rPr>
              <a:t>-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588000" y="4818240"/>
            <a:ext cx="2087640" cy="43308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Растворы щелоче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3419640" y="907920"/>
            <a:ext cx="2447640" cy="66996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НОД ( + 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- е (окислени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3"/>
          <p:cNvSpPr/>
          <p:nvPr/>
        </p:nvSpPr>
        <p:spPr>
          <a:xfrm flipH="1">
            <a:off x="2050560" y="2946240"/>
            <a:ext cx="538812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"/>
          <p:cNvSpPr/>
          <p:nvPr/>
        </p:nvSpPr>
        <p:spPr>
          <a:xfrm flipH="1">
            <a:off x="5508360" y="2946240"/>
            <a:ext cx="19270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"/>
          <p:cNvSpPr/>
          <p:nvPr/>
        </p:nvSpPr>
        <p:spPr>
          <a:xfrm>
            <a:off x="7451640" y="2946240"/>
            <a:ext cx="505080" cy="18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1332000" y="240120"/>
            <a:ext cx="6480000" cy="473760"/>
          </a:xfrm>
          <a:prstGeom prst="rect">
            <a:avLst/>
          </a:prstGeom>
          <a:solidFill>
            <a:srgbClr val="ecccc8"/>
          </a:solidFill>
          <a:ln w="9360">
            <a:solidFill>
              <a:srgbClr val="a1bd69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нодные процессы при электролиз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0" y="136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6120"/>
                <a:tab algn="l" pos="898560"/>
                <a:tab algn="l" pos="1349280"/>
                <a:tab algn="l" pos="5159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Прямоугольник 17"/>
          <p:cNvSpPr/>
          <p:nvPr/>
        </p:nvSpPr>
        <p:spPr>
          <a:xfrm>
            <a:off x="6443640" y="5970600"/>
            <a:ext cx="2556000" cy="38088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MS Mincho"/>
              </a:rPr>
              <a:t>4 O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Georgia"/>
                <a:ea typeface="MS Mincho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MS Mincho"/>
              </a:rPr>
              <a:t> - 4e = O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Georgia"/>
                <a:ea typeface="MS Mincho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MS Mincho"/>
              </a:rPr>
              <a:t> + 2H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Georgia"/>
                <a:ea typeface="MS Mincho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MS Mincho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Прямоугольник 18"/>
          <p:cNvSpPr/>
          <p:nvPr/>
        </p:nvSpPr>
        <p:spPr>
          <a:xfrm>
            <a:off x="3635280" y="5970600"/>
            <a:ext cx="2592360" cy="38088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MS Mincho"/>
              </a:rPr>
              <a:t>2 H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Georgia"/>
                <a:ea typeface="MS Mincho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MS Mincho"/>
              </a:rPr>
              <a:t>O – 4e = O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Georgia"/>
                <a:ea typeface="MS Mincho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MS Mincho"/>
              </a:rPr>
              <a:t> +4 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Georgia"/>
                <a:ea typeface="MS Mincho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Прямоугольник 19"/>
          <p:cNvSpPr/>
          <p:nvPr/>
        </p:nvSpPr>
        <p:spPr>
          <a:xfrm>
            <a:off x="971640" y="5970600"/>
            <a:ext cx="1728720" cy="38088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MS Mincho"/>
              </a:rPr>
              <a:t>2 Cl</a:t>
            </a:r>
            <a:r>
              <a:rPr b="1" lang="ru-RU" sz="1600" spc="-1" strike="noStrike" baseline="30000">
                <a:solidFill>
                  <a:srgbClr val="000000"/>
                </a:solidFill>
                <a:latin typeface="Georgia"/>
                <a:ea typeface="MS Mincho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MS Mincho"/>
              </a:rPr>
              <a:t> – 2e = Cl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Georgia"/>
                <a:ea typeface="MS Mincho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Прямая со стрелкой 29"/>
          <p:cNvCxnSpPr>
            <a:stCxn id="83" idx="2"/>
          </p:cNvCxnSpPr>
          <p:nvPr/>
        </p:nvCxnSpPr>
        <p:spPr>
          <a:xfrm flipH="1">
            <a:off x="4931640" y="5467320"/>
            <a:ext cx="3564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Прямая со стрелкой 32"/>
          <p:cNvCxnSpPr>
            <a:stCxn id="82" idx="2"/>
            <a:endCxn id="93" idx="0"/>
          </p:cNvCxnSpPr>
          <p:nvPr/>
        </p:nvCxnSpPr>
        <p:spPr>
          <a:xfrm>
            <a:off x="1799280" y="5467320"/>
            <a:ext cx="3564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Прямая со стрелкой 35"/>
          <p:cNvCxnSpPr>
            <a:stCxn id="84" idx="2"/>
          </p:cNvCxnSpPr>
          <p:nvPr/>
        </p:nvCxnSpPr>
        <p:spPr>
          <a:xfrm flipH="1">
            <a:off x="7595640" y="5251320"/>
            <a:ext cx="37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01AB-2864-4F76-A2D0-1CBCB5797CE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4"/>
          <p:cNvSpPr/>
          <p:nvPr/>
        </p:nvSpPr>
        <p:spPr>
          <a:xfrm>
            <a:off x="1332000" y="240120"/>
            <a:ext cx="6480000" cy="473760"/>
          </a:xfrm>
          <a:prstGeom prst="rect">
            <a:avLst/>
          </a:prstGeom>
          <a:solidFill>
            <a:srgbClr val="ecccc8"/>
          </a:solidFill>
          <a:ln w="9360">
            <a:solidFill>
              <a:srgbClr val="a1bd69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Катодные процессы при электролиз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9"/>
          <p:cNvSpPr/>
          <p:nvPr/>
        </p:nvSpPr>
        <p:spPr>
          <a:xfrm>
            <a:off x="3276720" y="1197000"/>
            <a:ext cx="2649240" cy="71928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КАТОД ( -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+ е (восстановлени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539640" y="2492280"/>
            <a:ext cx="1486080" cy="43200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Расплав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4067280" y="2924280"/>
            <a:ext cx="1474560" cy="50472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Раство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916360" y="3860640"/>
            <a:ext cx="1646280" cy="108108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Солей Ме, стоящих в ЭХР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до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Al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(включительно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5003640" y="4005360"/>
            <a:ext cx="1584360" cy="86364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Солей Ме,  стоящих в ЭХР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после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6659640" y="2349360"/>
            <a:ext cx="2236680" cy="79236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Растворы сильных кисло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"/>
          <p:cNvSpPr/>
          <p:nvPr/>
        </p:nvSpPr>
        <p:spPr>
          <a:xfrm>
            <a:off x="6948360" y="3716280"/>
            <a:ext cx="2016360" cy="43344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  <a:ea typeface="MS Mincho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MS Mincho"/>
              </a:rPr>
              <a:t> 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Georgia"/>
                <a:ea typeface="MS Mincho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MS Mincho"/>
              </a:rPr>
              <a:t> + 2e  =  H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Georgia"/>
                <a:ea typeface="MS Mincho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340000" y="5589720"/>
            <a:ext cx="2663640" cy="43164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MS Mincho"/>
              </a:rPr>
              <a:t>2 H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Georgia"/>
                <a:ea typeface="MS Mincho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MS Mincho"/>
              </a:rPr>
              <a:t>O + 2e = H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Georgia"/>
                <a:ea typeface="MS Mincho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MS Mincho"/>
              </a:rPr>
              <a:t> + 2 O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Georgia"/>
                <a:ea typeface="MS Mincho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219640" y="5589720"/>
            <a:ext cx="1873440" cy="43164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MS Mincho"/>
              </a:rPr>
              <a:t>Me</a:t>
            </a:r>
            <a:r>
              <a:rPr b="1" lang="en-US" sz="1600" spc="-1" strike="noStrike" baseline="30000">
                <a:solidFill>
                  <a:srgbClr val="000000"/>
                </a:solidFill>
                <a:latin typeface="Georgia"/>
                <a:ea typeface="MS Mincho"/>
              </a:rPr>
              <a:t>n+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MS Mincho"/>
              </a:rPr>
              <a:t> + ne = Me</a:t>
            </a:r>
            <a:r>
              <a:rPr b="1" lang="en-US" sz="1600" spc="-1" strike="noStrike" baseline="30000">
                <a:solidFill>
                  <a:srgbClr val="000000"/>
                </a:solidFill>
                <a:latin typeface="Georgia"/>
                <a:ea typeface="MS Mincho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324000" y="3573360"/>
            <a:ext cx="2303280" cy="36036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MS Mincho"/>
              </a:rPr>
              <a:t>M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Georgia"/>
                <a:ea typeface="MS Mincho"/>
              </a:rPr>
              <a:t>n+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MS Mincho"/>
              </a:rPr>
              <a:t> + ne = M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Georgia"/>
                <a:ea typeface="MS Mincho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5"/>
          <p:cNvSpPr/>
          <p:nvPr/>
        </p:nvSpPr>
        <p:spPr>
          <a:xfrm>
            <a:off x="1258920" y="2997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2"/>
          <p:cNvSpPr/>
          <p:nvPr/>
        </p:nvSpPr>
        <p:spPr>
          <a:xfrm flipH="1">
            <a:off x="1258560" y="1916280"/>
            <a:ext cx="3384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1"/>
          <p:cNvSpPr/>
          <p:nvPr/>
        </p:nvSpPr>
        <p:spPr>
          <a:xfrm>
            <a:off x="3708360" y="494172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6012000" y="494172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4481640" y="2275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5"/>
          <p:cNvSpPr/>
          <p:nvPr/>
        </p:nvSpPr>
        <p:spPr>
          <a:xfrm>
            <a:off x="4481640" y="593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6"/>
          <p:cNvSpPr/>
          <p:nvPr/>
        </p:nvSpPr>
        <p:spPr>
          <a:xfrm>
            <a:off x="4024440" y="669600"/>
            <a:ext cx="109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2"/>
          <p:cNvSpPr/>
          <p:nvPr/>
        </p:nvSpPr>
        <p:spPr>
          <a:xfrm>
            <a:off x="4643280" y="1916280"/>
            <a:ext cx="331344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4788000" y="3429000"/>
            <a:ext cx="1079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2"/>
          <p:cNvSpPr/>
          <p:nvPr/>
        </p:nvSpPr>
        <p:spPr>
          <a:xfrm flipH="1">
            <a:off x="3635280" y="3429000"/>
            <a:ext cx="115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4643280" y="1916280"/>
            <a:ext cx="0" cy="9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7885080" y="3141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C4BD-B742-4328-B2DC-F17DE37D3A9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2060"/>
                </a:solidFill>
                <a:latin typeface="Times New Roman"/>
              </a:rPr>
              <a:t>Законы электролиза</a:t>
            </a:r>
            <a:endParaRPr b="0" lang="en-US" sz="47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508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000000"/>
                </a:solidFill>
                <a:uFillTx/>
                <a:latin typeface="Times New Roman"/>
              </a:rPr>
              <a:t>Первый закон Фарадея</a:t>
            </a:r>
            <a:r>
              <a:rPr b="0" lang="ru-RU" sz="3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Масса вещества, образующегося на электроде, пропорциональна количеству электричества, пропущенного через раство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0" algn="ctr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q = I · </a:t>
            </a:r>
            <a:r>
              <a:rPr b="0" lang="el-GR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где    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q –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количество электричества, Кл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I –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сила тока, А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продолжительность пропускания тока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324000" y="5084640"/>
            <a:ext cx="82422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л = 1 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ремя выражено в часах, то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 = 3600 К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0BCF-EDFB-4A81-8CC6-79AA9E7855D3}" type="slidenum">
              <a:t>7</a:t>
            </a:fld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324000" y="404640"/>
            <a:ext cx="8508960" cy="59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a1bd6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Georgia"/>
              </a:rPr>
              <a:t>Второй закон Фарадея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a1bd6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700" spc="-1" strike="noStrike">
                <a:solidFill>
                  <a:srgbClr val="660033"/>
                </a:solidFill>
                <a:latin typeface="Georgia"/>
              </a:rPr>
              <a:t>Для разряда одного моль ионов на электроде через раствор необходимо пропустить столько Фарадеев электричества, сколько элементарных зарядов имеет данный ион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700" spc="-1" strike="noStrike">
                <a:solidFill>
                  <a:srgbClr val="03037d"/>
                </a:solidFill>
                <a:latin typeface="Georgia"/>
              </a:rPr>
              <a:t>Фарадей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– это заряд, который несет на себе один моль электронов или один моль однозарядных ионов (т.е.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,02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</a:t>
            </a:r>
            <a:r>
              <a:rPr b="0" lang="ru-RU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астиц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= 96500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 = 26,8 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698D-19C9-4AEC-AB7F-42B5A5AE7F2E}" type="slidenum">
              <a:t>8</a:t>
            </a:fld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755640" y="692280"/>
            <a:ext cx="7777080" cy="53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выделения 1 моль вещества надо пропустить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А∙час) электричества, т.е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выделения 1 мол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обходимо пропустить 26,8 (А∙час) электричеств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выделения 1 мол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обходимо пропустить  2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6,8; т.е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А∙час) электричеств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выделения 1 мол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обходимо пропустить  2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6,8; т.е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А∙час) электриче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выделяется газ, то в расчеты берется эквивалентный объем (22,4 л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D7C2-636C-4682-9382-7C114171DB55}" type="slidenum">
              <a:t>9</a:t>
            </a:fld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0T08:48:14Z</dcterms:created>
  <dc:creator>Администратор</dc:creator>
  <dc:description/>
  <dc:language>en-US</dc:language>
  <cp:lastModifiedBy>Student</cp:lastModifiedBy>
  <dcterms:modified xsi:type="dcterms:W3CDTF">2013-05-02T10:35:36Z</dcterms:modified>
  <cp:revision>19</cp:revision>
  <dc:subject/>
  <dc:title>Презентация PowerPoint</dc:title>
</cp:coreProperties>
</file>