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6EF-523D-4698-B10F-DDAE4731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C6B-1BF2-4C85-ACCF-5E4541BD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F81-FFE0-45C0-9217-9B8FA0D2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747-264F-46AE-841D-50F7E9BB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9CB7-7091-4D23-9FF3-B385946A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5EE2-4771-4B2A-800E-4470B612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A072-C4BE-4AAF-AD85-F50A8BB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D047-6AE0-4BC7-AE7D-1C083D56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CC21-8B97-44DD-8AFD-1DCBB865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7CF2-F2EF-4DEC-8642-74692C11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AF3B-3272-441C-A740-C05D5AD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F8E-1CD4-49CD-926F-7DFAAFBB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717D-EF09-4A07-ADA5-20CECDCD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DA4F-125A-4359-BE52-D9390AE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9CA3-704A-41E1-9AB2-9ABA48B3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DF3B-1F54-401B-AAB9-D765ADC1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0CFE-0618-4EAF-9D74-01EE0041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669-3B3E-480A-B210-34064B15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74F-BDA9-44B6-95C4-500CD006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2A3-14B7-443B-A38A-61E5860B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2E7-8AE6-4B77-91B3-CD420A62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FE7-238B-474B-8AF1-4B821B8F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2D7-C24D-4060-B621-DA8AE05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F9C-72A3-42D6-88A4-CAB668F3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341B-1170-4D55-8C51-0C314887D71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2E65-964C-4ED9-9C66-5D32306319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A2E1-32FD-40A8-9E15-4657E7036055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046A-CD7C-4445-90F3-11928D7B3088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0"/>
          <p:cNvSpPr txBox="1"/>
          <p:nvPr/>
        </p:nvSpPr>
        <p:spPr>
          <a:xfrm>
            <a:off x="228600" y="0"/>
            <a:ext cx="8915400" cy="65530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cc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onotype Corsiva"/>
              </a:rPr>
              <a:t>Основные </a:t>
            </a:r>
            <a:endParaRPr b="1" lang="en-US" sz="6600" spc="1" strike="noStrike">
              <a:ln w="12600">
                <a:solidFill>
                  <a:srgbClr val="ffcc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cc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классы </a:t>
            </a:r>
            <a:endParaRPr b="1" lang="en-US" sz="6600" spc="1" strike="noStrike">
              <a:ln w="12600">
                <a:solidFill>
                  <a:srgbClr val="ffcc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cc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Monotype Corsiva"/>
              </a:rPr>
              <a:t>неорганических </a:t>
            </a:r>
            <a:endParaRPr b="1" lang="en-US" sz="6600" spc="1" strike="noStrike">
              <a:ln w="12600">
                <a:solidFill>
                  <a:srgbClr val="ffcc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cc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Monotype Corsiva"/>
              </a:rPr>
              <a:t>соединений</a:t>
            </a:r>
            <a:endParaRPr b="1" lang="en-US" sz="6600" spc="1" strike="noStrike">
              <a:ln w="12600">
                <a:solidFill>
                  <a:srgbClr val="ffcc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26A-AB2F-4669-8BFA-0F893242D6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заимодействие простых веществ и солей с кислотами-окислителям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имеры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 + 4H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р-р)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4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;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 +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H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конц.)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Cu(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2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+ 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+ 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⁭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DB9-8AC9-479F-B895-3D9339DB1A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3311280" cy="496764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1"/>
          <p:cNvSpPr txBox="1"/>
          <p:nvPr/>
        </p:nvSpPr>
        <p:spPr>
          <a:xfrm>
            <a:off x="0" y="5486400"/>
            <a:ext cx="914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Получение оксидов металлов 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(установка)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1BF-9EBB-4B09-89C0-CDE2C4FB58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заимодействие пероксида бария с разбавленной серной кислотой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Ba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заимодействие надсерной кислоты с водой. Примеры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 2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+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заимодействие азота с водой.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еакция, протекающая при действии электрического разряда на воду.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</a:t>
            </a:r>
            <a:r>
              <a:rPr b="0" lang="ru-RU" sz="3200" spc="-1" strike="noStrike" baseline="30000">
                <a:solidFill>
                  <a:srgbClr val="ffffcc"/>
                </a:solidFill>
                <a:latin typeface="Times New Roman"/>
              </a:rPr>
              <a:t>разряд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›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 baseline="-25000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/2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685800" y="533520"/>
            <a:ext cx="7543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Получение пероксида водорода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110-324F-443E-8FD3-293CF1FC2C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C:\МАРИЯ\peroxid.jpg"/>
          <p:cNvPicPr/>
          <p:nvPr/>
        </p:nvPicPr>
        <p:blipFill>
          <a:blip r:embed="rId1"/>
          <a:stretch/>
        </p:blipFill>
        <p:spPr>
          <a:xfrm>
            <a:off x="3059280" y="1628640"/>
            <a:ext cx="3136680" cy="26956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7"/>
          <p:cNvSpPr txBox="1"/>
          <p:nvPr/>
        </p:nvSpPr>
        <p:spPr>
          <a:xfrm>
            <a:off x="838080" y="586728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Получение пероксида водорода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DF9-BF32-45FF-AD36-97AF3CFB29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C:\МАРИЯ\i пероксид водорода.jpg"/>
          <p:cNvPicPr/>
          <p:nvPr/>
        </p:nvPicPr>
        <p:blipFill>
          <a:blip r:embed="rId1"/>
          <a:stretch/>
        </p:blipFill>
        <p:spPr>
          <a:xfrm>
            <a:off x="2700360" y="1197000"/>
            <a:ext cx="3652920" cy="25462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171" name="WordArt 6"/>
          <p:cNvSpPr txBox="1"/>
          <p:nvPr/>
        </p:nvSpPr>
        <p:spPr>
          <a:xfrm>
            <a:off x="0" y="5486400"/>
            <a:ext cx="9144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Пероксид водорода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A8F-6E40-4AFC-8BA8-AFA92E37DD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9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азложение.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Пример: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 + 1/2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Окисление.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     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Пример: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PbS + 4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—›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PbS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4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осстановление.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 Пример: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2KMn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5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3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K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S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2MnS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5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8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WordArt 3"/>
          <p:cNvSpPr txBox="1"/>
          <p:nvPr/>
        </p:nvSpPr>
        <p:spPr>
          <a:xfrm>
            <a:off x="685800" y="533520"/>
            <a:ext cx="7543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Химические свойства пероксида водорода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34C-9829-44F7-A93B-51BC624E81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603360" y="19080"/>
            <a:ext cx="7785000" cy="2327400"/>
          </a:xfrm>
          <a:prstGeom prst="rect">
            <a:avLst/>
          </a:prstGeom>
          <a:ln w="0">
            <a:noFill/>
          </a:ln>
        </p:spPr>
      </p:pic>
      <p:pic>
        <p:nvPicPr>
          <p:cNvPr id="175" name="Содержимое 3" descr="img002.gif"/>
          <p:cNvPicPr/>
          <p:nvPr/>
        </p:nvPicPr>
        <p:blipFill>
          <a:blip r:embed="rId2"/>
          <a:stretch/>
        </p:blipFill>
        <p:spPr>
          <a:xfrm>
            <a:off x="1258920" y="2997360"/>
            <a:ext cx="6756480" cy="147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0C0-19D1-4519-AADA-BFA321EF8D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Monotype Corsiva"/>
              </a:rPr>
              <a:t>Пример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.      металл + неметалл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&gt;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 сол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g + S ® H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Al + 3I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® 2AlI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      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сновной оксид + кислотный оксид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 соль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 + 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® Li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O + Si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® CaSi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1D1-A29D-4AED-9855-2091FB861E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3.      основание + кислота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&gt;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 сол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 2HCl ® Cu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 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3H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&gt;Fe(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3H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4.      металл 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 основной окси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 +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® 2Ca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Li +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® 2Li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872-F453-40D6-BD72-F6EC5C59CD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5.      неметалл -&gt; кислотный окси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 + 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 ® S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4As + 5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 ® 2As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6.      основной оксид -&gt; основан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BaO + 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 ® Ba(OH)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Li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 + 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 ® 2LiO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F6E-9364-4168-A4BD-CA773A71D2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Классификация неорганических веществ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just">
              <a:spcBef>
                <a:spcPts val="1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Классификация оксидов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just">
              <a:spcBef>
                <a:spcPts val="1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лучение оксидов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just">
              <a:spcBef>
                <a:spcPts val="1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лучение пероксида водорода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just">
              <a:spcBef>
                <a:spcPts val="1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Химические свойства пероксида водорода.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914400" y="38088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Содержание: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3EA-E4A9-4753-A582-57F151650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7.      кислотный оксид -&gt; кисло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5 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+ 3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 ® 2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 + 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 ® 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41E-5764-4CF6-9A6E-9555EA6C22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5"/>
          <p:cNvSpPr txBox="1"/>
          <p:nvPr/>
        </p:nvSpPr>
        <p:spPr>
          <a:xfrm>
            <a:off x="380880" y="457200"/>
            <a:ext cx="83822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Классификация неорганических веществ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grpSp>
        <p:nvGrpSpPr>
          <p:cNvPr id="104" name="Group 38"/>
          <p:cNvGrpSpPr/>
          <p:nvPr/>
        </p:nvGrpSpPr>
        <p:grpSpPr>
          <a:xfrm>
            <a:off x="193680" y="1752480"/>
            <a:ext cx="8721720" cy="4648320"/>
            <a:chOff x="193680" y="1752480"/>
            <a:chExt cx="8721720" cy="4648320"/>
          </a:xfrm>
        </p:grpSpPr>
        <p:sp>
          <p:nvSpPr>
            <p:cNvPr id="105" name="Text Box 7"/>
            <p:cNvSpPr/>
            <p:nvPr/>
          </p:nvSpPr>
          <p:spPr>
            <a:xfrm>
              <a:off x="1066680" y="1752480"/>
              <a:ext cx="1428840" cy="73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стые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3144960" y="1752480"/>
              <a:ext cx="2801880" cy="73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органические вещества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6408720" y="1752480"/>
              <a:ext cx="1440000" cy="73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ложные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Text Box 13"/>
            <p:cNvSpPr/>
            <p:nvPr/>
          </p:nvSpPr>
          <p:spPr>
            <a:xfrm>
              <a:off x="193680" y="4724280"/>
              <a:ext cx="1582560" cy="657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еталл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2050920" y="4724280"/>
              <a:ext cx="1582920" cy="657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металл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4419720" y="3227400"/>
              <a:ext cx="1619280" cy="657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ксид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Text Box 21"/>
            <p:cNvSpPr/>
            <p:nvPr/>
          </p:nvSpPr>
          <p:spPr>
            <a:xfrm>
              <a:off x="7988400" y="3209760"/>
              <a:ext cx="927000" cy="655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оли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48520" y="5745240"/>
              <a:ext cx="1619280" cy="655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ислот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Text Box 26"/>
            <p:cNvSpPr/>
            <p:nvPr/>
          </p:nvSpPr>
          <p:spPr>
            <a:xfrm>
              <a:off x="4419720" y="4276800"/>
              <a:ext cx="1619280" cy="655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снования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4" name="Group 35"/>
            <p:cNvGrpSpPr/>
            <p:nvPr/>
          </p:nvGrpSpPr>
          <p:grpSpPr>
            <a:xfrm>
              <a:off x="762120" y="2117880"/>
              <a:ext cx="7226280" cy="3627000"/>
              <a:chOff x="762120" y="2117880"/>
              <a:chExt cx="7226280" cy="3627000"/>
            </a:xfrm>
          </p:grpSpPr>
          <p:sp>
            <p:nvSpPr>
              <p:cNvPr id="115" name="Line 10"/>
              <p:cNvSpPr/>
              <p:nvPr/>
            </p:nvSpPr>
            <p:spPr>
              <a:xfrm flipH="1">
                <a:off x="762120" y="2463120"/>
                <a:ext cx="984240" cy="2240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2343240" y="2144880"/>
                <a:ext cx="801720" cy="14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Line 15"/>
              <p:cNvSpPr/>
              <p:nvPr/>
            </p:nvSpPr>
            <p:spPr>
              <a:xfrm>
                <a:off x="6583320" y="2463120"/>
                <a:ext cx="1800" cy="12222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Line 16"/>
              <p:cNvSpPr/>
              <p:nvPr/>
            </p:nvSpPr>
            <p:spPr>
              <a:xfrm flipH="1">
                <a:off x="6035400" y="3685320"/>
                <a:ext cx="547560" cy="36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19" name="Group 18"/>
              <p:cNvGrpSpPr/>
              <p:nvPr/>
            </p:nvGrpSpPr>
            <p:grpSpPr>
              <a:xfrm>
                <a:off x="7440480" y="2463120"/>
                <a:ext cx="547920" cy="1222200"/>
                <a:chOff x="7440480" y="2463120"/>
                <a:chExt cx="547920" cy="1222200"/>
              </a:xfrm>
            </p:grpSpPr>
            <p:sp>
              <p:nvSpPr>
                <p:cNvPr id="120" name="Line 19"/>
                <p:cNvSpPr/>
                <p:nvPr/>
              </p:nvSpPr>
              <p:spPr>
                <a:xfrm>
                  <a:off x="7440480" y="2463120"/>
                  <a:ext cx="0" cy="1222200"/>
                </a:xfrm>
                <a:prstGeom prst="line">
                  <a:avLst/>
                </a:prstGeom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 flipH="1">
                  <a:off x="7440480" y="3685320"/>
                  <a:ext cx="547920" cy="0"/>
                </a:xfrm>
                <a:prstGeom prst="line">
                  <a:avLst/>
                </a:prstGeom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Line 24"/>
              <p:cNvSpPr/>
              <p:nvPr/>
            </p:nvSpPr>
            <p:spPr>
              <a:xfrm>
                <a:off x="6824520" y="2463120"/>
                <a:ext cx="1800" cy="22276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Line 25"/>
              <p:cNvSpPr/>
              <p:nvPr/>
            </p:nvSpPr>
            <p:spPr>
              <a:xfrm flipH="1">
                <a:off x="6035400" y="4690800"/>
                <a:ext cx="788760" cy="36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Line 27"/>
              <p:cNvSpPr/>
              <p:nvPr/>
            </p:nvSpPr>
            <p:spPr>
              <a:xfrm>
                <a:off x="5994360" y="2117880"/>
                <a:ext cx="407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Line 32"/>
              <p:cNvSpPr/>
              <p:nvPr/>
            </p:nvSpPr>
            <p:spPr>
              <a:xfrm>
                <a:off x="7086600" y="2446560"/>
                <a:ext cx="0" cy="3298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" name="Line 34"/>
              <p:cNvSpPr/>
              <p:nvPr/>
            </p:nvSpPr>
            <p:spPr>
              <a:xfrm>
                <a:off x="1752480" y="2446560"/>
                <a:ext cx="1143000" cy="23432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7DD-2567-4BBA-9739-507D9F6F1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74"/>
          <p:cNvGrpSpPr/>
          <p:nvPr/>
        </p:nvGrpSpPr>
        <p:grpSpPr>
          <a:xfrm>
            <a:off x="304920" y="1371600"/>
            <a:ext cx="8534160" cy="5187960"/>
            <a:chOff x="304920" y="1371600"/>
            <a:chExt cx="8534160" cy="5187960"/>
          </a:xfrm>
        </p:grpSpPr>
        <p:sp>
          <p:nvSpPr>
            <p:cNvPr id="128" name="Line 50"/>
            <p:cNvSpPr/>
            <p:nvPr/>
          </p:nvSpPr>
          <p:spPr>
            <a:xfrm>
              <a:off x="4902120" y="3097080"/>
              <a:ext cx="2570400" cy="231624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9" name="Group 73"/>
            <p:cNvGrpSpPr/>
            <p:nvPr/>
          </p:nvGrpSpPr>
          <p:grpSpPr>
            <a:xfrm>
              <a:off x="1671120" y="1857240"/>
              <a:ext cx="6036120" cy="4267440"/>
              <a:chOff x="1671120" y="1857240"/>
              <a:chExt cx="6036120" cy="4267440"/>
            </a:xfrm>
          </p:grpSpPr>
          <p:sp>
            <p:nvSpPr>
              <p:cNvPr id="130" name="Line 54"/>
              <p:cNvSpPr/>
              <p:nvPr/>
            </p:nvSpPr>
            <p:spPr>
              <a:xfrm>
                <a:off x="3301920" y="1857240"/>
                <a:ext cx="1270080" cy="4050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" name="Line 53"/>
              <p:cNvSpPr/>
              <p:nvPr/>
            </p:nvSpPr>
            <p:spPr>
              <a:xfrm flipV="1">
                <a:off x="4571280" y="1859760"/>
                <a:ext cx="1269720" cy="3999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Line 52"/>
              <p:cNvSpPr/>
              <p:nvPr/>
            </p:nvSpPr>
            <p:spPr>
              <a:xfrm>
                <a:off x="4572000" y="2286000"/>
                <a:ext cx="0" cy="7239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Line 51"/>
              <p:cNvSpPr/>
              <p:nvPr/>
            </p:nvSpPr>
            <p:spPr>
              <a:xfrm flipH="1">
                <a:off x="1671120" y="3097080"/>
                <a:ext cx="2505240" cy="21621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Freeform 49"/>
              <p:cNvSpPr/>
              <p:nvPr/>
            </p:nvSpPr>
            <p:spPr>
              <a:xfrm>
                <a:off x="2419200" y="4632480"/>
                <a:ext cx="606600" cy="62676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w="1067" h="1115">
                    <a:moveTo>
                      <a:pt x="0" y="0"/>
                    </a:moveTo>
                    <a:lnTo>
                      <a:pt x="1067" y="1115"/>
                    </a:lnTo>
                  </a:path>
                </a:pathLst>
              </a:custGeom>
              <a:solidFill>
                <a:srgbClr val="ffffcc"/>
              </a:solidFill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Line 48"/>
              <p:cNvSpPr/>
              <p:nvPr/>
            </p:nvSpPr>
            <p:spPr>
              <a:xfrm>
                <a:off x="2419200" y="4632480"/>
                <a:ext cx="0" cy="14922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Line 47"/>
              <p:cNvSpPr/>
              <p:nvPr/>
            </p:nvSpPr>
            <p:spPr>
              <a:xfrm>
                <a:off x="5840280" y="4394160"/>
                <a:ext cx="186696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Line 46"/>
              <p:cNvSpPr/>
              <p:nvPr/>
            </p:nvSpPr>
            <p:spPr>
              <a:xfrm flipH="1">
                <a:off x="5502240" y="4394160"/>
                <a:ext cx="922320" cy="10191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8" name="Text Box 44"/>
            <p:cNvSpPr/>
            <p:nvPr/>
          </p:nvSpPr>
          <p:spPr>
            <a:xfrm>
              <a:off x="4532400" y="2181240"/>
              <a:ext cx="30542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по типу химической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связи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Text Box 43"/>
            <p:cNvSpPr/>
            <p:nvPr/>
          </p:nvSpPr>
          <p:spPr>
            <a:xfrm>
              <a:off x="852480" y="3476520"/>
              <a:ext cx="24033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по составу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Text Box 42"/>
            <p:cNvSpPr/>
            <p:nvPr/>
          </p:nvSpPr>
          <p:spPr>
            <a:xfrm>
              <a:off x="5784840" y="3233880"/>
              <a:ext cx="30178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по кислотно-основным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свойствам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41"/>
            <p:cNvSpPr/>
            <p:nvPr/>
          </p:nvSpPr>
          <p:spPr>
            <a:xfrm>
              <a:off x="3124080" y="4146480"/>
              <a:ext cx="2670120" cy="585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Безразличные (несолеобразующие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Text Box 40"/>
            <p:cNvSpPr/>
            <p:nvPr/>
          </p:nvSpPr>
          <p:spPr>
            <a:xfrm>
              <a:off x="1301760" y="1371600"/>
              <a:ext cx="1954080" cy="46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Ковалент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Text Box 39"/>
            <p:cNvSpPr/>
            <p:nvPr/>
          </p:nvSpPr>
          <p:spPr>
            <a:xfrm>
              <a:off x="5794200" y="1371600"/>
              <a:ext cx="1954440" cy="46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Ион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Text Box 38"/>
            <p:cNvSpPr/>
            <p:nvPr/>
          </p:nvSpPr>
          <p:spPr>
            <a:xfrm>
              <a:off x="3502080" y="2889360"/>
              <a:ext cx="1954080" cy="46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Оксиды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Text Box 37"/>
            <p:cNvSpPr/>
            <p:nvPr/>
          </p:nvSpPr>
          <p:spPr>
            <a:xfrm>
              <a:off x="7229520" y="4148280"/>
              <a:ext cx="1609560" cy="460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Основ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Text Box 36"/>
            <p:cNvSpPr/>
            <p:nvPr/>
          </p:nvSpPr>
          <p:spPr>
            <a:xfrm>
              <a:off x="4611600" y="5257800"/>
              <a:ext cx="1765440" cy="428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Амфотер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6740640" y="5257800"/>
              <a:ext cx="1706400" cy="428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Кислот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Text Box 34"/>
            <p:cNvSpPr/>
            <p:nvPr/>
          </p:nvSpPr>
          <p:spPr>
            <a:xfrm>
              <a:off x="304920" y="5257800"/>
              <a:ext cx="1844640" cy="43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Нормаль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2639880" y="5257800"/>
              <a:ext cx="1737000" cy="43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Пероксиды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32"/>
            <p:cNvSpPr/>
            <p:nvPr/>
          </p:nvSpPr>
          <p:spPr>
            <a:xfrm>
              <a:off x="1515960" y="6148440"/>
              <a:ext cx="1763640" cy="41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Смешан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WordArt 71"/>
          <p:cNvSpPr txBox="1"/>
          <p:nvPr/>
        </p:nvSpPr>
        <p:spPr>
          <a:xfrm>
            <a:off x="380880" y="45720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Классификация оксидов</a:t>
            </a:r>
            <a:endParaRPr b="1" i="1" lang="en-US" sz="32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A34-8FC7-44E7-981A-174FCE41E6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Нормальные 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в которых есть только связи между кислородом и каким-нибудь элементом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O, 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Si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Пер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в которых есть связи между двумя атомами кислорода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Смешанные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которые представляют собой смесь двух одного элемента в разных степенях окисления. Примеры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2PbO + Pb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;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FeO + F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Кислотные оксиды (ангидриды)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которые реагируют с водой, образуя кислоты; с основаниями и основными оксидами образуют соли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Mn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7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WordArt 26"/>
          <p:cNvSpPr txBox="1"/>
          <p:nvPr/>
        </p:nvSpPr>
        <p:spPr>
          <a:xfrm>
            <a:off x="914400" y="38088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Классификация оксидов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A83-C3E3-42C7-9C99-249457D077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Основные 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которые реагируют с водой, образуя основания; с кислотами и кислотными оксидами образуют соли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O,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Амфотерные 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которые в зависимости от условий проявляют свойства и кислотных, и основных оксидов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nO, Al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Безразличные (несолеобразующие) 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которые не реагируют ни с кислотами, ни с основаниями. Солей не образуют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, N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914400" y="38088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Классификация оксидов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377-6503-4256-9AE5-54E54A7D04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6" descr="C:\МАРИЯ\magnezit_s(Оксид хрома и периклаз).gif"/>
          <p:cNvPicPr/>
          <p:nvPr/>
        </p:nvPicPr>
        <p:blipFill>
          <a:blip r:embed="rId1"/>
          <a:stretch/>
        </p:blipFill>
        <p:spPr>
          <a:xfrm>
            <a:off x="2050920" y="1052640"/>
            <a:ext cx="5241960" cy="34938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27"/>
          <p:cNvSpPr txBox="1"/>
          <p:nvPr/>
        </p:nvSpPr>
        <p:spPr>
          <a:xfrm>
            <a:off x="685800" y="541008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Оксид хрома и периклаз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6B8-B339-48BB-B493-F87DAB5148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3"/>
          <p:cNvSpPr txBox="1"/>
          <p:nvPr/>
        </p:nvSpPr>
        <p:spPr>
          <a:xfrm>
            <a:off x="609480" y="548640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Циркон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159" name="Picture 5" descr="C:\МАРИЯ\zirkon.gif"/>
          <p:cNvPicPr/>
          <p:nvPr/>
        </p:nvPicPr>
        <p:blipFill>
          <a:blip r:embed="rId3"/>
          <a:stretch/>
        </p:blipFill>
        <p:spPr>
          <a:xfrm>
            <a:off x="1619280" y="907920"/>
            <a:ext cx="5670360" cy="388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D93-8050-45F2-9C7E-734F5FFF86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заимодействие простых веществ с кислородом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имеры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 +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; 4Al + 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2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ермическое разложение оснований, солей, кислот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имеры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t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›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CaO + 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⁭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;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B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t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›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B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⁭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; Mg(OH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t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›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MgO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685800" y="533520"/>
            <a:ext cx="7543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Получение оксидов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D82-E6F6-4E83-9893-3FD55C17B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7:22:55Z</dcterms:created>
  <dc:creator>Шикунова М.М.</dc:creator>
  <dc:description/>
  <dc:language>en-US</dc:language>
  <cp:lastModifiedBy>Student</cp:lastModifiedBy>
  <dcterms:modified xsi:type="dcterms:W3CDTF">2013-05-02T10:24:11Z</dcterms:modified>
  <cp:revision>29</cp:revision>
  <dc:subject/>
  <dc:title>Презентация PowerPoint</dc:title>
</cp:coreProperties>
</file>