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A64-F8B7-4CF6-94A4-AF5E1572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975-40D8-4203-B634-C49A4EC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CEE-1EDB-407D-ABCB-93CF1C2C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EE-73CC-443F-913E-F531525F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5C23-04CB-4AEC-AA08-0F91477F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9AF7-AE0C-4769-BDC9-6019B58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C67-42DC-4ABC-B0BD-4ADBA80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BB4-C604-43D9-8023-0D8D9938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05C-BC24-4A45-87BE-5761759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D8E3-6C0B-490D-88CB-5E46B6B5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89E3-C900-4A2F-878A-1868D82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08D-50CD-4A80-BDF8-08A64095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023E-8C71-4412-8C95-6399F72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3C0F-4EBE-45F9-BEC3-7BAC4BE9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DA9-9D5D-4728-B0A7-D8F857D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70A-91AB-4880-ACED-3563435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44E0-F0C1-42AE-8C32-1175495A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240-E333-409C-B98B-66A57785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E0A-89D3-44A6-A0D2-66E45C6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48A-57AC-4830-92F7-27E74B9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F4D-7ACF-409E-883B-0986119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FA9-20F0-4190-94AB-B4986B8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F0E-E6C2-43AB-8BA3-CB2AB0C5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E71-F8B5-4B1D-99BB-B244D7C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82CF-5C92-4DBA-8191-86DA1A86D2F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2EBC-0F94-46ED-8F47-1F80B1B2172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725480" y="1792440"/>
            <a:ext cx="5722920" cy="27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687-40A3-427C-89D0-FFA9C9B74E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дролиз – это реакция обменного разложения веществ вод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667-6803-43C6-9352-373DF11997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ильн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ислоты, являющиеся сильными электролитам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Cl, HN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Br, HI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Cl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лабые кислот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ты, являющиеся слабыми электролитам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ильные осн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ильные электролиты - щелоч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OH, KOH, Ca(OH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лабые осн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растворимые основания, слабые электролиты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u(OH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Al(OH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78C-7123-4E84-A1D8-4B882D29CF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органических веществ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1. Гидролиз галогеналк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+ Н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2. Гидролиз сложных эфи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-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Н +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3. Гидролиз дисахар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4. Гидролиз полисахар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(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54E-9948-462C-8AAC-1B93E08ED7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aeaea"/>
                </a:solidFill>
                <a:latin typeface="Tahoma"/>
              </a:rPr>
              <a:t>Гидролиз неорганических веществ.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Tahoma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Tahoma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Нейтральную (рН=7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CD2-B2D4-42BB-8325-750039D5D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лассификация сол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Tahoma"/>
              </a:rPr>
              <a:t>4 типа сол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O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Cl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FeS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Mn(N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DAC-0DE1-4C1C-9B18-B777289DF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слабым основанием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Cl, K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Ba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9A-FC11-4555-8D62-A3F13150A7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ли, образованные сильным основанием и слабой кислотой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N 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+ 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Сокращё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E57-22B2-4907-847B-E655CA01C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ли, образованные сильным основанием и слабой кислотой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d74229"/>
                </a:solidFill>
                <a:uFillTx/>
                <a:latin typeface="Tahoma"/>
              </a:rPr>
              <a:t>Гидролиз по анион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тимый проц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ле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кция среды - щелочная, р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гидролизе солей, образованных слабыми многоосновными кислотами образуются кислые со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25F-B982-4AC7-AA05-B7EAA3836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Соли, образованные сильной кислотой и слабым основание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+ 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Н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 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Сокращё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 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7, среда кислотная, гидролиз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кат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7D9-CB12-4003-BC11-5C6114B702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Соли, образованные сильной кислотой и слабым основание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Tahoma"/>
              </a:rPr>
              <a:t>Гидролиз по катион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тим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а кислотная, р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3B5-C38F-426B-98AB-85CDC53BAD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1066680" y="444600"/>
            <a:ext cx="7074000" cy="80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Содержимое 3"/>
              <p:cNvSpPr txBox="1"/>
              <p:nvPr/>
            </p:nvSpPr>
            <p:spPr>
              <a:xfrm>
                <a:off x="1143000" y="2427120"/>
                <a:ext cx="2903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4"/>
              <p:cNvSpPr txBox="1"/>
              <p:nvPr/>
            </p:nvSpPr>
            <p:spPr>
              <a:xfrm>
                <a:off x="4427640" y="2276640"/>
                <a:ext cx="3639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Объект 5"/>
              <p:cNvSpPr txBox="1"/>
              <p:nvPr/>
            </p:nvSpPr>
            <p:spPr>
              <a:xfrm>
                <a:off x="4788000" y="3500280"/>
                <a:ext cx="35478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Объект 8"/>
              <p:cNvSpPr txBox="1"/>
              <p:nvPr/>
            </p:nvSpPr>
            <p:spPr>
              <a:xfrm>
                <a:off x="19080" y="1341360"/>
                <a:ext cx="3760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9"/>
              <p:cNvSpPr txBox="1"/>
              <p:nvPr/>
            </p:nvSpPr>
            <p:spPr>
              <a:xfrm>
                <a:off x="4179960" y="1341360"/>
                <a:ext cx="4964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10"/>
              <p:cNvSpPr txBox="1"/>
              <p:nvPr/>
            </p:nvSpPr>
            <p:spPr>
              <a:xfrm>
                <a:off x="826920" y="3213000"/>
                <a:ext cx="30974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TextBox 11"/>
          <p:cNvSpPr/>
          <p:nvPr/>
        </p:nvSpPr>
        <p:spPr>
          <a:xfrm>
            <a:off x="611280" y="530064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вышении температуры диссоциация воды усил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12"/>
              <p:cNvSpPr txBox="1"/>
              <p:nvPr/>
            </p:nvSpPr>
            <p:spPr>
              <a:xfrm>
                <a:off x="6372360" y="5445000"/>
                <a:ext cx="25272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FD0-DAC6-4CD4-8CE5-0D65A21DD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Соли, образованные слабой  кислотой и слабым основанием.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катиону и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762-40F5-4777-9D61-A164D0DA5A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Соли, образованные слабой  кислотой и слабым основанием</a:t>
            </a: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d74229"/>
                </a:solidFill>
                <a:uFillTx/>
                <a:latin typeface="Tahoma"/>
              </a:rPr>
              <a:t>Гидролиз  по катиону и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пра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акция среды или нейтральная, или слабокислая, или слабощелочная, что зависит от констант диссоциации кислоты и основания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идролиз может быть необратимым, если хотя бы один из продуктов реакции гидролиза уходит из сферы реа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3D2-E835-44C5-858B-FC79EDF55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Tahoma"/>
              </a:rPr>
              <a:t>Соли, образованные сильной  кислотой и  сильным основанием.</a:t>
            </a:r>
            <a:br>
              <a:rPr sz="3400"/>
            </a:b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C23-C927-4C26-A6F5-4D8BB301F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сол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74229"/>
                </a:solidFill>
                <a:latin typeface="Tahoma"/>
              </a:rPr>
              <a:t>Гидролиз можно усилить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авить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греть раствор (увеличится диссоциация вод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язать один из продуктов гидролиза в труднорастворимое соединение или удалить один из продуктов в газовую ф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4F-BC19-46DA-90C2-74068F8BAE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74229"/>
                </a:solidFill>
                <a:latin typeface="Tahoma"/>
              </a:rPr>
              <a:t>Гидролиз можно подав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ить концентрацию растворённ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ладить раст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ести в раствор один из продуктов гидролиза: подкислять (если р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) или подщелачивать (если р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7CB-1B5D-4E0A-8A53-DB2DE0B4A3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в природ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гидролиза играет огромную роль в химическом преобразовании земной коры. Многие минералы земной коры - это сульфиды металлов, которые хотя и плохо растворимы в воде, постепенно взаимодействуют с ней. Такие процессы идут и на поверхности Земли, и особенно интенсивно в ее глубинах при повышенной темп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539-E837-4A24-AD30-1F97CA7C07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ировом океане соли также интенсивно взаимодействуют с водой. Выносимые речной водой гидрокарбонаты кальция и магния придают морской воде слабощелочную реак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97A-FC77-4790-98AE-8F81401D02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в такой слабощелочной среде прибрежных вод рН приблизительно равно 9 наиболее интенсивно протекает фотосинтез в морских растениях и наиболее быстро развиваются морские живот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CDE-0866-4788-A60D-9332E5C244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в жизни челове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вседневной жизни мы постоянно сталкиваемся с явлением гидролиза - при стирке белья, мытье посуды, умывании мылом. Даже процессы пищеварения, в частности, расщепление жиров, протекают благодаря гидроли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221-9D80-4F26-A01B-50C270A91E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560" y="333360"/>
            <a:ext cx="6697800" cy="115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ЛАБЫХ КИСЛОТ И ОСНОВАНИ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933560" y="3197160"/>
                <a:ext cx="567684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ислоты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снования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A9C-C0F1-4CF1-B357-A28236684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8362800" cy="124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868400" y="2747880"/>
            <a:ext cx="6205680" cy="262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F01-A52F-4C44-88F0-7A058A46F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63160" cy="99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Содержимое 3"/>
              <p:cNvSpPr txBox="1"/>
              <p:nvPr/>
            </p:nvSpPr>
            <p:spPr>
              <a:xfrm>
                <a:off x="252360" y="1197000"/>
                <a:ext cx="68389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4"/>
              <p:cNvSpPr txBox="1"/>
              <p:nvPr/>
            </p:nvSpPr>
            <p:spPr>
              <a:xfrm>
                <a:off x="324000" y="2060640"/>
                <a:ext cx="5332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Box 5"/>
          <p:cNvSpPr/>
          <p:nvPr/>
        </p:nvSpPr>
        <p:spPr>
          <a:xfrm>
            <a:off x="250920" y="2997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онов Н в кисло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6"/>
              <p:cNvSpPr txBox="1"/>
              <p:nvPr/>
            </p:nvSpPr>
            <p:spPr>
              <a:xfrm>
                <a:off x="250920" y="3500280"/>
                <a:ext cx="7707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395280" y="5157720"/>
                <a:ext cx="6232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Box 8"/>
          <p:cNvSpPr/>
          <p:nvPr/>
        </p:nvSpPr>
        <p:spPr>
          <a:xfrm>
            <a:off x="250920" y="609300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онов ОН в осн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9"/>
              <p:cNvSpPr txBox="1"/>
              <p:nvPr/>
            </p:nvSpPr>
            <p:spPr>
              <a:xfrm>
                <a:off x="611280" y="4365720"/>
                <a:ext cx="48243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DB8-5B18-4D08-BC88-AA68EBB98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229600" cy="113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Содержимое 3"/>
              <p:cNvSpPr txBox="1"/>
              <p:nvPr/>
            </p:nvSpPr>
            <p:spPr>
              <a:xfrm>
                <a:off x="757080" y="1628640"/>
                <a:ext cx="478800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кислоты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Объект 4"/>
              <p:cNvSpPr txBox="1"/>
              <p:nvPr/>
            </p:nvSpPr>
            <p:spPr>
              <a:xfrm>
                <a:off x="684360" y="3500280"/>
                <a:ext cx="5327640" cy="28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9A7-4595-4898-95E8-469629F8E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536840" y="430200"/>
            <a:ext cx="654192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Содержимое 3"/>
              <p:cNvSpPr txBox="1"/>
              <p:nvPr/>
            </p:nvSpPr>
            <p:spPr>
              <a:xfrm>
                <a:off x="1143000" y="3451320"/>
                <a:ext cx="31640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TextBox 4"/>
          <p:cNvSpPr/>
          <p:nvPr/>
        </p:nvSpPr>
        <p:spPr>
          <a:xfrm>
            <a:off x="4643280" y="364500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я кис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я щел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9DC-9229-493C-B6D8-44A5DD5C6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ктивная кислотность (щелочность) обусловлена наличием свободных ионов Н (ОН) в раствор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72240" indent="-271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764-0017-4354-A2BC-A3B2E43F8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066680" y="312840"/>
            <a:ext cx="754380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нциальная кислотность (щелочность) обусловлена наличием ионов Н  (ОН) в молекул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кислотность – сумма активной и потенциальной кислот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9AF-FD50-4518-AB21-F9EFBC249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2T10:17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