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0.gif" ContentType="image/gif"/>
  <Override PartName="/ppt/media/image10.wmf" ContentType="image/x-wmf"/>
  <Override PartName="/ppt/media/image53.png" ContentType="image/png"/>
  <Override PartName="/ppt/media/image49.png" ContentType="image/png"/>
  <Override PartName="/ppt/media/image48.png" ContentType="image/png"/>
  <Override PartName="/ppt/media/image46.png" ContentType="image/png"/>
  <Override PartName="/ppt/media/image29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0.png" ContentType="image/png"/>
  <Override PartName="/ppt/media/image47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57.png" ContentType="image/png"/>
  <Override PartName="/ppt/media/image16.wmf" ContentType="image/x-wmf"/>
  <Override PartName="/ppt/media/image20.wmf" ContentType="image/x-wmf"/>
  <Override PartName="/ppt/media/image63.png" ContentType="image/png"/>
  <Override PartName="/ppt/media/image24.wmf" ContentType="image/x-wmf"/>
  <Override PartName="/ppt/media/image2.png" ContentType="image/png"/>
  <Override PartName="/ppt/media/image62.png" ContentType="image/png"/>
  <Override PartName="/ppt/media/image23.wmf" ContentType="image/x-wmf"/>
  <Override PartName="/ppt/media/image26.wmf" ContentType="image/x-wmf"/>
  <Override PartName="/ppt/media/image61.png" ContentType="image/png"/>
  <Override PartName="/ppt/media/image59.wmf" ContentType="image/x-wmf"/>
  <Override PartName="/ppt/media/image65.png" ContentType="image/png"/>
  <Override PartName="/ppt/media/image22.wmf" ContentType="image/x-wmf"/>
  <Override PartName="/ppt/media/image25.wmf" ContentType="image/x-wmf"/>
  <Override PartName="/ppt/media/image60.png" ContentType="image/png"/>
  <Override PartName="/ppt/media/image58.wmf" ContentType="image/x-wmf"/>
  <Override PartName="/ppt/media/image64.png" ContentType="image/png"/>
  <Override PartName="/ppt/media/image21.wmf" ContentType="image/x-wmf"/>
  <Override PartName="/ppt/media/image2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54.png" ContentType="image/png"/>
  <Override PartName="/ppt/media/image11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55.png" ContentType="image/png"/>
  <Override PartName="/ppt/media/image12.wmf" ContentType="image/x-wmf"/>
  <Override PartName="/ppt/media/image51.png" ContentType="image/png"/>
  <Override PartName="/ppt/media/image8.wmf" ContentType="image/x-wmf"/>
  <Override PartName="/ppt/media/image38.wmf" ContentType="image/x-wmf"/>
  <Override PartName="/ppt/media/image56.png" ContentType="image/png"/>
  <Override PartName="/ppt/media/image13.wmf" ContentType="image/x-wmf"/>
  <Override PartName="/ppt/media/image52.png" ContentType="image/png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4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BB6-AC42-4445-8A4E-D18ED62B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A51-E334-429D-B5A6-BF8C8D4B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979-5ED2-41D5-A5E2-C703CF0F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149A-E61F-4430-8348-CEC828E1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E0B-E66B-4ED4-9E97-7E600DE0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B05-CB01-4956-90B6-790249CB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57E-8BC8-4385-B1A0-1F71DCAB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458-2E22-4102-9F90-52835868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86F-494D-4BDA-AAEB-55586FC2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349-2DFD-4906-91E7-CE838E17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D4E7-D0AF-43E6-A945-B7A9F646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131E-D98D-421E-B59A-F6D01FAE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1FF9-9223-4E15-849B-25818DCE15AB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EEDA-26EB-42E7-91A5-CC9126DC0A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2.wmf"/><Relationship Id="rId1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e5ffff"/>
                </a:solidFill>
                <a:latin typeface="Tahoma"/>
              </a:rPr>
              <a:t>Азотсодержащие органические соединения. Амины. Аминокислоты. Белки.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7BF-F93D-4308-B137-2131137E00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9842-9FDC-4D20-87C2-DB8AEFDED4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Кислотно-основные свойства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3" name="Object 5"/>
          <p:cNvGraphicFramePr/>
          <p:nvPr/>
        </p:nvGraphicFramePr>
        <p:xfrm>
          <a:off x="755640" y="1989000"/>
          <a:ext cx="3692520" cy="177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989000"/>
                    <a:ext cx="369252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4859280" y="1844640"/>
          <a:ext cx="3673440" cy="209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9280" y="1844640"/>
                    <a:ext cx="3673440" cy="20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9"/>
          <p:cNvSpPr/>
          <p:nvPr/>
        </p:nvSpPr>
        <p:spPr>
          <a:xfrm>
            <a:off x="971640" y="4076640"/>
            <a:ext cx="35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ионная форма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деализированная аминокисло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03640" y="40766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виттер-ион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минокислота в твердом состоя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F17-DDA7-4151-9995-3D0C8E75CB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27C6-1FC4-455B-8E12-F3ABD44E45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Изоэлектрическая точка (р</a:t>
            </a:r>
            <a:r>
              <a:rPr b="0" i="1" lang="en-US" sz="3600" spc="-1" strike="noStrike">
                <a:solidFill>
                  <a:srgbClr val="e5ffff"/>
                </a:solidFill>
                <a:latin typeface="Tahoma"/>
              </a:rPr>
              <a:t>I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403280" y="1989000"/>
            <a:ext cx="67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электрической точкой называется такое значени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имеющее определенное значение для каждой аминокислоты, при котором содержание диполярного иона (цвиттер-иона) максима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1AE-35AC-4839-B016-45D43DEB9D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0442-2BBE-47C3-9724-EE69FFB379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пособы получения аминокислот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i="1" lang="ru-RU" sz="2400" spc="-1" strike="noStrike">
                <a:solidFill>
                  <a:srgbClr val="e5ffff"/>
                </a:solidFill>
                <a:latin typeface="Tahoma"/>
              </a:rPr>
              <a:t>Аминирование </a:t>
            </a:r>
            <a:r>
              <a:rPr b="0" i="1" lang="ru-RU" sz="2400" spc="-1" strike="noStrike">
                <a:solidFill>
                  <a:srgbClr val="e5ffff"/>
                </a:solidFill>
                <a:latin typeface="Symbol"/>
                <a:ea typeface="Symbol"/>
              </a:rPr>
              <a:t></a:t>
            </a:r>
            <a:r>
              <a:rPr b="0" i="1" lang="ru-RU" sz="2400" spc="-1" strike="noStrike">
                <a:solidFill>
                  <a:srgbClr val="e5ffff"/>
                </a:solidFill>
                <a:latin typeface="Tahoma"/>
              </a:rPr>
              <a:t>-галогензамещенных кислот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108000" y="3357720"/>
          <a:ext cx="8893080" cy="13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3357720"/>
                    <a:ext cx="88930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CAC2-8C2A-488E-BAE2-07C05CDE1B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5774-7DC3-40AB-859D-359EA6ADFE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пособы получения аминокислот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i="1" lang="ru-RU" sz="2400" spc="-1" strike="noStrike">
                <a:solidFill>
                  <a:srgbClr val="e5ffff"/>
                </a:solidFill>
                <a:latin typeface="Tahoma"/>
              </a:rPr>
              <a:t>Бромирование при помощи малоновой кислоты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900000" y="1989000"/>
          <a:ext cx="8280360" cy="19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989000"/>
                    <a:ext cx="8280360" cy="19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7"/>
          <p:cNvGraphicFramePr/>
          <p:nvPr/>
        </p:nvGraphicFramePr>
        <p:xfrm>
          <a:off x="1044720" y="4221000"/>
          <a:ext cx="6696000" cy="178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4720" y="4221000"/>
                    <a:ext cx="669600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271-B0EE-4113-A806-D8E9679D30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235A-9903-4460-96A3-BCC3833240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пособы получения аминокислот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i="1" lang="ru-RU" sz="2400" spc="-1" strike="noStrike">
                <a:solidFill>
                  <a:srgbClr val="e5ffff"/>
                </a:solidFill>
                <a:latin typeface="Tahoma"/>
              </a:rPr>
              <a:t>Синтез Штреккера–Зелинского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511200" y="1989000"/>
          <a:ext cx="644040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1200" y="1989000"/>
                    <a:ext cx="6440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12"/>
          <p:cNvGraphicFramePr/>
          <p:nvPr/>
        </p:nvGraphicFramePr>
        <p:xfrm>
          <a:off x="511200" y="2565360"/>
          <a:ext cx="4713120" cy="5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1200" y="2565360"/>
                    <a:ext cx="471312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4"/>
          <p:cNvGraphicFramePr/>
          <p:nvPr/>
        </p:nvGraphicFramePr>
        <p:xfrm>
          <a:off x="511200" y="3071880"/>
          <a:ext cx="7775640" cy="1581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9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1200" y="3071880"/>
                    <a:ext cx="777564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6"/>
          <p:cNvGraphicFramePr/>
          <p:nvPr/>
        </p:nvGraphicFramePr>
        <p:xfrm>
          <a:off x="1187280" y="4797360"/>
          <a:ext cx="6409080" cy="1946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1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87280" y="4797360"/>
                    <a:ext cx="6409080" cy="19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0F62-E57C-4A6B-8230-0F9EE8B893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419B-AA14-4C5E-88AF-C38EAB721A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пособы получения аминокислот</a:t>
            </a: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килировани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мещенных аминомалоновых эфир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минирование эфиров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галоген-замещенных кислот (с помощью фталимида кал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AF9-21C1-4765-A3C0-2CDAF54AA5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EFCD-2A28-41FB-9C9C-0F4FBC82AB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3148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пособы получения аминокислот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Б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иологический способ получения аминокислот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Picture 4" descr="animal066"/>
          <p:cNvPicPr/>
          <p:nvPr/>
        </p:nvPicPr>
        <p:blipFill>
          <a:blip r:embed="rId2"/>
          <a:stretch/>
        </p:blipFill>
        <p:spPr>
          <a:xfrm>
            <a:off x="3276720" y="1916280"/>
            <a:ext cx="3240000" cy="20253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2"/>
          <p:cNvSpPr/>
          <p:nvPr/>
        </p:nvSpPr>
        <p:spPr>
          <a:xfrm>
            <a:off x="900000" y="3500280"/>
            <a:ext cx="2735280" cy="1943280"/>
          </a:xfrm>
          <a:prstGeom prst="cloudCallout">
            <a:avLst>
              <a:gd name="adj1" fmla="val -52726"/>
              <a:gd name="adj2" fmla="val 8171"/>
            </a:avLst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м с добавкой рацемической смеси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минокисло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6300720" y="2781360"/>
            <a:ext cx="2772000" cy="1944720"/>
          </a:xfrm>
          <a:prstGeom prst="wedgeEllipseCallout">
            <a:avLst>
              <a:gd name="adj1" fmla="val -30699"/>
              <a:gd name="adj2" fmla="val 8611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ходы с оптически активным изомером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минокисло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14"/>
          <p:cNvSpPr/>
          <p:nvPr/>
        </p:nvSpPr>
        <p:spPr>
          <a:xfrm flipH="1">
            <a:off x="6804000" y="4724280"/>
            <a:ext cx="720720" cy="505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15"/>
          <p:cNvSpPr/>
          <p:nvPr/>
        </p:nvSpPr>
        <p:spPr>
          <a:xfrm>
            <a:off x="5435640" y="5157720"/>
            <a:ext cx="1368360" cy="432000"/>
          </a:xfrm>
          <a:prstGeom prst="wedgeRectCallout">
            <a:avLst>
              <a:gd name="adj1" fmla="val -19027"/>
              <a:gd name="adj2" fmla="val 29777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чист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16"/>
          <p:cNvSpPr/>
          <p:nvPr/>
        </p:nvSpPr>
        <p:spPr>
          <a:xfrm flipH="1">
            <a:off x="4714920" y="5516640"/>
            <a:ext cx="720720" cy="287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700360" y="5734080"/>
            <a:ext cx="2016000" cy="934920"/>
          </a:xfrm>
          <a:prstGeom prst="wedgeRectCallout">
            <a:avLst>
              <a:gd name="adj1" fmla="val 5986"/>
              <a:gd name="adj2" fmla="val -381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тически чистый изомер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минокисло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0C6-A534-4199-A872-966AC6C722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F57F-7081-411C-B28B-B9420D96BF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5ffff"/>
                </a:solidFill>
                <a:latin typeface="Tahoma"/>
              </a:rPr>
              <a:t>Химические свойства аминокислот</a:t>
            </a:r>
            <a:br>
              <a:rPr sz="2800"/>
            </a:br>
            <a:br>
              <a:rPr sz="2800"/>
            </a:b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Реакции аминогруппы</a:t>
            </a: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6" name="Object 8"/>
          <p:cNvGraphicFramePr/>
          <p:nvPr/>
        </p:nvGraphicFramePr>
        <p:xfrm>
          <a:off x="826920" y="2565360"/>
          <a:ext cx="7993080" cy="168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565360"/>
                    <a:ext cx="7993080" cy="16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10"/>
          <p:cNvSpPr/>
          <p:nvPr/>
        </p:nvSpPr>
        <p:spPr>
          <a:xfrm>
            <a:off x="971640" y="4832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Метод Ван-Слай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879B-9BB0-4DA2-BA50-2AA3CA33A5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204A-64BE-46CF-BD3A-7D0D487923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77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5ffff"/>
                </a:solidFill>
                <a:latin typeface="Tahoma"/>
              </a:rPr>
              <a:t>Химические свойства аминокислот</a:t>
            </a:r>
            <a:br>
              <a:rPr sz="2800"/>
            </a:br>
            <a:br>
              <a:rPr sz="2800"/>
            </a:b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Реакции аминогруппы</a:t>
            </a: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1" name="Object 6"/>
          <p:cNvGraphicFramePr/>
          <p:nvPr/>
        </p:nvGraphicFramePr>
        <p:xfrm>
          <a:off x="755640" y="2349360"/>
          <a:ext cx="7848720" cy="307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349360"/>
                    <a:ext cx="784872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CFA2-BB7F-4573-9BAF-CEFBE05985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92AA-69CA-4EBE-8D05-9CF4BFA585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898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Химические свойства аминокислот</a:t>
            </a:r>
            <a:br>
              <a:rPr sz="2800"/>
            </a:b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Реакции карбоксильной группы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5" name="Object 5"/>
          <p:cNvGraphicFramePr/>
          <p:nvPr/>
        </p:nvGraphicFramePr>
        <p:xfrm>
          <a:off x="1547640" y="1700280"/>
          <a:ext cx="6481800" cy="50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700280"/>
                    <a:ext cx="6481800" cy="50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6243-1A44-4F3D-9DE8-00DC2461D0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B566-C412-439C-A005-287FDAC902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03280" y="836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троени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 сво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68360" y="5516640"/>
            <a:ext cx="52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Спирали встречаются во многих областях: в архитектуре, в макромолекулах белков, нуклеиновых кислот и даже в полисахарида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2"/>
          <a:stretch/>
        </p:blipFill>
        <p:spPr>
          <a:xfrm>
            <a:off x="5940360" y="2421000"/>
            <a:ext cx="2632320" cy="3938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3"/>
          <a:stretch/>
        </p:blipFill>
        <p:spPr>
          <a:xfrm>
            <a:off x="4067280" y="2421000"/>
            <a:ext cx="1562040" cy="2857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4"/>
          <a:stretch/>
        </p:blipFill>
        <p:spPr>
          <a:xfrm>
            <a:off x="900000" y="2492280"/>
            <a:ext cx="2737080" cy="27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DD5-99FA-4EDC-AE53-0453CB07DB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D20B-2BDE-4E72-8601-8795B4A392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898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Химические свойства аминокислот</a:t>
            </a:r>
            <a:br>
              <a:rPr sz="2800"/>
            </a:b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Реакции карбоксильной группы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9" name="Object 5"/>
          <p:cNvGraphicFramePr/>
          <p:nvPr/>
        </p:nvGraphicFramePr>
        <p:xfrm>
          <a:off x="684360" y="2133720"/>
          <a:ext cx="769752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133720"/>
                    <a:ext cx="76975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7"/>
          <p:cNvGraphicFramePr/>
          <p:nvPr/>
        </p:nvGraphicFramePr>
        <p:xfrm>
          <a:off x="539640" y="4221000"/>
          <a:ext cx="8172720" cy="139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2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4221000"/>
                    <a:ext cx="817272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3EE-E022-48A7-B9E0-5431FA7FFE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5411-7304-4040-9BDE-6318BF309A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898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Химические свойства аминокислот</a:t>
            </a:r>
            <a:br>
              <a:rPr sz="2800"/>
            </a:b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Качественные реакции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75" name="Object 7"/>
          <p:cNvGraphicFramePr/>
          <p:nvPr/>
        </p:nvGraphicFramePr>
        <p:xfrm>
          <a:off x="971640" y="2421000"/>
          <a:ext cx="7129440" cy="424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421000"/>
                    <a:ext cx="712944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9"/>
          <p:cNvSpPr/>
          <p:nvPr/>
        </p:nvSpPr>
        <p:spPr>
          <a:xfrm>
            <a:off x="843120" y="177336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сантопротеиновая реакц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E836-8FA4-41E4-A5BB-A9F8228AF9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985E-213F-444A-931F-01CF5E8D31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969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Химические свойства аминокислот</a:t>
            </a:r>
            <a:br>
              <a:rPr sz="2800"/>
            </a:b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Качественные реакции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971640" y="1916280"/>
            <a:ext cx="72007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иуретовая реак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гидроксидом меди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u(OH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нгидринная реак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4932360" y="3500280"/>
          <a:ext cx="28386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3500280"/>
                    <a:ext cx="28386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68E-9169-46C2-8881-D26B330633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3EFC-0044-4ED4-BFAB-22151B16C8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Химические свойства аминокислот</a:t>
            </a:r>
            <a:br>
              <a:rPr sz="2800"/>
            </a:b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Специфические реакции </a:t>
            </a:r>
            <a:r>
              <a:rPr b="0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-аминокислот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042920" y="1989000"/>
            <a:ext cx="50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Реакции </a:t>
            </a:r>
            <a:r>
              <a:rPr b="1" lang="en-US" sz="2000" spc="-1" strike="noStrike">
                <a:solidFill>
                  <a:srgbClr val="e5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-аминокисло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6" name="Object 11"/>
          <p:cNvGraphicFramePr/>
          <p:nvPr/>
        </p:nvGraphicFramePr>
        <p:xfrm>
          <a:off x="179280" y="2917800"/>
          <a:ext cx="8785440" cy="245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917800"/>
                    <a:ext cx="878544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AFAB-488C-4B66-8AAA-8BC2A4F80F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655D-8A09-4AF0-95C5-A619818ECC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8976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Химические свойства аминокислот</a:t>
            </a:r>
            <a:br>
              <a:rPr sz="3200"/>
            </a:b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Специфические реакции </a:t>
            </a:r>
            <a:r>
              <a:rPr b="0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-аминокислот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900000" y="198900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Реакции </a:t>
            </a:r>
            <a:r>
              <a:rPr b="1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-аминокисло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1" name="Object 6"/>
          <p:cNvGraphicFramePr/>
          <p:nvPr/>
        </p:nvGraphicFramePr>
        <p:xfrm>
          <a:off x="1042920" y="2924280"/>
          <a:ext cx="7489800" cy="206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924280"/>
                    <a:ext cx="7489800" cy="20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1DF5-523D-46D0-BEA5-ADDA05D726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BF4A-D40A-4FEA-B646-EB80D139CD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898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Химические свойства аминокислот</a:t>
            </a:r>
            <a:br>
              <a:rPr sz="2800"/>
            </a:b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Специфические реакции </a:t>
            </a:r>
            <a:r>
              <a:rPr b="0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-аминокислот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900000" y="184464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Реакции </a:t>
            </a:r>
            <a:r>
              <a:rPr b="1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-аминокисло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6" name="Object 6"/>
          <p:cNvGraphicFramePr/>
          <p:nvPr/>
        </p:nvGraphicFramePr>
        <p:xfrm>
          <a:off x="973080" y="2565360"/>
          <a:ext cx="7920000" cy="355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3080" y="2565360"/>
                    <a:ext cx="792000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7CB-278F-45FA-BE28-1EF457CD9B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2ACB-6FF9-4B9C-A3D6-EAC7700722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042920" y="184464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ептиды — соединения, построенные из нескольких остатков 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-аминокислот, связанных амидной (пептидной) связью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2" name="Object 8"/>
          <p:cNvGraphicFramePr/>
          <p:nvPr/>
        </p:nvGraphicFramePr>
        <p:xfrm>
          <a:off x="3419640" y="4797360"/>
          <a:ext cx="252072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4797360"/>
                    <a:ext cx="252072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ABD-13B4-49D4-94AD-54C48E7391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033F-5089-4437-BEEE-6679D75EDE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06" name="Object 7"/>
          <p:cNvGraphicFramePr/>
          <p:nvPr/>
        </p:nvGraphicFramePr>
        <p:xfrm>
          <a:off x="539640" y="1628640"/>
          <a:ext cx="817272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628640"/>
                    <a:ext cx="817272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9" name="Object 9"/>
          <p:cNvGraphicFramePr/>
          <p:nvPr/>
        </p:nvGraphicFramePr>
        <p:xfrm>
          <a:off x="900000" y="2997360"/>
          <a:ext cx="6985080" cy="341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0000" y="2997360"/>
                    <a:ext cx="69850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51C2-5A21-4549-9986-BBFE4CE844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5A5D-23AB-4F2F-8CAB-7988B81DE1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8" descr="image004"/>
          <p:cNvPicPr/>
          <p:nvPr/>
        </p:nvPicPr>
        <p:blipFill>
          <a:blip r:embed="rId2"/>
          <a:stretch/>
        </p:blipFill>
        <p:spPr>
          <a:xfrm>
            <a:off x="1116000" y="1268280"/>
            <a:ext cx="3613320" cy="54738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9"/>
          <p:cNvSpPr/>
          <p:nvPr/>
        </p:nvSpPr>
        <p:spPr>
          <a:xfrm>
            <a:off x="5219640" y="53737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СЛЕДОВАТЕЛЬНОЕ СОЕДИНЕНИЕ АМИНОКИСЛО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7D6-8B00-43A3-8EA3-EFF090D7E3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7E38-A96C-40E4-B6DE-3AFD66800F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9" name="Object 6"/>
          <p:cNvGraphicFramePr/>
          <p:nvPr/>
        </p:nvGraphicFramePr>
        <p:xfrm>
          <a:off x="611280" y="2060640"/>
          <a:ext cx="810108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060640"/>
                    <a:ext cx="810108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B14-AD38-4519-B7D1-91B8E59811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E828-636B-47FA-9D8B-070E8910F7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минокисло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753320" cy="19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оединение, которое содержит одновременно и кислотную функциональную группу, и аминогруппу, является аминокислот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2627280" y="4221000"/>
          <a:ext cx="4321080" cy="18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4221000"/>
                    <a:ext cx="4321080" cy="18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0EE-D0E1-4F59-AB02-24A0646BF8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13BD-0032-4EA5-9C34-8775EB30B4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7" descr="1840_302"/>
          <p:cNvPicPr/>
          <p:nvPr/>
        </p:nvPicPr>
        <p:blipFill>
          <a:blip r:embed="rId2"/>
          <a:stretch/>
        </p:blipFill>
        <p:spPr>
          <a:xfrm>
            <a:off x="1403280" y="1268280"/>
            <a:ext cx="6480360" cy="48722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1403280" y="630864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вичная структура белка инсули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7A1-C086-47B6-85A5-8E73D7722D8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650B-CC75-4848-8E47-9A72FB9963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187280" y="2205000"/>
            <a:ext cx="7129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6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ервичная структура пептидов и белков — это последовательность аминокислотных остатков в полипептидной цепи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953-E5E2-4776-A77E-5BA286546F5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FF94-6A8F-4701-80F3-B42B6902B0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5" descr="16_2"/>
          <p:cNvPicPr/>
          <p:nvPr/>
        </p:nvPicPr>
        <p:blipFill>
          <a:blip r:embed="rId2"/>
          <a:stretch/>
        </p:blipFill>
        <p:spPr>
          <a:xfrm>
            <a:off x="1042920" y="1773360"/>
            <a:ext cx="6985080" cy="490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78B-DA34-4AE5-A242-D11181963B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775C-341A-4B36-9F56-26A9C2ABDA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5" descr="16_3"/>
          <p:cNvPicPr/>
          <p:nvPr/>
        </p:nvPicPr>
        <p:blipFill>
          <a:blip r:embed="rId2"/>
          <a:stretch/>
        </p:blipFill>
        <p:spPr>
          <a:xfrm>
            <a:off x="971640" y="1916280"/>
            <a:ext cx="7345440" cy="479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05C-7BE1-41D9-970A-354313E1906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C476-7EBE-4F7F-9F4E-296B45E956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6" descr="1840_303"/>
          <p:cNvPicPr/>
          <p:nvPr/>
        </p:nvPicPr>
        <p:blipFill>
          <a:blip r:embed="rId2"/>
          <a:stretch/>
        </p:blipFill>
        <p:spPr>
          <a:xfrm>
            <a:off x="900000" y="1484280"/>
            <a:ext cx="7302600" cy="43974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900000" y="587700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РАЗОВАНИЕ ВНУТРИМОЛЕКУЛЯРНЫХ ВОДОРОДНЫХ СВЯЗЕ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изображены пунктирными линиями) в молекуле полипепти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C0F-E9C4-402B-812A-0A8FFADA87A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B92F-D785-47BF-A97B-599C2FC4910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Picture 4" descr="1840_304"/>
          <p:cNvPicPr/>
          <p:nvPr/>
        </p:nvPicPr>
        <p:blipFill>
          <a:blip r:embed="rId2"/>
          <a:stretch/>
        </p:blipFill>
        <p:spPr>
          <a:xfrm>
            <a:off x="1042920" y="1844640"/>
            <a:ext cx="7345440" cy="41673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18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2920" y="616572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1042920" y="6093000"/>
            <a:ext cx="748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ОБЪЕМНАЯ МОДЕЛЬ МОЛЕКУЛЫ БЕЛКА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в форме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спирали. Водородные связи показаны зелеными пунктирными линия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E7B-A64F-4369-9972-FEB6CAA8E2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CEF6-23AF-408F-80B6-114471CE2DE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6" descr="16_4"/>
          <p:cNvPicPr/>
          <p:nvPr/>
        </p:nvPicPr>
        <p:blipFill>
          <a:blip r:embed="rId2"/>
          <a:stretch/>
        </p:blipFill>
        <p:spPr>
          <a:xfrm>
            <a:off x="1116000" y="1844640"/>
            <a:ext cx="2822760" cy="48974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8"/>
          <p:cNvSpPr/>
          <p:nvPr/>
        </p:nvSpPr>
        <p:spPr>
          <a:xfrm>
            <a:off x="4500720" y="5445000"/>
            <a:ext cx="29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спираль молекулы бел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D56-03B4-4190-A3F6-3A94DC04911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92E9-98FA-4B75-B671-EE1413B81A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11" descr="1840_305"/>
          <p:cNvPicPr/>
          <p:nvPr/>
        </p:nvPicPr>
        <p:blipFill>
          <a:blip r:embed="rId2"/>
          <a:stretch/>
        </p:blipFill>
        <p:spPr>
          <a:xfrm>
            <a:off x="1189080" y="1700280"/>
            <a:ext cx="6767640" cy="444636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2"/>
          <p:cNvSpPr/>
          <p:nvPr/>
        </p:nvSpPr>
        <p:spPr>
          <a:xfrm>
            <a:off x="1042920" y="6237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АРАЛЛЕЛЬНАЯ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СТРУКТУР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состоящая из трех полипептидных молеку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79F8-B320-488F-A150-16A633A2AF0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A073-BE1A-47F9-A0F5-47F693AC99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042920" y="6237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НТИПАРАЛЛЕЛЬНАЯ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СТРУКТУР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состоящая из трех полипептидных молеку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6" descr="1840_306"/>
          <p:cNvPicPr/>
          <p:nvPr/>
        </p:nvPicPr>
        <p:blipFill>
          <a:blip r:embed="rId2"/>
          <a:stretch/>
        </p:blipFill>
        <p:spPr>
          <a:xfrm>
            <a:off x="950760" y="1773360"/>
            <a:ext cx="7293240" cy="43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9E3-8F16-48CC-94C4-E2DDF17C9E9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AF1F-D2D5-483D-941A-5B5925F98CC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042920" y="609300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БРАЗОВАНИЕ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СТРУКТУР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внутри одной полипептидной цеп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6" descr="1840_307"/>
          <p:cNvPicPr/>
          <p:nvPr/>
        </p:nvPicPr>
        <p:blipFill>
          <a:blip r:embed="rId2"/>
          <a:stretch/>
        </p:blipFill>
        <p:spPr>
          <a:xfrm>
            <a:off x="1258920" y="1916280"/>
            <a:ext cx="6769080" cy="406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249-763B-49D4-B92B-A07447E8CC2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7643-6502-419C-BC7F-5E49776C1C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30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35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Rectangle 45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Rectangle 50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55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Rectangle 60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65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Rectangle 75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Rectangle 80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Rectangle 85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8000" y="260280"/>
          <a:ext cx="8856720" cy="6623280"/>
        </p:xfrm>
        <a:graphic>
          <a:graphicData uri="http://schemas.openxmlformats.org/drawingml/2006/table">
            <a:tbl>
              <a:tblPr/>
              <a:tblGrid>
                <a:gridCol w="2663640"/>
                <a:gridCol w="2449800"/>
                <a:gridCol w="2909880"/>
                <a:gridCol w="833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кращ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уктурная форму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I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иц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ан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л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йц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л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нилалан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иптоф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Object 430"/>
          <p:cNvGraphicFramePr/>
          <p:nvPr/>
        </p:nvGraphicFramePr>
        <p:xfrm>
          <a:off x="5640480" y="1225440"/>
          <a:ext cx="2168280" cy="42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4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40480" y="1225440"/>
                    <a:ext cx="21682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31"/>
          <p:cNvGraphicFramePr/>
          <p:nvPr/>
        </p:nvGraphicFramePr>
        <p:xfrm>
          <a:off x="5651640" y="1916280"/>
          <a:ext cx="1728720" cy="81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" name="Object 4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1640" y="1916280"/>
                    <a:ext cx="172872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432"/>
          <p:cNvGraphicFramePr/>
          <p:nvPr/>
        </p:nvGraphicFramePr>
        <p:xfrm>
          <a:off x="5651640" y="2852640"/>
          <a:ext cx="2305080" cy="784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3" name="Object 43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51640" y="2852640"/>
                    <a:ext cx="23050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433"/>
          <p:cNvGraphicFramePr/>
          <p:nvPr/>
        </p:nvGraphicFramePr>
        <p:xfrm>
          <a:off x="5292720" y="3645000"/>
          <a:ext cx="2735280" cy="784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" name="Object 43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92720" y="3645000"/>
                    <a:ext cx="27352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434"/>
          <p:cNvGraphicFramePr/>
          <p:nvPr/>
        </p:nvGraphicFramePr>
        <p:xfrm>
          <a:off x="5437080" y="4365720"/>
          <a:ext cx="1871640" cy="80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" name="Object 43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37080" y="4365720"/>
                    <a:ext cx="187164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435"/>
          <p:cNvGraphicFramePr/>
          <p:nvPr/>
        </p:nvGraphicFramePr>
        <p:xfrm>
          <a:off x="5508720" y="5300640"/>
          <a:ext cx="2087640" cy="733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9" name="Object 43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08720" y="5300640"/>
                    <a:ext cx="208764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436"/>
          <p:cNvGraphicFramePr/>
          <p:nvPr/>
        </p:nvGraphicFramePr>
        <p:xfrm>
          <a:off x="5651640" y="6124680"/>
          <a:ext cx="2089080" cy="733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1" name="Object 43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651640" y="612468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0643-72E8-4E5A-8C15-A60D53F023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F79B-99CA-4BCD-9E85-1A8124A1A8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2771640" y="630864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структура бел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Picture 9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256600" cy="465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E55-C05B-480D-9271-21152D35B11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7C27-727C-4017-9ADF-61EBE16CA98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1840_308"/>
          <p:cNvPicPr/>
          <p:nvPr/>
        </p:nvPicPr>
        <p:blipFill>
          <a:blip r:embed="rId2"/>
          <a:stretch/>
        </p:blipFill>
        <p:spPr>
          <a:xfrm>
            <a:off x="971640" y="1628640"/>
            <a:ext cx="4727520" cy="51580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5867280" y="2276640"/>
            <a:ext cx="302580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– участок полипептидной цепи, соединенный водородными связями (зеленые пунктирные лини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 – условное изображение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структуры в форме плоской ленты, проходящей через атомы полимерной цепи (атомы водорода не показаны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498D-B46E-4305-9387-EBEAB9F6464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A057-75A6-4E42-9FF0-56D1DB85FF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900000" y="1989000"/>
            <a:ext cx="7632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торичная структура белка — это более высокий уровень структурной организации, в котором закрепление конформации происходит за счет водородных связей между пептидными группам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A761-B97C-43AD-A333-29CD532C2B5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0AAD-EFC5-47BC-8437-2C13A1128EC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Трет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6" descr="1840_309"/>
          <p:cNvPicPr/>
          <p:nvPr/>
        </p:nvPicPr>
        <p:blipFill>
          <a:blip r:embed="rId2"/>
          <a:stretch/>
        </p:blipFill>
        <p:spPr>
          <a:xfrm>
            <a:off x="179280" y="1773360"/>
            <a:ext cx="5256360" cy="50241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7"/>
          <p:cNvSpPr/>
          <p:nvPr/>
        </p:nvSpPr>
        <p:spPr>
          <a:xfrm>
            <a:off x="5651640" y="1844640"/>
            <a:ext cx="33480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РАЗЛИЧНЫЕ ВАРИАНТЫ ИЗОБРАЖЕНИЯ СТРУКТУРЫ БЕЛКА КРАМБИНА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А– структурная формула в пространственном изображении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Б – структура в виде объемной модели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В – третичная структура молекулы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Г – сочетание вариантов А и В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Д – упрощенное изображение третичной структуры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Е – третичная структура с дисульфидными мостиками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0AB-E65B-4709-8008-A459479506C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5EC6-AD99-42A2-A9FE-F3190E270D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Ионные взаимодейств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0" name="Object 6"/>
          <p:cNvGraphicFramePr/>
          <p:nvPr/>
        </p:nvGraphicFramePr>
        <p:xfrm>
          <a:off x="900000" y="2162160"/>
          <a:ext cx="8064720" cy="34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162160"/>
                    <a:ext cx="8064720" cy="34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728-A0D2-4459-894C-062739C828E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2E7F-92A2-4363-8113-A3D5001F16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ru-RU" sz="2400" spc="-1" strike="noStrike">
                <a:solidFill>
                  <a:srgbClr val="e5ffff"/>
                </a:solidFill>
                <a:latin typeface="Tahoma"/>
              </a:rPr>
              <a:t>Дисульфидные взаимодейств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5" name="Object 5"/>
          <p:cNvGraphicFramePr/>
          <p:nvPr/>
        </p:nvGraphicFramePr>
        <p:xfrm>
          <a:off x="179280" y="2637000"/>
          <a:ext cx="8820360" cy="246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637000"/>
                    <a:ext cx="882036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1F0-08F6-4097-9103-831A3BAB06F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316F-7107-42E1-BEA2-6BB89F50F0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Глобулярные белк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0" name="Picture 6" descr="1840_310"/>
          <p:cNvPicPr/>
          <p:nvPr/>
        </p:nvPicPr>
        <p:blipFill>
          <a:blip r:embed="rId2"/>
          <a:stretch/>
        </p:blipFill>
        <p:spPr>
          <a:xfrm>
            <a:off x="539640" y="1700280"/>
            <a:ext cx="5400720" cy="49212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7"/>
          <p:cNvSpPr/>
          <p:nvPr/>
        </p:nvSpPr>
        <p:spPr>
          <a:xfrm>
            <a:off x="6388200" y="2193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156360" y="1916280"/>
            <a:ext cx="2700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ЛОБУЛЯРНАЯ СТРУКТУРА АЛЬБУМИ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белок куриного яйца). В структуре помимо дисульфидных мостиков присутствуют свободные сульфгидридные HS-группы цистеина, которые в процессе разложения белка легко образуют сероводород – источник запаха тухлых яиц. Дисульфидные мостики намного более устойчивы и при разложении белка сероводород не образуют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3612-8069-49EB-9934-4AE5782B644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3D3A-FCF9-44F0-BE8E-5D8864634D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Фибриллярные белк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6388200" y="2193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7" name="Picture 7" descr="1840_311"/>
          <p:cNvPicPr/>
          <p:nvPr/>
        </p:nvPicPr>
        <p:blipFill>
          <a:blip r:embed="rId2"/>
          <a:stretch/>
        </p:blipFill>
        <p:spPr>
          <a:xfrm>
            <a:off x="684360" y="1916280"/>
            <a:ext cx="7993080" cy="38685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116000" y="6021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ИБРИЛЛЯРНЫЙ БЕЛОК ФИБРОИ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основной компонент натурального шелка и паути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BEC-E411-449A-A7AE-D697D17C3FF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3AC1-5408-4EFF-AC71-337C7B13AA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Четверт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2" name="Picture 6" descr="1840_312"/>
          <p:cNvPicPr/>
          <p:nvPr/>
        </p:nvPicPr>
        <p:blipFill>
          <a:blip r:embed="rId2"/>
          <a:stretch/>
        </p:blipFill>
        <p:spPr>
          <a:xfrm>
            <a:off x="900000" y="1773360"/>
            <a:ext cx="7559640" cy="43084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7"/>
          <p:cNvSpPr/>
          <p:nvPr/>
        </p:nvSpPr>
        <p:spPr>
          <a:xfrm>
            <a:off x="1042920" y="6165720"/>
            <a:ext cx="727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БРАЗОВАНИЕ ЧЕТВЕРТИЧНОЙ СТРУКТУРЫ ГЛОБУЛЯРНОГО БЕЛК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ферритина при объединении молекул в единый ансамбл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D03-8434-40C3-813F-762104F6CEA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C517-828D-49AF-B439-FC4D1D5912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Четверт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Picture 6" descr="1840_313"/>
          <p:cNvPicPr/>
          <p:nvPr/>
        </p:nvPicPr>
        <p:blipFill>
          <a:blip r:embed="rId2"/>
          <a:stretch/>
        </p:blipFill>
        <p:spPr>
          <a:xfrm>
            <a:off x="826920" y="1773360"/>
            <a:ext cx="5688360" cy="496404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8"/>
          <p:cNvSpPr/>
          <p:nvPr/>
        </p:nvSpPr>
        <p:spPr>
          <a:xfrm>
            <a:off x="6588000" y="1943280"/>
            <a:ext cx="24926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АДМОЛЕКУЛЯРНАЯ СТРУКТУРА ФИБРИЛЛЯРНОГО БЕЛКА КОЛЛАГЕНА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 На примере коллагена можно видеть, что в образовании фибриллярных белков могут участвовать как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спирали, так и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структуры. То же и для глобулярных белков, в них могут быть оба типа третичных структу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75E-4BCF-42B9-B938-4D9F0D9AA7C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24B3-9447-4E95-A778-8F4085A7A4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9280" y="189000"/>
          <a:ext cx="8785440" cy="6192720"/>
        </p:xfrm>
        <a:graphic>
          <a:graphicData uri="http://schemas.openxmlformats.org/drawingml/2006/table">
            <a:tbl>
              <a:tblPr/>
              <a:tblGrid>
                <a:gridCol w="2305080"/>
                <a:gridCol w="1943280"/>
                <a:gridCol w="3600360"/>
                <a:gridCol w="936720"/>
              </a:tblGrid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кращ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уктурная форму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I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араг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утаминовая кисл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l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з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гин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Object 151"/>
          <p:cNvGraphicFramePr/>
          <p:nvPr/>
        </p:nvGraphicFramePr>
        <p:xfrm>
          <a:off x="4788000" y="1484280"/>
          <a:ext cx="2879640" cy="8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15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484280"/>
                    <a:ext cx="2879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53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7" name="Object 154"/>
          <p:cNvGraphicFramePr/>
          <p:nvPr/>
        </p:nvGraphicFramePr>
        <p:xfrm>
          <a:off x="4572000" y="2781360"/>
          <a:ext cx="3168720" cy="857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" name="Object 15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781360"/>
                    <a:ext cx="31687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55"/>
          <p:cNvGraphicFramePr/>
          <p:nvPr/>
        </p:nvGraphicFramePr>
        <p:xfrm>
          <a:off x="4140360" y="4037040"/>
          <a:ext cx="3816360" cy="831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0" name="Object 15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40360" y="4037040"/>
                    <a:ext cx="381636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158"/>
          <p:cNvGraphicFramePr/>
          <p:nvPr/>
        </p:nvGraphicFramePr>
        <p:xfrm>
          <a:off x="3852720" y="5361120"/>
          <a:ext cx="4319640" cy="1092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2" name="Object 15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2720" y="5361120"/>
                    <a:ext cx="431964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A6C-E3D2-409C-B47E-B5DF96686A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E9B5-2D39-467D-83F5-9F71E2A1D4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100"/>
            </a:br>
            <a:br>
              <a:rPr sz="14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Денатурация белков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50920" y="1628640"/>
            <a:ext cx="338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енатурация белков — это разрушение их природной (нативной) пространственной структуры с сохранением первичной структур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8" descr="{B3BF94CD-4AA8-43A9-8533-3BCB13647A1D}"/>
          <p:cNvPicPr/>
          <p:nvPr/>
        </p:nvPicPr>
        <p:blipFill>
          <a:blip r:embed="rId2"/>
          <a:stretch/>
        </p:blipFill>
        <p:spPr>
          <a:xfrm>
            <a:off x="3887640" y="1601640"/>
            <a:ext cx="525636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6BE-2BC3-4166-B90F-FAEFC2FAB5A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2364-0493-4A4F-A78E-92F02F34D7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5438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endParaRPr b="0" lang="en-US" sz="3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Picture 6" descr="{FA2829D0-D221-4D2C-BB26-4EEA4C13DCD6}"/>
          <p:cNvPicPr/>
          <p:nvPr/>
        </p:nvPicPr>
        <p:blipFill>
          <a:blip r:embed="rId2"/>
          <a:stretch/>
        </p:blipFill>
        <p:spPr>
          <a:xfrm>
            <a:off x="2700360" y="1125360"/>
            <a:ext cx="3995640" cy="5400720"/>
          </a:xfrm>
          <a:prstGeom prst="rect">
            <a:avLst/>
          </a:prstGeom>
          <a:ln w="0">
            <a:noFill/>
          </a:ln>
        </p:spPr>
      </p:pic>
      <p:sp>
        <p:nvSpPr>
          <p:cNvPr id="328" name="Рамка 5"/>
          <p:cNvSpPr/>
          <p:nvPr/>
        </p:nvSpPr>
        <p:spPr>
          <a:xfrm>
            <a:off x="3714840" y="0"/>
            <a:ext cx="2286000" cy="428760"/>
          </a:xfrm>
          <a:prstGeom prst="pi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Prezentacii.c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C66-F1A8-4762-A1AD-A2E8DF7B237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A99F-B980-4F15-8C4D-60BEA286108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9280" y="189000"/>
          <a:ext cx="8785440" cy="6275160"/>
        </p:xfrm>
        <a:graphic>
          <a:graphicData uri="http://schemas.openxmlformats.org/drawingml/2006/table">
            <a:tbl>
              <a:tblPr/>
              <a:tblGrid>
                <a:gridCol w="1944720"/>
                <a:gridCol w="2087640"/>
                <a:gridCol w="3816360"/>
                <a:gridCol w="936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кращ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уктурная форму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I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истид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роз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y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исте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y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Object 100"/>
          <p:cNvGraphicFramePr/>
          <p:nvPr/>
        </p:nvGraphicFramePr>
        <p:xfrm>
          <a:off x="4572000" y="981000"/>
          <a:ext cx="3313080" cy="15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10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981000"/>
                    <a:ext cx="331308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05"/>
          <p:cNvGraphicFramePr/>
          <p:nvPr/>
        </p:nvGraphicFramePr>
        <p:xfrm>
          <a:off x="4211640" y="2852640"/>
          <a:ext cx="3816360" cy="115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Object 10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11640" y="2852640"/>
                    <a:ext cx="381636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10"/>
          <p:cNvGraphicFramePr/>
          <p:nvPr/>
        </p:nvGraphicFramePr>
        <p:xfrm>
          <a:off x="4859280" y="4653000"/>
          <a:ext cx="2952720" cy="1162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Object 1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59280" y="4653000"/>
                    <a:ext cx="29527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2B1-1D3B-48BA-BCE3-DA210E8154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7355-D8F6-4B40-B9B5-0A07331DCA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Незаменимые аминокислот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Незаменимым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называются аминокислоты, которые не могут быть синтезированы организмом из веществ, поступающих с пищей, в количествах, достаточных для того, чтобы удовлетворить физиологические потребности организм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4F5-A892-4D1B-B9FD-6020E7563B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C525-FF5F-430A-BBC8-6FABF43ADB0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Незаменимые аминокислот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едующие аминокислоты принято считать незаменимыми для организма человека: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золейцин, лейцин, лизин, метионин, фенилаланин, треонин, триптофан и валин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892-B580-4785-9867-32B4D42F54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37DC-BEFE-4641-B1B7-5CCE7A881A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Кислотно-основные свойств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179280" y="2276640"/>
          <a:ext cx="8856720" cy="325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276640"/>
                    <a:ext cx="8856720" cy="32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F41-3C49-474F-85A1-338089D091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8:02:51Z</dcterms:created>
  <dc:creator>Markin</dc:creator>
  <dc:description/>
  <dc:language>en-US</dc:language>
  <cp:lastModifiedBy>Student</cp:lastModifiedBy>
  <dcterms:modified xsi:type="dcterms:W3CDTF">2013-05-03T09:24:56Z</dcterms:modified>
  <cp:revision>116</cp:revision>
  <dc:subject/>
  <dc:title>Аминокислоты и белки</dc:title>
</cp:coreProperties>
</file>