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9.jpeg" ContentType="image/jpeg"/>
  <Override PartName="/ppt/media/image18.jpeg" ContentType="image/jpeg"/>
  <Override PartName="/ppt/media/image1.jpeg" ContentType="image/jpeg"/>
  <Override PartName="/ppt/media/image7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9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8AD4-7BD0-4B88-AD0A-FA04AE689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80B0-E211-4703-A429-981ACE8D1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5A9C-7899-4CB9-9D4B-7ACAD00ED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CE8E-CD1B-4C36-93AC-5DAE71EDA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6AC03-9B4C-404E-9222-A183398BB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FEE10-8741-4DFD-9516-A8B22DD8E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876D8-96CD-4311-B700-145306412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91D1B-5785-467C-A3CA-1B501F054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0923C-AE08-46C6-864B-85DC2C8C1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6AB58-B064-41DA-8AC7-459ED5E3B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A98E8-6BCB-406D-9CD6-756577E4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AB06-05A2-46D6-B21B-7309B80F7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2CF09-5CA8-4C1A-940D-003A0F163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11312-C9E1-4AF7-B96B-7E5190D4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C8367-3AFA-4ED8-82AD-7E0BC579C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58CEF-437A-4402-B023-0994217D2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95119-EF59-4E51-82F4-058F99570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24EE-8B2D-4D4B-BB4F-D49C56DE3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1B21-D28D-4E0B-BE47-655C3D97A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219E-3D41-46A8-91EC-EAA80F6E9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0AA9-8AC1-4088-A667-D5F204B82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00F3-63E0-4D21-AD8A-4CE747CE0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CCA5-4E9C-4065-916D-5521777FB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4E42-198A-4BA7-B26C-67B71D81B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B42F9-CF5E-4E8C-888A-96336265D182}" type="datetime">
              <a:rPr b="0" lang="en-US" sz="1200" spc="-1" strike="noStrike">
                <a:solidFill>
                  <a:srgbClr val="bcbcbc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91271-6691-46CD-8287-635C5F47D7D2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D568A-A625-4BC0-82D1-36BF851FD3F9}" type="datetime">
              <a:rPr b="0" lang="en-US" sz="1200" spc="-1" strike="noStrike">
                <a:solidFill>
                  <a:srgbClr val="bcbcbc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85219-2CA7-41B0-9390-B8C1F4569DA7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Алициклические углеводороды. Теория Байера.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502920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EB2B-519B-463F-9A8C-E39A53091C3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Циклоалканы – это циклические углеводороды, не содержащие в молекуле кратных связе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Циклоалканы – это циклические углеводороды, не содержащие в молекуле кратных связе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0CD5-48AD-4BBC-AB6F-406F9D2D1AA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Rectangle 2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2286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Общая формула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nH2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B0AE-F389-429E-995F-48DD8C42127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img3"/>
          <p:cNvPicPr/>
          <p:nvPr/>
        </p:nvPicPr>
        <p:blipFill>
          <a:blip r:embed="rId2"/>
          <a:stretch/>
        </p:blipFill>
        <p:spPr>
          <a:xfrm>
            <a:off x="685800" y="3808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9AA5-223E-415F-B4E9-FE387CCD1B3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6" descr="img4"/>
          <p:cNvPicPr/>
          <p:nvPr/>
        </p:nvPicPr>
        <p:blipFill>
          <a:blip r:embed="rId2"/>
          <a:stretch/>
        </p:blipFill>
        <p:spPr>
          <a:xfrm>
            <a:off x="228600" y="228600"/>
            <a:ext cx="8305920" cy="622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3E67-E7F8-4EF8-B8BA-593C4ED7271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img5"/>
          <p:cNvPicPr/>
          <p:nvPr/>
        </p:nvPicPr>
        <p:blipFill>
          <a:blip r:embed="rId2"/>
          <a:stretch/>
        </p:blipFill>
        <p:spPr>
          <a:xfrm>
            <a:off x="380880" y="457200"/>
            <a:ext cx="8229600" cy="571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EB35-4045-4FBE-AAD8-BAB3969E54F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Rectangle 2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ри обычных условиях первые два члена ряда гм(С3 - С4) - газы, (С5 - С16) - жидкости, начиная с С17 - твердые вещества. Температуры кипения и плавления циклоалканов выше, чем у соответствующих алканов. Циклоалканы в воде практически не растворяются. При увеличении числа атомов "С" возрастает Молярная масса, следовательно увеличивается температура плавления. Температуры плавления и кипения некоторых циклоалканов, град.С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циклопропан С3H6 –127,5 -32,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циклобутан С4H8 –50 1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циклопентан С5H10 –93,9 49,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циклогексан С6H12 6,5 8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циклогептан С7H14 –12 118,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циклооктан С8H16 14,3 63 при 45 мм рт.ст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циклононан С9H18 9,7 69 при 14 мм рт.ст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циклодекан С10H20 10,8 20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циклоундекан С11H22 –7,2 91 при 12 мм рт.ст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циклододекан С12H24 61,6 24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циклотридекан С13H26 23,5 128 при 20 мм рт.ст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циклотетрадекан С14H28 54 131 при 11 мм рт.ст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циклопентадекан С15H30 62,1 147 при 12 мм рт.ст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DB61-E3EE-4DAD-A113-0A896477C1D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57200" y="1599840"/>
            <a:ext cx="8229600" cy="47084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img6"/>
          <p:cNvPicPr/>
          <p:nvPr/>
        </p:nvPicPr>
        <p:blipFill>
          <a:blip r:embed="rId3"/>
          <a:stretch/>
        </p:blipFill>
        <p:spPr>
          <a:xfrm>
            <a:off x="228600" y="152280"/>
            <a:ext cx="8686800" cy="6515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0D62-9A9F-4127-9CC2-4E588042209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Rectangle 2" descr=""/>
          <p:cNvPicPr/>
          <p:nvPr/>
        </p:nvPicPr>
        <p:blipFill>
          <a:blip r:embed="rId2"/>
          <a:stretch/>
        </p:blipFill>
        <p:spPr>
          <a:xfrm>
            <a:off x="457200" y="96840"/>
            <a:ext cx="8229600" cy="1324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еакции замеще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6Н12 + Br2 = С6Н11Вr + H B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циклогексан бромциклогекса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1EAF-06F6-4C62-A2B6-FA09B3EC075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Rectangle 2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 Дегалогенирова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Br-СН2-СН2-СН2-Br + Mg = циклопропан + MgBr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 Гидрирование ароматических углеводородов (катализатор, давление, температура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6Н6 +3Н2 = С6Н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EACF-FE01-48A9-AF06-0252BF90202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1" descr="HimR10-34"/>
          <p:cNvPicPr/>
          <p:nvPr/>
        </p:nvPicPr>
        <p:blipFill>
          <a:blip r:embed="rId2"/>
          <a:stretch/>
        </p:blipFill>
        <p:spPr>
          <a:xfrm>
            <a:off x="838080" y="457200"/>
            <a:ext cx="7315200" cy="5724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13D5-BC14-4B0A-99A7-3EDDF062B87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Rectangle 2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оганн Фридрих Вильгельм Адольф фон Байер-немецкий химик-органик, лауреат Нобелевской премии по химии 1905 года, основатель концерна Bay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 1858 года в течение двух лет он вместе с Кекуле работал в Гентском университете в Бельгии, а затем возвратился в Берлин, где читал лекции по химии в Берлинской высшей технической школе. В 1872 году Байер переехал в Страсбург и занял место профессора химии в Страсбургском университете. В 1875 году, после смерти Юстуса фон Либиха, Байер стал преемником этого известного химика-органика, заняв должность профессора химии в Мюнхенском университет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1885 году, в день 50-летия Байера, в знак признания его заслуг перед Германией учёному был пожалован наследственный титул, давший право ставить частицу «фон» перед фамилией. В число наград, полученных Байером, входила медаль Дэви, присуждённая Лондонским королевским обществом. Он был членом Берлинской академии наук и Германского химического обществ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5C4D-AB60-4372-A5D3-8CA7B0E568C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57200" y="1599840"/>
            <a:ext cx="8229600" cy="47084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img8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3A51-B6F7-4706-A25E-EC5A69C2FF2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Rectangle 2" descr=""/>
          <p:cNvPicPr/>
          <p:nvPr/>
        </p:nvPicPr>
        <p:blipFill>
          <a:blip r:embed="rId2"/>
          <a:stretch/>
        </p:blipFill>
        <p:spPr>
          <a:xfrm>
            <a:off x="195120" y="304920"/>
            <a:ext cx="4876920" cy="6327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3"/>
          <a:stretch/>
        </p:blipFill>
        <p:spPr>
          <a:xfrm>
            <a:off x="4952880" y="304920"/>
            <a:ext cx="3962520" cy="6553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9947-528E-4CF5-9DA8-8B7B2D5E182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Rectangle 2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воё первое химическое открытие Байер сделал в 12-летнем возрасте, получив новую двойную соль — карбонат меди и натр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5AAC-B64A-45BE-A9C4-8E670BA2F30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Rectangle 2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308800" cy="11761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ервой важной работой Байера стало его исследование простейших мышьякорганических соединений, произведённое им в конце 50-х годов в лаборатории Бунзена. Байер открыл барбитуровую кислоту и барбитураты (1864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1866 году получил окислением индиго изатин (впервые выделенный в 1841 году французским химиком О. Лораном) и ввёл метод восстановления органических соединений цинковой пылью в практику органического синтез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1869 году (совместно с немецким химиком А. Эммерлингом) синтезировал индол сплавлением o-нитрокоричной кислоты с гидроксидом калия, затем его производные, в том числе изатин. конденсацией аммиака с ацетальдегидом получил пиколины и коллидины (1870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438D-93C0-48D6-92AC-FD3A2865605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сстановил нафталин до тетрагидронафталина и мезитилен до тетрагидромезитилена (187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вместно с Г. Каро в 1870 году синтезировал индол из этиланилина. В 1879 году открыл индофениловую реакцию — появление синего окрашивания при смешении бензола с изатином в присутствии концентрированной серной кислот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существил синтез индиго из динитрофенилдиацетилена (1883) и предложил его структурную формулу; эти работы Байера сделали возможным промышленное производство синтетического индиг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лучил инден из o-ди(бромметил)бензола и натриймалонового эфира (1884), терефталевую кислоту (1886) и геометрические изомеры гексагидрофталевой кислоты (1888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FC14-38AE-4FDD-B60B-C60B7B53123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1885 году Байер выдвинул теорию напряжения, устанавливающую зависимость прочности углеводородных циклов от величины углов между связями углерод-углерод. В 1887 году экспериментально доказал идентичность всех углеродных атомов в бензоле и предложил (одновременно с Г. Э. Армстронгом) центрическую формулу бензола. Ввёл в структурную теорию понятие о цис-транс-изомерии (1888); в 1896 году обнаружил цис-транс-изомерию в ряду терпен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739C-E3F9-4916-A63B-CEEF8F77934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Rectangle 2" descr=""/>
          <p:cNvPicPr/>
          <p:nvPr/>
        </p:nvPicPr>
        <p:blipFill>
          <a:blip r:embed="rId2"/>
          <a:stretch/>
        </p:blipFill>
        <p:spPr>
          <a:xfrm>
            <a:off x="341280" y="274680"/>
            <a:ext cx="8540640" cy="12492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лициклические соединения определяют как карбоциклические (в цикле присутствуют только атомы углерода) соединения, которые в своих реакциях обнаруживают преимущественно алифатический характер в противоположность поведению ароматических соединений. Их удобно подразделить по числу колец в молекуле на моноциклические (одноядерные) и полициклические (многоядерные - бициклические, трициклические и т.д.) кольцевые системы. Многие насыщенные алициклические углеводороды найдены в нефти. Ненасыщенные алициклические углеводороды, возникающие, по крайней мере формально, при полимеризации изопрена CH2=C(CH3)CH=CH2 и известные под названием терпенов, в изобилии встречаются во многих эфирных маслах. Алициклические системы часто встречаются в природных соединениях, иных, чем терпены, например в каротиноидах и стероидах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5C20-3DF9-41C0-B49C-EDD3DFF68FD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0" descr="img0"/>
          <p:cNvPicPr/>
          <p:nvPr/>
        </p:nvPicPr>
        <p:blipFill>
          <a:blip r:embed="rId2"/>
          <a:stretch/>
        </p:blipFill>
        <p:spPr>
          <a:xfrm>
            <a:off x="68580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7BCE-B7E0-491F-A4C0-3B138FB1509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tudent</cp:lastModifiedBy>
  <dcterms:modified xsi:type="dcterms:W3CDTF">2013-05-03T10:01:32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