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4C0-9C61-4B50-8C61-F0D46B01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010-5F1B-4A7B-BC7F-94EACA22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FB0-9141-48F7-B57E-E0295782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9CD-38E7-433D-90BE-97BA34E6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A615-64C7-4C60-BF2C-FA474ED9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2D98-3CE0-4C9E-A6EB-7EF8E960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3BBE-5972-41E6-9015-F58E586F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5487-B411-4340-9610-076EF55F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54A5-9B94-4CBD-AFAD-CD437C74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582A-8A00-4FB9-9111-577B59B2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4720-14A0-46C1-9AA4-94811D27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81E-ABB5-40FB-88A9-AED2A579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9AA1-C621-41B4-8F32-B25E69E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7FF4-8684-4540-8739-0D25790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8916-2619-4AAF-BEFE-0F2A8AB8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A0D4-DC06-4D05-975F-1086F64C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8BCC-59C3-4873-A3C2-2CD0B0A7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B6FE-926F-4CCB-97BE-2BC1A008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FC5C9-7591-4858-82D6-8B30E615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ECD0-B434-41AB-A403-866B5452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C8B7-BEB3-4E1A-B0A3-91715D27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1563-AA57-4C95-B53A-F228B6C9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0F2-ED0A-4DF3-90B3-1615DD97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7E08-15A6-4EE5-BD01-0E635161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2C0F-6EA9-4A59-BB26-D7546568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FA48D-4C73-4DEA-BD2F-F69544BB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D3FA-BD6A-4D31-92E3-A756926B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D9FC2-1361-40C6-BEF5-D9624F50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FD6B-474A-4DF5-8013-781800CF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7237-AD97-4B1E-8089-E415D3BD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3DF8-6DA7-4D69-B749-FE609ADF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7EBB5-F9B8-4062-A3AC-53DE5E6C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D80F0-846D-47EE-954B-A30E9035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BA6-F738-47FA-8801-5FB9E1A6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3589-0260-4E02-9BD1-E81A7EDF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BC98C-CA91-430B-B2AE-79E4320D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767E6-436B-440F-AAB8-FF24077D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A8706-F396-4447-BF5E-BED432B7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1CB40-43A6-447D-9D1F-ECF1D354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DB0F9-11D3-4E28-AECD-E8241145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03A7-EE4D-4DE7-AE0B-E8949807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23268-2315-44B6-8879-ACBDA181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89039-006B-45B8-9999-BAE78E3B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74DD2-1BAD-40EC-A99B-449C32A6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C11-1F3A-4BC8-AF0F-F62F142B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C0D21-9A74-40E6-B1D1-FC0C363F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94981-7D24-4F5F-ABE4-472F774B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45316-9131-4842-8162-EAFE8475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99F1C-D12F-4E53-A8A7-93A7D565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D9901-2AFE-4A6F-8D99-1D7DE02C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A5D1F-9C15-4D26-8B34-D54A77AE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223AA-7C43-49DF-AD16-2410C791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48C37-6C85-44B9-8986-4E6B9A43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B5174-36D8-46A0-94D9-F1C03FF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798E4-305B-4AAC-8C3B-FB80050C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35E-B943-43F7-B386-D2ED06FC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EFE7-D4A0-4327-BDF7-9216B13D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8750A-B118-461E-9BF7-D1EC8E85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8FD57-730D-4738-9107-E8CA4489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24AEB-886E-4216-B7BA-BAC77AED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D2E8D-05BF-422D-AB60-3814BD3D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1933F-E801-43BC-8B92-82BA4764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B5F97-A697-4716-9A5E-F14D9114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409BC-A83F-4A02-93C4-329E7037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4F75A-DB3C-46D1-AE72-E754BD7F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75950-B20E-4C1B-88BA-D0DA5862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4BC-CE96-460F-BBA0-5B9BF330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75668-A068-493A-8AAC-0699AFAF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00C4-1682-4025-B608-14E9F77B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39B83-BEF1-441C-8BE7-09096D00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22531-D34E-4874-9D31-758F0B2B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A8CEE-F3B6-4D1D-B26D-8F36CB9B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A1D0B-4391-4390-A351-3DC3BF1B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33004-365E-4594-954C-251F70BA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FA01F-D9FB-4E82-8641-A0385CA8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EAF2B-D5E3-47DA-8AA3-42C9461E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80DAD-CACF-4471-B8F1-861BC4DA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9A1-2B33-4E4B-BB98-CAB43A0F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6FB2-1E55-42D4-9E15-4781DB32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D7383-CB50-4C76-B998-DEA77403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9EDBC-7168-4450-B931-BDAC41AB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A9FA0-0804-458C-8F83-FC2C240A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34691-ECFB-4FBF-B4B7-E186BD7E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065-1DA7-4B83-AC8B-B9F82199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C407-1970-4899-BFA6-A021860ABA7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3A65-4206-4D3F-935D-5E25EB929B6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F1FA-99E0-4D1F-AD96-CA0C5FF422E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AAA8-B166-4896-94D3-36E6C108816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6EE4-1A2C-47EE-81C7-A6B8493AC814}" type="datetime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50CD-D081-48C3-870E-FCEF48ABB14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1B24-29B7-4499-A1B0-6A7E1ED3FBBE}" type="datetime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AF0B-0F9B-48B5-AFF4-CC2AA23ACCE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AD2F-6CC6-418C-BB82-6887F0F80483}" type="datetime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7960-D2BC-4796-A2D5-AB44C32637F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0285-1A60-41C0-9286-F2DDB1A27C08}" type="datetime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58B2-A6E8-44BE-9AD2-8F4F45A6A58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39C9-E1B9-40A3-BF9C-04F1DB578679}" type="datetime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A28A-7229-4C74-9CEA-1A999C06B85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8;&#1075;&#1072;&#1085;&#1080;&#1095;&#1077;&#1089;&#1082;&#1080;&#1077;_&#1074;&#1077;&#1097;&#1077;&#1089;&#1090;&#1074;&#1072;" TargetMode="External"/><Relationship Id="rId2" Type="http://schemas.openxmlformats.org/officeDocument/2006/relationships/hyperlink" Target="http://ru.wikipedia.org/wiki/&#1059;&#1075;&#1083;&#1077;&#1088;&#1086;&#1076;" TargetMode="External"/><Relationship Id="rId3" Type="http://schemas.openxmlformats.org/officeDocument/2006/relationships/hyperlink" Target="http://ru.wikipedia.org/wiki/&#1050;&#1072;&#1088;&#1073;&#1086;&#1094;&#1080;&#1082;&#1083;&#1080;&#1095;&#1077;&#1089;&#1082;&#1080;&#1077;_&#1089;&#1086;&#1077;&#1076;&#1080;&#1085;&#1077;&#1085;&#1080;&#1103;" TargetMode="External"/><Relationship Id="rId4" Type="http://schemas.openxmlformats.org/officeDocument/2006/relationships/hyperlink" Target="http://ru.wikipedia.org/wiki/&#1043;&#1077;&#1090;&#1077;&#1088;&#1086;&#1072;&#1090;&#1086;&#1084;" TargetMode="External"/><Relationship Id="rId5" Type="http://schemas.openxmlformats.org/officeDocument/2006/relationships/hyperlink" Target="http://ru.wikipedia.org/w/index.php?title=&#1055;&#1077;&#1085;&#1090;&#1072;&#1079;&#1086;&#1083;&amp;action=edit&amp;redlink=1" TargetMode="External"/><Relationship Id="rId6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9;&#1083;&#1077;&#1082;&#1090;&#1088;&#1086;&#1092;&#1080;&#1083;&#1100;&#1085;&#1086;&#1089;&#1090;&#1100;&amp;action=edit&amp;redlink=1" TargetMode="External"/><Relationship Id="rId2" Type="http://schemas.openxmlformats.org/officeDocument/2006/relationships/hyperlink" Target="http://ru.wikipedia.org/wiki/&#1055;&#1080;&#1088;&#1088;&#1086;&#1083;" TargetMode="External"/><Relationship Id="rId3" Type="http://schemas.openxmlformats.org/officeDocument/2006/relationships/hyperlink" Target="http://ru.wikipedia.org/wiki/&#1055;&#1080;&#1088;&#1080;&#1076;&#1080;&#1085;" TargetMode="External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80;&#1074;&#1080;&#1072;&#1083;&#1100;&#1085;&#1086;&#1077;_&#1085;&#1072;&#1079;&#1074;&#1072;&#1085;&#1080;&#1077;" TargetMode="External"/><Relationship Id="rId2" Type="http://schemas.openxmlformats.org/officeDocument/2006/relationships/hyperlink" Target="http://ru.wikipedia.org/w/index.php?title=&#1043;&#1072;&#1085;&#1095;,_&#1040;&#1088;&#1090;&#1091;&#1088;_&#1056;&#1091;&#1076;&#1086;&#1083;&#1100;&#1092;&amp;action=edit&amp;redlink=1" TargetMode="External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7;&#1083;&#1083;&#1102;&#1083;&#1086;&#1079;&#1072;" TargetMode="External"/><Relationship Id="rId2" Type="http://schemas.openxmlformats.org/officeDocument/2006/relationships/hyperlink" Target="http://ru.wikipedia.org/wiki/&#1055;&#1086;&#1083;&#1080;&#1089;&#1072;&#1093;&#1072;&#1088;&#1080;&#1076;&#1099;" TargetMode="External"/><Relationship Id="rId3" Type="http://schemas.openxmlformats.org/officeDocument/2006/relationships/hyperlink" Target="http://ru.wikipedia.org/wiki/&#1050;&#1086;&#1092;&#1077;&#1088;&#1084;&#1077;&#1085;&#1090;&#1099;" TargetMode="External"/><Relationship Id="rId4" Type="http://schemas.openxmlformats.org/officeDocument/2006/relationships/hyperlink" Target="http://ru.wikipedia.org/wiki/&#1040;&#1083;&#1082;&#1072;&#1083;&#1086;&#1080;&#1076;&#1099;" TargetMode="External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4;&#1077;&#1085;&#1085;&#1086;&#1091;&#1075;&#1086;&#1083;&#1100;&#1085;&#1072;&#1103;_&#1089;&#1084;&#1086;&#1083;&#1072;" TargetMode="External"/><Relationship Id="rId2" Type="http://schemas.openxmlformats.org/officeDocument/2006/relationships/hyperlink" Target="http://ru.wikipedia.org/wiki/&#1055;&#1080;&#1088;&#1080;&#1076;&#1080;&#1085;" TargetMode="External"/><Relationship Id="rId3" Type="http://schemas.openxmlformats.org/officeDocument/2006/relationships/hyperlink" Target="http://ru.wikipedia.org/wiki/&#1061;&#1080;&#1085;&#1086;&#1083;&#1080;&#1085;" TargetMode="External"/><Relationship Id="rId4" Type="http://schemas.openxmlformats.org/officeDocument/2006/relationships/hyperlink" Target="http://ru.wikipedia.org/wiki/&#1040;&#1082;&#1088;&#1080;&#1076;&#1080;&#1085;" TargetMode="External"/><Relationship Id="rId5" Type="http://schemas.openxmlformats.org/officeDocument/2006/relationships/hyperlink" Target="http://ru.wikipedia.org/wiki/&#1060;&#1091;&#1088;&#1092;&#1091;&#1088;&#1086;&#1083;" TargetMode="External"/><Relationship Id="rId6" Type="http://schemas.openxmlformats.org/officeDocument/2006/relationships/hyperlink" Target="http://ru.wikipedia.org/wiki/&#1050;&#1088;&#1072;&#1089;&#1080;&#1090;&#1077;&#1083;&#1080;" TargetMode="External"/><Relationship Id="rId7" Type="http://schemas.openxmlformats.org/officeDocument/2006/relationships/hyperlink" Target="http://ru.wikipedia.org/wiki/&#1048;&#1085;&#1076;&#1080;&#1075;&#1086;" TargetMode="External"/><Relationship Id="rId8" Type="http://schemas.openxmlformats.org/officeDocument/2006/relationships/hyperlink" Target="http://ru.wikipedia.org/wiki/&#1061;&#1080;&#1085;&#1080;&#1085;" TargetMode="External"/><Relationship Id="rId9" Type="http://schemas.openxmlformats.org/officeDocument/2006/relationships/hyperlink" Target="http://ru.wikipedia.org/wiki/&#1052;&#1086;&#1088;&#1092;&#1080;&#1085;" TargetMode="External"/><Relationship Id="rId10" Type="http://schemas.openxmlformats.org/officeDocument/2006/relationships/hyperlink" Target="http://ru.wikipedia.org/wiki/&#1052;&#1077;&#1087;&#1072;&#1082;&#1088;&#1080;&#1085;" TargetMode="External"/><Relationship Id="rId11" Type="http://schemas.openxmlformats.org/officeDocument/2006/relationships/hyperlink" Target="http://ru.wikipedia.org/wiki/&#1055;&#1080;&#1088;&#1072;&#1084;&#1080;&#1076;&#1086;&#1085;" TargetMode="External"/><Relationship Id="rId12" Type="http://schemas.openxmlformats.org/officeDocument/2006/relationships/hyperlink" Target="http://ru.wikipedia.org/wiki/&#1055;&#1083;&#1072;&#1089;&#1090;&#1084;&#1072;&#1089;&#1089;&#1099;" TargetMode="External"/><Relationship Id="rId13" Type="http://schemas.openxmlformats.org/officeDocument/2006/relationships/hyperlink" Target="http://ru.wikipedia.org/wiki/&#1042;&#1091;&#1083;&#1082;&#1072;&#1085;&#1080;&#1079;&#1072;&#1094;&#1080;&#1103;" TargetMode="External"/><Relationship Id="rId14" Type="http://schemas.openxmlformats.org/officeDocument/2006/relationships/hyperlink" Target="http://ru.wikipedia.org/wiki/&#1050;&#1072;&#1091;&#1095;&#1091;&#1082;" TargetMode="External"/><Relationship Id="rId1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25640" y="2130480"/>
            <a:ext cx="765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тероцикл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тероциклические пуриновые и пиримидиновы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B5FF5-83A8-4C62-86BF-230B412487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n320"/>
          <p:cNvPicPr/>
          <p:nvPr/>
        </p:nvPicPr>
        <p:blipFill>
          <a:blip r:embed="rId1"/>
          <a:srcRect l="0" t="0" r="0" b="13008"/>
          <a:stretch/>
        </p:blipFill>
        <p:spPr>
          <a:xfrm>
            <a:off x="324000" y="1292400"/>
            <a:ext cx="8424720" cy="379224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7"/>
          <p:cNvSpPr/>
          <p:nvPr/>
        </p:nvSpPr>
        <p:spPr>
          <a:xfrm>
            <a:off x="250920" y="5608800"/>
            <a:ext cx="8496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рол 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Н – пятичленный гетероцикл с одним атомом аз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цветная жидкость с температурой кипения 13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, плохо растворимая в воде, на воздухе быстро окисляется и темне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WordArt 8"/>
          <p:cNvSpPr txBox="1"/>
          <p:nvPr/>
        </p:nvSpPr>
        <p:spPr>
          <a:xfrm>
            <a:off x="3995640" y="404640"/>
            <a:ext cx="1743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рр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0" name="AutoShape 9"/>
          <p:cNvSpPr/>
          <p:nvPr/>
        </p:nvSpPr>
        <p:spPr>
          <a:xfrm>
            <a:off x="8459640" y="5950080"/>
            <a:ext cx="684360" cy="907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907920"/>
              <a:gd name="textAreaBottom" fmla="*/ 863640 h 907920"/>
            </a:gdLst>
            <a:ahLst/>
            <a:rect l="textAreaLeft" t="textAreaTop" r="textAreaRight" b="textAreaBottom"/>
            <a:pathLst>
              <a:path w="21600" h="28652">
                <a:moveTo>
                  <a:pt x="0" y="0"/>
                </a:moveTo>
                <a:lnTo>
                  <a:pt x="21600" y="0"/>
                </a:lnTo>
                <a:lnTo>
                  <a:pt x="21600" y="28652"/>
                </a:lnTo>
                <a:lnTo>
                  <a:pt x="0" y="28652"/>
                </a:lnTo>
                <a:close/>
              </a:path>
              <a:path fill="lightenLess" w="21600" h="286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52">
                <a:moveTo>
                  <a:pt x="21600" y="0"/>
                </a:moveTo>
                <a:lnTo>
                  <a:pt x="21600" y="28652"/>
                </a:lnTo>
                <a:lnTo>
                  <a:pt x="20200" y="27252"/>
                </a:lnTo>
                <a:lnTo>
                  <a:pt x="20200" y="1400"/>
                </a:lnTo>
                <a:close/>
              </a:path>
              <a:path fill="darkenLess" w="21600" h="28652">
                <a:moveTo>
                  <a:pt x="21600" y="28652"/>
                </a:moveTo>
                <a:lnTo>
                  <a:pt x="0" y="28652"/>
                </a:lnTo>
                <a:lnTo>
                  <a:pt x="1400" y="27252"/>
                </a:lnTo>
                <a:lnTo>
                  <a:pt x="20200" y="27252"/>
                </a:lnTo>
                <a:close/>
              </a:path>
              <a:path fill="lighten" w="21600" h="28652">
                <a:moveTo>
                  <a:pt x="0" y="286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52"/>
                </a:lnTo>
                <a:close/>
              </a:path>
              <a:path fill="darkenLess" w="21600" h="28652">
                <a:moveTo>
                  <a:pt x="5273" y="7511"/>
                </a:moveTo>
                <a:lnTo>
                  <a:pt x="12271" y="7511"/>
                </a:lnTo>
                <a:lnTo>
                  <a:pt x="16327" y="11010"/>
                </a:lnTo>
                <a:lnTo>
                  <a:pt x="16327" y="21141"/>
                </a:lnTo>
                <a:lnTo>
                  <a:pt x="5273" y="21141"/>
                </a:lnTo>
                <a:close/>
              </a:path>
              <a:path fill="darken" w="21600" h="28652">
                <a:moveTo>
                  <a:pt x="12271" y="7511"/>
                </a:moveTo>
                <a:lnTo>
                  <a:pt x="16327" y="11010"/>
                </a:lnTo>
                <a:lnTo>
                  <a:pt x="12271" y="11010"/>
                </a:lnTo>
                <a:close/>
              </a:path>
            </a:pathLst>
          </a:cu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C107E-04B1-4317-899D-D1853B6FB4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n322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208908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4"/>
          <p:cNvSpPr/>
          <p:nvPr/>
        </p:nvSpPr>
        <p:spPr>
          <a:xfrm>
            <a:off x="324000" y="3429000"/>
            <a:ext cx="756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нное строение молекулы пиррола объясняет его свойства как слабой кислоты и ароматического 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омы углерода и азота находятся в состоянии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гибридизации.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Связи C–C, C–H и C–N образованы гибридными орбиталями. Цикл имеет плоское строение. На негибридной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орбитали азота находится неподеленная пара электронов, которые вступают в сопряжение с четырьмя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электронами атомов углер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циклической системе сопряжения находится 6 электронов, что определяет ароматические свойства пирро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5" descr="n323_1"/>
          <p:cNvPicPr/>
          <p:nvPr/>
        </p:nvPicPr>
        <p:blipFill>
          <a:blip r:embed="rId2"/>
          <a:stretch/>
        </p:blipFill>
        <p:spPr>
          <a:xfrm>
            <a:off x="7667640" y="3573360"/>
            <a:ext cx="1285920" cy="151308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6"/>
          <p:cNvSpPr/>
          <p:nvPr/>
        </p:nvSpPr>
        <p:spPr>
          <a:xfrm>
            <a:off x="8317080" y="5950080"/>
            <a:ext cx="826920" cy="907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907920"/>
              <a:gd name="textAreaBottom" fmla="*/ 854640 h 907920"/>
            </a:gdLst>
            <a:ahLst/>
            <a:rect l="textAreaLeft" t="textAreaTop" r="textAreaRight" b="textAreaBottom"/>
            <a:pathLst>
              <a:path w="21600" h="23715">
                <a:moveTo>
                  <a:pt x="0" y="0"/>
                </a:moveTo>
                <a:lnTo>
                  <a:pt x="21600" y="0"/>
                </a:lnTo>
                <a:lnTo>
                  <a:pt x="21600" y="23715"/>
                </a:lnTo>
                <a:lnTo>
                  <a:pt x="0" y="23715"/>
                </a:lnTo>
                <a:close/>
              </a:path>
              <a:path fill="lightenLess" w="21600" h="237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15">
                <a:moveTo>
                  <a:pt x="21600" y="0"/>
                </a:moveTo>
                <a:lnTo>
                  <a:pt x="21600" y="23715"/>
                </a:lnTo>
                <a:lnTo>
                  <a:pt x="20200" y="22315"/>
                </a:lnTo>
                <a:lnTo>
                  <a:pt x="20200" y="1400"/>
                </a:lnTo>
                <a:close/>
              </a:path>
              <a:path fill="darkenLess" w="21600" h="23715">
                <a:moveTo>
                  <a:pt x="21600" y="23715"/>
                </a:moveTo>
                <a:lnTo>
                  <a:pt x="0" y="23715"/>
                </a:lnTo>
                <a:lnTo>
                  <a:pt x="1400" y="22315"/>
                </a:lnTo>
                <a:lnTo>
                  <a:pt x="20200" y="22315"/>
                </a:lnTo>
                <a:close/>
              </a:path>
              <a:path fill="lighten" w="21600" h="23715">
                <a:moveTo>
                  <a:pt x="0" y="237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15"/>
                </a:lnTo>
                <a:close/>
              </a:path>
              <a:path fill="darkenLess" w="21600" h="23715">
                <a:moveTo>
                  <a:pt x="5273" y="5042"/>
                </a:moveTo>
                <a:lnTo>
                  <a:pt x="12271" y="5042"/>
                </a:lnTo>
                <a:lnTo>
                  <a:pt x="16327" y="8541"/>
                </a:lnTo>
                <a:lnTo>
                  <a:pt x="16327" y="18672"/>
                </a:lnTo>
                <a:lnTo>
                  <a:pt x="5273" y="18672"/>
                </a:lnTo>
                <a:close/>
              </a:path>
              <a:path fill="darken" w="21600" h="23715">
                <a:moveTo>
                  <a:pt x="12271" y="5042"/>
                </a:moveTo>
                <a:lnTo>
                  <a:pt x="16327" y="8541"/>
                </a:lnTo>
                <a:lnTo>
                  <a:pt x="12271" y="8541"/>
                </a:lnTo>
                <a:close/>
              </a:path>
            </a:pathLst>
          </a:cu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70FF7-DCBC-42DA-B5B1-CA7B8730C7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611280" y="18900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ывание неподеленной электронной пары атома азота системой сопряжения приводит к резкому ослаблению основных и проявлению кислотных свойств. Как слабая кислота пиррол вступает в реакцию с металлическим калием, образуя соль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иррол-кал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4" descr="n324"/>
          <p:cNvPicPr/>
          <p:nvPr/>
        </p:nvPicPr>
        <p:blipFill>
          <a:blip r:embed="rId1"/>
          <a:stretch/>
        </p:blipFill>
        <p:spPr>
          <a:xfrm>
            <a:off x="250920" y="3232080"/>
            <a:ext cx="8713800" cy="300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D5EA5-EA93-4408-AF20-E571B83003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n325"/>
          <p:cNvPicPr/>
          <p:nvPr/>
        </p:nvPicPr>
        <p:blipFill>
          <a:blip r:embed="rId1"/>
          <a:stretch/>
        </p:blipFill>
        <p:spPr>
          <a:xfrm>
            <a:off x="755640" y="2133720"/>
            <a:ext cx="7993080" cy="36208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324000" y="189000"/>
            <a:ext cx="8640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ррол может участвовать в реакциях присоедине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гидрирование приводит к образовани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ирролиди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под действием сильных минеральных кислот пиррол вступает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кции полимер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F1B74-17CF-493F-81C6-CFC5FE91D2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n323"/>
          <p:cNvPicPr/>
          <p:nvPr/>
        </p:nvPicPr>
        <p:blipFill>
          <a:blip r:embed="rId1"/>
          <a:stretch/>
        </p:blipFill>
        <p:spPr>
          <a:xfrm>
            <a:off x="324000" y="2421000"/>
            <a:ext cx="8497800" cy="36576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324000" y="366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рол значительно активнее бензола в реакциях электрофи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щения, т.к. атом азота, предоставляя в систему сопряжения д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а (+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эффект), повышает электронную плотность в цик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- замещение 4-х атомов водорода при иодиров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CC613-D5A8-492E-BE84-8B094E822A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n321"/>
          <p:cNvPicPr/>
          <p:nvPr/>
        </p:nvPicPr>
        <p:blipFill>
          <a:blip r:embed="rId1"/>
          <a:stretch/>
        </p:blipFill>
        <p:spPr>
          <a:xfrm>
            <a:off x="2050920" y="189000"/>
            <a:ext cx="5210280" cy="482436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395280" y="5373720"/>
            <a:ext cx="8497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рольные структуры содержатся в гемоглобине, хлорофилл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е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екоторых других природных соединени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став молекул этих сложных веществ входит тетрапирро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гмент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рф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в виде комплекса с металл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84C42-3FDC-45FC-95F3-5B6F3F7FD8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n341"/>
          <p:cNvPicPr/>
          <p:nvPr/>
        </p:nvPicPr>
        <p:blipFill>
          <a:blip r:embed="rId1"/>
          <a:srcRect l="74685" t="0" r="0" b="14444"/>
          <a:stretch/>
        </p:blipFill>
        <p:spPr>
          <a:xfrm>
            <a:off x="4572000" y="1521000"/>
            <a:ext cx="4032360" cy="3492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n342"/>
          <p:cNvPicPr/>
          <p:nvPr/>
        </p:nvPicPr>
        <p:blipFill>
          <a:blip r:embed="rId2"/>
          <a:srcRect l="25211" t="0" r="50443" b="14416"/>
          <a:stretch/>
        </p:blipFill>
        <p:spPr>
          <a:xfrm>
            <a:off x="539640" y="155736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4"/>
          <p:cNvSpPr/>
          <p:nvPr/>
        </p:nvSpPr>
        <p:spPr>
          <a:xfrm>
            <a:off x="250920" y="5145120"/>
            <a:ext cx="85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имидин 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шестичленный гетероцикл с двумя атомами азот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ы, находящиеся на негибридны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орбиталях, образуют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электронную ароматическую систем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ляет свойства очень слабого основания, т.к. атомы азота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гибридизованном состоянии довольно прочно удерживают неподеленную электронную па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WordArt 5"/>
          <p:cNvSpPr txBox="1"/>
          <p:nvPr/>
        </p:nvSpPr>
        <p:spPr>
          <a:xfrm>
            <a:off x="3247920" y="404640"/>
            <a:ext cx="2648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римид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8459640" y="5950080"/>
            <a:ext cx="684360" cy="907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907920"/>
              <a:gd name="textAreaBottom" fmla="*/ 863640 h 907920"/>
            </a:gdLst>
            <a:ahLst/>
            <a:rect l="textAreaLeft" t="textAreaTop" r="textAreaRight" b="textAreaBottom"/>
            <a:pathLst>
              <a:path w="21600" h="28652">
                <a:moveTo>
                  <a:pt x="0" y="0"/>
                </a:moveTo>
                <a:lnTo>
                  <a:pt x="21600" y="0"/>
                </a:lnTo>
                <a:lnTo>
                  <a:pt x="21600" y="28652"/>
                </a:lnTo>
                <a:lnTo>
                  <a:pt x="0" y="28652"/>
                </a:lnTo>
                <a:close/>
              </a:path>
              <a:path fill="lightenLess" w="21600" h="286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52">
                <a:moveTo>
                  <a:pt x="21600" y="0"/>
                </a:moveTo>
                <a:lnTo>
                  <a:pt x="21600" y="28652"/>
                </a:lnTo>
                <a:lnTo>
                  <a:pt x="20200" y="27252"/>
                </a:lnTo>
                <a:lnTo>
                  <a:pt x="20200" y="1400"/>
                </a:lnTo>
                <a:close/>
              </a:path>
              <a:path fill="darkenLess" w="21600" h="28652">
                <a:moveTo>
                  <a:pt x="21600" y="28652"/>
                </a:moveTo>
                <a:lnTo>
                  <a:pt x="0" y="28652"/>
                </a:lnTo>
                <a:lnTo>
                  <a:pt x="1400" y="27252"/>
                </a:lnTo>
                <a:lnTo>
                  <a:pt x="20200" y="27252"/>
                </a:lnTo>
                <a:close/>
              </a:path>
              <a:path fill="lighten" w="21600" h="28652">
                <a:moveTo>
                  <a:pt x="0" y="286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52"/>
                </a:lnTo>
                <a:close/>
              </a:path>
              <a:path fill="darkenLess" w="21600" h="28652">
                <a:moveTo>
                  <a:pt x="5273" y="7511"/>
                </a:moveTo>
                <a:lnTo>
                  <a:pt x="12271" y="7511"/>
                </a:lnTo>
                <a:lnTo>
                  <a:pt x="16327" y="11010"/>
                </a:lnTo>
                <a:lnTo>
                  <a:pt x="16327" y="21141"/>
                </a:lnTo>
                <a:lnTo>
                  <a:pt x="5273" y="21141"/>
                </a:lnTo>
                <a:close/>
              </a:path>
              <a:path fill="darken" w="21600" h="28652">
                <a:moveTo>
                  <a:pt x="12271" y="7511"/>
                </a:moveTo>
                <a:lnTo>
                  <a:pt x="16327" y="11010"/>
                </a:lnTo>
                <a:lnTo>
                  <a:pt x="12271" y="11010"/>
                </a:lnTo>
                <a:close/>
              </a:path>
            </a:pathLst>
          </a:cu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0AC8D-5ECB-4777-9C2B-6CCA69CD7A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611280" y="4437000"/>
            <a:ext cx="8064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рин 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соединение, в молекуле которого сочетаются структуры шести- и пятичленного гетероциклов, содержащих по два атома аз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являет амфотерные свойства. Слабые основные свойства связаны с атомами азота шестичленного (пиримидинового) цикла. Слабые кислотные свойства обусловле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уппой N-H пятичленного цикла (по аналогии с пирролом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1979640" y="620640"/>
            <a:ext cx="1428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р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10" name="Picture 6" descr="4"/>
          <p:cNvPicPr/>
          <p:nvPr/>
        </p:nvPicPr>
        <p:blipFill>
          <a:blip r:embed="rId1">
            <a:lum bright="-12000"/>
          </a:blip>
          <a:srcRect l="53548" t="0" r="29132" b="56505"/>
          <a:stretch/>
        </p:blipFill>
        <p:spPr>
          <a:xfrm>
            <a:off x="5440320" y="189000"/>
            <a:ext cx="3113280" cy="39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04A43-3CB4-4502-A5E6-640F707A78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468360" y="18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римидин и пурин являются основой пиримидиновых и пуриновых оснований, входящих в состав природных высокомолекулярных веществ – нуклеиновых кисло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5" descr="4"/>
          <p:cNvPicPr/>
          <p:nvPr/>
        </p:nvPicPr>
        <p:blipFill>
          <a:blip r:embed="rId1"/>
          <a:stretch/>
        </p:blipFill>
        <p:spPr>
          <a:xfrm>
            <a:off x="0" y="1747800"/>
            <a:ext cx="9144000" cy="46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52A4C-9B19-4F8E-98AF-DFC9699078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4"/>
          <p:cNvSpPr/>
          <p:nvPr/>
        </p:nvSpPr>
        <p:spPr>
          <a:xfrm>
            <a:off x="395280" y="3141720"/>
            <a:ext cx="83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уриновые основ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изводные пурина, входящие в соста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уклеиновых кисло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денин и гуанин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гуанина характерно динамическое равновесие между структурными изомерами, обусловленное переносом подвижного атома водор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ние нуклеозидов происходит, как и в случае пиримидинов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аний, по связи N–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395280" y="404640"/>
            <a:ext cx="8280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иримидиновые основ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ные пиримидина, входящие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став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уклеиновых кисло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рацил, тимин, цитоз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этих оснований, содержащих группу –ОН, характерно подвиж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весие структурных изомеров, обусловленное переносом протона от кислорода к азоту и наоборо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раци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ими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цитози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8459640" y="5950080"/>
            <a:ext cx="684360" cy="907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907920"/>
              <a:gd name="textAreaBottom" fmla="*/ 863640 h 907920"/>
            </a:gdLst>
            <a:ahLst/>
            <a:rect l="textAreaLeft" t="textAreaTop" r="textAreaRight" b="textAreaBottom"/>
            <a:pathLst>
              <a:path w="21600" h="28652">
                <a:moveTo>
                  <a:pt x="0" y="0"/>
                </a:moveTo>
                <a:lnTo>
                  <a:pt x="21600" y="0"/>
                </a:lnTo>
                <a:lnTo>
                  <a:pt x="21600" y="28652"/>
                </a:lnTo>
                <a:lnTo>
                  <a:pt x="0" y="28652"/>
                </a:lnTo>
                <a:close/>
              </a:path>
              <a:path fill="lightenLess" w="21600" h="286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52">
                <a:moveTo>
                  <a:pt x="21600" y="0"/>
                </a:moveTo>
                <a:lnTo>
                  <a:pt x="21600" y="28652"/>
                </a:lnTo>
                <a:lnTo>
                  <a:pt x="20200" y="27252"/>
                </a:lnTo>
                <a:lnTo>
                  <a:pt x="20200" y="1400"/>
                </a:lnTo>
                <a:close/>
              </a:path>
              <a:path fill="darkenLess" w="21600" h="28652">
                <a:moveTo>
                  <a:pt x="21600" y="28652"/>
                </a:moveTo>
                <a:lnTo>
                  <a:pt x="0" y="28652"/>
                </a:lnTo>
                <a:lnTo>
                  <a:pt x="1400" y="27252"/>
                </a:lnTo>
                <a:lnTo>
                  <a:pt x="20200" y="27252"/>
                </a:lnTo>
                <a:close/>
              </a:path>
              <a:path fill="lighten" w="21600" h="28652">
                <a:moveTo>
                  <a:pt x="0" y="286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52"/>
                </a:lnTo>
                <a:close/>
              </a:path>
              <a:path fill="darkenLess" w="21600" h="28652">
                <a:moveTo>
                  <a:pt x="5273" y="7511"/>
                </a:moveTo>
                <a:lnTo>
                  <a:pt x="12271" y="7511"/>
                </a:lnTo>
                <a:lnTo>
                  <a:pt x="16327" y="11010"/>
                </a:lnTo>
                <a:lnTo>
                  <a:pt x="16327" y="21141"/>
                </a:lnTo>
                <a:lnTo>
                  <a:pt x="5273" y="21141"/>
                </a:lnTo>
                <a:close/>
              </a:path>
              <a:path fill="darken" w="21600" h="28652">
                <a:moveTo>
                  <a:pt x="12271" y="7511"/>
                </a:moveTo>
                <a:lnTo>
                  <a:pt x="16327" y="11010"/>
                </a:lnTo>
                <a:lnTo>
                  <a:pt x="12271" y="11010"/>
                </a:lnTo>
                <a:close/>
              </a:path>
            </a:pathLst>
          </a:cu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A22BD-CF93-4FB8-BC73-35E254710B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1"/>
          <p:cNvSpPr/>
          <p:nvPr/>
        </p:nvSpPr>
        <p:spPr>
          <a:xfrm>
            <a:off x="395280" y="26028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тероциклические соедин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гетероциклы) — 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органические соедин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одержащие циклы, в состав которых наряду с 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углерод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ходят и атомы других элементов. Могут рассматриваться как 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3"/>
              </a:rPr>
              <a:t>карбоциклические соедин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 гетерозаместителями (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4"/>
              </a:rPr>
              <a:t>гетероатом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цикле. Наиболее разнообразны и хорошо изучены ароматические азотсодержащие гетероциклические соединения. Предельные случаи гетероциклических соединений — соединения, не содержащие атомов углерода в цикле, например, 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5"/>
              </a:rPr>
              <a:t>пентаз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A89C7-7A35-45E8-A595-A4C3DBFA0E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539640" y="404640"/>
            <a:ext cx="813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лектрофи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Электрофиль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гетероароматических соединений растёт при падении п-электронной плотности, то есть при увеличении числа гетероатомов и, при их равном числе, выше для шестичленных, по сравнению с пятичленными, гетероциклами. Так, для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пиррол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и индолов реакции нуклеофильного замещения атипичны,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3"/>
              </a:rPr>
              <a:t>пирид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и бензимидазол аминируются амидом натрия, а 1,3,5-триазин быстро гидролизуется до формиата аммония уже в водном раств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5F16A-491E-459E-83AB-68CD4F27EA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395280" y="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менкл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химии гетероциклические соединения в силу исторических причин широко применяются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тривиальные наз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так, например, при именовании пяти- и шестичленных соединений, содержащих 1 или 2 гетероатома N, O или S в подавляющем большинстве случаев используются тривиальные наз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тическая номенклатура гетероциклических соединений строится по правилам, предложенным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Ганче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и Видман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94EFF-38FE-49C8-813F-1EA474114E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611280" y="620640"/>
            <a:ext cx="698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иологическое зна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тероциклические соединения широко распространены в живой природе и играют важное значение в химии природных соединений и биохимии. Функции, выполняемые этими соединениями весьма широки — от структурообразующих полимеров (производные 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целлюлоз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 и других циклических 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полисахаридов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) до 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Arial"/>
                <a:hlinkClick r:id="rId3"/>
              </a:rPr>
              <a:t>коферментов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 и 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Arial"/>
                <a:hlinkClick r:id="rId4"/>
              </a:rPr>
              <a:t>алкалоид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C88EB-6A2C-4CF6-96C4-1BF60A5837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611280" y="620640"/>
            <a:ext cx="730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ство и приме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которые гетероциклические соединения получают из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каменноугольной смол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пирид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3"/>
              </a:rPr>
              <a:t>хинол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4"/>
              </a:rPr>
              <a:t>акрид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и пр.) и при переработке растительного сырья (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5"/>
              </a:rPr>
              <a:t>фурфуро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 Многие природные и синтетические гетероциклические соединения — ценные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6"/>
              </a:rPr>
              <a:t>красител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7"/>
              </a:rPr>
              <a:t>индиг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лекарственные вещества (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8"/>
              </a:rPr>
              <a:t>хин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9"/>
              </a:rPr>
              <a:t>морф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0"/>
              </a:rPr>
              <a:t>акрих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1"/>
              </a:rPr>
              <a:t>пирамидо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 Гетероциклические соединения используют в производстве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2"/>
              </a:rPr>
              <a:t>пластма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ак ускорители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3"/>
              </a:rPr>
              <a:t>вулканиз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4"/>
              </a:rPr>
              <a:t>кауч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 кинофотопромышлен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AD84C-5CCE-4FE1-9302-D4B37E4607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24000" y="5445000"/>
            <a:ext cx="7993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идин 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 – шестичленный гетероцикл с одним атомом азот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бесцветная жидкость с неприятным запахом, т.кип. 115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 Хорошо растворяется в воде и органических жидкостях. Ядови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3" descr="n342"/>
          <p:cNvPicPr/>
          <p:nvPr/>
        </p:nvPicPr>
        <p:blipFill>
          <a:blip r:embed="rId1"/>
          <a:srcRect l="0" t="0" r="75660" b="14416"/>
          <a:stretch/>
        </p:blipFill>
        <p:spPr>
          <a:xfrm>
            <a:off x="5796000" y="1341360"/>
            <a:ext cx="2879640" cy="3527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n341"/>
          <p:cNvPicPr/>
          <p:nvPr/>
        </p:nvPicPr>
        <p:blipFill>
          <a:blip r:embed="rId2"/>
          <a:srcRect l="20670" t="0" r="53157" b="14444"/>
          <a:stretch/>
        </p:blipFill>
        <p:spPr>
          <a:xfrm>
            <a:off x="611280" y="1428840"/>
            <a:ext cx="4105080" cy="3440160"/>
          </a:xfrm>
          <a:prstGeom prst="rect">
            <a:avLst/>
          </a:prstGeom>
          <a:ln w="0">
            <a:noFill/>
          </a:ln>
        </p:spPr>
      </p:pic>
      <p:sp>
        <p:nvSpPr>
          <p:cNvPr id="376" name="WordArt 5"/>
          <p:cNvSpPr txBox="1"/>
          <p:nvPr/>
        </p:nvSpPr>
        <p:spPr>
          <a:xfrm>
            <a:off x="3557520" y="404640"/>
            <a:ext cx="2028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рид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8459640" y="5950080"/>
            <a:ext cx="684360" cy="907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907920"/>
              <a:gd name="textAreaBottom" fmla="*/ 863640 h 907920"/>
            </a:gdLst>
            <a:ahLst/>
            <a:rect l="textAreaLeft" t="textAreaTop" r="textAreaRight" b="textAreaBottom"/>
            <a:pathLst>
              <a:path w="21600" h="28652">
                <a:moveTo>
                  <a:pt x="0" y="0"/>
                </a:moveTo>
                <a:lnTo>
                  <a:pt x="21600" y="0"/>
                </a:lnTo>
                <a:lnTo>
                  <a:pt x="21600" y="28652"/>
                </a:lnTo>
                <a:lnTo>
                  <a:pt x="0" y="28652"/>
                </a:lnTo>
                <a:close/>
              </a:path>
              <a:path fill="lightenLess" w="21600" h="286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52">
                <a:moveTo>
                  <a:pt x="21600" y="0"/>
                </a:moveTo>
                <a:lnTo>
                  <a:pt x="21600" y="28652"/>
                </a:lnTo>
                <a:lnTo>
                  <a:pt x="20200" y="27252"/>
                </a:lnTo>
                <a:lnTo>
                  <a:pt x="20200" y="1400"/>
                </a:lnTo>
                <a:close/>
              </a:path>
              <a:path fill="darkenLess" w="21600" h="28652">
                <a:moveTo>
                  <a:pt x="21600" y="28652"/>
                </a:moveTo>
                <a:lnTo>
                  <a:pt x="0" y="28652"/>
                </a:lnTo>
                <a:lnTo>
                  <a:pt x="1400" y="27252"/>
                </a:lnTo>
                <a:lnTo>
                  <a:pt x="20200" y="27252"/>
                </a:lnTo>
                <a:close/>
              </a:path>
              <a:path fill="lighten" w="21600" h="28652">
                <a:moveTo>
                  <a:pt x="0" y="286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52"/>
                </a:lnTo>
                <a:close/>
              </a:path>
              <a:path fill="darkenLess" w="21600" h="28652">
                <a:moveTo>
                  <a:pt x="5273" y="7511"/>
                </a:moveTo>
                <a:lnTo>
                  <a:pt x="12271" y="7511"/>
                </a:lnTo>
                <a:lnTo>
                  <a:pt x="16327" y="11010"/>
                </a:lnTo>
                <a:lnTo>
                  <a:pt x="16327" y="21141"/>
                </a:lnTo>
                <a:lnTo>
                  <a:pt x="5273" y="21141"/>
                </a:lnTo>
                <a:close/>
              </a:path>
              <a:path fill="darken" w="21600" h="28652">
                <a:moveTo>
                  <a:pt x="12271" y="7511"/>
                </a:moveTo>
                <a:lnTo>
                  <a:pt x="16327" y="11010"/>
                </a:lnTo>
                <a:lnTo>
                  <a:pt x="12271" y="11010"/>
                </a:lnTo>
                <a:close/>
              </a:path>
            </a:pathLst>
          </a:cu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29E96-5987-432C-8221-B9AF84A9F4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6" descr="n311"/>
          <p:cNvPicPr/>
          <p:nvPr/>
        </p:nvPicPr>
        <p:blipFill>
          <a:blip r:embed="rId1"/>
          <a:stretch/>
        </p:blipFill>
        <p:spPr>
          <a:xfrm>
            <a:off x="1403280" y="117360"/>
            <a:ext cx="6553440" cy="2664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7"/>
          <p:cNvSpPr/>
          <p:nvPr/>
        </p:nvSpPr>
        <p:spPr>
          <a:xfrm>
            <a:off x="468360" y="249228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324000" y="3141720"/>
            <a:ext cx="835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нное строение молекулы пиридина сходно со строением бензо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омы углерода и азота находятся в состоянии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гибридиза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связи C–C, C–H и C–N образованы гибридными орбиталя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глы между ними составляют примерно 120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Поэтому цикл име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ское стро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есть электронов, находящихся на негибридных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орбиталя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уют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электронную ароматическую систем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трех гибридных орбиталей атома азота две образуют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связи С–N, а третья содержит неподеленную пару электронов, которые не участвуют в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электронной систе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8459640" y="5950080"/>
            <a:ext cx="684360" cy="907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907920"/>
              <a:gd name="textAreaBottom" fmla="*/ 863640 h 907920"/>
            </a:gdLst>
            <a:ahLst/>
            <a:rect l="textAreaLeft" t="textAreaTop" r="textAreaRight" b="textAreaBottom"/>
            <a:pathLst>
              <a:path w="21600" h="28652">
                <a:moveTo>
                  <a:pt x="0" y="0"/>
                </a:moveTo>
                <a:lnTo>
                  <a:pt x="21600" y="0"/>
                </a:lnTo>
                <a:lnTo>
                  <a:pt x="21600" y="28652"/>
                </a:lnTo>
                <a:lnTo>
                  <a:pt x="0" y="28652"/>
                </a:lnTo>
                <a:close/>
              </a:path>
              <a:path fill="lightenLess" w="21600" h="286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52">
                <a:moveTo>
                  <a:pt x="21600" y="0"/>
                </a:moveTo>
                <a:lnTo>
                  <a:pt x="21600" y="28652"/>
                </a:lnTo>
                <a:lnTo>
                  <a:pt x="20200" y="27252"/>
                </a:lnTo>
                <a:lnTo>
                  <a:pt x="20200" y="1400"/>
                </a:lnTo>
                <a:close/>
              </a:path>
              <a:path fill="darkenLess" w="21600" h="28652">
                <a:moveTo>
                  <a:pt x="21600" y="28652"/>
                </a:moveTo>
                <a:lnTo>
                  <a:pt x="0" y="28652"/>
                </a:lnTo>
                <a:lnTo>
                  <a:pt x="1400" y="27252"/>
                </a:lnTo>
                <a:lnTo>
                  <a:pt x="20200" y="27252"/>
                </a:lnTo>
                <a:close/>
              </a:path>
              <a:path fill="lighten" w="21600" h="28652">
                <a:moveTo>
                  <a:pt x="0" y="286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52"/>
                </a:lnTo>
                <a:close/>
              </a:path>
              <a:path fill="darkenLess" w="21600" h="28652">
                <a:moveTo>
                  <a:pt x="5273" y="7511"/>
                </a:moveTo>
                <a:lnTo>
                  <a:pt x="12271" y="7511"/>
                </a:lnTo>
                <a:lnTo>
                  <a:pt x="16327" y="11010"/>
                </a:lnTo>
                <a:lnTo>
                  <a:pt x="16327" y="21141"/>
                </a:lnTo>
                <a:lnTo>
                  <a:pt x="5273" y="21141"/>
                </a:lnTo>
                <a:close/>
              </a:path>
              <a:path fill="darken" w="21600" h="28652">
                <a:moveTo>
                  <a:pt x="12271" y="7511"/>
                </a:moveTo>
                <a:lnTo>
                  <a:pt x="16327" y="11010"/>
                </a:lnTo>
                <a:lnTo>
                  <a:pt x="12271" y="11010"/>
                </a:lnTo>
                <a:close/>
              </a:path>
            </a:pathLst>
          </a:cu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B3EFB-35B6-4771-80FC-7E2791DEFB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468360" y="33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этому пиридин, подобно аминам, проявляет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войства основ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дный раствор пиридина окрашивает лакмус в синий цве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взаимодействии пиридина с сильными кислотами образуются соли пириди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5" descr="n312"/>
          <p:cNvPicPr/>
          <p:nvPr/>
        </p:nvPicPr>
        <p:blipFill>
          <a:blip r:embed="rId1"/>
          <a:stretch/>
        </p:blipFill>
        <p:spPr>
          <a:xfrm>
            <a:off x="755640" y="1614600"/>
            <a:ext cx="7632720" cy="2535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n313"/>
          <p:cNvPicPr/>
          <p:nvPr/>
        </p:nvPicPr>
        <p:blipFill>
          <a:blip r:embed="rId2"/>
          <a:stretch/>
        </p:blipFill>
        <p:spPr>
          <a:xfrm>
            <a:off x="395280" y="4581360"/>
            <a:ext cx="8172360" cy="211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0EA1E-6FA1-405B-9104-F071F86165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n315"/>
          <p:cNvPicPr/>
          <p:nvPr/>
        </p:nvPicPr>
        <p:blipFill>
          <a:blip r:embed="rId1"/>
          <a:stretch/>
        </p:blipFill>
        <p:spPr>
          <a:xfrm>
            <a:off x="216000" y="3203640"/>
            <a:ext cx="8820000" cy="26017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7"/>
          <p:cNvSpPr/>
          <p:nvPr/>
        </p:nvSpPr>
        <p:spPr>
          <a:xfrm>
            <a:off x="250920" y="18900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яду с основными свойствами пиридин проявляет свой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роматического соедин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Однако его активность в реакц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фильного замещени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иже, чем у бензо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и бензол, пиридин может присоединять водород в присутств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ализатора с образованием насыщенного соединени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ипериди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                  Пиперидин проявляет свойства вторичного амина (сильное основан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A3D6-12F5-454D-A636-232BBC6D94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1:24:28Z</dcterms:created>
  <dc:creator>Ширшина Н.В.</dc:creator>
  <dc:description/>
  <dc:language>en-US</dc:language>
  <cp:lastModifiedBy>Student</cp:lastModifiedBy>
  <dcterms:modified xsi:type="dcterms:W3CDTF">2013-05-03T09:37:01Z</dcterms:modified>
  <cp:revision>9</cp:revision>
  <dc:subject/>
  <dc:title>Слайд 1</dc:title>
</cp:coreProperties>
</file>