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B1D0-D36E-4AF3-A2A5-69FA395E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937-522D-48D1-8454-4640AE1B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C85B-27C5-4F7C-86FB-D4268C4F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5A7-6BEF-43F4-886E-3FA646B0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853E-F036-49E4-95C3-141F9A35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CA60-BCF2-479B-96F3-3038990D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C44E-B2EA-4CC3-BBEE-39AED879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B412-AC0D-41F1-B996-59A86BA6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5277-A400-4525-87E1-73281C1B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CE64-9892-41C1-87AA-695A4B40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FDE5-29A9-45E7-AEDF-D9481DAE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555-196C-4BEF-8639-8F684F3B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245A-ECC9-4EFE-B8B2-B74574A2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ADE8-A706-4648-B698-47D07DEA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7F89-EBD7-49BD-986E-C6BA2F2A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D997-6DA2-4823-B9B2-F3AAD6A7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CA59-D7CA-4C7D-A9EA-3B892DEE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0692F-C6FF-44EA-8780-D8E6CC78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BB65E-30B5-477D-995B-35EDAA17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72743-4E7B-4C95-945F-392E834A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88CE5-F0E7-4BDE-A81C-9123D7A1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65B21-E9CC-4AE1-A4FE-3F2A6D59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E8B-45A6-4450-AD08-99C1507E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6F535-C80E-4E68-87D4-58986F1E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DDE57-644F-45C5-B63A-FE2D79D6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97CFF-F24F-4B8E-AAE2-A22344F8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C6294-E2C8-48A2-A524-6D7C2353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A8FD1-60F4-42AC-8418-557ABE37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FC76D-37DE-4C27-A37B-D9AC9A19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0C33E-EAFE-4A9A-AB96-7718D132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E0C87-A3E5-4E6F-AC90-6A440E23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E4D0F-FDB6-404E-912C-DC7F2413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D56F0-1C0A-46E9-985C-8DACB1EB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25D-4C8D-4D7C-B980-D0D44577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545B2-359D-4CF7-977E-AE44E5C8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0D5EB-6F25-4357-A889-0FF6D5BB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B03B3-51D1-45C3-ABC9-5ED44257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D49C3-0BC7-4EBE-80AD-AC68800A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CBA8A-4A9F-4830-9E41-FF0F11B4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4A9FA-C290-4337-AB4A-48C691E5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8F31D-DAF1-4A12-80B9-3C7FEE91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90D8C-4A7A-4391-AF7F-DB67596A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03368-848B-41FE-BE20-760AF22A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1962A-5661-464D-AED3-92194B67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CC23-3BAB-4CCE-A668-6B5FACA3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E2510-1641-4F57-8BC8-0AB053AC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035B5-4AE2-4958-BACD-C8A8FD65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CDF41-6FED-4D97-BB4D-3336FF10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5748A-7C67-4D10-BF79-21544B26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4CDEB-1B27-4921-88C0-5616C61A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4DA7C-5A73-40DC-A5FF-05AFB516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D1961-3F49-4419-904B-638BC32A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D6BE3-EE9C-4D3B-99A0-C358DA59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A2B84-E2BC-43A9-93F1-38BB98A2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74874-3330-4DE6-8A61-86191A92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7D9-392D-4F6B-868A-ED3E1BD9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51CDD-1741-415B-AD6A-51042715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569-D60E-432C-AC8C-43F7A8B6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F705-5197-4CC2-AF92-996A6FBC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A22-5D3F-411F-B133-8A99CB3D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3B29-6D6E-4A87-B79A-B6863E2077BF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BD19-EE4F-4A6F-BECA-D6CB8FB27C4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1E66-19DF-4967-A28D-B0903DF00FD4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C139-AD04-47BB-97D4-6B4D2BAC32C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2E8F-358F-4D44-A51E-58C084D64291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8DA7-FC16-4AB3-A290-71D9F86443F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8BEC-73E4-4C5E-8115-E93B6B51C1C4}" type="datetime"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CB77-30EF-4E21-876A-75495ED3BFF0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2C1F-F7F9-4714-ACF0-04BC28DBE1FF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03E1-8F50-45A9-AA27-226D58B3979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19520" y="1524240"/>
            <a:ext cx="60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00"/>
                </a:solidFill>
                <a:latin typeface="Arial"/>
              </a:rPr>
              <a:t>Моносахарид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00"/>
                </a:solidFill>
                <a:latin typeface="Arial"/>
              </a:rPr>
              <a:t>Оптическая изомер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00"/>
                </a:solidFill>
                <a:latin typeface="Arial"/>
              </a:rPr>
              <a:t>Циклические и подциклические формы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B43A-8DB6-49AD-ACAB-2F8FBBA13F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-55440" y="274680"/>
            <a:ext cx="8340480" cy="154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457200" y="2171880"/>
            <a:ext cx="7238880" cy="372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BE7-8517-4EDE-BD82-2555544FD2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546680" cy="569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FB3-748B-4DB8-B558-3480166888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411120" y="352440"/>
            <a:ext cx="8321760" cy="615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D7A3-75BB-4C14-8EB2-01A80717B9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382680" y="338040"/>
            <a:ext cx="8377200" cy="618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DC4-2659-4F3D-855D-7F5BCC888B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7238880" cy="55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10C-6FB6-44B1-B2FF-C6FFF5E3A0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820360" cy="592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2E5-984A-4371-B10A-2F59189758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395280" y="606600"/>
            <a:ext cx="8352000" cy="564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EAC-B867-4718-83B9-95BFFB5AE6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395280" y="312840"/>
            <a:ext cx="8352000" cy="623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6DC-B4EE-41F5-B49A-2A22E91252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225360" y="600120"/>
            <a:ext cx="8693280" cy="565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712-2ECB-4FD3-B51E-06A91ADD5C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Глюкоза получается при гидролизе полисахаридов крахмала и целлюлозы (под действием ферментов или минеральных кислот). Применяется как средство усиленного питания или как лекарственное вещество, при отделке тканей, как восстановитель – в производстве зерка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EC4-76AA-4034-A7E0-F39B6E348D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Моносахариды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– простейшие углеводы, они не подвергаются гидролизу – не расщепляются водой на более простые углеводы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Глюкоза,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или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виноградный сахар,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6Н12О6 – важнейший из моносахаридов; белые кристаллы сладкого вкуса, легка растворяющиеся в воде. Содержится в соке винограда, во многих фруктах, а также в крови животных и человека. Мышечная работа совершается главным образом за счет энергии, выделяющейся при окислении глюкоз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29E-CB5C-4325-9B46-923CEF0726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-360" y="609120"/>
            <a:ext cx="88455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носахариды как альдегидо- или кетоноспирты являются  соединениями со смешанными функциями; природа их усложнена возможностью внутримолекулярных взаимодействий  спиртовых гидроксильных групп с альдегидной  или кетоновой  карбонильной  группой. Благодаря этому моносахариды существуют и вступают в реакции не только в открытой цепной форме, но еще и в циклических формах. Углеродная цепь моносахарида, например глюкозы (1), может принимать конформацию «клешни» (см. ниже  формула в); при этом 1-й С-атом , несущий карбонильную группу, сближается со спиртовой группой  при 5-ом С-атоме; атом Н из группы ОН перемещается  (как показано пунктирной стрелкой) к карбонильному кислороду, а кислород при 5-ом С-атоме соединяется с 1-м (карбонильным) С-атомом (это тукже показано пунктирной стрелкой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245-ADC3-4C11-8584-85947E047A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09120" y="10666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Конформация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– это различные формы, которые может принимать цепь в пространстве, благодаря возможности вращения атомов вокруг оси связ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5AAD-8E30-4A30-A71C-7FD48CDFFA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-360" y="304560"/>
            <a:ext cx="88455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Природная кристаллическая глюкоза (виноградный сахар) представляет собой циклическую α-форму  (т. пл. моногидрата 83˚ С, безводной 146˚ С). При растворении в воде она, как показано выше на схеме, переходит в цепную, а через нее в β-форму; при этом устанавливается динамическое равновесие между всеми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Symbol"/>
                <a:ea typeface="Symbol"/>
                <a:hlinkClick r:id="rId1" action="ppaction://hlinksldjump"/>
              </a:rPr>
              <a:t>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β-форма также может быть выделена в кристаллическом виде (т. пл. 148-150˚ С); в водном растворе и она образует равновесную систему, содержащую все формы. Цепная же форма  существует лишь в растворах, причем в очень небольших количествах (доли процента), а в свободном виде не выделен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de66"/>
                </a:solidFill>
                <a:uFillTx/>
                <a:latin typeface="Symbol"/>
                <a:ea typeface="Symbol"/>
                <a:hlinkClick r:id="rId2" action="ppaction://hlinksldjump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i="1" lang="ru-RU" sz="2400" spc="-1" strike="noStrike">
                <a:solidFill>
                  <a:srgbClr val="d490c5"/>
                </a:solidFill>
                <a:latin typeface="Trebuchet MS"/>
              </a:rPr>
              <a:t>В равновесной системе моносахаридов образуются и их циклические формы с пятичленным кислородосодержащим кольцом; они неустойчивы и в свободном кристаллическом виде не выделены. Однако известны многие природные и синтетические соединения, являющиеся производными пятичленных циклических форм моносахарид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EAE-F02A-4996-AF02-53E19A5B94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33520" y="10666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зомерные формы соединений. Способные переходить  друг в друга, называют таутомерными формами, или таутомерами, а само существование их – явлением таутомерии; оно весьма распространено среди органических соединен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CC9-7E5F-4A92-A923-D1E22395C0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7238880" cy="4130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8229600" cy="139068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872e60">
                <a:alpha val="38000"/>
              </a:srgbClr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B8C-F21D-46D6-9E36-697322EE4F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91400" cy="4467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0" y="228600"/>
            <a:ext cx="8229600" cy="14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49F-BB6B-4B2A-89B1-C82A0DAC7D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0" y="322200"/>
            <a:ext cx="8229600" cy="1438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187200" y="1743120"/>
            <a:ext cx="895680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A050-F093-4690-8989-96F1F08A34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229600" cy="1438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8102520" cy="427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EFB-CE9D-4C1B-8DC7-E5877D38B2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238880" cy="466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719-FEE9-456A-84F2-BA08660EB4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238880" cy="447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8D7-72C4-46E5-987F-BC2E891D13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57200" y="2162160"/>
            <a:ext cx="7238880" cy="3741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2"/>
          <a:stretch/>
        </p:blipFill>
        <p:spPr>
          <a:xfrm>
            <a:off x="-15840" y="228600"/>
            <a:ext cx="8229600" cy="143820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DC3-E745-40D9-9FFB-C90B1B5C39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ent</cp:lastModifiedBy>
  <dcterms:modified xsi:type="dcterms:W3CDTF">2013-05-03T09:43:0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