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56.png" ContentType="image/png"/>
  <Override PartName="/ppt/media/image16.wmf" ContentType="image/x-wmf"/>
  <Override PartName="/ppt/media/image55.png" ContentType="image/png"/>
  <Override PartName="/ppt/media/image2.png" ContentType="image/png"/>
  <Override PartName="/ppt/media/image23.wmf" ContentType="image/x-wmf"/>
  <Override PartName="/ppt/media/image9.jpeg" ContentType="image/jpeg"/>
  <Override PartName="/ppt/media/image51.wmf" ContentType="image/x-wmf"/>
  <Override PartName="/ppt/media/image4.png" ContentType="image/png"/>
  <Override PartName="/ppt/media/image8.jpeg" ContentType="image/jpeg"/>
  <Override PartName="/ppt/media/image41.wmf" ContentType="image/x-wmf"/>
  <Override PartName="/ppt/media/image5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6.wmf" ContentType="image/x-wmf"/>
  <Override PartName="/ppt/media/image38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.png" ContentType="image/png"/>
  <Override PartName="/ppt/media/image47.wmf" ContentType="image/x-wmf"/>
  <Override PartName="/ppt/media/image37.wmf" ContentType="image/x-wmf"/>
  <Override PartName="/ppt/media/image49.wmf" ContentType="image/x-wmf"/>
  <Override PartName="/ppt/media/image6.png" ContentType="image/png"/>
  <Override PartName="/ppt/media/image14.wmf" ContentType="image/x-wmf"/>
  <Override PartName="/ppt/media/image42.wmf" ContentType="image/x-wmf"/>
  <Override PartName="/ppt/media/image54.wmf" ContentType="image/x-wmf"/>
  <Override PartName="/ppt/media/image33.wmf" ContentType="image/x-wmf"/>
  <Override PartName="/ppt/media/image32.wmf" ContentType="image/x-wmf"/>
  <Override PartName="/ppt/media/image13.png" ContentType="image/png"/>
  <Override PartName="/ppt/media/image53.wmf" ContentType="image/x-wmf"/>
  <Override PartName="/ppt/media/image12.png" ContentType="image/png"/>
  <Override PartName="/ppt/media/image52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48.wmf" ContentType="image/x-wmf"/>
  <Override PartName="/ppt/media/image50.wmf" ContentType="image/x-wmf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D17-3049-4282-AE6F-AC1C68D7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29E-6104-4FD5-AC1F-3AD9A27A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308-6906-47EA-A418-861D76A9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ABF-4DFA-497D-A9D0-E4D179C8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224E1-D683-4B33-91F6-F8E8F9E3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7FA59-E1BE-4E85-ADC9-BAE95460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750EE-EA4C-4897-A86A-90FB3040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5EDDC-D35C-42F0-9654-A44220E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9A693-B698-4853-8591-E65ED0AA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58E52-831A-4AD0-A2F4-6AD2AD18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151F9-0236-4FCC-B9C1-281E2D5C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61B-D10C-4734-8A59-EFBF21AA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0D837-81AD-4F1D-B486-63F3881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5123A-00C7-4D04-8D14-6A4305C8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59D3B-2AAC-45AF-AB8C-0E959209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CBE25-A2E7-4214-94FA-7E714EC5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CA974-4421-4459-9A99-6EAD94B0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1788-D818-4B81-B770-82C7D98D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834B-10EE-42A0-9D57-613CBE37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B16F0-1301-475A-8E33-C48D446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5B835-6C97-4709-A7CE-E11C5DB5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FD5B-BEF7-43B1-BD71-F130BAE3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11B-D562-4C1F-9C91-1E447848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8B6F-6712-4796-A3C6-7BFAC3F5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F157-0EA8-4EFF-B3C6-EB361F0C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68E1-65A5-48F6-8D4D-220DEA60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EAEC-21D5-4972-B1D2-8FE8F643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E42E-470A-4ADB-8563-76027C19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8B83-DD5D-4666-8589-413F8C4F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DBF5-9766-4D78-B770-DDF2DEE1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36E37-DB40-45C1-9E1F-3916F984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D96E-84F5-4A20-A699-6FC2D537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06D4D-8942-4294-B501-45D54F61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B59-9E69-49B2-B44F-257A8E0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7B6C2-F023-46B0-93CB-9B39E007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D6DD7-C575-48A6-8EDC-95256B6D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2E5B4-CB77-4EAF-A6C7-825F0B7B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D535-158E-45CD-AA62-9DE80EE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29EC-5E95-4048-9E07-9A0EFA5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CE99-C938-4690-B04D-B00BFE18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B4E3-6BEA-4D28-AFB7-C21FF7FA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D7531-3936-413D-BAF1-1E71AC82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515F-2800-4CF0-934F-B1B5917E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16B9F-D5CF-4A09-B981-A45CB09E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7AC-6933-4574-BD72-963445BB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CB9B-CC47-4EE9-8C44-03FEEED8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DD45-5FFB-4CAC-9FB4-3B572D1F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212A9-6C1C-4894-BC6D-6CD7028B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C9580-28B5-4E4B-9FBF-1D079B1E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A724E-CFD1-4EB6-A626-3E925FFD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4DAB0-CD00-4401-9C4C-6DFEAF4B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5DA4C-5FB8-4199-AFB9-6C1E357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B2AF9-4D1D-44BE-B84E-249B79E8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AF0B-D8F4-4B77-8FCB-F7062E89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32BE8-62C9-45B0-8B82-9ACF0BEB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53D-F662-4C51-8F78-27427B63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1486-BF9F-4687-A2A3-65A08497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E5CD1-58F0-4FB5-9E93-E65E2E65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4567F-FDAB-43CF-85B6-E2EB2338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53D26-579F-46C2-BE72-AC350310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451B9-AF27-4446-80AF-C1093B04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19AEE-010F-4BA0-B57E-15EB7D2E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7794-9398-4316-A4EC-CE7D5AA6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67A30-D1F7-4C6C-A64E-26BDC47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1337-4CAA-4685-8E65-B225450F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9C750-A3B1-4CA7-AA00-055BA84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F26-B3A2-4DF2-8AEA-FAD754C5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26A75-9C1B-4A47-A129-C256AA2E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060A2-E8C2-4477-B741-41CA95B6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E9D35-51FF-47F4-947C-2E284965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555-53D6-47ED-8A51-0D4AA4F6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C3E-358A-48DF-8424-B4EA93AB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A88D-439C-4DE8-A313-79EB5F6C65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B82D-E2A7-4503-823A-D5C18B5D64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A7BA-06E1-408F-861F-A9202401A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1A6F-46F0-48F1-BD52-A953509167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73EF-2FC7-42E8-A6DE-E12871F9FD6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3FC8-9533-4F19-B7B2-DD5F9EE709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AE1B-AA8E-40CD-A2C4-A860DF10D7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2810-2B9B-4320-B63D-6A1323329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F243-DC25-44BC-BF78-2C6B982462D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B8EE-C172-41C4-8262-57E491247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4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4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4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5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5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27AC-50BC-4F43-8689-F4E10575D125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01C9-0712-4393-854D-92C1DAB1CB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75;&#1083;&#1077;&#1074;&#1086;&#1076;&#1086;&#1088;&#1086;&#1076;&#1099;" TargetMode="External"/><Relationship Id="rId2" Type="http://schemas.openxmlformats.org/officeDocument/2006/relationships/hyperlink" Target="http://ru.wikipedia.org/wiki/&#1044;&#1074;&#1086;&#1081;&#1085;&#1072;&#1103;_&#1089;&#1074;&#1103;&#1079;&#1100;_%28&#1093;&#1080;&#1084;&#1080;&#1103;%29" TargetMode="External"/><Relationship Id="rId3" Type="http://schemas.openxmlformats.org/officeDocument/2006/relationships/hyperlink" Target="http://ru.wikipedia.org/wiki/&#1059;&#1075;&#1083;&#1077;&#1088;&#1086;&#1076;" TargetMode="External"/><Relationship Id="rId4" Type="http://schemas.openxmlformats.org/officeDocument/2006/relationships/hyperlink" Target="http://ru.wikipedia.org/wiki/&#1043;&#1080;&#1073;&#1088;&#1080;&#1076;&#1080;&#1079;&#1072;&#1094;&#1080;&#1103;_%28&#1093;&#1080;&#1084;&#1080;&#1103;%29" TargetMode="External"/><Relationship Id="rId5" Type="http://schemas.openxmlformats.org/officeDocument/2006/relationships/hyperlink" Target="http://ru.wikipedia.org/wiki/&#1043;&#1080;&#1073;&#1088;&#1080;&#1076;&#1080;&#1079;&#1072;&#1094;&#1080;&#1103;_%28&#1093;&#1080;&#1084;&#1080;&#1103;%29" TargetMode="External"/><Relationship Id="rId6" Type="http://schemas.openxmlformats.org/officeDocument/2006/relationships/hyperlink" Target="http://ru.wikipedia.org/wiki/&#1042;&#1072;&#1083;&#1077;&#1085;&#1090;&#1085;&#1099;&#1081;_&#1091;&#1075;&#1086;&#1083;" TargetMode="External"/><Relationship Id="rId7" Type="http://schemas.openxmlformats.org/officeDocument/2006/relationships/hyperlink" Target="http://ru.wikipedia.org/wiki/&#1069;&#1090;&#1080;&#1083;&#1077;&#1085;" TargetMode="External"/><Relationship Id="rId8" Type="http://schemas.openxmlformats.org/officeDocument/2006/relationships/hyperlink" Target="http://ru.wikipedia.org/wiki/IUPAC" TargetMode="External"/><Relationship Id="rId9" Type="http://schemas.openxmlformats.org/officeDocument/2006/relationships/hyperlink" Target="http://ru.wikipedia.org/wiki/&#1040;&#1083;&#1082;&#1072;&#1085;&#1099;" TargetMode="External"/><Relationship Id="rId10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84;&#1077;&#1088;" TargetMode="External"/><Relationship Id="rId2" Type="http://schemas.openxmlformats.org/officeDocument/2006/relationships/hyperlink" Target="http://ru.wikipedia.org/wiki/&#1055;&#1088;&#1086;&#1087;&#1080;&#1083;&#1077;&#1085;" TargetMode="External"/><Relationship Id="rId3" Type="http://schemas.openxmlformats.org/officeDocument/2006/relationships/hyperlink" Target="http://ru.wikipedia.org/wiki/&#1062;&#1080;&#1082;&#1083;&#1086;&#1087;&#1088;&#1086;&#1087;&#1072;&#1085;" TargetMode="External"/><Relationship Id="rId4" Type="http://schemas.openxmlformats.org/officeDocument/2006/relationships/hyperlink" Target="http://ru.wikipedia.org/wiki/&#1041;&#1091;&#1090;&#1077;&#1085;" TargetMode="External"/><Relationship Id="rId5" Type="http://schemas.openxmlformats.org/officeDocument/2006/relationships/slideLayout" Target="../slideLayouts/slideLayout2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90;&#1077;&#1085;" TargetMode="External"/><Relationship Id="rId2" Type="http://schemas.openxmlformats.org/officeDocument/2006/relationships/hyperlink" Target="http://ru.wikipedia.org/wiki/&#1069;&#1090;&#1080;&#1083;&#1077;&#1085;" TargetMode="External"/><Relationship Id="rId3" Type="http://schemas.openxmlformats.org/officeDocument/2006/relationships/hyperlink" Target="http://ru.wikipedia.org/wiki/&#1055;&#1088;&#1086;&#1087;&#1077;&#1085;" TargetMode="External"/><Relationship Id="rId4" Type="http://schemas.openxmlformats.org/officeDocument/2006/relationships/hyperlink" Target="http://ru.wikipedia.org/wiki/&#1041;&#1091;&#1090;&#1077;&#1085;" TargetMode="External"/><Relationship Id="rId5" Type="http://schemas.openxmlformats.org/officeDocument/2006/relationships/hyperlink" Target="http://ru.wikipedia.org/wiki/&#1055;&#1077;&#1085;&#1090;&#1077;&#1085;" TargetMode="External"/><Relationship Id="rId6" Type="http://schemas.openxmlformats.org/officeDocument/2006/relationships/hyperlink" Target="http://ru.wikipedia.org/w/index.php?title=&#1043;&#1077;&#1082;&#1089;&#1077;&#1085;&amp;action=edit&amp;redlink=1" TargetMode="External"/><Relationship Id="rId7" Type="http://schemas.openxmlformats.org/officeDocument/2006/relationships/hyperlink" Target="http://ru.wikipedia.org/w/index.php?title=&#1043;&#1077;&#1087;&#1090;&#1077;&#1085;&amp;action=edit&amp;redlink=1" TargetMode="External"/><Relationship Id="rId8" Type="http://schemas.openxmlformats.org/officeDocument/2006/relationships/hyperlink" Target="http://ru.wikipedia.org/wiki/&#1054;&#1082;&#1090;&#1077;&#1085;" TargetMode="External"/><Relationship Id="rId9" Type="http://schemas.openxmlformats.org/officeDocument/2006/relationships/hyperlink" Target="http://ru.wikipedia.org/w/index.php?title=&#1053;&#1086;&#1085;&#1077;&#1085;_%28&#1093;&#1080;&#1084;&#1080;&#1103;%29&amp;action=edit&amp;redlink=1" TargetMode="External"/><Relationship Id="rId10" Type="http://schemas.openxmlformats.org/officeDocument/2006/relationships/hyperlink" Target="http://ru.wikipedia.org/w/index.php?title=&#1044;&#1077;&#1094;&#1077;&#1085;&amp;action=edit&amp;redlink=1" TargetMode="External"/><Relationship Id="rId1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0;&#1073;&#1088;&#1080;&#1076;&#1080;&#1079;&#1072;&#1094;&#1080;&#1103;_%28&#1093;&#1080;&#1084;&#1080;&#1103;%29" TargetMode="External"/><Relationship Id="rId2" Type="http://schemas.openxmlformats.org/officeDocument/2006/relationships/hyperlink" Target="http://ru.wikipedia.org/wiki/&#1060;&#1072;&#1081;&#1083;:Liaison_pi.svg" TargetMode="External"/><Relationship Id="rId3" Type="http://schemas.openxmlformats.org/officeDocument/2006/relationships/hyperlink" Target="http://ru.wikipedia.org/wiki/&#1058;&#1077;&#1086;&#1088;&#1080;&#1103;_&#1084;&#1086;&#1083;&#1077;&#1082;&#1091;&#1083;&#1103;&#1088;&#1085;&#1099;&#1093;_&#1086;&#1088;&#1073;&#1080;&#1090;&#1072;&#1083;&#1077;&#1081;" TargetMode="External"/><Relationship Id="rId4" Type="http://schemas.openxmlformats.org/officeDocument/2006/relationships/hyperlink" Target="http://ru.wikipedia.org/wiki/&#1058;&#1077;&#1086;&#1088;&#1080;&#1103;_&#1084;&#1086;&#1083;&#1077;&#1082;&#1091;&#1083;&#1103;&#1088;&#1085;&#1099;&#1093;_&#1086;&#1088;&#1073;&#1080;&#1090;&#1072;&#1083;&#1077;&#1081;" TargetMode="External"/><Relationship Id="rId5" Type="http://schemas.openxmlformats.org/officeDocument/2006/relationships/hyperlink" Target="http://ru.wikipedia.org/wiki/%C0%EB%EA%E5%ED%FB#cite_note-traven-1" TargetMode="External"/><Relationship Id="rId6" Type="http://schemas.openxmlformats.org/officeDocument/2006/relationships/slideLayout" Target="../slideLayouts/slideLayout2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0%EB%EA%E5%ED%FB#cite_note-mazalov-2" TargetMode="External"/><Relationship Id="rId2" Type="http://schemas.openxmlformats.org/officeDocument/2006/relationships/hyperlink" Target="http://ru.wikipedia.org/wiki/%C0%EB%EA%E5%ED%FB#cite_note-mazalov-2" TargetMode="External"/><Relationship Id="rId3" Type="http://schemas.openxmlformats.org/officeDocument/2006/relationships/hyperlink" Target="http://ru.wikipedia.org/wiki/%C0%EB%EA%E5%ED%FB#cite_note-mazalov-2" TargetMode="External"/><Relationship Id="rId4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669_&#1075;&#1086;&#1076;" TargetMode="External"/><Relationship Id="rId2" Type="http://schemas.openxmlformats.org/officeDocument/2006/relationships/hyperlink" Target="http://ru.wikipedia.org/wiki/&#1041;&#1077;&#1093;&#1077;&#1088;,_&#1048;&#1086;&#1075;&#1072;&#1085;&#1085;_&#1048;&#1086;&#1072;&#1093;&#1080;&#1084;" TargetMode="External"/><Relationship Id="rId3" Type="http://schemas.openxmlformats.org/officeDocument/2006/relationships/hyperlink" Target="http://ru.wikipedia.org/wiki/&#1057;&#1077;&#1088;&#1085;&#1072;&#1103;_&#1082;&#1080;&#1089;&#1083;&#1086;&#1090;&#1072;" TargetMode="External"/><Relationship Id="rId4" Type="http://schemas.openxmlformats.org/officeDocument/2006/relationships/hyperlink" Target="http://ru.wikipedia.org/wiki/&#1069;&#1090;&#1080;&#1083;&#1086;&#1074;&#1099;&#1081;_&#1089;&#1087;&#1080;&#1088;&#1090;" TargetMode="External"/><Relationship Id="rId5" Type="http://schemas.openxmlformats.org/officeDocument/2006/relationships/hyperlink" Target="http://ru.wikipedia.org/wiki/%C0%EB%EA%E5%ED%FB#cite_note-3" TargetMode="External"/><Relationship Id="rId6" Type="http://schemas.openxmlformats.org/officeDocument/2006/relationships/hyperlink" Target="http://ru.wikipedia.org/wiki/1795_&#1075;&#1086;&#1076;" TargetMode="External"/><Relationship Id="rId7" Type="http://schemas.openxmlformats.org/officeDocument/2006/relationships/hyperlink" Target="http://ru.wikipedia.org/wiki/&#1044;&#1080;&#1093;&#1083;&#1086;&#1088;&#1101;&#1090;&#1072;&#1085;" TargetMode="External"/><Relationship Id="rId8" Type="http://schemas.openxmlformats.org/officeDocument/2006/relationships/hyperlink" Target="http://ru.wikipedia.org/wiki/&#1060;&#1091;&#1088;&#1082;&#1088;&#1091;&#1072;,_&#1040;&#1085;&#1090;&#1091;&#1072;&#1085;_&#1076;&#1077;" TargetMode="External"/><Relationship Id="rId9" Type="http://schemas.openxmlformats.org/officeDocument/2006/relationships/hyperlink" Target="http://ru.wikipedia.org/wiki/%C0%EB%EA%E5%ED%FB#cite_note-4" TargetMode="External"/><Relationship Id="rId10" Type="http://schemas.openxmlformats.org/officeDocument/2006/relationships/hyperlink" Target="http://ru.wikipedia.org/wiki/&#1043;&#1077;&#1081;-&#1051;&#1102;&#1089;&#1089;&#1072;&#1082;,_&#1046;&#1086;&#1079;&#1077;&#1092;_&#1051;&#1091;&#1080;" TargetMode="External"/><Relationship Id="rId11" Type="http://schemas.openxmlformats.org/officeDocument/2006/relationships/hyperlink" Target="http://ru.wikipedia.org/wiki/%C0%EB%EA%E5%ED%FB#cite_note-old-5" TargetMode="External"/><Relationship Id="rId12" Type="http://schemas.openxmlformats.org/officeDocument/2006/relationships/hyperlink" Target="http://ru.wikipedia.org/wiki/1828_&#1075;&#1086;&#1076;" TargetMode="External"/><Relationship Id="rId13" Type="http://schemas.openxmlformats.org/officeDocument/2006/relationships/hyperlink" Target="http://ru.wikipedia.org/wiki/&#1044;&#1102;&#1084;&#1072;,_&#1046;&#1072;&#1085;_&#1041;&#1072;&#1090;&#1080;&#1089;&#1090;" TargetMode="External"/><Relationship Id="rId14" Type="http://schemas.openxmlformats.org/officeDocument/2006/relationships/hyperlink" Target="http://ru.wikipedia.org/wiki/&#1040;&#1084;&#1084;&#1080;&#1072;&#1082;" TargetMode="External"/><Relationship Id="rId15" Type="http://schemas.openxmlformats.org/officeDocument/2006/relationships/hyperlink" Target="http://ru.wikipedia.org/wiki/&#1041;&#1077;&#1088;&#1094;&#1077;&#1083;&#1080;&#1091;&#1089;,_&#1049;&#1105;&#1085;&#1089;_&#1071;&#1082;&#1086;&#1073;" TargetMode="External"/><Relationship Id="rId16" Type="http://schemas.openxmlformats.org/officeDocument/2006/relationships/hyperlink" Target="http://ru.wikipedia.org/wiki/&#1041;&#1077;&#1088;&#1094;&#1077;&#1083;&#1080;&#1091;&#1089;,_&#1049;&#1105;&#1085;&#1089;_&#1071;&#1082;&#1086;&#1073;" TargetMode="External"/><Relationship Id="rId17" Type="http://schemas.openxmlformats.org/officeDocument/2006/relationships/hyperlink" Target="http://ru.wikipedia.org/wiki/%C0%EB%EA%E5%ED%FB#cite_note-figur-6" TargetMode="External"/><Relationship Id="rId18" Type="http://schemas.openxmlformats.org/officeDocument/2006/relationships/hyperlink" Target="http://ru.wikipedia.org/wiki/&#1042;&#1086;&#1076;&#1086;&#1088;&#1086;&#1076;" TargetMode="External"/><Relationship Id="rId19" Type="http://schemas.openxmlformats.org/officeDocument/2006/relationships/hyperlink" Target="http://ru.wikipedia.org/wiki/&#1059;&#1075;&#1083;&#1077;&#1088;&#1086;&#1076;" TargetMode="External"/><Relationship Id="rId20" Type="http://schemas.openxmlformats.org/officeDocument/2006/relationships/hyperlink" Target="http://ru.wikipedia.org/wiki/1848_&#1075;&#1086;&#1076;" TargetMode="External"/><Relationship Id="rId21" Type="http://schemas.openxmlformats.org/officeDocument/2006/relationships/hyperlink" Target="http://ru.wikipedia.org/wiki/&#1050;&#1086;&#1083;&#1100;&#1073;&#1077;,_&#1040;&#1076;&#1086;&#1083;&#1100;&#1092;_&#1042;&#1080;&#1083;&#1100;&#1075;&#1077;&#1083;&#1100;&#1084;_&#1043;&#1077;&#1088;&#1084;&#1072;&#1085;" TargetMode="External"/><Relationship Id="rId22" Type="http://schemas.openxmlformats.org/officeDocument/2006/relationships/hyperlink" Target="http://ru.wikipedia.org/wiki/&#1051;&#1080;&#1073;&#1080;&#1093;,_&#1070;&#1089;&#1090;&#1091;&#1089;" TargetMode="External"/><Relationship Id="rId23" Type="http://schemas.openxmlformats.org/officeDocument/2006/relationships/hyperlink" Target="http://ru.wikipedia.org/wiki/&#1044;&#1102;&#1084;&#1072;,_&#1046;&#1072;&#1085;_&#1041;&#1072;&#1090;&#1080;&#1089;&#1090;" TargetMode="External"/><Relationship Id="rId24" Type="http://schemas.openxmlformats.org/officeDocument/2006/relationships/hyperlink" Target="http://ru.wikipedia.org/wiki/%C0%EB%EA%E5%ED%FB#cite_note-old-5" TargetMode="External"/><Relationship Id="rId25" Type="http://schemas.openxmlformats.org/officeDocument/2006/relationships/hyperlink" Target="http://ru.wikipedia.org/wiki/1862_&#1075;&#1086;&#1076;" TargetMode="External"/><Relationship Id="rId26" Type="http://schemas.openxmlformats.org/officeDocument/2006/relationships/hyperlink" Target="http://ru.wikipedia.org/wiki/&#1069;&#1088;&#1083;&#1077;&#1085;&#1084;&#1077;&#1081;&#1077;&#1088;,_&#1069;&#1084;&#1080;&#1083;&#1100;" TargetMode="External"/><Relationship Id="rId27" Type="http://schemas.openxmlformats.org/officeDocument/2006/relationships/hyperlink" Target="http://ru.wikipedia.org/wiki/1870_&#1075;&#1086;&#1076;" TargetMode="External"/><Relationship Id="rId28" Type="http://schemas.openxmlformats.org/officeDocument/2006/relationships/hyperlink" Target="http://ru.wikipedia.org/wiki/&#1041;&#1091;&#1090;&#1083;&#1077;&#1088;&#1086;&#1074;,_&#1040;&#1083;&#1077;&#1082;&#1089;&#1072;&#1085;&#1076;&#1088;_&#1052;&#1080;&#1093;&#1072;&#1081;&#1083;&#1086;&#1074;&#1080;&#1095;" TargetMode="External"/><Relationship Id="rId29" Type="http://schemas.openxmlformats.org/officeDocument/2006/relationships/hyperlink" Target="http://ru.wikipedia.org/wiki/%C0%EB%EA%E5%ED%FB#cite_note-7" TargetMode="External"/><Relationship Id="rId30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0%EB%EA%E5%ED%FB#cite_note-8" TargetMode="External"/><Relationship Id="rId2" Type="http://schemas.openxmlformats.org/officeDocument/2006/relationships/hyperlink" Target="http://ru.wikipedia.org/wiki/&#1069;&#1090;&#1080;&#1083;&#1077;&#1085;" TargetMode="External"/><Relationship Id="rId3" Type="http://schemas.openxmlformats.org/officeDocument/2006/relationships/hyperlink" Target="http://ru.wikipedia.org/wiki/&#1060;&#1080;&#1090;&#1086;&#1075;&#1086;&#1088;&#1084;&#1086;&#1085;&#1099;" TargetMode="External"/><Relationship Id="rId4" Type="http://schemas.openxmlformats.org/officeDocument/2006/relationships/hyperlink" Target="http://ru.wikipedia.org/w/index.php?title=&#1052;&#1091;&#1089;&#1082;&#1072;&#1083;&#1091;&#1088;&amp;action=edit&amp;redlink=1" TargetMode="External"/><Relationship Id="rId5" Type="http://schemas.openxmlformats.org/officeDocument/2006/relationships/hyperlink" Target="http://ru.wikipedia.org/wiki/&#1060;&#1077;&#1088;&#1086;&#1084;&#1086;&#1085;&#1099;" TargetMode="External"/><Relationship Id="rId6" Type="http://schemas.openxmlformats.org/officeDocument/2006/relationships/hyperlink" Target="http://ru.wikipedia.org/wiki/&#1052;&#1091;&#1093;&#1072;_&#1076;&#1086;&#1084;&#1072;&#1096;&#1085;&#1103;&#1103;" TargetMode="External"/><Relationship Id="rId7" Type="http://schemas.openxmlformats.org/officeDocument/2006/relationships/hyperlink" Target="http://ru.wikipedia.org/wiki/&#1053;&#1072;&#1088;&#1082;&#1086;&#1079;" TargetMode="External"/><Relationship Id="rId8" Type="http://schemas.openxmlformats.org/officeDocument/2006/relationships/hyperlink" Target="http://ru.wikipedia.org/wiki/%C0%EB%EA%E5%ED%FB#cite_note-chemanalytica-9" TargetMode="External"/><Relationship Id="rId9" Type="http://schemas.openxmlformats.org/officeDocument/2006/relationships/hyperlink" Target="http://ru.wikipedia.org/wiki/&#1069;&#1090;&#1080;&#1083;&#1077;&#1085;" TargetMode="External"/><Relationship Id="rId10" Type="http://schemas.openxmlformats.org/officeDocument/2006/relationships/hyperlink" Target="http://ru.wikipedia.org/wiki/&#1052;&#1091;&#1090;&#1072;&#1075;&#1077;&#1085;&#1099;" TargetMode="External"/><Relationship Id="rId11" Type="http://schemas.openxmlformats.org/officeDocument/2006/relationships/hyperlink" Target="http://ru.wikipedia.org/wiki/&#1055;&#1088;&#1086;&#1087;&#1080;&#1083;&#1077;&#1085;" TargetMode="External"/><Relationship Id="rId12" Type="http://schemas.openxmlformats.org/officeDocument/2006/relationships/hyperlink" Target="http://ru.wikipedia.org/wiki/&#1041;&#1091;&#1090;&#1080;&#1083;&#1077;&#1085;" TargetMode="External"/><Relationship Id="rId13" Type="http://schemas.openxmlformats.org/officeDocument/2006/relationships/hyperlink" Target="http://ru.wikipedia.org/wiki/%C0%EB%EA%E5%ED%FB#cite_note-chemanalytica-9" TargetMode="External"/><Relationship Id="rId14" Type="http://schemas.openxmlformats.org/officeDocument/2006/relationships/slideLayout" Target="../slideLayouts/slideLayout2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6;&#1088;&#1084;&#1072;&#1083;&#1100;&#1085;&#1099;&#1077;_&#1091;&#1089;&#1083;&#1086;&#1074;&#1080;&#1103;" TargetMode="External"/><Relationship Id="rId2" Type="http://schemas.openxmlformats.org/officeDocument/2006/relationships/hyperlink" Target="http://ru.wikipedia.org/wiki/&#1042;&#1086;&#1076;&#1072;" TargetMode="External"/><Relationship Id="rId3" Type="http://schemas.openxmlformats.org/officeDocument/2006/relationships/hyperlink" Target="http://ru.wikipedia.org/wiki/&#1054;&#1088;&#1075;&#1072;&#1085;&#1080;&#1095;&#1077;&#1089;&#1082;&#1080;&#1077;_&#1088;&#1072;&#1089;&#1090;&#1074;&#1086;&#1088;&#1080;&#1090;&#1077;&#1083;&#1080;" TargetMode="External"/><Relationship Id="rId4" Type="http://schemas.openxmlformats.org/officeDocument/2006/relationships/slideLayout" Target="../slideLayouts/slideLayout2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7;&#1082;&#1080;&#1085;&#1075;" TargetMode="External"/><Relationship Id="rId2" Type="http://schemas.openxmlformats.org/officeDocument/2006/relationships/hyperlink" Target="http://ru.wikipedia.org/wiki/&#1059;&#1075;&#1083;&#1077;&#1074;&#1086;&#1076;&#1086;&#1088;&#1086;&#1076;&#1099;" TargetMode="External"/><Relationship Id="rId3" Type="http://schemas.openxmlformats.org/officeDocument/2006/relationships/hyperlink" Target="http://ru.wikipedia.org/wiki/&#1053;&#1077;&#1092;&#1090;&#1100;" TargetMode="External"/><Relationship Id="rId4" Type="http://schemas.openxmlformats.org/officeDocument/2006/relationships/hyperlink" Target="http://ru.wikipedia.org/wiki/&#1055;&#1088;&#1080;&#1088;&#1086;&#1076;&#1085;&#1099;&#1081;_&#1075;&#1072;&#1079;" TargetMode="External"/><Relationship Id="rId5" Type="http://schemas.openxmlformats.org/officeDocument/2006/relationships/hyperlink" Target="http://ru.wikipedia.org/wiki/&#1044;&#1077;&#1075;&#1080;&#1076;&#1088;&#1072;&#1090;&#1072;&#1094;&#1080;&#1103;" TargetMode="External"/><Relationship Id="rId6" Type="http://schemas.openxmlformats.org/officeDocument/2006/relationships/hyperlink" Target="http://ru.wikipedia.org/wiki/&#1057;&#1087;&#1080;&#1088;&#1090;&#1099;" TargetMode="External"/><Relationship Id="rId7" Type="http://schemas.openxmlformats.org/officeDocument/2006/relationships/hyperlink" Target="http://ru.wikipedia.org/wiki/%C0%EB%EA%E5%ED%FB#cite_note-traven-1" TargetMode="External"/><Relationship Id="rId8" Type="http://schemas.openxmlformats.org/officeDocument/2006/relationships/hyperlink" Target="http://ru.wikipedia.org/wiki/%C0%EB%EA%E5%ED%FB#cite_note-11" TargetMode="External"/><Relationship Id="rId9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0%EB%EA%E5%ED%FB#cite_note-12" TargetMode="External"/><Relationship Id="rId2" Type="http://schemas.openxmlformats.org/officeDocument/2006/relationships/hyperlink" Target="http://ru.wikipedia.org/wiki/%C0%EB%EA%E5%ED%FB#cite_note-13" TargetMode="External"/><Relationship Id="rId3" Type="http://schemas.openxmlformats.org/officeDocument/2006/relationships/hyperlink" Target="http://ru.wikipedia.org/wiki/&#1054;&#1082;&#1089;&#1080;&#1076;_&#1093;&#1088;&#1086;&#1084;&#1072;%28III%29" TargetMode="External"/><Relationship Id="rId4" Type="http://schemas.openxmlformats.org/officeDocument/2006/relationships/hyperlink" Target="http://ru.wikipedia.org/wiki/&#1050;&#1072;&#1090;&#1072;&#1083;&#1080;&#1079;&#1072;&#1090;&#1086;&#1088;" TargetMode="External"/><Relationship Id="rId5" Type="http://schemas.openxmlformats.org/officeDocument/2006/relationships/hyperlink" Target="http://ru.wikipedia.org/wiki/%C0%EB%EA%E5%ED%FB#cite_note-14" TargetMode="External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80;&#1085;&#1082;" TargetMode="External"/><Relationship Id="rId2" Type="http://schemas.openxmlformats.org/officeDocument/2006/relationships/hyperlink" Target="http://ru.wikipedia.org/wiki/%C0%EB%EA%E5%ED%FB#cite_note-neyland-15" TargetMode="External"/><Relationship Id="rId3" Type="http://schemas.openxmlformats.org/officeDocument/2006/relationships/hyperlink" Target="http://ru.wikipedia.org/wiki/%C0%EB%EA%E5%ED%FB#cite_note-16" TargetMode="External"/><Relationship Id="rId4" Type="http://schemas.openxmlformats.org/officeDocument/2006/relationships/hyperlink" Target="http://ru.wikipedia.org/wiki/&#1048;&#1079;&#1086;&#1084;&#1077;&#1088;&#1099;" TargetMode="External"/><Relationship Id="rId5" Type="http://schemas.openxmlformats.org/officeDocument/2006/relationships/hyperlink" Target="http://ru.wikipedia.org/wiki/&#1055;&#1088;&#1072;&#1074;&#1080;&#1083;&#1086;_&#1047;&#1072;&#1081;&#1094;&#1077;&#1074;&#1072;" TargetMode="External"/><Relationship Id="rId6" Type="http://schemas.openxmlformats.org/officeDocument/2006/relationships/slideLayout" Target="../slideLayouts/slideLayout2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90;&#1080;&#1083;&#1077;&#1085;" TargetMode="External"/><Relationship Id="rId2" Type="http://schemas.openxmlformats.org/officeDocument/2006/relationships/hyperlink" Target="http://ru.wikipedia.org/wiki/&#1042;&#1080;&#1085;&#1080;&#1083;&#1093;&#1083;&#1086;&#1088;&#1080;&#1076;" TargetMode="External"/><Relationship Id="rId3" Type="http://schemas.openxmlformats.org/officeDocument/2006/relationships/hyperlink" Target="http://ru.wikipedia.org/wiki/&#1057;&#1090;&#1080;&#1088;&#1086;&#1083;" TargetMode="External"/><Relationship Id="rId4" Type="http://schemas.openxmlformats.org/officeDocument/2006/relationships/hyperlink" Target="http://ru.wikipedia.org/wiki/&#1069;&#1090;&#1080;&#1083;&#1077;&#1085;&#1075;&#1083;&#1080;&#1082;&#1086;&#1083;&#1100;" TargetMode="External"/><Relationship Id="rId5" Type="http://schemas.openxmlformats.org/officeDocument/2006/relationships/hyperlink" Target="http://ru.wikipedia.org/wiki/&#1069;&#1090;&#1080;&#1083;&#1077;&#1085;&#1086;&#1082;&#1089;&#1080;&#1076;" TargetMode="External"/><Relationship Id="rId6" Type="http://schemas.openxmlformats.org/officeDocument/2006/relationships/hyperlink" Target="http://ru.wikipedia.org/wiki/&#1069;&#1090;&#1072;&#1085;&#1086;&#1083;&#1072;&#1084;&#1080;&#1085;" TargetMode="External"/><Relationship Id="rId7" Type="http://schemas.openxmlformats.org/officeDocument/2006/relationships/hyperlink" Target="http://ru.wikipedia.org/wiki/&#1069;&#1090;&#1072;&#1085;&#1086;&#1083;" TargetMode="External"/><Relationship Id="rId8" Type="http://schemas.openxmlformats.org/officeDocument/2006/relationships/hyperlink" Target="http://ru.wikipedia.org/wiki/&#1044;&#1080;&#1086;&#1082;&#1089;&#1072;&#1085;" TargetMode="External"/><Relationship Id="rId9" Type="http://schemas.openxmlformats.org/officeDocument/2006/relationships/hyperlink" Target="http://ru.wikipedia.org/wiki/&#1044;&#1080;&#1093;&#1083;&#1086;&#1088;&#1101;&#1090;&#1072;&#1085;" TargetMode="External"/><Relationship Id="rId10" Type="http://schemas.openxmlformats.org/officeDocument/2006/relationships/hyperlink" Target="http://ru.wikipedia.org/wiki/&#1040;&#1094;&#1077;&#1090;&#1072;&#1083;&#1100;&#1076;&#1077;&#1075;&#1080;&#1076;" TargetMode="External"/><Relationship Id="rId11" Type="http://schemas.openxmlformats.org/officeDocument/2006/relationships/hyperlink" Target="http://ru.wikipedia.org/wiki/&#1059;&#1082;&#1089;&#1091;&#1089;&#1085;&#1072;&#1103;_&#1082;&#1080;&#1089;&#1083;&#1086;&#1090;&#1072;" TargetMode="External"/><Relationship Id="rId12" Type="http://schemas.openxmlformats.org/officeDocument/2006/relationships/hyperlink" Target="http://ru.wikipedia.org/wiki/%C0%EB%EA%E5%ED%FB#cite_note-neyland-15" TargetMode="External"/><Relationship Id="rId13" Type="http://schemas.openxmlformats.org/officeDocument/2006/relationships/hyperlink" Target="http://ru.wikipedia.org/wiki/&#1055;&#1086;&#1083;&#1080;&#1101;&#1090;&#1080;&#1083;&#1077;&#1085;" TargetMode="External"/><Relationship Id="rId14" Type="http://schemas.openxmlformats.org/officeDocument/2006/relationships/hyperlink" Target="http://ru.wikipedia.org/wiki/&#1055;&#1086;&#1083;&#1080;&#1074;&#1080;&#1085;&#1080;&#1083;&#1072;&#1094;&#1077;&#1090;&#1072;&#1090;" TargetMode="External"/><Relationship Id="rId15" Type="http://schemas.openxmlformats.org/officeDocument/2006/relationships/hyperlink" Target="http://ru.wikipedia.org/wiki/&#1055;&#1086;&#1083;&#1080;&#1074;&#1080;&#1085;&#1080;&#1083;&#1093;&#1083;&#1086;&#1088;&#1080;&#1076;" TargetMode="External"/><Relationship Id="rId16" Type="http://schemas.openxmlformats.org/officeDocument/2006/relationships/hyperlink" Target="http://ru.wikipedia.org/wiki/&#1050;&#1072;&#1091;&#1095;&#1091;&#1082;" TargetMode="External"/><Relationship Id="rId17" Type="http://schemas.openxmlformats.org/officeDocument/2006/relationships/hyperlink" Target="http://ru.wikipedia.org/wiki/&#1057;&#1084;&#1072;&#1079;&#1086;&#1095;&#1085;&#1099;&#1077;_&#1084;&#1072;&#1089;&#1083;&#1072;" TargetMode="External"/><Relationship Id="rId18" Type="http://schemas.openxmlformats.org/officeDocument/2006/relationships/hyperlink" Target="http://ru.wikipedia.org/wiki/%C0%EB%EA%E5%ED%FB#cite_note-50" TargetMode="External"/><Relationship Id="rId19" Type="http://schemas.openxmlformats.org/officeDocument/2006/relationships/hyperlink" Target="http://ru.wikipedia.org/wiki/%C0%EB%EA%E5%ED%FB#cite_note-51" TargetMode="External"/><Relationship Id="rId20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87;&#1080;&#1083;&#1077;&#1085;" TargetMode="External"/><Relationship Id="rId2" Type="http://schemas.openxmlformats.org/officeDocument/2006/relationships/hyperlink" Target="http://ru.wikipedia.org/wiki/&#1055;&#1086;&#1083;&#1080;&#1087;&#1088;&#1086;&#1087;&#1080;&#1083;&#1077;&#1085;" TargetMode="External"/><Relationship Id="rId3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692000" y="1267920"/>
            <a:ext cx="5832360" cy="3816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Ациклические углеводороды: алканы, алкины и алкены. Изомерия. Номенклатура. Химические свой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417-E281-4FE6-BA5B-3E662B8B74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троение гомологов мета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Object 3"/>
          <p:cNvGraphicFramePr/>
          <p:nvPr/>
        </p:nvGraphicFramePr>
        <p:xfrm>
          <a:off x="250920" y="1425600"/>
          <a:ext cx="8424720" cy="526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25600"/>
                    <a:ext cx="84247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EF3-FE65-486A-AC02-FC71FD19B1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троение алкан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0" y="1257480"/>
          <a:ext cx="874872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7480"/>
                    <a:ext cx="87487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0F0-9503-4AAC-8559-4ACC8766D1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троение алкан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5" name="Object 3"/>
          <p:cNvGraphicFramePr/>
          <p:nvPr/>
        </p:nvGraphicFramePr>
        <p:xfrm>
          <a:off x="0" y="1620720"/>
          <a:ext cx="860436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0720"/>
                    <a:ext cx="86043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435-0A51-439C-9715-4F075EC1DF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пропан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8" name="Object 4"/>
          <p:cNvGraphicFramePr/>
          <p:nvPr/>
        </p:nvGraphicFramePr>
        <p:xfrm>
          <a:off x="0" y="1508040"/>
          <a:ext cx="867564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867564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564-B994-45C2-99AB-3ED9224161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390840" y="44956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31308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изические свойст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6560" y="4365360"/>
            <a:ext cx="7667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090d"/>
                </a:solidFill>
                <a:latin typeface="Arial"/>
              </a:rPr>
              <a:t>С увеличением относительных молекулярных масс предельных углеводородов закономерно повышаются их температуры кипения и пл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250920" y="1484280"/>
            <a:ext cx="3132000" cy="2653560"/>
          </a:xfrm>
          <a:prstGeom prst="rect">
            <a:avLst/>
          </a:prstGeom>
          <a:solidFill>
            <a:srgbClr val="efe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газы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61,6…-0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82,5…-138,3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6183360" y="1484280"/>
            <a:ext cx="2960640" cy="2653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алее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ёрдые вещест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3492360" y="1484280"/>
            <a:ext cx="2664000" cy="2653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жидкости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08E-1DFD-4363-9D9A-A16D96A484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755640" y="1413000"/>
            <a:ext cx="5472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9090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9090d"/>
                </a:solidFill>
                <a:uFillTx/>
                <a:latin typeface="Times New Roman"/>
              </a:rPr>
              <a:t>В промышленности</a:t>
            </a:r>
            <a:r>
              <a:rPr b="0" lang="en-US" sz="2800" spc="-1" strike="noStrike" u="sng">
                <a:solidFill>
                  <a:srgbClr val="09090d"/>
                </a:solidFill>
                <a:uFillTx/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а) крекинг нефтепродуктов</a:t>
            </a:r>
            <a:r>
              <a:rPr b="0" lang="en-US" sz="28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90d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34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→ 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18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 + 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16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2) </a:t>
            </a:r>
            <a:r>
              <a:rPr b="0" lang="ru-RU" sz="2800" spc="-1" strike="noStrike" u="sng">
                <a:solidFill>
                  <a:srgbClr val="09090d"/>
                </a:solidFill>
                <a:uFillTx/>
                <a:latin typeface="Times New Roman"/>
              </a:rPr>
              <a:t>В лаборатории</a:t>
            </a: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826920" y="5013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0805"/>
                </a:solidFill>
                <a:latin typeface="Times New Roman"/>
              </a:rPr>
              <a:t>в) </a:t>
            </a:r>
            <a:r>
              <a:rPr b="0" lang="ru-RU" sz="2800" spc="-1" strike="noStrike">
                <a:solidFill>
                  <a:srgbClr val="110805"/>
                </a:solidFill>
                <a:latin typeface="Arial"/>
              </a:rPr>
              <a:t>Декарбоксилирование натриевых солей карбоновых солей</a:t>
            </a:r>
            <a:r>
              <a:rPr b="0" lang="en-US" sz="2800" spc="-1" strike="noStrike">
                <a:solidFill>
                  <a:srgbClr val="110805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СН</a:t>
            </a:r>
            <a:r>
              <a:rPr b="1" lang="ru-RU" sz="1800" spc="-1" strike="noStrike">
                <a:solidFill>
                  <a:srgbClr val="110805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СОО</a:t>
            </a:r>
            <a:r>
              <a:rPr b="1" lang="en-US" sz="2800" spc="-1" strike="noStrike">
                <a:solidFill>
                  <a:srgbClr val="110805"/>
                </a:solidFill>
                <a:latin typeface="Times New Roman"/>
              </a:rPr>
              <a:t>Na + 2Na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ОН 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 СН</a:t>
            </a:r>
            <a:r>
              <a:rPr b="1" lang="ru-RU" sz="1600" spc="-1" strike="noStrike">
                <a:solidFill>
                  <a:srgbClr val="110805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↑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110805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а</a:t>
            </a:r>
            <a:r>
              <a:rPr b="1" lang="ru-RU" sz="1600" spc="-1" strike="noStrike">
                <a:solidFill>
                  <a:srgbClr val="110805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СО</a:t>
            </a:r>
            <a:r>
              <a:rPr b="1" lang="ru-RU" sz="1600" spc="-1" strike="noStrike">
                <a:solidFill>
                  <a:srgbClr val="110805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80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2554920" y="400536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Times New Roman"/>
              </a:rPr>
              <a:t>б)</a:t>
            </a:r>
            <a:r>
              <a:rPr b="1" lang="ru-RU" sz="32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Times New Roman"/>
              </a:rPr>
              <a:t>Реакция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юрца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828080" y="4508640"/>
            <a:ext cx="57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Cl + 2Na 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→ C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 + 2NaC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луч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1763640" y="3068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Гидролиз карбид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1191960" y="3645000"/>
            <a:ext cx="58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Al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 +12 H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O = 3 CH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 + 4 Al(OH)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16B-5035-48BF-9141-3FC824C9CB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лучение метан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Object 3"/>
          <p:cNvGraphicFramePr/>
          <p:nvPr/>
        </p:nvGraphicFramePr>
        <p:xfrm>
          <a:off x="0" y="1357200"/>
          <a:ext cx="835344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83534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07D-BCB7-4DA2-B0AD-7450A20EC9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Химические свойства алкан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4" descr="а23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47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E8E-D0C6-4CE2-8721-DE9CB62689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1114560" y="2155680"/>
            <a:ext cx="43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9090d"/>
                </a:solidFill>
                <a:latin typeface="Times New Roman"/>
              </a:rPr>
              <a:t> + С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        CH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Cl + HCl + Q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1" name="Line 5"/>
          <p:cNvSpPr/>
          <p:nvPr/>
        </p:nvSpPr>
        <p:spPr>
          <a:xfrm>
            <a:off x="2556000" y="2421000"/>
            <a:ext cx="44424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627280" y="1773360"/>
            <a:ext cx="328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694440" y="13510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9090d"/>
                </a:solidFill>
                <a:uFillTx/>
                <a:latin typeface="Times New Roman"/>
              </a:rPr>
              <a:t>Реакции протекают по радикальному механизму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4" name="AutoShape 65"/>
          <p:cNvSpPr/>
          <p:nvPr/>
        </p:nvSpPr>
        <p:spPr>
          <a:xfrm>
            <a:off x="7162920" y="3581280"/>
            <a:ext cx="609480" cy="106704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5" name="AutoShape 67"/>
          <p:cNvSpPr/>
          <p:nvPr/>
        </p:nvSpPr>
        <p:spPr>
          <a:xfrm rot="14434200">
            <a:off x="6698880" y="4323600"/>
            <a:ext cx="533160" cy="114300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6" name="Oval 68"/>
          <p:cNvSpPr/>
          <p:nvPr/>
        </p:nvSpPr>
        <p:spPr>
          <a:xfrm rot="12565800">
            <a:off x="6400800" y="480024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7" name="AutoShape 69"/>
          <p:cNvSpPr/>
          <p:nvPr/>
        </p:nvSpPr>
        <p:spPr>
          <a:xfrm rot="7802400">
            <a:off x="7581600" y="4457160"/>
            <a:ext cx="53352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8" name="Oval 70"/>
          <p:cNvSpPr/>
          <p:nvPr/>
        </p:nvSpPr>
        <p:spPr>
          <a:xfrm rot="18468000">
            <a:off x="7810200" y="491472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9" name="AutoShape 71"/>
          <p:cNvSpPr/>
          <p:nvPr/>
        </p:nvSpPr>
        <p:spPr>
          <a:xfrm rot="5121600">
            <a:off x="7657560" y="4076640"/>
            <a:ext cx="53352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0" name="AutoShape 73"/>
          <p:cNvSpPr/>
          <p:nvPr/>
        </p:nvSpPr>
        <p:spPr>
          <a:xfrm rot="16442400">
            <a:off x="7238880" y="4419360"/>
            <a:ext cx="76320" cy="38088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1" name="AutoShape 74"/>
          <p:cNvSpPr/>
          <p:nvPr/>
        </p:nvSpPr>
        <p:spPr>
          <a:xfrm rot="18134400">
            <a:off x="7270560" y="4400280"/>
            <a:ext cx="7632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2" name="AutoShape 75"/>
          <p:cNvSpPr/>
          <p:nvPr/>
        </p:nvSpPr>
        <p:spPr>
          <a:xfrm rot="2741400">
            <a:off x="7505640" y="4381560"/>
            <a:ext cx="76320" cy="30456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3" name="AutoShape 76"/>
          <p:cNvSpPr/>
          <p:nvPr/>
        </p:nvSpPr>
        <p:spPr>
          <a:xfrm rot="10800000">
            <a:off x="7391160" y="4571640"/>
            <a:ext cx="7596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4" name="Line 77"/>
          <p:cNvSpPr/>
          <p:nvPr/>
        </p:nvSpPr>
        <p:spPr>
          <a:xfrm>
            <a:off x="7467480" y="4648320"/>
            <a:ext cx="3812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5" name="Oval 78"/>
          <p:cNvSpPr/>
          <p:nvPr/>
        </p:nvSpPr>
        <p:spPr>
          <a:xfrm>
            <a:off x="7924680" y="510552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6" name="Oval 79"/>
          <p:cNvSpPr/>
          <p:nvPr/>
        </p:nvSpPr>
        <p:spPr>
          <a:xfrm>
            <a:off x="6248520" y="4952880"/>
            <a:ext cx="53316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7" name="Oval 95"/>
          <p:cNvSpPr/>
          <p:nvPr/>
        </p:nvSpPr>
        <p:spPr>
          <a:xfrm>
            <a:off x="8077320" y="4343400"/>
            <a:ext cx="53316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8" name="AutoShape 128"/>
          <p:cNvSpPr/>
          <p:nvPr/>
        </p:nvSpPr>
        <p:spPr>
          <a:xfrm rot="10639800">
            <a:off x="7160760" y="2587320"/>
            <a:ext cx="60984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9" name="AutoShape 130"/>
          <p:cNvSpPr/>
          <p:nvPr/>
        </p:nvSpPr>
        <p:spPr>
          <a:xfrm rot="3466800">
            <a:off x="7619760" y="1752480"/>
            <a:ext cx="533520" cy="114300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0" name="Oval 131"/>
          <p:cNvSpPr/>
          <p:nvPr/>
        </p:nvSpPr>
        <p:spPr>
          <a:xfrm rot="3243000">
            <a:off x="6247800" y="243828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1" name="AutoShape 132"/>
          <p:cNvSpPr/>
          <p:nvPr/>
        </p:nvSpPr>
        <p:spPr>
          <a:xfrm rot="18442200">
            <a:off x="6719760" y="1782720"/>
            <a:ext cx="53352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2" name="Oval 133"/>
          <p:cNvSpPr/>
          <p:nvPr/>
        </p:nvSpPr>
        <p:spPr>
          <a:xfrm rot="7503600">
            <a:off x="6514920" y="1866600"/>
            <a:ext cx="53316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3" name="AutoShape 134"/>
          <p:cNvSpPr/>
          <p:nvPr/>
        </p:nvSpPr>
        <p:spPr>
          <a:xfrm rot="15762000">
            <a:off x="6590880" y="2171160"/>
            <a:ext cx="533520" cy="106704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4" name="AutoShape 135"/>
          <p:cNvSpPr/>
          <p:nvPr/>
        </p:nvSpPr>
        <p:spPr>
          <a:xfrm rot="5475600">
            <a:off x="7539480" y="2442240"/>
            <a:ext cx="77760" cy="37440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5" name="AutoShape 136"/>
          <p:cNvSpPr/>
          <p:nvPr/>
        </p:nvSpPr>
        <p:spPr>
          <a:xfrm rot="7157400">
            <a:off x="7501320" y="2556720"/>
            <a:ext cx="79560" cy="29988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6" name="AutoShape 137"/>
          <p:cNvSpPr/>
          <p:nvPr/>
        </p:nvSpPr>
        <p:spPr>
          <a:xfrm rot="13364400">
            <a:off x="7238520" y="2590560"/>
            <a:ext cx="74880" cy="30456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7" name="AutoShape 138"/>
          <p:cNvSpPr/>
          <p:nvPr/>
        </p:nvSpPr>
        <p:spPr>
          <a:xfrm rot="21446400">
            <a:off x="7391160" y="2361960"/>
            <a:ext cx="75960" cy="30456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8" name="Oval 140"/>
          <p:cNvSpPr/>
          <p:nvPr/>
        </p:nvSpPr>
        <p:spPr>
          <a:xfrm rot="10632000">
            <a:off x="6400440" y="182844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9" name="Oval 141"/>
          <p:cNvSpPr/>
          <p:nvPr/>
        </p:nvSpPr>
        <p:spPr>
          <a:xfrm rot="10632000">
            <a:off x="6095520" y="259056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0" name="Oval 143"/>
          <p:cNvSpPr/>
          <p:nvPr/>
        </p:nvSpPr>
        <p:spPr>
          <a:xfrm rot="10632000">
            <a:off x="8000640" y="190476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1" name="Oval 144"/>
          <p:cNvSpPr/>
          <p:nvPr/>
        </p:nvSpPr>
        <p:spPr>
          <a:xfrm>
            <a:off x="7238880" y="3505320"/>
            <a:ext cx="4572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2" name="Text Box 145"/>
          <p:cNvSpPr/>
          <p:nvPr/>
        </p:nvSpPr>
        <p:spPr>
          <a:xfrm>
            <a:off x="6539040" y="57564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Этан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3" name="Text Box 152"/>
          <p:cNvSpPr/>
          <p:nvPr/>
        </p:nvSpPr>
        <p:spPr>
          <a:xfrm>
            <a:off x="838800" y="27129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) Нитрование 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4" name="Text Box 153"/>
          <p:cNvSpPr/>
          <p:nvPr/>
        </p:nvSpPr>
        <p:spPr>
          <a:xfrm>
            <a:off x="1110960" y="34956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С      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5" name="Text Box 154"/>
          <p:cNvSpPr/>
          <p:nvPr/>
        </p:nvSpPr>
        <p:spPr>
          <a:xfrm>
            <a:off x="611280" y="348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6" name="Text Box 155"/>
          <p:cNvSpPr/>
          <p:nvPr/>
        </p:nvSpPr>
        <p:spPr>
          <a:xfrm>
            <a:off x="1068120" y="39765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7" name="Text Box 156"/>
          <p:cNvSpPr/>
          <p:nvPr/>
        </p:nvSpPr>
        <p:spPr>
          <a:xfrm>
            <a:off x="1097280" y="29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8" name="Line 157"/>
          <p:cNvSpPr/>
          <p:nvPr/>
        </p:nvSpPr>
        <p:spPr>
          <a:xfrm>
            <a:off x="1263600" y="33289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9" name="Line 158"/>
          <p:cNvSpPr/>
          <p:nvPr/>
        </p:nvSpPr>
        <p:spPr>
          <a:xfrm>
            <a:off x="1263600" y="37861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0" name="Line 159"/>
          <p:cNvSpPr/>
          <p:nvPr/>
        </p:nvSpPr>
        <p:spPr>
          <a:xfrm>
            <a:off x="882720" y="367200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1" name="Line 160"/>
          <p:cNvSpPr/>
          <p:nvPr/>
        </p:nvSpPr>
        <p:spPr>
          <a:xfrm>
            <a:off x="1415880" y="3672000"/>
            <a:ext cx="22860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2" name="Text Box 161"/>
          <p:cNvSpPr/>
          <p:nvPr/>
        </p:nvSpPr>
        <p:spPr>
          <a:xfrm>
            <a:off x="1933560" y="34956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+ НО  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N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3" name="Line 162"/>
          <p:cNvSpPr/>
          <p:nvPr/>
        </p:nvSpPr>
        <p:spPr>
          <a:xfrm>
            <a:off x="2590920" y="3657600"/>
            <a:ext cx="15228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4" name="Rectangle 163"/>
          <p:cNvSpPr/>
          <p:nvPr/>
        </p:nvSpPr>
        <p:spPr>
          <a:xfrm>
            <a:off x="1600200" y="3405240"/>
            <a:ext cx="1066680" cy="533520"/>
          </a:xfrm>
          <a:prstGeom prst="rect">
            <a:avLst/>
          </a:prstGeom>
          <a:noFill/>
          <a:ln w="12600">
            <a:solidFill>
              <a:srgbClr val="0909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5" name="Rectangle 186"/>
          <p:cNvSpPr/>
          <p:nvPr/>
        </p:nvSpPr>
        <p:spPr>
          <a:xfrm>
            <a:off x="3436920" y="34956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6" name="Rectangle 187"/>
          <p:cNvSpPr/>
          <p:nvPr/>
        </p:nvSpPr>
        <p:spPr>
          <a:xfrm>
            <a:off x="4078440" y="3481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N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7" name="Line 188"/>
          <p:cNvSpPr/>
          <p:nvPr/>
        </p:nvSpPr>
        <p:spPr>
          <a:xfrm>
            <a:off x="3968640" y="3672000"/>
            <a:ext cx="15264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8" name="Text Box 189"/>
          <p:cNvSpPr/>
          <p:nvPr/>
        </p:nvSpPr>
        <p:spPr>
          <a:xfrm>
            <a:off x="4485960" y="34815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+ H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O + Q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9" name="Text Box 190"/>
          <p:cNvSpPr/>
          <p:nvPr/>
        </p:nvSpPr>
        <p:spPr>
          <a:xfrm>
            <a:off x="823320" y="44337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) Сульфирование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0" name="Text Box 212"/>
          <p:cNvSpPr/>
          <p:nvPr/>
        </p:nvSpPr>
        <p:spPr>
          <a:xfrm>
            <a:off x="1339560" y="54864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С      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1" name="Text Box 213"/>
          <p:cNvSpPr/>
          <p:nvPr/>
        </p:nvSpPr>
        <p:spPr>
          <a:xfrm>
            <a:off x="839880" y="54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2" name="Text Box 214"/>
          <p:cNvSpPr/>
          <p:nvPr/>
        </p:nvSpPr>
        <p:spPr>
          <a:xfrm>
            <a:off x="1296720" y="5967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3" name="Text Box 215"/>
          <p:cNvSpPr/>
          <p:nvPr/>
        </p:nvSpPr>
        <p:spPr>
          <a:xfrm>
            <a:off x="1325880" y="49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4" name="Line 216"/>
          <p:cNvSpPr/>
          <p:nvPr/>
        </p:nvSpPr>
        <p:spPr>
          <a:xfrm>
            <a:off x="1492200" y="53197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5" name="Line 217"/>
          <p:cNvSpPr/>
          <p:nvPr/>
        </p:nvSpPr>
        <p:spPr>
          <a:xfrm>
            <a:off x="1492200" y="57769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6" name="Line 218"/>
          <p:cNvSpPr/>
          <p:nvPr/>
        </p:nvSpPr>
        <p:spPr>
          <a:xfrm>
            <a:off x="1111320" y="566244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7" name="Line 219"/>
          <p:cNvSpPr/>
          <p:nvPr/>
        </p:nvSpPr>
        <p:spPr>
          <a:xfrm>
            <a:off x="1644480" y="5662440"/>
            <a:ext cx="22860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8" name="Text Box 220"/>
          <p:cNvSpPr/>
          <p:nvPr/>
        </p:nvSpPr>
        <p:spPr>
          <a:xfrm>
            <a:off x="2162160" y="5486400"/>
            <a:ext cx="14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+ НО  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S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9" name="Line 221"/>
          <p:cNvSpPr/>
          <p:nvPr/>
        </p:nvSpPr>
        <p:spPr>
          <a:xfrm>
            <a:off x="2819520" y="5648400"/>
            <a:ext cx="15228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0" name="Rectangle 222"/>
          <p:cNvSpPr/>
          <p:nvPr/>
        </p:nvSpPr>
        <p:spPr>
          <a:xfrm>
            <a:off x="1828800" y="5396040"/>
            <a:ext cx="1066680" cy="533160"/>
          </a:xfrm>
          <a:prstGeom prst="rect">
            <a:avLst/>
          </a:prstGeom>
          <a:noFill/>
          <a:ln w="12600">
            <a:solidFill>
              <a:srgbClr val="0909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1" name="Line 223"/>
          <p:cNvSpPr/>
          <p:nvPr/>
        </p:nvSpPr>
        <p:spPr>
          <a:xfrm>
            <a:off x="3581280" y="5638680"/>
            <a:ext cx="30492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2" name="Rectangle 224"/>
          <p:cNvSpPr/>
          <p:nvPr/>
        </p:nvSpPr>
        <p:spPr>
          <a:xfrm>
            <a:off x="3811320" y="5500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3" name="Rectangle 225"/>
          <p:cNvSpPr/>
          <p:nvPr/>
        </p:nvSpPr>
        <p:spPr>
          <a:xfrm>
            <a:off x="4453560" y="5486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S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4" name="Line 226"/>
          <p:cNvSpPr/>
          <p:nvPr/>
        </p:nvSpPr>
        <p:spPr>
          <a:xfrm>
            <a:off x="4343400" y="5676840"/>
            <a:ext cx="15228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5" name="Text Box 227"/>
          <p:cNvSpPr/>
          <p:nvPr/>
        </p:nvSpPr>
        <p:spPr>
          <a:xfrm>
            <a:off x="4860000" y="5486400"/>
            <a:ext cx="13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+ H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O + Q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6" name="Text Box 228"/>
          <p:cNvSpPr/>
          <p:nvPr/>
        </p:nvSpPr>
        <p:spPr>
          <a:xfrm>
            <a:off x="3211560" y="3429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7" name="Line 229"/>
          <p:cNvSpPr/>
          <p:nvPr/>
        </p:nvSpPr>
        <p:spPr>
          <a:xfrm>
            <a:off x="3200400" y="3657600"/>
            <a:ext cx="30492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8" name="Text Box 230"/>
          <p:cNvSpPr/>
          <p:nvPr/>
        </p:nvSpPr>
        <p:spPr>
          <a:xfrm>
            <a:off x="3565440" y="53006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efec62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efec62"/>
                </a:solidFill>
                <a:latin typeface="Arial"/>
              </a:rPr>
              <a:t>Реакция замещения</a:t>
            </a:r>
            <a:r>
              <a:rPr b="0" lang="en-US" sz="2800" spc="-1" strike="noStrike">
                <a:solidFill>
                  <a:srgbClr val="efec6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33"/>
          <p:cNvSpPr/>
          <p:nvPr/>
        </p:nvSpPr>
        <p:spPr>
          <a:xfrm>
            <a:off x="902520" y="270828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Реак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рования (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Коновалов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1" name="Text Box 234"/>
          <p:cNvSpPr/>
          <p:nvPr/>
        </p:nvSpPr>
        <p:spPr>
          <a:xfrm>
            <a:off x="900000" y="443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Реакция сульф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2" name="Text Box 235"/>
          <p:cNvSpPr/>
          <p:nvPr/>
        </p:nvSpPr>
        <p:spPr>
          <a:xfrm>
            <a:off x="1116000" y="170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кция галоген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8A5-2573-44E0-B490-DCBD344FE2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2"/>
          <p:cNvSpPr txBox="1"/>
          <p:nvPr/>
        </p:nvSpPr>
        <p:spPr>
          <a:xfrm>
            <a:off x="2916360" y="0"/>
            <a:ext cx="367164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Реакции изомеризации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441720" y="671400"/>
            <a:ext cx="30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  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5" name="Line 4"/>
          <p:cNvSpPr/>
          <p:nvPr/>
        </p:nvSpPr>
        <p:spPr>
          <a:xfrm>
            <a:off x="91440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15238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213372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74320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429000" y="838080"/>
            <a:ext cx="91440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3280680" y="609480"/>
            <a:ext cx="102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t</a:t>
            </a: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, катализатор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4406760" y="67140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    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5015520" y="11113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3" name="Line 12"/>
          <p:cNvSpPr/>
          <p:nvPr/>
        </p:nvSpPr>
        <p:spPr>
          <a:xfrm>
            <a:off x="4876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4" name="Line 14"/>
          <p:cNvSpPr/>
          <p:nvPr/>
        </p:nvSpPr>
        <p:spPr>
          <a:xfrm>
            <a:off x="5410080" y="838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5" name="Line 15"/>
          <p:cNvSpPr/>
          <p:nvPr/>
        </p:nvSpPr>
        <p:spPr>
          <a:xfrm>
            <a:off x="6019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6" name="Line 16"/>
          <p:cNvSpPr/>
          <p:nvPr/>
        </p:nvSpPr>
        <p:spPr>
          <a:xfrm>
            <a:off x="52578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7" name="WordArt 17"/>
          <p:cNvSpPr txBox="1"/>
          <p:nvPr/>
        </p:nvSpPr>
        <p:spPr>
          <a:xfrm>
            <a:off x="2987640" y="1413000"/>
            <a:ext cx="34560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Реакции с водяным паром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678960" y="1890720"/>
            <a:ext cx="267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4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О              СО + 3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1752480" y="2057400"/>
            <a:ext cx="53352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1753920" y="1828800"/>
            <a:ext cx="50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800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С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1" name="AutoShape 22"/>
          <p:cNvSpPr/>
          <p:nvPr/>
        </p:nvSpPr>
        <p:spPr>
          <a:xfrm rot="5400000">
            <a:off x="2705040" y="171432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2" name="Text Box 23"/>
          <p:cNvSpPr/>
          <p:nvPr/>
        </p:nvSpPr>
        <p:spPr>
          <a:xfrm>
            <a:off x="2271960" y="21477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9090d"/>
                </a:solidFill>
                <a:latin typeface="Times New Roman"/>
              </a:rPr>
              <a:t>синтез-газ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3" name="WordArt 26"/>
          <p:cNvSpPr txBox="1"/>
          <p:nvPr/>
        </p:nvSpPr>
        <p:spPr>
          <a:xfrm>
            <a:off x="3348000" y="2492280"/>
            <a:ext cx="316872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Реакции дегидрирования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4" name="Text Box 27"/>
          <p:cNvSpPr/>
          <p:nvPr/>
        </p:nvSpPr>
        <p:spPr>
          <a:xfrm>
            <a:off x="1076760" y="297180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2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4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       Н     С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≡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С    Н + 3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Q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5" name="Line 28"/>
          <p:cNvSpPr/>
          <p:nvPr/>
        </p:nvSpPr>
        <p:spPr>
          <a:xfrm>
            <a:off x="2301840" y="3138480"/>
            <a:ext cx="152280" cy="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3063960" y="3138480"/>
            <a:ext cx="152280" cy="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7" name="Line 31"/>
          <p:cNvSpPr/>
          <p:nvPr/>
        </p:nvSpPr>
        <p:spPr>
          <a:xfrm>
            <a:off x="1692360" y="3138480"/>
            <a:ext cx="38088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1600200" y="2895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1601280" y="289548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1500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С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978480" y="333864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   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                       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=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Q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1" name="Line 35"/>
          <p:cNvSpPr/>
          <p:nvPr/>
        </p:nvSpPr>
        <p:spPr>
          <a:xfrm>
            <a:off x="1447920" y="3505320"/>
            <a:ext cx="152280" cy="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2" name="Line 36"/>
          <p:cNvSpPr/>
          <p:nvPr/>
        </p:nvSpPr>
        <p:spPr>
          <a:xfrm>
            <a:off x="2133720" y="3505320"/>
            <a:ext cx="53316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3" name="WordArt 38"/>
          <p:cNvSpPr txBox="1"/>
          <p:nvPr/>
        </p:nvSpPr>
        <p:spPr>
          <a:xfrm>
            <a:off x="3348000" y="3716280"/>
            <a:ext cx="31687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Реакции окисления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4" name="Text Box 39"/>
          <p:cNvSpPr/>
          <p:nvPr/>
        </p:nvSpPr>
        <p:spPr>
          <a:xfrm>
            <a:off x="1472040" y="4076640"/>
            <a:ext cx="64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Предельные углеводороды горят (пламя не коптящее</a:t>
            </a:r>
            <a:r>
              <a:rPr b="1" lang="en-US" sz="1400" spc="-1" strike="noStrike" u="sng">
                <a:solidFill>
                  <a:srgbClr val="ff5050"/>
                </a:solidFill>
                <a:uFillTx/>
                <a:latin typeface="Times New Roman"/>
              </a:rPr>
              <a:t>)</a:t>
            </a:r>
            <a:endParaRPr b="0" lang="en-US" sz="1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5" name="Text Box 40"/>
          <p:cNvSpPr/>
          <p:nvPr/>
        </p:nvSpPr>
        <p:spPr>
          <a:xfrm>
            <a:off x="1313640" y="458640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8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5О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6" name="Text Box 41"/>
          <p:cNvSpPr/>
          <p:nvPr/>
        </p:nvSpPr>
        <p:spPr>
          <a:xfrm>
            <a:off x="2712960" y="458640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3СО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4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+ Q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2343960" y="4941720"/>
            <a:ext cx="46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5050"/>
                </a:solidFill>
                <a:uFillTx/>
                <a:latin typeface="Times New Roman"/>
              </a:rPr>
              <a:t>В присутствии катализаторов окисляются: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1312920" y="550080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4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О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          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2236680" y="5438880"/>
            <a:ext cx="128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0" name="Text Box 45"/>
          <p:cNvSpPr/>
          <p:nvPr/>
        </p:nvSpPr>
        <p:spPr>
          <a:xfrm>
            <a:off x="2225880" y="5398920"/>
            <a:ext cx="15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9090d"/>
                </a:solidFill>
                <a:latin typeface="Times New Roman"/>
              </a:rPr>
              <a:t>500</a:t>
            </a:r>
            <a:r>
              <a:rPr b="0" i="1" lang="en-US" sz="12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i="1" lang="en-US" sz="1200" spc="-1" strike="noStrike">
                <a:solidFill>
                  <a:srgbClr val="09090d"/>
                </a:solidFill>
                <a:latin typeface="Times New Roman"/>
              </a:rPr>
              <a:t>С, катализатор</a:t>
            </a:r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1" name="Text Box 46"/>
          <p:cNvSpPr/>
          <p:nvPr/>
        </p:nvSpPr>
        <p:spPr>
          <a:xfrm>
            <a:off x="3372480" y="550080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Н     С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3980880" y="5348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3" name="Text Box 48"/>
          <p:cNvSpPr/>
          <p:nvPr/>
        </p:nvSpPr>
        <p:spPr>
          <a:xfrm>
            <a:off x="4056840" y="5729400"/>
            <a:ext cx="4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4" name="Text Box 49"/>
          <p:cNvSpPr/>
          <p:nvPr/>
        </p:nvSpPr>
        <p:spPr>
          <a:xfrm>
            <a:off x="4364280" y="55008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+ Q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4143240" y="5743440"/>
            <a:ext cx="139680" cy="61920"/>
          </a:xfrm>
          <a:prstGeom prst="line">
            <a:avLst/>
          </a:prstGeom>
          <a:ln w="648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6" name="Text Box 52"/>
          <p:cNvSpPr/>
          <p:nvPr/>
        </p:nvSpPr>
        <p:spPr>
          <a:xfrm>
            <a:off x="934200" y="6110280"/>
            <a:ext cx="21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2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(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4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5О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7" name="Text Box 53"/>
          <p:cNvSpPr/>
          <p:nvPr/>
        </p:nvSpPr>
        <p:spPr>
          <a:xfrm>
            <a:off x="3378600" y="6110280"/>
            <a:ext cx="321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4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    (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)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16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ООН +2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+ Q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8" name="Line 54"/>
          <p:cNvSpPr/>
          <p:nvPr/>
        </p:nvSpPr>
        <p:spPr>
          <a:xfrm>
            <a:off x="3979800" y="6276960"/>
            <a:ext cx="150840" cy="144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9" name="Line 55"/>
          <p:cNvSpPr/>
          <p:nvPr/>
        </p:nvSpPr>
        <p:spPr>
          <a:xfrm flipV="1">
            <a:off x="4132440" y="5574960"/>
            <a:ext cx="150480" cy="34920"/>
          </a:xfrm>
          <a:prstGeom prst="line">
            <a:avLst/>
          </a:prstGeom>
          <a:ln w="381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0" name="Line 56"/>
          <p:cNvSpPr/>
          <p:nvPr/>
        </p:nvSpPr>
        <p:spPr>
          <a:xfrm>
            <a:off x="2378160" y="473868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1" name="Line 57"/>
          <p:cNvSpPr/>
          <p:nvPr/>
        </p:nvSpPr>
        <p:spPr>
          <a:xfrm>
            <a:off x="3063960" y="626256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2" name="Line 58"/>
          <p:cNvSpPr/>
          <p:nvPr/>
        </p:nvSpPr>
        <p:spPr>
          <a:xfrm>
            <a:off x="2301840" y="5653080"/>
            <a:ext cx="121932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3" name="Line 59"/>
          <p:cNvSpPr/>
          <p:nvPr/>
        </p:nvSpPr>
        <p:spPr>
          <a:xfrm>
            <a:off x="37339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4" name="Line 60"/>
          <p:cNvSpPr/>
          <p:nvPr/>
        </p:nvSpPr>
        <p:spPr>
          <a:xfrm flipH="1">
            <a:off x="1676520" y="3200400"/>
            <a:ext cx="38088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5" name="Line 62"/>
          <p:cNvSpPr/>
          <p:nvPr/>
        </p:nvSpPr>
        <p:spPr>
          <a:xfrm flipH="1">
            <a:off x="2133720" y="3581280"/>
            <a:ext cx="45720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9A76B-0AE1-42BC-8F8F-5A29DC0B53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формула класса углеводород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мологический ря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ы изоме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кан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получ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574-F742-4A5A-A3EE-5EE309DD71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акция горения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+ 2O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CO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H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+ Q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0" y="1341360"/>
          <a:ext cx="896472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96472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B3D-35D4-48D3-9311-52D20A1F51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395280" y="2276640"/>
            <a:ext cx="24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Широко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используются в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качестве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топлива, в том 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числе дл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двигателей 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внутреннего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сгорания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6193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рименение алкан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61" name="Picture 10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6120000" cy="43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1EB9-21C4-4926-A1FB-B8503CEA7A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менение алка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3672000" y="1876320"/>
            <a:ext cx="5472000" cy="49816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324000" y="2349360"/>
            <a:ext cx="3289320" cy="375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1-3 – производство саж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 – картриж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ографическая краска)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4-7 – получение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органических веществ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(4 – растворителей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 –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ладогентов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используемых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в холодильных установках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 –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етанол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 -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ацетилен)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0F35-09AE-4A13-8D9E-FD2BD30179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56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E9B7-5BAF-413F-8908-BB7645AD424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468360" y="1572120"/>
            <a:ext cx="8353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лкины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 — алифатические непредельные углеводороды, в молекулах которых между углеродными атомами имеется одна тройная связь</a:t>
            </a: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99040" y="4765320"/>
            <a:ext cx="1622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2n-2 </a:t>
            </a:r>
            <a:endParaRPr b="0" lang="en-US" sz="3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4CD3-5BCC-4434-8C87-C39DC6077E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572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3BAF-98C7-48DC-9617-58F4F74DCA2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541800" y="1237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троение алкинов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6" name="Rectangle 3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577" name="Object 36"/>
          <p:cNvGraphicFramePr/>
          <p:nvPr/>
        </p:nvGraphicFramePr>
        <p:xfrm>
          <a:off x="1763640" y="2492280"/>
          <a:ext cx="5184720" cy="88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8" name="Object 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492280"/>
                    <a:ext cx="51847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Text Box 38"/>
          <p:cNvSpPr/>
          <p:nvPr/>
        </p:nvSpPr>
        <p:spPr>
          <a:xfrm>
            <a:off x="3371040" y="36640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цетилен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этин)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10B9-838B-4813-8846-E2A0B67AF4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581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C7E4-63EF-4C2F-B6FD-0BCC8AF16E5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541800" y="1237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троение алкинов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586" name="Picture 9" descr="2-16"/>
          <p:cNvPicPr/>
          <p:nvPr/>
        </p:nvPicPr>
        <p:blipFill>
          <a:blip r:embed="rId2"/>
          <a:stretch/>
        </p:blipFill>
        <p:spPr>
          <a:xfrm>
            <a:off x="395280" y="2997360"/>
            <a:ext cx="8496360" cy="162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DF72-E5EF-4BD2-96E1-113B82488E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588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AE1-05CB-4D79-8406-22DB58739642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9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541800" y="1237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троение алкинов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593" name="Picture 8" descr="2-17"/>
          <p:cNvPicPr/>
          <p:nvPr/>
        </p:nvPicPr>
        <p:blipFill>
          <a:blip r:embed="rId2"/>
          <a:stretch/>
        </p:blipFill>
        <p:spPr>
          <a:xfrm>
            <a:off x="468360" y="1916280"/>
            <a:ext cx="8351640" cy="46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58F0-1C44-4956-8CEF-993DF6D8D9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595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566E-0292-4344-B80A-91DEE44D49EC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6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541440" y="123732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Номенклатура и изомер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01" name="Object 8"/>
          <p:cNvGraphicFramePr/>
          <p:nvPr/>
        </p:nvGraphicFramePr>
        <p:xfrm>
          <a:off x="684360" y="2060640"/>
          <a:ext cx="320976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060640"/>
                    <a:ext cx="3209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11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04" name="Object 10"/>
          <p:cNvGraphicFramePr/>
          <p:nvPr/>
        </p:nvGraphicFramePr>
        <p:xfrm>
          <a:off x="5292720" y="2117880"/>
          <a:ext cx="2879640" cy="59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2720" y="2117880"/>
                    <a:ext cx="28796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Rectangle 13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07" name="Object 12"/>
          <p:cNvGraphicFramePr/>
          <p:nvPr/>
        </p:nvGraphicFramePr>
        <p:xfrm>
          <a:off x="2124000" y="4076640"/>
          <a:ext cx="4753080" cy="13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8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4076640"/>
                    <a:ext cx="475308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Rectangle 14"/>
          <p:cNvSpPr/>
          <p:nvPr/>
        </p:nvSpPr>
        <p:spPr>
          <a:xfrm>
            <a:off x="1311120" y="2780280"/>
            <a:ext cx="218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бутин-1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(этилацетилен)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5411880" y="2780280"/>
            <a:ext cx="26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бутин-2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(диметилацетилен)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2982600" y="5733000"/>
            <a:ext cx="29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2-метилпентен-1-ин-4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FD62-F860-46F0-9B9A-801987DC5A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613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1061-6F22-4389-A8B9-5B7047DB83AB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4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541440" y="123732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Номенклатура и изомер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20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21" name="Rectangle 17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22" name="Object 16"/>
          <p:cNvGraphicFramePr/>
          <p:nvPr/>
        </p:nvGraphicFramePr>
        <p:xfrm>
          <a:off x="1835280" y="2133720"/>
          <a:ext cx="4968720" cy="17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3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133720"/>
                    <a:ext cx="496872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Rectangle 18"/>
          <p:cNvSpPr/>
          <p:nvPr/>
        </p:nvSpPr>
        <p:spPr>
          <a:xfrm>
            <a:off x="2468520" y="3715200"/>
            <a:ext cx="32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-фенилпропин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(метилфенилацетилен)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26" name="Object 19"/>
          <p:cNvGraphicFramePr/>
          <p:nvPr/>
        </p:nvGraphicFramePr>
        <p:xfrm>
          <a:off x="539640" y="4941720"/>
          <a:ext cx="2880000" cy="52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4941720"/>
                    <a:ext cx="2880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2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29" name="Object 21"/>
          <p:cNvGraphicFramePr/>
          <p:nvPr/>
        </p:nvGraphicFramePr>
        <p:xfrm>
          <a:off x="4861080" y="4951440"/>
          <a:ext cx="345600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0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61080" y="4951440"/>
                    <a:ext cx="3456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Rectangle 23"/>
          <p:cNvSpPr/>
          <p:nvPr/>
        </p:nvSpPr>
        <p:spPr>
          <a:xfrm>
            <a:off x="1402920" y="573300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этинил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2" name="Rectangle 24"/>
          <p:cNvSpPr/>
          <p:nvPr/>
        </p:nvSpPr>
        <p:spPr>
          <a:xfrm>
            <a:off x="5581080" y="56602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опаргил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99C6-0260-4301-A902-8B03DD11E2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634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53FE-CC3E-4854-A7F2-B7D35485EADA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5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541440" y="123732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Номенклатура и изомер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2" name="Rectangle 10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4" name="Rectangle 15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5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46" name="Object 19"/>
          <p:cNvGraphicFramePr/>
          <p:nvPr/>
        </p:nvGraphicFramePr>
        <p:xfrm>
          <a:off x="395280" y="2133720"/>
          <a:ext cx="371808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133720"/>
                    <a:ext cx="37180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2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49" name="Object 21"/>
          <p:cNvGraphicFramePr/>
          <p:nvPr/>
        </p:nvGraphicFramePr>
        <p:xfrm>
          <a:off x="4932360" y="2133720"/>
          <a:ext cx="4032360" cy="51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0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2133720"/>
                    <a:ext cx="403236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Rectangle 2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52" name="Object 23"/>
          <p:cNvGraphicFramePr/>
          <p:nvPr/>
        </p:nvGraphicFramePr>
        <p:xfrm>
          <a:off x="395280" y="5013360"/>
          <a:ext cx="4518000" cy="54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3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5013360"/>
                    <a:ext cx="45180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Rectangle 25"/>
          <p:cNvSpPr/>
          <p:nvPr/>
        </p:nvSpPr>
        <p:spPr>
          <a:xfrm>
            <a:off x="1404360" y="3570840"/>
            <a:ext cx="22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3-метилбутин-1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6449400" y="3499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ентин-1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56" name="Rectangle 27"/>
          <p:cNvSpPr/>
          <p:nvPr/>
        </p:nvSpPr>
        <p:spPr>
          <a:xfrm>
            <a:off x="1696680" y="580464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ентин-2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9683-AFCD-4057-9944-BE14E798FF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898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кан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ельные углеводороды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фины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сыщенные углеводороды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Алканы - углеводороды в молекулах которых все атомы углерода связаны одинарными связями (</a:t>
            </a:r>
            <a:r>
              <a:rPr b="0" lang="el-GR" sz="3200" spc="-1" strike="noStrike">
                <a:solidFill>
                  <a:srgbClr val="09090d"/>
                </a:solidFill>
                <a:latin typeface="Arial"/>
              </a:rPr>
              <a:t>σ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-)</a:t>
            </a:r>
            <a:r>
              <a:rPr b="0" lang="en-US" sz="3200" spc="-1" strike="noStrike">
                <a:solidFill>
                  <a:srgbClr val="09090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и имеют общую формулу</a:t>
            </a:r>
            <a:r>
              <a:rPr b="0" lang="en-US" sz="3200" spc="-1" strike="noStrike">
                <a:solidFill>
                  <a:srgbClr val="09090d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090d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348000" y="3645000"/>
            <a:ext cx="2594160" cy="2166480"/>
          </a:xfrm>
          <a:prstGeom prst="rect">
            <a:avLst/>
          </a:prstGeom>
          <a:solidFill>
            <a:srgbClr val="efe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10805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110805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110805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110805"/>
                </a:solidFill>
                <a:latin typeface="Times New Roman"/>
              </a:rPr>
              <a:t>2n+2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8E6-E35F-411D-9190-771857119D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658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E859-32B4-4DDF-920E-10EDB4566DC6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59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541080" y="12373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Способы получен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4" name="Rectangle 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5" name="Rectangle 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6" name="Rectangle 10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7" name="Rectangle 1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8" name="Rectangle 1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9" name="Rectangle 1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70" name="Rectangle 15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71" name="Rectangle 17"/>
          <p:cNvSpPr/>
          <p:nvPr/>
        </p:nvSpPr>
        <p:spPr>
          <a:xfrm>
            <a:off x="971640" y="1772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Крекинг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72" name="Rectangle 23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73" name="Object 22"/>
          <p:cNvGraphicFramePr/>
          <p:nvPr/>
        </p:nvGraphicFramePr>
        <p:xfrm>
          <a:off x="1187280" y="2349360"/>
          <a:ext cx="7374240" cy="96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4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349360"/>
                    <a:ext cx="73742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Rectangle 25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76" name="Object 24"/>
          <p:cNvGraphicFramePr/>
          <p:nvPr/>
        </p:nvGraphicFramePr>
        <p:xfrm>
          <a:off x="1187280" y="4049640"/>
          <a:ext cx="7417080" cy="96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7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049640"/>
                    <a:ext cx="74170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D6CFD-4553-4EF6-AA0B-BA9EBB5876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679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1918-670E-4234-935E-096BC3CC445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0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541080" y="12373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Способы получен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9" name="Rectangle 1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91" name="Rectangle 14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971640" y="1772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Из карбида кальц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93" name="Rectangle 1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94" name="Rectangle 18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95" name="Object 22"/>
          <p:cNvGraphicFramePr/>
          <p:nvPr/>
        </p:nvGraphicFramePr>
        <p:xfrm>
          <a:off x="863640" y="2708280"/>
          <a:ext cx="579924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6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3640" y="2708280"/>
                    <a:ext cx="57992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21"/>
          <p:cNvGraphicFramePr/>
          <p:nvPr/>
        </p:nvGraphicFramePr>
        <p:xfrm>
          <a:off x="798480" y="3860640"/>
          <a:ext cx="7608960" cy="54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8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8480" y="3860640"/>
                    <a:ext cx="76089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Object 20"/>
          <p:cNvGraphicFramePr/>
          <p:nvPr/>
        </p:nvGraphicFramePr>
        <p:xfrm>
          <a:off x="82440" y="5013360"/>
          <a:ext cx="888228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0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440" y="5013360"/>
                    <a:ext cx="8882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Rectangle 23"/>
          <p:cNvSpPr/>
          <p:nvPr/>
        </p:nvSpPr>
        <p:spPr>
          <a:xfrm>
            <a:off x="0" y="26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2482-5378-46EA-865B-33B0F94EBF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03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55A2-959B-4EA6-A2D7-7BE23567C48C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4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541080" y="12373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Способы получен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0" name="Rectangle 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1" name="Rectangle 10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2" name="Rectangle 1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3" name="Rectangle 1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4" name="Rectangle 1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5" name="Rectangle 14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6" name="Rectangle 15"/>
          <p:cNvSpPr/>
          <p:nvPr/>
        </p:nvSpPr>
        <p:spPr>
          <a:xfrm>
            <a:off x="971640" y="1772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Дегидрогалоген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7" name="Rectangle 1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8" name="Rectangle 17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9" name="Rectangle 21"/>
          <p:cNvSpPr/>
          <p:nvPr/>
        </p:nvSpPr>
        <p:spPr>
          <a:xfrm>
            <a:off x="0" y="26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21" name="Object 22"/>
          <p:cNvGraphicFramePr/>
          <p:nvPr/>
        </p:nvGraphicFramePr>
        <p:xfrm>
          <a:off x="142920" y="2708280"/>
          <a:ext cx="8893080" cy="19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2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2708280"/>
                    <a:ext cx="889308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AD809-1C74-4B4E-B24A-8FB4E256CF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24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DDF6-D573-4852-8C2F-6EC0E5106458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5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7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0" name="Rectangle 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1" name="Rectangle 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3" name="Rectangle 1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4" name="Rectangle 1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6" name="Rectangle 15"/>
          <p:cNvSpPr/>
          <p:nvPr/>
        </p:nvSpPr>
        <p:spPr>
          <a:xfrm>
            <a:off x="1116000" y="20595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Гидр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7" name="Rectangle 1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8" name="Rectangle 17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9" name="Rectangle 18"/>
          <p:cNvSpPr/>
          <p:nvPr/>
        </p:nvSpPr>
        <p:spPr>
          <a:xfrm>
            <a:off x="0" y="26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40" name="Rectangle 19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899640" y="1663560"/>
            <a:ext cx="57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Реакции электрофильного присоедин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42" name="Rectangle 23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43" name="Object 22"/>
          <p:cNvGraphicFramePr/>
          <p:nvPr/>
        </p:nvGraphicFramePr>
        <p:xfrm>
          <a:off x="1116000" y="2708280"/>
          <a:ext cx="7777080" cy="106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4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08280"/>
                    <a:ext cx="777708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Rectangle 25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46" name="Object 24"/>
          <p:cNvGraphicFramePr/>
          <p:nvPr/>
        </p:nvGraphicFramePr>
        <p:xfrm>
          <a:off x="826920" y="4437000"/>
          <a:ext cx="8425080" cy="220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7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437000"/>
                    <a:ext cx="84250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Rectangle 26"/>
          <p:cNvSpPr/>
          <p:nvPr/>
        </p:nvSpPr>
        <p:spPr>
          <a:xfrm>
            <a:off x="1116000" y="4220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Галоген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EE68-9938-4E78-979A-54DDD9CDF1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50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B875-F27C-4B7E-8583-9DCD7D9B4D3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1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4" name="Rectangle 14"/>
          <p:cNvSpPr/>
          <p:nvPr/>
        </p:nvSpPr>
        <p:spPr>
          <a:xfrm>
            <a:off x="1116000" y="20595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Гидрогалоген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899640" y="1663560"/>
            <a:ext cx="57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Реакции электрофильного присоедин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6" name="Rectangle 26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57" name="Object 25"/>
          <p:cNvGraphicFramePr/>
          <p:nvPr/>
        </p:nvGraphicFramePr>
        <p:xfrm>
          <a:off x="971640" y="2708280"/>
          <a:ext cx="7848360" cy="28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8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708280"/>
                    <a:ext cx="784836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0784-DAC1-4E8F-9297-E412A41762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60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8848-DB23-434D-9611-2359BA7BAAB1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1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1116000" y="205956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соединение синильной кислоты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5" name="Text Box 7"/>
          <p:cNvSpPr/>
          <p:nvPr/>
        </p:nvSpPr>
        <p:spPr>
          <a:xfrm>
            <a:off x="899640" y="1663560"/>
            <a:ext cx="57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Реакции электрофильного присоедин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68" name="Object 10"/>
          <p:cNvGraphicFramePr/>
          <p:nvPr/>
        </p:nvGraphicFramePr>
        <p:xfrm>
          <a:off x="826920" y="2852640"/>
          <a:ext cx="8064720" cy="9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852640"/>
                    <a:ext cx="80647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5A68-8FF9-4630-B016-8B7F629080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71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BF96-8F1B-4FC9-BF67-4983D8AD25D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2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1116000" y="2167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исоединение воды (реакция М.Г.Кучерова, 1881)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6" name="Text Box 7"/>
          <p:cNvSpPr/>
          <p:nvPr/>
        </p:nvSpPr>
        <p:spPr>
          <a:xfrm>
            <a:off x="896760" y="173664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Взаимодействие с нуклеофильными реагентам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8" name="Rectangle 9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80" name="Object 11"/>
          <p:cNvGraphicFramePr/>
          <p:nvPr/>
        </p:nvGraphicFramePr>
        <p:xfrm>
          <a:off x="468360" y="3022560"/>
          <a:ext cx="842472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022560"/>
                    <a:ext cx="842472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0B3A-0514-463F-9BAF-1E6B5ADB8E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83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DD0B-2981-4D08-9E64-C0D9F027D4FA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4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5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6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1116000" y="2167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исоединение воды (реакция М.Г.Кучерова, 1881)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8" name="Text Box 7"/>
          <p:cNvSpPr/>
          <p:nvPr/>
        </p:nvSpPr>
        <p:spPr>
          <a:xfrm>
            <a:off x="896760" y="173664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Взаимодействие с нуклеофильными реагентам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2" name="Rectangle 1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93" name="Object 12"/>
          <p:cNvGraphicFramePr/>
          <p:nvPr/>
        </p:nvGraphicFramePr>
        <p:xfrm>
          <a:off x="324000" y="3068640"/>
          <a:ext cx="8496000" cy="19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068640"/>
                    <a:ext cx="84960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1710-EAE5-448C-838B-495D45BF23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9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3291-A962-4FD4-803D-0C05CCAE71A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1116000" y="2167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исоединение воды (реакция М.Г.Кучерова, 1881)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896760" y="173664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Взаимодействие с нуклеофильными реагентам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3" name="Rectangle 9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4" name="Rectangle 10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5" name="Rectangle 11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6" name="Rectangle 13"/>
          <p:cNvSpPr/>
          <p:nvPr/>
        </p:nvSpPr>
        <p:spPr>
          <a:xfrm>
            <a:off x="3780000" y="4869000"/>
            <a:ext cx="49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учеров, Михаил Григорьевич 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(1850 - 1911)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807" name="Picture 14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2322360" cy="266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9536-3227-4FF8-989B-EF9E1754B5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09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D6E2-0C80-421F-9904-F1B7BAB46D1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0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1116000" y="2167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соединение спиртов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896760" y="173664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Взаимодействие с нуклеофильными реагентам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5" name="Rectangle 9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6" name="Rectangle 11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7" name="Rectangle 1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18" name="Object 14"/>
          <p:cNvGraphicFramePr/>
          <p:nvPr/>
        </p:nvGraphicFramePr>
        <p:xfrm>
          <a:off x="395280" y="2781360"/>
          <a:ext cx="8532720" cy="83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9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781360"/>
                    <a:ext cx="8532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Rectangle 17"/>
          <p:cNvSpPr/>
          <p:nvPr/>
        </p:nvSpPr>
        <p:spPr>
          <a:xfrm>
            <a:off x="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21" name="Object 16"/>
          <p:cNvGraphicFramePr/>
          <p:nvPr/>
        </p:nvGraphicFramePr>
        <p:xfrm>
          <a:off x="179280" y="4941720"/>
          <a:ext cx="8785440" cy="150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941720"/>
                    <a:ext cx="878544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Rectangle 18"/>
          <p:cNvSpPr/>
          <p:nvPr/>
        </p:nvSpPr>
        <p:spPr>
          <a:xfrm>
            <a:off x="1187280" y="414864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соединение карбоновых кислот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A5DB9-B0BD-4B8D-80CD-6EFAB8F12A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омологический ряд мета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349360"/>
            <a:ext cx="388476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90d"/>
                </a:solidFill>
                <a:latin typeface="Arial"/>
              </a:rPr>
              <a:t>СН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ме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90d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  э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  проп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бу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пен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49400" y="2491920"/>
            <a:ext cx="38847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9090d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4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гекс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геп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8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ок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9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20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нон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22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дек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51800" y="1481040"/>
            <a:ext cx="801396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мологи – это вещест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одные по строению и свойствам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тличающиеся на одну или более групп 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F3B-87E3-45C9-AEA5-4D00FB776B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25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B25B-53F4-4866-B6CC-1B784857A34D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26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27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900000" y="173664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Реакции замещ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31" name="Object 8"/>
          <p:cNvGraphicFramePr/>
          <p:nvPr/>
        </p:nvGraphicFramePr>
        <p:xfrm>
          <a:off x="2195640" y="2276640"/>
          <a:ext cx="4176720" cy="10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2276640"/>
                    <a:ext cx="417672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Rectangle 10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08000" y="4221000"/>
          <a:ext cx="892800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4221000"/>
                    <a:ext cx="8928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9D34-C8A3-473F-951C-30C7693B46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37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EA18-5694-4C81-957C-D66D57E92AD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38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39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1" name="Rectangle 6"/>
          <p:cNvSpPr/>
          <p:nvPr/>
        </p:nvSpPr>
        <p:spPr>
          <a:xfrm>
            <a:off x="971640" y="1951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я изо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2" name="Rectangle 16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43" name="Object 15"/>
          <p:cNvGraphicFramePr/>
          <p:nvPr/>
        </p:nvGraphicFramePr>
        <p:xfrm>
          <a:off x="142920" y="2924280"/>
          <a:ext cx="889308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2924280"/>
                    <a:ext cx="88930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1BC7-0F95-4974-B273-9CAB20D866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4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32C8-97F7-45E1-8B04-91DD4F22913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0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поли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53" name="Object 9"/>
          <p:cNvGraphicFramePr/>
          <p:nvPr/>
        </p:nvGraphicFramePr>
        <p:xfrm>
          <a:off x="108000" y="2811600"/>
          <a:ext cx="8856720" cy="14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811600"/>
                    <a:ext cx="88567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0ABE-0614-477D-A975-012B05FC663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5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2D5B-29DC-48B3-AAEB-650E3B6E72AB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поли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2" name="Rectangle 8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63" name="Object 10"/>
          <p:cNvGraphicFramePr/>
          <p:nvPr/>
        </p:nvGraphicFramePr>
        <p:xfrm>
          <a:off x="755640" y="2492280"/>
          <a:ext cx="7488360" cy="32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492280"/>
                    <a:ext cx="748836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1185-8E20-453A-9FFD-E4F8D3D2E75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6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792F-FBC4-48D3-AAE7-188983AEE081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9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поли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2" name="Rectangle 8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3" name="Rectangle 11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74" name="Object 10"/>
          <p:cNvGraphicFramePr/>
          <p:nvPr/>
        </p:nvGraphicFramePr>
        <p:xfrm>
          <a:off x="324000" y="2421000"/>
          <a:ext cx="8496000" cy="340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421000"/>
                    <a:ext cx="849600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04CD-1B5C-4C27-8A3D-3257E3586B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77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DC3D-D6FC-493E-BA94-75587010999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8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9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1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поли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3" name="Rectangle 8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4" name="Rectangle 9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86" name="Object 11"/>
          <p:cNvGraphicFramePr/>
          <p:nvPr/>
        </p:nvGraphicFramePr>
        <p:xfrm>
          <a:off x="250920" y="2349360"/>
          <a:ext cx="864216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349360"/>
                    <a:ext cx="864216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1180-B581-4313-823B-60A360CF191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89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95F2-738A-4AFA-9A98-8FFAB73579AA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0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3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поли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5" name="Rectangle 8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6" name="Rectangle 9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7" name="Rectangle 10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8" name="Rectangle 13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99" name="Object 12"/>
          <p:cNvGraphicFramePr/>
          <p:nvPr/>
        </p:nvGraphicFramePr>
        <p:xfrm>
          <a:off x="144360" y="2909880"/>
          <a:ext cx="8820360" cy="14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2909880"/>
                    <a:ext cx="88203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CEEE-4988-47DD-BBA0-93DB087EBEC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02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666F-F080-48EA-BA81-CA692349962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03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05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06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окисл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07" name="Rectangle 14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08" name="Object 13"/>
          <p:cNvGraphicFramePr/>
          <p:nvPr/>
        </p:nvGraphicFramePr>
        <p:xfrm>
          <a:off x="179280" y="2349360"/>
          <a:ext cx="8712360" cy="21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349360"/>
                    <a:ext cx="871236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EF9C-7A7F-45E2-B37F-EB7FDF41B1F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11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2255-346B-4036-AC33-FD32C14C8916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2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окисл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7" name="Rectangle 1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18" name="Object 9"/>
          <p:cNvGraphicFramePr/>
          <p:nvPr/>
        </p:nvGraphicFramePr>
        <p:xfrm>
          <a:off x="193680" y="2565360"/>
          <a:ext cx="862632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680" y="2565360"/>
                    <a:ext cx="86263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21" name="Object 11"/>
          <p:cNvGraphicFramePr/>
          <p:nvPr/>
        </p:nvGraphicFramePr>
        <p:xfrm>
          <a:off x="193680" y="3994200"/>
          <a:ext cx="8459640" cy="65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680" y="3994200"/>
                    <a:ext cx="84596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EE2E-231F-4456-A067-FB7564E149B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24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C0A0-6C0C-4A0F-B220-259BC660E73D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25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26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27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28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арбонил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1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2" name="Rectangle 13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33" name="Object 12"/>
          <p:cNvGraphicFramePr/>
          <p:nvPr/>
        </p:nvGraphicFramePr>
        <p:xfrm>
          <a:off x="289080" y="2349360"/>
          <a:ext cx="8604000" cy="22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080" y="2349360"/>
                    <a:ext cx="860400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6CD7-A952-4DF5-A84B-285EDB72092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адикал – это частиц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меющая не спаренные электроны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4360" y="1844640"/>
          <a:ext cx="7704000" cy="4330800"/>
        </p:xfrm>
        <a:graphic>
          <a:graphicData uri="http://schemas.openxmlformats.org/drawingml/2006/table">
            <a:tbl>
              <a:tblPr/>
              <a:tblGrid>
                <a:gridCol w="1925640"/>
                <a:gridCol w="1927080"/>
                <a:gridCol w="1925640"/>
                <a:gridCol w="192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числа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радикала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радикала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та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298-EAB0-4FC9-9792-FFBD2E4286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3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E4FD-FF34-4D45-8EAB-D26F6BDDB615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арбонил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1" name="Rectangle 7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2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5" name="Rectangle 13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46" name="Object 12"/>
          <p:cNvGraphicFramePr/>
          <p:nvPr/>
        </p:nvGraphicFramePr>
        <p:xfrm>
          <a:off x="71280" y="2421000"/>
          <a:ext cx="8893440" cy="19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2421000"/>
                    <a:ext cx="8893440" cy="19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7C56-DCBB-41A6-89AC-FE0CE8BA110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49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0B42-8845-42BE-8150-424B53354255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0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соединение к альдегидам и кетонам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7" name="Rectangle 10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8" name="Rectangle 14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59" name="Object 13"/>
          <p:cNvGraphicFramePr/>
          <p:nvPr/>
        </p:nvGraphicFramePr>
        <p:xfrm>
          <a:off x="250920" y="2120760"/>
          <a:ext cx="828036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20760"/>
                    <a:ext cx="8280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Rectangle 16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62" name="Object 15"/>
          <p:cNvGraphicFramePr/>
          <p:nvPr/>
        </p:nvGraphicFramePr>
        <p:xfrm>
          <a:off x="250920" y="2873520"/>
          <a:ext cx="7273800" cy="393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2873520"/>
                    <a:ext cx="72738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387C-469C-4E90-8732-D7DB5614A75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65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6A69-4E83-4227-9B68-01CEB3EB93EB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66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67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соединение к альдегидам и кетонам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0" name="Rectangle 13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971" name="Picture 1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8713800" cy="1814760"/>
          </a:xfrm>
          <a:prstGeom prst="rect">
            <a:avLst/>
          </a:prstGeom>
          <a:ln w="0">
            <a:noFill/>
          </a:ln>
        </p:spPr>
      </p:pic>
      <p:sp>
        <p:nvSpPr>
          <p:cNvPr id="972" name="Rectangle 17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73" name="Object 16"/>
          <p:cNvGraphicFramePr/>
          <p:nvPr/>
        </p:nvGraphicFramePr>
        <p:xfrm>
          <a:off x="179280" y="4897440"/>
          <a:ext cx="590544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897440"/>
                    <a:ext cx="5905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BE54-C338-45FC-AA3E-2CBF92FD8F5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7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00E2-ED0F-47B7-AEC8-501D49B18E8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8" name="Rectangle 5"/>
          <p:cNvSpPr/>
          <p:nvPr/>
        </p:nvSpPr>
        <p:spPr>
          <a:xfrm>
            <a:off x="542160" y="105408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Отдельные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представители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971640" y="20944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Ацетилен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981" name="Picture 11" descr="azetilen"/>
          <p:cNvPicPr/>
          <p:nvPr/>
        </p:nvPicPr>
        <p:blipFill>
          <a:blip r:embed="rId2"/>
          <a:stretch/>
        </p:blipFill>
        <p:spPr>
          <a:xfrm>
            <a:off x="3203640" y="0"/>
            <a:ext cx="5657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A00F-26F6-4284-8B5E-D8FF579F26F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лке́н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лефин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тиленовые углеводород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 — ациклические непредельные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углеводород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одержащие одну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двойную связь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между атомами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углер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образующие гомологический ряд с общей формуло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CnH2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Атомы углерода при двойной связи находятся в состоянии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s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² гибрид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и имеют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валентный уго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120°. Простейшим алкеном является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этилен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C2H4). По номенклатуре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IUPA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звания алкенов образуются от названий соответствующих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алкан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заменой суффикса «-ан» на «-ен»; положение двойной связи указывается арабской цифр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леводородные радикалы, образованные от алкенов имеют суффик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-енил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Тривиальные названия: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CH2=CH—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винил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CH2=CH—CH2—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аллил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0CE0-1FD9-4E21-BD75-EEBE22AAF88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Гомологический ряд и изомерия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кены, число атомов углерода в которых больше двух, (т.е. кроме этилена) имеют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изоме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Для алкенов характерны изомерия углеродного скелета, положения двойной связи, межклассовая и пространственная. Например, единственным изомером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проп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являетс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циклопропа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C3H6) по межклассовой изомерии. Начиная с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бут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существуют изомеры по положению двойной связи (бутен-1 и бутен-2), по углеродному скелету (изобутилен или метилпропен) и геометрические изомеры (цис-бутен-2 и транс-бутен-2). С ростом числа атомов углерода в молекуле количество изомеров быстро возраста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0D0D-9867-4FB4-9BBE-3E3FF8655EF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эт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этил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-C2H4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проп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3H6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бут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4H8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пент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5H10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гекс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6H12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гепт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7H14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окт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8H16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нон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9H18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дец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10H2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кены могут существовать в виде пространственных или геометрических изом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личаю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ис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омеры: заместители расположены по одну сторону от двойной связ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транс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омеры: заместители расположены по разные стороны от двойной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IUPAC рекомендует называть геометрические изомеры по следующей номенклатур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омеры: старшие заместители у углеродных атомов двойной связи находятся по одну сторону относительно двойной связ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омеры: старшие заместители у углеродных атомов двойной связи находятся по разные стороны относительно двойной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FEAE-20F4-4F9A-9854-6533976D757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Электронное строение двойной связи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оответствии с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теорией гибридизаци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двойная связь образуется за сч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ерекрывания вдоль линии связ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-С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sp²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гибридных орбиталей атомов углеро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связь) и бокового перекрывания углеродных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орбиталей (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связь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хема образования связей в молекуле этиле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остоянии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sp² гибридизаци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электронное состояние атома углеро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жно представить следующим образом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се атомы этилена лежат в одной плоскости, а величина валентного уг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вяз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C-H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актически равна 120°. Центры углеродных атомов в этиле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ходятся на расстоянии 0,134 нм, то есть длина двойной связи нескольк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роче, чем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-С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гласно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теории молекулярных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орбитале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линейная комбинация дву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томных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орбиталей углерода формирует две молекулярные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рбитали этилена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[1]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8D35-105D-4374-87B1-6099D6CE3AF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вый потенциал ионизации этилена составляет 10,51 эВ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[2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что позволяет электрону относительно легко уходить (электрофильное взаимодействие) с высшей занятой молекулярной орбитали (ВЗМО). В то же время, низшая связывающая молекулярная орбиталь (НСМО) этилена имеет достаточно низкую энергию: −1,6-1,8 эВ, что объясняет относительную легкость присоединения электрона с образованием анион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[2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нуклеофильное взаимодействи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авление метильного заместителя снижает потенциал ионизации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электронов примерно на 0,6-0,8 эВ и повышает энергию НСМО на 0,2 эВ, а ВЗМО на 0,7 эВ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[2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4E14-EC36-4008-ADD3-6609BF19151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История открытия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первые этилен был получен 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1669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немецким химиком и врачом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Бехером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действием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серной кислот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этиловый спирт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Ученый установил, что его «воздух» более химически активен, чем метан, однако, идентифицировать полученный газ он не смог и названия ему не присвоил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[3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торично и тем же способом «воздух Бехера» был получен и описан голландскими химиками Дейманом, Потс-ван-Трооствиком, Бондом и Лауверенбургом 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1795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Они назвали его «маслородным газом» так как при взаимодействии с хлором, он образовывал маслянистую жидкость —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дихлорэтан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(об этом стало известно позднее). По-французски «маслородный» — oléfiant. Французский химик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Антуан Фуркру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вёл этот термин в практику, а когда были обнаружены другие углеводороды такого же типа, это название стало общим для всего класса олефинов (или, по современной номенклатуре, алкенов)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[4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начале XIX века французский химик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Ж. Гей-Люссак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бнаружил, что этанол состоит из «маслородного» газа и воды. Этот же газ он обнаружил и в хлористом этиле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[5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1828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Ж. Дюм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и П. Буллей предположили, что этилен представляет собой основание, способное давать соли подобно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аммиак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Якоб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 Берцелиус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принял эту идею, назвав соединение «этерином» и обозначив буквой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[6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пределив, что этилен состоит из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водород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9"/>
              </a:rPr>
              <a:t>углерод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долгое время химики не могли выписать его настоящую формулу. 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0"/>
              </a:rPr>
              <a:t>1848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1"/>
              </a:rPr>
              <a:t>Кольб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писал формулу этилена как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4Н4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этого же мнения придерживался и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2"/>
              </a:rPr>
              <a:t>Либих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3"/>
              </a:rPr>
              <a:t>Ж. Дюм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правильно определил состав вещества, но его структура по-прежнему была описана неверно: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2НН3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4"/>
              </a:rPr>
              <a:t>[5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5"/>
              </a:rPr>
              <a:t>1862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немецкий химик-органик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6"/>
              </a:rPr>
              <a:t>Э.Эрленмейер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предположил наличие в молекуле этилена двойной связи, а 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7"/>
              </a:rPr>
              <a:t>1870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известный российский ученый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8"/>
              </a:rPr>
              <a:t>А. М. Бутлеров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признал эту точку зрения правильной, подтвердив её природу экспериментально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9"/>
              </a:rPr>
              <a:t>[7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03B50-FD87-4BEE-8781-7124F64784E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руктурная изомер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лгоритм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ор главной цеп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C48-7B82-4104-B357-07701763F2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7611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Нахождение в природе и физиологическая роль алкенов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рироде ациклические алкены практически не встречаются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[8]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Простейший представитель этого класса органических соединений —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этилен (C2H4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— является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гормоном для растени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в незначительном количестве в них синтезирует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ин из немногих природных алкенов —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мускалу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и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трикозен-9) является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половым аттрактант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амки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домашней мух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Musca domestic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шие алкены в высоких концентрациях обладают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наркотическим эффект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Высшие члены ряда также вызывают судороги и раздражение слизистых оболочек дыхательных путей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[9]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дельные представител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Этил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— вызывает наркоз, обладает раздражающим и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мутагенным действие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Пропил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— вызывает наркоз (сильнее, чем этилен), оказывает общетоксическое и мутагенное действ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Бутен-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— вызывает наркоз, обладает раздражающим действием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[9]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EEE59-D74A-4482-858B-CE8871FC69C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Физические свойств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мпературы плавления и кипения алкенов (упрощенно) увеличиваются с молекулярной массой и длиной главной углеродной цеп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нормальных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алкены с C2H4 до C4H8 — газы; с C5H10 до C17H34 — жидкости, после C18H36 — твёрдые тела. Алкены не растворяются в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вод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о хорошо растворяются в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органических растворител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B6A9-52A0-41B7-B737-FB3F56CF7F8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Методы получения алкен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ромышленным методо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лучения алкенов является каталитический и высокотемпературный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крекинг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углеводород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неф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природного газ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Для производства низших алкенов используют также реакцию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дегидрат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оответствующих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спирт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лабораторной практик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бычно применяют метод дегидратации спиртов в присутствии сильных минеральных кислот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[1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дегидрогалогенирование и дегалогенирование соответствующих галогенпроизводных; синтезы Гофмана, Чугаева, Виттига и Коуп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[11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C150-E85D-4080-9089-318800855F4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гидрирование алкан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один из промышленных способов получения алкено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[12]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[13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Температура: 350—450 °C, катализатор —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Cr2O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Также используются алюмомолибденовые и алюмоплатиновы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катализаторы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[14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2" name="" descr="\mathsf{CH_3\!\!-\!\!CH_3}\rightarrow\mathsf{CH_2\!\!=\!\!CH_2+H_2}"/>
          <p:cNvPicPr/>
          <p:nvPr/>
        </p:nvPicPr>
        <p:blipFill>
          <a:blip r:embed="rId6"/>
          <a:stretch/>
        </p:blipFill>
        <p:spPr>
          <a:xfrm>
            <a:off x="155520" y="46080"/>
            <a:ext cx="2238480" cy="1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AD20-33F9-40C0-8824-6A7AF8F9C59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гидрогалогенирование и дегалогенирование алкан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щепление галогенов у дигалогеналканов происходит в присутстви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цинк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[15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гидрогалогенирование проводят при нагревании действием спиртовыми растворами щелочей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[16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отщеплении галогенводорода образуется смесь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изомер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реобладающий из которых определяетс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правилом Зайце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отщепление протона происходит от менее гидрогенизированного атома угле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6D4A-E639-4E2F-9BC2-5C60B7F2E14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именение алкен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мышленное использование этил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Этиле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спользуется для производства целого ряда химических соединений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винилхлорид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стирол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этиленгликол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этиленоксид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этанолами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этанол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диокса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дихлорэта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уксусного альдегид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уксусной кислоты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[15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олимеризацией этилена и его прямых производных получают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полиэтиле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поливинилацета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поливинилхлори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каучу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смазочные масл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ровое производство этилена составляет порядк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00 млн тонн в го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[50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по данным на 2005 год: 107 млн тонн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9"/>
              </a:rPr>
              <a:t>[51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890D-CB1B-4ABB-915A-69D9F55107E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мышленное использование пропил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Пропиле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промышленности применяется, в основном, для синтез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полипропил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62 % процента всего выпускаемого объема[52]). Также из него получают кумол, окись пропилена, акрилонитрил, изопропанол, глицерин, масляный альдегид[15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астоящее время мировые мощности по выпуску пропилена составляют окол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70 млн тон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год[52]. По прогнозам специалистов, потребность в пропилене в ближайшем будущем будет существенно превышать объемы его производства, причем, ожидается, что к 2010 году объем его мирового выпуска достигне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0 млн тон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[53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C567-C30E-401C-9E20-06C6AA8CFBC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мышленное использование прочих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утилены применяют для производства бутадиена, изопрена, полиизобутилена, бутилкаучука, метилэтилкетона и п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обутилен — сырье для получения бутилкаучука, изопрена, трет-бутанола; используется для алкилирования фенолов при синтезе ПАВ. Его сополимеры с бутенами применяют как присадки к маслам и гермет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шие алкены С10−С18 применяют при синтезе ПАВ, а также для получения высших спир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427D-58FB-4B67-88E7-5BE2F20D215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умерация атомов главной цеп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         2      3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0DA-8BDC-4CF2-9BBC-0B990E6341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99666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наз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        2       3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тил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59B-A849-4C1A-8E8C-7DDDE187EC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1219320" y="2971800"/>
            <a:ext cx="53316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5" name="Oval 3"/>
          <p:cNvSpPr/>
          <p:nvPr/>
        </p:nvSpPr>
        <p:spPr>
          <a:xfrm>
            <a:off x="1219320" y="2890800"/>
            <a:ext cx="53316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6" name="AutoShape 4"/>
          <p:cNvSpPr/>
          <p:nvPr/>
        </p:nvSpPr>
        <p:spPr>
          <a:xfrm rot="14434200">
            <a:off x="755280" y="3714480"/>
            <a:ext cx="533520" cy="114300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 rot="12565800">
            <a:off x="457200" y="419076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 rot="7802400">
            <a:off x="1638000" y="3847680"/>
            <a:ext cx="53352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 rot="18468000">
            <a:off x="1866600" y="430524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0" name="AutoShape 8"/>
          <p:cNvSpPr/>
          <p:nvPr/>
        </p:nvSpPr>
        <p:spPr>
          <a:xfrm rot="5121600">
            <a:off x="1713960" y="3467160"/>
            <a:ext cx="53316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1" name="Oval 9"/>
          <p:cNvSpPr/>
          <p:nvPr/>
        </p:nvSpPr>
        <p:spPr>
          <a:xfrm rot="4836600">
            <a:off x="2017080" y="367812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2" name="AutoShape 10"/>
          <p:cNvSpPr/>
          <p:nvPr/>
        </p:nvSpPr>
        <p:spPr>
          <a:xfrm rot="16442400">
            <a:off x="1295280" y="3809520"/>
            <a:ext cx="75960" cy="38088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3" name="AutoShape 11"/>
          <p:cNvSpPr/>
          <p:nvPr/>
        </p:nvSpPr>
        <p:spPr>
          <a:xfrm rot="18134400">
            <a:off x="1326960" y="3790800"/>
            <a:ext cx="7632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4" name="AutoShape 12"/>
          <p:cNvSpPr/>
          <p:nvPr/>
        </p:nvSpPr>
        <p:spPr>
          <a:xfrm rot="2741400">
            <a:off x="1539720" y="3745080"/>
            <a:ext cx="7632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0800000">
            <a:off x="1447560" y="3962520"/>
            <a:ext cx="75960" cy="30456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1523880" y="4038480"/>
            <a:ext cx="3812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7" name="Oval 15"/>
          <p:cNvSpPr/>
          <p:nvPr/>
        </p:nvSpPr>
        <p:spPr>
          <a:xfrm>
            <a:off x="1981080" y="449568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8" name="Oval 16"/>
          <p:cNvSpPr/>
          <p:nvPr/>
        </p:nvSpPr>
        <p:spPr>
          <a:xfrm>
            <a:off x="304920" y="4343400"/>
            <a:ext cx="53316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9" name="Oval 17"/>
          <p:cNvSpPr/>
          <p:nvPr/>
        </p:nvSpPr>
        <p:spPr>
          <a:xfrm>
            <a:off x="2286000" y="373392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0" name="Oval 18"/>
          <p:cNvSpPr/>
          <p:nvPr/>
        </p:nvSpPr>
        <p:spPr>
          <a:xfrm>
            <a:off x="1219320" y="2590920"/>
            <a:ext cx="533160" cy="457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76212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Метан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395280" y="1413000"/>
            <a:ext cx="62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909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Для алканов характерна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sp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³-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гибридизация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buClr>
                <a:srgbClr val="0909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Длина С-С – связи = 0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,154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нм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buClr>
                <a:srgbClr val="0909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Углы между орбиталями = 109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 28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4287960" y="5229360"/>
            <a:ext cx="388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Перекрывание гибридных электронных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облаков атомов углерода облаками атомов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водорода (молекула метана)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4267080" y="3886200"/>
            <a:ext cx="457200" cy="457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5" name="AutoShape 26"/>
          <p:cNvSpPr/>
          <p:nvPr/>
        </p:nvSpPr>
        <p:spPr>
          <a:xfrm rot="16304400">
            <a:off x="5751360" y="3468600"/>
            <a:ext cx="233280" cy="610920"/>
          </a:xfrm>
          <a:prstGeom prst="flowChartCollat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6" name="AutoShape 27"/>
          <p:cNvSpPr/>
          <p:nvPr/>
        </p:nvSpPr>
        <p:spPr>
          <a:xfrm>
            <a:off x="6400800" y="411480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4877640" y="3809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5410080" y="36576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0" name="AutoShape 31"/>
          <p:cNvSpPr/>
          <p:nvPr/>
        </p:nvSpPr>
        <p:spPr>
          <a:xfrm rot="16304400">
            <a:off x="5751360" y="3773520"/>
            <a:ext cx="233280" cy="610920"/>
          </a:xfrm>
          <a:prstGeom prst="flowChartCollat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1" name="Oval 32"/>
          <p:cNvSpPr/>
          <p:nvPr/>
        </p:nvSpPr>
        <p:spPr>
          <a:xfrm>
            <a:off x="5410080" y="39625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2" name="Oval 33"/>
          <p:cNvSpPr/>
          <p:nvPr/>
        </p:nvSpPr>
        <p:spPr>
          <a:xfrm>
            <a:off x="6095880" y="39625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3" name="AutoShape 34"/>
          <p:cNvSpPr/>
          <p:nvPr/>
        </p:nvSpPr>
        <p:spPr>
          <a:xfrm rot="16304400">
            <a:off x="5751360" y="4077720"/>
            <a:ext cx="233640" cy="610920"/>
          </a:xfrm>
          <a:prstGeom prst="flowChartCollat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4" name="Oval 35"/>
          <p:cNvSpPr/>
          <p:nvPr/>
        </p:nvSpPr>
        <p:spPr>
          <a:xfrm>
            <a:off x="5410080" y="426708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5" name="Oval 36"/>
          <p:cNvSpPr/>
          <p:nvPr/>
        </p:nvSpPr>
        <p:spPr>
          <a:xfrm>
            <a:off x="6095880" y="426708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6" name="AutoShape 37"/>
          <p:cNvSpPr/>
          <p:nvPr/>
        </p:nvSpPr>
        <p:spPr>
          <a:xfrm rot="16212600">
            <a:off x="7543800" y="3656880"/>
            <a:ext cx="227160" cy="53172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7" name="Oval 38"/>
          <p:cNvSpPr/>
          <p:nvPr/>
        </p:nvSpPr>
        <p:spPr>
          <a:xfrm rot="21526200">
            <a:off x="7849800" y="380988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8" name="AutoShape 39"/>
          <p:cNvSpPr/>
          <p:nvPr/>
        </p:nvSpPr>
        <p:spPr>
          <a:xfrm rot="16146000">
            <a:off x="7277040" y="3772080"/>
            <a:ext cx="76320" cy="304560"/>
          </a:xfrm>
          <a:prstGeom prst="pi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9" name="AutoShape 40"/>
          <p:cNvSpPr/>
          <p:nvPr/>
        </p:nvSpPr>
        <p:spPr>
          <a:xfrm rot="16212600">
            <a:off x="7542000" y="3961800"/>
            <a:ext cx="227160" cy="53208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0" name="Oval 41"/>
          <p:cNvSpPr/>
          <p:nvPr/>
        </p:nvSpPr>
        <p:spPr>
          <a:xfrm rot="21526200">
            <a:off x="7848360" y="41148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1" name="AutoShape 42"/>
          <p:cNvSpPr/>
          <p:nvPr/>
        </p:nvSpPr>
        <p:spPr>
          <a:xfrm rot="16146000">
            <a:off x="7275600" y="4076280"/>
            <a:ext cx="7596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2" name="AutoShape 43"/>
          <p:cNvSpPr/>
          <p:nvPr/>
        </p:nvSpPr>
        <p:spPr>
          <a:xfrm rot="16212600">
            <a:off x="7542360" y="4266720"/>
            <a:ext cx="226800" cy="53208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3" name="Oval 44"/>
          <p:cNvSpPr/>
          <p:nvPr/>
        </p:nvSpPr>
        <p:spPr>
          <a:xfrm rot="21526200">
            <a:off x="7848360" y="44197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4" name="AutoShape 45"/>
          <p:cNvSpPr/>
          <p:nvPr/>
        </p:nvSpPr>
        <p:spPr>
          <a:xfrm rot="16146000">
            <a:off x="7275240" y="4381200"/>
            <a:ext cx="7632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5" name="AutoShape 46"/>
          <p:cNvSpPr/>
          <p:nvPr/>
        </p:nvSpPr>
        <p:spPr>
          <a:xfrm rot="16212600">
            <a:off x="7542360" y="3352320"/>
            <a:ext cx="226800" cy="53208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6" name="Oval 47"/>
          <p:cNvSpPr/>
          <p:nvPr/>
        </p:nvSpPr>
        <p:spPr>
          <a:xfrm rot="21526200">
            <a:off x="7848360" y="35053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7" name="AutoShape 48"/>
          <p:cNvSpPr/>
          <p:nvPr/>
        </p:nvSpPr>
        <p:spPr>
          <a:xfrm rot="16146000">
            <a:off x="7275240" y="3466800"/>
            <a:ext cx="7632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8" name="Line 49"/>
          <p:cNvSpPr/>
          <p:nvPr/>
        </p:nvSpPr>
        <p:spPr>
          <a:xfrm flipH="1">
            <a:off x="533520" y="2819520"/>
            <a:ext cx="914400" cy="17524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9" name="Line 50"/>
          <p:cNvSpPr/>
          <p:nvPr/>
        </p:nvSpPr>
        <p:spPr>
          <a:xfrm>
            <a:off x="533520" y="4572000"/>
            <a:ext cx="1752480" cy="1522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0" name="Line 51"/>
          <p:cNvSpPr/>
          <p:nvPr/>
        </p:nvSpPr>
        <p:spPr>
          <a:xfrm flipV="1">
            <a:off x="2286000" y="3962520"/>
            <a:ext cx="304920" cy="7617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1" name="Line 52"/>
          <p:cNvSpPr/>
          <p:nvPr/>
        </p:nvSpPr>
        <p:spPr>
          <a:xfrm flipH="1" flipV="1">
            <a:off x="1447560" y="2819160"/>
            <a:ext cx="1143000" cy="114300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2" name="Line 53"/>
          <p:cNvSpPr/>
          <p:nvPr/>
        </p:nvSpPr>
        <p:spPr>
          <a:xfrm flipV="1">
            <a:off x="533520" y="3962160"/>
            <a:ext cx="2057400" cy="6094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3" name="Line 54"/>
          <p:cNvSpPr/>
          <p:nvPr/>
        </p:nvSpPr>
        <p:spPr>
          <a:xfrm flipV="1">
            <a:off x="533520" y="4038480"/>
            <a:ext cx="914400" cy="53352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4" name="Line 55"/>
          <p:cNvSpPr/>
          <p:nvPr/>
        </p:nvSpPr>
        <p:spPr>
          <a:xfrm>
            <a:off x="1447920" y="2819520"/>
            <a:ext cx="0" cy="12189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5" name="Line 56"/>
          <p:cNvSpPr/>
          <p:nvPr/>
        </p:nvSpPr>
        <p:spPr>
          <a:xfrm flipH="1">
            <a:off x="1447560" y="3962520"/>
            <a:ext cx="1143000" cy="759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6" name="Line 57"/>
          <p:cNvSpPr/>
          <p:nvPr/>
        </p:nvSpPr>
        <p:spPr>
          <a:xfrm flipH="1" flipV="1">
            <a:off x="1447920" y="3962520"/>
            <a:ext cx="838080" cy="7617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7" name="AutoShape 58"/>
          <p:cNvSpPr/>
          <p:nvPr/>
        </p:nvSpPr>
        <p:spPr>
          <a:xfrm rot="1103400">
            <a:off x="2895120" y="5181120"/>
            <a:ext cx="990720" cy="230400"/>
          </a:xfrm>
          <a:prstGeom prst="leftArrow">
            <a:avLst>
              <a:gd name="adj1" fmla="val 50000"/>
              <a:gd name="adj2" fmla="val 107500"/>
            </a:avLst>
          </a:prstGeom>
          <a:solidFill>
            <a:srgbClr val="99d9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8" name="Line 59"/>
          <p:cNvSpPr/>
          <p:nvPr/>
        </p:nvSpPr>
        <p:spPr>
          <a:xfrm flipH="1">
            <a:off x="0" y="4572000"/>
            <a:ext cx="533520" cy="3808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9" name="Line 60"/>
          <p:cNvSpPr/>
          <p:nvPr/>
        </p:nvSpPr>
        <p:spPr>
          <a:xfrm>
            <a:off x="2286000" y="4724280"/>
            <a:ext cx="380880" cy="38124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0" name="Freeform 61"/>
          <p:cNvSpPr/>
          <p:nvPr/>
        </p:nvSpPr>
        <p:spPr>
          <a:xfrm>
            <a:off x="228600" y="4800600"/>
            <a:ext cx="2209680" cy="393840"/>
          </a:xfrm>
          <a:prstGeom prst="pie">
            <a:avLst/>
          </a:prstGeom>
          <a:noFill/>
          <a:ln w="9360">
            <a:solidFill>
              <a:srgbClr val="0909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1" name="Line 62"/>
          <p:cNvSpPr/>
          <p:nvPr/>
        </p:nvSpPr>
        <p:spPr>
          <a:xfrm flipH="1" flipV="1">
            <a:off x="228240" y="4800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 flipV="1">
            <a:off x="2133720" y="487656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3" name="Text Box 64"/>
          <p:cNvSpPr/>
          <p:nvPr/>
        </p:nvSpPr>
        <p:spPr>
          <a:xfrm>
            <a:off x="818640" y="486252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109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28´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троение мета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69"/>
          <p:cNvSpPr/>
          <p:nvPr/>
        </p:nvSpPr>
        <p:spPr>
          <a:xfrm>
            <a:off x="4284720" y="4508640"/>
            <a:ext cx="431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6" name="Text Box 70"/>
          <p:cNvSpPr/>
          <p:nvPr/>
        </p:nvSpPr>
        <p:spPr>
          <a:xfrm>
            <a:off x="5651640" y="4653000"/>
            <a:ext cx="519120" cy="398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7" name="Text Box 71"/>
          <p:cNvSpPr/>
          <p:nvPr/>
        </p:nvSpPr>
        <p:spPr>
          <a:xfrm>
            <a:off x="6233040" y="2997360"/>
            <a:ext cx="237816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Гибридизованные облака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8" name="Text Box 72"/>
          <p:cNvSpPr/>
          <p:nvPr/>
        </p:nvSpPr>
        <p:spPr>
          <a:xfrm>
            <a:off x="4237920" y="2900520"/>
            <a:ext cx="163764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Рисунок 1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9" name="Text Box 73"/>
          <p:cNvSpPr/>
          <p:nvPr/>
        </p:nvSpPr>
        <p:spPr>
          <a:xfrm>
            <a:off x="1982160" y="5734080"/>
            <a:ext cx="163764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Рисунок 2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0" name="Text Box 74"/>
          <p:cNvSpPr/>
          <p:nvPr/>
        </p:nvSpPr>
        <p:spPr>
          <a:xfrm>
            <a:off x="6735240" y="1484280"/>
            <a:ext cx="163764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Рисунок 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1" name="Oval 75"/>
          <p:cNvSpPr/>
          <p:nvPr/>
        </p:nvSpPr>
        <p:spPr>
          <a:xfrm>
            <a:off x="6443640" y="2205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2" name="Oval 76"/>
          <p:cNvSpPr/>
          <p:nvPr/>
        </p:nvSpPr>
        <p:spPr>
          <a:xfrm>
            <a:off x="7596360" y="2205000"/>
            <a:ext cx="360360" cy="35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3" name="Oval 77"/>
          <p:cNvSpPr/>
          <p:nvPr/>
        </p:nvSpPr>
        <p:spPr>
          <a:xfrm>
            <a:off x="7020000" y="2205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4" name="Oval 78"/>
          <p:cNvSpPr/>
          <p:nvPr/>
        </p:nvSpPr>
        <p:spPr>
          <a:xfrm>
            <a:off x="7885080" y="1989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5" name="Oval 79"/>
          <p:cNvSpPr/>
          <p:nvPr/>
        </p:nvSpPr>
        <p:spPr>
          <a:xfrm>
            <a:off x="7308720" y="1989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6" name="Oval 80"/>
          <p:cNvSpPr/>
          <p:nvPr/>
        </p:nvSpPr>
        <p:spPr>
          <a:xfrm>
            <a:off x="8172360" y="2205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7" name="Oval 81"/>
          <p:cNvSpPr/>
          <p:nvPr/>
        </p:nvSpPr>
        <p:spPr>
          <a:xfrm>
            <a:off x="6732720" y="1989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8" name="Line 82"/>
          <p:cNvSpPr/>
          <p:nvPr/>
        </p:nvSpPr>
        <p:spPr>
          <a:xfrm flipV="1">
            <a:off x="6659640" y="213336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9" name="Line 83"/>
          <p:cNvSpPr/>
          <p:nvPr/>
        </p:nvSpPr>
        <p:spPr>
          <a:xfrm>
            <a:off x="6948360" y="213372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0" name="Line 84"/>
          <p:cNvSpPr/>
          <p:nvPr/>
        </p:nvSpPr>
        <p:spPr>
          <a:xfrm flipV="1">
            <a:off x="7236000" y="2205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1" name="Line 85"/>
          <p:cNvSpPr/>
          <p:nvPr/>
        </p:nvSpPr>
        <p:spPr>
          <a:xfrm>
            <a:off x="7451640" y="2205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2" name="Line 86"/>
          <p:cNvSpPr/>
          <p:nvPr/>
        </p:nvSpPr>
        <p:spPr>
          <a:xfrm flipV="1">
            <a:off x="7812000" y="213372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3" name="Line 87"/>
          <p:cNvSpPr/>
          <p:nvPr/>
        </p:nvSpPr>
        <p:spPr>
          <a:xfrm>
            <a:off x="8101080" y="2133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4" name="Line 88"/>
          <p:cNvSpPr/>
          <p:nvPr/>
        </p:nvSpPr>
        <p:spPr>
          <a:xfrm flipH="1">
            <a:off x="7451640" y="2276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5" name="Rectangle 89"/>
          <p:cNvSpPr/>
          <p:nvPr/>
        </p:nvSpPr>
        <p:spPr>
          <a:xfrm>
            <a:off x="6879240" y="27082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,154 </a:t>
            </a: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нм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cxnSp>
        <p:nvCxnSpPr>
          <p:cNvPr id="396" name="AutoShape 96"/>
          <p:cNvCxnSpPr>
            <a:stCxn id="388" idx="0"/>
            <a:endCxn id="389" idx="0"/>
          </p:cNvCxnSpPr>
          <p:nvPr/>
        </p:nvCxnSpPr>
        <p:spPr>
          <a:xfrm flipH="1" rot="16200000">
            <a:off x="6910920" y="2096640"/>
            <a:ext cx="72360" cy="577080"/>
          </a:xfrm>
          <a:prstGeom prst="curvedConnector5">
            <a:avLst>
              <a:gd name="adj1" fmla="val 417500"/>
              <a:gd name="adj2" fmla="val 50000"/>
              <a:gd name="adj3" fmla="val 4175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7" name="Line 97"/>
          <p:cNvSpPr/>
          <p:nvPr/>
        </p:nvSpPr>
        <p:spPr>
          <a:xfrm flipH="1" flipV="1">
            <a:off x="5219640" y="242100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21A-7BF1-471D-98EA-732DAE15E0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53:39Z</dcterms:created>
  <dc:creator>Айгуль</dc:creator>
  <dc:description/>
  <dc:language>en-US</dc:language>
  <cp:lastModifiedBy>Student</cp:lastModifiedBy>
  <dcterms:modified xsi:type="dcterms:W3CDTF">2013-05-03T09:29:52Z</dcterms:modified>
  <cp:revision>120</cp:revision>
  <dc:subject/>
  <dc:title>Презентация PowerPoint</dc:title>
</cp:coreProperties>
</file>