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BF7-3A87-428F-B4D5-7BFF71DD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462-E352-4FAB-AB7C-45F7038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79F-9B8D-43E4-A6C6-20A2E71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4E1-0026-45B6-A586-80912042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5211-A0C3-46D5-9834-26F8BFD7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1BD-FDAE-4083-ADED-56DBEF64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99C2-DAE7-4021-9D98-97434D2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38A5-6DC3-42D7-9915-6335411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19AA-9840-40E8-9A85-E374BB2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6EB9-8418-4AA2-8076-8E1B232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23B-D5AA-4BF7-AFDE-BA3069E8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A50-841A-41B5-9CC3-E006854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7A8D-2D71-4DA6-88D0-FD01C293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ABBE-FA86-49CD-9D26-6D8ED49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C92D-18EA-4277-ACF1-6172E43C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FBB-EC06-4D0B-9BAF-07752ECC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FDF9-2C5F-4017-98B0-63ACEFA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3D6E-4AF9-45C2-87FE-774D176A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2311-D910-479B-86DE-AF39FE6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1CF9-703A-4EAD-B807-296D2AA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FF6E-7624-4906-9CCA-1307C39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FFEB-FBB6-4BC6-B4CD-73DEA736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8CB-D649-475E-8B68-0B7E7CA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C19F-5A94-4B3A-BAF6-D737C12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3F2F-1259-441A-A572-4545572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D42C-7B9F-42E1-B78B-98AEBBA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C13E-B8CB-436B-8038-7D4F597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DC66-8976-42E2-AA70-62E6916F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C877-1C7C-4E47-8805-0603B8A2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59B4-492A-4386-AFFE-66ABE753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19F2-9F2D-43C2-AC1A-E18FF402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1580-EB05-4B1C-ABAA-DFB8D98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6AB3-28FD-4332-ACA2-A8C4D48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7D3-91F8-4F48-908C-BD5EB7E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FA45-0C07-4593-A6EE-181E9F83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6786-18F6-4F92-BD97-ED3E667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81F3-0B55-40B2-817C-2302199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181B-CDD0-43E1-8607-AC7440B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1025-A825-407A-BB31-8DCE7A4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E56C-5ABF-4F74-A94C-B496E391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FE7F-02E4-48F7-A657-CEDAFE3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EDFE-B946-41C8-B513-04B3C3E3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E393-A1E1-4DD4-B743-B9962D1D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A094-F15C-4FA7-A85F-80D3B668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075-BD4E-45AC-8DAF-CD567E6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E27D-CF20-4425-A363-F79F5F70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6AD2-65F4-4893-BA52-9CD001A5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0FE9-0645-4D18-BD9F-B3AC1BB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40E2-864F-4413-8FCE-F21041B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6858-9DA5-4538-8AA5-6B090EF7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FCD7-0DD3-4986-9026-8A6B94A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5C59-B928-4B3B-AE71-5E79F75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D1D6-2012-4A52-A285-069F953A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36C2-AB68-4788-97A4-306549B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2353-D41D-42D9-BCBF-0B3FC829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1A0-B7D8-4F9D-8B08-F36B8AC0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2E0E-6D2D-4A96-ADFF-E8EC252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9384-E276-49D4-8095-22609DCA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A7CA-7AB0-443D-8D46-8BF5BFC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E79C-99BA-4BEF-BFB6-8F7C08F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AFC9-AA06-4ADD-B0DE-140F506A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CEBC-4CD3-46D2-B5CA-1A38563F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2B07-EF7E-41A9-90F9-AA19A89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47B8-4A82-49F2-807B-AB29063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9846-6DBD-477B-ABD3-10F6361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17BC5-0FEB-4029-A8AB-0CA1A14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49D-FD0C-4430-863C-A1136A1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4ED34-339B-4249-ABE2-07D3CDA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455C-8B0F-4671-B15B-71E5ED69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4D35-40C4-41F6-AA84-C1D09F18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B5A3-E3BD-4864-89B4-A0832DF6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12D2-4855-4159-B871-618CCE31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2E16-4CAB-4F1F-8758-A97C775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61AF-C2A5-48A2-8E2B-6BEE799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3BD5-A87D-4068-9375-03A8A4D7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30A8-43B5-4138-8B7C-D8045AC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D8590-AF06-4331-83CB-43E442F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0A0-1038-417F-9BFC-A089EAF2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CECC-A96F-462E-B75F-919CB6C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699A8-D43C-4528-83C7-9011A5D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6DD1-C08A-4E37-8A05-49B3287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F4434-D146-498A-B586-FA7C4244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08B1-5457-452F-BEA1-24258E70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B66-EF73-45E6-9A3F-5B763F3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161-C27F-4879-BAA8-D6EE39CDD7A8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D2C-FB71-4949-B123-FFC24DED242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9DCD-B546-4201-B00F-A499B3FC7F35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6E52-1D04-4CB6-BC4E-C6388949E87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C22-F851-4DD7-A19F-62F7E186CDF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975-EEDC-40F6-BA9D-DF5496ABE6D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1BC-6CB8-4F90-9A78-63807FFA7C4F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66CB-760D-45E7-8977-86A65F4506A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460-4E3F-428E-8730-F6437386BFB4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73A-07C6-4CDB-AFCC-206E34CDAD6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D8E-5CBC-4ABF-96C0-0BB1E7166F39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9C1D-F9F5-440E-A4D7-A9C5026B412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C1A4-4456-4810-BFDB-8744EFDB882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30B6-AF4A-41DD-9DA5-FA4552CDFF2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40;&#1094;&#1080;&#1082;&#1083;&#1080;&#1095;&#1077;&#1089;&#1082;&#1080;&#1077;_&#1089;&#1086;&#1077;&#1076;&#1080;&#1085;&#1077;&#1085;&#1080;&#1103;" TargetMode="External"/><Relationship Id="rId4" Type="http://schemas.openxmlformats.org/officeDocument/2006/relationships/hyperlink" Target="http://ru.wikipedia.org/wiki/&#1055;&#1088;&#1077;&#1076;&#1077;&#1083;&#1100;&#1085;&#1099;&#1077;_&#1091;&#1075;&#1083;&#1077;&#1074;&#1086;&#1076;&#1086;&#1088;&#1086;&#1076;&#1099;" TargetMode="External"/><Relationship Id="rId5" Type="http://schemas.openxmlformats.org/officeDocument/2006/relationships/hyperlink" Target="http://ru.wikipedia.org/wiki/&#1053;&#1077;&#1087;&#1088;&#1077;&#1076;&#1077;&#1083;&#1100;&#1085;&#1099;&#1077;_&#1091;&#1075;&#1083;&#1077;&#1074;&#1086;&#1076;&#1086;&#1088;&#1086;&#1076;&#1099;" TargetMode="External"/><Relationship Id="rId6" Type="http://schemas.openxmlformats.org/officeDocument/2006/relationships/hyperlink" Target="http://ru.wikipedia.org/wiki/&#1040;&#1083;&#1082;&#1077;&#1085;&#1099;" TargetMode="External"/><Relationship Id="rId7" Type="http://schemas.openxmlformats.org/officeDocument/2006/relationships/hyperlink" Target="http://ru.wikipedia.org/wiki/&#1040;&#1083;&#1082;&#1080;&#1085;&#1099;" TargetMode="External"/><Relationship Id="rId8" Type="http://schemas.openxmlformats.org/officeDocument/2006/relationships/hyperlink" Target="http://ru.wikipedia.org/wiki/&#1040;&#1083;&#1082;&#1072;&#1076;&#1080;&#1077;&#1085;&#1099;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/index.php?title=&#1062;&#1080;&#1082;&#1083;&#1080;&#1095;&#1077;&#1089;&#1082;&#1080;&#1077;_&#1091;&#1075;&#1083;&#1077;&#1074;&#1086;&#1076;&#1086;&#1088;&#1086;&#1076;&#1099;&amp;action=edit&amp;redlink=1" TargetMode="External"/><Relationship Id="rId3" Type="http://schemas.openxmlformats.org/officeDocument/2006/relationships/hyperlink" Target="http://ru.wikipedia.org/w/index.php?title=&#1062;&#1080;&#1082;&#1083;&#1080;&#1095;&#1077;&#1089;&#1082;&#1080;&#1077;_&#1091;&#1075;&#1083;&#1077;&#1074;&#1086;&#1076;&#1086;&#1088;&#1086;&#1076;&#1099;&amp;action=edit&amp;redlink=1" TargetMode="External"/><Relationship Id="rId4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5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6" Type="http://schemas.openxmlformats.org/officeDocument/2006/relationships/hyperlink" Target="http://ru.wikipedia.org/wiki/&#1040;&#1083;&#1080;&#1094;&#1080;&#1082;&#1083;&#1080;&#1095;&#1077;&#1089;&#1082;&#1080;&#1077;_&#1089;&#1086;&#1077;&#1076;&#1080;&#1085;&#1077;&#1085;&#1080;&#1103;" TargetMode="External"/><Relationship Id="rId7" Type="http://schemas.openxmlformats.org/officeDocument/2006/relationships/hyperlink" Target="http://ru.wikipedia.org/wiki/&#1040;&#1088;&#1077;&#1085;&#1099;" TargetMode="External"/><Relationship Id="rId8" Type="http://schemas.openxmlformats.org/officeDocument/2006/relationships/hyperlink" Target="http://ru.wikipedia.org/wiki/&#1043;&#1077;&#1090;&#1077;&#1088;&#1086;&#1094;&#1080;&#1082;&#1083;&#1080;&#1095;&#1077;&#1089;&#1082;&#1080;&#1077;_&#1089;&#1086;&#1077;&#1076;&#1080;&#1085;&#1077;&#1085;&#1080;&#1103;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7;&#1080;&#1088;&#1090;&#1099;" TargetMode="External"/><Relationship Id="rId3" Type="http://schemas.openxmlformats.org/officeDocument/2006/relationships/hyperlink" Target="http://ru.wikipedia.org/wiki/&#1060;&#1077;&#1085;&#1086;&#1083;&#1099;" TargetMode="External"/><Relationship Id="rId4" Type="http://schemas.openxmlformats.org/officeDocument/2006/relationships/hyperlink" Target="http://ru.wikipedia.org/wiki/&#1040;&#1083;&#1100;&#1076;&#1077;&#1075;&#1080;&#1076;&#1099;" TargetMode="External"/><Relationship Id="rId5" Type="http://schemas.openxmlformats.org/officeDocument/2006/relationships/hyperlink" Target="http://ru.wikipedia.org/wiki/&#1050;&#1077;&#1090;&#1086;&#1085;&#1099;" TargetMode="External"/><Relationship Id="rId6" Type="http://schemas.openxmlformats.org/officeDocument/2006/relationships/hyperlink" Target="http://ru.wikipedia.org/wiki/&#1050;&#1072;&#1088;&#1073;&#1086;&#1085;&#1086;&#1074;&#1099;&#1077;_&#1082;&#1080;&#1089;&#1083;&#1086;&#1090;&#1099;" TargetMode="External"/><Relationship Id="rId7" Type="http://schemas.openxmlformats.org/officeDocument/2006/relationships/hyperlink" Target="http://ru.wikipedia.org/wiki/&#1057;&#1083;&#1086;&#1078;&#1085;&#1099;&#1077;_&#1101;&#1092;&#1080;&#1088;&#1099;" TargetMode="External"/><Relationship Id="rId8" Type="http://schemas.openxmlformats.org/officeDocument/2006/relationships/hyperlink" Target="http://ru.wikipedia.org/wiki/&#1046;&#1080;&#1088;&#1099;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99;" TargetMode="External"/><Relationship Id="rId3" Type="http://schemas.openxmlformats.org/officeDocument/2006/relationships/hyperlink" Target="http://ru.wikipedia.org/wiki/&#1052;&#1086;&#1085;&#1086;&#1089;&#1072;&#1093;&#1072;&#1088;&#1080;&#1076;&#1099;" TargetMode="External"/><Relationship Id="rId4" Type="http://schemas.openxmlformats.org/officeDocument/2006/relationships/hyperlink" Target="http://ru.wikipedia.org/wiki/&#1054;&#1083;&#1080;&#1075;&#1086;&#1089;&#1072;&#1093;&#1072;&#1088;&#1080;&#1076;&#1099;" TargetMode="External"/><Relationship Id="rId5" Type="http://schemas.openxmlformats.org/officeDocument/2006/relationships/hyperlink" Target="http://ru.wikipedia.org/wiki/&#1055;&#1086;&#1083;&#1080;&#1089;&#1072;&#1093;&#1072;&#1088;&#1080;&#1076;&#1099;" TargetMode="External"/><Relationship Id="rId6" Type="http://schemas.openxmlformats.org/officeDocument/2006/relationships/hyperlink" Target="http://ru.wikipedia.org/wiki/&#1052;&#1091;&#1082;&#1086;&#1087;&#1086;&#1083;&#1080;&#1089;&#1072;&#1093;&#1072;&#1088;&#1080;&#1076;&#1099;" TargetMode="External"/><Relationship Id="rId7" Type="http://schemas.openxmlformats.org/officeDocument/2006/relationships/hyperlink" Target="http://ru.wikipedia.org/wiki/&#1040;&#1084;&#1080;&#1085;&#1099;" TargetMode="External"/><Relationship Id="rId8" Type="http://schemas.openxmlformats.org/officeDocument/2006/relationships/hyperlink" Target="http://ru.wikipedia.org/wiki/&#1040;&#1084;&#1080;&#1085;&#1086;&#1082;&#1080;&#1089;&#1083;&#1086;&#1090;&#1099;" TargetMode="External"/><Relationship Id="rId9" Type="http://schemas.openxmlformats.org/officeDocument/2006/relationships/hyperlink" Target="http://ru.wikipedia.org/wiki/&#1041;&#1077;&#1083;&#1082;&#1080;" TargetMode="External"/><Relationship Id="rId10" Type="http://schemas.openxmlformats.org/officeDocument/2006/relationships/hyperlink" Target="http://ru.wikipedia.org/wiki/&#1053;&#1091;&#1082;&#1083;&#1077;&#1080;&#1085;&#1086;&#1074;&#1099;&#1077;_&#1082;&#1080;&#1089;&#1083;&#1086;&#1090;&#1099;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40;&#1083;&#1082;&#1072;&#1085;&#1099;" TargetMode="External"/><Relationship Id="rId4" Type="http://schemas.openxmlformats.org/officeDocument/2006/relationships/hyperlink" Target="http://ru.wikipedia.org/wiki/&#1040;&#1083;&#1082;&#1077;&#1085;&#1099;" TargetMode="External"/><Relationship Id="rId5" Type="http://schemas.openxmlformats.org/officeDocument/2006/relationships/hyperlink" Target="http://ru.wikipedia.org/wiki/&#1044;&#1080;&#1077;&#1085;&#1099;" TargetMode="External"/><Relationship Id="rId6" Type="http://schemas.openxmlformats.org/officeDocument/2006/relationships/hyperlink" Target="http://ru.wikipedia.org/wiki/&#1040;&#1083;&#1082;&#1072;&#1076;&#1080;&#1077;&#1085;&#1099;" TargetMode="External"/><Relationship Id="rId7" Type="http://schemas.openxmlformats.org/officeDocument/2006/relationships/hyperlink" Target="http://ru.wikipedia.org/wiki/&#1040;&#1083;&#1082;&#1080;&#1085;&#1099;" TargetMode="External"/><Relationship Id="rId8" Type="http://schemas.openxmlformats.org/officeDocument/2006/relationships/hyperlink" Target="http://ru.wikipedia.org/wiki/&#1043;&#1072;&#1083;&#1086;&#1075;&#1077;&#1085;&#1091;&#1075;&#1083;&#1077;&#1074;&#1086;&#1076;&#1086;&#1088;&#1086;&#1076;&#1099;" TargetMode="External"/><Relationship Id="rId9" Type="http://schemas.openxmlformats.org/officeDocument/2006/relationships/hyperlink" Target="http://ru.wikipedia.org/wiki/&#1057;&#1087;&#1080;&#1088;&#1090;&#1099;" TargetMode="External"/><Relationship Id="rId10" Type="http://schemas.openxmlformats.org/officeDocument/2006/relationships/hyperlink" Target="http://ru.wikipedia.org/wiki/&#1052;&#1077;&#1088;&#1082;&#1072;&#1087;&#1090;&#1072;&#1085;&#1099;" TargetMode="External"/><Relationship Id="rId11" Type="http://schemas.openxmlformats.org/officeDocument/2006/relationships/hyperlink" Target="http://ru.wikipedia.org/wiki/&#1055;&#1088;&#1086;&#1089;&#1090;&#1099;&#1077;_&#1101;&#1092;&#1080;&#1088;&#1099;" TargetMode="External"/><Relationship Id="rId12" Type="http://schemas.openxmlformats.org/officeDocument/2006/relationships/hyperlink" Target="http://ru.wikipedia.org/wiki/&#1040;&#1083;&#1100;&#1076;&#1077;&#1075;&#1080;&#1076;&#1099;" TargetMode="External"/><Relationship Id="rId13" Type="http://schemas.openxmlformats.org/officeDocument/2006/relationships/hyperlink" Target="http://ru.wikipedia.org/wiki/&#1050;&#1077;&#1090;&#1086;&#1085;&#1099;" TargetMode="External"/><Relationship Id="rId14" Type="http://schemas.openxmlformats.org/officeDocument/2006/relationships/hyperlink" Target="http://ru.wikipedia.org/wiki/&#1050;&#1072;&#1088;&#1073;&#1086;&#1085;&#1086;&#1074;&#1099;&#1077;_&#1082;&#1080;&#1089;&#1083;&#1086;&#1090;&#1099;" TargetMode="External"/><Relationship Id="rId15" Type="http://schemas.openxmlformats.org/officeDocument/2006/relationships/hyperlink" Target="http://ru.wikipedia.org/wiki/&#1057;&#1083;&#1086;&#1078;&#1085;&#1099;&#1077;_&#1101;&#1092;&#1080;&#1088;&#1099;" TargetMode="External"/><Relationship Id="rId16" Type="http://schemas.openxmlformats.org/officeDocument/2006/relationships/hyperlink" Target="http://ru.wikipedia.org/wiki/&#1059;&#1075;&#1083;&#1077;&#1074;&#1086;&#1076;&#1099;" TargetMode="External"/><Relationship Id="rId17" Type="http://schemas.openxmlformats.org/officeDocument/2006/relationships/hyperlink" Target="http://ru.wikipedia.org/wiki/&#1053;&#1072;&#1092;&#1090;&#1077;&#1085;&#1099;" TargetMode="External"/><Relationship Id="rId18" Type="http://schemas.openxmlformats.org/officeDocument/2006/relationships/hyperlink" Target="http://ru.wikipedia.org/wiki/&#1040;&#1084;&#1080;&#1076;&#1099;" TargetMode="External"/><Relationship Id="rId19" Type="http://schemas.openxmlformats.org/officeDocument/2006/relationships/hyperlink" Target="http://ru.wikipedia.org/wiki/&#1040;&#1084;&#1080;&#1085;&#1099;" TargetMode="External"/><Relationship Id="rId20" Type="http://schemas.openxmlformats.org/officeDocument/2006/relationships/hyperlink" Target="http://ru.wikipedia.org/wiki/&#1051;&#1080;&#1087;&#1080;&#1076;&#1099;" TargetMode="External"/><Relationship Id="rId21" Type="http://schemas.openxmlformats.org/officeDocument/2006/relationships/hyperlink" Target="http://ru.wikipedia.org/wiki/&#1053;&#1080;&#1090;&#1088;&#1080;&#1083;&#1099;" TargetMode="External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7;&#1085;&#1079;&#1086;&#1083;" TargetMode="External"/><Relationship Id="rId3" Type="http://schemas.openxmlformats.org/officeDocument/2006/relationships/hyperlink" Target="http://ru.wikipedia.org/wiki/&#1058;&#1086;&#1083;&#1091;&#1086;&#1083;" TargetMode="External"/><Relationship Id="rId4" Type="http://schemas.openxmlformats.org/officeDocument/2006/relationships/hyperlink" Target="http://ru.wikipedia.org/wiki/&#1050;&#1089;&#1080;&#1083;&#1086;&#1083;" TargetMode="External"/><Relationship Id="rId5" Type="http://schemas.openxmlformats.org/officeDocument/2006/relationships/hyperlink" Target="http://ru.wikipedia.org/wiki/&#1040;&#1085;&#1080;&#1083;&#1080;&#1085;" TargetMode="External"/><Relationship Id="rId6" Type="http://schemas.openxmlformats.org/officeDocument/2006/relationships/hyperlink" Target="http://ru.wikipedia.org/wiki/&#1060;&#1077;&#1085;&#1086;&#1083;" TargetMode="External"/><Relationship Id="rId7" Type="http://schemas.openxmlformats.org/officeDocument/2006/relationships/hyperlink" Target="http://ru.wikipedia.org/wiki/&#1040;&#1094;&#1077;&#1090;&#1086;&#1092;&#1077;&#1085;&#1086;&#1085;" TargetMode="External"/><Relationship Id="rId8" Type="http://schemas.openxmlformats.org/officeDocument/2006/relationships/hyperlink" Target="http://ru.wikipedia.org/w/index.php?title=&#1041;&#1077;&#1085;&#1079;&#1086;&#1085;&#1080;&#1090;&#1088;&#1080;&#1083;&amp;action=edit&amp;redlink=1" TargetMode="External"/><Relationship Id="rId9" Type="http://schemas.openxmlformats.org/officeDocument/2006/relationships/hyperlink" Target="http://ru.wikipedia.org/w/index.php?title=&#1043;&#1072;&#1083;&#1086;&#1075;&#1077;&#1085;&#1072;&#1088;&#1077;&#1085;&#1099;&amp;action=edit&amp;redlink=1" TargetMode="External"/><Relationship Id="rId10" Type="http://schemas.openxmlformats.org/officeDocument/2006/relationships/hyperlink" Target="http://ru.wikipedia.org/wiki/&#1053;&#1072;&#1092;&#1090;&#1072;&#1083;&#1080;&#1085;" TargetMode="External"/><Relationship Id="rId11" Type="http://schemas.openxmlformats.org/officeDocument/2006/relationships/hyperlink" Target="http://ru.wikipedia.org/wiki/&#1040;&#1085;&#1090;&#1088;&#1072;&#1094;&#1077;&#1085;" TargetMode="External"/><Relationship Id="rId12" Type="http://schemas.openxmlformats.org/officeDocument/2006/relationships/hyperlink" Target="http://ru.wikipedia.org/wiki/&#1060;&#1077;&#1085;&#1072;&#1085;&#1090;&#1088;&#1077;&#1085;" TargetMode="External"/><Relationship Id="rId13" Type="http://schemas.openxmlformats.org/officeDocument/2006/relationships/hyperlink" Target="http://ru.wikipedia.org/wiki/&#1041;&#1077;&#1085;&#1079;&#1087;&#1080;&#1088;&#1077;&#1085;" TargetMode="External"/><Relationship Id="rId14" Type="http://schemas.openxmlformats.org/officeDocument/2006/relationships/hyperlink" Target="http://ru.wikipedia.org/wiki/&#1050;&#1086;&#1088;&#1086;&#1085;&#1077;&#1085;" TargetMode="External"/><Relationship Id="rId15" Type="http://schemas.openxmlformats.org/officeDocument/2006/relationships/hyperlink" Target="http://ru.wikipedia.org/wiki/&#1040;&#1079;&#1091;&#1083;&#1077;&#1085;" TargetMode="External"/><Relationship Id="rId16" Type="http://schemas.openxmlformats.org/officeDocument/2006/relationships/hyperlink" Target="http://ru.wikipedia.org/wiki/&#1041;&#1080;&#1092;&#1077;&#1085;&#1080;&#1083;" TargetMode="External"/><Relationship Id="rId17" Type="http://schemas.openxmlformats.org/officeDocument/2006/relationships/hyperlink" Target="http://ru.wikipedia.org/wiki/&#1048;&#1086;&#1085;&#1086;&#1083;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3;&#1077;&#1090;&#1077;&#1088;&#1086;&#1072;&#1090;&#1086;&#1084;" TargetMode="External"/><Relationship Id="rId3" Type="http://schemas.openxmlformats.org/officeDocument/2006/relationships/hyperlink" Target="http://ru.wikipedia.org/wiki/&#1055;&#1080;&#1088;&#1088;&#1086;&#1083;" TargetMode="External"/><Relationship Id="rId4" Type="http://schemas.openxmlformats.org/officeDocument/2006/relationships/hyperlink" Target="http://ru.wikipedia.org/wiki/&#1058;&#1080;&#1086;&#1092;&#1077;&#1085;" TargetMode="External"/><Relationship Id="rId5" Type="http://schemas.openxmlformats.org/officeDocument/2006/relationships/hyperlink" Target="http://ru.wikipedia.org/wiki/&#1060;&#1091;&#1088;&#1072;&#1085;" TargetMode="External"/><Relationship Id="rId6" Type="http://schemas.openxmlformats.org/officeDocument/2006/relationships/hyperlink" Target="http://ru.wikipedia.org/wiki/&#1055;&#1080;&#1088;&#1080;&#1076;&#1080;&#1085;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2;&#1099;&#1089;&#1086;&#1082;&#1086;&#1084;&#1086;&#1083;&#1077;&#1082;&#1091;&#1083;&#1103;&#1088;&#1085;&#1099;&#1077;_&#1089;&#1086;&#1077;&#1076;&#1080;&#1085;&#1077;&#1085;&#1080;&#1103;" TargetMode="External"/><Relationship Id="rId3" Type="http://schemas.openxmlformats.org/officeDocument/2006/relationships/hyperlink" Target="http://ru.wikipedia.org/wiki/&#1043;&#1086;&#1084;&#1086;&#1087;&#1086;&#1083;&#1080;&#1084;&#1077;&#1088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83;&#1080;&#1101;&#1090;&#1080;&#1083;&#1077;&#1085;" TargetMode="External"/><Relationship Id="rId3" Type="http://schemas.openxmlformats.org/officeDocument/2006/relationships/hyperlink" Target="http://ru.wikipedia.org/wiki/&#1055;&#1086;&#1083;&#1080;&#1087;&#1088;&#1086;&#1087;&#1080;&#1083;&#1077;&#1085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72314"/>
                </a:solidFill>
                <a:latin typeface="Arial"/>
              </a:rPr>
              <a:t>Виды </a:t>
            </a: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органических </a:t>
            </a:r>
            <a:r>
              <a:rPr b="1" i="1" lang="ru-RU" sz="5400" spc="-1" strike="noStrike">
                <a:solidFill>
                  <a:srgbClr val="572314"/>
                </a:solidFill>
                <a:latin typeface="Arial"/>
              </a:rPr>
              <a:t>соединений</a:t>
            </a: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5640" y="5357880"/>
            <a:ext cx="409428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C39-B6D8-4C58-9388-6BA7F31E0B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9280" y="-360"/>
            <a:ext cx="8394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рганическая номенклатура — это система классификации и наименований органических веществ. В настоящее время распространена номенклатура ИЮПА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Классификация органических соединений построена на важном принципе, согласно которому физические и химические свойства органического соединения в первом приближении определяются двумя основными критериями — строением углеродного скелета соединения и его функциональными групп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89C-BF71-4F6D-8F8C-507EF1631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зависимости от природы углеродного скелета органические соединения можно разделить на ациклические и циклические. Среди ациклических соединений различают предельные инепредельные. Циклические соединения разделяются на карбоциклические (алициклические и ароматические)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гетероциклическ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B3D-E42D-4D5B-AAED-42A594913B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ческие соединения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ор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Ацикл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Предельные углеводороды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 (алкан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Непредельные углеводоро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ке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лки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Алкадиены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 (диеновые углеводороды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190-3508-4421-9B0E-217EDD741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Циклические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углеводороды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Карбоциклические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ицикл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ромат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Гетероцикл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967-91A4-4BC6-B7C6-72CC6C4375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ругие классы органических соединени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Спирт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Фено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Альдегиды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Кето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Карбоновые 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Сложные эфи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CC7-6D1F-4B28-BD1C-774C4E7ABD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Моно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Олиго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Поли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Мукополи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м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Амино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Нуклеиновые 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30C-C8B7-4474-96D9-3AC31F7AF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4000" y="476280"/>
            <a:ext cx="82501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лифат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лифатические соединения — органические вещества, не содержащие в структуре ароматических сист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ор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Алка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Алк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Ди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ли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кади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лки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Галогенуглеводор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Спир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Меркапта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Простые эфир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/>
              </a:rPr>
              <a:t>Альдег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Кето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4"/>
              </a:rPr>
              <a:t>Карбоновые кисло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5"/>
              </a:rPr>
              <a:t>Сложные эфир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6"/>
              </a:rPr>
              <a:t>Углев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ли сахара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7"/>
              </a:rPr>
              <a:t>Нафт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8"/>
              </a:rPr>
              <a:t>Ам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9"/>
              </a:rPr>
              <a:t>Ами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0"/>
              </a:rPr>
              <a:t>Лип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1"/>
              </a:rPr>
              <a:t>Нитри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F8B-C141-4C77-B58E-4CB7FD16B3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ромат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оматические соединения, или арены, — органические вещества, в структуру которых входит одна (или более) ароматическая циклическ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Бенз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Толу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Ксил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Анили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Фен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цетофено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Бензонитри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Галогенар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Нафтали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Антрац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/>
              </a:rPr>
              <a:t>Фенантр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Бензпир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4"/>
              </a:rPr>
              <a:t>Корон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5"/>
              </a:rPr>
              <a:t>Азул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6"/>
              </a:rPr>
              <a:t>Бифени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7"/>
              </a:rPr>
              <a:t>Ион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62E-ECDE-4AB9-8A04-B033225A04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етероцикл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тероциклические соединения — вещества, в молекулярной структуре которых присутствует хотя бы один цикл с одним (или несколькими)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гетероатом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Пирр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Тиоф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Фура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Пириди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F61-54F3-4C79-98FD-5710D9E18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-360"/>
            <a:ext cx="875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ме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имеры представляют собой особый вид веществ, также известный как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высокомолекулярные 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 их структуру обычно входят многочисленные сегменты (соединения) меньшего размера. Эти сегменты могут быть идентичны, и тогда речь идёт о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гомополиме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067-0C37-4D94-958E-D06928964E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Органические вещества классифицируют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 типу углеродной це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 функциональной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2223"/>
                </a:solidFill>
                <a:latin typeface="Corbel"/>
              </a:rPr>
              <a:t>Функциональной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называется группа атомов, определяющая наиболее характерные свойства  вещества и его принадлежность к определенному классу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343-B434-4C3B-9DC3-06303EF19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лимеры относятся к макромолекулам — классу веществ, состоящих из молекул очень большого размера. Полимеры могут быть органическими (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полиэтиле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полипропиле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плексиглас и т. д.) или неорганическими (силикон); синтетическими (поливинилхлорид) или природными (целлюлоза, крахмал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665-0492-4D22-9102-E8CDE02090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Классификация по типу углеродной цеп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Классиф. орг..jpg"/>
          <p:cNvPicPr/>
          <p:nvPr/>
        </p:nvPicPr>
        <p:blipFill>
          <a:blip r:embed="rId2"/>
          <a:stretch/>
        </p:blipFill>
        <p:spPr>
          <a:xfrm>
            <a:off x="1071720" y="1285920"/>
            <a:ext cx="792936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F8F-C76F-43C9-B223-A142F6C001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Классификация по функциональной групп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6" descr="pic5_2_1.gif"/>
          <p:cNvPicPr/>
          <p:nvPr/>
        </p:nvPicPr>
        <p:blipFill>
          <a:blip r:embed="rId2"/>
          <a:srcRect l="0" t="6171" r="0" b="8712"/>
          <a:stretch/>
        </p:blipFill>
        <p:spPr>
          <a:xfrm>
            <a:off x="1285920" y="1285920"/>
            <a:ext cx="7572240" cy="54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6FE-C097-4CE3-B1CC-C0EA897B43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рганические 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рганические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 класс химических соединений, в состав которых входит углерод (за исключением карбидов, угольной кислоты, карбонатов,оксидов углерода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цианид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648-7F64-45EF-895C-C9E3352983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181440" y="-360"/>
            <a:ext cx="91155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ые классы органических соединений биологического происхождения — белки, липиды, углеводы, нуклеиновые кислоты — содержат, помимо углерода, преимущественноводород, азот, кислород, серу и фосфор. Именно поэтому «классические» органические соединения содержат прежде всего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одоро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слоро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зо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р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 несмотря на то, чтоэлементами, составляющими органические соединения, помимо углерода могут быть практически любые элемен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56B-DAA6-4166-8E40-E3AF13C93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оединения углерода с другими элементами составляют особый класс органических соединений — элементоорганические соединения. Металлоорганические соединения содержат связь металл-углерод и составляют обширный подкласс элементоорганических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DBC-AFC5-4690-9D67-9BB4F0417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Характерные свойств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9280" y="692280"/>
            <a:ext cx="875520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уществует несколько важных свойств, которые выделяют органические соединения в отдельный класс химических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Различная топология образования связей между атомами, образующими органические соединения (прежде всего, атомами углерода), приводит к появлению изомеров — соединений, имеющих один и тот же состав и молекулярную массу, но обладающих различными физико-химическими свойствами. Данное явление носит название изомер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7F6-FE5A-4183-9DEA-DB196C70F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11280" y="260280"/>
            <a:ext cx="83232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Явление гомологии — существование рядов органических соединений, в которых формула любых двух соседей ряда отличается на одну и ту же группу — гомологическую разницу 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Целый ряд физико-химических свойств в первом приближении изменяется симбатно по ходу гомологического ряда. Это важное свойство используется в материаловедении при поиске веществ с заранее заданными свойств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6B1-0656-4FEB-AE37-9C9949C21D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3:15:10Z</dcterms:created>
  <dc:creator>Admin</dc:creator>
  <dc:description/>
  <dc:language>en-US</dc:language>
  <cp:lastModifiedBy>Student</cp:lastModifiedBy>
  <dcterms:modified xsi:type="dcterms:W3CDTF">2013-05-03T10:03:44Z</dcterms:modified>
  <cp:revision>25</cp:revision>
  <dc:subject/>
  <dc:title>Классификация органических веществ.</dc:title>
</cp:coreProperties>
</file>