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.png" ContentType="image/png"/>
  <Override PartName="/ppt/media/image31.png" ContentType="image/png"/>
  <Override PartName="/ppt/media/image12.png" ContentType="image/png"/>
  <Override PartName="/ppt/media/image5.gif" ContentType="image/gif"/>
  <Override PartName="/ppt/media/image14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41.gif" ContentType="image/gif"/>
  <Override PartName="/ppt/media/image42.png" ContentType="image/png"/>
  <Override PartName="/ppt/media/image2.jpeg" ContentType="image/jpeg"/>
  <Override PartName="/ppt/media/image4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9.png" ContentType="image/png"/>
  <Override PartName="/ppt/media/image9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FDBA-4900-4AC5-882A-128CCB28AE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2871-ECCF-4A94-906A-B9C2A21D75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090-6631-4BDC-93FC-45D99E75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B72-C63D-46F3-8831-615CB96B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F39-0372-41FB-89B8-31E5E289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497-4EE1-4D8D-AB5B-EBA1DAA4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431B-F521-4FE2-8532-19645680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3E91-3AFE-46CC-8E9A-32467162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D7E5-3C7D-4736-BDB4-1B8A10C5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3C2B-A4BD-4A22-9556-0E28EEA0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0991-932E-4F90-9AD2-A5A9C838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9844-F0DB-4F3B-B235-2FD4265F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0ED8-F0F0-43DF-8C8A-D539B601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856-83CF-4C1D-A005-A05EBBB3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BC76-EE9B-4452-A822-A669AB0F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50D0-835B-4269-B80D-FC015D6A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5FA5-2C4A-47FA-9E40-AC230D74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4B45-B0C8-4FC8-BB37-D586C16E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272E-2DBD-4F7D-AED3-418C76AA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2D73-30C0-430C-B548-63479F8C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4D9E-5D27-48C1-83B3-D902511C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EACB-89AB-4651-B5F5-A41CD150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364C2-1A4E-4659-89B5-BF4CAA11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C258-9E3A-47E8-882D-9E087570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4EB-794C-411D-A1D8-8BBF2F18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D2D0-3BD9-4AAB-AEB8-29B0F525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9F1E-3F3C-422F-BD0C-464B9E28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3667-5168-40A8-B1FB-2670830B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060AD-74CA-4BF4-BECA-37C49A1C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4AAF-D47D-4DF1-9A69-5BF00759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A4F7-C35A-4C1F-8D68-03F0CA47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37DEF-5D9E-4986-875C-2152F933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B7186-D974-4B23-B312-535B6E9F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D47E-0B45-41AC-9C25-67E27C08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6E787-2F19-4BA6-88B8-DC461A42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F08-7809-480C-BBB8-ED85A364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6ECE4-1EAA-4D9C-9E58-704D10DF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1645-F827-45C4-94E1-1C108837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30098-70BC-4E0F-8704-833A3F15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D3CEF-EF6E-4D74-B551-32FC68FB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388E-B3C4-479D-9848-1129DA0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A263C-C18D-424E-85B7-06D1943D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E0AD-D09E-4970-88B5-183F500E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36FDA-185E-4C94-8DC8-520365D3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CA0F-CBE6-4E15-8677-B35F4516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3C3D9-0DAE-4839-BC94-7A7EB0BD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72E-B5AF-4B36-A0A4-39DEC20C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12A4D-7F39-4708-B75D-79F23D4C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7B18F-FA27-4110-B4AC-2AF2F06E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2CBDC-D452-4505-A9F6-1DE75F62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A32A-B610-4BDA-937F-C64961E0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E966F-DA54-44DD-9C60-8A02694F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BD40-BF28-48FE-A17C-81E5CE50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D90BE-0BAB-4C67-8942-605201B8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7384E-A75A-470C-8967-BD85CC4E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45484-F308-43EB-A297-5C45E0F6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3480B-9204-4AC9-A216-5BAEFA11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A47-119A-4EA1-B784-10692F07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781F5-892C-4307-A6E4-2BCB791B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6BA-BCEE-4BEE-B223-A98646B1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9F4-7227-4A31-9E50-606CF6DC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4CF-4850-4CC6-8DF8-E3524F72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179B-F2B4-4672-8D06-610F9D6BC446}" type="datetime">
              <a:rPr b="0" lang="en-US" sz="1000" spc="-1" strike="noStrike">
                <a:solidFill>
                  <a:srgbClr val="69676d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9676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162D-E2DD-4E14-B3F5-F8426103EC22}" type="slidenum">
              <a:rPr b="0" lang="en-US" sz="11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9223-AA76-46D1-AE1F-8E8FC8F843E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EAA5-0586-46DB-B8A1-6FEDCDFE3B9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C31E-BB2C-46DA-8037-B7941A87941D}" type="datetime">
              <a:rPr b="0" lang="en-US" sz="1000" spc="-1" strike="noStrike">
                <a:solidFill>
                  <a:srgbClr val="69676d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9676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B13F-D791-4F23-AA9D-BB1C110952D8}" type="slidenum">
              <a:rPr b="0" lang="en-US" sz="11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9c2d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8B2E-ADA0-4EAF-B221-4240C103F62A}" type="datetime">
              <a:rPr b="0" lang="en-US" sz="1000" spc="-1" strike="noStrike">
                <a:solidFill>
                  <a:srgbClr val="c9c2d1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9c2d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0EC6-B0CC-4172-81C5-34F1CFA3F334}" type="slidenum">
              <a:rPr b="0" lang="en-US" sz="11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1366-1CCD-44A7-8E6C-DC995399F856}" type="datetime">
              <a:rPr b="0" lang="en-US" sz="1000" spc="-1" strike="noStrike">
                <a:solidFill>
                  <a:srgbClr val="69676d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9676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AA2C-C017-4EAA-B4E0-8B9BF09AC216}" type="slidenum">
              <a:rPr b="0" lang="en-US" sz="11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40.png"/><Relationship Id="rId9" Type="http://schemas.openxmlformats.org/officeDocument/2006/relationships/image" Target="../media/image41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image" Target="../media/image41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4" descr="screen4.gif"/>
          <p:cNvPicPr/>
          <p:nvPr/>
        </p:nvPicPr>
        <p:blipFill>
          <a:blip r:embed="rId2"/>
          <a:stretch/>
        </p:blipFill>
        <p:spPr>
          <a:xfrm>
            <a:off x="214200" y="1714680"/>
            <a:ext cx="2424240" cy="18604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1628640"/>
            <a:ext cx="5114880" cy="301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рбоновые кислоты и их производные. Жир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4567-C8FB-4DD5-B579-94298D6C34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212760" y="60480"/>
            <a:ext cx="7718400" cy="1062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214200" y="856800"/>
            <a:ext cx="77155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Жиры - сложные эфиры глицерина и высших одноатомных карбоновых кисло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щее название таких соединений – </a:t>
            </a:r>
            <a:r>
              <a:rPr b="1" lang="ru-RU" sz="2600" spc="-1" strike="noStrike">
                <a:solidFill>
                  <a:srgbClr val="382971"/>
                </a:solidFill>
                <a:latin typeface="Trebuchet MS"/>
              </a:rPr>
              <a:t>триглицерид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состав природных триглицеридов входят остатки насыщенных кислот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альмитиновой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5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31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, стеариновой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7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35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 и ненасыщенных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леиново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7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33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линолево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7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29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Рисунок 3" descr="o431.gif"/>
          <p:cNvPicPr/>
          <p:nvPr/>
        </p:nvPicPr>
        <p:blipFill>
          <a:blip r:embed="rId2"/>
          <a:stretch/>
        </p:blipFill>
        <p:spPr>
          <a:xfrm>
            <a:off x="357120" y="1714680"/>
            <a:ext cx="750096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DA0-AB9C-4A6B-9A4A-63D2AED149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42920" y="357120"/>
            <a:ext cx="7786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ры содержатся во всех растениях и животных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Животные жиры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бараний, свиной, говяжий и т.п.), как правило, являются твердыми веществами с невысокой температурой плавления (исключение - рыбий жир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     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Жиры состоят главным образом из триглицеридов предельных кислот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Растительные жиры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масла (подсолнечное, соевое, хлопковое и др.) - жидкости (исключение - кокосовое масло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В состав триглицеридов масел входят остатки непредельных кислот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8BC-E87E-4D55-A21C-150652C42E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Рисунок 2" descr="козы.jpg"/>
          <p:cNvPicPr/>
          <p:nvPr/>
        </p:nvPicPr>
        <p:blipFill>
          <a:blip r:embed="rId1"/>
          <a:stretch/>
        </p:blipFill>
        <p:spPr>
          <a:xfrm>
            <a:off x="755640" y="1197000"/>
            <a:ext cx="2808360" cy="2376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розы.jpg"/>
          <p:cNvPicPr/>
          <p:nvPr/>
        </p:nvPicPr>
        <p:blipFill>
          <a:blip r:embed="rId2"/>
          <a:stretch/>
        </p:blipFill>
        <p:spPr>
          <a:xfrm>
            <a:off x="4356000" y="3500280"/>
            <a:ext cx="2952720" cy="23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57A-2C9A-4609-8E34-2B6A6819E7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85480" y="285480"/>
            <a:ext cx="77864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дкие жиры превращают в твердые пут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акции гидрогенизации (гидрирования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дукт гидрогенизации масел - твердый жир (искусственное сало, 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саломас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Маргарин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- пищевой жир, состоит из смеси гидрогенизированных масел (подсолнечного, кукурузного, хлопкого и др.), животных жиров, молока и вкусовых добавок (соли, сахара, витаминов и др.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Рисунок 3" descr="o432.gif"/>
          <p:cNvPicPr/>
          <p:nvPr/>
        </p:nvPicPr>
        <p:blipFill>
          <a:blip r:embed="rId1"/>
          <a:stretch/>
        </p:blipFill>
        <p:spPr>
          <a:xfrm>
            <a:off x="357120" y="1143000"/>
            <a:ext cx="7215120" cy="247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E4D-3094-4162-AE0E-17306FA482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14200" y="285840"/>
            <a:ext cx="7715520" cy="61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и участии щелочей гидролиз жиров происходит необратимо. Продуктами в этом случае являются </a:t>
            </a:r>
            <a:r>
              <a:rPr b="1" lang="en-US" sz="2600" spc="-1" strike="noStrike">
                <a:solidFill>
                  <a:srgbClr val="0070c0"/>
                </a:solidFill>
                <a:latin typeface="Trebuchet MS"/>
              </a:rPr>
              <a:t>мыл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- соли высших карбоновых кислот и щелочных металл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Натриевые соли - твердые мыл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600" spc="-1" strike="noStrike">
                <a:solidFill>
                  <a:srgbClr val="0070c0"/>
                </a:solidFill>
                <a:latin typeface="Trebuchet MS"/>
              </a:rPr>
              <a:t>калиевые - жидкие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Реакция </a:t>
            </a:r>
            <a:r>
              <a:rPr b="0" lang="en-US" sz="2600" spc="-1" strike="noStrike">
                <a:solidFill>
                  <a:srgbClr val="ff0000"/>
                </a:solidFill>
                <a:latin typeface="Trebuchet MS"/>
              </a:rPr>
              <a:t>щелочного гидролиз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жиров, и вообще всех сложных эфиров, называется также </a:t>
            </a:r>
            <a:r>
              <a:rPr b="1" i="1" lang="en-US" sz="2600" spc="-1" strike="noStrike">
                <a:solidFill>
                  <a:srgbClr val="ffc000"/>
                </a:solidFill>
                <a:latin typeface="Trebuchet MS"/>
              </a:rPr>
              <a:t>омылением</a:t>
            </a:r>
            <a:r>
              <a:rPr b="1" lang="en-US" sz="2600" spc="-1" strike="noStrike">
                <a:solidFill>
                  <a:srgbClr val="ffc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Рисунок 3" descr="o433.gif"/>
          <p:cNvPicPr/>
          <p:nvPr/>
        </p:nvPicPr>
        <p:blipFill>
          <a:blip r:embed="rId1"/>
          <a:stretch/>
        </p:blipFill>
        <p:spPr>
          <a:xfrm>
            <a:off x="500040" y="2214720"/>
            <a:ext cx="742968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ребёнок в пене.jpg"/>
          <p:cNvPicPr/>
          <p:nvPr/>
        </p:nvPicPr>
        <p:blipFill>
          <a:blip r:embed="rId2"/>
          <a:stretch/>
        </p:blipFill>
        <p:spPr>
          <a:xfrm>
            <a:off x="7215120" y="4357800"/>
            <a:ext cx="1785960" cy="21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FF0-90D0-4D80-8212-35AA4AE3F5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083960"/>
          </a:xfrm>
          <a:prstGeom prst="rect">
            <a:avLst/>
          </a:prstGeom>
          <a:ln w="0">
            <a:noFill/>
          </a:ln>
        </p:spPr>
      </p:pic>
      <p:pic>
        <p:nvPicPr>
          <p:cNvPr id="268" name="Содержимое 3" descr="существующая пирамида питания.bmp"/>
          <p:cNvPicPr/>
          <p:nvPr/>
        </p:nvPicPr>
        <p:blipFill>
          <a:blip r:embed="rId2"/>
          <a:stretch/>
        </p:blipFill>
        <p:spPr>
          <a:xfrm>
            <a:off x="571680" y="1530360"/>
            <a:ext cx="7143480" cy="43639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4"/>
          <p:cNvSpPr/>
          <p:nvPr/>
        </p:nvSpPr>
        <p:spPr>
          <a:xfrm>
            <a:off x="285840" y="628668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уществующая пирамида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917-6957-4773-995A-2AD6155AF9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083960"/>
          </a:xfrm>
          <a:prstGeom prst="rect">
            <a:avLst/>
          </a:prstGeom>
          <a:ln w="0">
            <a:noFill/>
          </a:ln>
        </p:spPr>
      </p:pic>
      <p:pic>
        <p:nvPicPr>
          <p:cNvPr id="271" name="Содержимое 3" descr="пирамида американских учёных.bmp"/>
          <p:cNvPicPr/>
          <p:nvPr/>
        </p:nvPicPr>
        <p:blipFill>
          <a:blip r:embed="rId2"/>
          <a:stretch/>
        </p:blipFill>
        <p:spPr>
          <a:xfrm>
            <a:off x="428760" y="1357200"/>
            <a:ext cx="7143480" cy="45403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0" y="63579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рамида, предложенная американскими учё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8CA-D89D-47E9-9314-B0B1B1205A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570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3" descr="28.gif"/>
          <p:cNvPicPr/>
          <p:nvPr/>
        </p:nvPicPr>
        <p:blipFill>
          <a:blip r:embed="rId2"/>
          <a:stretch/>
        </p:blipFill>
        <p:spPr>
          <a:xfrm>
            <a:off x="5286240" y="1428840"/>
            <a:ext cx="2357640" cy="25718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4" descr="ПОРТРЕТ ДЕВУШКИ.jpg"/>
          <p:cNvPicPr/>
          <p:nvPr/>
        </p:nvPicPr>
        <p:blipFill>
          <a:blip r:embed="rId3"/>
          <a:stretch/>
        </p:blipFill>
        <p:spPr>
          <a:xfrm>
            <a:off x="214200" y="1428840"/>
            <a:ext cx="2362320" cy="2495520"/>
          </a:xfrm>
          <a:prstGeom prst="rect">
            <a:avLst/>
          </a:prstGeom>
          <a:ln w="0">
            <a:noFill/>
          </a:ln>
        </p:spPr>
      </p:pic>
      <p:pic>
        <p:nvPicPr>
          <p:cNvPr id="276" name="Содержимое 6" descr="080b72ef2d99872954b2e0eb82eb04ee.jpg"/>
          <p:cNvPicPr/>
          <p:nvPr/>
        </p:nvPicPr>
        <p:blipFill>
          <a:blip r:embed="rId4"/>
          <a:stretch/>
        </p:blipFill>
        <p:spPr>
          <a:xfrm>
            <a:off x="2214720" y="1428840"/>
            <a:ext cx="3028680" cy="25002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7" descr="620.gif"/>
          <p:cNvPicPr/>
          <p:nvPr/>
        </p:nvPicPr>
        <p:blipFill>
          <a:blip r:embed="rId5"/>
          <a:stretch/>
        </p:blipFill>
        <p:spPr>
          <a:xfrm>
            <a:off x="142920" y="4071960"/>
            <a:ext cx="272088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8" descr="left.gif"/>
          <p:cNvPicPr/>
          <p:nvPr/>
        </p:nvPicPr>
        <p:blipFill>
          <a:blip r:embed="rId6"/>
          <a:stretch/>
        </p:blipFill>
        <p:spPr>
          <a:xfrm>
            <a:off x="2857680" y="4071960"/>
            <a:ext cx="2286000" cy="259380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9" descr="7.gif"/>
          <p:cNvPicPr/>
          <p:nvPr/>
        </p:nvPicPr>
        <p:blipFill>
          <a:blip r:embed="rId7"/>
          <a:stretch/>
        </p:blipFill>
        <p:spPr>
          <a:xfrm>
            <a:off x="5145120" y="4071960"/>
            <a:ext cx="2570040" cy="257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D4C-2E1C-4BDD-87C9-AFF29D639E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115920" y="324000"/>
            <a:ext cx="7583400" cy="104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213840" y="12139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. Функциональную группу -СООН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содержат молекулы . . 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en-US" sz="2600" spc="-1" strike="noStrike" u="sng">
                <a:solidFill>
                  <a:srgbClr val="410082"/>
                </a:solidFill>
                <a:uFillTx/>
                <a:latin typeface="Trebuchet MS"/>
                <a:hlinkClick r:id="rId2" action="ppaction://hlinksldjump"/>
              </a:rPr>
              <a:t> 1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: сложных эфиров;   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rebuchet MS"/>
                <a:hlinkClick r:id="rId3" action="ppaction://hlinksldjump"/>
              </a:rPr>
              <a:t> 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: простых эфиров </a:t>
            </a:r>
            <a:br>
              <a:rPr sz="2600"/>
            </a:br>
            <a:r>
              <a:rPr b="0" lang="en-US" sz="2600" spc="-1" strike="noStrike" u="sng">
                <a:solidFill>
                  <a:srgbClr val="410082"/>
                </a:solidFill>
                <a:uFillTx/>
                <a:latin typeface="Trebuchet MS"/>
                <a:hlinkClick r:id="rId4" action="ppaction://hlinksldjump"/>
              </a:rPr>
              <a:t> 3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: спиртов;                 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rebuchet MS"/>
                <a:hlinkClick r:id="rId5" action="ppaction://hlinksldjump"/>
              </a:rPr>
              <a:t>4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: альдегидов </a:t>
            </a:r>
            <a:br>
              <a:rPr sz="2600"/>
            </a:br>
            <a:r>
              <a:rPr b="0" lang="en-US" sz="2600" spc="-1" strike="noStrike" u="sng">
                <a:solidFill>
                  <a:srgbClr val="410082"/>
                </a:solidFill>
                <a:uFillTx/>
                <a:latin typeface="Trebuchet MS"/>
                <a:hlinkClick r:id="rId6" action="ppaction://hlinksldjump"/>
              </a:rPr>
              <a:t> 5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: кетонов;                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rebuchet MS"/>
                <a:hlinkClick r:id="rId7" action="ppaction://hlinksldjump"/>
              </a:rPr>
              <a:t> 6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: карбоновых кисло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2. Какая из приведенных структур соответствует молекуле жира?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Picture 2" descr="http://cnit.ssau.ru/organics/chem4/pic/o441.gif"/>
          <p:cNvPicPr/>
          <p:nvPr/>
        </p:nvPicPr>
        <p:blipFill>
          <a:blip r:embed="rId8"/>
          <a:stretch/>
        </p:blipFill>
        <p:spPr>
          <a:xfrm>
            <a:off x="339840" y="4714920"/>
            <a:ext cx="7494480" cy="16430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4" descr="25747205_1211722968_136.gif"/>
          <p:cNvPicPr/>
          <p:nvPr/>
        </p:nvPicPr>
        <p:blipFill>
          <a:blip r:embed="rId9"/>
          <a:stretch/>
        </p:blipFill>
        <p:spPr>
          <a:xfrm>
            <a:off x="7072200" y="214200"/>
            <a:ext cx="1905120" cy="17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B74-15AA-477C-85B4-3D71399295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2840" y="324000"/>
            <a:ext cx="7656480" cy="10411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214200" y="1214280"/>
            <a:ext cx="7786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3. Какое вещество образуется при окислении пропаналя?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 u="sng">
                <a:solidFill>
                  <a:srgbClr val="410082"/>
                </a:solidFill>
                <a:uFillTx/>
                <a:latin typeface="Trebuchet MS"/>
                <a:hlinkClick r:id="rId2" action="ppaction://hlinksldjump"/>
              </a:rPr>
              <a:t> 1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пропанол </a:t>
            </a:r>
            <a:br>
              <a:rPr sz="2600"/>
            </a:br>
            <a:r>
              <a:rPr b="0" lang="ru-RU" sz="2600" spc="-1" strike="noStrike" u="sng">
                <a:solidFill>
                  <a:srgbClr val="410082"/>
                </a:solidFill>
                <a:uFillTx/>
                <a:latin typeface="Trebuchet MS"/>
                <a:hlinkClick r:id="rId3" action="ppaction://hlinksldjump"/>
              </a:rPr>
              <a:t> 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пропиловый эфир уксусной кислоты </a:t>
            </a:r>
            <a:br>
              <a:rPr sz="2600"/>
            </a:br>
            <a:r>
              <a:rPr b="0" lang="ru-RU" sz="2600" spc="-1" strike="noStrike" u="sng">
                <a:solidFill>
                  <a:srgbClr val="410082"/>
                </a:solidFill>
                <a:uFillTx/>
                <a:latin typeface="Trebuchet MS"/>
                <a:hlinkClick r:id="rId4" action="ppaction://hlinksldjump"/>
              </a:rPr>
              <a:t> 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пропионовая кислота </a:t>
            </a:r>
            <a:br>
              <a:rPr sz="2600"/>
            </a:br>
            <a:r>
              <a:rPr b="0" lang="ru-RU" sz="2600" spc="-1" strike="noStrike" u="sng">
                <a:solidFill>
                  <a:srgbClr val="410082"/>
                </a:solidFill>
                <a:uFillTx/>
                <a:latin typeface="Trebuchet MS"/>
                <a:hlinkClick r:id="rId5" action="ppaction://hlinksldjump"/>
              </a:rPr>
              <a:t> 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метилэтиловый эфир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4. Этилацетат можно получить при взаимодействии . . 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 u="sng">
                <a:solidFill>
                  <a:srgbClr val="410082"/>
                </a:solidFill>
                <a:uFillTx/>
                <a:latin typeface="Trebuchet MS"/>
                <a:hlinkClick r:id="rId6" action="ppaction://hlinksldjump"/>
              </a:rPr>
              <a:t> 1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метанол + муравьин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2 : этанол + муравьин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3 : метанол + уксусн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4 : этанол + уксусная кислот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Рисунок 3" descr="25747205_1211722968_136.gif"/>
          <p:cNvPicPr/>
          <p:nvPr/>
        </p:nvPicPr>
        <p:blipFill>
          <a:blip r:embed="rId7"/>
          <a:stretch/>
        </p:blipFill>
        <p:spPr>
          <a:xfrm>
            <a:off x="7072200" y="214200"/>
            <a:ext cx="1905120" cy="17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853-46EE-4107-8C74-393B23E938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8077320" cy="1579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609200"/>
            <a:ext cx="84297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69676d"/>
                </a:solidFill>
                <a:latin typeface="Trebuchet MS"/>
              </a:rPr>
              <a:t>Образование сложных эфиров R'–COOR"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Рисунок 3" descr="o410.gif"/>
          <p:cNvPicPr/>
          <p:nvPr/>
        </p:nvPicPr>
        <p:blipFill>
          <a:blip r:embed="rId2"/>
          <a:stretch/>
        </p:blipFill>
        <p:spPr>
          <a:xfrm>
            <a:off x="285840" y="2500200"/>
            <a:ext cx="7715160" cy="2079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14200" y="5214960"/>
            <a:ext cx="771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я образования сложного эфира из кислоты и спирта называется реакцией этерификации (от лат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t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фи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3F9-27FC-46E4-BBA4-B9C3DDAEB2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42840" y="285840"/>
            <a:ext cx="7656480" cy="10126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6840" y="1142640"/>
            <a:ext cx="747252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5. Для получения 1,5 моль этилового эфира муравьиной кислоты израсходовано 138 г этанол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Какова массовая доля выхода эфира в % от теоретически возможного?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 : 50%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2 : 75%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3 : 85%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4 : 95%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Рисунок 3" descr="25747205_1211722968_136.gif"/>
          <p:cNvPicPr/>
          <p:nvPr/>
        </p:nvPicPr>
        <p:blipFill>
          <a:blip r:embed="rId2"/>
          <a:stretch/>
        </p:blipFill>
        <p:spPr>
          <a:xfrm>
            <a:off x="7072200" y="214200"/>
            <a:ext cx="1905120" cy="17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AC0-3308-466F-BAE3-6743A0D10A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85840" y="0"/>
            <a:ext cx="7413480" cy="1212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214200" y="1214280"/>
            <a:ext cx="7786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76d"/>
                </a:solidFill>
                <a:latin typeface="Trebuchet MS"/>
              </a:rPr>
              <a:t>Сложные эфиры - соединения с общей формулой R–COOR'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где R и R' - углеводородные радикал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ложные  эфиры  могут  быть  получены  при взаимодействии карбоновых кислот со спиртами (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реакция этерификаци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атализаторами являются минеральные кислот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Рисунок 3" descr="o421.gif"/>
          <p:cNvPicPr/>
          <p:nvPr/>
        </p:nvPicPr>
        <p:blipFill>
          <a:blip r:embed="rId2"/>
          <a:stretch/>
        </p:blipFill>
        <p:spPr>
          <a:xfrm>
            <a:off x="285840" y="4071960"/>
            <a:ext cx="7572240" cy="12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EE6-AF96-47CA-83C6-63B989D1A2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0" y="139680"/>
            <a:ext cx="8070840" cy="1073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42920" y="357120"/>
            <a:ext cx="79293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цесс - расщепление сложного эфира при действии воды с образованием карбоновой кислоты и спирта - называют 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гидролизом сложного эфир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Гидролиз в присутствии щелочи протекает необратимо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т.к. образующийся отрицательно заряженный карбоксилат-анион RCOO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rebuchet MS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не вступает в реакцию с нуклеофильным реагентом - спиртом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Рисунок 3" descr="o422.gif"/>
          <p:cNvPicPr/>
          <p:nvPr/>
        </p:nvPicPr>
        <p:blipFill>
          <a:blip r:embed="rId2"/>
          <a:stretch/>
        </p:blipFill>
        <p:spPr>
          <a:xfrm>
            <a:off x="285840" y="4429080"/>
            <a:ext cx="7603920" cy="1143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4"/>
          <p:cNvSpPr/>
          <p:nvPr/>
        </p:nvSpPr>
        <p:spPr>
          <a:xfrm>
            <a:off x="142920" y="614376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реакция называ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мыле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ложного эф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BBC-2EF8-4918-9DC4-E47ECC6AE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613640" cy="14270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3" descr="виды мыла.bmp"/>
          <p:cNvPicPr/>
          <p:nvPr/>
        </p:nvPicPr>
        <p:blipFill>
          <a:blip r:embed="rId2"/>
          <a:stretch/>
        </p:blipFill>
        <p:spPr>
          <a:xfrm>
            <a:off x="928800" y="1500120"/>
            <a:ext cx="4000320" cy="13334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вещества с запахом.jpg"/>
          <p:cNvPicPr/>
          <p:nvPr/>
        </p:nvPicPr>
        <p:blipFill>
          <a:blip r:embed="rId3"/>
          <a:stretch/>
        </p:blipFill>
        <p:spPr>
          <a:xfrm>
            <a:off x="214200" y="3286080"/>
            <a:ext cx="4475160" cy="33638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мыло.bmp"/>
          <p:cNvPicPr/>
          <p:nvPr/>
        </p:nvPicPr>
        <p:blipFill>
          <a:blip r:embed="rId4"/>
          <a:stretch/>
        </p:blipFill>
        <p:spPr>
          <a:xfrm>
            <a:off x="4943520" y="3414600"/>
            <a:ext cx="2986200" cy="22100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мыло.jpg"/>
          <p:cNvPicPr/>
          <p:nvPr/>
        </p:nvPicPr>
        <p:blipFill>
          <a:blip r:embed="rId5"/>
          <a:stretch/>
        </p:blipFill>
        <p:spPr>
          <a:xfrm>
            <a:off x="5857920" y="1119240"/>
            <a:ext cx="1928880" cy="216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522-A1EB-43EB-A775-DDD5FC2B8D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14200" y="428400"/>
            <a:ext cx="771552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фиры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низших карбоновых кислот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низших одноатомных спиртов имеют приятный запах цветов, ягод и фрукто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фиры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высших одноосновных кислот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высших одноатомных спиртов - основа природных вос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имер, пчелиный воск содержит сложный эфир пальмитиновой кислоты и мирицилового спирта (мирицилпальмитат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          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CH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3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(CH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)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14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–CO–OCH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(CH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)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29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CH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3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154-60AE-4582-BE63-0164F52B83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Рисунок 2" descr="душистые растения.jpg"/>
          <p:cNvPicPr/>
          <p:nvPr/>
        </p:nvPicPr>
        <p:blipFill>
          <a:blip r:embed="rId1"/>
          <a:stretch/>
        </p:blipFill>
        <p:spPr>
          <a:xfrm>
            <a:off x="755640" y="90792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3" descr="мыло.jpg"/>
          <p:cNvPicPr/>
          <p:nvPr/>
        </p:nvPicPr>
        <p:blipFill>
          <a:blip r:embed="rId2"/>
          <a:stretch/>
        </p:blipFill>
        <p:spPr>
          <a:xfrm>
            <a:off x="4356000" y="3141720"/>
            <a:ext cx="3024360" cy="250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E55-C896-411D-A6DC-10BA7FD51E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12760" y="692280"/>
            <a:ext cx="944388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14200" y="135720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иды запах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РЬК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герань, лимон, мандарин, пион, сирень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лердоранж (цветок апельсина).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НКИ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ация, гелиотроп, ирис, левкой, магнолия, мимоза, настурция, пион, роз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АДКОВАТ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ация, мандарин, тубероза, ванил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ЕЛЕН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воздика, фиалка (листья), нарцисс, гальбанум (смола), мирра.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ароматические масла"/>
          <p:cNvPicPr/>
          <p:nvPr/>
        </p:nvPicPr>
        <p:blipFill>
          <a:blip r:embed="rId2"/>
          <a:stretch/>
        </p:blipFill>
        <p:spPr>
          <a:xfrm>
            <a:off x="7072200" y="0"/>
            <a:ext cx="1905120" cy="244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духи"/>
          <p:cNvPicPr/>
          <p:nvPr/>
        </p:nvPicPr>
        <p:blipFill>
          <a:blip r:embed="rId3"/>
          <a:stretch/>
        </p:blipFill>
        <p:spPr>
          <a:xfrm>
            <a:off x="8124840" y="4000680"/>
            <a:ext cx="1019160" cy="285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AFC-E2F3-4056-B785-861449B7F9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ПЛ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ация, душистый горошек, персик, сандал, тубероза, жимолость, животные запах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УСТЫЕ, ТЯЖЕЛ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воздика, ладан, лилия, пачули, тубероза, ладан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ЯН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жасмин, пачули, цикламен, корица, гвоздика, ветивер (корни), лада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АХ КОЖИ, ТАБАК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учают из бессмертни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ИВОТНЫЕ запахи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рая амбра-железа кашалота выделяет секрет, который дает живой, тепл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C5B-E90F-4F58-81DB-334B8D6FFB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4:23:33Z</dcterms:created>
  <dc:creator>Igor</dc:creator>
  <dc:description/>
  <dc:language>en-US</dc:language>
  <cp:lastModifiedBy>Student</cp:lastModifiedBy>
  <dcterms:modified xsi:type="dcterms:W3CDTF">2013-05-03T09:41:27Z</dcterms:modified>
  <cp:revision>34</cp:revision>
  <dc:subject/>
  <dc:title>Карбоновые  кислоты</dc:title>
</cp:coreProperties>
</file>