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79E-D6C7-4D14-A785-FCAAD062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3EE-5E57-4127-B65E-226FF277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7C6-16E3-4705-90FC-D7C27877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A24-CF38-4C53-857A-05CAAB0D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F47A-9C08-4347-A1D5-0C867DB7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5079-4E05-45AB-AEFD-53B22FC9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8454-ECAE-44F7-B1BB-D530E9B2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FA6B-A111-4949-A5F1-1CD27D7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F16D-9787-4A2F-A9E3-27E08D7C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5722-9F3E-40ED-95C3-F293C1DB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C222-CB50-42F4-B4B8-D75A11FA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6AC-8865-4EE9-BAFD-907B6264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C4EA-F1EE-48FC-AFCB-F51DEDA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3EFF-DF18-4992-8B05-8C8CBB88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D5FA-0A4D-477B-9105-599930B7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BE3C-40C5-4423-98B8-EA21CE6A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60C8-2C22-4441-8BEA-B36DB09C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7E7-2F1F-42BD-AA8C-F476B385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CB1-27A8-476E-8E46-0D7C6FE1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A29-B16E-46DE-A1F9-D97A5DBE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BFF-B683-4E15-912A-716E7F61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BD0-71A7-43B3-9C4A-66B5B412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3B5-5D15-41A1-9B2C-EB075F1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DF2-9688-48DE-B4DB-5C50E2D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CC4-4199-4F94-80B9-58398172E65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1D53-1116-4F1D-9F88-5800DDDF1C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CB48-C2E3-431E-AAD2-37D84AC66D3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1D7E-0F21-4F6F-8626-3E49CBBD68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1676520" y="76212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 Г Л Е В О Д 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6" descr="C:\Documents and Settings\Администратор\Application Data\Microsoft\Media Catalog\s.gif"/>
          <p:cNvPicPr/>
          <p:nvPr/>
        </p:nvPicPr>
        <p:blipFill>
          <a:blip r:embed="rId1"/>
          <a:stretch/>
        </p:blipFill>
        <p:spPr>
          <a:xfrm>
            <a:off x="6705720" y="4114800"/>
            <a:ext cx="221112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4149-2049-4C37-BE07-1D2F5BB799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49C-07C7-4429-BD71-42160DC0F4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1258920" y="1197000"/>
            <a:ext cx="788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зические свой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ахариды - твердые, кристаллические, вещества, от слегка белого до коричневатого цвета, хорошо растворимые в воде и в 45 — 48°-ном спирте, плохо растворимы в 96°-ном спирте, имеют оптическую активность; сладки на вкус[1]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924-A8FA-4C78-B5F9-3674C6E801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755640" y="76500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ческие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гидролизе расщепляются на составляющие их моносахариды за счёт разрыва гликозидных связей между ними. Эта реакция является обратной процессу образования дисахаридов из моносахари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конденсации дисахаридов образуются молекулы полисахари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химическим свойствам дисахариды можно разделить на две групп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танавливающ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осстанавливающ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ервой группе относятся: лактоза, мальтоза, целлобиоза. Ко второй: сахароза, трегалоза[2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4FE-2618-4C30-96F4-40E78B1068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1079640" y="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сахариды можно разделить на две группы: невосстанавливающие и восстанавливающие. Невосстанавливающие сахара не имеют ОН-группы ни при одном аномерном центре, восстанавливающие – имеют свободную ОН-группу при аномерном центр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459-7E43-4024-8E4E-3894D12114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1116000" y="243000"/>
            <a:ext cx="8028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ахариды вступают в большинство реакций, характерных для моносахаридов: образуют простые и сложные эфиры, гликозиды, производные по карбонильной группе. Восстанавливающие дисахариды окисляются до гликобионовых кислот. Гликозидная связь в дисахаридах расщепляется под действием водных растворов кислот и ферментов. В разбавленных растворах щелочей дисахариды устойчивы. Ферменты действуют селективно, расщепляя только a- или только b-гликозидную связ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A02-229A-4F38-B1C8-A6BC79B7DE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1042920" y="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ческие свойства дисахарид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способность гидролизоваться: под действием кислоты или соответствующего фермента разрывается гликозидная связь и образуются два моносахарид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окисляются ионами меди, серебра, ртути, образуют озазоны и вступают во все реакции, характерные для соединений, содержащих свободные карбонильные групп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дисахариды могут быть окислены до диоксида углерода и воды. Под действием ферментов дрожжей сахароза и мальтоза дают этанол, а лактоза не изменя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106-F691-43E3-B1C7-BAE4CB178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8172360" cy="4076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"/>
          <p:cNvSpPr/>
          <p:nvPr/>
        </p:nvSpPr>
        <p:spPr>
          <a:xfrm>
            <a:off x="1187280" y="83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довательность реакций – окисление, метилирование, гидролиз, позволяет установить строение дисахари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11A-CF09-4C65-8F67-F7A724BE4F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1116000" y="0"/>
            <a:ext cx="80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исление дает возможность определить, остаток какого моносахарида находится на восстанавливающем конце. Метилирование и гидролиз дают информацию о положении гликозидной связи и размерах цикла моносахаридных звеньев. Конфигурация гликозидной связи ( a или b) может быть определена с помощью ферментативного гидролиз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B16-D0FF-48E4-99C2-BFEF824BE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0" y="8366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осстанавливающие дисахарид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их дисахаридах один из моносахаридных остатков участвует в образовании гликозидной связи за счет гидроксильной группы чаще всего при С-4 или С-6, реже при С-3. В дисахариде имеется свободная полуацетальная гидроксильная группа, вследствие чего сохраняется способность к раскрытию цикла. Возможностью осуществления цикло-оксо-таутометрии обусловлены восстановительные свойства таких дисахаридов и мутаротация их свежеприготовленных растворов[3]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Целлобио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1B5-2E27-4BC3-9613-0A8E508203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042920" y="96840"/>
            <a:ext cx="748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восстанавливающие ди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восстанавливающие дисахариды не имеют ОН-группы ни при одном аномерном центре, в результате чего, они не вступают в реакции с фелинговой жидкостью и реактивом Толлен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егал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3FA-02C1-433D-B88F-F481FB78DB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8960" y="990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глевод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гд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35B-3DDC-4970-B583-1D1935F5D8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1042920" y="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сахароз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ароза в основном используется в качестве продукта питания и в кондитерской промышленности. Путем гидролиза из нее получают искусственный ме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Рисунок 2" descr=""/>
          <p:cNvPicPr/>
          <p:nvPr/>
        </p:nvPicPr>
        <p:blipFill>
          <a:blip r:embed="rId1"/>
          <a:stretch/>
        </p:blipFill>
        <p:spPr>
          <a:xfrm>
            <a:off x="1114560" y="3284640"/>
            <a:ext cx="7921440" cy="357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3E9-9080-4EFC-BD94-000F166EA8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1085760" y="27000"/>
            <a:ext cx="8028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хождение в природе и организме человека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хароза входит в состав сока сахарной свеклы (16 — 20%) и сахарного тростника (14 — 26%). В небольших количествах она содержится вместе с глюкозой в плодах и листьях многих зеленых растени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1AE-068E-4A14-AA08-7FEFDA14B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038480" y="3809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DFA-981B-4D8E-ADC7-EF96E354A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6165360"/>
            <a:ext cx="807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280" y="1371600"/>
            <a:ext cx="8610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937-F84B-4636-858C-F7D7F07436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042920" y="-3240"/>
            <a:ext cx="7416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ахариды, или биозы, состоят из остатков двух моноз. Связывание двух моноз в биозу может происходить либо за счет гликозидных гидроксильных групп обоих моносахаридов, (невосстанавливающие дисахариды) либо с участием гликозидной гидроксильной группы одного и спиртовой гидроксильной группы другого моносахарида (восстанавливающие дисахариды). В последнем случае в отличие от первого дисахариды обладают восстанавливающими свойствами и обнаруживают явление мутаротации, поскольку в них вследствие кольчато-цепной таутомерии возможен взаимный переход открытой и циклической форм одного из моносахари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483-A7D1-4091-827F-4978A2CD0D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03280" y="18900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ахариды имеют формулу С12Н22О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дисахаридам относя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403280" y="206064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сахароза (глюкоза + фруктоза) 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лактоза (глюкоза + галактоза) 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мальтоза (глюкоза + глюкоза), 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целобиоза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E37-4B53-4B03-914E-CEEFE96AFC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4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166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3EF-4D3A-4AD2-875A-4AC7E79090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8" descr="http://www.college.ru/biology/course/content/chapter8/section1/paragraph2/images/08010202.jpg"/>
          <p:cNvPicPr/>
          <p:nvPr/>
        </p:nvPicPr>
        <p:blipFill>
          <a:blip r:embed="rId1"/>
          <a:stretch/>
        </p:blipFill>
        <p:spPr>
          <a:xfrm>
            <a:off x="304920" y="38088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http://www.college.ru/biology/course/content/javagifs/08010205.gif"/>
          <p:cNvPicPr/>
          <p:nvPr/>
        </p:nvPicPr>
        <p:blipFill>
          <a:blip r:embed="rId2"/>
          <a:stretch/>
        </p:blipFill>
        <p:spPr>
          <a:xfrm>
            <a:off x="228600" y="411480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1"/>
          <p:cNvSpPr/>
          <p:nvPr/>
        </p:nvSpPr>
        <p:spPr>
          <a:xfrm>
            <a:off x="4572000" y="388620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CFD-FE1D-4EB9-9669-519F6E3D9A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5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31240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F52-AF7C-4338-98E6-11647E4D82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Student</cp:lastModifiedBy>
  <dcterms:modified xsi:type="dcterms:W3CDTF">2013-05-03T09:37:59Z</dcterms:modified>
  <cp:revision>58</cp:revision>
  <dc:subject/>
  <dc:title> ПРЕЗЕНТАЦИЯ по химии</dc:title>
</cp:coreProperties>
</file>