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move the slide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94F5-E022-46E7-8D3A-3230259262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Номер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1A08-FC9D-447F-8240-614D7D1F2EB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6BBF-9C0E-4838-A162-905E3D80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6E88-5269-494B-8E3F-7FDDADC2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1614-AE76-4AAD-BC18-33361762B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D6D3-FEB9-4ABF-98BA-6639C3EE8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E3AC1-216F-4523-B751-844FAD67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BC9CC-AC08-4364-8659-28E60812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6DD0A-DEF4-4E42-BF59-0D7DD0F3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6598A-DFDD-4CDD-8C84-5A42544D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81B66-D9EB-4D82-B84C-7FF7DDE1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15227-65C2-455A-8CCC-F8AAF260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93BA7-8BB3-4767-B480-9A7903F3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FC35-E43F-4C9B-9E40-0A099645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85085-51A3-4BAD-B9BF-DE7BDE5B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1004D-94B8-4B92-9C8A-0D9DF9B5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B31AF-264B-454F-A387-7DE296DF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14F18-ADA5-46F4-BF6D-CD5FCF5FC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C7546-4E00-4FFF-99A3-614BABA9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BB2D95-C240-4422-ADEB-5D73D0051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44B57A-BBC1-4FAD-BE20-1062F955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7E6C4C-7F7C-4DF4-983C-7EABBB7A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166710-00F3-4939-A529-510FE86B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C98320-8CAD-4350-9D4D-F937C811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9A9F-749C-4065-AF7C-38DFBE0B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379C45-59C2-43D6-92C7-9B766477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969681-10AF-4453-8E89-851D4924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F58709-96BC-44FA-886A-52D63694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F650BA-239F-4499-8283-8CFE4EAE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FB8F73-3EC2-4FBC-AFB5-A6E4CA2F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F60FEF-EADB-4FA9-9506-46E402AA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F16AC0-1051-4352-881F-15BD3DC3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B1FA4C-148A-44CA-B250-55DB86B40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C776AB-8DB5-442C-8654-F5F9EB32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FB8DD4-EC37-44FB-9154-D7785F8F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306D-C221-4318-9598-A14FB2A5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62B58A-EDE9-4C5C-96EB-738E94E2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DD9705-196D-42AF-B1CE-8A1AA150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B05125-5BD6-4828-8F2E-A4D1358B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11A2A0-8C2C-4EA1-BB48-BD694AFD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D55CDA-08DD-470F-9BEB-B0A31561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D06F81-47C7-49B0-8445-3A7E3EF2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731B75-50D7-4D75-954A-D432BA31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EEEB88-57F0-4B6C-A5C4-6D5C39F3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225BF3-81F2-4535-B479-75BE5C7D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D3BF37-7ADD-4E6A-BEE4-2A0E4E6F6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707A-522B-4D5E-A61A-75852C6B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018051-B74E-4552-8EF3-212033E2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EE0A8D-CEDC-46F9-B089-72D14A15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4B02BC-E76E-451B-BA20-5D33DE89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C22DAF-D15C-4E5D-A327-47570CB9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AA0DFB-AD5C-4214-A63D-F750F75E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437032-2455-4324-B5D1-5D821B87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047EF9-6EA8-40E4-96AD-74C177EE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8BB5D1-75E1-4DF0-9CE5-74A2E9A8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256101-2747-430A-BEAD-93EDAD63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07D7FE-96BD-4795-A094-5029BFDA6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8D33-9921-4031-857D-D969D91E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64C3F5-C7D2-4C84-A4B6-73060278C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04FF2D-FAD8-41C3-B4AB-B53C3811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AC77C8-27C4-4823-9683-F501164C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06D034-BB84-4D75-81D8-3EF71925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BA6812-A844-48C8-B8B9-193A3CCA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24DE19-40B1-4EB1-B70D-0B966831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CCFDAC-8228-48DD-BB92-6C3C2CEA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35FB78-A13B-4F6D-A7AF-E5256CFD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9C8C99-5288-42C4-BAEA-4A1FC744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0CD432-7B38-438B-9C8B-358F25B1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2CF1-4F19-41A7-A586-D47B2B64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E62B35-26A6-43AC-892F-40ABBC98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4BCEE6-9684-4B9B-BA52-2C5A6E093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3514E9-4FC7-4553-8F00-CCD39FB4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7833-A1AA-472F-9A4D-AEE7A3B8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E8DC-6035-4406-86EE-16D1BBBB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0BDA-8898-491E-9501-816F20F5F4C4}" type="datetime">
              <a:rPr b="0" lang="en-US" sz="11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04A7-9CD3-4245-B829-239AD2CF3FCB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61D3-D63A-4CF0-9607-848273D2DB44}" type="datetime">
              <a:rPr b="0" lang="en-US" sz="11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754E-7E12-4E29-AC5C-319ECF5DB7D5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47DA-38FE-41F8-88F8-B7F5A56D7AA2}" type="datetime">
              <a:rPr b="0" lang="en-US" sz="11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2E44-D5B9-49D3-88E1-EAFA970B27C5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3D14-52C9-4285-85F5-F9E7B2A4C921}" type="datetime">
              <a:rPr b="0" lang="en-US" sz="11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FC6A-EB2E-4F4D-A992-DC42C142EEF8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51CC-B97E-4B69-94BE-EC4541456194}" type="datetime">
              <a:rPr b="0" lang="en-US" sz="11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866B-5FF9-4205-A8B0-0B141D59D756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F857-16AD-4E3A-A6AC-2E0B5BCA2A1E}" type="datetime">
              <a:rPr b="0" lang="en-US" sz="11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799E-D42E-431E-A2CC-BC56829F8CDE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55640" y="2924280"/>
            <a:ext cx="770256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Palatino Linotype"/>
              </a:rPr>
              <a:t>Строение углеродного атома и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Palatino Linotype"/>
              </a:rPr>
              <a:t>орбитальная гибридизация.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Palatino Linotype"/>
              </a:rPr>
              <a:t>Типы химических связей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Palatino Linotype"/>
              </a:rPr>
              <a:t>органических соединений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Palatino Linotype"/>
              </a:rPr>
              <a:t>(сигма-, пи-,ароматические связи).</a:t>
            </a:r>
            <a:r>
              <a:rPr b="0" lang="ru-RU" sz="45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45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9B3D-C29E-4852-987B-D58930AA73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6"/>
          <p:cNvSpPr/>
          <p:nvPr/>
        </p:nvSpPr>
        <p:spPr>
          <a:xfrm>
            <a:off x="2286000" y="2132640"/>
            <a:ext cx="54547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76212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Н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= СН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СН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СН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0" name="Прямая со стрелкой 7"/>
          <p:cNvCxnSpPr/>
          <p:nvPr/>
        </p:nvCxnSpPr>
        <p:spPr>
          <a:xfrm>
            <a:off x="4284360" y="2416320"/>
            <a:ext cx="500760" cy="2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31" name="Прямоугольник 11"/>
          <p:cNvSpPr/>
          <p:nvPr/>
        </p:nvSpPr>
        <p:spPr>
          <a:xfrm>
            <a:off x="4306680" y="1916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Н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Прямоугольник 36"/>
          <p:cNvSpPr/>
          <p:nvPr/>
        </p:nvSpPr>
        <p:spPr>
          <a:xfrm>
            <a:off x="7816680" y="45673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Прямоугольник 12"/>
          <p:cNvSpPr/>
          <p:nvPr/>
        </p:nvSpPr>
        <p:spPr>
          <a:xfrm>
            <a:off x="2198880" y="2651040"/>
            <a:ext cx="175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лабы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электрофи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Прямая соединительная линия 14"/>
          <p:cNvSpPr/>
          <p:nvPr/>
        </p:nvSpPr>
        <p:spPr>
          <a:xfrm>
            <a:off x="1933560" y="4915080"/>
            <a:ext cx="357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Прямоугольник 30"/>
          <p:cNvSpPr/>
          <p:nvPr/>
        </p:nvSpPr>
        <p:spPr>
          <a:xfrm>
            <a:off x="2311920" y="4734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Прямая соединительная линия 16"/>
          <p:cNvSpPr/>
          <p:nvPr/>
        </p:nvSpPr>
        <p:spPr>
          <a:xfrm>
            <a:off x="2690640" y="4915080"/>
            <a:ext cx="35748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Прямая соединительная линия 17"/>
          <p:cNvSpPr/>
          <p:nvPr/>
        </p:nvSpPr>
        <p:spPr>
          <a:xfrm flipH="1">
            <a:off x="2475000" y="4341960"/>
            <a:ext cx="1440" cy="3585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Прямая соединительная линия 18"/>
          <p:cNvSpPr/>
          <p:nvPr/>
        </p:nvSpPr>
        <p:spPr>
          <a:xfrm>
            <a:off x="2476440" y="5127480"/>
            <a:ext cx="0" cy="3589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Прямоугольник 3"/>
          <p:cNvSpPr/>
          <p:nvPr/>
        </p:nvSpPr>
        <p:spPr>
          <a:xfrm>
            <a:off x="2321640" y="39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Прямоугольник 3"/>
          <p:cNvSpPr/>
          <p:nvPr/>
        </p:nvSpPr>
        <p:spPr>
          <a:xfrm>
            <a:off x="2302560" y="5467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Прямоугольник 3"/>
          <p:cNvSpPr/>
          <p:nvPr/>
        </p:nvSpPr>
        <p:spPr>
          <a:xfrm>
            <a:off x="1343160" y="4734000"/>
            <a:ext cx="7189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Н</a:t>
            </a:r>
            <a:r>
              <a:rPr b="0" lang="ru-RU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Прямоугольник 3"/>
          <p:cNvSpPr/>
          <p:nvPr/>
        </p:nvSpPr>
        <p:spPr>
          <a:xfrm>
            <a:off x="3033360" y="4734000"/>
            <a:ext cx="4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3" name="Прямая со стрелкой 23"/>
          <p:cNvCxnSpPr/>
          <p:nvPr/>
        </p:nvCxnSpPr>
        <p:spPr>
          <a:xfrm>
            <a:off x="4853160" y="4946760"/>
            <a:ext cx="429120" cy="2160"/>
          </a:xfrm>
          <a:prstGeom prst="straightConnector1">
            <a:avLst/>
          </a:prstGeom>
          <a:ln w="158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44" name="Прямоугольник 26"/>
          <p:cNvSpPr/>
          <p:nvPr/>
        </p:nvSpPr>
        <p:spPr>
          <a:xfrm>
            <a:off x="3537720" y="4734000"/>
            <a:ext cx="127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AlCl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Прямоугольник 27"/>
          <p:cNvSpPr/>
          <p:nvPr/>
        </p:nvSpPr>
        <p:spPr>
          <a:xfrm>
            <a:off x="5408640" y="4726080"/>
            <a:ext cx="27158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С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 baseline="50000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lCl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Box 5"/>
          <p:cNvSpPr/>
          <p:nvPr/>
        </p:nvSpPr>
        <p:spPr>
          <a:xfrm>
            <a:off x="1258920" y="735120"/>
            <a:ext cx="63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вышение электрофильных свой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ген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Прямоугольник 12"/>
          <p:cNvSpPr/>
          <p:nvPr/>
        </p:nvSpPr>
        <p:spPr>
          <a:xfrm>
            <a:off x="5296320" y="2620800"/>
            <a:ext cx="175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ильны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электрофи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Прямоугольник 12"/>
          <p:cNvSpPr/>
          <p:nvPr/>
        </p:nvSpPr>
        <p:spPr>
          <a:xfrm>
            <a:off x="1850040" y="5924520"/>
            <a:ext cx="115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слабы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Прямоугольник 12"/>
          <p:cNvSpPr/>
          <p:nvPr/>
        </p:nvSpPr>
        <p:spPr>
          <a:xfrm>
            <a:off x="5598360" y="5137200"/>
            <a:ext cx="129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сильны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Прямоугольник 12"/>
          <p:cNvSpPr/>
          <p:nvPr/>
        </p:nvSpPr>
        <p:spPr>
          <a:xfrm>
            <a:off x="3857040" y="5132520"/>
            <a:ext cx="129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сильны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2"/>
          <p:cNvSpPr/>
          <p:nvPr/>
        </p:nvSpPr>
        <p:spPr>
          <a:xfrm>
            <a:off x="1979640" y="2592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54c3"/>
                </a:solidFill>
                <a:latin typeface="Arial"/>
                <a:ea typeface="Times New Roman"/>
              </a:rPr>
              <a:t>ЭЛЕКТРОФИЛЬНЫЕ РЕАГЕН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4949-00B1-4633-A5F9-60BFCB4D23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Прямая соединительная линия 26"/>
          <p:cNvSpPr/>
          <p:nvPr/>
        </p:nvSpPr>
        <p:spPr>
          <a:xfrm flipH="1">
            <a:off x="3265560" y="2055960"/>
            <a:ext cx="1440" cy="6267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Прямоугольник 4"/>
          <p:cNvSpPr/>
          <p:nvPr/>
        </p:nvSpPr>
        <p:spPr>
          <a:xfrm>
            <a:off x="1367640" y="2079720"/>
            <a:ext cx="4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Прямоугольник 30"/>
          <p:cNvSpPr/>
          <p:nvPr/>
        </p:nvSpPr>
        <p:spPr>
          <a:xfrm>
            <a:off x="2089080" y="2055960"/>
            <a:ext cx="2330640" cy="6267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Прямая соединительная линия 31"/>
          <p:cNvSpPr/>
          <p:nvPr/>
        </p:nvSpPr>
        <p:spPr>
          <a:xfrm flipH="1">
            <a:off x="2650680" y="1765440"/>
            <a:ext cx="1800" cy="1252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Прямая соединительная линия 32"/>
          <p:cNvSpPr/>
          <p:nvPr/>
        </p:nvSpPr>
        <p:spPr>
          <a:xfrm flipH="1">
            <a:off x="3854160" y="2055960"/>
            <a:ext cx="3240" cy="6267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Прямоугольник 56"/>
          <p:cNvSpPr/>
          <p:nvPr/>
        </p:nvSpPr>
        <p:spPr>
          <a:xfrm>
            <a:off x="4757040" y="1770120"/>
            <a:ext cx="30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вакантная орбита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Прямая соединительная линия 37"/>
          <p:cNvSpPr/>
          <p:nvPr/>
        </p:nvSpPr>
        <p:spPr>
          <a:xfrm flipV="1">
            <a:off x="4286160" y="1974960"/>
            <a:ext cx="563760" cy="312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Box 81"/>
          <p:cNvSpPr/>
          <p:nvPr/>
        </p:nvSpPr>
        <p:spPr>
          <a:xfrm>
            <a:off x="928800" y="38037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Прямоугольник 37"/>
          <p:cNvSpPr/>
          <p:nvPr/>
        </p:nvSpPr>
        <p:spPr>
          <a:xfrm>
            <a:off x="985320" y="3979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Прямоугольник 37"/>
          <p:cNvSpPr/>
          <p:nvPr/>
        </p:nvSpPr>
        <p:spPr>
          <a:xfrm>
            <a:off x="1001160" y="34513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Прямоугольник 37"/>
          <p:cNvSpPr/>
          <p:nvPr/>
        </p:nvSpPr>
        <p:spPr>
          <a:xfrm>
            <a:off x="1287000" y="3699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3" name="Прямая со стрелкой 86"/>
          <p:cNvCxnSpPr/>
          <p:nvPr/>
        </p:nvCxnSpPr>
        <p:spPr>
          <a:xfrm>
            <a:off x="2928600" y="4017960"/>
            <a:ext cx="500760" cy="2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64" name="Прямая со стрелкой 87"/>
          <p:cNvCxnSpPr/>
          <p:nvPr/>
        </p:nvCxnSpPr>
        <p:spPr>
          <a:xfrm>
            <a:off x="5071680" y="3946680"/>
            <a:ext cx="500760" cy="2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65" name="Прямоугольник 21"/>
          <p:cNvSpPr/>
          <p:nvPr/>
        </p:nvSpPr>
        <p:spPr>
          <a:xfrm>
            <a:off x="1643040" y="380376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 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∙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Прямоугольник 21"/>
          <p:cNvSpPr/>
          <p:nvPr/>
        </p:nvSpPr>
        <p:spPr>
          <a:xfrm>
            <a:off x="3730320" y="4314960"/>
            <a:ext cx="4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Box 90"/>
          <p:cNvSpPr/>
          <p:nvPr/>
        </p:nvSpPr>
        <p:spPr>
          <a:xfrm>
            <a:off x="3635280" y="376380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Box 91"/>
          <p:cNvSpPr/>
          <p:nvPr/>
        </p:nvSpPr>
        <p:spPr>
          <a:xfrm>
            <a:off x="3753000" y="39337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Box 92"/>
          <p:cNvSpPr/>
          <p:nvPr/>
        </p:nvSpPr>
        <p:spPr>
          <a:xfrm>
            <a:off x="3753000" y="34243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Прямоугольник 21"/>
          <p:cNvSpPr/>
          <p:nvPr/>
        </p:nvSpPr>
        <p:spPr>
          <a:xfrm>
            <a:off x="4287600" y="3763800"/>
            <a:ext cx="4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Прямоугольник 21"/>
          <p:cNvSpPr/>
          <p:nvPr/>
        </p:nvSpPr>
        <p:spPr>
          <a:xfrm>
            <a:off x="3739680" y="3259080"/>
            <a:ext cx="4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Группа 96"/>
          <p:cNvGrpSpPr/>
          <p:nvPr/>
        </p:nvGrpSpPr>
        <p:grpSpPr>
          <a:xfrm>
            <a:off x="6310440" y="3089160"/>
            <a:ext cx="1256040" cy="1855080"/>
            <a:chOff x="6310440" y="3089160"/>
            <a:chExt cx="1256040" cy="1855080"/>
          </a:xfrm>
        </p:grpSpPr>
        <p:sp>
          <p:nvSpPr>
            <p:cNvPr id="473" name="Прямоугольник 21"/>
            <p:cNvSpPr/>
            <p:nvPr/>
          </p:nvSpPr>
          <p:spPr>
            <a:xfrm>
              <a:off x="6455880" y="4484520"/>
              <a:ext cx="4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Box 98"/>
            <p:cNvSpPr/>
            <p:nvPr/>
          </p:nvSpPr>
          <p:spPr>
            <a:xfrm>
              <a:off x="6310440" y="377028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I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TextBox 99"/>
            <p:cNvSpPr/>
            <p:nvPr/>
          </p:nvSpPr>
          <p:spPr>
            <a:xfrm>
              <a:off x="6453000" y="401796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 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Box 100"/>
            <p:cNvSpPr/>
            <p:nvPr/>
          </p:nvSpPr>
          <p:spPr>
            <a:xfrm>
              <a:off x="6453000" y="334152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 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Прямоугольник 21"/>
            <p:cNvSpPr/>
            <p:nvPr/>
          </p:nvSpPr>
          <p:spPr>
            <a:xfrm>
              <a:off x="7099200" y="3770280"/>
              <a:ext cx="4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Прямоугольник 21"/>
            <p:cNvSpPr/>
            <p:nvPr/>
          </p:nvSpPr>
          <p:spPr>
            <a:xfrm>
              <a:off x="6455880" y="3089160"/>
              <a:ext cx="4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Прямоугольник 21"/>
          <p:cNvSpPr/>
          <p:nvPr/>
        </p:nvSpPr>
        <p:spPr>
          <a:xfrm>
            <a:off x="5813280" y="3770280"/>
            <a:ext cx="4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Двойные круглые скобки 104"/>
          <p:cNvSpPr/>
          <p:nvPr/>
        </p:nvSpPr>
        <p:spPr>
          <a:xfrm>
            <a:off x="5715000" y="3089160"/>
            <a:ext cx="2000160" cy="1785960"/>
          </a:xfrm>
          <a:prstGeom prst="bracketPair">
            <a:avLst>
              <a:gd name="adj" fmla="val 17129"/>
            </a:avLst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Line 33"/>
          <p:cNvSpPr/>
          <p:nvPr/>
        </p:nvSpPr>
        <p:spPr>
          <a:xfrm flipV="1">
            <a:off x="2340000" y="2145960"/>
            <a:ext cx="0" cy="431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Line 34"/>
          <p:cNvSpPr/>
          <p:nvPr/>
        </p:nvSpPr>
        <p:spPr>
          <a:xfrm flipV="1">
            <a:off x="2916360" y="2145960"/>
            <a:ext cx="0" cy="431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Line 35"/>
          <p:cNvSpPr/>
          <p:nvPr/>
        </p:nvSpPr>
        <p:spPr>
          <a:xfrm flipV="1">
            <a:off x="3506760" y="2147760"/>
            <a:ext cx="0" cy="432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Прямоугольник 21"/>
          <p:cNvSpPr/>
          <p:nvPr/>
        </p:nvSpPr>
        <p:spPr>
          <a:xfrm>
            <a:off x="4992480" y="3370320"/>
            <a:ext cx="4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Прямоугольник 21"/>
          <p:cNvSpPr/>
          <p:nvPr/>
        </p:nvSpPr>
        <p:spPr>
          <a:xfrm>
            <a:off x="5294160" y="32259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Прямоугольник 21"/>
          <p:cNvSpPr/>
          <p:nvPr/>
        </p:nvSpPr>
        <p:spPr>
          <a:xfrm>
            <a:off x="7742160" y="30099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Прямоугольник 56"/>
          <p:cNvSpPr/>
          <p:nvPr/>
        </p:nvSpPr>
        <p:spPr>
          <a:xfrm>
            <a:off x="1332000" y="476280"/>
            <a:ext cx="6264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Хлорид алюмини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3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 акцептор электронной пары (сильный электрофи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41"/>
          <p:cNvSpPr/>
          <p:nvPr/>
        </p:nvSpPr>
        <p:spPr>
          <a:xfrm>
            <a:off x="826920" y="3946680"/>
            <a:ext cx="144720" cy="142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42"/>
          <p:cNvSpPr/>
          <p:nvPr/>
        </p:nvSpPr>
        <p:spPr>
          <a:xfrm>
            <a:off x="3635280" y="3916440"/>
            <a:ext cx="144720" cy="14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D41E-AA7B-440E-9546-CDAEF3A89C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Box 5"/>
          <p:cNvSpPr/>
          <p:nvPr/>
        </p:nvSpPr>
        <p:spPr>
          <a:xfrm>
            <a:off x="357120" y="14292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454c3"/>
                </a:solidFill>
                <a:latin typeface="Arial"/>
              </a:rPr>
              <a:t>КЛАССИФИКАЦИЯ РЕАКЦИЙ И РЕАГЕНТОВ В ОРГАНИЧЕСКОЙ ХИМ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609480" y="2253240"/>
            <a:ext cx="785016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Сильные нуклеофилы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к ним относятся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ОН</a:t>
            </a:r>
            <a:r>
              <a:rPr b="0" lang="ru-RU" sz="26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−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, анионы с высоким сродством к протону (основания); анионы, являющиеся остатками слабых кислот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ОН</a:t>
            </a:r>
            <a:r>
              <a:rPr b="0" lang="ru-RU" sz="26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−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, СН</a:t>
            </a:r>
            <a:r>
              <a:rPr b="0" lang="ru-RU" sz="2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О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ru-RU" sz="26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−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NH</a:t>
            </a:r>
            <a:r>
              <a:rPr b="0" lang="ru-RU" sz="2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6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−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, С</a:t>
            </a:r>
            <a:r>
              <a:rPr b="0" lang="ru-RU" sz="2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6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5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ru-RU" sz="26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−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(фенолят ион), С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ru-RU" sz="26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−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, СН</a:t>
            </a:r>
            <a:r>
              <a:rPr b="0" lang="ru-RU" sz="2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СОО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ru-RU" sz="26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−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и другие отрицательно заряженные остатки,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6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−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(гидрид-ион). Кроме того к сильным нуклеофилам относят нейтральные молекулы с неподелённой электронной парой такие, как  аммиак, амины, вода, спирты (см. след.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12"/>
          <p:cNvSpPr/>
          <p:nvPr/>
        </p:nvSpPr>
        <p:spPr>
          <a:xfrm>
            <a:off x="3421800" y="47628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УКЛЕОФИ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8"/>
          <p:cNvSpPr/>
          <p:nvPr/>
        </p:nvSpPr>
        <p:spPr>
          <a:xfrm>
            <a:off x="755640" y="981360"/>
            <a:ext cx="7416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Нуклеофилы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то атомы или молекулы, обладающие центрами с избыточной электронной плотностью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D6F8-5A76-4BC8-A963-54BEE63300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Прямоугольник 12"/>
          <p:cNvSpPr/>
          <p:nvPr/>
        </p:nvSpPr>
        <p:spPr>
          <a:xfrm>
            <a:off x="611280" y="4292640"/>
            <a:ext cx="807228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К ним относятся анионы, являющиеся остатками сильных кислот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−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B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HSO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NO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C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H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−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д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10"/>
          <p:cNvSpPr/>
          <p:nvPr/>
        </p:nvSpPr>
        <p:spPr>
          <a:xfrm>
            <a:off x="755640" y="83664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меры нейтральных молекул с сильными нуклеофильными свойствам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7" name="Group 21"/>
          <p:cNvGrpSpPr/>
          <p:nvPr/>
        </p:nvGrpSpPr>
        <p:grpSpPr>
          <a:xfrm>
            <a:off x="611280" y="1544760"/>
            <a:ext cx="7715160" cy="1599480"/>
            <a:chOff x="611280" y="1544760"/>
            <a:chExt cx="7715160" cy="1599480"/>
          </a:xfrm>
        </p:grpSpPr>
        <p:sp>
          <p:nvSpPr>
            <p:cNvPr id="498" name="Rectangle 3"/>
            <p:cNvSpPr/>
            <p:nvPr/>
          </p:nvSpPr>
          <p:spPr>
            <a:xfrm>
              <a:off x="611280" y="1812960"/>
              <a:ext cx="771516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NH</a:t>
              </a:r>
              <a:r>
                <a:rPr b="1" lang="ru-RU" sz="2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3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,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</a:t>
              </a:r>
              <a:r>
                <a:rPr b="1" lang="ru-RU" sz="2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О: , эфиры: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R NH</a:t>
              </a:r>
              <a:r>
                <a:rPr b="1" lang="ru-RU" sz="2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2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,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R</a:t>
              </a:r>
              <a:r>
                <a:rPr b="1" lang="ru-RU" sz="2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NH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,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R</a:t>
              </a:r>
              <a:r>
                <a:rPr b="1" lang="ru-RU" sz="2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3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N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,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R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–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OH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,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ROR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и др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Прямоугольник 61"/>
            <p:cNvSpPr/>
            <p:nvPr/>
          </p:nvSpPr>
          <p:spPr>
            <a:xfrm>
              <a:off x="5853240" y="156060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 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Прямоугольник 61"/>
            <p:cNvSpPr/>
            <p:nvPr/>
          </p:nvSpPr>
          <p:spPr>
            <a:xfrm>
              <a:off x="1303200" y="154476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 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Прямоугольник 61"/>
            <p:cNvSpPr/>
            <p:nvPr/>
          </p:nvSpPr>
          <p:spPr>
            <a:xfrm>
              <a:off x="2382840" y="157320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 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Прямоугольник 61"/>
            <p:cNvSpPr/>
            <p:nvPr/>
          </p:nvSpPr>
          <p:spPr>
            <a:xfrm>
              <a:off x="6962760" y="157464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 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Прямоугольник 61"/>
            <p:cNvSpPr/>
            <p:nvPr/>
          </p:nvSpPr>
          <p:spPr>
            <a:xfrm>
              <a:off x="4572000" y="155880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 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Прямоугольник 61"/>
            <p:cNvSpPr/>
            <p:nvPr/>
          </p:nvSpPr>
          <p:spPr>
            <a:xfrm>
              <a:off x="3635280" y="266868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 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Прямоугольник 61"/>
            <p:cNvSpPr/>
            <p:nvPr/>
          </p:nvSpPr>
          <p:spPr>
            <a:xfrm>
              <a:off x="4471920" y="268452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 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Прямоугольник 61"/>
            <p:cNvSpPr/>
            <p:nvPr/>
          </p:nvSpPr>
          <p:spPr>
            <a:xfrm>
              <a:off x="3592440" y="232236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 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Прямоугольник 61"/>
            <p:cNvSpPr/>
            <p:nvPr/>
          </p:nvSpPr>
          <p:spPr>
            <a:xfrm>
              <a:off x="4427640" y="230832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 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8" name="Rectangle 19"/>
          <p:cNvSpPr/>
          <p:nvPr/>
        </p:nvSpPr>
        <p:spPr>
          <a:xfrm>
            <a:off x="539640" y="3716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ЛАБЫЕ НУКЛЕОФИЛ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20"/>
          <p:cNvSpPr/>
          <p:nvPr/>
        </p:nvSpPr>
        <p:spPr>
          <a:xfrm>
            <a:off x="3421800" y="33336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54c3"/>
                </a:solidFill>
                <a:latin typeface="Arial"/>
              </a:rPr>
              <a:t>НУКЛЕОФИ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DB2D-90C8-45ED-8E0C-2BB43B79AD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3"/>
          <p:cNvSpPr/>
          <p:nvPr/>
        </p:nvSpPr>
        <p:spPr>
          <a:xfrm>
            <a:off x="755640" y="1890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54c3"/>
                </a:solidFill>
                <a:latin typeface="Arial"/>
              </a:rPr>
              <a:t>Классификация реакций и реагентов в органической хим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Прямоугольник 4"/>
          <p:cNvSpPr/>
          <p:nvPr/>
        </p:nvSpPr>
        <p:spPr>
          <a:xfrm>
            <a:off x="642960" y="13050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 видно из рассмотренных примеров, нуклеофилы в то же время являются основаниями. Основание – вещество, предоставляющее пару электронов для образования ковалентной связи с протонами (По Льюису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Таким образом, и основание и нуклеофил – это доноры электронных пар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Следовательно все основания являются нуклеофилами, поэтому следует различать такие свойства, как: основность частицы (сродство к протону), нуклеофильность (способность образовывать связь с электрофильным атомом углерод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2126160" y="739800"/>
            <a:ext cx="48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УКЛЕОФИЛЫ И ОСН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E3C4-9D88-4F56-85D4-A040C17822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"/>
          <p:cNvSpPr/>
          <p:nvPr/>
        </p:nvSpPr>
        <p:spPr>
          <a:xfrm>
            <a:off x="714240" y="1172520"/>
            <a:ext cx="7929720" cy="53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Нуклеофильность зависит от электронной плотности на атакуемом ато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Нуклеофильнос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то функция зависящая от основности и поляризуем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 Если поляризуемость почти не изменяется, т.е когда нуклеофильным центром выступает один и тот же атом, то нуклеофильность есть функция от основност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Основания в ряду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</a:t>
            </a:r>
            <a:r>
              <a:rPr b="0" lang="ru-RU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O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−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&lt;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H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−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&lt;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CH</a:t>
            </a:r>
            <a:r>
              <a:rPr b="0" lang="ru-RU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−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где основность возраста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Основность = нуклеофи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</a:t>
            </a:r>
            <a:r>
              <a:rPr b="1" lang="ru-RU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OH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&gt;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1" lang="ru-RU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О     &gt;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</a:t>
            </a:r>
            <a:r>
              <a:rPr b="1" lang="ru-RU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Box 3"/>
          <p:cNvSpPr/>
          <p:nvPr/>
        </p:nvSpPr>
        <p:spPr>
          <a:xfrm>
            <a:off x="755640" y="1890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54c3"/>
                </a:solidFill>
                <a:latin typeface="Arial"/>
              </a:rPr>
              <a:t>Классификация реакций и реагентов в органической хим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1478160" y="739800"/>
            <a:ext cx="60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УКЛЕОФИЛЬНОСТЬ И ОСНОВ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5456-A2E3-4F22-B1CC-74B6CAFF9A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Прямоугольник 4"/>
          <p:cNvSpPr/>
          <p:nvPr/>
        </p:nvSpPr>
        <p:spPr>
          <a:xfrm>
            <a:off x="611280" y="1413000"/>
            <a:ext cx="7929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Если нуклеофильные центры разные, то в этом случае нуклеофильность будет функцией поляризуемости, на пример,  в ряд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−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&lt;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l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−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&lt;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−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&lt;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−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основность снижается, нуклеофильность падает, т.к. в таком направлении растёт поляризуем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Радикальные частицы всегда нейтральные, но имеют в наличии неспаренный электро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дикал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лектрически нейтральные частиц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Box 3"/>
          <p:cNvSpPr/>
          <p:nvPr/>
        </p:nvSpPr>
        <p:spPr>
          <a:xfrm>
            <a:off x="755640" y="1890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54c3"/>
                </a:solidFill>
                <a:latin typeface="Arial"/>
              </a:rPr>
              <a:t>Классификация реакций и реагентов в органической хим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6"/>
          <p:cNvSpPr/>
          <p:nvPr/>
        </p:nvSpPr>
        <p:spPr>
          <a:xfrm>
            <a:off x="1478160" y="739800"/>
            <a:ext cx="60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УКЛЕОФИЛЬНОСТЬ И ОСНОВ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32E7-0A0F-43E4-9D2B-77F62F895F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Box 3"/>
          <p:cNvSpPr/>
          <p:nvPr/>
        </p:nvSpPr>
        <p:spPr>
          <a:xfrm>
            <a:off x="1006560" y="230040"/>
            <a:ext cx="687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МЕЖУТОЧНЫЕ ПРОДУКТЫ РЕАК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ИНТЕРМЕДИАТ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Box 1"/>
          <p:cNvSpPr/>
          <p:nvPr/>
        </p:nvSpPr>
        <p:spPr>
          <a:xfrm>
            <a:off x="857160" y="357336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Ион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– частицы, несущие электрический заряд; их два сор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Box 2"/>
          <p:cNvSpPr/>
          <p:nvPr/>
        </p:nvSpPr>
        <p:spPr>
          <a:xfrm>
            <a:off x="755640" y="4581360"/>
            <a:ext cx="79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арбкатион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– органические ионы, содержащие положительно заряженный атом углер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Box 3"/>
          <p:cNvSpPr/>
          <p:nvPr/>
        </p:nvSpPr>
        <p:spPr>
          <a:xfrm>
            <a:off x="785880" y="54450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арбанионы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– органические ионы с отрицательно заряженным атомом углер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Прямоугольник 14"/>
          <p:cNvSpPr/>
          <p:nvPr/>
        </p:nvSpPr>
        <p:spPr>
          <a:xfrm>
            <a:off x="684360" y="2276640"/>
            <a:ext cx="79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вободный радикал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– атом или группа, имеющие нечетный (неспаренный) электрон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дикальны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астиц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лектрически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йтральны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част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Box 2"/>
          <p:cNvSpPr/>
          <p:nvPr/>
        </p:nvSpPr>
        <p:spPr>
          <a:xfrm>
            <a:off x="684360" y="1143000"/>
            <a:ext cx="806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Протекание многих органических реакций сопро-вождается образованием промежуточных продуктов: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радикалов и ион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CF67-CE0E-4A46-9945-83FE40DE08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3"/>
          <p:cNvSpPr/>
          <p:nvPr/>
        </p:nvSpPr>
        <p:spPr>
          <a:xfrm>
            <a:off x="826920" y="189000"/>
            <a:ext cx="745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54c3"/>
                </a:solidFill>
                <a:latin typeface="Arial"/>
              </a:rPr>
              <a:t>КЛАССИФИКАЦИЯ РЕАКЦИЙ И РЕАГЕНТОВ В ОРГАНИЧЕСКОЙ ХИМ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Box 1"/>
          <p:cNvSpPr/>
          <p:nvPr/>
        </p:nvSpPr>
        <p:spPr>
          <a:xfrm>
            <a:off x="1042920" y="105264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МЕТОДЫ ГЕНЕРИРОВАНИЯ (ОБРАЗОВАНИЯ) ИОНОВ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 РАДИКАЛ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Box 8"/>
          <p:cNvSpPr/>
          <p:nvPr/>
        </p:nvSpPr>
        <p:spPr>
          <a:xfrm>
            <a:off x="5699160" y="2670120"/>
            <a:ext cx="29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r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 др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Box 9"/>
          <p:cNvSpPr/>
          <p:nvPr/>
        </p:nvSpPr>
        <p:spPr>
          <a:xfrm>
            <a:off x="684360" y="3876840"/>
            <a:ext cx="48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2.    – С 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– С: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−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+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9" name="Прямая со стрелкой 13"/>
          <p:cNvCxnSpPr/>
          <p:nvPr/>
        </p:nvCxnSpPr>
        <p:spPr>
          <a:xfrm>
            <a:off x="2579400" y="4160880"/>
            <a:ext cx="60372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30" name="TextBox 11"/>
          <p:cNvSpPr/>
          <p:nvPr/>
        </p:nvSpPr>
        <p:spPr>
          <a:xfrm>
            <a:off x="1438200" y="357336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                             \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Box 12"/>
          <p:cNvSpPr/>
          <p:nvPr/>
        </p:nvSpPr>
        <p:spPr>
          <a:xfrm>
            <a:off x="1403280" y="4221000"/>
            <a:ext cx="37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Line 2"/>
          <p:cNvSpPr/>
          <p:nvPr/>
        </p:nvSpPr>
        <p:spPr>
          <a:xfrm>
            <a:off x="2124000" y="3759120"/>
            <a:ext cx="0" cy="73188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Box 14"/>
          <p:cNvSpPr/>
          <p:nvPr/>
        </p:nvSpPr>
        <p:spPr>
          <a:xfrm>
            <a:off x="5786280" y="386064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 др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4" name="Group 19"/>
          <p:cNvGrpSpPr/>
          <p:nvPr/>
        </p:nvGrpSpPr>
        <p:grpSpPr>
          <a:xfrm>
            <a:off x="730080" y="2313000"/>
            <a:ext cx="4429440" cy="1071000"/>
            <a:chOff x="730080" y="2313000"/>
            <a:chExt cx="4429440" cy="1071000"/>
          </a:xfrm>
        </p:grpSpPr>
        <p:sp>
          <p:nvSpPr>
            <p:cNvPr id="535" name="TextBox 2"/>
            <p:cNvSpPr/>
            <p:nvPr/>
          </p:nvSpPr>
          <p:spPr>
            <a:xfrm>
              <a:off x="730080" y="2649600"/>
              <a:ext cx="442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.    – С :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X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      – С</a:t>
              </a:r>
              <a:r>
                <a:rPr b="1" lang="ru-RU" sz="24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+ :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X</a:t>
              </a:r>
              <a:r>
                <a:rPr b="1" lang="en-US" sz="24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−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2"/>
            <p:cNvSpPr/>
            <p:nvPr/>
          </p:nvSpPr>
          <p:spPr>
            <a:xfrm>
              <a:off x="1941480" y="2581200"/>
              <a:ext cx="0" cy="731880"/>
            </a:xfrm>
            <a:prstGeom prst="line">
              <a:avLst/>
            </a:prstGeom>
            <a:ln w="255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TextBox 6"/>
            <p:cNvSpPr/>
            <p:nvPr/>
          </p:nvSpPr>
          <p:spPr>
            <a:xfrm>
              <a:off x="1565280" y="2313000"/>
              <a:ext cx="299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\                       \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TextBox 7"/>
            <p:cNvSpPr/>
            <p:nvPr/>
          </p:nvSpPr>
          <p:spPr>
            <a:xfrm>
              <a:off x="1547640" y="2924280"/>
              <a:ext cx="318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/                      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/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39" name="Прямая со стрелкой 18"/>
            <p:cNvCxnSpPr/>
            <p:nvPr/>
          </p:nvCxnSpPr>
          <p:spPr>
            <a:xfrm>
              <a:off x="2714400" y="2927520"/>
              <a:ext cx="572040" cy="21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540" name="Rectangle 4"/>
          <p:cNvSpPr/>
          <p:nvPr/>
        </p:nvSpPr>
        <p:spPr>
          <a:xfrm>
            <a:off x="2484360" y="5046840"/>
            <a:ext cx="371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          Br• +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1" name="Прямая со стрелкой 27"/>
          <p:cNvCxnSpPr/>
          <p:nvPr/>
        </p:nvCxnSpPr>
        <p:spPr>
          <a:xfrm>
            <a:off x="4036680" y="5446800"/>
            <a:ext cx="429480" cy="2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42" name="Прямоугольник 7"/>
          <p:cNvSpPr/>
          <p:nvPr/>
        </p:nvSpPr>
        <p:spPr>
          <a:xfrm>
            <a:off x="3995640" y="494172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24"/>
          <p:cNvSpPr/>
          <p:nvPr/>
        </p:nvSpPr>
        <p:spPr>
          <a:xfrm>
            <a:off x="828360" y="52275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3132000" y="573444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54c3"/>
                </a:solidFill>
                <a:latin typeface="Arial"/>
                <a:ea typeface="Times New Roman"/>
              </a:rPr>
              <a:t>H▪ + ▪Br = H–B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A034-AF0A-4C44-BE3D-11630448EA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1"/>
          <p:cNvSpPr/>
          <p:nvPr/>
        </p:nvSpPr>
        <p:spPr>
          <a:xfrm>
            <a:off x="1042920" y="1051200"/>
            <a:ext cx="69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 КЛАССИФИКАЦИЯ РЕАКЦИЙ ПО МЕХАНИЗМУ ЭЛЕМЕНТАРНЫХ СТАД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395280" y="2278080"/>
            <a:ext cx="82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Это наиболее сложный тип, классифицирующий реакции. Он соответствует двум предыдущ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10"/>
          <p:cNvSpPr/>
          <p:nvPr/>
        </p:nvSpPr>
        <p:spPr>
          <a:xfrm>
            <a:off x="755640" y="3110400"/>
            <a:ext cx="2571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704880"/>
                <a:tab algn="ctr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По результату: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11"/>
          <p:cNvSpPr/>
          <p:nvPr/>
        </p:nvSpPr>
        <p:spPr>
          <a:xfrm>
            <a:off x="500040" y="4057560"/>
            <a:ext cx="79297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704880"/>
                <a:tab algn="l" pos="2752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 Замещение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Электрофильные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Е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04880"/>
                <a:tab algn="l" pos="2752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04880"/>
                <a:tab algn="l" pos="2752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Присоединение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2. Нуклеофильные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u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10"/>
          <p:cNvSpPr/>
          <p:nvPr/>
        </p:nvSpPr>
        <p:spPr>
          <a:xfrm>
            <a:off x="3851280" y="3110400"/>
            <a:ext cx="49626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704880"/>
                <a:tab algn="ctr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По электронной природе реагента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12"/>
          <p:cNvSpPr/>
          <p:nvPr/>
        </p:nvSpPr>
        <p:spPr>
          <a:xfrm>
            <a:off x="539640" y="537264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3.Отщипл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Прямоугольник 13"/>
          <p:cNvSpPr/>
          <p:nvPr/>
        </p:nvSpPr>
        <p:spPr>
          <a:xfrm>
            <a:off x="4572360" y="5326200"/>
            <a:ext cx="29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Радикальные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Box 3"/>
          <p:cNvSpPr/>
          <p:nvPr/>
        </p:nvSpPr>
        <p:spPr>
          <a:xfrm>
            <a:off x="826920" y="189000"/>
            <a:ext cx="745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54c3"/>
                </a:solidFill>
                <a:latin typeface="Arial"/>
              </a:rPr>
              <a:t>КЛАССИФИКАЦИЯ РЕАКЦИЙ И РЕАГЕНТОВ В ОРГАНИЧЕСКОЙ ХИМ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C110-C7F9-41E2-AC94-5959B0AB17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3"/>
          <p:cNvSpPr/>
          <p:nvPr/>
        </p:nvSpPr>
        <p:spPr>
          <a:xfrm>
            <a:off x="357120" y="14292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ЛАССИФИКАЦИЯ РЕАКЦИЙ И РЕАГЕНТОВ В ОРГАНИЧЕСКОЙ ХИМ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1"/>
          <p:cNvSpPr/>
          <p:nvPr/>
        </p:nvSpPr>
        <p:spPr>
          <a:xfrm>
            <a:off x="571680" y="1156680"/>
            <a:ext cx="82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Химические реакции могут классифицироваться по разным принципам. Для многих органических реакций наиболее важная классификация по следующим признака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2"/>
          <p:cNvSpPr/>
          <p:nvPr/>
        </p:nvSpPr>
        <p:spPr>
          <a:xfrm>
            <a:off x="787320" y="2635200"/>
            <a:ext cx="752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 По изменению числа частиц в ходе реакций (т.е. по результатам проведения). В соответствии с этим признаком различаю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Группа 13"/>
          <p:cNvGrpSpPr/>
          <p:nvPr/>
        </p:nvGrpSpPr>
        <p:grpSpPr>
          <a:xfrm>
            <a:off x="2710800" y="5877000"/>
            <a:ext cx="5171760" cy="525600"/>
            <a:chOff x="2710800" y="5877000"/>
            <a:chExt cx="5171760" cy="525600"/>
          </a:xfrm>
        </p:grpSpPr>
        <p:sp>
          <p:nvSpPr>
            <p:cNvPr id="324" name="Прямоугольник 7"/>
            <p:cNvSpPr/>
            <p:nvPr/>
          </p:nvSpPr>
          <p:spPr>
            <a:xfrm>
              <a:off x="2710800" y="5877000"/>
              <a:ext cx="517176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СН</a:t>
              </a:r>
              <a:r>
                <a:rPr b="1" lang="ru-RU" sz="2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= СН</a:t>
              </a:r>
              <a:r>
                <a:rPr b="1" lang="ru-RU" sz="2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r>
                <a:rPr b="1" lang="ru-RU" sz="2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	</a:t>
              </a:r>
              <a:r>
                <a:rPr b="1" lang="ru-RU" sz="2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r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– СН</a:t>
              </a:r>
              <a:r>
                <a:rPr b="1" lang="ru-RU" sz="2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– СН</a:t>
              </a:r>
              <a:r>
                <a:rPr b="1" lang="ru-RU" sz="2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–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25" name="Прямая со стрелкой 8"/>
            <p:cNvCxnSpPr/>
            <p:nvPr/>
          </p:nvCxnSpPr>
          <p:spPr>
            <a:xfrm>
              <a:off x="4358880" y="6091200"/>
              <a:ext cx="500760" cy="21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</p:grpSp>
      <p:sp>
        <p:nvSpPr>
          <p:cNvPr id="326" name="TextBox 10"/>
          <p:cNvSpPr/>
          <p:nvPr/>
        </p:nvSpPr>
        <p:spPr>
          <a:xfrm>
            <a:off x="826920" y="4724280"/>
            <a:ext cx="221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Общая схем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17"/>
          <p:cNvSpPr/>
          <p:nvPr/>
        </p:nvSpPr>
        <p:spPr>
          <a:xfrm>
            <a:off x="1043640" y="3933720"/>
            <a:ext cx="39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Реакции присоедин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Box 2"/>
          <p:cNvSpPr/>
          <p:nvPr/>
        </p:nvSpPr>
        <p:spPr>
          <a:xfrm>
            <a:off x="3510000" y="4738680"/>
            <a:ext cx="4183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=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     + 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XY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→  –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–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–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Box 6"/>
          <p:cNvSpPr/>
          <p:nvPr/>
        </p:nvSpPr>
        <p:spPr>
          <a:xfrm>
            <a:off x="6337440" y="5302080"/>
            <a:ext cx="1017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Y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0" name="Group 25"/>
          <p:cNvGrpSpPr/>
          <p:nvPr/>
        </p:nvGrpSpPr>
        <p:grpSpPr>
          <a:xfrm>
            <a:off x="3348000" y="4746600"/>
            <a:ext cx="228600" cy="436680"/>
            <a:chOff x="3348000" y="4746600"/>
            <a:chExt cx="228600" cy="436680"/>
          </a:xfrm>
        </p:grpSpPr>
        <p:sp>
          <p:nvSpPr>
            <p:cNvPr id="331" name="Line 20"/>
            <p:cNvSpPr/>
            <p:nvPr/>
          </p:nvSpPr>
          <p:spPr>
            <a:xfrm>
              <a:off x="3348000" y="4746600"/>
              <a:ext cx="215640" cy="144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21"/>
            <p:cNvSpPr/>
            <p:nvPr/>
          </p:nvSpPr>
          <p:spPr>
            <a:xfrm flipV="1">
              <a:off x="3360600" y="5038560"/>
              <a:ext cx="216000" cy="144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Group 24"/>
          <p:cNvGrpSpPr/>
          <p:nvPr/>
        </p:nvGrpSpPr>
        <p:grpSpPr>
          <a:xfrm>
            <a:off x="4393800" y="4738680"/>
            <a:ext cx="228600" cy="436680"/>
            <a:chOff x="4393800" y="4738680"/>
            <a:chExt cx="228600" cy="436680"/>
          </a:xfrm>
        </p:grpSpPr>
        <p:sp>
          <p:nvSpPr>
            <p:cNvPr id="334" name="Line 22"/>
            <p:cNvSpPr/>
            <p:nvPr/>
          </p:nvSpPr>
          <p:spPr>
            <a:xfrm flipH="1">
              <a:off x="4406400" y="4738680"/>
              <a:ext cx="216000" cy="144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23"/>
            <p:cNvSpPr/>
            <p:nvPr/>
          </p:nvSpPr>
          <p:spPr>
            <a:xfrm flipH="1" flipV="1">
              <a:off x="4393800" y="5030640"/>
              <a:ext cx="216000" cy="144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6" name="Line 26"/>
          <p:cNvSpPr/>
          <p:nvPr/>
        </p:nvSpPr>
        <p:spPr>
          <a:xfrm>
            <a:off x="6516720" y="4581360"/>
            <a:ext cx="0" cy="2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Line 27"/>
          <p:cNvSpPr/>
          <p:nvPr/>
        </p:nvSpPr>
        <p:spPr>
          <a:xfrm>
            <a:off x="7020000" y="4581360"/>
            <a:ext cx="0" cy="2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Line 28"/>
          <p:cNvSpPr/>
          <p:nvPr/>
        </p:nvSpPr>
        <p:spPr>
          <a:xfrm>
            <a:off x="6516720" y="5132520"/>
            <a:ext cx="0" cy="21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Line 29"/>
          <p:cNvSpPr/>
          <p:nvPr/>
        </p:nvSpPr>
        <p:spPr>
          <a:xfrm>
            <a:off x="7020000" y="5132520"/>
            <a:ext cx="0" cy="21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Box 10"/>
          <p:cNvSpPr/>
          <p:nvPr/>
        </p:nvSpPr>
        <p:spPr>
          <a:xfrm>
            <a:off x="826920" y="5661000"/>
            <a:ext cx="129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Пример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32"/>
          <p:cNvSpPr/>
          <p:nvPr/>
        </p:nvSpPr>
        <p:spPr>
          <a:xfrm>
            <a:off x="4352760" y="5654520"/>
            <a:ext cx="579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819D-2FDD-466C-A5C3-6657B92E02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Box 3"/>
          <p:cNvSpPr/>
          <p:nvPr/>
        </p:nvSpPr>
        <p:spPr>
          <a:xfrm>
            <a:off x="928800" y="107172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Гомологический (радикальный) разрыв ковалентной связ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Box 4"/>
          <p:cNvSpPr/>
          <p:nvPr/>
        </p:nvSpPr>
        <p:spPr>
          <a:xfrm>
            <a:off x="696960" y="2214720"/>
            <a:ext cx="43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А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В            А•  +  •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6" name="Group 2"/>
          <p:cNvGrpSpPr/>
          <p:nvPr/>
        </p:nvGrpSpPr>
        <p:grpSpPr>
          <a:xfrm>
            <a:off x="2404800" y="2642760"/>
            <a:ext cx="1158840" cy="182520"/>
            <a:chOff x="2404800" y="2642760"/>
            <a:chExt cx="1158840" cy="182520"/>
          </a:xfrm>
        </p:grpSpPr>
        <p:sp>
          <p:nvSpPr>
            <p:cNvPr id="557" name="Line 3"/>
            <p:cNvSpPr/>
            <p:nvPr/>
          </p:nvSpPr>
          <p:spPr>
            <a:xfrm flipH="1" flipV="1">
              <a:off x="2404800" y="2642760"/>
              <a:ext cx="579240" cy="182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Line 4"/>
            <p:cNvSpPr/>
            <p:nvPr/>
          </p:nvSpPr>
          <p:spPr>
            <a:xfrm flipV="1">
              <a:off x="2984400" y="2642760"/>
              <a:ext cx="579240" cy="182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9" name="TextBox 10"/>
          <p:cNvSpPr/>
          <p:nvPr/>
        </p:nvSpPr>
        <p:spPr>
          <a:xfrm>
            <a:off x="1692360" y="2895480"/>
            <a:ext cx="18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радика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0" name="Прямая со стрелкой 12"/>
          <p:cNvCxnSpPr/>
          <p:nvPr/>
        </p:nvCxnSpPr>
        <p:spPr>
          <a:xfrm>
            <a:off x="1625400" y="2421000"/>
            <a:ext cx="643320" cy="2160"/>
          </a:xfrm>
          <a:prstGeom prst="straightConnector1">
            <a:avLst/>
          </a:prstGeom>
          <a:ln w="158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61" name="TextBox 11"/>
          <p:cNvSpPr/>
          <p:nvPr/>
        </p:nvSpPr>
        <p:spPr>
          <a:xfrm>
            <a:off x="3929040" y="2000160"/>
            <a:ext cx="453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Из схемы видно, что при этом способе связывающая электронная пара делится пополам между партнерами связ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Box 1"/>
          <p:cNvSpPr/>
          <p:nvPr/>
        </p:nvSpPr>
        <p:spPr>
          <a:xfrm>
            <a:off x="928800" y="400068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Гетеролитический (ионный) разрыв ковалентной связ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Box 4"/>
          <p:cNvSpPr/>
          <p:nvPr/>
        </p:nvSpPr>
        <p:spPr>
          <a:xfrm>
            <a:off x="395280" y="507204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А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В             А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+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+   (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В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−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Group 2"/>
          <p:cNvGrpSpPr/>
          <p:nvPr/>
        </p:nvGrpSpPr>
        <p:grpSpPr>
          <a:xfrm>
            <a:off x="2338560" y="5500440"/>
            <a:ext cx="1153440" cy="182520"/>
            <a:chOff x="2338560" y="5500440"/>
            <a:chExt cx="1153440" cy="182520"/>
          </a:xfrm>
        </p:grpSpPr>
        <p:sp>
          <p:nvSpPr>
            <p:cNvPr id="565" name="Line 3"/>
            <p:cNvSpPr/>
            <p:nvPr/>
          </p:nvSpPr>
          <p:spPr>
            <a:xfrm flipH="1" flipV="1">
              <a:off x="2338560" y="5500440"/>
              <a:ext cx="576720" cy="182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Line 4"/>
            <p:cNvSpPr/>
            <p:nvPr/>
          </p:nvSpPr>
          <p:spPr>
            <a:xfrm flipV="1">
              <a:off x="2915280" y="5500440"/>
              <a:ext cx="576720" cy="182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TextBox 10"/>
          <p:cNvSpPr/>
          <p:nvPr/>
        </p:nvSpPr>
        <p:spPr>
          <a:xfrm>
            <a:off x="1881360" y="5753160"/>
            <a:ext cx="11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ио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8" name="Прямая со стрелкой 18"/>
          <p:cNvCxnSpPr/>
          <p:nvPr/>
        </p:nvCxnSpPr>
        <p:spPr>
          <a:xfrm>
            <a:off x="1336680" y="5285880"/>
            <a:ext cx="643320" cy="2520"/>
          </a:xfrm>
          <a:prstGeom prst="straightConnector1">
            <a:avLst/>
          </a:prstGeom>
          <a:ln w="158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69" name="TextBox 8"/>
          <p:cNvSpPr/>
          <p:nvPr/>
        </p:nvSpPr>
        <p:spPr>
          <a:xfrm>
            <a:off x="3929040" y="4857840"/>
            <a:ext cx="4964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При гетероциклическом взрыве связующая электронная пара целиком отходит к одному из партнеров, который приобретает отрицательный заряд (-1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Box 3"/>
          <p:cNvSpPr/>
          <p:nvPr/>
        </p:nvSpPr>
        <p:spPr>
          <a:xfrm>
            <a:off x="826920" y="189000"/>
            <a:ext cx="745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54c3"/>
                </a:solidFill>
                <a:latin typeface="Arial"/>
              </a:rPr>
              <a:t>КЛАССИФИКАЦИЯ РЕАКЦИЙ И РЕАГЕНТОВ В ОРГАНИЧЕСКОЙ ХИМ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2D52-C384-4580-84AD-F9C4FA83D5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Box 31"/>
          <p:cNvSpPr/>
          <p:nvPr/>
        </p:nvSpPr>
        <p:spPr>
          <a:xfrm>
            <a:off x="357120" y="14292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ЛАССИФИКАЦИЯ РЕАКЦИЙ И РЕАГЕНТОВ В ОРГАНИЧЕСКОЙ ХИМ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Rectangle 13"/>
          <p:cNvSpPr/>
          <p:nvPr/>
        </p:nvSpPr>
        <p:spPr>
          <a:xfrm>
            <a:off x="571680" y="1231560"/>
            <a:ext cx="8215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Реагенты, в органической химии, вступающие в реакцию, подразделяют на субстраты и реагенты. Какое из двух реагирующих веществ можно считать субстратом, а какое реагентом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Это соображение удобства. Обычно более сложное вещество называют субстратом (как правило, органическое вещество). Менее сложное – реактивом (неорганическое вещество). Если в реакции 2 органических вещества, то любое из них можно считать субстра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8E11-4EFB-44F4-9EEF-72E64A68F8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Box 31"/>
          <p:cNvSpPr/>
          <p:nvPr/>
        </p:nvSpPr>
        <p:spPr>
          <a:xfrm>
            <a:off x="357120" y="14292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ЛАССИФИКАЦИЯ РЕАКЦИЙ И РЕАГЕНТОВ В ОРГАНИЧЕСКОЙ ХИМ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695880" y="1144080"/>
            <a:ext cx="802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V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 Классификация реакций по частным признак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571680" y="1801440"/>
            <a:ext cx="814356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Реакции называют в честь реаген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Пример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43080" algn="just"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Гидратация (реакция присоединения воды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43080" algn="just"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43080" algn="just"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Гидрогалогенирование (реакция присоединения галогеноводород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43080" algn="just"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43080" algn="just"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Дегидротация (реакция отщепления воды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43080" algn="just"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43080" algn="just"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Дегидрогалогенирование (реакция отщепления галогеноводорода) 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9BBD-3F00-4909-8A0C-05D0992114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1"/>
          <p:cNvSpPr/>
          <p:nvPr/>
        </p:nvSpPr>
        <p:spPr>
          <a:xfrm>
            <a:off x="2140200" y="1000800"/>
            <a:ext cx="43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ПО МЕХАНИЗМУ РЕАКЦ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642960" y="1369800"/>
            <a:ext cx="8072280" cy="53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од механизмом реакций понимают реальный путь, то которому протекает реакция. Реакция может протекать в одну стадию, а может быть многостадийной. Данные о механизме реакций получают от изучения скоростей (кинетических исследований). Большое значение имеет стереометрический (пространственный результат реакций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Если, допустим, что реакция двух вещест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протекает в одну стадию А+В=С, то скорость реакции будет определяться как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1" lang="ru-RU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х.р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∙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[А]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∙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[В]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К – константа скорости реак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Box 3"/>
          <p:cNvSpPr/>
          <p:nvPr/>
        </p:nvSpPr>
        <p:spPr>
          <a:xfrm>
            <a:off x="826920" y="189000"/>
            <a:ext cx="745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54c3"/>
                </a:solidFill>
                <a:latin typeface="Arial"/>
              </a:rPr>
              <a:t>КЛАССИФИКАЦИЯ РЕАКЦИЙ И РЕАГЕНТОВ В ОРГАНИЧЕСКОЙ ХИМ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BD90-CB7C-4A0A-8DC5-F8B8BB234B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Прямоугольник 20"/>
          <p:cNvSpPr/>
          <p:nvPr/>
        </p:nvSpPr>
        <p:spPr>
          <a:xfrm>
            <a:off x="714240" y="1052640"/>
            <a:ext cx="7529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Видно, что участвуют 2 реагента. Если реакция идет в несколько стадий, то скорость реакции будет определяться по самой медленной стад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Например, реакция между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O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1" lang="ru-RU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и СН</a:t>
            </a:r>
            <a:r>
              <a:rPr b="0" lang="ru-RU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может идти путём непосредственного взаимодейств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Rectangle 7"/>
          <p:cNvSpPr/>
          <p:nvPr/>
        </p:nvSpPr>
        <p:spPr>
          <a:xfrm>
            <a:off x="1214280" y="3140640"/>
            <a:ext cx="36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) в одну стадию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Прямоугольник 8"/>
          <p:cNvSpPr/>
          <p:nvPr/>
        </p:nvSpPr>
        <p:spPr>
          <a:xfrm>
            <a:off x="309600" y="3938760"/>
            <a:ext cx="867276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O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+  C</a:t>
            </a:r>
            <a:r>
              <a:rPr b="0" lang="el-GR" sz="2400" spc="-1" strike="noStrike" baseline="60000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[HO</a:t>
            </a:r>
            <a:r>
              <a:rPr b="0" lang="el-GR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l-GR" sz="2400" spc="-1" strike="noStrike" baseline="60000">
                <a:solidFill>
                  <a:srgbClr val="ffffff"/>
                </a:solidFill>
                <a:latin typeface="Arial"/>
                <a:ea typeface="Times New Roman"/>
              </a:rPr>
              <a:t>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· · ·  C · · · Br</a:t>
            </a:r>
            <a:r>
              <a:rPr b="0" lang="el-GR" sz="24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0" lang="el-GR" sz="2400" spc="-1" strike="noStrike" baseline="60000">
                <a:solidFill>
                  <a:srgbClr val="ffffff"/>
                </a:solidFill>
                <a:latin typeface="Arial"/>
                <a:ea typeface="Times New Roman"/>
              </a:rPr>
              <a:t> 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]       HO – 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+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0" lang="en-US" sz="2400" spc="-1" strike="noStrike" baseline="74000">
                <a:solidFill>
                  <a:srgbClr val="ffffff"/>
                </a:solidFill>
                <a:latin typeface="Arial"/>
                <a:ea typeface="Times New Roman"/>
              </a:rPr>
              <a:t>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82" name="Прямая со стрелкой 23"/>
          <p:cNvCxnSpPr/>
          <p:nvPr/>
        </p:nvCxnSpPr>
        <p:spPr>
          <a:xfrm>
            <a:off x="5986080" y="4167360"/>
            <a:ext cx="429480" cy="2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83" name="Прямая со стрелкой 24"/>
          <p:cNvCxnSpPr/>
          <p:nvPr/>
        </p:nvCxnSpPr>
        <p:spPr>
          <a:xfrm>
            <a:off x="2571840" y="4181040"/>
            <a:ext cx="429120" cy="25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grpSp>
        <p:nvGrpSpPr>
          <p:cNvPr id="584" name="Группа 25"/>
          <p:cNvGrpSpPr/>
          <p:nvPr/>
        </p:nvGrpSpPr>
        <p:grpSpPr>
          <a:xfrm>
            <a:off x="4257000" y="3581280"/>
            <a:ext cx="571680" cy="1143000"/>
            <a:chOff x="4257000" y="3581280"/>
            <a:chExt cx="571680" cy="1143000"/>
          </a:xfrm>
        </p:grpSpPr>
        <p:sp>
          <p:nvSpPr>
            <p:cNvPr id="585" name="Прямая соединительная линия 26"/>
            <p:cNvSpPr/>
            <p:nvPr/>
          </p:nvSpPr>
          <p:spPr>
            <a:xfrm>
              <a:off x="4543200" y="4365720"/>
              <a:ext cx="0" cy="35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6" name="Группа 14"/>
            <p:cNvGrpSpPr/>
            <p:nvPr/>
          </p:nvGrpSpPr>
          <p:grpSpPr>
            <a:xfrm>
              <a:off x="4257000" y="3581280"/>
              <a:ext cx="571680" cy="430200"/>
              <a:chOff x="4257000" y="3581280"/>
              <a:chExt cx="571680" cy="430200"/>
            </a:xfrm>
          </p:grpSpPr>
          <p:sp>
            <p:nvSpPr>
              <p:cNvPr id="587" name="Прямая соединительная линия 28"/>
              <p:cNvSpPr/>
              <p:nvPr/>
            </p:nvSpPr>
            <p:spPr>
              <a:xfrm>
                <a:off x="4257000" y="3581280"/>
                <a:ext cx="214200" cy="428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Прямая соединительная линия 29"/>
              <p:cNvSpPr/>
              <p:nvPr/>
            </p:nvSpPr>
            <p:spPr>
              <a:xfrm flipH="1">
                <a:off x="4623840" y="3581280"/>
                <a:ext cx="204840" cy="4302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89" name="Rectangle 12"/>
          <p:cNvSpPr/>
          <p:nvPr/>
        </p:nvSpPr>
        <p:spPr>
          <a:xfrm>
            <a:off x="642960" y="4907160"/>
            <a:ext cx="80722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В этом случае скорость реакции определяется выражение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1" lang="ru-RU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х.р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*[НО: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]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∙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[СН</a:t>
            </a:r>
            <a:r>
              <a:rPr b="1" lang="ru-RU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Box 3"/>
          <p:cNvSpPr/>
          <p:nvPr/>
        </p:nvSpPr>
        <p:spPr>
          <a:xfrm>
            <a:off x="826920" y="206280"/>
            <a:ext cx="745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54c3"/>
                </a:solidFill>
                <a:latin typeface="Arial"/>
              </a:rPr>
              <a:t>КЛАССИФИКАЦИЯ РЕАКЦИЙ И РЕАГЕНТОВ В ОРГАНИЧЕСКОЙ ХИМ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ADA6-0452-47E9-94FB-E02157AB32C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1143000" y="960480"/>
            <a:ext cx="36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) Или  в две стадии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2" name="Группа 17"/>
          <p:cNvGrpSpPr/>
          <p:nvPr/>
        </p:nvGrpSpPr>
        <p:grpSpPr>
          <a:xfrm>
            <a:off x="1214280" y="1810440"/>
            <a:ext cx="6500880" cy="525600"/>
            <a:chOff x="1214280" y="1810440"/>
            <a:chExt cx="6500880" cy="525600"/>
          </a:xfrm>
        </p:grpSpPr>
        <p:sp>
          <p:nvSpPr>
            <p:cNvPr id="593" name="Rectangle 6"/>
            <p:cNvSpPr/>
            <p:nvPr/>
          </p:nvSpPr>
          <p:spPr>
            <a:xfrm>
              <a:off x="1214280" y="1810440"/>
              <a:ext cx="65008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1619280"/>
                  <a:tab algn="l" pos="37339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а) СН</a:t>
              </a:r>
              <a:r>
                <a:rPr b="0" lang="ru-RU" sz="2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r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	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СН</a:t>
              </a:r>
              <a:r>
                <a:rPr b="0" lang="ru-RU" sz="2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3</a:t>
              </a:r>
              <a:r>
                <a:rPr b="0" lang="ru-RU" sz="2400" spc="-1" strike="noStrike" baseline="30000">
                  <a:solidFill>
                    <a:srgbClr val="ffffff"/>
                  </a:solidFill>
                  <a:latin typeface="Arial"/>
                  <a:ea typeface="Times New Roman"/>
                </a:rPr>
                <a:t>+ 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+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r</a:t>
              </a:r>
              <a:r>
                <a:rPr b="0" lang="ru-RU" sz="2400" spc="-1" strike="noStrike" baseline="30000">
                  <a:solidFill>
                    <a:srgbClr val="ffffff"/>
                  </a:solidFill>
                  <a:latin typeface="Arial"/>
                  <a:ea typeface="Times New Roman"/>
                </a:rPr>
                <a:t>−        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(медленно!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94" name="Прямая со стрелкой 19"/>
            <p:cNvCxnSpPr/>
            <p:nvPr/>
          </p:nvCxnSpPr>
          <p:spPr>
            <a:xfrm>
              <a:off x="2928600" y="2057400"/>
              <a:ext cx="429120" cy="21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</p:grpSp>
      <p:grpSp>
        <p:nvGrpSpPr>
          <p:cNvPr id="595" name="Группа 20"/>
          <p:cNvGrpSpPr/>
          <p:nvPr/>
        </p:nvGrpSpPr>
        <p:grpSpPr>
          <a:xfrm>
            <a:off x="1214280" y="2386800"/>
            <a:ext cx="6786720" cy="525600"/>
            <a:chOff x="1214280" y="2386800"/>
            <a:chExt cx="6786720" cy="525600"/>
          </a:xfrm>
        </p:grpSpPr>
        <p:sp>
          <p:nvSpPr>
            <p:cNvPr id="596" name="Rectangle 7"/>
            <p:cNvSpPr/>
            <p:nvPr/>
          </p:nvSpPr>
          <p:spPr>
            <a:xfrm>
              <a:off x="1214280" y="2386800"/>
              <a:ext cx="678672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2095560"/>
                  <a:tab algn="l" pos="37339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б) НО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: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Arial"/>
                  <a:ea typeface="Times New Roman"/>
                </a:rPr>
                <a:t>−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+ СН</a:t>
              </a:r>
              <a:r>
                <a:rPr b="0" lang="en-US" sz="2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3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Arial"/>
                  <a:ea typeface="Times New Roman"/>
                </a:rPr>
                <a:t>+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Arial"/>
                  <a:ea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СН</a:t>
              </a:r>
              <a:r>
                <a:rPr b="0" lang="en-US" sz="2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ОН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(быстро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97" name="Прямая со стрелкой 22"/>
            <p:cNvCxnSpPr/>
            <p:nvPr/>
          </p:nvCxnSpPr>
          <p:spPr>
            <a:xfrm>
              <a:off x="3714480" y="2633760"/>
              <a:ext cx="637200" cy="21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</p:grpSp>
      <p:sp>
        <p:nvSpPr>
          <p:cNvPr id="598" name="Прямоугольник 17"/>
          <p:cNvSpPr/>
          <p:nvPr/>
        </p:nvSpPr>
        <p:spPr>
          <a:xfrm>
            <a:off x="571680" y="2924280"/>
            <a:ext cx="8143560" cy="38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В этом случае скорость реакции будет задаваться выражение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1" lang="ru-RU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х.р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∙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[ СН</a:t>
            </a:r>
            <a:r>
              <a:rPr b="1" lang="ru-RU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спериментально установлено, что скорость реакции зависит как от концентрации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[СН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]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 и концентрации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[НО: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основании этих данных делаем вывод, что реакция идёт в одну стадию. Изучение скорости позволяет сделать вывод о механизме реа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Box 3"/>
          <p:cNvSpPr/>
          <p:nvPr/>
        </p:nvSpPr>
        <p:spPr>
          <a:xfrm>
            <a:off x="826920" y="260280"/>
            <a:ext cx="745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54c3"/>
                </a:solidFill>
                <a:latin typeface="Arial"/>
              </a:rPr>
              <a:t>КЛАССИФИКАЦИЯ РЕАКЦИЙ И РЕАГЕНТОВ В ОРГАНИЧЕСКОЙ ХИМ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2FBA-6BF5-4E6C-B1B4-D04DF96D821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Box 3"/>
          <p:cNvSpPr/>
          <p:nvPr/>
        </p:nvSpPr>
        <p:spPr>
          <a:xfrm>
            <a:off x="573120" y="142920"/>
            <a:ext cx="788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54c3"/>
                </a:solidFill>
                <a:latin typeface="Arial"/>
              </a:rPr>
              <a:t>КЛАССИФИКАЦИЯ РЕАКЦИЙ И РЕАГЕНТОВ В ОРГАНИЧЕСКОЙ ХИМ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Группа 9"/>
          <p:cNvGrpSpPr/>
          <p:nvPr/>
        </p:nvGrpSpPr>
        <p:grpSpPr>
          <a:xfrm>
            <a:off x="3138120" y="3141720"/>
            <a:ext cx="4151880" cy="525600"/>
            <a:chOff x="3138120" y="3141720"/>
            <a:chExt cx="4151880" cy="525600"/>
          </a:xfrm>
        </p:grpSpPr>
        <p:sp>
          <p:nvSpPr>
            <p:cNvPr id="344" name="Прямоугольник 10"/>
            <p:cNvSpPr/>
            <p:nvPr/>
          </p:nvSpPr>
          <p:spPr>
            <a:xfrm>
              <a:off x="3138120" y="3141720"/>
              <a:ext cx="41518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СН</a:t>
              </a:r>
              <a:r>
                <a:rPr b="0" lang="ru-RU" sz="2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4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+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r</a:t>
              </a:r>
              <a:r>
                <a:rPr b="0" lang="ru-RU" sz="2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	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H</a:t>
              </a:r>
              <a:r>
                <a:rPr b="0" lang="ru-RU" sz="2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r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+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B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45" name="Прямая со стрелкой 11"/>
            <p:cNvCxnSpPr/>
            <p:nvPr/>
          </p:nvCxnSpPr>
          <p:spPr>
            <a:xfrm>
              <a:off x="4703400" y="3317760"/>
              <a:ext cx="500760" cy="21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</p:grpSp>
      <p:sp>
        <p:nvSpPr>
          <p:cNvPr id="346" name="TextBox 7"/>
          <p:cNvSpPr/>
          <p:nvPr/>
        </p:nvSpPr>
        <p:spPr>
          <a:xfrm>
            <a:off x="3448080" y="213372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+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→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+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Box 13"/>
          <p:cNvSpPr/>
          <p:nvPr/>
        </p:nvSpPr>
        <p:spPr>
          <a:xfrm>
            <a:off x="971640" y="213372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Общая схем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Box 15"/>
          <p:cNvSpPr/>
          <p:nvPr/>
        </p:nvSpPr>
        <p:spPr>
          <a:xfrm>
            <a:off x="1116000" y="501336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Общая схем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17"/>
          <p:cNvSpPr/>
          <p:nvPr/>
        </p:nvSpPr>
        <p:spPr>
          <a:xfrm>
            <a:off x="970920" y="126828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Реакции замещ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Box 10"/>
          <p:cNvSpPr/>
          <p:nvPr/>
        </p:nvSpPr>
        <p:spPr>
          <a:xfrm>
            <a:off x="1476360" y="3141720"/>
            <a:ext cx="129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Пример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19"/>
          <p:cNvSpPr/>
          <p:nvPr/>
        </p:nvSpPr>
        <p:spPr>
          <a:xfrm>
            <a:off x="1185840" y="4003560"/>
            <a:ext cx="63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Реакции отщепления (элиминирования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Group 31"/>
          <p:cNvGrpSpPr/>
          <p:nvPr/>
        </p:nvGrpSpPr>
        <p:grpSpPr>
          <a:xfrm>
            <a:off x="3627360" y="4894200"/>
            <a:ext cx="4473720" cy="1104480"/>
            <a:chOff x="3627360" y="4894200"/>
            <a:chExt cx="4473720" cy="1104480"/>
          </a:xfrm>
        </p:grpSpPr>
        <p:sp>
          <p:nvSpPr>
            <p:cNvPr id="353" name="TextBox 2"/>
            <p:cNvSpPr/>
            <p:nvPr/>
          </p:nvSpPr>
          <p:spPr>
            <a:xfrm>
              <a:off x="3627360" y="5035680"/>
              <a:ext cx="447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–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–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–    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=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+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XY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TextBox 5"/>
            <p:cNvSpPr/>
            <p:nvPr/>
          </p:nvSpPr>
          <p:spPr>
            <a:xfrm>
              <a:off x="3821040" y="5538960"/>
              <a:ext cx="11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X    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20"/>
            <p:cNvSpPr/>
            <p:nvPr/>
          </p:nvSpPr>
          <p:spPr>
            <a:xfrm>
              <a:off x="3995640" y="4894200"/>
              <a:ext cx="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21"/>
            <p:cNvSpPr/>
            <p:nvPr/>
          </p:nvSpPr>
          <p:spPr>
            <a:xfrm>
              <a:off x="4546440" y="4894200"/>
              <a:ext cx="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22"/>
            <p:cNvSpPr/>
            <p:nvPr/>
          </p:nvSpPr>
          <p:spPr>
            <a:xfrm>
              <a:off x="4008600" y="5407200"/>
              <a:ext cx="0" cy="215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23"/>
            <p:cNvSpPr/>
            <p:nvPr/>
          </p:nvSpPr>
          <p:spPr>
            <a:xfrm>
              <a:off x="4559400" y="5398920"/>
              <a:ext cx="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9" name="Group 24"/>
            <p:cNvGrpSpPr/>
            <p:nvPr/>
          </p:nvGrpSpPr>
          <p:grpSpPr>
            <a:xfrm>
              <a:off x="5580000" y="5046840"/>
              <a:ext cx="228600" cy="435600"/>
              <a:chOff x="5580000" y="5046840"/>
              <a:chExt cx="228600" cy="435600"/>
            </a:xfrm>
          </p:grpSpPr>
          <p:sp>
            <p:nvSpPr>
              <p:cNvPr id="360" name="Line 25"/>
              <p:cNvSpPr/>
              <p:nvPr/>
            </p:nvSpPr>
            <p:spPr>
              <a:xfrm>
                <a:off x="5580000" y="5046840"/>
                <a:ext cx="215640" cy="144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26"/>
              <p:cNvSpPr/>
              <p:nvPr/>
            </p:nvSpPr>
            <p:spPr>
              <a:xfrm flipV="1">
                <a:off x="5592600" y="5338080"/>
                <a:ext cx="216000" cy="144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27"/>
            <p:cNvGrpSpPr/>
            <p:nvPr/>
          </p:nvGrpSpPr>
          <p:grpSpPr>
            <a:xfrm>
              <a:off x="6659280" y="5038560"/>
              <a:ext cx="228600" cy="436680"/>
              <a:chOff x="6659280" y="5038560"/>
              <a:chExt cx="228600" cy="436680"/>
            </a:xfrm>
          </p:grpSpPr>
          <p:sp>
            <p:nvSpPr>
              <p:cNvPr id="363" name="Line 28"/>
              <p:cNvSpPr/>
              <p:nvPr/>
            </p:nvSpPr>
            <p:spPr>
              <a:xfrm flipH="1">
                <a:off x="6672240" y="5038560"/>
                <a:ext cx="215640" cy="144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29"/>
              <p:cNvSpPr/>
              <p:nvPr/>
            </p:nvSpPr>
            <p:spPr>
              <a:xfrm flipH="1" flipV="1">
                <a:off x="6659280" y="5330520"/>
                <a:ext cx="216000" cy="144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5" name="Line 30"/>
            <p:cNvSpPr/>
            <p:nvPr/>
          </p:nvSpPr>
          <p:spPr>
            <a:xfrm>
              <a:off x="5076720" y="5300640"/>
              <a:ext cx="432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9AA5-B7FF-45BA-B3F7-4B9A65EC9A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оугольник 23"/>
          <p:cNvSpPr/>
          <p:nvPr/>
        </p:nvSpPr>
        <p:spPr>
          <a:xfrm>
            <a:off x="1835280" y="1844640"/>
            <a:ext cx="54576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790640"/>
                <a:tab algn="ctr" pos="34480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СН</a:t>
            </a:r>
            <a:r>
              <a:rPr b="0" lang="ru-RU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СН</a:t>
            </a:r>
            <a:r>
              <a:rPr b="0" lang="ru-RU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СН</a:t>
            </a:r>
            <a:r>
              <a:rPr b="0" lang="ru-RU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= СН</a:t>
            </a:r>
            <a:r>
              <a:rPr b="0" lang="ru-RU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7" name="Прямая со стрелкой 6"/>
          <p:cNvCxnSpPr/>
          <p:nvPr/>
        </p:nvCxnSpPr>
        <p:spPr>
          <a:xfrm>
            <a:off x="3784320" y="2071800"/>
            <a:ext cx="500760" cy="2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68" name="Rectangle 1"/>
          <p:cNvSpPr/>
          <p:nvPr/>
        </p:nvSpPr>
        <p:spPr>
          <a:xfrm>
            <a:off x="714240" y="3144240"/>
            <a:ext cx="49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790640"/>
                <a:tab algn="ctr" pos="34480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4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Реакции перегруппировк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Group 37"/>
          <p:cNvGrpSpPr/>
          <p:nvPr/>
        </p:nvGrpSpPr>
        <p:grpSpPr>
          <a:xfrm>
            <a:off x="571680" y="3889440"/>
            <a:ext cx="3279600" cy="1294560"/>
            <a:chOff x="571680" y="3889440"/>
            <a:chExt cx="3279600" cy="1294560"/>
          </a:xfrm>
        </p:grpSpPr>
        <p:sp>
          <p:nvSpPr>
            <p:cNvPr id="370" name="Прямоугольник 2"/>
            <p:cNvSpPr/>
            <p:nvPr/>
          </p:nvSpPr>
          <p:spPr>
            <a:xfrm>
              <a:off x="1761120" y="4340160"/>
              <a:ext cx="105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=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Прямоугольник 3"/>
            <p:cNvSpPr/>
            <p:nvPr/>
          </p:nvSpPr>
          <p:spPr>
            <a:xfrm>
              <a:off x="1254600" y="3889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Прямоугольник 4"/>
            <p:cNvSpPr/>
            <p:nvPr/>
          </p:nvSpPr>
          <p:spPr>
            <a:xfrm>
              <a:off x="2708280" y="38894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OO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Прямоугольник 5"/>
            <p:cNvSpPr/>
            <p:nvPr/>
          </p:nvSpPr>
          <p:spPr>
            <a:xfrm>
              <a:off x="571680" y="4724280"/>
              <a:ext cx="112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OO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Прямоугольник 6"/>
            <p:cNvSpPr/>
            <p:nvPr/>
          </p:nvSpPr>
          <p:spPr>
            <a:xfrm>
              <a:off x="2800800" y="4724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Прямая соединительная линия 18"/>
            <p:cNvSpPr/>
            <p:nvPr/>
          </p:nvSpPr>
          <p:spPr>
            <a:xfrm flipV="1">
              <a:off x="2597040" y="4203720"/>
              <a:ext cx="223920" cy="2412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Прямая соединительная линия 19"/>
            <p:cNvSpPr/>
            <p:nvPr/>
          </p:nvSpPr>
          <p:spPr>
            <a:xfrm flipV="1">
              <a:off x="1611360" y="4660920"/>
              <a:ext cx="223920" cy="2412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Прямая соединительная линия 20"/>
            <p:cNvSpPr/>
            <p:nvPr/>
          </p:nvSpPr>
          <p:spPr>
            <a:xfrm>
              <a:off x="2617920" y="4681440"/>
              <a:ext cx="225360" cy="24156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Прямая соединительная линия 21"/>
            <p:cNvSpPr/>
            <p:nvPr/>
          </p:nvSpPr>
          <p:spPr>
            <a:xfrm>
              <a:off x="1630440" y="4200480"/>
              <a:ext cx="225360" cy="2412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9" name="Group 39"/>
          <p:cNvGrpSpPr/>
          <p:nvPr/>
        </p:nvGrpSpPr>
        <p:grpSpPr>
          <a:xfrm>
            <a:off x="5076720" y="3832200"/>
            <a:ext cx="3249360" cy="1385280"/>
            <a:chOff x="5076720" y="3832200"/>
            <a:chExt cx="3249360" cy="1385280"/>
          </a:xfrm>
        </p:grpSpPr>
        <p:sp>
          <p:nvSpPr>
            <p:cNvPr id="380" name="Прямоугольник 15"/>
            <p:cNvSpPr/>
            <p:nvPr/>
          </p:nvSpPr>
          <p:spPr>
            <a:xfrm>
              <a:off x="6218640" y="4340160"/>
              <a:ext cx="105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=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Прямоугольник 17"/>
            <p:cNvSpPr/>
            <p:nvPr/>
          </p:nvSpPr>
          <p:spPr>
            <a:xfrm>
              <a:off x="7138800" y="3832200"/>
              <a:ext cx="11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OO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Прямоугольник 18"/>
            <p:cNvSpPr/>
            <p:nvPr/>
          </p:nvSpPr>
          <p:spPr>
            <a:xfrm>
              <a:off x="5076720" y="3857760"/>
              <a:ext cx="115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OO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Прямоугольник 19"/>
            <p:cNvSpPr/>
            <p:nvPr/>
          </p:nvSpPr>
          <p:spPr>
            <a:xfrm>
              <a:off x="7275960" y="4757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Прямая соединительная линия 26"/>
            <p:cNvSpPr/>
            <p:nvPr/>
          </p:nvSpPr>
          <p:spPr>
            <a:xfrm flipV="1">
              <a:off x="7059240" y="4177800"/>
              <a:ext cx="223920" cy="24156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Прямая соединительная линия 27"/>
            <p:cNvSpPr/>
            <p:nvPr/>
          </p:nvSpPr>
          <p:spPr>
            <a:xfrm flipV="1">
              <a:off x="6068880" y="4660920"/>
              <a:ext cx="223920" cy="2412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Прямая соединительная линия 28"/>
            <p:cNvSpPr/>
            <p:nvPr/>
          </p:nvSpPr>
          <p:spPr>
            <a:xfrm>
              <a:off x="7094160" y="4700520"/>
              <a:ext cx="223920" cy="2412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Прямая соединительная линия 29"/>
            <p:cNvSpPr/>
            <p:nvPr/>
          </p:nvSpPr>
          <p:spPr>
            <a:xfrm>
              <a:off x="6087240" y="4200480"/>
              <a:ext cx="223560" cy="2412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Прямоугольник 33"/>
            <p:cNvSpPr/>
            <p:nvPr/>
          </p:nvSpPr>
          <p:spPr>
            <a:xfrm>
              <a:off x="5712120" y="4757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Прямоугольник 20"/>
          <p:cNvSpPr/>
          <p:nvPr/>
        </p:nvSpPr>
        <p:spPr>
          <a:xfrm>
            <a:off x="1315080" y="551664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анс-изом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Прямоугольник 21"/>
          <p:cNvSpPr/>
          <p:nvPr/>
        </p:nvSpPr>
        <p:spPr>
          <a:xfrm>
            <a:off x="5941080" y="551664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ис-изом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Group 36"/>
          <p:cNvGrpSpPr/>
          <p:nvPr/>
        </p:nvGrpSpPr>
        <p:grpSpPr>
          <a:xfrm>
            <a:off x="4066920" y="4605480"/>
            <a:ext cx="822960" cy="137880"/>
            <a:chOff x="4066920" y="4605480"/>
            <a:chExt cx="822960" cy="137880"/>
          </a:xfrm>
        </p:grpSpPr>
        <p:cxnSp>
          <p:nvCxnSpPr>
            <p:cNvPr id="392" name="Прямая со стрелкой 33"/>
            <p:cNvCxnSpPr/>
            <p:nvPr/>
          </p:nvCxnSpPr>
          <p:spPr>
            <a:xfrm>
              <a:off x="4067280" y="4605480"/>
              <a:ext cx="822960" cy="216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93" name="Прямая со стрелкой 34"/>
            <p:cNvCxnSpPr/>
            <p:nvPr/>
          </p:nvCxnSpPr>
          <p:spPr>
            <a:xfrm flipH="1" flipV="1">
              <a:off x="4066920" y="4741560"/>
              <a:ext cx="822960" cy="216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394" name="Rectangle 35"/>
          <p:cNvSpPr/>
          <p:nvPr/>
        </p:nvSpPr>
        <p:spPr>
          <a:xfrm>
            <a:off x="1042200" y="1268280"/>
            <a:ext cx="49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Реакции отщепления (пример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42"/>
          <p:cNvGrpSpPr/>
          <p:nvPr/>
        </p:nvGrpSpPr>
        <p:grpSpPr>
          <a:xfrm>
            <a:off x="2174040" y="2217600"/>
            <a:ext cx="1532520" cy="629640"/>
            <a:chOff x="2174040" y="2217600"/>
            <a:chExt cx="1532520" cy="629640"/>
          </a:xfrm>
        </p:grpSpPr>
        <p:sp>
          <p:nvSpPr>
            <p:cNvPr id="396" name="Прямоугольник 88"/>
            <p:cNvSpPr/>
            <p:nvPr/>
          </p:nvSpPr>
          <p:spPr>
            <a:xfrm>
              <a:off x="2174040" y="2387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Прямоугольник 88"/>
            <p:cNvSpPr/>
            <p:nvPr/>
          </p:nvSpPr>
          <p:spPr>
            <a:xfrm>
              <a:off x="3068640" y="23623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O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40"/>
            <p:cNvSpPr/>
            <p:nvPr/>
          </p:nvSpPr>
          <p:spPr>
            <a:xfrm>
              <a:off x="2379600" y="2230560"/>
              <a:ext cx="0" cy="215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41"/>
            <p:cNvSpPr/>
            <p:nvPr/>
          </p:nvSpPr>
          <p:spPr>
            <a:xfrm>
              <a:off x="3255840" y="2217600"/>
              <a:ext cx="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0" name="TextBox 3"/>
          <p:cNvSpPr/>
          <p:nvPr/>
        </p:nvSpPr>
        <p:spPr>
          <a:xfrm>
            <a:off x="573120" y="230040"/>
            <a:ext cx="788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54c3"/>
                </a:solidFill>
                <a:latin typeface="Arial"/>
              </a:rPr>
              <a:t>КЛАССИФИКАЦИЯ РЕАКЦИЙ И РЕАГЕНТОВ В ОРГАНИЧЕСКОЙ ХИМ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C8A8-8E93-420D-83FF-5E322FC608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755640" y="1779840"/>
            <a:ext cx="777708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Реакции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замещения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характерны для всех классов органических соединени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Реакции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соединения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характерны только для соединений с кратной связью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Реакции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отщепления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характерны только для соединений с сильно     электроотрицательными группировками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(HCI, 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O)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3"/>
          <p:cNvSpPr/>
          <p:nvPr/>
        </p:nvSpPr>
        <p:spPr>
          <a:xfrm>
            <a:off x="573120" y="344520"/>
            <a:ext cx="78865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454c3"/>
                </a:solidFill>
                <a:latin typeface="Arial"/>
              </a:rPr>
              <a:t>КЛАССИФИКАЦИЯ РЕАКЦ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.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ИЗМЕНЕНИЮ ЧИСЛА ЧАСТИЦ В ХОДЕ РЕАКЦИЙ</a:t>
            </a:r>
            <a:r>
              <a:rPr b="1" lang="ru-RU" sz="2000" spc="-1" strike="noStrike">
                <a:solidFill>
                  <a:srgbClr val="9454c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3418200" y="1316160"/>
            <a:ext cx="174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римеч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86F4-07F2-49EB-977E-71AD5AAE60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5"/>
          <p:cNvSpPr/>
          <p:nvPr/>
        </p:nvSpPr>
        <p:spPr>
          <a:xfrm>
            <a:off x="2340000" y="18435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ТИПЫ РЕАГЕНТ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2050920" y="2423160"/>
            <a:ext cx="41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. Электрофильные (Е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2050920" y="3288240"/>
            <a:ext cx="41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. Нуклеофильные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u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10"/>
          <p:cNvSpPr/>
          <p:nvPr/>
        </p:nvSpPr>
        <p:spPr>
          <a:xfrm>
            <a:off x="2106720" y="4223160"/>
            <a:ext cx="346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. Радикальные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∙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Box 3"/>
          <p:cNvSpPr/>
          <p:nvPr/>
        </p:nvSpPr>
        <p:spPr>
          <a:xfrm>
            <a:off x="1581120" y="303120"/>
            <a:ext cx="53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54c3"/>
                </a:solidFill>
                <a:latin typeface="Arial"/>
              </a:rPr>
              <a:t>КЛАССИФИКАЦИЯ РЕАК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1476360" y="76500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по электронной природе реаг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6266-6005-4AE4-B6AD-8E7BF9901E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12"/>
          <p:cNvSpPr/>
          <p:nvPr/>
        </p:nvSpPr>
        <p:spPr>
          <a:xfrm>
            <a:off x="1908000" y="691200"/>
            <a:ext cx="57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 ЭЛЕКТРОФИЛЬНЫЕ РЕАГЕН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9"/>
          <p:cNvSpPr/>
          <p:nvPr/>
        </p:nvSpPr>
        <p:spPr>
          <a:xfrm>
            <a:off x="3780000" y="110016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электрофил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10"/>
          <p:cNvSpPr/>
          <p:nvPr/>
        </p:nvSpPr>
        <p:spPr>
          <a:xfrm>
            <a:off x="1042920" y="515772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лектрофилы можно подразделить на сильные и слабы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1042920" y="188136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лектрофил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частицы, обладающие повышенным сродством к электрону или положительно заряженным центра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2771640" y="189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54c3"/>
                </a:solidFill>
                <a:latin typeface="Arial"/>
              </a:rPr>
              <a:t>ТИПЫ РЕАГЕН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14"/>
          <p:cNvSpPr/>
          <p:nvPr/>
        </p:nvSpPr>
        <p:spPr>
          <a:xfrm>
            <a:off x="971640" y="339408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 ним относятся заряженные частицы (катионы) или нейтральные частицы, обладающие повышенным сродством к электро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241A-E80B-489B-825F-4133459575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5"/>
          <p:cNvSpPr/>
          <p:nvPr/>
        </p:nvSpPr>
        <p:spPr>
          <a:xfrm>
            <a:off x="2484360" y="1879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54c3"/>
                </a:solidFill>
                <a:latin typeface="Arial"/>
                <a:ea typeface="Times New Roman"/>
              </a:rPr>
              <a:t>ТИПЫ РЕАГЕН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755640" y="1557360"/>
            <a:ext cx="756144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льны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gCl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Cl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Cl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Br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bCl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F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nCl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другие частицы, которые нейтральные по заряду, но содержат центры с повышенным сродством к электрону (например, атомы элементов, содержащие вакантные орбитали в своей валентной оболочке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Cl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таким центром является атом алюминия, 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Br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bCl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F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nCl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атомы железа, сурьмы, бора и цинка, соответствен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2"/>
          <p:cNvSpPr/>
          <p:nvPr/>
        </p:nvSpPr>
        <p:spPr>
          <a:xfrm>
            <a:off x="1908000" y="810000"/>
            <a:ext cx="57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54c3"/>
                </a:solidFill>
                <a:latin typeface="Arial"/>
                <a:ea typeface="Times New Roman"/>
              </a:rPr>
              <a:t>1. ЭЛЕКТРОФИЛЬНЫЕ РЕАГЕН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4840-C2AD-4363-A329-A0BB33E5EC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13"/>
          <p:cNvSpPr/>
          <p:nvPr/>
        </p:nvSpPr>
        <p:spPr>
          <a:xfrm>
            <a:off x="357120" y="14292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454c3"/>
                </a:solidFill>
                <a:latin typeface="Arial"/>
              </a:rPr>
              <a:t>КЛАССИФИКАЦИЯ РЕАКЦИЙ И РЕАГЕНТОВ В ОРГАНИЧЕСКОЙ ХИМ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Прямоугольник 4"/>
          <p:cNvSpPr/>
          <p:nvPr/>
        </p:nvSpPr>
        <p:spPr>
          <a:xfrm>
            <a:off x="6573960" y="44416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Прямая соединительная линия 62"/>
          <p:cNvSpPr/>
          <p:nvPr/>
        </p:nvSpPr>
        <p:spPr>
          <a:xfrm>
            <a:off x="6831000" y="4227480"/>
            <a:ext cx="0" cy="27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5"/>
          <p:cNvSpPr/>
          <p:nvPr/>
        </p:nvSpPr>
        <p:spPr>
          <a:xfrm>
            <a:off x="611280" y="3849840"/>
            <a:ext cx="741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 С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         С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       С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56"/>
          <p:cNvSpPr/>
          <p:nvPr/>
        </p:nvSpPr>
        <p:spPr>
          <a:xfrm>
            <a:off x="5457960" y="490392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хлористый ацети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57"/>
          <p:cNvSpPr/>
          <p:nvPr/>
        </p:nvSpPr>
        <p:spPr>
          <a:xfrm>
            <a:off x="828360" y="442440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тил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58"/>
          <p:cNvSpPr/>
          <p:nvPr/>
        </p:nvSpPr>
        <p:spPr>
          <a:xfrm>
            <a:off x="3022200" y="4352760"/>
            <a:ext cx="20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хлористый эти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12"/>
          <p:cNvSpPr/>
          <p:nvPr/>
        </p:nvSpPr>
        <p:spPr>
          <a:xfrm>
            <a:off x="1979640" y="6912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54c3"/>
                </a:solidFill>
                <a:latin typeface="Arial"/>
                <a:ea typeface="Times New Roman"/>
              </a:rPr>
              <a:t>ЭЛЕКТРОФИЛЬНЫЕ РЕАГЕН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60"/>
          <p:cNvSpPr/>
          <p:nvPr/>
        </p:nvSpPr>
        <p:spPr>
          <a:xfrm>
            <a:off x="900000" y="1589040"/>
            <a:ext cx="74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абы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молекулы, обладающие небольшим сродством к электрону, которое может быть повышено образованием комплексов с сильными электрофилам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873D-A618-47D0-889C-CCD2B483B5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7:23:38Z</dcterms:created>
  <dc:creator>User</dc:creator>
  <dc:description/>
  <dc:language>en-US</dc:language>
  <cp:lastModifiedBy>Student</cp:lastModifiedBy>
  <dcterms:modified xsi:type="dcterms:W3CDTF">2013-05-03T09:54:19Z</dcterms:modified>
  <cp:revision>439</cp:revision>
  <dc:subject/>
  <dc:title>Слайд 1</dc:title>
</cp:coreProperties>
</file>