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8B7A-E709-4ADE-A7E7-6BAB7BAF39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4521-BF36-4911-A69C-4134AC5C8B9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31BE-F66B-4C13-8A06-E7A589E9F1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A1D4-74E0-4E71-8D76-5DFDEEA9C22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9930-38D0-40CC-8401-EC274572D9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02ED-707A-4F11-9564-48EC84ACAE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00DE-4C4C-468B-A916-8B618E9F9C9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9C1-47CD-4444-938E-D6E79027B5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7AD8-B059-4E12-911E-9A24EA183E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14EE-42D8-4A95-870D-ECEBDD6E40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D2B0-92C9-4FED-97AA-9892E862A1B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F28-4683-4BB1-8AA2-5DFB692C9DA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E381-D60D-447B-BB2B-75D38C218F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1969-3251-45FE-812E-1FD5631F97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45B3-5326-445E-BA01-091DE1D7CE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5877-3D63-430D-A1AB-977AEE30700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1C86-62D2-4A31-A2FA-36AEEF6B4EC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C39F-357E-4DFA-B1FB-34FCAF0F05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949-D0A2-4B4A-A7A4-8427C90349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01E1-1311-48A1-9A5B-F17551FB248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6C1C-B2EC-48DA-86CE-671741F4805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AEAD-93A7-4EBF-B4B1-F554635366E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CED-F64D-47A8-AD6F-34ECDE37082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171D-A28B-4FC4-A6F0-1734F57AB11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74F-E2E2-4CF8-9157-5CE0096F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CC8-8C54-4BBC-86AB-A3A97394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DA83A-A58E-462E-BEE7-165329B4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0006D5-A97A-4489-A8AA-BCF6F82D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1BD4E4-EBEC-4860-A6A4-2100361C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D9244-70BA-4AD8-B84D-CE68AB56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62FE48-42BD-4664-BAC9-A1992D6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C898F9-0EAB-4678-8A90-941F0A52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F17A5-CD41-44F8-A42F-2A9522BE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230795-AE15-40F0-9ED1-FB744C7E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F6E9F-35AC-46B8-BA84-443EA2C0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4DE-B123-4D94-94FB-1D08644D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F5F-F595-4A80-9DC9-C22E9215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B9D46-ACD4-42A9-A4CE-73E3628A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2B45D-D011-4B64-A93D-913A6D07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69479-68D6-4F0A-A654-0F1B850C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FFEF0-E8F5-49AA-AA81-D28F95E1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F9A54-F556-4E36-83AC-849540B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03E4F-58C1-43DA-94A0-1E27A0BD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A212A-4E38-48E5-882D-ED0C8C82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DF2-1048-441A-B439-41437E75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D589F-F93E-49E8-98A7-0C2A8C65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530A0-1652-49A3-9C61-1C82CA9B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529EF-13B2-4B1A-B487-DFC671AA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4AE35-9EC5-45D8-95BA-C5950DD6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3D180-E6F1-4434-ACFA-DA23DF4B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4953-4721-4C63-B540-602A402A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40E5-4521-4339-8729-ABC3A8E4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58EA0-4227-4904-810E-6D99FAD1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ACE1-B2DA-41BE-8408-F15538DA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B3C8-D477-4864-87FB-841A73B2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BE0-A8C3-44FB-8165-8631B223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6FB9D-E930-4CC4-95DE-5EEBFF0E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460B-1183-4E3C-89D6-14EEEFF3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758A-9CC2-4DAB-A463-D1D00E11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357B-C3D5-47A3-8C6D-212E575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94EA-87FC-4AEB-B9BE-31B46C2C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06ACE-904B-4C76-ABC0-CA7B597E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B6EB-5B3F-4C2E-8E0A-B3CF8809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1C412E-FB70-4578-883D-846EE0DC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24036-CBF8-47AA-AD0C-50CD367A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E78E7-4C11-4719-A254-7CA3DE2A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DCC-8CE0-45D2-B310-737DAD21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E4287-CCF1-44F9-85FF-22F2F68C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2EFBA-9F0F-4DFA-A696-45CDDA6B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F3BE4-DD71-4A91-A476-4BCC9289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BAA99-78BC-4976-8C78-7049416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CBFB1-37A7-4C46-A482-38CE4A43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90FC4-7814-4302-BAC3-6C6116FE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29E4A-90F2-4715-9F3B-21E4D2C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C3D57D-35E2-4AE4-84CE-98CC4DC7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96140-3D94-4336-9C47-AEBF6B9A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05A09-2C28-4406-B52B-D5DB677E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D01-CFDD-4AB2-86D7-E29498EF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6F33-9E6E-48EB-8420-016ED99D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6EC27-F95F-45E4-9831-E61EAD87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5FA35-EFCA-4413-B7ED-A2B71F8A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60C27-1F0D-4033-9D04-F7C04BC1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C40D-12E8-46BA-8B8A-ACE5B692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4E1F-AF87-4D4A-BCF4-09ED8D0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EF4B-23AB-40EF-A4DC-CCFEB21E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6E356-EFF0-48AA-8CF9-0C76D1D2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8870E-140D-499F-9394-9630FCCD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A4210-5233-4735-8BF1-27A5A370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76A-111E-414D-965A-EE0380BA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5464A-AB63-49E4-B92B-3DFCEFB5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D507-17EE-4130-876D-F2F99925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FBFE-CE92-4706-8B0A-9D4BC9A6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63C1-D08E-4293-8BA5-82596BFB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8D29C-7688-4E26-A9C4-77319A6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52819-3D7C-4D00-B2F0-64A09ECD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DB850-91A4-4064-883E-8B891ACE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29402-BE07-4324-9C05-2E9ADCE4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AF9F6-1E9F-4022-9FBB-C5E3D4BB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5086-A103-4C44-9A4F-4DC1B67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CFA-2516-4CCE-B0B2-3EEEF65D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23F25-3A89-46A0-92F0-92D02FAC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5C6AE-BAE2-4535-9AA2-BFFD8E92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8E16A-9F30-4FA1-8593-B1F7B996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039FC-157D-45A3-B642-B0E4BA01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A929A-F5E2-4E5A-8A17-6364621B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FCB4-5485-4878-B50F-E299B449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4B890-E3B8-4F45-A8DB-AA7E7FBE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FF24B-989E-40A0-8463-5E6EBC60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C9958-5173-4DA3-9CA8-6AD8C29C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65752-C3DF-4F03-BC86-68A8B4B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AE9-5ABF-43E3-91A0-4BB1C156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6ECC0-21F1-482C-861A-D0CD8309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39CBD-6A2A-43DB-9B98-07A44836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CDA8F-570B-487A-AC84-A0300791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67275-755F-4E77-9E80-779C1995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2E940-48EE-46E6-924D-43F99419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32CD67-191A-438C-AC80-2E99FE7F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74483E-558F-44EF-8466-4729A5AB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F053A-C89B-433A-A120-79E6235E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86DB7F-B42F-4974-9E50-D900D675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54BD4-7347-42EF-91A5-419C3154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974-384B-4B12-9512-602A3D5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55426-F06D-4208-8866-9B79A679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5EA07-2976-4A6D-B7E4-DB41D9A9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0D8BAF-039D-43F3-A81D-44602F89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DF20C0-FC4E-4EA8-A86C-91FF116D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2E7B4B-EED6-439D-81B5-EA3949E9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26680-03F3-4545-A5A8-5830134E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9D609-D45D-4D1C-9818-F819F4DC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B24E5C-C2D1-4E21-9D5F-7F9DC90D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B80AC-B34B-4A4E-A0C9-5EC7B8DF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928E1-86E4-4238-8DFB-BEF90CE8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BC1A-E926-4B6D-A5D4-18E6208D640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6577-E4AC-4DE2-9FD6-E51E4C23FCE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FA97-4CE2-4B5E-B32C-A91B268E3EE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7F72-6263-43E6-8011-EACEEEF2358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5BCB-080A-440A-AF47-69EDBA742EC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D8DC-52B2-43C6-BE1B-87F13B33A6F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A771-E1AF-439B-AF27-D881F49D31E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2235-42F2-4D3A-B3AA-255156E89E3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9344-8EBA-48A5-A2DB-A7816B067C2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2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кенами называются непредельные углеводороды, молекулы которых содержат одну двойную связь. Первый представитель этого класса — этилен СН2 = СН2, в связи с чем алкены также называют этиленовыми углеводородами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лижайшие гомологи этилена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Н3-СН=СН2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Н3-СН2-СН=СН2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Н3-СН=СН-СН3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Алкены применяются в качестве исходных продуктов в производстве полимерных материалов (пластмасс, каучуков, пленок) и других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лучение пластмасс – изготовление посуды, труб, пленк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Этилен (этен) Н2С=СН2 используется для получения полиэтилена, политетрафторэтилена (тефлона), этилового спирта, уксусного альдегида, галогенопроизводных и многих других органических соединений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кены используются при производстве синтетического каучука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Применяется как средство для ускоренного созревания фруктов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лен используется для повышения урожайности овощей в теплицах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лучение этиленгликоля – антифриз – понижает температуру замерзания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Пропилен (пропен) Н2С=СН2–СН3 и бутилены (бутен-1 и бутен-2) используются для получения спиртов и полимеров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оизводство уксусной кислоты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Изобутилен (2-метилпропен) Н2С=С(СН3)2 применяется в производстве синтетического каучу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лучение этанола – растворитель, используется в органическом синтез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лен и его гомологи легко окисляются, например пермарганатом калия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+ O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      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HO -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-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- OH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 этом образовался этиленгликоль - вязкая, сходная с глицерином жидкость применяемая в производстве антифризов, синтетического волокна лавсана, взрывчатых веществ. Этиленгликоль очень ядовит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5680" indent="-2656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Также этилен частично окисляется в кислороде воздуха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=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2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Cambri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- 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Cambri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ксид этилена применяется для синтеза различных органических веществ, производства уксусного альдегида, производства лаков, пластмасс, косметических препаратов, и.т.д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лен присоединяет воду, и получается этиловый спирт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 =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+ HOH      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Cambria"/>
              </a:rPr>
              <a:t>3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- C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Cambri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- OH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 реакции с галогеноводородами получается этилхлорид, применяемый для местной астенезии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=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+ HBr </a:t>
            </a:r>
            <a:r>
              <a:rPr b="0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-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r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Полимеризация. При повышенной температуре, давлении, и в присутствии катализаторов молекулы этилена соединяются друг с другом в следствие разрыва двойной связи, и образуют большие молекулы: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nC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 = C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      </a:t>
            </a:r>
            <a:r>
              <a:rPr b="0" lang="ru-RU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 (- C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 - CH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Rockwel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-)n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В результате образуется полиэтилен из которого получают множество различных пластмасс, высокооктановое горючее, синтетический каучук, и.т.д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кены, содержащие две двойные связи, называются диенами, содержащие три двойные связи — триенами и т.д. Соединения с несколькими двойными связями имеют общее название полиены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mbria"/>
              </a:rPr>
              <a:t>Известно, что современные химические технологии требуют больших капиталовложений. Уровень  затрат на химическую технологию производства олефинов очень сильно зависит от селективности процессов и степени конверсии. На фоне возросшей стоимости энергозатрат, потери этилена становятся все более весомыми в структуре себестоимости. Из этого следует, что помимо аппаратурного усовершенствования, на оптимизацию процесса влияет тип и качество вторичных веществ, в частности катализаторов, используемых на стадии селективного гидрирования при получении этилена.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 настоящее время в Российской Федерации эксплуатируются 9 предприятий по производству низших олефинов, имеющих реакторы гидрирования; также по одному предприятию в республике Беларусь (II очереди, г. Новополоцк), в Азербайджане (г. Сугмаит) и на Украине (г. Калуш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2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Развитие бимодальных технологий привело к созданию установок, позволяющих получать ПЭНД и ЛПЭВД в одном газофазном реакторе. Это позволяет значительно снизить производственные расходы. Подавляющее большинство вводимых в ближайшие годы установок по производству полиэтилена будут иметь данную конфигурацию…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mbria"/>
              </a:rPr>
              <a:t>Некоторые компании рассматривают систему каскадных реакторов как источник увеличения продуктивности и расширения ассортимента продукции.Компания Eastman Chemicals разработала катализатор, с помощью которого производятся пленкообразующие смолы, которые могут конкурировать с гексеновыми типами и даже с металлоценовыми ЛПВД пленками.Компания Equistar также заявила об усовершенствовании процесса производства смол ПНД. Другие компании, включая DuРont и Japaneses R&amp;D, занимаются разработкой новых систем катализаторов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ffffff"/>
                </a:solidFill>
                <a:latin typeface="Cambria"/>
              </a:rPr>
              <a:t>Физические свойства алкенов похожи на свойства алканов, хотя все они имеют несколько более низкие температуры плавления и кипения, чем соответствующие алканы. Например, пентан имеет температуру кипения 36 °С, а пентен-1 — 30 °С. При обычных условиях алкены С2 - С4 — газы. С5 – С15 — жидкости, начиная с C16 — твердые вещества. Алкены не растворимы в воде, хорошо растворимы в органических растворителях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88720" indent="-28872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В природе алкены встречаются редко. Поскольку алкены являются ценным сырьем для промышленного органического синтеза, разработаны многие способы их получени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Как и все другие углеводороды, алкены горят, и при обильном доступе воздуха образуют диоксид углерода и воду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СnН2n + Зn/2О2 ® nСО2↑ + nН2О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При ограниченном доступе воздуха горение алкенов может приводить к образованию монооксида углерода и воды: 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СnН2n + nО2  ® nCO↑ + nH2O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Cambria"/>
              </a:rPr>
              <a:t>Низшие алкены — важные исходные вещества для промышленного органического синтеза. Из этилена получают этиловый спирт, полиэтилен, полистирол. Пропен используют для синтеза полипропилена, фенола, ацетона, глицерина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pic>
        <p:nvPicPr>
          <p:cNvPr id="414" name="Picture 2" descr="G:\16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190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Picture 2" descr="G:\19-1.jpg"/>
          <p:cNvPicPr/>
          <p:nvPr/>
        </p:nvPicPr>
        <p:blipFill>
          <a:blip r:embed="rId2"/>
          <a:stretch/>
        </p:blipFill>
        <p:spPr>
          <a:xfrm>
            <a:off x="142920" y="1928880"/>
            <a:ext cx="87868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8:36:06Z</dcterms:created>
  <dc:creator>comp</dc:creator>
  <dc:description/>
  <dc:language>en-US</dc:language>
  <cp:lastModifiedBy>Admin</cp:lastModifiedBy>
  <dcterms:modified xsi:type="dcterms:W3CDTF">2012-01-08T16:44:39Z</dcterms:modified>
  <cp:revision>15</cp:revision>
  <dc:subject/>
  <dc:title>Применение алкенов</dc:title>
</cp:coreProperties>
</file>