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603-9691-4C05-AE46-858D8D24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68E-24C9-4F37-9D2E-FF9CF7E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D68-BE87-401E-8FB7-4D78C8C3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95B-1C6A-4F0C-AA64-19EB4066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C31-3FFE-458B-9FE7-18F5F58C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9CB-C54D-43AE-B4EE-2B08E33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AEF2-624B-45A5-A6FA-43C0A04F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CEA3-142C-4906-8840-0F1BC22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35AD-022C-480B-B0B3-DBD307EC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D0B3-D75B-46B0-A9C5-95427D6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B023-3D97-487C-A301-CDC4E921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84C-436C-4008-93E1-5B20146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045D-FDB3-438C-AF34-DA04E093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B10F-4794-4201-BEE0-7112C939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DE1B-76B5-4501-BBEE-6ADC02A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8B33-FC15-4743-8C9F-8C39060E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6CF-B048-47A9-9381-4838490E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7EA-7FAE-43CF-AD6E-01B1F20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593-5A3C-46B2-BBB3-08DF68E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F5A-905A-4599-B6A7-E698675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D78E-7915-48D9-B20D-9625C25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663-578C-498E-B6D7-975CA36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040-0204-487B-B02E-DEE7AF3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C74-C967-4CAE-A939-51DD385A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175-567C-47AA-8E70-425E5FE5EC9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CFFD-CE96-4A9A-8CDF-5C3D41E816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елок – это высокомолекулярное органическое соединение, представляющее собой биополимер, состоящий из мономеров,  которыми являются аминокислоты соединенные пептидной связью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L23p02p01"/>
          <p:cNvPicPr/>
          <p:nvPr/>
        </p:nvPicPr>
        <p:blipFill>
          <a:blip r:embed="rId1"/>
          <a:stretch/>
        </p:blipFill>
        <p:spPr>
          <a:xfrm>
            <a:off x="3635280" y="2860560"/>
            <a:ext cx="550872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дорастворимые белки образуют коллоидные раств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L1p07p00"/>
          <p:cNvPicPr/>
          <p:nvPr/>
        </p:nvPicPr>
        <p:blipFill>
          <a:blip r:embed="rId1"/>
          <a:stretch/>
        </p:blipFill>
        <p:spPr>
          <a:xfrm>
            <a:off x="971640" y="2852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обработке хлоридом натрия бел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ысаливаютс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раствора. Этот процесс обрати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02"/>
          <p:cNvPicPr/>
          <p:nvPr/>
        </p:nvPicPr>
        <p:blipFill>
          <a:blip r:embed="rId1"/>
          <a:stretch/>
        </p:blipFill>
        <p:spPr>
          <a:xfrm>
            <a:off x="4572000" y="2421000"/>
            <a:ext cx="226692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ислоты, щелочи и высокая температура разрушают структуру белков и приводят к их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и такж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ирую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д действием спирта и тяжелых метал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– процесс необратимы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75920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местите кусочек прессованного творога в пробирку и добавьте несколько капель азотной кислоты. Осторожно нагрейт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Ксантопротеин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7" descr="L24p8p00"/>
          <p:cNvPicPr/>
          <p:nvPr/>
        </p:nvPicPr>
        <p:blipFill>
          <a:blip r:embed="rId1"/>
          <a:stretch/>
        </p:blipFill>
        <p:spPr>
          <a:xfrm>
            <a:off x="2484360" y="2421000"/>
            <a:ext cx="185436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лейте в пробирку 2 мл яичного белка . Добавьте такой же объем концентрированного раствора гидроксида натрия и несколько капель раствора сульфата меди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Биуретовая реак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7" descr="GCH_3C24_07Nd"/>
          <p:cNvPicPr/>
          <p:nvPr/>
        </p:nvPicPr>
        <p:blipFill>
          <a:blip r:embed="rId1"/>
          <a:stretch/>
        </p:blipFill>
        <p:spPr>
          <a:xfrm>
            <a:off x="4643280" y="2565360"/>
            <a:ext cx="420876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идролиз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лков – разрушение первич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енатурация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полное разрушение пространственной структуры бел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ратимая д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частичное разрушение пространственной структуры белка. Обратный процесс называется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енатур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18" descr="001"/>
          <p:cNvPicPr/>
          <p:nvPr/>
        </p:nvPicPr>
        <p:blipFill>
          <a:blip r:embed="rId1"/>
          <a:stretch/>
        </p:blipFill>
        <p:spPr>
          <a:xfrm>
            <a:off x="1181160" y="2382840"/>
            <a:ext cx="3144600" cy="1803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2"/>
          <p:cNvPicPr/>
          <p:nvPr/>
        </p:nvPicPr>
        <p:blipFill>
          <a:blip r:embed="rId2"/>
          <a:stretch/>
        </p:blipFill>
        <p:spPr>
          <a:xfrm>
            <a:off x="1150920" y="4481640"/>
            <a:ext cx="3165480" cy="160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" descr="03"/>
          <p:cNvPicPr/>
          <p:nvPr/>
        </p:nvPicPr>
        <p:blipFill>
          <a:blip r:embed="rId3"/>
          <a:stretch/>
        </p:blipFill>
        <p:spPr>
          <a:xfrm>
            <a:off x="4971960" y="4179960"/>
            <a:ext cx="3311640" cy="1987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1"/>
          <p:cNvPicPr/>
          <p:nvPr/>
        </p:nvPicPr>
        <p:blipFill>
          <a:blip r:embed="rId4"/>
          <a:stretch/>
        </p:blipFill>
        <p:spPr>
          <a:xfrm>
            <a:off x="4842000" y="2362320"/>
            <a:ext cx="360828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9" descr="1"/>
          <p:cNvPicPr/>
          <p:nvPr/>
        </p:nvPicPr>
        <p:blipFill>
          <a:blip r:embed="rId1"/>
          <a:stretch/>
        </p:blipFill>
        <p:spPr>
          <a:xfrm>
            <a:off x="1413000" y="2362320"/>
            <a:ext cx="2668320" cy="179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"/>
          <p:cNvPicPr/>
          <p:nvPr/>
        </p:nvPicPr>
        <p:blipFill>
          <a:blip r:embed="rId2"/>
          <a:stretch/>
        </p:blipFill>
        <p:spPr>
          <a:xfrm>
            <a:off x="5415120" y="2362320"/>
            <a:ext cx="2570040" cy="1792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"/>
          <p:cNvPicPr/>
          <p:nvPr/>
        </p:nvPicPr>
        <p:blipFill>
          <a:blip r:embed="rId3"/>
          <a:stretch/>
        </p:blipFill>
        <p:spPr>
          <a:xfrm>
            <a:off x="1386000" y="4460760"/>
            <a:ext cx="2693880" cy="1629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1"/>
          <p:cNvPicPr/>
          <p:nvPr/>
        </p:nvPicPr>
        <p:blipFill>
          <a:blip r:embed="rId4"/>
          <a:stretch/>
        </p:blipFill>
        <p:spPr>
          <a:xfrm>
            <a:off x="5424480" y="4294080"/>
            <a:ext cx="25606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иосинтез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Picture 6" descr="08020302"/>
          <p:cNvPicPr/>
          <p:nvPr/>
        </p:nvPicPr>
        <p:blipFill>
          <a:blip r:embed="rId1"/>
          <a:stretch/>
        </p:blipFill>
        <p:spPr>
          <a:xfrm>
            <a:off x="1763640" y="242100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понят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крип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считывание генетической информации о первичной структуре белка с ДНК на РН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ля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ередача генетической информации, закодированной в иРНК на рибосом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ансформац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остроение первичной структуры белка по матрице иРНК с помощью тРНК и аминокисло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находящийся на тРНК комплиментарный триплету на иРНК, находящемуся на месте сборки белковой молекул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Антикодо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триплет нуклеотидов, комплиментарный кодону и соответствующий определенной аминокисло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минокисл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H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 C    C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87640" y="2852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ными структурными компонентами белков являются аминокислот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2987640" y="3645000"/>
            <a:ext cx="482760" cy="50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88720" cy="20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248436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1908000" y="3357720"/>
            <a:ext cx="289080" cy="20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5"/>
          <a:stretch/>
        </p:blipFill>
        <p:spPr>
          <a:xfrm>
            <a:off x="2916360" y="2708280"/>
            <a:ext cx="544320" cy="62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6"/>
          <a:stretch/>
        </p:blipFill>
        <p:spPr>
          <a:xfrm>
            <a:off x="1692360" y="3645000"/>
            <a:ext cx="136440" cy="49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7"/>
          <a:stretch/>
        </p:blipFill>
        <p:spPr>
          <a:xfrm>
            <a:off x="2268360" y="3645000"/>
            <a:ext cx="136800" cy="498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8"/>
          <a:stretch/>
        </p:blipFill>
        <p:spPr>
          <a:xfrm>
            <a:off x="2268360" y="2781360"/>
            <a:ext cx="136800" cy="50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9"/>
          <a:stretch/>
        </p:blipFill>
        <p:spPr>
          <a:xfrm>
            <a:off x="1692360" y="2781360"/>
            <a:ext cx="136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Baskerville Old Face"/>
              </a:rPr>
              <a:t>«Я всегда говорил и не устаю повторять, что мир не мог существовать, если бы был так просто устроен.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588000" y="2708280"/>
            <a:ext cx="118440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Ге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разование пептидной связ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50560" y="4149360"/>
            <a:ext cx="79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N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OO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551628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Связь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CO – NH –</a:t>
            </a:r>
            <a:r>
              <a:rPr b="0" lang="ru-RU" sz="2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, соединяющая отдельные аминокислоты в пептид, называется пептидной.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Аминокислоты могут реагировать друг с другом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арбоксильная группа одной аминокислоты реагирует с аминогруппой другой аминокислоты с образованием пептидной связи и молекулы воды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ервичная структур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олипептидная цепь линейной формы из последовательно соединенных пептидной связью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O – NH –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минокисло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3933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–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H – CH – CO – NH – CH – CO – NH – CH –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1   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2    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Object 19"/>
          <p:cNvGraphicFramePr/>
          <p:nvPr/>
        </p:nvGraphicFramePr>
        <p:xfrm>
          <a:off x="1908000" y="4508640"/>
          <a:ext cx="2239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508640"/>
                    <a:ext cx="223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22"/>
          <p:cNvGraphicFramePr/>
          <p:nvPr/>
        </p:nvGraphicFramePr>
        <p:xfrm>
          <a:off x="5219640" y="4508640"/>
          <a:ext cx="223920" cy="50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4508640"/>
                    <a:ext cx="2239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5"/>
          <p:cNvGraphicFramePr/>
          <p:nvPr/>
        </p:nvGraphicFramePr>
        <p:xfrm>
          <a:off x="8244000" y="4653000"/>
          <a:ext cx="20484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44000" y="4653000"/>
                    <a:ext cx="204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Вторичная структура – возникает за счет скручивания первичной структуры в спираль или в гармошку за счет водородных связей между соседними витками или звень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5" descr="L23p10p00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Третичная структура – это глобулярная форма, образующаяся за счет гидрофобных связей между радикалами аминокислот вторичной структ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L23p02p02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руктура бел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Четвертичная структура – представляет собой объединение нескольких глобул с третичной структурой в единый конгломера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L23p10p01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Белки – основа органической жизн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Жизнь есть способ существования белковых тел…» (Ф.Энгель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ойства бел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772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лки могут быть как растворимы, так и нерастворимы в воде в зависимости от их состава и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9" descr="01"/>
          <p:cNvPicPr/>
          <p:nvPr/>
        </p:nvPicPr>
        <p:blipFill>
          <a:blip r:embed="rId1"/>
          <a:stretch/>
        </p:blipFill>
        <p:spPr>
          <a:xfrm>
            <a:off x="4427640" y="2492280"/>
            <a:ext cx="4356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7:47:06Z</dcterms:created>
  <dc:creator>Jill</dc:creator>
  <dc:description/>
  <dc:language>en-US</dc:language>
  <cp:lastModifiedBy>Admin</cp:lastModifiedBy>
  <dcterms:modified xsi:type="dcterms:W3CDTF">2012-02-01T13:28:28Z</dcterms:modified>
  <cp:revision>15</cp:revision>
  <dc:subject/>
  <dc:title>Слайд 1</dc:title>
</cp:coreProperties>
</file>