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47D4-D8BD-4093-A898-9E3ECF3124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4288-E979-4BE9-A081-28DD7DACB8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1B8D-BDA5-4C64-A11F-3A4024FCCA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EDA5-7295-4979-A137-CCDCF67779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3810-3A87-48D0-B5D9-26963C735B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BDF9-49F1-4ABC-BFC0-652F0D3426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187A-68BF-4392-932B-A4640310F7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96F7-6A77-4DEF-82C0-4A03D7A665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7B71-E52E-406E-AD22-49C3A72AA1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E3CB-03C2-4570-9547-4B5FB70328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C146-92E6-43EC-B624-457F2358B5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06C6-1221-4F48-90BA-16C55B354F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CFD0-259F-4291-9824-B4106438EF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795D-73AE-4DDE-9E7A-11FF099442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E954-161D-41A0-A709-8BF845F55E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6B24-DC75-4DBF-8E16-B4F6ED2CD9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5F9-7ED8-442E-B68D-7D7F008807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1D64-0E97-4DAD-A023-0DA5D1A6B2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2A7E-7656-40D3-963E-94396185C8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6DAF-6B4A-4FE9-AB72-CB423D79E5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8360-4318-4EE7-9E20-DB9D2865EC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1C1C-B4E4-4FE8-8EB1-BDEA52BD37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E63A-4D5B-4B07-BA03-7D70663E81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CCD9-30B6-4604-B8E0-CEFF2635B5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4454-47B6-44F9-829C-2DE1DCD142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78B8-90B4-4664-8911-062098FBEE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EAE-26F6-4F0E-B9DB-1DD2E801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353-8912-4C1C-8F5B-52778FC4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FF5-7932-4F53-BF4D-FC17F839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EBC-FFAC-45D2-8329-3156BF65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468F-8347-418E-8966-CFAE73C3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DB69-E8BE-4092-A29D-AE303C79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DACB-7447-475F-A74D-7A8956E0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743F-0A78-48C2-B16E-738E3387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F2CD-BC04-4B82-81CA-94CC4DB2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A0D6-E04F-4DF6-9679-C1F9A411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9586-D7B0-40AB-9C98-E9C12033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DF6-5518-40CA-90B2-682AC0FE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4A2B-EB92-40E7-A410-0B4119B1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08B3-2633-4B44-B583-5575D761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6CD1-851D-490F-A02B-2C5D84BF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7F39-84C3-4395-9646-2A649D18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3304-13B6-4EF1-B1D7-2155BACC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C6D7-8242-45E1-81C7-227D11A0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000C-127D-4C69-9733-A762F2F4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5FE9-EB53-4767-B4B2-2F2D45E6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8C96F-72D8-4479-B3C9-1DFC52C7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D39F-8078-45EB-ADCA-7F429A0B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F22-4537-40F3-8507-D435A542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BF9B-51F6-474D-A2DB-E32A68ED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9FFD-C12B-4F6F-B8B1-1F4EAE4B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F81F-E15D-40FF-86F2-A5A24353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5187-61C5-4ACF-B0FD-9B7C0FDE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686E3-BD46-4D73-9EAD-EAF7BA09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CA9E-9E69-4455-99D6-547E92C0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1F671-25A7-4B70-9545-23FDAF7A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EB73C-EDBC-40B9-8495-DB7CCFB8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43A2E-8C74-4022-A2D2-0DB8F3A3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A952D-B71B-4012-ADA8-370AC86B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B5E-24DD-4E60-BEB2-FB8452D2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0402-D331-4E71-8E4B-60E78A7A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9310-41E5-48AE-8137-0E43CA0B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2B776-B6CC-4873-8B91-E9481707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DE1F5-94F8-4112-9805-E6D4EC53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6F80-C2BD-4599-BF0A-30BF259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559EA-7AAC-479A-A1FC-306EAEEF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9F0EB-2B93-4748-B038-0DC21082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D215B-856B-4B12-9216-8BB4FC88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0512-8C03-47D6-9A76-BE8A30A0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0F202-7F37-414C-AD81-17CAFD73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BB6-EB70-45CA-A273-54F80BC2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ABF9-4F09-4278-A668-6932B189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12D37-B378-4EAD-B853-4712ABD3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489F8-5E65-474C-ACC9-561F458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1C21D-5DEB-4ADD-9294-BF1DC736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7B0EC-60FE-4723-AB0D-8C79783D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01145-816D-4089-A367-E5749BAF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E229F-2708-488E-8D4D-C6F74FD9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F16D5-AAC8-4277-B3C2-FFC2BA95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9E6D2-88F6-417C-8069-BC29A0FF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03F87-015C-4427-804E-853CE84B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5AA-6DC5-454D-980D-1D34FF94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0CFD4-3AF9-427D-B94E-CA42E426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1C9E5-7D48-4B45-8C48-3FC81454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172F2-A0BB-42C8-9107-DED4A1E3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5995-F370-48B2-8CCD-8BD60114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459A7-8C6B-4FEC-A7FA-C32B2524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9D9F0-B225-4EF4-8C50-61E2B3EF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42A87-B514-483C-8735-9D2DB149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7E533-238D-47A9-B780-CF82CDA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4F47C-F0C4-49A8-BA48-75E7026C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D6828-0580-448D-8F0C-FF3D73BE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8C1-528A-44D8-84B4-69F08D29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B2DE1-C5FD-4216-843E-51CACC1C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58EF1-B0CD-4372-8A65-03B0E901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500EB-0103-49E4-A753-3900F572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5D1-D34E-46C8-BAAB-F018F921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DB1-DAE3-4817-89ED-D64728BD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5952-6150-4443-A891-52B39D8C2FB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B871-719C-431C-BB4D-8BACCE1A114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3060-35DB-4762-A7A9-D747D552023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0509-C694-46E5-8148-F2AD11A7418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51ED-6CC3-4012-AE87-1F0DEFDA557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ADA-83B0-4CA3-91BF-08AB10BFBAD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-665280" y="1852560"/>
            <a:ext cx="10631520" cy="3116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E:\001.jpg"/>
          <p:cNvPicPr/>
          <p:nvPr/>
        </p:nvPicPr>
        <p:blipFill>
          <a:blip r:embed="rId1"/>
          <a:stretch/>
        </p:blipFill>
        <p:spPr>
          <a:xfrm>
            <a:off x="1143000" y="1066680"/>
            <a:ext cx="7086600" cy="54514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ЗАВОД ВО ВЬЕТНАМЕ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228600" y="-584640"/>
            <a:ext cx="89154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Хлоропреновый каучук благодаря своей негорючести, термостойкости, светостойкости, а также устойчивости к воздействию масел находит широкое применение в производстве резино-технических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учуки на основе кремнийорганических соединений отличаются сохранением эластических свойств как при низких, так и при высоких температурах; каучуки на основе фторорганических соединений сочетают высокую термостойкость с почти абсолютной химической устойчивостью; каучуки, полученные сополимеризацией дивинила с акрилонитрилом, хорошо выдерживают действие бензина и других нефтепродуктов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04920" y="1600200"/>
            <a:ext cx="9753840" cy="26668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ВУЛКАНИЗАЦИЯ</a:t>
            </a:r>
            <a:endParaRPr b="0" lang="en-US" sz="88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med"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585720" y="201600"/>
            <a:ext cx="8045640" cy="6364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0880" y="5335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Сущность вулканизации заключается в образовании новых поперечных связей между полимерными цепями. При вулканизации серой мостики образуют дисульфидные группы, а при радикальной вулканизации появляются поперечные связи между полимерными цепями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          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СН3            |    ...-СН2-С-СН2-СН2-         | ...-СН2-С-СН2-СН2-         |  |         СН3 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       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СН3         | ...-СН2-С-СН2-СН2-         |         S         |         S         | ...-СН2-С-СН2-СН2-         |        СН3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Для получения резиновых изделий сначала формуют изделия из смеси каучука с серой, а также так называемыми наполнителями – сажей, мелом, глиной и некоторыми органическими соединениями, которые служат ускорителями вулканизации. Затем изделия подвергаются нагреванию –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горячей вулканизации</a:t>
            </a:r>
            <a:r>
              <a:rPr b="1" lang="ru-RU" sz="2400" spc="-1" strike="noStrike">
                <a:solidFill>
                  <a:srgbClr val="4e3b3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04560" y="380880"/>
            <a:ext cx="8381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и холодной вулканизации</a:t>
            </a:r>
            <a:r>
              <a:rPr b="1" lang="ru-RU" sz="3200" spc="-1" strike="noStrike">
                <a:solidFill>
                  <a:srgbClr val="4e3b30"/>
                </a:solidFill>
                <a:latin typeface="Monotype Corsiva"/>
              </a:rPr>
              <a:t>, которая применяется для тонких и мелких изделий (прорезиненные ткани, тонкие трубки и т.д.), их непродолжительное время обрабатывают раствором серы в сероуглероде или в хлористой сере. Каучук с большим содержанием серы (до 32%) представляет собой твердое неэластичное вещество и называется эбонитом; применяется он как изолятор в электроприбора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Monotype Corsiva"/>
              </a:rPr>
              <a:t> </a:t>
            </a:r>
            <a:r>
              <a:rPr b="1" lang="ru-RU" sz="3200" spc="-1" strike="noStrike">
                <a:solidFill>
                  <a:srgbClr val="4e3b30"/>
                </a:solidFill>
                <a:latin typeface="Monotype Corsiva"/>
              </a:rPr>
              <a:t>В результате вулканизации сера химически связывается с каучуком. Кроме того, в вулканизированном каучуке содержится в виде мельчайших частиц и свободная сер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457200" y="236232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КАУЧУКОВЫЕ </a:t>
            </a:r>
            <a:br>
              <a:rPr sz="9600"/>
            </a:b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ИЗДЕЛИЯ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med">
    <p:newsflash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E:\amerityre-arcus-nm.jpg"/>
          <p:cNvPicPr/>
          <p:nvPr/>
        </p:nvPicPr>
        <p:blipFill>
          <a:blip r:embed="rId2"/>
          <a:stretch/>
        </p:blipFill>
        <p:spPr>
          <a:xfrm>
            <a:off x="1219320" y="0"/>
            <a:ext cx="6705360" cy="6748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E:\rezina2.jpg"/>
          <p:cNvPicPr/>
          <p:nvPr/>
        </p:nvPicPr>
        <p:blipFill>
          <a:blip r:embed="rId1"/>
          <a:stretch/>
        </p:blipFill>
        <p:spPr>
          <a:xfrm>
            <a:off x="1523880" y="380880"/>
            <a:ext cx="624852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E:\11932545.jpg"/>
          <p:cNvPicPr/>
          <p:nvPr/>
        </p:nvPicPr>
        <p:blipFill>
          <a:blip r:embed="rId1"/>
          <a:stretch/>
        </p:blipFill>
        <p:spPr>
          <a:xfrm>
            <a:off x="457200" y="34308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Заголовок 1"/>
          <p:cNvSpPr/>
          <p:nvPr/>
        </p:nvSpPr>
        <p:spPr>
          <a:xfrm>
            <a:off x="685800" y="1676520"/>
            <a:ext cx="784872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Алкадиены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— непредельные углеводороды, содержащие две двойные связи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Общая формула алкадиенов </a:t>
            </a: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n</a:t>
            </a: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Н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n-2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.</a:t>
            </a:r>
            <a:br>
              <a:rPr sz="4800"/>
            </a:br>
            <a:r>
              <a:rPr b="0" lang="ru-RU" sz="900" spc="-1" strike="noStrike">
                <a:solidFill>
                  <a:srgbClr val="000000"/>
                </a:solidFill>
                <a:latin typeface="Franklin Gothic Medium"/>
              </a:rPr>
              <a:t> 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E:\moulded main page.jpg"/>
          <p:cNvPicPr/>
          <p:nvPr/>
        </p:nvPicPr>
        <p:blipFill>
          <a:blip r:embed="rId1"/>
          <a:stretch/>
        </p:blipFill>
        <p:spPr>
          <a:xfrm>
            <a:off x="225360" y="685800"/>
            <a:ext cx="85820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E:\11653379.jpg"/>
          <p:cNvPicPr/>
          <p:nvPr/>
        </p:nvPicPr>
        <p:blipFill>
          <a:blip r:embed="rId1"/>
          <a:stretch/>
        </p:blipFill>
        <p:spPr>
          <a:xfrm>
            <a:off x="353880" y="533520"/>
            <a:ext cx="8180640" cy="5871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E:\gran18-big.jpg"/>
          <p:cNvPicPr/>
          <p:nvPr/>
        </p:nvPicPr>
        <p:blipFill>
          <a:blip r:embed="rId1"/>
          <a:stretch/>
        </p:blipFill>
        <p:spPr>
          <a:xfrm>
            <a:off x="228600" y="533520"/>
            <a:ext cx="4229280" cy="555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E:\ViKUNG_21.jpg"/>
          <p:cNvPicPr/>
          <p:nvPr/>
        </p:nvPicPr>
        <p:blipFill>
          <a:blip r:embed="rId2"/>
          <a:stretch/>
        </p:blipFill>
        <p:spPr>
          <a:xfrm>
            <a:off x="4343400" y="533520"/>
            <a:ext cx="4521240" cy="5562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E:\017_1_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3" descr="E:\br5030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E:\broshka.jpg"/>
          <p:cNvPicPr/>
          <p:nvPr/>
        </p:nvPicPr>
        <p:blipFill>
          <a:blip r:embed="rId1"/>
          <a:stretch/>
        </p:blipFill>
        <p:spPr>
          <a:xfrm>
            <a:off x="2133720" y="0"/>
            <a:ext cx="4647960" cy="6762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10591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ПРИМЕНЕНИЕ</a:t>
            </a:r>
            <a:endParaRPr b="0" lang="en-US" sz="88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СОВРЕМЕННОЙ ПРОМЫШЛЕННОСТИ ВАЖНУЮ РОЛЬ ИГРАЮТ ЭЛАСТОМЕРЫ – ВЫСОКОМОЛЕКУЛЯРНЫЕ ВЕЩЕСТВА, СОХРАНЯЮЩИЕ ЭЛАСТИЧНОСТЬ В ШИРОКОМ ИНТЕРВАЛЕ ТЕМПЕРАТУР. ЭЛАСТОМЕРЫ ЛЕГКО ИЗМЕНЯЮТ ФОРМУ ПРИ ВНЕШНЕМ ВОЗДЕЙСТВИИ, А ПОСЛЕ ОКОНЧАНИЯ ВОЗДЕЙСТВИЯ ПРИНИМАЮТ ИСХОДНУЮ ФОРМУ. ТИПИЧНЫМИ ЭЛАСТОМЕРАМИ ЯВЛЯЮТСЯ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КАУЧУКИ.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7"/>
          <p:cNvSpPr/>
          <p:nvPr/>
        </p:nvSpPr>
        <p:spPr>
          <a:xfrm>
            <a:off x="2590920" y="304920"/>
            <a:ext cx="3657600" cy="1295280"/>
          </a:xfrm>
          <a:prstGeom prst="rect">
            <a:avLst/>
          </a:prstGeom>
          <a:solidFill>
            <a:srgbClr val="0070c0"/>
          </a:solidFill>
          <a:ln w="25560">
            <a:solidFill>
              <a:srgbClr val="b0761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КАУЧУ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Управляющая кнопка: настраиваемая 9">
            <a:hlinkClick r:id="" action="ppaction://hlinkshowjump?jump=nextslide"/>
          </p:cNvPr>
          <p:cNvSpPr/>
          <p:nvPr/>
        </p:nvSpPr>
        <p:spPr>
          <a:xfrm>
            <a:off x="457200" y="4114800"/>
            <a:ext cx="3429000" cy="1981080"/>
          </a:xfrm>
          <a:custGeom>
            <a:avLst/>
            <a:gdLst>
              <a:gd name="textAreaLeft" fmla="*/ 128160 w 3429000"/>
              <a:gd name="textAreaRight" fmla="*/ 3300840 w 3429000"/>
              <a:gd name="textAreaTop" fmla="*/ 128160 h 1981080"/>
              <a:gd name="textAreaBottom" fmla="*/ 1852920 h 1981080"/>
            </a:gdLst>
            <a:ahLst/>
            <a:rect l="textAreaLeft" t="textAreaTop" r="textAreaRight" b="textAreaBottom"/>
            <a:pathLst>
              <a:path w="37384" h="21600">
                <a:moveTo>
                  <a:pt x="0" y="0"/>
                </a:moveTo>
                <a:lnTo>
                  <a:pt x="37384" y="0"/>
                </a:lnTo>
                <a:lnTo>
                  <a:pt x="37384" y="21600"/>
                </a:lnTo>
                <a:lnTo>
                  <a:pt x="0" y="21600"/>
                </a:lnTo>
                <a:close/>
              </a:path>
              <a:path fill="lightenLess" w="37384" h="21600">
                <a:moveTo>
                  <a:pt x="0" y="0"/>
                </a:moveTo>
                <a:lnTo>
                  <a:pt x="37384" y="0"/>
                </a:lnTo>
                <a:lnTo>
                  <a:pt x="35984" y="1400"/>
                </a:lnTo>
                <a:lnTo>
                  <a:pt x="1400" y="1400"/>
                </a:lnTo>
                <a:close/>
              </a:path>
              <a:path fill="darken" w="37384" h="21600">
                <a:moveTo>
                  <a:pt x="37384" y="0"/>
                </a:moveTo>
                <a:lnTo>
                  <a:pt x="37384" y="21600"/>
                </a:lnTo>
                <a:lnTo>
                  <a:pt x="35984" y="20200"/>
                </a:lnTo>
                <a:lnTo>
                  <a:pt x="35984" y="1400"/>
                </a:lnTo>
                <a:close/>
              </a:path>
              <a:path fill="darkenLess" w="37384" h="21600">
                <a:moveTo>
                  <a:pt x="3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84" y="20200"/>
                </a:lnTo>
                <a:close/>
              </a:path>
              <a:path fill="lighten" w="3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b0761f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Натуральный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Управляющая кнопка: настраиваемая 10">
            <a:hlinkClick r:id="rId1" action="ppaction://hlinksldjump"/>
          </p:cNvPr>
          <p:cNvSpPr/>
          <p:nvPr/>
        </p:nvSpPr>
        <p:spPr>
          <a:xfrm>
            <a:off x="5257800" y="4114800"/>
            <a:ext cx="3352680" cy="1905120"/>
          </a:xfrm>
          <a:custGeom>
            <a:avLst/>
            <a:gdLst>
              <a:gd name="textAreaLeft" fmla="*/ 123480 w 3352680"/>
              <a:gd name="textAreaRight" fmla="*/ 3229200 w 335268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8009" h="21600">
                <a:moveTo>
                  <a:pt x="0" y="0"/>
                </a:moveTo>
                <a:lnTo>
                  <a:pt x="38009" y="0"/>
                </a:lnTo>
                <a:lnTo>
                  <a:pt x="38009" y="21600"/>
                </a:lnTo>
                <a:lnTo>
                  <a:pt x="0" y="21600"/>
                </a:lnTo>
                <a:close/>
              </a:path>
              <a:path fill="lightenLess" w="38009" h="21600">
                <a:moveTo>
                  <a:pt x="0" y="0"/>
                </a:moveTo>
                <a:lnTo>
                  <a:pt x="38009" y="0"/>
                </a:lnTo>
                <a:lnTo>
                  <a:pt x="36609" y="1400"/>
                </a:lnTo>
                <a:lnTo>
                  <a:pt x="1400" y="1400"/>
                </a:lnTo>
                <a:close/>
              </a:path>
              <a:path fill="darken" w="38009" h="21600">
                <a:moveTo>
                  <a:pt x="38009" y="0"/>
                </a:moveTo>
                <a:lnTo>
                  <a:pt x="38009" y="21600"/>
                </a:lnTo>
                <a:lnTo>
                  <a:pt x="36609" y="20200"/>
                </a:lnTo>
                <a:lnTo>
                  <a:pt x="36609" y="1400"/>
                </a:lnTo>
                <a:close/>
              </a:path>
              <a:path fill="darkenLess" w="38009" h="21600">
                <a:moveTo>
                  <a:pt x="38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09" y="20200"/>
                </a:lnTo>
                <a:close/>
              </a:path>
              <a:path fill="lighten" w="38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b0761f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Синтет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Стрелка вниз 12"/>
          <p:cNvSpPr/>
          <p:nvPr/>
        </p:nvSpPr>
        <p:spPr>
          <a:xfrm rot="2299800">
            <a:off x="2666520" y="1905120"/>
            <a:ext cx="838440" cy="182880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трелка вниз 13"/>
          <p:cNvSpPr/>
          <p:nvPr/>
        </p:nvSpPr>
        <p:spPr>
          <a:xfrm rot="19709400">
            <a:off x="5105160" y="1981080"/>
            <a:ext cx="838080" cy="18288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457200" y="55440"/>
            <a:ext cx="8180280" cy="6521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E:\IMG_8452_1024.jpg"/>
          <p:cNvPicPr/>
          <p:nvPr/>
        </p:nvPicPr>
        <p:blipFill>
          <a:blip r:embed="rId1"/>
          <a:stretch/>
        </p:blipFill>
        <p:spPr>
          <a:xfrm>
            <a:off x="304920" y="304920"/>
            <a:ext cx="4167000" cy="624816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5"/>
          <p:cNvSpPr/>
          <p:nvPr/>
        </p:nvSpPr>
        <p:spPr>
          <a:xfrm>
            <a:off x="4572000" y="533520"/>
            <a:ext cx="4572000" cy="76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туральный каучук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лучается из природного сырья — сока дерева гевеи, распространенного в Южной Америке (главным образом в Бразилии). На воздухе белый млечный сок этого дерева быстро твердеет и темнеет, превращаясь в эластичную массу.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E:\PH08068.jpg"/>
          <p:cNvPicPr/>
          <p:nvPr/>
        </p:nvPicPr>
        <p:blipFill>
          <a:blip r:embed="rId1"/>
          <a:stretch/>
        </p:blipFill>
        <p:spPr>
          <a:xfrm>
            <a:off x="838080" y="228600"/>
            <a:ext cx="7239240" cy="6346800"/>
          </a:xfrm>
          <a:prstGeom prst="rect">
            <a:avLst/>
          </a:prstGeom>
          <a:ln w="0">
            <a:noFill/>
          </a:ln>
        </p:spPr>
      </p:pic>
      <p:grpSp>
        <p:nvGrpSpPr>
          <p:cNvPr id="332" name="Управляющая кнопка: настраиваемая 4"/>
          <p:cNvGrpSpPr/>
          <p:nvPr/>
        </p:nvGrpSpPr>
        <p:grpSpPr>
          <a:xfrm>
            <a:off x="8210520" y="6381720"/>
            <a:ext cx="952560" cy="495360"/>
            <a:chOff x="8210520" y="6381720"/>
            <a:chExt cx="952560" cy="495360"/>
          </a:xfrm>
        </p:grpSpPr>
        <p:pic>
          <p:nvPicPr>
            <p:cNvPr id="333" name="Управляющая кнопка: настраиваемая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210520" y="6381720"/>
              <a:ext cx="9525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229600" y="640080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665280" y="1042920"/>
            <a:ext cx="7893000" cy="5632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4T08:03:16Z</dcterms:modified>
  <cp:revision>31</cp:revision>
  <dc:subject/>
  <dc:title>Алкадиены   </dc:title>
</cp:coreProperties>
</file>