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CAE9-CF81-4B25-984A-0744CA2B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26EA-8143-43C4-833E-423F1995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5296-B3D8-4AEC-8301-1B9A5E98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222-BDAF-4146-A0B0-DF37F57A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1911-0E9F-4F35-8BD8-E0C79735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EC27-B714-41A1-8563-01F6E9E7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7794-E2CA-4DC1-AFC6-BBDA92EE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2AF6-F113-4B47-AE6E-B769D013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F4CF-E338-4A39-9F61-A04D9D32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9335-8E7A-4101-BC58-9174DDF0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5731-CB81-4F76-9A2A-63F601E5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CC92-04AC-4283-8D18-BC2A82EF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6B5C-B036-40B8-B6BC-6CF4871D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655A-7A04-4EFC-93EE-5E105051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55ED-2991-4B75-982B-575DCF84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83D9-A30D-44F6-8E3A-51BAFFD4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140F-E53D-4C3F-92E0-8388A117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93F86-C4CF-488B-95EA-4A9F0955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F706B-68B9-47A8-9985-1CD0346E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E2035-BB8A-4A2C-B4D4-59C488EE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103BA-12AA-44B9-9051-BD771665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57E3D-EB92-45EC-A4CC-76F60381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BFBC-1AAC-4591-BBF8-E4119454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37B7F-B9E9-4220-8CE0-CE8361E9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9AA37-887E-47DD-B392-9FAB4619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B0523-F091-47D1-9D06-7662C933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A9450-C663-4CD8-8152-68E12496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1E241-589C-4434-B837-B7BA974A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C3052-3627-4FE1-ABB7-2FE87DA0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2E0CD-83BC-49DC-8A64-89F67552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254AA-76AE-448B-A080-A0D70B1F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3ED75-8D66-4623-B682-B20510FB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6C874-F566-4CF6-9A04-D74E1B98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6806-9DB4-44F4-BD63-5EDF72C4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3D15C-7CFF-410C-A93D-336E5B85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D2627-772B-478A-942A-31B669A4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481D7-2DDB-4AA8-9C55-59FFFF4E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63D83-7C59-4504-9FAF-AF894D2A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792D0-F43D-4863-BCDF-16C9950F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61312-F3C3-4B34-B630-511E86A7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04D1D-AB1D-47CF-9CD2-1780C2F3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AC38C-7F4E-4CFC-A937-D0966436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56826-4766-47AE-BA7F-4BF6DF69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755EC-498D-42B9-851B-D6B5A9F7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1D96-231F-486D-8625-D13B75D3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2D1B9-6D7E-44D7-9578-62044577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C5295-16D4-4C15-984B-1441922D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F2764-F5A2-4DE8-AC79-D9961F15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A0672-216A-4280-8752-055C00D9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19948-8625-46D6-82D6-F280D3F4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C4F6C-0664-4489-BE84-F6B4B748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824A4-ECA2-427A-857F-9551A977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F2E5C-9D17-4A30-A73D-15E4F432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CDA93-40E3-4876-A865-FE71C537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C887F-EC54-40AD-B409-A44E815E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87FA-BCAF-4666-AF1B-36BE6A33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9371D-5493-4F3D-BB33-2FA6D0BF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FA62-C6B9-4F52-BF75-DB1E4CD6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85A7-F756-4403-933A-97839CB5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2E0E-2F63-4FCE-B2E2-7C1647FC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671E-B817-435D-BFBB-E436524343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CCFA-2482-4554-AC66-37A8E68F31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CD10-3956-4CB5-A202-E48721EBEF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14E3-646D-4A5C-9695-0B4468A4F3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5419-A6FF-4127-80CE-2322EC13FA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8329320" cy="5582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Спирты и фенол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разование водородных связ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7" descr="спирт1"/>
          <p:cNvPicPr/>
          <p:nvPr/>
        </p:nvPicPr>
        <p:blipFill>
          <a:blip r:embed="rId1"/>
          <a:stretch/>
        </p:blipFill>
        <p:spPr>
          <a:xfrm>
            <a:off x="1476360" y="1125360"/>
            <a:ext cx="3409920" cy="4392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спирт2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580000" y="765000"/>
            <a:ext cx="2995560" cy="2316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спирт3"/>
          <p:cNvPicPr/>
          <p:nvPr/>
        </p:nvPicPr>
        <p:blipFill>
          <a:blip r:embed="rId3"/>
          <a:stretch/>
        </p:blipFill>
        <p:spPr>
          <a:xfrm>
            <a:off x="5580000" y="3573360"/>
            <a:ext cx="3095640" cy="2662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0"/>
          <p:cNvSpPr/>
          <p:nvPr/>
        </p:nvSpPr>
        <p:spPr>
          <a:xfrm>
            <a:off x="1292760" y="5467320"/>
            <a:ext cx="388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ние водородной свя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жду молекулами спи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5435640" y="3141720"/>
            <a:ext cx="32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жду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4716360" y="6308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жду молекулами спирта  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4"/>
          <p:cNvSpPr/>
          <p:nvPr/>
        </p:nvSpPr>
        <p:spPr>
          <a:xfrm>
            <a:off x="539640" y="404640"/>
            <a:ext cx="79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Monotype Corsiva"/>
              </a:rPr>
              <a:t>Фенолы – это органические вещества, содержащие радикал фенил, связанный с одной или несколькими гидроксильными групп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7_2_1_L2"/>
          <p:cNvPicPr/>
          <p:nvPr/>
        </p:nvPicPr>
        <p:blipFill>
          <a:blip r:embed="rId1"/>
          <a:stretch/>
        </p:blipFill>
        <p:spPr>
          <a:xfrm>
            <a:off x="2268360" y="3068640"/>
            <a:ext cx="403236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имические свойства спир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4" descr="0"/>
          <p:cNvPicPr/>
          <p:nvPr/>
        </p:nvPicPr>
        <p:blipFill>
          <a:blip r:embed="rId1"/>
          <a:stretch/>
        </p:blipFill>
        <p:spPr>
          <a:xfrm>
            <a:off x="1763640" y="2133720"/>
            <a:ext cx="691200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371240" y="404640"/>
            <a:ext cx="78087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имические свойства спиртов определяются присутствием в их молекулах гидроксильной группы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ОН</a:t>
            </a:r>
            <a:r>
              <a:rPr b="0" lang="ru-RU" sz="2000" spc="-1" strike="noStrike" baseline="30000">
                <a:solidFill>
                  <a:srgbClr val="ff0000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язи С-О и О- Н сильно полярны и способны к разрыв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личают два основных типа реакций спиртов с участием функциональной группы –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ОН</a:t>
            </a:r>
            <a:r>
              <a:rPr b="0" lang="ru-RU" sz="2000" spc="-1" strike="noStrike" baseline="30000">
                <a:solidFill>
                  <a:srgbClr val="ff0000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Реакции с разрывом связи О-Н</a:t>
            </a:r>
            <a:r>
              <a:rPr b="0" i="1" lang="ru-RU" sz="2000" spc="-1" strike="noStrike" baseline="30000">
                <a:solidFill>
                  <a:srgbClr val="ff0000"/>
                </a:solidFill>
                <a:latin typeface="Calibri"/>
              </a:rPr>
              <a:t>-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800" spc="-1" strike="noStrike">
                <a:solidFill>
                  <a:srgbClr val="ff0000"/>
                </a:solidFill>
                <a:latin typeface="Calibri"/>
              </a:rPr>
              <a:t>(здесь проявляются слабые кислотные свойства спиртов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заимодействие спиртов с щелочными и щелочноземельными металлами с образованием алкоголят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акции спиртов с органическими и минеральны­ми кислотами с образованием сложных эфир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исление спиртов под действием дихромата или перманганата калия до карбонильных соедин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орость реакций, при которых разрывается связь О-Н, уменьшается в ряду: первичные спирты &gt; вторичные &gt; третич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371600" y="404640"/>
            <a:ext cx="7772400" cy="6120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Реакции сопровождающиеся разрывом связи                                   С-О: </a:t>
            </a:r>
            <a:r>
              <a:rPr b="0" i="1" lang="ru-RU" sz="1800" spc="-1" strike="noStrike">
                <a:solidFill>
                  <a:srgbClr val="ff0000"/>
                </a:solidFill>
                <a:latin typeface="Calibri"/>
              </a:rPr>
              <a:t>(здесь проявляются слабые основные свойства спиртов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нутримолекулярная дегидратац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 образованием алке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ежмолекулярная дегидратац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с образованием простых эфи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заимодействие с галогеноводородами и их концентрированными растворам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с образованием алкилгалогенид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орость реакций, при которых разрывается связь С-О, уменьшается в ряду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чные спирты &gt; вторичные &gt; первич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ирты являются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амфотерным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едине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0" y="404640"/>
            <a:ext cx="914400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Monotype Corsiva"/>
              </a:rPr>
              <a:t>Спиртам характерны следующие реак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Monotype Corsiva"/>
              </a:rPr>
              <a:t>1. Замещения: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C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H5OH + 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2C2H5O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+   H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этилат нат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Monotype Corsiva"/>
              </a:rPr>
              <a:t>2. Дегидратации:                                </a:t>
            </a:r>
            <a:r>
              <a:rPr b="1" lang="en-US" sz="2400" spc="-1" strike="noStrike">
                <a:solidFill>
                  <a:srgbClr val="c0504d"/>
                </a:solidFill>
                <a:latin typeface="Monotype Corsiva"/>
              </a:rPr>
              <a:t>       </a:t>
            </a:r>
            <a:r>
              <a:rPr b="1" lang="ru-RU" sz="2400" spc="-1" strike="noStrike">
                <a:solidFill>
                  <a:srgbClr val="c0504d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2SO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3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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CH3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=CH2 + H2O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|       |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&gt; 14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Monotype Corsiva"/>
              </a:rPr>
              <a:t>3. Этерификации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–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+   СН3-СО-ОН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–СО-О-СН3  +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етанол    уксусная кислот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метилаце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Monotype Corsiva"/>
              </a:rPr>
              <a:t>4. Окисления: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[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СН2–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СН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С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OH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О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льдегид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карбоновая 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369800" y="1676520"/>
            <a:ext cx="752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ичные спирты окисляются в кетон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етичные спирты могут окисляться только с разрывом С-С связ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15" descr="image004"/>
          <p:cNvPicPr/>
          <p:nvPr/>
        </p:nvPicPr>
        <p:blipFill>
          <a:blip r:embed="rId1"/>
          <a:stretch/>
        </p:blipFill>
        <p:spPr>
          <a:xfrm>
            <a:off x="2124000" y="2924280"/>
            <a:ext cx="5543640" cy="1368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акции с разрывом связи С-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0160" y="1197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акции дегидратации протекают при нагревании спиртов с водоотнимающими веществами. При сильном нагревании происходит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нутримолекулярная дегидратация с образованием алкен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,t &gt;140°С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С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С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ОН                 →            С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СН=С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+ 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более слабом нагревании происходит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межмолекулярная дегидратация с образованием простых эфир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t&lt; 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</a:t>
            </a:r>
            <a:br>
              <a:rPr sz="16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OH             →          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O-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ирты обратимо реагируют с галогеноводородными кислотами (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здесь проявляются слабые основные свойства спиртов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ROH + HCl                   RCl + 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чные спирты реагируют быстро, вторичные и первичные - медлен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Line 4"/>
          <p:cNvSpPr/>
          <p:nvPr/>
        </p:nvSpPr>
        <p:spPr>
          <a:xfrm>
            <a:off x="4859280" y="53737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395280" y="404640"/>
            <a:ext cx="8064360" cy="34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Качественная реакция на многоатомные спирты – </a:t>
            </a:r>
            <a:r>
              <a:rPr b="1" lang="ru-RU" sz="2800" spc="-1" strike="noStrike">
                <a:solidFill>
                  <a:srgbClr val="c0504d"/>
                </a:solidFill>
                <a:latin typeface="Monotype Corsiva"/>
              </a:rPr>
              <a:t>взаимодействие со свежеприготовленным гидроксидом меди </a:t>
            </a:r>
            <a:r>
              <a:rPr b="1" lang="en-US" sz="2800" spc="-1" strike="noStrike">
                <a:solidFill>
                  <a:srgbClr val="c0504d"/>
                </a:solidFill>
                <a:latin typeface="Monotype Corsiva"/>
              </a:rPr>
              <a:t>(II)</a:t>
            </a:r>
            <a:r>
              <a:rPr b="1" lang="ru-RU" sz="2800" spc="-1" strike="noStrike">
                <a:solidFill>
                  <a:srgbClr val="c0504d"/>
                </a:solidFill>
                <a:latin typeface="Monotype Corsiva"/>
              </a:rPr>
              <a:t> с образованием ярко-синего гликолята м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г"/>
          <p:cNvPicPr/>
          <p:nvPr/>
        </p:nvPicPr>
        <p:blipFill>
          <a:blip r:embed="rId1"/>
          <a:stretch/>
        </p:blipFill>
        <p:spPr>
          <a:xfrm>
            <a:off x="539640" y="1989000"/>
            <a:ext cx="8280360" cy="15112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4"/>
          <p:cNvSpPr/>
          <p:nvPr/>
        </p:nvSpPr>
        <p:spPr>
          <a:xfrm>
            <a:off x="468360" y="3573360"/>
            <a:ext cx="835344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Качественная реакция на фенолы –</a:t>
            </a:r>
            <a:r>
              <a:rPr b="1" lang="ru-RU" sz="1800" spc="-1" strike="noStrike">
                <a:solidFill>
                  <a:srgbClr val="c0504d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c0504d"/>
                </a:solidFill>
                <a:latin typeface="Monotype Corsiva"/>
              </a:rPr>
              <a:t>взаимодействие с раствором хлорида железа (</a:t>
            </a:r>
            <a:r>
              <a:rPr b="1" lang="en-US" sz="2800" spc="-1" strike="noStrike">
                <a:solidFill>
                  <a:srgbClr val="c0504d"/>
                </a:solidFill>
                <a:latin typeface="Monotype Corsiva"/>
              </a:rPr>
              <a:t>III</a:t>
            </a:r>
            <a:r>
              <a:rPr b="1" lang="ru-RU" sz="2800" spc="-1" strike="noStrike">
                <a:solidFill>
                  <a:srgbClr val="c0504d"/>
                </a:solidFill>
                <a:latin typeface="Monotype Corsiva"/>
              </a:rPr>
              <a:t>) с образованием фиолетового фенолята желе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o25112"/>
          <p:cNvPicPr/>
          <p:nvPr/>
        </p:nvPicPr>
        <p:blipFill>
          <a:blip r:embed="rId2"/>
          <a:stretch/>
        </p:blipFill>
        <p:spPr>
          <a:xfrm>
            <a:off x="2987640" y="4653000"/>
            <a:ext cx="590544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нение спир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69800" y="1989000"/>
            <a:ext cx="65149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ирты главным образом используют в промышленности органического синтез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анол - важное сырье пищевой промышлен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4" descr="Копия 3"/>
          <p:cNvPicPr/>
          <p:nvPr/>
        </p:nvPicPr>
        <p:blipFill>
          <a:blip r:embed="rId1"/>
          <a:stretch/>
        </p:blipFill>
        <p:spPr>
          <a:xfrm>
            <a:off x="6012000" y="4508640"/>
            <a:ext cx="1944720" cy="1587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539640" y="47628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Спиртами называются органические вещества, молекулы которых содержат одну или несколько гидроксильных групп –ОН, соединенных с углеводородным радик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7_1_1"/>
          <p:cNvPicPr/>
          <p:nvPr/>
        </p:nvPicPr>
        <p:blipFill>
          <a:blip r:embed="rId1"/>
          <a:srcRect l="46101" t="7294" r="11106" b="41778"/>
          <a:stretch/>
        </p:blipFill>
        <p:spPr>
          <a:xfrm>
            <a:off x="2050920" y="2924280"/>
            <a:ext cx="5040360" cy="324000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8"/>
          <p:cNvSpPr/>
          <p:nvPr/>
        </p:nvSpPr>
        <p:spPr>
          <a:xfrm>
            <a:off x="817236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5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5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нение этано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8" descr="учебник 009"/>
          <p:cNvPicPr/>
          <p:nvPr/>
        </p:nvPicPr>
        <p:blipFill>
          <a:blip r:embed="rId1"/>
          <a:stretch/>
        </p:blipFill>
        <p:spPr>
          <a:xfrm>
            <a:off x="1979640" y="1268280"/>
            <a:ext cx="5905440" cy="50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0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4"/>
          <p:cNvSpPr/>
          <p:nvPr/>
        </p:nvSpPr>
        <p:spPr>
          <a:xfrm>
            <a:off x="324000" y="1268280"/>
            <a:ext cx="8280360" cy="79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c0504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Какие вещества называются спирт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c0504d"/>
              </a:buClr>
              <a:buFont typeface="Monotype Corsiv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По каким признакам классифицируют спир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3. Продолжите фразу «Фенолы – это …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4. Какие виды изомерии характерны для спир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5. Какими химическими свойствами обладают спир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Monotype Corsiva"/>
              </a:rPr>
              <a:t>6. Каковы качественные реакции на многоатомные спирты и фенол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826920" y="0"/>
            <a:ext cx="749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504d"/>
                </a:solidFill>
                <a:latin typeface="Monotype Corsiva"/>
              </a:rPr>
              <a:t>Фронтальный опро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501480" y="260280"/>
            <a:ext cx="86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Monotype Corsiva"/>
              </a:rPr>
              <a:t>Классификация спир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611280" y="1484280"/>
            <a:ext cx="8532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2411280" y="1125360"/>
            <a:ext cx="4753080" cy="43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числу гидроксильных груп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684360" y="2276640"/>
            <a:ext cx="208728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оато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3708360" y="2276640"/>
            <a:ext cx="208764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ухато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6588000" y="2276640"/>
            <a:ext cx="208764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хато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6659640" y="155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2"/>
          <p:cNvSpPr/>
          <p:nvPr/>
        </p:nvSpPr>
        <p:spPr>
          <a:xfrm>
            <a:off x="2195640" y="3789360"/>
            <a:ext cx="5040360" cy="576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характеру углеводородного радик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3"/>
          <p:cNvSpPr/>
          <p:nvPr/>
        </p:nvSpPr>
        <p:spPr>
          <a:xfrm>
            <a:off x="539640" y="5300640"/>
            <a:ext cx="2087640" cy="576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4"/>
          <p:cNvSpPr/>
          <p:nvPr/>
        </p:nvSpPr>
        <p:spPr>
          <a:xfrm>
            <a:off x="3635280" y="5300640"/>
            <a:ext cx="2087640" cy="576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пред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6659640" y="5300640"/>
            <a:ext cx="2087640" cy="576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ром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7"/>
          <p:cNvSpPr/>
          <p:nvPr/>
        </p:nvSpPr>
        <p:spPr>
          <a:xfrm flipH="1">
            <a:off x="1618920" y="4365720"/>
            <a:ext cx="8650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8"/>
          <p:cNvSpPr/>
          <p:nvPr/>
        </p:nvSpPr>
        <p:spPr>
          <a:xfrm>
            <a:off x="4716360" y="4365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9"/>
          <p:cNvSpPr/>
          <p:nvPr/>
        </p:nvSpPr>
        <p:spPr>
          <a:xfrm>
            <a:off x="6804000" y="4365720"/>
            <a:ext cx="100800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0"/>
          <p:cNvSpPr/>
          <p:nvPr/>
        </p:nvSpPr>
        <p:spPr>
          <a:xfrm flipH="1">
            <a:off x="2050920" y="1557360"/>
            <a:ext cx="720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1"/>
          <p:cNvSpPr/>
          <p:nvPr/>
        </p:nvSpPr>
        <p:spPr>
          <a:xfrm>
            <a:off x="4716360" y="1557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2"/>
          <p:cNvSpPr/>
          <p:nvPr/>
        </p:nvSpPr>
        <p:spPr>
          <a:xfrm>
            <a:off x="6659640" y="1557360"/>
            <a:ext cx="792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468360" y="549360"/>
            <a:ext cx="8280360" cy="57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характеру атома углерода, с которым связана гидроксильная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7_1_2"/>
          <p:cNvPicPr/>
          <p:nvPr/>
        </p:nvPicPr>
        <p:blipFill>
          <a:blip r:embed="rId1"/>
          <a:srcRect l="44454" t="29871" r="11966" b="51649"/>
          <a:stretch/>
        </p:blipFill>
        <p:spPr>
          <a:xfrm>
            <a:off x="539640" y="1773360"/>
            <a:ext cx="2880000" cy="2098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7_1_2_L1"/>
          <p:cNvPicPr/>
          <p:nvPr/>
        </p:nvPicPr>
        <p:blipFill>
          <a:blip r:embed="rId2"/>
          <a:srcRect l="2953" t="8117" r="4535" b="35182"/>
          <a:stretch/>
        </p:blipFill>
        <p:spPr>
          <a:xfrm>
            <a:off x="5148360" y="1700280"/>
            <a:ext cx="2773440" cy="2089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7_1_2_L2"/>
          <p:cNvPicPr/>
          <p:nvPr/>
        </p:nvPicPr>
        <p:blipFill>
          <a:blip r:embed="rId3"/>
          <a:srcRect l="14558" t="4737" r="12500" b="7611"/>
          <a:stretch/>
        </p:blipFill>
        <p:spPr>
          <a:xfrm>
            <a:off x="2987640" y="4437000"/>
            <a:ext cx="3097080" cy="2068560"/>
          </a:xfrm>
          <a:prstGeom prst="rect">
            <a:avLst/>
          </a:prstGeom>
          <a:ln w="0">
            <a:noFill/>
          </a:ln>
        </p:spPr>
      </p:pic>
      <p:sp>
        <p:nvSpPr>
          <p:cNvPr id="230" name="Line 14"/>
          <p:cNvSpPr/>
          <p:nvPr/>
        </p:nvSpPr>
        <p:spPr>
          <a:xfrm flipH="1">
            <a:off x="1835280" y="112536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5"/>
          <p:cNvSpPr/>
          <p:nvPr/>
        </p:nvSpPr>
        <p:spPr>
          <a:xfrm>
            <a:off x="5796000" y="1125360"/>
            <a:ext cx="93672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4427640" y="1125360"/>
            <a:ext cx="0" cy="338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87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щая характери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47640" y="1557000"/>
            <a:ext cx="734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ая формула гомологического ряда предельных одноатомных спиртов —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ru-RU" sz="2400" spc="-1" strike="noStrike" baseline="-25000">
                <a:solidFill>
                  <a:srgbClr val="ff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H</a:t>
            </a:r>
            <a:r>
              <a:rPr b="0" lang="ru-RU" sz="2400" spc="-1" strike="noStrike" baseline="-25000">
                <a:solidFill>
                  <a:srgbClr val="ff0000"/>
                </a:solidFill>
                <a:latin typeface="Calibri"/>
              </a:rPr>
              <a:t>2n+1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OH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зависимости от того, при каком углеродном атоме находится гидроксильная группа, различают спирты первичные (R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OH), вторичные (R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-OH) и третичные (R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ОН). Простейшие спир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ичные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ОН     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ОН     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ОН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анол        этанол              пропанол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9" descr="image002"/>
          <p:cNvPicPr/>
          <p:nvPr/>
        </p:nvPicPr>
        <p:blipFill>
          <a:blip r:embed="rId1"/>
          <a:stretch/>
        </p:blipFill>
        <p:spPr>
          <a:xfrm>
            <a:off x="1619280" y="260280"/>
            <a:ext cx="7129440" cy="1440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547280" y="1676520"/>
            <a:ext cx="759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ичные спирт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        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чный  спирт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Изомерия одноатомных спирт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связан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 строением углеродного скелета (например, бутанол-2 и 2-метилпропанол-2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положением функциональной  группы О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 -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пропанол-1 и пропанол-2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465200" y="2459880"/>
            <a:ext cx="742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анол-2                буганол-2                    2-метилпропанол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5"/>
          <p:cNvSpPr/>
          <p:nvPr/>
        </p:nvSpPr>
        <p:spPr>
          <a:xfrm>
            <a:off x="395280" y="47628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Monotype Corsiva"/>
              </a:rPr>
              <a:t>Виды изомерии спир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755640" y="1484280"/>
            <a:ext cx="7777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-изомерия положения ОН- группы, (начиная с С3) 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826920" y="2565360"/>
            <a:ext cx="72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-углеродного скелета, (начиная с С4 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-межклассовая изомерия с простыми эфи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0" y="443700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Например, одну и ту же молекулярную формул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                                </a:t>
            </a: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С2H6O име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СН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3CH2–OH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и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CH3–O–CH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504d"/>
                </a:solidFill>
                <a:latin typeface="Calibri"/>
              </a:rPr>
              <a:t>            </a:t>
            </a:r>
            <a:r>
              <a:rPr b="1" i="1" lang="ru-RU" sz="2400" spc="-1" strike="noStrike">
                <a:solidFill>
                  <a:srgbClr val="c0504d"/>
                </a:solidFill>
                <a:latin typeface="Calibri"/>
              </a:rPr>
              <a:t>этиловый спирт           </a:t>
            </a:r>
            <a:r>
              <a:rPr b="1" i="1" lang="ru-RU" sz="24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c0504d"/>
                </a:solidFill>
                <a:latin typeface="Calibri"/>
              </a:rPr>
              <a:t>диметиловый эфир</a:t>
            </a: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менкл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01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вания спиртов образуют, добавляя окончание -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 названию углеводорода с самой длинной углеродной цепью, включающей гидроксильную групп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умерацию цепи начинают с того края, ближе к которому расположена гидроксильная групп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ме того, широко распространена заместительная номенклатура, по которой название спирта производится от соответствующего углеводородного радикала с добавлением, слова "спирт", например: 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OH — этиловый спир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ические сво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70160" y="167616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изшие спирты (до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ru-RU" sz="2800" spc="-1" strike="noStrike" baseline="-25000">
                <a:solidFill>
                  <a:srgbClr val="ff0000"/>
                </a:solidFill>
                <a:latin typeface="Calibri"/>
              </a:rPr>
              <a:t>1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— жидкости, высшие — твердые веще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анол и этанол смешиваются с водой в любых соотношениях. С ростом молекулярной массы растворимость спиртов в воде пада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сравнению с соответствующими углеводородами, спирты имеют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высокие температуры плавления и кип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что объясняется сильной ассоциацией молекул спирта в жидком состоянии за счет образования водородных связей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24T12:47:34Z</dcterms:modified>
  <cp:revision>5</cp:revision>
  <dc:subject/>
  <dc:title>Слайд 1</dc:title>
</cp:coreProperties>
</file>