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84D-D8DB-485F-BA4D-99D6C6D9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E0F-BA38-4EDA-938A-A4AFB7D8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004-6097-4ADE-A523-494F2F84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906-5D30-42A6-ABE7-280D1186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6B8-C407-4C23-925D-14548B3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172-C3F1-4E87-9B23-852B29F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8F5-F9A3-41D0-B9D1-1C518ED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6C6-DE92-49AE-80A8-C29A13B4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522-C71F-4069-8E36-C9B05C5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BC6-8039-4E85-A16B-C0DFE9F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3D9-88EE-4BDE-A9E7-4BEF419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D44-8B27-402D-828B-277424D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1CA-15DA-4E17-A33D-0AF78E39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Теоретические основы органической хим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ФИЗИЧЕСКИЕ СВОЙСТВА АЛКАНОВ. НАХОЖДЕНИЕ В ПРИ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238560" y="1227240"/>
            <a:ext cx="5905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c80"/>
                </a:solidFill>
                <a:latin typeface="Arial"/>
              </a:rPr>
              <a:t>МЕТАН</a:t>
            </a:r>
            <a:r>
              <a:rPr b="0" i="1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– газ, без цвета и запаха, почти в 2 раза легче воздуха, мало растворим в воде. Он образуется в природе в результате разложения без доступа воздуха остатков растительных и животных организмов. Поэтому может быть обнаружен в заболоченных водоемах, где появляется в виде пузырьков газа, или накапливается в каменноугольных шахтах, куда выделяется из угольных пластов. В значительном количестве (80-97%) метан содержится в природном газе и в попутных нефтяных газах.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9"/>
          <p:cNvPicPr/>
          <p:nvPr/>
        </p:nvPicPr>
        <p:blipFill>
          <a:blip r:embed="rId1"/>
          <a:stretch/>
        </p:blipFill>
        <p:spPr>
          <a:xfrm>
            <a:off x="0" y="1844640"/>
            <a:ext cx="3132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24000" y="189000"/>
            <a:ext cx="5111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7c80"/>
                </a:solidFill>
                <a:latin typeface="Arial"/>
              </a:rPr>
              <a:t>ЭТАН, ПРОПАН И БУТАН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входят в состав природного и попутного нефтяного газов. </a:t>
            </a:r>
            <a:r>
              <a:rPr b="1" i="1" lang="en-US" sz="2800" spc="-1" strike="noStrike">
                <a:solidFill>
                  <a:srgbClr val="ff7c80"/>
                </a:solidFill>
                <a:latin typeface="Arial"/>
              </a:rPr>
              <a:t>АЛКАНЫ 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содержатся в нефти. С ростом относительной молекулярной массы наблюдается переход количественных отношений в качественные: изменяется агрегатное состояние, возрастают температуры плавления и кип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0"/>
          <p:cNvPicPr/>
          <p:nvPr/>
        </p:nvPicPr>
        <p:blipFill>
          <a:blip r:embed="rId1"/>
          <a:stretch/>
        </p:blipFill>
        <p:spPr>
          <a:xfrm>
            <a:off x="5553000" y="1774800"/>
            <a:ext cx="3591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ИЗОМЕРИЯ И НОМЕНКЛАТУРА АЛ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1268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алканов наблюдается изомерия углеродного скелета. Чтобы составить название углеводорода с разветвленной цепью, его рассматривают как продукт замещения атомов водорода в нормальном углеводороде углеводородными радика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263700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1. Выделяют в структурной формуле наиболее длинную цепь атомов углерода и нумеруют эти атомы, начиная с того к которому ближе развет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4920" y="4653000"/>
            <a:ext cx="48243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 2           3            4    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  -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219640" y="4653000"/>
            <a:ext cx="38181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  2           3  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Н – СН –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125892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6443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7380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4920" y="44280"/>
            <a:ext cx="860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cc"/>
                </a:solidFill>
                <a:latin typeface="Arial"/>
              </a:rPr>
              <a:t>2. Когда радикалов несколько и они равноудалены от концов главной цепи, то нумерацию начинают с того края, к которому ближе расположен простейший ради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2205000"/>
            <a:ext cx="860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. В названии вещества цифрой указывают, при каком атоме углерода находится радикал и называют его (начиная с простейшего). Если радикалы повторяются, то номер повторяют по числу этого радикала, а перед названием радикала приписывают приставку от греческого числительного («ди»-2, «три»-3, «тетра»-4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547640" y="623736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 2 - мети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5343480" y="6113520"/>
            <a:ext cx="20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5079240" y="623736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 2,3 – диметил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042920" y="2421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2 – метилпен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40" y="1268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Arial"/>
              </a:rPr>
              <a:t>5. Завершают название алкана по числу атомов углерода в нумерован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920" y="44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66"/>
                </a:solidFill>
                <a:latin typeface="Arial"/>
              </a:rPr>
              <a:t>4. Если радикалов несколько, то цифрами указывают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932360" y="2924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2,3 - диметил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Циклоалк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оалканы (циклопаpафины, нафтены, цикланы, полиметилены) – предельные углеводороды с замкнутой (циклической) углеродной цеп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углерода в циклоалканах, как и в алканах, находятся в sp3–гибридизованном состоянии и все их валентности полностью насыщены. Простейший циклоалкан – циклопpоп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3Н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едставляет собой плоский трехчленный карбо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u301"/>
          <p:cNvPicPr/>
          <p:nvPr/>
        </p:nvPicPr>
        <p:blipFill>
          <a:blip r:embed="rId1"/>
          <a:stretch/>
        </p:blipFill>
        <p:spPr>
          <a:xfrm>
            <a:off x="1066680" y="3124080"/>
            <a:ext cx="7010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тальные циклы имеют неплоское строение вследствие стремления атомов углерода к образованию тетраэдрических валентных угл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302"/>
          <p:cNvPicPr/>
          <p:nvPr/>
        </p:nvPicPr>
        <p:blipFill>
          <a:blip r:embed="rId1"/>
          <a:stretch/>
        </p:blipFill>
        <p:spPr>
          <a:xfrm>
            <a:off x="304920" y="3124080"/>
            <a:ext cx="8381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авилам международной номенклатуры в циклоалканах главной считается цепь углеродных атомов, образующих цикл. Название строится по названию этой замкнутой цепи с добавлением приставки "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ик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 (циклопропан, циклобутан, циклопентан, циклогексан и т.д.). При наличии в цикле заместителей нумерацию атомов углерода в кольце проводят так, чтобы ответвления получили возможно меньшие номера. Так, соеди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назвать 1,2-диметилциклобутан, а не 2,3-диметилциклобутан, или 3,4-диметилциклобутан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u3_1"/>
          <p:cNvPicPr/>
          <p:nvPr/>
        </p:nvPicPr>
        <p:blipFill>
          <a:blip r:embed="rId1"/>
          <a:stretch/>
        </p:blipFill>
        <p:spPr>
          <a:xfrm>
            <a:off x="6705720" y="411480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екулы циклоалканов содержат на два атома водорода меньше, чем соответствующие алканы. Напpимеp, бутан имеет фоpмул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4Н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циклобутан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4Н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Поэтому общая формула циклоалкано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nH2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УГЛЕВОДОРОДЫ</a:t>
            </a: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это органические соеди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состоящие из двух хим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элементов – УГЛЕРОДА И ВОД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0336396"/>
          <p:cNvPicPr/>
          <p:nvPr/>
        </p:nvPicPr>
        <p:blipFill>
          <a:blip r:embed="rId1"/>
          <a:stretch/>
        </p:blipFill>
        <p:spPr>
          <a:xfrm>
            <a:off x="611280" y="981000"/>
            <a:ext cx="1522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3352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ные формулы циклоалканов обычно изображаются сокращенно в виде правильных многоугольников с числом углов, соответствующих числу атомов углерода в цик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u303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539640" y="2276640"/>
            <a:ext cx="80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26028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ЛКАНЫ (предельные, насыщенные, парафины)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33ff"/>
                </a:solidFill>
                <a:latin typeface="Arial"/>
              </a:rPr>
              <a:t>это углеводороды с общей формулой </a:t>
            </a:r>
            <a:r>
              <a:rPr b="0" i="1" lang="en-US" sz="36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n</a:t>
            </a:r>
            <a:r>
              <a:rPr b="0" i="1" lang="en-US" sz="3600" spc="-1" strike="noStrike">
                <a:solidFill>
                  <a:srgbClr val="9933ff"/>
                </a:solidFill>
                <a:latin typeface="Arial"/>
              </a:rPr>
              <a:t>H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2n+2</a:t>
            </a:r>
            <a:r>
              <a:rPr b="0" i="1" lang="ru-RU" sz="3600" spc="-1" strike="noStrike">
                <a:solidFill>
                  <a:srgbClr val="9933ff"/>
                </a:solidFill>
                <a:latin typeface="Arial"/>
              </a:rPr>
              <a:t>, которые не способны на реакции присо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метан"/>
          <p:cNvPicPr/>
          <p:nvPr/>
        </p:nvPicPr>
        <p:blipFill>
          <a:blip r:embed="rId1"/>
          <a:stretch/>
        </p:blipFill>
        <p:spPr>
          <a:xfrm>
            <a:off x="684360" y="3429000"/>
            <a:ext cx="291600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еноеано"/>
          <p:cNvPicPr/>
          <p:nvPr/>
        </p:nvPicPr>
        <p:blipFill>
          <a:blip r:embed="rId2"/>
          <a:stretch/>
        </p:blipFill>
        <p:spPr>
          <a:xfrm>
            <a:off x="3214800" y="2928960"/>
            <a:ext cx="7869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ЛК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азвание предельных    углеводородов по международной номенклатуре (ИЮПА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ПАРАФИНЫ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исторически сохранившееся название предельных углеводородов (от лат.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parrum affinis –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малоактивн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Строение молекулы мет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Молекулярная формула молекулы ме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метан"/>
          <p:cNvPicPr/>
          <p:nvPr/>
        </p:nvPicPr>
        <p:blipFill>
          <a:blip r:embed="rId1"/>
          <a:stretch/>
        </p:blipFill>
        <p:spPr>
          <a:xfrm>
            <a:off x="4175280" y="2249640"/>
            <a:ext cx="4968720" cy="4608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547640" y="2564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37893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Пространстве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строение молеку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66"/>
                </a:solidFill>
                <a:latin typeface="Arial"/>
              </a:rPr>
              <a:t>мет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720" y="-360"/>
            <a:ext cx="51832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9966"/>
                </a:solidFill>
                <a:latin typeface="Arial"/>
              </a:rPr>
              <a:t>Какие химические связи в молекуле метана?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5076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339966"/>
                </a:solidFill>
                <a:latin typeface="Arial"/>
              </a:rPr>
              <a:t>Какой вид гибридизации атомов углерода будет осуществляться в молекулах   алкан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молекула"/>
          <p:cNvPicPr/>
          <p:nvPr/>
        </p:nvPicPr>
        <p:blipFill>
          <a:blip r:embed="rId1"/>
          <a:stretch/>
        </p:blipFill>
        <p:spPr>
          <a:xfrm>
            <a:off x="0" y="0"/>
            <a:ext cx="388944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облака"/>
          <p:cNvPicPr/>
          <p:nvPr/>
        </p:nvPicPr>
        <p:blipFill>
          <a:blip r:embed="rId2"/>
          <a:stretch/>
        </p:blipFill>
        <p:spPr>
          <a:xfrm>
            <a:off x="5003640" y="3402000"/>
            <a:ext cx="414036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4067280" y="1413000"/>
            <a:ext cx="50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КПС, одинарные,</a:t>
            </a:r>
            <a:br>
              <a:rPr sz="3200"/>
            </a:b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равные по характерист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95280" y="5877000"/>
            <a:ext cx="4248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sp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f3399"/>
                </a:solidFill>
                <a:latin typeface="Arial"/>
              </a:rPr>
              <a:t> - 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гибрид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Длина простой химической связи 1,54 Å (ангстрема), угол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HCH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 109°28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`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молекула"/>
          <p:cNvPicPr/>
          <p:nvPr/>
        </p:nvPicPr>
        <p:blipFill>
          <a:blip r:embed="rId1"/>
          <a:stretch/>
        </p:blipFill>
        <p:spPr>
          <a:xfrm>
            <a:off x="4427640" y="692280"/>
            <a:ext cx="5003640" cy="4608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50920" y="260280"/>
            <a:ext cx="5257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В предельных углеводородах атом углерода находится в состоянии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sp3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-гибридизации. Молекула метана представляет собой тетраэдр с атомом углерода в центре и атомами водорода по вершинам тетраэд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гомологи 3"/>
          <p:cNvPicPr/>
          <p:nvPr/>
        </p:nvPicPr>
        <p:blipFill>
          <a:blip r:embed="rId1"/>
          <a:srcRect l="23174" t="2320" r="4373" b="5412"/>
          <a:stretch/>
        </p:blipFill>
        <p:spPr>
          <a:xfrm>
            <a:off x="179280" y="189000"/>
            <a:ext cx="8713800" cy="6396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3564000" y="2276640"/>
            <a:ext cx="18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3348000" y="458136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564000" y="5373720"/>
            <a:ext cx="194472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вер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Какое же пространственное строение будут иметь гомологи мет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сапро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635280" y="1268280"/>
            <a:ext cx="5292720" cy="273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этан 3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052640"/>
            <a:ext cx="3384720" cy="2233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3213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э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79600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пен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79280" y="443700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Молекулы алканов имеют зигзагообразное пространственное строение, в котором соблюдаются все параметры молекулы метана: длина связи, размер угла между атомами, тип гибрид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7:55:14Z</dcterms:created>
  <dc:creator>ДЕНИСОВЫ</dc:creator>
  <dc:description/>
  <dc:language>en-US</dc:language>
  <cp:lastModifiedBy>Student</cp:lastModifiedBy>
  <dcterms:modified xsi:type="dcterms:W3CDTF">2012-03-31T05:41:18Z</dcterms:modified>
  <cp:revision>14</cp:revision>
  <dc:subject/>
  <dc:title>АЛКАНЫ</dc:title>
</cp:coreProperties>
</file>