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9E9-C965-4A38-8681-202B4615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D61-A4F0-44C6-BB1F-470BC50E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A3329-DEF5-4416-B52C-31D9251E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9C323-3654-44F5-BED9-40AD5597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FCFE4-5527-4E14-8F2E-EAE76E2A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98F32-CDA4-4C91-B7C1-845A86A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24A85-B32A-42BF-9368-A83EE010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D9A79-F73F-4FF3-AE72-972854D0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5D46A-D760-4C61-8DBE-E3CCB9F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254E0-E572-4B8E-8916-B7D89A72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7F257-8E04-441F-8416-991B3D08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E6500-300F-4BAF-8215-ADE4932F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DC5-1A16-43D4-B35F-52532B41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2B302-83D1-4642-8A52-7DC1E00C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7E8E9-B4EF-43F6-9C40-81A05EC7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9F148-09C9-4166-BC6B-F97216B1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EAE21-8575-4E52-BD54-3B5FECC2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94758-7470-4250-B369-217A5FA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5BA73-E516-4CC4-BEF7-084D0456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D7BB1-4770-4DF7-BADF-07E5702A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5000B-4CDA-45CB-9B75-1D16967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F9DC0-C489-4A70-965E-914AF4CC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41C5C-8D34-421B-900A-D9EA5251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5B9-450A-4A88-87C2-F9608030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A84DB-444B-4E2F-8D47-54FC02FC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2F40C-B035-4AC9-9AFD-44E11757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C6004-0A85-4A80-8915-0429A404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E0ED2-12E2-4A4C-9C77-62E2A964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412DA-E504-422B-995D-23779FD8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C2596-B5DA-4601-B3AE-1A5B45A4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0E16B-EA25-4CB3-B9CD-D796E0D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3120F-BADB-4519-A20D-E539215D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478E5-5A98-4D9F-AE95-E3AE513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892A0-F17C-4EBA-ACFB-5F8999E0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CD33-641B-4A52-9FA7-041A5118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065FD-0529-494A-B0C1-23C9C75C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29517-9FC9-4EC1-852F-512F99DB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0A041-5102-4194-9943-1B9FC6BA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40289-1CA4-4B1D-8901-1BE59051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94C9F-A527-48D1-BB2B-1395B4D4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D9701-F5C8-4DB7-AB20-55B2B59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7D10D-058C-4D4F-8520-6A336C61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369DB-E0D8-4697-99C9-8918296B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CC657-C9F9-41BD-95BD-19C43F62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0248D-36BC-4ACC-B771-8C7AC9F7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E18C-9CC6-4A06-BAF0-EC99A02B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2DFE0-3030-4730-AB10-9B0FBF14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5F398-72BA-4386-ABEB-02981E6F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BB444-EF0A-42FB-8740-BE6DC7D3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B6496-5462-4334-AC64-EFCAC966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5F6F8-EE76-451E-9E42-A8AFCF0A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2C663-BC08-4CFD-A3AE-95E5C567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7E8D8-E174-478B-8654-53F858E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126D4-1BA0-4C39-A4D1-3CB287AE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B9F61-BC38-4BDC-9969-741F531B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5F196-093D-4A53-8D17-4D6BD428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2BD9-929F-460B-996F-E63CF904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E5061-71F0-4B04-8FB7-9DC7BA44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8B994-1DA7-492F-89A0-D5C2D613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994E1-FEDB-4608-B37C-B080A15D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1705E-DAC4-46C0-B91B-CEE9443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7BCFB-D57F-4641-B9B2-EE8F3323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CB1D5-12EF-4ED7-85EF-5C8EBABE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D3DEE-D039-456F-A885-CF4DE06A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35BF-7404-4E4B-9B56-F4FA417D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B1A7-CB65-402A-9FEC-10E1B166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727F-5B66-4A3F-851C-431FD4CA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EFBB-C13E-429C-8A7A-B83A16E2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F8B-7165-42C2-8067-41FBCA2E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7DDF-1EF0-4898-8F45-6422211C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24D2-54B5-47E3-AE7B-0CC523E4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5B55-BF02-4701-BD59-8632C361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CEA9-4566-4C8C-A22D-D387E7AE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A9C5-927D-4120-A24D-3DA1C7FE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CBD8-AF65-46FE-A261-404649E8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64F1-B613-4610-BF6D-3583463B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ECF32-3F1B-4A47-9A8A-C3DD1E2E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DC5E-1295-42A9-8DC7-11F3752C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AD09-1971-4394-8F78-FDF9C263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C5D-D4AE-407D-BD17-C4DB3742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097F-C3A6-4271-BE46-DF72D6E9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58FE-2E78-4161-B02B-56CACBF7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2718-6E9F-49B9-BC84-BD3C048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F754-38F4-4EE5-AEB7-1470D68B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0BED-C45A-4320-A18A-7911EF38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2D93-2138-43F8-9D98-F03BB00D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AAC75-7A18-472A-B91B-72EE2D8B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B742-6230-436D-A68A-37A33F99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F2B8-0C35-4CD8-8945-A8B44329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2ED82-EC8D-49CF-9E6A-519330B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5E9-6FC7-426E-BFEB-467B8D8B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5545-051B-422A-A4D9-21A42AB1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226F-4224-424F-A1A7-E9644583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4AB3-D449-4B0F-A110-130E4059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7F89-5E8E-46A7-B7B7-76B162B5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D7677-A4EB-43B2-B85F-5E12AE67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4CDF-C064-4169-A5C7-490C3867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2600-A5F3-4793-A79C-3AA6ED19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5417-C7FB-4A83-82F4-F944748E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7FFFE-2D9E-4EE8-83FA-D0A1DBE5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27E59-63A6-45D3-A048-8883B303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C54-343F-4325-9752-29EF03A8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3F361-6311-4ADD-9ED4-795246E0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805D5-663B-4B8C-AEE2-E653D3CE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2D46D-1965-419F-BEA8-9ADBDFE2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DCDC3-D9FE-47A8-94E0-37A6910A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ACC27-1BFA-4F4D-A425-32533F8C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75DCF-FA70-4744-B987-79D8C7F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8D85B-E6AF-48FD-ABBC-6767CAE2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31240-1C26-45CE-AB90-4C80A7A9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7AEE7-391C-40E5-9938-234B4F8B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F2B4-FE63-45F8-896D-A9D57DEE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E31-B0C6-42D1-91BA-F7A303D8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D176C-99AE-4D5E-B47A-1010679B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5C008-18AC-481F-9DC1-6241C72F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6D3AE-60E4-4FF7-9205-642B6EDE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F1976-9C4C-4F04-8810-DFA77218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011F1-1A3B-455E-9EBF-9F573AC8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99AB-2595-4E59-B11F-806A2ED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10B22-8099-41DA-AC10-5AE7B480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3BAF-2026-4E86-A3B8-8B829B3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81FB-7F61-4D3D-8C1F-AF2309F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5C1C4-D414-413E-874B-DC4F91C5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A80-A578-4F6F-B4D1-42A6432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7ACE0-9F7E-40A2-8C8A-BEDAB618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44C92-058A-4BAC-9BD9-9F3FA852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FC42D-EA8E-4C0D-A1C5-19324319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04632-B82B-4902-83D4-B4F9ABFC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8B9F-0871-447B-AC45-F481AC5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81F54-8E05-4B0F-9130-07C636B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87CE4-5D00-49FB-B78E-2C44C432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38795-EBDE-41B5-A08C-8600D129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B269A-B2D8-432B-9639-350C990A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F3743-F0A2-482D-95FB-8DD7BA15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C02-6872-4F97-BAA4-AB8B0FFC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4DC98-2E41-426A-A244-D5224D1E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D5779-1B26-4314-99B8-58E873B7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C811-82D3-4FF0-8C4B-4C136D7C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900EC-1E58-4407-9B40-4358E5AF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BD378-4D65-4A07-BD22-8DF0F5ED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3623-7237-4E2E-AA27-FF34C86E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BD25F-B95A-4362-AC99-5B71C6F9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0B0F5-9ADE-45A5-A4F5-DB9E4DD2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388B1-FD47-4B08-8DB3-39A5CE13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3061C-6566-4B2F-BAE6-CDA4B8EA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0B3-2835-4460-87AC-CCD17376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E1F05-19DA-4A33-91E1-A131ED3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544E-C97D-4AC9-8E3A-DF620C37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AAC5F-BF40-482D-BD2C-3A24E5DB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87F2D-796E-4A37-89DC-04F4906C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79DA5-AE3B-49E2-A069-B62C4BDD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FE8B6-1103-4E01-81FD-8D825870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AE4C7-98D9-4EDF-9F64-DA0ED341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65E12-DA04-454C-9ECF-83EDDCA8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76B8B-BC5D-4DC6-954C-ECCEA879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DF9A0-D1C0-4550-B017-CB0372E6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339-9F1A-463E-8C86-98B400D622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89FE-BF86-46B4-8E5C-341216EEAA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9ED-8EE0-4E3A-BB87-3C462FEE1C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C3AE-F51D-4E80-88A4-BA8749524A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9E34-9092-45D4-AEC2-D0AF319797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EC82-0CA0-4398-8F0F-620832FCC5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A564-43AB-4720-BBAF-9172601F85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20B1-7285-4029-B51F-1A010358D2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9B14-B5FB-456F-AB75-AE2F5416FF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43AA-1063-48C5-BA68-EB46479D94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41E-371C-499B-9218-C3200A1C85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C0B0-5938-4C7D-88AF-1005C4C84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4BCC-6831-4A28-94F6-AB9316DE41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chapter8/section1/paragraph6/theory.html" TargetMode="External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i-main-pic" descr="Картинка 502 из 2578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2928960"/>
          </a:xfrm>
          <a:prstGeom prst="rect">
            <a:avLst/>
          </a:prstGeom>
          <a:ln w="0">
            <a:noFill/>
          </a:ln>
        </p:spPr>
      </p:pic>
      <p:sp>
        <p:nvSpPr>
          <p:cNvPr id="598" name="WordArt 4"/>
          <p:cNvSpPr txBox="1"/>
          <p:nvPr/>
        </p:nvSpPr>
        <p:spPr>
          <a:xfrm>
            <a:off x="3357720" y="928800"/>
            <a:ext cx="371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 Г Л Е В О Д 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9" name="Picture 7" descr=""/>
          <p:cNvPicPr/>
          <p:nvPr/>
        </p:nvPicPr>
        <p:blipFill>
          <a:blip r:embed="rId2"/>
          <a:stretch/>
        </p:blipFill>
        <p:spPr>
          <a:xfrm>
            <a:off x="0" y="2652840"/>
            <a:ext cx="4500720" cy="42051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"/>
          <p:cNvPicPr/>
          <p:nvPr/>
        </p:nvPicPr>
        <p:blipFill>
          <a:blip r:embed="rId3"/>
          <a:stretch/>
        </p:blipFill>
        <p:spPr>
          <a:xfrm>
            <a:off x="4357800" y="2357280"/>
            <a:ext cx="4786200" cy="450072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2143080" y="5610240"/>
            <a:ext cx="460872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11"/>
          <p:cNvSpPr/>
          <p:nvPr/>
        </p:nvSpPr>
        <p:spPr>
          <a:xfrm>
            <a:off x="357120" y="407196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169640" y="194616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2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929040" cy="3571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3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40006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0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9"/>
          <p:cNvSpPr/>
          <p:nvPr/>
        </p:nvSpPr>
        <p:spPr>
          <a:xfrm>
            <a:off x="0" y="31417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П О Л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0" y="121932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ми углеводами (полисахаридами или полиозами) называют такие углеводы, которые способны гидролизоваться с образованием простых углеводов и у них число атомов углерода не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609480" y="4419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ол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04920" y="5181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а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5"/>
          <p:cNvSpPr/>
          <p:nvPr/>
        </p:nvSpPr>
        <p:spPr>
          <a:xfrm>
            <a:off x="304920" y="99072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сахари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380880" y="4572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е из полисахаридов - это крахмал, гликоген (животный крахмал), целлюлоза (клетчатк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5"/>
          <p:cNvSpPr/>
          <p:nvPr/>
        </p:nvSpPr>
        <p:spPr>
          <a:xfrm>
            <a:off x="3733920" y="228600"/>
            <a:ext cx="51051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ахм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биополимер, состоящий из остатков глюкозы - первый видимый продукт фотосинтеза. При фотосинтезе крахмал образуется  в растениях  и откладывается  в корнях,  клубнях, семен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хма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белое вещество, состоящее из мельчайших зерен, напоминающих муку, поэтому его второе название «картофельная мук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Object 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86080" cy="4114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крахмал"/>
          <p:cNvPicPr/>
          <p:nvPr/>
        </p:nvPicPr>
        <p:blipFill>
          <a:blip r:embed="rId2"/>
          <a:stretch/>
        </p:blipFill>
        <p:spPr>
          <a:xfrm>
            <a:off x="250920" y="189000"/>
            <a:ext cx="3311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КРАХМАЛА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609120" y="928440"/>
            <a:ext cx="8534520" cy="326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пищевого продукта (хлеб, картофель, крупы и т. 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. Для изготовления  канцелярского кле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. В медицине и фарм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присыпок, паст (густых мазей), а также при производстве таблет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Picture 6" descr=""/>
          <p:cNvPicPr/>
          <p:nvPr/>
        </p:nvPicPr>
        <p:blipFill>
          <a:blip r:embed="rId1"/>
          <a:stretch/>
        </p:blipFill>
        <p:spPr>
          <a:xfrm>
            <a:off x="684360" y="3143160"/>
            <a:ext cx="3119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5"/>
          <p:cNvSpPr/>
          <p:nvPr/>
        </p:nvSpPr>
        <p:spPr>
          <a:xfrm>
            <a:off x="380880" y="3808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тном мире роль «запасного крахмала» играет родственный крахмалу полисахарид 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иког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ликоген содержится во всех животных тканях.  Особенно много его в печени (до 20%) и в мышцах (4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ген представляет собой белый аморфный порошок, хорошо растворимый  даже в холодной воде. Молекула животного крахмала построена по типу молекул амилопектина, отличаясь лишь большей ветвист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ярная масса гликогена  исчисляется миллион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7" descr="http://www.college.ru/biology/course/content/chapter8/section1/paragraph2/images/08010207.jpg"/>
          <p:cNvPicPr/>
          <p:nvPr/>
        </p:nvPicPr>
        <p:blipFill>
          <a:blip r:embed="rId1"/>
          <a:stretch/>
        </p:blipFill>
        <p:spPr>
          <a:xfrm>
            <a:off x="428760" y="85716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4648320" y="2286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также является полимером глюко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4643280" y="1928880"/>
            <a:ext cx="4038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заключено около 50 % углерода, содержащегося в растениях. По общей массе на Земле целлюлоза занимает первое место среди органических соединен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8"/>
          <p:cNvSpPr/>
          <p:nvPr/>
        </p:nvSpPr>
        <p:spPr>
          <a:xfrm>
            <a:off x="4714920" y="3500280"/>
            <a:ext cx="41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люлоза (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0" y="5000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люлоза – это биополимер, состоящий из остатков глюкозы -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4" name="Picture 0" descr=""/>
          <p:cNvPicPr/>
          <p:nvPr/>
        </p:nvPicPr>
        <p:blipFill>
          <a:blip r:embed="rId1"/>
          <a:stretch/>
        </p:blipFill>
        <p:spPr>
          <a:xfrm>
            <a:off x="1357200" y="342900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42600" y="499680"/>
            <a:ext cx="80391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еводам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H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x и y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http://www.college.ru/biology/course/content/javagifs/08010209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146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6"/>
          <p:cNvSpPr/>
          <p:nvPr/>
        </p:nvSpPr>
        <p:spPr>
          <a:xfrm>
            <a:off x="0" y="300024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тин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изок к целлюлозе; он встречается у некоторых форм грибов, а также как важный компонент наружного скелета некоторых животн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" name="Picture 9" descr=""/>
          <p:cNvPicPr/>
          <p:nvPr/>
        </p:nvPicPr>
        <p:blipFill>
          <a:blip r:embed="rId2"/>
          <a:stretch/>
        </p:blipFill>
        <p:spPr>
          <a:xfrm>
            <a:off x="4572000" y="29289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2920" y="3429000"/>
            <a:ext cx="37339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343400" y="3214800"/>
            <a:ext cx="4800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М О Н О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К моно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4343400"/>
            <a:ext cx="84582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озы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итроза  тре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тозы 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би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ил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бо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ксоз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нн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а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0" y="14479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ми углеводами (моносахаридами и мономинозами) называют углеводы, которые не способны гидролизоваться с образованием более простых углеводов,  у них число атомов углерода  равно числу атомов кислорода 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4343400" y="2286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у называют также виноградным сахаром, так как она содержится в  большом количестве в виноградном соке. Кроме винограда глюкоза находится и в других сладких плодах  и даже в разных частях расте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04920" y="441972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а глюкоза и в животном мире: 0,1% ее находится в крови. Глюкоза разносится по всему телу и служит источником энергии для организма. Она также входит в состав сахарозы, лактозы, целлюлозы, крахм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071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5"/>
          <p:cNvSpPr/>
          <p:nvPr/>
        </p:nvSpPr>
        <p:spPr>
          <a:xfrm>
            <a:off x="179280" y="189000"/>
            <a:ext cx="52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тительном мире широко распространена фруктоза или фруктовый (плодовый) сахар. Фруктоза содержится в сладких плодах, меде. Извлекая из цветов  сладких плодов соки, пчелы приготавливают мед, который по химическому составу  представляет собой  в основном смесь глюкозы и фруктозы. Также фруктоза входит в состав сложных сахаров, например тростникового и свеклови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" name="Picture 6" descr="47"/>
          <p:cNvPicPr/>
          <p:nvPr/>
        </p:nvPicPr>
        <p:blipFill>
          <a:blip r:embed="rId1"/>
          <a:stretch/>
        </p:blipFill>
        <p:spPr>
          <a:xfrm>
            <a:off x="5580000" y="26028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75491"/>
          <p:cNvPicPr/>
          <p:nvPr/>
        </p:nvPicPr>
        <p:blipFill>
          <a:blip r:embed="rId2"/>
          <a:stretch/>
        </p:blipFill>
        <p:spPr>
          <a:xfrm>
            <a:off x="5580000" y="3357720"/>
            <a:ext cx="28083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МОНОСАХАРИ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1295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сахариды играют роль промежуточных продуктов в процессах дыхания и фотосинтеза, участвуют в синтезе нуклеиновых кислот, коферментов, АТФ и полисахаридов, служат источниками энергии, высвобождаемой при окислении в процессе дыхания. Производные моносахаридов – сахарные спирты, сахарные кислоты, дезоксисахара и аминосахара – имеют важное значение в процессе дыхания, а также используются при синтезе липидов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ДН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угих макромолеку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ахариды имеют формул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д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533520" y="4724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ар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фру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алактоза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а + глюкоза)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биоз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152280" y="1371600"/>
            <a:ext cx="861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8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630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Admin</cp:lastModifiedBy>
  <dcterms:modified xsi:type="dcterms:W3CDTF">2012-01-08T16:36:12Z</dcterms:modified>
  <cp:revision>60</cp:revision>
  <dc:subject/>
  <dc:title> ПРЕЗЕНТАЦИЯ по химии</dc:title>
</cp:coreProperties>
</file>