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3BD-7412-4A13-90F7-17250E01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C96-74B7-4337-BB45-ABC315B3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DC0-750B-4735-BB69-455DFFC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D8F-A8D9-41D4-970C-0ED7F287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1FF0-F184-407D-A8E2-9B69C24B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4AE-50C0-4638-B604-DC3DCDD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C9AA-2DA6-4A00-BE76-E84DE34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592-A766-415C-BC0A-DD760DEE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CB43-8740-4C1D-86F1-C9F16A61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509-3DD5-4D92-B5B0-3B6366F2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31D-19F8-4317-95B1-81CD026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0DD-9405-4C7C-9DFF-C109047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0B44-59DE-4EEF-9AA0-8B91F741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539C-1B03-4459-8368-E34D5D8F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6BDC-1CF3-40D4-86BC-B85A45C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F778-15E8-4CC4-A140-361A94C7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7E4-6935-4603-8413-C8989796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F8D-EFD1-49C5-8F6D-E118413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D88-D8CC-44AA-8EF9-F1CBDA4B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4B0-8931-4703-B49A-9AE6511F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071-A12C-415D-8FFE-9F45DAE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891-C9B0-4834-A1A8-85B398B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3AA-1C19-4CC1-AB14-5D61F77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E6E-1990-4E00-8C68-4305D50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7C7C-5F9A-494F-AD4A-F2FE70E38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FA1-1BDB-4680-BCDB-4D21A10033D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Галогенпроизводные 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углеводородов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роизводные углеводовородов, в которых один или несколько атомов водорода замещены на атомы галоге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хлорметан.avi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2590920" cy="2247840"/>
          </a:xfrm>
          <a:prstGeom prst="rect">
            <a:avLst/>
          </a:prstGeom>
          <a:ln w="0">
            <a:noFill/>
          </a:ln>
        </p:spPr>
      </p:pic>
      <p:pic>
        <p:nvPicPr>
          <p:cNvPr id="102" name="хлорметан2.avi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224784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хлорметан3.avi" descr=""/>
          <p:cNvPicPr/>
          <p:nvPr/>
        </p:nvPicPr>
        <p:blipFill>
          <a:blip r:embed="rId3"/>
          <a:stretch/>
        </p:blipFill>
        <p:spPr>
          <a:xfrm>
            <a:off x="6248520" y="2057400"/>
            <a:ext cx="2438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винилхлори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ее прочная связь 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ая активность в реакциях нуклеофильного замещения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Хлор обладает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-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и +М-эффектами –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&gt;+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7" descr="C:\Мои документы\Мои рабочие документы\урок\винилхлорид.gif"/>
          <p:cNvPicPr/>
          <p:nvPr/>
        </p:nvPicPr>
        <p:blipFill>
          <a:blip r:embed="rId1"/>
          <a:stretch/>
        </p:blipFill>
        <p:spPr>
          <a:xfrm>
            <a:off x="685800" y="2286000"/>
            <a:ext cx="4114800" cy="824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Мои документы\Мои рабочие документы\урок\винилхлорид2.gif"/>
          <p:cNvPicPr/>
          <p:nvPr/>
        </p:nvPicPr>
        <p:blipFill>
          <a:blip r:embed="rId2"/>
          <a:stretch/>
        </p:blipFill>
        <p:spPr>
          <a:xfrm>
            <a:off x="762120" y="4648320"/>
            <a:ext cx="39621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винилхлори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бразование единого электронного обл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p–</a:t>
            </a:r>
            <a:r>
              <a:rPr b="0" i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сопря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C:\Мои документы\Мои рабочие документы\урок\аним1-1.gif"/>
          <p:cNvPicPr/>
          <p:nvPr/>
        </p:nvPicPr>
        <p:blipFill>
          <a:blip r:embed="rId1"/>
          <a:stretch/>
        </p:blipFill>
        <p:spPr>
          <a:xfrm>
            <a:off x="304920" y="2514600"/>
            <a:ext cx="84582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65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истематическая (заместительная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 №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+ галоген + углеводо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Рациона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радикал + галогени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ривиальная (исторически сложившаяся)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-хлорпропен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зам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лилхлорид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рац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ихлорметан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зам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лороформ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три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C:\Мои документы\Мои рабочие документы\урок\аллилхлорид.gif"/>
          <p:cNvPicPr/>
          <p:nvPr/>
        </p:nvPicPr>
        <p:blipFill>
          <a:blip r:embed="rId1"/>
          <a:stretch/>
        </p:blipFill>
        <p:spPr>
          <a:xfrm>
            <a:off x="1219320" y="2590920"/>
            <a:ext cx="3200400" cy="45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Мои документы\Мои рабочие документы\урок\хлороформ.gif"/>
          <p:cNvPicPr/>
          <p:nvPr/>
        </p:nvPicPr>
        <p:blipFill>
          <a:blip r:embed="rId2"/>
          <a:stretch/>
        </p:blipFill>
        <p:spPr>
          <a:xfrm>
            <a:off x="6019920" y="2133720"/>
            <a:ext cx="1846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Номенкл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Задание : 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Назовите ве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C:\Мои документы\Мои рабочие документы\урок\назовите2.gif"/>
          <p:cNvPicPr/>
          <p:nvPr/>
        </p:nvPicPr>
        <p:blipFill>
          <a:blip r:embed="rId1"/>
          <a:stretch/>
        </p:blipFill>
        <p:spPr>
          <a:xfrm>
            <a:off x="1066680" y="2666880"/>
            <a:ext cx="754380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Изомерия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монобромпроизводных алкан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зомерия углеродного скел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зомерия положения заместите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C:\Мои документы\Мои рабочие документы\урок\изомерия.gif"/>
          <p:cNvPicPr/>
          <p:nvPr/>
        </p:nvPicPr>
        <p:blipFill>
          <a:blip r:embed="rId1"/>
          <a:stretch/>
        </p:blipFill>
        <p:spPr>
          <a:xfrm>
            <a:off x="1600200" y="2438280"/>
            <a:ext cx="6858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пературы кипения увеличиваю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) с увеличением порядкового номера галог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Б) с увеличением углеводородного радика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) с увеличением числа атомов галоген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ейшие –газы, далее 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 жидкости с характерным запахом, нерастворимы в воде, растворимы в орг. растворител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лотность увеличива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Б) с увеличением числа атомов галоген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) с увеличением порядкового номера галоге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изиологическое действ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ти все токсичны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гексахлоран, ДДТ - ядохимикаты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роме фторпроизводных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тефлон, фреон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огие обладают наркотическим воздействием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хлороформ и др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езоточивое действие – лакриматор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(бензилхлорид и др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жете ли Вы предположить химические свойства галогенпроизводны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C:\Мои документы\Мои рабочие документы\урок\хим-вопрос.gif"/>
          <p:cNvPicPr/>
          <p:nvPr/>
        </p:nvPicPr>
        <p:blipFill>
          <a:blip r:embed="rId1"/>
          <a:stretch/>
        </p:blipFill>
        <p:spPr>
          <a:xfrm>
            <a:off x="1371600" y="3022560"/>
            <a:ext cx="68580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) реакции углеводородных радика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е же что и у соответствующих у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едельные – замещение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епредельные – присоединие (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роматические – замещение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ahoma"/>
              </a:rPr>
              <a:t>Е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) реакции с участием гало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замещение (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отщепления (элиминирования) (Е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Фто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Хло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ром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одпроизвод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6" descr="C:\Мои документы\Мои рабочие документы\урок\Классиф1.gif"/>
          <p:cNvPicPr/>
          <p:nvPr/>
        </p:nvPicPr>
        <p:blipFill>
          <a:blip r:embed="rId1"/>
          <a:stretch/>
        </p:blipFill>
        <p:spPr>
          <a:xfrm>
            <a:off x="457200" y="2189160"/>
            <a:ext cx="38098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Реакции углеводородных радикал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дание: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кажите условия проведения реакц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C:\Мои документы\Мои рабочие документы\урок\хим-углевод.gif"/>
          <p:cNvPicPr/>
          <p:nvPr/>
        </p:nvPicPr>
        <p:blipFill>
          <a:blip r:embed="rId1"/>
          <a:stretch/>
        </p:blipFill>
        <p:spPr>
          <a:xfrm>
            <a:off x="762120" y="2895480"/>
            <a:ext cx="8001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2756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кции с участием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ктивность зависит от галоге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066680" y="4876560"/>
            <a:ext cx="78883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Т.к. радиус галогена увеличивает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длина связи увеличивает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связи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С-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al)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уменьшае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6" descr="C:\Мои документы\Мои рабочие документы\урок\активность.gif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Механизм р-ции нуклеофильного замещени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7" descr="C:\Мои документы\Мои рабочие документы\урок\нуклеоф-зам.gif"/>
          <p:cNvPicPr/>
          <p:nvPr/>
        </p:nvPicPr>
        <p:blipFill>
          <a:blip r:embed="rId1"/>
          <a:stretch/>
        </p:blipFill>
        <p:spPr>
          <a:xfrm>
            <a:off x="762120" y="2438280"/>
            <a:ext cx="777240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А) алкилгалогенидов – средняя акти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(в присутствии щелоч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C:\Мои документы\Мои рабочие документы\урок\гидр1.gif"/>
          <p:cNvPicPr/>
          <p:nvPr/>
        </p:nvPicPr>
        <p:blipFill>
          <a:blip r:embed="rId1"/>
          <a:stretch/>
        </p:blipFill>
        <p:spPr>
          <a:xfrm>
            <a:off x="152280" y="403848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Б) винилгалогенидов и арилгалогенилов не происход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) Аллилгалогенидов и бензилгалогенидов происходит очень легко (без щелоч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C:\Мои документы\Мои рабочие документы\урок\аллилхлорид.gif"/>
          <p:cNvPicPr/>
          <p:nvPr/>
        </p:nvPicPr>
        <p:blipFill>
          <a:blip r:embed="rId1"/>
          <a:stretch/>
        </p:blipFill>
        <p:spPr>
          <a:xfrm>
            <a:off x="1905120" y="5562720"/>
            <a:ext cx="51814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Мои документы\Мои рабочие документы\урок\винилхлорид.gif"/>
          <p:cNvPicPr/>
          <p:nvPr/>
        </p:nvPicPr>
        <p:blipFill>
          <a:blip r:embed="rId2"/>
          <a:stretch/>
        </p:blipFill>
        <p:spPr>
          <a:xfrm>
            <a:off x="2743200" y="3505320"/>
            <a:ext cx="35053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моногалогенпроизводных – образуютс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одноатомные спи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полигалогенпроизводных при разных атомах С–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многоатомные спир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7" descr="C:\Мои документы\Мои рабочие документы\урок\гидр2.gif"/>
          <p:cNvPicPr/>
          <p:nvPr/>
        </p:nvPicPr>
        <p:blipFill>
          <a:blip r:embed="rId1"/>
          <a:stretch/>
        </p:blipFill>
        <p:spPr>
          <a:xfrm>
            <a:off x="1295280" y="3048120"/>
            <a:ext cx="6400800" cy="76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Мои документы\Мои рабочие документы\урок\гидр3.gif"/>
          <p:cNvPicPr/>
          <p:nvPr/>
        </p:nvPicPr>
        <p:blipFill>
          <a:blip r:embed="rId2"/>
          <a:stretch/>
        </p:blipFill>
        <p:spPr>
          <a:xfrm>
            <a:off x="1447920" y="4876920"/>
            <a:ext cx="5715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Предположите продукты реакций гидролиза следующих вещест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7" descr="C:\Мои документы\Мои рабочие документы\урок\гидролиз-вопрос2.gif"/>
          <p:cNvPicPr/>
          <p:nvPr/>
        </p:nvPicPr>
        <p:blipFill>
          <a:blip r:embed="rId1"/>
          <a:stretch/>
        </p:blipFill>
        <p:spPr>
          <a:xfrm>
            <a:off x="2057400" y="2971800"/>
            <a:ext cx="5410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C:\Мои документы\Мои рабочие документы\урок\аним-неуст.gif"/>
          <p:cNvPicPr/>
          <p:nvPr/>
        </p:nvPicPr>
        <p:blipFill>
          <a:blip r:embed="rId1"/>
          <a:stretch/>
        </p:blipFill>
        <p:spPr>
          <a:xfrm>
            <a:off x="1295280" y="4073400"/>
            <a:ext cx="5867640" cy="103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Мои документы\Мои рабочие документы\урок\отщеп-воды.gif"/>
          <p:cNvPicPr/>
          <p:nvPr/>
        </p:nvPicPr>
        <p:blipFill>
          <a:blip r:embed="rId2"/>
          <a:stretch/>
        </p:blipFill>
        <p:spPr>
          <a:xfrm>
            <a:off x="1981080" y="1905120"/>
            <a:ext cx="5639040" cy="240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Мои документы\Мои рабочие документы\урок\уг-кисл.gif"/>
          <p:cNvPicPr/>
          <p:nvPr/>
        </p:nvPicPr>
        <p:blipFill>
          <a:blip r:embed="rId3"/>
          <a:stretch/>
        </p:blipFill>
        <p:spPr>
          <a:xfrm>
            <a:off x="2590920" y="5181480"/>
            <a:ext cx="48765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дигалогенпроизводных – образуются  а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льдегиды и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б)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кето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C:\Мои документы\Мои рабочие документы\урок\гидр4.gif"/>
          <p:cNvPicPr/>
          <p:nvPr/>
        </p:nvPicPr>
        <p:blipFill>
          <a:blip r:embed="rId1"/>
          <a:stretch/>
        </p:blipFill>
        <p:spPr>
          <a:xfrm>
            <a:off x="228600" y="3121200"/>
            <a:ext cx="83818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идролиз тригалогенпроизводных – образуются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карбоновые кисло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7" descr="C:\Мои документы\Мои рабочие документы\урок\гидр5.gif"/>
          <p:cNvPicPr/>
          <p:nvPr/>
        </p:nvPicPr>
        <p:blipFill>
          <a:blip r:embed="rId1"/>
          <a:stretch/>
        </p:blipFill>
        <p:spPr>
          <a:xfrm>
            <a:off x="228600" y="3809880"/>
            <a:ext cx="8686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920" y="2017800"/>
            <a:ext cx="40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числу атомов гало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оно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и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ризамеще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6" descr="C:\Мои документы\Мои рабочие документы\урок\Классиф2.gif"/>
          <p:cNvPicPr/>
          <p:nvPr/>
        </p:nvPicPr>
        <p:blipFill>
          <a:blip r:embed="rId1"/>
          <a:stretch/>
        </p:blipFill>
        <p:spPr>
          <a:xfrm>
            <a:off x="685800" y="220968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амеще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заимодействие с аммиаком (при </a:t>
            </a:r>
            <a:r>
              <a:rPr b="0" i="1" lang="ru-RU" sz="28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– образуются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ами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Взаимодействие с цианидами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(солями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CN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синильной кислоты)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при </a:t>
            </a:r>
            <a:r>
              <a:rPr b="0" i="1" lang="ru-RU" sz="2800" spc="-1" strike="noStrike" baseline="30000">
                <a:solidFill>
                  <a:srgbClr val="333399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t)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– 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нитри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6" descr="C:\Мои документы\Мои рабочие документы\урок\реак-ам.gif"/>
          <p:cNvPicPr/>
          <p:nvPr/>
        </p:nvPicPr>
        <p:blipFill>
          <a:blip r:embed="rId1"/>
          <a:stretch/>
        </p:blipFill>
        <p:spPr>
          <a:xfrm>
            <a:off x="304920" y="3048120"/>
            <a:ext cx="8305560" cy="703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Мои документы\Мои рабочие документы\урок\реак-циан.gif"/>
          <p:cNvPicPr/>
          <p:nvPr/>
        </p:nvPicPr>
        <p:blipFill>
          <a:blip r:embed="rId2"/>
          <a:stretch/>
        </p:blipFill>
        <p:spPr>
          <a:xfrm>
            <a:off x="609480" y="5334120"/>
            <a:ext cx="8001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тщепление (Е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ahoma"/>
              </a:rPr>
              <a:t>N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07696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57200" y="4724280"/>
            <a:ext cx="830592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равило Зайцева: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водород отщепляется от наименее гидрированного атома углер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еакция отщепления – конкурирующая  реакциям замещ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7" descr="C:\Мои документы\Мои рабочие документы\урок\отщеп.gif"/>
          <p:cNvPicPr/>
          <p:nvPr/>
        </p:nvPicPr>
        <p:blipFill>
          <a:blip r:embed="rId1"/>
          <a:stretch/>
        </p:blipFill>
        <p:spPr>
          <a:xfrm>
            <a:off x="304920" y="1935000"/>
            <a:ext cx="84582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Химические свойства</a:t>
            </a:r>
            <a:br>
              <a:rPr sz="4400"/>
            </a:b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окисле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орят плохо,                      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ыделяя ядовитые соединения (!!!) (например хлороводород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Cl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или не горят вовс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Tahoma"/>
              </a:rPr>
              <a:t>Качественная реакция на С</a:t>
            </a:r>
            <a:r>
              <a:rPr b="0" i="1" lang="en-US" sz="2800" spc="-1" strike="noStrike">
                <a:solidFill>
                  <a:srgbClr val="1c1c1c"/>
                </a:solidFill>
                <a:latin typeface="Tahoma"/>
              </a:rPr>
              <a:t>l, Br, I</a:t>
            </a:r>
            <a:r>
              <a:rPr b="0" i="1" lang="ru-RU" sz="2800" spc="-1" strike="noStrike">
                <a:solidFill>
                  <a:srgbClr val="1c1c1c"/>
                </a:solidFill>
                <a:latin typeface="Tahoma"/>
              </a:rPr>
              <a:t>: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Окрашивание пламени в </a:t>
            </a:r>
            <a:r>
              <a:rPr b="0" i="1" lang="ru-RU" sz="2800" spc="-1" strike="noStrike">
                <a:solidFill>
                  <a:srgbClr val="00e4a8"/>
                </a:solidFill>
                <a:latin typeface="Tahoma"/>
              </a:rPr>
              <a:t>зеленый цвет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 медной проволочкой, смоченной в галогенпроизводн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олу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лканов и циклоалка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лкенов и алки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з аре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з спир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з альдегидов и кетон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Примен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нестези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аркоз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HClBr  (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ранее СН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створители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, C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H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Фреоны (хладагенты)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нтисептик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СН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ушение пожаров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Cl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4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лимеры из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СН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=СН-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, 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ru-RU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=С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i="1" lang="en-US" sz="28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и др.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Ядохимикаты: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 гексахлоран, ДД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24280" y="2017440"/>
            <a:ext cx="42307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природе углеводородного радик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фатическ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предельные и непредельны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цикл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ром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25" descr="C:\Мои документы\Мои рабочие документы\урок\Классиф3.gif"/>
          <p:cNvPicPr/>
          <p:nvPr/>
        </p:nvPicPr>
        <p:blipFill>
          <a:blip r:embed="rId1"/>
          <a:stretch/>
        </p:blipFill>
        <p:spPr>
          <a:xfrm>
            <a:off x="1447920" y="2057400"/>
            <a:ext cx="2743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Общая </a:t>
            </a: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глеводор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но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1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и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2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ипроизводн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y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-3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Hal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C:\Мои документы\Мои рабочие документы\урок\Стрелки.gif"/>
          <p:cNvPicPr/>
          <p:nvPr/>
        </p:nvPicPr>
        <p:blipFill>
          <a:blip r:embed="rId1"/>
          <a:stretch/>
        </p:blipFill>
        <p:spPr>
          <a:xfrm>
            <a:off x="3124080" y="3505320"/>
            <a:ext cx="20574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4</a:t>
            </a:r>
            <a:br>
              <a:rPr sz="4400"/>
            </a:b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для производных алканов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атома углерода, связанного с галоген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ерв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тор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ретич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6" descr="C:\Мои документы\Мои рабочие документы\урок\Классиф4.gif"/>
          <p:cNvPicPr/>
          <p:nvPr/>
        </p:nvPicPr>
        <p:blipFill>
          <a:blip r:embed="rId1"/>
          <a:stretch/>
        </p:blipFill>
        <p:spPr>
          <a:xfrm>
            <a:off x="1584360" y="2017800"/>
            <a:ext cx="30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Классификация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 5</a:t>
            </a:r>
            <a:br>
              <a:rPr sz="4400"/>
            </a:b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о химической активност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00600" y="1828440"/>
            <a:ext cx="415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к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инил-, и  фен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лил-, и бензилгалогени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о характеру связей, входящих в галогенпроизводное (по строению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C:\Мои документы\Мои рабочие документы\урок\Классиф5.gif"/>
          <p:cNvPicPr/>
          <p:nvPr/>
        </p:nvPicPr>
        <p:blipFill>
          <a:blip r:embed="rId1"/>
          <a:stretch/>
        </p:blipFill>
        <p:spPr>
          <a:xfrm>
            <a:off x="914400" y="2133720"/>
            <a:ext cx="380988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хлорэта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хлорэтан.avi" descr=""/>
          <p:cNvPicPr/>
          <p:nvPr/>
        </p:nvPicPr>
        <p:blipFill>
          <a:blip r:embed="rId1"/>
          <a:stretch/>
        </p:blipFill>
        <p:spPr>
          <a:xfrm>
            <a:off x="1905120" y="2728800"/>
            <a:ext cx="5867280" cy="412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Мои документы\Мои рабочие документы\урок\стр-хлорэтан.gif"/>
          <p:cNvPicPr/>
          <p:nvPr/>
        </p:nvPicPr>
        <p:blipFill>
          <a:blip r:embed="rId2"/>
          <a:stretch/>
        </p:blipFill>
        <p:spPr>
          <a:xfrm>
            <a:off x="2971800" y="1828800"/>
            <a:ext cx="4191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Строение</a:t>
            </a:r>
            <a:br>
              <a:rPr sz="44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хлорэтан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Хлор обладает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-эффект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редняя актив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акции нуклеофильного замещения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6" descr="C:\Мои документы\Мои рабочие документы\урок\стр-хлорэтан.gif"/>
          <p:cNvPicPr/>
          <p:nvPr/>
        </p:nvPicPr>
        <p:blipFill>
          <a:blip r:embed="rId1"/>
          <a:stretch/>
        </p:blipFill>
        <p:spPr>
          <a:xfrm>
            <a:off x="1295280" y="2133720"/>
            <a:ext cx="3657600" cy="64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Мои документы\Мои рабочие документы\урок\стр-хлорэтан2.gif"/>
          <p:cNvPicPr/>
          <p:nvPr/>
        </p:nvPicPr>
        <p:blipFill>
          <a:blip r:embed="rId2"/>
          <a:stretch/>
        </p:blipFill>
        <p:spPr>
          <a:xfrm>
            <a:off x="1143000" y="4419720"/>
            <a:ext cx="373392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6:42:24Z</dcterms:created>
  <dc:creator>Кравцов</dc:creator>
  <dc:description/>
  <dc:language>en-US</dc:language>
  <cp:lastModifiedBy>Admin</cp:lastModifiedBy>
  <dcterms:modified xsi:type="dcterms:W3CDTF">2012-01-08T17:20:44Z</dcterms:modified>
  <cp:revision>46</cp:revision>
  <dc:subject/>
  <dc:title>Галогенпроизводные  углеводородов  </dc:title>
</cp:coreProperties>
</file>