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3622-ECF3-47EC-B6F9-2FC5B57756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F605-B96E-478D-8137-D97D1A26F3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097A-D453-4411-8978-98BDF18A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BA9-FC32-4BF8-9275-6382CC60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397D-E61F-4285-80D2-1A96E155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D6B-05E5-44DC-83EA-15D63BC2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3B1C-EE22-4CC3-82B9-C53A7FC6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E903-9645-4062-A393-6A2F97BC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A5D9-B37E-48F5-8804-7DF75FCF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BE43-6B5A-47DC-9EC1-EE3B536F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5061-67C8-42FC-8626-FDF8ED01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3E07-4032-44B2-9F7F-1AFAE618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195C-39FE-4350-9113-499C5D73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2E1-43C2-4B63-9722-66144E94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0D5F-4AB5-4E2B-A148-980307D8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8793-A35F-4BF1-B7FE-DAF751A0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0214-F029-42B7-A28D-3B3E8331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F9A2-5885-4BBE-AEAC-A863F3E4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6DAD-8372-4E9D-9139-2F6953E5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B130-9E90-43BE-9895-9F5ED6E1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F07-54F3-47F1-A133-81937204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44ED-33AB-4BB3-8224-B370DC94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858F-9849-4ACA-8DB5-2F6EF22A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586E-0AC2-41A4-A613-12AE638A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BE8-77DA-4E8B-86E7-85FDDA8C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2EC0-C788-4C71-AA59-428C3BD8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DD9C-B969-4476-BE48-113DF789FF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1A23-3FDC-475E-8502-AE1F3E3561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EEFD-2FD8-481B-8ACF-5323698C5F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2268360" y="3789360"/>
            <a:ext cx="4427640" cy="9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ьдегиды</a:t>
            </a:r>
            <a:endParaRPr b="1" i="1" lang="en-US" sz="2400" spc="1" strike="noStrike">
              <a:ln w="2232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8221-539E-48E7-A0ED-1E6082AF4B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ие свойства альдегидов определяются строением карбонильной группы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&gt;C=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Водородная связь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d4"/>
                </a:solidFill>
                <a:latin typeface="Arial"/>
              </a:rPr>
              <a:t>t</a:t>
            </a:r>
            <a:r>
              <a:rPr b="1" lang="en-US" sz="4600" spc="-1" strike="noStrike" baseline="-25000">
                <a:solidFill>
                  <a:srgbClr val="0000d4"/>
                </a:solidFill>
                <a:latin typeface="Arial"/>
              </a:rPr>
              <a:t> </a:t>
            </a:r>
            <a:r>
              <a:rPr b="1" lang="ru-RU" sz="4600" spc="-1" strike="noStrike" baseline="-25000">
                <a:solidFill>
                  <a:srgbClr val="0000d4"/>
                </a:solidFill>
                <a:latin typeface="Arial"/>
              </a:rPr>
              <a:t>кип</a:t>
            </a:r>
            <a:r>
              <a:rPr b="1" lang="ru-RU" sz="4600" spc="-1" strike="noStrike">
                <a:solidFill>
                  <a:srgbClr val="0000d4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00d4"/>
                </a:solidFill>
                <a:latin typeface="Arial"/>
                <a:ea typeface="Arial"/>
              </a:rPr>
              <a:t>&lt; t</a:t>
            </a:r>
            <a:r>
              <a:rPr b="1" lang="ru-RU" sz="4600" spc="-1" strike="noStrike" baseline="-25000">
                <a:solidFill>
                  <a:srgbClr val="0000d4"/>
                </a:solidFill>
                <a:latin typeface="Arial"/>
              </a:rPr>
              <a:t>кип</a:t>
            </a:r>
            <a:r>
              <a:rPr b="1" lang="ru-RU" sz="4600" spc="-1" strike="noStrike">
                <a:solidFill>
                  <a:srgbClr val="0000d4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d4"/>
                </a:solidFill>
                <a:latin typeface="Arial"/>
              </a:rPr>
              <a:t>спи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4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- газ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4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– С</a:t>
            </a:r>
            <a:r>
              <a:rPr b="1" lang="ru-RU" sz="46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– жидкост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4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– твердые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"/>
          <p:cNvSpPr/>
          <p:nvPr/>
        </p:nvSpPr>
        <p:spPr>
          <a:xfrm flipV="1">
            <a:off x="250920" y="1988640"/>
            <a:ext cx="5761080" cy="289080"/>
          </a:xfrm>
          <a:prstGeom prst="line">
            <a:avLst/>
          </a:prstGeom>
          <a:ln cap="sq"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Связь С=О"/>
          <p:cNvPicPr/>
          <p:nvPr/>
        </p:nvPicPr>
        <p:blipFill>
          <a:blip r:embed="rId1"/>
          <a:stretch/>
        </p:blipFill>
        <p:spPr>
          <a:xfrm>
            <a:off x="5364000" y="2565360"/>
            <a:ext cx="3478320" cy="1420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o311"/>
          <p:cNvPicPr/>
          <p:nvPr/>
        </p:nvPicPr>
        <p:blipFill>
          <a:blip r:embed="rId2"/>
          <a:stretch/>
        </p:blipFill>
        <p:spPr>
          <a:xfrm>
            <a:off x="6084720" y="4653000"/>
            <a:ext cx="2411640" cy="1192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o311"/>
          <p:cNvPicPr/>
          <p:nvPr/>
        </p:nvPicPr>
        <p:blipFill>
          <a:blip r:embed="rId3"/>
          <a:stretch/>
        </p:blipFill>
        <p:spPr>
          <a:xfrm>
            <a:off x="6083280" y="4673520"/>
            <a:ext cx="241128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Химические свойства</a:t>
            </a:r>
            <a:br>
              <a:rPr sz="4000"/>
            </a:b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альдегидов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2"/>
          <p:cNvSpPr/>
          <p:nvPr/>
        </p:nvSpPr>
        <p:spPr>
          <a:xfrm>
            <a:off x="468360" y="2133720"/>
            <a:ext cx="2376360" cy="129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13"/>
          <p:cNvSpPr/>
          <p:nvPr/>
        </p:nvSpPr>
        <p:spPr>
          <a:xfrm>
            <a:off x="3276720" y="2133720"/>
            <a:ext cx="2376360" cy="129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14"/>
          <p:cNvSpPr/>
          <p:nvPr/>
        </p:nvSpPr>
        <p:spPr>
          <a:xfrm>
            <a:off x="6443640" y="2133720"/>
            <a:ext cx="2376360" cy="129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иконденс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559440" y="242100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соеди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3040200" y="445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41"/>
          <p:cNvSpPr/>
          <p:nvPr/>
        </p:nvSpPr>
        <p:spPr>
          <a:xfrm>
            <a:off x="3059280" y="3716280"/>
            <a:ext cx="1657080" cy="108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серебря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еркал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42"/>
          <p:cNvSpPr/>
          <p:nvPr/>
        </p:nvSpPr>
        <p:spPr>
          <a:xfrm>
            <a:off x="4788000" y="4941720"/>
            <a:ext cx="1512720" cy="863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кис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u(OH)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5"/>
          <p:cNvSpPr/>
          <p:nvPr/>
        </p:nvSpPr>
        <p:spPr>
          <a:xfrm>
            <a:off x="3685320" y="2421000"/>
            <a:ext cx="157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кис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53"/>
          <p:cNvSpPr/>
          <p:nvPr/>
        </p:nvSpPr>
        <p:spPr>
          <a:xfrm>
            <a:off x="179280" y="4005360"/>
            <a:ext cx="2016360" cy="43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идр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55"/>
          <p:cNvSpPr/>
          <p:nvPr/>
        </p:nvSpPr>
        <p:spPr>
          <a:xfrm>
            <a:off x="1692360" y="5013360"/>
            <a:ext cx="2016000" cy="936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8"/>
          <p:cNvSpPr/>
          <p:nvPr/>
        </p:nvSpPr>
        <p:spPr>
          <a:xfrm>
            <a:off x="1618920" y="5229360"/>
            <a:ext cx="22626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соеди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aHSO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59"/>
          <p:cNvSpPr/>
          <p:nvPr/>
        </p:nvSpPr>
        <p:spPr>
          <a:xfrm flipH="1">
            <a:off x="2050560" y="1557360"/>
            <a:ext cx="12258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60"/>
          <p:cNvSpPr/>
          <p:nvPr/>
        </p:nvSpPr>
        <p:spPr>
          <a:xfrm>
            <a:off x="442764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61"/>
          <p:cNvSpPr/>
          <p:nvPr/>
        </p:nvSpPr>
        <p:spPr>
          <a:xfrm>
            <a:off x="4427640" y="155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62"/>
          <p:cNvSpPr/>
          <p:nvPr/>
        </p:nvSpPr>
        <p:spPr>
          <a:xfrm>
            <a:off x="5651640" y="155736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3"/>
          <p:cNvSpPr/>
          <p:nvPr/>
        </p:nvSpPr>
        <p:spPr>
          <a:xfrm flipH="1">
            <a:off x="971280" y="3429000"/>
            <a:ext cx="144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64"/>
          <p:cNvSpPr/>
          <p:nvPr/>
        </p:nvSpPr>
        <p:spPr>
          <a:xfrm>
            <a:off x="2195640" y="3429000"/>
            <a:ext cx="50472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66"/>
          <p:cNvSpPr/>
          <p:nvPr/>
        </p:nvSpPr>
        <p:spPr>
          <a:xfrm flipH="1">
            <a:off x="3995640" y="3500280"/>
            <a:ext cx="144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67"/>
          <p:cNvSpPr/>
          <p:nvPr/>
        </p:nvSpPr>
        <p:spPr>
          <a:xfrm>
            <a:off x="5003640" y="3429000"/>
            <a:ext cx="7207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71"/>
          <p:cNvSpPr/>
          <p:nvPr/>
        </p:nvSpPr>
        <p:spPr>
          <a:xfrm>
            <a:off x="5651640" y="3573360"/>
            <a:ext cx="2376360" cy="1297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имер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73"/>
          <p:cNvSpPr/>
          <p:nvPr/>
        </p:nvSpPr>
        <p:spPr>
          <a:xfrm>
            <a:off x="5292720" y="1557360"/>
            <a:ext cx="1224000" cy="19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ачественные реакци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кис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аммиачным раствором оксида серебра (реакция «серебряного зеркала»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гидроксидом меди(2).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Окислительно-восстановительные  свойств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кис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Алканол        Алканаль           Алкан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(спирт)         (альдегид)            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1116000" y="2708280"/>
            <a:ext cx="684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2411280" y="3213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1"/>
          <p:cNvSpPr/>
          <p:nvPr/>
        </p:nvSpPr>
        <p:spPr>
          <a:xfrm flipH="1">
            <a:off x="2411280" y="3429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5364000" y="321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1116000" y="2708280"/>
            <a:ext cx="7128000" cy="73080"/>
          </a:xfrm>
          <a:prstGeom prst="rightArrow">
            <a:avLst>
              <a:gd name="adj1" fmla="val 50000"/>
              <a:gd name="adj2" fmla="val 24384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1A4E-43CB-48A9-A7AC-D436682AAC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ные химические свойств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–CH=O +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R-C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-C=O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[ O 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R-C=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                    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d4"/>
                </a:solidFill>
                <a:latin typeface="Arial"/>
              </a:rPr>
              <a:t>R-CHO +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[Ag(NH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 Unicode MS"/>
                <a:ea typeface="Arial Unicode MS"/>
              </a:rPr>
              <a:t>3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)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 Unicode MS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]OH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   </a:t>
            </a:r>
            <a:r>
              <a:rPr b="0" lang="en-US" sz="2800" spc="-1" strike="noStrike" baseline="30000">
                <a:solidFill>
                  <a:srgbClr val="0000d4"/>
                </a:solidFill>
                <a:latin typeface="Arial Unicode MS"/>
                <a:ea typeface="Arial Unicode MS"/>
              </a:rPr>
              <a:t>t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   RCOONH</a:t>
            </a:r>
            <a:r>
              <a:rPr b="0" lang="en-US" sz="2800" spc="-1" strike="noStrike" baseline="-25000">
                <a:solidFill>
                  <a:srgbClr val="0000d4"/>
                </a:solidFill>
                <a:latin typeface="Arial Unicode MS"/>
                <a:ea typeface="Arial Unicode MS"/>
              </a:rPr>
              <a:t>4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 + 2Ag↓+ 3NH</a:t>
            </a:r>
            <a:r>
              <a:rPr b="0" lang="en-US" sz="2800" spc="-1" strike="noStrike" baseline="-25000">
                <a:solidFill>
                  <a:srgbClr val="0000d4"/>
                </a:solidFill>
                <a:latin typeface="Arial Unicode MS"/>
                <a:ea typeface="Arial Unicode MS"/>
              </a:rPr>
              <a:t>3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 +  H</a:t>
            </a:r>
            <a:r>
              <a:rPr b="0" lang="en-US" sz="2800" spc="-1" strike="noStrike" baseline="-25000">
                <a:solidFill>
                  <a:srgbClr val="0000d4"/>
                </a:solidFill>
                <a:latin typeface="Arial Unicode MS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O </a:t>
            </a:r>
            <a:r>
              <a:rPr b="0" lang="ru-RU" sz="2800" spc="-1" strike="noStrike">
                <a:solidFill>
                  <a:srgbClr val="0000d4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еакция «серебряного зерка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492360" y="1989000"/>
            <a:ext cx="576360" cy="7920"/>
          </a:xfrm>
          <a:prstGeom prst="line">
            <a:avLst/>
          </a:prstGeom>
          <a:ln cap="sq" w="442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2124000" y="2492280"/>
            <a:ext cx="792360" cy="11160"/>
          </a:xfrm>
          <a:prstGeom prst="line">
            <a:avLst/>
          </a:prstGeom>
          <a:ln cap="sq" w="442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0"/>
          <p:cNvSpPr/>
          <p:nvPr/>
        </p:nvSpPr>
        <p:spPr>
          <a:xfrm>
            <a:off x="3635280" y="2565360"/>
            <a:ext cx="144720" cy="21600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1476360" y="2637000"/>
            <a:ext cx="0" cy="21564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4932360" y="3573360"/>
            <a:ext cx="576360" cy="7920"/>
          </a:xfrm>
          <a:prstGeom prst="line">
            <a:avLst/>
          </a:prstGeom>
          <a:ln cap="sq" w="442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13"/>
          <p:cNvSpPr/>
          <p:nvPr/>
        </p:nvSpPr>
        <p:spPr>
          <a:xfrm rot="5400000">
            <a:off x="575280" y="4904640"/>
            <a:ext cx="826920" cy="755640"/>
          </a:xfrm>
          <a:prstGeom prst="hexagon">
            <a:avLst>
              <a:gd name="adj" fmla="val 27358"/>
              <a:gd name="vf" fmla="val 115470"/>
            </a:avLst>
          </a:prstGeom>
          <a:solidFill>
            <a:srgbClr val="99cc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14"/>
          <p:cNvSpPr/>
          <p:nvPr/>
        </p:nvSpPr>
        <p:spPr>
          <a:xfrm>
            <a:off x="826920" y="5084640"/>
            <a:ext cx="360360" cy="360360"/>
          </a:xfrm>
          <a:prstGeom prst="ellipse">
            <a:avLst/>
          </a:prstGeom>
          <a:solidFill>
            <a:srgbClr val="000066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15"/>
          <p:cNvSpPr/>
          <p:nvPr/>
        </p:nvSpPr>
        <p:spPr>
          <a:xfrm rot="5400000">
            <a:off x="3096000" y="4904640"/>
            <a:ext cx="826920" cy="755640"/>
          </a:xfrm>
          <a:prstGeom prst="hexagon">
            <a:avLst>
              <a:gd name="adj" fmla="val 27358"/>
              <a:gd name="vf" fmla="val 115470"/>
            </a:avLst>
          </a:prstGeom>
          <a:solidFill>
            <a:srgbClr val="99cc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16"/>
          <p:cNvSpPr/>
          <p:nvPr/>
        </p:nvSpPr>
        <p:spPr>
          <a:xfrm>
            <a:off x="3348000" y="5084640"/>
            <a:ext cx="360360" cy="360360"/>
          </a:xfrm>
          <a:prstGeom prst="ellipse">
            <a:avLst/>
          </a:prstGeom>
          <a:solidFill>
            <a:srgbClr val="000066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4284720" y="5229360"/>
            <a:ext cx="576360" cy="7920"/>
          </a:xfrm>
          <a:prstGeom prst="line">
            <a:avLst/>
          </a:prstGeom>
          <a:ln cap="sq" w="442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8"/>
          <p:cNvSpPr/>
          <p:nvPr/>
        </p:nvSpPr>
        <p:spPr>
          <a:xfrm rot="5400000">
            <a:off x="7057080" y="4904640"/>
            <a:ext cx="826920" cy="755640"/>
          </a:xfrm>
          <a:prstGeom prst="hexagon">
            <a:avLst>
              <a:gd name="adj" fmla="val 27358"/>
              <a:gd name="vf" fmla="val 115470"/>
            </a:avLst>
          </a:prstGeom>
          <a:solidFill>
            <a:srgbClr val="99cc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19"/>
          <p:cNvSpPr/>
          <p:nvPr/>
        </p:nvSpPr>
        <p:spPr>
          <a:xfrm rot="5400000">
            <a:off x="4896360" y="4904640"/>
            <a:ext cx="826920" cy="755640"/>
          </a:xfrm>
          <a:prstGeom prst="hexagon">
            <a:avLst>
              <a:gd name="adj" fmla="val 27358"/>
              <a:gd name="vf" fmla="val 115470"/>
            </a:avLst>
          </a:prstGeom>
          <a:solidFill>
            <a:srgbClr val="99cc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20"/>
          <p:cNvSpPr/>
          <p:nvPr/>
        </p:nvSpPr>
        <p:spPr>
          <a:xfrm>
            <a:off x="5076720" y="5084640"/>
            <a:ext cx="360360" cy="360360"/>
          </a:xfrm>
          <a:prstGeom prst="ellipse">
            <a:avLst/>
          </a:prstGeom>
          <a:solidFill>
            <a:srgbClr val="000066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21"/>
          <p:cNvSpPr/>
          <p:nvPr/>
        </p:nvSpPr>
        <p:spPr>
          <a:xfrm>
            <a:off x="7308720" y="5084640"/>
            <a:ext cx="360360" cy="360360"/>
          </a:xfrm>
          <a:prstGeom prst="ellipse">
            <a:avLst/>
          </a:prstGeom>
          <a:solidFill>
            <a:srgbClr val="000066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 flipV="1">
            <a:off x="5724360" y="4868640"/>
            <a:ext cx="216000" cy="14580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6804000" y="4869000"/>
            <a:ext cx="289080" cy="21564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6012000" y="443700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233800" y="503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1950840" y="465300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7965360" y="4941720"/>
            <a:ext cx="95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119160" y="46022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d4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331920" y="5950080"/>
            <a:ext cx="42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акция  полимер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рименение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2268360" y="2205000"/>
            <a:ext cx="4464360" cy="360036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3276720" y="3068640"/>
            <a:ext cx="2447640" cy="1728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Формальдег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2858400" y="5661000"/>
            <a:ext cx="304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Кожевен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ромышлен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796080" y="3789360"/>
            <a:ext cx="184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Медиц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2544480" y="1341360"/>
            <a:ext cx="41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Фенолформальдегид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смо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1360" y="3500280"/>
            <a:ext cx="177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Сельск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хозяй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4"/>
          <p:cNvSpPr/>
          <p:nvPr/>
        </p:nvSpPr>
        <p:spPr>
          <a:xfrm>
            <a:off x="2411280" y="1773360"/>
            <a:ext cx="4176720" cy="331308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3348000" y="2637000"/>
            <a:ext cx="2303640" cy="1511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Уксус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альдеги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6732720" y="2997360"/>
            <a:ext cx="2087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17"/>
          <p:cNvSpPr/>
          <p:nvPr/>
        </p:nvSpPr>
        <p:spPr>
          <a:xfrm>
            <a:off x="3492360" y="5157720"/>
            <a:ext cx="244800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18"/>
          <p:cNvSpPr/>
          <p:nvPr/>
        </p:nvSpPr>
        <p:spPr>
          <a:xfrm>
            <a:off x="179280" y="2781360"/>
            <a:ext cx="212436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Этилов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спи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9"/>
          <p:cNvSpPr/>
          <p:nvPr/>
        </p:nvSpPr>
        <p:spPr>
          <a:xfrm>
            <a:off x="3492360" y="260280"/>
            <a:ext cx="2124360" cy="129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Уксус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21"/>
          <p:cNvSpPr/>
          <p:nvPr/>
        </p:nvSpPr>
        <p:spPr>
          <a:xfrm>
            <a:off x="3492360" y="5229360"/>
            <a:ext cx="212436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ластмас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22"/>
          <p:cNvSpPr/>
          <p:nvPr/>
        </p:nvSpPr>
        <p:spPr>
          <a:xfrm>
            <a:off x="6732720" y="2781360"/>
            <a:ext cx="21240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Ацетат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волок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0"/>
          <p:cNvSpPr/>
          <p:nvPr/>
        </p:nvSpPr>
        <p:spPr>
          <a:xfrm>
            <a:off x="4626000" y="2851200"/>
            <a:ext cx="407988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нолформальдегидные смо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сус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лацет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ли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именение альдегидов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695600"/>
            <a:ext cx="41212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дегид анисовый, обепин – жидкость с приятным </a:t>
            </a:r>
            <a:r>
              <a:rPr b="0" lang="ru-RU" sz="2800" spc="-1" strike="noStrike">
                <a:solidFill>
                  <a:srgbClr val="0000d4"/>
                </a:solidFill>
                <a:latin typeface="Arial"/>
              </a:rPr>
              <a:t>запахом мим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дегид дециловый, деканаль – при разбавлении появляются нотки </a:t>
            </a:r>
            <a:r>
              <a:rPr b="0" lang="ru-RU" sz="2800" spc="-1" strike="noStrike">
                <a:solidFill>
                  <a:srgbClr val="0000d4"/>
                </a:solidFill>
                <a:latin typeface="Arial"/>
              </a:rPr>
              <a:t>запаха апельсиновой ко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15880" y="22824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иологическая роль альдегидов и кетонов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екомые общаются между собой, выделяя небольшое количество органических веществ, относящихся к классам альдегидов и кетонов. Эти вещества называю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ромо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ромо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вают половыми, возбуждающими, успокаивающими, тревоги и другими. Чувствительность насекомых к феромонам просто поразительна: самец ночной бабочки большой павлиний глаз чувствует половой феромон самки на расстоянии до 10 км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етические феромоны используются для борьбы с вредными насекомыми путем заманивания их в ловушки, дезориентации в период спаривания, отпуги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4468-F46B-42C7-897C-4FD8D985B8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иологическая роль альдегидов и кетонов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Кетоны токсичны, обладают раздражающим и местным действием, проникают через кожу, особенно хорошо ненасыщенные алифатические. Отдельные вещества обладают канцерогенным и мутагенным эффектом. Галогенпроизводные кетонов вызывают сильное раздражение слизистых оболочек и ожоги при контакте с кожей. Алициклические кетоны обладают наркотическим действ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потреблении алкогольных напитков большую опасность, чем этанол, представляет уксусный альдегид, который образуется при окислении этого спи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сусный альдегид в 30 раз токсичнее спирта. Он вызывает изменения коры головного мозга, на уровне ДНК. Это приводит к возникновению мутаций и различным видам уродств у эмбрионов, а так же появлению генов алкоголизма психических заболе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0C61-B438-42C0-B506-BCC437DA80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84692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Альдегиды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органические вещества, содержащие в своём составе альдегидную группу</a:t>
            </a: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           </a:t>
            </a:r>
            <a:br>
              <a:rPr sz="4000"/>
            </a:b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Состав    строение   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363528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3924360" y="2205000"/>
          <a:ext cx="133344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205000"/>
                    <a:ext cx="13334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Line 6"/>
          <p:cNvSpPr/>
          <p:nvPr/>
        </p:nvSpPr>
        <p:spPr>
          <a:xfrm>
            <a:off x="305928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7"/>
          <p:cNvSpPr/>
          <p:nvPr/>
        </p:nvSpPr>
        <p:spPr>
          <a:xfrm>
            <a:off x="558000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иологическая роль альдегидов и кетонов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шие альдегиды и кетоны обладают цветочным запах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анисовый кетон – это запах аниса и фенхеля; камфара – запах сосны, пихты и розмарина; карвон – запах тмина и майо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ичный альдегид отвечает за запах корицы и гвоздики, бензальдегид – жасмина, роз и розового дерева. Циветон обусловливает  запах ирисов и вербены, а фурфурол – запах базилика и свежего хле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9940-8C3C-41D1-9555-702ED74408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5019-137C-4C3B-98B7-AB9F3B619D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Альдегиды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– это органические вещества, молекулы, которых содержат карбонильную группу, соединенную с углеводородным радикалом и атомом водорода</a:t>
            </a: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28280"/>
            <a:ext cx="8610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Альдегиды (247 байт)"/>
          <p:cNvPicPr/>
          <p:nvPr/>
        </p:nvPicPr>
        <p:blipFill>
          <a:blip r:embed="rId1"/>
          <a:stretch/>
        </p:blipFill>
        <p:spPr>
          <a:xfrm>
            <a:off x="468360" y="1700280"/>
            <a:ext cx="2305080" cy="175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1798920" cy="176508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5292720" y="3789360"/>
            <a:ext cx="352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льдегидная   группа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250920" y="3645000"/>
            <a:ext cx="29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бщая   формула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05" name="Picture 13" descr=""/>
          <p:cNvPicPr/>
          <p:nvPr/>
        </p:nvPicPr>
        <p:blipFill>
          <a:blip r:embed="rId3"/>
          <a:stretch/>
        </p:blipFill>
        <p:spPr>
          <a:xfrm>
            <a:off x="2340000" y="4510080"/>
            <a:ext cx="4824360" cy="19209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4"/>
          <p:cNvSpPr/>
          <p:nvPr/>
        </p:nvSpPr>
        <p:spPr>
          <a:xfrm>
            <a:off x="3506760" y="2266920"/>
            <a:ext cx="2073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F6A5-7FA4-4910-96E0-9DF8FB49EB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861048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2124000" y="404640"/>
            <a:ext cx="504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роение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4381200" cy="5013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формальдегид"/>
          <p:cNvPicPr/>
          <p:nvPr/>
        </p:nvPicPr>
        <p:blipFill>
          <a:blip r:embed="rId2"/>
          <a:stretch/>
        </p:blipFill>
        <p:spPr>
          <a:xfrm>
            <a:off x="5940360" y="1700280"/>
            <a:ext cx="1727280" cy="1643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ацетальдегид"/>
          <p:cNvPicPr/>
          <p:nvPr/>
        </p:nvPicPr>
        <p:blipFill>
          <a:blip r:embed="rId3"/>
          <a:stretch/>
        </p:blipFill>
        <p:spPr>
          <a:xfrm rot="20214000">
            <a:off x="5508720" y="4292640"/>
            <a:ext cx="2160360" cy="184608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0"/>
          <p:cNvSpPr txBox="1"/>
          <p:nvPr/>
        </p:nvSpPr>
        <p:spPr>
          <a:xfrm>
            <a:off x="7020000" y="5877000"/>
            <a:ext cx="18190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таналь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WordArt 11"/>
          <p:cNvSpPr txBox="1"/>
          <p:nvPr/>
        </p:nvSpPr>
        <p:spPr>
          <a:xfrm>
            <a:off x="6948360" y="3141720"/>
            <a:ext cx="181944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таналь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Выводы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Реакционные центры в альдеги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             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        C          C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               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Молекула альдегида – это не сумма атомов, а результат их взаимного влияния друг на др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676680" y="28648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2268360" y="306864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3635280" y="31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327672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4"/>
          <p:cNvSpPr/>
          <p:nvPr/>
        </p:nvSpPr>
        <p:spPr>
          <a:xfrm flipV="1">
            <a:off x="3276720" y="263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5"/>
          <p:cNvSpPr/>
          <p:nvPr/>
        </p:nvSpPr>
        <p:spPr>
          <a:xfrm>
            <a:off x="4859280" y="3284640"/>
            <a:ext cx="4334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20"/>
          <p:cNvSpPr/>
          <p:nvPr/>
        </p:nvSpPr>
        <p:spPr>
          <a:xfrm flipV="1">
            <a:off x="4859280" y="256536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1"/>
          <p:cNvSpPr/>
          <p:nvPr/>
        </p:nvSpPr>
        <p:spPr>
          <a:xfrm flipV="1">
            <a:off x="4932360" y="270792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28"/>
          <p:cNvSpPr/>
          <p:nvPr/>
        </p:nvSpPr>
        <p:spPr>
          <a:xfrm>
            <a:off x="4932360" y="3333600"/>
            <a:ext cx="287280" cy="190800"/>
          </a:xfrm>
          <a:prstGeom prst="pie">
            <a:avLst/>
          </a:pr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9"/>
          <p:cNvSpPr/>
          <p:nvPr/>
        </p:nvSpPr>
        <p:spPr>
          <a:xfrm>
            <a:off x="4919760" y="2565360"/>
            <a:ext cx="168120" cy="287280"/>
          </a:xfrm>
          <a:prstGeom prst="pie">
            <a:avLst/>
          </a:pr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30"/>
          <p:cNvSpPr/>
          <p:nvPr/>
        </p:nvSpPr>
        <p:spPr>
          <a:xfrm>
            <a:off x="3132000" y="3357720"/>
            <a:ext cx="287640" cy="71280"/>
          </a:xfrm>
          <a:prstGeom prst="pie">
            <a:avLst/>
          </a:pr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3F9D-36F5-438E-ACED-F808EA28E9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Номенклатура альдегидов</a:t>
            </a:r>
            <a:br>
              <a:rPr sz="34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(международная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28640"/>
          <a:ext cx="8915400" cy="2967120"/>
        </p:xfrm>
        <a:graphic>
          <a:graphicData uri="http://schemas.openxmlformats.org/drawingml/2006/table">
            <a:tbl>
              <a:tblPr/>
              <a:tblGrid>
                <a:gridCol w="1695600"/>
                <a:gridCol w="809640"/>
                <a:gridCol w="1539720"/>
                <a:gridCol w="809640"/>
                <a:gridCol w="1538280"/>
                <a:gridCol w="809640"/>
                <a:gridCol w="762120"/>
                <a:gridCol w="9507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4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4000" spc="-1" strike="noStrike" baseline="-30000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WordArt 147"/>
          <p:cNvSpPr txBox="1"/>
          <p:nvPr/>
        </p:nvSpPr>
        <p:spPr>
          <a:xfrm>
            <a:off x="7740720" y="2060640"/>
            <a:ext cx="133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WordArt 148"/>
          <p:cNvSpPr txBox="1"/>
          <p:nvPr/>
        </p:nvSpPr>
        <p:spPr>
          <a:xfrm>
            <a:off x="1403280" y="2060640"/>
            <a:ext cx="1713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149"/>
          <p:cNvSpPr txBox="1"/>
          <p:nvPr/>
        </p:nvSpPr>
        <p:spPr>
          <a:xfrm>
            <a:off x="3203640" y="206064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WordArt 150"/>
          <p:cNvSpPr txBox="1"/>
          <p:nvPr/>
        </p:nvSpPr>
        <p:spPr>
          <a:xfrm>
            <a:off x="5435640" y="2060640"/>
            <a:ext cx="1810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Text Box 156"/>
          <p:cNvSpPr/>
          <p:nvPr/>
        </p:nvSpPr>
        <p:spPr>
          <a:xfrm>
            <a:off x="741240" y="4653000"/>
            <a:ext cx="296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c9056"/>
                </a:solidFill>
                <a:latin typeface="Times New Roman"/>
              </a:rPr>
              <a:t>3-мети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57"/>
          <p:cNvSpPr/>
          <p:nvPr/>
        </p:nvSpPr>
        <p:spPr>
          <a:xfrm>
            <a:off x="3708360" y="4581360"/>
            <a:ext cx="60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58"/>
          <p:cNvSpPr/>
          <p:nvPr/>
        </p:nvSpPr>
        <p:spPr>
          <a:xfrm>
            <a:off x="4211640" y="465300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бута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60"/>
          <p:cNvSpPr/>
          <p:nvPr/>
        </p:nvSpPr>
        <p:spPr>
          <a:xfrm>
            <a:off x="6229080" y="4653000"/>
            <a:ext cx="139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ал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61"/>
          <p:cNvSpPr/>
          <p:nvPr/>
        </p:nvSpPr>
        <p:spPr>
          <a:xfrm flipV="1">
            <a:off x="8028000" y="2133720"/>
            <a:ext cx="360360" cy="28728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62"/>
          <p:cNvSpPr/>
          <p:nvPr/>
        </p:nvSpPr>
        <p:spPr>
          <a:xfrm flipV="1">
            <a:off x="8101080" y="2205000"/>
            <a:ext cx="360360" cy="28728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63"/>
          <p:cNvSpPr/>
          <p:nvPr/>
        </p:nvSpPr>
        <p:spPr>
          <a:xfrm flipH="1" flipV="1">
            <a:off x="8027640" y="2997360"/>
            <a:ext cx="289080" cy="28728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4B4E-AB74-4F0B-96F8-A711C60306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составить формулу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льдегида по названию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08880" y="1407960"/>
            <a:ext cx="17110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-мети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020320" y="1407960"/>
            <a:ext cx="15490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ента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568680" y="1407960"/>
            <a:ext cx="78732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106640" y="2801880"/>
            <a:ext cx="686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С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-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279440" y="246204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       4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3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     2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7845480" y="2030400"/>
            <a:ext cx="129852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1"/>
          <p:cNvSpPr/>
          <p:nvPr/>
        </p:nvSpPr>
        <p:spPr>
          <a:xfrm flipV="1">
            <a:off x="7756560" y="2631960"/>
            <a:ext cx="431640" cy="339840"/>
          </a:xfrm>
          <a:prstGeom prst="line">
            <a:avLst/>
          </a:prstGeom>
          <a:ln cap="sq"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2"/>
          <p:cNvSpPr/>
          <p:nvPr/>
        </p:nvSpPr>
        <p:spPr>
          <a:xfrm flipV="1">
            <a:off x="7845480" y="2749320"/>
            <a:ext cx="431640" cy="339480"/>
          </a:xfrm>
          <a:prstGeom prst="line">
            <a:avLst/>
          </a:prstGeom>
          <a:ln cap="sq"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7756560" y="3513240"/>
            <a:ext cx="431640" cy="288720"/>
          </a:xfrm>
          <a:prstGeom prst="line">
            <a:avLst/>
          </a:prstGeom>
          <a:ln cap="sq"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3349800" y="3801960"/>
            <a:ext cx="160308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d4"/>
                </a:solidFill>
                <a:latin typeface="Times New Roman"/>
              </a:rPr>
              <a:t>|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d4"/>
                </a:solidFill>
                <a:latin typeface="Times New Roman"/>
              </a:rPr>
              <a:t>CH</a:t>
            </a:r>
            <a:r>
              <a:rPr b="1" lang="en-US" sz="6000" spc="-1" strike="noStrike" baseline="-25000">
                <a:solidFill>
                  <a:srgbClr val="0000d4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307800" y="32004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858760" y="320040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4356000" y="3200400"/>
            <a:ext cx="596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6012000" y="320040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500" autoRev="1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53" dur="500" autoRev="1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60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96,3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96,3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69" dur="500" autoRev="1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70" dur="500" autoRev="1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500" autoRev="1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0,0)"/>
                                      </p:to>
                                    </p:set>
                                    <p:set>
                                      <p:cBhvr>
                                        <p:cTn id="88" dur="500" autoRev="1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0,0)"/>
                                      </p:to>
                                    </p:set>
                                    <p:set>
                                      <p:cBhvr>
                                        <p:cTn id="89" dur="500" autoRev="1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122B-675B-428B-AAE4-EE62C27969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зомери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1738440" y="2971800"/>
            <a:ext cx="342900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24000" y="1628640"/>
          <a:ext cx="8497800" cy="4579920"/>
        </p:xfrm>
        <a:graphic>
          <a:graphicData uri="http://schemas.openxmlformats.org/drawingml/2006/table">
            <a:tbl>
              <a:tblPr/>
              <a:tblGrid>
                <a:gridCol w="2519280"/>
                <a:gridCol w="597852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изом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ы изом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По углеродному скелету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чиная с С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d4"/>
                          </a:solidFill>
                          <a:latin typeface="Times New Roman"/>
                        </a:rPr>
                        <a:t>межклассова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 кетонами, начиная с С3  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едельными спиртами и простыми эфирами (с С3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pic>
        <p:nvPicPr>
          <p:cNvPr id="162" name="Picture 17" descr="http://yaroslaw.narod.ru/o3201.gif"/>
          <p:cNvPicPr/>
          <p:nvPr/>
        </p:nvPicPr>
        <p:blipFill>
          <a:blip r:embed="rId1"/>
          <a:stretch/>
        </p:blipFill>
        <p:spPr>
          <a:xfrm>
            <a:off x="3492360" y="2276640"/>
            <a:ext cx="4465800" cy="1133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3" descr="o3202"/>
          <p:cNvPicPr/>
          <p:nvPr/>
        </p:nvPicPr>
        <p:blipFill>
          <a:blip r:embed="rId2"/>
          <a:stretch/>
        </p:blipFill>
        <p:spPr>
          <a:xfrm>
            <a:off x="3492360" y="3429000"/>
            <a:ext cx="4465800" cy="1271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1" descr="o3204"/>
          <p:cNvPicPr/>
          <p:nvPr/>
        </p:nvPicPr>
        <p:blipFill>
          <a:blip r:embed="rId3"/>
          <a:stretch/>
        </p:blipFill>
        <p:spPr>
          <a:xfrm>
            <a:off x="3492360" y="4653000"/>
            <a:ext cx="44658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етон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49200" y="1650960"/>
            <a:ext cx="7556400" cy="11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классовые изомеры альдег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форм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B5C5-5289-43AC-A87D-65F90529DC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4046400" y="2540160"/>
            <a:ext cx="1681200" cy="1438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2"/>
          <a:stretch/>
        </p:blipFill>
        <p:spPr>
          <a:xfrm>
            <a:off x="264960" y="3249720"/>
            <a:ext cx="3507120" cy="2490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3"/>
          <a:stretch/>
        </p:blipFill>
        <p:spPr>
          <a:xfrm>
            <a:off x="5739840" y="2806560"/>
            <a:ext cx="2654280" cy="1866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4"/>
          <a:stretch/>
        </p:blipFill>
        <p:spPr>
          <a:xfrm>
            <a:off x="4038480" y="4629240"/>
            <a:ext cx="39880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2:36:53Z</dcterms:created>
  <dc:creator>ученик</dc:creator>
  <dc:description/>
  <cp:keywords/>
  <dc:language>en-US</dc:language>
  <cp:lastModifiedBy>Admin</cp:lastModifiedBy>
  <dcterms:modified xsi:type="dcterms:W3CDTF">2012-03-24T13:16:53Z</dcterms:modified>
  <cp:revision>5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61049</vt:lpwstr>
  </property>
</Properties>
</file>