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7AA-4C5D-4934-A5D1-F931B58EC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0AE7-C695-438A-AA8C-DD526950B5F4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72CE-8B7E-4FFA-804F-A1623AA0D376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B64-ACC6-4908-98FF-9FAA0D14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48B-AAC9-4B4F-AD0C-F96522C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39F-20C5-4569-AA12-9BEF5FB7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295-6C14-4474-8821-D7319364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D49-0C8D-4525-BC3D-B840040D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862E-659C-4E52-B640-A0C59540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1E6-8277-4364-9CE7-8BE23EE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DE16-8C46-4925-8075-6B2C1DF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707-3FD8-4AE5-8BFE-5D96E3C0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E14-D6F7-475E-936B-B30EAF7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B2D-8C76-4293-8A21-C8EE86F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CC4D-7C3D-48AC-934A-B2BC076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ACA8-CEEE-4015-8E44-B2839D8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4BB1-6541-4E8F-84A9-690C4EC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B801-CE25-495A-8A7E-396739F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9527-71B5-4C69-8A23-3470DE69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054-34E1-428E-80EC-1717E782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6AE7-BA45-4AEB-9428-9955EA0F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24A-3506-438B-A177-1D136A5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EB25-A18E-41CE-B103-1E61C660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E84-5C6D-450F-846E-CB4C1376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B808F-BDC5-483C-BD09-B6061772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3C26-702B-4D89-BDD6-E09B00DF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69BA-F1A1-45B7-AA4C-B411E56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DF53-2407-4C78-BFD7-B415EDA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5F9E-956B-4F4B-A7A8-E3A609C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6368-1E6F-424F-B1FD-9667FEC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BDDA-4ED0-4A11-8539-29B4BBE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476A-6992-46CD-897B-7A1625C7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8FCE-C646-494F-86DD-C9C5368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646A-C88B-4E32-BFED-32B5E60B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480-B707-4698-BF84-F2D0DB2C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3A28-4655-44FD-AE6A-CE2FDDEB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187E4-F6C7-472A-B8B8-A93BCD7A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500E-DEEB-4FDA-9000-A78C3BCB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1ECA-F3F2-4996-A8F0-FC970B6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96D21-46A5-4092-AC3A-90E790A7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6F38-22D4-4D67-81A5-1280440C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0052-73AB-417B-9FDD-6499772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CD55-7674-4903-A4B4-746F03D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B3E7-40CB-41BB-A7D1-0562CAD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C5B3C-1F2F-44E9-8023-FE8A96F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47E-0B29-4678-936E-DD4AFD35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C6F0-2B57-4310-A009-7E417E47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8196-94B5-44C4-9C21-26C6D12C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BC99-59A4-434C-86D1-29794EB4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AA6D-9059-45A8-9823-9E62B69C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88DE-E201-4470-B9DD-C783544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2DB8B-0373-41B2-9DAE-8A977606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272F1-1677-4A7E-A08F-3C9BAF7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AF94-BE22-428C-AE45-B94C393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6455-CD5C-46D9-B8D3-AC956AB4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4A8D-FF91-4208-A0DD-1914C5A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894-9249-4649-81E6-2B2188A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6475-0372-433A-B97D-FC92E14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DA775-B7FA-4366-A7BD-73FEB55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BADB-C1BD-475D-BD70-EF8DC1A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0979-64F5-4D88-84BA-0FC2BF2F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562A-0EF3-4437-9C2E-9E803258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C368-6D83-441A-98F6-6D7EFA87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4BE5-1A91-4513-95E8-3B776EF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6945-5D7D-4D88-B70E-AB553F89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7019-0EDD-4AF6-95D9-E4AF9A1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91F51-883A-4298-8F9A-AD13700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407-BEA9-48B1-8670-5DA9E69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DFA3-B8DD-4257-9402-EC2A7D05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418E-7758-4659-89DA-FD73850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7EE8-744D-407B-AC02-A694C39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382E-B716-4FAF-A6AD-435C3EE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ADA28-8DCE-48BC-B365-14838FF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9636A-0A3D-4514-9CEF-A3EDB007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7A629-BD25-4565-8F4F-3242FCA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87D7-1CE3-452E-BEC1-1799896400C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4586-EA80-489F-91D6-905387E5E86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91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6553080"/>
            <a:ext cx="8839440" cy="7632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500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940960" y="457200"/>
            <a:ext cx="68040" cy="5943600"/>
          </a:xfrm>
          <a:prstGeom prst="rect">
            <a:avLst/>
          </a:prstGeom>
          <a:gradFill rotWithShape="0">
            <a:gsLst>
              <a:gs pos="0">
                <a:srgbClr val="4c3d00"/>
              </a:gs>
              <a:gs pos="50000">
                <a:srgbClr val="ffcc00"/>
              </a:gs>
              <a:gs pos="100000">
                <a:srgbClr val="4c3d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DA49-A59B-478A-AAAA-150A8D5DB7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F01A-BB6D-4FF1-B2DC-57191ED46C9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ED16-723B-4F46-8FF2-6F78BC31EAB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4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296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1FD0-4512-47BF-84AC-F5251592FD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221304"/>
                </a:solidFill>
                <a:latin typeface="Times New Roman"/>
              </a:rPr>
              <a:t>АЛКИНЫ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Физические свой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пературы кипения и плавления алкинов, так же как и алкенов, закономерно повышаются при увеличении молекулярной массы соеди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кины имеют специфический запах. Они лучше растворяются в воде, чем алканы и алке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1000080" y="1541880"/>
            <a:ext cx="77868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Ацетилен получают в промышленности двумя способами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Термический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рекинг метан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1500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С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С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 +  3Н</a:t>
            </a:r>
            <a:r>
              <a:rPr b="1" lang="ru-RU" sz="2400" spc="-1" strike="noStrike" baseline="-25000">
                <a:solidFill>
                  <a:srgbClr val="003366"/>
                </a:solidFill>
                <a:latin typeface="Tahoma"/>
              </a:rPr>
              <a:t>2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Гидролиз карбида кальция</a:t>
            </a: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a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2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C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 +  Ca(OH)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5" name="WordArt 7"/>
          <p:cNvSpPr txBox="1"/>
          <p:nvPr/>
        </p:nvSpPr>
        <p:spPr>
          <a:xfrm>
            <a:off x="1476360" y="549360"/>
            <a:ext cx="640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учение алкинов</a:t>
            </a:r>
            <a:endParaRPr b="1" i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6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786280" y="31431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Химические свойства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свойства ацетилена и его гомологов в основном определяются наличием в их молекулах тройной связи. Наиболее характерны для алкинов реакции присоеди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присоедин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240" y="1628280"/>
            <a:ext cx="7061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Галоген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цвечивание бромной воды является качественной реакцией на все непредельные углеводор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с бромной водой.avi" descr=""/>
          <p:cNvPicPr/>
          <p:nvPr/>
        </p:nvPicPr>
        <p:blipFill>
          <a:blip r:embed="rId1"/>
          <a:stretch/>
        </p:blipFill>
        <p:spPr>
          <a:xfrm>
            <a:off x="3143160" y="39290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04292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Гидрогалоген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Гидрир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Гидрат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Взаимод с водой.avi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4"/>
          <p:cNvSpPr/>
          <p:nvPr/>
        </p:nvSpPr>
        <p:spPr>
          <a:xfrm>
            <a:off x="1071720" y="2413080"/>
            <a:ext cx="74293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gSO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Н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 +  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 [H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=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]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 CH</a:t>
            </a:r>
            <a:r>
              <a:rPr b="1" lang="en-US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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Окис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86" name="окисл марганц.avi" descr=""/>
          <p:cNvPicPr/>
          <p:nvPr/>
        </p:nvPicPr>
        <p:blipFill>
          <a:blip r:embed="rId1"/>
          <a:stretch/>
        </p:blipFill>
        <p:spPr>
          <a:xfrm>
            <a:off x="5572080" y="42148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1643040"/>
            <a:ext cx="714384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цетилен и его гомологи окисляются перманганатом калия с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сщеплением тройной связи и образованием карбоновых кислот: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’  +  3[O]  +  H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O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  +  R’</a:t>
            </a:r>
            <a:r>
              <a:rPr b="1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OO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Алкины обесцвечивают раствор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MnO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, что используется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ля их качественного определения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Горение ацетилен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66320" y="1752120"/>
            <a:ext cx="762012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сгорании (полном окислении) ацетилена выделяется большое количества тепл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2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2С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+ 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 +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горение ацетилена.avi" descr=""/>
          <p:cNvPicPr/>
          <p:nvPr/>
        </p:nvPicPr>
        <p:blipFill>
          <a:blip r:embed="rId1"/>
          <a:stretch/>
        </p:blipFill>
        <p:spPr>
          <a:xfrm>
            <a:off x="5143680" y="4000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c2b09"/>
                </a:solidFill>
                <a:latin typeface="Times New Roman"/>
              </a:rPr>
              <a:t>Реакции замеще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2" name="с аммиачным оксидом серебра.avi" descr=""/>
          <p:cNvPicPr/>
          <p:nvPr/>
        </p:nvPicPr>
        <p:blipFill>
          <a:blip r:embed="rId1"/>
          <a:stretch/>
        </p:blipFill>
        <p:spPr>
          <a:xfrm>
            <a:off x="5500800" y="421488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1000080" y="1643040"/>
            <a:ext cx="7786800" cy="22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 взаимодействии ацетилена (или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R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) с аммиачными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творами оксида серебра выпадают осадки нерастворимых ацетиленидов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[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]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H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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AgC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Ag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4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N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+  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H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00080" y="41432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ачественная реакция на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ahoma"/>
              </a:rPr>
              <a:t>концевую тройную связь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Реакция полимериз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66320" y="1752480"/>
            <a:ext cx="7620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меризация под действием водного раствор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+ 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инилацетиле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римеризация ацетилена над активированным углем приводит к образованию бензола (реакци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елинск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, 60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ензол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58323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рименение алкин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98" name="Picture 4" descr="U19_10"/>
          <p:cNvPicPr/>
          <p:nvPr/>
        </p:nvPicPr>
        <p:blipFill>
          <a:blip r:embed="rId1"/>
          <a:stretch/>
        </p:blipFill>
        <p:spPr>
          <a:xfrm>
            <a:off x="6524640" y="476280"/>
            <a:ext cx="2619360" cy="203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proxy1\Мои документы\Мои рисунки\Дихлорэтан.bmp"/>
          <p:cNvPicPr/>
          <p:nvPr/>
        </p:nvPicPr>
        <p:blipFill>
          <a:blip r:embed="rId2"/>
          <a:stretch/>
        </p:blipFill>
        <p:spPr>
          <a:xfrm>
            <a:off x="928800" y="1928880"/>
            <a:ext cx="6286320" cy="4584600"/>
          </a:xfrm>
          <a:prstGeom prst="rect">
            <a:avLst/>
          </a:prstGeom>
          <a:ln w="0">
            <a:noFill/>
          </a:ln>
        </p:spPr>
      </p:pic>
      <p:sp>
        <p:nvSpPr>
          <p:cNvPr id="400" name="Стрелка влево 4">
            <a:hlinkClick r:id="rId3" action="ppaction://hlinksldjump"/>
          </p:cNvPr>
          <p:cNvSpPr/>
          <p:nvPr/>
        </p:nvSpPr>
        <p:spPr>
          <a:xfrm>
            <a:off x="7572240" y="607212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e2d02"/>
                </a:solidFill>
                <a:latin typeface="Times New Roman"/>
              </a:rPr>
              <a:t>План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560" y="1928880"/>
            <a:ext cx="74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нятие о непредельных углеводород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тройной связ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омерия и номенклатур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ие свой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ойства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алкин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Стрелка вправо 3">
            <a:hlinkClick r:id="rId1" action="ppaction://hlinksldjump"/>
          </p:cNvPr>
          <p:cNvSpPr/>
          <p:nvPr/>
        </p:nvSpPr>
        <p:spPr>
          <a:xfrm>
            <a:off x="7000920" y="6000840"/>
            <a:ext cx="857160" cy="3571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38080" y="3049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А) Стеклотекстолиты – пластики, армированные стеклянными тканями. Изделия получаются обычно методом «контактного» формовани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Б) Стекловолокниты – пластики, в которых армирующим наполнителем служит войлок из стеклянного волокна. Перерабатываются методом литья или прессования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В) Анизотропные стеклопластики – пластики с армирующим материалом в виде однонаправленной стеклянной нити. Изделия получают методом намотки стеклянного волокна, предварительно обработанного синтетическим полимером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Г) Изотропные стеклопластики – пластики, армированные стекломатами (рубленое стеклянное волокно). Перерабатываются методом контактного формования.</a:t>
            </a:r>
            <a:br>
              <a:rPr sz="1100"/>
            </a:br>
            <a:r>
              <a:rPr b="0" lang="ru-RU" sz="1100" spc="-1" strike="noStrike">
                <a:solidFill>
                  <a:srgbClr val="7030a0"/>
                </a:solidFill>
                <a:latin typeface="Times New Roman"/>
              </a:rPr>
              <a:t> </a:t>
            </a:r>
            <a:br>
              <a:rPr sz="5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нятие об алкина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1643040"/>
            <a:ext cx="7720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углеводороды, содержащие в молекуле одну тройную связь между атомами углерода, а качественный и количественный состав выражается общей формул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С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Н</a:t>
            </a:r>
            <a:r>
              <a:rPr b="1" lang="en-US" sz="3600" spc="-1" strike="noStrike" baseline="-25000">
                <a:solidFill>
                  <a:srgbClr val="8c4e10"/>
                </a:solidFill>
                <a:latin typeface="Times New Roman"/>
              </a:rPr>
              <a:t>2n</a:t>
            </a:r>
            <a:r>
              <a:rPr b="1" lang="ru-RU" sz="3600" spc="-1" strike="noStrike" baseline="-25000">
                <a:solidFill>
                  <a:srgbClr val="8c4e10"/>
                </a:solidFill>
                <a:latin typeface="Times New Roman"/>
              </a:rPr>
              <a:t> - 2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, где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n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  <a:ea typeface="Arial"/>
              </a:rPr>
              <a:t>≥ 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8c4e1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8c4e1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4e10"/>
                </a:solidFill>
                <a:latin typeface="Times New Roman"/>
              </a:rPr>
              <a:t>Алки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носятся к непредельным углеводородам, так как их молекулы содержат меньшее число атомов водорода, чем насыщенны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Характеристика 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тройной  связ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2000160"/>
            <a:ext cx="762012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гибридизации –          </a:t>
            </a:r>
            <a:r>
              <a:rPr b="1" lang="en-US" sz="3600" spc="-1" strike="noStrike">
                <a:solidFill>
                  <a:srgbClr val="8c4e10"/>
                </a:solidFill>
                <a:latin typeface="Times New Roman"/>
              </a:rPr>
              <a:t>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лентный угол – </a:t>
            </a:r>
            <a:r>
              <a:rPr b="0" lang="en-US" sz="3200" spc="-1" strike="noStrike">
                <a:solidFill>
                  <a:srgbClr val="8c4e1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c4e1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1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лина связи  С = 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8c4e1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,12 н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о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─                      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  <a:ea typeface="Arial"/>
              </a:rPr>
              <a:t>линей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 связи –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ковалентная  поляр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ипу перекрывания –  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 </a:t>
            </a:r>
            <a:r>
              <a:rPr b="1" lang="ru-RU" sz="3200" spc="-1" strike="noStrike">
                <a:solidFill>
                  <a:srgbClr val="8c4e1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600" spc="-1" strike="noStrike">
                <a:solidFill>
                  <a:srgbClr val="8c4e10"/>
                </a:solidFill>
                <a:latin typeface="Times New Roman"/>
              </a:rPr>
              <a:t>π</a:t>
            </a:r>
            <a:r>
              <a:rPr b="1" lang="ru-RU" sz="3600" spc="-1" strike="noStrike">
                <a:solidFill>
                  <a:srgbClr val="8c4e1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4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5" name="Содержимое 3" descr="алкин.GIF"/>
          <p:cNvPicPr/>
          <p:nvPr/>
        </p:nvPicPr>
        <p:blipFill>
          <a:blip r:embed="rId1"/>
          <a:stretch/>
        </p:blipFill>
        <p:spPr>
          <a:xfrm>
            <a:off x="1428840" y="1752480"/>
            <a:ext cx="6715080" cy="46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Схема образования </a:t>
            </a:r>
            <a:br>
              <a:rPr sz="4400"/>
            </a:br>
            <a:r>
              <a:rPr b="1" lang="en-US" sz="4400" spc="-1" strike="noStrike">
                <a:solidFill>
                  <a:srgbClr val="8c4e10"/>
                </a:solidFill>
                <a:latin typeface="Times New Roman"/>
              </a:rPr>
              <a:t>sp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-гибридных орбитале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57" name="образ ацетилена.avi" descr=""/>
          <p:cNvPicPr/>
          <p:nvPr/>
        </p:nvPicPr>
        <p:blipFill>
          <a:blip r:embed="rId1"/>
          <a:stretch/>
        </p:blipFill>
        <p:spPr>
          <a:xfrm>
            <a:off x="3352680" y="2666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Гомологический</a:t>
            </a:r>
            <a:br>
              <a:rPr sz="4400"/>
            </a:b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 ряд алк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н</a:t>
            </a:r>
            <a:r>
              <a:rPr b="1" lang="ru-RU" sz="4400" spc="-1" strike="noStrike">
                <a:solidFill>
                  <a:srgbClr val="8c4e10"/>
                </a:solidFill>
                <a:latin typeface="Times New Roman"/>
              </a:rPr>
              <a:t>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71720" y="1571400"/>
            <a:ext cx="761976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5"/>
          <p:cNvSpPr/>
          <p:nvPr/>
        </p:nvSpPr>
        <p:spPr>
          <a:xfrm>
            <a:off x="2857680" y="20718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1" name="Line 15"/>
          <p:cNvSpPr/>
          <p:nvPr/>
        </p:nvSpPr>
        <p:spPr>
          <a:xfrm>
            <a:off x="2857680" y="28576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928960" y="37148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2928960" y="4572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2928960" y="53578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5" name="Line 15"/>
          <p:cNvSpPr/>
          <p:nvPr/>
        </p:nvSpPr>
        <p:spPr>
          <a:xfrm>
            <a:off x="3000240" y="61437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2786040" y="142884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п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у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н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кс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4" marL="1828800">
              <a:lnSpc>
                <a:spcPct val="2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пт</a:t>
            </a: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ин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2"/>
          <p:cNvSpPr txBox="1"/>
          <p:nvPr/>
        </p:nvSpPr>
        <p:spPr>
          <a:xfrm>
            <a:off x="2643120" y="642960"/>
            <a:ext cx="39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4c2b0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омерия алкинов</a:t>
            </a:r>
            <a:endParaRPr b="1" lang="en-US" sz="1800" spc="1" strike="noStrike">
              <a:ln w="0">
                <a:noFill/>
              </a:ln>
              <a:solidFill>
                <a:srgbClr val="4c2b0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85920" y="1357200"/>
            <a:ext cx="731844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94b6"/>
                </a:solidFill>
                <a:latin typeface="Tahoma"/>
              </a:rPr>
              <a:t>Структурная изомерия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Изомерия положения тройной связи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6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2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Изомерия углеродного скелета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пен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   3-метилбутин-1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3.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Межклассовая изомерия с алкадиенами и циклоалкенами, (начиная с С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ru-RU" sz="1800" spc="-1" strike="noStrike" baseline="-25000">
                <a:solidFill>
                  <a:srgbClr val="cc3300"/>
                </a:solidFill>
                <a:latin typeface="Tahoma"/>
              </a:rPr>
              <a:t>8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= С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=СН–СН=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Symbol"/>
                <a:ea typeface="Symbol"/>
              </a:rPr>
              <a:t>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 –СН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бутин-1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бутадиен-1,3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3366"/>
                </a:solidFill>
                <a:latin typeface="Tahoma"/>
              </a:rPr>
              <a:t>               циклобутен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 spd="med">
    <p:strips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2b09"/>
                </a:solidFill>
                <a:latin typeface="Times New Roman"/>
              </a:rPr>
              <a:t>Выполните упражне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182600" y="3573000"/>
            <a:ext cx="7205760" cy="25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вещ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к нему три изомера разных видов изомерии. Назовите изом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4" descr="U12_06_pr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050920" y="1773360"/>
            <a:ext cx="55929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2:56:10Z</dcterms:created>
  <dc:creator>Дубровина О.В.</dc:creator>
  <dc:description/>
  <dc:language>en-US</dc:language>
  <cp:lastModifiedBy>Admin</cp:lastModifiedBy>
  <dcterms:modified xsi:type="dcterms:W3CDTF">2012-03-24T08:03:24Z</dcterms:modified>
  <cp:revision>3</cp:revision>
  <dc:subject/>
  <dc:title>Алкины</dc:title>
</cp:coreProperties>
</file>