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6.gif" ContentType="image/gi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1212-7C3C-41BD-8876-599A2CC51B45}"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0728-E09A-4B9F-8DB2-D1D137683A7A}"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915840" y="744480"/>
            <a:ext cx="4959360" cy="3719520"/>
          </a:xfrm>
          <a:prstGeom prst="rect">
            <a:avLst/>
          </a:prstGeom>
          <a:ln w="0">
            <a:noFill/>
          </a:ln>
        </p:spPr>
      </p:sp>
      <p:sp>
        <p:nvSpPr>
          <p:cNvPr id="148"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4DA41-DA7F-4371-BD1E-B1839F80F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686F-9C39-4FBC-9F9D-81CABC34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40F79-5696-4D3E-B91C-1402F1969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5FFF7-EDD6-457F-9DE7-8ED89CF9A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DE2E76-F849-4897-BC0E-F49AF14AEF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B3E45-ECF5-4DBA-99A5-4866AAAA90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90EF7-F7A4-4789-B286-AC49C1E59B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315C6-ABA7-4E0A-82AE-F72537850B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AF843-6EE3-45B7-8CEA-CA8EE625B5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1CFF72-1DCE-470C-9210-F848E39928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1FF78-E84B-483E-ADF9-50624F2FEF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52E9-7A8A-4176-AF34-52F0EA491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A45E6-B5E0-489E-A56C-02B2851141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49DA0-2289-4872-A571-CB3D380727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556FC-D2A6-43A2-AD31-3D497914A6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20E46C-8AAD-4F1E-AE6F-FA8FDC15CA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B9FD1-23AF-4716-BD8C-0F4EA74D1F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61D0-871E-4343-8AB8-7C87AFC3F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D709-9F14-4778-8A8B-3177A2F15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CD08-7650-4BE7-915C-0596260C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764F8-33E4-4B29-A328-69DEC370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39B0-17E7-4A17-8AAF-5B4860387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1B30-DEE5-464F-A2F3-2B7EF4CF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B6ABE-126C-4BD2-B610-69C8B9A8C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DD14-66C9-46A6-9686-A303E5EE3963}"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7198-A61C-40A4-958B-B7390CB58FB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3</a:t>
            </a:r>
            <a:br>
              <a:rPr sz="3300"/>
            </a:b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жүйесіндегі            жоспарлау және экологиялық                 саясат </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ru-RU" sz="4400" spc="-1" strike="noStrike">
                <a:solidFill>
                  <a:srgbClr val="ff0000"/>
                </a:solidFill>
                <a:latin typeface="Tahoma"/>
              </a:rPr>
              <a:t>Экологиялық аспектілер</a:t>
            </a:r>
            <a:r>
              <a:rPr b="1" lang="ru-RU" sz="3900" spc="-1" strike="noStrike">
                <a:solidFill>
                  <a:srgbClr val="ffffff"/>
                </a:solidFill>
                <a:latin typeface="Tahoma"/>
              </a:rPr>
              <a:t> </a:t>
            </a:r>
            <a:endParaRPr b="0" lang="en-US" sz="3900" spc="-1" strike="noStrike">
              <a:solidFill>
                <a:srgbClr val="ffffff"/>
              </a:solidFill>
              <a:latin typeface="Tahoma"/>
            </a:endParaRPr>
          </a:p>
        </p:txBody>
      </p:sp>
      <p:pic>
        <p:nvPicPr>
          <p:cNvPr id="112" name="Picture 29" descr="j0185109"/>
          <p:cNvPicPr/>
          <p:nvPr/>
        </p:nvPicPr>
        <p:blipFill>
          <a:blip r:embed="rId2"/>
          <a:stretch/>
        </p:blipFill>
        <p:spPr>
          <a:xfrm>
            <a:off x="611280" y="1989000"/>
            <a:ext cx="3024000" cy="1974960"/>
          </a:xfrm>
          <a:prstGeom prst="rect">
            <a:avLst/>
          </a:prstGeom>
          <a:ln w="0">
            <a:noFill/>
          </a:ln>
        </p:spPr>
      </p:pic>
      <p:sp>
        <p:nvSpPr>
          <p:cNvPr id="113" name="PlaceHolder 2"/>
          <p:cNvSpPr>
            <a:spLocks noGrp="1"/>
          </p:cNvSpPr>
          <p:nvPr>
            <p:ph/>
          </p:nvPr>
        </p:nvSpPr>
        <p:spPr>
          <a:xfrm>
            <a:off x="684360" y="1916280"/>
            <a:ext cx="7796160" cy="382896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0000"/>
                </a:solidFill>
                <a:latin typeface="Tahoma"/>
              </a:rPr>
              <a:t>Экологиялық аспектілер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мысалдары</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Ауаға тастандыла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2.Суға шығарылымда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3.Топырақтың ластануы</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4.Шикізат және табиғи</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ресурстарды қолдану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5.Қалдықтар және қосалқы өнімде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6.Физикалық сипаттамалар: мөлшері, пішіні, түсі</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ru-RU" sz="2400" spc="-1" strike="noStrike">
                <a:solidFill>
                  <a:srgbClr val="ff0000"/>
                </a:solidFill>
                <a:latin typeface="Tahoma"/>
              </a:rPr>
              <a:t>Экологиялық аспект – қоршаған ортаға әсер ете алатын ұйымның қызметінің, оның өнімінің немесе қызмет көрсетуі элементтері</a:t>
            </a:r>
            <a:br>
              <a:rPr sz="2400"/>
            </a:br>
            <a:br>
              <a:rPr sz="3700"/>
            </a:br>
            <a:endParaRPr b="0" lang="en-US" sz="2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 </a:t>
            </a:r>
            <a:endParaRPr b="0" lang="en-US" sz="24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ірдейлендіру рәсімін жасау және орындау</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ршаған ортаға едәуір әсер ететін аспектілерді анықтау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ршаған ортаға едәуір әсер ететін аспектілер экологиялық мақсаттар мен міндеттерді қою, ЭМЖ жасау, енгізу және ұстау кезінде есепке алынуын қамтамасыз ету</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Аспектілер (әсерлер) бойынша ақпараттың жаңаруы</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     </a:t>
            </a:r>
            <a:r>
              <a:rPr b="1" lang="ru-RU" sz="2400" spc="-1" strike="noStrike">
                <a:solidFill>
                  <a:srgbClr val="ff0000"/>
                </a:solidFill>
                <a:latin typeface="Tahoma"/>
              </a:rPr>
              <a:t>Қоршаған ортаға әсерлер кәсіпорынның іс-әрекеті нәтижесінде осы ортаның өзгеруін көрсетеді</a:t>
            </a:r>
            <a:endParaRPr b="0" lang="en-US" sz="2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Rectangle 13"/>
          <p:cNvSpPr/>
          <p:nvPr/>
        </p:nvSpPr>
        <p:spPr>
          <a:xfrm>
            <a:off x="468360" y="1916280"/>
            <a:ext cx="4103640" cy="417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ff00"/>
                </a:solidFill>
                <a:latin typeface="Tahoma"/>
              </a:rPr>
              <a:t>Аспект</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1.Жаһандық жылыну әсері</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2.Стратосферлік қабаттың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 </a:t>
            </a:r>
            <a:r>
              <a:rPr b="1" lang="ru-RU" sz="2000" spc="-1" strike="noStrike">
                <a:solidFill>
                  <a:srgbClr val="ffff00"/>
                </a:solidFill>
                <a:latin typeface="Tahoma"/>
              </a:rPr>
              <a:t>бұз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3.Табиғи ресурстардың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таус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4.Қышқылды жаңбырлар</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5.Беттік сулардың ластан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6.Токсиндердің биология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жина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9" name="Rectangle 14"/>
          <p:cNvSpPr/>
          <p:nvPr/>
        </p:nvSpPr>
        <p:spPr>
          <a:xfrm>
            <a:off x="4572000" y="1916280"/>
            <a:ext cx="4105440" cy="417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ff00"/>
                </a:solidFill>
                <a:latin typeface="Tahoma"/>
              </a:rPr>
              <a:t>                 </a:t>
            </a:r>
            <a:r>
              <a:rPr b="1" lang="ru-RU" sz="2000" spc="-1" strike="noStrike">
                <a:solidFill>
                  <a:srgbClr val="ffff00"/>
                </a:solidFill>
                <a:latin typeface="Tahoma"/>
              </a:rPr>
              <a:t>Әсер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1.Сапаға атмосфера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ауаның әсері</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2.Шуыл</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3.Жерасты сулары мен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топырақтың ластан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4.5.Экологиялық зардап</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үрлердің жой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6.Әлеуметтік-экономика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салдар</a:t>
            </a:r>
            <a:endParaRPr b="0" lang="en-US" sz="2000" spc="-1" strike="noStrike">
              <a:solidFill>
                <a:srgbClr val="ffffff"/>
              </a:solidFill>
              <a:latin typeface="Tahoma"/>
            </a:endParaRPr>
          </a:p>
        </p:txBody>
      </p:sp>
      <p:sp>
        <p:nvSpPr>
          <p:cNvPr id="120" name="plant"/>
          <p:cNvSpPr/>
          <p:nvPr/>
        </p:nvSpPr>
        <p:spPr>
          <a:xfrm>
            <a:off x="7083360" y="5445000"/>
            <a:ext cx="1809720" cy="14130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ілер</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   </a:t>
            </a:r>
            <a:r>
              <a:rPr b="1" lang="ru-RU" sz="3200" spc="-1" strike="noStrike">
                <a:solidFill>
                  <a:srgbClr val="ff0000"/>
                </a:solidFill>
                <a:latin typeface="Tahoma"/>
              </a:rPr>
              <a:t>Маңызды </a:t>
            </a:r>
            <a:r>
              <a:rPr b="1" lang="ru-RU" sz="3200" spc="-1" strike="noStrike">
                <a:solidFill>
                  <a:srgbClr val="ffffff"/>
                </a:solidFill>
                <a:latin typeface="Tahoma"/>
              </a:rPr>
              <a:t> </a:t>
            </a:r>
            <a:r>
              <a:rPr b="1" lang="ru-RU" sz="2800" spc="-1" strike="noStrike">
                <a:solidFill>
                  <a:srgbClr val="ffffff"/>
                </a:solidFill>
                <a:latin typeface="Tahoma"/>
              </a:rPr>
              <a:t>(мағыналы, мәнді, айтарлықтай) </a:t>
            </a:r>
            <a:r>
              <a:rPr b="1" lang="ru-RU" sz="3200" spc="-1" strike="noStrike">
                <a:solidFill>
                  <a:srgbClr val="ff0000"/>
                </a:solidFill>
                <a:latin typeface="Tahoma"/>
              </a:rPr>
              <a:t>экологиялық аспект-</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қоршаған ортаға едәуір әсер ететін немесе әсер етуі мүмкін аспект</a:t>
            </a:r>
            <a:endParaRPr b="0" lang="en-US" sz="2800" spc="-1" strike="noStrike">
              <a:solidFill>
                <a:srgbClr val="ffffff"/>
              </a:solidFill>
              <a:latin typeface="Tahoma"/>
            </a:endParaRPr>
          </a:p>
        </p:txBody>
      </p:sp>
      <p:pic>
        <p:nvPicPr>
          <p:cNvPr id="123" name="Picture 4" descr="bd05629_"/>
          <p:cNvPicPr/>
          <p:nvPr/>
        </p:nvPicPr>
        <p:blipFill>
          <a:blip r:embed="rId2"/>
          <a:stretch/>
        </p:blipFill>
        <p:spPr>
          <a:xfrm>
            <a:off x="5219640" y="4295880"/>
            <a:ext cx="3313080" cy="25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ікелей экологиялық аспект (әсер) -</a:t>
            </a:r>
            <a:r>
              <a:rPr b="1" lang="ru-RU" sz="3200" spc="-1" strike="noStrike">
                <a:solidFill>
                  <a:srgbClr val="ffffff"/>
                </a:solidFill>
                <a:latin typeface="Tahoma"/>
              </a:rPr>
              <a:t>  ұйыминың іс-әрекетімен, оның өнімі және қызметімен тікелей байланысты, ұйым бақылай алатын аспект (әсе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ікелей емес (жанама) экологиялық аспект (әсер) </a:t>
            </a:r>
            <a:r>
              <a:rPr b="1" lang="ru-RU" sz="3200" spc="-1" strike="noStrike">
                <a:solidFill>
                  <a:srgbClr val="ffffff"/>
                </a:solidFill>
                <a:latin typeface="Tahoma"/>
              </a:rPr>
              <a:t>–</a:t>
            </a:r>
            <a:r>
              <a:rPr b="0" lang="ru-RU" sz="3200" spc="-1" strike="noStrike">
                <a:solidFill>
                  <a:srgbClr val="ffffff"/>
                </a:solidFill>
                <a:latin typeface="Tahoma"/>
              </a:rPr>
              <a:t> ұйымның іс-әрекетімен байланысты емес, бірақ оған ол тікелей әсер ете алатын аспект </a:t>
            </a:r>
            <a:r>
              <a:rPr b="1" lang="ru-RU" sz="2400" spc="-1" strike="noStrike">
                <a:solidFill>
                  <a:srgbClr val="ffffff"/>
                </a:solidFill>
                <a:latin typeface="Tahoma"/>
              </a:rPr>
              <a:t>(мысалы, келісімшарттық міндеттер арқылы жеткізушілерге әсер ет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ілер</a:t>
            </a:r>
            <a:endParaRPr b="0" lang="en-US" sz="44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    </a:t>
            </a:r>
            <a:r>
              <a:rPr b="1" lang="ru-RU" sz="3600" spc="-1" strike="noStrike">
                <a:solidFill>
                  <a:srgbClr val="ff0000"/>
                </a:solidFill>
                <a:latin typeface="Tahoma"/>
              </a:rPr>
              <a:t>Тарихи экологиялық аспект  </a:t>
            </a:r>
            <a:r>
              <a:rPr b="1" lang="ru-RU" sz="3600" spc="-1" strike="noStrike">
                <a:solidFill>
                  <a:srgbClr val="ffffff"/>
                </a:solidFill>
                <a:latin typeface="Tahoma"/>
              </a:rPr>
              <a:t>– </a:t>
            </a:r>
            <a:r>
              <a:rPr b="1" lang="ru-RU" sz="3200" spc="-1" strike="noStrike">
                <a:solidFill>
                  <a:srgbClr val="ffffff"/>
                </a:solidFill>
                <a:latin typeface="Tahoma"/>
              </a:rPr>
              <a:t>кәсіпорынның бұрынғы іс-әркетімен байланысты тікелей емес экологиялық аспект</a:t>
            </a:r>
            <a:endParaRPr b="0" lang="en-US" sz="3200" spc="-1" strike="noStrike">
              <a:solidFill>
                <a:srgbClr val="ffffff"/>
              </a:solidFill>
              <a:latin typeface="Tahoma"/>
            </a:endParaRPr>
          </a:p>
        </p:txBody>
      </p:sp>
      <p:pic>
        <p:nvPicPr>
          <p:cNvPr id="130" name="Picture 4" descr="j0336329"/>
          <p:cNvPicPr/>
          <p:nvPr/>
        </p:nvPicPr>
        <p:blipFill>
          <a:blip r:embed="rId2"/>
          <a:stretch/>
        </p:blipFill>
        <p:spPr>
          <a:xfrm>
            <a:off x="3708360" y="4149720"/>
            <a:ext cx="381636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       </a:t>
            </a:r>
            <a:r>
              <a:rPr b="1" lang="ru-RU" sz="3700" spc="-1" strike="noStrike">
                <a:solidFill>
                  <a:srgbClr val="ffffff"/>
                </a:solidFill>
                <a:latin typeface="Tahoma"/>
              </a:rPr>
              <a:t>Экологиялық аспектілер</a:t>
            </a:r>
            <a:br>
              <a:rPr sz="3700"/>
            </a:br>
            <a:r>
              <a:rPr b="1" lang="ru-RU" sz="2400" spc="-1" strike="noStrike">
                <a:solidFill>
                  <a:srgbClr val="ff0000"/>
                </a:solidFill>
                <a:latin typeface="Tahoma"/>
              </a:rPr>
              <a:t>Экологиялық аспектілерді шартты түрде бірнеше дәрежелерге бөлуге болады</a:t>
            </a:r>
            <a:endParaRPr b="0" lang="en-US" sz="2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Кіріс ағындар:</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шикізат пен табиғи ресурстарды қолданумен байланысты аспектілер</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Шығыс ағындар:</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000" spc="-1" strike="noStrike">
                <a:solidFill>
                  <a:srgbClr val="ffffff"/>
                </a:solidFill>
                <a:latin typeface="Tahoma"/>
              </a:rPr>
              <a:t>атмосфераға шығарылымдармен байланысты аспекті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жерасты суларына түсірілімдермен байланысты аспекті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топырақ, жерді ластаумен байланысты аспектілер </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патты жағдайлармен байланысты аспектілер</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Басқа да аспектілер</a:t>
            </a:r>
            <a:r>
              <a:rPr b="1" lang="ru-RU" sz="2400" spc="-1" strike="noStrike">
                <a:solidFill>
                  <a:srgbClr val="ffffff"/>
                </a:solidFill>
                <a:latin typeface="Tahoma"/>
              </a:rPr>
              <a:t> </a:t>
            </a:r>
            <a:r>
              <a:rPr b="1" lang="ru-RU" sz="2000" spc="-1" strike="noStrike">
                <a:solidFill>
                  <a:srgbClr val="ffffff"/>
                </a:solidFill>
                <a:latin typeface="Tahoma"/>
              </a:rPr>
              <a:t>(шу, діріл, электромагнитті сәуле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Экологиялық аспектілер</a:t>
            </a:r>
            <a:endParaRPr b="0" lang="en-US" sz="3700" spc="-1" strike="noStrike">
              <a:solidFill>
                <a:srgbClr val="ffffff"/>
              </a:solidFill>
              <a:latin typeface="Tahoma"/>
            </a:endParaRPr>
          </a:p>
        </p:txBody>
      </p:sp>
      <p:graphicFrame>
        <p:nvGraphicFramePr>
          <p:cNvPr id="134" name=""/>
          <p:cNvGraphicFramePr/>
          <p:nvPr/>
        </p:nvGraphicFramePr>
        <p:xfrm>
          <a:off x="395280" y="1393920"/>
          <a:ext cx="8426520" cy="4628880"/>
        </p:xfrm>
        <a:graphic>
          <a:graphicData uri="http://schemas.openxmlformats.org/drawingml/2006/table">
            <a:tbl>
              <a:tblPr/>
              <a:tblGrid>
                <a:gridCol w="2736720"/>
                <a:gridCol w="3024360"/>
                <a:gridCol w="2665440"/>
              </a:tblGrid>
              <a:tr h="82548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Экологиялық аспектілер мен әсерлердің мысалдары</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Іс-әрекет, өнім</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Аспект</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Әсер</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Қауіпті материалдар-мен жұмыс істе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ездейсоқ ағу мүмкіндігі</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пырақ пен сулардың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сымалдау құралдарын боя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тмосфераға ұшқыш заттардың шығарылуы</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уа сапасының нашарла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имиялық реактив</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Қолданудан кейін полигонда орналастыру</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Топырақ суларының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ТС қызмет көрсет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айдалану жүйелерінен шығарылымдар</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уаның жергілікті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Мақсаттар, міндеттер, бағдарламалар</a:t>
            </a:r>
            <a:r>
              <a:rPr b="0" lang="ru-RU" sz="3600" spc="-1" strike="noStrike">
                <a:solidFill>
                  <a:srgbClr val="ff0000"/>
                </a:solidFill>
                <a:latin typeface="Tahoma"/>
              </a:rPr>
              <a:t> </a:t>
            </a:r>
            <a:endParaRPr b="0" lang="en-US" sz="36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ясат, мақсаттар және міндеттр арасындағы қарым-қатынасар қандай? </a:t>
            </a:r>
            <a:endParaRPr b="0" lang="en-US" sz="2400" spc="-1" strike="noStrike">
              <a:solidFill>
                <a:srgbClr val="ffffff"/>
              </a:solidFill>
              <a:latin typeface="Tahoma"/>
            </a:endParaRPr>
          </a:p>
        </p:txBody>
      </p:sp>
      <p:sp>
        <p:nvSpPr>
          <p:cNvPr id="137" name="Rectangle 9"/>
          <p:cNvSpPr/>
          <p:nvPr/>
        </p:nvSpPr>
        <p:spPr>
          <a:xfrm>
            <a:off x="250920" y="3213000"/>
            <a:ext cx="4174920" cy="3311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қсаттар: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 </a:t>
            </a:r>
            <a:r>
              <a:rPr b="0" lang="kk-KZ" sz="1800" spc="-1" strike="noStrike">
                <a:solidFill>
                  <a:srgbClr val="000000"/>
                </a:solidFill>
                <a:latin typeface="Tahoma"/>
              </a:rPr>
              <a:t>энерготұтынуды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қауіпті химиялық қосылыстар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олдануды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ҚО мәселелері бойынша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ұмысшыларды оқыту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ағынды суларды жіберуге лиценз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алаптарын сақтау</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Rectangle 10"/>
          <p:cNvSpPr/>
          <p:nvPr/>
        </p:nvSpPr>
        <p:spPr>
          <a:xfrm>
            <a:off x="4500720" y="3141720"/>
            <a:ext cx="4643280" cy="33829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Міндеттер:</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2011 жылға қарағанда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лектр тұтынуды 10%-ға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озон бұзатын заттар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олдануды тоқта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еріткіштерді қолдану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5%-ға азай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ай сайын оқыту курстарын өткізу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шектен тыс ластауды 30%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экологиялық саясатпен, экологиялық аспектілермен және экологиялық менеджменті жүйесінджегі </a:t>
            </a:r>
            <a:r>
              <a:rPr b="1" lang="ru-RU" sz="3200" spc="-1" strike="noStrike">
                <a:solidFill>
                  <a:srgbClr val="ffffff"/>
                </a:solidFill>
                <a:latin typeface="Tahoma"/>
              </a:rPr>
              <a:t>мақсаттармен, міндеттермен, бағдарламал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Қоршаған ортаны басқару бағдарламалары</a:t>
            </a:r>
            <a:endParaRPr b="0" lang="en-US" sz="3600" spc="-1" strike="noStrike">
              <a:solidFill>
                <a:srgbClr val="ffffff"/>
              </a:solidFill>
              <a:latin typeface="Tahoma"/>
            </a:endParaRPr>
          </a:p>
        </p:txBody>
      </p:sp>
      <p:graphicFrame>
        <p:nvGraphicFramePr>
          <p:cNvPr id="140" name=""/>
          <p:cNvGraphicFramePr/>
          <p:nvPr/>
        </p:nvGraphicFramePr>
        <p:xfrm>
          <a:off x="324000" y="1916280"/>
          <a:ext cx="8569080" cy="4411440"/>
        </p:xfrm>
        <a:graphic>
          <a:graphicData uri="http://schemas.openxmlformats.org/drawingml/2006/table">
            <a:tbl>
              <a:tblPr/>
              <a:tblGrid>
                <a:gridCol w="3671640"/>
                <a:gridCol w="1656000"/>
                <a:gridCol w="1441440"/>
                <a:gridCol w="1800000"/>
              </a:tblGrid>
              <a:tr h="82548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оспарлық көрсеткі: 2012 жылы еріткіштерден қалдықтарды өңдіруді 25 %-ға қысқарту.</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Әрекет</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ауапты</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Мерзімі</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Ресурстар</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Майсыздандырғыштарды  анықта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Қолданудың мақсатқа сәйкестілігін бағала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Шығындар сметасын құрастыр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және с.с</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ahoma"/>
              </a:rPr>
              <a:t>Мақсаттар, міндеттер, бағдарламалар</a:t>
            </a:r>
            <a:endParaRPr b="0" lang="en-US" sz="40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Мақсаттар мен міндеттер болуы қаже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үмкіндігі бойынша өлшемді</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ологиялық саясатпен келісулі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әрекеттегі заңнамалық және басқа да талаптарға сәйкес келу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Picture 4" descr="j0237922"/>
          <p:cNvPicPr/>
          <p:nvPr/>
        </p:nvPicPr>
        <p:blipFill>
          <a:blip r:embed="rId2"/>
          <a:stretch/>
        </p:blipFill>
        <p:spPr>
          <a:xfrm>
            <a:off x="6588000" y="4221000"/>
            <a:ext cx="2382840" cy="206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Экологиялық менеджмента бағдарламалары</a:t>
            </a:r>
            <a:endParaRPr b="0" lang="en-US" sz="3600" spc="-1" strike="noStrike">
              <a:solidFill>
                <a:srgbClr val="ffffff"/>
              </a:solidFill>
              <a:latin typeface="Tahoma"/>
            </a:endParaRPr>
          </a:p>
        </p:txBody>
      </p:sp>
      <p:sp>
        <p:nvSpPr>
          <p:cNvPr id="145" name="PlaceHolder 2"/>
          <p:cNvSpPr>
            <a:spLocks noGrp="1"/>
          </p:cNvSpPr>
          <p:nvPr>
            <p:ph/>
          </p:nvPr>
        </p:nvSpPr>
        <p:spPr>
          <a:xfrm>
            <a:off x="324000" y="2060640"/>
            <a:ext cx="8229600" cy="41148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Бағдарламаларды жасау кезінде есепке алу қажет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с кезінде жасау мен жүзеге асыруға кәсіпорын жұмысшыларын тарт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ғдарламаны орындауға жауаптылар және күтілетін нәтижелер туралы анық ақпарат бер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Үрдіске, қызметке маңызды өзгертулер енгізу кезінде бағдарламаны қайтадан бағалауды жүргіз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ғдарлама қарапайым және үнемі жақсартуды қарастыруы қажет</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саяса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аспектілер</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ақсаттар, міндеттер, бағдарламал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 экологиялық тиімділікті қолдауға және көтеруге мүмкіндік беретін, ұйымның экологиялық менеджменті жүйесін енгізу және жетілдіру үшін қозғаушы күш болып табылады. Сондықтан саясат жоғарғы басшылықтың міндеттемесін көрсетуі, қолданыстағы заңнаманы сақтауы және экологиялық менеджмент жүйесін үнемі жетілдіруі тиі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640" y="198900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 ұйымға экологиялық мақсаттары мен міндеттерін белгілеу үшін негіз болады. Экологиялық саясат ішкі және сыртқы мүдделі тараптардың түсінуі үшін жеткілікті түрде айқын болуы қажет. Ол өзгеретін жағдайлар мен ақпараттарды көрсетуі үшін кезеңді талдануы және қайта қаралуы тиіс. </a:t>
            </a:r>
            <a:endParaRPr b="0" lang="en-US" sz="2800" spc="-1" strike="noStrike">
              <a:solidFill>
                <a:srgbClr val="ffffff"/>
              </a:solidFill>
              <a:latin typeface="Tahoma"/>
            </a:endParaRPr>
          </a:p>
        </p:txBody>
      </p:sp>
      <p:sp>
        <p:nvSpPr>
          <p:cNvPr id="99" name="Rectangle 2"/>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ты қолдану саласы дәл анықталған болуы және экологиялық менеджмент жүйесін қолданудың белгілі бір саласы аясында қызметтің, өнімнің және қызмет көрсетудің жалпы сипатын, масштабтарын және экологиялық әсерлерін көрсетуі тиі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Іс-әрекет негізін қамтамасыз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бойынша кәсіпорынның мақсаттары мен міндеттерін қоюды қамтамасыз ете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ұмыс бағытының жалпы пайымдауын бере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тратегияларды, жоспарларды және әрекетерді салыстыруды жүргізу үшін негізді немесе эталонды қамтамасыз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басқару жүйесінің негізін құрады</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саясат </a:t>
            </a:r>
            <a:br>
              <a:rPr sz="4000"/>
            </a:br>
            <a:r>
              <a:rPr b="1" lang="ru-RU" sz="3200" spc="-1" strike="noStrike">
                <a:solidFill>
                  <a:srgbClr val="ffffff"/>
                </a:solidFill>
                <a:latin typeface="Tahoma"/>
              </a:rPr>
              <a:t> тиіс:</a:t>
            </a:r>
            <a:endParaRPr b="0" lang="en-US" sz="32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оғары басшылықпен анықт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ның сипаты мен көлеміне, оның іс-әрекетіне сәйкес бо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Өзінің іс-әрекетін дәйекті түрде жақсарту міндетінен тұруы және қоршаған ортаның ластануын алдын 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аңнамалық және басқа да талаптарды орындау міндетінен тұр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ақсатты және жоспарлы көрсеткішерді қою үшін негізді құр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ұжатпен рәсімделуі, енгізілуі және жұмыс жағдайында ұст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да жұмыс істейтін барлық тұлғалар хабардар болуы</a:t>
            </a:r>
            <a:endParaRPr b="0" lang="en-US" sz="20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ғам үшін қол жетімді болуы </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106" name="Picture 4" descr="ed00316_"/>
          <p:cNvPicPr/>
          <p:nvPr/>
        </p:nvPicPr>
        <p:blipFill>
          <a:blip r:embed="rId2"/>
          <a:stretch/>
        </p:blipFill>
        <p:spPr>
          <a:xfrm>
            <a:off x="6767640" y="5014800"/>
            <a:ext cx="2376360" cy="18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саясат</a:t>
            </a:r>
            <a:r>
              <a:rPr b="0" lang="ru-RU" sz="4000" spc="-1" strike="noStrike">
                <a:solidFill>
                  <a:srgbClr val="ffffff"/>
                </a:solidFill>
                <a:latin typeface="Tahoma"/>
              </a:rPr>
              <a:t> </a:t>
            </a:r>
            <a:r>
              <a:rPr b="1" lang="ru-RU" sz="3200" spc="-1" strike="noStrike">
                <a:solidFill>
                  <a:srgbClr val="ffffff"/>
                </a:solidFill>
                <a:latin typeface="Tahoma"/>
              </a:rPr>
              <a:t> </a:t>
            </a:r>
            <a:endParaRPr b="0" lang="en-US" sz="32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Компанияның ішінде және оның сыртында саясат туралы хабарлау оны кәсіпорын жұмысшыларымен және басқа да мүдделі тарапармен кеңінен түсінуді қамтамасыз етуге мүмикіндік береді</a:t>
            </a:r>
            <a:endParaRPr b="0" lang="en-US" sz="20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Компания                                          Компания</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ішінде хабарлау                         сыртында хабарлау</a:t>
            </a:r>
            <a:endParaRPr b="0" lang="en-US" sz="1800" spc="-1" strike="noStrike">
              <a:solidFill>
                <a:srgbClr val="ffffff"/>
              </a:solidFill>
              <a:latin typeface="Tahoma"/>
            </a:endParaRPr>
          </a:p>
        </p:txBody>
      </p:sp>
      <p:sp>
        <p:nvSpPr>
          <p:cNvPr id="109" name="Rectangle 5"/>
          <p:cNvSpPr/>
          <p:nvPr/>
        </p:nvSpPr>
        <p:spPr>
          <a:xfrm>
            <a:off x="755640" y="3933720"/>
            <a:ext cx="3168720" cy="2448000"/>
          </a:xfrm>
          <a:prstGeom prst="rect">
            <a:avLst/>
          </a:prstGeom>
          <a:solidFill>
            <a:srgbClr val="33cccc"/>
          </a:solidFill>
          <a:ln w="9360">
            <a:solidFill>
              <a:srgbClr val="99ccff"/>
            </a:solidFill>
            <a:miter/>
          </a:ln>
        </p:spPr>
        <p:style>
          <a:lnRef idx="0"/>
          <a:fillRef idx="0"/>
          <a:effectRef idx="0"/>
          <a:fontRef idx="minor"/>
        </p:style>
        <p:txBody>
          <a:bodyPr wrap="none" lIns="90000" rIns="90000" tIns="46800" bIns="46800" anchor="ctr">
            <a:noAutofit/>
          </a:bodyPr>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Басқарушы директордан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еке ха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 Ішкі почта және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қпараттық бюллетендер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 Хабарландыру тақталары</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Жиналыста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 Дайындық курстары</a:t>
            </a:r>
            <a:endParaRPr b="0" lang="en-US" sz="1800" spc="-1" strike="noStrike">
              <a:solidFill>
                <a:srgbClr val="ffffff"/>
              </a:solidFill>
              <a:latin typeface="Tahoma"/>
            </a:endParaRPr>
          </a:p>
        </p:txBody>
      </p:sp>
      <p:sp>
        <p:nvSpPr>
          <p:cNvPr id="110" name="Rectangle 7"/>
          <p:cNvSpPr/>
          <p:nvPr/>
        </p:nvSpPr>
        <p:spPr>
          <a:xfrm>
            <a:off x="4500720" y="3933720"/>
            <a:ext cx="3671640" cy="244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Брошюралар мен буклеттер</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Жарнама</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үдделі тараптармен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ездесулер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Интернет</a:t>
            </a:r>
            <a:endParaRPr b="0" lang="en-US" sz="1800" spc="-1" strike="noStrike">
              <a:solidFill>
                <a:srgbClr val="ffffff"/>
              </a:solidFill>
              <a:latin typeface="Tahoma"/>
            </a:endParaRPr>
          </a:p>
          <a:p>
            <a:pPr>
              <a:buClr>
                <a:srgbClr val="ffffff"/>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 </a:t>
            </a:r>
            <a:r>
              <a:rPr b="0" lang="kk-KZ" sz="1800" spc="-1" strike="noStrike">
                <a:solidFill>
                  <a:srgbClr val="ffffff"/>
                </a:solidFill>
                <a:latin typeface="Tahoma"/>
              </a:rPr>
              <a:t>БАҚ</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0:56:52Z</dcterms:modified>
  <cp:revision>204</cp:revision>
  <dc:subject/>
  <dc:title>Заголовок слайда отсутствует</dc:title>
</cp:coreProperties>
</file>