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F07E-C1CD-4AB8-A743-0F867F036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1F6F-287C-4E84-B694-27007A6EE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4B39-690D-42FF-8C6E-96269F0C1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E904-ABD3-4D42-8B11-E064996E5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623E-3B67-4CF0-92A7-C02AD46BA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18B0-ADA7-42AA-9D73-5BA9A39FF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2A60-BE59-49CA-80F8-BB9AC66E4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BD0A-52C0-450E-AF28-1AAF8FE32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E4D4-0423-472D-807A-5E86A38FA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18C7-4386-4F18-A622-EDD5F6E0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EAA8-6FF1-4B12-AF6F-46E5AC08E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3A2E-9E4C-49A2-A209-1E256E8CE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514C7-813D-4E6E-87EF-66616DB3CB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Gothic"/>
              </a:rPr>
              <a:t>Организация экспериментальных исследований при оценке качества  мясных продук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1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195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Натуральные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олуфабрикаты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, 2,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пределяемые показатели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) Органолептика (внешний вид, вкус и запах, консистенция), бал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) Масса порции, 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) Показатели качества свежести мя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4) Толщина тестовой оболочки, толщ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олочки в местах заделки, м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5) Содержание фарша к массе пельменей, %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6) Массовая доля влаги, %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7) Массовая доля поваренной соли, %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8) Массовая доля жира в фарше, %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9) Массовая доля хлеба,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35280" y="333360"/>
            <a:ext cx="1594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04000" y="333360"/>
            <a:ext cx="1593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64000" y="404640"/>
            <a:ext cx="1593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Котлеты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, 2, 6, 7, 8, 9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516720" y="476280"/>
            <a:ext cx="1593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ельмени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, 2, 4, 5, 7, 8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500"/>
                            </p:stCondLst>
                            <p:childTnLst>
                              <p:par>
                                <p:cTn id="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500"/>
                            </p:stCondLst>
                            <p:childTnLst>
                              <p:par>
                                <p:cTn id="5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0"/>
                            </p:stCondLst>
                            <p:childTnLst>
                              <p:par>
                                <p:cTn id="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500"/>
                            </p:stCondLst>
                            <p:childTnLst>
                              <p:par>
                                <p:cTn id="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6000"/>
                            </p:stCondLst>
                            <p:childTnLst>
                              <p:par>
                                <p:cTn id="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6500"/>
                            </p:stCondLst>
                            <p:childTnLst>
                              <p:par>
                                <p:cTn id="6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Agency FB"/>
              </a:rPr>
              <a:t>Алгоритм выполнения рабо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тбор проб мясных полуфабрика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дготовка к проведению анали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рганолептический анализ, физико-химические показат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8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8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8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Berlin Sans FB Demi"/>
              </a:rPr>
              <a:t>Физико-химические исследова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пределение содержания вла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пределение содержания жи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пределение содержания поваренной со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пределение содержания хлеба в котлет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чественное определение растительных наполни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240"/>
                            </p:stCondLst>
                            <p:childTnLst>
                              <p:par>
                                <p:cTn id="11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4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4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240"/>
                            </p:stCondLst>
                            <p:childTnLst>
                              <p:par>
                                <p:cTn id="12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4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4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240"/>
                            </p:stCondLst>
                            <p:childTnLst>
                              <p:par>
                                <p:cTn id="13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4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4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4240"/>
                            </p:stCondLst>
                            <p:childTnLst>
                              <p:par>
                                <p:cTn id="14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4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4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240"/>
                            </p:stCondLst>
                            <p:childTnLst>
                              <p:par>
                                <p:cTn id="14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4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4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entury Gothic"/>
              </a:rPr>
              <a:t>Оформление результатов эксперимент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Записать алгоритм и схему проведения эксперимен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Зафиксировать сущность методов исследования качественных характеристик мясных полуфабрика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анные органолептического анализа занести в таблицу, если есть дефекты, найти возможную причину их возникнов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ормативные и полученные экспериментальные данные массовой доли влаги, массовой доли жира, хлорида натрия и содержания хлеба в котлетах занести в таблиц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анализировать качество исследуемых мясных полуфабрикатов в сравнении с нормативными данными (приложения 2, 3, 4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боту закончить выводами о соответствии качества исследуемого вида мясных полуфабрикатов нормативным данным и указать рекомендуемые пути повышения качества данного проду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400"/>
                            </p:stCondLst>
                            <p:childTnLst>
                              <p:par>
                                <p:cTn id="16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900"/>
                            </p:stCondLst>
                            <p:childTnLst>
                              <p:par>
                                <p:cTn id="17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400"/>
                            </p:stCondLst>
                            <p:childTnLst>
                              <p:par>
                                <p:cTn id="18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900"/>
                            </p:stCondLst>
                            <p:childTnLst>
                              <p:par>
                                <p:cTn id="18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400"/>
                            </p:stCondLst>
                            <p:childTnLst>
                              <p:par>
                                <p:cTn id="19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900"/>
                            </p:stCondLst>
                            <p:childTnLst>
                              <p:par>
                                <p:cTn id="20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Bauhaus 93"/>
              </a:rPr>
              <a:t>Характеристика фарш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50920" y="1125360"/>
          <a:ext cx="8713800" cy="5394600"/>
        </p:xfrm>
        <a:graphic>
          <a:graphicData uri="http://schemas.openxmlformats.org/drawingml/2006/table">
            <a:tbl>
              <a:tblPr/>
              <a:tblGrid>
                <a:gridCol w="3960720"/>
                <a:gridCol w="744480"/>
                <a:gridCol w="712800"/>
                <a:gridCol w="798480"/>
                <a:gridCol w="852480"/>
                <a:gridCol w="720720"/>
                <a:gridCol w="924120"/>
              </a:tblGrid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ясного натуральн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ясного особ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бифштек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2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вяжь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ин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рань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машн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шний ви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нородная масса, без костей, хрящей, сухожилий,  грубой соединительной ткани, кровяных сгустков и грубых плен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мельчение на волчке с диаметром отверстий, 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в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темно-красного до светло-розов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ойственный доброкачественному сырь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влаги, %  не боле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регламентирует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жира, %  не боле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ература в толще фарша, ° 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хлажденн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выше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рожен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выше - 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са порции, 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,- 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84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840"/>
                            </p:stCondLst>
                            <p:childTnLst>
                              <p:par>
                                <p:cTn id="221" nodeType="after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22" dur="1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23" dur="1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24" dur="1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Bodoni MT Black"/>
              </a:rPr>
              <a:t>Характеристика пельмен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24000" y="1125360"/>
          <a:ext cx="8389800" cy="5585040"/>
        </p:xfrm>
        <a:graphic>
          <a:graphicData uri="http://schemas.openxmlformats.org/drawingml/2006/table">
            <a:tbl>
              <a:tblPr/>
              <a:tblGrid>
                <a:gridCol w="3398760"/>
                <a:gridCol w="938160"/>
                <a:gridCol w="963720"/>
                <a:gridCol w="938160"/>
                <a:gridCol w="936720"/>
                <a:gridCol w="1214280"/>
              </a:tblGrid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бирские 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и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вяжь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рань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продуктов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шний ви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льмени имеют форму полукруга, поверхность сухая, края хорошо заделаны, фарш не выступает.  Не допускаются слипшиеся в комки и Деформирован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ература в толще пельме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выше - 10ºС. При встряхивании коробки слышится отчетливый зву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ус и зап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вареных пельменей приятный, свойственный заложенному сырью, с выраженным ароматом пряностей, без постороннего привкуса и запаха.  Фарш сочный, в меру соленый, тесто не должно разрывать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мясного фарша, в % к весу пельменей, не мене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жира, в % к весу пельменей, не мене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соли, в % к весу пельменей, не боле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лщина теста, мм, не боле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лщина теста в местах заделки , мм, не боле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 1 пельменя, 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960"/>
                            </p:stCondLst>
                            <p:childTnLst>
                              <p:par>
                                <p:cTn id="24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960"/>
                            </p:stCondLst>
                            <p:childTnLst>
                              <p:par>
                                <p:cTn id="247" nodeType="after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48" dur="1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49" dur="1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50" dur="1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5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5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Berlin Sans FB Demi"/>
              </a:rPr>
              <a:t>Качественные показатели котл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1600200"/>
          <a:ext cx="8229600" cy="5068800"/>
        </p:xfrm>
        <a:graphic>
          <a:graphicData uri="http://schemas.openxmlformats.org/drawingml/2006/table">
            <a:tbl>
              <a:tblPr/>
              <a:tblGrid>
                <a:gridCol w="3497400"/>
                <a:gridCol w="473220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с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шний ви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котлет круглая или овальная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ерхность, равномерно панирован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харной мукой, без разорван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маных кра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на разрез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рш хорошо перемеш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ус и зап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ыр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аре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ойственные доброкачественному сырь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ы иметь приятный вкус и аром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истен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ареных котлет – сочная, некрошлив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влаги, %  не боле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ковск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маш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евск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хлеба, %  не боле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ковск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маш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евск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соли,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 –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са порции, 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 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160"/>
                            </p:stCondLst>
                            <p:childTnLst>
                              <p:par>
                                <p:cTn id="2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9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160"/>
                            </p:stCondLst>
                            <p:childTnLst>
                              <p:par>
                                <p:cTn id="273" nodeType="after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74" dur="1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75" dur="1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76" dur="1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7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06:49:37Z</dcterms:created>
  <dc:creator>123</dc:creator>
  <dc:description/>
  <dc:language>en-US</dc:language>
  <cp:lastModifiedBy>Венерочка</cp:lastModifiedBy>
  <dcterms:modified xsi:type="dcterms:W3CDTF">2010-10-18T18:27:22Z</dcterms:modified>
  <cp:revision>3</cp:revision>
  <dc:subject/>
  <dc:title>Организация экспериментальных исследований при оценке мясных продуктов</dc:title>
</cp:coreProperties>
</file>