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945-0BA1-42EE-AEE7-B5D03213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558-A6B4-4EF4-8BFA-60159D41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CC8-920A-4FFC-A1DD-26DB7035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36-E471-4E0C-B4F5-2C1BAA28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FC6F-493C-4975-9BB1-FE807D12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C039-EEC8-455D-8A11-A1C9E58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5402-6B68-40BF-8BD8-A1F800B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588-8442-4DDB-9876-ED48A69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1AD-1EE1-42BB-A4F7-6618AAD5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E2D-FC0B-4DFB-85EA-EF869CA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01D8-1754-4FA9-BD9D-AE31092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E21-71CE-464D-B133-F61C662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FF63-F77C-4D97-AEC8-41350B1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519D-9D86-4CB9-B725-EA43A70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5C66-08D6-4FDB-A75B-2DACA07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E70-E454-40CB-AC14-807FA4B4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24DD-826C-4CE4-BB05-C97ADA50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5721-A099-43D6-BE46-AD0146C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CED9-FA09-44CB-8403-473B7F6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5979-FC03-4B05-9F53-8D9FF79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5277-7804-4250-9277-2932A12D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9690-F436-4E1A-A11D-88CF9C7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86B-520D-406D-A841-A09637D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30E7-E0AD-4007-B26F-50E91C3E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4F49-D339-4E1F-A630-5D535A1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80BD-A5EB-48D5-9197-9C2B1B0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F106-8657-4999-B7CD-FEBF26B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56CA-D480-4892-8E6A-5A6314B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F7CE-7AF6-4B03-8434-43199128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B323-77FB-4C7F-B99E-E8BE3A7A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E93A-AACD-4350-82FA-41D1448F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A186-5B03-4DBA-95C9-BA298ECD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3BC2-8124-4A1E-98A9-A5A6549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78B-BF82-4C3A-A309-C22AB9A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87D1-6379-4ED0-B765-552F836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F498-1853-46F5-985F-CC10AF3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28D0-38FA-4267-9004-C934E41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E5E9-29F0-4B48-ABBF-338A4DE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A9FE-0F17-43DC-9022-9D09616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E3F1-4D62-45CC-86F5-E628F8F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008C-4B73-4FAC-9EFF-BF9EA04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4969-636C-48BC-8209-0BFECC05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F0B0-E550-410A-B951-DF75CFF6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C8D7-0119-4B8E-8362-DE3729F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B53-CC64-4AC8-9100-518135FE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BCEA-7D11-43E7-A27A-8512641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52C7-88BE-44D4-A302-11D88FB1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A79E-43F8-41DC-8BEB-27D386F9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9134-D89C-46D6-9354-8E37DEE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45CD-AFC4-4FDC-A8C7-5734093C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6031-4B15-4E53-A119-6E6DF23E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739B-F24D-4523-907D-A746C82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E2BE-5F99-4664-B8EF-21313AA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AB39-70CC-4F4E-B052-FEDD6C1A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F101-CE57-4AE0-8C17-931B3CCA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BB7-B777-477B-9289-D7FC1783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35A7-9925-480E-9D3D-FDADC71C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6B86-5AF6-4D74-9F97-E83B57B2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2616-4031-4E49-BD87-782F0DA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41089-924B-4EC0-9DB9-C1CCA75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EF47-835E-4926-8A44-7563B22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ED0F-0813-4211-B41D-098E3E6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195F-0CBC-4F91-A0F0-A4FD472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2949-7DFA-4678-B7AF-2964DED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AC85-B04C-4454-85BB-2C26BCD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060E-2F17-4CB9-BF59-5487E17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B11-713C-4A77-BC23-17B3E69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1D57-888B-4D15-8F66-FCFD62B8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C495-D5C7-4D50-82FB-32DA91AF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8A4F-AA8F-416C-95C8-EAA0DF39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49B7-C9A9-49D2-8D55-EF57A8C9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D717-1322-4365-9330-CEDED42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6B8CA-58CC-49BA-9403-FEFE83B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E73B-AD80-48AA-A346-55C627E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A124A-4C45-48B5-A069-BF7A45C1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5D3B9-C8EF-4AAB-8DCA-DDD34904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B1C9-7C62-45E4-B670-D5C30B2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A67-39DD-4873-8301-C209A9D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5B10-592F-4DC2-88DD-B297737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3BB99-9E2C-4DAD-A098-5AE38C4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0E9A2-8C07-4BBF-9E54-190E64B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8DBB-F335-4F6E-932C-072D9BF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6F92-7384-4706-A230-FF5D7AD9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13F-A4E0-4F71-BC89-E3911E7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E9EA-00B9-4608-8BD0-B7CE2D7327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B8D-CB31-462C-A0E5-D43FEF56AB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24CF-B626-4EE6-B9F5-EC42B18EB42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571-6302-4D3A-841F-0BAEADE73C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DED-98CA-4270-893F-CC7D0FF5BD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BB24-B8E7-4D71-8873-D9C9AF79E4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EA3-660E-452C-94AB-F3F759F60A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КОЛЛОИДНЫЕ РАСТВОР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00000" y="691920"/>
            <a:ext cx="7407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ажнейшим методом разрушения золей  является прибавление к ним так называемых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электролитов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коагуляторов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ри этом ион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вызывающий коагуляцию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должен иметь заряд  противоположный заряду самой гранул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В качестве  электролитов коагуляторов  обычно  предпочитают  аммонийные соли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так как ион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NH4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не мешает выполнению анализа и может удален прокаливанием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Если же образующийся осадок не растворим  в кислотах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то электролитом  коагулятором может служит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хлороводородна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ислота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404280"/>
            <a:ext cx="7408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Другое условие коагуляции золей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3200" spc="-1" strike="noStrike">
                <a:solidFill>
                  <a:srgbClr val="073e87"/>
                </a:solidFill>
                <a:latin typeface="Candara"/>
              </a:rPr>
              <a:t>нагревание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атионы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3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й  аналитической группы осаждают сульфидом аммония  из нагретого раствора в присутствии гидроксида аммония  и  электролита коагулятора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хлорида аммония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облюдение этих условий предотвращает образование коллоидных растворов и обеспечивает полное осаждение ион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Осадок промывают также разбавленным раствором 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хлорида или нитрата аммония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Коллоидное состояние вещества чаще всего осложняет анализ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лечет за собой ошибки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о иногда  свойство соединения образовать золи используют для повышение  чувствительности или селективности реакций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екоторые гидроксиды дают плохо различимые коллоидные осадки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 этих случаях к раствору прибавляют немного красителя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 получающегося гидроксида адсорбируют краситель и осадок становится хорошо заметным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Английский ученый Грэм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(1861)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 установил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что сол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снования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кислоты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образующие кристаллы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 растворенном состоянии легко проходят через полупроницаемые перегородк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тогда как смолообразные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или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лееподобные вещества в растворе не проходят через них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Первые вещества были названы кристаллоидами 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т слова кристалл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)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а вторые коллоидами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т греческого слова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олла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лей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)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Грэм  предложил разделить все вещества на эти два класса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 дальнейшем русские ученые 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Г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Борщев и П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П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еймарн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оказал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что следует различать не коллоиды и кристаллоиды как противоположные типы веществ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а коллоидное и кристаллоидное состояния вещества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Все вещества в зависимости от условий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рироды растворителя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онцентраци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температуры и др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)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могут существовать как в коллоидном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так и в криталлоидном состояниях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88640"/>
            <a:ext cx="874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Коллоидные растворы или золи</a:t>
            </a: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это дисперсные системы с диаметром частиц от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100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до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м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Известны коллоидные растворы кремниевой кислоты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сульфида мышьяк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(III),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гидроксида желез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(III)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и других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Все золи прозрачн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еоднородность нельзя обнаружить  невооруженным глазом  или с помощью обычного микроскоп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Однако она может быть установлена с помощью эффекта Тиндаля или ультрамикроскоп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155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Эффект Тиндаля наблюдается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когда через коллоидный раствор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находящийся в темноте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пропускают пучок сходящихся световых лучей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 Коллоидные частицы рассеивают свет и в жидкости возникает освещенный конус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наблюдается опалесценция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В ультрамикроскопе коллоидные частицы можно обнаружить по светорассеянию попадающих на них лучей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так как раствор освещается сбоку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Подобно этому на пути солнечного луча в затемненной комнате заметно мерцание отдельных пылинок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074f"/>
                </a:solidFill>
                <a:latin typeface="Candara"/>
              </a:rPr>
              <a:t>ДИСПЕРСИОННЫЕ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способы состоят в диспергировании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т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е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измельчении крупных частиц вещества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При достаточно продолжительном соприкосновении яичного белка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желатины и гуммиарабика с водой получают коллоидные растворы этих веществ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 Однако  чаще приходится дробить вещество при помощи коллоидной  мельницы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Так получают коллоидные растворы  некоторых красок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наполнителей для бумаг и резины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Различают дисперсионные и конденсационные способы получения каллоидных растворов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074f"/>
                </a:solidFill>
                <a:latin typeface="Candara"/>
              </a:rPr>
              <a:t>КОНДЕНСАЦИОННЫ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способы получения коллоидных растворов называют так потому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что образованию коллоидных частиц предшествует получение  молекул 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(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или атомов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)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вещества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которые затем конденсируются в более крупные агрегаты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Например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если через погруженные в воду серебряные проволочки пропускать электрический ток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то возникает электрическая дуга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под действием которой металл испаряется в виде атомов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Затем они конденсируются в крупные частицы  и получается коллоидный раствор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еребр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981000"/>
            <a:ext cx="7409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Размеры и форму коллоидных частиц изучают в электронном микроскопе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представляют собой сложные агрегаты состоящих из многих атомов и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Так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металлов содержат сотни атом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ая частица мыла объединяет от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20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до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50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а коллоидная частица гидроксида желез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=300=400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26560" y="189000"/>
            <a:ext cx="7409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Коллоидные растворы устойчив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: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они не разрушаются долгое врем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существуют месяцы и даже год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Дисперсная фаз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состоящая из малорастворимых  веществ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е выпадает в осадок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хот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сталкиваясь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коллоидные частицы должны были слипатьс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укрупняться оседать под действием силы тяжести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26560" y="1052280"/>
            <a:ext cx="740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Коллоидные частицы гидроксидов металл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гемоглобин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екоторых красок заряжены положительно и передвигаются по катоду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Другие коллоидные частицы перемещаются к аноду и имеют отрицательный заряд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се коллоидные частицы  в растворе заряжены одноименно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чем и обусловлено их взаимное отталкивание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препятствующее укреплению частиц и обеспечивающее устойчивость коллоидных систем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7:23:48Z</dcterms:created>
  <dc:creator>Гульден</dc:creator>
  <dc:description/>
  <dc:language>en-US</dc:language>
  <cp:lastModifiedBy>1</cp:lastModifiedBy>
  <dcterms:modified xsi:type="dcterms:W3CDTF">2012-02-04T04:41:20Z</dcterms:modified>
  <cp:revision>24</cp:revision>
  <dc:subject/>
  <dc:title>КОЛЛОИДНЫЕ РАСТВОРЫ</dc:title>
</cp:coreProperties>
</file>