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78C-3373-4283-99FD-3976ABFA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A22-268E-43A3-AA5A-4D0F314A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0A5F4-FB9F-41D6-8894-4CB301BC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D64D5-934B-4222-8E31-0A2080F0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BC0C5-9C9E-4FBD-A069-5DED109F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01231-F3DE-4F35-AEE3-FA04BDED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A2F46-76C7-4A01-8C26-8BBEC54C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F9801-8545-4CE5-9AD7-DFC11BC5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0BF7D-371C-4447-BD06-F3BEBBB4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700B5-D502-434E-9F8A-BF608937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BB0FA-49AC-4C59-9051-4D686980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96F9A-896F-4296-9781-79485247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87F6-9497-4FA7-9E4D-4135E4EA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39E61-667D-4533-A52D-F819A057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77B5F-B8FD-4CA8-A8C9-942D1D2A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4F1858-BAE1-4B00-A50C-521415BB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68A8D-040E-4C00-BC95-F208E633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5CF0F-C64F-4E09-8996-069BFF4F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637FE-6318-4D96-8173-1CAFDB37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7EBA9A-2945-4BE9-B910-0B578E46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DF747-FCFE-428E-8BF1-FD565A59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C90EE-44DB-4E13-9563-78E6C788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DC2D4-0C23-4D5E-B2BC-94F988B5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D07-BBFF-4645-8409-5373AC0D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BE349-F451-4FB0-9403-CC43B700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5024-ABE2-4552-AECE-0AEFCBCE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0F69-F1AD-4EBF-BE10-CD5F8182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416E-02DD-43FB-ACDD-43F326FA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0D98-D4C7-4C98-AD7C-B4AB97B0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516F-D620-4BC7-95AE-86D72180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FB02-D0D5-4AF8-BF5A-81B328AE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F83C-E504-4F84-AF8F-FD4F39BD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147-BE15-4E04-8E3D-969F83CC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BB2A-5DA6-4575-80DD-E14729E9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F874-8769-4F76-9165-BF188A38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F380-B59E-43DC-994A-173D7926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8087-695B-4570-AD79-86118BEC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F5F9-B12B-45A6-814C-33BF7C8D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627FC-2467-4405-8CE2-CE8DC791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64B99-418D-4A19-9870-8F884CF9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E49C4-889C-456E-BC9C-B71E0365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F2278-5728-4F28-8DFC-458A57DA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4DDA4-8AD0-4945-9DE1-C39861A2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7DB-5197-44E4-916F-E990E230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C6E15-0485-447F-9921-475F2B49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3C76A-7CB0-4414-827D-10BC3B14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0BE04-2501-4A16-A687-3EEDF9D2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E3C75-0FA6-468B-AFA6-E6669759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A75AA-8BED-4199-B0B4-79367A41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797E4-E033-4882-9E88-348795EF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03711-8DC6-427C-8B28-B61000D7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4C49B-3D52-40E9-BBC8-8271470B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0E7D2-3F47-4619-8B97-C2CBF8D9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521A0-FC1B-4985-9285-BF13DA9D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E20-08E0-40DF-82B8-45A2762E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8D65E-FE9D-49C0-B571-7FB4A5BE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97DC7-5639-4BC2-91FB-CE798D12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2E7FA-AAD0-4932-A286-6DB46C67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8C824-E6ED-4FD4-8905-7127BCAC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BC1A8-0F3C-4A4A-88E9-1458F054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83FA1-903F-44C3-BCB3-3FB71692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0BAD7-BA5C-4820-9184-8507014C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7B79A-37D0-4E54-8393-CF1644B5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97D1F-8246-4A2C-A51C-F31DA398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D0205-C013-4CAD-9B0C-03447081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089-C34A-4DE8-8B8D-1F77735C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A799D-5597-4256-A6DA-33689E66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AC8F1-0DC5-4A7C-AEA1-F364354B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3863E-889F-4CE1-8F21-47325A3B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F1C83-E1F1-45D4-A2D0-4246B168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4FB96-E004-4D06-9B04-FE84610D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28757-F025-4CE0-9E7A-2EF5E5ED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CA16E-4F37-4D41-B002-CC0BD539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C6DCE-E9A0-43C0-ACA5-77D0412F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DF714-CA60-4C0A-8503-4294F813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B8687-A065-484D-B9E4-23E55FA5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0E3-2AFF-467F-955E-A518F21E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F7BE6-5D89-49AE-B6CF-EC986A47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BA001-72CB-432B-B4A8-909A8B1E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5AD1E-289A-4CC9-9B68-10B0AF99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980A8-ADF5-4F4C-99FB-A2D806DE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EF537-312C-4420-A5A6-E56E7D0F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01550-69AC-45DB-ACBB-F3BDFA97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A0837-2759-4A1E-A9E0-46635709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F6667-B83B-4383-A71A-06DC345D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E732C-D024-418F-9AD9-AD0B730C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4A008-3730-41F6-B813-0CEE7E68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9AC0-C739-4235-A130-07C0B454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A46DA-5BB9-4C52-BC33-9F533BC1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200FC-9318-4326-BE2E-BA3F33B3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87DA0-9D53-4EE6-9618-E898CF20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0638D-AE5E-4F5B-B7CB-2E29C253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ADF33-8E6B-48A0-8B73-6AA0A6FE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3D24B-411F-401C-A996-17CC732B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DDE4D-B978-4A03-BBFC-4054ADA9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9BDCE-3D22-4DB3-AFA7-5C45E7A3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34AA7-8E81-4A77-96AD-620BC2EA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2B3DE-3552-4439-B1A7-1A467F2C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77BE-4E62-49ED-9CE2-E748AC61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F080F-4C6A-432E-8DF6-C545A8FA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F481F-31DA-4C8B-ADC1-80F8CBA0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8C737-1840-41B2-AC1C-AD15038C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C3EDB-3730-4752-BE47-DAC83400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246D4-DB2D-48E1-B921-E48A6F82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A41F10-6F6C-4BDA-9C2F-EACA207A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F3B0ED-AB5B-43BF-99A6-FBD2C5A1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C85EFB-4073-4D61-BB28-888C421B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56359B-B654-45BB-8865-D32398F2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21F8BD-E43D-45AB-B118-A761206E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B509-7BC8-4B72-AF28-D4960DB2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A8ACA9-C531-4F1B-B7AA-95438859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B33DA0-2D8B-4C06-BCF2-F44E1F0B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51786A-DAED-4E9C-8427-B0E697BC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716F34-7740-462D-870A-59536520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95457F-26C0-4DD3-9CA9-8C9DE1FC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BDC1DB-7C74-4C49-865E-9B9E0542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06D30E-997A-42FB-A698-DA986906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41C1DB-05CF-4DC9-9BB7-71C4593F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B4026-6C10-4EDB-B2AA-574A0F21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437CC-6F88-4043-BFDB-11C2F9C6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B516-C2C3-4950-86DC-3613FA5717C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2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427A-530F-49AB-93BA-D9AF6289B9E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dt" idx="2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ftr" idx="3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E45F-C850-4CB7-8A86-AB0035B9D08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65EF-AB9C-4E5E-8A92-CB6665BBF86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F70A-1F97-4EAF-90A4-44B5CFCEBD4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7E96-EA01-4F7D-BA46-83E4A001CB5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21F7-7780-4831-835D-E1750B1214A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3E70-86DA-4BF3-9D85-1D5857C16BC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Num" idx="2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5A75-9233-46A6-9DC2-5D4D642BF15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dt" idx="2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2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2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2E6D-37E5-4559-986D-6F0486385CF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dt" idx="2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2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max.co.za/feel/body/pics/chromium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nteriorinfo.ru/upload/images/gallery/1188195509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oborud.info/product/icon/2622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schoolshop.ru/d/63973/d/2099.jpg" TargetMode="External"/><Relationship Id="rId7" Type="http://schemas.openxmlformats.org/officeDocument/2006/relationships/image" Target="../media/image10.jpeg"/><Relationship Id="rId8" Type="http://schemas.openxmlformats.org/officeDocument/2006/relationships/hyperlink" Target="http://www.wellstreetchurch.org.uk/content/pages/uploaded_images/105.jpg" TargetMode="External"/><Relationship Id="rId9" Type="http://schemas.openxmlformats.org/officeDocument/2006/relationships/image" Target="../media/image11.jpeg"/><Relationship Id="rId10" Type="http://schemas.openxmlformats.org/officeDocument/2006/relationships/hyperlink" Target="http://www.tomshw.it/guides/digitrends/digitrends/20090629/images/,8-V-215455-3.jpg" TargetMode="External"/><Relationship Id="rId11" Type="http://schemas.openxmlformats.org/officeDocument/2006/relationships/image" Target="../media/image12.jpeg"/><Relationship Id="rId12" Type="http://schemas.openxmlformats.org/officeDocument/2006/relationships/hyperlink" Target="http://www.aquakeeper.ru/images/data/2875.jpg" TargetMode="External"/><Relationship Id="rId13" Type="http://schemas.openxmlformats.org/officeDocument/2006/relationships/image" Target="../media/image13.jpeg"/><Relationship Id="rId14" Type="http://schemas.openxmlformats.org/officeDocument/2006/relationships/hyperlink" Target="http://news.ferra.ru/images/117/117589.jpg" TargetMode="External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-2006-11.photosight.ru/26/1785412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sracity.com/isra/images/110/juice07.jp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hyperlink" Target="http://ed3.ru/vlogenie/05/miaso1.jpg" TargetMode="External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6" descr=""/>
          <p:cNvPicPr/>
          <p:nvPr/>
        </p:nvPicPr>
        <p:blipFill>
          <a:blip r:embed="rId1"/>
          <a:stretch/>
        </p:blipFill>
        <p:spPr>
          <a:xfrm>
            <a:off x="281160" y="858960"/>
            <a:ext cx="8210520" cy="35542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743200" y="4071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Выполнил: Симанович Вячеслав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Organization Chart 7"/>
          <p:cNvGrpSpPr/>
          <p:nvPr/>
        </p:nvGrpSpPr>
        <p:grpSpPr>
          <a:xfrm>
            <a:off x="785880" y="1500120"/>
            <a:ext cx="7829280" cy="4312440"/>
            <a:chOff x="785880" y="1500120"/>
            <a:chExt cx="7829280" cy="4312440"/>
          </a:xfrm>
        </p:grpSpPr>
        <p:cxnSp>
          <p:nvCxnSpPr>
            <p:cNvPr id="538" name="_s1028"/>
            <p:cNvCxnSpPr>
              <a:stCxn id="539" idx="0"/>
              <a:endCxn id="540" idx="2"/>
            </p:cNvCxnSpPr>
            <p:nvPr/>
          </p:nvCxnSpPr>
          <p:spPr>
            <a:xfrm flipV="1" rot="16200000">
              <a:off x="5881680" y="2043720"/>
              <a:ext cx="862560" cy="3224160"/>
            </a:xfrm>
            <a:prstGeom prst="bentConnector3">
              <a:avLst>
                <a:gd name="adj1" fmla="val 273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1" name="_s1029"/>
            <p:cNvCxnSpPr>
              <a:stCxn id="542" idx="0"/>
              <a:endCxn id="540" idx="2"/>
            </p:cNvCxnSpPr>
            <p:nvPr/>
          </p:nvCxnSpPr>
          <p:spPr>
            <a:xfrm flipV="1" rot="16200000">
              <a:off x="5075280" y="2850120"/>
              <a:ext cx="862560" cy="1611720"/>
            </a:xfrm>
            <a:prstGeom prst="bentConnector3">
              <a:avLst>
                <a:gd name="adj1" fmla="val 273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3" name="_s1030"/>
            <p:cNvCxnSpPr>
              <a:stCxn id="544" idx="0"/>
              <a:endCxn id="540" idx="2"/>
            </p:cNvCxnSpPr>
            <p:nvPr/>
          </p:nvCxnSpPr>
          <p:spPr>
            <a:xfrm flipV="1">
              <a:off x="4700880" y="3224880"/>
              <a:ext cx="1800" cy="862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5" name="_s1031"/>
            <p:cNvCxnSpPr>
              <a:stCxn id="546" idx="0"/>
              <a:endCxn id="540" idx="2"/>
            </p:cNvCxnSpPr>
            <p:nvPr/>
          </p:nvCxnSpPr>
          <p:spPr>
            <a:xfrm flipH="1" flipV="1" rot="5400000">
              <a:off x="3463560" y="2849760"/>
              <a:ext cx="862560" cy="1612800"/>
            </a:xfrm>
            <a:prstGeom prst="bentConnector3">
              <a:avLst>
                <a:gd name="adj1" fmla="val 273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7" name="_s1032"/>
            <p:cNvCxnSpPr>
              <a:stCxn id="548" idx="0"/>
              <a:endCxn id="540" idx="2"/>
            </p:cNvCxnSpPr>
            <p:nvPr/>
          </p:nvCxnSpPr>
          <p:spPr>
            <a:xfrm flipH="1" flipV="1" rot="5400000">
              <a:off x="2658240" y="2044080"/>
              <a:ext cx="862560" cy="3224160"/>
            </a:xfrm>
            <a:prstGeom prst="bentConnector3">
              <a:avLst>
                <a:gd name="adj1" fmla="val 273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9" name=""/>
            <p:cNvSpPr txBox="1"/>
            <p:nvPr/>
          </p:nvSpPr>
          <p:spPr>
            <a:xfrm>
              <a:off x="4009680" y="1500120"/>
              <a:ext cx="1382040" cy="1725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>
              <a:off x="785880" y="4087440"/>
              <a:ext cx="1382400" cy="1725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В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металлург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2398320" y="4087440"/>
              <a:ext cx="1380600" cy="1725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химическо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ромыш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енност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 txBox="1"/>
            <p:nvPr/>
          </p:nvSpPr>
          <p:spPr>
            <a:xfrm>
              <a:off x="4009680" y="4087440"/>
              <a:ext cx="1382040" cy="1725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В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текстильно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ромыш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енност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 txBox="1"/>
            <p:nvPr/>
          </p:nvSpPr>
          <p:spPr>
            <a:xfrm>
              <a:off x="5621760" y="4087440"/>
              <a:ext cx="1380960" cy="1725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В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медицин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>
              <a:off x="7233120" y="4087440"/>
              <a:ext cx="1382040" cy="1725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В наук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5" name="Picture 25" descr="Картинка 47 из 60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336560" y="1519200"/>
              <a:ext cx="753840" cy="1636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nsolas"/>
              </a:rPr>
              <a:t>Наглядное применение хром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57" name="Picture 13" descr="Картинка 2 из 16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292640"/>
            <a:ext cx="2190600" cy="21906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9" descr="1195932873_05_hrom_"/>
          <p:cNvPicPr/>
          <p:nvPr/>
        </p:nvPicPr>
        <p:blipFill>
          <a:blip r:embed="rId3"/>
          <a:stretch/>
        </p:blipFill>
        <p:spPr>
          <a:xfrm>
            <a:off x="4700520" y="1600200"/>
            <a:ext cx="3933720" cy="21906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5" descr="Картинка 9 из 168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3640" y="4221000"/>
            <a:ext cx="1360440" cy="21942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7" descr="Картинка 24 из 168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1413000"/>
            <a:ext cx="2266920" cy="2232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9" descr="Картинка 59 из 168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8360" y="2781360"/>
            <a:ext cx="1577880" cy="8586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1" descr="Картинка 72 из 168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195640" y="1341360"/>
            <a:ext cx="1627200" cy="2232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3" descr="Картинка 101 из 168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68360" y="1341360"/>
            <a:ext cx="1584360" cy="12668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5" descr="Картинка 119 из 1685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859280" y="2565360"/>
            <a:ext cx="1511280" cy="14191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7" descr="i?id=162422227&amp;tov=5"/>
          <p:cNvPicPr/>
          <p:nvPr/>
        </p:nvPicPr>
        <p:blipFill>
          <a:blip r:embed="rId16"/>
          <a:stretch/>
        </p:blipFill>
        <p:spPr>
          <a:xfrm>
            <a:off x="3924360" y="1341360"/>
            <a:ext cx="1674720" cy="12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287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287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287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287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287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287"/>
                            </p:stCondLst>
                            <p:childTnLst>
                              <p:par>
                                <p:cTn id="1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6286"/>
                            </p:stCondLst>
                            <p:childTnLst>
                              <p:par>
                                <p:cTn id="1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8287"/>
                            </p:stCondLst>
                            <p:childTnLst>
                              <p:par>
                                <p:cTn id="1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В чистом виде хром весьма токсичен — металлическая пыль Cr раздражает ткани легких, соединения хрома (III) вызывают дерматиты. Соединения хрома (VI) приводят к разным заболеваниям человека, в том числе и онкологическим.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nsolas"/>
              </a:rPr>
              <a:t>Биологические свойства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ром – важный биогенный элемент, непременно входящий в состав тканей растений, животных и человека. Среднее содержание этого элемента в растениях – 0,0005 %, причем практически весь он накапливается в корнях (92-95 %), остальная доля содержится в листьях. Высшие растения не переносят концентрации этого металла выше 3∙10-4 моль/л. У животных содержание хрома составляет от десятитысячных до десятимиллионных долей процента. Зато в планктоне коэффициент накопления хрома поразителен — 10 000-26 000. Во взрослом человеческом организме содержание Cr колеблется от 6 до 12 мг. Причем достаточно точно физиологическая потребность в хроме для человека не установлена. Она во многом зависит от рациона – при употреблении пищи с высоким содержанием сахара, потребность организма в хроме возрастает. Принято считать, что человеку требуется в сутки примерно 20–300 мкг этого элемента. Как и другие биогенные элементы, хром способен накапливаться в тканях организма, особенно в волосах. Именно в них содержание хрома указывает на степень обеспеченности организма этим металлом. К сожалению, с возрастом «запасы» хрома в тканях истощаются, исключением являются легкие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nsolas"/>
              </a:rPr>
              <a:t>Роль хрома в живых организмах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99680" y="1785960"/>
            <a:ext cx="547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Хром — один из биогенных элементов, постоянно входит в состав тканей растений и животных. У животных хром участвует в обмене липидов, белков (входит в состав фермента трипсина), углеводов. Снижение содержания хрома в пище и крови приводит к уменьшению скорости роста, увеличению холестерина в крови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В конце 1950-х гг. два исследователя, Шварц и Мерц, сообщили, что у крыс, которые были на рационе, дефицитном по хрому, развивалась непереносимость сахара; при добавлении же хрома в рацион их состояние нормализовалось. Это было первым подтверждением, что хром необходим животным для нормальной жизни. С тех пор исследователи поняли, что хром играет такую же роль и для здоровья человека.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indent="5349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613800" y="141300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ажные фак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6" descr="Картинка 15 из 660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1952640"/>
            <a:ext cx="2771640" cy="27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"/>
                            </p:stCondLst>
                            <p:childTnLst>
                              <p:par>
                                <p:cTn id="2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10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6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10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857160" y="785880"/>
            <a:ext cx="7772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Основной источник поступления хрома в организм животных и человека — пища.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ченые установили, что в растительной пище концентрация хрома значительно ниже, чем в животной. Наиболее богаты хромом пивные дрожжи, мясо, печень, бобовые и цельное необработанное зерно. Снижение содержания этого металла в пище и крови приводит к уменьшению скорости роста, увеличению холестерина в крови, снижению чувствительности периферийных тканей к инсулину (диабетоподобное состояние). Кроме того, возрастает риск развития атеросклероза и нарушения высшей нервной деятельност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onsolas"/>
              </a:rPr>
              <a:t>Пищевые источники хром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68360" y="616572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пшеничные ростки, печень, мясо, сыр, бобы, горох, цельное зерно, черный перец, мелисса, пивные дрожжи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6" name="Picture 5" descr="Картинка 56 из 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284640"/>
            <a:ext cx="2232000" cy="1116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103242_1"/>
          <p:cNvPicPr/>
          <p:nvPr/>
        </p:nvPicPr>
        <p:blipFill>
          <a:blip r:embed="rId3"/>
          <a:stretch/>
        </p:blipFill>
        <p:spPr>
          <a:xfrm>
            <a:off x="539640" y="126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9" descr="Картинка 2 из 17214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59280" y="1268280"/>
            <a:ext cx="2862000" cy="18003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1" descr="Картинка 29 из 136286"/>
          <p:cNvPicPr/>
          <p:nvPr/>
        </p:nvPicPr>
        <p:blipFill>
          <a:blip r:embed="rId6"/>
          <a:stretch/>
        </p:blipFill>
        <p:spPr>
          <a:xfrm>
            <a:off x="6138720" y="1268280"/>
            <a:ext cx="2536920" cy="1808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3" descr="Картинка 3 из 18556"/>
          <p:cNvPicPr/>
          <p:nvPr/>
        </p:nvPicPr>
        <p:blipFill>
          <a:blip r:embed="rId7"/>
          <a:stretch/>
        </p:blipFill>
        <p:spPr>
          <a:xfrm>
            <a:off x="2987640" y="3357720"/>
            <a:ext cx="2376360" cy="1780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7" descr="Картинка 11 из 11421"/>
          <p:cNvPicPr/>
          <p:nvPr/>
        </p:nvPicPr>
        <p:blipFill>
          <a:blip r:embed="rId8"/>
          <a:stretch/>
        </p:blipFill>
        <p:spPr>
          <a:xfrm>
            <a:off x="611280" y="4559400"/>
            <a:ext cx="1728720" cy="15350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9" descr="Картинка 5 из 426"/>
          <p:cNvPicPr/>
          <p:nvPr/>
        </p:nvPicPr>
        <p:blipFill>
          <a:blip r:embed="rId9"/>
          <a:stretch/>
        </p:blipFill>
        <p:spPr>
          <a:xfrm>
            <a:off x="6156360" y="33577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5" descr="Картинка 4 из 80716"/>
          <p:cNvPicPr/>
          <p:nvPr/>
        </p:nvPicPr>
        <p:blipFill>
          <a:blip r:embed="rId10"/>
          <a:stretch/>
        </p:blipFill>
        <p:spPr>
          <a:xfrm>
            <a:off x="4427640" y="4454640"/>
            <a:ext cx="2232000" cy="16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 rot="216600">
            <a:off x="91404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Наиболее ядовитым является оксид хрома (VI) CrO3, он относится к I классу опасности. Смертельная доза для человека (перорально) 0,6 г. Этиловый спирт при соприкосновении со свежеприготовленным CrO3 воспламеняется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 rot="21243000">
            <a:off x="857160" y="12855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Corbel"/>
              </a:rPr>
              <a:t>Самая распространенная марка нержавеющей стали содержит 18 % Cr, 8 % Ni, около 0,1 % C. Она великолепно противостоит коррозии и окислению, сохраняют прочность при высоких температурах. Именно из такой стали изготовлены листы, использовавшиеся в строительстве скульптурной группы В.И. Мухиной «Рабочий и колхозница»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914400" y="999720"/>
            <a:ext cx="7772400" cy="53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Corbel"/>
              </a:rPr>
              <a:t>Особую нишу хром занял в полиграфии. В 1839 году было установлено, что бумага, пропитанная бихроматом натрия, после освещения ярким светом становится вдруг коричневой. Затем выяснилось, что бихроматные покрытия на бумаге после засвечивания не растворяются в воде, а, будучи смоченными, приобретают синеватый оттенок. Этим свойством воспользовались полиграфисты. Нужный рисунок фотографировали на пластинку с коллоидным покрытием, содержащим бихромат. Засвеченные места при промывке не растворялись, а не засвеченные растворялись, и на пластине оставался рисунок, с которого можно было печатать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Rectangle 2" descr=""/>
          <p:cNvPicPr/>
          <p:nvPr/>
        </p:nvPicPr>
        <p:blipFill>
          <a:blip r:embed="rId1"/>
          <a:stretch/>
        </p:blipFill>
        <p:spPr>
          <a:xfrm>
            <a:off x="450720" y="658800"/>
            <a:ext cx="8010720" cy="191304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1116000" y="2637000"/>
            <a:ext cx="6656400" cy="300168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orbel"/>
              </a:rPr>
              <a:t>Элемент № 24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orbel"/>
              </a:rPr>
              <a:t>ХРОМ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nsolas"/>
              </a:rPr>
              <a:t>Функции хрома в жизни челове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57176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Основная роль хрома в организме - это регуляция сахара в крови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Хром работает вместе с инсулином по 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перемещению сахара из крови в ткани 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организма для использования или сох</a:t>
            </a: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ранения. Этот микроэлемент настолько 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важен для переносимости сахара, что 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сильная его недостаточность приводит 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к развитию диабетоподобного заболевания</a:t>
            </a: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Уровень хрома снижается при дет</a:t>
            </a: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-                 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ском диабете, при коронарном арте</a:t>
            </a: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риальном заболевании (склерозиро</a:t>
            </a: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вании артерий, ведущим к сердцу).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rbel"/>
              </a:rPr>
              <a:t>Хром необходим для нормального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rbel"/>
              </a:rPr>
              <a:t>метаболизма жиров («сжигания жиров»)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rbel"/>
              </a:rPr>
              <a:t>в организме и его недостаток однозначно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rbel"/>
              </a:rPr>
              <a:t>ведет к излишнему весу, ожирению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 advTm="20000">
    <p:strips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2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nsolas"/>
              </a:rPr>
              <a:t>Месторождения хром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 земной коре хрома довольно много – 0,02%. Хромовая руда носит название хромитов или хромистого железняка (потому, что почти всегда содержит и железо).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Наша страна обладает огромными запасами хромитов. Одно из самых больших месторождений находится в Казахстане, в районе Актюбинска; оно открыто в 1936 г. Значительные запасы хромовых руд есть и на Урале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Большими запасами хромитов располагают Куба, Югославия, многие страны Азии и Африки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91" name="Picture 5" descr="Картинка 14 из 22"/>
          <p:cNvPicPr/>
          <p:nvPr/>
        </p:nvPicPr>
        <p:blipFill>
          <a:blip r:embed="rId1"/>
          <a:stretch/>
        </p:blipFill>
        <p:spPr>
          <a:xfrm>
            <a:off x="4500720" y="3860640"/>
            <a:ext cx="4319280" cy="25974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7" descr="Картинка 2 из 91"/>
          <p:cNvPicPr/>
          <p:nvPr/>
        </p:nvPicPr>
        <p:blipFill>
          <a:blip r:embed="rId2"/>
          <a:stretch/>
        </p:blipFill>
        <p:spPr>
          <a:xfrm>
            <a:off x="322200" y="3860640"/>
            <a:ext cx="3889440" cy="254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620"/>
                            </p:stCondLst>
                            <p:childTnLst>
                              <p:par>
                                <p:cTn id="3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620"/>
                            </p:stCondLst>
                            <p:childTnLst>
                              <p:par>
                                <p:cTn id="3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620"/>
                            </p:stCondLst>
                            <p:childTnLst>
                              <p:par>
                                <p:cTn id="3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5000" spc="-1" strike="noStrike">
                <a:solidFill>
                  <a:srgbClr val="ffffff"/>
                </a:solidFill>
                <a:latin typeface="Corbel"/>
              </a:rPr>
              <a:t>СПАСИБО 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5000" spc="-1" strike="noStrike">
                <a:solidFill>
                  <a:srgbClr val="ffffff"/>
                </a:solidFill>
                <a:latin typeface="Corbel"/>
              </a:rPr>
              <a:t>ЗА  ВНИМАНИЕ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4000">
    <p:cover dir="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9" descr="tab_mendeleeva"/>
          <p:cNvPicPr/>
          <p:nvPr/>
        </p:nvPicPr>
        <p:blipFill>
          <a:blip r:embed="rId1"/>
          <a:stretch/>
        </p:blipFill>
        <p:spPr>
          <a:xfrm>
            <a:off x="457200" y="604800"/>
            <a:ext cx="8435880" cy="56484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16"/>
          <p:cNvSpPr/>
          <p:nvPr/>
        </p:nvSpPr>
        <p:spPr>
          <a:xfrm>
            <a:off x="3995640" y="2349360"/>
            <a:ext cx="647640" cy="43200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14" descr=""/>
          <p:cNvPicPr/>
          <p:nvPr/>
        </p:nvPicPr>
        <p:blipFill>
          <a:blip r:embed="rId2"/>
          <a:stretch/>
        </p:blipFill>
        <p:spPr>
          <a:xfrm>
            <a:off x="3995640" y="2349360"/>
            <a:ext cx="647640" cy="3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92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192" fill="hold"/>
                                        <p:tgtEl>
                                          <p:spTgt spid="5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192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192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0" dur="3000" fill="hold"/>
                                        <p:tgtEl>
                                          <p:spTgt spid="5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            </a:t>
            </a:r>
            <a:r>
              <a:rPr b="0" lang="ru-RU" sz="4000" spc="-1" strike="noStrike">
                <a:solidFill>
                  <a:srgbClr val="ffff00"/>
                </a:solidFill>
                <a:latin typeface="Consolas"/>
              </a:rPr>
              <a:t>ХРО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4360" y="2204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Хром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(лат. Cromium), Cr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химический элемент VI группы периодической системы Менделеева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атомный номер 24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атомная масса 51,996;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еталл голубовато-стального цвета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7" name="Picture 6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1942920" cy="117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3000" fill="hold"/>
                                        <p:tgtEl>
                                          <p:spTgt spid="5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nsolas"/>
              </a:rPr>
              <a:t>История открыт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9" name="Picture 92" descr="Chrom_1[1]"/>
          <p:cNvPicPr/>
          <p:nvPr/>
        </p:nvPicPr>
        <p:blipFill>
          <a:blip r:embed="rId1"/>
          <a:stretch/>
        </p:blipFill>
        <p:spPr>
          <a:xfrm>
            <a:off x="250920" y="2492280"/>
            <a:ext cx="3457440" cy="25876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067280" y="1341000"/>
            <a:ext cx="4897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В 1797 г. французский химик Л. Вокелен впервые исследовал красноватый, тяжелый минерал крокоизит, попавший в его руки из далекой Сибири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    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Крокоизит, чаще называемый крокоитом (от греческого "крокос" - шафран), -редкий минерал, найденный на Урале в 40-х года XVIII в. и описанный М. В. Ломоносовым. Затем он был найден в Сибири петербургским профессором химии И. Леманом в 1762 г. От него попал к Вокелену, который открыл в сибирском минерале соединение нового элемента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    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Выделить этот элемент в чистом виде он не смог. Пораженный разнообразием окрасок, образуемых разными соединениями вновь открытого элемента, Вокелен назвал его хромом (от греческого слова "хрома" - цвет, краска). В сравнительно чистом виде новый элемент был выделен в 1799 г. Ф. Тассером. Он представлял собой серо-стальной металл с серебристыми блестками в изломе, тугоплавкий (температура плавления 1800° С), не окисляющийся при обычных условиях, с плотностью, почти равной плотности железа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-90360" y="2444760"/>
            <a:ext cx="876240" cy="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 rot="471600">
            <a:off x="790560" y="108036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rbel"/>
              </a:rPr>
              <a:t>Хром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— один из биогенных элементов, постоянно входит в состав тканей растений и животных. У животных хром участвует в обмене липидов, белков (входит в состав фермента трипсина), углеводов. Снижение содержания хрома в пище и крови приводит к уменьшению скорости роста, увеличению холестерина в кров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785880" y="57132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58d01"/>
                </a:solidFill>
                <a:latin typeface="Corbel"/>
              </a:rPr>
              <a:t>В земной коре хрома довольно много – 0,02%. Хромовая руда носит название хромитов или хромистого железняка (потому, что почти всегда содержит и железо). Наша страна обладает огромными запасами хромитов. Одно из самых больших месторождений находится в Казахстане, в районе Актюбинска; оно открыто в 1936 г. Значительные запасы хромовых руд есть и на Урале. Большими запасами хромитов располагают Куба, Югославия, многие страны Азии и Африк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642960" y="857160"/>
            <a:ext cx="6508800" cy="493560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 fontScale="92000"/>
          </a:bodyPr>
          <a:p>
            <a:pPr marL="4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rbel"/>
              </a:rPr>
              <a:t>Физические свойства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Хром — твердый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лубовато-белый тугоплавкий метал. Температура плавления 1890°С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а воздухе покрывается оксидной пленкой, которая предохраняет его от дальнейшего окисления. Благодаря этому свойству хром является одним из самых коррозион-ностойких металлов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nsolas"/>
              </a:rPr>
              <a:t>Применение хром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6" name="Text Box 24"/>
          <p:cNvSpPr/>
          <p:nvPr/>
        </p:nvSpPr>
        <p:spPr>
          <a:xfrm>
            <a:off x="357120" y="1428840"/>
            <a:ext cx="8569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хрома основано на его жаропрочности, твердости и устойчивости против корроз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е всего хрома применяют для выплавки хромистых сталей. Значительное количество хрома идет на декоративные коррозионно-стойкие покрыт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ирокое применение получил порошковый хром в производстве металлокерамических изделий и материалов для сварочных электродов. Хром в виде иона Cr3+ - примесь в рубине, который используется как драгоценный камень и лазерный матери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единениями хрома протравливают ткани при краше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смеси хромита и магнезита изготовляют хромомагнезитовые огнеупорные издел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0:06:07Z</dcterms:created>
  <dc:creator>artnik</dc:creator>
  <dc:description/>
  <dc:language>en-US</dc:language>
  <cp:lastModifiedBy>noutbook</cp:lastModifiedBy>
  <dcterms:modified xsi:type="dcterms:W3CDTF">2011-11-24T17:03:45Z</dcterms:modified>
  <cp:revision>54</cp:revision>
  <dc:subject/>
  <dc:title>Элемент хр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7000000000001024140</vt:lpwstr>
  </property>
</Properties>
</file>