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DF5-A7D9-4AF1-80E3-03EEAF71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210-C7C1-47E5-8E9F-C8B423CA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180-09AA-4790-B604-FA02C2D3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81C-BCB0-495D-9563-5483A765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BD9-DA72-4F2C-879A-9C77F7EE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E1C-3E2E-447A-ACFA-F9155CD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EB5-B905-4CA6-B982-9F1B8211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050-93AF-4FDC-9A52-B20BBC44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E42-2D0E-4196-BBEA-CDFF47C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483-88EC-434E-9CC6-0221411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BC6-EDA6-4B26-B275-1870DA2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D47-AE9B-400C-BE8C-B7BAAC41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7839-1A61-4046-B87F-D1DD48D4C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хроматометрическое тит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r2О72- + 6е + 14Н+ = 2Сr3+ + 7Н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овательно, молярная масса эквивалента дихромата калия равна 1/6 молярной массы. Из уравнения реакции видно, что восстановление анионов Сr2О72- до катионов Сr3+ происходит в присутствии ионов Н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этому титруют дихроматом в кислой среде. Окислительно-восстановительный потенциал системы Сr2О72-/2Сr3+ составляет 1,36 В. При [Н+] = 1 моль/л. Следовательно, в кислой среде дихромат калия является сильным окислителем. Поэтому дихроматометрию успешно применяют для определения почти всех восстановителей, определяемых перманганатометрически. Дихроматометрия имеет даже некоторые преимущества перед перманганатометри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 калия легко получить в химически чистом виде перекристаллизацией. Поэтому стандартный раствор его приготовляют растворением точной навески. Растворы дихромата калия чрезвычайно устойчивы при хранении в закрытых сосудах; он не разлагается даже при кипячении подкисленного раствора и практически не изменяется при стоянии раств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дихромат калия труднее чем перманганат, восстанавливается органическими веществами. Поэтому он не окисляет случайные примеси органических веществ. Этим также обусловливается постоянство его титра в растворе. Дихромат калия не окисляет (без нагревания) хлорид-ионы. Это позволяет титровать им восстановители в присутствии НС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катором при дихроматометрическом титровании чаще всего служит дифениламин, окрашивающий раствор в синий цвет при малейшем избытке дихромата. Дифениламин относится к группе так называемых редокс-индикаторов (окислительно-восстановительных индикаторов). Они представляют собой окислительно-восстановительные системы, изменяющие окраску при переходе восстановленной формы в окисленную, или наобор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бозначить окисленную форму индикатора Indокисл. восстановленную форму Indвосст., а число передаваемых электронов n, то превращение одной формы такого индикатора в другую можно изобразить схе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Indокисл. ↔ Ind восст. - nе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окислительно-восстановительный индикатор характеризуется определенным окислительно-восстановительным потенциалом. Для дефениламина он составляет +0,76 В. Окисленная форма дифениламина окрашена в синий цвет, а восстановленная - бесцве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едокс-индикаторам кроме дифениламина относятся ферроин, дифениламиносульфонат натрия, фенилантраниловая кислот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хроматометрически определяют ионы Fe2+ в растворах НСl или в сернокислых растворах. Хлорид-ионы не мешают определению, если концентрация их не превышает 1 моль/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 при титровании солей Fe2+ дихроматом в растворе накапливаются катионы Fe3+, окислительно-восстановительный потенциал системы Fe3+↔Fe2+ повышается и дифениламин окисляется. Поэтому синяя окраска может появиться, когда точка эквивалентности еще не достигну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онизить окислительно-восстановительный потенциал системы Fe2+ ↔ Fe3+, к раствору кроме дифениламина и хлороводородной кислоты прибавляют еще ортофосфорную кислоту. Последняя маскирует мешающие ионы Fe3+, связывая их в прочный бесцветный комплекс Fe (HP04)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ислой среде K2Cr2O7 является сильным окислителем. С помощью дихромата калия можно титровать почти все те вещества, которые титруют перманганатом калия. По сравнению с перманганатометрией дихроматометрия имеет некоторые преиму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ометрия основана на использовании в качестве рабочего раствора дихромата калия K2Cr2O7. Метод может применяться как для прямых так и косвенных определений восстанов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каторами при дихроматометрическом титровании служат дифениламин, дифениламинсульфокислота или фенилантраниловая кислота (окрашивание титруемого раствора в сине-фиолетовый цвет свидетельствует о достижении точки эквивалент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K2Cr2O7 легко получить в химически чистом виде перекристаллизацией из водного раствора. Стандартный 0,1 н раствор дихромата калия можно приготовить по точной навеск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створ дихромата калия очень устойчив. Он не разлагается даже при кипячении в подкисленном растворе. Вследствие этого титр его не изменяется при хран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итрование дихроматом калия может быть проведено как в сернокислом, так и в солянокислом растворе, т. к. дихромат на холоде не реагирует с хлорид-ион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достатком дихроматометрии является то, что при титровании образуются Cr3+-ионы, придающие раствору зеленую окраску, затрудняющую фиксирование точки эквивален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ычисления молярной массы эквивалента окислителей или восстановителей учитывается число электронов, принимающих участие в окислительно-восстановительной реакции (Мэ = М/ne , где n – число электронов е). Для определения числа электронов необходимо знать начальную и конечную степень окисления окислителя и восстанов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 большого числа окислительно-восстановительных реакций для химического анализа используют только те реакции, котор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текают до конц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ходят быстро и стехиометричн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уют продукты определенного химического состава (формулы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яют точно фиксировать точку эквивалентн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вступают в реакцию с побочными продуктами, присутствующими в исследуемом раство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иболее важными факторами, оказывающими влияние на скорость реакции,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мперату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начение рН раств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сутствие катализато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ольшинстве случаев скорость реакции находится в прямой зависимости от температуры и рН раствора. Поэтому многие определения методом окислительно-восстановительного титрования следует проводить при определенном значении рН и при нагре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8900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анализе методами окислительно-восстановительного титрования используется прямое, обратное и заместительное титрование. Точка эквивалентности окислительно-восстановительного титрования фиксируется как с помощью индикаторов, так и безиндикаторным способом. Безиндикаторный способ применяется в тех случаях, когда окисленная и восстановленная формы титранта отличаются. В точке эквивалентности, при введении 1 капли избытка раствора титранта изменит окраску раствора. Безиндикаторным способом можно проводить определения перманганатометрическим методом, т.к. в точке эквивалентности от одной капли раствора перманганата калия титруемый раствор окращивается в бледнорозовый цв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индикаторном способе фиксирования точки эквивалентности применяют специфические и редоксиндикаторы. К специфическим индикаторам относится крахмал в иодометрии, который в присутствии свободного иода окрашивается в интенсивно-синий цвет вследствие образования адсорбционного соединения синего цвета. Редокс-индикаторы – это вещества, у которых окраска меняется при достижении определенного значения окислительно-восстановительного (редокспотенциала). К редокс-индикаторам относится, например, дифениламин NH(C6H5)2. При действии на бесцветные растворы его окислителями он окрашивается в сине-фиолетовый цв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докс-индикаторам предъявляют следующие треб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раска окисленной и восстановленной формы должна быть различ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менение цвета должно быть заметно при небольшом количестве индикатор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катор должен реагировать в точке эквивалентности с весьма небольшим избытком восстановителя или окислител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вал действия его должен быть как можно меньш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катор должен быть устойчив к воздействию компонентов окружающей среды (О2, воздуха, СО2, света и т.п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вал действия редокс-индикатора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 = Ео ± 0,058/n 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Ео - нормальный окислительно-восстановительный потенциал индикатора (в справочнике), n - число электронов, принимающих в процессе окисленияили восстановления индикато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ометрическое титрование - один из методов окислительно-восстановительного титрования, основанный на использовании дихромата калия К2Сr207 в качестве окислителя. При действии на восстановители дихромат-ион Сr2О72- приобретает шесть электронов и восстанавливается до Сr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9:59:30Z</dcterms:created>
  <dc:creator>100212</dc:creator>
  <dc:description/>
  <dc:language>en-US</dc:language>
  <cp:lastModifiedBy>Женис Бахытбекович</cp:lastModifiedBy>
  <dcterms:modified xsi:type="dcterms:W3CDTF">2012-04-09T04:51:14Z</dcterms:modified>
  <cp:revision>2</cp:revision>
  <dc:subject/>
  <dc:title>Дихроматометрическое титрование</dc:title>
</cp:coreProperties>
</file>