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A5A-4D0F-423A-B3F5-4414AF7C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E92-0BE6-44B9-AE17-99802D55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42E-568C-4F95-B451-3288F663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D84-D578-4186-9BCA-944D9245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FECC-9869-44AB-96EC-D154B036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6F58-AD2E-4D86-9EBE-D4D2EABF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F891-2788-4C10-8093-9B2B17F7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4508-A15C-4CF4-8650-0D9BF54F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C7F5-312F-479F-BC6D-99673704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EB7C-4D79-467A-B157-42555216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1936-D0AB-463B-B554-8F157B96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452-D622-4E2B-947B-3C5F2E84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EE7C-CBC6-449C-85CC-226A1532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0E24-FC63-4440-BABF-1CBAADF8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39C3-DDDD-4615-964D-38A61F32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B3BD-F346-4FC7-9D53-94DDAEDD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B642-3795-4C20-B2D7-5EE5D1B7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6469-E585-4779-89F5-654CE252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6EFE4-67CD-4552-BA38-9F0E8C98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9B8D0-46D5-4B17-91B5-BA9E3199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B4645-D25B-4CFB-8B20-34382186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77883-1107-484B-B04F-2A72F4DB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AB5-A4B9-4BB5-B2B5-EB5A26E0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95DFE-202E-4F6D-A471-AF9BFE42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8471E-3AF3-4164-825A-001F6156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C0C3-A2F9-4B83-BEEA-BB8722B4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BA71-B9F9-4A99-A36E-D2490151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964EF-A42C-4879-85E2-E0503956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1CCDB-C267-4CE6-ACFB-918F1E1F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4E343-49E8-4927-A364-EA2FF3A3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DB71E-4F62-496C-8526-531B143D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6AE30-ECD7-4854-AC71-8B5AD37C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3D355-D8A1-405D-AB4D-3784C32E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4DE-447F-4C7F-9A57-3E4E726D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6B732-9266-4EB6-9149-C9BA0A03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183D2-02BB-43B8-A767-3A4C2B5F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E861F-CF42-43AE-94A6-E6A26503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4C6F0-1A45-4EE4-A716-6D0FE289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60FEE-2E04-4411-A72A-A5450F4B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1851F-E6CC-4DBF-B31F-82997253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8FD51-33CD-4524-A214-7E02EE02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21449-0437-463A-81AC-2D9F621D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78572-41FC-460F-BECA-27B5D4D5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CC6F1-0E27-4BC1-958F-353C6F7D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FDC-3B71-4062-8718-D5547E4E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22866-0145-4BD3-BD34-4AE21809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74104-3C46-4898-A890-35858093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4885C-F12E-4D0B-89BE-F8ABDC05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CD195-7936-443D-8677-6531B8A2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131DF-CD82-4F0A-BC37-4332F69A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8FF1F-BD3E-4D6A-8752-7B881C4D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28252-F57A-44F4-973B-BFEEB7F5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C8154-B70F-4F3E-B42C-64CAC664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217F6-B599-4A0F-9EF4-A300FFDD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5B890-2CE7-4108-B4A8-E3B63D40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78B-B4F6-4161-9B67-91234B50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C9EA0-DBF2-4754-AD7B-96797D3B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F3D-27A2-4B1F-8161-28D61E33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E0D-8F5A-4FBC-8945-6687BF77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AAF-0716-4185-92B5-5F1A4236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253F-E0F1-4ED9-8A8B-D87D8EAE81C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182A-5B7E-4E8C-A806-8BF241E493A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4925-8ED2-40F3-9B00-56BD6056F0A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5DA6-5195-452D-B871-19388F4F78B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9589-B882-4E28-B412-5C7433751E2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560760" y="1127160"/>
            <a:ext cx="5533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285840"/>
            <a:ext cx="7238880" cy="61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 числу наиболее распространенных  методов относятся следующие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Скругленный прямоугольник 3"/>
          <p:cNvSpPr/>
          <p:nvPr/>
        </p:nvSpPr>
        <p:spPr>
          <a:xfrm>
            <a:off x="642960" y="1357200"/>
            <a:ext cx="271476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саждение и соосажде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Скругленный прямоугольник 4"/>
          <p:cNvSpPr/>
          <p:nvPr/>
        </p:nvSpPr>
        <p:spPr>
          <a:xfrm>
            <a:off x="3357720" y="2143080"/>
            <a:ext cx="271440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орбционные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Скругленный прямоугольник 5"/>
          <p:cNvSpPr/>
          <p:nvPr/>
        </p:nvSpPr>
        <p:spPr>
          <a:xfrm>
            <a:off x="1785960" y="4572000"/>
            <a:ext cx="271476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истилляц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Скругленный прямоугольник 6"/>
          <p:cNvSpPr/>
          <p:nvPr/>
        </p:nvSpPr>
        <p:spPr>
          <a:xfrm>
            <a:off x="5572080" y="3429000"/>
            <a:ext cx="1643040" cy="4287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хемосорбц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Скругленный прямоугольник 7"/>
          <p:cNvSpPr/>
          <p:nvPr/>
        </p:nvSpPr>
        <p:spPr>
          <a:xfrm>
            <a:off x="0" y="3929040"/>
            <a:ext cx="271476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ублимац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Скругленный прямоугольник 8"/>
          <p:cNvSpPr/>
          <p:nvPr/>
        </p:nvSpPr>
        <p:spPr>
          <a:xfrm>
            <a:off x="3357720" y="5214960"/>
            <a:ext cx="271440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экстрагирова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Скругленный прямоугольник 9"/>
          <p:cNvSpPr/>
          <p:nvPr/>
        </p:nvSpPr>
        <p:spPr>
          <a:xfrm>
            <a:off x="3929040" y="3429000"/>
            <a:ext cx="1571760" cy="4287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бсорбц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Скругленный прямоугольник 10"/>
          <p:cNvSpPr/>
          <p:nvPr/>
        </p:nvSpPr>
        <p:spPr>
          <a:xfrm>
            <a:off x="2286000" y="3429000"/>
            <a:ext cx="1571760" cy="4287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дсорбц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Стрелка вниз 11"/>
          <p:cNvSpPr/>
          <p:nvPr/>
        </p:nvSpPr>
        <p:spPr>
          <a:xfrm>
            <a:off x="3429000" y="285768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Стрелка вниз 12"/>
          <p:cNvSpPr/>
          <p:nvPr/>
        </p:nvSpPr>
        <p:spPr>
          <a:xfrm>
            <a:off x="4572000" y="285768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Стрелка вниз 13"/>
          <p:cNvSpPr/>
          <p:nvPr/>
        </p:nvSpPr>
        <p:spPr>
          <a:xfrm>
            <a:off x="5786280" y="285768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Скругленный прямоугольник 15"/>
          <p:cNvSpPr/>
          <p:nvPr/>
        </p:nvSpPr>
        <p:spPr>
          <a:xfrm>
            <a:off x="5429160" y="5857920"/>
            <a:ext cx="271476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именение ионного обме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285840"/>
            <a:ext cx="7238880" cy="61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0" y="642960"/>
            <a:ext cx="8143920" cy="520560"/>
          </a:xfrm>
          <a:prstGeom prst="rect">
            <a:avLst/>
          </a:prstGeom>
          <a:solidFill>
            <a:srgbClr val="e2a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Химическое фракционное осажд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0" y="3000240"/>
            <a:ext cx="8143920" cy="520560"/>
          </a:xfrm>
          <a:prstGeom prst="rect">
            <a:avLst/>
          </a:prstGeom>
          <a:solidFill>
            <a:srgbClr val="e2a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осажд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785880" y="1214280"/>
            <a:ext cx="650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именяют для разделения смесей ионов,образующих однотипные соли различной растворимости ,такие ,как сульфаты и хромиты бария и кальция, сульфиды ряда металлов (при определенном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H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раствора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785880" y="3571920"/>
            <a:ext cx="6000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дин из наиболее простых и эффективных методов. В раствор, содержащий следы определяемого иона, входят катион(или анион),который и осаждают подходящим реактивом в виде малорастворимого соединения.П ри этом соосаждаются и следы определяемого иона. Таким образом, получивщийся осадок играет роль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коллектора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, т.е. собирателя определенных ион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714240" y="592920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Чем меньше концентрация обнаруживаемого иона в растворе, тем полнее он сорбируется коллектором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285840"/>
            <a:ext cx="7238880" cy="61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аналитической практике используют малорастворимые соосадители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Скругленный прямоугольник 3"/>
          <p:cNvSpPr/>
          <p:nvPr/>
        </p:nvSpPr>
        <p:spPr>
          <a:xfrm>
            <a:off x="1143000" y="1500120"/>
            <a:ext cx="2357280" cy="3571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еорганическ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Скругленный прямоугольник 4"/>
          <p:cNvSpPr/>
          <p:nvPr/>
        </p:nvSpPr>
        <p:spPr>
          <a:xfrm>
            <a:off x="4500720" y="1500120"/>
            <a:ext cx="2357280" cy="3571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рганическ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1428840" y="2000160"/>
            <a:ext cx="171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идроксиды алюминия и железа и т.д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4857840" y="2000160"/>
            <a:ext cx="171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тилового фиолетового, метилового оранжевого, нафталина и т.д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1071720" y="3786120"/>
            <a:ext cx="585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дпочтение отдается органическим соосадителям, которые позволяют выделять определяемые ионы из растворов концентрацией 1:10 13 и характеризуются высокой селективностью, кроме того органические соосадители легче озоляются. Метод соосаждения используется при определении содержания урана в морской вод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0" y="285480"/>
            <a:ext cx="8143920" cy="523800"/>
          </a:xfrm>
          <a:prstGeom prst="rect">
            <a:avLst/>
          </a:prstGeom>
          <a:solidFill>
            <a:srgbClr val="e2a7c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садочная сорбция (хроматография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1071720" y="928800"/>
            <a:ext cx="6072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снована на различной растворимости осадков, образуемых компонентами анализируемой смеси при соприкосновении с реактивами, нанесенными на дисперсный носитель. Используют главным образом для разделения электролитов (ионов);применительно к анализу неэлектролитов метод мало изучен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Содержимое 3"/>
          <p:cNvSpPr/>
          <p:nvPr/>
        </p:nvSpPr>
        <p:spPr>
          <a:xfrm>
            <a:off x="0" y="2714760"/>
            <a:ext cx="8143920" cy="520560"/>
          </a:xfrm>
          <a:prstGeom prst="rect">
            <a:avLst/>
          </a:prstGeom>
          <a:solidFill>
            <a:srgbClr val="e2a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ублимация (возгонка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1071720" y="328608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спользуют для разделения  обычно в тех случаях, когда вещество улетучивается при сравнительно низкой температуре, как ,например, хлорид железа (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) в токе хлороводород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Содержимое 3"/>
          <p:cNvSpPr/>
          <p:nvPr/>
        </p:nvSpPr>
        <p:spPr>
          <a:xfrm>
            <a:off x="0" y="4500720"/>
            <a:ext cx="8143920" cy="520560"/>
          </a:xfrm>
          <a:prstGeom prst="rect">
            <a:avLst/>
          </a:prstGeom>
          <a:solidFill>
            <a:srgbClr val="e2a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истилляция (отгонка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1071720" y="507204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тделяют летучие соединения или вещества, которые легко привести в летучие( фтороводород, оксид углерода (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),соединения мышьяка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0" y="285480"/>
            <a:ext cx="8143920" cy="523800"/>
          </a:xfrm>
          <a:prstGeom prst="rect">
            <a:avLst/>
          </a:prstGeom>
          <a:solidFill>
            <a:srgbClr val="e2a7c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Экстрагирование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TextBox 4"/>
          <p:cNvSpPr/>
          <p:nvPr/>
        </p:nvSpPr>
        <p:spPr>
          <a:xfrm>
            <a:off x="428760" y="857160"/>
            <a:ext cx="728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Это извлечение вещества из водного раствора органическим растворителем, обладающим ограниченной растворимостью в воде(хлороформом, четыреххлористым углеродом, бензолом).используется лучшая растворимость извлекаемого вещества в органическом растворителе, чем в вод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428760" y="2214720"/>
            <a:ext cx="72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 закону  распределения в равновесной системе, состоящей из двух несмешивающихся жидкостей (т.е. двух фаз),имеющих поверхность раздела,отношение концентраций (или активностей) растворенного в них вещества остается (при неизменной температуре)постоянной величиной,называемой 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коэффициентом распределе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Прямоугольник 7"/>
          <p:cNvSpPr/>
          <p:nvPr/>
        </p:nvSpPr>
        <p:spPr>
          <a:xfrm>
            <a:off x="2571840" y="3929040"/>
            <a:ext cx="2786040" cy="571680"/>
          </a:xfrm>
          <a:prstGeom prst="rect">
            <a:avLst/>
          </a:prstGeom>
          <a:solidFill>
            <a:srgbClr val="ffffff"/>
          </a:solidFill>
          <a:ln w="39960">
            <a:solidFill>
              <a:srgbClr val="b23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1/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2=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1/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2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=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428760" y="4549680"/>
            <a:ext cx="721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ля экстрагирования подбирают такой органический растворитель, в котором определяемое вещество растворяется, а другие компоненты смеси практически не растворяются. Смесь двух жидкостей и растворенного вещества встряхивают, после чего оставляют стоять до появления резкой границы раздела между жидкостями. Из полученного экстракта определяемое вещество выделяют выпариванием, перегонкой или кристаллизацие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285840"/>
            <a:ext cx="7238880" cy="61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ля концентрирования ионов методом ионного обмена используют так называемые ионообменные смолы(иониты).одни из них поглощают из раствора катионы и называются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катионитами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, другие сорбируют анионы и именуются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анионитам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Катиониты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держат активные функциональные группы-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?-COOH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–OH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(фенольная группа),которые прочно связаны со скелетом смолы. Подвижными,т.е. обменными, остаются только ионы водорода этих групп (Н-форма катионита)или заместившие их катионы (солевая форма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анионитов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менными являются гидроксид-ионы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1500120" y="4572000"/>
            <a:ext cx="50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Ионный обмен подчиняется закону действующих масс и происходит в эквивалентных количествах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5500440" y="2214720"/>
            <a:ext cx="3429000" cy="642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4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rebuchet MS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291960" y="798480"/>
            <a:ext cx="48960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5357880" y="785880"/>
            <a:ext cx="3497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чественный анализ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– раздел аналитической химии, посвященный установлению качественного состава веществ, то есть обнаружению элементов и образуемых ими ионов, входящих в состав и простых, и сложных веществ. Делают это с помощью химических реакций, характерных для данного катиона или аниона, позволяющих обнаружить их как в индивидуальных веществах, так и в смесях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68200" y="695160"/>
            <a:ext cx="47484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428400"/>
            <a:ext cx="7238880" cy="60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23b7e"/>
                </a:solidFill>
                <a:latin typeface="Trebuchet MS"/>
              </a:rPr>
              <a:t>Химические реакции, пригодные для качественного анализа, должны сопровождаться заметным внешним эффектом. Это может быть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деление газ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зменение окраски раствор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падение осад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створение осад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ование кристаллов характерной форм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428400"/>
            <a:ext cx="7238880" cy="60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500040" y="500040"/>
            <a:ext cx="7215120" cy="57168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Методы качественного анализ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Стрелка вниз 7"/>
          <p:cNvSpPr/>
          <p:nvPr/>
        </p:nvSpPr>
        <p:spPr>
          <a:xfrm>
            <a:off x="1214280" y="1143000"/>
            <a:ext cx="214560" cy="928800"/>
          </a:xfrm>
          <a:prstGeom prst="downArrow">
            <a:avLst>
              <a:gd name="adj1" fmla="val 50000"/>
              <a:gd name="adj2" fmla="val 4994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Стрелка вниз 10"/>
          <p:cNvSpPr/>
          <p:nvPr/>
        </p:nvSpPr>
        <p:spPr>
          <a:xfrm>
            <a:off x="4071960" y="1143000"/>
            <a:ext cx="214200" cy="92880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Стрелка вниз 12"/>
          <p:cNvSpPr/>
          <p:nvPr/>
        </p:nvSpPr>
        <p:spPr>
          <a:xfrm>
            <a:off x="6715080" y="1143000"/>
            <a:ext cx="214200" cy="92880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Овал 14"/>
          <p:cNvSpPr/>
          <p:nvPr/>
        </p:nvSpPr>
        <p:spPr>
          <a:xfrm>
            <a:off x="214200" y="2143080"/>
            <a:ext cx="2214720" cy="71460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химическ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Овал 17"/>
          <p:cNvSpPr/>
          <p:nvPr/>
        </p:nvSpPr>
        <p:spPr>
          <a:xfrm>
            <a:off x="3071880" y="2143080"/>
            <a:ext cx="2214360" cy="71460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Физическо- химическ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Овал 18"/>
          <p:cNvSpPr/>
          <p:nvPr/>
        </p:nvSpPr>
        <p:spPr>
          <a:xfrm>
            <a:off x="5786280" y="2143080"/>
            <a:ext cx="2214720" cy="71460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физическ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xtBox 19"/>
          <p:cNvSpPr/>
          <p:nvPr/>
        </p:nvSpPr>
        <p:spPr>
          <a:xfrm>
            <a:off x="285840" y="3000240"/>
            <a:ext cx="207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тоды,  основанные  на  использован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имических свойств исследуемых вещест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3000240" y="2928960"/>
            <a:ext cx="2500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ечение  реакции  фиксируется  измерение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пределенного физического свойства исследуемого  раствора.  К  этим  метода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тносятся полярография, хроматография и др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TextBox 21"/>
          <p:cNvSpPr/>
          <p:nvPr/>
        </p:nvSpPr>
        <p:spPr>
          <a:xfrm>
            <a:off x="5786280" y="2857680"/>
            <a:ext cx="214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снованы   на   изучении    физических    свойст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нализируемого   вещества.   К   этим   методам   относятся    спектральный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ентгеноструктурный, масс-спектрометрический анализы и др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357120"/>
            <a:ext cx="72388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зависимости от того, с каким количеством вещества проводят аналитические реакции, различают следующие методы качественного анализа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23b7e"/>
                </a:solidFill>
                <a:latin typeface="Trebuchet MS"/>
              </a:rPr>
              <a:t>1) макрометод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– обычно для анализа берется проба от 0,1 до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 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г, которая растворяется в 30-50 мл растворителя. Реакции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роводят в пробирках с 2-3 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мл полученного раствора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23b7e"/>
                </a:solidFill>
                <a:latin typeface="Trebuchet MS"/>
              </a:rPr>
              <a:t>2) микрометод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– масса анализируемого вещества колеблется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от 0,001 до 0,01 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г. Реакции проводят капельным методом или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микрокристаллоскопическим методом, о присутствии определяемого иона судят по форме кристаллов, которые рассматриваются в микроскоп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23b7e"/>
                </a:solidFill>
                <a:latin typeface="Trebuchet MS"/>
              </a:rPr>
              <a:t>3) полумикрометод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– анализ проводят с количеством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ещества от 0,01 до 0,1 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г. Объем раствора пробы составляет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0,1–2 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мл. Позволяет уменьшить расход реактивов, избежать загрязнение воздуха лаборатории вредными газам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357120"/>
            <a:ext cx="72388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Среди микроаналитических методов различают кроме того ,</a:t>
            </a:r>
            <a:r>
              <a:rPr b="0" lang="ru-RU" sz="2100" spc="-1" strike="noStrike">
                <a:solidFill>
                  <a:srgbClr val="b23b7e"/>
                </a:solidFill>
                <a:latin typeface="Trebuchet MS"/>
              </a:rPr>
              <a:t>ультрамикроанализ</a:t>
            </a: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100" spc="-1" strike="noStrike">
                <a:solidFill>
                  <a:srgbClr val="b23b7e"/>
                </a:solidFill>
                <a:latin typeface="Trebuchet MS"/>
              </a:rPr>
              <a:t>субмикроанализ и субультрамикроанализ</a:t>
            </a: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. Эти методы стали интенсивно развиваться в связи с успехами радиохимии и получением изотопов лабораторным синтезом.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В </a:t>
            </a:r>
            <a:r>
              <a:rPr b="0" lang="ru-RU" sz="2100" spc="-1" strike="noStrike">
                <a:solidFill>
                  <a:srgbClr val="ff0000"/>
                </a:solidFill>
                <a:latin typeface="Trebuchet MS"/>
              </a:rPr>
              <a:t>1995г. </a:t>
            </a: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Секция аналитической химии Международного союза по чистой и прикладной химии приняла новую классификацию и номенклатуру методов анализа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000080" y="3429000"/>
          <a:ext cx="6095880" cy="3715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000080" y="3786120"/>
          <a:ext cx="6095880" cy="3715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тар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о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000080" y="4067280"/>
          <a:ext cx="6095880" cy="22194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Макро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рамм-мет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лумикро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антиграмм-мет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икро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иллиграм-мет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льтрамикро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икрограмм-мет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убмикро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нограмм-мет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убультрамикро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икограмм-мет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429160" y="357120"/>
            <a:ext cx="3286080" cy="58579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Для проведения качественного анализа неорганического вещества, как правило, его переводят в раствор, и практически задача сводится к обнаружению катионов и анионов. Очень редко в анализе необходима идентификация вещества, т. е. подтверждение уже известного состава с помощью химических реакций и определение присущих веществу физических констант (частота и интенсивность полос поглощения в различных спектрах, плотность и т. д.). В этом случае и если состав анализируемого раствора несложен, можно проводить анализ </a:t>
            </a:r>
            <a:r>
              <a:rPr b="0" lang="ru-RU" sz="1600" spc="-1" strike="noStrike">
                <a:solidFill>
                  <a:srgbClr val="f2f2f2"/>
                </a:solidFill>
                <a:latin typeface="Trebuchet MS"/>
              </a:rPr>
              <a:t>дробным методом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. Если имеют дело с неизвестным и сложным составом анализируемого раствора, то для обнаружения входящих в него катионов и анионов применяют </a:t>
            </a:r>
            <a:r>
              <a:rPr b="0" lang="ru-RU" sz="1600" spc="-1" strike="noStrike">
                <a:solidFill>
                  <a:srgbClr val="f2f2f2"/>
                </a:solidFill>
                <a:latin typeface="Trebuchet MS"/>
              </a:rPr>
              <a:t>систематический метод анализа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20840" y="798480"/>
            <a:ext cx="46875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357120"/>
            <a:ext cx="72388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23b7e"/>
                </a:solidFill>
                <a:latin typeface="Trebuchet MS"/>
              </a:rPr>
              <a:t>Устранить мешающие компоненты можно тремя способам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Скругленный прямоугольник 3"/>
          <p:cNvSpPr/>
          <p:nvPr/>
        </p:nvSpPr>
        <p:spPr>
          <a:xfrm>
            <a:off x="642960" y="142884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аскирова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Скругленный прямоугольник 4"/>
          <p:cNvSpPr/>
          <p:nvPr/>
        </p:nvSpPr>
        <p:spPr>
          <a:xfrm>
            <a:off x="2857680" y="2357280"/>
            <a:ext cx="235728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азделе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Скругленный прямоугольник 5"/>
          <p:cNvSpPr/>
          <p:nvPr/>
        </p:nvSpPr>
        <p:spPr>
          <a:xfrm>
            <a:off x="5286240" y="1428840"/>
            <a:ext cx="242892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онцентрирова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357120" y="2357280"/>
            <a:ext cx="24289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это перевод мешающих компонентов в такую форму, которая не оказывает мешающего влияния. При этом не происходит образования новой фазы, в чём и состоит преимущество этого метода перед разделением. Исключаются операции, связанные с отделением фаз друг от друга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3214800" y="3071880"/>
            <a:ext cx="17143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это операция (процесс), в результате которой компоненты, составляющие исходную смесь, отделяются друг от друг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Прямоугольник 8"/>
          <p:cNvSpPr/>
          <p:nvPr/>
        </p:nvSpPr>
        <p:spPr>
          <a:xfrm>
            <a:off x="5357880" y="2214720"/>
            <a:ext cx="2357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перация (процесс), в результате которой повышается отношение концентрации или количества микрокомпонентов к концентрации или количеству макрокомпонентов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357120"/>
            <a:ext cx="72388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тоды основаны на использовании различий в свойствах компонентов анализируемой системы, таких как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23b7e"/>
                </a:solidFill>
                <a:latin typeface="Trebuchet MS"/>
              </a:rPr>
              <a:t>растворимост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23b7e"/>
                </a:solidFill>
                <a:latin typeface="Trebuchet MS"/>
              </a:rPr>
              <a:t>температур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23b7e"/>
                </a:solidFill>
                <a:latin typeface="Trebuchet MS"/>
              </a:rPr>
              <a:t>скорость движения частиц во внешнем электрическом поле и др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Picture 10" descr=""/>
          <p:cNvPicPr/>
          <p:nvPr/>
        </p:nvPicPr>
        <p:blipFill>
          <a:blip r:embed="rId1"/>
          <a:stretch/>
        </p:blipFill>
        <p:spPr>
          <a:xfrm>
            <a:off x="3214800" y="171468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"/>
          <p:cNvPicPr/>
          <p:nvPr/>
        </p:nvPicPr>
        <p:blipFill>
          <a:blip r:embed="rId2"/>
          <a:stretch/>
        </p:blipFill>
        <p:spPr>
          <a:xfrm>
            <a:off x="5000760" y="328608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2-04T04:41:53Z</dcterms:modified>
  <cp:revision>33</cp:revision>
  <dc:subject/>
  <dc:title>Методы качественного химического анализа</dc:title>
</cp:coreProperties>
</file>