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668-3A36-440E-807E-0CE359A4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412-68DB-4B2A-975D-D1060B7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337-5D2F-47D1-AAF9-245285EB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B6C-7163-4389-9AC8-BB5DBD20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4BDA-EB8D-4E2A-8AB1-BDC30861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A8DE-701E-4952-AA96-222B47CC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130D-4C94-4E13-AD8A-FFE58001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FBEF-ACF9-4016-8AC3-119431DA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75E8-7B56-49CA-BCA8-67DEC4C6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AF23-53B9-45F9-AC82-77AA400C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212E-1A25-4A2F-B061-9EC6BFBA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95A-5AC1-4D66-8D88-6336812F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6264-A313-4268-B5F1-5C54DD1F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6877-C86B-4B28-9C44-2349414F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3FB0-04AB-4EEF-8596-5BFB907A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929-2879-4CAD-B0A1-D5B17E79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A0D4-DAA8-4E9B-89B6-EF6779F1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BE25-135A-4095-9C1E-BEF00296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94FC-E2E2-4B02-B8FA-DE9C9791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DA9E-69D4-4ECB-9A6B-CE9BC8DF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B66B-4A30-474F-988F-90D01B78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D8BA-694F-4860-8F3A-6CFF162D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238-2186-401E-96A7-521BFB83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21A78-0E27-4E85-B375-794CF4D0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115AD-168C-49CB-ABCA-631F10FC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7840-74EB-481C-BCFD-2C7E23B9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9E184-0522-4FD8-850C-10EFE0A5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01371-10DA-4DB2-9E49-48F8EF1C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2859-2840-4466-A9B5-C7609085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D26E-62BA-4FAE-BC5B-7CC65B78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617CE-0096-4D0A-A4E6-D3A43402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43496-EC9B-4F2F-BFA0-81316D27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77A35-5272-4A45-B6B0-16CF3839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465-B43D-4E30-843B-F53A5647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6EDD-B0E4-4E7C-9217-FDDBCEE2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E978F-B37C-40D3-98B5-2D674A54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C14BC-DFA1-474E-9033-15905FB6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A5EB3-50F8-4DD8-AF12-8BEBD2FE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A7B5-2D38-4720-BAAF-D5E5FFF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F363-00F2-4DF9-B6BE-7C11D016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62616-503F-439C-807A-2726AC4B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3C5D-9B2C-4FBE-9780-599AA688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9518-60BC-4D8A-A352-35595594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33465-8637-428B-9314-97F6A7EC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E85-4A56-4F50-9860-C69A8CEF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3EF6C-199A-4833-98F2-7B04032E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0B5E2-FEFB-48A4-B122-2468BC11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CC67-711E-4748-B3FD-FBD2604E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52AFD-0BC4-4120-81E6-48315272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CCD1D-833F-4E9C-AB79-9D996B1A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BA066-476A-4516-85B5-F9617C9E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9728-E133-4D73-8FA9-86A59B54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D0671-6994-410F-927C-18EC9B38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320E7-CB94-4C37-875B-72D650D6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42B65-EDB4-4B83-9182-9058F300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6E5-45BB-4E22-BEF3-A640B579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CBC03-1A0D-48B2-AFB9-86759A00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BC4EA-7C9B-4F0F-8DC6-A2049661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2BA1D-2807-483F-88D9-0D4DFF7B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5F95A-D4D8-471A-BCAB-B407A0B4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C797C-9BF8-4E67-9A12-34F863F7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A8760-A2CE-4FD4-9FA0-D78DB33E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7297E-3819-4343-8F81-D47F7138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05DA-9C09-484A-9794-0E5C01C9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4A4AC-E2FF-4C03-ABD2-A14C3A4E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7A2B8-0FFC-49BC-8FDB-77909D34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295-09FC-47B9-AD98-1506A06B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80147-8980-4DC2-AAC5-FF5D41C4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BB5E2-D1BC-4455-BFA9-5DF8B487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BFDFD-746D-4C1A-AA62-0F33D5BC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34F21-BE50-426C-ACDE-1204DB6E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36592-6DF0-444A-923E-C8E4CDCA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9814B-4AAB-4725-91E7-9173F735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CEFC7-39F5-45DB-9CE0-70592B1E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6F321-09F7-4618-8884-F60FC7FA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88C25-F7A3-40D5-9D8D-AB43C9FB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7A42D-40D8-47B3-96E4-8C0B56D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5EF-9FA6-4443-B560-3582DCF3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C69C7-2D47-4171-A437-5B12BE25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B9535-5CFB-42CF-B557-6504C744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98C34-0AB5-4BEB-A27B-E610311D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EA096-1C3B-4B0F-9AA4-D8A18311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78E84-3833-4194-9B7A-F38EE071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B28-921E-4412-91B5-EC2A3321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E4E0-A47E-4E9F-81CB-7A2EEB57314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400C-3952-4F25-8A12-298275FA90A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16C3-982A-4D33-882F-760BC62A7F5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5E5C-662D-4011-974C-307ACC8EB4F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4B31-3DB6-4829-9494-964A56E1B18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E776-4400-4552-B48C-57889D4AAB9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F610-441C-4426-AECB-4D5B0BC26DD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ndara"/>
              </a:rPr>
              <a:t>Презентация:</a:t>
            </a:r>
            <a:br>
              <a:rPr sz="3100"/>
            </a:br>
            <a:r>
              <a:rPr b="0" lang="en-US" sz="3100" spc="-1" strike="noStrike">
                <a:solidFill>
                  <a:srgbClr val="ffffff"/>
                </a:solidFill>
                <a:latin typeface="Candara"/>
              </a:rPr>
              <a:t>«Физико-химические методы анализа»</a:t>
            </a:r>
            <a:endParaRPr b="0" lang="en-US" sz="31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Этот метод хроматографии основан на том, что фронт хроматографической системы опускается по пластинке в основном под действием сил тяжести , т.е. фронт подвижной фазы движется сверху вниз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ля этого метода в верхней части хроматографической камеры крепится кювета с хроматографической системой из которой с помощью фитиля на хроматографическую пластинку поступает растворитель, который стекает и происходит хроматографирование исследуемого образц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 недостаткам этого метода можно отнести усложнение оборудования. Этот метод используется в основном в бумажной хроматографи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Нисходящая тонкослойная хроматография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Этот метод наиболее сложен в аппаратурном оформлении но наиболее удобен. Так, в хроматографической камере пластинка размещается горизонтально и подача системы происходит на один край пластинки с помощью фитиля. Фронт растворителя движется в противоположную сторону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Есть еще один прием, позволяющий предельно упростить камеру. Для этого хроматографическую пластинку на алюминиевой основе слегка изгибают и помещают в камеру. В данном случае система будет поступать с двух сторон одновременно. Для этой цели подходят только пластины с алюминиевой подложкой, так как пластиковая и стеклянная основа "несгибаема", т.е. не сохраняет форму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К достоинствам этого метода можно отнести то, что в горизонтальной кювете насыщение парами системы происходит гораздо быстрее, скорость движения фронта постоянная. А при хроматографировании с двух сторон, фронт не "убегает"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Горизонтальная тонкослойная хроматография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Радиальная тонкослойная хроматография заключается в том, что в центр пластинки наносится исследуемое вещество и туда же подается система, которая движется от центра к краю пластинк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Для тонкослойной хроматографии существует несколько видов качественного анализа (идентификации) разделенных веществ: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изуальные методы и определение Rf разделенных веществ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Цветные реакци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Сравнение со свидетелям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Физико-химические методы идентификаци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Радиальная тонкослойная хроматография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420640"/>
            <a:ext cx="7408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Визуальные методы используются в основном, для определения местоположения пятен разделенных веществ на хроматографической пластинке. Для этого пластинку рассматривают как в видимом свете, так и используя ультрафиолетовый свет (в основном свет с длиной волны 366 и 254 нм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Это первый этап идентификации, на котором определяется качество подобранных условий и полученных результатов хроматографирования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Так, определив качество хроматографирования (отсутствие "хвостов" разделяемых веществ или перекрытие их пятен, правильную форму и размеры, отсутствие слияния хроматографических дорожек и т.д.) и признании пригодным проведенного разделения для дальнейшего исследования, определяют Rf выявленных пятен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Значение Rf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Одним из основных показателей в ТСХ является показатель Rf. Этот параметр является аналогией времени удерживания и зависит как от свойств разделяемых веществ, состава подвижной фазы и сорбента, так и от физических параметров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Определение значения Rf проводят как отношение расстояния прошедшего веществом к расстоянию, прошедшего фронтом растворителя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Rf = L/L0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Физические метод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Значение Rf - величина безразмерная и имеет значение от 0 до 1. Однако в литературе нередко встречается такие показатели как hRf, Rf×100, которые являются тем же Rf, но умноженными на 100, для того, чтобы не оперировать десятичными значениям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На значение Rf не влияет расстояние пройденное фронтом растворителя, однако во многих методиках описывается прохождение фронта на расстояние 10 см. Это используется только для облечения расчетов Rf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На практике, в начале определяют расстояние прошедшее фронтом растворителя: от линии старта (а не от края пластинки) до места, где находился фронт в момент окончания хроматографирования. Затем определяют расстояние от линии старта до пятна разделенного вещества. Во тут и оказывает влияние размер пятна! Ведь если пятно имеет круглую форму и небольшой размер, то полученное Rf имеет четкое значение. А если полученное пятно имеет большой размер или неправильную форму, то при определении Rf такого пятна, ошибка может достигнуть 0,1!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В случае распределительной хроматографии коэффициент распределения вещества и его Rf связано соотношением: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где Sп и Sн -площади поперечных сечений подвижной и неподвижной фазы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Как мы видим, Коэффициент распределения, при постоянном отношении Sп/Sн есть величина пропорционально зависящая от Rf , и может быть определена через него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Цветные реакци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Цветные реакции в тонкослойной хроматографии используются чрезвычайно широко. Они служат не только для определения местоположения разделенных компонентов (обработка серной кислотой, парами йода), но и определения как класса веществ, так и идентификации (при наличии индивидуальных реакций)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Мы не будем здесь рассматривать это огромное разнообразие цветных качественных реакций (подробнее здесь), скажем лишь, что при совпадении всех качественных реакций и совпадении полученных значений Rf вещества в трех различных системах с литературными данными, вещество идентифицировано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равнение со свидетеле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и проведении исследований веществ с предполагаемым составом, применяют метод хроматографирования со свидетелем - известным веществом. Этот метод используется кода трудно выдержать условия хроматографирования, нет литературных данных Rf для данной системы или адсорбента, использование градиентного метода и т.д. Да и при проведении цветных реакций можно сравнить не только цвета, но и оттенки исследуемых веществ и свидетелей, что также немаловажно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 другой стороны этот метод требует дополнительных расходов на свидетел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Прелесть тонкослойной хроматографии состоит в том, что после хроматографирования каждое разделенное вещество можно в дальнейшем исследовать другими методами гораздо проще. И дело тут не в том, что другие методы хроматографирования не могут этого. Дело тут в сложности выделения и материальных затратах на специальные приспособления, у которых только одна задача - выделить вещество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В тонкослойной хроматографии есть только одна трудность - снять слой сорбента и вымыть из него вещество. В дальнейшем можно его исследовать с использованием ИК и УФ-спектрометрии, рентгено-структурными методами, ЯМР и т.д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Поэтому, используя тонкослойную хроматографию для разделения смесей, можно не только исследовать каждый компонент различными методами, но и наработать небольшое количество, в том числе и для свидетелей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Физико-химические методы идентификации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Фотометрирование интенсивно окрашенных растворов успешно осуществляется дифференциальной фотометрии. Если в обычной фотометрии сравнивается интенсивность света Ix, прошедшего через анализируемый раствор неизвестной концентрации, с интенсивностью света I0 , прошедшего через растворитель, то в дифференциальной фотометрии луч света проходит не через растворитель, а через окрашенный раствор известной концентрации – так называемый раствор сравнения сср. Его интенсивность обозначим как Iср. Отношение интенсивностей Ix/Iср называется условныым коэффициентом пропускания T`x . И переходя от коэффициентов к оптическим плотностям, получим: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A`x = Ax – Aср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А`х = e lcx - Аср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где А`x – относительная оптическая плотность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Метод дифференциальной фотометрии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аким образом, дифференциальная фотометрия существенно расширяет концентраций, доступную для точных фотометрических измерений. Кроме того, точность некоторых методик диференциальной фотометрии превышает точность методик обычной фотометрии. Кстати, обычную фотометрию при Тср = 1 мы можем рассматривать, как частный случай дифференциальной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. Тонкослойная хроматограф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а) виды качественного анализ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. Метод дифференциальной фотометрии. Характеристика и область примен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3. Классификация электрохимических методов анализ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нализ по ИК-спектрам также основан на применении закона Бугера-Ламберта-Бера.. Чаще всего здесь используется метод градууировочного графика, т.к. метод молярного коэффициента здесь слабо применим из-за рассеяния, сплошного поглощения и других эффектов ИК-излучения. Многие сложности ИК-спектрометрии успешно преодолеваются с помошью метода базовой линии, к оторый получил достаточно большо распостранение в практик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Метод количественного анализа по ИК-спектрам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Фотометрические и спектрометрические методы анализа применяются для определения многих (более 50) элементов периодической системы, главным образом металлов, анализируются руды, минералы, объекты окружающей среды, продукты переработки обогатительных и гидрометаллургических предприятий. Эффективно эти методы используется в металлургической, электронной областях промышленности, в медицине, биологии, криминалистике и т.д. Большое значение они имеют в аналитиченском контроле окружающей среды и решении экологических проблем. Значительно расширились области практического применения методов абсорбционной спектроскопии благодаря более широкому использованию инфракрасной области спектра и приборов на базе ЭВМ. Это позволило разработать методы анализа сложных многокомпонентных систем без их химического разделения. Простые, быстрые и точные методы анализа имеют огромное значение для исследования различных реакций, установления состава и исследования различных химических соединений. Успехи химии координационных соединений, достижения микроэлектроники, приборостроения дают все основания ожидать дальнейшего повышения точности и чувствительности этих методов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Практическое применени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Кнорре Д.Г., Крылова Л.Ф., Музыкантов В.С. Физическая химия. - М.: Высш. шк., 1990. - 416с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Алесковский В.Б., Бардин В.В., Булатов М.И. Физико-химические методы анализа. Практическое руководство.- Л.: Химия, 1988. - 376с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Ольшанова К.М. Практикум по хроматографическому анализу. М., Высш. школа, 1970. -312с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Список использованной литературы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Основой тонкослойной хроматографии является адсорбционный метод, хотя также встречается метод распределительной хроматографи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Адсорбционный метод основан на различии степени сорбции-десорбции разделяемых компонентов на неподвижной фазе. Адсорбция осуществляется за счет ван-дер-вальсовских сил, являющейся основой физической адсорбции, полимолекулярной (образование нескольких слоев адсорбата на поверхности адсорбента) и хемосорбцией (химического взаимодействия адсорбента и адсорбата)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Для эффективных процессов сорбции-десорбции необходима большая площадь, что предъявляет определенные требования к адсорбенту. При большой поверхности разделения фаз происходит быстрое установление равновесия между фазами компонентов смеси и эффективное разделение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Еще одним видом используемом в методе тонкослойной хроматографии является распределительная жидкостная хроматография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Физико-химические основы тонкослойной хроматографии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В распределительной хроматографии обе фазы - подвижная и неподвижная - жидкости, не смешивающиеся друг с другом. Разделение веществ основано на различии в их коэффициентах распределения между этими фазам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Впервые метод тонкослойной хроматографии заявил о себе как "Бумажная тонкослойная хроматография", которая основывалась на распределительном методе разделения компонентов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Распределительная хроматография на бумаге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В связи с тем, что используемая в этом методе хроматографическая бумага (специальные сорта фильтровальной бумаги) содержат в порах воду (20-22%), в качестве другой фазы используются органические растворител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Использование хроматографии на бумаге имеет ряд существенных недостатков: зависимость процесса разделения от состава и свойств бумаги, изменение содержания воды в порах бумаги при изменении условий хранения, очень низкая скорость хроматографирования (до нескольких суток), низкая воспроизводимость результатов. Эти недостатки серьезно влияют на распространение хроматографии на бумаге как хроматографического метода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Поэтому можно считать закономерным появление хроматографии в тонком слое сорбента - тонкослойной хроматографи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В этом методе хроматографирование веществ происходит в тонком слое сорбента, нанесенного на твердую плоскую подложку. Разделение в этом методе в основном происходит на основе сорбции-десорбци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Использование различных сорбентов, позволило значительно расширить и улучшить этот метод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В начале появления метода пластины приходилось изготавливать самостоятельно. Но на сегодняшний день в основном используются пластины заводского изготовления, имеющие достаточно широкий ассортимент как по размерам и носителям, так и по подложкам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Современная хроматографическая пластинка представляет собой основу из стекла, алюминия или полимера (например политерефталат). В связи с тем, что стеклянная основа становится менее популярной (часто бьется, нельзя разделить пластинку на несколько частей не повредив слой сорбента, тяжелая по весу), наибольшее распространение получили пластины, в качестве основ которых используют алюминиевую фольгу или полимеры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Для закрепления сорбента применяют гипс, крахмал, силиказоль и др., которые удерживают зерна сорбента на подложке. Толщина слоя может быть различна (100 и более мкм), но самый важный критерий - слой должен быть равномерный по толщине в любом месте хроматографической пластинк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Тонкослойная хроматография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В тонкослойной хроматографии, в качестве подвижной фазы используют либо чистые вещества (этилацетат, бензол и т.п.), либо смеси веществ (системы) в определенном соотношени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Подбор подвижной фазы (системы) проводится по следующим правилам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Выбирают такую систему, в которой разделяемые компоненты имеют небольшую растворимость (если растворимость вещества высокая, то вещества будут перемещаться с фронтом, при низкой растворимости - оставаться на старте). При распределительной хроматографии или при использовании обращенных фаз, растворимость веществ должна быть выше в подвижной фазе, чем в неподвижной фазе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остав системы должен быть постоянным и легко воспроизводимым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Растворитель или компоненты системы не должны быть ядовитыми или дефицитными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истема должна полностью разделять вещества близкого строения, причем различия в Rf должно быть не менее 0,05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истема не должна вызывать химические изменения разделяемых компонентов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В выбранной системе анализируемые вещества должны иметь различные значения Rf и распределяться по всей длине хроматограммы. Желательно, чтобы значения Rf лежало в пределах 0,05-0,85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При выборе системы также необходимо учитывать природу разделяемых веществ. Так, при хроматографировании веществ, имеющих основные свойства система не должна обладать кислотными свойствами и наоборот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Тонкослойная хроматография имеет несколько способов, связанных, в основном, с видом движения растворителей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Восходящая тонкослойная хроматографияГоризонтальная тонкослойная хроматография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Радиальная тонкослойная хроматография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Восходящая тонкослойная хроматография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900000" y="2852280"/>
            <a:ext cx="7407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Этот вид хроматографии наиболее распространен и основан на том, что фронт хроматографической системы поднимается по пластинке под действием капиллярных сил, т.е. фронт хроматографической системы движется снизу-вверх. Для этого метода используется наиболее простое оборудование, так как в качестве хроматографической камеры можно использовать любую емкость с плоским дном и плотно закрывающейся крышкой, в которую свободно помещается хроматографическая пластинк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Метод восходящей тонкослойной хроматографии имеет ряд своих недостатков. Например, скорость поднятия фронта по пластинке происходит неравномерно, т.е. в нижней части она самая высокая, а по мере поднятия фронта уменьшается. Это связано с тем, что в верхней части камеры насыщенность парами растворителя меньше, поэтому растворитель с хроматографической пластинки испаряется интенсивнее, следовательно уменьшается его концентрация и скорость движения замедляется. Для устранения этого недостатка по стенкам хроматографической камеры прикрепляют полоски фильтровальной бумаги, по которым поднимающаяся хроматографическая система насыщает парами камеру по всему объему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Некоторые хроматографические камеры имеют на дне разделение на две ванночки. Это усовершенствование позволяет не только уменьшить расход хроматографической системы (для получения необходимой высоты хроматогратографической системы требуется меньший объем) но и использовать дополнительную кювету для растворителя, увеличивающего давления насыщенных паров в камере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Недостатком также можно считать необходимость следить за фронтом растворителя, так как возможно "убегание" лини фронта растворителя до верхнего края. В таком случае определить действительное значение Rf уже не представляется возможным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3:17:55Z</dcterms:created>
  <dc:creator>хим</dc:creator>
  <dc:description/>
  <dc:language>en-US</dc:language>
  <cp:lastModifiedBy>Пользователь</cp:lastModifiedBy>
  <dcterms:modified xsi:type="dcterms:W3CDTF">2012-06-28T06:57:33Z</dcterms:modified>
  <cp:revision>5</cp:revision>
  <dc:subject/>
  <dc:title>«Физико-химические методы анализа»</dc:title>
</cp:coreProperties>
</file>