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0B8-BCC3-4FE3-AAB6-C323F08C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599-D06B-4964-8D3D-0382364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941-94AA-412E-91A9-E2F819A2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A76-733C-404B-8A06-FE611702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00C-CB0F-439B-8EF0-4C60C1AD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3135-AC2E-43C5-914C-9CC2B75A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6270-67A4-4BAF-AD75-322ACFF2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8F94-B273-4316-986C-9C562E7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EC03-60F5-4DAB-A13B-18ADE064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00F1-029E-4CF8-84C1-41FDCF63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EB64-CD7C-404D-9B25-E6C9E8C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586-806E-4BD0-B2C2-5BAB9A7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04F-DF37-46A9-9071-743ECC6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DD9-C6B1-4459-909E-4C1571C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D37-7C88-4CD8-A846-D879BE43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A7DB-2AC6-4D53-B38C-A04E6621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5F99-4B72-46F6-90D4-12D2139F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A2AE-8B15-46C5-B649-A3957FBB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A9F1-CD25-44A5-A72F-7450855F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C750-A82D-47B3-874A-9601B803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1005-8E43-49E4-91A1-C379B020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C87E-A1E9-4043-A713-C0AA197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E51-5DCC-4D9B-A791-8A8DFDDC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6CF7-3DFA-41DD-8424-F12B743B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2EE0-5A18-43A7-AE36-7458A07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9BF5-A6B1-4216-A79F-F437F87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DA77-238B-44C3-9232-9E5B74D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16DC-4403-4B29-A300-547A3FE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58A3-1C61-49B3-A8A3-9604EC48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2CA0-03DE-4741-B5BD-24A759BA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1E0B-5113-4C45-9D71-0DE8379E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D3C6-F312-4E8D-A9F4-B01B1610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B9A8-E358-4773-A6D6-2509B2F6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2BE-0871-4E71-8628-215EEFBC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918C-5BE0-4046-AA74-EA58CEE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34A8-FAAD-4A7C-9B2F-F951306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C682-1B5A-4EF8-99EF-3C354438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75CF-1E4D-4DFC-BE62-CE45EA4C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7E70-2348-45B1-B47A-C1CE865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45DA-65D6-4866-9687-28C420D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438A-C192-4981-A521-B0DADB6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0812-0824-422E-B75D-B518D5B9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2FCD-77B5-4EA1-BEFE-4E7E8C84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8407-4900-442D-B055-9F19E3DE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AC3-A88F-420B-BB06-EBDB8C4A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CBD9-D616-4241-A883-9DE025A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48CA-A7AA-4BF6-BB07-EC54DD2C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B3C9-6022-4D1F-8E6B-806CAB6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8B99-D0EC-4A90-91B9-C525930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37B9-5F98-4FBD-8BBF-7236D20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62D8-9F73-477D-8ED7-D75DF3A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CCAA-B8C6-44A3-8892-823EFAA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2F1F-480C-4AED-B01E-F2779F7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42BE-3FAE-42A2-9C98-04635D5F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81BE-5820-41D8-9647-E93F1D05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015-354D-4116-B02D-6D05CF05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1ED6-8956-40CB-9140-95FF759A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1062-4936-420A-AEF5-32743231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ADF5-0C8F-478B-BC5C-A3E2102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99BF-FD49-4FDD-B347-A2BB7A2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22ACE-2EDF-49B0-A5C3-FF386B5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56F0A-14B1-405B-BDB5-8A29903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3F7D4-3462-4E71-9C2B-5634554C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8B326-C1CB-48C1-A734-CA67B5B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0A68-A99C-46A7-9482-A84115D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7DCB-0B27-4C33-9EE4-85EFA8A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0AB-1688-48B2-892D-717C28C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B28F-87C4-4320-9327-E61EE4F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6F19-F188-43F5-A556-0617375A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4DE88-2641-44DE-82ED-42A8BE9F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3EAF6-B48E-4E9D-85A9-35AA6D00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D08F-C87D-44B8-9BD1-C0F45F2F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6BAC-507C-4102-AD4F-3642DE7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BF9B-21F1-4C99-8905-D4A84A64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2982-4C07-494E-98B7-FA21BA8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2EF4-9DCD-4FC6-8150-0AB0006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768E-C6E5-42DA-9ADF-C8C8D14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660-E515-4F2A-8FB5-066A490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B765-596E-49C9-941D-93E85986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28D4-2C72-4774-88A3-6FA2DD78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27700-9CC3-4C6E-A734-794F78D2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3DF93-0D8A-4593-9763-6DF786E3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1F2B-5744-4CF2-962C-3D64D413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26D-5F54-45B0-BD05-18E697F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6FE-32A7-4875-9236-E1B6CB34BA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77A3-BCEB-4FEC-B542-B0199B4F0D9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1F9A-A40D-4FB2-AFE7-67E25F6297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9C57-DBFA-4E17-B553-261BBF53E9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E68-7074-4667-91CA-B02A66D34BF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D4D-1896-4ECD-87CE-D349D4F73A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D4A7-8C6B-40A6-9D31-575E1A9833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500040" y="2097000"/>
            <a:ext cx="8259840" cy="233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9325080" y="3164400"/>
            <a:ext cx="7128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900000" y="2133360"/>
            <a:ext cx="740736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1)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стационарное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– состояние системы, не изменяющееся во времени (Т = const, P = const); стационарное состояние может характеризоваться бесконечным числом температур или давлений, но в каждой точке они должны оставаться постоянным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58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43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)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равновесное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– состояние, которое не изменяется со временем, причем эта неизменность не обусловлена протеканием какого-либо внешнего по отношению к системе процесса (равновесное – частный случай стационарного), температура и давление не только постоянны, но и остаются одинаковыми во всех точках систем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43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)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неравновесное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– состояние системы, изменяющееся со временем, постоянство параметров в каждой точке системы поддерживается внешними по отношению к ней процессами. Следовательно, если изменяются внешние факторы, то изменяется и состояние систем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металлический стержень, один конец которого нагревается, другой охлаждается. В определенный момент времени противоположные процессы (нагревание и охлаждение) приведут к установлению стационарного состояния, но не равновесного, т. к. постоянство параметров системы в каждой точке поддерживается внешним по отношению к системе процессом. Система окажется в состоянии равновесия только тогда, когда температура и давление внешней среды и каждой точки системы будут равными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53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Для растворов кроме температуры и давления необходимо учитывать концентрации растворенных вещест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 системе устанавливается равновесное состояние в результате того, что скорости двух противоположных направленных процессов уравниваются и равновесие нарушается при изменении условий протекания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Такое равновесие называется динамическим, примером является химическое равновеси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048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аждая система обладает некоторым запасом внутренней энергии U, мерой изменения которой при обратимых процессах служит теплота Q, поглощаемая системой, и работа А, совершаемая системой над окружающей средой. Внутренняя энергия U является термодинамической характеристикой вещества в заданном состоянии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Текст 2" descr=""/>
          <p:cNvPicPr/>
          <p:nvPr/>
        </p:nvPicPr>
        <p:blipFill>
          <a:blip r:embed="rId1"/>
          <a:stretch/>
        </p:blipFill>
        <p:spPr>
          <a:xfrm>
            <a:off x="1365120" y="262080"/>
            <a:ext cx="6419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нутренняя энергия любой системы складывается из энергий, входящих в нее атомов и молекул. Она представляет собой сумму кинетической энергии движения частиц (атомов, молекул или ионов), потенциальной энергии межмолекулярного взаимодействия, энергии взаимодействия электронов и ядер в молекулах и энергии, отвечающей массе покоя частиц согласно уравнению Эйнштейна. Внутренняя энергия не относится к непосредственно измеряемым величинам. На опыте удается измерить только теплоту, поглощаемую или выделяемую системой, и определить работу, связанную с переходом из одного состояния системы в другое. 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и любых процессах совокупность величин Q – A не зависит от пути перехода, это позволило определить изменение внутренней энергии системы с помощью урав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dU = Q – A TdS – dU (1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Положительным считается такое изменение энергии, которое отвечает увеличению U в систем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 случае равновесного процесс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=dA = TdS – dU (2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ри S = const (равновесный адиабатный процесс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dA = -dU и A = U1 - U2 (3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Интегрируя при постоянной Т уравнение (2) получаем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= (U1 – TS1) - (U2 – TS2) (4)</a:t>
            </a:r>
            <a:br>
              <a:rPr sz="2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ведем обозначени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F = U – TS (5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лучим (при Т = const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A = F1 – F2 = - F (6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где F – функция состояния, называемая изохорно – изотермическим потенцалом или свободной энергией системы. Переписав уравнение (5) в вид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U = F + T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Физико- химический анализ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– это раздел общей химии, в основе которого лежит исследование зависимостей между составом и свойствами равновесных систем, найденные путем опыта такие соотношения изображают графически в виде диаграмм состояния и диаграмм состав – свойство. В настоящее время наиболее широко используются данные о зависимости от состава температур плавления и полиморфных превращений, давления пара или парциальных давлений компонентов в газовой фазе, эти данные получают различными методами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61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Можно рассматривать внутреннюю энергия, как энергию, состоящую из двух частей – свободной энергии F и связанной энергии TS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зохорный потенциал системы, находящейся при постоянных объеме и температуре, стремится уменьшиться в самопроизволных процессах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едставим элементарную работу как сумму работы расширения и других видов работ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A = pdV + A (7)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де A - сумма элементарных работ всех видов, кроме работы расши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58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Из уравнений (1, 7) получаем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TdS – dU – pdV (8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еперь можно найти A , получаемую при переходе системы из одного состояния в другое. Интегрируя это уравнение в соответствующих пределах при постоянных температуре и давлении и сгруппировав все величины, относящиеся к одному состоянию получим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(U1 – TS1 + pV1) - (U2 – TS2 + pV2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означив через G выражения, стоящие в скобках правой части уравнения, которые являются функциями состояния, т. 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G U – TS + pV F + pV H – TS (9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Для равновесных процессов A будет максимальн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A = G1 – G2 = - G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G – функция состояния, определяемая уравнением (9) и называемая изобарно – изотермическим потенциалом или свободной энергией систем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амопроизвольные процессы всегда идут с уменьшением свободной энергии (при T = const и V = const) или соответственно ее изобарного потенциала (при T = const и р = const). Иными словами могут идти лишь те процессы, при которых система способна совершать работу.</a:t>
            </a:r>
            <a:br>
              <a:rPr sz="2500"/>
            </a:br>
            <a:br>
              <a:rPr sz="25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904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з I закона термодинамики известно, что поглощенная теплота Q определяется соотношением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Q = U + A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если процесс элементарный (бесконечно малый), то можно записать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Q = dU + A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Для равновесного процесса выражение для II закона термодинамики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dS = Q /T или Q = TdS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Текст 2" descr=""/>
          <p:cNvPicPr/>
          <p:nvPr/>
        </p:nvPicPr>
        <p:blipFill>
          <a:blip r:embed="rId1"/>
          <a:stretch/>
        </p:blipFill>
        <p:spPr>
          <a:xfrm>
            <a:off x="1365120" y="334800"/>
            <a:ext cx="64198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Наибольшее значение для развития физико–химического анализа имели работы Н.С. Курнакова, хотя и до Н.С. Курнакова исследования зависимостей состав-свойство проводились многими химиками. Обычно наиболее информативно изучение зависимостей состав-температура фазового превращения (в том числе кипения, плавления и др.), но кроме того изучались и зависимости от состава таких физических свойств, как электропроводность, микротвердость, плотность, вязкость и т. 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д.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Если не известна аналитическая зависимость состава системы от свойства, то для построения диаграммы состояния, необходимо исследовать то или иное свойство в концентрационном интервале от 0 – до 100 %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Диаграмма отражает, какие процессы могут происходить в системе: образование твердых или жидких растворов, возникновение химических соединений и т. д., а также определяются границы существования различных фаз. По форме максимума на диаграмме состояния можно судить о свойствах образующихся соединений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Изучение диаграмм состав-свойство имеет большое значение для синтеза новых соединений, с помощью методов ФХА открывают новое вещество, определяют условия его существования и выделяют для дальнейшего исследования свойств. Таким путем найдены многие сплавы, полупроводниковые, керамические 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атериалы и др. соединени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9048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опрос о химическом равновесии можно рассматривать как одну из задач термодинамики – общей науки об условиях протекания процессов, сопровождающихся изменением энергии в форме теплообмена и совершения работы разного вида. Наиболее полные данные можно получить, когда рассматриваются обратимые изменения состояния системы, т. е. когда в каждый момент времени состояние системы практически неотличимо от равновесного. В обратимом процессе можно возвратить систему в первоначальное состояние без каких-либо изменений в окружающей среде. Под системой понимают совокупность тел, находящихся во взаимодействии между собой и отдельных от окружающей среды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Текст 2" descr=""/>
          <p:cNvPicPr/>
          <p:nvPr/>
        </p:nvPicPr>
        <p:blipFill>
          <a:blip r:embed="rId1"/>
          <a:stretch/>
        </p:blipFill>
        <p:spPr>
          <a:xfrm>
            <a:off x="542880" y="401760"/>
            <a:ext cx="7991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истема называется термодинамической, если между ее отдельными частями возможен обмен энерг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Если возможен обмен не только энергией, но и веществом, то такая система называется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физико-химической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– насыщенный раствор соли с некоторым избытком твердой соли на дне и паром над ним. В этой системе возможен обмен между твердой солью и ее водным раствором, между водным раствором и паром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1) закрытая – нет обмена веществом с внешней средо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2) адиабатическая – нет обмена теплото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3) изолированная – невозможен обмен ни веществом, ни энергие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4) гетерогенная – внутри системы существует поверхность раздела, где происходят резкие скачкообразные изменения свойств (вода – лед)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5) гомогенная – нет поверхности раздела внутри системы, свойства системы изменяются непрерывно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6) однородная – гомогенная система в состоянии равновесия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Заголовок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RK</cp:lastModifiedBy>
  <dcterms:modified xsi:type="dcterms:W3CDTF">2012-04-13T15:15:36Z</dcterms:modified>
  <cp:revision>7</cp:revision>
  <dc:subject/>
  <dc:title>Презентация PowerPoint</dc:title>
</cp:coreProperties>
</file>