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36B-93DE-4C91-89C7-2044BEC4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4BA-6CE8-4B95-85BF-AF7276F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74D-4AD0-4129-89F0-7A3CBF61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A5E-D62B-47C9-A811-5A4CEA9F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E4A6-5A3E-439C-9705-BAC41351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D890-7BD8-4176-9622-0A6142E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D1D-F976-43BB-918C-F0290F3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8FEA-2B36-4DCD-87FF-E8315A8C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8443-C713-4CEE-B36C-1C1802F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F45F-818B-4613-B17D-164130A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AF07-6752-4781-B2CF-28C7EE16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D78-6642-4D54-8F66-B9E07663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F1E-2FC8-4459-A3E8-4579ABA3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9E01-6CBA-43F9-BC45-B367C28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02F2-0F67-41A4-AE9D-67479CA7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9B42-2665-4A8F-9107-4EE2B23B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B317-9E32-4239-B912-9EEE607C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73A9-9D44-482C-81A9-26337323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1C92-CE5D-4E4D-9337-B9C5773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9CEA-BFD5-40F5-8F16-A393A6C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A9EC-6AB7-4679-A84A-D4D062DD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ADB8-495D-4305-96CE-98FC7AB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183-BEA3-42AD-A570-5A73F89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C6A4-E1D8-419A-8625-86EBD572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63E0-33DB-4D51-ABF8-789EACD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394D-CA94-4508-B8FF-EC928F5F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5EE9-116E-441F-8B48-C32D65B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F0C1-6C15-4332-B80F-3A49DE7C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C515-A078-4256-A9AC-1225D15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094D-2FB2-4CD2-A886-BD427561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82CF2-7B1B-4475-9903-2A158AA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71BB-55A2-4E6D-9F77-A8E5A1A7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5EEE1-13BF-4D4D-8A34-6B53E2BD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3D3-FABD-4295-8734-681216D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17B5-80CE-45A6-B648-D58B804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704E-BAF8-4BDB-86B0-7D356ED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5F24-9859-4077-8A93-37007CFE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A87A-9FBF-406D-B77F-152642A1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80DB-6DBF-4C34-94CA-5CDC9166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2A061-B051-4444-AD5B-B8C44D4D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6054-E713-4F06-A696-4A43214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BB72-F516-40D7-8CD0-0C90752D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2168-FBE1-4430-BF6C-3313DB22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7E3DC-B058-41C3-BA04-AF451DF1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1F1-901D-4552-B438-9D007E87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D366-5931-4208-AB4B-8D0FCBF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F313-998A-4B5C-8119-5C98927F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0A42-AACE-4673-8B67-4FCEEBC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C8AB-E528-4224-8C11-D42CD23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E300E-8C92-413D-A384-91442AD9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5F81-4DEC-48B6-BC06-6E96B35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3795F-D8D1-4017-A679-E4165174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5898-05A0-47C4-BDE2-3DAF092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A96C-5AF5-4A25-AE54-598BE45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04C66-FE09-4843-982C-565800F9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562-147D-4857-9A91-2474F39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6BB8E-E9B0-4F42-843E-A2D8C472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A8B1-7895-4660-ADA7-559E7648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572F0-6DF7-4A9B-86C3-5FDD44C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5A546-E93B-4E35-BE90-79E2D2C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7630-BF89-4E75-9579-810310E7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B2CC-5D6A-49B5-AFE4-F98C5BC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90C8-29DB-496F-B7B5-6201586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895E5-9804-44FE-A8F0-DF79885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41E1-EB0C-449F-88FF-4FFE3C4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42442-5CEF-4853-AFF2-9D4BFC5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818-A029-4774-AAE1-582EB74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5A19-B5BC-46A2-B019-5CDD449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DCBD-84FF-4336-985B-E624D8F1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91E8-490F-4137-B8AB-7B76946B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90F0E-D85B-49EE-86B0-BE3FCA93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4E9C5-0119-42A3-95AC-12E944AD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0650-B1D6-44E6-873E-F7ECB189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ED11-9717-46D9-B7ED-45FBD22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F2FD-2650-422D-BD74-4A38DA7C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805C-2E30-4B8E-BC6A-5269C1F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4FAD-A423-4569-B7D7-DC4D69C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C3E-A50B-4BC9-A3A3-CCDD116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54C6A-57D7-43D0-BBE2-3C5F392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6C28-3A76-4F85-B370-B5F5685D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94EC6-21DC-4A73-8134-4FD6AE4D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87BE-3DC6-4215-91EB-CE1BC52D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3DE3-DC3F-4C9F-BEBB-FBDFE8B4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B26E5-6B66-4BC5-A2A5-AE79D015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B2557-4735-40AD-A358-F87595E1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A7324-D10E-4036-9697-FA674BA3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71828-DAEE-4C50-A393-3344D3E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07EB-8490-4090-9CDE-EBB2F918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8F3-BBAD-401E-95FF-924967F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6ADA-4B9F-4770-B649-91EA23C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1076-1BFB-44C5-B071-0A80A9A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6663-53FB-420C-9D37-42095C0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6176C-3E74-444D-A31A-487F1F3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63E25-F22F-4A2D-BCAF-42859DD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C27A0-E7C0-4C53-AE44-118CD153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CF88C-D1C0-43AB-B796-47B728B3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6D16-5014-49AD-8593-E748597734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799B-82A9-4F22-85DD-FC6DB77BB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9E7C-F212-4432-A732-1508C5BAEB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4578-340B-4BAB-8D0F-6BB1D7D854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3B9A-9AB5-439C-9376-95B991F596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6C1E-B5BE-40A7-B69C-77E0B41D62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1F78-89A7-400C-AF16-FEF07F715C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E78-89D3-4CB8-BF6A-28C3B81C3A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Йодометрический метод титров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иксируют конечную точку титрования в методе йодометрии с помощью специфического индикатора -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крахмал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который образует с йодом комплексно-адсорбционное соединение синего цвета соединение йода с крахмалом очень прочное, крахмал следует добавлять в конце титрования, когда окраска раствора становится бледно-желтой. Если вводить крахмал раньше, то очень много йода будет связано с крахмалом. При титровании йод с трудом освобождается из соединения с крахмалом, и результат титрования окажется неточны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27a8f"/>
                </a:solidFill>
                <a:latin typeface="Lucida Sans Unicode"/>
              </a:rPr>
              <a:t>Рабочими растворами метода йодометрии являются растворы йода и тиосульфата натр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27a8f"/>
                </a:solidFill>
                <a:latin typeface="Lucida Sans Unicode"/>
              </a:rPr>
              <a:t>Титрованный раствор йода можно приготовить исходя из точной навески химически чистого кристаллического йода, который очищают от примесей путем возгонк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27a8f"/>
                </a:solidFill>
                <a:latin typeface="Lucida Sans Unicode"/>
              </a:rPr>
              <a:t>Однако, очистка йода представляет собой очень трудоемкую операцию. Кроме того, титрованный раствор в процессе работы с ним и при длительном хранении меняет свой титр вследствие летучести йода, и периодически его нужно проверять. Поэтому обычно готовят раствор I2 приблизительно нужной концентрации (0,05-0,1 н.) растворением навески йода в растворе KI (40 г/л). Точную концентрацию полученного раствора устанавливают по раствору тиосульфата натр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068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Тиосульфат натрия Na2S2O3*5Н2О является неустойчивым веществом. Оно легко реагирует с углекислым газом и кислородом воздух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2S2O3 +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2 = NaHCO3 + Na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3 + Sv 2Na2S2O3 + O2 = 2Na2SO4 + 2Sv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этому готовят приблизительно 0,1 н. раствор тиосульфата, растворяя навеску соли в свежепрокипяченой воде (для удаления СO2). Хранить готовый раствор Na2S2O3 рекомендуется в темных бутылях, защищенных от двуокиси углерода трубкой с натронной известью. В дальнейшем титр раствора начинает медленно уменьшаться, поэтому его необходимо периодически проверят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Для установки концентрации тиосульфата предложено много различных стандартных веществ, например твердый химически чистый йод, йодат калия KIO3, бромат калия KBrO3, дихромат калия и др. На практике чаще всего пользуются дихроматом калия K2Cr2O7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530280" y="182232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Йодометрия - метод окислительно-восстановительного титрования, основанный на реакциях, связанных с окислением восстановителей свободным йодом или с восстановлением окислителей йодидом калия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етод основан на окислении йодида активным хлором до йода, который титруют тиосульфатом натрия. Озон, нитриты, окись железа и другие соединения в кислом растворе выделяют йод из йодистого калия, поэтому пробы воды подкисляют буферным раствором с рН 4,5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Йодометрический метод предназначен для анализа воды с содержанием активного хлора более 0,3 мг/л при объеме пробы 250 мл. Метод может быть рекомендован также для окрашенных и мутных вод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225360" y="-49320"/>
            <a:ext cx="8467920" cy="112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Йодометрический метод широко применяется в практике химического анализа. Этим методом пользуются при количественном определении многих восстановителей: кислот H2S, Н25Оз, H2S2O3 и их солей, двухлористого олова, многих окислителей - КМпО4, би-хромата калия К2Сг2О7, хлора, брома, солей двухвалентной меди и других веществ. Иодометрическим методом устанавливают степень насыщенности жиров, или йодное число жира, характеризующее свойство жи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Йодометрический метод пригоден для количественного определения сильных кислот: серной, соляной и азотной. В растворах слабых кислот концентрация водородных ионов мала и реакция идет медленно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Йодометрический метод определения меди очень точен. Этот метод применяют для определения меди в цветных сплавах и в рудах. Преобладающее большинство посторонних ионов, которые обычно содержатся в перечисленных материалах, не мешают определению меди, исключение составляют ионы, способные окисляться иодом или окислять иодид-ион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Йодометрический метод определения меди является одним из наиболее точных методов, и в этом отношении уступает только электролитическому методу. Однако в сравнении с электролитическим методом он имеет то преимущество, что определение может быть проведено в присутствии ряда элементов, которые осаждаются при электролизе на катоде совместно с медью или мешают ее выделению. Кроме того, Йодометрический метод значительно быстрее электролитическог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Большая точность по сравнению с другими методами окислительно-восстановительного титров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Растворы йода окрашены, и титрование можно проводить без индикато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Йод хорошо растворяется в органических растворителях, поэтому метод широко применяется для титрования в неводных среда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19240" y="42840"/>
            <a:ext cx="8418240" cy="1414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0880" y="1294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1. Потери йода из-за его летучести. Поэтому титрование проводят на холоду и по возможности быстро. При необходимости оставить раствор на некоторое время для завершения реакции, его хранят под притертой пробкой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2. Окисление ионов йода кислородом воздуха в кислой сред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3. Йодометрическое титрование нельзя проводить в щелочной среде вследствие диспропорционирования йод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4. Относительно медленные скорости реакций с участием йод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5. В процессе хранения стандартные растворы йода и тиосульфата изменяют свой титр. Чтобы избежать ошибок, необходимо периодически проверять титр йода по тиосульфату, а титр тиосульфата по дихромату кал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328680" y="85680"/>
            <a:ext cx="8364600" cy="1341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2:11:47Z</dcterms:created>
  <dc:creator>noutbook</dc:creator>
  <dc:description/>
  <dc:language>en-US</dc:language>
  <cp:lastModifiedBy>Пользователь</cp:lastModifiedBy>
  <dcterms:modified xsi:type="dcterms:W3CDTF">2012-06-28T08:07:36Z</dcterms:modified>
  <cp:revision>11</cp:revision>
  <dc:subject/>
  <dc:title>Презентация</dc:title>
</cp:coreProperties>
</file>