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5.jpeg" ContentType="image/jpeg"/>
  <Override PartName="/ppt/media/image25.jpeg" ContentType="image/jpeg"/>
  <Override PartName="/ppt/media/image2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544-1520-4F9A-B490-85369112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C88-5AA7-4071-88D7-EB8A38D9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73E-2803-44FD-9242-917EFBA1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8A9-07C6-4D0F-AC50-A3B893D5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4C48-7656-411A-8DF6-BBD82F6D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9F04-006D-4425-805D-028B1AA3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0230-5A89-4F08-A0F7-B3D851C4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04BB-2EBD-4FB3-AA9F-047F690A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5F3E-E1DB-4D3B-ACEC-ECA6AEBA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F3B9-96CF-444B-BAFD-03DE8171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4CCC-A563-419B-A41B-72B9C0F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633-37D6-40F4-BFB4-EA46CF8F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6091-BB16-41A5-8320-138ED49C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6F7C-B4CC-4028-AE25-1DC84B22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3F4C-1918-48AC-8D1A-C24E76FC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330C-F4F8-4E11-8646-DD405FCC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4379-6A2C-4089-ABB9-DFD2A57E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EA2-598D-4ADB-9128-B9D93048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302-63F0-4FB9-9D9E-8194FCDC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63D-0411-46A4-B327-DC203253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D44-CF91-4502-A94E-20F8D836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05D-5E41-427C-A605-46A8CD7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449-527B-425D-8FED-09EFAF2D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E57-2A11-417D-B39E-9C25A8C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62A8-CABE-4983-930B-06621E79A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491A-1F96-4A06-BDC4-CF74EDD93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187280" y="3068640"/>
            <a:ext cx="6191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642960" y="981000"/>
            <a:ext cx="777240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яриметрически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анализ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11_01_02_11 (1)"/>
          <p:cNvPicPr/>
          <p:nvPr/>
        </p:nvPicPr>
        <p:blipFill>
          <a:blip r:embed="rId2"/>
          <a:stretch/>
        </p:blipFill>
        <p:spPr>
          <a:xfrm>
            <a:off x="3059280" y="0"/>
            <a:ext cx="6084720" cy="4175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40053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понимают угол, на который повернется плоскость поляризации при прохождении поляризованного луча через раств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11280" y="189000"/>
            <a:ext cx="266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Оптическая активность вещества характеризу-ется удельным вращением (s), под которым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858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В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 1 мл раствора содержится 1 г растворенного вещества при толщине слоя раствора (длине поляризационной трубки), равной 1 д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Где </a:t>
            </a:r>
            <a:r>
              <a:rPr b="0" lang="ru-RU" sz="4800" spc="-1" strike="noStrike">
                <a:solidFill>
                  <a:srgbClr val="cc0000"/>
                </a:solidFill>
                <a:latin typeface="Calibri"/>
              </a:rPr>
              <a:t>1-</a:t>
            </a:r>
            <a:r>
              <a:rPr b="0" i="1" lang="ru-RU" sz="40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длина трубки, д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С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-концентрация вещества, г</a:t>
            </a: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/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100м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42960" y="620280"/>
            <a:ext cx="7858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Угол вращения плоскости поляризации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а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определяют по формул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908000" y="1844640"/>
            <a:ext cx="4321440" cy="18604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18" name="Rectangle 5"/>
          <p:cNvSpPr/>
          <p:nvPr/>
        </p:nvSpPr>
        <p:spPr>
          <a:xfrm>
            <a:off x="684360" y="386064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Где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-</a:t>
            </a:r>
            <a:r>
              <a:rPr b="0" i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длина трубки, д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263600" y="4581360"/>
            <a:ext cx="71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концентрация вещества, г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100м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785808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Calibri"/>
              </a:rPr>
              <a:t>Из этой формулы легко вычислить концентрацию С, если известен угол вращения: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3816360" cy="2133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0000"/>
                </a:solidFill>
                <a:uFillTx/>
                <a:latin typeface="Calibri"/>
              </a:rPr>
              <a:t>Поперечность световых волн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Calibri"/>
              </a:rPr>
              <a:t>световая волна, идущая от источника света, полностью симметрична относительно направления распространения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Calibri"/>
              </a:rPr>
              <a:t>волна, вышедшая из первого кристалла, не обладает осевой симметрией (в зависимости от поворота второго кристалла относительно луча получается та пли иная интенсивность прошедшего I света).</a:t>
            </a:r>
            <a:br>
              <a:rPr sz="2800"/>
            </a:br>
            <a:r>
              <a:rPr b="1" i="1" lang="en-US" sz="2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Поперечность световых волн выражается в том, что колеблющиеся в них векторы напряжённости электрического поля </a:t>
            </a:r>
            <a:r>
              <a:rPr b="1" i="1" lang="ru-RU" sz="2800" spc="-1" strike="noStrike" u="sng">
                <a:solidFill>
                  <a:srgbClr val="009999"/>
                </a:solidFill>
                <a:uFillTx/>
                <a:latin typeface="Calibri"/>
              </a:rPr>
              <a:t>Е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 и напряжённости магнитного поля </a:t>
            </a:r>
            <a:r>
              <a:rPr b="1" i="1" lang="ru-RU" sz="2800" spc="-1" strike="noStrike" u="sng">
                <a:solidFill>
                  <a:srgbClr val="009999"/>
                </a:solidFill>
                <a:uFillTx/>
                <a:latin typeface="Calibri"/>
              </a:rPr>
              <a:t>Н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 перпендикулярны направлению распространения вол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51"/>
          <p:cNvPicPr/>
          <p:nvPr/>
        </p:nvPicPr>
        <p:blipFill>
          <a:blip r:embed="rId2"/>
          <a:stretch/>
        </p:blipFill>
        <p:spPr>
          <a:xfrm>
            <a:off x="611280" y="3357720"/>
            <a:ext cx="7993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51"/>
          <p:cNvPicPr/>
          <p:nvPr/>
        </p:nvPicPr>
        <p:blipFill>
          <a:blip r:embed="rId2"/>
          <a:stretch/>
        </p:blipFill>
        <p:spPr>
          <a:xfrm>
            <a:off x="611280" y="0"/>
            <a:ext cx="8064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900000" y="501336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оперечность световых вол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lcd-pixel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К частичной или полной поляризации света могут приводить:</a:t>
            </a:r>
            <a:endParaRPr b="0" lang="en-US" sz="36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отражение и преломление света, при которых поляризация света обусловлена различием оптических характеристик границы раздела двух сред для компонентов светового пучка, поляризованных параллельно и перпендикулярно плоскости п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42960" y="692280"/>
            <a:ext cx="7858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2.   Прохождение через среды, обладающие естественной или вызванной внешними воздействиями оптической анизотропией вследствие неодинаковости коэффициентов поглощения света при различных состояниях поляризации света, например при правой и левой круговых поляризациях - т. н. круговой дихроизм, являющийся частным случаем плеохроизма; вследствие различия преломления показателей среды для лучей различных линейных поляризаций - двойного лучепреломл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4000" y="980640"/>
            <a:ext cx="4105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00"/>
                </a:solidFill>
                <a:uFillTx/>
                <a:latin typeface="Calibri"/>
              </a:rPr>
              <a:t>Поляриметрический метод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служит для количественного определения оптически активных веществ, растворы которых вращают плоскость поляризованного луч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02"/>
          <p:cNvPicPr/>
          <p:nvPr/>
        </p:nvPicPr>
        <p:blipFill>
          <a:blip r:embed="rId2"/>
          <a:stretch/>
        </p:blipFill>
        <p:spPr>
          <a:xfrm>
            <a:off x="4716360" y="620640"/>
            <a:ext cx="3965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38" name="Picture 4" descr="article-monitor-03"/>
          <p:cNvPicPr/>
          <p:nvPr/>
        </p:nvPicPr>
        <p:blipFill>
          <a:blip r:embed="rId2"/>
          <a:stretch/>
        </p:blipFill>
        <p:spPr>
          <a:xfrm>
            <a:off x="0" y="620640"/>
            <a:ext cx="9217080" cy="4797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0" y="5300640"/>
            <a:ext cx="9396360" cy="155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4"/>
          <a:stretch/>
        </p:blipFill>
        <p:spPr>
          <a:xfrm>
            <a:off x="0" y="0"/>
            <a:ext cx="9396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Calibri"/>
              </a:rPr>
              <a:t> 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Calibri"/>
              </a:rPr>
              <a:t>Хроматическая поляризация света</a:t>
            </a: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2960" y="126828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Хроматическая поляризация свет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одно из эффектов интерференции поляризованных лучей света, связанное с зависимостью всех интерференционных явлений от длины волны излучения. Она проявляется, в частности, в окрашивании интерференционной картины, возникающей при интерференции белого света.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44" name="Picture 4" descr="5_big"/>
          <p:cNvPicPr/>
          <p:nvPr/>
        </p:nvPicPr>
        <p:blipFill>
          <a:blip r:embed="rId2"/>
          <a:stretch/>
        </p:blipFill>
        <p:spPr>
          <a:xfrm>
            <a:off x="0" y="0"/>
            <a:ext cx="9144000" cy="4686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3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6"/>
          <p:cNvSpPr txBox="1"/>
          <p:nvPr/>
        </p:nvSpPr>
        <p:spPr>
          <a:xfrm>
            <a:off x="1547640" y="4724280"/>
            <a:ext cx="6048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1f497d"/>
                  </a:solidFill>
                  <a:miter/>
                </a:ln>
                <a:solidFill>
                  <a:srgbClr val="4f81bd"/>
                </a:solidFill>
                <a:latin typeface="Arial"/>
              </a:rPr>
              <a:t>Схема получения картины</a:t>
            </a:r>
            <a:endParaRPr b="1" lang="en-US" sz="1800" spc="1" strike="noStrike">
              <a:ln w="9360">
                <a:solidFill>
                  <a:srgbClr val="1f497d"/>
                </a:solidFill>
                <a:miter/>
              </a:ln>
              <a:solidFill>
                <a:srgbClr val="4f81b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1f497d"/>
                  </a:solidFill>
                  <a:miter/>
                </a:ln>
                <a:solidFill>
                  <a:srgbClr val="4f81bd"/>
                </a:solidFill>
                <a:latin typeface="Arial"/>
              </a:rPr>
              <a:t>хроматической </a:t>
            </a:r>
            <a:endParaRPr b="1" lang="en-US" sz="1800" spc="1" strike="noStrike">
              <a:ln w="9360">
                <a:solidFill>
                  <a:srgbClr val="1f497d"/>
                </a:solidFill>
                <a:miter/>
              </a:ln>
              <a:solidFill>
                <a:srgbClr val="4f81b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1f497d"/>
                  </a:solidFill>
                  <a:miter/>
                </a:ln>
                <a:solidFill>
                  <a:srgbClr val="4f81bd"/>
                </a:solidFill>
                <a:latin typeface="Arial"/>
              </a:rPr>
              <a:t>поляризации света</a:t>
            </a:r>
            <a:endParaRPr b="1" lang="en-US" sz="1800" spc="1" strike="noStrike">
              <a:ln w="9360">
                <a:solidFill>
                  <a:srgbClr val="1f497d"/>
                </a:solidFill>
                <a:miter/>
              </a:ln>
              <a:solidFill>
                <a:srgbClr val="4f81bd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8" descr="235006362"/>
          <p:cNvPicPr/>
          <p:nvPr/>
        </p:nvPicPr>
        <p:blipFill>
          <a:blip r:embed="rId2"/>
          <a:stretch/>
        </p:blipFill>
        <p:spPr>
          <a:xfrm>
            <a:off x="-252360" y="0"/>
            <a:ext cx="4824360" cy="4627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217299659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4525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4"/>
          <a:stretch/>
        </p:blipFill>
        <p:spPr>
          <a:xfrm>
            <a:off x="0" y="4365720"/>
            <a:ext cx="9144000" cy="26683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11"/>
          <p:cNvSpPr txBox="1"/>
          <p:nvPr/>
        </p:nvSpPr>
        <p:spPr>
          <a:xfrm>
            <a:off x="1619280" y="4941720"/>
            <a:ext cx="568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роматическ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яризация св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0000"/>
                </a:solidFill>
                <a:uFillTx/>
                <a:latin typeface="Calibri"/>
              </a:rPr>
              <a:t>Двойное лучепреломление</a:t>
            </a:r>
            <a:r>
              <a:rPr b="0" lang="ru-RU" sz="44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2960" y="126828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Двойное лучепреломление</a:t>
            </a:r>
            <a:r>
              <a:rPr b="0" lang="ru-RU" sz="3200" spc="-1" strike="noStrike">
                <a:solidFill>
                  <a:srgbClr val="cc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это явление расщепления пучка света в анизотропной среде на два слагающих, распространяющихся с разными скоростями и поляризованных в двух взаимно перпендикулярных плоскостя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42960" y="692280"/>
            <a:ext cx="7858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Световой пучок падая перпендикулярно к поверхности кристалла, распадается на два пучка, один из которых продолжает путь без преломления, другой же отклоняется в сторону, нарушая обычный закон преломления света. Соответственно этому лучи первого пучка называются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обыкновенными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, второго -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необыкновенными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42960" y="692280"/>
            <a:ext cx="7858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Угол двойного лучепреломления-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    угол, образуемый обыкновенным и необыкновенным луч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7" descr="image107"/>
          <p:cNvPicPr/>
          <p:nvPr/>
        </p:nvPicPr>
        <p:blipFill>
          <a:blip r:embed="rId2"/>
          <a:stretch/>
        </p:blipFill>
        <p:spPr>
          <a:xfrm>
            <a:off x="611280" y="2492280"/>
            <a:ext cx="79214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671410"/>
          <p:cNvPicPr/>
          <p:nvPr/>
        </p:nvPicPr>
        <p:blipFill>
          <a:blip r:embed="rId2"/>
          <a:stretch/>
        </p:blipFill>
        <p:spPr>
          <a:xfrm>
            <a:off x="-324000" y="-82440"/>
            <a:ext cx="9468000" cy="70038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5"/>
          <p:cNvSpPr txBox="1"/>
          <p:nvPr/>
        </p:nvSpPr>
        <p:spPr>
          <a:xfrm>
            <a:off x="2700360" y="0"/>
            <a:ext cx="4464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Двойное преломлени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угл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0014-014-Spasibo-za-vniman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432108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Поляриметрический метод </a:t>
            </a: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основан на свойстве некоторых веществ изменять направление световых колеба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8" descr="image006"/>
          <p:cNvPicPr/>
          <p:nvPr/>
        </p:nvPicPr>
        <p:blipFill>
          <a:blip r:embed="rId2"/>
          <a:stretch/>
        </p:blipFill>
        <p:spPr>
          <a:xfrm>
            <a:off x="4500720" y="620640"/>
            <a:ext cx="4389120" cy="4826160"/>
          </a:xfrm>
          <a:prstGeom prst="rect">
            <a:avLst/>
          </a:prstGeom>
          <a:ln w="0">
            <a:noFill/>
          </a:ln>
        </p:spPr>
      </p:pic>
      <p:sp>
        <p:nvSpPr>
          <p:cNvPr id="88" name="WordArt 9"/>
          <p:cNvSpPr txBox="1"/>
          <p:nvPr/>
        </p:nvSpPr>
        <p:spPr>
          <a:xfrm>
            <a:off x="4859280" y="5516640"/>
            <a:ext cx="41022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ветовые колеб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лнечного луч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alibri"/>
              </a:rPr>
              <a:t>Оптически активные</a:t>
            </a:r>
            <a:r>
              <a:rPr b="1" i="1" lang="en-US" sz="4000" spc="-1" strike="noStrike">
                <a:solidFill>
                  <a:srgbClr val="cc0000"/>
                </a:solidFill>
                <a:latin typeface="Calibri"/>
              </a:rPr>
              <a:t> вещества-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Вещества, обладающие свойством изменять направление колебаний при прохождении через них поляризованного с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Это сахароза, глюкоза, мальтоза и фруктоз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32000" y="1268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Calibri"/>
              </a:rPr>
              <a:t>    </a:t>
            </a:r>
            <a:r>
              <a:rPr b="1" i="1" lang="en-US" sz="3600" spc="-1" strike="noStrike">
                <a:solidFill>
                  <a:srgbClr val="009999"/>
                </a:solidFill>
                <a:latin typeface="Calibri"/>
              </a:rPr>
              <a:t>Для количественного определения оптически активных веществ в продуктах пользуются прибором </a:t>
            </a:r>
            <a:r>
              <a:rPr b="1" i="1" lang="en-US" sz="3600" spc="-1" strike="noStrike">
                <a:solidFill>
                  <a:srgbClr val="cc0000"/>
                </a:solidFill>
                <a:latin typeface="Calibri"/>
              </a:rPr>
              <a:t>поляриметром</a:t>
            </a:r>
            <a:r>
              <a:rPr b="1" i="1" lang="en-US" sz="3600" spc="-1" strike="noStrike">
                <a:solidFill>
                  <a:srgbClr val="009999"/>
                </a:solidFill>
                <a:latin typeface="Calibri"/>
              </a:rPr>
              <a:t> или </a:t>
            </a:r>
            <a:r>
              <a:rPr b="1" i="1" lang="en-US" sz="3600" spc="-1" strike="noStrike">
                <a:solidFill>
                  <a:srgbClr val="cc0000"/>
                </a:solidFill>
                <a:latin typeface="Calibri"/>
              </a:rPr>
              <a:t>сахариметром</a:t>
            </a:r>
            <a:r>
              <a:rPr b="1" i="1" lang="en-US" sz="3600" spc="-1" strike="noStrike">
                <a:solidFill>
                  <a:srgbClr val="009999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su5"/>
          <p:cNvPicPr/>
          <p:nvPr/>
        </p:nvPicPr>
        <p:blipFill>
          <a:blip r:embed="rId2"/>
          <a:stretch/>
        </p:blipFill>
        <p:spPr>
          <a:xfrm>
            <a:off x="-181080" y="0"/>
            <a:ext cx="5038920" cy="5373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at2_1149667546"/>
          <p:cNvPicPr/>
          <p:nvPr/>
        </p:nvPicPr>
        <p:blipFill>
          <a:blip r:embed="rId3"/>
          <a:stretch/>
        </p:blipFill>
        <p:spPr>
          <a:xfrm>
            <a:off x="4867200" y="-243000"/>
            <a:ext cx="427680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4"/>
          <a:stretch/>
        </p:blipFill>
        <p:spPr>
          <a:xfrm>
            <a:off x="-252360" y="5181480"/>
            <a:ext cx="11664720" cy="16765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0"/>
          <p:cNvSpPr txBox="1"/>
          <p:nvPr/>
        </p:nvSpPr>
        <p:spPr>
          <a:xfrm>
            <a:off x="755640" y="5229360"/>
            <a:ext cx="359424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Сахариметр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универсальный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СУ-5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Arial"/>
              <a:ea typeface="Arial"/>
            </a:endParaRPr>
          </a:p>
        </p:txBody>
      </p:sp>
      <p:sp>
        <p:nvSpPr>
          <p:cNvPr id="98" name="WordArt 11"/>
          <p:cNvSpPr txBox="1"/>
          <p:nvPr/>
        </p:nvSpPr>
        <p:spPr>
          <a:xfrm>
            <a:off x="5364000" y="5300640"/>
            <a:ext cx="304812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Поляриметр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портативный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П-161М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Arial"/>
              <a:ea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4495680" y="2890800"/>
            <a:ext cx="152640" cy="1076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6"/>
          <a:stretch/>
        </p:blipFill>
        <p:spPr>
          <a:xfrm>
            <a:off x="4495680" y="2890800"/>
            <a:ext cx="152640" cy="1076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7"/>
          <a:stretch/>
        </p:blipFill>
        <p:spPr>
          <a:xfrm>
            <a:off x="4495680" y="2890800"/>
            <a:ext cx="152640" cy="107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8"/>
          <a:stretch/>
        </p:blipFill>
        <p:spPr>
          <a:xfrm>
            <a:off x="4495680" y="2890800"/>
            <a:ext cx="152640" cy="1076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9"/>
          <a:stretch/>
        </p:blipFill>
        <p:spPr>
          <a:xfrm>
            <a:off x="4788000" y="0"/>
            <a:ext cx="215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1" lang="en-US" sz="3600" spc="-1" strike="noStrike" u="sng">
                <a:solidFill>
                  <a:srgbClr val="d60093"/>
                </a:solidFill>
                <a:uFillTx/>
                <a:latin typeface="Calibri"/>
              </a:rPr>
              <a:t>Поляризация света</a:t>
            </a:r>
            <a:endParaRPr b="0" lang="en-US" sz="36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858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Calibri"/>
              </a:rPr>
              <a:t>Поляризация света</a:t>
            </a: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 – одно из фундаментальных свойств оптического излучения, состоящее в неравноправии различных направлений в плоскости, перпендикулярной световому лучу.</a:t>
            </a: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Впервые понятие о поляризации света было введено в оптику </a:t>
            </a: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Calibri"/>
              </a:rPr>
              <a:t>И. Ньютоном</a:t>
            </a: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 в 1704 г</a:t>
            </a: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polariz2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702468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109" name="WordArt 5"/>
          <p:cNvSpPr txBox="1"/>
          <p:nvPr/>
        </p:nvSpPr>
        <p:spPr>
          <a:xfrm>
            <a:off x="1116000" y="5589720"/>
            <a:ext cx="403236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дел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яризация св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136000" cy="61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У поляризованного луча, пропущенного через слой раствора оптически активного вещества, меняется направление колебаний, а плоскость поляризации оказывается повернутой на некоторый угол, называемый </a:t>
            </a:r>
            <a:r>
              <a:rPr b="1" i="1" lang="en-US" sz="3200" spc="-1" strike="noStrike" u="sng">
                <a:solidFill>
                  <a:srgbClr val="1f497d"/>
                </a:solidFill>
                <a:uFillTx/>
                <a:latin typeface="Calibri"/>
              </a:rPr>
              <a:t>углом поворота плоскости поляризации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, который зависит от поворота плоскости поляризации, концентрации и толщины слоя раствора, длины волны поляризованного луча и температуры.</a:t>
            </a: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5:21:03Z</dcterms:created>
  <dc:creator>хим</dc:creator>
  <dc:description/>
  <cp:keywords/>
  <dc:language>en-US</dc:language>
  <cp:lastModifiedBy>Пользователь</cp:lastModifiedBy>
  <dcterms:modified xsi:type="dcterms:W3CDTF">2012-06-28T06:56:09Z</dcterms:modified>
  <cp:revision>2</cp:revision>
  <dc:subject/>
  <dc:title>Слайд 1</dc:title>
</cp:coreProperties>
</file>