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8D8D-BD4D-4082-B24E-101D5E3D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6225-987D-4ED7-AD36-2BB3B53B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4D8-FC73-4E67-9952-5D34D401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A53F-CF1F-4AD8-8FA6-BE652E32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8069-B326-48E4-B8F4-EB47794B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937D-D819-427F-800C-DB09D953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FBE7-DB9A-4DFF-8E60-1AAC3F99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51E8-EE36-4D6E-8429-232F97B8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E300-30D4-4FB6-925E-7AF269A9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9105-F763-4928-8F1F-C3F6E064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41BE-7C90-492B-B5D5-AC425D59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703-7A29-41DB-8CF4-A2BCD7AA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5BE2-FB9F-426D-A884-8D7A9F86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98DA-ABED-4708-BC61-F5A14C78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7347-96B0-470F-AD39-F420E502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5AE7-EF53-49DD-A08D-9C2C5FD0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19B1-FA28-4B2B-B80A-48B398AF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8AA-DF37-431C-B335-A89C4DE4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B46C-B5E9-42B9-A6E6-7AC29512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DCC-71E2-468F-B1D6-BFB2C7FF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85D-14C3-45B5-A680-728B301D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76F-6A3A-4DE1-84AC-9B3BD222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E67-FA77-4055-B9BB-C0111925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D87-20FC-4600-9C75-650A786C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7163-B1A6-4036-BDAD-1FBB33932C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0EF5-09B1-4E0A-B4CD-013FD1FBC0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udic.ru/hie/2648/" TargetMode="External"/><Relationship Id="rId3" Type="http://schemas.openxmlformats.org/officeDocument/2006/relationships/hyperlink" Target="http://www.edudic.ru/hie/2648/" TargetMode="External"/><Relationship Id="rId4" Type="http://schemas.openxmlformats.org/officeDocument/2006/relationships/hyperlink" Target="http://www.edudic.ru/hie/2648/" TargetMode="External"/><Relationship Id="rId5" Type="http://schemas.openxmlformats.org/officeDocument/2006/relationships/hyperlink" Target="http://505days.com/" TargetMode="External"/><Relationship Id="rId6" Type="http://schemas.openxmlformats.org/officeDocument/2006/relationships/hyperlink" Target="http://www.xumuk.ru/" TargetMode="External"/><Relationship Id="rId7" Type="http://schemas.openxmlformats.org/officeDocument/2006/relationships/hyperlink" Target="http://ru.wikipedia.org/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Bookman Old Style"/>
              </a:rPr>
              <a:t>Количественный анализ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40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lang="en-US" sz="4000" spc="-1" strike="noStrike">
                <a:solidFill>
                  <a:srgbClr val="336699"/>
                </a:solidFill>
                <a:latin typeface="Bookman Old Style"/>
              </a:rPr>
              <a:t>химия</a:t>
            </a:r>
            <a:r>
              <a:rPr b="0" lang="en-US" sz="4000" spc="-1" strike="noStrike">
                <a:solidFill>
                  <a:srgbClr val="336699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Источники: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</a:t>
            </a: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://</a:t>
            </a: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www.edudic.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505day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xumuk.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ru.wikipedia.or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32000" y="2060640"/>
            <a:ext cx="633564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налити́ческая хи́мия —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раздел химии, изучающий </a:t>
            </a:r>
            <a:r>
              <a:rPr b="0" lang="en-US" sz="3000" spc="-1" strike="noStrike" u="sng">
                <a:solidFill>
                  <a:srgbClr val="cc0000"/>
                </a:solidFill>
                <a:uFillTx/>
                <a:latin typeface="Times New Roman"/>
              </a:rPr>
              <a:t>химический соста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3000" spc="-1" strike="noStrike" u="sng">
                <a:solidFill>
                  <a:srgbClr val="cc0000"/>
                </a:solidFill>
                <a:uFillTx/>
                <a:latin typeface="Times New Roman"/>
              </a:rPr>
              <a:t>структуру вещест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едмет её как науки — </a:t>
            </a:r>
            <a:r>
              <a:rPr b="0" lang="en-US" sz="3000" spc="-1" strike="noStrike" u="sng">
                <a:solidFill>
                  <a:srgbClr val="cc0000"/>
                </a:solidFill>
                <a:uFillTx/>
                <a:latin typeface="Times New Roman"/>
              </a:rPr>
              <a:t>совершенствовани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существующих и </a:t>
            </a:r>
            <a:r>
              <a:rPr b="0" lang="en-US" sz="3000" spc="-1" strike="noStrike" u="sng">
                <a:solidFill>
                  <a:srgbClr val="cc0000"/>
                </a:solidFill>
                <a:uFillTx/>
                <a:latin typeface="Times New Roman"/>
              </a:rPr>
              <a:t>разработка 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новых методов анализ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их 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практическое </a:t>
            </a:r>
            <a:r>
              <a:rPr b="0" lang="en-US" sz="3000" spc="-1" strike="noStrike" u="sng">
                <a:solidFill>
                  <a:srgbClr val="cc0000"/>
                </a:solidFill>
                <a:uFillTx/>
                <a:latin typeface="Times New Roman"/>
              </a:rPr>
              <a:t>применени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 u="sng">
                <a:solidFill>
                  <a:srgbClr val="cc0000"/>
                </a:solidFill>
                <a:uFillTx/>
                <a:latin typeface="Times New Roman"/>
              </a:rPr>
              <a:t>исследовани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теоретических основ аналитических методо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Аналитическая хим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качественный                       количествен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анализ                                    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ещества,                         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ольк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элементов, ионов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молекулярных форм и др.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ходятся в образце)                                      находится в образц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</a:t>
            </a: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элементный   молекулярный    фазов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                                        </a:t>
            </a: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анализ             анализ              анали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                                          </a:t>
            </a: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изотопный         органических вещест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                                             </a:t>
            </a: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анализ                          анали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6699"/>
                </a:solidFill>
                <a:latin typeface="Verdana"/>
              </a:rPr>
              <a:t>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6372360" y="3860640"/>
            <a:ext cx="0" cy="432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908000" y="1413000"/>
            <a:ext cx="93528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80000" y="1413000"/>
            <a:ext cx="1079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12000" y="3860640"/>
            <a:ext cx="0" cy="432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08720" y="3860640"/>
            <a:ext cx="0" cy="1297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148000" y="3716280"/>
            <a:ext cx="360360" cy="144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284360" y="3716280"/>
            <a:ext cx="863640" cy="649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          количественного анализ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пределение количественного содержания отдельных составных частей в исследуемом веществе или в смес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езультаты количественного определения выражают обычно в процентах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Методика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, или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алгоритм проведения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оличественного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бор и подготовка пробы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ведение анализируемой части пробы в состояние, удобное для анализ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буждение и измерение аналит. сигнала - физ. величины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оптич. плотности, интенсивности спектральной линии, высоты полярографич. волны, скорости счета импульсов в заданном канале гамма-спектрометра и т.д.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орреляционно связанной с содержанием определяемого компонент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роение градуировочной характеристики, описывающей эту связ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поправки контрольного опыт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чет результата единичного определени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чет результата анализа путем усреднения результатов единичных определений и д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Методы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    количественного анализа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химические          физико-химическ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гравиметрический                  фотометр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итриметрический                нефелометр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газовый                              электрохимическ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пектральный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195280" y="1773360"/>
            <a:ext cx="108108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2720" y="1700280"/>
            <a:ext cx="1150920" cy="720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2924280"/>
            <a:ext cx="0" cy="792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2924280"/>
            <a:ext cx="0" cy="792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Методы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          количественного анализ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Классическим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етодами количественного анализа являются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гравиметрический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весово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анализ – определение количества компонента (элемента или иона) по массе вещества, полученного в результате анализа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итриметрический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бъемны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анализ – основан на точном измерении количества реактива затраченного на реакцию с определяемым клмпоненто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ольшинство методов количественного анализа относятся к </a:t>
            </a:r>
            <a:r>
              <a:rPr b="1" i="1" lang="ru-RU" sz="2600" spc="-1" strike="noStrike">
                <a:solidFill>
                  <a:srgbClr val="336699"/>
                </a:solidFill>
                <a:latin typeface="Times New Roman"/>
              </a:rPr>
              <a:t>сравнительны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(относительным), в которых градуировочную характеристику строят с использованием образцов сравнения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ольшое значение имеют метрологические характеристики - закон распределения результатов параллельных определений, границы интервала определяемых содержаний, воспроизводимость, правильность, погрешности анализ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Тенденция развития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количественного анализа -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* дальнейшая </a:t>
            </a:r>
            <a:r>
              <a:rPr b="0" lang="ru-RU" sz="3000" spc="-1" strike="noStrike" u="sng">
                <a:solidFill>
                  <a:srgbClr val="336699"/>
                </a:solidFill>
                <a:uFillTx/>
                <a:latin typeface="Times New Roman"/>
              </a:rPr>
              <a:t>автоматизаци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с применением компьютеров и </a:t>
            </a:r>
            <a:r>
              <a:rPr b="0" lang="ru-RU" sz="3000" spc="-1" strike="noStrike" u="sng">
                <a:solidFill>
                  <a:srgbClr val="336699"/>
                </a:solidFill>
                <a:uFillTx/>
                <a:latin typeface="Times New Roman"/>
              </a:rPr>
              <a:t>внедрение физических методов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отличающихся экспрессностью, хорошими метрологическими характеристиками, высокой разрешающей способностью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* такими методами можно определять одновременно несколько компонент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5:34:09Z</dcterms:created>
  <dc:creator>Admin</dc:creator>
  <dc:description/>
  <dc:language>en-US</dc:language>
  <cp:lastModifiedBy>Пользователь</cp:lastModifiedBy>
  <dcterms:modified xsi:type="dcterms:W3CDTF">2012-06-28T08:09:50Z</dcterms:modified>
  <cp:revision>4</cp:revision>
  <dc:subject/>
  <dc:title>Количественный анализ                (химия)</dc:title>
</cp:coreProperties>
</file>