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E28E-C1AF-444C-8DD4-458D5BE19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6273-77F0-46A8-BA24-182B14AFA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AE83-4669-45F1-BC73-4D747EB58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0602-407F-4424-92A0-6BE27F8B7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4B86D-93AD-4147-A40D-F08A60680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559E3-6C3E-475A-9EF4-8160D1671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2D062-D65B-49AC-81A9-162C74091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BE4D3-B73C-4484-95A9-C430F5CEF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6B0E1-4855-4EB9-80E1-DAD596F00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4F15E-A954-4693-9F7E-9E3BA29B8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24113-35C4-4F89-9C5F-B82A4CA1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1647-4A68-4924-91AA-44A1ED1DE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9062C-D4BE-4F9F-A75E-6F9AE6899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5ED8C-9304-418C-BE98-A8F63DA3F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979DE-98CA-47DA-965D-3B851DB9F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5D08D-A8A1-4B72-BE6D-D786AB049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DF14F-B7CF-4E9C-A2F2-11FBEA79F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DA41-83D7-4D91-A7A1-A66A573AA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024B-CCAE-4DB8-9801-24AC58A6E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BB6C-83D2-462D-A7FE-6B429E385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037A-882D-4757-990A-43F01D544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CDB3-B90F-43FD-B3B5-8C448BA3D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9BED-05A6-4379-98FE-6A060ACE3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BFF8-9D9A-4846-A991-6FB9416B7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4CE68-C24F-4D80-AFDC-F9D07BF70F8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C183D-5F34-4713-A229-AA6C62D67DF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bbd71"/>
                </a:solidFill>
                <a:latin typeface="Arial"/>
              </a:rPr>
              <a:t>Спектрофотометрический</a:t>
            </a:r>
            <a:br>
              <a:rPr sz="4800"/>
            </a:br>
            <a:r>
              <a:rPr b="0" lang="en-US" sz="4800" spc="-1" strike="noStrike">
                <a:solidFill>
                  <a:srgbClr val="dbbd71"/>
                </a:solidFill>
                <a:latin typeface="Arial"/>
              </a:rPr>
              <a:t>анализ.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dbbd71"/>
                </a:solidFill>
                <a:uFillTx/>
                <a:latin typeface="Arial"/>
              </a:rPr>
              <a:t>Применение спектрофотометрического анализа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пектрофотометрическое определение марганца в виде перманганата по калибровочному график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пределение основано на окислении М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персульфатом аммония, в присутствии нитрата серебра как катализатора, до малиново-фиолетовых перманганат-ион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" dur="2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dbbd71"/>
                </a:solidFill>
                <a:uFillTx/>
                <a:latin typeface="Arial"/>
              </a:rPr>
              <a:t>Приготовление эталонного раствора соли марганца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начала готовят точно 0,1 н раствор перманганата калия. Затем 9,1 мл этого раствора переносят в мерную колбу вместимостью 100 мл, разбавляют водой до метки и перемешивают. Полученный эталонный раствор содержит 0,1 мг марганца в 1 м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5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dbbd71"/>
                </a:solidFill>
                <a:uFillTx/>
                <a:latin typeface="Arial"/>
              </a:rPr>
              <a:t>Построение калибровочного графика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шесть мерных колб вместимостью 50 мл перенести пипеткой соответственно 10, 12, 14, 16, 16, 18 и 20 мл эталонного раствора перманганата калия. Добавить во все колбы по 1 мл концентрированной серной кислоты, довести объем раствора в каждой колбе дистиллированной водой до метки, тщательно перемешать. Измерить оптические плотности всех полученных растворов при длине волн 526 нм в кювете длиной 2 см. В качестве нулевого раствора использовать дистиллированную воду. По найденным величинам построить калибровочный график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3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dbbd71"/>
                </a:solidFill>
                <a:uFillTx/>
                <a:latin typeface="Arial"/>
              </a:rPr>
              <a:t>Ход определения марганца в растворе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мерную колбу вместимостью 50 мл поместить 5 мл исследуемого раствора, содержащего 0,05- 1,0 мг марганца, добавить 1 мл конц. серной кислоты, 0,5 мл фосфорной кислоты и 30 мл дистиллированной воды. Тщательно перемешать полученный раствор, прибавить к нему 1 мл раствора с массовой долей нитрата серебра 0,1% и 5 мл свежеприготовленного раствора с массовой долей  персульфата аммония 25%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гревать смесь на водяной бане при 70-80 С до тех пор, пока малиново-фиолетовая окраска раствора не перестанет усиливаться. Затем содержимое колбы охладить, довести объем раствора в колбе дистиллированной водой до метки, тщательно перемеша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ать раствору постоять 10-15 минут и измерить оптическую плотность его на нерегистрирующем спектрофотометре при длине волны 526 нм в кювете длиной 2 см. В качестве нулевого раствора использовать дистиллированную вод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держание марганца найти по калибровочному график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dbbd71"/>
                </a:solidFill>
                <a:uFillTx/>
                <a:latin typeface="Arial"/>
              </a:rPr>
              <a:t>Сущность анализа. Область его применения</a:t>
            </a:r>
            <a:r>
              <a:rPr b="0" i="1" lang="en-US" sz="4000" spc="-1" strike="noStrike" u="sng">
                <a:solidFill>
                  <a:srgbClr val="dbbd71"/>
                </a:solidFill>
                <a:uFillTx/>
                <a:latin typeface="Arial"/>
              </a:rPr>
              <a:t>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пектрофотометрический анализ основан на законе светопоглощения Бугера- Ламберта- Бера, но объединяет главным образом методы, основанные на измерении поглощения растворами монохроматических излучений. Преимущество использования монохроматических излучений состоит в том, что при этом повышается точность определений, измерение светопоглощения в узком участке спектра позволяет установить более строгую пропорциональность м-у концентрацией определяемого компонента и показателями прибора- спектрофотометр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спользование монохроматического излучения дает возможность выбрать участок спектра, где светопоглощение системы мало зависит от колебаний рН, солевого состава и других фактор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спользование монохроматического излучения позволяет проводить измерения в присутствии посторонних веществ, поглощающих свет в областях спектра, близких к максимуму поглощения определяемого компонента. Применение монохроматического излучения повышает специфичность абсорбционных фотометрических определен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спектрофотометрических определениях используют реакции, дающие соединения с большими поглощающими свойствами, преимущественно- реакции комплексообразования. Поэтому спектрофотометрические определения обычно складываются из двух стадий: выполнения химической реакции и измерения поглощения полученного раствора на спектрофотометр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ольшинство спектрофотометров позволяет измерять как пропускание(Т), так и оптическую плотность раствора 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). Поэтому для вычисления концентрации определяемого вещества используют несколько метод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рафический метод основан на использовании калибровочного графика, построенного в координатах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-C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 Сначала измеряют оптическую плотность эталонных растворов при определенной длине волны, а затем – анализируемого раствора. По калибровочному графику находят концентрацию вещест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сли анализируемый раствор подчиняется закону Бугера- Ламберта-Бера, то готовят только 2 раствора: эталонный с концентрацией вещества Сэ и исследуемый с концентрацией Сх. По результатам измерения вычисляют концентрацию определяемого веществ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х =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хСэ/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де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x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 – оптическая плотность анализируемого и эталонного раствор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dbbd71"/>
                </a:solidFill>
                <a:uFillTx/>
                <a:latin typeface="Arial"/>
              </a:rPr>
              <a:t>Основные типы спектрофотометров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з аппаратуры отечественного производства наиболее распространены спектрофотометры типа СФ-4, СФ-4А, СФД-2, СФ-5, СФ-16, и СФ-26, а также саморегистрирующие спектрофотометры СФ-2М, СФ-8, СФ-9, СФ-10и СФ-14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2-06-28T08:09:04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