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8BC-4294-469E-9014-B3603444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C35-A725-4C81-B79B-18FB40B1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DCF-4D21-4E50-8D78-A07D5BB9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6D4-7587-43DD-A218-DD4E7D07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3212-4E3D-43B8-A782-F663C3BA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2B94-EA5F-426C-9E9B-90276595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1BA3-BC9E-4F82-873D-89BB8C1B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4A0B-B338-414B-BF01-F06E7077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2E62-11A9-4660-96A7-4B5A2AF5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F6A2-5F74-4785-9A0D-217EF0FB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39BE-3555-48CD-B904-370EC6A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5FA-79D1-46BB-9237-DCB98865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8B7-404B-43B8-9232-4A9F6F6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56F8-174B-49E3-8AA3-8F6E5101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4E1E-DDA2-4697-8A0B-74C08096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6EFF-C7EA-4A0F-B7C8-11B0B857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B0D1-808B-422A-BAC1-D5C7FBF3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5AB-41FC-495E-8820-FAE35E51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359-F616-4D32-B46A-B55FF61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DB7-7F4B-4BE7-A6E2-A39CDADE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2C8-FC0F-4780-B472-DB4D3F3E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85A-EC27-42A9-AA15-E42B6AD0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7D0-C321-4128-AD98-EFD7024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2B9-1AE5-4B37-9560-593EAF9E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9313-4041-4818-ACEF-6613771770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F380-C2F6-4184-A3DA-CEE7112DCA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4360" y="981000"/>
            <a:ext cx="7920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"Физико-химическ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етоды анализ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67280" y="3645000"/>
            <a:ext cx="292104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Физико-химические методы анализа могут включать: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химические превращения определяемого соединения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растворение образц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концентрирование анализируемого компонента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маскирование мешающих веществ и други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Отли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3400200">
            <a:off x="3080160" y="65952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8633600">
            <a:off x="5938200" y="693720"/>
            <a:ext cx="222480" cy="650880"/>
          </a:xfrm>
          <a:prstGeom prst="downArrow">
            <a:avLst>
              <a:gd name="adj1" fmla="val 50000"/>
              <a:gd name="adj2" fmla="val 731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341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"классические"</a:t>
            </a:r>
            <a:endParaRPr b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химические методы</a:t>
            </a:r>
            <a:endParaRPr b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148360" y="1341360"/>
            <a:ext cx="37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cc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физико-химические</a:t>
            </a:r>
            <a:endParaRPr b="1" lang="en-US" sz="1800" spc="1" strike="noStrike">
              <a:ln w="9360">
                <a:solidFill>
                  <a:srgbClr val="0066cc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cc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методы анализа</a:t>
            </a:r>
            <a:endParaRPr b="1" lang="en-US" sz="1800" spc="1" strike="noStrike">
              <a:ln w="9360">
                <a:solidFill>
                  <a:srgbClr val="0066cc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37083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en-US" sz="2800" spc="-1" strike="noStrike">
                <a:solidFill>
                  <a:srgbClr val="ccecff"/>
                </a:solidFill>
                <a:latin typeface="Verdana"/>
              </a:rPr>
              <a:t>Аналитическим сигналом служит масса вещества или его объ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2565360"/>
            <a:ext cx="48592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ccecff"/>
                </a:solidFill>
                <a:latin typeface="Verdana"/>
              </a:rPr>
              <a:t>В качестве анали-тического сигнала используют интен-сивность излучения, силу тока, электро-проводность, раз-ность потенциалов и др.</a:t>
            </a:r>
            <a:r>
              <a:rPr b="0" lang="ru-RU" sz="2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604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Важное практическое значение имеют методы, основанные на исследовании испускания и поглощения электромагнитного излу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в различн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областя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спектр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52927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7570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К нему относится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Verdana"/>
              </a:rPr>
              <a:t>спектроскопия</a:t>
            </a:r>
            <a:r>
              <a:rPr b="1" i="1" lang="ru-RU" sz="3600" spc="-1" strike="noStrike">
                <a:solidFill>
                  <a:srgbClr val="ccecff"/>
                </a:solidFill>
                <a:latin typeface="Verdana"/>
              </a:rPr>
              <a:t> (например, люминесцентный анализ, спектральный анализ,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ccecff"/>
                </a:solidFill>
                <a:latin typeface="Verdana"/>
              </a:rPr>
              <a:t>нефелометрия и турбидиметрия и другие)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 важным физико-химическим методам анализа принадлежат: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4456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Verdana"/>
              </a:rPr>
              <a:t>электрохимические методы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(кондуктометрия, кулонометрия, потенциометрия и т. д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Verdana"/>
              </a:rPr>
              <a:t>хроматография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(газовая хроматография, жидкостная хроматография, ионообменная хроматография, тонкослойная хроматография).</a:t>
            </a:r>
            <a:r>
              <a:rPr b="0" lang="ru-RU" sz="3200" spc="-1" strike="noStrike">
                <a:solidFill>
                  <a:srgbClr val="ccecff"/>
                </a:solidFill>
                <a:latin typeface="Verdan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Verdana"/>
              </a:rPr>
              <a:t>При выполнении физико-химических методов анализа используют специальную, иногда довольно сложную, измерительную аппаратуру, в связи с чем эти методы часто называют инструментальными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609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6093000"/>
            <a:ext cx="6588000" cy="765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588000" y="0"/>
            <a:ext cx="2556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859280" y="4508640"/>
            <a:ext cx="4067280" cy="21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Автомат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титратор «Титри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весовой титр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(весовая бюретка)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967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Методы прямых измерений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Verdana"/>
              </a:rPr>
              <a:t>используют зависимость аналитического сигнала от природы анализируемого вещества и его концентрации. Зависимость сигнала от природы вещества - основа качественного анализа (потенциал полуволны в полярографии и т.д.). В некоторых методах связь аналитического сигнала с природой вещества установлена строго теоретически. Например, спектр атома водорода может быть рассчитан по теоретически выведенным формула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757080" y="-60480"/>
            <a:ext cx="8172360" cy="6918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651640" y="4581360"/>
            <a:ext cx="3241440" cy="189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Методы прямых измер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0447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Методы титрования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Verdana"/>
              </a:rPr>
              <a:t>Измеряют интенсивность аналитического сигнала I в зависимости от объема V добавленного титранта. По кривой титрования I=f (V)находят точку эквивалентности и рассчитывают результат по обычным формулам титриметрического анализ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5075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Физико-химический анализ-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комплекс методов анализа физико-химических систем путем построения и геометрического анализа диаграмм состояния и диаграмм состав-свойств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3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5734080"/>
            <a:ext cx="8281800" cy="89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Метод тит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Verdana"/>
              </a:rPr>
              <a:t>Физико-химические методы анализа часто используют при определении низких содержаний (порядка 10-3% и менее), где классические химические методы анализа обычно неприменимы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2292480"/>
            <a:ext cx="8424720" cy="4565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189000"/>
            <a:ext cx="842472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60280"/>
            <a:ext cx="7920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Первоначально исследования в области физико-химического анализа были сосредоточены на изучении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зависимостей температур фазовых переходов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 от состава.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99120" cy="7850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92720" y="189000"/>
            <a:ext cx="3600360" cy="640872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6408720"/>
              <a:gd name="textAreaBottom" fmla="*/ 6233040 h 6408720"/>
            </a:gdLst>
            <a:ahLst/>
            <a:rect l="textAreaLeft" t="textAreaTop" r="textAreaRight" b="textAreaBottom"/>
            <a:pathLst>
              <a:path w="21600" h="38447">
                <a:moveTo>
                  <a:pt x="3600" y="0"/>
                </a:moveTo>
                <a:arcTo wR="3600" hR="3600" stAng="16200000" swAng="-5400000"/>
                <a:lnTo>
                  <a:pt x="0" y="34847"/>
                </a:lnTo>
                <a:arcTo wR="3600" hR="3600" stAng="10800000" swAng="-5400000"/>
                <a:lnTo>
                  <a:pt x="18000" y="384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620640"/>
            <a:ext cx="374328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На рубеже XIX—XX веков </a:t>
            </a:r>
            <a:r>
              <a:rPr b="1" i="1" lang="ru-RU" sz="2000" spc="-1" strike="noStrike">
                <a:solidFill>
                  <a:srgbClr val="ff3300"/>
                </a:solidFill>
                <a:latin typeface="Verdana"/>
              </a:rPr>
              <a:t>Н.С.Курнаков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оказал, что любое физ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свойство 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 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является функцией состава, а для изучения фазового состояния 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использовать элект-ропроводность, вяз-кость, поверхностное натяжение, теплоем-кость, коэффициент рефракции, и друг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изические свой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260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Основа теор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48836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В основе теории физико-химического анализа лежат сформулированные </a:t>
            </a:r>
            <a:r>
              <a:rPr b="1" i="1" lang="ru-RU" sz="3200" spc="-1" strike="noStrike">
                <a:solidFill>
                  <a:srgbClr val="ff9900"/>
                </a:solidFill>
                <a:latin typeface="Verdana"/>
              </a:rPr>
              <a:t>Н. С. Курнаковым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Verdana"/>
              </a:rPr>
              <a:t>принципы соответствия и непрерывности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468360" y="260280"/>
            <a:ext cx="9361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инцип непрерывности утверждает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если в системе не образуются новые фазы или не исчезают существующие, то при непрерывном изменении параметров системы свойства отдельных фаз и свойства системы в целом изменяются непрерывно.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9280" y="5950080"/>
            <a:ext cx="8640720" cy="69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26920" y="6093000"/>
            <a:ext cx="7344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360" y="260280"/>
            <a:ext cx="8677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инцип соответствия утверждает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Verdana"/>
              </a:rPr>
              <a:t>каждому комплексу фаз соответ-ствует определённый геометрический образ на диаграмме состав-свойство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-630360"/>
            <a:ext cx="7775640" cy="7488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885080" y="189000"/>
            <a:ext cx="1042920" cy="6381720"/>
          </a:xfrm>
          <a:custGeom>
            <a:avLst/>
            <a:gdLst>
              <a:gd name="textAreaLeft" fmla="*/ 50760 w 1042920"/>
              <a:gd name="textAreaRight" fmla="*/ 992160 w 1042920"/>
              <a:gd name="textAreaTop" fmla="*/ 50760 h 6381720"/>
              <a:gd name="textAreaBottom" fmla="*/ 6330960 h 6381720"/>
            </a:gdLst>
            <a:ahLst/>
            <a:rect l="textAreaLeft" t="textAreaTop" r="textAreaRight" b="textAreaBottom"/>
            <a:pathLst>
              <a:path w="21600" h="132134">
                <a:moveTo>
                  <a:pt x="3600" y="0"/>
                </a:moveTo>
                <a:arcTo wR="3600" hR="3600" stAng="16200000" swAng="-5400000"/>
                <a:lnTo>
                  <a:pt x="0" y="128534"/>
                </a:lnTo>
                <a:arcTo wR="3600" hR="3600" stAng="10800000" swAng="-5400000"/>
                <a:lnTo>
                  <a:pt x="18000" y="1321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028000" y="476280"/>
            <a:ext cx="2872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532720" y="1916280"/>
            <a:ext cx="289080" cy="43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4:41:03Z</dcterms:created>
  <dc:creator>хим</dc:creator>
  <dc:description/>
  <dc:language>en-US</dc:language>
  <cp:lastModifiedBy>Пользователь</cp:lastModifiedBy>
  <dcterms:modified xsi:type="dcterms:W3CDTF">2012-06-28T06:56:39Z</dcterms:modified>
  <cp:revision>3</cp:revision>
  <dc:subject/>
  <dc:title>Слайд 1</dc:title>
</cp:coreProperties>
</file>