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7D0-8594-4E05-9493-88FBD383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7AB-2BA0-4BF9-95E1-F00D2DE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A0B-B679-44D2-BC94-3E3F55D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C29-E8BE-4315-97BC-FD5E05FB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53E7-891E-4BED-A4BE-43628E1B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986E-5E36-4471-93C6-D7650A62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908-1A91-4018-9D92-4552519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DCD-874A-4698-A98A-817FC3A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BD58-93FF-47EC-A4E4-90A800DD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E00-175A-4A3A-B4D9-5D72530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8F4A-CAA2-4870-81BF-DB79727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209-6A89-4621-9DD5-50196B7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C84-510D-414B-A129-14E7BC4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2B1-B0B6-44C4-9924-8DC0B77F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4D65-D028-42D2-9951-59BFB6D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9C3-A434-4486-9120-E214764C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7BC1-CCA5-4274-B0D2-C17B47F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89A-DF95-4AEA-9A77-BB85F8F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933-C890-43B7-AE8F-860A93E1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29D-4D3C-473D-955A-60512D6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A8A-4AD6-4ED5-98C9-992715DA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0DF-F6A2-4EAE-A489-6D2FBD7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FB0-B99C-4A7A-95B5-5B7648F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CA5-7B3B-40D7-B5AB-C862DA0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180-803D-46B6-9F47-96A612DB8C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7481-640C-442F-BFFA-B82455E204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Физические методы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           анализ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стоинства физических метод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простота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оподготовк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и качественного анализа проб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большая универсально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о сравнению с химический и физических-химический методам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т.ч. возможность анализа многокомпонентных смес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широкий динамичный диапазо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. е. возможность определения основных, примесных и следовых составляющи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асто </a:t>
            </a: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низкие пределы обнаруж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ак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концентра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о масс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то позволяет расходовать предельно малые количества пробы, а иногда проводить неразрушающий анализ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гие физические методы анализа позволяют выполнять как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вал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локаль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послой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 пространственным разрешением вплоть до моноатомного уров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е методы анализа удобны для автомат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достижений физики в аналитической химии приводит </a:t>
            </a:r>
            <a:r>
              <a:rPr b="0" lang="ru-RU" sz="2600" spc="-1" strike="noStrike">
                <a:solidFill>
                  <a:srgbClr val="669900"/>
                </a:solidFill>
                <a:latin typeface="Arial"/>
              </a:rPr>
              <a:t>к созданию новых методов анали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, в конце 80-х гг. появились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масс-спектрометр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индуктивно связанной плазмой,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ядерный микрозон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етод, основанный на регистрации рентгеновского излучения, возбужденного при бомбардировке исследуемого образца пучком ускоренных ионов, обычно протон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9900"/>
                </a:solidFill>
                <a:latin typeface="Arial"/>
              </a:rPr>
              <a:t>Расширяются области применения ФМ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родных объектов и технических материал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вый толчок их развитию даст переход от разработки 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теоретических основ </a:t>
            </a:r>
            <a:r>
              <a:rPr b="1" i="1" lang="en-US" sz="2100" spc="-1" strike="noStrike">
                <a:solidFill>
                  <a:srgbClr val="669900"/>
                </a:solidFill>
                <a:latin typeface="Arial"/>
              </a:rPr>
              <a:t>отдельных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 метод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к созданию </a:t>
            </a:r>
            <a:r>
              <a:rPr b="1" i="1" lang="en-US" sz="2100" spc="-1" strike="noStrike">
                <a:solidFill>
                  <a:srgbClr val="669900"/>
                </a:solidFill>
                <a:latin typeface="Arial"/>
              </a:rPr>
              <a:t>общей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 теории физических методов анали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Цель таких исследований - выявление физических факторов, обеспечивающих все связи в процессе анализа. Нахождение точной взаимосвязи аналитического сигнала с содержанием определяемого компонента открывает путь к созданию 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"абсолютных" методов анали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не требующих образцов сравн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здание общей теории облегчит сопоставление физических методов анализа между собой, правильный выбор метода для решения конкретных аналитических задач, оптимизацию условий анали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сточник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xumuk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chemport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dic.academic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3371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методы 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совокупность методов качественного и количественного анализа веществ, основанных на измерении физических характеристик, обусловливающих химическую индивидуальность определяемых компон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методы 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аны на измерении эффекта, вызванного взаимодействием с веществом излучения - потока квантов или част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лучение играет примерно ту же роль, что играет реактив в химических методах анализа. Измеряемый физический эффект представляет собой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В результате нескольких или множества измерений величины сигнала и их статистической обработки получают аналитический сигнал. Он связан с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концентр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масс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пределяемых компон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ФМ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Исходя из характера используемого излучения, физические методы анализа можно разделить на три группы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методы, использующие первичное излучение, поглощаемое образцо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применяющие первичное излучение, рассеиваемое образцо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использующие вторичное излучение, испускаемое образц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ФМА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         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С точки зрения практического применения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спектроскопические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ядерно-физические и радиохимические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прочие метод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32360" cy="26082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/>
          <p:cNvSpPr/>
          <p:nvPr/>
        </p:nvSpPr>
        <p:spPr>
          <a:xfrm>
            <a:off x="250920" y="6165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пектроскопическ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омно-эмиссион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атомно-абсорбцион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атомно-флуо-ресцентная спектрометрия и др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рентгеновская спектроскопия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т. ч. рентгено-флуоресцентный метод и рентгеноспектральный микроанализ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масс-спектро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электронный парамагнитный резонанс и ядерный магнитный резонан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электронная спектро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Ядерно-физические и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 радиохимические метод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оактивационный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дерная гамма-резонансная, или мёссбауэровская спектроскоп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отопного разбавления мет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ч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нтгеновская дифрактометрия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24160" cy="309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097440" cy="30974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565960" cy="61930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324000" y="2276640"/>
            <a:ext cx="26636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абора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физ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метод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анал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44:18Z</dcterms:created>
  <dc:creator>Admin</dc:creator>
  <dc:description/>
  <dc:language>en-US</dc:language>
  <cp:lastModifiedBy>Пользователь</cp:lastModifiedBy>
  <dcterms:modified xsi:type="dcterms:W3CDTF">2012-06-28T08:10:43Z</dcterms:modified>
  <cp:revision>3</cp:revision>
  <dc:subject/>
  <dc:title>Слайд 1</dc:title>
</cp:coreProperties>
</file>