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media/image20.jpeg" ContentType="image/jpeg"/>
  <Override PartName="/ppt/media/image19.jpeg" ContentType="image/jpeg"/>
  <Override PartName="/ppt/media/image11.png" ContentType="image/png"/>
  <Override PartName="/ppt/media/image30.jpeg" ContentType="image/jpeg"/>
  <Override PartName="/ppt/media/image31.png" ContentType="image/png"/>
  <Override PartName="/ppt/media/image32.jpeg" ContentType="image/jpeg"/>
  <Override PartName="/ppt/media/image7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36.png" ContentType="image/png"/>
  <Override PartName="/ppt/media/image37.jpeg" ContentType="image/jpeg"/>
  <Override PartName="/ppt/media/image40.png" ContentType="image/png"/>
  <Override PartName="/ppt/media/image41.jpeg" ContentType="image/jpeg"/>
  <Override PartName="/ppt/media/image8.jpeg" ContentType="image/jpe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CEA-7CE3-462E-B092-3A97032A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371F-636A-4FCF-B62D-AB4843C1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1A3F-C19B-4F78-992E-51F71B7B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FFE-E88F-4353-A27F-AE23B0AC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B9A7-7E1A-4FC9-846B-01CE1793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14CB-9B2B-4571-AB7D-5D96B6A9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005A-F9B2-4005-A23D-3CB54722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D5C9-0D35-4580-8660-DB28B97B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E91E-EED6-4A52-80E9-CE4E86AD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45D1-6102-4AEE-B8C1-D9DAA8F2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ED5A-A1FD-46B8-84B3-EC5885A7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933E-F3CB-4063-8620-2C72CC4A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2C09-F792-41CC-B42D-81FB59C7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0903-4C81-4ACD-8529-24E27F17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7E16-D59B-4252-839C-AB3C61A6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469D-6966-403C-9671-53F0E90A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99C1-C65E-40BD-B411-BEDD34F6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C6CA-A75C-49B4-AB0C-A8558C59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6AF-66E9-4CD5-BD47-C840C644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863-8536-4F5C-8B04-67FC00FE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D95-44C1-48EF-8C88-CD03EC08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2E2-A668-42C3-A89C-568BB053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56D9-B4D3-4A88-A0D7-CA823F3C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CC29-EEEA-4D50-BACE-67340A2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1600E-C6BE-4BD9-87E1-26FAF6558F67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7AD3-B72E-4C60-8699-84673A2D00B3}" type="slidenum">
              <a:rPr b="1" i="1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75640" cy="44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0" y="0"/>
            <a:ext cx="91440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Вяжущие вещества - это порошкообразные материалы минерального происхождения, которые при затворении водой образуют тесто, быстро или медленно твердеющее. Для предотвращения растрескивания теста при затвердении (вследствие уменьшения в объеме), а также повышение теплозащитных свойств и удешевления раствора в него добавляют чистый   кварцевый   песок,  мелкий шлак, пемзовую мелочь или другие подобные  материалы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-128520" y="3645000"/>
            <a:ext cx="8980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-109440" y="-341280"/>
            <a:ext cx="9253440" cy="3139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C:\Users\Женис\Desktop\известь.jpeg"/>
          <p:cNvPicPr/>
          <p:nvPr/>
        </p:nvPicPr>
        <p:blipFill>
          <a:blip r:embed="rId2"/>
          <a:stretch/>
        </p:blipFill>
        <p:spPr>
          <a:xfrm>
            <a:off x="285840" y="2786040"/>
            <a:ext cx="8643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71360" y="255600"/>
            <a:ext cx="8466120" cy="2676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C:\Users\Женис\Desktop\известьes.jpeg"/>
          <p:cNvPicPr/>
          <p:nvPr/>
        </p:nvPicPr>
        <p:blipFill>
          <a:blip r:embed="rId2"/>
          <a:stretch/>
        </p:blipFill>
        <p:spPr>
          <a:xfrm>
            <a:off x="1143000" y="2928960"/>
            <a:ext cx="6315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"/>
          <p:cNvSpPr/>
          <p:nvPr/>
        </p:nvSpPr>
        <p:spPr>
          <a:xfrm>
            <a:off x="0" y="31680"/>
            <a:ext cx="5219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  <a:ea typeface="Calibri"/>
              </a:rPr>
              <a:t>Строительный гипс получается путем обжига и помола гипсового камня при температуре 160 -170°. Обжиг гипсового камня производится двумя способами: при первом — гипсовый камень сначала обжигается в специальных печах, а потом размалывается через сита. Такой гипс называется жженым. 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C:\Users\Женис\Desktop\гипсlt.jpeg"/>
          <p:cNvPicPr/>
          <p:nvPr/>
        </p:nvPicPr>
        <p:blipFill>
          <a:blip r:embed="rId1"/>
          <a:stretch/>
        </p:blipFill>
        <p:spPr>
          <a:xfrm>
            <a:off x="5072040" y="0"/>
            <a:ext cx="3821040" cy="3763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Женис\Desktop\гипсddd85.jpg"/>
          <p:cNvPicPr/>
          <p:nvPr/>
        </p:nvPicPr>
        <p:blipFill>
          <a:blip r:embed="rId2"/>
          <a:stretch/>
        </p:blipFill>
        <p:spPr>
          <a:xfrm>
            <a:off x="5003640" y="3929040"/>
            <a:ext cx="4140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7248600" cy="49993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C:\Users\Женис\Desktop\гипсыs.jpeg"/>
          <p:cNvPicPr/>
          <p:nvPr/>
        </p:nvPicPr>
        <p:blipFill>
          <a:blip r:embed="rId2"/>
          <a:stretch/>
        </p:blipFill>
        <p:spPr>
          <a:xfrm>
            <a:off x="6715080" y="285840"/>
            <a:ext cx="2428920" cy="2455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Users\Женис\Desktop\гипs.jpeg"/>
          <p:cNvPicPr/>
          <p:nvPr/>
        </p:nvPicPr>
        <p:blipFill>
          <a:blip r:embed="rId3"/>
          <a:stretch/>
        </p:blipFill>
        <p:spPr>
          <a:xfrm>
            <a:off x="0" y="426564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Содержимое 2" descr=""/>
          <p:cNvPicPr/>
          <p:nvPr/>
        </p:nvPicPr>
        <p:blipFill>
          <a:blip r:embed="rId1"/>
          <a:stretch/>
        </p:blipFill>
        <p:spPr>
          <a:xfrm>
            <a:off x="-6480" y="-79200"/>
            <a:ext cx="9210960" cy="44496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Users\Женис\Desktop\цемt.jpeg"/>
          <p:cNvPicPr/>
          <p:nvPr/>
        </p:nvPicPr>
        <p:blipFill>
          <a:blip r:embed="rId2"/>
          <a:stretch/>
        </p:blipFill>
        <p:spPr>
          <a:xfrm>
            <a:off x="0" y="2643120"/>
            <a:ext cx="4214880" cy="4214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C:\Users\Женис\Desktop\цемен.jpeg"/>
          <p:cNvPicPr/>
          <p:nvPr/>
        </p:nvPicPr>
        <p:blipFill>
          <a:blip r:embed="rId3"/>
          <a:stretch/>
        </p:blipFill>
        <p:spPr>
          <a:xfrm>
            <a:off x="4425840" y="2565360"/>
            <a:ext cx="4718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Содержимое 2" descr=""/>
          <p:cNvPicPr/>
          <p:nvPr/>
        </p:nvPicPr>
        <p:blipFill>
          <a:blip r:embed="rId1"/>
          <a:stretch/>
        </p:blipFill>
        <p:spPr>
          <a:xfrm>
            <a:off x="-6480" y="-96840"/>
            <a:ext cx="8869320" cy="2882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C:\Users\Женис\Desktop\гна.jpeg"/>
          <p:cNvPicPr/>
          <p:nvPr/>
        </p:nvPicPr>
        <p:blipFill>
          <a:blip r:embed="rId2"/>
          <a:stretch/>
        </p:blipFill>
        <p:spPr>
          <a:xfrm>
            <a:off x="0" y="2000160"/>
            <a:ext cx="89028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79280" y="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личительными  свойствами глины являются пластичность, способность  разбухать и увеличиваться  в  объеме при поглощении во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2" descr="C:\Users\Женис\Desktop\глина.jpeg"/>
          <p:cNvPicPr/>
          <p:nvPr/>
        </p:nvPicPr>
        <p:blipFill>
          <a:blip r:embed="rId1"/>
          <a:stretch/>
        </p:blipFill>
        <p:spPr>
          <a:xfrm>
            <a:off x="324000" y="1643040"/>
            <a:ext cx="863748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не является природным материалом. Его изготовление - процесс дорогостоящий и энергоемкий, однако результат стоит того - на выходе получают один из самых популярных строительных материалов, который используется как самостоятельно, так и в качестве составляющего компонента других строительных материалов (например, бетона и железобетона). Цементные заводы, как правило, находятся сразу же на месте добычи сырьевых материалов для производства цемен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Picture 7" descr="i5559619"/>
          <p:cNvPicPr/>
          <p:nvPr/>
        </p:nvPicPr>
        <p:blipFill>
          <a:blip r:embed="rId2"/>
          <a:stretch/>
        </p:blipFill>
        <p:spPr>
          <a:xfrm>
            <a:off x="4714920" y="1357200"/>
            <a:ext cx="4429080" cy="5500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20080320145455"/>
          <p:cNvPicPr/>
          <p:nvPr/>
        </p:nvPicPr>
        <p:blipFill>
          <a:blip r:embed="rId3"/>
          <a:stretch/>
        </p:blipFill>
        <p:spPr>
          <a:xfrm>
            <a:off x="0" y="1357200"/>
            <a:ext cx="450072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304920" y="1371600"/>
            <a:ext cx="8534160" cy="0"/>
          </a:xfrm>
          <a:prstGeom prst="line">
            <a:avLst/>
          </a:prstGeom>
          <a:ln w="2844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200400" y="175248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ffcc"/>
              </a:gs>
              <a:gs pos="100000">
                <a:srgbClr val="ffff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Электрические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йства веществ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9144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50000">
                <a:srgbClr val="ccffcc"/>
              </a:gs>
              <a:gs pos="100000">
                <a:srgbClr val="99ff99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оводн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4290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ccffff"/>
              </a:gs>
              <a:gs pos="100000">
                <a:srgbClr val="66ccff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олупроводн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5943600" y="3886200"/>
            <a:ext cx="22860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becd5"/>
              </a:gs>
              <a:gs pos="100000">
                <a:srgbClr val="ffcc00"/>
              </a:gs>
            </a:gsLst>
            <a:lin ang="5400000"/>
          </a:gradFill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Диэлектрики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11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381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057400" y="3276720"/>
            <a:ext cx="4952880" cy="0"/>
          </a:xfrm>
          <a:prstGeom prst="line">
            <a:avLst/>
          </a:prstGeom>
          <a:ln w="3816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205740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4"/>
          <p:cNvSpPr/>
          <p:nvPr/>
        </p:nvSpPr>
        <p:spPr>
          <a:xfrm>
            <a:off x="464832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5"/>
          <p:cNvSpPr/>
          <p:nvPr/>
        </p:nvSpPr>
        <p:spPr>
          <a:xfrm>
            <a:off x="7010280" y="3276720"/>
            <a:ext cx="0" cy="609480"/>
          </a:xfrm>
          <a:prstGeom prst="line">
            <a:avLst/>
          </a:prstGeom>
          <a:ln w="38160">
            <a:solidFill>
              <a:srgbClr val="69676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30492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Хорошо проводя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металлы, электролиты, плазма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используемые проводники 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, Cu, Al, Fe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640080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cc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актически не проводя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лектрический ток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ним относятся пластмассы, резина, стекло, фарфор, сухое дерево, бумага …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3352680" y="4800600"/>
            <a:ext cx="2514600" cy="18082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000000"/>
              </a:gs>
            </a:gsLst>
            <a:lin ang="0"/>
          </a:gra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Занимают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по проводимости </a:t>
            </a: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промежуточное положение</a:t>
            </a:r>
            <a:r>
              <a:rPr b="0" lang="ru-RU" sz="1400" spc="-1" strike="noStrike">
                <a:solidFill>
                  <a:srgbClr val="ffff00"/>
                </a:solidFill>
                <a:latin typeface="Arial"/>
              </a:rPr>
              <a:t> между проводниками и диэлектриками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, Ge, Se, In, As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380880" y="4762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ые вещества имеют различные электрические свойства, однако по электрической проводимости их можно разделить на 3 основные группы: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328240" cy="144612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95280" y="164304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askerville Old Face"/>
              </a:rPr>
              <a:t>Получение клинкер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Baskerville Old Face"/>
              </a:rPr>
              <a:t>доведение клинкера до порошкообразного состояния с добавлением к нему гипса или других добавок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Picture 6" descr="f1912_1"/>
          <p:cNvPicPr/>
          <p:nvPr/>
        </p:nvPicPr>
        <p:blipFill>
          <a:blip r:embed="rId2"/>
          <a:stretch/>
        </p:blipFill>
        <p:spPr>
          <a:xfrm>
            <a:off x="4357800" y="4437000"/>
            <a:ext cx="45133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самый дорогостоящий, именно на него приходится 70% себестоимости цемента. А происходит это следующим образом: первая стадия - это добыча сырьевых материалов. Разработка известняковых месторождений ведется обычно сносом, т. е. часть горы «сносят вниз», открывая тем самым слой желтовато-зеленого известняка, который используется для производства цемента. Затем этот материал отправляется на измельчение до кусков равных 10 см в диаметре. После этого известняк подсушивается, и идет процесс помола и смешивания его с другими компонентами. Далее эта сырьевая смесь подвергается обжигу. Так получают клинкер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9748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92880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тоже состоит из нескольких стадий. Это: дробление клинкера, сушка минеральных добавок, дробление гипсового камня, помол клинкера совместно с гипсом и активными минеральными добавками. В цементной промышленности используют три способа производства, в основе которых лежат различные технологические приемы подготовки сырьевого материала: мокрый, сухой и комбинированны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4" descr="11440963"/>
          <p:cNvPicPr/>
          <p:nvPr/>
        </p:nvPicPr>
        <p:blipFill>
          <a:blip r:embed="rId2"/>
          <a:stretch/>
        </p:blipFill>
        <p:spPr>
          <a:xfrm>
            <a:off x="4000680" y="4429080"/>
            <a:ext cx="4929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68360" y="1143000"/>
            <a:ext cx="8229600" cy="65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askerville Old Face"/>
              </a:rPr>
              <a:t>производства используют при изготовлении цемента из мела (карбонатный компонент), глины (силикатный компонент) и железосодержащих добавок (конверторный шлам, железистый продукт, пиритные огарки). Влажность глины при этом не должна превышать 20%, а влажность мела - 29%. Мокрым этот способ назван потому, что измельчение сырьевой смеси производится в водной среде, на выходе получается шихта в виде водной суспензии - шлама влажностью 30 - 50%. Далее шлам поступает в печь для обжига. При обжиге из сырья выделяются углекислоты. После этого шарики-клинкеры, растирают в тонкий порошок, который и является цемент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7db4b77727b42a3d5cfdb347c53f9199"/>
          <p:cNvPicPr/>
          <p:nvPr/>
        </p:nvPicPr>
        <p:blipFill>
          <a:blip r:embed="rId2"/>
          <a:stretch/>
        </p:blipFill>
        <p:spPr>
          <a:xfrm>
            <a:off x="4572000" y="4324320"/>
            <a:ext cx="4572000" cy="2533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thumbsup"/>
          <p:cNvPicPr/>
          <p:nvPr/>
        </p:nvPicPr>
        <p:blipFill>
          <a:blip r:embed="rId3"/>
          <a:stretch/>
        </p:blipFill>
        <p:spPr>
          <a:xfrm>
            <a:off x="214200" y="4286160"/>
            <a:ext cx="4071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6836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Baskerville Old Face"/>
              </a:rPr>
              <a:t>Сухой способ заключается в том, что сырьевые материалы перед помолом или в его процессе высушиваются. И сырьевая шихта выходит в виде тонкоизмельченного сухого порошк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Baskerville Old Face"/>
              </a:rPr>
              <a:t>Комбинированный способ, как уже следует из названия, предполагает использование и сухого и мокрого способа. Комбинированный способ имеет две разновидности. Первая предполагает, что сырьевую смесь готовят по мокрому способу в виде шлама, потом её обезвоживают на фильтрах до влажности 16 - 18% и отправляют в печи для обжига в виде полусухой массы. Второй вариант приготовления является прямо противоположным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1223060277_6_small"/>
          <p:cNvPicPr/>
          <p:nvPr/>
        </p:nvPicPr>
        <p:blipFill>
          <a:blip r:embed="rId2"/>
          <a:stretch/>
        </p:blipFill>
        <p:spPr>
          <a:xfrm>
            <a:off x="179280" y="3571920"/>
            <a:ext cx="89647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Для каждого способа используется определенный вид оборудования и строго определенная последовательность операц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Далее цемент фасуется в бумажные мешки по 50 кг. Отправка производится на автомобилях или по железнодорожной дорог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2480" indent="-3697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  </a:t>
            </a:r>
            <a:r>
              <a:rPr b="0" i="1" lang="ru-RU" sz="2800" spc="-1" strike="noStrike">
                <a:solidFill>
                  <a:srgbClr val="ffffff"/>
                </a:solidFill>
                <a:latin typeface="Baskerville Old Face"/>
              </a:rPr>
              <a:t>Без цемента не обходится ни одно строительство, а это лучший показатель его высоких эксплуатационных характеристик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0000098824-preview"/>
          <p:cNvPicPr/>
          <p:nvPr/>
        </p:nvPicPr>
        <p:blipFill>
          <a:blip r:embed="rId1"/>
          <a:stretch/>
        </p:blipFill>
        <p:spPr>
          <a:xfrm>
            <a:off x="357120" y="4500720"/>
            <a:ext cx="8501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1523880" y="404640"/>
            <a:ext cx="61722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Электрический то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ffffff">
                      <a:alpha val="50000"/>
                    </a:srgbClr>
                  </a:outerShdw>
                </a:effectLst>
                <a:latin typeface="Arial"/>
              </a:rPr>
              <a:t>в полупроводниках неметаллах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ffff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6" descr="6306"/>
          <p:cNvPicPr/>
          <p:nvPr/>
        </p:nvPicPr>
        <p:blipFill>
          <a:blip r:embed="rId1"/>
          <a:stretch/>
        </p:blipFill>
        <p:spPr>
          <a:xfrm rot="21405000">
            <a:off x="207720" y="3571560"/>
            <a:ext cx="4459320" cy="3284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3596"/>
          <p:cNvPicPr/>
          <p:nvPr/>
        </p:nvPicPr>
        <p:blipFill>
          <a:blip r:embed="rId2"/>
          <a:stretch/>
        </p:blipFill>
        <p:spPr>
          <a:xfrm rot="255600">
            <a:off x="4716360" y="3646440"/>
            <a:ext cx="4550040" cy="321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23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бственная проводимость полупровод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имесная проводимость полупроводн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 – n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переход и его свой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Homepage">
            <a:hlinkClick r:id="rId3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Rectangle 9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2916000" y="1600200"/>
            <a:ext cx="583236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000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ee0000"/>
                </a:solidFill>
                <a:latin typeface="Times New Roman"/>
              </a:rPr>
              <a:t>Полупроводники </a:t>
            </a:r>
            <a:r>
              <a:rPr b="1" i="1" lang="ru-RU" sz="1800" spc="-1" strike="noStrike">
                <a:solidFill>
                  <a:srgbClr val="000099"/>
                </a:solidFill>
                <a:latin typeface="Times New Roman"/>
              </a:rPr>
              <a:t>–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ещества у которых удельное сопротивление с повышением температуры уменьшаетс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3640" y="4365360"/>
            <a:ext cx="6119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обственная проводимость полупровод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Примесная проводимость полупроводник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ook Antiqua"/>
              </a:rPr>
              <a:t>p – n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переход и его свой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12" descr="22"/>
          <p:cNvPicPr/>
          <p:nvPr/>
        </p:nvPicPr>
        <p:blipFill>
          <a:blip r:embed="rId2"/>
          <a:stretch/>
        </p:blipFill>
        <p:spPr>
          <a:xfrm>
            <a:off x="539640" y="1413000"/>
            <a:ext cx="2448000" cy="2025360"/>
          </a:xfrm>
          <a:prstGeom prst="rect">
            <a:avLst/>
          </a:prstGeom>
          <a:ln w="0">
            <a:noFill/>
          </a:ln>
        </p:spPr>
      </p:pic>
      <p:sp>
        <p:nvSpPr>
          <p:cNvPr id="109" name="Homepage">
            <a:hlinkClick r:id="rId3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435640" y="1268280"/>
            <a:ext cx="338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емний – 4 валентный химический элемент. Каждый атом имеет во внешнем электронном слое по 4 электрона, которые используются для образования парноэлектронных (ковалентных) связей с 4 соседними атомами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04920" y="5589720"/>
            <a:ext cx="8534160" cy="100872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обычных условиях (невысоких температурах)  в полупроводниках отсутствуют свободные заряженные частицы, поэтому полупроводник не проводит электрический ток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6"/>
          <p:cNvSpPr/>
          <p:nvPr/>
        </p:nvSpPr>
        <p:spPr>
          <a:xfrm>
            <a:off x="106668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3962520" y="1905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2514600" y="3048120"/>
            <a:ext cx="914400" cy="838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106668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0"/>
          <p:cNvSpPr/>
          <p:nvPr/>
        </p:nvSpPr>
        <p:spPr>
          <a:xfrm>
            <a:off x="3962520" y="4267080"/>
            <a:ext cx="914400" cy="838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 flipH="1" rot="3127800">
            <a:off x="3085200" y="1181520"/>
            <a:ext cx="1371600" cy="32763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12"/>
          <p:cNvSpPr/>
          <p:nvPr/>
        </p:nvSpPr>
        <p:spPr>
          <a:xfrm flipH="1" rot="18531600">
            <a:off x="3084840" y="2552760"/>
            <a:ext cx="1371600" cy="32760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13"/>
          <p:cNvSpPr/>
          <p:nvPr/>
        </p:nvSpPr>
        <p:spPr>
          <a:xfrm flipH="1" rot="18531600">
            <a:off x="1409400" y="1180800"/>
            <a:ext cx="1371600" cy="327672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4"/>
          <p:cNvSpPr/>
          <p:nvPr/>
        </p:nvSpPr>
        <p:spPr>
          <a:xfrm>
            <a:off x="1371600" y="51814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15"/>
          <p:cNvSpPr/>
          <p:nvPr/>
        </p:nvSpPr>
        <p:spPr>
          <a:xfrm>
            <a:off x="1447920" y="3733920"/>
            <a:ext cx="30456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6"/>
          <p:cNvSpPr/>
          <p:nvPr/>
        </p:nvSpPr>
        <p:spPr>
          <a:xfrm>
            <a:off x="1371600" y="15238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17"/>
          <p:cNvSpPr/>
          <p:nvPr/>
        </p:nvSpPr>
        <p:spPr>
          <a:xfrm>
            <a:off x="14479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18"/>
          <p:cNvSpPr/>
          <p:nvPr/>
        </p:nvSpPr>
        <p:spPr>
          <a:xfrm>
            <a:off x="3962520" y="3200400"/>
            <a:ext cx="30456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19"/>
          <p:cNvSpPr/>
          <p:nvPr/>
        </p:nvSpPr>
        <p:spPr>
          <a:xfrm>
            <a:off x="3124080" y="449568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20"/>
          <p:cNvSpPr/>
          <p:nvPr/>
        </p:nvSpPr>
        <p:spPr>
          <a:xfrm>
            <a:off x="4495680" y="3886200"/>
            <a:ext cx="304920" cy="304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3352680" y="2133720"/>
            <a:ext cx="304920" cy="304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Rectangle 24" descr=""/>
          <p:cNvPicPr/>
          <p:nvPr/>
        </p:nvPicPr>
        <p:blipFill>
          <a:blip r:embed="rId1"/>
          <a:stretch/>
        </p:blipFill>
        <p:spPr>
          <a:xfrm>
            <a:off x="450720" y="487440"/>
            <a:ext cx="8242560" cy="549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ассмотрим проводимость полупроводников на основе кремния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Homepage">
            <a:hlinkClick r:id="rId2" action="ppaction://hlinksldjump"/>
          </p:cNvPr>
          <p:cNvSpPr/>
          <p:nvPr/>
        </p:nvSpPr>
        <p:spPr>
          <a:xfrm>
            <a:off x="8675640" y="6237360"/>
            <a:ext cx="320760" cy="431640"/>
          </a:xfrm>
          <a:prstGeom prst="pie">
            <a:avLst/>
          </a:prstGeom>
          <a:solidFill>
            <a:srgbClr val="f4fe72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316 0.07954 C -0.20851 0.0363 -0.16458 -0.06705 -0.08333 -0.15075 C -0.00278 -0.23352 0.08507 -0.26635 0.11094 -0.22266 C 0.13646 -0.18034 0.09132 -0.07653 0.01128 0.00648 C -0.07014 0.09018 -0.1566 0.12208 -0.19375 0.06544 E">
                                      <p:cBhvr>
                                        <p:cTn id="14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823 -0.07075 C 0.1915 -0.03029 0.14809 0.07006 0.0691 0.1526 C -0.00937 0.23445 -0.09392 0.26821 -0.11788 0.22751 C -0.14166 0.18751 -0.09687 0.08693 -0.01892 0.00485 C 0.06007 -0.07792 0.14341 -0.11098 0.16823 -0.07075 Z">
                                      <p:cBhvr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04920" y="68580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отрим изменения в полупроводнике при увеличении температуры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5300640"/>
            <a:ext cx="8496000" cy="161856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увеличении температуры энергия электронов увеличивается и некоторые из них покидают связи, становясь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вободными электронами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На их месте остаются некомпенсированные электрические заряды (виртуальные заряженные частицы), называемые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ыркам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754200" y="185436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3249720" y="185436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2000160" y="3048120"/>
            <a:ext cx="743040" cy="690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754200" y="410040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11"/>
          <p:cNvSpPr/>
          <p:nvPr/>
        </p:nvSpPr>
        <p:spPr>
          <a:xfrm>
            <a:off x="3249720" y="410040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12"/>
          <p:cNvSpPr/>
          <p:nvPr/>
        </p:nvSpPr>
        <p:spPr>
          <a:xfrm flipH="1" rot="3127800">
            <a:off x="2431080" y="131220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 flipH="1" rot="18531600">
            <a:off x="2430720" y="261612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1392120" y="167652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1081080" y="3087720"/>
            <a:ext cx="26496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16"/>
          <p:cNvSpPr/>
          <p:nvPr/>
        </p:nvSpPr>
        <p:spPr>
          <a:xfrm>
            <a:off x="3332160" y="3146400"/>
            <a:ext cx="2602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2527200" y="431784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8"/>
          <p:cNvSpPr/>
          <p:nvPr/>
        </p:nvSpPr>
        <p:spPr>
          <a:xfrm>
            <a:off x="3708360" y="373860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9"/>
          <p:cNvSpPr/>
          <p:nvPr/>
        </p:nvSpPr>
        <p:spPr>
          <a:xfrm>
            <a:off x="2652840" y="204480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20"/>
          <p:cNvSpPr/>
          <p:nvPr/>
        </p:nvSpPr>
        <p:spPr>
          <a:xfrm>
            <a:off x="3276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72200" y="1905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ый  электрон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3733920" y="3048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ырка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23"/>
          <p:cNvSpPr/>
          <p:nvPr/>
        </p:nvSpPr>
        <p:spPr>
          <a:xfrm>
            <a:off x="990720" y="30481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24"/>
          <p:cNvSpPr/>
          <p:nvPr/>
        </p:nvSpPr>
        <p:spPr>
          <a:xfrm>
            <a:off x="2514600" y="4267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25"/>
          <p:cNvSpPr/>
          <p:nvPr/>
        </p:nvSpPr>
        <p:spPr>
          <a:xfrm>
            <a:off x="1101600" y="4892760"/>
            <a:ext cx="2620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26"/>
          <p:cNvSpPr/>
          <p:nvPr/>
        </p:nvSpPr>
        <p:spPr>
          <a:xfrm>
            <a:off x="907920" y="36068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-6.87861E-006 C 0.01024 -0.01457 0.02413 -0.02313 0.03645 -0.034 C 0.04079 -0.03793 0.04357 -0.04255 0.04756 -0.04671 C 0.05399 -0.05319 0.06111 -0.05874 0.06822 -0.06359 C 0.07586 -0.08417 0.09062 -0.08694 0.10468 -0.09735 C 0.10954 -0.10105 0.11249 -0.1066 0.11736 -0.11006 C 0.12829 -0.11793 0.13888 -0.12602 0.15069 -0.13111 C 0.15729 -0.13989 0.16753 -0.1392 0.17621 -0.14382 C 0.20815 -0.1607 0.23541 -0.15654 0.27135 -0.15654 E">
                                      <p:cBhvr>
                                        <p:cTn id="209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303 0.00417 0.01546 0.01758 0.02691 0.02336 C 0.03455 0.03307 0.02622 0.02128 0.03178 0.03376 C 0.03403 0.03885 0.0382 0.0444 0.04132 0.04856 C 0.04393 0.05203 0.04653 0.05573 0.04914 0.05919 C 0.05139 0.06243 0.05869 0.06336 0.05869 0.06336 C 0.06459 0.07122 0.07448 0.07214 0.08247 0.07399 C 0.09358 0.07677 0.10487 0.07862 0.1158 0.08255 C 0.21858 0.07908 0.21511 0.0807 0.28091 0.06983 C 0.29601 0.05619 0.31059 0.04971 0.32865 0.0444 C 0.34341 0.03445 0.35973 0.02891 0.37466 0.01896 C 0.38855 0.00971 0.40191 -0.00138 0.4158 -0.01063 C 0.42761 -0.01872 0.44046 -0.02381 0.45244 -0.03167 C 0.4573 -0.03491 0.46059 -0.04046 0.46511 -0.04439 C 0.46615 -0.04716 0.4665 -0.05063 0.46823 -0.05294 C 0.47084 -0.05641 0.47778 -0.06127 0.47778 -0.06127 C 0.48073 -0.06913 0.48282 -0.07214 0.48733 -0.07815 E">
                                      <p:cBhvr>
                                        <p:cTn id="226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2451 C 0.01407 0.03006 0.01876 0.03468 0.02049 0.04139 C 0.02101 0.04347 0.02119 0.04578 0.02205 0.04763 C 0.02327 0.05018 0.02501 0.05249 0.02691 0.05411 C 0.03351 0.05989 0.04323 0.06335 0.0507 0.06659 C 0.05782 0.0696 0.05678 0.07006 0.06494 0.07723 C 0.06858 0.08046 0.07344 0.07954 0.07761 0.08139 C 0.08507 0.08809 0.09063 0.08902 0.09983 0.09203 C 0.10469 0.09364 0.10903 0.09781 0.11407 0.0985 C 0.12431 0.10012 0.13421 0.1022 0.14428 0.10474 C 0.16129 0.10335 0.1783 0.10289 0.19514 0.10058 C 0.21407 0.09804 0.22622 0.07746 0.24271 0.0689 C 0.24636 0.06127 0.25105 0.0585 0.25539 0.05179 C 0.25955 0.04532 0.26025 0.04231 0.26494 0.037 C 0.26632 0.03538 0.26823 0.03445 0.26962 0.03283 C 0.2724 0.0296 0.27761 0.0222 0.27761 0.0222 C 0.28212 0.00393 0.2757 0.02659 0.28247 0.01179 C 0.28785 -2.19652999999993E-006 0.279 0.00971 0.28872 0.00116 C 0.2908 -0.00717 0.29271 -0.01086 0.29827 -0.01572 C 0.30261 -0.02566 0.30626 -0.03607 0.31094 -0.04532 C 0.31685 -0.06913 0.32049 -0.09942 0.3316 -0.1193 C 0.33612 -0.1378 0.33768 -0.16323 0.3507 -0.17433 C 0.35712 -0.18705 0.36355 -0.18751 0.37136 -0.19745 C 0.3757 -0.20925 0.3724 -0.20532 0.38247 -0.21017 C 0.3856 -0.21179 0.39185 -0.21456 0.39185 -0.21456 E">
                                      <p:cBhvr>
                                        <p:cTn id="23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457200"/>
            <a:ext cx="853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им образом, электрический ток в полупроводниках представляет собой упорядоченное движение свободных электронов и положительных виртуальных частиц - дырок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57200" y="1600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исимость сопротивления от температуры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80880" y="2362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м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295280" y="2437920"/>
            <a:ext cx="0" cy="3048120"/>
          </a:xfrm>
          <a:prstGeom prst="line">
            <a:avLst/>
          </a:prstGeom>
          <a:ln w="19080">
            <a:solidFill>
              <a:srgbClr val="6967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1066680" y="5334120"/>
            <a:ext cx="4876920" cy="0"/>
          </a:xfrm>
          <a:prstGeom prst="line">
            <a:avLst/>
          </a:prstGeom>
          <a:ln w="19080">
            <a:solidFill>
              <a:srgbClr val="69676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1600200" y="2666880"/>
            <a:ext cx="2209680" cy="2286000"/>
          </a:xfrm>
          <a:prstGeom prst="pie">
            <a:avLst/>
          </a:prstGeom>
          <a:noFill/>
          <a:ln w="38160">
            <a:solidFill>
              <a:srgbClr val="4100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11"/>
          <p:cNvSpPr/>
          <p:nvPr/>
        </p:nvSpPr>
        <p:spPr>
          <a:xfrm flipV="1">
            <a:off x="1295280" y="3733560"/>
            <a:ext cx="38102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5410080" y="541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 (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5181480" y="350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металл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914400" y="47242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0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3886200" y="4724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проводник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539640" y="5851440"/>
            <a:ext cx="7804440" cy="100872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величении температур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растет число свободных носителей заряда,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одимость полупроводников раст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сопротивление уменьшается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2280" y="476280"/>
            <a:ext cx="8991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бственная проводимость полупроводников явно недостаточна для технического применения полупроводников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этому для увеличение проводимости в чистые полупроводники внедряют примеси (легируют) , которые бывают донорные и акцепторные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52280" y="1981080"/>
            <a:ext cx="8534520" cy="0"/>
          </a:xfrm>
          <a:prstGeom prst="line">
            <a:avLst/>
          </a:prstGeom>
          <a:ln w="28440">
            <a:solidFill>
              <a:srgbClr val="6967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68904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18456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132732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258768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4449600" y="307008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1935000" y="3505320"/>
            <a:ext cx="65592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101592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3267000" y="3579840"/>
            <a:ext cx="26028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643200" y="4172040"/>
            <a:ext cx="262080" cy="290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68904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84312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18"/>
          <p:cNvSpPr/>
          <p:nvPr/>
        </p:nvSpPr>
        <p:spPr>
          <a:xfrm>
            <a:off x="318456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19"/>
          <p:cNvSpPr/>
          <p:nvPr/>
        </p:nvSpPr>
        <p:spPr>
          <a:xfrm>
            <a:off x="2462040" y="4751280"/>
            <a:ext cx="26208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20"/>
          <p:cNvSpPr/>
          <p:nvPr/>
        </p:nvSpPr>
        <p:spPr>
          <a:xfrm>
            <a:off x="103680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952880" y="2666880"/>
            <a:ext cx="4038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легировании                     4–валентного крем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5–валентным мышьяк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один из 5 электронов мышьяка становится свободным.                                                           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ый ион. Дырки нет!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304920" y="5805360"/>
            <a:ext cx="8083440" cy="916920"/>
          </a:xfrm>
          <a:prstGeom prst="rect">
            <a:avLst/>
          </a:prstGeom>
          <a:solidFill>
            <a:srgbClr val="ceb966"/>
          </a:solidFill>
          <a:ln w="0">
            <a:noFill/>
          </a:ln>
          <a:effectLst>
            <a:outerShdw dist="107932" dir="2700000" blurRad="0" rotWithShape="0">
              <a:srgbClr val="69676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ой полупроводник называется полупроводником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тип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ными носителя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ряда являютс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лектрон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а примесь мышьяка, дающая свободные электроны,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норной.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Oval 23"/>
          <p:cNvSpPr/>
          <p:nvPr/>
        </p:nvSpPr>
        <p:spPr>
          <a:xfrm flipH="1" rot="18531600">
            <a:off x="1140120" y="1754280"/>
            <a:ext cx="1303200" cy="2823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24"/>
          <p:cNvSpPr/>
          <p:nvPr/>
        </p:nvSpPr>
        <p:spPr>
          <a:xfrm flipH="1" rot="3127800">
            <a:off x="2366280" y="174564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25"/>
          <p:cNvSpPr/>
          <p:nvPr/>
        </p:nvSpPr>
        <p:spPr>
          <a:xfrm flipH="1" rot="18531600">
            <a:off x="2365920" y="304956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26"/>
          <p:cNvSpPr/>
          <p:nvPr/>
        </p:nvSpPr>
        <p:spPr>
          <a:xfrm flipH="1" rot="2954400">
            <a:off x="988920" y="304920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27"/>
          <p:cNvSpPr/>
          <p:nvPr/>
        </p:nvSpPr>
        <p:spPr>
          <a:xfrm>
            <a:off x="4800600" y="2209680"/>
            <a:ext cx="0" cy="3429000"/>
          </a:xfrm>
          <a:prstGeom prst="line">
            <a:avLst/>
          </a:prstGeom>
          <a:ln w="12600">
            <a:solidFill>
              <a:srgbClr val="69676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03280" y="1988640"/>
            <a:ext cx="3816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cb084"/>
                </a:solidFill>
                <a:latin typeface="Times New Roman"/>
              </a:rPr>
              <a:t>Донорные приме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mej_line"/>
          <p:cNvPicPr/>
          <p:nvPr/>
        </p:nvPicPr>
        <p:blipFill>
          <a:blip r:embed="rId1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2608200" y="100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324000" y="981000"/>
            <a:ext cx="843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кремний легировать трехвалентным индием, то для образования связей с кремнием у индия не хватает одного электрона, т.е. образуется дырка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500720" y="1916280"/>
            <a:ext cx="433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а дает электроны и дырки в равном количестве. Примесь – только дырки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7"/>
          <p:cNvSpPr/>
          <p:nvPr/>
        </p:nvSpPr>
        <p:spPr>
          <a:xfrm>
            <a:off x="658800" y="2287440"/>
            <a:ext cx="78732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8"/>
          <p:cNvSpPr/>
          <p:nvPr/>
        </p:nvSpPr>
        <p:spPr>
          <a:xfrm>
            <a:off x="1297080" y="210996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9"/>
          <p:cNvSpPr/>
          <p:nvPr/>
        </p:nvSpPr>
        <p:spPr>
          <a:xfrm>
            <a:off x="3154320" y="2287440"/>
            <a:ext cx="785880" cy="798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2557440" y="247824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11"/>
          <p:cNvSpPr/>
          <p:nvPr/>
        </p:nvSpPr>
        <p:spPr>
          <a:xfrm>
            <a:off x="1905120" y="3505320"/>
            <a:ext cx="655560" cy="60948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12"/>
          <p:cNvSpPr/>
          <p:nvPr/>
        </p:nvSpPr>
        <p:spPr>
          <a:xfrm>
            <a:off x="3236760" y="3579840"/>
            <a:ext cx="26064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985680" y="3521160"/>
            <a:ext cx="2653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812880" y="4040280"/>
            <a:ext cx="2635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15"/>
          <p:cNvSpPr/>
          <p:nvPr/>
        </p:nvSpPr>
        <p:spPr>
          <a:xfrm>
            <a:off x="3505320" y="40384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+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16"/>
          <p:cNvSpPr/>
          <p:nvPr/>
        </p:nvSpPr>
        <p:spPr>
          <a:xfrm>
            <a:off x="658800" y="4533840"/>
            <a:ext cx="78732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17"/>
          <p:cNvSpPr/>
          <p:nvPr/>
        </p:nvSpPr>
        <p:spPr>
          <a:xfrm>
            <a:off x="3154320" y="4533840"/>
            <a:ext cx="785880" cy="798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val 18"/>
          <p:cNvSpPr/>
          <p:nvPr/>
        </p:nvSpPr>
        <p:spPr>
          <a:xfrm>
            <a:off x="2432160" y="4751280"/>
            <a:ext cx="261720" cy="289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val 19"/>
          <p:cNvSpPr/>
          <p:nvPr/>
        </p:nvSpPr>
        <p:spPr>
          <a:xfrm>
            <a:off x="1006560" y="5326200"/>
            <a:ext cx="261720" cy="288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val 20"/>
          <p:cNvSpPr/>
          <p:nvPr/>
        </p:nvSpPr>
        <p:spPr>
          <a:xfrm flipH="1" rot="18531600">
            <a:off x="892440" y="1746360"/>
            <a:ext cx="1303200" cy="28238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val 21"/>
          <p:cNvSpPr/>
          <p:nvPr/>
        </p:nvSpPr>
        <p:spPr>
          <a:xfrm flipH="1" rot="3127800">
            <a:off x="2336040" y="1745640"/>
            <a:ext cx="130320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val 22"/>
          <p:cNvSpPr/>
          <p:nvPr/>
        </p:nvSpPr>
        <p:spPr>
          <a:xfrm flipH="1" rot="2954400">
            <a:off x="958680" y="3049200"/>
            <a:ext cx="1303560" cy="282420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Rectangle 23" descr=""/>
          <p:cNvPicPr/>
          <p:nvPr/>
        </p:nvPicPr>
        <p:blipFill>
          <a:blip r:embed="rId3"/>
          <a:stretch/>
        </p:blipFill>
        <p:spPr>
          <a:xfrm>
            <a:off x="450720" y="285840"/>
            <a:ext cx="8242560" cy="774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211280" y="2707920"/>
            <a:ext cx="49323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ой полупроводник        называется полупроводником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типа, основными носителями заряда являются дырки, а примесь индия, дающая дырки, называется акцептор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07:32:17Z</dcterms:created>
  <dc:creator>Лицей №6</dc:creator>
  <dc:description/>
  <dc:language>en-US</dc:language>
  <cp:lastModifiedBy>Admin</cp:lastModifiedBy>
  <dcterms:modified xsi:type="dcterms:W3CDTF">2012-12-20T11:25:20Z</dcterms:modified>
  <cp:revision>26</cp:revision>
  <dc:subject/>
  <dc:title>Слайд 1</dc:title>
</cp:coreProperties>
</file>