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E02-1DAE-4F35-AC13-6B3C19DB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E9F3-EF55-408B-89DC-72915946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A72-AED3-407A-8057-01199473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6599-DFEF-4868-B2ED-6F1F8827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0183-10F9-408A-83D1-35C2435F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9FFD-D7DC-491D-9FCC-0049D586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C1C6-B5C1-49D2-8794-694CE0D2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AC3A-0C02-4E12-8FBB-6C18BB06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0E84-32C2-4A50-AB94-B355DA2B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5523-DC77-40B1-93CF-6DC4A41F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C3C3-0F0F-44E3-9215-B622FBD1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720-318C-43F0-A471-2EF48AD7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C6D2-F3F9-438F-8C1F-2BD5EDC3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6B40-A3DA-4D11-AAED-CDC429B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785C-9252-476A-BAB7-002DAE08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F811-A5A6-4992-910C-3E9983D9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17BA-F252-461C-B9C2-FF2446DF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A79-C0E2-4ADE-818B-D95E4C7C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98A-57C0-4DFA-8BA3-EEA37131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B095-B8C3-4C3C-8304-BA0ED6E9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54B3-291A-4F54-A71B-704B165D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9A8-038C-4773-90C7-F1B213C0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9665-C80A-464C-BB79-A8BB0497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863-D95C-4FD2-A0BE-D9FE7786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C389-4432-4546-BCBB-949A3EDA68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E1A1-DE3B-4AB6-857D-3F4FD02E493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троение атома химических элементов. Периодический закон и систем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5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6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8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9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21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22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23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24000" y="40464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ИТИЧЕСКАЯ ДИАГРАММА РАСПОЛОЖЕНИЯ АО В ЭЛЕКТРОННОЙ ОБОЛ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энергетическая диаграмма атомных уровней и подуровней в многоэлектронном атоме"/>
          <p:cNvPicPr/>
          <p:nvPr/>
        </p:nvPicPr>
        <p:blipFill>
          <a:blip r:embed="rId1"/>
          <a:stretch/>
        </p:blipFill>
        <p:spPr>
          <a:xfrm>
            <a:off x="1979640" y="1125360"/>
            <a:ext cx="528156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ХЕМА СТРОЕНИЯ АТО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+1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уровням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23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8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подуровн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ЛЕКТРОННО - ГРАФИЧЕСКАЯ ФОРМУЛА АТОМ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азывает распределение электронов по А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7931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Формулировка периодического закона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Д.И. Менделеева 1869 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-360" y="2420640"/>
            <a:ext cx="8604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относительных атомных масс элемент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20561"/>
                </a:solidFill>
                <a:latin typeface="Arial"/>
              </a:rPr>
              <a:t>2.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Современная формулировка периодического закона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Свойства х/э и образованных ими веществ находятся в периодической зависимости от зарядов их атомных яде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кономерности изменения некоторых свойств химических элементов в ПС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1752480"/>
          <a:ext cx="9144000" cy="55612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пери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еделах одной группы (для элементов главных подгрупп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 на внешнем энергетическом уров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изменя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Радиус ато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е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3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меньш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величивают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57520" y="1999800"/>
            <a:ext cx="33289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•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это частица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5572080" y="3214440"/>
            <a:ext cx="2200320" cy="24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0,9109534*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27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=1,6021892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*10 </a:t>
            </a:r>
            <a:r>
              <a:rPr b="0" lang="ru-RU" sz="3600" spc="-1" strike="noStrike" baseline="30000">
                <a:solidFill>
                  <a:srgbClr val="ffffff"/>
                </a:solidFill>
                <a:latin typeface="Arial"/>
              </a:rPr>
              <a:t>-19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К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2" descr=""/>
          <p:cNvPicPr/>
          <p:nvPr/>
        </p:nvPicPr>
        <p:blipFill>
          <a:blip r:embed="rId1"/>
          <a:srcRect l="1512" t="32070" r="31983" b="31205"/>
          <a:stretch/>
        </p:blipFill>
        <p:spPr>
          <a:xfrm>
            <a:off x="214200" y="0"/>
            <a:ext cx="471492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228600" y="3622680"/>
          <a:ext cx="8686800" cy="3235320"/>
        </p:xfrm>
        <a:graphic>
          <a:graphicData uri="http://schemas.openxmlformats.org/drawingml/2006/table">
            <a:tbl>
              <a:tblPr/>
              <a:tblGrid>
                <a:gridCol w="4343400"/>
                <a:gridCol w="2279520"/>
                <a:gridCol w="20638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Заряд яд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нукл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1, n=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p=17,n=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лектрон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=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Число энергетических уровн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Электронная форму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ая степень окисл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но-восстановительные свой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исл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2" descr="Картинка 18 из 116079"/>
          <p:cNvPicPr/>
          <p:nvPr/>
        </p:nvPicPr>
        <p:blipFill>
          <a:blip r:embed="rId1"/>
          <a:stretch/>
        </p:blipFill>
        <p:spPr>
          <a:xfrm>
            <a:off x="0" y="0"/>
            <a:ext cx="2666880" cy="25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Положение элемента в ПС и строение его ат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6" descr="Картинка 9 из 2591"/>
          <p:cNvPicPr/>
          <p:nvPr/>
        </p:nvPicPr>
        <p:blipFill>
          <a:blip r:embed="rId4"/>
          <a:srcRect l="0" t="0" r="55" b="0"/>
          <a:stretch/>
        </p:blipFill>
        <p:spPr>
          <a:xfrm>
            <a:off x="5410080" y="0"/>
            <a:ext cx="3733920" cy="25700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a7aff"/>
                </a:solidFill>
                <a:latin typeface="Arial"/>
              </a:rPr>
              <a:t>ПЛАН ХАРАКТЕРИСТИКИ ХИМ. ЭЛЕМЕН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3581280"/>
          <a:ext cx="9144000" cy="3276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металл; металлическая кристаллическая решётка; в соединениях тип связи - металличе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Типичный неметалл; газ жёлтого цве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48" name="Picture 4" descr="Картинка 1 из 117072"/>
          <p:cNvPicPr/>
          <p:nvPr/>
        </p:nvPicPr>
        <p:blipFill>
          <a:blip r:embed="rId1"/>
          <a:stretch/>
        </p:blipFill>
        <p:spPr>
          <a:xfrm>
            <a:off x="0" y="0"/>
            <a:ext cx="4952880" cy="3581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Картинка 17 из 60692"/>
          <p:cNvPicPr/>
          <p:nvPr/>
        </p:nvPicPr>
        <p:blipFill>
          <a:blip r:embed="rId2"/>
          <a:stretch/>
        </p:blipFill>
        <p:spPr>
          <a:xfrm>
            <a:off x="7162920" y="0"/>
            <a:ext cx="1981080" cy="3543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67840"/>
            <a:ext cx="91440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2. Характер простого вещества (металл, неметалл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http://school.xvatit.com/images/0/07/Him7_5_5.jpg"/>
          <p:cNvPicPr/>
          <p:nvPr/>
        </p:nvPicPr>
        <p:blipFill>
          <a:blip r:embed="rId1"/>
          <a:srcRect l="58318" t="8084" r="33115" b="0"/>
          <a:stretch/>
        </p:blipFill>
        <p:spPr>
          <a:xfrm>
            <a:off x="7620120" y="0"/>
            <a:ext cx="1523880" cy="51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0" y="4876920"/>
          <a:ext cx="9144000" cy="1828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лития, но слабее, по сравнению с кали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о фтором неметаллические свойства выражены слабее, но по сравнению с бромом эти свойства выражены сильне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3" name="Picture 4" descr="http://school.xvatit.com/images/0/07/Him7_5_5.jpg"/>
          <p:cNvPicPr/>
          <p:nvPr/>
        </p:nvPicPr>
        <p:blipFill>
          <a:blip r:embed="rId2"/>
          <a:srcRect l="2160" t="0" r="84954" b="13925"/>
          <a:stretch/>
        </p:blipFill>
        <p:spPr>
          <a:xfrm>
            <a:off x="0" y="0"/>
            <a:ext cx="1676520" cy="48769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267840"/>
            <a:ext cx="6553080" cy="468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3</a:t>
            </a: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. Сравнение свойств простого вещества со свойствами простых веществ, образованных соседними по подгруппе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68200"/>
            <a:ext cx="9144000" cy="23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a7aff"/>
                </a:solidFill>
                <a:latin typeface="Arial"/>
              </a:rPr>
              <a:t>4. Сравнение свойств простого вещества со свойствами простых веществ, образованных соседними по периоду элемент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4648320"/>
          <a:ext cx="9144000" cy="22096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Металлические свойства натрия выражены сильнее, чем у маг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 хлора по сравнению с серой металлические свойства выражены слабе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57" name="Picture 2" descr="Картинка 16 из 643"/>
          <p:cNvPicPr/>
          <p:nvPr/>
        </p:nvPicPr>
        <p:blipFill>
          <a:blip r:embed="rId1"/>
          <a:srcRect l="0" t="30315" r="0" b="40198"/>
          <a:stretch/>
        </p:blipFill>
        <p:spPr>
          <a:xfrm>
            <a:off x="0" y="3048120"/>
            <a:ext cx="9198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5. Формула высшего оксида и его кислотно-основные свойств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882800"/>
          <a:ext cx="9144000" cy="2108160"/>
        </p:xfrm>
        <a:graphic>
          <a:graphicData uri="http://schemas.openxmlformats.org/drawingml/2006/table">
            <a:tbl>
              <a:tblPr/>
              <a:tblGrid>
                <a:gridCol w="4408560"/>
                <a:gridCol w="4735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8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2O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проявляет основные свойства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му соответствует основание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O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2HCl = 2NaCl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+ 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=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Высший оксид хлор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2O7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является кислотным оксидом. Ему соответствует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H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Na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Cl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+ 2NaOH = 2NaClO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4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H</a:t>
                      </a:r>
                      <a:r>
                        <a:rPr b="1" lang="en-US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" descr="Картинка 2 из 258"/>
          <p:cNvPicPr/>
          <p:nvPr/>
        </p:nvPicPr>
        <p:blipFill>
          <a:blip r:embed="rId1"/>
          <a:stretch/>
        </p:blipFill>
        <p:spPr>
          <a:xfrm>
            <a:off x="4572000" y="4038480"/>
            <a:ext cx="4572000" cy="28195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Картинка 1 из 736"/>
          <p:cNvPicPr/>
          <p:nvPr/>
        </p:nvPicPr>
        <p:blipFill>
          <a:blip r:embed="rId2"/>
          <a:srcRect l="0" t="0" r="57" b="0"/>
          <a:stretch/>
        </p:blipFill>
        <p:spPr>
          <a:xfrm>
            <a:off x="0" y="4071960"/>
            <a:ext cx="2971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a7aff"/>
                </a:solidFill>
                <a:latin typeface="Arial"/>
              </a:rPr>
              <a:t>6. Формула высшего гидроксида, его кислотно-основные свой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57200" y="1882800"/>
          <a:ext cx="8229600" cy="2382840"/>
        </p:xfrm>
        <a:graphic>
          <a:graphicData uri="http://schemas.openxmlformats.org/drawingml/2006/table">
            <a:tbl>
              <a:tblPr/>
              <a:tblGrid>
                <a:gridCol w="4191120"/>
                <a:gridCol w="40384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Гидроксид натрия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 является сильным основанием и проявляет свойства , характерные для основ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aOH + HCl = NaCl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O2 = Na2CO3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NaOH + CuCl2 = Cu(OH)2 + 2Na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ная кислота 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4 </a:t>
                      </a:r>
                      <a:r>
                        <a:rPr b="1" lang="ru-R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роявляет свойства сильной кислот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O2 + KOH = KClO4 +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6" descr="Файл:Sodium-hydroxide-crystal-3D-vdW.png"/>
          <p:cNvPicPr/>
          <p:nvPr/>
        </p:nvPicPr>
        <p:blipFill>
          <a:blip r:embed="rId1"/>
          <a:stretch/>
        </p:blipFill>
        <p:spPr>
          <a:xfrm>
            <a:off x="0" y="4237200"/>
            <a:ext cx="3486240" cy="262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Картинка 6 из 5918"/>
          <p:cNvPicPr/>
          <p:nvPr/>
        </p:nvPicPr>
        <p:blipFill>
          <a:blip r:embed="rId2"/>
          <a:stretch/>
        </p:blipFill>
        <p:spPr>
          <a:xfrm>
            <a:off x="3352680" y="4241880"/>
            <a:ext cx="3276720" cy="2616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http://dic.academic.ru/pictures/wiki/files/112/perchloric-acid-3d-vdw.png"/>
          <p:cNvPicPr/>
          <p:nvPr/>
        </p:nvPicPr>
        <p:blipFill>
          <a:blip r:embed="rId3"/>
          <a:stretch/>
        </p:blipFill>
        <p:spPr>
          <a:xfrm>
            <a:off x="6343560" y="4267080"/>
            <a:ext cx="2800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8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ула летучего водородного соеди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0" y="1752480"/>
          <a:ext cx="9144000" cy="21337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три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ло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Не образует летучего водородного соединен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Cl – </a:t>
                      </a:r>
                      <a:r>
                        <a:rPr b="1" lang="ru-RU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лороводород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2" descr="Картинка 2 из 615"/>
          <p:cNvPicPr/>
          <p:nvPr/>
        </p:nvPicPr>
        <p:blipFill>
          <a:blip r:embed="rId1"/>
          <a:srcRect l="0" t="0" r="0" b="18"/>
          <a:stretch/>
        </p:blipFill>
        <p:spPr>
          <a:xfrm>
            <a:off x="4572000" y="3052800"/>
            <a:ext cx="4572000" cy="38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– волна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 обладает большой СКОРОСТЬЮ и ЭНЕРГИЕЙ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долю секунды электрон способен «обежать» целую область пространства, называем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8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042920" y="-100080"/>
            <a:ext cx="7129440" cy="73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естоположение электронов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 пространстве в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данный момент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ремени определить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пример с фотографи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иды электронных облак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6" name="Picture 6" descr="image2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900000" y="5716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электроны атома образуют е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WordArt 5"/>
          <p:cNvSpPr txBox="1"/>
          <p:nvPr/>
        </p:nvSpPr>
        <p:spPr>
          <a:xfrm>
            <a:off x="1409760" y="1285920"/>
            <a:ext cx="63054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9" name="Прямоугольник 3"/>
          <p:cNvSpPr/>
          <p:nvPr/>
        </p:nvSpPr>
        <p:spPr>
          <a:xfrm>
            <a:off x="2286000" y="2714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КТРОННАЯ ОБОЛОЧ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ЛИТС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Прямоугольник 4" descr=""/>
          <p:cNvPicPr/>
          <p:nvPr/>
        </p:nvPicPr>
        <p:blipFill>
          <a:blip r:embed="rId1"/>
          <a:stretch/>
        </p:blipFill>
        <p:spPr>
          <a:xfrm>
            <a:off x="1835280" y="3144960"/>
            <a:ext cx="4492440" cy="110304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3071880" y="421488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О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 flipV="1" rot="10800000">
            <a:off x="2239920" y="4615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468360" y="4149720"/>
            <a:ext cx="3887640" cy="2519280"/>
          </a:xfrm>
          <a:prstGeom prst="rightArrowCallout">
            <a:avLst>
              <a:gd name="adj1" fmla="val 25002"/>
              <a:gd name="adj2" fmla="val 25000"/>
              <a:gd name="adj3" fmla="val 25719"/>
              <a:gd name="adj4" fmla="val 6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5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6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7 уровен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4284720" y="4843440"/>
            <a:ext cx="41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1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3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4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5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9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0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1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ин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Admin</cp:lastModifiedBy>
  <dcterms:modified xsi:type="dcterms:W3CDTF">2012-12-20T11:22:15Z</dcterms:modified>
  <cp:revision>10</cp:revision>
  <dc:subject/>
  <dc:title>ЧТО ТАКОЕ</dc:title>
</cp:coreProperties>
</file>