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gif" ContentType="image/gif"/>
  <Override PartName="/ppt/media/image7.png" ContentType="image/png"/>
  <Override PartName="/ppt/media/image4.jpeg" ContentType="image/jpeg"/>
  <Override PartName="/ppt/media/image5.gif" ContentType="image/gif"/>
  <Override PartName="/ppt/media/image9.png" ContentType="image/png"/>
  <Override PartName="/ppt/media/image6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0B94-0518-4BD2-86D2-259DB7E09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D932-2BD2-4F46-A492-75D9BC420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5E29-123B-4ED6-B29F-3466C7A26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8647-C7F1-49EF-811F-33655CB26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8C21-CDD5-46B5-80FC-42A440F02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2D86-B3E8-4390-9F39-461174C38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EAF6-3A4C-458A-900E-2E574F492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4E51-F3A7-4571-8EE7-71A12DA1F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CEE6-8EAE-4630-9358-1322A04CA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D988-917A-4232-8274-8436CB3C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4022-1F56-433D-9371-F0E2C2B7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3802-C54E-4257-819C-63C72569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38BEB-19AE-42AB-9D3B-A2BFFFFB225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571680" y="500040"/>
            <a:ext cx="7924680" cy="1143000"/>
          </a:xfrm>
          <a:prstGeom prst="rect">
            <a:avLst/>
          </a:prstGeom>
          <a:solidFill>
            <a:srgbClr val="fefe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Химическая термодинамика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j0379781[1]"/>
          <p:cNvPicPr/>
          <p:nvPr/>
        </p:nvPicPr>
        <p:blipFill>
          <a:blip r:embed="rId1"/>
          <a:stretch/>
        </p:blipFill>
        <p:spPr>
          <a:xfrm>
            <a:off x="4572000" y="1714680"/>
            <a:ext cx="4071960" cy="4448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chemestry_v2[1]"/>
          <p:cNvPicPr/>
          <p:nvPr/>
        </p:nvPicPr>
        <p:blipFill>
          <a:blip r:embed="rId2"/>
          <a:stretch/>
        </p:blipFill>
        <p:spPr>
          <a:xfrm>
            <a:off x="285840" y="1214280"/>
            <a:ext cx="3786120" cy="507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685800" y="533520"/>
            <a:ext cx="800100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Если в результате реакции теплота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выделяется, т.е. энтальпия системы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онижается (</a:t>
            </a:r>
            <a:r>
              <a:rPr b="1" i="1" lang="ru-RU" sz="26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H&lt;0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реакция называется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экзотермической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Если повышается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i="1" lang="ru-RU" sz="26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H</a:t>
            </a:r>
            <a:r>
              <a:rPr b="1" i="1" lang="en-US" sz="2600" spc="-1" strike="noStrike">
                <a:solidFill>
                  <a:srgbClr val="ff0000"/>
                </a:solidFill>
                <a:latin typeface="Arial"/>
                <a:ea typeface="Arial"/>
              </a:rPr>
              <a:t>&gt;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0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) – 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эндо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термической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"/>
          <p:cNvSpPr/>
          <p:nvPr/>
        </p:nvSpPr>
        <p:spPr>
          <a:xfrm>
            <a:off x="990720" y="5486400"/>
            <a:ext cx="3124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"/>
          <p:cNvSpPr/>
          <p:nvPr/>
        </p:nvSpPr>
        <p:spPr>
          <a:xfrm flipV="1">
            <a:off x="990720" y="3276720"/>
            <a:ext cx="144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"/>
          <p:cNvSpPr/>
          <p:nvPr/>
        </p:nvSpPr>
        <p:spPr>
          <a:xfrm>
            <a:off x="1066680" y="3886200"/>
            <a:ext cx="13716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6"/>
          <p:cNvSpPr/>
          <p:nvPr/>
        </p:nvSpPr>
        <p:spPr>
          <a:xfrm>
            <a:off x="2514600" y="4876920"/>
            <a:ext cx="106668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7"/>
          <p:cNvSpPr/>
          <p:nvPr/>
        </p:nvSpPr>
        <p:spPr>
          <a:xfrm>
            <a:off x="2438280" y="3962520"/>
            <a:ext cx="180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2669040" y="4114800"/>
            <a:ext cx="141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H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&lt;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992880" y="3352680"/>
            <a:ext cx="17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ходны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2439720" y="4952880"/>
            <a:ext cx="16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укт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382320" y="29718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Arial"/>
                <a:ea typeface="Arial"/>
              </a:rPr>
              <a:t>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2"/>
          <p:cNvSpPr/>
          <p:nvPr/>
        </p:nvSpPr>
        <p:spPr>
          <a:xfrm>
            <a:off x="992160" y="5562720"/>
            <a:ext cx="32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координата реакц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3" descr="Feather_writes"/>
          <p:cNvPicPr/>
          <p:nvPr/>
        </p:nvPicPr>
        <p:blipFill>
          <a:blip r:embed="rId1"/>
          <a:stretch/>
        </p:blipFill>
        <p:spPr>
          <a:xfrm>
            <a:off x="7543800" y="228600"/>
            <a:ext cx="1447920" cy="1447920"/>
          </a:xfrm>
          <a:prstGeom prst="rect">
            <a:avLst/>
          </a:prstGeom>
          <a:ln w="0">
            <a:noFill/>
          </a:ln>
        </p:spPr>
      </p:pic>
      <p:sp>
        <p:nvSpPr>
          <p:cNvPr id="88" name="Line 14"/>
          <p:cNvSpPr/>
          <p:nvPr/>
        </p:nvSpPr>
        <p:spPr>
          <a:xfrm>
            <a:off x="5092560" y="5410080"/>
            <a:ext cx="3124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5"/>
          <p:cNvSpPr/>
          <p:nvPr/>
        </p:nvSpPr>
        <p:spPr>
          <a:xfrm flipV="1">
            <a:off x="5092560" y="3200400"/>
            <a:ext cx="180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6"/>
          <p:cNvSpPr/>
          <p:nvPr/>
        </p:nvSpPr>
        <p:spPr>
          <a:xfrm>
            <a:off x="5181480" y="4800600"/>
            <a:ext cx="13716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7"/>
          <p:cNvSpPr/>
          <p:nvPr/>
        </p:nvSpPr>
        <p:spPr>
          <a:xfrm>
            <a:off x="6553080" y="3809880"/>
            <a:ext cx="106704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8"/>
          <p:cNvSpPr/>
          <p:nvPr/>
        </p:nvSpPr>
        <p:spPr>
          <a:xfrm>
            <a:off x="6540480" y="3886200"/>
            <a:ext cx="144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9"/>
          <p:cNvSpPr/>
          <p:nvPr/>
        </p:nvSpPr>
        <p:spPr>
          <a:xfrm>
            <a:off x="6770880" y="4038480"/>
            <a:ext cx="141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H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 &gt;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0"/>
          <p:cNvSpPr/>
          <p:nvPr/>
        </p:nvSpPr>
        <p:spPr>
          <a:xfrm>
            <a:off x="5107680" y="4876920"/>
            <a:ext cx="17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ходны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1"/>
          <p:cNvSpPr/>
          <p:nvPr/>
        </p:nvSpPr>
        <p:spPr>
          <a:xfrm>
            <a:off x="6249960" y="3276720"/>
            <a:ext cx="16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укт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2"/>
          <p:cNvSpPr/>
          <p:nvPr/>
        </p:nvSpPr>
        <p:spPr>
          <a:xfrm>
            <a:off x="4484520" y="28954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Arial"/>
                <a:ea typeface="Arial"/>
              </a:rPr>
              <a:t>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3"/>
          <p:cNvSpPr/>
          <p:nvPr/>
        </p:nvSpPr>
        <p:spPr>
          <a:xfrm>
            <a:off x="5094360" y="5486400"/>
            <a:ext cx="32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координата реакц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500"/>
                            </p:stCondLst>
                            <p:childTnLst>
                              <p:par>
                                <p:cTn id="2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500"/>
                            </p:stCondLst>
                            <p:childTnLst>
                              <p:par>
                                <p:cTn id="25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35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500"/>
                            </p:stCondLst>
                            <p:childTnLst>
                              <p:par>
                                <p:cTn id="27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0"/>
                            </p:stCondLst>
                            <p:childTnLst>
                              <p:par>
                                <p:cTn id="27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500"/>
                            </p:stCondLst>
                            <p:childTnLst>
                              <p:par>
                                <p:cTn id="28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6000"/>
                            </p:stCondLst>
                            <p:childTnLst>
                              <p:par>
                                <p:cTn id="28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6500"/>
                            </p:stCondLst>
                            <p:childTnLst>
                              <p:par>
                                <p:cTn id="28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7000"/>
                            </p:stCondLst>
                            <p:childTnLst>
                              <p:par>
                                <p:cTn id="29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7500"/>
                            </p:stCondLst>
                            <p:childTnLst>
                              <p:par>
                                <p:cTn id="29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2627280" y="3860640"/>
            <a:ext cx="3529080" cy="792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Feather_writes"/>
          <p:cNvPicPr/>
          <p:nvPr/>
        </p:nvPicPr>
        <p:blipFill>
          <a:blip r:embed="rId1"/>
          <a:stretch/>
        </p:blipFill>
        <p:spPr>
          <a:xfrm>
            <a:off x="7162920" y="152280"/>
            <a:ext cx="1751040" cy="17510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684360" y="333360"/>
            <a:ext cx="6191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тандартные услов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личество вещества – 1 мол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вление – 101325 П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мпература – 298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25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79280" y="2492280"/>
            <a:ext cx="8077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(г) + 2,5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г)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г) +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(г)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-ции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 1256 кД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л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250920" y="3860640"/>
            <a:ext cx="807696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Сгр + 3Н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г) + 0,5 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(г) = С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Н (ж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р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Н )(ж) = – 277 кД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ль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500"/>
                            </p:stCondLst>
                            <p:childTnLst>
                              <p:par>
                                <p:cTn id="34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468360" y="1268280"/>
            <a:ext cx="8229600" cy="20739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Энтальпия реакции, т.е. тепловой эффект реакции при р,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=const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, зависит от природы и состояния исходных веществ и конечных продуктов, но не зависит от пути протекания реакции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428760" y="3643200"/>
            <a:ext cx="8353440" cy="34225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С + О</a:t>
            </a:r>
            <a:r>
              <a:rPr b="1" i="1" lang="ru-RU" sz="3200" spc="-1" strike="noStrike" baseline="-25000">
                <a:solidFill>
                  <a:srgbClr val="ff0000"/>
                </a:solidFill>
                <a:latin typeface="Arial"/>
                <a:ea typeface="Times New Roman"/>
              </a:rPr>
              <a:t>2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 = СО</a:t>
            </a:r>
            <a:r>
              <a:rPr b="1" i="1" lang="ru-RU" sz="3200" spc="-1" strike="noStrike" baseline="-25000">
                <a:solidFill>
                  <a:srgbClr val="ff0000"/>
                </a:solidFill>
                <a:latin typeface="Arial"/>
                <a:ea typeface="Times New Roman"/>
              </a:rPr>
              <a:t>2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+ ½ О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= СО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 + О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О</a:t>
            </a:r>
            <a:r>
              <a:rPr b="1" i="1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Feather_writes"/>
          <p:cNvPicPr/>
          <p:nvPr/>
        </p:nvPicPr>
        <p:blipFill>
          <a:blip r:embed="rId1"/>
          <a:stretch/>
        </p:blipFill>
        <p:spPr>
          <a:xfrm>
            <a:off x="7236000" y="0"/>
            <a:ext cx="1750680" cy="17510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685080" y="533520"/>
            <a:ext cx="47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акон Г.И. Гесса (1840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500"/>
                            </p:stCondLst>
                            <p:childTnLst>
                              <p:par>
                                <p:cTn id="36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Feather_writes"/>
          <p:cNvPicPr/>
          <p:nvPr/>
        </p:nvPicPr>
        <p:blipFill>
          <a:blip r:embed="rId1"/>
          <a:stretch/>
        </p:blipFill>
        <p:spPr>
          <a:xfrm>
            <a:off x="7392960" y="-171360"/>
            <a:ext cx="1751040" cy="17510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"/>
          <p:cNvSpPr/>
          <p:nvPr/>
        </p:nvSpPr>
        <p:spPr>
          <a:xfrm>
            <a:off x="1042920" y="189000"/>
            <a:ext cx="61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ледствия из закона Гесс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0" y="981000"/>
            <a:ext cx="9144000" cy="22870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Н </a:t>
            </a:r>
            <a:r>
              <a:rPr b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-ции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i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обр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кон.прод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—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i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обр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исх.в-в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428760" y="5429160"/>
            <a:ext cx="8358120" cy="14806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Н </a:t>
            </a:r>
            <a:r>
              <a:rPr b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прямой реакции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Н </a:t>
            </a:r>
            <a:r>
              <a:rPr b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4000" spc="-1" strike="noStrike" baseline="-25000">
                <a:solidFill>
                  <a:srgbClr val="000000"/>
                </a:solidFill>
                <a:latin typeface="Arial"/>
              </a:rPr>
              <a:t>обр. реакци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0" y="3143160"/>
            <a:ext cx="9144000" cy="228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Н </a:t>
            </a:r>
            <a:r>
              <a:rPr b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-ции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ni </a:t>
            </a:r>
            <a:r>
              <a:rPr b="1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сгор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исх.в-в)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ni </a:t>
            </a:r>
            <a:r>
              <a:rPr b="1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сгор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кон.прод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Feather_writes"/>
          <p:cNvPicPr/>
          <p:nvPr/>
        </p:nvPicPr>
        <p:blipFill>
          <a:blip r:embed="rId1"/>
          <a:stretch/>
        </p:blipFill>
        <p:spPr>
          <a:xfrm>
            <a:off x="7162920" y="152280"/>
            <a:ext cx="1751040" cy="17510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395280" y="333360"/>
            <a:ext cx="6913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Энтальпия сгора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гор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) – тепловой эффект реакции окисления кислородом 1 моль вещества до образования высших оксидо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г) + 2,5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г)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2С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г) + Н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 (г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-ции =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 1256 кД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л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971640" y="3141720"/>
            <a:ext cx="7200720" cy="34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Калорийность пищ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1 кал = 4,18 Д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иры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37,7-39,8 кДж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г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глеводы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16,5 – 17,2 кДж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г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елки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16,5 – 17,2 кДж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г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250920" y="444960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500"/>
                            </p:stCondLst>
                            <p:childTnLst>
                              <p:par>
                                <p:cTn id="42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Feather_writes"/>
          <p:cNvPicPr/>
          <p:nvPr/>
        </p:nvPicPr>
        <p:blipFill>
          <a:blip r:embed="rId1"/>
          <a:stretch/>
        </p:blipFill>
        <p:spPr>
          <a:xfrm>
            <a:off x="7162920" y="152280"/>
            <a:ext cx="1751040" cy="175104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"/>
          <p:cNvSpPr/>
          <p:nvPr/>
        </p:nvSpPr>
        <p:spPr>
          <a:xfrm>
            <a:off x="395280" y="333360"/>
            <a:ext cx="6913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Энергозатраты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юдей (кка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утки) в зависимости от характера труда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 группа (легкий труд) -2000-28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группа (врачи, студенты) - 3000-36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 группа (тяжелый труд) – 4000-50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 группа (проф. спортсмены)-7000 и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611280" y="3141720"/>
            <a:ext cx="7777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редний расход энергии (кД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ин) при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идении – 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оянии -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ходьбе – 1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еге - 4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250920" y="444960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3" descr="349"/>
          <p:cNvPicPr/>
          <p:nvPr/>
        </p:nvPicPr>
        <p:blipFill>
          <a:blip r:embed="rId1"/>
          <a:srcRect l="37436" t="0" r="0" b="75832"/>
          <a:stretch/>
        </p:blipFill>
        <p:spPr>
          <a:xfrm>
            <a:off x="114480" y="714240"/>
            <a:ext cx="8778600" cy="516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0" y="380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В каком направлении должна самопроизвольно протекать химическая реакция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question1"/>
          <p:cNvPicPr/>
          <p:nvPr/>
        </p:nvPicPr>
        <p:blipFill>
          <a:blip r:embed="rId1"/>
          <a:stretch/>
        </p:blipFill>
        <p:spPr>
          <a:xfrm>
            <a:off x="3348000" y="1916280"/>
            <a:ext cx="2611440" cy="26636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5"/>
          <p:cNvSpPr/>
          <p:nvPr/>
        </p:nvSpPr>
        <p:spPr>
          <a:xfrm>
            <a:off x="0" y="4724280"/>
            <a:ext cx="9144000" cy="18003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Самопроизвольный процесс совершается в системе  без затраты энергии извне, при этом происходит  уменьшение работоспособности систем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5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1547640" y="1413000"/>
            <a:ext cx="6193080" cy="503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1476360" y="404640"/>
            <a:ext cx="633564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0" y="380880"/>
            <a:ext cx="9144000" cy="2043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Менее устойчивое состояние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 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Более устойчивое состояние   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  <a:ea typeface="Arial"/>
              </a:rPr>
              <a:t>ум-с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7"/>
          <p:cNvSpPr/>
          <p:nvPr/>
        </p:nvSpPr>
        <p:spPr>
          <a:xfrm>
            <a:off x="4211640" y="981000"/>
            <a:ext cx="504720" cy="1079640"/>
          </a:xfrm>
          <a:prstGeom prst="downArrow">
            <a:avLst>
              <a:gd name="adj1" fmla="val 50000"/>
              <a:gd name="adj2" fmla="val 5347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1"/>
          <p:cNvSpPr/>
          <p:nvPr/>
        </p:nvSpPr>
        <p:spPr>
          <a:xfrm>
            <a:off x="7956720" y="620640"/>
            <a:ext cx="647640" cy="1584360"/>
          </a:xfrm>
          <a:custGeom>
            <a:avLst/>
            <a:gdLst>
              <a:gd name="textAreaLeft" fmla="*/ 86760 w 647640"/>
              <a:gd name="textAreaRight" fmla="*/ 560880 w 647640"/>
              <a:gd name="textAreaTop" fmla="*/ 322200 h 1584360"/>
              <a:gd name="textAreaBottom" fmla="*/ 110844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786" stAng="-5400000" swAng="5400000"/>
                <a:lnTo>
                  <a:pt x="21600" y="10719"/>
                </a:lnTo>
                <a:arcTo wR="21600" hR="8786" stAng="0" swAng="4679801"/>
                <a:lnTo>
                  <a:pt x="1861" y="21567"/>
                </a:lnTo>
                <a:lnTo>
                  <a:pt x="0" y="18538"/>
                </a:lnTo>
                <a:lnTo>
                  <a:pt x="1861" y="15442"/>
                </a:lnTo>
                <a:lnTo>
                  <a:pt x="1861" y="17538"/>
                </a:lnTo>
                <a:arcTo wR="21600" hR="8786" stAng="4679801" swAng="-4525143"/>
                <a:lnTo>
                  <a:pt x="21469" y="9752"/>
                </a:lnTo>
                <a:arcTo wR="21600" hR="8786" stAng="-154658" swAng="-5245342"/>
                <a:close/>
              </a:path>
              <a:path fill="darkenLess" w="21600" h="21600">
                <a:moveTo>
                  <a:pt x="0" y="0"/>
                </a:moveTo>
                <a:arcTo wR="21600" hR="8786" stAng="-5400000" swAng="5400000"/>
                <a:lnTo>
                  <a:pt x="21600" y="10719"/>
                </a:lnTo>
                <a:arcTo wR="21600" hR="8786" stAng="0" swAng="-154658"/>
                <a:lnTo>
                  <a:pt x="21469" y="9752"/>
                </a:lnTo>
                <a:arcTo wR="21600" hR="8786" stAng="-154658" swAng="-5245342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3" descr="4"/>
          <p:cNvPicPr/>
          <p:nvPr/>
        </p:nvPicPr>
        <p:blipFill>
          <a:blip r:embed="rId1"/>
          <a:stretch/>
        </p:blipFill>
        <p:spPr>
          <a:xfrm>
            <a:off x="3143160" y="2492280"/>
            <a:ext cx="2857680" cy="20890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14"/>
          <p:cNvSpPr/>
          <p:nvPr/>
        </p:nvSpPr>
        <p:spPr>
          <a:xfrm>
            <a:off x="0" y="4724280"/>
            <a:ext cx="9144000" cy="18003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Капля воды (система) состоит из большого количества молеку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  <a:ea typeface="Arial"/>
              </a:rPr>
              <a:t>Испарение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 – процесс эндотермический, но самопроизвольны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8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оугольник 1"/>
          <p:cNvSpPr/>
          <p:nvPr/>
        </p:nvSpPr>
        <p:spPr>
          <a:xfrm>
            <a:off x="642960" y="214200"/>
            <a:ext cx="2571840" cy="178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2"/>
          <p:cNvSpPr/>
          <p:nvPr/>
        </p:nvSpPr>
        <p:spPr>
          <a:xfrm>
            <a:off x="5214960" y="357120"/>
            <a:ext cx="2714760" cy="157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Овал 3"/>
          <p:cNvSpPr/>
          <p:nvPr/>
        </p:nvSpPr>
        <p:spPr>
          <a:xfrm>
            <a:off x="1500120" y="1714680"/>
            <a:ext cx="214560" cy="214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Овал 6"/>
          <p:cNvSpPr/>
          <p:nvPr/>
        </p:nvSpPr>
        <p:spPr>
          <a:xfrm>
            <a:off x="1143000" y="1357200"/>
            <a:ext cx="214200" cy="21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Овал 7"/>
          <p:cNvSpPr/>
          <p:nvPr/>
        </p:nvSpPr>
        <p:spPr>
          <a:xfrm>
            <a:off x="1714680" y="928800"/>
            <a:ext cx="214200" cy="214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Овал 8"/>
          <p:cNvSpPr/>
          <p:nvPr/>
        </p:nvSpPr>
        <p:spPr>
          <a:xfrm>
            <a:off x="2000160" y="1285920"/>
            <a:ext cx="214560" cy="214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Облако 9"/>
          <p:cNvSpPr/>
          <p:nvPr/>
        </p:nvSpPr>
        <p:spPr>
          <a:xfrm>
            <a:off x="7143840" y="571680"/>
            <a:ext cx="357120" cy="41400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Облако 10"/>
          <p:cNvSpPr/>
          <p:nvPr/>
        </p:nvSpPr>
        <p:spPr>
          <a:xfrm>
            <a:off x="5786280" y="857160"/>
            <a:ext cx="357480" cy="41436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Облако 11"/>
          <p:cNvSpPr/>
          <p:nvPr/>
        </p:nvSpPr>
        <p:spPr>
          <a:xfrm>
            <a:off x="6572160" y="1000080"/>
            <a:ext cx="357120" cy="41436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Облако 12"/>
          <p:cNvSpPr/>
          <p:nvPr/>
        </p:nvSpPr>
        <p:spPr>
          <a:xfrm>
            <a:off x="6143760" y="571680"/>
            <a:ext cx="357120" cy="41400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13"/>
          <p:cNvSpPr/>
          <p:nvPr/>
        </p:nvSpPr>
        <p:spPr>
          <a:xfrm>
            <a:off x="1000080" y="3786120"/>
            <a:ext cx="6572160" cy="642960"/>
          </a:xfrm>
          <a:prstGeom prst="rect">
            <a:avLst/>
          </a:prstGeom>
          <a:solidFill>
            <a:srgbClr val="adade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14"/>
          <p:cNvSpPr/>
          <p:nvPr/>
        </p:nvSpPr>
        <p:spPr>
          <a:xfrm>
            <a:off x="3214800" y="1357200"/>
            <a:ext cx="2000160" cy="571680"/>
          </a:xfrm>
          <a:prstGeom prst="rect">
            <a:avLst/>
          </a:prstGeom>
          <a:solidFill>
            <a:srgbClr val="cceed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15"/>
          <p:cNvSpPr/>
          <p:nvPr/>
        </p:nvSpPr>
        <p:spPr>
          <a:xfrm>
            <a:off x="1357200" y="5000760"/>
            <a:ext cx="4857840" cy="13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Овал 17"/>
          <p:cNvSpPr/>
          <p:nvPr/>
        </p:nvSpPr>
        <p:spPr>
          <a:xfrm>
            <a:off x="2500200" y="4857840"/>
            <a:ext cx="214560" cy="214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Овал 18"/>
          <p:cNvSpPr/>
          <p:nvPr/>
        </p:nvSpPr>
        <p:spPr>
          <a:xfrm>
            <a:off x="2857680" y="5357880"/>
            <a:ext cx="214200" cy="214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Облако 19"/>
          <p:cNvSpPr/>
          <p:nvPr/>
        </p:nvSpPr>
        <p:spPr>
          <a:xfrm>
            <a:off x="2071800" y="5429160"/>
            <a:ext cx="357120" cy="41436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Облако 20"/>
          <p:cNvSpPr/>
          <p:nvPr/>
        </p:nvSpPr>
        <p:spPr>
          <a:xfrm>
            <a:off x="4071960" y="4572000"/>
            <a:ext cx="357120" cy="41436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Облако 21"/>
          <p:cNvSpPr/>
          <p:nvPr/>
        </p:nvSpPr>
        <p:spPr>
          <a:xfrm>
            <a:off x="4572000" y="5429160"/>
            <a:ext cx="357120" cy="41436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Облако 22"/>
          <p:cNvSpPr/>
          <p:nvPr/>
        </p:nvSpPr>
        <p:spPr>
          <a:xfrm>
            <a:off x="2786040" y="5857920"/>
            <a:ext cx="357120" cy="41436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Овал 23"/>
          <p:cNvSpPr/>
          <p:nvPr/>
        </p:nvSpPr>
        <p:spPr>
          <a:xfrm>
            <a:off x="3714840" y="5214960"/>
            <a:ext cx="214200" cy="214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Овал 24"/>
          <p:cNvSpPr/>
          <p:nvPr/>
        </p:nvSpPr>
        <p:spPr>
          <a:xfrm>
            <a:off x="4214880" y="6072120"/>
            <a:ext cx="214200" cy="21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5"/>
          <p:cNvSpPr/>
          <p:nvPr/>
        </p:nvSpPr>
        <p:spPr>
          <a:xfrm>
            <a:off x="6500880" y="5143680"/>
            <a:ext cx="2428920" cy="928440"/>
          </a:xfrm>
          <a:prstGeom prst="rect">
            <a:avLst/>
          </a:prstGeom>
          <a:solidFill>
            <a:srgbClr val="cceed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величился беспорядо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entropy.avi" descr=""/>
          <p:cNvPicPr/>
          <p:nvPr/>
        </p:nvPicPr>
        <p:blipFill>
          <a:blip r:embed="rId1"/>
          <a:stretch/>
        </p:blipFill>
        <p:spPr>
          <a:xfrm>
            <a:off x="2071800" y="2143080"/>
            <a:ext cx="3786120" cy="1438200"/>
          </a:xfrm>
          <a:prstGeom prst="rect">
            <a:avLst/>
          </a:prstGeom>
          <a:ln w="76320">
            <a:solidFill>
              <a:srgbClr val="3333cc"/>
            </a:solidFill>
            <a:miter/>
          </a:ln>
        </p:spPr>
      </p:pic>
    </p:spTree>
  </p:cSld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3500"/>
                            </p:stCondLst>
                            <p:childTnLst>
                              <p:par>
                                <p:cTn id="501" nodeType="afterEffect" fill="hold" presetClass="mediacall" presetID="1">
                                  <p:stCondLst>
                                    <p:cond delay="3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2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3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504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07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214200" y="928800"/>
            <a:ext cx="83822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Термодинамической системой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азывается любой объект природы, состоящий из достаточно большого числа молекул (структурных единиц) и отделенный от других объектов природы реальной или воображаемой границей раздела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857160" y="2714760"/>
            <a:ext cx="58676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истемы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гомогенные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(воздух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истемы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гетерогенные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(кровь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Feather_writes"/>
          <p:cNvPicPr/>
          <p:nvPr/>
        </p:nvPicPr>
        <p:blipFill>
          <a:blip r:embed="rId1"/>
          <a:stretch/>
        </p:blipFill>
        <p:spPr>
          <a:xfrm>
            <a:off x="8001000" y="152280"/>
            <a:ext cx="1143000" cy="12049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304920" y="457200"/>
            <a:ext cx="83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ермодинамик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ука об энергетике процессов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1295280" y="5410080"/>
            <a:ext cx="6777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и отсутствии массо- и теплообмена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 внешней средой говорят об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изолированной систем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i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= 0, </a:t>
            </a:r>
            <a:r>
              <a:rPr b="1" i="1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= 0)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605880" y="3571920"/>
            <a:ext cx="73191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Если система обменивается с окружающей средой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ассой и теплом, она называется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крытой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459360" y="4429080"/>
            <a:ext cx="76042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Если система обменивается с окружающей средой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энергией (но не массой!), она называется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крытой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3"/>
          <p:cNvSpPr/>
          <p:nvPr/>
        </p:nvSpPr>
        <p:spPr>
          <a:xfrm>
            <a:off x="2843280" y="5084640"/>
            <a:ext cx="3673440" cy="16480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ru-RU" sz="5400" spc="-1" strike="noStrike">
                <a:solidFill>
                  <a:srgbClr val="ff0000"/>
                </a:solidFill>
                <a:latin typeface="Arial"/>
                <a:ea typeface="Arial"/>
              </a:rPr>
              <a:t>S = Q/Т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  Дж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моль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Arial"/>
              </a:rPr>
              <a:t>·K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539640" y="2349360"/>
            <a:ext cx="7925040" cy="2653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Энтроп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функция состояния, приращение которой </a:t>
            </a:r>
            <a:r>
              <a:rPr b="1" i="1" lang="ru-RU" sz="2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вно теплоте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Q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, подведенной к системе в обратимом изотермическом процессе, деленной на абсолютную температуру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, при которой осуществляется процесс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250920" y="260280"/>
            <a:ext cx="8642160" cy="1800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          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Энтроп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функция состояния, характеризующая меру неупорядоченности системы, неоднородности расположения  и движения ее части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500"/>
                            </p:stCondLst>
                            <p:childTnLst>
                              <p:par>
                                <p:cTn id="517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Энтроп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57120" y="1196640"/>
            <a:ext cx="8501040" cy="50180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еличина энтропии зависит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г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ж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т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графита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алмаз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ложность систе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он 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-ции=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iS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он.прод—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iS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исх.в-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533520" y="304920"/>
            <a:ext cx="4549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торой закон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рмодинамик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3276720" y="46530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S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Symbol"/>
                <a:ea typeface="Symbol"/>
              </a:rPr>
              <a:t>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 0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Feather_writes"/>
          <p:cNvPicPr/>
          <p:nvPr/>
        </p:nvPicPr>
        <p:blipFill>
          <a:blip r:embed="rId1"/>
          <a:stretch/>
        </p:blipFill>
        <p:spPr>
          <a:xfrm>
            <a:off x="7010280" y="457200"/>
            <a:ext cx="1752840" cy="175248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6"/>
          <p:cNvSpPr/>
          <p:nvPr/>
        </p:nvSpPr>
        <p:spPr>
          <a:xfrm>
            <a:off x="523800" y="2514600"/>
            <a:ext cx="8091720" cy="100872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юбая система, предоставленная сама себе, в среднем буде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зменяться в направлении состояния, отвечающег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аксимальной вероятност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526320" y="3809880"/>
            <a:ext cx="7261200" cy="7038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любом необратимом процессе полная энтропия всех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сматриваемых тел возрастае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521280" y="5410080"/>
            <a:ext cx="8149680" cy="7038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остояние с максимальной энтропией – наиболее устойчиво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остояние для изолированной систем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611640" y="185724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ьюи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610920" y="4800600"/>
            <a:ext cx="120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ерм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500"/>
                            </p:stCondLst>
                            <p:childTnLst>
                              <p:par>
                                <p:cTn id="54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00"/>
                            </p:stCondLst>
                            <p:childTnLst>
                              <p:par>
                                <p:cTn id="579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250920" y="228600"/>
            <a:ext cx="864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Если в процессе степень беспорядка не изменяется (</a:t>
            </a:r>
            <a:r>
              <a:rPr b="1" i="1" lang="ru-RU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S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= 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, то направление процесса определяется изменением энтальпи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и процесс проходит самопроизвольно в направлении уменьшения энтальпи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108000" y="2276640"/>
            <a:ext cx="885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Если в процессе не происходит энергетических изменени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ru-RU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Н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= 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, фактором,  определяющим направление реакции, является энтропия и процесс пойдет самопроизвольно в направлении, при котором степень беспорядка возрастает, т.е. в сторону увеличения энтропи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0" y="4797360"/>
            <a:ext cx="9144000" cy="10688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Arial"/>
              </a:rPr>
              <a:t>стремление системы  к минимуму энергии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тремление системы к максимуму энтропи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Object 2"/>
          <p:cNvGraphicFramePr/>
          <p:nvPr/>
        </p:nvGraphicFramePr>
        <p:xfrm>
          <a:off x="152280" y="609480"/>
          <a:ext cx="2511720" cy="313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09480"/>
                    <a:ext cx="2511720" cy="31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Object 3"/>
          <p:cNvGraphicFramePr/>
          <p:nvPr/>
        </p:nvGraphicFramePr>
        <p:xfrm>
          <a:off x="457200" y="914400"/>
          <a:ext cx="1928880" cy="260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914400"/>
                    <a:ext cx="1928880" cy="26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Rectangle 4"/>
          <p:cNvSpPr/>
          <p:nvPr/>
        </p:nvSpPr>
        <p:spPr>
          <a:xfrm>
            <a:off x="0" y="3733920"/>
            <a:ext cx="27766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ж. Гибб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1839-1903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2971800" y="1600200"/>
            <a:ext cx="5334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качестве критерия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опроизвольности процессов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есообразно ввести новую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ю состояния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торая учитывает влияни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боих факторо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3657600" y="388620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G = </a:t>
            </a:r>
            <a:r>
              <a:rPr b="1" i="1" lang="ru-RU" sz="36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H - T</a:t>
            </a:r>
            <a:r>
              <a:rPr b="1" i="1" lang="ru-RU" sz="36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2971800" y="45720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С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  <a:ea typeface="Arial"/>
              </a:rPr>
              <a:t>вободн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ая энергия Гиббса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  <a:ea typeface="Arial"/>
              </a:rPr>
              <a:t> (</a:t>
            </a:r>
            <a:r>
              <a:rPr b="1" i="1" lang="ru-RU" sz="2400" spc="-1" strike="noStrike">
                <a:solidFill>
                  <a:srgbClr val="3333cc"/>
                </a:solidFill>
                <a:latin typeface="Arial"/>
                <a:ea typeface="Arial"/>
              </a:rPr>
              <a:t>G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  <a:ea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2974680" y="457200"/>
            <a:ext cx="45151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lang="ru-RU" sz="3400" spc="-1" strike="noStrike">
                <a:solidFill>
                  <a:srgbClr val="ff0000"/>
                </a:solidFill>
                <a:latin typeface="Arial"/>
                <a:ea typeface="Arial"/>
              </a:rPr>
              <a:t>вободн</a:t>
            </a: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ая</a:t>
            </a:r>
            <a:r>
              <a:rPr b="1" lang="ru-RU" sz="3400" spc="-1" strike="noStrike">
                <a:solidFill>
                  <a:srgbClr val="ff0000"/>
                </a:solidFill>
                <a:latin typeface="Arial"/>
                <a:ea typeface="Arial"/>
              </a:rPr>
              <a:t> энерги</a:t>
            </a: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lang="ru-RU" sz="3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Arial"/>
                <a:ea typeface="Arial"/>
              </a:rPr>
              <a:t>Гиббса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9" descr="Feather_writes"/>
          <p:cNvPicPr/>
          <p:nvPr/>
        </p:nvPicPr>
        <p:blipFill>
          <a:blip r:embed="rId5"/>
          <a:stretch/>
        </p:blipFill>
        <p:spPr>
          <a:xfrm>
            <a:off x="7543800" y="15228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10"/>
          <p:cNvSpPr/>
          <p:nvPr/>
        </p:nvSpPr>
        <p:spPr>
          <a:xfrm>
            <a:off x="766800" y="5334120"/>
            <a:ext cx="7839000" cy="109944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Как и для других функций состояния, для свободной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энергии важно не абсолютное значение функции, а ее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изменение в ходе процесса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685800" y="487692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АЖНО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0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500"/>
                            </p:stCondLst>
                            <p:childTnLst>
                              <p:par>
                                <p:cTn id="6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500"/>
                            </p:stCondLst>
                            <p:childTnLst>
                              <p:par>
                                <p:cTn id="6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500"/>
                            </p:stCondLst>
                            <p:childTnLst>
                              <p:par>
                                <p:cTn id="641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2500"/>
                            </p:stCondLst>
                            <p:childTnLst>
                              <p:par>
                                <p:cTn id="64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500"/>
                            </p:stCondLst>
                            <p:childTnLst>
                              <p:par>
                                <p:cTn id="65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539640" y="18900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Второе начало термодинамик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  <a:ea typeface="Arial"/>
              </a:rPr>
              <a:t>(определение</a:t>
            </a: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 Гиббса</a:t>
            </a:r>
            <a:r>
              <a:rPr b="1" lang="ru-RU" sz="3200" spc="-1" strike="noStrike">
                <a:solidFill>
                  <a:srgbClr val="3333cc"/>
                </a:solidFill>
                <a:latin typeface="Arial"/>
                <a:ea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395280" y="1268280"/>
            <a:ext cx="8077320" cy="35067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изотермических условиях в системе самопроизвольно могут осуществляться только такие процессы, в результате которых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ободна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энергия системы уменьшается (</a:t>
            </a:r>
            <a:r>
              <a:rPr b="1" lang="ru-RU" sz="2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G</a:t>
            </a:r>
            <a:r>
              <a:rPr b="1" lang="ru-RU" sz="2800" spc="-1" strike="noStrike">
                <a:solidFill>
                  <a:srgbClr val="ff0000"/>
                </a:solidFill>
                <a:latin typeface="Symbol"/>
                <a:ea typeface="Symbol"/>
              </a:rPr>
              <a:t>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состоянии равновеси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ободна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энергия системы не меняется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G = const</a:t>
            </a:r>
            <a:r>
              <a:rPr b="1" lang="ru-RU" sz="2800" spc="-1" strike="noStrike">
                <a:solidFill>
                  <a:srgbClr val="993300"/>
                </a:solidFill>
                <a:latin typeface="Arial"/>
                <a:ea typeface="Arial"/>
              </a:rPr>
              <a:t>, </a:t>
            </a:r>
            <a:r>
              <a:rPr b="1" lang="ru-RU" sz="2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G = 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r>
              <a:rPr b="1" lang="ru-RU" sz="2800" spc="-1" strike="noStrike">
                <a:solidFill>
                  <a:srgbClr val="993300"/>
                </a:solidFill>
                <a:latin typeface="Arial"/>
                <a:ea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Feather_writes"/>
          <p:cNvPicPr/>
          <p:nvPr/>
        </p:nvPicPr>
        <p:blipFill>
          <a:blip r:embed="rId1"/>
          <a:stretch/>
        </p:blipFill>
        <p:spPr>
          <a:xfrm>
            <a:off x="76201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5"/>
          <p:cNvSpPr/>
          <p:nvPr/>
        </p:nvSpPr>
        <p:spPr>
          <a:xfrm>
            <a:off x="324000" y="4941720"/>
            <a:ext cx="8076960" cy="1373760"/>
          </a:xfrm>
          <a:prstGeom prst="rect">
            <a:avLst/>
          </a:prstGeom>
          <a:solidFill>
            <a:srgbClr val="99ff99"/>
          </a:solidFill>
          <a:ln w="9360">
            <a:solidFill>
              <a:srgbClr val="3333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охимические процессы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 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Экзэргонические </a:t>
            </a:r>
            <a:r>
              <a:rPr b="1" lang="ru-RU" sz="2800" spc="-1" strike="noStrike">
                <a:solidFill>
                  <a:srgbClr val="99330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G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&lt;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 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  <a:ea typeface="Arial"/>
              </a:rPr>
              <a:t>       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  <a:ea typeface="Arial"/>
              </a:rPr>
              <a:t>Эндэргонические  </a:t>
            </a:r>
            <a:r>
              <a:rPr b="1" lang="ru-RU" sz="28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G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&gt;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 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500"/>
                            </p:stCondLst>
                            <p:childTnLst>
                              <p:par>
                                <p:cTn id="672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6186960" y="609120"/>
            <a:ext cx="2151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Факторы,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определяющие ход процесс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Group 3"/>
          <p:cNvGrpSpPr/>
          <p:nvPr/>
        </p:nvGrpSpPr>
        <p:grpSpPr>
          <a:xfrm>
            <a:off x="395280" y="2852640"/>
            <a:ext cx="8457480" cy="3105000"/>
            <a:chOff x="395280" y="2852640"/>
            <a:chExt cx="8457480" cy="3105000"/>
          </a:xfrm>
        </p:grpSpPr>
        <p:sp>
          <p:nvSpPr>
            <p:cNvPr id="188" name="Rectangle 4"/>
            <p:cNvSpPr/>
            <p:nvPr/>
          </p:nvSpPr>
          <p:spPr>
            <a:xfrm>
              <a:off x="395280" y="2852640"/>
              <a:ext cx="869760" cy="73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r>
                <a:rPr b="1" lang="ru-RU" sz="2800" spc="-1" strike="noStrike">
                  <a:solidFill>
                    <a:srgbClr val="3333cc"/>
                  </a:solidFill>
                  <a:latin typeface="Arial"/>
                  <a:ea typeface="Arial"/>
                </a:rPr>
                <a:t>Н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5"/>
            <p:cNvSpPr/>
            <p:nvPr/>
          </p:nvSpPr>
          <p:spPr>
            <a:xfrm>
              <a:off x="1265040" y="2852640"/>
              <a:ext cx="914040" cy="73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</a:t>
              </a:r>
              <a:r>
                <a:rPr b="1" lang="ru-RU" sz="2800" spc="-1" strike="noStrike">
                  <a:solidFill>
                    <a:srgbClr val="3333cc"/>
                  </a:solidFill>
                  <a:latin typeface="Arial"/>
                  <a:ea typeface="Arial"/>
                </a:rPr>
                <a:t>S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6"/>
            <p:cNvSpPr/>
            <p:nvPr/>
          </p:nvSpPr>
          <p:spPr>
            <a:xfrm>
              <a:off x="2179440" y="2852640"/>
              <a:ext cx="6673320" cy="73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Arial"/>
                  <a:ea typeface="Arial"/>
                </a:rPr>
                <a:t>Возможность самопроизвольного процесс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7"/>
            <p:cNvSpPr/>
            <p:nvPr/>
          </p:nvSpPr>
          <p:spPr>
            <a:xfrm>
              <a:off x="395280" y="3582720"/>
              <a:ext cx="869760" cy="5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8"/>
            <p:cNvSpPr/>
            <p:nvPr/>
          </p:nvSpPr>
          <p:spPr>
            <a:xfrm>
              <a:off x="1265040" y="3582720"/>
              <a:ext cx="914040" cy="5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9"/>
            <p:cNvSpPr/>
            <p:nvPr/>
          </p:nvSpPr>
          <p:spPr>
            <a:xfrm>
              <a:off x="2179440" y="3582720"/>
              <a:ext cx="6673320" cy="5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озможен при любой температуре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10"/>
            <p:cNvSpPr/>
            <p:nvPr/>
          </p:nvSpPr>
          <p:spPr>
            <a:xfrm>
              <a:off x="395280" y="4176720"/>
              <a:ext cx="86976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11"/>
            <p:cNvSpPr/>
            <p:nvPr/>
          </p:nvSpPr>
          <p:spPr>
            <a:xfrm>
              <a:off x="1265040" y="4176720"/>
              <a:ext cx="91404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2"/>
            <p:cNvSpPr/>
            <p:nvPr/>
          </p:nvSpPr>
          <p:spPr>
            <a:xfrm>
              <a:off x="2179440" y="4176720"/>
              <a:ext cx="667332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озможен при низких температурах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13"/>
            <p:cNvSpPr/>
            <p:nvPr/>
          </p:nvSpPr>
          <p:spPr>
            <a:xfrm>
              <a:off x="395280" y="4770360"/>
              <a:ext cx="86976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4"/>
            <p:cNvSpPr/>
            <p:nvPr/>
          </p:nvSpPr>
          <p:spPr>
            <a:xfrm>
              <a:off x="1265040" y="4770360"/>
              <a:ext cx="91404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15"/>
            <p:cNvSpPr/>
            <p:nvPr/>
          </p:nvSpPr>
          <p:spPr>
            <a:xfrm>
              <a:off x="2179440" y="4770360"/>
              <a:ext cx="667332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озможен при высоких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емпературах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16"/>
            <p:cNvSpPr/>
            <p:nvPr/>
          </p:nvSpPr>
          <p:spPr>
            <a:xfrm>
              <a:off x="395280" y="5364000"/>
              <a:ext cx="86976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17"/>
            <p:cNvSpPr/>
            <p:nvPr/>
          </p:nvSpPr>
          <p:spPr>
            <a:xfrm>
              <a:off x="1265040" y="5364000"/>
              <a:ext cx="91404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8"/>
            <p:cNvSpPr/>
            <p:nvPr/>
          </p:nvSpPr>
          <p:spPr>
            <a:xfrm>
              <a:off x="2179440" y="5364000"/>
              <a:ext cx="667332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роцесс невозможен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Rectangle 19"/>
          <p:cNvSpPr/>
          <p:nvPr/>
        </p:nvSpPr>
        <p:spPr>
          <a:xfrm>
            <a:off x="2133720" y="182880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G = </a:t>
            </a:r>
            <a:r>
              <a:rPr b="1" i="1" lang="ru-RU" sz="36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H - T</a:t>
            </a:r>
            <a:r>
              <a:rPr b="1" i="1" lang="ru-RU" sz="36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539640" y="404640"/>
            <a:ext cx="7920000" cy="61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собенности биохимических процессов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нцип энергетического сопряже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ТФ + 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АДФ + нФ (а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ТФ + 2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АМФ + нФ (б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-ци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кД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л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-ци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1,0 кД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л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рыв связи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идратация, изомеризация и нейтрализация  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пряж.реакци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Необходимое услов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личие общего промежуточного соедине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3" descr="Feather_writes"/>
          <p:cNvPicPr/>
          <p:nvPr/>
        </p:nvPicPr>
        <p:blipFill>
          <a:blip r:embed="rId1"/>
          <a:stretch/>
        </p:blipFill>
        <p:spPr>
          <a:xfrm>
            <a:off x="6948360" y="19162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0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1500"/>
                            </p:stCondLst>
                            <p:childTnLst>
                              <p:par>
                                <p:cTn id="71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4"/>
          <p:cNvSpPr/>
          <p:nvPr/>
        </p:nvSpPr>
        <p:spPr>
          <a:xfrm>
            <a:off x="2124000" y="3357720"/>
            <a:ext cx="4969080" cy="649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179280" y="404640"/>
            <a:ext cx="8964720" cy="5773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нцип энергетического сопряжения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ТФ + Н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АДФ + нФ (а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люкоза  + фруктоза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ахароза + Н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 (б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-ци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a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-3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кД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л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-ци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+20,9 кД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ль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опряж.реакций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Необходимое услов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личие общего промежуточного соедине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Глюкозо-1-фосфа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0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179280" y="428760"/>
            <a:ext cx="7921800" cy="2348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собенности биохимических процессов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ратимо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биохимических процессов, стремление к равновесию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энергетическая выгодност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3" descr="Feather_writes"/>
          <p:cNvPicPr/>
          <p:nvPr/>
        </p:nvPicPr>
        <p:blipFill>
          <a:blip r:embed="rId1"/>
          <a:stretch/>
        </p:blipFill>
        <p:spPr>
          <a:xfrm>
            <a:off x="7740720" y="-17136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5"/>
          <p:cNvSpPr/>
          <p:nvPr/>
        </p:nvSpPr>
        <p:spPr>
          <a:xfrm>
            <a:off x="179280" y="2637000"/>
            <a:ext cx="5472360" cy="41180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ч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6"/>
          <p:cNvSpPr/>
          <p:nvPr/>
        </p:nvSpPr>
        <p:spPr>
          <a:xfrm flipV="1">
            <a:off x="1403280" y="2852280"/>
            <a:ext cx="0" cy="230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7"/>
          <p:cNvSpPr/>
          <p:nvPr/>
        </p:nvSpPr>
        <p:spPr>
          <a:xfrm>
            <a:off x="1403280" y="5157720"/>
            <a:ext cx="3097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8"/>
          <p:cNvSpPr/>
          <p:nvPr/>
        </p:nvSpPr>
        <p:spPr>
          <a:xfrm flipV="1">
            <a:off x="4500720" y="2852280"/>
            <a:ext cx="0" cy="2305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12"/>
          <p:cNvSpPr/>
          <p:nvPr/>
        </p:nvSpPr>
        <p:spPr>
          <a:xfrm rot="226800">
            <a:off x="1332000" y="3497400"/>
            <a:ext cx="3166920" cy="122544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3"/>
          <p:cNvSpPr/>
          <p:nvPr/>
        </p:nvSpPr>
        <p:spPr>
          <a:xfrm>
            <a:off x="1763640" y="3500280"/>
            <a:ext cx="1008000" cy="4320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4"/>
          <p:cNvSpPr/>
          <p:nvPr/>
        </p:nvSpPr>
        <p:spPr>
          <a:xfrm>
            <a:off x="3348000" y="3500280"/>
            <a:ext cx="934920" cy="4320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5724360" y="2643120"/>
            <a:ext cx="3240360" cy="32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В случае протекания обратимых реакций система самопроизвольно приходит к состоянию       химического равновесия .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7"/>
          <p:cNvSpPr/>
          <p:nvPr/>
        </p:nvSpPr>
        <p:spPr>
          <a:xfrm>
            <a:off x="8244000" y="2500200"/>
            <a:ext cx="61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!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0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1500"/>
                            </p:stCondLst>
                            <p:childTnLst>
                              <p:par>
                                <p:cTn id="73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3000"/>
                            </p:stCondLst>
                            <p:childTnLst>
                              <p:par>
                                <p:cTn id="73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142920" y="4508640"/>
            <a:ext cx="8858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       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Состояние системы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определяется совокупностью ее свойств  и характеризуется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     термодинамическими           параметрами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179280" y="0"/>
            <a:ext cx="896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Состояние системы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  <a:ea typeface="Arial"/>
              </a:rPr>
              <a:t>Равновесно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– характеризуется постоянством всех свойств во времени за счет отсутствия потоков вещества и энергии в систем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Стационарно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-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арактеризуется постоянством всех свойств во времени за счет непрерывного обмена веществом и энергией между системой и окружающей средо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  <a:ea typeface="Arial"/>
              </a:rPr>
              <a:t>Переходное 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зменение свойств системы во времен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324000" y="428760"/>
            <a:ext cx="8424720" cy="5154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собенности биохимических процессов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ногостадийно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саморегуляция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ч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3" descr="Feather_writes"/>
          <p:cNvPicPr/>
          <p:nvPr/>
        </p:nvPicPr>
        <p:blipFill>
          <a:blip r:embed="rId1"/>
          <a:stretch/>
        </p:blipFill>
        <p:spPr>
          <a:xfrm>
            <a:off x="7740720" y="-17136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221" name="Line 5"/>
          <p:cNvSpPr/>
          <p:nvPr/>
        </p:nvSpPr>
        <p:spPr>
          <a:xfrm flipV="1">
            <a:off x="1116000" y="1989000"/>
            <a:ext cx="0" cy="1873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1476360" y="4365720"/>
            <a:ext cx="2017800" cy="43164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0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3"/>
          <p:cNvSpPr/>
          <p:nvPr/>
        </p:nvSpPr>
        <p:spPr>
          <a:xfrm>
            <a:off x="1116000" y="3860640"/>
            <a:ext cx="381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4"/>
          <p:cNvSpPr/>
          <p:nvPr/>
        </p:nvSpPr>
        <p:spPr>
          <a:xfrm flipV="1">
            <a:off x="4932360" y="2060640"/>
            <a:ext cx="0" cy="1800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5"/>
          <p:cNvSpPr/>
          <p:nvPr/>
        </p:nvSpPr>
        <p:spPr>
          <a:xfrm>
            <a:off x="4500720" y="4149720"/>
            <a:ext cx="3600360" cy="136836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каждой стад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=)10кД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ль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rc 27"/>
          <p:cNvSpPr/>
          <p:nvPr/>
        </p:nvSpPr>
        <p:spPr>
          <a:xfrm rot="8771400">
            <a:off x="2484360" y="2349000"/>
            <a:ext cx="936720" cy="9144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rc 28"/>
          <p:cNvSpPr/>
          <p:nvPr/>
        </p:nvSpPr>
        <p:spPr>
          <a:xfrm rot="9335400">
            <a:off x="1258920" y="1989000"/>
            <a:ext cx="936720" cy="9144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rc 29"/>
          <p:cNvSpPr/>
          <p:nvPr/>
        </p:nvSpPr>
        <p:spPr>
          <a:xfrm rot="8771400">
            <a:off x="3779640" y="2637000"/>
            <a:ext cx="936360" cy="9144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0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1500"/>
                            </p:stCondLst>
                            <p:childTnLst>
                              <p:par>
                                <p:cTn id="76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214200" y="432000"/>
            <a:ext cx="8929800" cy="9471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4. Э.Бауэром был сформулирован «Всеобщий закон биологии» в следующей редакции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6"/>
          <p:cNvSpPr/>
          <p:nvPr/>
        </p:nvSpPr>
        <p:spPr>
          <a:xfrm>
            <a:off x="928800" y="1714680"/>
            <a:ext cx="7715160" cy="3934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се и только живые системы никогда не бывают в равновесии и исполняют за счет своей свободной энергии постоянную работу против равновесия, требуемого законами физики и химии при существующих внешних условиях»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539640" y="404640"/>
            <a:ext cx="7920000" cy="3506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нцип И. Пригожи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в открытой системе в стационарном состоянии прирост энтропии в единицу времени 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нимает минимальное положительное значение для данных услови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3" descr="Feather_writes"/>
          <p:cNvPicPr/>
          <p:nvPr/>
        </p:nvPicPr>
        <p:blipFill>
          <a:blip r:embed="rId1"/>
          <a:stretch/>
        </p:blipFill>
        <p:spPr>
          <a:xfrm>
            <a:off x="7740720" y="-17136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4"/>
          <p:cNvSpPr/>
          <p:nvPr/>
        </p:nvSpPr>
        <p:spPr>
          <a:xfrm>
            <a:off x="104040" y="4071960"/>
            <a:ext cx="9027720" cy="161784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Arial"/>
              </a:rPr>
              <a:t>Энтропия – мера рассеяния энергии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При стационарном состоянии рассеяние  энерги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Гиббса –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минимально !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3000"/>
                            </p:stCondLst>
                            <p:childTnLst>
                              <p:par>
                                <p:cTn id="782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"/>
          <p:cNvSpPr/>
          <p:nvPr/>
        </p:nvSpPr>
        <p:spPr>
          <a:xfrm>
            <a:off x="357120" y="812880"/>
            <a:ext cx="8501040" cy="56397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27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. В живых организмах ни один процесс не может происходить непрерывно, а должен чередоваться с противоположно направленным: вдох с выдохом, работа с отдыхом, бодрствование со сном,  синтез веществ с их расщеплением и т.д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27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ояние живого организма никогда не бывает статическим, а все его физиологические и энергетические параметры всегда находятся в состоянии непрерывных колебаний относительно средних значений, как по частоте, так и по амплитуде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2"/>
          <p:cNvSpPr/>
          <p:nvPr/>
        </p:nvSpPr>
        <p:spPr>
          <a:xfrm>
            <a:off x="571680" y="214200"/>
            <a:ext cx="3214440" cy="571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Таким образом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539640" y="404640"/>
            <a:ext cx="8353440" cy="71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собенности биохимических процессов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тойчивость живых организм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ительная работоспособност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Гомеоста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b-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O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2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b-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</a:rPr>
              <a:t>2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легкие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b-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1" lang="ru-RU" sz="2800" spc="-1" strike="noStrike" baseline="-25000">
                <a:solidFill>
                  <a:srgbClr val="3333cc"/>
                </a:solidFill>
                <a:latin typeface="Arial"/>
              </a:rPr>
              <a:t>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b-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ткани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теобласты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теокласт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образование)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(растворение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а</a:t>
            </a:r>
            <a:r>
              <a:rPr b="1" lang="ru-RU" sz="2800" spc="-1" strike="noStrike" baseline="-25000">
                <a:solidFill>
                  <a:srgbClr val="ff0000"/>
                </a:solidFill>
                <a:latin typeface="Arial"/>
              </a:rPr>
              <a:t>5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РО</a:t>
            </a:r>
            <a:r>
              <a:rPr b="1" lang="ru-RU" sz="28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ru-RU" sz="28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3" descr="Feather_writes"/>
          <p:cNvPicPr/>
          <p:nvPr/>
        </p:nvPicPr>
        <p:blipFill>
          <a:blip r:embed="rId1"/>
          <a:stretch/>
        </p:blipFill>
        <p:spPr>
          <a:xfrm>
            <a:off x="7315200" y="62064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238" name="AutoShape 4"/>
          <p:cNvSpPr/>
          <p:nvPr/>
        </p:nvSpPr>
        <p:spPr>
          <a:xfrm>
            <a:off x="4211640" y="907920"/>
            <a:ext cx="431640" cy="720720"/>
          </a:xfrm>
          <a:prstGeom prst="downArrow">
            <a:avLst>
              <a:gd name="adj1" fmla="val 50000"/>
              <a:gd name="adj2" fmla="val 41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7"/>
          <p:cNvSpPr/>
          <p:nvPr/>
        </p:nvSpPr>
        <p:spPr>
          <a:xfrm>
            <a:off x="2987640" y="278136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8"/>
          <p:cNvSpPr/>
          <p:nvPr/>
        </p:nvSpPr>
        <p:spPr>
          <a:xfrm flipH="1">
            <a:off x="3419640" y="2997360"/>
            <a:ext cx="57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9"/>
          <p:cNvSpPr/>
          <p:nvPr/>
        </p:nvSpPr>
        <p:spPr>
          <a:xfrm flipH="1">
            <a:off x="1979280" y="3068640"/>
            <a:ext cx="3384360" cy="936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0"/>
          <p:cNvSpPr/>
          <p:nvPr/>
        </p:nvSpPr>
        <p:spPr>
          <a:xfrm>
            <a:off x="2987640" y="4005360"/>
            <a:ext cx="172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1"/>
          <p:cNvSpPr/>
          <p:nvPr/>
        </p:nvSpPr>
        <p:spPr>
          <a:xfrm flipH="1">
            <a:off x="3924000" y="4221000"/>
            <a:ext cx="649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17"/>
          <p:cNvSpPr/>
          <p:nvPr/>
        </p:nvSpPr>
        <p:spPr>
          <a:xfrm rot="2735400">
            <a:off x="3384720" y="5121000"/>
            <a:ext cx="647640" cy="432000"/>
          </a:xfrm>
          <a:prstGeom prst="rightArrow">
            <a:avLst>
              <a:gd name="adj1" fmla="val 50000"/>
              <a:gd name="adj2" fmla="val 3747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8"/>
          <p:cNvSpPr/>
          <p:nvPr/>
        </p:nvSpPr>
        <p:spPr>
          <a:xfrm rot="20008200">
            <a:off x="5148000" y="5084280"/>
            <a:ext cx="803160" cy="505080"/>
          </a:xfrm>
          <a:prstGeom prst="rightArrow">
            <a:avLst>
              <a:gd name="adj1" fmla="val 50000"/>
              <a:gd name="adj2" fmla="val 397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0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1500"/>
                            </p:stCondLst>
                            <p:childTnLst>
                              <p:par>
                                <p:cTn id="79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468360" y="4365720"/>
            <a:ext cx="79930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Для характеристики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 состояния системы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используют кроме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термодинамических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 параметров,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акже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функции состояния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395280" y="692280"/>
            <a:ext cx="838188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Важнейши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термодинамически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параметр</a:t>
            </a: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ы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Экстенсивные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(массы веществ 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m,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объем системы 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V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, количество вещества </a:t>
            </a:r>
            <a:r>
              <a:rPr b="1" i="1" lang="en-US" sz="2600" spc="-1" strike="noStrike">
                <a:solidFill>
                  <a:srgbClr val="ff0000"/>
                </a:solidFill>
                <a:latin typeface="Arial"/>
                <a:ea typeface="Arial"/>
              </a:rPr>
              <a:t>n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Интенсивные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(температура 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Т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, давление 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p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, концентраци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веществ 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С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ри взаимодействии систем значения экстенсивных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раметров </a:t>
            </a:r>
            <a:r>
              <a:rPr b="1" lang="ru-RU" sz="2800" spc="-1" strike="noStrike">
                <a:solidFill>
                  <a:srgbClr val="2d2db9"/>
                </a:solidFill>
                <a:latin typeface="Arial"/>
              </a:rPr>
              <a:t>суммируютс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а интенсивных -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усредняютс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179280" y="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Параметры системы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04920" y="47628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ункции состоян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истемы – всегда экстенсивные величины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Функции состоян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завися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от термодинамических параметров, характеризующих состояние систем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но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е завися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от пути достижения данного состоян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380880" y="2895480"/>
            <a:ext cx="8305920" cy="33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нкц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й состояния является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полная энергия системы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которая представляет собой сумму трех составляющих: кинетической энергии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К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потенциальной энергии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П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обусловленной действием внешних силовых полей (гравитационного, электромагнитного и пр.), и внутренней энергии системы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U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Arial"/>
                <a:ea typeface="Arial"/>
              </a:rPr>
              <a:t>Е = К + П + U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304920" y="476280"/>
            <a:ext cx="8381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нутренняя энергия системы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U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вна сумме потенциальной и кинетической энергии всех частиц этой системы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U = 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и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395280" y="1844640"/>
            <a:ext cx="8280360" cy="167868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Процесс –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ереход системы из одного состояния в друго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нечное значение (параметра, функции)  — начальное значе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параметра, функции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395280" y="5589720"/>
            <a:ext cx="8202600" cy="886320"/>
          </a:xfrm>
          <a:prstGeom prst="rect">
            <a:avLst/>
          </a:prstGeom>
          <a:gradFill rotWithShape="0">
            <a:gsLst>
              <a:gs pos="0">
                <a:srgbClr val="477647"/>
              </a:gs>
              <a:gs pos="50000">
                <a:srgbClr val="99ff99"/>
              </a:gs>
              <a:gs pos="100000">
                <a:srgbClr val="4776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Биохимические реакц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, Т 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on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395280" y="3645000"/>
            <a:ext cx="8202600" cy="16786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лассификация процессов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Изотермически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(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 = 0)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зобарический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nst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Изохорически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onst,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 =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6"/>
          <p:cNvSpPr/>
          <p:nvPr/>
        </p:nvSpPr>
        <p:spPr>
          <a:xfrm>
            <a:off x="539640" y="260280"/>
            <a:ext cx="83059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абот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А) - это энергетическая мера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направленных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форм движения частиц в процессе взаимодействия системы с окружающей средой. А +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Теплот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 энергетическая мера </a:t>
            </a: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хаотических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форм движения частиц в процессе взаимодействия системы с окружающей средой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250920" y="3933720"/>
            <a:ext cx="8381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бота и теплота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не являются свойствами системы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арактеризуют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процесс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мена энергией между системой и окружающей средой, поэтому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зависят от пут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роцесса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457200" y="1676520"/>
            <a:ext cx="8229600" cy="13125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Если отсутствует теплообмен системы с внешней средой, запас ее внутренней энергии остается постоянным </a:t>
            </a:r>
            <a:r>
              <a:rPr b="1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=0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457200" y="335268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общенная системе теплот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Q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ходуется на увеличение внутренней энерги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U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на совершение работы против внешних сил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2971800" y="4952880"/>
            <a:ext cx="335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Q = </a:t>
            </a:r>
            <a:r>
              <a:rPr b="1" i="1" lang="ru-RU" sz="4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ru-RU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U + A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Feather_writes"/>
          <p:cNvPicPr/>
          <p:nvPr/>
        </p:nvPicPr>
        <p:blipFill>
          <a:blip r:embed="rId1"/>
          <a:stretch/>
        </p:blipFill>
        <p:spPr>
          <a:xfrm>
            <a:off x="7162920" y="152280"/>
            <a:ext cx="1751040" cy="17510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751320" y="260280"/>
            <a:ext cx="635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ервый закон термодинамик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Ю.Мейер, 1842 ,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изик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-врач 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8"/>
          <p:cNvSpPr/>
          <p:nvPr/>
        </p:nvSpPr>
        <p:spPr>
          <a:xfrm>
            <a:off x="3419640" y="4508640"/>
            <a:ext cx="1944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3492360" y="4437000"/>
            <a:ext cx="1800360" cy="504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3780000" y="142920"/>
            <a:ext cx="2149200" cy="642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250920" y="981000"/>
            <a:ext cx="8229600" cy="58824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Uкон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—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Uнач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ко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ач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1" i="1" lang="ru-RU" sz="32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U + A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Q =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Uкон —  Uнач) + (р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он — р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ач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Q =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Uкон + р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он ) — (Uнач + р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ач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U + pV = H –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энтальп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Q =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Feather_writes"/>
          <p:cNvPicPr/>
          <p:nvPr/>
        </p:nvPicPr>
        <p:blipFill>
          <a:blip r:embed="rId1"/>
          <a:stretch/>
        </p:blipFill>
        <p:spPr>
          <a:xfrm>
            <a:off x="7392960" y="0"/>
            <a:ext cx="1751040" cy="17510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"/>
          <p:cNvSpPr/>
          <p:nvPr/>
        </p:nvSpPr>
        <p:spPr>
          <a:xfrm>
            <a:off x="826920" y="260280"/>
            <a:ext cx="61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 р, Т 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onst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 =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р </a:t>
            </a:r>
            <a:r>
              <a:rPr b="1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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395280" y="5084640"/>
            <a:ext cx="8077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Энтальпия эквивалентна внутренней энергии системы при постоянном давлении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6T22:50:56Z</dcterms:created>
  <dc:creator>Zelenin</dc:creator>
  <dc:description/>
  <dc:language>en-US</dc:language>
  <cp:lastModifiedBy>Admin</cp:lastModifiedBy>
  <dcterms:modified xsi:type="dcterms:W3CDTF">2012-12-18T05:11:03Z</dcterms:modified>
  <cp:revision>220</cp:revision>
  <dc:subject/>
  <dc:title>Презентация PowerPoint</dc:title>
</cp:coreProperties>
</file>