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52.jpeg" ContentType="image/jpeg"/>
  <Override PartName="/ppt/media/image28.jpeg" ContentType="image/jpeg"/>
  <Override PartName="/ppt/media/image51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44.png" ContentType="image/png"/>
  <Override PartName="/ppt/media/image40.jpeg" ContentType="image/jpeg"/>
  <Override PartName="/ppt/media/image38.jpeg" ContentType="image/jpeg"/>
  <Override PartName="/ppt/media/image9.png" ContentType="image/png"/>
  <Override PartName="/ppt/media/image57.jpeg" ContentType="image/jpeg"/>
  <Override PartName="/ppt/media/image37.jpeg" ContentType="image/jpeg"/>
  <Override PartName="/ppt/media/image12.jpeg" ContentType="image/jpeg"/>
  <Override PartName="/ppt/media/image10.gif" ContentType="image/gif"/>
  <Override PartName="/ppt/media/image54.jpeg" ContentType="image/jpeg"/>
  <Override PartName="/ppt/media/image13.png" ContentType="image/png"/>
  <Override PartName="/ppt/media/image36.jpeg" ContentType="image/jpeg"/>
  <Override PartName="/ppt/media/image35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34.jpeg" ContentType="image/jpeg"/>
  <Override PartName="/ppt/media/image7.png" ContentType="image/png"/>
  <Override PartName="/ppt/media/image39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3430-CAE7-42F2-82FE-9EEA578A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8599-E8F2-404D-AF59-E9A402F6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8241-517B-4F6C-AF01-79B06A4C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E00-205D-4BFC-A5F9-C38AA407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D05B-CD57-4B10-8E85-949CCFFF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E0BD-22F7-4BF5-94C2-CFE1CAD1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7E5F-06F1-46DE-B191-8FCF610C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A0EB-8F67-440D-88D4-8B5C63CF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DF9-8313-48B5-8B2C-2E7CB793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F940-2CF1-4390-8FFD-44B9E481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5043-9C33-4A03-87D2-383DF81B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3E2-1F97-4453-A300-9C4D5EF2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B387-C445-437A-91CF-A68046CB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D549-2763-4E0E-B7D7-4CF7430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4CDC-E9E9-492B-8CE0-DA75F88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23CD-D407-42D0-896B-A5977016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7B05-3357-45F9-B568-BDDC0A32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9E8EE-CCE9-4807-A3C2-12B34368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E7AE4-07E2-4C2B-BBEC-8787878C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3A28-F87B-4567-97AA-B5AE56E5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991F-2E8F-46E6-94FC-9DD88A82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E6FB-809C-41CA-B406-FFD96064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09BB-185D-4DD1-9376-732230E5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BC2E-0895-4B56-9F1C-67C370D4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29458-0697-41EC-A85F-E8CBFA26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90BC7-6600-49B0-AD4C-C658B355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A4F3F-955C-4FFA-A54C-1211FC9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AF2CE-CC0A-441A-A9FC-F79D43A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066AB-3CC7-479B-8EBE-E8B4956CB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91F40-5E10-4CD5-866B-238686D9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C8AA2-7DF7-4415-A374-659332E55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78DA-BC61-411C-95F6-EA0FA67D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24E5B-60C1-4AF7-AFD3-FC07BB0E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612-3D64-44E8-9415-02AE8D77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95BBD-7734-47CA-858A-27EFEFF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D694A-33C5-4151-8E44-882C5E7A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042C-B7E2-4221-BEF3-07EB59D4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908DA-2F84-4BB1-B32F-F53AB521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A8597-8285-43AC-AABD-A9E88B5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1C69-AC45-4D96-9EF0-91B6B516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106D7-7C2C-4933-9405-5C42B97E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2DAB-624F-42B8-A890-95ADCFEE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4ECE9-A26F-438C-9AA7-F60E5186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EB829-3DA1-4D25-AE87-BA113ACF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6BB-1912-46AD-BD70-37CA60A0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8C86-2D65-48B6-8AA8-D9AEF917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A894-A1FC-4531-9C45-E9CAB714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63413-14C1-488F-84AD-455B939E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80C19-C102-41F5-8EEC-A3E7F476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D10F3-D6C6-4CB6-BA61-2875772B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C309-0E35-4883-811F-E38194B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85405-D010-4A57-BE59-967C7433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D7860-2AAD-4AF2-88CA-18670C4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F558-73BC-41AB-B9D3-0225A110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BA9FC-2BF4-41DE-8B59-17BB35670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B18-F881-43B7-8BCD-7921C3CA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61D65-3616-40EA-AFBE-3A22DC6C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9BE-AD29-41AF-A312-8CB99A2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809-B481-4B5F-85D0-2236043B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1559-93CB-46A4-A20A-533D2272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F314-E753-4495-9A95-C2B14E81D814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7FF6-EB10-4EC2-B1CA-E48C5E2DB8F0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ED8-3037-4802-BC2A-CDF175FB5C76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C09-7490-49BA-81BC-3770AA5189BF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7a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3b4b8"/>
                </a:solidFill>
                <a:latin typeface="Verdana"/>
              </a:rPr>
              <a:t>www.thmem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1FC8-4251-46BE-97BA-337896DDC460}" type="slidenum">
              <a:rPr b="0" lang="en-US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image" Target="../media/image52.jpe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4"/>
          <p:cNvSpPr/>
          <p:nvPr/>
        </p:nvSpPr>
        <p:spPr>
          <a:xfrm>
            <a:off x="357120" y="3929040"/>
            <a:ext cx="8286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05766"/>
                </a:solidFill>
                <a:latin typeface="Times New Roman"/>
                <a:ea typeface="Times New Roman"/>
              </a:rPr>
              <a:t>Гальванические элемент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6" descr="Batteries.jpg"/>
          <p:cNvPicPr/>
          <p:nvPr/>
        </p:nvPicPr>
        <p:blipFill>
          <a:blip r:embed="rId1"/>
          <a:stretch/>
        </p:blipFill>
        <p:spPr>
          <a:xfrm>
            <a:off x="2428920" y="107172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ris4.jpg"/>
          <p:cNvPicPr/>
          <p:nvPr/>
        </p:nvPicPr>
        <p:blipFill>
          <a:blip r:embed="rId2"/>
          <a:stretch/>
        </p:blipFill>
        <p:spPr>
          <a:xfrm>
            <a:off x="714240" y="1071720"/>
            <a:ext cx="1928880" cy="29289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il3c.jpg"/>
          <p:cNvPicPr/>
          <p:nvPr/>
        </p:nvPicPr>
        <p:blipFill>
          <a:blip r:embed="rId3"/>
          <a:stretch/>
        </p:blipFill>
        <p:spPr>
          <a:xfrm>
            <a:off x="6786720" y="1071720"/>
            <a:ext cx="177624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batraz.jpg"/>
          <p:cNvPicPr/>
          <p:nvPr/>
        </p:nvPicPr>
        <p:blipFill>
          <a:blip r:embed="rId1"/>
          <a:stretch/>
        </p:blipFill>
        <p:spPr>
          <a:xfrm>
            <a:off x="928800" y="1285920"/>
            <a:ext cx="3382920" cy="300024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bateryinside.gif"/>
          <p:cNvPicPr/>
          <p:nvPr/>
        </p:nvPicPr>
        <p:blipFill>
          <a:blip r:embed="rId2"/>
          <a:stretch/>
        </p:blipFill>
        <p:spPr>
          <a:xfrm>
            <a:off x="4643280" y="107172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1441800" y="428760"/>
            <a:ext cx="64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гальванического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"/>
          <p:cNvSpPr/>
          <p:nvPr/>
        </p:nvSpPr>
        <p:spPr>
          <a:xfrm>
            <a:off x="357120" y="4577760"/>
            <a:ext cx="828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альванический элемен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й источник тока, в котором электрическая энергия вырабатывается в результате прямого преобразования химической энергии окислительно-восстановительной реа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1" descr="batt_mal_b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442908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" descr="bat_big_b.jpg"/>
          <p:cNvPicPr/>
          <p:nvPr/>
        </p:nvPicPr>
        <p:blipFill>
          <a:blip r:embed="rId2"/>
          <a:stretch/>
        </p:blipFill>
        <p:spPr>
          <a:xfrm>
            <a:off x="5929200" y="1428840"/>
            <a:ext cx="1743120" cy="1768320"/>
          </a:xfrm>
          <a:prstGeom prst="rect">
            <a:avLst/>
          </a:prstGeom>
          <a:ln w="0">
            <a:noFill/>
          </a:ln>
        </p:spPr>
      </p:pic>
      <p:sp>
        <p:nvSpPr>
          <p:cNvPr id="289" name="TextBox 3"/>
          <p:cNvSpPr/>
          <p:nvPr/>
        </p:nvSpPr>
        <p:spPr>
          <a:xfrm>
            <a:off x="1727640" y="500040"/>
            <a:ext cx="57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и ток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шлого века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http://class-fizika.narod.ru/8_class/8_urok/8_el/8.jpg"/>
          <p:cNvPicPr/>
          <p:nvPr/>
        </p:nvPicPr>
        <p:blipFill>
          <a:blip r:embed="rId1"/>
          <a:stretch/>
        </p:blipFill>
        <p:spPr>
          <a:xfrm>
            <a:off x="642960" y="1714680"/>
            <a:ext cx="2225520" cy="231444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2"/>
          <p:cNvSpPr/>
          <p:nvPr/>
        </p:nvSpPr>
        <p:spPr>
          <a:xfrm>
            <a:off x="900000" y="3333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скольких гальванических элементов можно составить </a:t>
            </a:r>
            <a:r>
              <a:rPr b="1" i="1" lang="ru-RU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атаре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Рисунок 3" descr="show_image_in_imgtag.jpg"/>
          <p:cNvPicPr/>
          <p:nvPr/>
        </p:nvPicPr>
        <p:blipFill>
          <a:blip r:embed="rId2"/>
          <a:stretch/>
        </p:blipFill>
        <p:spPr>
          <a:xfrm rot="2485800">
            <a:off x="2338560" y="4230360"/>
            <a:ext cx="1357200" cy="175104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24.jpg"/>
          <p:cNvPicPr/>
          <p:nvPr/>
        </p:nvPicPr>
        <p:blipFill>
          <a:blip r:embed="rId3"/>
          <a:stretch/>
        </p:blipFill>
        <p:spPr>
          <a:xfrm>
            <a:off x="6215040" y="3643200"/>
            <a:ext cx="2454120" cy="223848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Копия 1042103308.jpg"/>
          <p:cNvPicPr/>
          <p:nvPr/>
        </p:nvPicPr>
        <p:blipFill>
          <a:blip r:embed="rId4"/>
          <a:stretch/>
        </p:blipFill>
        <p:spPr>
          <a:xfrm>
            <a:off x="4143240" y="17859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295" name="Рисунок 6" descr="il5.jpg"/>
          <p:cNvPicPr/>
          <p:nvPr/>
        </p:nvPicPr>
        <p:blipFill>
          <a:blip r:embed="rId5"/>
          <a:stretch/>
        </p:blipFill>
        <p:spPr>
          <a:xfrm>
            <a:off x="4214880" y="4214880"/>
            <a:ext cx="1785960" cy="14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Рисунок 4" descr="9294.jpg"/>
          <p:cNvPicPr/>
          <p:nvPr/>
        </p:nvPicPr>
        <p:blipFill>
          <a:blip r:embed="rId1"/>
          <a:stretch/>
        </p:blipFill>
        <p:spPr>
          <a:xfrm>
            <a:off x="1285920" y="2643120"/>
            <a:ext cx="282564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7" descr="il3a.jpg"/>
          <p:cNvPicPr/>
          <p:nvPr/>
        </p:nvPicPr>
        <p:blipFill>
          <a:blip r:embed="rId2"/>
          <a:stretch/>
        </p:blipFill>
        <p:spPr>
          <a:xfrm>
            <a:off x="1357200" y="4929120"/>
            <a:ext cx="2811600" cy="12859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1"/>
          <p:cNvSpPr/>
          <p:nvPr/>
        </p:nvSpPr>
        <p:spPr>
          <a:xfrm>
            <a:off x="500040" y="43560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тарея (элемент питания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иходное название источника электричества для автономного питания портативного устройства. Может представлять собой одиночный гальванический элемент, аккумулятор или их соединение в батарею для увеличения напр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Рисунок 6" descr="il2.jpg"/>
          <p:cNvPicPr/>
          <p:nvPr/>
        </p:nvPicPr>
        <p:blipFill>
          <a:blip r:embed="rId3"/>
          <a:stretch/>
        </p:blipFill>
        <p:spPr>
          <a:xfrm>
            <a:off x="3786120" y="2571840"/>
            <a:ext cx="1495440" cy="24685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10" descr="il4b.jpg"/>
          <p:cNvPicPr/>
          <p:nvPr/>
        </p:nvPicPr>
        <p:blipFill>
          <a:blip r:embed="rId4"/>
          <a:stretch/>
        </p:blipFill>
        <p:spPr>
          <a:xfrm rot="768600">
            <a:off x="5074920" y="3146040"/>
            <a:ext cx="292896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Рисунок 7" descr="2.jpg"/>
          <p:cNvPicPr/>
          <p:nvPr/>
        </p:nvPicPr>
        <p:blipFill>
          <a:blip r:embed="rId1"/>
          <a:stretch/>
        </p:blipFill>
        <p:spPr>
          <a:xfrm>
            <a:off x="3143160" y="3714840"/>
            <a:ext cx="2286000" cy="1936800"/>
          </a:xfrm>
          <a:prstGeom prst="rect">
            <a:avLst/>
          </a:prstGeom>
          <a:ln w="0">
            <a:noFill/>
          </a:ln>
        </p:spPr>
      </p:pic>
      <p:pic>
        <p:nvPicPr>
          <p:cNvPr id="302" name="Рисунок 6" descr="PLATINUM.jpg"/>
          <p:cNvPicPr/>
          <p:nvPr/>
        </p:nvPicPr>
        <p:blipFill>
          <a:blip r:embed="rId2"/>
          <a:stretch/>
        </p:blipFill>
        <p:spPr>
          <a:xfrm>
            <a:off x="571680" y="3643200"/>
            <a:ext cx="2643120" cy="20210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571680" y="785880"/>
            <a:ext cx="8001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мический источник тока многоразового действия. Если поместить в раствор соли два угольных электрода, то гальванометр не показывает наличие тока. Если же аккумулятор предварительно зарядить, то его можно использовать в качестве самостоятельного источника тока. Существуют различные типы аккумуляторов: кислотные и щелочные.  Заряды в них разделяются также в результате химических реа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075120" y="357120"/>
            <a:ext cx="247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Рисунок 9" descr="flash-battary.jpg"/>
          <p:cNvPicPr/>
          <p:nvPr/>
        </p:nvPicPr>
        <p:blipFill>
          <a:blip r:embed="rId3"/>
          <a:stretch/>
        </p:blipFill>
        <p:spPr>
          <a:xfrm>
            <a:off x="5500800" y="3786120"/>
            <a:ext cx="2428920" cy="175572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8"/>
          <p:cNvSpPr/>
          <p:nvPr/>
        </p:nvSpPr>
        <p:spPr>
          <a:xfrm>
            <a:off x="428760" y="5500800"/>
            <a:ext cx="84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ические аккумуляторы используются для накопления энергии и автономного питания различных потребит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Рисунок 2" descr="Titan.jpg"/>
          <p:cNvPicPr/>
          <p:nvPr/>
        </p:nvPicPr>
        <p:blipFill>
          <a:blip r:embed="rId1"/>
          <a:stretch/>
        </p:blipFill>
        <p:spPr>
          <a:xfrm>
            <a:off x="5715000" y="2214720"/>
            <a:ext cx="2643120" cy="264312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3"/>
          <p:cNvSpPr/>
          <p:nvPr/>
        </p:nvSpPr>
        <p:spPr>
          <a:xfrm>
            <a:off x="500040" y="48578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кумулято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umul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ира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 для накопления энергии с целью ее последующ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Рисунок 4" descr="32_2.jpg"/>
          <p:cNvPicPr/>
          <p:nvPr/>
        </p:nvPicPr>
        <p:blipFill>
          <a:blip r:embed="rId2"/>
          <a:stretch/>
        </p:blipFill>
        <p:spPr>
          <a:xfrm>
            <a:off x="3643200" y="3143160"/>
            <a:ext cx="1619280" cy="147636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5" descr="Gara_206058.jpg"/>
          <p:cNvPicPr/>
          <p:nvPr/>
        </p:nvPicPr>
        <p:blipFill>
          <a:blip r:embed="rId3"/>
          <a:stretch/>
        </p:blipFill>
        <p:spPr>
          <a:xfrm>
            <a:off x="428760" y="2857680"/>
            <a:ext cx="3154320" cy="211428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7" descr="p_7.jpg"/>
          <p:cNvPicPr/>
          <p:nvPr/>
        </p:nvPicPr>
        <p:blipFill>
          <a:blip r:embed="rId4"/>
          <a:stretch/>
        </p:blipFill>
        <p:spPr>
          <a:xfrm>
            <a:off x="4143240" y="571680"/>
            <a:ext cx="1857600" cy="185724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2.jpg"/>
          <p:cNvPicPr/>
          <p:nvPr/>
        </p:nvPicPr>
        <p:blipFill>
          <a:blip r:embed="rId5"/>
          <a:stretch/>
        </p:blipFill>
        <p:spPr>
          <a:xfrm>
            <a:off x="1714680" y="1143000"/>
            <a:ext cx="16858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3" descr="monblok.jpg"/>
          <p:cNvPicPr/>
          <p:nvPr/>
        </p:nvPicPr>
        <p:blipFill>
          <a:blip r:embed="rId1"/>
          <a:stretch/>
        </p:blipFill>
        <p:spPr>
          <a:xfrm>
            <a:off x="1357200" y="1143000"/>
            <a:ext cx="6410520" cy="480384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2"/>
          <p:cNvSpPr/>
          <p:nvPr/>
        </p:nvSpPr>
        <p:spPr>
          <a:xfrm>
            <a:off x="2343240" y="404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ройство аккумуля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Рисунок 1" descr="09g-i1.gif"/>
          <p:cNvPicPr/>
          <p:nvPr/>
        </p:nvPicPr>
        <p:blipFill>
          <a:blip r:embed="rId1"/>
          <a:stretch/>
        </p:blipFill>
        <p:spPr>
          <a:xfrm>
            <a:off x="2000160" y="1071720"/>
            <a:ext cx="5000760" cy="33573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468360" y="515772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источники тока, обозначенные цифрами 1, 2, 3, 4,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428760" y="1214280"/>
          <a:ext cx="8143920" cy="5475600"/>
        </p:xfrm>
        <a:graphic>
          <a:graphicData uri="http://schemas.openxmlformats.org/drawingml/2006/table">
            <a:tbl>
              <a:tblPr/>
              <a:tblGrid>
                <a:gridCol w="2357280"/>
                <a:gridCol w="2649600"/>
                <a:gridCol w="3137040"/>
              </a:tblGrid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Источник то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Способ разделения заря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d1014"/>
                          </a:solidFill>
                          <a:latin typeface="Times New Roman"/>
                          <a:ea typeface="Times New Roman"/>
                        </a:rPr>
                        <a:t>Примен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>
                        <a:alpha val="26000"/>
                      </a:srgbClr>
                    </a:solidFill>
                  </a:tcPr>
                </a:tc>
              </a:tr>
              <a:tr h="4208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тоэлемен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е с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нечные батаре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мо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 спа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е темп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механи-ческий генерат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ие механическо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о промышленной электрической энер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44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льванический элем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нарики, радиоприем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умулято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реа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Rectangle 1"/>
          <p:cNvSpPr/>
          <p:nvPr/>
        </p:nvSpPr>
        <p:spPr>
          <a:xfrm>
            <a:off x="928800" y="366480"/>
            <a:ext cx="75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d1014"/>
                </a:solidFill>
                <a:latin typeface="Times New Roman"/>
                <a:ea typeface="Times New Roman"/>
              </a:rPr>
              <a:t>Классификация источников т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Рисунок 2" descr="4697_m.jpg"/>
          <p:cNvPicPr/>
          <p:nvPr/>
        </p:nvPicPr>
        <p:blipFill>
          <a:blip r:embed="rId1"/>
          <a:stretch/>
        </p:blipFill>
        <p:spPr>
          <a:xfrm>
            <a:off x="6786720" y="321480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320" name="Рисунок 4" descr="931650466671.jpg"/>
          <p:cNvPicPr/>
          <p:nvPr/>
        </p:nvPicPr>
        <p:blipFill>
          <a:blip r:embed="rId2"/>
          <a:stretch/>
        </p:blipFill>
        <p:spPr>
          <a:xfrm>
            <a:off x="6072120" y="2500200"/>
            <a:ext cx="2643120" cy="95112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accumulator.jpg"/>
          <p:cNvPicPr/>
          <p:nvPr/>
        </p:nvPicPr>
        <p:blipFill>
          <a:blip r:embed="rId3"/>
          <a:stretch/>
        </p:blipFill>
        <p:spPr>
          <a:xfrm>
            <a:off x="642960" y="4054320"/>
            <a:ext cx="3786120" cy="24465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7" descr="4694_sm.jpg"/>
          <p:cNvPicPr/>
          <p:nvPr/>
        </p:nvPicPr>
        <p:blipFill>
          <a:blip r:embed="rId4"/>
          <a:stretch/>
        </p:blipFill>
        <p:spPr>
          <a:xfrm>
            <a:off x="7143840" y="48578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0708160024m.jpg"/>
          <p:cNvPicPr/>
          <p:nvPr/>
        </p:nvPicPr>
        <p:blipFill>
          <a:blip r:embed="rId5"/>
          <a:stretch/>
        </p:blipFill>
        <p:spPr>
          <a:xfrm>
            <a:off x="571680" y="3214800"/>
            <a:ext cx="1427040" cy="15001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8" descr="el07_03"/>
          <p:cNvPicPr/>
          <p:nvPr/>
        </p:nvPicPr>
        <p:blipFill>
          <a:blip r:embed="rId6"/>
          <a:stretch/>
        </p:blipFill>
        <p:spPr>
          <a:xfrm>
            <a:off x="2000160" y="2214720"/>
            <a:ext cx="4162680" cy="167616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6" descr="batarymch.jpg"/>
          <p:cNvPicPr/>
          <p:nvPr/>
        </p:nvPicPr>
        <p:blipFill>
          <a:blip r:embed="rId7"/>
          <a:stretch/>
        </p:blipFill>
        <p:spPr>
          <a:xfrm>
            <a:off x="4714920" y="4897440"/>
            <a:ext cx="2000160" cy="15606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1" descr="4696_sm.jpg"/>
          <p:cNvPicPr/>
          <p:nvPr/>
        </p:nvPicPr>
        <p:blipFill>
          <a:blip r:embed="rId8"/>
          <a:stretch/>
        </p:blipFill>
        <p:spPr>
          <a:xfrm>
            <a:off x="5357880" y="385776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9"/>
          <p:cNvSpPr/>
          <p:nvPr/>
        </p:nvSpPr>
        <p:spPr>
          <a:xfrm>
            <a:off x="324000" y="189000"/>
            <a:ext cx="8820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етичные малогабаритные аккумуляторы (ГМА)</a:t>
            </a:r>
            <a:br>
              <a:rPr sz="2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ГМА используются для малогабаритных потребителей электрической энергии (телефонные радиотрубки, переносные радиоприемники, электронные часы, измерительные приборы, сотовые телефоны и др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428760" y="3857760"/>
            <a:ext cx="79246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ический ток – упорядоченное движение заряженных част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3" descr="Рисунок2.png"/>
          <p:cNvPicPr/>
          <p:nvPr/>
        </p:nvPicPr>
        <p:blipFill>
          <a:blip r:embed="rId1"/>
          <a:stretch/>
        </p:blipFill>
        <p:spPr>
          <a:xfrm>
            <a:off x="2786040" y="1071720"/>
            <a:ext cx="3218040" cy="27414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571680" y="4786200"/>
            <a:ext cx="8572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уществования электрического тока необходимы следующи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вободных электрических зарядов в проводни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внешнего электрического поля для провод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4" descr="09g-i3.gif"/>
          <p:cNvPicPr/>
          <p:nvPr/>
        </p:nvPicPr>
        <p:blipFill>
          <a:blip r:embed="rId2"/>
          <a:stretch/>
        </p:blipFill>
        <p:spPr>
          <a:xfrm>
            <a:off x="500040" y="1000080"/>
            <a:ext cx="1928880" cy="27781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6" descr="09g-i3.gif"/>
          <p:cNvPicPr/>
          <p:nvPr/>
        </p:nvPicPr>
        <p:blipFill>
          <a:blip r:embed="rId3"/>
          <a:stretch/>
        </p:blipFill>
        <p:spPr>
          <a:xfrm>
            <a:off x="6357960" y="1000080"/>
            <a:ext cx="1928880" cy="285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p20sa.gif"/>
          <p:cNvPicPr/>
          <p:nvPr/>
        </p:nvPicPr>
        <p:blipFill>
          <a:blip r:embed="rId1"/>
          <a:stretch/>
        </p:blipFill>
        <p:spPr>
          <a:xfrm>
            <a:off x="3714840" y="5143680"/>
            <a:ext cx="1344600" cy="106668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8280DWAE.jpg"/>
          <p:cNvPicPr/>
          <p:nvPr/>
        </p:nvPicPr>
        <p:blipFill>
          <a:blip r:embed="rId2"/>
          <a:stretch/>
        </p:blipFill>
        <p:spPr>
          <a:xfrm>
            <a:off x="3000240" y="3000240"/>
            <a:ext cx="2059200" cy="205920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3" descr="A7Q.jpg"/>
          <p:cNvPicPr/>
          <p:nvPr/>
        </p:nvPicPr>
        <p:blipFill>
          <a:blip r:embed="rId3"/>
          <a:stretch/>
        </p:blipFill>
        <p:spPr>
          <a:xfrm>
            <a:off x="1143000" y="2214720"/>
            <a:ext cx="1428840" cy="95544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4" descr="DS14DVFL.gif"/>
          <p:cNvPicPr/>
          <p:nvPr/>
        </p:nvPicPr>
        <p:blipFill>
          <a:blip r:embed="rId4"/>
          <a:stretch/>
        </p:blipFill>
        <p:spPr>
          <a:xfrm>
            <a:off x="6000840" y="4000680"/>
            <a:ext cx="2471760" cy="21380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5" descr="F633.jpg"/>
          <p:cNvPicPr/>
          <p:nvPr/>
        </p:nvPicPr>
        <p:blipFill>
          <a:blip r:embed="rId5"/>
          <a:stretch/>
        </p:blipFill>
        <p:spPr>
          <a:xfrm>
            <a:off x="5214960" y="2714760"/>
            <a:ext cx="1785960" cy="11667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6" descr="59_2.jpg"/>
          <p:cNvPicPr/>
          <p:nvPr/>
        </p:nvPicPr>
        <p:blipFill>
          <a:blip r:embed="rId6"/>
          <a:stretch/>
        </p:blipFill>
        <p:spPr>
          <a:xfrm>
            <a:off x="500040" y="4714920"/>
            <a:ext cx="1619280" cy="14763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7"/>
          <p:cNvSpPr/>
          <p:nvPr/>
        </p:nvSpPr>
        <p:spPr>
          <a:xfrm>
            <a:off x="971640" y="642960"/>
            <a:ext cx="720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менение источников т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приборы, изображённые на рисун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50192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2144880" y="578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4716720" y="59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4573800" y="40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653440" y="33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6216840" y="4857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WINDOWS\Users\Aida\Рабочий стол\МОИ проекты на разработке\источники тока Новая папка\napryag2.gif"/>
          <p:cNvPicPr/>
          <p:nvPr/>
        </p:nvPicPr>
        <p:blipFill>
          <a:blip r:embed="rId1"/>
          <a:stretch/>
        </p:blipFill>
        <p:spPr>
          <a:xfrm>
            <a:off x="428760" y="1357200"/>
            <a:ext cx="4095720" cy="30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D:\WINDOWS\Users\Aida\Рабочий стол\МОИ проекты на разработке\источники тока Новая папка\napryag1.gif"/>
          <p:cNvPicPr/>
          <p:nvPr/>
        </p:nvPicPr>
        <p:blipFill>
          <a:blip r:embed="rId2"/>
          <a:stretch/>
        </p:blipFill>
        <p:spPr>
          <a:xfrm>
            <a:off x="4572000" y="1357200"/>
            <a:ext cx="4095720" cy="30718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428760" y="35712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опыты, показанные на рисунк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и чем отличаются опы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"/>
          <p:cNvSpPr/>
          <p:nvPr/>
        </p:nvSpPr>
        <p:spPr>
          <a:xfrm>
            <a:off x="1143000" y="44290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 ток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устройство, в котором происходит преобразование какого-либо вида энергии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"/>
          <p:cNvSpPr/>
          <p:nvPr/>
        </p:nvSpPr>
        <p:spPr>
          <a:xfrm>
            <a:off x="428760" y="55720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а, разделяющие заряды, т.е. создающие электрическое поле, называют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чниками то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571680" y="723960"/>
            <a:ext cx="585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электрическая батарея появилась в 1799 году. Её изобрел итальянский физик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ссандро Вольт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45 - 1827) — итальянский физик, химик и физиолог, изобретатель источника постоянного электрического т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Рисунок 12" descr="http://class-fizika.narod.ru/8_class/8_urok/8_el/11.jpg"/>
          <p:cNvPicPr/>
          <p:nvPr/>
        </p:nvPicPr>
        <p:blipFill>
          <a:blip r:embed="rId1"/>
          <a:stretch/>
        </p:blipFill>
        <p:spPr>
          <a:xfrm>
            <a:off x="6572160" y="857160"/>
            <a:ext cx="1571760" cy="216864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4481640" y="145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357280" y="3297240"/>
            <a:ext cx="6429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ервый источник тока – «вольтов столб» – был построен в точном соответствии с его теорией «металлического» электричества. Вольта положил друг на друга попеременно несколько десятков небольших цинковых и серебряных кружочков, проложив меж ними бумагу, смоченную подсоленной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13" descr="http://class-fizika.narod.ru/8_class/8_urok/8_el/12.gif"/>
          <p:cNvPicPr/>
          <p:nvPr/>
        </p:nvPicPr>
        <p:blipFill>
          <a:blip r:embed="rId2"/>
          <a:stretch/>
        </p:blipFill>
        <p:spPr>
          <a:xfrm>
            <a:off x="500040" y="3143160"/>
            <a:ext cx="1739880" cy="29289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481640" y="2060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428760" y="521496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ческий источник тока - механическа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2" descr="http://school.ort.spb.ru/library/physics/8class/tema_2/lesson_1/electrof_3_s.jpg"/>
          <p:cNvPicPr/>
          <p:nvPr/>
        </p:nvPicPr>
        <p:blipFill>
          <a:blip r:embed="rId1"/>
          <a:stretch/>
        </p:blipFill>
        <p:spPr>
          <a:xfrm>
            <a:off x="500040" y="1714680"/>
            <a:ext cx="2768760" cy="2928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4"/>
          <p:cNvSpPr/>
          <p:nvPr/>
        </p:nvSpPr>
        <p:spPr>
          <a:xfrm>
            <a:off x="3357720" y="1357200"/>
            <a:ext cx="5429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XVIII века все технические источники тока были основаны на электризации трением. Наиболее эффективным из этих источников стала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иски машины приводятся во вращение в противоположных направлениях; в результате трения щеток о диски на кондукторах машины накапливаются заряды противоположного зн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7"/>
          <p:cNvSpPr/>
          <p:nvPr/>
        </p:nvSpPr>
        <p:spPr>
          <a:xfrm>
            <a:off x="2451240" y="4287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форная маш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428760" y="535788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пловой источник тока – внутренняя энергия преобразуется в электрическую энерг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2" descr="http://school.ort.spb.ru/library/physics/8class/tema_2/lesson_1/term_para_s.jpg"/>
          <p:cNvPicPr/>
          <p:nvPr/>
        </p:nvPicPr>
        <p:blipFill>
          <a:blip r:embed="rId1"/>
          <a:stretch/>
        </p:blipFill>
        <p:spPr>
          <a:xfrm>
            <a:off x="642960" y="1500120"/>
            <a:ext cx="2894040" cy="32148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3"/>
          <p:cNvSpPr/>
          <p:nvPr/>
        </p:nvSpPr>
        <p:spPr>
          <a:xfrm>
            <a:off x="2355120" y="30718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п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3643200" y="1214280"/>
            <a:ext cx="478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две проволоки из разных металлов спаять с одного края, а затем нагреть место спая, то в них возникает ток – заряды при нагревании спая разделяются. Термоэлементы применяются в термодатчиках и на геотермальных электростанциях в качестве датчика темп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6"/>
          <p:cNvSpPr/>
          <p:nvPr/>
        </p:nvSpPr>
        <p:spPr>
          <a:xfrm>
            <a:off x="3319200" y="455760"/>
            <a:ext cx="45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рмоэлемент (термопа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714240" y="5429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нергия света c помощью солнечных батарей преобразу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2" descr="http://school.ort.spb.ru/library/physics/8class/tema_2/lesson_1/solar_s.jpg"/>
          <p:cNvPicPr/>
          <p:nvPr/>
        </p:nvPicPr>
        <p:blipFill>
          <a:blip r:embed="rId1"/>
          <a:stretch/>
        </p:blipFill>
        <p:spPr>
          <a:xfrm>
            <a:off x="642960" y="3143160"/>
            <a:ext cx="2571840" cy="22147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3"/>
          <p:cNvSpPr/>
          <p:nvPr/>
        </p:nvSpPr>
        <p:spPr>
          <a:xfrm>
            <a:off x="1150560" y="342900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неч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3708360" y="1231200"/>
            <a:ext cx="4857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свещении некоторых веществ светом, в них появляется ток – световая энергия превращается в электрическую энерг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приборе заряды разделяются под действием света.  Фотоэлементы применяются в солнечных батареях, световых датчиках, калькуляторах, видеокаме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4437000" y="4287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эле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642960" y="785880"/>
            <a:ext cx="257184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5" descr="ai.jpg"/>
          <p:cNvPicPr/>
          <p:nvPr/>
        </p:nvPicPr>
        <p:blipFill>
          <a:blip r:embed="rId1"/>
          <a:stretch/>
        </p:blipFill>
        <p:spPr>
          <a:xfrm>
            <a:off x="714240" y="2637000"/>
            <a:ext cx="3357720" cy="274140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"/>
          <p:cNvSpPr/>
          <p:nvPr/>
        </p:nvSpPr>
        <p:spPr>
          <a:xfrm>
            <a:off x="571680" y="121860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3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механический генератор. Заряды разделяются путем совершения механической работы. Применяется для производства промышленной электроэнерг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"/>
          <p:cNvSpPr/>
          <p:nvPr/>
        </p:nvSpPr>
        <p:spPr>
          <a:xfrm>
            <a:off x="1944000" y="500040"/>
            <a:ext cx="551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ктромеханический генер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"/>
          <p:cNvSpPr/>
          <p:nvPr/>
        </p:nvSpPr>
        <p:spPr>
          <a:xfrm>
            <a:off x="571680" y="550080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o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итель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ройство, аппарат или машина, производящая какой-либо проду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Рисунок 7" descr="pr_b95.jpg"/>
          <p:cNvPicPr/>
          <p:nvPr/>
        </p:nvPicPr>
        <p:blipFill>
          <a:blip r:embed="rId2"/>
          <a:stretch/>
        </p:blipFill>
        <p:spPr>
          <a:xfrm>
            <a:off x="4071960" y="2357280"/>
            <a:ext cx="42148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" descr="glav.jpg"/>
          <p:cNvPicPr/>
          <p:nvPr/>
        </p:nvPicPr>
        <p:blipFill>
          <a:blip r:embed="rId1"/>
          <a:stretch/>
        </p:blipFill>
        <p:spPr>
          <a:xfrm>
            <a:off x="1857240" y="3857760"/>
            <a:ext cx="5286600" cy="242892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2" descr="1physics91_resize.jpg"/>
          <p:cNvPicPr/>
          <p:nvPr/>
        </p:nvPicPr>
        <p:blipFill>
          <a:blip r:embed="rId2"/>
          <a:stretch/>
        </p:blipFill>
        <p:spPr>
          <a:xfrm>
            <a:off x="1116000" y="620640"/>
            <a:ext cx="3357720" cy="235764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3" descr="10a-i1.gif"/>
          <p:cNvPicPr/>
          <p:nvPr/>
        </p:nvPicPr>
        <p:blipFill>
          <a:blip r:embed="rId3"/>
          <a:stretch/>
        </p:blipFill>
        <p:spPr>
          <a:xfrm>
            <a:off x="4714920" y="642960"/>
            <a:ext cx="2381040" cy="23572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7237440" y="59500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5"/>
          <p:cNvSpPr/>
          <p:nvPr/>
        </p:nvSpPr>
        <p:spPr>
          <a:xfrm>
            <a:off x="731088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399780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71680" y="3143160"/>
            <a:ext cx="85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♦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сточники тока вы видите на рисун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1:31:22Z</dcterms:created>
  <dc:creator>Александрова З.В., учитель физики и информатики МОУ СОШ № 5 п.Печенга, Мурм. обл.</dc:creator>
  <dc:description/>
  <dc:language>en-US</dc:language>
  <cp:lastModifiedBy>Admin</cp:lastModifiedBy>
  <dcterms:modified xsi:type="dcterms:W3CDTF">2012-12-19T10:44:09Z</dcterms:modified>
  <cp:revision>112</cp:revision>
  <dc:subject>Электрический ток. Источники электрического тока.8 кл.</dc:subject>
  <dc:title>Источники тока.</dc:title>
</cp:coreProperties>
</file>