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C2CB-6A61-409D-8AE2-94412126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7780-FA18-45B3-9FD3-5C09264B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B679-B47B-4CC7-A81A-06D331E3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3785-EE2E-405B-B985-EE5DF772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07BA-A46A-4F44-93C8-D5A5C7E9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A686-F288-4A42-80F4-1BF5578A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B4FC-61D2-4707-BA6F-C31A888A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FFCF-9BD1-418D-A67C-A360C7B0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F67F-FD7E-4253-B19A-52120227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1A66-D930-46A8-BE9D-392C9685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6A4F7-761C-4551-B3B4-8FC9AA98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6CDA-6CBF-4269-98AE-26C365D7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572B-5120-4534-80CB-D00054EE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8FFC-ED56-4CC6-AB29-C2679A0C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AFA5-874D-4122-BD39-1F91EFEF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E724-A200-4157-98EB-A2F0A078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06A4-13F7-45D1-9853-DDB31587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6B0911-8114-4A43-A4AD-3BFDBF44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CEDF8E-9F48-4F69-91D5-047C64BF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D5961-A649-42E1-9B91-F0FC1DBE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052F56-61BC-4D37-9717-560291F1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87DE5F-8109-416D-8F15-1750F19F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CBD3-402E-45F1-A25E-4B86755B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185AD-BDD9-4960-B6F9-477CA850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C1817-DC66-49DE-974C-2656D236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EB8CFC-91F6-4007-9842-2DD05032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97C6A-8D10-4CD0-95F0-63237F3F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52D74C-F314-45B8-9A2A-16945D97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6BB9F-DE36-4EF2-9D6F-B809491A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84ED0-A174-4A73-B603-81F602BC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F8E1B-6001-4D12-A283-BA86161D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C4811-79D2-4541-9CE8-C583584A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AAB2A-E148-4536-83FA-2BF7BAA0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1CB-9D96-4FF1-9180-BC141E49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D1167-1873-4597-971F-E8FEA794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28982-5CA1-4FBD-80C9-F909CD3E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37979-E6E8-4D46-8D7E-4799A627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92D0C-C8EC-4E3D-9EDC-9870E27C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8F6DD-77D1-4E2D-B7CA-E09B69F5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C3B8F-8FF9-4951-826E-AE64976C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D73CA-22CE-4E11-8C5B-AB37D6D5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EB51A-D881-40E4-8F30-61D76727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5F1F5-71AB-4250-98C9-EA5E0596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8ACBA5-B2C3-43E5-93F6-57E47E6B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547C-4018-4AE5-B723-3416487F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5AA36-EDD0-450B-92FE-0C8FBD2A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89A23D-5797-4DF0-94F4-D2B1839E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469E76-3EDC-4F15-956A-23F61DC1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E63707-C82B-49D2-9570-9170CDFE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D0666-B46A-4F24-82DC-19328DCB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04E3DD-0ED9-4650-8E42-E2606EEF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8A40F2-D2A5-40AD-A3F4-D626B0AA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4DD14-E43B-48D2-BA6C-99754ADA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D2E6B4-398D-4E13-93BD-6AC79CC8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DBF989-D162-4A58-8ECB-57E54E5C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45E3-3216-46B2-A2ED-77960492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10003F-5FB5-4799-AE14-BA4520EE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9AC733-977F-4497-8C62-D94FEA4ED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611B9C-0946-4A8D-98CC-F0C70AAD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6F58F6-2D4D-4441-9EF3-73921320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F2358D-91B7-4349-BB1C-1B4FC8C3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7D6A92-A98C-431F-A643-7BA9DDDC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1F7FC3-C60E-4FAB-B3AC-C244CCC4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C1C354-41A5-44B1-9931-4D91EF21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0647C5-C2A8-4ABE-BB62-6F7502EA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5AFF87-5CAF-40A3-9046-02C4AECA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E25-0196-4027-BBE8-2BFFF2A6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585639-2D02-4A1F-9307-44C72678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C35B11-5B03-430B-A30F-0E6550C6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476F03-12CB-4309-84F5-5304C077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E1F53A-0AC4-4A64-8179-1ECD48948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7C9AF8-839E-43C7-8F66-C761EAF5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94646A-A790-427C-8D6C-5DF42686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8CA820-2A1C-43A6-BC3C-9F29B71E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448146-8A75-4514-9AD2-99494558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FFDE5E-B018-4DD9-AB7D-74D2D145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B9E3CD-FA9B-4B7E-8BF3-007DEC83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5AF4-513E-40E0-88C8-1ECBFE52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9796F5-D3CA-42B0-AF76-3B0B11AC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FB9123-FCF3-4BBD-AD96-2E26B306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AA9E0B-3715-4205-87AF-8C356A5E4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B3DA10-0B4A-4B6D-8FB7-6074396CE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301650-8B7F-44FB-920A-195DC8310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79C3-50C1-4B99-AA54-34CD58D1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D885-08AA-4C79-ACC9-5FF6C368E0D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458D-1F6C-4BEC-B5D2-7B7DE2247B7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24F58-EAAC-4C2A-A0E4-F9AEFC5A031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11C0-6276-4453-B762-19E73311AB2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948F-A79F-4959-897C-37C3FE6A2FC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6A36-354F-40B7-A955-9090BB03947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A93A-649F-4668-A902-DDFFA6FA4F2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714240"/>
            <a:ext cx="69292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entury Schoolbook"/>
              </a:rPr>
              <a:t>ХИМИЧЕСКОЕ РАВНОВЕС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571840" y="214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Century Schoolbook"/>
              </a:rPr>
              <a:t>и способы его смещения</a:t>
            </a: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75f6d"/>
                </a:solidFill>
                <a:uFillTx/>
                <a:latin typeface="Century Schoolbook"/>
              </a:rPr>
              <a:t>ВЛИЯНИЕ КОНЦЕНТРАЦИИ НА СМЕЩЕНИЕ РАВНОВЕС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Равновесие сместится </a:t>
            </a:r>
            <a:r>
              <a:rPr b="1" i="1" lang="ru-RU" sz="4000" spc="-1" strike="noStrike">
                <a:solidFill>
                  <a:srgbClr val="7598d9"/>
                </a:solidFill>
                <a:latin typeface="Century Schoolbook"/>
              </a:rPr>
              <a:t>ВПРАВО,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если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Увеличить концентрацию одного из реагирующих веществ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Отводить из зоны реакции продукт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75f6d"/>
                </a:solidFill>
                <a:uFillTx/>
                <a:latin typeface="Century Schoolbook"/>
              </a:rPr>
              <a:t>ВЛИЯНИЕ ДАВЛЕНИЯ НА СМЕЩЕНИЕ РАВНОВЕС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99680" y="1983960"/>
            <a:ext cx="746748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Влияние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давления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на состояние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равновесия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проявляется только при наличии в системе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газов !!!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Прямоугольник 3"/>
          <p:cNvSpPr/>
          <p:nvPr/>
        </p:nvSpPr>
        <p:spPr>
          <a:xfrm>
            <a:off x="428760" y="2786040"/>
            <a:ext cx="7643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 повышении давления равновесие сдвигается в направлении образования веществ (исходных или продуктов) с меньшим объемом;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 понижении давления равновесие сдвигается в направлении образования веществ с большим объемо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5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N</a:t>
            </a:r>
            <a:r>
              <a:rPr b="1" lang="ru-RU" sz="4300" spc="-1" strike="noStrike" baseline="-25000">
                <a:solidFill>
                  <a:srgbClr val="006600"/>
                </a:solidFill>
                <a:latin typeface="Century Schoolbook"/>
              </a:rPr>
              <a:t>2</a:t>
            </a: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 + </a:t>
            </a:r>
            <a:r>
              <a:rPr b="1" lang="ru-RU" sz="4300" spc="-1" strike="noStrike">
                <a:solidFill>
                  <a:srgbClr val="cc0000"/>
                </a:solidFill>
                <a:latin typeface="Century Schoolbook"/>
              </a:rPr>
              <a:t>3</a:t>
            </a: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H</a:t>
            </a:r>
            <a:r>
              <a:rPr b="1" lang="ru-RU" sz="4300" spc="-1" strike="noStrike" baseline="-25000">
                <a:solidFill>
                  <a:srgbClr val="006600"/>
                </a:solidFill>
                <a:latin typeface="Century Schoolbook"/>
              </a:rPr>
              <a:t>2    </a:t>
            </a: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  </a:t>
            </a:r>
            <a:r>
              <a:rPr b="1" lang="en-US" sz="4300" spc="-1" strike="noStrike">
                <a:solidFill>
                  <a:srgbClr val="006600"/>
                </a:solidFill>
                <a:latin typeface="Century Schoolbook"/>
              </a:rPr>
              <a:t>              </a:t>
            </a:r>
            <a:r>
              <a:rPr b="1" lang="ru-RU" sz="4300" spc="-1" strike="noStrike">
                <a:solidFill>
                  <a:srgbClr val="cc0000"/>
                </a:solidFill>
                <a:latin typeface="Century Schoolbook"/>
              </a:rPr>
              <a:t>2</a:t>
            </a: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NH</a:t>
            </a:r>
            <a:r>
              <a:rPr b="1" lang="ru-RU" sz="4300" spc="-1" strike="noStrike" baseline="-25000">
                <a:solidFill>
                  <a:srgbClr val="006600"/>
                </a:solidFill>
                <a:latin typeface="Century Schoolbook"/>
              </a:rPr>
              <a:t>3</a:t>
            </a:r>
            <a:r>
              <a:rPr b="1" lang="ru-RU" sz="4300" spc="-1" strike="noStrike">
                <a:solidFill>
                  <a:srgbClr val="006600"/>
                </a:solidFill>
                <a:latin typeface="Century Schoolbook"/>
              </a:rPr>
              <a:t> + Q </a:t>
            </a:r>
            <a:br>
              <a:rPr sz="4300"/>
            </a:b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4508280"/>
            <a:ext cx="7270920" cy="15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-25000">
                <a:solidFill>
                  <a:srgbClr val="000000"/>
                </a:solidFill>
                <a:latin typeface="Century Schoolbook"/>
              </a:rPr>
              <a:t>При </a:t>
            </a:r>
            <a:r>
              <a:rPr b="1" lang="ru-RU" sz="4000" spc="-1" strike="noStrike" u="sng" baseline="-25000">
                <a:solidFill>
                  <a:srgbClr val="000000"/>
                </a:solidFill>
                <a:uFillTx/>
                <a:latin typeface="Century Schoolbook"/>
              </a:rPr>
              <a:t>повышении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entury Schoolbook"/>
              </a:rPr>
              <a:t> давления равновесие сместится туда, где молей </a:t>
            </a:r>
            <a:r>
              <a:rPr b="1" lang="ru-RU" sz="4000" spc="-1" strike="noStrike" u="sng" baseline="-25000">
                <a:solidFill>
                  <a:srgbClr val="000000"/>
                </a:solidFill>
                <a:uFillTx/>
                <a:latin typeface="Century Schoolbook"/>
              </a:rPr>
              <a:t>меньше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Century Schoolbook"/>
              </a:rPr>
              <a:t>(где объемов меньше)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7" descr="ravnoves_01"/>
          <p:cNvPicPr/>
          <p:nvPr/>
        </p:nvPicPr>
        <p:blipFill>
          <a:blip r:embed="rId1"/>
          <a:stretch/>
        </p:blipFill>
        <p:spPr>
          <a:xfrm>
            <a:off x="324000" y="1844640"/>
            <a:ext cx="8497800" cy="2701800"/>
          </a:xfrm>
          <a:prstGeom prst="rect">
            <a:avLst/>
          </a:prstGeom>
          <a:ln w="0">
            <a:noFill/>
          </a:ln>
        </p:spPr>
      </p:pic>
      <p:sp>
        <p:nvSpPr>
          <p:cNvPr id="379" name="Line 4"/>
          <p:cNvSpPr/>
          <p:nvPr/>
        </p:nvSpPr>
        <p:spPr>
          <a:xfrm>
            <a:off x="4211640" y="8366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5"/>
          <p:cNvSpPr/>
          <p:nvPr/>
        </p:nvSpPr>
        <p:spPr>
          <a:xfrm flipH="1">
            <a:off x="4211280" y="10526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8"/>
          <p:cNvSpPr/>
          <p:nvPr/>
        </p:nvSpPr>
        <p:spPr>
          <a:xfrm>
            <a:off x="785880" y="1071720"/>
            <a:ext cx="20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 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21430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 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5786280" y="114300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м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428400" y="1071360"/>
            <a:ext cx="37861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Катализаторы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не влияют на положение равновесия!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http://www.infinitiparts.ru/user_imgs/508563_infiniti_qx56_tuning.jpg"/>
          <p:cNvPicPr/>
          <p:nvPr/>
        </p:nvPicPr>
        <p:blipFill>
          <a:blip r:embed="rId1"/>
          <a:stretch/>
        </p:blipFill>
        <p:spPr>
          <a:xfrm>
            <a:off x="4286160" y="642960"/>
            <a:ext cx="39751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00"/>
                </a:solidFill>
                <a:latin typeface="Century Schoolbook"/>
              </a:rPr>
              <a:t>ШВЕДСКИЙ УЧЕНЫЙ СВАНТЕ АРРЕНИУС(1859-1927)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8360" y="1916280"/>
            <a:ext cx="4751280" cy="452592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 1887 году создал теорию ЭД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 1903году был удостоен Нобелевской премии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"За чрезвычайные заслуги в развитии химии"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5624640" y="1700280"/>
            <a:ext cx="3124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0920" y="3499920"/>
            <a:ext cx="33112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КАБЛУКОВ И</a:t>
            </a: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.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А</a:t>
            </a: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.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4" descr="Каблуков"/>
          <p:cNvPicPr/>
          <p:nvPr/>
        </p:nvPicPr>
        <p:blipFill>
          <a:blip r:embed="rId1"/>
          <a:stretch/>
        </p:blipFill>
        <p:spPr>
          <a:xfrm>
            <a:off x="250920" y="260280"/>
            <a:ext cx="3397320" cy="29545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Кистяковский"/>
          <p:cNvPicPr/>
          <p:nvPr/>
        </p:nvPicPr>
        <p:blipFill>
          <a:blip r:embed="rId2"/>
          <a:stretch/>
        </p:blipFill>
        <p:spPr>
          <a:xfrm>
            <a:off x="4500720" y="404640"/>
            <a:ext cx="3429000" cy="259560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8"/>
          <p:cNvSpPr/>
          <p:nvPr/>
        </p:nvSpPr>
        <p:spPr>
          <a:xfrm>
            <a:off x="4643280" y="3214800"/>
            <a:ext cx="4176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Times New Roman"/>
              </a:rPr>
              <a:t>Кистяковский В.А.</a:t>
            </a:r>
            <a:r>
              <a:rPr b="0" lang="ru-RU" sz="4000" spc="-1" strike="noStrike">
                <a:solidFill>
                  <a:srgbClr val="575f6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Прямоугольник 5"/>
          <p:cNvSpPr/>
          <p:nvPr/>
        </p:nvSpPr>
        <p:spPr>
          <a:xfrm>
            <a:off x="714240" y="3929040"/>
            <a:ext cx="7072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ие химики И.А.Каблуков и В.А.Кистяковский применили к объяснению электролитической диссоциации химическую теорию растворов Д.И.Менделеева и доказали, что при растворении электролита происходит химическое взаимодействие растворенного вещества с водой, которое приводит к образованию гидратов, а затем они диссоциируют на ио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ОСНОВНЫЕ ПОЛОЖЕНИЯ </a:t>
            </a:r>
            <a:br>
              <a:rPr sz="3000"/>
            </a:b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ТЕОРИИ Э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68360" y="2349000"/>
            <a:ext cx="8229600" cy="324036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Электролиты в водной среде (и 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плавленном состоянии) распадаютс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положительно заряженные ионы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катионы) и отрицательно заряженны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оны (анионы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8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ОСНОВНЫЕ ПОЛОЖЕНИЯ </a:t>
            </a:r>
            <a:br>
              <a:rPr sz="3000"/>
            </a:b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ТЕОРИИ Э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23640" y="2420640"/>
            <a:ext cx="8373960" cy="381636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Беспорядочное движение ионов в растворе под действием электрического поля становится направленным: положительно заряженные ионы (катионы) движутся к электроду с отрицательным зарядом (катоду), а анионы – к аноду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ОСНОВНЫЕ ПОЛОЖЕНИЯ </a:t>
            </a:r>
            <a:br>
              <a:rPr sz="3000"/>
            </a:b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ТЕОРИИ Э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Диссоциация – обратимый процесс: параллельно с распадом молекул на ионы (диссоциацией) протекает процесс соединения ионов (ассоциация). Поэтому в уравнениях электролитической диссоциации вместо знака равенства ставят знак обратим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1" lang="en-US" sz="3600" spc="-1" strike="noStrike">
                <a:solidFill>
                  <a:srgbClr val="d2611c"/>
                </a:solidFill>
                <a:latin typeface="Century Schoolbook"/>
              </a:rPr>
              <a:t>NaCl       Na</a:t>
            </a:r>
            <a:r>
              <a:rPr b="1" lang="en-US" sz="3600" spc="-1" strike="noStrike" baseline="30000">
                <a:solidFill>
                  <a:srgbClr val="d2611c"/>
                </a:solidFill>
                <a:latin typeface="Century Schoolbook"/>
              </a:rPr>
              <a:t>+ </a:t>
            </a:r>
            <a:r>
              <a:rPr b="1" lang="en-US" sz="3600" spc="-1" strike="noStrike">
                <a:solidFill>
                  <a:srgbClr val="d2611c"/>
                </a:solidFill>
                <a:latin typeface="Century Schoolbook"/>
              </a:rPr>
              <a:t>+ Cl</a:t>
            </a:r>
            <a:r>
              <a:rPr b="1" lang="en-US" sz="3600" spc="-1" strike="noStrike" baseline="30000">
                <a:solidFill>
                  <a:srgbClr val="d2611c"/>
                </a:solidFill>
                <a:latin typeface="Century Schoolbook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Line 4"/>
          <p:cNvSpPr/>
          <p:nvPr/>
        </p:nvSpPr>
        <p:spPr>
          <a:xfrm>
            <a:off x="3357720" y="4143240"/>
            <a:ext cx="576000" cy="0"/>
          </a:xfrm>
          <a:prstGeom prst="line">
            <a:avLst/>
          </a:prstGeom>
          <a:ln w="38160">
            <a:solidFill>
              <a:srgbClr val="d261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5"/>
          <p:cNvSpPr/>
          <p:nvPr/>
        </p:nvSpPr>
        <p:spPr>
          <a:xfrm flipH="1">
            <a:off x="3357360" y="4357800"/>
            <a:ext cx="502920" cy="0"/>
          </a:xfrm>
          <a:prstGeom prst="line">
            <a:avLst/>
          </a:prstGeom>
          <a:ln w="38160">
            <a:solidFill>
              <a:srgbClr val="d261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entury Schoolbook"/>
              </a:rPr>
              <a:t>ХИМИЧЕСКОЕ РАВНОВЕСИЕ</a:t>
            </a:r>
            <a:r>
              <a:rPr b="0" i="1" lang="ru-RU" sz="3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Состояние равновесия характерно для обратимых химических реакций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Обратимая реакция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- химическая реакция, которая при одних и тех же условиях может идти в прямом и в обратном направлениях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Необратимой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называется реакция, которая идет практически до конца в одном направлении. 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821844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669900"/>
                </a:solidFill>
                <a:latin typeface="Century Schoolbook"/>
              </a:rPr>
              <a:t>ОСНОВНЫЕ ПОЛОЖЕНИЯ </a:t>
            </a:r>
            <a:br>
              <a:rPr sz="2700"/>
            </a:br>
            <a:r>
              <a:rPr b="1" lang="ru-RU" sz="2700" spc="-1" strike="noStrike">
                <a:solidFill>
                  <a:srgbClr val="669900"/>
                </a:solidFill>
                <a:latin typeface="Century Schoolbook"/>
              </a:rPr>
              <a:t>ТЕОРИИ ЭД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68360" y="1642680"/>
            <a:ext cx="8229600" cy="441180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тепень электролитической диссоциации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зависит от природы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лектролита и растворителя, температуры и концентрации. Она показывает отношение числа молекул, распавшихся на ионы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к общему числу молекул, введенных в раствор 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5" name="Picture 5" descr="n331"/>
          <p:cNvPicPr/>
          <p:nvPr/>
        </p:nvPicPr>
        <p:blipFill>
          <a:blip r:embed="rId1"/>
          <a:stretch/>
        </p:blipFill>
        <p:spPr>
          <a:xfrm>
            <a:off x="324000" y="3571920"/>
            <a:ext cx="71056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Century Schoolbook"/>
              </a:rPr>
              <a:t>СИЛЬНЫЕ ЭЛЕКТРОЛИТЫ</a:t>
            </a:r>
            <a:r>
              <a:rPr b="0" lang="ru-RU" sz="24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00040" y="1142640"/>
            <a:ext cx="8229600" cy="142884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ещества с ионными или сильно полярными связям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се хорошо растворимые соли, сильные кислоты 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Cl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Br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I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Cl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HN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 и сильные основания: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Li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Na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K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b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s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В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r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, С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OH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Прямоугольник 3"/>
          <p:cNvSpPr/>
          <p:nvPr/>
        </p:nvSpPr>
        <p:spPr>
          <a:xfrm flipV="1" rot="10800000">
            <a:off x="428400" y="2927880"/>
            <a:ext cx="57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00"/>
                </a:solidFill>
                <a:latin typeface="Times New Roman"/>
              </a:rPr>
              <a:t>Слабые электрол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оугольник 4"/>
          <p:cNvSpPr/>
          <p:nvPr/>
        </p:nvSpPr>
        <p:spPr>
          <a:xfrm>
            <a:off x="642960" y="3357720"/>
            <a:ext cx="7429320" cy="33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щества с неполярными и малополярными связям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почти все органические кислоты 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OH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OH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некоторые неорганические кислоты 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почти все малорастворимые в воде соли, основания и гидроксид аммония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H</a:t>
            </a:r>
            <a:r>
              <a:rPr b="0" lang="ru-RU" sz="24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OH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ОСНОВНЫЕ ПОЛОЖЕНИЯ </a:t>
            </a:r>
            <a:br>
              <a:rPr sz="3000"/>
            </a:br>
            <a:r>
              <a:rPr b="1" lang="ru-RU" sz="3000" spc="-1" strike="noStrike">
                <a:solidFill>
                  <a:srgbClr val="669900"/>
                </a:solidFill>
                <a:latin typeface="Century Schoolbook"/>
              </a:rPr>
              <a:t>ТЕОРИИ Э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57120" y="1857240"/>
            <a:ext cx="8229600" cy="1857600"/>
          </a:xfrm>
          <a:prstGeom prst="rect">
            <a:avLst/>
          </a:prstGeom>
          <a:noFill/>
          <a:ln w="38160">
            <a:solidFill>
              <a:srgbClr val="d2611c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. Свойства ионов резко отличаются от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войств нейтральных атомо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авляющих их элементов. Ионы 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одных растворах гидратирован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642960" y="3643200"/>
            <a:ext cx="73580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5" descr="Типы реакций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500040" y="57168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о всех обратимых реакциях скорость прямой реакции уменьшается, скорость обратной реакции возрастает до тех пор, пока обе скорости не станут равными и не установится состояние равновес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13" descr="ravnoves"/>
          <p:cNvPicPr/>
          <p:nvPr/>
        </p:nvPicPr>
        <p:blipFill>
          <a:blip r:embed="rId1"/>
          <a:stretch/>
        </p:blipFill>
        <p:spPr>
          <a:xfrm>
            <a:off x="714240" y="2357280"/>
            <a:ext cx="628668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42960" y="49968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entury Schoolbook"/>
              </a:rPr>
              <a:t>Химическое равновесие</a:t>
            </a:r>
            <a:r>
              <a:rPr b="0" i="1" lang="ru-RU" sz="2800" spc="-1" strike="noStrike">
                <a:solidFill>
                  <a:srgbClr val="000000"/>
                </a:solidFill>
                <a:latin typeface="Century Schoolbook"/>
              </a:rPr>
              <a:t> - состояние системы, в котором скорость прямой реакции равна скорости обратной реакции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9" name="Picture 4" descr="17"/>
          <p:cNvPicPr/>
          <p:nvPr/>
        </p:nvPicPr>
        <p:blipFill>
          <a:blip r:embed="rId1"/>
          <a:stretch/>
        </p:blipFill>
        <p:spPr>
          <a:xfrm>
            <a:off x="857160" y="2000160"/>
            <a:ext cx="7188120" cy="221472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3"/>
          <p:cNvSpPr/>
          <p:nvPr/>
        </p:nvSpPr>
        <p:spPr>
          <a:xfrm>
            <a:off x="785880" y="4357800"/>
            <a:ext cx="7215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нцентрации всех веществ в состоянии равновесия (равновесные концентрации) постоянн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Химическое равновесие имеет динамический характер. Это значит, что и прямая и обратная реакции при равновесии не прекращаютс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142560" y="428400"/>
            <a:ext cx="40719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Смещение равновесия в нужном направлении достигается изменением условий реакции (</a:t>
            </a:r>
            <a:r>
              <a:rPr b="1" i="1" lang="ru-RU" sz="2400" spc="-1" strike="noStrike">
                <a:solidFill>
                  <a:srgbClr val="006600"/>
                </a:solidFill>
                <a:latin typeface="Century Schoolbook"/>
              </a:rPr>
              <a:t>принцип Ле-Шателье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6600"/>
                </a:solidFill>
                <a:uFillTx/>
                <a:latin typeface="Century Schoolbook"/>
              </a:rPr>
              <a:t>Принцип Ле-Шателье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-Если на систему, находящуюся в состоянии равновесия, оказать внешнее воздействие, то система перейдет в другое состояние так, чтобы уменьшить эффект внешнего воздействия.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4" descr="SHATELIE"/>
          <p:cNvPicPr/>
          <p:nvPr/>
        </p:nvPicPr>
        <p:blipFill>
          <a:blip r:embed="rId1"/>
          <a:stretch/>
        </p:blipFill>
        <p:spPr>
          <a:xfrm>
            <a:off x="4572000" y="500040"/>
            <a:ext cx="40006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Для одностадийной обратимой реакции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при равновесии выражения для скоростей прямой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и обратной реакций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V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entury Schoolbook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 имеют вид: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где [a], [b], [c] и [d] - равновесные молярные концентрации веществ a, b, c и d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a,b,c и d - соответствующие стехиометрические коэффициенты (при условии, что реакция идет в одну стадию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k1 и k2 -коэффициенты пропорциональности, называемые </a:t>
            </a:r>
            <a:r>
              <a:rPr b="1" lang="ru-RU" sz="2800" spc="-1" strike="noStrike" u="sng">
                <a:solidFill>
                  <a:srgbClr val="7598d9"/>
                </a:solidFill>
                <a:uFillTx/>
                <a:latin typeface="Century Schoolbook"/>
              </a:rPr>
              <a:t>константами скоросте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11" descr="Равновесная реакция"/>
          <p:cNvPicPr/>
          <p:nvPr/>
        </p:nvPicPr>
        <p:blipFill>
          <a:blip r:embed="rId1"/>
          <a:stretch/>
        </p:blipFill>
        <p:spPr>
          <a:xfrm>
            <a:off x="1500120" y="857160"/>
            <a:ext cx="4613400" cy="507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4" descr="Скорости прямой и обратной реакций"/>
          <p:cNvPicPr/>
          <p:nvPr/>
        </p:nvPicPr>
        <p:blipFill>
          <a:blip r:embed="rId2"/>
          <a:stretch/>
        </p:blipFill>
        <p:spPr>
          <a:xfrm>
            <a:off x="785880" y="2500200"/>
            <a:ext cx="7858080" cy="4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75f6d"/>
                </a:solidFill>
                <a:uFillTx/>
                <a:latin typeface="Century Schoolbook"/>
              </a:rPr>
              <a:t>ВЛИЯНИЕ ТЕМПЕРАТУРЫ НА СМЕЩЕНИЕ РАВНОВЕС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еакции, сопровождающиеся выделением теплоты, называются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Century Schoolbook"/>
              </a:rPr>
              <a:t>экзотермическим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еакции, сопровождающиеся поглощением теплоты, называются </a:t>
            </a:r>
            <a:r>
              <a:rPr b="1" lang="ru-RU" sz="2800" spc="-1" strike="noStrike" u="sng">
                <a:solidFill>
                  <a:srgbClr val="7598d9"/>
                </a:solidFill>
                <a:uFillTx/>
                <a:latin typeface="Century Schoolbook"/>
              </a:rPr>
              <a:t>эндотермическим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аждой обратимой реакции одно из направлений отвечает экзотермическому процессу, а другое - эндотермическому.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75f6d"/>
                </a:solidFill>
                <a:uFillTx/>
                <a:latin typeface="Century Schoolbook"/>
              </a:rPr>
              <a:t>ВЛИЯНИЕ ТЕМПЕРАТУРЫ НА СМЕЩЕНИЕ РАВНОВЕС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5" descr="r23"/>
          <p:cNvPicPr/>
          <p:nvPr/>
        </p:nvPicPr>
        <p:blipFill>
          <a:blip r:embed="rId1"/>
          <a:stretch/>
        </p:blipFill>
        <p:spPr>
          <a:xfrm>
            <a:off x="324000" y="2276640"/>
            <a:ext cx="8569080" cy="99828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50920" y="3429000"/>
            <a:ext cx="8353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Чтобы сместить равновеси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вправо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(для экзотермической реакции)---</a:t>
            </a:r>
            <a:r>
              <a:rPr b="1" lang="ru-RU" sz="2400" spc="-1" strike="noStrike">
                <a:solidFill>
                  <a:srgbClr val="7598d9"/>
                </a:solidFill>
                <a:latin typeface="Century Schoolbook"/>
              </a:rPr>
              <a:t>нужно понизить температур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А для эндотермической---наоборот,</a:t>
            </a:r>
            <a:r>
              <a:rPr b="1" lang="ru-RU" sz="2400" spc="-1" strike="noStrike">
                <a:solidFill>
                  <a:srgbClr val="7598d9"/>
                </a:solidFill>
                <a:latin typeface="Century Schoolbook"/>
              </a:rPr>
              <a:t>повысить температуру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2-18T05:48:41Z</dcterms:modified>
  <cp:revision>30</cp:revision>
  <dc:subject/>
  <dc:title>PowerPoint Presentation</dc:title>
</cp:coreProperties>
</file>