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6C09-49E3-4DF1-AF97-DEF99C405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7B73-30FE-401E-B12D-9CA8AACCE9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A734-6205-4237-A853-99C629AE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BED3-F3E1-4CA6-82B2-F8B6B0F6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FC28-6A52-4E48-974F-C1ADC820B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17C8-4E4D-46E1-A2A6-0057A94A3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DEE2-5C8C-4E9E-9465-DA3B5C79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2BE0-8DDD-4E5B-960C-88B926DD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11F-FD0D-48C3-B8D5-13BFF7F0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AC4E-1B7B-4C23-B31A-A3BE15F1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963-691A-485C-BCB4-741259EC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5A1-0545-42BF-BE96-6C4B880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8D9-FAEA-44CD-BCDE-11494915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141-FB24-4446-8428-C762A4AB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1830-A924-4E69-9574-B4B6C6C6C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D:\ТАМАРА\D9 презентации все\картинки\картинки анемешки\Animated\J0076135.GIF"/>
          <p:cNvPicPr/>
          <p:nvPr/>
        </p:nvPicPr>
        <p:blipFill>
          <a:blip r:embed="rId1"/>
          <a:stretch/>
        </p:blipFill>
        <p:spPr>
          <a:xfrm>
            <a:off x="857160" y="3000240"/>
            <a:ext cx="750096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214200" y="285840"/>
            <a:ext cx="86439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428760"/>
            <a:ext cx="86439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571680" y="571680"/>
            <a:ext cx="79293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Изображение 108"/>
          <p:cNvPicPr/>
          <p:nvPr/>
        </p:nvPicPr>
        <p:blipFill>
          <a:blip r:embed="rId2"/>
          <a:stretch/>
        </p:blipFill>
        <p:spPr>
          <a:xfrm>
            <a:off x="357120" y="28584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ейшие окислители и восстановит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Изображение 109"/>
          <p:cNvPicPr/>
          <p:nvPr/>
        </p:nvPicPr>
        <p:blipFill>
          <a:blip r:embed="rId2"/>
          <a:stretch/>
        </p:blipFill>
        <p:spPr>
          <a:xfrm>
            <a:off x="428760" y="1714680"/>
            <a:ext cx="8315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орные понятия теории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Что называется процессом восстанов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изменяется степень окисления элемента при восстанов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называется процессом окисления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 изменяется степень окисления элемента при окислени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е понятие «восстанов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ите понятие «окислител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Как предсказать функцию вещества по степени окисления элемент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зовите важнейшие восстановители и окислит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Какие реакции называются окислительно-восстановительным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Изображение 064"/>
          <p:cNvPicPr/>
          <p:nvPr/>
        </p:nvPicPr>
        <p:blipFill>
          <a:blip r:embed="rId2"/>
          <a:stretch/>
        </p:blipFill>
        <p:spPr>
          <a:xfrm>
            <a:off x="214200" y="285840"/>
            <a:ext cx="8501040" cy="5932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2500200" y="85716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мическ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571760" y="1214280"/>
            <a:ext cx="5500440" cy="1556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зменению степени окисления атомов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57120" y="3643200"/>
            <a:ext cx="3929040" cy="10688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4643280" y="2714760"/>
            <a:ext cx="4286520" cy="1555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 изменения степени окисления атомов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относятся все реакции ионного обмена, а также многие реакции соеди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Прямая со стрелкой 8"/>
          <p:cNvCxnSpPr/>
          <p:nvPr/>
        </p:nvCxnSpPr>
        <p:spPr>
          <a:xfrm flipH="1">
            <a:off x="2714400" y="2428920"/>
            <a:ext cx="78624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10"/>
          <p:cNvCxnSpPr/>
          <p:nvPr/>
        </p:nvCxnSpPr>
        <p:spPr>
          <a:xfrm>
            <a:off x="5643360" y="2428560"/>
            <a:ext cx="57204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99" name="Picture 2" descr="C:\Documents and Settings\Admin\Мои документы\Мои рисунки\Изображение\Изображение 075.jpg"/>
          <p:cNvPicPr/>
          <p:nvPr/>
        </p:nvPicPr>
        <p:blipFill>
          <a:blip r:embed="rId1"/>
          <a:stretch/>
        </p:blipFill>
        <p:spPr>
          <a:xfrm>
            <a:off x="4643280" y="4572000"/>
            <a:ext cx="4357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Е РЕА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но-восстановительными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кции, которые сопровождаются изменением степеней окисления химических элементов, входящих в состав реагентов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кация ОВ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   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В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642960" y="2214720"/>
            <a:ext cx="28573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молекулярного окисления-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5072040" y="2286000"/>
            <a:ext cx="364320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внутримолекулярного окисления-восстановл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428760" y="4643280"/>
            <a:ext cx="4143240" cy="1922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кции диспропорционирования, дисмутации или самоокисления-самовосстано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5143680" y="4429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8"/>
          <p:cNvCxnSpPr/>
          <p:nvPr/>
        </p:nvCxnSpPr>
        <p:spPr>
          <a:xfrm>
            <a:off x="5214600" y="2000160"/>
            <a:ext cx="42948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10"/>
          <p:cNvCxnSpPr/>
          <p:nvPr/>
        </p:nvCxnSpPr>
        <p:spPr>
          <a:xfrm flipH="1">
            <a:off x="3285360" y="1927800"/>
            <a:ext cx="4294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12"/>
          <p:cNvCxnSpPr/>
          <p:nvPr/>
        </p:nvCxnSpPr>
        <p:spPr>
          <a:xfrm flipH="1">
            <a:off x="4071600" y="2286000"/>
            <a:ext cx="286560" cy="221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ь и восстанови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принимает электроны в ходе окислительно-восстановительной реакции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реагент, который отдает электроны в ходе окислительно-восстановительной реакц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жмолекулярные реакции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цы- доноры электронов (восстановители) – и частицы- акцепторы электронов (окислители) – находятся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разных веществах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тому типу относится большинство ОВ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C:\Documents and Settings\Admin\Мои документы\Мои рисунки\Изображение\Изображение 070.jpg"/>
          <p:cNvPicPr/>
          <p:nvPr/>
        </p:nvPicPr>
        <p:blipFill>
          <a:blip r:embed="rId1"/>
          <a:stretch/>
        </p:blipFill>
        <p:spPr>
          <a:xfrm>
            <a:off x="357120" y="3714840"/>
            <a:ext cx="8423280" cy="2857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нутримолекулярны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 электронов -  восстановитель- и акцептор электронов – окислитель – находя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одном и том же веще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Изображение 071"/>
          <p:cNvPicPr/>
          <p:nvPr/>
        </p:nvPicPr>
        <p:blipFill>
          <a:blip r:embed="rId1"/>
          <a:stretch/>
        </p:blipFill>
        <p:spPr>
          <a:xfrm>
            <a:off x="1143000" y="3143160"/>
            <a:ext cx="6572160" cy="3571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кции дисмутации, или диспропорционирования, или самоокисления-самовосстано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ы одного и того же элемента в веществе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полняют одновременно функции и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н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осстановителей)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кцепторов электронов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окислителе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и реакции возможны для веществ, содержащих атомы химических элементов в промежуточной степени окисл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Admin\Мои документы\Мои рисунки\Изображение\Изображение 072.jpg"/>
          <p:cNvPicPr/>
          <p:nvPr/>
        </p:nvPicPr>
        <p:blipFill>
          <a:blip r:embed="rId1"/>
          <a:stretch/>
        </p:blipFill>
        <p:spPr>
          <a:xfrm>
            <a:off x="857160" y="4071960"/>
            <a:ext cx="6786720" cy="2643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окислительно-восстановительных реакций использу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) метод электронного бала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окислительно-восстановительных реакций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равнении степеней окисления атомов в исходных веществах и продуктах реакции и на балансировании числа электронов, смещаемых от восстановителя к окислителю.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ют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оставления уравнений реакций, протекающих в любых фазах. 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 метод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схему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пределить степени окисления элементов в реагентах и продуктах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ить, является реакция окислительно-восстановительной или она протекает без изменения степеней окисления элементов. В первом случае выполнить все последующие опер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черкнуть элементы, степени, окисления которых изменя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пределить, какой элемент окисля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 повышается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кой элемент восстанавливается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го степень окисления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ается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реак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 левой части схемы обозначить с помощью стрелок процесс окисления (смещения электронов от атома элемента) и процесс восстановления (смещения электронов к атому элемен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Определить восстанов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от которого смещаются электроны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кислитель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атом элемента, к которому смещаются электрон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ическое предписание для составления уравнений    окислительно-восстановительных    реакций    методом электронного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балансировать число электронов между окислителем и восстановител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Определить коэффициенты для окислителя и восстановителя, продуктов окисления и восстанов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Записать коэффициент перед формулой вещества, определяющего среду раств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Проверить уравнение реак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ление уравнений окислительно-восстановительных реакций методом полуреакций, или ионно-электронным методом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основ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именяетс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выражения сущности окислительно-восстановительных реакций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 мет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электронно-ионных уравнениях полуреакций записываются ионы, реально существующие в водном растворе, а не условные частицы. (Например, ион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не атом азота со степенью окисления +3 и атом серы со степенью окисления +4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ри использовании этого метода не нужно знать все вещества: они 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4214880" y="4643280"/>
            <a:ext cx="12603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этапы составления уравнений окислительно-восстановительных реакций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онно-электронным мето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 примере взаимодействия цинка с концентрированной азотной кислото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сываем ионную схему процесса, которая включает только восстановитель и продукт его окисления, и окислитель и продукт его восстановле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4" descr="Изображение 073"/>
          <p:cNvPicPr/>
          <p:nvPr/>
        </p:nvPicPr>
        <p:blipFill>
          <a:blip r:embed="rId1"/>
          <a:stretch/>
        </p:blipFill>
        <p:spPr>
          <a:xfrm>
            <a:off x="928800" y="4500720"/>
            <a:ext cx="74152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СС ОКИСЛЕНИЯ И ВОССТАНОВ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кислением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отдачи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м степени окислени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осстановлением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процесс присоединения электронов атомом, молекулой или ионом, который сопровождается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нижением степени окисления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Изображение 07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Изображение 0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Изображение 077"/>
          <p:cNvPicPr/>
          <p:nvPr/>
        </p:nvPicPr>
        <p:blipFill>
          <a:blip r:embed="rId2"/>
          <a:srcRect l="-800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зображение 07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определения функции соединения в окислительно-восстановительных реакциях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сшую степень окисления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зшую степени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элемент проявляет в соединени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межуточную степень окисления,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это соединение может быть как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овителе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и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ислител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Задан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кажите функции веществ в окислительно-восстановительных реакциях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Изображение 078"/>
          <p:cNvPicPr/>
          <p:nvPr/>
        </p:nvPicPr>
        <p:blipFill>
          <a:blip r:embed="rId1"/>
          <a:stretch/>
        </p:blipFill>
        <p:spPr>
          <a:xfrm>
            <a:off x="5000760" y="6072120"/>
            <a:ext cx="3851280" cy="4809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Изображение 07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Изображение 107"/>
          <p:cNvPicPr/>
          <p:nvPr/>
        </p:nvPicPr>
        <p:blipFill>
          <a:blip r:embed="rId2"/>
          <a:stretch/>
        </p:blipFill>
        <p:spPr>
          <a:xfrm>
            <a:off x="0" y="142920"/>
            <a:ext cx="8929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21:13:28Z</dcterms:created>
  <dc:creator>Admin</dc:creator>
  <dc:description/>
  <dc:language>en-US</dc:language>
  <cp:lastModifiedBy>Admin</cp:lastModifiedBy>
  <dcterms:modified xsi:type="dcterms:W3CDTF">2012-12-19T10:51:24Z</dcterms:modified>
  <cp:revision>52</cp:revision>
  <dc:subject/>
  <dc:title>Слайд 1</dc:title>
</cp:coreProperties>
</file>