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35.png" ContentType="image/png"/>
  <Override PartName="/ppt/media/image43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48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40.png" ContentType="image/png"/>
  <Override PartName="/ppt/media/image46.png" ContentType="image/png"/>
  <Override PartName="/ppt/media/image31.jpeg" ContentType="image/jpeg"/>
  <Override PartName="/ppt/media/image38.gif" ContentType="image/gif"/>
  <Override PartName="/ppt/media/image49.jpeg" ContentType="image/jpeg"/>
  <Override PartName="/ppt/media/image47.gif" ContentType="image/gif"/>
  <Override PartName="/ppt/media/image50.png" ContentType="image/png"/>
  <Override PartName="/ppt/media/image30.png" ContentType="image/png"/>
  <Override PartName="/ppt/media/image28.jpeg" ContentType="image/jpeg"/>
  <Override PartName="/ppt/media/image51.jpeg" ContentType="image/jpeg"/>
  <Override PartName="/ppt/media/image8.png" ContentType="image/png"/>
  <Override PartName="/ppt/media/image14.jpeg" ContentType="image/jpeg"/>
  <Override PartName="/ppt/media/image13.jpeg" ContentType="image/jpeg"/>
  <Override PartName="/ppt/media/image44.png" ContentType="image/png"/>
  <Override PartName="/ppt/media/image12.jpeg" ContentType="image/jpeg"/>
  <Override PartName="/ppt/media/image41.gif" ContentType="image/gif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0CA993-5A1B-465E-A1E9-196A27126B4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5080D-2350-457B-8F76-9827CE9B93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E8751-E87F-44C2-8A8D-0503B0417D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7E1CF-25FC-40B3-A62E-1A74C5A3E2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442F0-7CB3-4D97-AF4D-AFDA97CF70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2D61C-64EB-44DC-9365-115B313EE03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A5D7B-F3DA-44FE-ADD0-EC996C7143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67C98-83C1-4704-AF21-19F89CB463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1F681-34DC-4EAA-955A-F215BABE1D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37A4C-0C92-4B59-9A49-7837570683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30BD4-BF03-4365-B02C-D9819E53E5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3DE91-F71B-4252-B86F-431E345588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 Гальцева Ольга Николаевна. Учитель МОУ Аннинская СОШ №1 п.г.т. Ан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Номер слайда 3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D28D2-09D1-4958-BF0C-9F63C00A9B5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8200F-346F-4343-90F4-7EE01D30A76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 слайд из презентации Баженова А.А. «Ионы и ионная связь» в исправленном вид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lekseibazhenov.narod.ru/proektor8che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62FB4-1DEB-4BD8-A045-A6A70518615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E0448A-4AB1-4BCA-9176-20C8CC4484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B4324-7106-4002-84B6-8DB714623C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F6591-EF3F-490B-8637-22D45168E6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B7A5C-A950-421F-A7A4-5F97FC1112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FAF60-BA9E-4188-9F71-2BDD5E23F2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так, при взаимодействии двух атомов водорода их электронные облака перекрываются. Давайте расшифруем то, что у нас получилос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рисун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он обозначает? Атом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его знак? Н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Сколько электронов у атома водорода на последнем слое? 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ует +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Такой же ато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образуется? соединение из двух атомов водород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Что находится между атомами? 2 электрона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ервый атом водорода думает, что эти электроны принадлежат ему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 у него 2 электрона на слое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. Второй электрон думает, что …..Щ……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Почему оба атома довольны и система получается устойчивой? 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Итак, образовалась Щ общая электронная пара – это одна химическая связ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 формула, в которой показаны общие электронные пары называется электронной формулой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Щ составленная нами схема называется электронной схемой образования молекул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озьмите из конверта рисунок, обведите электронную формулу и таким же цветом подчеркните название, аналогично со схем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В 1907 году русский химик Николай Александрович Морозов предположил,что химическая связь между атомами может получиться за счёт образования электронных пар. Это подтвердил в 1916 году американский физикохимик Гилберт-Ньютон Льюис. Электронные формулы ещё называют формулами Льюи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1A6BD-F4F4-4D7F-8DB4-62C97B0966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B4C-8A74-4F7F-84F6-B7ABB5D4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76A-1E79-4437-8C41-B2E7D99A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89F-9056-42AF-B589-5D1F3353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EA9-DA48-4C9A-A75C-B8F0EF56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C185-AD8E-491D-86FE-87ECEC5B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6579-90EA-4237-BC17-06974F66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44AD-6B78-40B7-B472-B0CA9E1D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2C6A-5EB4-49B1-8FBA-2F26BC2D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F2F32-EBFB-4CE5-A1DE-6B1E7C84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4712-4193-462C-B912-10E2DAB7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6AEB-E9AF-424C-9A4C-6CAF93E2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07A7-E540-451A-B2F3-325DB756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D824-CD41-49B3-A729-A6FF3F3E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B4A4-C910-4119-8879-651519B2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EE8-1A6E-4789-97F0-85EFF09F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B1F9-257C-43C9-AD0E-45B24A55C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6BF6-2DA8-4F66-AFF8-7DD55C2D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801-964D-4130-8A25-6F5B988A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6775-E0C3-4B80-8BB1-08FEDB00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CEBB-EACB-4C65-8E42-C7360672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758-598D-4871-A1F1-3C46604B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4B2-106D-45FF-96A6-DAF6311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B7B-4174-4392-A7AF-52F1829C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1AB-A3B0-4C68-B2A0-FD4785A5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3C2F2C-363B-4B94-801F-4E9D7808F82D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096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50FECD-4111-45D8-8DB9-A522660110A4}" type="slidenum">
              <a:rPr b="0" lang="en-GB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228600" y="2889360"/>
            <a:ext cx="8608680" cy="199800"/>
            <a:chOff x="228600" y="2889360"/>
            <a:chExt cx="8608680" cy="199800"/>
          </a:xfrm>
        </p:grpSpPr>
        <p:sp>
          <p:nvSpPr>
            <p:cNvPr id="50" name="Rectangle 6"/>
            <p:cNvSpPr/>
            <p:nvPr/>
          </p:nvSpPr>
          <p:spPr>
            <a:xfrm>
              <a:off x="228600" y="2889360"/>
              <a:ext cx="2869560" cy="1998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7"/>
            <p:cNvSpPr/>
            <p:nvPr/>
          </p:nvSpPr>
          <p:spPr>
            <a:xfrm>
              <a:off x="3098160" y="2889360"/>
              <a:ext cx="2869560" cy="1998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8"/>
            <p:cNvSpPr/>
            <p:nvPr/>
          </p:nvSpPr>
          <p:spPr>
            <a:xfrm>
              <a:off x="5968080" y="2889360"/>
              <a:ext cx="2869200" cy="1998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1360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600" spc="-1" strike="noStrike">
                <a:solidFill>
                  <a:srgbClr val="ffff00"/>
                </a:solidFill>
                <a:latin typeface="Garamond"/>
              </a:rPr>
              <a:t>Химическая связь</a:t>
            </a:r>
            <a:r>
              <a:rPr b="1" lang="ru-RU" sz="9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9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79280" y="3933720"/>
            <a:ext cx="3961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3. По способу перекрывания электронных орбиталей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91520" cy="20448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σ (сигма-связь)-область перекрывания электронных орбиталей находится на прямой, связывающей ядра ато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2540160" cy="1511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3995640" y="3716280"/>
            <a:ext cx="4038840" cy="71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3"/>
          <a:stretch/>
        </p:blipFill>
        <p:spPr>
          <a:xfrm>
            <a:off x="4859280" y="4653000"/>
            <a:ext cx="3175200" cy="17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4"/>
          <a:stretch/>
        </p:blipFill>
        <p:spPr>
          <a:xfrm>
            <a:off x="395280" y="5229360"/>
            <a:ext cx="4038480" cy="880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7"/>
          <p:cNvSpPr/>
          <p:nvPr/>
        </p:nvSpPr>
        <p:spPr>
          <a:xfrm>
            <a:off x="3348000" y="4581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-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7308720" y="43657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 -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3492360" y="616572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-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7272360" y="6093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d -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3. По способу перекрывания электронных орбиталей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1508040" cy="2736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5079960" y="1843200"/>
            <a:ext cx="3175200" cy="17017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9160"/>
          </a:xfrm>
          <a:prstGeom prst="rect">
            <a:avLst/>
          </a:prstGeom>
          <a:solidFill>
            <a:srgbClr val="f8dd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π (пи-связь)-область перекрывания электронных орбиталей лежит вне прямой, связывающей ядра атом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132000" y="36450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 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084720" y="36450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-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66600"/>
                </a:solidFill>
                <a:latin typeface="Garamond"/>
              </a:rPr>
              <a:t>4.</a:t>
            </a: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en-GB" sz="3200" spc="-1" strike="noStrike">
                <a:solidFill>
                  <a:srgbClr val="666600"/>
                </a:solidFill>
                <a:latin typeface="Garamond"/>
              </a:rPr>
              <a:t>По числу общих электронных пар, связывающих атомы, т.е. по кратности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7777080" cy="901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"/>
          <p:cNvPicPr/>
          <p:nvPr/>
        </p:nvPicPr>
        <p:blipFill>
          <a:blip r:embed="rId2"/>
          <a:stretch/>
        </p:blipFill>
        <p:spPr>
          <a:xfrm>
            <a:off x="755640" y="5734080"/>
            <a:ext cx="7775640" cy="6681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6624720" cy="8334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50920" y="1557360"/>
            <a:ext cx="8893080" cy="6426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Одинарные  Н-Н ; H-Cl, H-O-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50920" y="2997360"/>
            <a:ext cx="8893080" cy="718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Двойные  СО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, С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GB" sz="36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50920" y="5013360"/>
            <a:ext cx="8893080" cy="64872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Тройные N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, С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Типы кристаллических решеток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3959280" cy="4896000"/>
          </a:xfrm>
          <a:prstGeom prst="rect">
            <a:avLst/>
          </a:prstGeom>
          <a:solidFill>
            <a:srgbClr val="f8dd68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Молекулярн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 узлах находятся молекулы. Силы притяжения слаб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ещества непрочные, легкоплавкие, летуч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Газы и жидкости в твердом состоянии, сера, иод, нафталин, белый фосфор, углекислый газ(«сухой лёд»), органические вещ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360" y="1484280"/>
            <a:ext cx="4043520" cy="49975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lnSpc>
                <a:spcPct val="8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Атомна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 узлах находятся атомы. Силы притяжения сильны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Вещества прочные, тугоплавкие, нелетучие, не проводят электрический ток ( кроме графит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Алмаз, кремний кристаллический, бор, оксид кремния( кремнезем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1"/>
          <p:cNvSpPr/>
          <p:nvPr/>
        </p:nvSpPr>
        <p:spPr>
          <a:xfrm>
            <a:off x="250920" y="189000"/>
            <a:ext cx="8642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cc3300"/>
                </a:solidFill>
                <a:latin typeface="Arial"/>
              </a:rPr>
              <a:t>Атомной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кристаллической решётко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называется решётка, в узлах которой расположены атомы, соединённые между собой прочными ковалентными связями. Такие соединения имеют большую прочность и тугоплав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611280" y="2708280"/>
            <a:ext cx="338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В кристалле алмаза атомы углерода соединены в форме тетраэдра (каркасная структура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4276800" cy="4162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" descr=""/>
          <p:cNvPicPr/>
          <p:nvPr/>
        </p:nvPicPr>
        <p:blipFill>
          <a:blip r:embed="rId2"/>
          <a:stretch/>
        </p:blipFill>
        <p:spPr>
          <a:xfrm>
            <a:off x="2928960" y="1785960"/>
            <a:ext cx="2178000" cy="1143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6786720" y="1857240"/>
            <a:ext cx="2000160" cy="1428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63160"/>
            <a:ext cx="822960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250920" y="189000"/>
            <a:ext cx="864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666600"/>
                </a:solidFill>
                <a:latin typeface="Arial"/>
              </a:rPr>
              <a:t>Молекулярной  кристаллической решёткой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называется решётка, в узлах которой расположены молекулы, удерживаемые силами межмолекулярного взаимодействия . Такие соединения легко плавятся. При н.у. часто являются газами или подвижными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жидкостями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219640" y="465300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rcRect l="0" t="0" r="0" b="-100"/>
          <a:stretch/>
        </p:blipFill>
        <p:spPr>
          <a:xfrm>
            <a:off x="250920" y="2587680"/>
            <a:ext cx="4038480" cy="4270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29196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6600"/>
                </a:solidFill>
                <a:latin typeface="Garamond"/>
              </a:rPr>
              <a:t>Фрагмент кристаллов </a:t>
            </a:r>
            <a:br>
              <a:rPr sz="4000"/>
            </a:br>
            <a:r>
              <a:rPr b="1" lang="en-GB" sz="4000" spc="-1" strike="noStrike">
                <a:solidFill>
                  <a:srgbClr val="666600"/>
                </a:solidFill>
                <a:latin typeface="Garamond"/>
              </a:rPr>
              <a:t>воды и серы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5292720" y="1484280"/>
            <a:ext cx="3325680" cy="2494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4032360" cy="49291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218" name="Picture 5" descr=""/>
          <p:cNvPicPr/>
          <p:nvPr/>
        </p:nvPicPr>
        <p:blipFill>
          <a:blip r:embed="rId3"/>
          <a:stretch/>
        </p:blipFill>
        <p:spPr>
          <a:xfrm>
            <a:off x="5364000" y="4044960"/>
            <a:ext cx="3240360" cy="28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Garamond"/>
              </a:rPr>
              <a:t>Кристаллическая решётка графита –слоистое строение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5113440" cy="4526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17146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гибр вал орб"/>
          <p:cNvPicPr/>
          <p:nvPr/>
        </p:nvPicPr>
        <p:blipFill>
          <a:blip r:embed="rId1"/>
          <a:stretch/>
        </p:blipFill>
        <p:spPr>
          <a:xfrm>
            <a:off x="2144880" y="0"/>
            <a:ext cx="487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999900"/>
                </a:solidFill>
                <a:latin typeface="Garamond"/>
              </a:rPr>
              <a:t>Ковалентная связь</a:t>
            </a:r>
            <a:r>
              <a:rPr b="0" lang="en-GB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1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5400" spc="-1" strike="noStrike">
                <a:solidFill>
                  <a:srgbClr val="000000"/>
                </a:solidFill>
                <a:latin typeface="Verdana"/>
              </a:rPr>
              <a:t>это химическая связь, возникающая между атомами за счет образования общих электронных пар.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p</a:t>
            </a:r>
            <a:r>
              <a:rPr b="0" lang="en-US" sz="4000" spc="-1" strike="noStrike" baseline="30000">
                <a:solidFill>
                  <a:srgbClr val="999900"/>
                </a:solidFill>
                <a:latin typeface="Garamond"/>
              </a:rPr>
              <a:t>3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ибридизация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лкан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4" name="Picture 5" descr="pic4_3_11"/>
          <p:cNvPicPr/>
          <p:nvPr/>
        </p:nvPicPr>
        <p:blipFill>
          <a:blip r:embed="rId1"/>
          <a:stretch/>
        </p:blipFill>
        <p:spPr>
          <a:xfrm>
            <a:off x="457200" y="1219320"/>
            <a:ext cx="4495680" cy="2506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pic4_3_11a"/>
          <p:cNvPicPr/>
          <p:nvPr/>
        </p:nvPicPr>
        <p:blipFill>
          <a:blip r:embed="rId2"/>
          <a:stretch/>
        </p:blipFill>
        <p:spPr>
          <a:xfrm>
            <a:off x="6715080" y="1219320"/>
            <a:ext cx="2219400" cy="2562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pic4_3_13"/>
          <p:cNvPicPr/>
          <p:nvPr/>
        </p:nvPicPr>
        <p:blipFill>
          <a:blip r:embed="rId3"/>
          <a:stretch/>
        </p:blipFill>
        <p:spPr>
          <a:xfrm>
            <a:off x="3429000" y="3886200"/>
            <a:ext cx="5562720" cy="2711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anim4_3_11"/>
          <p:cNvPicPr/>
          <p:nvPr/>
        </p:nvPicPr>
        <p:blipFill>
          <a:blip r:embed="rId4"/>
          <a:stretch/>
        </p:blipFill>
        <p:spPr>
          <a:xfrm>
            <a:off x="228600" y="3886200"/>
            <a:ext cx="281952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p</a:t>
            </a:r>
            <a:r>
              <a:rPr b="0" lang="ru-RU" sz="4000" spc="-1" strike="noStrike" baseline="30000">
                <a:solidFill>
                  <a:srgbClr val="999900"/>
                </a:solidFill>
                <a:latin typeface="Garamond"/>
              </a:rPr>
              <a:t>2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-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гибридизация</a:t>
            </a:r>
            <a:br>
              <a:rPr sz="4000"/>
            </a:b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Алкен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29" name="Picture 5" descr="pic4_3_21"/>
          <p:cNvPicPr/>
          <p:nvPr/>
        </p:nvPicPr>
        <p:blipFill>
          <a:blip r:embed="rId1"/>
          <a:stretch/>
        </p:blipFill>
        <p:spPr>
          <a:xfrm>
            <a:off x="228600" y="1523880"/>
            <a:ext cx="3733920" cy="31608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pic4_3_23"/>
          <p:cNvPicPr/>
          <p:nvPr/>
        </p:nvPicPr>
        <p:blipFill>
          <a:blip r:embed="rId2"/>
          <a:stretch/>
        </p:blipFill>
        <p:spPr>
          <a:xfrm>
            <a:off x="4495680" y="3505320"/>
            <a:ext cx="4448160" cy="3160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anim4_3_2_1a"/>
          <p:cNvPicPr/>
          <p:nvPr/>
        </p:nvPicPr>
        <p:blipFill>
          <a:blip r:embed="rId3"/>
          <a:stretch/>
        </p:blipFill>
        <p:spPr>
          <a:xfrm>
            <a:off x="6095880" y="1447920"/>
            <a:ext cx="2210040" cy="17683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6" descr="бор"/>
          <p:cNvPicPr/>
          <p:nvPr/>
        </p:nvPicPr>
        <p:blipFill>
          <a:blip r:embed="rId1"/>
          <a:stretch/>
        </p:blipFill>
        <p:spPr>
          <a:xfrm>
            <a:off x="1219320" y="1371600"/>
            <a:ext cx="6933960" cy="20494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неорган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9" descr="хлорид бора"/>
          <p:cNvPicPr/>
          <p:nvPr/>
        </p:nvPicPr>
        <p:blipFill>
          <a:blip r:embed="rId2"/>
          <a:stretch/>
        </p:blipFill>
        <p:spPr>
          <a:xfrm>
            <a:off x="2362320" y="3333600"/>
            <a:ext cx="43750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и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5" descr="pic4_3_3_1"/>
          <p:cNvPicPr/>
          <p:nvPr/>
        </p:nvPicPr>
        <p:blipFill>
          <a:blip r:embed="rId1"/>
          <a:stretch/>
        </p:blipFill>
        <p:spPr>
          <a:xfrm>
            <a:off x="152280" y="129528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pic4_3_3_3"/>
          <p:cNvPicPr/>
          <p:nvPr/>
        </p:nvPicPr>
        <p:blipFill>
          <a:blip r:embed="rId2"/>
          <a:stretch/>
        </p:blipFill>
        <p:spPr>
          <a:xfrm>
            <a:off x="5334120" y="40384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239" name="{0BED8C47-FC25-4E66-BF42-5A0CAADBFEC7}.avi" descr=""/>
          <p:cNvPicPr/>
          <p:nvPr/>
        </p:nvPicPr>
        <p:blipFill>
          <a:blip r:embed="rId3"/>
          <a:stretch/>
        </p:blipFill>
        <p:spPr>
          <a:xfrm>
            <a:off x="5486400" y="1371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0" descr="anim4_3_3_2a"/>
          <p:cNvPicPr/>
          <p:nvPr/>
        </p:nvPicPr>
        <p:blipFill>
          <a:blip r:embed="rId4"/>
          <a:stretch/>
        </p:blipFill>
        <p:spPr>
          <a:xfrm>
            <a:off x="762120" y="464832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1"/>
          <p:cNvSpPr/>
          <p:nvPr/>
        </p:nvSpPr>
        <p:spPr>
          <a:xfrm>
            <a:off x="4952880" y="31240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ибридизация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е неорганические вещ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6" descr="бериллий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2479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хлорид бериллия"/>
          <p:cNvPicPr/>
          <p:nvPr/>
        </p:nvPicPr>
        <p:blipFill>
          <a:blip r:embed="rId2"/>
          <a:stretch/>
        </p:blipFill>
        <p:spPr>
          <a:xfrm>
            <a:off x="533520" y="4191120"/>
            <a:ext cx="78818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3" descr=""/>
          <p:cNvPicPr/>
          <p:nvPr/>
        </p:nvPicPr>
        <p:blipFill>
          <a:blip r:embed="rId1"/>
          <a:stretch/>
        </p:blipFill>
        <p:spPr>
          <a:xfrm>
            <a:off x="1994040" y="79200"/>
            <a:ext cx="6235560" cy="1133640"/>
          </a:xfrm>
          <a:prstGeom prst="rect">
            <a:avLst/>
          </a:prstGeom>
          <a:ln w="0">
            <a:noFill/>
          </a:ln>
        </p:spPr>
      </p:pic>
      <p:sp>
        <p:nvSpPr>
          <p:cNvPr id="246" name="Скругленный прямоугольник 5"/>
          <p:cNvSpPr/>
          <p:nvPr/>
        </p:nvSpPr>
        <p:spPr>
          <a:xfrm>
            <a:off x="78588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Скругленный прямоугольник 6"/>
          <p:cNvSpPr/>
          <p:nvPr/>
        </p:nvSpPr>
        <p:spPr>
          <a:xfrm>
            <a:off x="250020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Овал 7"/>
          <p:cNvSpPr/>
          <p:nvPr/>
        </p:nvSpPr>
        <p:spPr>
          <a:xfrm>
            <a:off x="2286000" y="16430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Овал 8"/>
          <p:cNvSpPr/>
          <p:nvPr/>
        </p:nvSpPr>
        <p:spPr>
          <a:xfrm>
            <a:off x="2286000" y="1928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ая соединительная линия 10"/>
          <p:cNvSpPr/>
          <p:nvPr/>
        </p:nvSpPr>
        <p:spPr>
          <a:xfrm>
            <a:off x="4071960" y="178596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11"/>
          <p:cNvSpPr/>
          <p:nvPr/>
        </p:nvSpPr>
        <p:spPr>
          <a:xfrm>
            <a:off x="5572080" y="1500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валентная неполяр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Скругленный прямоугольник 12"/>
          <p:cNvSpPr/>
          <p:nvPr/>
        </p:nvSpPr>
        <p:spPr>
          <a:xfrm>
            <a:off x="2500200" y="27147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Скругленный прямоугольник 13"/>
          <p:cNvSpPr/>
          <p:nvPr/>
        </p:nvSpPr>
        <p:spPr>
          <a:xfrm>
            <a:off x="2500200" y="385776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Овал 14"/>
          <p:cNvSpPr/>
          <p:nvPr/>
        </p:nvSpPr>
        <p:spPr>
          <a:xfrm>
            <a:off x="714240" y="2698920"/>
            <a:ext cx="1500480" cy="785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Овал 15"/>
          <p:cNvSpPr/>
          <p:nvPr/>
        </p:nvSpPr>
        <p:spPr>
          <a:xfrm>
            <a:off x="2286000" y="285768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Овал 16"/>
          <p:cNvSpPr/>
          <p:nvPr/>
        </p:nvSpPr>
        <p:spPr>
          <a:xfrm>
            <a:off x="2286000" y="31431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4071960" y="300024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Скругленный прямоугольник 18"/>
          <p:cNvSpPr/>
          <p:nvPr/>
        </p:nvSpPr>
        <p:spPr>
          <a:xfrm>
            <a:off x="5572080" y="2643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валентная поляр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57160" y="3903840"/>
            <a:ext cx="1285920" cy="571320"/>
          </a:xfrm>
          <a:prstGeom prst="rect">
            <a:avLst/>
          </a:prstGeom>
          <a:solidFill>
            <a:srgbClr val="80808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4071960" y="4143240"/>
            <a:ext cx="1143000" cy="0"/>
          </a:xfrm>
          <a:prstGeom prst="line">
            <a:avLst/>
          </a:prstGeom>
          <a:ln w="381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Скругленный прямоугольник 21"/>
          <p:cNvSpPr/>
          <p:nvPr/>
        </p:nvSpPr>
        <p:spPr>
          <a:xfrm>
            <a:off x="5572080" y="3786120"/>
            <a:ext cx="314316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онная 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люс 25"/>
          <p:cNvSpPr/>
          <p:nvPr/>
        </p:nvSpPr>
        <p:spPr>
          <a:xfrm>
            <a:off x="1857240" y="3929040"/>
            <a:ext cx="214560" cy="21420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Минус 26"/>
          <p:cNvSpPr/>
          <p:nvPr/>
        </p:nvSpPr>
        <p:spPr>
          <a:xfrm>
            <a:off x="3571920" y="4000680"/>
            <a:ext cx="285840" cy="71280"/>
          </a:xfrm>
          <a:prstGeom prst="pi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Скругленный прямоугольник 27"/>
          <p:cNvSpPr/>
          <p:nvPr/>
        </p:nvSpPr>
        <p:spPr>
          <a:xfrm>
            <a:off x="714240" y="4929120"/>
            <a:ext cx="821556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онная связь – это связь между ион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разуется  между металлом и неметал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Прямоугольник 29"/>
          <p:cNvSpPr/>
          <p:nvPr/>
        </p:nvSpPr>
        <p:spPr>
          <a:xfrm>
            <a:off x="2286000" y="2984400"/>
            <a:ext cx="4572000" cy="8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ица, отдающая электро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ращается  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ительный и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ио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Скругленный прямоугольник 83"/>
          <p:cNvSpPr/>
          <p:nvPr/>
        </p:nvSpPr>
        <p:spPr>
          <a:xfrm>
            <a:off x="1214280" y="357120"/>
            <a:ext cx="7072560" cy="164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ица, отдающая электро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вращается  в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ложительный ион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тио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Скругленный прямоугольник 89"/>
          <p:cNvSpPr/>
          <p:nvPr/>
        </p:nvSpPr>
        <p:spPr>
          <a:xfrm>
            <a:off x="1285920" y="2357280"/>
            <a:ext cx="7000920" cy="1643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ица, принимающая электрон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вращается  в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рицательный ион (анион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diamond_01_small"/>
          <p:cNvPicPr/>
          <p:nvPr/>
        </p:nvPicPr>
        <p:blipFill>
          <a:blip r:embed="rId1"/>
          <a:stretch/>
        </p:blipFill>
        <p:spPr>
          <a:xfrm>
            <a:off x="357120" y="4143240"/>
            <a:ext cx="3909960" cy="2357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berill_01_small"/>
          <p:cNvPicPr/>
          <p:nvPr/>
        </p:nvPicPr>
        <p:blipFill>
          <a:blip r:embed="rId2"/>
          <a:stretch/>
        </p:blipFill>
        <p:spPr>
          <a:xfrm>
            <a:off x="4714920" y="4214880"/>
            <a:ext cx="4200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400" spc="-1" strike="noStrike">
                <a:solidFill>
                  <a:srgbClr val="999900"/>
                </a:solidFill>
                <a:latin typeface="Garamond"/>
              </a:rPr>
              <a:t>Классификация КС</a:t>
            </a:r>
            <a:endParaRPr b="0" lang="en-US" sz="5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9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999900"/>
                </a:solidFill>
                <a:latin typeface="Verdana"/>
              </a:rPr>
              <a:t>1. По механизму образ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95280" y="2643120"/>
            <a:ext cx="3384720" cy="3263400"/>
          </a:xfrm>
          <a:prstGeom prst="rect">
            <a:avLst/>
          </a:prstGeom>
          <a:solidFill>
            <a:srgbClr val="f8dd68"/>
          </a:solidFill>
          <a:ln w="936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Обменный мех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Каждый из атом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предоставляет неспарен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 неспаренные) электроны для образования связ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924360" y="2643120"/>
            <a:ext cx="5219640" cy="2876400"/>
          </a:xfrm>
          <a:prstGeom prst="rect">
            <a:avLst/>
          </a:prstGeom>
          <a:solidFill>
            <a:srgbClr val="cccc66"/>
          </a:solidFill>
          <a:ln w="9360">
            <a:solidFill>
              <a:srgbClr val="66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6600cc"/>
                </a:solidFill>
                <a:latin typeface="Verdana"/>
              </a:rPr>
              <a:t>Донорно-акцепторный механиз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Verdana"/>
              </a:rPr>
              <a:t>Донор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предоставляет общую электронную пару, </a:t>
            </a:r>
            <a:r>
              <a:rPr b="0" lang="en-GB" sz="2400" spc="-1" strike="noStrike">
                <a:solidFill>
                  <a:srgbClr val="cc0000"/>
                </a:solidFill>
                <a:latin typeface="Verdana"/>
              </a:rPr>
              <a:t>акцептор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предоставляет свободную электронную орбиталь,которую эта пара может заня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Garamond"/>
              </a:rPr>
              <a:t>Донорно-акцепторный механиз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20720" y="1859040"/>
            <a:ext cx="8101080" cy="1741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720720" y="4500720"/>
            <a:ext cx="792000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6600cc"/>
                </a:solidFill>
                <a:latin typeface="Garamond"/>
              </a:rPr>
              <a:t>Донорно-акцепторный механизм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425080" cy="2500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1079640" y="4140360"/>
            <a:ext cx="691200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71280"/>
            <a:ext cx="84963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666600"/>
                </a:solidFill>
                <a:latin typeface="Garamond"/>
              </a:rPr>
              <a:t>Образование молекулы водорода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95280" y="1677960"/>
            <a:ext cx="7056360" cy="518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038840" cy="173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990720" y="3048120"/>
            <a:ext cx="7315200" cy="2133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5257800" y="3200400"/>
            <a:ext cx="2895480" cy="1828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990720" y="533520"/>
            <a:ext cx="6703920" cy="1293840"/>
            <a:chOff x="990720" y="533520"/>
            <a:chExt cx="6703920" cy="1293840"/>
          </a:xfrm>
        </p:grpSpPr>
        <p:grpSp>
          <p:nvGrpSpPr>
            <p:cNvPr id="119" name="Group 4"/>
            <p:cNvGrpSpPr/>
            <p:nvPr/>
          </p:nvGrpSpPr>
          <p:grpSpPr>
            <a:xfrm>
              <a:off x="990720" y="533520"/>
              <a:ext cx="1293840" cy="1293840"/>
              <a:chOff x="990720" y="533520"/>
              <a:chExt cx="1293840" cy="1293840"/>
            </a:xfrm>
          </p:grpSpPr>
          <p:sp>
            <p:nvSpPr>
              <p:cNvPr id="120" name="Oval 5"/>
              <p:cNvSpPr/>
              <p:nvPr/>
            </p:nvSpPr>
            <p:spPr>
              <a:xfrm>
                <a:off x="990720" y="533520"/>
                <a:ext cx="1293840" cy="12938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64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6"/>
              <p:cNvGrpSpPr/>
              <p:nvPr/>
            </p:nvGrpSpPr>
            <p:grpSpPr>
              <a:xfrm>
                <a:off x="1517040" y="1065600"/>
                <a:ext cx="213840" cy="214200"/>
                <a:chOff x="1517040" y="1065600"/>
                <a:chExt cx="213840" cy="214200"/>
              </a:xfrm>
            </p:grpSpPr>
            <p:sp>
              <p:nvSpPr>
                <p:cNvPr id="122" name="Line 7"/>
                <p:cNvSpPr/>
                <p:nvPr/>
              </p:nvSpPr>
              <p:spPr>
                <a:xfrm>
                  <a:off x="1517040" y="1172880"/>
                  <a:ext cx="21384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Line 8"/>
                <p:cNvSpPr/>
                <p:nvPr/>
              </p:nvSpPr>
              <p:spPr>
                <a:xfrm flipV="1">
                  <a:off x="1604880" y="1065600"/>
                  <a:ext cx="1080" cy="214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Group 9"/>
            <p:cNvGrpSpPr/>
            <p:nvPr/>
          </p:nvGrpSpPr>
          <p:grpSpPr>
            <a:xfrm>
              <a:off x="3200400" y="533520"/>
              <a:ext cx="1293840" cy="1293840"/>
              <a:chOff x="3200400" y="533520"/>
              <a:chExt cx="1293840" cy="129384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3200400" y="533520"/>
                <a:ext cx="1293840" cy="12938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64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6" name="Group 11"/>
              <p:cNvGrpSpPr/>
              <p:nvPr/>
            </p:nvGrpSpPr>
            <p:grpSpPr>
              <a:xfrm>
                <a:off x="3726720" y="1065600"/>
                <a:ext cx="213840" cy="214200"/>
                <a:chOff x="3726720" y="1065600"/>
                <a:chExt cx="213840" cy="214200"/>
              </a:xfrm>
            </p:grpSpPr>
            <p:sp>
              <p:nvSpPr>
                <p:cNvPr id="127" name="Line 12"/>
                <p:cNvSpPr/>
                <p:nvPr/>
              </p:nvSpPr>
              <p:spPr>
                <a:xfrm>
                  <a:off x="3726720" y="1172880"/>
                  <a:ext cx="213840" cy="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13"/>
                <p:cNvSpPr/>
                <p:nvPr/>
              </p:nvSpPr>
              <p:spPr>
                <a:xfrm flipV="1">
                  <a:off x="3814560" y="1065600"/>
                  <a:ext cx="1080" cy="2142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Group 14"/>
            <p:cNvGrpSpPr/>
            <p:nvPr/>
          </p:nvGrpSpPr>
          <p:grpSpPr>
            <a:xfrm>
              <a:off x="5410080" y="533520"/>
              <a:ext cx="2284560" cy="1293840"/>
              <a:chOff x="5410080" y="533520"/>
              <a:chExt cx="2284560" cy="1293840"/>
            </a:xfrm>
          </p:grpSpPr>
          <p:grpSp>
            <p:nvGrpSpPr>
              <p:cNvPr id="130" name="Group 15"/>
              <p:cNvGrpSpPr/>
              <p:nvPr/>
            </p:nvGrpSpPr>
            <p:grpSpPr>
              <a:xfrm>
                <a:off x="6400800" y="533520"/>
                <a:ext cx="1293840" cy="1293840"/>
                <a:chOff x="6400800" y="533520"/>
                <a:chExt cx="1293840" cy="1293840"/>
              </a:xfrm>
            </p:grpSpPr>
            <p:sp>
              <p:nvSpPr>
                <p:cNvPr id="131" name="Oval 16"/>
                <p:cNvSpPr/>
                <p:nvPr/>
              </p:nvSpPr>
              <p:spPr>
                <a:xfrm>
                  <a:off x="6400800" y="533520"/>
                  <a:ext cx="1293840" cy="1293840"/>
                </a:xfrm>
                <a:prstGeom prst="ellipse">
                  <a:avLst/>
                </a:prstGeom>
                <a:blipFill rotWithShape="0">
                  <a:blip r:embed="rId5"/>
                  <a:srcRect/>
                  <a:stretch/>
                </a:blipFill>
                <a:ln w="64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Group 17"/>
                <p:cNvGrpSpPr/>
                <p:nvPr/>
              </p:nvGrpSpPr>
              <p:grpSpPr>
                <a:xfrm>
                  <a:off x="6927120" y="1065600"/>
                  <a:ext cx="213840" cy="214200"/>
                  <a:chOff x="6927120" y="1065600"/>
                  <a:chExt cx="213840" cy="214200"/>
                </a:xfrm>
              </p:grpSpPr>
              <p:sp>
                <p:nvSpPr>
                  <p:cNvPr id="133" name="Line 18"/>
                  <p:cNvSpPr/>
                  <p:nvPr/>
                </p:nvSpPr>
                <p:spPr>
                  <a:xfrm>
                    <a:off x="6927120" y="1172880"/>
                    <a:ext cx="213840" cy="14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Line 19"/>
                  <p:cNvSpPr/>
                  <p:nvPr/>
                </p:nvSpPr>
                <p:spPr>
                  <a:xfrm flipV="1">
                    <a:off x="7014960" y="1065600"/>
                    <a:ext cx="1080" cy="21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" name="Group 20"/>
              <p:cNvGrpSpPr/>
              <p:nvPr/>
            </p:nvGrpSpPr>
            <p:grpSpPr>
              <a:xfrm>
                <a:off x="5410080" y="533520"/>
                <a:ext cx="1293840" cy="1293840"/>
                <a:chOff x="5410080" y="533520"/>
                <a:chExt cx="1293840" cy="1293840"/>
              </a:xfrm>
            </p:grpSpPr>
            <p:sp>
              <p:nvSpPr>
                <p:cNvPr id="136" name="Oval 21"/>
                <p:cNvSpPr/>
                <p:nvPr/>
              </p:nvSpPr>
              <p:spPr>
                <a:xfrm>
                  <a:off x="5410080" y="533520"/>
                  <a:ext cx="1293840" cy="1293840"/>
                </a:xfrm>
                <a:prstGeom prst="ellipse">
                  <a:avLst/>
                </a:prstGeom>
                <a:blipFill rotWithShape="0">
                  <a:blip r:embed="rId6"/>
                  <a:srcRect/>
                  <a:stretch/>
                </a:blipFill>
                <a:ln w="64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7" name="Group 22"/>
                <p:cNvGrpSpPr/>
                <p:nvPr/>
              </p:nvGrpSpPr>
              <p:grpSpPr>
                <a:xfrm>
                  <a:off x="5936040" y="1065600"/>
                  <a:ext cx="214200" cy="214200"/>
                  <a:chOff x="5936040" y="1065600"/>
                  <a:chExt cx="214200" cy="214200"/>
                </a:xfrm>
              </p:grpSpPr>
              <p:sp>
                <p:nvSpPr>
                  <p:cNvPr id="138" name="Line 23"/>
                  <p:cNvSpPr/>
                  <p:nvPr/>
                </p:nvSpPr>
                <p:spPr>
                  <a:xfrm>
                    <a:off x="5936040" y="1172880"/>
                    <a:ext cx="214200" cy="14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Line 24"/>
                  <p:cNvSpPr/>
                  <p:nvPr/>
                </p:nvSpPr>
                <p:spPr>
                  <a:xfrm flipV="1">
                    <a:off x="6023880" y="1065600"/>
                    <a:ext cx="1440" cy="21420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6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40" name="Text Box 25"/>
            <p:cNvSpPr/>
            <p:nvPr/>
          </p:nvSpPr>
          <p:spPr>
            <a:xfrm>
              <a:off x="2438280" y="762120"/>
              <a:ext cx="533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26"/>
            <p:cNvSpPr/>
            <p:nvPr/>
          </p:nvSpPr>
          <p:spPr>
            <a:xfrm>
              <a:off x="4572000" y="68580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4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Text Box 27"/>
          <p:cNvSpPr/>
          <p:nvPr/>
        </p:nvSpPr>
        <p:spPr>
          <a:xfrm>
            <a:off x="1143000" y="37339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28"/>
          <p:cNvSpPr/>
          <p:nvPr/>
        </p:nvSpPr>
        <p:spPr>
          <a:xfrm>
            <a:off x="1913040" y="4122720"/>
            <a:ext cx="14436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2514600" y="38098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+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3581280" y="371808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31"/>
          <p:cNvSpPr/>
          <p:nvPr/>
        </p:nvSpPr>
        <p:spPr>
          <a:xfrm>
            <a:off x="3360600" y="4122720"/>
            <a:ext cx="144720" cy="144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2"/>
          <p:cNvSpPr/>
          <p:nvPr/>
        </p:nvSpPr>
        <p:spPr>
          <a:xfrm>
            <a:off x="4495680" y="37339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3"/>
          <p:cNvSpPr/>
          <p:nvPr/>
        </p:nvSpPr>
        <p:spPr>
          <a:xfrm>
            <a:off x="560088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858000" y="364176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cc0000"/>
                </a:solidFill>
                <a:latin typeface="Times New Roman"/>
              </a:rPr>
              <a:t>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35"/>
          <p:cNvGrpSpPr/>
          <p:nvPr/>
        </p:nvGrpSpPr>
        <p:grpSpPr>
          <a:xfrm>
            <a:off x="6550200" y="3981600"/>
            <a:ext cx="153360" cy="360000"/>
            <a:chOff x="6550200" y="3981600"/>
            <a:chExt cx="153360" cy="360000"/>
          </a:xfrm>
        </p:grpSpPr>
        <p:sp>
          <p:nvSpPr>
            <p:cNvPr id="151" name="Oval 36"/>
            <p:cNvSpPr/>
            <p:nvPr/>
          </p:nvSpPr>
          <p:spPr>
            <a:xfrm>
              <a:off x="6550200" y="3981600"/>
              <a:ext cx="142560" cy="143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37"/>
            <p:cNvSpPr/>
            <p:nvPr/>
          </p:nvSpPr>
          <p:spPr>
            <a:xfrm>
              <a:off x="6560640" y="4197960"/>
              <a:ext cx="142920" cy="14364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 Box 38"/>
          <p:cNvSpPr/>
          <p:nvPr/>
        </p:nvSpPr>
        <p:spPr>
          <a:xfrm>
            <a:off x="5315040" y="32907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39"/>
          <p:cNvSpPr/>
          <p:nvPr/>
        </p:nvSpPr>
        <p:spPr>
          <a:xfrm>
            <a:off x="7467480" y="3290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6600cc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0"/>
          <p:cNvSpPr/>
          <p:nvPr/>
        </p:nvSpPr>
        <p:spPr>
          <a:xfrm>
            <a:off x="6610320" y="2971800"/>
            <a:ext cx="1440" cy="60948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1"/>
          <p:cNvSpPr/>
          <p:nvPr/>
        </p:nvSpPr>
        <p:spPr>
          <a:xfrm>
            <a:off x="3344760" y="1844640"/>
            <a:ext cx="579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cc0000"/>
                </a:solidFill>
                <a:latin typeface="Times New Roman"/>
              </a:rPr>
              <a:t>одна общая электронная пара – одна химическая связ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2"/>
          <p:cNvSpPr/>
          <p:nvPr/>
        </p:nvSpPr>
        <p:spPr>
          <a:xfrm>
            <a:off x="5334120" y="533412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333ff"/>
                </a:solidFill>
                <a:latin typeface="Times New Roman"/>
              </a:rPr>
              <a:t>электронная формула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3"/>
          <p:cNvSpPr/>
          <p:nvPr/>
        </p:nvSpPr>
        <p:spPr>
          <a:xfrm>
            <a:off x="914400" y="533412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6600cc"/>
                </a:solidFill>
                <a:latin typeface="Times New Roman"/>
              </a:rPr>
              <a:t>электронная схема образования молеку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5195880" y="3429000"/>
            <a:ext cx="1700280" cy="1447920"/>
          </a:xfrm>
          <a:prstGeom prst="pi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45"/>
          <p:cNvSpPr/>
          <p:nvPr/>
        </p:nvSpPr>
        <p:spPr>
          <a:xfrm flipH="1">
            <a:off x="6373080" y="3429000"/>
            <a:ext cx="1700280" cy="1447920"/>
          </a:xfrm>
          <a:prstGeom prst="pie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6"/>
          <p:cNvSpPr/>
          <p:nvPr/>
        </p:nvSpPr>
        <p:spPr>
          <a:xfrm>
            <a:off x="5292720" y="3284640"/>
            <a:ext cx="4572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47"/>
          <p:cNvSpPr/>
          <p:nvPr/>
        </p:nvSpPr>
        <p:spPr>
          <a:xfrm>
            <a:off x="7524720" y="3357720"/>
            <a:ext cx="45720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48"/>
          <p:cNvSpPr/>
          <p:nvPr/>
        </p:nvSpPr>
        <p:spPr>
          <a:xfrm>
            <a:off x="1447920" y="1009800"/>
            <a:ext cx="32364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49"/>
          <p:cNvSpPr/>
          <p:nvPr/>
        </p:nvSpPr>
        <p:spPr>
          <a:xfrm>
            <a:off x="3657600" y="1009800"/>
            <a:ext cx="32400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5867280" y="1009800"/>
            <a:ext cx="324000" cy="323640"/>
          </a:xfrm>
          <a:prstGeom prst="pie">
            <a:avLst/>
          </a:prstGeom>
          <a:noFill/>
          <a:ln w="19080">
            <a:solidFill>
              <a:srgbClr val="cc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1"/>
          <p:cNvSpPr/>
          <p:nvPr/>
        </p:nvSpPr>
        <p:spPr>
          <a:xfrm>
            <a:off x="6858000" y="1009800"/>
            <a:ext cx="324000" cy="323640"/>
          </a:xfrm>
          <a:prstGeom prst="pi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.000022888184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44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999900"/>
                </a:solidFill>
                <a:latin typeface="Garamond"/>
              </a:rPr>
              <a:t>2. По степени смещения общей электронной пар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4103640" cy="3384360"/>
          </a:xfrm>
          <a:prstGeom prst="rect">
            <a:avLst/>
          </a:prstGeom>
          <a:solidFill>
            <a:srgbClr val="cccc66"/>
          </a:solidFill>
          <a:ln w="9360">
            <a:solidFill>
              <a:srgbClr val="cccc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Ковалентная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неполярная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связь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– общая электронная пара принадлежит обоим атомам в равной степен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593360"/>
            <a:ext cx="4451040" cy="380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Ковалентная </a:t>
            </a:r>
            <a:r>
              <a:rPr b="1" lang="en-GB" sz="3200" spc="-1" strike="noStrike">
                <a:solidFill>
                  <a:srgbClr val="cc0000"/>
                </a:solidFill>
                <a:latin typeface="Verdana"/>
              </a:rPr>
              <a:t>полярная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 связь –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общая электронная пара смещ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к более электроотрицательному атому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500720" y="4859280"/>
            <a:ext cx="4390920" cy="1440000"/>
            <a:chOff x="4500720" y="4859280"/>
            <a:chExt cx="4390920" cy="1440000"/>
          </a:xfrm>
        </p:grpSpPr>
        <p:pic>
          <p:nvPicPr>
            <p:cNvPr id="171" name="Picture 5" descr=""/>
            <p:cNvPicPr/>
            <p:nvPr/>
          </p:nvPicPr>
          <p:blipFill>
            <a:blip r:embed="rId1"/>
            <a:stretch/>
          </p:blipFill>
          <p:spPr>
            <a:xfrm>
              <a:off x="4500720" y="4859280"/>
              <a:ext cx="4390920" cy="1438560"/>
            </a:xfrm>
            <a:prstGeom prst="rect">
              <a:avLst/>
            </a:prstGeom>
            <a:ln w="9360">
              <a:solidFill>
                <a:srgbClr val="cccc66"/>
              </a:solidFill>
              <a:miter/>
            </a:ln>
          </p:spPr>
        </p:pic>
        <p:sp>
          <p:nvSpPr>
            <p:cNvPr id="172" name="Text Box 6"/>
            <p:cNvSpPr/>
            <p:nvPr/>
          </p:nvSpPr>
          <p:spPr>
            <a:xfrm>
              <a:off x="4500720" y="4859280"/>
              <a:ext cx="439092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360360" y="4859280"/>
            <a:ext cx="4030560" cy="1865520"/>
            <a:chOff x="360360" y="4859280"/>
            <a:chExt cx="4030560" cy="1865520"/>
          </a:xfrm>
        </p:grpSpPr>
        <p:pic>
          <p:nvPicPr>
            <p:cNvPr id="174" name="Picture 8" descr=""/>
            <p:cNvPicPr/>
            <p:nvPr/>
          </p:nvPicPr>
          <p:blipFill>
            <a:blip r:embed="rId2"/>
            <a:stretch/>
          </p:blipFill>
          <p:spPr>
            <a:xfrm>
              <a:off x="360360" y="4859280"/>
              <a:ext cx="4030560" cy="1864080"/>
            </a:xfrm>
            <a:prstGeom prst="rect">
              <a:avLst/>
            </a:prstGeom>
            <a:ln w="9360">
              <a:solidFill>
                <a:srgbClr val="999900"/>
              </a:solidFill>
              <a:miter/>
            </a:ln>
          </p:spPr>
        </p:pic>
        <p:sp>
          <p:nvSpPr>
            <p:cNvPr id="175" name="Text Box 9"/>
            <p:cNvSpPr/>
            <p:nvPr/>
          </p:nvSpPr>
          <p:spPr>
            <a:xfrm>
              <a:off x="360360" y="4859280"/>
              <a:ext cx="4030560" cy="18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10"/>
          <p:cNvSpPr/>
          <p:nvPr/>
        </p:nvSpPr>
        <p:spPr>
          <a:xfrm flipH="1" rot="21540000">
            <a:off x="8027640" y="4933440"/>
            <a:ext cx="1685880" cy="1449360"/>
          </a:xfrm>
          <a:prstGeom prst="pi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Admin</cp:lastModifiedBy>
  <dcterms:modified xsi:type="dcterms:W3CDTF">2012-12-18T12:53:14Z</dcterms:modified>
  <cp:revision>6</cp:revision>
  <dc:subject/>
  <dc:title>Химическая связ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40d0000000000010250300207f7000400038000</vt:lpwstr>
  </property>
</Properties>
</file>