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7363-2DCE-4804-ACC0-C261280A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9843-FC97-4B9F-A5C8-218B6C9D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14B8-65B0-40AB-9208-0808F5E7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5619-EA40-402A-B660-80132BA2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9646-4FEF-47AD-AA07-EDE62789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9926-668D-4995-BCDC-9EE5C5E2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7966-D745-4E91-88C3-A13572A2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9372-22B6-4B73-B9DE-BBE73B51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FB54-1D19-449A-89A9-E947907E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604D-B041-46D5-9AB6-2C0C268C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EFD7-785E-487F-813B-E01B1C13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361C-4D56-41F9-A6A5-64C7245D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AEC5-F651-46E0-853F-503EB979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725D-3B47-4D46-84BC-3649FBE6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0827-5CF7-4795-AEE4-314BF28B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3DE4-C411-44E0-A437-10EBA0D1F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AD8F-75C1-485F-9482-29F50364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6815F-F5C6-4405-A2AE-A0A651FA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06778-C148-433B-B950-51E3FBF0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1A31F-CEA8-4510-9C3A-F63075B0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12FF0-1ED5-4C2B-8EB1-80AD5D23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1B27-639D-4C5A-86D0-ABEB81D6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E5A7E-B5BE-4C88-8A6B-1FF97304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4178A-03E2-4DF6-9221-1ECC42A0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2B39-97EF-4B1B-8F7A-93DCCA8FAD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46F3D-C5B7-47F0-97B7-96B9DE4EE9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Основные понятия химии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стекло9"/>
          <p:cNvPicPr/>
          <p:nvPr/>
        </p:nvPicPr>
        <p:blipFill>
          <a:blip r:embed="rId1"/>
          <a:stretch/>
        </p:blipFill>
        <p:spPr>
          <a:xfrm>
            <a:off x="6732720" y="333360"/>
            <a:ext cx="1439640" cy="129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стекло8"/>
          <p:cNvPicPr/>
          <p:nvPr/>
        </p:nvPicPr>
        <p:blipFill>
          <a:blip r:embed="rId2"/>
          <a:stretch/>
        </p:blipFill>
        <p:spPr>
          <a:xfrm>
            <a:off x="468360" y="4370400"/>
            <a:ext cx="223200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Химически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4906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вления, в резуль-тате котор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образуются новые веществ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облада-ющие новыми хими-ческими свойства-ми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из углекислого газа и воды в клетках деревьев образу-ется глюкоза и кисло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деревья-рис.3"/>
          <p:cNvPicPr/>
          <p:nvPr/>
        </p:nvPicPr>
        <p:blipFill>
          <a:blip r:embed="rId1"/>
          <a:stretch/>
        </p:blipFill>
        <p:spPr>
          <a:xfrm>
            <a:off x="5435640" y="1700280"/>
            <a:ext cx="3529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3-05"/>
          <p:cNvPicPr/>
          <p:nvPr/>
        </p:nvPicPr>
        <p:blipFill>
          <a:blip r:embed="rId1"/>
          <a:stretch/>
        </p:blipFill>
        <p:spPr>
          <a:xfrm>
            <a:off x="755640" y="1268280"/>
            <a:ext cx="7920000" cy="54007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808200" y="423720"/>
            <a:ext cx="77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Что необходимо растени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Физические я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95640" y="1981080"/>
            <a:ext cx="4897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вления, при кото-рых </a:t>
            </a:r>
            <a:r>
              <a:rPr b="0" i="1" lang="ru-RU" sz="3600" spc="-1" strike="noStrike">
                <a:solidFill>
                  <a:srgbClr val="000099"/>
                </a:solidFill>
                <a:latin typeface="Arial"/>
              </a:rPr>
              <a:t>изменяются агрегатное состоя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форма тела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рзание вод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ей) или кипячение воды (пар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лед на ветках-рис.8"/>
          <p:cNvPicPr/>
          <p:nvPr/>
        </p:nvPicPr>
        <p:blipFill>
          <a:blip r:embed="rId1"/>
          <a:stretch/>
        </p:blipFill>
        <p:spPr>
          <a:xfrm>
            <a:off x="324000" y="1989000"/>
            <a:ext cx="34812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785440" cy="1100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равнение химической реа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равнение – условная запись химического процесса, в которой используются химические символы, математические знаки и иные симво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« При взаимодействии молекул водорода и кислорода образуются молекулы воды», можно записать в вид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в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2Н</a:t>
            </a:r>
            <a:r>
              <a:rPr b="1" i="1" lang="ru-RU" sz="2800" spc="-1" strike="noStrike" baseline="-25000">
                <a:solidFill>
                  <a:srgbClr val="000099"/>
                </a:solidFill>
                <a:latin typeface="Arial"/>
              </a:rPr>
              <a:t>2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+ О</a:t>
            </a:r>
            <a:r>
              <a:rPr b="1" i="1" lang="ru-RU" sz="2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→ 2 Н</a:t>
            </a:r>
            <a:r>
              <a:rPr b="1" i="1" lang="ru-RU" sz="2800" spc="-1" strike="noStrike" baseline="-25000">
                <a:solidFill>
                  <a:srgbClr val="000099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А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atomos – неделимы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 наименьшая частица химическ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лемента, носитель его свой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лементы химические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вокупности атомов с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енным заряд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ядра 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1атом на иранских деньгах"/>
          <p:cNvPicPr/>
          <p:nvPr/>
        </p:nvPicPr>
        <p:blipFill>
          <a:blip r:embed="rId1"/>
          <a:stretch/>
        </p:blipFill>
        <p:spPr>
          <a:xfrm>
            <a:off x="684360" y="3573360"/>
            <a:ext cx="2519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оволат.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molecul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уменьшит. от лат. </a:t>
            </a:r>
            <a:r>
              <a:rPr b="0" lang="ru-RU" sz="3200" spc="-1" strike="noStrike">
                <a:solidFill>
                  <a:srgbClr val="990033"/>
                </a:solidFill>
                <a:latin typeface="Arial"/>
              </a:rPr>
              <a:t>moles – масс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крочастица, образованная из дву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ли большего числа атомов и способная к самостоятельному существова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молекулы"/>
          <p:cNvPicPr/>
          <p:nvPr/>
        </p:nvPicPr>
        <p:blipFill>
          <a:blip r:embed="rId1"/>
          <a:stretch/>
        </p:blipFill>
        <p:spPr>
          <a:xfrm>
            <a:off x="684360" y="4149720"/>
            <a:ext cx="2663640" cy="21589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3543480" y="6184800"/>
            <a:ext cx="50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остержневая модель моле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И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т греч.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ion – идущи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ноатомные или многоатомные частицы, несущие электрический заря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ожительные ио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катионам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греч. kation, буквально – идущий вниз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(атом) H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− 1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−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= H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+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(ион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трицатель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800" spc="-1" strike="noStrike">
                <a:solidFill>
                  <a:srgbClr val="990033"/>
                </a:solidFill>
                <a:latin typeface="Arial"/>
              </a:rPr>
              <a:t>анионами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от греч. anion, буквально идущий вверх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+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1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lang="ru-RU" sz="2800" spc="-1" strike="noStrike" baseline="30000">
                <a:solidFill>
                  <a:srgbClr val="000099"/>
                </a:solidFill>
                <a:latin typeface="Arial"/>
              </a:rPr>
              <a:t>−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=Cl </a:t>
            </a:r>
            <a:r>
              <a:rPr b="0" lang="en-US" sz="2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але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211280" y="1557360"/>
            <a:ext cx="44751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от лат. </a:t>
            </a:r>
            <a:r>
              <a:rPr b="0" lang="ru-RU" sz="3600" spc="-1" strike="noStrike">
                <a:solidFill>
                  <a:srgbClr val="990033"/>
                </a:solidFill>
                <a:latin typeface="Arial"/>
              </a:rPr>
              <a:t>valentia – сил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,способность атома присоединять или замещать определенное число других атомов или атомных групп с образованием химической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молекулы воды и пара"/>
          <p:cNvPicPr/>
          <p:nvPr/>
        </p:nvPicPr>
        <p:blipFill>
          <a:blip r:embed="rId1"/>
          <a:stretch/>
        </p:blipFill>
        <p:spPr>
          <a:xfrm>
            <a:off x="428760" y="1500120"/>
            <a:ext cx="4071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сохранения м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сса веществ, вступивших в реакцию, равна массе всех продуктов реак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иодически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а простых веществ, а также формы и свойства соединений элементов находятся в периодической зависимости от заряда ядра элем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C68B-2F81-4937-A25E-787095C118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постоянства сост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ое вещество, каким бы способом оно ни было получено, всегда имеет один и тот же качественный и количественный состав (и свойств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эквивал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щества взаимодействуют между собой в количествах, пропорциональных их эквивалент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A079-084E-46AF-958A-2140DA1CF0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91520" cy="1081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Химия 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–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79280" y="1980720"/>
            <a:ext cx="6707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ука о превращениях веществ, связанных с изменен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лектронного окружения атомных яд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2 колбы"/>
          <p:cNvPicPr/>
          <p:nvPr/>
        </p:nvPicPr>
        <p:blipFill>
          <a:blip r:embed="rId1"/>
          <a:stretch/>
        </p:blipFill>
        <p:spPr>
          <a:xfrm>
            <a:off x="250920" y="2349360"/>
            <a:ext cx="17398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21392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кратных 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два элемента образуют между собой несколько соединений, то массовые доли любого из элементов в этих соединениях относятся друг к другу как небольшие целые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объемных отно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мы вступающих в реакцию газов, а также объемы газообразных продуктов реакции относятся друг к другу как простые целые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86B6-4351-4DF8-BEEE-2640B8DC05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Закон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равных объемах различных газов при одинаковых условиях (температура и давление) содержится одинаковое число молек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ледствия из закона Авогад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 одинаковых условиях равные количества различных газов занимают равные объ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ри н.у. (Т = 273,15 К, Р = 1,01 ∙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 ил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̊С; Р = 1 атм) 1 моль любого газа занимает объем, примерно равный 22,4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EE4D-5CCD-4492-B9BD-B32F2ED79C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142640"/>
            <a:ext cx="8400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бъединенный газовы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Р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Т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значения давления,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ма, температуры при н.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Уравнение Клайперона-Менделеева (для идеального га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, где Р - давление;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ъем;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количество газа (моль); Т – температура (в К)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универсальная газовая постоянная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8,314 Дж/ моль ∙ 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законы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2302-C09C-42B7-8D5B-91971236B9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7" descr=""/>
          <p:cNvPicPr/>
          <p:nvPr/>
        </p:nvPicPr>
        <p:blipFill>
          <a:blip r:embed="rId1"/>
          <a:stretch/>
        </p:blipFill>
        <p:spPr>
          <a:xfrm>
            <a:off x="6572160" y="2143080"/>
            <a:ext cx="2210040" cy="135720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9"/>
          <p:cNvSpPr/>
          <p:nvPr/>
        </p:nvSpPr>
        <p:spPr>
          <a:xfrm>
            <a:off x="0" y="11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Д.И.Менделеев*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843280" y="1557000"/>
            <a:ext cx="612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Ближайший предмет хим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яе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род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ществ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сложения которых составл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тела мир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ращений их друг в дру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явлений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овождающих такие превращ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Менделеев Д. Основы Химии 6-е издание С-Пб, тип. В.Демакова, 1895.– 780 с., с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портрет Д"/>
          <p:cNvPicPr/>
          <p:nvPr/>
        </p:nvPicPr>
        <p:blipFill>
          <a:blip r:embed="rId1"/>
          <a:stretch/>
        </p:blipFill>
        <p:spPr>
          <a:xfrm>
            <a:off x="285840" y="1628640"/>
            <a:ext cx="27144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Ве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3280" y="1267920"/>
            <a:ext cx="7283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 материи, которая обладает массой покоя. Состоит из элементарных частиц: электронов, протонов, нейтронов, мезонов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я изучает главным образом вещество, организованное в атомы, молекулы, ионы и радикалы. Та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щества принято подразделять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ые и сложные (хим. соединен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колбы 3"/>
          <p:cNvPicPr/>
          <p:nvPr/>
        </p:nvPicPr>
        <p:blipFill>
          <a:blip r:embed="rId1"/>
          <a:stretch/>
        </p:blipFill>
        <p:spPr>
          <a:xfrm>
            <a:off x="179280" y="1341360"/>
            <a:ext cx="1656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ело и веществ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Что мы сажаем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Сажая Леса?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Легкие крылья —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Лететь в небеса.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Стол, за которым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Ты будешь писать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Ручку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Линейку,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Пенал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И тетрадь.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        Я. Марш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Безымянный"/>
          <p:cNvPicPr/>
          <p:nvPr/>
        </p:nvPicPr>
        <p:blipFill>
          <a:blip r:embed="rId1"/>
          <a:stretch/>
        </p:blipFill>
        <p:spPr>
          <a:xfrm>
            <a:off x="611280" y="1628640"/>
            <a:ext cx="2174760" cy="410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графика Думай"/>
          <p:cNvPicPr/>
          <p:nvPr/>
        </p:nvPicPr>
        <p:blipFill>
          <a:blip r:embed="rId2"/>
          <a:stretch/>
        </p:blipFill>
        <p:spPr>
          <a:xfrm>
            <a:off x="6500880" y="1773360"/>
            <a:ext cx="2074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росты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14800" y="1571760"/>
            <a:ext cx="54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ы атомами одного химического элемента и потому являются формой ег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ования в свободном состоян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сера, железо, озон, алм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алмазы(диаманты)"/>
          <p:cNvPicPr/>
          <p:nvPr/>
        </p:nvPicPr>
        <p:blipFill>
          <a:blip r:embed="rId1"/>
          <a:stretch/>
        </p:blipFill>
        <p:spPr>
          <a:xfrm>
            <a:off x="357120" y="1571760"/>
            <a:ext cx="2857680" cy="4714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1116000" y="400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м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ложные ве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разованы разными элементами и могут иметь состав постоянный (стехиометрические соеди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дальтонид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ли меняющийся 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которых пределах   (нестехиометрическ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единения ил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бертоллид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кристаллы соли"/>
          <p:cNvPicPr/>
          <p:nvPr/>
        </p:nvPicPr>
        <p:blipFill>
          <a:blip r:embed="rId1"/>
          <a:stretch/>
        </p:blipFill>
        <p:spPr>
          <a:xfrm>
            <a:off x="5867280" y="4437000"/>
            <a:ext cx="2665440" cy="1849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4840200" y="6184800"/>
            <a:ext cx="412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ы поваренной соли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меси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48000" y="1981080"/>
            <a:ext cx="5338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меси – системы, состоящие из двух или более веществ, свойства которых сохраняются, а сами вещества могут быть разделены друг от дру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ребенок-рис.1"/>
          <p:cNvPicPr/>
          <p:nvPr/>
        </p:nvPicPr>
        <p:blipFill>
          <a:blip r:embed="rId1"/>
          <a:stretch/>
        </p:blipFill>
        <p:spPr>
          <a:xfrm>
            <a:off x="500040" y="1785960"/>
            <a:ext cx="31860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829152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Вещества делятся по происхожд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3-01"/>
          <p:cNvPicPr/>
          <p:nvPr/>
        </p:nvPicPr>
        <p:blipFill>
          <a:blip r:embed="rId1"/>
          <a:stretch/>
        </p:blipFill>
        <p:spPr>
          <a:xfrm>
            <a:off x="468360" y="1844640"/>
            <a:ext cx="82072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4:13:20Z</dcterms:created>
  <dc:creator>Kim</dc:creator>
  <dc:description/>
  <dc:language>en-US</dc:language>
  <cp:lastModifiedBy>Admin</cp:lastModifiedBy>
  <dcterms:modified xsi:type="dcterms:W3CDTF">2012-12-18T12:06:45Z</dcterms:modified>
  <cp:revision>13</cp:revision>
  <dc:subject/>
  <dc:title>Основные понятия хими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60000000000010250300207f7000400038000</vt:lpwstr>
  </property>
</Properties>
</file>