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43.png" ContentType="image/png"/>
  <Override PartName="/ppt/media/image55.jpeg" ContentType="image/jpeg"/>
  <Override PartName="/ppt/media/image4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5.jpeg" ContentType="image/jpeg"/>
  <Override PartName="/ppt/media/image18.jpeg" ContentType="image/jpeg"/>
  <Override PartName="/ppt/media/image71.png" ContentType="image/png"/>
  <Override PartName="/ppt/media/image22.png" ContentType="image/png"/>
  <Override PartName="/ppt/media/image24.jpeg" ContentType="image/jpeg"/>
  <Override PartName="/ppt/media/image25.jpeg" ContentType="image/jpeg"/>
  <Override PartName="/ppt/media/image69.png" ContentType="image/png"/>
  <Override PartName="/ppt/media/image26.jpeg" ContentType="image/jpeg"/>
  <Override PartName="/ppt/media/image79.png" ContentType="image/png"/>
  <Override PartName="/ppt/media/image42.png" ContentType="image/png"/>
  <Override PartName="/ppt/media/image52.png" ContentType="image/png"/>
  <Override PartName="/ppt/media/image50.jpeg" ContentType="image/jpeg"/>
  <Override PartName="/ppt/media/image10.jpeg" ContentType="image/jpeg"/>
  <Override PartName="/ppt/media/image27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19.jpeg" ContentType="image/jpeg"/>
  <Override PartName="/ppt/media/image63.jpeg" ContentType="image/jpeg"/>
  <Override PartName="/ppt/media/image76.png" ContentType="image/png"/>
  <Override PartName="/ppt/media/image13.png" ContentType="image/png"/>
  <Override PartName="/ppt/media/image54.jpeg" ContentType="image/jpeg"/>
  <Override PartName="/ppt/media/image75.png" ContentType="image/png"/>
  <Override PartName="/ppt/media/image74.gif" ContentType="image/gif"/>
  <Override PartName="/ppt/media/image77.png" ContentType="image/png"/>
  <Override PartName="/ppt/media/image61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70.png" ContentType="image/png"/>
  <Override PartName="/ppt/media/image28.png" ContentType="image/png"/>
  <Override PartName="/ppt/media/image17.jpeg" ContentType="image/jpeg"/>
  <Override PartName="/ppt/media/image2.jpeg" ContentType="image/jpeg"/>
  <Override PartName="/ppt/media/image36.jpeg" ContentType="image/jpeg"/>
  <Override PartName="/ppt/media/image81.png" ContentType="image/png"/>
  <Override PartName="/ppt/media/image4.png" ContentType="image/png"/>
  <Override PartName="/ppt/media/image34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49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38.jpeg" ContentType="image/jpeg"/>
  <Override PartName="/ppt/media/image72.png" ContentType="image/png"/>
  <Override PartName="/ppt/media/image39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B70-6D8F-4089-A462-F52BEA2D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650-9A16-4E59-B885-5E4BF4F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46B-2A7F-4BAB-95D2-6A3AA19F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F5E-CCF9-484F-BBA2-0FCF7402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EDC-0816-4DDF-9425-76CE958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322-5F7A-4A3E-8F29-C38B136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8B7-4A23-4CAA-AAF2-D5197EA9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277-E010-4D73-9BCD-0CBB33E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2DA-2594-4466-9A35-5B327A3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9E6-3523-488E-872F-A027600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E7B-AEE3-4DC9-8B29-E52067A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242-4296-4C47-A7DD-AD1EA2C3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20C1-5923-40FE-885B-A0DD5568B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hyperlink" Target="http://images.yandex.ru/yandpage?q=1295375552&amp;p=1&amp;ag=ih&amp;rpt2=simage&amp;qs=text%3D%25D0%25C5%25DE%25C5%25CE%25D8%26isize%3D%26ogo%3D5%26rpt%3Dimage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509065792&amp;p=2&amp;ag=ih&amp;rpt2=simage&amp;qs=text%3D%25D3%25D9%25D2%26isize%3D%26ogo%3D5%26rpt%3Dimage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yandex.ru/yandpage?q=2009409472&amp;p=1&amp;ag=ih&amp;rpt2=simage&amp;qs=text%3D%25D1%25CA%25C3%25C1%26stype%3Dimage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2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3" Type="http://schemas.openxmlformats.org/officeDocument/2006/relationships/image" Target="../media/image44.jpeg"/><Relationship Id="rId4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2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image" Target="../media/image61.jpeg"/><Relationship Id="rId11" Type="http://schemas.openxmlformats.org/officeDocument/2006/relationships/image" Target="../media/image62.jpeg"/><Relationship Id="rId12" Type="http://schemas.openxmlformats.org/officeDocument/2006/relationships/image" Target="../media/image6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ookman Old Style"/>
              </a:rPr>
              <a:t>ЭЛИКСИРЫ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ue_vitamin"/>
          <p:cNvPicPr/>
          <p:nvPr/>
        </p:nvPicPr>
        <p:blipFill>
          <a:blip r:embed="rId1"/>
          <a:stretch/>
        </p:blipFill>
        <p:spPr>
          <a:xfrm>
            <a:off x="6732720" y="0"/>
            <a:ext cx="203184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3" name="Picture 6" descr="vitamine01"/>
          <p:cNvPicPr/>
          <p:nvPr/>
        </p:nvPicPr>
        <p:blipFill>
          <a:blip r:embed="rId2"/>
          <a:stretch/>
        </p:blipFill>
        <p:spPr>
          <a:xfrm>
            <a:off x="3419640" y="3213000"/>
            <a:ext cx="2644560" cy="266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4" name="Picture 7" descr="08-vitamin"/>
          <p:cNvPicPr/>
          <p:nvPr/>
        </p:nvPicPr>
        <p:blipFill>
          <a:blip r:embed="rId3"/>
          <a:stretch/>
        </p:blipFill>
        <p:spPr>
          <a:xfrm>
            <a:off x="0" y="3573360"/>
            <a:ext cx="3313080" cy="2554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5" name="WordArt 8"/>
          <p:cNvSpPr txBox="1"/>
          <p:nvPr/>
        </p:nvSpPr>
        <p:spPr>
          <a:xfrm>
            <a:off x="714240" y="2071800"/>
            <a:ext cx="46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118040" y="5670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apricot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20" name="Picture 23" descr="________________________2-116-17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21" name="Picture 26" descr="F4372i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mol_prod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30" name="Picture 17" descr="i?id=396134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31" name="Picture 19" descr="ps"/>
          <p:cNvPicPr/>
          <p:nvPr/>
        </p:nvPicPr>
        <p:blipFill>
          <a:blip r:embed="rId5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цианкобалам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332000" y="1557360"/>
            <a:ext cx="4103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иливает иммун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кровя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авление. При недостат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локачественная анем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генератив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сое, суб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ыре, устри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й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?id=209578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1873440" cy="14698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0" name="Picture 17" descr="i?id=498860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0" y="4221000"/>
            <a:ext cx="1979640" cy="1944720"/>
          </a:xfrm>
          <a:prstGeom prst="rect">
            <a:avLst/>
          </a:prstGeom>
          <a:ln w="12600">
            <a:solidFill>
              <a:srgbClr val="8dc6ff"/>
            </a:solidFill>
            <a:miter/>
          </a:ln>
        </p:spPr>
      </p:pic>
      <p:pic>
        <p:nvPicPr>
          <p:cNvPr id="141" name="Picture 20" descr="scheme_05s1044i"/>
          <p:cNvPicPr/>
          <p:nvPr/>
        </p:nvPicPr>
        <p:blipFill>
          <a:blip r:embed="rId6"/>
          <a:stretch/>
        </p:blipFill>
        <p:spPr>
          <a:xfrm>
            <a:off x="4788000" y="3473280"/>
            <a:ext cx="3039840" cy="3384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LIMON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9" name="Picture 15" descr="c1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50" name="Picture 16" descr="vitamin !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Po4375i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2627280" y="350028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vitaminD3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59" name="Picture 14" descr="d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60" name="Picture 15" descr="vitamin !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2936306B"/>
          <p:cNvPicPr/>
          <p:nvPr/>
        </p:nvPicPr>
        <p:blipFill>
          <a:blip r:embed="rId4"/>
          <a:stretch/>
        </p:blipFill>
        <p:spPr>
          <a:xfrm>
            <a:off x="108000" y="5805360"/>
            <a:ext cx="3959280" cy="1008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e1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69" name="Picture 15" descr="vitamin !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vit E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scheme_05s0911i"/>
          <p:cNvPicPr/>
          <p:nvPr/>
        </p:nvPicPr>
        <p:blipFill>
          <a:blip r:embed="rId4"/>
          <a:srcRect l="-2073" t="0" r="0" b="-183"/>
          <a:stretch/>
        </p:blipFill>
        <p:spPr>
          <a:xfrm>
            <a:off x="3924360" y="4930920"/>
            <a:ext cx="3959280" cy="1882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i?id=569851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180" name="Picture 15" descr="i?id=1243157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81" name="Picture 18" descr="Pb4378i"/>
          <p:cNvPicPr/>
          <p:nvPr/>
        </p:nvPicPr>
        <p:blipFill>
          <a:blip r:embed="rId6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8000" y="2637000"/>
            <a:ext cx="3887640" cy="1296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вертываемость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едупреждает остеопо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2556000" y="4221000"/>
            <a:ext cx="295272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зел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помидо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грубого пом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пин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k1"/>
          <p:cNvPicPr/>
          <p:nvPr/>
        </p:nvPicPr>
        <p:blipFill>
          <a:blip r:embed="rId1"/>
          <a:stretch/>
        </p:blipFill>
        <p:spPr>
          <a:xfrm>
            <a:off x="5724360" y="4365720"/>
            <a:ext cx="1954440" cy="21589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188" name="Picture 12" descr="k2"/>
          <p:cNvPicPr/>
          <p:nvPr/>
        </p:nvPicPr>
        <p:blipFill>
          <a:blip r:embed="rId2"/>
          <a:stretch/>
        </p:blipFill>
        <p:spPr>
          <a:xfrm>
            <a:off x="324000" y="4292640"/>
            <a:ext cx="2016000" cy="21607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sp>
        <p:nvSpPr>
          <p:cNvPr id="189" name="WordArt 14"/>
          <p:cNvSpPr txBox="1"/>
          <p:nvPr/>
        </p:nvSpPr>
        <p:spPr>
          <a:xfrm rot="5400000">
            <a:off x="6459120" y="4133880"/>
            <a:ext cx="381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томенад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0" name="Picture 15" descr="vitamin !"/>
          <p:cNvPicPr/>
          <p:nvPr/>
        </p:nvPicPr>
        <p:blipFill>
          <a:blip r:embed="rId3"/>
          <a:stretch/>
        </p:blipFill>
        <p:spPr>
          <a:xfrm>
            <a:off x="108000" y="79200"/>
            <a:ext cx="1276200" cy="24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scheme_05s0993i"/>
          <p:cNvPicPr/>
          <p:nvPr/>
        </p:nvPicPr>
        <p:blipFill>
          <a:blip r:embed="rId4"/>
          <a:stretch/>
        </p:blipFill>
        <p:spPr>
          <a:xfrm>
            <a:off x="4067280" y="1844640"/>
            <a:ext cx="3529080" cy="16336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i?id=593454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200" name="Picture 16" descr="arachis_hypogaea"/>
          <p:cNvPicPr/>
          <p:nvPr/>
        </p:nvPicPr>
        <p:blipFill>
          <a:blip r:embed="rId4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1" name="Picture 17" descr="Pn4367i"/>
          <p:cNvPicPr/>
          <p:nvPr/>
        </p:nvPicPr>
        <p:blipFill>
          <a:blip r:embed="rId5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vit 24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04" name="Picture 8" descr="vitamine_01"/>
          <p:cNvPicPr/>
          <p:nvPr/>
        </p:nvPicPr>
        <p:blipFill>
          <a:blip r:embed="rId2"/>
          <a:srcRect l="0" t="0" r="-294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205" name="Picture 9" descr="vitd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206" name="Picture 13" descr="i?id=251328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?id=16346845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8" name="Picture 17" descr="i?id=30408046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09" name="Picture 19" descr="image_alvityl2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210" name="Picture 20" descr="vit_big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11" name="Picture 21" descr="multi_vitamin_uvlogh_licho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12" name="Picture 23" descr="vit 10"/>
          <p:cNvPicPr/>
          <p:nvPr/>
        </p:nvPicPr>
        <p:blipFill>
          <a:blip r:embed="rId11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13" name="Picture 25" descr="i?id=33618965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0920" y="1773360"/>
            <a:ext cx="597672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88e53"/>
              </a:gs>
              <a:gs pos="100000">
                <a:srgbClr val="f66616"/>
              </a:gs>
            </a:gsLst>
            <a:lin ang="189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227664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Низкомолекулярные органические соединения различной химической природы, необходимые для осуществления важнейших процессов, протекающих в живом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1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592F513"/>
          <p:cNvPicPr/>
          <p:nvPr/>
        </p:nvPicPr>
        <p:blipFill>
          <a:blip r:embed="rId2"/>
          <a:stretch/>
        </p:blipFill>
        <p:spPr>
          <a:xfrm>
            <a:off x="6300720" y="189000"/>
            <a:ext cx="2664000" cy="22543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52" name="Picture 7" descr="DAF6C20F"/>
          <p:cNvPicPr/>
          <p:nvPr/>
        </p:nvPicPr>
        <p:blipFill>
          <a:blip r:embed="rId3"/>
          <a:stretch/>
        </p:blipFill>
        <p:spPr>
          <a:xfrm>
            <a:off x="6300720" y="4076640"/>
            <a:ext cx="2662200" cy="230364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468360" y="189000"/>
            <a:ext cx="33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итаминоз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340000" y="1341360"/>
            <a:ext cx="4680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3305"/>
                </a:solidFill>
                <a:latin typeface="Comic Sans MS"/>
              </a:rPr>
              <a:t>Виды витамин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2205000"/>
            <a:ext cx="2376360" cy="78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А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56360" y="2349360"/>
            <a:ext cx="2376360" cy="78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ГИПО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6"/>
          <p:cNvCxnSpPr>
            <a:stCxn id="215" idx="2"/>
            <a:endCxn id="216" idx="0"/>
          </p:cNvCxnSpPr>
          <p:nvPr/>
        </p:nvCxnSpPr>
        <p:spPr>
          <a:xfrm flipH="1">
            <a:off x="1799640" y="1766520"/>
            <a:ext cx="28803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219" name="AutoShape 7"/>
          <p:cNvCxnSpPr>
            <a:stCxn id="215" idx="2"/>
            <a:endCxn id="217" idx="0"/>
          </p:cNvCxnSpPr>
          <p:nvPr/>
        </p:nvCxnSpPr>
        <p:spPr>
          <a:xfrm>
            <a:off x="4680000" y="1766880"/>
            <a:ext cx="2666160" cy="573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162080" cy="2160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sp>
        <p:nvSpPr>
          <p:cNvPr id="221" name="Text Box 9"/>
          <p:cNvSpPr/>
          <p:nvPr/>
        </p:nvSpPr>
        <p:spPr>
          <a:xfrm>
            <a:off x="611280" y="306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Отсутствие в организме какого-либо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1476360" y="5805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Цинга, рахит, куриная слепота, пеллагра, 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615636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Частичная недостаточность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5867280" y="4221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Быстрая утомляемость, пониженная работоспособность, повышенная раздражимость, снижение сопротивляемости к инфе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DF986049"/>
          <p:cNvPicPr/>
          <p:nvPr/>
        </p:nvPicPr>
        <p:blipFill>
          <a:blip r:embed="rId5"/>
          <a:stretch/>
        </p:blipFill>
        <p:spPr>
          <a:xfrm>
            <a:off x="4932360" y="2565360"/>
            <a:ext cx="993600" cy="1655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6" name="Picture 14" descr="783AF9B6"/>
          <p:cNvPicPr/>
          <p:nvPr/>
        </p:nvPicPr>
        <p:blipFill>
          <a:blip r:embed="rId6"/>
          <a:stretch/>
        </p:blipFill>
        <p:spPr>
          <a:xfrm>
            <a:off x="4500720" y="4581360"/>
            <a:ext cx="1069920" cy="1079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7" name="Picture 15" descr="FD43323F"/>
          <p:cNvPicPr/>
          <p:nvPr/>
        </p:nvPicPr>
        <p:blipFill>
          <a:blip r:embed="rId7"/>
          <a:stretch/>
        </p:blipFill>
        <p:spPr>
          <a:xfrm>
            <a:off x="3564000" y="2060640"/>
            <a:ext cx="1139760" cy="1584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8" name="Picture 16" descr="no3"/>
          <p:cNvPicPr/>
          <p:nvPr/>
        </p:nvPicPr>
        <p:blipFill>
          <a:blip r:embed="rId8"/>
          <a:stretch/>
        </p:blipFill>
        <p:spPr>
          <a:xfrm>
            <a:off x="7164360" y="333360"/>
            <a:ext cx="1208160" cy="180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E2ADD0B1"/>
          <p:cNvPicPr/>
          <p:nvPr/>
        </p:nvPicPr>
        <p:blipFill>
          <a:blip r:embed="rId9"/>
          <a:stretch/>
        </p:blipFill>
        <p:spPr>
          <a:xfrm>
            <a:off x="1547640" y="4221000"/>
            <a:ext cx="2376720" cy="16192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611280" y="404640"/>
            <a:ext cx="363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витаминоз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755640" y="177336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3305"/>
                </a:solidFill>
                <a:latin typeface="Arial"/>
              </a:rPr>
              <a:t>Гипервитамин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возникает при избыточном потреблении витаминов. Проявляется в виде интоксикации (отравления)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Более токсичным действием обладают избыточные дозы жирорастворимых витаминов, так как они накапливаются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4365720"/>
            <a:ext cx="59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Гипервитаминоз очень часто наблюдается у людей, которые занимаются культуризмом – бодибилдингом и нередко без меры употребляют пищевые добавки  и витам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30p06p00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Гарфил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236000" y="474192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1D90B223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2" name="Picture 9" descr="A14B9329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3" name="Picture 10" descr="E9BF0394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4" name="Picture 11" descr="8DBF2C2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5" name="Picture 12" descr="6A0D9F7B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fruits1i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0" name="Picture 6" descr="D2EE5B2E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1" name="Picture 7" descr="D84FE241"/>
          <p:cNvPicPr/>
          <p:nvPr/>
        </p:nvPicPr>
        <p:blipFill>
          <a:blip r:embed="rId3">
            <a:lum contrast="24000"/>
          </a:blip>
          <a:srcRect l="0" t="0" r="14" b="0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0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395280" y="189000"/>
            <a:ext cx="532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витаминов 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дуктах питания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796000" y="333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Жир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1413000"/>
          <a:ext cx="8064360" cy="5186160"/>
        </p:xfrm>
        <a:graphic>
          <a:graphicData uri="http://schemas.openxmlformats.org/drawingml/2006/table">
            <a:tbl>
              <a:tblPr/>
              <a:tblGrid>
                <a:gridCol w="2881440"/>
                <a:gridCol w="1800000"/>
                <a:gridCol w="1656000"/>
                <a:gridCol w="1726920"/>
              </a:tblGrid>
              <a:tr h="4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ргарин слив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 кури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о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кукуру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ивки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3706"/>
                </a:solidFill>
                <a:latin typeface="Arial"/>
              </a:rPr>
              <a:t>Вод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476280"/>
          <a:ext cx="8785440" cy="6335640"/>
        </p:xfrm>
        <a:graphic>
          <a:graphicData uri="http://schemas.openxmlformats.org/drawingml/2006/table">
            <a:tbl>
              <a:tblPr/>
              <a:tblGrid>
                <a:gridCol w="2197080"/>
                <a:gridCol w="804960"/>
                <a:gridCol w="731880"/>
                <a:gridCol w="878040"/>
                <a:gridCol w="879480"/>
                <a:gridCol w="1098360"/>
                <a:gridCol w="949320"/>
                <a:gridCol w="1246320"/>
              </a:tblGrid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ух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веж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ёрная сморо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Апельс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емля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Фа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ше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у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белые с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суше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ш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рупа 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0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4591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9280" y="692280"/>
          <a:ext cx="8713800" cy="560844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865080"/>
                <a:gridCol w="863640"/>
                <a:gridCol w="1008000"/>
                <a:gridCol w="792360"/>
                <a:gridCol w="15127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Хлеб 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вя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ясо кро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вор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рож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0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765000"/>
          <a:ext cx="9144000" cy="61120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8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22"/>
          <p:cNvCxnSpPr>
            <a:stCxn id="58" idx="2"/>
            <a:endCxn id="56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0" name="AutoShape 23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61" name="Picture 24" descr="vit 5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6" name="Picture 8" descr="vit 16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67" name="AutoShape 12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vitamine_a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70" name="Picture 18" descr="vitamin !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K4359i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2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Picture 14" descr="b1-2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79" name="Picture 17" descr="vitamin !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i?id=169897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81" name="Picture 20" descr="В1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b2-1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90" name="Picture 13" descr="b2-2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91" name="Picture 15" descr="ы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b5-1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0" name="Picture 14" descr="drossi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1" name="Picture 15" descr="p4365i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b6-3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10" name="Picture 15" descr="ovohi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1" name="Picture 16" descr="Pp4371i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32:03Z</dcterms:created>
  <dc:creator>Lenochka</dc:creator>
  <dc:description/>
  <dc:language>en-US</dc:language>
  <cp:lastModifiedBy>Admin</cp:lastModifiedBy>
  <dcterms:modified xsi:type="dcterms:W3CDTF">2012-12-10T09:27:24Z</dcterms:modified>
  <cp:revision>87</cp:revision>
  <dc:subject/>
  <dc:title>ЭЛИКСИРЫ  ЖИЗНИ</dc:title>
</cp:coreProperties>
</file>