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12D-99D7-4B03-84FD-B5E79E70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CBF-2F62-410C-94E9-0071994F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F68A-D504-45D7-B634-1A605450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0AD-DC89-4445-B2B9-08DD1D4C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DECB-F4F4-4FF0-BCDE-12BA5390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6915-6FC5-47BC-8E74-38CB2E8A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F672-8E3C-4E08-81FF-6FF79575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BBFB-A9BF-4822-A616-00209270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A005-6C6B-40B5-8BB3-50EEEF22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3558-199A-4946-8B1B-50059F6F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1C98-1FD4-43F5-8D82-70FA3770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0FE-B185-44B6-A53C-52C2205C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3BF0-2F0E-4847-9AFF-1AE8E0FD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11A3-C2A0-4740-8EC8-7DA970A2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397E-62BF-4C4E-B482-3621D621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1DFE-D7E2-4ABF-8323-B66B7731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8D75-14F1-4359-80A7-CD171252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F1E4D-E0E5-4993-885A-C131D62F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2EC37-CE2F-46CD-BC91-D4686ED3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3D16B-4278-4044-897C-EB620D37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A482D-18CD-472E-9637-1809DA7D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856D8-852B-483F-9315-638736DB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D76A-5955-47A1-A4EC-B769A84D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508E2-D938-4F48-BAD9-F31BFD27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7FB10-7560-46F3-BF46-404BC540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16285-6EDF-46F1-BB15-47A49C14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F4BC8-9AEA-4B62-B41A-5E88D944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7F2DE-90DE-4D67-98B6-BD4B8FBC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9FC3F-81B9-4223-83D4-4C18F6D2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2DAA5-B14C-414D-A33E-6768CDB2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48FA1-523B-41D8-965A-248BB64E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CF450-3368-4E1A-A387-AD9E1CE5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5EA4A-B122-4ED4-BB72-67E530C9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FA3-FDC1-418F-A8F6-8D001FBB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73945-07AD-4EB3-BF2F-40164027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99CAD-E642-4EF8-A5BC-D02D8C4C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EFF44-E551-4629-B6FA-B1EAD342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FE0DE-54C2-45DE-BF76-E5C4816D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41353-4F14-4B5A-A77A-E1B0D074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F268E-85E4-4CE9-A40D-2D03CEA7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A15E7-D6FD-4572-BF6E-C4F2D284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1BD4B-F83C-4210-AC1C-AE56B33D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ADDC0-3BB2-4028-9321-53244EB7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7812F-7277-4FCA-8AA7-7CAE859E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C8AB-2236-4BFF-AEC5-05EAE927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48D8E-B3C9-4979-BA5F-FD6C3FD0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454A8-1B0D-4E6E-B9F9-DA811B58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66033-BB66-4AF3-90A4-2554AC7B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ACA54-DD7A-4B32-9CB2-8A1F59F4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1DBF2-7070-4D06-B45C-E03674F6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B25FA-339A-4D9D-9F28-C7C07CFD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8CD15-F946-4BCA-8E43-270B681B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E25DB-D986-4D64-89E3-76F2EEF8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70572-FD59-4B3D-806B-FAB7A8F7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0BABF-9EBF-4E30-8FFE-21DC78B7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C44A-5F33-464D-82FF-3286F8B3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22019-BBFA-4D76-AC9B-545FC66B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A6564-3F5D-4DFB-A7A1-6DA61A9C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6E828-51EA-45CD-800F-1F1113D1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45573-9ECD-4637-8E63-BB1FF224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1B75A-F270-4367-8A4E-770983EA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BF77A-ADE6-43C1-BAA0-AE1F5CA4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B30BE-DABF-4414-9DFD-05548C3D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875A9-0FBE-4CF9-A5DD-0F984324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13635-810F-4C79-A6C5-3FE83F22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03E68-EB6E-46DF-BD3D-0005C44E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998-45E3-4DDA-A53B-19854B17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B0C33-09AB-4E3F-84FE-110CD163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520D5-18A1-40E8-BBBA-99AEF629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3342E-0AE6-407F-8E03-1BCEBC39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B02B5-B719-42B9-A5B8-C9FAE304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118F9-56A9-4B22-A520-7E9121E1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3363F-5625-45F6-9F27-7098574A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C9D82-4953-4AB1-BAE9-A662EC4D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BFF28-7E42-48FC-AC0F-31D78229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19753-7828-4A31-9817-C4F1F97B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09E46-42A9-43C5-99D6-24CCAC9E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F376-D063-47E1-B59F-57EF113F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F1DA1-3050-493C-90CD-04C8DF67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F7BE6-E97E-4ACE-91B4-384A70AA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BC1D8-6564-49C5-9587-FC0108D0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6807F-3693-471E-A1F3-F680917F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EF13D-64BB-4874-946E-7F256A5A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EE9-8EC7-490C-8A09-87923E74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88D1-5E5F-41C1-87BD-B24E27337E5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AB29-F13E-4C20-9397-DC92783B083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B9C0-B5CA-46E4-A0AE-46C5252F26D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5028-EEC2-4B42-BF44-96CBF7C6789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9B3C-4183-4532-9A83-A1742FAC704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4D60-CDC1-4D23-B79B-90B3F783CEF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1598-DC18-42F0-AF65-DA723E14258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32"/>
            </a:gs>
            <a:gs pos="50000">
              <a:srgbClr val="ffffff"/>
            </a:gs>
            <a:gs pos="100000">
              <a:srgbClr val="32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371240" y="5429160"/>
            <a:ext cx="3700440" cy="46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79766f"/>
                </a:solidFill>
                <a:latin typeface="Verdana"/>
              </a:rPr>
              <a:t>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WordArt 4"/>
          <p:cNvSpPr txBox="1"/>
          <p:nvPr/>
        </p:nvSpPr>
        <p:spPr>
          <a:xfrm>
            <a:off x="1692360" y="1844640"/>
            <a:ext cx="6408720" cy="27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гормоны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Пептидные гормоны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птидные гормоны имеют более простое строение, чем белковые. При этом их мономером, как известно, так же являются альфа аминокислоты. Представитель: биохимический и функциональный антипо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улина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юкаго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Составные части эндокринной системы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00040" y="499680"/>
            <a:ext cx="4354560" cy="3071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Гуморальная система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состоит из восьми частей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Гипоталамус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Гипофи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Эпифи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Щитовидная железа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Паращитовидные железы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Надпочечник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Бета-клетки (островки Лангерганса) поджелудочной железы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Половые железы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5" descr="post-18-1151496150"/>
          <p:cNvPicPr/>
          <p:nvPr/>
        </p:nvPicPr>
        <p:blipFill>
          <a:blip r:embed="rId1"/>
          <a:stretch/>
        </p:blipFill>
        <p:spPr>
          <a:xfrm>
            <a:off x="5000760" y="674640"/>
            <a:ext cx="3429000" cy="446904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5"/>
          <p:cNvSpPr/>
          <p:nvPr/>
        </p:nvSpPr>
        <p:spPr>
          <a:xfrm flipV="1" rot="10800000">
            <a:off x="1071720" y="3364560"/>
            <a:ext cx="37144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Общий вес этих органов не превышает 100 г, а количество выделяемых ими биологически активных веществ измеряется десятитысячными долями миллиграмма! Способность оказывать мощное воздействие на организм в ничтожно малых концентрациях - главная особенность гормонов. Например, грамма инсулина достаточ­но, чтобы снизить уровень сахара в крови 125 тыс. кроликов</a:t>
            </a: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Эндокринный мозг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13880" y="642960"/>
            <a:ext cx="4211640" cy="3643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Гипоталамус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ходится в самой середине мозга, под зрительными буграми. Эта часть мозга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есом в полграмм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ординирует работу всей гуморальной системы, вырабатывая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пециальные нейрогормоны рилизинг-факторы и ингибитор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 Первые поступая с током крови в гипофиз служат сигналом для синтеза более сложных гормонов, которые в свою очередь активируют какую-либо железу внутренней секреции. Ингибиторы же затормаживают эндокринную активность гипофиз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ак же в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гипоталамус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интезируются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вазопрессин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окситоцин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отвечающие за водно-солевой баланс и поддержание тонуса сосудов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2" name="Picture 11" descr=""/>
          <p:cNvPicPr/>
          <p:nvPr/>
        </p:nvPicPr>
        <p:blipFill>
          <a:blip r:embed="rId1"/>
          <a:stretch/>
        </p:blipFill>
        <p:spPr>
          <a:xfrm>
            <a:off x="4633200" y="2642400"/>
            <a:ext cx="1366920" cy="2436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гипот"/>
          <p:cNvPicPr/>
          <p:nvPr/>
        </p:nvPicPr>
        <p:blipFill>
          <a:blip r:embed="rId2"/>
          <a:stretch/>
        </p:blipFill>
        <p:spPr>
          <a:xfrm>
            <a:off x="5786280" y="500040"/>
            <a:ext cx="2686320" cy="54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Эпифиз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42960" y="1213920"/>
            <a:ext cx="4214880" cy="3643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Эпифиз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(шишковидная железа) верхний мозговой придаток. Предполагается, что эпифиз вырабатывает ряд биологически активных веществ, которые регулируют деятельность иммунной системы, рост, половое созревание, водно-солевой и пигментный обмен. Их химическое строение и роль в организме до конца не изучены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Больше всего сведений на сегодняшний день о </a:t>
            </a: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Verdana"/>
              </a:rPr>
              <a:t>мелатонине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. Это, так называемый, гормон молодости, устанавливающий биологические ритмы организма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Picture 8" descr="эпифиз"/>
          <p:cNvPicPr/>
          <p:nvPr/>
        </p:nvPicPr>
        <p:blipFill>
          <a:blip r:embed="rId1"/>
          <a:stretch/>
        </p:blipFill>
        <p:spPr>
          <a:xfrm>
            <a:off x="4929120" y="785880"/>
            <a:ext cx="3554640" cy="46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Щитовидная желез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2920" y="642960"/>
            <a:ext cx="4211640" cy="4075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Щитовидная желез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рабатывает три важных гормона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ирокс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рийодотиран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иреокальцетони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Последний гормон участвует в обмене кальция, происходящем в организме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ирокс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рийодотиран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гулируют процессы роста и развития, влияют на нервную систему, сердце и половые железы, повышают интенсивность обмена веществ, в частности окислительных реакций, проходящих с выделением тепл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щитовид"/>
          <p:cNvPicPr/>
          <p:nvPr/>
        </p:nvPicPr>
        <p:blipFill>
          <a:blip r:embed="rId1"/>
          <a:stretch/>
        </p:blipFill>
        <p:spPr>
          <a:xfrm>
            <a:off x="4786200" y="714240"/>
            <a:ext cx="388008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Паращитовидные железы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03280" y="785880"/>
            <a:ext cx="4068720" cy="335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аращитовидные железы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рабатывают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аратероидны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ормон, регулирующий обмен кальция и фосфора, от интенсивности которых зависят нервных импульсов, образование костной ткани, сокращение мышц и многое друго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6" descr="паращит"/>
          <p:cNvPicPr/>
          <p:nvPr/>
        </p:nvPicPr>
        <p:blipFill>
          <a:blip r:embed="rId1"/>
          <a:stretch/>
        </p:blipFill>
        <p:spPr>
          <a:xfrm>
            <a:off x="4468680" y="928800"/>
            <a:ext cx="353376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Надпочечники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02920" y="928800"/>
            <a:ext cx="3568680" cy="335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Надпочечник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стоят из мозгового вещества и коры. Гормоны коры надпочечников,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кортикостероид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отвечают за адаптацию к проявлениям среды, в частности к холод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зговой слой вырабатывает два гормона: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адреналин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норадренали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Они регулируют функцию сердечно-сосудистой системы и влияют на обмен, прежде всего углев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7" descr="надпоч"/>
          <p:cNvPicPr/>
          <p:nvPr/>
        </p:nvPicPr>
        <p:blipFill>
          <a:blip r:embed="rId1"/>
          <a:stretch/>
        </p:blipFill>
        <p:spPr>
          <a:xfrm>
            <a:off x="4357800" y="1063800"/>
            <a:ext cx="3786120" cy="372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Бета-клетки (островки Лангерганса) поджелудочной железы.</a:t>
            </a: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02920" y="428760"/>
            <a:ext cx="4282920" cy="335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рабатывает два гормона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инсули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глюкого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Соответственно, первый снижает уровень глюкозы в крови, второй гормон его повышае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6" descr="поджелуд"/>
          <p:cNvPicPr/>
          <p:nvPr/>
        </p:nvPicPr>
        <p:blipFill>
          <a:blip r:embed="rId1"/>
          <a:stretch/>
        </p:blipFill>
        <p:spPr>
          <a:xfrm>
            <a:off x="4714920" y="12859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Половые железы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02920" y="571680"/>
            <a:ext cx="3568680" cy="4286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половой принадлеж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Эстрогены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рогестерон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славливают появление женских половых призна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Андроген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тестостерон)– мужски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6" descr=""/>
          <p:cNvPicPr/>
          <p:nvPr/>
        </p:nvPicPr>
        <p:blipFill>
          <a:blip r:embed="rId1"/>
          <a:stretch/>
        </p:blipFill>
        <p:spPr>
          <a:xfrm>
            <a:off x="4857840" y="714240"/>
            <a:ext cx="3429000" cy="478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Verdana"/>
              </a:rPr>
              <a:t>Гармоничный баланс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Verdana"/>
              </a:rPr>
              <a:t>В нормальном состоянии существует гармоничный баланс между активностью эндокринных желез, состоянием нервной системы и ответом тканей-мишеней (тканей, на которые направлено воздействие). Любое нарушение в каждом из этих звеньев быстро приводит к отклонениям от нормы. Избыточная или недостаточная продукция гормонов служит причиной различных заболеваний, сопровождающихся глубокими химическими изменениями в организме.</a:t>
            </a:r>
            <a:r>
              <a:rPr b="0" lang="ru-RU" sz="2800" spc="-1" strike="noStrike">
                <a:solidFill>
                  <a:srgbClr val="0d0d0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7168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Гормоны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 биологически активные вещества, вырабатываемые железами внутренней секреции,  регулирующие деятельность органов и тканей организм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Роль гормонов велика. Эти вещества влияют практически на все процессы, происходящие в организме, сохраняя внутреннюю стабильность среды (гомеостаза), противостояние отрицательным внешним воздействия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Прямоугольник 3"/>
          <p:cNvSpPr/>
          <p:nvPr/>
        </p:nvSpPr>
        <p:spPr>
          <a:xfrm>
            <a:off x="1714680" y="4572000"/>
            <a:ext cx="6000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Термин «гормоны» введён англ. физиологами У. Бейлиссом и Э. Старлингом в 1902 г.. Известно более 30 гормонов, выделяемых эндокринными железами млекопитающих и человека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Нарушение функций гипофиз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9f25"/>
                </a:solidFill>
                <a:latin typeface="Verdana"/>
              </a:rPr>
              <a:t>ГИГАНТИЗМ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гипофизарный) - аномальный рост человека, превышающий норму. Вызывается нарушением деятельности желез внутренней секреции (главным образом гипофиза, щитовидной и половых желез). При частичном гигантизме увеличены пальцы, кисти, стопы, череп. При гипофункции гипофиза возникают </a:t>
            </a:r>
            <a:r>
              <a:rPr b="0" lang="ru-RU" sz="2000" spc="-1" strike="noStrike">
                <a:solidFill>
                  <a:srgbClr val="6b9f25"/>
                </a:solidFill>
                <a:latin typeface="Verdana"/>
              </a:rPr>
              <a:t>ГИПОФИЗАРНЫЕ ЛИЛИПУ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9f25"/>
                </a:solidFill>
                <a:latin typeface="Verdana"/>
              </a:rPr>
              <a:t>АКРОМЕГАЛ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от греч. akron — конечность и megas, род. п. megalu — большой), эндокринное заболевание, обусловленное избыточной продукцией гормона роста. Возникает преимущественно после завершения роста организма: увеличение конечностей, нижней челюсти и т. 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Фото слева: Гипофизарный гигант, рядом женщины нормального роста.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Фото справа: Разрастание котей лицевого черепа при акромегалии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77" name="Picture 6" descr="S7002592"/>
          <p:cNvPicPr/>
          <p:nvPr/>
        </p:nvPicPr>
        <p:blipFill>
          <a:blip r:embed="rId1"/>
          <a:stretch/>
        </p:blipFill>
        <p:spPr>
          <a:xfrm>
            <a:off x="1571760" y="2071800"/>
            <a:ext cx="58579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Известны случаи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3000"/>
          </a:bodyPr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искусственном введении гормона роста детям, страдающим недостаточностью функции гипофиза, их рост увеличивался в течение 6 месяцев на 5-6 с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гиперфункции гипофиза рост превышает 2 м. Римский император Максимиллиан был ростом 2,5 м, а русский крестьянин Махнов – 2.85 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 женщин наибольший рост отмечен у швейцарки Амы – 2,35 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гипетская карлица Агибе имела рост 38 с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рушение функций щитовидной желез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07f09"/>
                </a:solidFill>
                <a:latin typeface="Tahoma"/>
              </a:rPr>
              <a:t>Базедова болезнь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- эндокринное заболевание, обусловленное повышенной функцией щитовидной железы, избыточно выделяющей тироксин, что приводит к тиреотоксикозу. Основные симптомы: зоб, пучеглазие, тахикардия, повышение основного обмена, исхудан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07f09"/>
                </a:solidFill>
                <a:latin typeface="Tahoma"/>
              </a:rPr>
              <a:t>МИКСЕДЕМА или СЛИЗИСТЫЙ ОТЁК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(от греч. myxa — слизь и oidema — опухание, отек), эндокринное заболевание, обусловленное врожденным или приобретенным нарушением функции щитовидки. Признаки: отек кожи и подкожной клетчатки, выпадение волос, вялость, снижение умственных способност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07f09"/>
                </a:solidFill>
                <a:latin typeface="Tahoma"/>
              </a:rPr>
              <a:t>КРЕТИНИЗМ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(от франц. cretin — слабоумный, кретин), эндокринное заболевание — недостаточная функция щитовидной железы, задержка физического и психического развития; главным образом в горных районах с недостатком иода в воде или как наследственная патолог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6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ahoma"/>
              </a:rPr>
              <a:t>Если нарушен синтез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6b9f25"/>
                </a:solidFill>
                <a:latin typeface="Verdana"/>
              </a:rPr>
              <a:t>ИНСУЛИНА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сулин — универсальный анаболический гормон. Он не только понижает содержание сахара в крови, но, задерживая распад гликогена, увеличивает использование глюкозы клет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ким образом, гормоны поджелудочной железы контролируют снабжение клеток и тканей глюкозой, поддерживают ее постоянный гомеостатический уровень в крови. Они регулируют также жировой обмен, так как углеводы и липиды могут превращаться друг в друг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b9f25"/>
                </a:solidFill>
                <a:latin typeface="Verdana"/>
              </a:rPr>
              <a:t>ДИАБЕТ САХАРНЫ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diabetes mellitus; синоним: сахарная болезнь, сахарное мочеизнурение), болезнь обмена веществ, при котором, в первую очередь, нарушается углеводный обмен. Это заболевание характеризуется поражением всех внутренних органов с изменением их функциональной способ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ахарный диабет — это болезнь, которая стала </a:t>
            </a:r>
            <a:r>
              <a:rPr b="0" lang="ru-RU" sz="1800" spc="-1" strike="noStrike">
                <a:solidFill>
                  <a:srgbClr val="6b9f25"/>
                </a:solidFill>
                <a:latin typeface="Verdana"/>
              </a:rPr>
              <a:t>бичом ве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— она охватывает 3% населения земного шара. Среди других заболеваний сахарный диабет </a:t>
            </a:r>
            <a:r>
              <a:rPr b="0" lang="ru-RU" sz="1800" spc="-1" strike="noStrike">
                <a:solidFill>
                  <a:srgbClr val="6b9f25"/>
                </a:solidFill>
                <a:latin typeface="Verdana"/>
              </a:rPr>
              <a:t>занимает 3-е место по смертн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6%) после сердечно-сосудистых (51%) и онкологических (17%) заболева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Применение и значени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6140520" y="714240"/>
            <a:ext cx="2444760" cy="464364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5"/>
          <p:cNvSpPr/>
          <p:nvPr/>
        </p:nvSpPr>
        <p:spPr>
          <a:xfrm>
            <a:off x="500040" y="1285920"/>
            <a:ext cx="528624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ормоны – важнейший элемент жизни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болевания эндокринной системы приводят к тяжелейшим патологиям и, нередко, смерти. Интегрированное химико-биологическое исследование этого класса органических соединений открывает огромные перспективы  по созданию лекарств, не имеющих побочных эффектов, совершенствованию технологий генной инженерии и во многих других отрас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4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Механизм действия гормонов</a:t>
            </a:r>
            <a:br>
              <a:rPr sz="40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5840" y="499680"/>
            <a:ext cx="8501040" cy="6024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Гормоны действуют на органы избирательно, это объясняется тем, что клетки определенных органов содержат специальные образования - 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рецепторы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Органы или клетки, на которые действует конкретный гормон, называют 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органами-мишенями или клетками-мишенями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. Во внеклеточной жидкости содержится множество разнообразных соединений, но рецепторы узнают лишь очень немногие из них. Кроме того, рецепторы должны выбрать определенные молекулы из множества других, присутствующих в более высокой концентрации.  Каждая клетка может нести либо один тип рецепторов, либо нескольк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6" descr="Безымянный"/>
          <p:cNvPicPr/>
          <p:nvPr/>
        </p:nvPicPr>
        <p:blipFill>
          <a:blip r:embed="rId1"/>
          <a:stretch/>
        </p:blipFill>
        <p:spPr>
          <a:xfrm>
            <a:off x="714240" y="3176640"/>
            <a:ext cx="75470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7858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ТИПЫ РЕАЛИЗАЦИИ ГОРМОНАЛЬНОГО ДЕЙСТВ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3880" y="1214280"/>
            <a:ext cx="7643880" cy="4786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Мембранный тип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. При взаимодействии гормона с клеточной мембраной изменяется ее проницаемость для определенных веществ. Так под действием инсулина активируются системы транспорта глюкозы и она начинает активно проникать в клет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При 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мембранно-клеточном типе 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гормон не проникая в клетку, а влияет на ее обмен через своего посредника (вторичного 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мессендже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а, первичный - сам гормон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Цитозольный</a:t>
            </a:r>
            <a:r>
              <a:rPr b="0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механизм (или 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ядерный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) свойственен липофильным белкам - стероидам. Они проникают через клеточную мембрану в цитозоль и соединяются с внутриклеточными рецепторами. Комплекс гормон-рецептор проникает в ядро клетки, где избирательно влияет на активность генома, это приводит к снижению или активации синтеза определенных ферментов, что приводит к изменению скорости или направления определенных реакц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Смешанный тип</a:t>
            </a:r>
            <a:r>
              <a:rPr b="0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- присущ йодтиронинам (гормонам щитовидной железы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20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2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2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2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Классификация гормон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уществует две основные классифик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900000" y="2781360"/>
            <a:ext cx="3240360" cy="1368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 железам внутренней секреции продуцирующим гормо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5003640" y="2781360"/>
            <a:ext cx="3745080" cy="1368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 химической приро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трелка вниз 10"/>
          <p:cNvSpPr/>
          <p:nvPr/>
        </p:nvSpPr>
        <p:spPr>
          <a:xfrm>
            <a:off x="2286000" y="1714680"/>
            <a:ext cx="1913040" cy="857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трелка вниз 11"/>
          <p:cNvSpPr/>
          <p:nvPr/>
        </p:nvSpPr>
        <p:spPr>
          <a:xfrm>
            <a:off x="4857840" y="1714680"/>
            <a:ext cx="1490400" cy="928440"/>
          </a:xfrm>
          <a:prstGeom prst="downArrow">
            <a:avLst>
              <a:gd name="adj1" fmla="val 4637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Классификация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по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химической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природе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326" name="Diagram 7"/>
          <p:cNvGrpSpPr/>
          <p:nvPr/>
        </p:nvGrpSpPr>
        <p:grpSpPr>
          <a:xfrm>
            <a:off x="3853800" y="3240720"/>
            <a:ext cx="1891080" cy="1163880"/>
            <a:chOff x="3853800" y="3240720"/>
            <a:chExt cx="1891080" cy="1163880"/>
          </a:xfrm>
        </p:grpSpPr>
        <p:sp>
          <p:nvSpPr>
            <p:cNvPr id="327" name="_s1028"/>
            <p:cNvSpPr/>
            <p:nvPr/>
          </p:nvSpPr>
          <p:spPr>
            <a:xfrm>
              <a:off x="3853800" y="3240720"/>
              <a:ext cx="1891080" cy="11638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ормон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18"/>
          <p:cNvSpPr/>
          <p:nvPr/>
        </p:nvSpPr>
        <p:spPr>
          <a:xfrm>
            <a:off x="3357720" y="2000160"/>
            <a:ext cx="2366640" cy="92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3286080" y="5214960"/>
            <a:ext cx="25210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пт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0"/>
          <p:cNvSpPr/>
          <p:nvPr/>
        </p:nvSpPr>
        <p:spPr>
          <a:xfrm>
            <a:off x="642960" y="3714840"/>
            <a:ext cx="25210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инокисл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1"/>
          <p:cNvSpPr/>
          <p:nvPr/>
        </p:nvSpPr>
        <p:spPr>
          <a:xfrm>
            <a:off x="6000840" y="3429000"/>
            <a:ext cx="25207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4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ро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3"/>
          <p:cNvSpPr/>
          <p:nvPr/>
        </p:nvSpPr>
        <p:spPr>
          <a:xfrm>
            <a:off x="4500720" y="2924280"/>
            <a:ext cx="0" cy="576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4"/>
          <p:cNvSpPr/>
          <p:nvPr/>
        </p:nvSpPr>
        <p:spPr>
          <a:xfrm>
            <a:off x="3000240" y="3929040"/>
            <a:ext cx="7207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>
            <a:off x="4643280" y="4572000"/>
            <a:ext cx="0" cy="7920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7"/>
          <p:cNvSpPr/>
          <p:nvPr/>
        </p:nvSpPr>
        <p:spPr>
          <a:xfrm>
            <a:off x="5715000" y="3929040"/>
            <a:ext cx="79200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5286240"/>
            <a:ext cx="8183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Стероидные гормон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ероидные гормоны обладают сложной циклической структурой. Например: тестестерон, наиболее важный представитель андрогенов(мужские половые гормоны) и эстроген (женский половой гормон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6" descr=""/>
          <p:cNvPicPr/>
          <p:nvPr/>
        </p:nvPicPr>
        <p:blipFill>
          <a:blip r:embed="rId1"/>
          <a:stretch/>
        </p:blipFill>
        <p:spPr>
          <a:xfrm>
            <a:off x="1143000" y="2857680"/>
            <a:ext cx="6807240" cy="23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Гормоны производные аминокислот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03280" y="529920"/>
            <a:ext cx="8183520" cy="568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рмоны производные аминокислот имеют относительно простое строение, что, однако не умаляет их значения в организме. Наиболее известные представители: адреналин, норадреналин, тирокси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руктурная формула адренали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rcRect l="4475" t="7870" r="0" b="11991"/>
          <a:stretch/>
        </p:blipFill>
        <p:spPr>
          <a:xfrm>
            <a:off x="3214800" y="3214800"/>
            <a:ext cx="522576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Белковые гормоны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лковые гормоны обладаю характерными для белков свойствами: большой относительной молекулярной массой, способностью формирования первичной, вторичной, третичной и четвертичной пространственных структур и т.д. Самый известный представитель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сули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Этот гормон стал первым белком, который удалось синтезировать химическим пут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7:40:46Z</dcterms:created>
  <dc:creator>1</dc:creator>
  <dc:description/>
  <dc:language>en-US</dc:language>
  <cp:lastModifiedBy>Admin</cp:lastModifiedBy>
  <dcterms:modified xsi:type="dcterms:W3CDTF">2012-02-13T15:55:44Z</dcterms:modified>
  <cp:revision>17</cp:revision>
  <dc:subject/>
  <dc:title>Г</dc:title>
</cp:coreProperties>
</file>