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8101-6757-4208-B378-86EA06B170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9870-E817-41DC-9088-503B50B404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831F-0461-4A32-970A-90399BC3E3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1ED3-7E8A-43C7-BFF3-BE5285A3F1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CEE9-8ABB-44B6-A389-9834D98A07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4B67-9E6F-44FD-9D10-9623017F96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DC14-EF25-4D3F-AED2-EC48FCC307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ECA6-EDB2-45B3-8EC9-3F2433CC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8E8B-2AAA-45EB-AE54-2566C594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18DC-5813-43F9-8084-8504C0E0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771-85C0-42EB-950A-A35D2B0F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87AA-51AF-4A26-9323-07A864E7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4B48-1813-4F75-A011-BE9E1744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4B86-843E-4E91-80D2-10A42E72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7B25-B403-44CE-9711-504192FA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E892-4B91-4281-AF59-9ED0CDBA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6460-6D6F-475A-A700-53AB2F0C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A514-444E-4BF4-B72D-8714AC9A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0543-BA5E-4101-BFF6-93865C3C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6C8B-9DDA-4767-9773-BD92B314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3A9C-B497-4D03-A31C-4419BE71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EEC6-5BD9-4E9E-B308-78411F53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3984-1B33-4569-B3A2-A2FE9603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D72C-6EB3-4023-8B4F-8720BC3C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91E-20A4-41EB-9206-33BAF3C4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96AA-E397-4922-8143-A251C909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454E-1F3A-4D24-9546-7E0AE0BA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E537-97B7-4748-B7C7-7A412CF6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431-3C91-43B4-A090-68640367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0905-29B2-40B0-8538-ED8B3BA3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20DE-4C71-4227-85B1-E0751A8F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C5C4-EB3B-4C18-BAC5-C00D18FB08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2133-C7D4-4BD7-A91C-3F8F4D67AA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ЕР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00720" y="1071720"/>
            <a:ext cx="44640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ерменты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нзимы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органические катализаторы белковой природы, которые ускоряют реакции, необходимые для функционирования живых организм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480px-Purine_Nucleoside_Phosphorylase"/>
          <p:cNvPicPr/>
          <p:nvPr/>
        </p:nvPicPr>
        <p:blipFill>
          <a:blip r:embed="rId1"/>
          <a:stretch/>
        </p:blipFill>
        <p:spPr>
          <a:xfrm>
            <a:off x="285840" y="1000080"/>
            <a:ext cx="3643200" cy="2257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enzymes"/>
          <p:cNvPicPr/>
          <p:nvPr/>
        </p:nvPicPr>
        <p:blipFill>
          <a:blip r:embed="rId2"/>
          <a:stretch/>
        </p:blipFill>
        <p:spPr>
          <a:xfrm>
            <a:off x="214200" y="3571920"/>
            <a:ext cx="3571920" cy="2643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332073450"/>
          <p:cNvPicPr/>
          <p:nvPr/>
        </p:nvPicPr>
        <p:blipFill>
          <a:blip r:embed="rId3"/>
          <a:stretch/>
        </p:blipFill>
        <p:spPr>
          <a:xfrm>
            <a:off x="4786200" y="4500720"/>
            <a:ext cx="37260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59A4-90B5-486E-8CB5-CAAAD26CF1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тличия ферментов от небиологических катализаторов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дивительная эффективность ферментов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539640" y="126828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00000" y="3573360"/>
          <a:ext cx="7632720" cy="1965600"/>
        </p:xfrm>
        <a:graphic>
          <a:graphicData uri="http://schemas.openxmlformats.org/drawingml/2006/table">
            <a:tbl>
              <a:tblPr/>
              <a:tblGrid>
                <a:gridCol w="3996000"/>
                <a:gridCol w="36367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Фермен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Число оборотов</a:t>
                      </a: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 </a:t>
                      </a:r>
                      <a:br>
                        <a:rPr sz="2100"/>
                      </a:b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 мин при 37°С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арбоангидраз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36 000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 w="13680">
                      <a:solidFill>
                        <a:srgbClr val="00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Амилаз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 100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Фосфоглюкомутаз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>
                      <a:noFill/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 2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26"/>
          <p:cNvSpPr/>
          <p:nvPr/>
        </p:nvSpPr>
        <p:spPr>
          <a:xfrm>
            <a:off x="938160" y="2984400"/>
            <a:ext cx="65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оборотов некоторых ферм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D0C3-5794-468D-A82C-54E961551A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99"/>
                </a:solidFill>
                <a:latin typeface="Arial"/>
              </a:rPr>
              <a:t>Коферменты и витамины</a:t>
            </a:r>
            <a:r>
              <a:rPr b="0" lang="ru-RU" sz="3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539640" y="1125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68360" y="1268280"/>
          <a:ext cx="8542440" cy="4846680"/>
        </p:xfrm>
        <a:graphic>
          <a:graphicData uri="http://schemas.openxmlformats.org/drawingml/2006/table">
            <a:tbl>
              <a:tblPr/>
              <a:tblGrid>
                <a:gridCol w="1871640"/>
                <a:gridCol w="3141720"/>
                <a:gridCol w="3529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оферментная 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ип катализируемой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одорастворимые витам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иамин (В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иаминпирофосф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Декарбоксилирование </a:t>
                      </a:r>
                      <a:r>
                        <a:rPr b="1" i="1" lang="en-US" sz="1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-кетокисл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ибофлавин (В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Флавинмононуклеотид, флавинадениндинуклеот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Окислительно-восстановительные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икотиновая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исло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икотинамидаденин-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динуклеотид,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икотинамид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адениндинуклеотидфосф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Окислительно-восстановительные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антотеновая кисло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офермент (коэнзим)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ацильных гру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иридоксин (В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иридоксальфосф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аминогру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Биотин (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H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Биотиц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СО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Фолиевая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ис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етрагидрофол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одноуглеродных гру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В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Дезоксиаденозилкобал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связанного с углеродом атома водорода на соседний атом угле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Аскорбиновая кислота (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е извес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еакции гидроксил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DF1C-3C8B-438C-99D7-D37283A6D7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99"/>
                </a:solidFill>
                <a:latin typeface="Arial"/>
              </a:rPr>
              <a:t>Коферменты и витамины</a:t>
            </a:r>
            <a:r>
              <a:rPr b="0" lang="ru-RU" sz="3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"/>
          <p:cNvSpPr/>
          <p:nvPr/>
        </p:nvSpPr>
        <p:spPr>
          <a:xfrm>
            <a:off x="539640" y="1125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1681200"/>
          <a:ext cx="8496360" cy="2212920"/>
        </p:xfrm>
        <a:graphic>
          <a:graphicData uri="http://schemas.openxmlformats.org/drawingml/2006/table">
            <a:tbl>
              <a:tblPr/>
              <a:tblGrid>
                <a:gridCol w="1582560"/>
                <a:gridCol w="3673440"/>
                <a:gridCol w="32403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оферментная 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ип катализируемой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Жирорастворимые витам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етин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Зрительный проце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,25-Дигидроксихолекальцифер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егуляция обмена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е извес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Защита мембранных липи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е извес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еакции декарбоксил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7"/>
          <p:cNvSpPr/>
          <p:nvPr/>
        </p:nvSpPr>
        <p:spPr>
          <a:xfrm>
            <a:off x="971640" y="98100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ловия действия фермен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900000" y="2276640"/>
            <a:ext cx="6551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пература 30 –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кция среды (р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бирательность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свой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способны к растворению в воде и образованию коллоидных раствор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увеличивают скорость реак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не расходуются в реа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амфотер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их присутствие не влияет на свойства продуктов реа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характерно протекание цветных реакц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изменяют энергию активации, при которой может произойти реакц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не изменяют сколько-нибудь значительно температуру, при которой происходит реак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способны к денатурации и гидрол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ецифические свой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очетание высочайшей активности с соблюдением строгого ряда усло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пецифичность действия по принципу «ключ – замок» или «рука – перчатка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таби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Обратимость действ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Е +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 ↔ ES → E + P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,г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Е – энзим;      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S –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убстрат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 – продукт реак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ES –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фермент-субстратный компле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ль ферментов в жизнедеятельности организм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Врожденные нарушения обме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Взаимопревращения веще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Биохимическая револю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Превращение энерг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Биосинте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Фармаколог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Ультраструктура мембра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Генетический аппара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Пит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Клеточный метаболиз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Катали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Физиологическая регуля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Бактериальное бро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33FB-B31E-4CC4-A8AF-C866815575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лассификация энзимов – </a:t>
            </a:r>
            <a:br>
              <a:rPr sz="3400"/>
            </a:b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Е.С. (</a:t>
            </a:r>
            <a:r>
              <a:rPr b="1" lang="en-US" sz="3400" spc="-1" strike="noStrike">
                <a:solidFill>
                  <a:srgbClr val="000099"/>
                </a:solidFill>
                <a:latin typeface="Arial"/>
              </a:rPr>
              <a:t>Enzyme Classification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539640" y="141300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5" descr=""/>
          <p:cNvPicPr/>
          <p:nvPr/>
        </p:nvPicPr>
        <p:blipFill>
          <a:blip r:embed="rId1"/>
          <a:stretch/>
        </p:blipFill>
        <p:spPr>
          <a:xfrm>
            <a:off x="395280" y="1960560"/>
            <a:ext cx="84978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002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ферме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890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типу катализируемых реакций ферменты подразделяются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 класс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иерархической классификации ферментов. Классификация была предложена Международным союзом биохимии и молекулярной биологии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класс содержит подкласс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img406"/>
          <p:cNvPicPr/>
          <p:nvPr/>
        </p:nvPicPr>
        <p:blipFill>
          <a:blip r:embed="rId1"/>
          <a:stretch/>
        </p:blipFill>
        <p:spPr>
          <a:xfrm>
            <a:off x="3429000" y="689040"/>
            <a:ext cx="555480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дицинское 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42600" y="928440"/>
            <a:ext cx="5643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ь межд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рментами и наследственными болезня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мена веществ была впервые установле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Гэрродом в 1910-е г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Гэррод назвал заболевания, связанные с дефектами ферментов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ожденными ошибками метаболиз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роисходит мутация в гене, кодирующем определенный фермент, может измениться аминокислотная последовательность фермента. При этом в результате большинства мутаций его каталитическая активность снижается или полностью пропадает. Если организм получает два таких мутантных гена (по одному от каждого из родителей), в организме перестает идти химическая реакция, которую катализирует данный фермент. Например, появле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ьбино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язано 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кращением выработки фермента тирозиназ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вечающего за одну из стадий синтез темного пигмента меланин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нилкетону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яза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ониженной или отсутствующей активностью фермента фенилаланин-4-гидроксилазы в пече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46827_w640_h640_183707e36a3dafce6f1a6e0261"/>
          <p:cNvPicPr/>
          <p:nvPr/>
        </p:nvPicPr>
        <p:blipFill>
          <a:blip r:embed="rId1"/>
          <a:stretch/>
        </p:blipFill>
        <p:spPr>
          <a:xfrm>
            <a:off x="5786280" y="2571840"/>
            <a:ext cx="1571760" cy="32860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9"/>
          <p:cNvSpPr/>
          <p:nvPr/>
        </p:nvSpPr>
        <p:spPr>
          <a:xfrm>
            <a:off x="395280" y="6237360"/>
            <a:ext cx="26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ferment"/>
          <p:cNvPicPr/>
          <p:nvPr/>
        </p:nvPicPr>
        <p:blipFill>
          <a:blip r:embed="rId2"/>
          <a:stretch/>
        </p:blipFill>
        <p:spPr>
          <a:xfrm>
            <a:off x="6238800" y="714240"/>
            <a:ext cx="2505240" cy="1571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profil_krf"/>
          <p:cNvPicPr/>
          <p:nvPr/>
        </p:nvPicPr>
        <p:blipFill>
          <a:blip r:embed="rId3"/>
          <a:stretch/>
        </p:blipFill>
        <p:spPr>
          <a:xfrm>
            <a:off x="7221600" y="2403360"/>
            <a:ext cx="1817640" cy="1658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medicine-cure-facial-blushi"/>
          <p:cNvPicPr/>
          <p:nvPr/>
        </p:nvPicPr>
        <p:blipFill>
          <a:blip r:embed="rId4"/>
          <a:stretch/>
        </p:blipFill>
        <p:spPr>
          <a:xfrm>
            <a:off x="7027920" y="4214880"/>
            <a:ext cx="19731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изуч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356840"/>
            <a:ext cx="83628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рми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ферме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едложен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XVII веке химиком ван Гельмонт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бсуждении механизмов пищева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он. ХVIII — нач. XIX вв. уже было известно, что мясо переваривается желудочным соком, а крахмал превращается в сахар под действием слюны. Однако механизм этих явлений был неизвест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 XIX в. Луи Пастер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учая превращение углеводов в этиловый спирт под действием дрожжей, пришел к выводу, что этот процесс (брожение) катализируется некой жизненной силой, находящейся в дрожжевых клет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ее ста лет назад термины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ерме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нзи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тражали различные точки зрения в теоретическом споре Л. Пастера с одной стороны, 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. Бертло и Ю. Либих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с другой, о природе спиртового брожения. Собственн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ермента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от лат. 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fermentu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закваска) называли «организованные ферменты» (то есть сами живые микроорганизмы), 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рмин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нзи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от греч.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ἐν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— в- и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ζύμη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— дрожжи, закваска) предложен в 1876 году В. Кюн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ля «неорганизованных ферментов», секретируемых клетками, например, в желудок (пепсин) или кишечник (трипсин, амилаза). Через два года после смерти Л. Пастера 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897 году Э. Бухнер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убликовал работу «Спиртовое брожение без дрожжевых клеток», в которой экспериментально показал, чт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склеточный дрожжевой сок осуществляет спиртовое брожение так же, как и неразрушенные дрожжевые клетки. В 1907 году за эту работу он был удостоен Нобелевской преми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первые высокоочищенный кристаллически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ермент (уреаза) был выделен в 1926 году Дж. Самнер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ечение последующих 10 лет было выделено еще несколько ферментов, и белковая природа ферментов была окончательно доказ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йчас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имикам известн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лее 2000 ферм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се они обладают рядом специфических свойств, отличающих их от неорганических катализа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7380360" y="64533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гл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763272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ое исполь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то что надо"/>
          <p:cNvPicPr/>
          <p:nvPr/>
        </p:nvPicPr>
        <p:blipFill>
          <a:blip r:embed="rId1"/>
          <a:stretch/>
        </p:blipFill>
        <p:spPr>
          <a:xfrm>
            <a:off x="4572000" y="785880"/>
            <a:ext cx="4429080" cy="561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то что надо 1"/>
          <p:cNvPicPr/>
          <p:nvPr/>
        </p:nvPicPr>
        <p:blipFill>
          <a:blip r:embed="rId2"/>
          <a:stretch/>
        </p:blipFill>
        <p:spPr>
          <a:xfrm>
            <a:off x="166680" y="785880"/>
            <a:ext cx="4119480" cy="55720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0"/>
          <p:cNvSpPr/>
          <p:nvPr/>
        </p:nvSpPr>
        <p:spPr>
          <a:xfrm>
            <a:off x="2071800" y="50004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1680" y="6093000"/>
            <a:ext cx="571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равнение неорганических катализаторов  ферм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219320"/>
          <a:ext cx="8229600" cy="5646600"/>
        </p:xfrm>
        <a:graphic>
          <a:graphicData uri="http://schemas.openxmlformats.org/drawingml/2006/table">
            <a:tbl>
              <a:tblPr/>
              <a:tblGrid>
                <a:gridCol w="2362320"/>
                <a:gridCol w="3047760"/>
                <a:gridCol w="281952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          сравн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чески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лизатор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рмен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Хими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електив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птимум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нтерв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Изменение структуры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ходе    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величение скорости реак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равнение неорганических катализаторов  ферм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071720"/>
          <a:ext cx="8229600" cy="5665680"/>
        </p:xfrm>
        <a:graphic>
          <a:graphicData uri="http://schemas.openxmlformats.org/drawingml/2006/table">
            <a:tbl>
              <a:tblPr/>
              <a:tblGrid>
                <a:gridCol w="2362320"/>
                <a:gridCol w="3047760"/>
                <a:gridCol w="2819520"/>
              </a:tblGrid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          сравн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чески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лизатор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рмен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Хими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омолекулярные вещества, образованные 1 или нескольки-ми элемент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ки – высокомолекуляр-ные поли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електив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ая, универсальный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 – Pt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коряет множ. реакц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. На каждую р-цию нужен свой фермен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птимум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окислая или щело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ольшой интервал, у кажд. органа – св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нтерв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широк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– 42 градуса, затем денатурируют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Изменение структуры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ходе    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яется незначительно, или не изменяется вовс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о изменяются и восстанавливаются в исходную структуру по окончании реак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величение скорости реак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100 – 1000000 р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0 в 8 степени до 10 в 12 степени р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5"/>
          <p:cNvSpPr txBox="1"/>
          <p:nvPr/>
        </p:nvSpPr>
        <p:spPr>
          <a:xfrm>
            <a:off x="2556000" y="105264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Фермен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4211640" y="3129120"/>
            <a:ext cx="4392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хкомпонен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ки + произв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а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 flipH="1">
            <a:off x="2410920" y="2276640"/>
            <a:ext cx="107964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5149800" y="2276640"/>
            <a:ext cx="93492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6"/>
          <p:cNvSpPr/>
          <p:nvPr/>
        </p:nvSpPr>
        <p:spPr>
          <a:xfrm>
            <a:off x="500040" y="2786040"/>
            <a:ext cx="3786120" cy="2500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компонен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7"/>
          <p:cNvSpPr/>
          <p:nvPr/>
        </p:nvSpPr>
        <p:spPr>
          <a:xfrm>
            <a:off x="4500720" y="2857680"/>
            <a:ext cx="4143240" cy="2500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ухкомпонен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ки + произв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там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3"/>
          <p:cNvGrpSpPr/>
          <p:nvPr/>
        </p:nvGrpSpPr>
        <p:grpSpPr>
          <a:xfrm>
            <a:off x="0" y="1447920"/>
            <a:ext cx="8153280" cy="5410080"/>
            <a:chOff x="0" y="1447920"/>
            <a:chExt cx="8153280" cy="5410080"/>
          </a:xfrm>
        </p:grpSpPr>
        <p:sp>
          <p:nvSpPr>
            <p:cNvPr id="110" name="AutoShape 24"/>
            <p:cNvSpPr/>
            <p:nvPr/>
          </p:nvSpPr>
          <p:spPr>
            <a:xfrm>
              <a:off x="0" y="1447920"/>
              <a:ext cx="8153280" cy="54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5"/>
            <p:cNvSpPr/>
            <p:nvPr/>
          </p:nvSpPr>
          <p:spPr>
            <a:xfrm>
              <a:off x="1892160" y="1825200"/>
              <a:ext cx="3933720" cy="1006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ФЕРМЕН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6"/>
            <p:cNvSpPr/>
            <p:nvPr/>
          </p:nvSpPr>
          <p:spPr>
            <a:xfrm flipH="1">
              <a:off x="2183760" y="2832120"/>
              <a:ext cx="87300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7"/>
            <p:cNvSpPr/>
            <p:nvPr/>
          </p:nvSpPr>
          <p:spPr>
            <a:xfrm>
              <a:off x="4513680" y="2832120"/>
              <a:ext cx="58284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8"/>
            <p:cNvSpPr/>
            <p:nvPr/>
          </p:nvSpPr>
          <p:spPr>
            <a:xfrm>
              <a:off x="1019160" y="3460680"/>
              <a:ext cx="2037960" cy="75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ПРОТЕИ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9"/>
            <p:cNvSpPr/>
            <p:nvPr/>
          </p:nvSpPr>
          <p:spPr>
            <a:xfrm>
              <a:off x="4076640" y="3460680"/>
              <a:ext cx="2911320" cy="75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ПРОТЕИД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0"/>
            <p:cNvSpPr/>
            <p:nvPr/>
          </p:nvSpPr>
          <p:spPr>
            <a:xfrm>
              <a:off x="5677560" y="4216320"/>
              <a:ext cx="58284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1"/>
            <p:cNvSpPr/>
            <p:nvPr/>
          </p:nvSpPr>
          <p:spPr>
            <a:xfrm flipH="1">
              <a:off x="3785040" y="4216320"/>
              <a:ext cx="87300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2475360" y="4844880"/>
              <a:ext cx="2183040" cy="113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Белковая ч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Arial"/>
                </a:rPr>
                <a:t>(апрофермент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5532840" y="4844880"/>
              <a:ext cx="2183040" cy="113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ебелковая ч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Arial"/>
                </a:rPr>
                <a:t>(кофермент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ение фермен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B375-738F-428B-9170-CEAFDF3D5C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тличия ферментов от небиологических катализаторов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539640" y="126828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611280" y="1509840"/>
            <a:ext cx="8281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ные ферменты: белковая часть обеспечивает связывание субстрата, а катализ осуществляют небелковые (мономерные) соединения, называемые </a:t>
            </a:r>
            <a:r>
              <a:rPr b="0" i="1" lang="ru-RU" sz="2800" spc="-1" strike="noStrike">
                <a:solidFill>
                  <a:srgbClr val="ff3300"/>
                </a:solidFill>
                <a:latin typeface="Arial"/>
              </a:rPr>
              <a:t>кофермен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фактором, простетической групп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 Белковая часть такого фермента называетс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апофермен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активный фермент (комплекс апофермента и кофермента) —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холофермен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8475-7542-4B41-9C26-058B612DE3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99"/>
                </a:solidFill>
                <a:latin typeface="Arial"/>
              </a:rPr>
              <a:t>Коферменты и витамины</a:t>
            </a:r>
            <a:r>
              <a:rPr b="0" lang="ru-RU" sz="3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539640" y="1125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11280" y="1341360"/>
            <a:ext cx="828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ет выделить отдельно группу коферментов, т.е. тех соединений, которые образованы из соответствующих витаминов или синтезированы самостоятельно данным организмом для осуществления того или иного химического процесса в живой клет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2"/>
          <p:cNvGraphicFramePr/>
          <p:nvPr/>
        </p:nvGraphicFramePr>
        <p:xfrm>
          <a:off x="179280" y="4724280"/>
          <a:ext cx="890604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724280"/>
                    <a:ext cx="890604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0A34-544D-446D-896D-6DB0274C68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68360" y="958680"/>
            <a:ext cx="828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личество фермента можно определить по его актив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5"/>
          <p:cNvSpPr/>
          <p:nvPr/>
        </p:nvSpPr>
        <p:spPr>
          <a:xfrm>
            <a:off x="468360" y="2223360"/>
            <a:ext cx="8424720" cy="35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За единицу активности фермента принимается такое количество фермента, которое катализирует превращение 1 мкмоля субстрата (1 мкмоль = 10–6 моля) в 1 мин при 25°С в оптимальных условиях действия фермента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3300"/>
                </a:solidFill>
                <a:latin typeface="Arial"/>
              </a:rPr>
              <a:t>Удельной активностью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называется число единиц ферментативной активности в расчете на 1 мг бел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21:15:36Z</dcterms:created>
  <dc:creator>Ник Мартинович</dc:creator>
  <dc:description/>
  <dc:language>en-US</dc:language>
  <cp:lastModifiedBy>Admin</cp:lastModifiedBy>
  <dcterms:modified xsi:type="dcterms:W3CDTF">2012-11-23T05:13:18Z</dcterms:modified>
  <cp:revision>19</cp:revision>
  <dc:subject/>
  <dc:title>Слайд 1</dc:title>
</cp:coreProperties>
</file>