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424-861A-4954-B87B-12C2BEF6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B6D-61B2-4323-816B-BD4FEE88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68F-5FBD-4C37-AF2B-D0BAF7B4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753-D826-42A8-A939-4DB649A2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9889-9A4B-4AC6-BED9-F39A87AC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BA5D-F308-4666-ACB0-5F10D74D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9CB5-55D8-4883-A54B-7D28F62F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E565-3882-492C-8843-A9BB680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EE13-19A8-44BE-87B8-CE6E79F5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B3D5-7889-40CD-B310-6D38DD73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1A70-C2DD-4C94-A48D-D3F0A98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665-E4D2-4BDB-8CEE-B3975722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C8EA-095F-4222-894F-1C46EF14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C9B8-2F5D-45B1-B125-6D3C2B1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0A4B-39C8-42EA-B3A9-82FC3FD4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9531-F31E-484A-A2FA-5848906D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31CF-3607-4917-86D7-E406B9EE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298-3462-4685-B4E9-5D47AB2F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7AA-6571-4380-A864-BBD1623B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04A-E3B5-47DD-80AF-71C31765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ACB-7738-4A56-8209-1F8CA7BE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23F-B471-4E0E-8D8A-0BA9FDB4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B24-7D31-43AF-B310-543A867E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127-6226-40AB-9B58-C97CFFF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3281-EECD-4DB2-9A7E-56382565FC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3A1-783B-4956-A165-234EAAF7EF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>
            <a:lum bright="66000"/>
          </a:blip>
          <a:srcRect l="18526" t="53239" r="25781" b="21075"/>
          <a:stretch/>
        </p:blipFill>
        <p:spPr>
          <a:xfrm rot="19447800">
            <a:off x="-252360" y="836640"/>
            <a:ext cx="6858000" cy="385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>
            <a:lum bright="18000"/>
          </a:blip>
          <a:srcRect l="1861" t="5542" r="41264" b="53984"/>
          <a:stretch/>
        </p:blipFill>
        <p:spPr>
          <a:xfrm>
            <a:off x="3348000" y="3137040"/>
            <a:ext cx="5506920" cy="3089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Биохимия нуклеиновых                          кисло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6"/>
          <p:cNvSpPr/>
          <p:nvPr/>
        </p:nvSpPr>
        <p:spPr>
          <a:xfrm>
            <a:off x="684360" y="2421000"/>
            <a:ext cx="7848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Р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летке имеется несколько видов РНК. Все они участвуют в синтезе бел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Транспортные Р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-РНК) - это самые маленькие по размерам РНК. Они связывают АК и транспортируют их к месту синтеза бел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Информационные РН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и-РНК) - они в 10 раз больше тРНК. Их функция состоит в переносе информации о структуре белка от ДНК к месту синтеза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ибосомные РН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р-РНК) - имеют наибольшие размеры молекулы, входят в состав рибо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Генетический код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следственная информация записана в молекулах НК в виде последовательности нуклеотидов. Определенные участки молекулы ДНК и РНК (у вирусов и фагов) содержат информацию о первичной структуре одного белка и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ген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85200" indent="-3852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 ген = 1 молекула бел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этому наследственную информацию, которую содержат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НК называют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етическо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3924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 аминокислота закодирована тремя нуклеотидами (один кодон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12880" y="19890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Ц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247080" y="199404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Г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261200" y="198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0"/>
          <p:cNvSpPr/>
          <p:nvPr/>
        </p:nvSpPr>
        <p:spPr>
          <a:xfrm rot="16200000">
            <a:off x="5545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1"/>
          <p:cNvSpPr/>
          <p:nvPr/>
        </p:nvSpPr>
        <p:spPr>
          <a:xfrm rot="16200000">
            <a:off x="6553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2"/>
          <p:cNvSpPr/>
          <p:nvPr/>
        </p:nvSpPr>
        <p:spPr>
          <a:xfrm rot="16200000">
            <a:off x="748872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708160" y="27860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плет, код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4"/>
          <p:cNvSpPr/>
          <p:nvPr/>
        </p:nvSpPr>
        <p:spPr>
          <a:xfrm rot="16200000">
            <a:off x="6553800" y="2174040"/>
            <a:ext cx="287280" cy="26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454800" y="36496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553788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474240" y="4154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48260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21"/>
          <p:cNvSpPr/>
          <p:nvPr/>
        </p:nvSpPr>
        <p:spPr>
          <a:xfrm rot="16200000">
            <a:off x="6696720" y="3613680"/>
            <a:ext cx="287640" cy="266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70920" y="5105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280" y="4941360"/>
            <a:ext cx="3924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АК триптофан закодирована в РНК УГГ, в ДНК - АЦ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0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ется 64 кодон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84360" y="3573000"/>
            <a:ext cx="3924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1 кодон кодирует 20 (21) аминокислот, три кодона являются знаками препинания: кодоны-терминаторы УАА, УАГ, УГА (в РН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65240" y="2276640"/>
            <a:ext cx="44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763640" y="2421000"/>
            <a:ext cx="287280" cy="1655640"/>
          </a:xfrm>
          <a:custGeom>
            <a:avLst/>
            <a:gdLst>
              <a:gd name="textAreaLeft" fmla="*/ 0 w 287280"/>
              <a:gd name="textAreaRight" fmla="*/ 10368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2293920" y="30733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войства генетического код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ниверса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ретность (кодовые триплеты считываются с молекулы РНК целиком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пецифичность (кодон кодирует только А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ыточность кода (несколько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ритроциты - двояковогнутые диски, содержат гемоглоб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орма: 6-е место – гл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атология – ва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моглобин - бе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0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 молекула = 4 полиме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 полимер = 574 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изменении молекулы белка изменяется свойство гемоглобина, возникает наследственное заболевание: серповидно-клеточная анем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уклеиновые кислоты: ДНК и Р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К – полимер. Мономер – нуклеоти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ы ДНК обладают видовой специфичность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а ДНК – двойная спираль, поддерживается водородными связ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крыт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ыты во второй половине 19 века швейцарским биохимиком Ф. Мишер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первые обнаружены в ядре («нуклеус» - ядро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62420" t="27455" r="21075" b="43525"/>
          <a:stretch/>
        </p:blipFill>
        <p:spPr>
          <a:xfrm>
            <a:off x="5292720" y="981000"/>
            <a:ext cx="334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пи ДНК строятся по принципу комплиментар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 ДНК в клетке постоянн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ункция ДНК – хранение и пердача наследственной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047760" y="2060640"/>
            <a:ext cx="263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00"/>
                </a:solidFill>
                <a:latin typeface="Verdana"/>
              </a:rPr>
              <a:t>ДНК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3848040" y="4197240"/>
            <a:ext cx="2158920" cy="792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левод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21"/>
          <p:cNvSpPr/>
          <p:nvPr/>
        </p:nvSpPr>
        <p:spPr>
          <a:xfrm>
            <a:off x="770040" y="3970440"/>
            <a:ext cx="215892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зотист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, Г, Ц, 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22"/>
          <p:cNvSpPr/>
          <p:nvPr/>
        </p:nvSpPr>
        <p:spPr>
          <a:xfrm>
            <a:off x="6589800" y="4114800"/>
            <a:ext cx="2158920" cy="7920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3078000" y="45943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6012000" y="451152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cap="rnd" w="1144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8.67052E-007 L 0.46459 0.48254 E">
                                      <p:cBhvr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0.5">
                                      <p:cBhvr additive="repl">
                                        <p:cTn id="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14"/>
          <p:cNvSpPr/>
          <p:nvPr/>
        </p:nvSpPr>
        <p:spPr>
          <a:xfrm>
            <a:off x="2916360" y="486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72436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195640" y="1870200"/>
            <a:ext cx="4322520" cy="25668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9"/>
          <p:cNvSpPr/>
          <p:nvPr/>
        </p:nvSpPr>
        <p:spPr>
          <a:xfrm>
            <a:off x="755640" y="4292640"/>
            <a:ext cx="215892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зотист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, Г, Ц, Т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564000" y="4437000"/>
            <a:ext cx="2158920" cy="792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левод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зоксирибо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6300720" y="4437000"/>
            <a:ext cx="2158920" cy="7923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уклеотид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- химическое соединение остатков трех веществ: азотистого основания, углевода, фосфорн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ель Д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853 г. – создание модели Д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31190" t="35901" r="35764" b="33706"/>
          <a:stretch/>
        </p:blipFill>
        <p:spPr>
          <a:xfrm>
            <a:off x="611280" y="278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rcRect l="53239" t="25781" r="21075" b="18526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1861" t="5542" r="41264" b="53984"/>
          <a:stretch/>
        </p:blipFill>
        <p:spPr>
          <a:xfrm>
            <a:off x="539640" y="1628640"/>
            <a:ext cx="8353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пространственная взаимодополняемость молекул или их частей, приводящая к образованию водородных связ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плиментарные структуры подходят друг к другу как «ключ с замком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2556000" y="486900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(А+Т)+(Г+Ц)=10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rcRect l="9185" t="3829" r="50449" b="53984"/>
          <a:stretch/>
        </p:blipFill>
        <p:spPr>
          <a:xfrm>
            <a:off x="324000" y="119160"/>
            <a:ext cx="8420040" cy="6478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оединение нуклеотид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5:30:17Z</dcterms:created>
  <dc:creator>Петрович</dc:creator>
  <dc:description/>
  <dc:language>en-US</dc:language>
  <cp:lastModifiedBy>XP GAME 2010</cp:lastModifiedBy>
  <dcterms:modified xsi:type="dcterms:W3CDTF">2012-11-30T10:10:58Z</dcterms:modified>
  <cp:revision>11</cp:revision>
  <dc:subject/>
  <dc:title>Нуклеиновые кисл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