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7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png" ContentType="image/pn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9.jpeg" ContentType="image/jpeg"/>
  <Override PartName="/ppt/media/image8.png" ContentType="image/png"/>
  <Override PartName="/ppt/media/image33.png" ContentType="image/png"/>
  <Override PartName="/ppt/media/image29.jpeg" ContentType="image/jpeg"/>
  <Override PartName="/ppt/media/image5.png" ContentType="image/png"/>
  <Override PartName="/ppt/media/image35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34.png" ContentType="image/png"/>
  <Override PartName="/ppt/media/image30.png" ContentType="image/png"/>
  <Override PartName="/ppt/media/image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</p:sldIdLst>
  <p:sldSz cx="9144000" cy="6858000"/>
  <p:notesSz cx="6811963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0"/>
            <a:ext cx="68112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dt" idx="22"/>
          </p:nvPr>
        </p:nvSpPr>
        <p:spPr>
          <a:xfrm>
            <a:off x="385920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Img"/>
          </p:nvPr>
        </p:nvSpPr>
        <p:spPr>
          <a:xfrm>
            <a:off x="922320" y="745920"/>
            <a:ext cx="49672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968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ftr" idx="23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 type="sldNum" idx="24"/>
          </p:nvPr>
        </p:nvSpPr>
        <p:spPr>
          <a:xfrm>
            <a:off x="385920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C133-9985-4EC4-9C33-F3B342100A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96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385920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57A4-0D6C-42A3-86F1-36F6441A28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96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Номер слайда 3"/>
          <p:cNvSpPr/>
          <p:nvPr/>
        </p:nvSpPr>
        <p:spPr>
          <a:xfrm>
            <a:off x="385920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F644-2180-4DEE-81CD-DA1A3243A5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F4FE-DDEF-4E79-A7C5-57D8C1EF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B15F-7D4C-4CE1-B759-CE5398D2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29D2-F0FB-40AF-82DF-3E1B3C413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6B0F-4120-4A35-A733-CDDCBCEA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5F0C-77C2-4D83-9E93-81E7CF48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6852-DA1E-4814-A28F-F6AE36A5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F447-871A-4CCC-8FFB-2997A9D1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1C11-6BD9-49CC-BAB7-EB882B5B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537D-7534-4812-BD4B-931C4E5B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3DE1-C7F3-4672-A012-5B81E5A4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58A3-8DCF-46B7-AA1D-94F5A418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6CE4-914D-49FC-8834-19D4876A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7C4B-7198-4D0C-91E0-CC92422E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DB4B-3186-434A-A4CF-2FB57730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488F-35A3-4D06-A80B-B4CD2192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B643-615E-4F49-A11A-6648D1AE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D1BF-6CF5-4A69-847D-C3D33992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BB2A7-4A2B-42E5-9684-F5659325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40A0C-0717-4565-AC1C-133510E7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173F7-57CF-457C-9812-61EB120F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FD7F6-D1EE-48F5-AED7-D1B13E3B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385A7-CA06-4432-870C-844527CD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B674-6EB4-40DB-AC6A-8B922DAF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F9E58-2A0D-45B5-885F-74C4993A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F41BB-3525-46DE-A212-CFA8F635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907C6-E6CC-4680-B86B-52ABCF2D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138CD-4CB5-4903-9075-5D50EE81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33E44-EFA1-4CD4-98C8-26FEC73F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D042A-C6CC-4975-9588-CE25E0C1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B9A7B-2BF9-4102-A270-60CD5549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2E42C-A316-4534-B5AD-4D232712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EB49E-BAAD-4BFF-AC6B-E673BFFC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852B3-4D5C-466F-BD33-BE494826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7E1C-0448-48EF-A1FE-F9198095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96821-F663-4BC8-9178-2888CF4C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D1196-5713-464D-9736-2947688D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CA9BB-AE1C-4CFE-84F9-0A3A0CA5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B007E-0C0D-46A1-B756-B68702EA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9B2EF-1C8E-4E94-BFA1-C311FFA0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8FDCD-0E7C-49B7-A66A-D78A95B3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313D4-8138-44F4-AA3A-91FDD09E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86774-61EF-41C5-ACF5-2DA745CBA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B473B-CB4F-47B9-A5C5-7FA401DB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D528D-3C99-4359-B387-4499A680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5641-EC15-483F-BB92-E622CF2E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AFFEE-5099-414A-A7B0-04BF4AD7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4E55F-20D9-4D7C-BEF2-F5808F95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0023A-9E03-4542-8510-3816B200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4D8C3-84CE-498B-B878-07D6AB44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87439-E653-4B5D-AAD1-E7485289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56218-B663-40E1-91AE-291E4324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F9BC6-B192-404B-82CE-8A5B3CA8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06302-0E5A-470C-8FC7-148AD32B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849A3-C9DC-48F8-8F0E-E0226613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3BFAC-AB9D-4970-9DDD-07F20FBB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6D7C-895D-4C34-8B7C-9B6E3321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4C9EE-117C-47DA-9118-D3047AF3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8D979-4923-4963-840C-7546E157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9BA20-C5F9-4991-8241-2042FF3D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9EA57-E6E3-48EC-B2D7-A5A4BCF3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1BF24-176D-4949-AE4B-B9882626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6B198-CEA7-474D-8803-41B53E21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96F79-A32D-4C1E-9723-60FD264F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09E9B-9840-46E5-B8BB-5B2E6673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1037F-1F58-4B37-B6F3-7000423A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14BEC-6C80-4823-90FE-718A10A9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C465-47D0-4EB5-8A7E-3347F13A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4B689-74F2-4671-B39D-115054E6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F028E-C67E-48A9-9033-A4434B9F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F6FD1-B703-400A-86B9-9FAC1A1E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4E667-5EAD-4A94-9500-5FD65C11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EA345-89E3-424D-9C10-BF55553E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B8678-2AB8-4806-8DC1-3CAD2E50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EDCFC-4B79-42E0-B80E-23A50A00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6BC7D-36C0-441F-B7D7-960B9ADC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512A3-83AD-436C-8177-C0D383CA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046D8-BE02-4945-8A0F-B908BF45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F06B-A882-47CE-BC86-AEBC738D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A75D1-6ADB-4EAD-ACF9-511888A9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901C8-F59E-466D-BAB0-C8406E7C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26983-AD93-4EB4-ACAD-1C340364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B168C-612A-4279-9FE0-DE93CEF7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72017-A41D-4FB5-8FAC-0C9907B6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A4FF-84A0-4034-82B7-CACBBF19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6B36-3011-436E-BF4B-58FA6FDFEDBD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B24C-FCF1-43E2-8698-6B0B26EA0EA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F3CD-4189-4A97-8B15-5EEB375AF61E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2641-F14A-4164-B6FA-D134E6FBA6E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ED19-1823-40DB-A218-468BFC5BFDBC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EA5A-CFDD-4A40-BAFB-1F694F8D3D3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DEAC-984E-4DAE-B27C-1E5C769C2976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1CD3-87B3-46D2-AB4E-1FDF814D5F1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86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7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89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0ED6-CE9E-4D95-A4D4-BA6415E277E2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4479-8228-4632-A8BE-047B1D18264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3F65-739B-47FD-A888-68CC6A7092AF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E7F7-4E7F-49F5-BEC9-F442FCF975D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74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5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77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78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9DD3-4AD3-40B3-8B15-7E862D8C834F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C05A-862A-4657-A823-2CB691EA472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5000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Раздел биохимии, изучающий химические превращения, лежащие в основе функций органов, тканей и организма в целом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A955-E145-4EB2-BF51-736C302E26B5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"/>
          <p:cNvSpPr/>
          <p:nvPr/>
        </p:nvSpPr>
        <p:spPr>
          <a:xfrm>
            <a:off x="642960" y="27360"/>
            <a:ext cx="8001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зм липидов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чени синтезируются желчные кислоты, при дефиците которых переваривания жиров практически не происходит. В регуляции метаболизма липидов печени принадлежит ведущая роль. Так, при дефиците основного энергетического материала - глюкозы, в печени активируется окисление жирных кислот. В условиях избытка глюкозы в гепатоцитах происходит синтез триглицеридов и фосфолипидов из жирных кислот, которые поступают в печень из кишечник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A96B-3C05-4488-9E9A-BC0C164BEB9F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"/>
          <p:cNvSpPr/>
          <p:nvPr/>
        </p:nvSpPr>
        <p:spPr>
          <a:xfrm>
            <a:off x="214200" y="466560"/>
            <a:ext cx="8715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и принадлежит ведущая роль в регуляции обмена холестерола. Исходное вещество в его синтезе - ацетил-КоА. Т. е. Избыточное питание стимулирует образование холестерола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чени синтезируются транспортные формы липопротеин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чени, кроме того, синтезируются кетоновые тела, в частности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цетоацета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идрооксимаслянная кисл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разносятся кровью по организму. Сердечная мышца и корковый слой надпочечников предпочитают в качестве источника энергии использовать именно эти соединения, а не глюкозу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A312-DEA5-4424-A698-6BE7D63C4CC2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D:\Documents and Settings\Admin\Рабочий стол\305.jpg"/>
          <p:cNvPicPr/>
          <p:nvPr/>
        </p:nvPicPr>
        <p:blipFill>
          <a:blip r:embed="rId1"/>
          <a:stretch/>
        </p:blipFill>
        <p:spPr>
          <a:xfrm>
            <a:off x="2357280" y="0"/>
            <a:ext cx="4542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573C-441D-47DF-BC07-E35F714887E3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"/>
          <p:cNvSpPr/>
          <p:nvPr/>
        </p:nvSpPr>
        <p:spPr>
          <a:xfrm>
            <a:off x="571680" y="524880"/>
            <a:ext cx="82152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зм белков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ь использует АК, поступающие из пищеварительного тракта для синтеза собственных белков, но большая их часть идет на синтез белков плазмы крови. В печени синтезируются фибриноген, альбумины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лобулины и липопротеиды. В печени синтезируется также т.н. лабильный резервный белок, который является как бы запасом АК, которые затем могут использоваться различными органами и тканями по мере необходимост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ь занимает центральное место в обмене АК, т.к. в ней активно протекают процессы их химической модификации. Кроме того, именно в печени происходит синтез мочевины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647E-0E6E-4D50-B871-18428AA84452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3" descr="D:\Documents and Settings\Admin\Рабочий стол\S14-08-vzaimosvjaz-treh-obmenov-obmenov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41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FCD6-10F7-4537-84C2-02E43D9B685F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"/>
          <p:cNvSpPr/>
          <p:nvPr/>
        </p:nvSpPr>
        <p:spPr>
          <a:xfrm>
            <a:off x="571680" y="318960"/>
            <a:ext cx="7143480" cy="59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оксицирующая функция печен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оксикация ядовитых метаболитов и чужеродных соединений (ксенобиотиков) протекает в гепатоцитах в две стадии. Реакции первой стадии катализируются монооксигеназной системой, компоненты которой встроены  в мембраны эндоплазматического ретикулума. Реакции окисления, восстановления или гидролиза являются первой стадией  в системе выведения из организма гидрофобных молекул. Они превращают вещества в полярные водорастворимые метаболиты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фермент гемопротеид 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итохромы Р-45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настоящему времени выявлено множество изоформ этого фермента и отнесено, в зависимости от их свойств и выполняемых функций, к нескольким семействам. У млекопитающих идентифицировано 13 подсемейств цх Р-450, условно считается, что ферменты семейства I-IV  участвуют в биотрансформации ксенобиотиков, остальные метаболизируют эндогенные соединения (стероидные гормоны, простатагландины, жирные кислоты и др.)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ым свойством цх Р-450 является способность к индукции под действием экзогенных субстратов, что легло в основу классификации изоформ в зависимости от индуцируемости тем или веществом определенной химической структуры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8790-0B7C-41D1-86DF-9B062DB2DA50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"/>
          <p:cNvSpPr/>
          <p:nvPr/>
        </p:nvSpPr>
        <p:spPr>
          <a:xfrm>
            <a:off x="500040" y="850680"/>
            <a:ext cx="7215120" cy="54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ой стадии биотрансформации происходит образование или высвобождение гидрокси-, карбоксильных, тиоловых и аминогрупп, которые являются гидрофильными, и молекула может подвергаться дальнейшему превращению и выведению из организма. В качестве кофермента используется НАДФН. Кроме цх Р-450, в первой стадии биотрансформации принимают участие цх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цитохромредуктаза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лекарственные вещества, попадая в организм, превращаются на первой стадии биотрансформации в активные формы и оказывают необходимый лечебный эффект. Но часто ряд ксенобиотиков не детоксицируется, а наоборот токсифицируется с участием монооксигеназной системы и становится более реакционноспособным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ы метаболизма чужеродных веществ, образовавшихся на первой стадии биотрансформации, подвергаются дальнейшей детоксикации с помощью ряда реакций второй стадии.  Образующиеся  при этом соединения менее полярны и в связи с этим легко удаляются из клеток. Преобладающим является процесс конъюгации, катализируемый глутатион-S-трансферазой, сульфотрансферазой и UDP-глюкуронилтрансферазой. Конъюгацию с глутатионом, приводящую к образованию меркаптуровых кислот, принято рассматривать в качестве основного механизма детоксикации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A52D-8409-4CE1-8635-DC5B28DCA451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D:\Documents and Settings\Admin\Рабочий стол\Новая папка\pech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A791-9196-40CA-86E4-97A0B3CF2F67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3" descr="D:\Documents and Settings\Admin\Рабочий стол\e7f6bc2cd695abf60cb801182e38c101.png"/>
          <p:cNvPicPr/>
          <p:nvPr/>
        </p:nvPicPr>
        <p:blipFill>
          <a:blip r:embed="rId1"/>
          <a:stretch/>
        </p:blipFill>
        <p:spPr>
          <a:xfrm>
            <a:off x="1571760" y="-10000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1"/>
          <p:cNvSpPr/>
          <p:nvPr/>
        </p:nvSpPr>
        <p:spPr>
          <a:xfrm>
            <a:off x="857160" y="2357280"/>
            <a:ext cx="771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татион (ведущий компонент редокс-буфера клетки) представляет собой соединение, содержащее реактивную тиоловую группу.  Большая его часть находится в восстановленной форме (GSH) и играет центральную роль в инактивации токсических и реактивных продуктов. Восстановление окисленного  глутатиона осуществляет фермент - глутатионредуктаза, используя как кофермент НАДФН. Коньюгаты с глутатионом, серной и глюкуроновой кислотами выводятся из организма преимущественно с мочой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8905-448C-456B-AFD7-A381D8B0466D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D:\Documents and Settings\Admin\Рабочий стол\Glutathione-3D-vdW.png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460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1637-177E-499A-8912-F78BA10E16FC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Прямоугольник 2" descr=""/>
          <p:cNvPicPr/>
          <p:nvPr/>
        </p:nvPicPr>
        <p:blipFill>
          <a:blip r:embed="rId1"/>
          <a:stretch/>
        </p:blipFill>
        <p:spPr>
          <a:xfrm>
            <a:off x="1000080" y="324000"/>
            <a:ext cx="7174080" cy="113328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"/>
          <p:cNvSpPr/>
          <p:nvPr/>
        </p:nvSpPr>
        <p:spPr>
          <a:xfrm>
            <a:off x="500040" y="2000160"/>
            <a:ext cx="771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Прямоугольник 5"/>
          <p:cNvSpPr/>
          <p:nvPr/>
        </p:nvSpPr>
        <p:spPr>
          <a:xfrm>
            <a:off x="500040" y="1500120"/>
            <a:ext cx="7286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ь самый крупный из паренхиматозных органов. Она выполняет ряд ключевых функци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ет и распределяет вещества, поступающие в организм из пищеварительного тракта, которые приносятся с кровью по воротной вене. Эти вещества проникают в гепатоциты, подвергаются химическим превращениям и в виде промежуточных или конечных метаболитов поступают в кровь и разносятся в другие органы и ткан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ит местом образования желч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ирует вещества, которые используются в других тканях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ктивирует экзогенные и эндогенные токсические вещества, а также гормон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E256-2C0C-4F1E-B618-175AD6A836EA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"/>
          <p:cNvSpPr/>
          <p:nvPr/>
        </p:nvSpPr>
        <p:spPr>
          <a:xfrm>
            <a:off x="857160" y="381960"/>
            <a:ext cx="764388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альность ферментных систе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альность метаболических комплексов печени, основного органа поддержания химического гомеостаза,  определяет различие в ферментном составе между гепатоцитами перивенозной (центральной) и перипортальной (периферической) зон ацинуса (рис.4.16.1.). Это связано с их неодинаковой потребностью в кислороде различных ферментных систем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наибольшая концентрация ферментов ЦТК,  катаболизма амино- и жирных кислот, цикла мочевины, глюконеогенеза отмечена в перипортальной зоне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ющ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лее оксигенированную кровь. Поскольку компоненты реакций второй фазы биотрансформации локализованы в клетках этой зоны ацинуса, то они более защищены от действия токсических продуктов.  В гепатоцитах перицентральной зоны более активен гликолиз и первая стадия биотрансформации ксенобиотиков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6548-8447-438B-BB64-EC85B96A5FCE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D:\Documents and Settings\Admin\Рабочий стол\126.jpg"/>
          <p:cNvPicPr/>
          <p:nvPr/>
        </p:nvPicPr>
        <p:blipFill>
          <a:blip r:embed="rId1"/>
          <a:stretch/>
        </p:blipFill>
        <p:spPr>
          <a:xfrm>
            <a:off x="6357960" y="4240080"/>
            <a:ext cx="2286000" cy="2617920"/>
          </a:xfrm>
          <a:prstGeom prst="rect">
            <a:avLst/>
          </a:prstGeom>
          <a:ln w="0">
            <a:noFill/>
          </a:ln>
        </p:spPr>
      </p:pic>
      <p:pic>
        <p:nvPicPr>
          <p:cNvPr id="354" name="Прямоугольник 1" descr=""/>
          <p:cNvPicPr/>
          <p:nvPr/>
        </p:nvPicPr>
        <p:blipFill>
          <a:blip r:embed="rId2"/>
          <a:stretch/>
        </p:blipFill>
        <p:spPr>
          <a:xfrm>
            <a:off x="1189080" y="36360"/>
            <a:ext cx="6559560" cy="1133640"/>
          </a:xfrm>
          <a:prstGeom prst="rect">
            <a:avLst/>
          </a:prstGeom>
          <a:ln w="0">
            <a:noFill/>
          </a:ln>
        </p:spPr>
      </p:pic>
      <p:sp>
        <p:nvSpPr>
          <p:cNvPr id="355" name="Прямоугольник 2"/>
          <p:cNvSpPr/>
          <p:nvPr/>
        </p:nvSpPr>
        <p:spPr>
          <a:xfrm>
            <a:off x="642960" y="1214280"/>
            <a:ext cx="785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 крови у различных животных составляет от 6,2 до 8% массы тела, причём у молодых животных относительный объём крови несколько больше. Кровь как жидкая ткань обеспечивает постоянство внутренней среды организма. Биохимические показатели крови занимают особое место и очень важны как для оценки физиологического статуса организма животного, так и для своевременной диагностики патологических состояний. Кровь обеспечивает взаимосвязь обменных процессов, протекающих в различных органах и тканях, выполняет также защитную, транспортную, регуляторную, дыхательную, терморегулирующую и другие функции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ь состоит из плазмы (55-60%) и взвешенных в ней форменных элементов – эритроцитов (39-44%), лейкоцитов (1%) и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оцитов (0,1%). Благодаря наличию в крови белков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эритроцитов её вязкость в 4-6 раз выше вязкости воды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тояние крови в пробирке или центрифугировании с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ми скоростями форменные элементы её осаждаются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6B3F-C3A9-4DF5-AB15-C61F50ABE6FC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357120" y="285840"/>
            <a:ext cx="771516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извольное осаждение форменных элементов крови получило название реакции осаждения эритроцитов (РОЭ, теперь – СОЭ). Величина СОЭ (мм/час) для разных видов животных колеблется в широких пределах: если для собаки СОЭ практически совпадает с интервалом значений для человека (2-10 мм/час), то для свиньи и лошади не превышает 30 и 64 соответственно. Плазма крови, лишённая белка фибриногена, носит название сыворотки кров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рН крови для большинства животных находится в пределах 7,2 – 7,6. Осмотическое давление плазмы крови (7,0-8,0 атм.) определяется количеством в ней растворимых веществ (NaCl, NaHCO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фосфаты) и белков. Растворы солей, имеющие осмотическое давление, равное таковому нормальной сыворотки крови, называются изотоническими растворами (например, 0,9% раствор NaCl). Незначительная часть давления плазмы крови (несколько процентов) определяется белками и называется онкотическим давлением. Однако его роль важна для поддержания водного обмена организма: белки плазмы, удерживая воду в кровяном русле, предупреждает развитие тканевых отёков. Растворы с низким осмотическим давлением называются гипотоническими, а с высоким – гипертоническим. При введение в кровь они вызывают гемолиз и плазмолиз эритроцитов соответственно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8968-7CC6-4F6A-883C-819FDFA425D9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D:\Documents and Settings\Admin\Рабочий стол\analiz_krovi_1.jpg"/>
          <p:cNvPicPr/>
          <p:nvPr/>
        </p:nvPicPr>
        <p:blipFill>
          <a:blip r:embed="rId1"/>
          <a:stretch/>
        </p:blipFill>
        <p:spPr>
          <a:xfrm>
            <a:off x="1214280" y="0"/>
            <a:ext cx="6872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6C0D-30BC-4C0C-AE5D-9387F2F4413D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1"/>
          <p:cNvSpPr/>
          <p:nvPr/>
        </p:nvSpPr>
        <p:spPr>
          <a:xfrm>
            <a:off x="714240" y="571680"/>
            <a:ext cx="79297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Химический состав крови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зма крови животных представляет собой жидкость с плотностью 1,02 – 1,06. Повышение плотности крови может наблюдаться в случаях обезвоживания организма, вызванного длительными диареями, отсутствием питьевой воды. На долю сухого (плотного) остатка плазмы приходится менее 10%, а остальное – вода. Основную массу сухого остатка составляют белки, общая концентрация которых в плазме составляет 60 – 80 г/л. Сумма концентраций глобулинов и альбуминов составляет концентрацию общего белка плазмы крови. Повышение концентрации общего белка плазмы обычно наблюдается при обезвоживании организма. Снижение концентрации общего белка плазмы может быть следствием самых разнообразных причин – низкое содержание белка в рационе, нарушение процесса всасывания питательных веществ в пищеварительном тракте, болезни печени, почек, при которых теряется белок с мочо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A067-B03E-464B-A16A-51775530E0E5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D:\Documents and Settings\Admin\Рабочий стол\1265615179_krov.jpg"/>
          <p:cNvPicPr/>
          <p:nvPr/>
        </p:nvPicPr>
        <p:blipFill>
          <a:blip r:embed="rId1"/>
          <a:stretch/>
        </p:blipFill>
        <p:spPr>
          <a:xfrm>
            <a:off x="0" y="336600"/>
            <a:ext cx="9144000" cy="609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2D90-F093-4263-AF06-E133C8EDA6B1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1"/>
          <p:cNvSpPr/>
          <p:nvPr/>
        </p:nvSpPr>
        <p:spPr>
          <a:xfrm>
            <a:off x="214200" y="642960"/>
            <a:ext cx="878688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ый состав белков плазмы крови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ый состав белков плазмы крови очень разнообразен. В клинической биохимии часто общий белок плазмы делят на отдельные фракции методом электрофореза, основанного на разделении белковых смесей по признаку различной величины массы и конкретного заряда одного белка. При электрофоретическом разделении в зависимости от носителя количество белковых фракций общего белка неодинаково. Независимо от вида электрофореза всегда выделяют основные фракции - альбумины и глобулины. Альбумины синтезируются в печени и являются простыми белками, содержащими до 600 аминокислотных остатков. Они хорошо растворимы в воде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925C-5400-401C-9AFB-D9D090655A99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Box 1"/>
          <p:cNvSpPr/>
          <p:nvPr/>
        </p:nvSpPr>
        <p:spPr>
          <a:xfrm>
            <a:off x="642960" y="714240"/>
            <a:ext cx="7929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 альбуминов состоит в поддержании коллоидно-осмотического давления плазмы, постоянства концентрации водородных ионов, а также в транспорте различных веществ, включая билирубин, жирные кислоты, минеральные соединения и лекарственные препараты. Альбумины плазмы крови могут рассматриваться и как определённый резерв аминокислот для синтеза жизненно необходимых специфических белков в условиях дефицита белков в рационе. Альбумины удерживают воду в кровяном русле, а поэтому при гипоальбуминемиях могут быть отёки мягких тканей. При нефритах в мочу из плазмы крови проникают в первую очередь альбумины, как самые низкомолекулярные белки (молекулярная масса альбуминов составляет около 60000 – 66000). В норме на долю альбуминов приходится 35 – 55% от общего       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а белков плазмы кров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800C-994A-456A-B54B-DD801CC3FB5E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Прямоугольник 1"/>
          <p:cNvSpPr/>
          <p:nvPr/>
        </p:nvSpPr>
        <p:spPr>
          <a:xfrm>
            <a:off x="428760" y="928800"/>
            <a:ext cx="73580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улины плазмы – это множество различных белков. При электрофорезе они перемещаются вслед за альбуминами. Как правило, в плазме они находятся в комплексе со стероидами, углеводами или фосфатами. Взаимосвязь с липидами обеспечивает комплексам глобулинов растворимое состояние и транспорт в различные ткани. В период интенсивного роста животного в крови отмечается относительное снижение уровня альбуминов и соответствующие повышение уровня α- и γ-глобулинов. β-глобулины активно взаимодействуют с липидами крови. γ-глобулины, наименее подвижная и наиболее тяжёлая фракция из всех глобулинов, синтезируются происходящими из части стволовых клеток костного мозга В-лимфоцитами или образующимися из них плазматическими клетками. Они выполняют главным образом функцию защиты, являясь защитными антителами (иммуноглобулинами). У млекопитающих их пять – IgG, IgM, IgE, IgD, IgA. В количественном плане в крови преобладает IgG (80%). Используя метод иммуноэлектрофореза, в крови выделяют до 30 белковых фракций. Каждый тип иммуноглобулинов может специфически взаимодействовать лишь с одним определённым антигеном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B54D-0426-42DC-ACDF-F685922D4B11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D:\Documents and Settings\Admin\Рабочий стол\ateroskleroz.jpg"/>
          <p:cNvPicPr/>
          <p:nvPr/>
        </p:nvPicPr>
        <p:blipFill>
          <a:blip r:embed="rId1"/>
          <a:stretch/>
        </p:blipFill>
        <p:spPr>
          <a:xfrm>
            <a:off x="4165560" y="2209680"/>
            <a:ext cx="4978440" cy="4648320"/>
          </a:xfrm>
          <a:prstGeom prst="rect">
            <a:avLst/>
          </a:prstGeom>
          <a:ln w="0">
            <a:noFill/>
          </a:ln>
        </p:spPr>
      </p:pic>
      <p:sp>
        <p:nvSpPr>
          <p:cNvPr id="364" name="Прямоугольник 1"/>
          <p:cNvSpPr/>
          <p:nvPr/>
        </p:nvSpPr>
        <p:spPr>
          <a:xfrm>
            <a:off x="357120" y="1000080"/>
            <a:ext cx="7643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ждённые животные не способны в первые дни жизни синтезировать антитела. Они появляются только после поступления в желудочно-кишечный тракт молозива. Самостоятельный синтез этих защитных белков в костном мозге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зёнке, лимфатических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лах отмечается с 3- или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недельного возраста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ого. Поэтому важно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ить новорождённого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зивом, которое содержит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0-20 раз больше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муноглобулинов, чем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е молоко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9CFC-17BB-4873-B071-47744F09238B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D:\Documents and Settings\Admin\Рабочий стол\Fibrotest_imagelarge.jpg"/>
          <p:cNvPicPr/>
          <p:nvPr/>
        </p:nvPicPr>
        <p:blipFill>
          <a:blip r:embed="rId1"/>
          <a:stretch/>
        </p:blipFill>
        <p:spPr>
          <a:xfrm>
            <a:off x="0" y="285840"/>
            <a:ext cx="9137520" cy="607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C886-785D-4B19-99D0-5811F7043945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1"/>
          <p:cNvSpPr/>
          <p:nvPr/>
        </p:nvSpPr>
        <p:spPr>
          <a:xfrm>
            <a:off x="214200" y="357120"/>
            <a:ext cx="8643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-лимфоциты кооперируются с В-лимфоцитами в синтезе иммуноглобулинов, тормозят иммунологические реакции, лизируют различные клетки. В крови Т-лимфоциты составляют 70%, В-лимфоциты – около 30%. Для синтеза иммуноглобулинов необходима и третья популяция клеток – макрофаги. Они выступают как первичные факторы неспецифической защиты, благодаря способности захватывать и переваривать микроорганизмы, антигены, иммунные комплексы, передавать информацию о них Т- и В-лимфацитам. Макрофаги выступают в роли посредников между всеми участниками процесса с помощью вырабатываемых клетками лимфокинов и монокинов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лимфоциты вырабатывают антитела лишь против определённых, поступивших в организм антигенов (бактерий, вирусов).Для этого структура антигена и глобулинового рецептора на поверхности лимфоцита должны соответствовать друг другу, как ключ к замку. В этом случае лимфоцит начинает делиться и синтезировать антитела против вида антигена, вызвавшего ответную реакцию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я γ-глобулинов увеличивается в сыворотке крови при хронических инфекционных болезнях, при иммунизации, беременности животны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3502-B41E-4C64-9EA9-A1443C4E971D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D:\Documents and Settings\Admin\Рабочий стол\39312761_TLIMFOCITI.jpg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3D6C-6A32-46F0-8CF4-D680E2AE76BB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Прямоугольник 1"/>
          <p:cNvSpPr/>
          <p:nvPr/>
        </p:nvSpPr>
        <p:spPr>
          <a:xfrm>
            <a:off x="571680" y="714240"/>
            <a:ext cx="7500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ый ряд белков плазмы крови выполняет специфические функции. Среди них следует выделить такие белки, как трансферрин, гаптоглобин, церулоплазмин, пропердин, система комплимента, лизоцим, интерферон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феррины являются β-глобулинами, синтезируемыми в печени. Связывая два атома железа на молекулу белка, они транспортируют этот элемент в различные ткани, регулируют его концентрацию и удерживают его в организме. По величине заряда белковой молекулы, аминокислотному составу различают 19 типов трансферринов, которые связаны с наследственностью. Трансферрины могут оказывать и прямой бактериостатический эффект. Концентрация трансферринов в сыворотке крови составляет около 2,9 г/л. Низкое содержание трансферринов в сыворотке крови может быть вызвано недостатком белков в рационе животного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E13B-B713-4859-BF19-B17979847390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1"/>
          <p:cNvSpPr/>
          <p:nvPr/>
        </p:nvSpPr>
        <p:spPr>
          <a:xfrm>
            <a:off x="571680" y="428760"/>
            <a:ext cx="70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птоглобин входит в состав α-глобулиновой фракции сыворотки крови. Он образует комплексы с гемоглобином при гемолизе эритроцитов. В форме таких комплексов железо из разрушенных эритроцитов не выделяется в составе мочи из организма, так как эти комплексы не способны проходить через почки. Гаптоглобин выполняет также защитную функцию, участвуя в процессах детоксикаци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улоплазмин — α -глобулин, синтезирующийся в печени, имеет в своем составе медь (0,3%). Связывая медь, церулоплазмин обеспечивает должный уровень этого микроэлемента в тканях. На долю церулоплазмина приходится 3% всего количества меди организма животного. Он проявляет себя как фермент и как оксидант. Церулоплазмин является оксидазой адреналина, аскорбиновой кислоты. Важной характеристикой церулоплазмина является его способность окислять железо в тканях до Fe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епонируя его в таком вид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19FB-AD33-42B1-964A-6624AE441F4E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D:\Documents and Settings\Admin\Рабочий стол\1229.jpg"/>
          <p:cNvPicPr/>
          <p:nvPr/>
        </p:nvPicPr>
        <p:blipFill>
          <a:blip r:embed="rId1"/>
          <a:stretch/>
        </p:blipFill>
        <p:spPr>
          <a:xfrm>
            <a:off x="0" y="-1000080"/>
            <a:ext cx="9144000" cy="794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6DAD-FFF0-4700-B830-D49F2236B444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1"/>
          <p:cNvSpPr/>
          <p:nvPr/>
        </p:nvSpPr>
        <p:spPr>
          <a:xfrm>
            <a:off x="357120" y="500040"/>
            <a:ext cx="842976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комплемен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комплекс сывороточных белков глобулиновой природы, который рассматривается как система проэнзимов, активация которых приводит к цитолизу, разрушению антигена. Синтез системы комплемента, насчитывающей до 25 разных белков, осуществляется преимущественно мононуклеарньми фагоцитами, а также гистиоцитами. Это сложная эффекторная система белков сыворотки, играющая важную роль в регуляции иммунного ответа и в поддержании гомеостаза, в плане фило- и онтогенеза возникла раньше иммунной системы. В составе системы комплемента детально изучены 11 компонентов. Каскад ферментативных реакций, запускаемый комплексом антиген-антитело и приводящий к последовательной активации всех компонентов комплемента, начиная с первого, называется классическим путем активации. Обходной путь, который характеризуется активацией более поздних компонентов комплемента, начиная с 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зывается альтернативным. Разрушение микробной клетки наступает только после активации компонента 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ерминальные белки системы комплемента, последовательно реагируя один с другим, внедряются в двойной слой липидов, повреждая клеточную мембрану с образованием мембранных каналов, что и приводит к осмотическим нарушениям, проникновению внутрь клетки антител, комплемента с последующим лизисом внутриклеточных мембран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D6DA-0FCA-4BED-B0CF-5B5FF828BB21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D:\Documents and Settings\Admin\Рабочий стол\9a.jpg"/>
          <p:cNvPicPr/>
          <p:nvPr/>
        </p:nvPicPr>
        <p:blipFill>
          <a:blip r:embed="rId1"/>
          <a:stretch/>
        </p:blipFill>
        <p:spPr>
          <a:xfrm>
            <a:off x="571680" y="0"/>
            <a:ext cx="78372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DA24-1B08-4528-9E57-5C23EBD511BE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D:\Documents and Settings\Admin\Рабочий стол\425px-Complement_death.PNG"/>
          <p:cNvPicPr/>
          <p:nvPr/>
        </p:nvPicPr>
        <p:blipFill>
          <a:blip r:embed="rId1"/>
          <a:stretch/>
        </p:blipFill>
        <p:spPr>
          <a:xfrm>
            <a:off x="0" y="0"/>
            <a:ext cx="9001080" cy="692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4129-856B-48F2-B277-84C66814BD34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D:\Documents and Settings\Admin\Рабочий стол\144.jpg"/>
          <p:cNvPicPr/>
          <p:nvPr/>
        </p:nvPicPr>
        <p:blipFill>
          <a:blip r:embed="rId1"/>
          <a:stretch/>
        </p:blipFill>
        <p:spPr>
          <a:xfrm>
            <a:off x="2238480" y="0"/>
            <a:ext cx="46670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7094-CF7F-4691-A123-4405B4DB0E55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1"/>
          <p:cNvSpPr/>
          <p:nvPr/>
        </p:nvSpPr>
        <p:spPr>
          <a:xfrm>
            <a:off x="285840" y="21420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Значение биохимического экспресс-анализа крови в клинической практик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Прямоугольник 2"/>
          <p:cNvSpPr/>
          <p:nvPr/>
        </p:nvSpPr>
        <p:spPr>
          <a:xfrm>
            <a:off x="500040" y="1071720"/>
            <a:ext cx="678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, во всем мире происходит рост заболеваемости, связанной с хроническими неинфекционными патологиями. Такие заболевания, как сахарный диабет и атеросклероз, не только снижают качество жизни, но и приводят к развитию различных осложнений, угрожающих жизни. Применение ранней диагностики значительно улучшает прогноз таких состояний, позволяя выявить патологию на начальных этапах развития и назначить соответствующее лечение. Важное значение следует уделять и постоянному контролю показателей углеводного и липидного обмена, поскольку это позволяет оценить эффективность проводимой терапии и, по необходимости, корректировать ее. Осознание значительной части населения о необходимости проведения регулярного мониторинга состояния своего здоровья и развитие институтов семейной медицины в Российской Федерации также требует наличия соответствующих  экспресс-анализаторов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AD96-D084-44BE-9DAC-069A22C56F75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4"/>
          <p:cNvSpPr/>
          <p:nvPr/>
        </p:nvSpPr>
        <p:spPr>
          <a:xfrm>
            <a:off x="1000080" y="736920"/>
            <a:ext cx="7358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сти строения гепатоцит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разнообразные функции обусловлены особенностями строения печени и ее отдельных клеток. Гепатоцит имеет хорошо развитую систему эндоплазматического ретикулума (ЭР), причем как гладкую, так и шероховатую. Одна из главных функций ЭР - синтез белков, которые используются другими органами и тканями (альбумины), или ферментов работающих в печени. Кроме того, в ЭР синтезируются фосфолипиды, триглицериды и холестерол. Гладкий ЭР содержит ферменты детоксикации ксенобиотик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04C2-AE7C-42B6-A1E1-84FCE8EF2199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785880" y="1000080"/>
            <a:ext cx="8072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на данный момент, наиболее оптимальным и единственным анализатором для биохимического экспресс-анализа крови является анализатор CardioChek. Данные анализаторы сочетают в себе достоверность результатов, получаемых в центральной лаборатории, со скоростью и удобством экспресс-тестов. Кроме того, они сочетают в себе широкий спектр диагностических анализов при сравнительной невысокой цен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8AC0-A810-4647-B60A-E8252BB9CA99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Прямоугольник 1" descr=""/>
          <p:cNvPicPr/>
          <p:nvPr/>
        </p:nvPicPr>
        <p:blipFill>
          <a:blip r:embed="rId1"/>
          <a:stretch/>
        </p:blipFill>
        <p:spPr>
          <a:xfrm>
            <a:off x="-6480" y="103320"/>
            <a:ext cx="9156960" cy="195732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2"/>
          <p:cNvSpPr/>
          <p:nvPr/>
        </p:nvSpPr>
        <p:spPr>
          <a:xfrm>
            <a:off x="1071720" y="2357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соединительной ткан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я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остоянства тканевой проницаемости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водно-солевого равновесия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иммунной защите организма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7448-9DD2-4133-A5CB-B854811F4C2E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1"/>
          <p:cNvSpPr/>
          <p:nvPr/>
        </p:nvSpPr>
        <p:spPr>
          <a:xfrm>
            <a:off x="142920" y="642960"/>
            <a:ext cx="900108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Состав и строение соединительной ткани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В соединительной ткани различают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межклеточное (основное) вещество, клеточные элементы, волокнистые структуры (коллагеновые волокна). Особенность: межклеточного вещества гораздо больше, чем клеточных элементов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1650-D34D-4B74-A75A-91E22C7FB520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D:\Documents and Settings\Admin\Рабочий стол\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9AAF-42D5-436E-8814-F30E001F5E19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D:\Documents and Settings\Admin\Рабочий стол\image001(5).jpg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A6BC-48CE-4DC8-A240-FD73B81558F7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1"/>
          <p:cNvSpPr/>
          <p:nvPr/>
        </p:nvSpPr>
        <p:spPr>
          <a:xfrm>
            <a:off x="500040" y="428760"/>
            <a:ext cx="7715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клеточное (основное) вещество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образная консистенция основного вещества объясняется его составом. Основное вещество - это сильно гидратированный гель, который образован высокомолекулярными соединениями, составляющими до 30 % массы межклеточного вещества. Оставшиеся 70 % - это вод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молекулярные компоненты представлены белками и углеводами. Углеводы по своему строению являются гетерополисахаридами - глюкозоаминогликаны (ГАГ). Эти гетерополисахариды построены из дисахаридных единиц, которые и являются их мономерами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ению мономеров различают 7 типов глюкозаминогликанов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луроновая кислот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ндроитин-4-сульфа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ндроитин-6-сульфа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атансульфа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атансульфа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рансульфа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рин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4143-3582-4EA1-A7B6-8BED9C76C7BB}" type="slidenum">
              <a:t>45</a:t>
            </a:fld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D:\Documents and Settings\Admin\Рабочий стол\connective_tissue_loose_areolar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0131-E712-4609-9080-B93EB25271DC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Прямоугольник 3" descr=""/>
          <p:cNvPicPr/>
          <p:nvPr/>
        </p:nvPicPr>
        <p:blipFill>
          <a:blip r:embed="rId1"/>
          <a:stretch/>
        </p:blipFill>
        <p:spPr>
          <a:xfrm>
            <a:off x="-365040" y="-6480"/>
            <a:ext cx="9655200" cy="100008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4"/>
          <p:cNvSpPr/>
          <p:nvPr/>
        </p:nvSpPr>
        <p:spPr>
          <a:xfrm>
            <a:off x="571680" y="1000080"/>
            <a:ext cx="7715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и виды мышечной ткан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ечная ткань составляет 40 % от веса тела человека. Биохимические процессы, протекающие в мышцах, оказывают большое влияние на весь организм человека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 мышц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 постоянной температуре. Ни один искусственный механизм к этому не способен. Механическое движение, в котором химическая энергия превращается в механическую при постоянном давлении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еречно-полосатая мускулатура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едини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аркомер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стая нить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из молекул белка миозина. Миозин - крупный олигомерный белок, молекулярная масса 500 кДа, состоит из 6 субъединиц, попарно одинаковых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лая цеп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-конце - -спираль, на N-конце - глобула. При соединении двух тяжелых цепей С-концевыми участками образуется суперспираль. Две легкие цепи входят в состав глобулы (головки). Стержневой участок суперспирали имеет 2 отдела, где спирали оголены - эти места открыты для действия протеолитических ферментов и имеют повышенную подвижность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D7A0-D71D-479F-BBEC-BD960BD7429A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D:\Documents and Settings\Admin\Рабочий стол\1204175445e2ee5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8B22-B64A-4E89-8237-1209EE559EC0}" type="slidenum">
              <a:t>48</a:t>
            </a:fld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D:\Documents and Settings\Admin\Рабочий стол\ms1_ch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7590-A386-47F7-B970-98FA2863A427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D:\Documents and Settings\Admin\Рабочий стол\Новая папка\p5300197-liver_cells_sem-spl.png"/>
          <p:cNvPicPr/>
          <p:nvPr/>
        </p:nvPicPr>
        <p:blipFill>
          <a:blip r:embed="rId1"/>
          <a:stretch/>
        </p:blipFill>
        <p:spPr>
          <a:xfrm>
            <a:off x="1000080" y="-15840"/>
            <a:ext cx="7286760" cy="687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3E8E-0B76-4462-B071-927ACE47CFAA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1"/>
          <p:cNvSpPr/>
          <p:nvPr/>
        </p:nvSpPr>
        <p:spPr>
          <a:xfrm>
            <a:off x="714240" y="714240"/>
            <a:ext cx="70009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ция сокращения и расслабления мышц в живой клетк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ечное сокращение начинается с нервного импульса. Под воздействием ацетилхолина развивается возбуждение клеточной мембраны и резко повышается ее проницаемость для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упает в цитоплазму мышечной клетки (саркоплазма) из депо - цистерн цитоплазматического ретикулума. Концентрация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аркоплазме мгновенно увеличивается в 100 раз (с 10-7М до 10-5М)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ьций связывается с тропонином "С". Это приводит к конформационным изменениям молекулы тропонина, в результате устраняется пространственное препятствие в виде тропонина "I", в результате конформационных изменений тропонина "Т" молекула тропомиозина оттягивается в сторону и открывает на поверхности актина миозин-связывающие центры. Дальше мышечное сокращение идет по схеме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0F2-F82A-48BF-A4D3-A403859C4277}" type="slidenum">
              <a:t>50</a:t>
            </a:fld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Прямоугольник 1"/>
          <p:cNvSpPr/>
          <p:nvPr/>
        </p:nvSpPr>
        <p:spPr>
          <a:xfrm>
            <a:off x="214200" y="357120"/>
            <a:ext cx="82155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лабление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роизошло расслабление мышцы, необходимы следующие условия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бождение тропонина "С" от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для этого работает мембрано-связанный фермент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ависимая АТФаза. Этот фермент использует энергию гидролиза АТФ для переноса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о в цистерны против градиента их концентраций. Накоплению ионов кальция в цистернах помогает белок кальсеквестрин. Кальсеквестрин - связывает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цистернах. Когда мышца готова к сокращению, концентрация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цистернах велик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олько процесс сокращения, но и процесс расслабления нуждается в АТФ, потому что если нет АТФ, то не работает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ависимая АТФаза. В этих условиях кальций связан с тропонином "С" - вся система находится в активном состоянии, нет распада актомиозинового комплекса - мышца постоянно находится в состоянии сокращения. Такая ситуация наблюдается после смерти человека в состоянии "трупного окоченения"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сы АТФ в клетке значительны, но их хватает для обеспечения мышечной работы только в течение 0.1 секунды. Но в мышечной клетке идет очень быстрый ресинтез АТФ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ь мышечной ткани 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чень быстрые изменения концентрации АТФ (в 100 и более раз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8D15-394B-4B54-9BCA-A3D5CBDA06B6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Прямоугольник 1"/>
          <p:cNvSpPr/>
          <p:nvPr/>
        </p:nvSpPr>
        <p:spPr>
          <a:xfrm>
            <a:off x="214200" y="142920"/>
            <a:ext cx="8643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ы энергообеспечения мышечной ткан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энергии следующие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реакции субстратного фосфорилирования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лиз, гликогенолиз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е фосфорилирование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реакции субстратного фосфорилирования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специальных реакций субстратного фосфорилирования в обеспечении энергией мышечной клетки различна - это зависит от интенсивности, продолжительности, мощности и длительности мышечной работы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атинфосфокиназная реакция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амый быстрый способ ресинтеза АТФ. Запасов креатинфосфата хватает для обеспечения мышечной работы в течение 20 с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о эффективен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ребует присутствия кислорода, не дает побочных нежелательных продуктов, включается мгновенно. Его недостаток - малый резерв субстрата (хватает только на 20 с работы). Обратная реакция может протекать в митохондриях с использованием АТФ, образовавшейся в процессе окислительного фосфорилирования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мбрана митохондрий хорошо проницаема как для креатина, так и для креатин-фосфата, а креатинфосфокиназа есть и в саркоплазме, и в межмембранном пространстве митохондри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5863-879C-417A-BEA8-64A840495072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Прямоугольник 1" descr=""/>
          <p:cNvPicPr/>
          <p:nvPr/>
        </p:nvPicPr>
        <p:blipFill>
          <a:blip r:embed="rId1"/>
          <a:stretch/>
        </p:blipFill>
        <p:spPr>
          <a:xfrm>
            <a:off x="-450720" y="36360"/>
            <a:ext cx="9594720" cy="113364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оугольник 2"/>
          <p:cNvSpPr/>
          <p:nvPr/>
        </p:nvSpPr>
        <p:spPr>
          <a:xfrm>
            <a:off x="571680" y="1214280"/>
            <a:ext cx="7929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воему со cтаву и процессам метаболизма нервная ткань значительно отличается от других тканей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ая функциональная клетка нервной ткани - нейрон - связана с помощью дендритов и аксонов с такими же клетками и клетками других типов, например, с секреторными и мышечными клетками. Клетки разделены синаптическими щелями. Связь между клетками осуществляется путем передачи сигнала. Сигнал проходит от тела нейрона по аксону до синапса. В синаптическую щель выделяется вещество-медиатор. Медиатор вступает в связь с рецепторами на другой стороне синаптической щели. Это обеспечивает восприятие сигнала и генерацию нового сигнала в клетке-акцепторе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6638-816E-454F-91B8-1DC8F2F42533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D:\Documents and Settings\Admin\Рабочий стол\8800602a.GIF"/>
          <p:cNvPicPr/>
          <p:nvPr/>
        </p:nvPicPr>
        <p:blipFill>
          <a:blip r:embed="rId1"/>
          <a:stretch/>
        </p:blipFill>
        <p:spPr>
          <a:xfrm>
            <a:off x="428760" y="0"/>
            <a:ext cx="8189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F31-24FD-4159-A93F-13DFA69636D3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D:\Documents and Settings\Admin\Рабочий стол\iStock_000006935624Small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A4E0-18C9-47AB-938E-5C836A99D878}" type="slidenum">
              <a:t>55</a:t>
            </a:fld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Прямоугольник 1"/>
          <p:cNvSpPr/>
          <p:nvPr/>
        </p:nvSpPr>
        <p:spPr>
          <a:xfrm>
            <a:off x="642960" y="571680"/>
            <a:ext cx="6500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И НЕРВНОЙ ТКАН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енерация электрического сигнала (нервного импульса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ведение нервного импульс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поминание и хранение информаци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Формирование эмоций и поведения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ышление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6AC0-F681-4DF3-ACD7-C6FCA7DB1E7D}" type="slidenum">
              <a:t>56</a:t>
            </a:fld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оугольник 1"/>
          <p:cNvSpPr/>
          <p:nvPr/>
        </p:nvSpPr>
        <p:spPr>
          <a:xfrm>
            <a:off x="714240" y="785880"/>
            <a:ext cx="77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БЕННОСТИ ХИМИЧЕСКОГО СОСТАВА И МЕТАБОЛИЗМА НЕРВНОЙ ТКАНИ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ку нервной ткани определяет гематоэнцефалический барьер (ГЭБ). ГЭБ имеет избирательную проницаемость для различных метаболитов, а также способствует накоплению некоторых веществ в нервной ткани. Например, в нервной ткани на долю глутамата и аспартата приходится примерно 70-75% от общего количества аминокислот. Таким образом, внутренняя среда нервной ткани намного отличается по химическому составу от других тканей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D454-862A-423A-91FC-1F4D4EDB6906}" type="slidenum">
              <a:t>57</a:t>
            </a:fld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1"/>
          <p:cNvSpPr/>
          <p:nvPr/>
        </p:nvSpPr>
        <p:spPr>
          <a:xfrm>
            <a:off x="428760" y="474840"/>
            <a:ext cx="8215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ПИДЫ НЕРВНОЙ ТКАНИ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И ЛИПИДОВ НЕРВНОЙ ТКАНИ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руктурная: входят в состав клеточных мембран нейронов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ия диэлектриков (обеспечивают надежную электрическую изоляцию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щитная. Ганглиозиды являются очень активными антиоксидантами - ингибиторами перекисного окисления липидов (ПОЛ). При повреждении ткани мозга ганглиозиды способствуют ее заживлени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егуляторная. Фосфатидилинозиты являются предшественниками биологически активных веществ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липидов нервной ткани находится в составе плазматических и субклеточных мембран нейронов и в миелиновых оболочках. В нервной ткани по сравнению с другими тканями организма содержание липидов очень высокое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E0A4-6973-464A-81DA-325B233D8DD1}" type="slidenum">
              <a:t>58</a:t>
            </a:fld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оугольник 1"/>
          <p:cNvSpPr/>
          <p:nvPr/>
        </p:nvSpPr>
        <p:spPr>
          <a:xfrm>
            <a:off x="571680" y="214200"/>
            <a:ext cx="7572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ь липидного состава нервной ткани: есть фосфолипиды (ФЛ), гликолипиды (ГЛ) и холестерин (ХС), нет нейтральных жиров. Эфиры холестерина можно встретить только в участках активной миелинизации. Сам холестерин синтезируется интенсивно только в развивающемся мозге. В мозге взрослого человека низка активность ОМГ-КоА-редуктазы - ключевого фермента синтеза холестерина. Содержание свободных жирных кислот в мозге очень низкое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нейромедиаторы после взаимодействия со специфическими рецепторами изменяют свою конформацию и изменяют конформацию фермента фосфолипазы С, которая катализирует расщепление связи в фосфатидилинозите между глицерином и остатком фосфата, в результате чего образуется фосфоинозитол и диацилглицерин. Эти вещества являются регуляторами внутриклеточного метаболизма. Диацилглицерин активирует протеинкиназу С, а фосфоинозитол вызывает повышение концентрации Са 2+. Ионы кальция влияют на активность внутриклеточных ферментов и участвуют в работе сократительных элементов нервных клеток: микрофиламентов, что обеспечивает передвижение различных веществ в теле нервной клетки, аксоне и растущем кончике аксона. Протеинкиназа С участвует в реакциях фосфорилирования белков внутри нервных клеток. Если это белки-ферменты, то меняется их активность, если это рибосомальные или ядерные белки, то изменяется скорость биосинтеза белков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EE73-F007-4838-BCCD-650D4B07F180}" type="slidenum">
              <a:t>59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D:\Documents and Settings\Admin\Рабочий стол\Новая папка\images.jpeg"/>
          <p:cNvPicPr/>
          <p:nvPr/>
        </p:nvPicPr>
        <p:blipFill>
          <a:blip r:embed="rId1"/>
          <a:stretch/>
        </p:blipFill>
        <p:spPr>
          <a:xfrm>
            <a:off x="0" y="638280"/>
            <a:ext cx="9144000" cy="6219720"/>
          </a:xfrm>
          <a:prstGeom prst="rect">
            <a:avLst/>
          </a:prstGeom>
          <a:ln w="0">
            <a:noFill/>
          </a:ln>
        </p:spPr>
      </p:pic>
      <p:sp>
        <p:nvSpPr>
          <p:cNvPr id="337" name="TextBox 3"/>
          <p:cNvSpPr/>
          <p:nvPr/>
        </p:nvSpPr>
        <p:spPr>
          <a:xfrm>
            <a:off x="1071720" y="0"/>
            <a:ext cx="657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патоциты похожи на печенье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76DB-A171-4B5C-BD43-B9A61401D397}" type="slidenum">
              <a:t>6</a:t>
            </a:fld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1"/>
          <p:cNvSpPr/>
          <p:nvPr/>
        </p:nvSpPr>
        <p:spPr>
          <a:xfrm>
            <a:off x="285840" y="1000080"/>
            <a:ext cx="8572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ды постоянно обновляются. Скорость их обновления различна, но в целом низка.. Некоторые липиды (например: холестерин, цереброзиды, фосфатидилэтаноламины, сфингомиелины) обмениваются медленно - в течение месяцев и даже лет. Исключение составляют фосфатидилхолин и, особенно, фосфатидилинозиты (содержат глицерин, фосфат, спирт (инозит), жирные кислоты) - они обмениваются очень быстро (сутки, недели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59D1-0672-4136-ACA2-76DB063C7834}" type="slidenum">
              <a:t>60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"/>
          <p:cNvSpPr/>
          <p:nvPr/>
        </p:nvSpPr>
        <p:spPr>
          <a:xfrm>
            <a:off x="500040" y="666360"/>
            <a:ext cx="7786800" cy="53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ль печени в метаболизме углеводов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ь играет ведущую роль в поддержании физиологической концентрации глюкозы в крови. Из общего количества поступающей из кишечника глюкозы печень извлекает ее большую часть и тратит: 10-15 % от этого количества на синтез гликогена, 60 % на окислительный распад, 30 % на синтез жирных кислот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физиологической гипогликемии в печени активируется распад гликогена. Первая стадия этого процесса заключается в отщеплении молекулы глюкозы и ее фосфорилировании (фермент фосфорилаза). Далее Глю-5-Ф может расходоваться по трем направлениям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ути глтколиза с образованием пировиноградной кислоты и лактата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ентозофосфатному пути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щепляться под действием фосфотазы на глюкозу и фосфор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ладает последний путь, который приводит к выбросу в общий кровоток свободной глюкоз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A596-8DDA-4915-BA2E-CA5FE80BABC0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рямоугольник 1"/>
          <p:cNvSpPr/>
          <p:nvPr/>
        </p:nvSpPr>
        <p:spPr>
          <a:xfrm>
            <a:off x="642960" y="642960"/>
            <a:ext cx="7500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чени активно протекает глюконеогенез, при котором предшественниками глюкозы являются пируват и аланин (поступающий из мышц), глицерол - из жировой ткани и с пищей ряд глюкогенных АК. Избыточное поступление глюкозы с пищей увеличивает в гепатоците интенсивность всех путей ее превращения. Так активируется ее окисление с образованием большого количества пирувата.  Для его дальнейшего окисления необходимо также большое количество КоА, который также используется и для окисления жирных кислот. В результате окисление жирных кислот и распад липидов в жировых депо замедляетс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2C1F-3DAD-47BF-A6AF-7C067451E984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D:\Documents and Settings\Admin\Рабочий стол\заболевание-печени.jpg"/>
          <p:cNvPicPr/>
          <p:nvPr/>
        </p:nvPicPr>
        <p:blipFill>
          <a:blip r:embed="rId1"/>
          <a:stretch/>
        </p:blipFill>
        <p:spPr>
          <a:xfrm>
            <a:off x="1143000" y="-3240"/>
            <a:ext cx="7572240" cy="686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1C16-970D-44F8-B694-FAB78E69C0C6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4:37:47Z</dcterms:created>
  <dc:creator>Юлия Сергеевна</dc:creator>
  <dc:description/>
  <dc:language>en-US</dc:language>
  <cp:lastModifiedBy>Admin</cp:lastModifiedBy>
  <dcterms:modified xsi:type="dcterms:W3CDTF">2012-05-10T06:47:14Z</dcterms:modified>
  <cp:revision>45</cp:revision>
  <dc:subject/>
  <dc:title>Функциональная биохимия</dc:title>
</cp:coreProperties>
</file>