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01B-89FF-402C-968C-D7967656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F3B-826A-4645-9BEF-9D301222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0F1-7011-47D5-892D-EC908846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99C-5BFE-47A4-A64E-EF8F0E3D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4E5-894D-4F2A-9F38-02D6DEF4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388-908F-4200-BE6A-DF8BA89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D5E-607B-49CA-8912-86254D9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239-C339-4A13-BEF5-335F908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C04-56AA-40AA-BB94-03AA396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D76C-CFAA-4C40-AA5C-6A1EB50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337E-07E6-4D1C-868F-83738A5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17A-BA19-41B9-9388-3F90EC34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47A-E9DE-468A-BE34-C52723D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EAE-65FA-4239-95AB-4EE9E1E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D12-A0B8-477F-BF3A-7CE2606C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7C8-9AFB-49ED-8198-CEBFC6B8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E5C-8E8D-4F9D-9E59-2D32C048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BFF-6563-4D33-9A42-DD2D0EE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A8C-78F6-4A23-BA03-A2DA9F1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C4A-30FD-4537-91C0-6138E43D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21C-A3B2-4420-B85D-7F314E1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D8E-0A16-42F1-9408-EA814DF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0D4-E4C5-4192-A039-5B0AB1D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463-AD42-4C2A-B41E-6A15631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432F-7398-4F9A-B57A-4BCF6B15D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60B-E758-495E-AE02-0C090C6EED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C:\Documents and Settings\Администратор\Application Data\Microsoft\Media Catalog\s.gif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imes New Roman"/>
              </a:rPr>
              <a:t>Метаболизм углеводов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7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534520" cy="32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. В качестве пищевого продукта (хлеб, картофель, крупы и т. 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. Для изготовления  канцелярского кле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едицине и фармаци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крахмал"/>
          <p:cNvPicPr/>
          <p:nvPr/>
        </p:nvPicPr>
        <p:blipFill>
          <a:blip r:embed="rId1"/>
          <a:stretch/>
        </p:blipFill>
        <p:spPr>
          <a:xfrm>
            <a:off x="5219640" y="4581360"/>
            <a:ext cx="3311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57200" y="2286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4572000" y="152388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http://www.college.ru/biology/course/content/javagifs/08010208.gif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59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3886200" y="320040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3860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228600" y="16002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простые сахара вступают в реакцию с сахарными спиртами и кислотами. Образующиеся при этом вещества близки к полисахаридам и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полисахарид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е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ет роль структурного компонента в клетках. Гликопротеины и гликолипиды определяют антигенные свойства клеток. Гиалуроновая кислота и хондроитинсульфат – важные компоненты соединительной ткани позвоночных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з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меют важную защитную функцию в организма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0" y="3429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7" descr="http://www.college.ru/biology/course/content/chapter8/section1/paragraph2/images/08010210.jpg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380880" y="3657600"/>
            <a:ext cx="78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распространённы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меющие формулу (CH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се моносахариды имеют сладкий вкус, кристаллизуются и легко растворяются в в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533520" y="60948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дые вещества, способные  кристаллизоваться. Они гидроскопичны, очень легко растворимы в воде, легко образуют сиропы, из которых выделить их в кристаллическом виде бывает очень труд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6" descr="http://www.college.ru/biology/course/content/javagifs/08010201.gif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4920" y="228600"/>
            <a:ext cx="382104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XP GAME 2010</cp:lastModifiedBy>
  <dcterms:modified xsi:type="dcterms:W3CDTF">2012-11-30T10:03:57Z</dcterms:modified>
  <cp:revision>54</cp:revision>
  <dc:subject/>
  <dc:title> ПРЕЗЕНТАЦИЯ по химии</dc:title>
</cp:coreProperties>
</file>