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gif" ContentType="image/gif"/>
  <Override PartName="/ppt/media/image22.png" ContentType="image/png"/>
  <Override PartName="/ppt/media/image26.png" ContentType="image/pn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0.png" ContentType="image/png"/>
  <Override PartName="/ppt/media/image1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8F9-9F3D-40CA-834E-C64BF1E7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52D-4A74-4854-98E7-0C70F960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52B-A2BF-4069-902F-04AC592B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3D9-4927-4731-80E8-5FDDB42C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0893-99EA-4394-8A9F-9475028E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3740-EB31-4FC6-8206-7301455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4B46-C9C9-425C-87AF-4D56C81A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B0B5-3305-42C6-B408-4CDE394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A668-F246-4C0E-A15A-305422CA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A705-4445-4219-89C3-22C29C6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417A-6AAF-4F8A-AEFF-7BFAAA36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12D-12F7-4A8A-B3B7-BB06E799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44C9-A181-44DE-BF3D-C7F704B5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3C53-898F-4B50-8017-DA539C3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5A6B-A0DC-4703-849B-A43995D6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ABD0-314B-4919-807A-985D45E0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5CC8-1B03-441D-B79F-3DD3DC46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F22-FF70-4611-9A38-C48E2714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8AE-5CD3-4DAC-9250-F471D9EB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CAF-46A4-417A-ABD4-BF2F5642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223-063F-48DE-97D4-37990FC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26E-70FF-4E9B-A959-EA0027F2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E41-549E-482C-8225-9FC490A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9B3-1451-45AA-92A5-0316F42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3F8-3B75-416E-BE7B-102BE7BCA5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2B5B-5528-4F28-916D-08478259288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8440" y="-176040"/>
            <a:ext cx="7413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0033-033-Kalij-igraet-bolshuju-rol-vo-vnutrikletochnom-obmene-vlijaet-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3" descr="0034-034-Svojstva-essentsialnykh-mikroelemento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0035-035-Rasprostranennost-defitsitov-essentsialnykh-mikroelementov-v-mire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Содержимое 3" descr="0036-036-Nekotorye-sostojanija-svjazannye-s-defitsitom-ili-izbytk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0037-037-Izmenenie-potrebnosti-v-essentsialnykh-khimicheskikh-elementakh-u-lit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x_c0ec31e0.jpg"/>
          <p:cNvPicPr/>
          <p:nvPr/>
        </p:nvPicPr>
        <p:blipFill>
          <a:blip r:embed="rId2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378000" y="-152280"/>
            <a:ext cx="855792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Рисунок2"/>
          <p:cNvPicPr/>
          <p:nvPr/>
        </p:nvPicPr>
        <p:blipFill>
          <a:blip r:embed="rId2"/>
          <a:stretch/>
        </p:blipFill>
        <p:spPr>
          <a:xfrm>
            <a:off x="826920" y="4145040"/>
            <a:ext cx="1944720" cy="1714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2411280" y="1557360"/>
            <a:ext cx="4392720" cy="936720"/>
          </a:xfrm>
          <a:prstGeom prst="flowChartPunchedTape">
            <a:avLst/>
          </a:prstGeom>
          <a:solidFill>
            <a:srgbClr val="00ffff">
              <a:alpha val="2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627280" y="155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1547280" y="2421000"/>
            <a:ext cx="1008360" cy="792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572000" y="2349360"/>
            <a:ext cx="0" cy="1657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156360" y="2349360"/>
            <a:ext cx="865080" cy="1150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46836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д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059280" y="386064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ерд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084720" y="3429000"/>
            <a:ext cx="251964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6732720" y="4437000"/>
            <a:ext cx="1798560" cy="1295640"/>
          </a:xfrm>
          <a:prstGeom prst="cloudCallout">
            <a:avLst>
              <a:gd name="adj1" fmla="val -81333"/>
              <a:gd name="adj2" fmla="val 96814"/>
            </a:avLst>
          </a:prstGeom>
          <a:solidFill>
            <a:srgbClr val="00ccff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6084720" y="3573360"/>
            <a:ext cx="25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зообраз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3"/>
          <a:stretch/>
        </p:blipFill>
        <p:spPr>
          <a:xfrm>
            <a:off x="3564000" y="458136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8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3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 Антуан Лоран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宋体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авуазь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первые доказал, что вод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жное вещество, пропусти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ные пары через раскал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жейный ствол и разложив в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два простых вещества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ород и кислор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+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1035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143000" y="500040"/>
            <a:ext cx="692928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прозрач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цвет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запа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вк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истиллирова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име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ьковатый вку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иллирова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не провод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й 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 отличии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ой в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ая облад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провод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чет раствор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вещест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E:\Документы слушателей\Avrora - 2009\стакан.jpg"/>
          <p:cNvPicPr/>
          <p:nvPr/>
        </p:nvPicPr>
        <p:blipFill>
          <a:blip r:embed="rId1"/>
          <a:stretch/>
        </p:blipFill>
        <p:spPr>
          <a:xfrm>
            <a:off x="6372360" y="981000"/>
            <a:ext cx="238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643280" y="4581360"/>
            <a:ext cx="3097440" cy="227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3924360" y="549360"/>
            <a:ext cx="2160360" cy="152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3995640" y="2349360"/>
            <a:ext cx="2305080" cy="1758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94840" cy="140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432108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Содержимое 3" descr="0025-025-Obmen-mineralnykh-veschest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2951280" cy="2233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55640" y="4117320"/>
            <a:ext cx="76327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дрокарбонатные вод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нижают кислотность желудочного сока. При этом, в зависимости от метода применения способны как стимулировать, так и тормозить секрецию желудочного сока. Применяются при лечении мочекаменной боле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лоридные вод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имулируют обменные процессы в организме, улучшают секрецию желудка, поджелудочной железы, тонкого кишечника. Применяются при расстройствах пищеварительной систе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ульфатные вод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имулируют моторику желудочно-кишечного тракта, особенно благоприятно влияют на восстановление функции печени и желчного пузыря. Применяются при заболеваниях желчных путей, хроническом гепатите, сахарном диабете, ожир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407880" y="195120"/>
            <a:ext cx="8534520" cy="1262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активными металл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2Na+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→2NaOH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некоторыми неметаллами. Например , при взаимодействии с хлором образуется хлорная вода, обладающая отбеливающими свойст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8"/>
          <p:cNvSpPr/>
          <p:nvPr/>
        </p:nvSpPr>
        <p:spPr>
          <a:xfrm>
            <a:off x="0" y="62064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основными оксидами с образованием щелоч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О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ahoma"/>
              </a:rPr>
              <a:t>→Са(ОН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 с кислотными оксидами (кроме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с образованием 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вляется катализатором многих химических проце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2Al+3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2Al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50920" y="4762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Без воды была бы невозможна жизнь: ведь живое вещество образовалось в первобытных морях из растворенных в них веществ. И с тех пор все химические процессы в каждой клеточке тела любого живого организма происходят в водной среде между растворенными веществами. Вот почему так важно сохранять водный баланс нашего организма в любом возрас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30120" y="3573360"/>
            <a:ext cx="2760840" cy="328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003640" y="3532320"/>
            <a:ext cx="4140360" cy="3325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3" descr="0026-026-Osnovnym-stroitelnym-materialom-javljajutsja-chetyre-elementa-azo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Содержимое 3" descr="0027-027-Srednee-soderzhanie-mineralnykh-elementov-v-organizme-mlekopitajuschik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Содержимое 3" descr="0028-028-Kaltsij-Ca-obschee-soderzhanie-kaltsija-v-organizme-chelove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0029-029-Pri-izbytke-kaltsija-nabljudajutsja-khronicheskij-gipertroficheski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0030-030-Pri-nedostatke-kaltsija-nabljudajutsja-takhikardija-aritmija-boli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3" descr="0031-031-Magnij-Mg-glavnoe-depo-magnija-nakhoditsja-v-kostjakh-i-myshtsakh-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3" descr="0032-032-Pri-nedostatke-magnija-nabljudaetsja-snizhenie-immunitet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0:29:02Z</dcterms:created>
  <dc:creator>user</dc:creator>
  <dc:description/>
  <dc:language>en-US</dc:language>
  <cp:lastModifiedBy>XP GAME 2010</cp:lastModifiedBy>
  <dcterms:modified xsi:type="dcterms:W3CDTF">2012-11-30T09:23:18Z</dcterms:modified>
  <cp:revision>5</cp:revision>
  <dc:subject/>
  <dc:title>Обмен минеральных веществ</dc:title>
</cp:coreProperties>
</file>