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6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28.jpeg" ContentType="image/jpeg"/>
  <Override PartName="/ppt/media/image6.jpeg" ContentType="image/jpeg"/>
  <Override PartName="/ppt/media/image1.jpeg" ContentType="image/jpeg"/>
  <Override PartName="/ppt/media/image10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23.jpeg" ContentType="image/jpeg"/>
  <Override PartName="/ppt/media/image20.png" ContentType="image/png"/>
  <Override PartName="/ppt/media/image2.jpeg" ContentType="image/jpeg"/>
  <Override PartName="/ppt/media/image5.png" ContentType="image/pn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A712AA-84DF-497F-AD86-C201E92B72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70F9E4-2E8D-42C2-8A11-C2142637A7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61FDB-FBCE-40E6-B06D-A3982109DC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E441F8-FFA6-4C49-BD41-82C4780EE9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3C55C5-5E45-4B5A-80B5-B55B0ADF4E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52FF03-28EF-4FDD-917C-B9AF21E27C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AD7E5-3D4B-4FA3-9A67-5462C92597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64647-2FE3-4ED8-8876-3B294C4288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9D8E2E-6B99-4094-AA58-7F4B5384C6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D3B318-08CC-44D4-B99A-571FE61339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7B7CFD-5F3B-493B-A1F8-7EDEF31468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FDF13C-4130-4E71-8DE3-2116CDEC0D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694CC2-DA23-442E-BE35-8E9756F480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945D45-2B68-48CA-9A5B-D7946CE769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C66C8F-22E8-469A-8035-5ACF221F3C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45E577-5D92-4D6F-92EB-77C2AA1319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33040F-FB05-4FEB-984A-6748380846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20A383-BBE9-4ED0-A2A7-CFDEE1EC67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90C423-4C41-4CDA-B5CC-CEDC9E278A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387A93-8A4A-428F-86B2-E8F3745328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753997-994B-4031-A599-A3F6C0A5B8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38E6-98C5-4416-AB03-DF77742E4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3AF5-748D-4680-A194-F4D723F5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9484-735D-40A6-AD24-A87F1447D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37CF-53BA-4632-8A06-69FAB7B1E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6B23-4444-4C80-AE9F-8FC74E4E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3078-892F-442F-88B3-7CCE7BB4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1529-8D49-4977-B34D-38E602EE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6A8A-7AC9-4FCE-B4C8-F7529916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ED14-1F41-453C-BDA8-2C3C364C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438C-AC1B-4CAF-B26A-C1EF88E1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1B05-9E8E-43A2-901F-234198B4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D22D-EBA0-4D02-9459-67770291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E0EB4E4-B567-4AD1-BA20-F3F8C99B4F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6720" y="848880"/>
            <a:ext cx="6215040" cy="2605320"/>
          </a:xfrm>
          <a:prstGeom prst="rect">
            <a:avLst/>
          </a:prstGeom>
          <a:noFill/>
          <a:ln w="0">
            <a:noFill/>
          </a:ln>
        </p:spPr>
        <p:txBody>
          <a:bodyPr lIns="0" rIns="0" tIns="70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ffff00"/>
                </a:solidFill>
                <a:latin typeface="Arial"/>
              </a:rPr>
              <a:t>Метаболизм  липидов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629080" y="4222800"/>
            <a:ext cx="6551280" cy="273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5969160" y="3065400"/>
            <a:ext cx="3600360" cy="3240000"/>
          </a:xfrm>
          <a:prstGeom prst="rect">
            <a:avLst/>
          </a:prstGeom>
          <a:ln w="0">
            <a:noFill/>
          </a:ln>
        </p:spPr>
      </p:pic>
      <p:sp>
        <p:nvSpPr>
          <p:cNvPr id="51" name="Line 4"/>
          <p:cNvSpPr/>
          <p:nvPr/>
        </p:nvSpPr>
        <p:spPr>
          <a:xfrm>
            <a:off x="5940360" y="1260360"/>
            <a:ext cx="1800" cy="324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5"/>
          <p:cNvSpPr/>
          <p:nvPr/>
        </p:nvSpPr>
        <p:spPr>
          <a:xfrm>
            <a:off x="5940360" y="1260360"/>
            <a:ext cx="3600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 flipV="1">
            <a:off x="9539280" y="1258560"/>
            <a:ext cx="1440" cy="324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160200" y="106200"/>
            <a:ext cx="9772920" cy="7334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60360" y="3419640"/>
            <a:ext cx="7740720" cy="38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Impact"/>
              </a:rPr>
              <a:t>Гидролиз жиров — первая фаза обмена жир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3060720" y="900000"/>
            <a:ext cx="4140360" cy="32403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184320" y="115920"/>
            <a:ext cx="9724680" cy="73152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1979640" y="1800360"/>
            <a:ext cx="6119640" cy="33969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184320" y="115920"/>
            <a:ext cx="9724680" cy="73152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800360" y="1440000"/>
            <a:ext cx="7019640" cy="4140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5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60360" y="820800"/>
            <a:ext cx="561672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аспад глицерина и высших жирных кислот — вторая фаза обме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жиров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4859280" y="3060720"/>
            <a:ext cx="4319640" cy="3959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9280" y="1490400"/>
            <a:ext cx="899964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3200" spc="-1" strike="noStrike" baseline="-33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ОН                           СН</a:t>
            </a:r>
            <a:r>
              <a:rPr b="1" lang="ru-RU" sz="3200" spc="-1" strike="noStrike" baseline="-33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ОН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Н-ОН     +АТФ                   СН-ОН      +АД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3200" spc="-1" strike="noStrike" baseline="-33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ОН                                       ОН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3200" spc="-1" strike="noStrike" baseline="-33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О-Р=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4"/>
          <p:cNvSpPr/>
          <p:nvPr/>
        </p:nvSpPr>
        <p:spPr>
          <a:xfrm>
            <a:off x="4140360" y="324000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959280" y="2879640"/>
            <a:ext cx="19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лицеролкин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7645320" y="3884760"/>
            <a:ext cx="12960" cy="149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7678800" y="4344840"/>
            <a:ext cx="1440" cy="18108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0" y="115920"/>
            <a:ext cx="10080720" cy="74455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39640" y="1768320"/>
            <a:ext cx="903600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Обмен ацетил-Ко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2"/>
          <a:stretch/>
        </p:blipFill>
        <p:spPr>
          <a:xfrm>
            <a:off x="539640" y="981000"/>
            <a:ext cx="4411800" cy="1895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3"/>
          <a:stretch/>
        </p:blipFill>
        <p:spPr>
          <a:xfrm>
            <a:off x="5792760" y="900000"/>
            <a:ext cx="2847960" cy="16099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39280" y="126036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Метаболизм включает широкий спектр химических реакций, большинство из которых относятся к нескольким основным типам реакций переноса функциональных групп. Для переноса функциональных групп между ферментами, катализирующими химические реакции, используются кофермен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800000" y="3600360"/>
            <a:ext cx="6840360" cy="33386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b80047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b80047"/>
                </a:solidFill>
                <a:latin typeface="Arial"/>
              </a:rPr>
              <a:t>Структура кофермента Ацетил-КоА. Ацетильная группа связана с атомом серы по левому кра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1979640" y="1079640"/>
            <a:ext cx="5759280" cy="28796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280" y="538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прощённая схема катаболизма белков, сахаров и липид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2700360" y="2340000"/>
            <a:ext cx="4675320" cy="40165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68000" y="3501720"/>
            <a:ext cx="907092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бмен липидов касается достаточно энергично протекающего процесса межмембранного переноса липидов, особенно фосфолипидов, из митохондрий в ЭПС и обратно, из мембранной фракции клетки в липосомы и т. 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2886120" y="411120"/>
            <a:ext cx="4983120" cy="31766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9280" y="410760"/>
            <a:ext cx="907092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Липиды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жиры и жироподобные вещества, являющиеся производными высших жирных кислот, высших жирных спиртов или высших жирных альдегидов.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Как правило, это низкомолекулярные  жирорастворимые  органические  вещества,  которые  извлекаются  из клеток  животных,  растений  и  микроорганизмов  неполярными растворителя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700360" y="3959280"/>
            <a:ext cx="4456080" cy="29289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958920" y="642600"/>
            <a:ext cx="5435640" cy="5468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чение этого обновления и видоизменения липидного состава мембран огромно, так как при его посредстве регулируется метаболическая активность мембранного аппарата клетки и субклеточных структу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2"/>
          <a:stretch/>
        </p:blipFill>
        <p:spPr>
          <a:xfrm>
            <a:off x="539640" y="1079640"/>
            <a:ext cx="3060720" cy="2519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3"/>
          <a:stretch/>
        </p:blipFill>
        <p:spPr>
          <a:xfrm>
            <a:off x="539640" y="3780000"/>
            <a:ext cx="3060720" cy="25192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0" y="-27000"/>
            <a:ext cx="10078920" cy="74055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79160" y="1571400"/>
            <a:ext cx="907092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Основные биологические функции липидов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224"/>
              </a:spcBef>
              <a:spcAft>
                <a:spcPts val="224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лавные компоненты биологических мембран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224"/>
              </a:spcBef>
              <a:spcAft>
                <a:spcPts val="224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асной, изолирующий и защищающий органы материал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224"/>
              </a:spcBef>
              <a:spcAft>
                <a:spcPts val="224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иболее калорийная часть пищ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224"/>
              </a:spcBef>
              <a:spcAft>
                <a:spcPts val="224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ажная составная часть диеты человека и животны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224"/>
              </a:spcBef>
              <a:spcAft>
                <a:spcPts val="224"/>
              </a:spcAft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анспорт некоторых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витамино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нутри организм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224"/>
              </a:spcBef>
              <a:spcAft>
                <a:spcPts val="224"/>
              </a:spcAft>
              <a:buSzPct val="100000"/>
              <a:buBlip>
                <a:blip r:embed="rId7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егуляторы транспорта воды и соле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224"/>
              </a:spcBef>
              <a:spcAft>
                <a:spcPts val="224"/>
              </a:spcAft>
              <a:buSzPct val="100000"/>
              <a:buBlip>
                <a:blip r:embed="rId8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ммуномодулятор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224"/>
              </a:spcBef>
              <a:spcAft>
                <a:spcPts val="224"/>
              </a:spcAft>
              <a:buSzPct val="100000"/>
              <a:buBlip>
                <a:blip r:embed="rId9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егуляторы активности некоторых фермент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224"/>
              </a:spcBef>
              <a:spcAft>
                <a:spcPts val="224"/>
              </a:spcAft>
              <a:buSzPct val="100000"/>
              <a:buBlip>
                <a:blip r:embed="rId10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ндогормон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224"/>
              </a:spcBef>
              <a:spcAft>
                <a:spcPts val="224"/>
              </a:spcAft>
              <a:buSzPct val="100000"/>
              <a:buBlip>
                <a:blip r:embed="rId1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датчики биологических сигналов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189000" y="115920"/>
            <a:ext cx="9715320" cy="73152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00000" y="1079280"/>
            <a:ext cx="471672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В состав жира входят эфиры высших жирных кислот и трехатомного спирта — глицери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5940360" y="2774880"/>
            <a:ext cx="3119400" cy="2625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3"/>
          <a:stretch/>
        </p:blipFill>
        <p:spPr>
          <a:xfrm>
            <a:off x="6659640" y="1863720"/>
            <a:ext cx="1780920" cy="6573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184320" y="115920"/>
            <a:ext cx="9724680" cy="73152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824000" y="622080"/>
            <a:ext cx="4535640" cy="58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omic Sans MS"/>
              </a:rPr>
              <a:t>По другому глицерин называют </a:t>
            </a:r>
            <a:r>
              <a:rPr b="0" i="1" lang="ru-RU" sz="4000" spc="-1" strike="noStrike">
                <a:solidFill>
                  <a:srgbClr val="0000ff"/>
                </a:solidFill>
                <a:latin typeface="Comic Sans MS"/>
              </a:rPr>
              <a:t>триглицери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1260360" y="1517760"/>
            <a:ext cx="3240360" cy="22622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1079640" y="4140360"/>
            <a:ext cx="377964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уктура триглицер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дикалы R1, R2 и R3 жирных кислот могут быть различ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792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35712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360360" y="712800"/>
            <a:ext cx="9215280" cy="60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риродные жиры содержат следующие жирные кислоты</a:t>
            </a: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Arial"/>
              </a:rPr>
              <a:t>Насыщенны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стеариновая (C17H35COO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маргариновая (C16H33COO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пальмитиновая (C15H31COO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Arial"/>
              </a:rPr>
              <a:t>Ненасыщенны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пальмитолеиновая (C15H29COOH, 1 двойная связь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олеиновая (C17H33COOH, 1 двойная связь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линолевая (C17H31COOH, 2 двойные связи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линоленовая (C17H29COOH, 3 двойные связи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арахидоновая (C19H31COOH, 4 двойные связи, реже встречается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792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7272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 жирных кислот некоторых </a:t>
            </a:r>
            <a:br>
              <a:rPr sz="3600"/>
            </a:br>
            <a:r>
              <a:rPr b="1" lang="ru-RU" sz="3600" spc="-1" strike="noStrike" u="sng">
                <a:solidFill>
                  <a:srgbClr val="003399"/>
                </a:solidFill>
                <a:uFillTx/>
                <a:latin typeface="Arial"/>
                <a:ea typeface="Times New Roman"/>
              </a:rPr>
              <a:t>растительных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жиров и масел: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1419120" y="1619280"/>
            <a:ext cx="7220160" cy="54309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1340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 жирных кислот некоторых </a:t>
            </a:r>
            <a:br>
              <a:rPr sz="3600"/>
            </a:br>
            <a:r>
              <a:rPr b="1" lang="ru-RU" sz="3600" spc="-1" strike="noStrike" u="sng">
                <a:solidFill>
                  <a:srgbClr val="003399"/>
                </a:solidFill>
                <a:uFillTx/>
                <a:latin typeface="Arial"/>
              </a:rPr>
              <a:t>живот</a:t>
            </a:r>
            <a:r>
              <a:rPr b="1" lang="ru-RU" sz="3600" spc="-1" strike="noStrike" u="sng">
                <a:solidFill>
                  <a:srgbClr val="003399"/>
                </a:solidFill>
                <a:uFillTx/>
                <a:latin typeface="Arial"/>
                <a:ea typeface="Times New Roman"/>
              </a:rPr>
              <a:t>ных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жиров и масел: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1333440" y="1768320"/>
            <a:ext cx="7410600" cy="4989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rm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10:34:17Z</dcterms:created>
  <dc:creator/>
  <dc:description/>
  <dc:language>en-US</dc:language>
  <cp:lastModifiedBy>XP GAME 2010</cp:lastModifiedBy>
  <dcterms:modified xsi:type="dcterms:W3CDTF">2012-11-30T10:08:58Z</dcterms:modified>
  <cp:revision>6</cp:revision>
  <dc:subject/>
  <dc:title>Метаболизм  липидов.</dc:title>
</cp:coreProperties>
</file>