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5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8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31.wmf" ContentType="image/x-wmf"/>
  <Override PartName="/ppt/media/image35.wmf" ContentType="image/x-wmf"/>
  <Override PartName="/ppt/media/image30.wmf" ContentType="image/x-wmf"/>
  <Override PartName="/ppt/media/image36.wmf" ContentType="image/x-wmf"/>
  <Override PartName="/ppt/media/image47.jpeg" ContentType="image/jpeg"/>
  <Override PartName="/ppt/media/image12.wmf" ContentType="image/x-wmf"/>
  <Override PartName="/ppt/media/image37.wmf" ContentType="image/x-wmf"/>
  <Override PartName="/ppt/media/image42.png" ContentType="image/png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43.jpeg" ContentType="image/jpeg"/>
  <Override PartName="/ppt/media/image5.png" ContentType="image/png"/>
  <Override PartName="/ppt/media/image4.jpeg" ContentType="image/jpeg"/>
  <Override PartName="/ppt/media/image38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9C3-622E-40DE-8247-43495EEF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F9D-36AB-42AF-9495-9A971719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B36-B0BC-495E-95A9-2ED10C6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3E0-0A95-48C1-BFE7-F3673DB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4CF9-4056-4BCE-AB06-E7890BD0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E1A3-2CA4-4E7A-A671-3610435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B7FA-4D86-4409-A6F4-BBDD8570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6B3B-9F6C-4C68-BC6A-824CC30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963-C555-4AD2-8C85-330C823E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784-26DA-46D8-9979-E9E0095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D25-148E-405C-A20B-9C168A6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782-BA2C-4F9C-A752-8186F0E3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551-79C6-4B87-B44D-85B6798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350-9AFC-46AB-ACE0-DA57830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F91B-543C-4427-8BAA-3E4835AB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B0B-1676-4B78-BF83-584E6044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065-D7D0-44DF-B58B-5CBBCBCE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227D-B7B3-43D6-BF6C-E7664C01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92EE-E479-48F1-8D40-AD9491AE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6B82-0A80-4E87-93D7-BF292BD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B3D4-ED5D-4928-98CD-578B2B6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2E65-24D1-4CE0-BF4D-20017DF1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20F-ECC2-4EE2-BFA4-2BF07FF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BCE4-C407-4804-9A62-C821268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FDC3-FC10-4F70-AE1A-BCF1145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DE8C-2807-465B-86AE-98355A4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EB0C-4C78-4A91-859C-0E85A97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1F4A-EFA0-444A-BC0B-DE7FDBE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35A0-5EAC-4C72-9CC2-BFB4E123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8E9A-F9C7-4DA1-B6AB-62D71BE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9A42-0A7F-4A31-9F6F-B1B8585E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8A51-D185-4B7E-8D4C-D00BDB2C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6317-1E2E-463E-A7E0-5DD650B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59E-FDAA-4697-A080-173E2789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17A7-CE99-4555-A75C-6783C454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F8CB-BE7E-4D0E-AFC1-471BEC0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0F2A-FAF3-4F0A-B6BB-CE5AE31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C94B-7B96-4627-A985-21E6B91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6E50-A00F-47F5-91B1-FA4604C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2488-BDCB-4FB1-8096-D9AAB604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DB308-8078-46DC-8177-9BA4EAC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401AA-3400-4F5E-98F9-A920E1F7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2F9B-CA34-4AA8-8AF4-5223286F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B70-0001-4231-8AC2-0A820C33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C0F-C749-4D13-9E3C-7D8A7E1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B01-B55A-4E7E-B5BE-7909022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44A-142E-421C-84A2-247E3D9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C2D-4AAD-47AA-9BFE-34185A2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F25C-EA72-4C8C-AE04-66831F6A18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095-2E4A-4488-8BEE-B20FBE18C4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06A9-98F6-4F18-918F-51B27877956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13A-9BF6-4140-962F-058F5559F8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.wmf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pn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21" descr=""/>
          <p:cNvPicPr/>
          <p:nvPr/>
        </p:nvPicPr>
        <p:blipFill>
          <a:blip r:embed="rId2"/>
          <a:stretch/>
        </p:blipFill>
        <p:spPr>
          <a:xfrm>
            <a:off x="-55440" y="1468440"/>
            <a:ext cx="9169200" cy="36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269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272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73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9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dd9"/>
                </a:solidFill>
                <a:uFillTx/>
                <a:latin typeface="Arial"/>
              </a:rPr>
              <a:t>Витам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009dd9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500"/>
                            </p:stCondLst>
                            <p:childTnLst>
                              <p:par>
                                <p:cTn id="360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95200" y="630864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7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9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1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Text Box 13"/>
          <p:cNvSpPr/>
          <p:nvPr/>
        </p:nvSpPr>
        <p:spPr>
          <a:xfrm>
            <a:off x="216000" y="53006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3276720" y="1628640"/>
            <a:ext cx="4038480" cy="2321280"/>
            <a:chOff x="3276720" y="1628640"/>
            <a:chExt cx="4038480" cy="2321280"/>
          </a:xfrm>
        </p:grpSpPr>
        <p:grpSp>
          <p:nvGrpSpPr>
            <p:cNvPr id="378" name="Group 12"/>
            <p:cNvGrpSpPr/>
            <p:nvPr/>
          </p:nvGrpSpPr>
          <p:grpSpPr>
            <a:xfrm>
              <a:off x="3276720" y="2161800"/>
              <a:ext cx="2057400" cy="1788120"/>
              <a:chOff x="3276720" y="2161800"/>
              <a:chExt cx="2057400" cy="1788120"/>
            </a:xfrm>
          </p:grpSpPr>
          <p:graphicFrame>
            <p:nvGraphicFramePr>
              <p:cNvPr id="379" name="Object 9"/>
              <p:cNvGraphicFramePr/>
              <p:nvPr/>
            </p:nvGraphicFramePr>
            <p:xfrm>
              <a:off x="3276720" y="216180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80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276720" y="216180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81" name="Text Box 11"/>
              <p:cNvSpPr/>
              <p:nvPr/>
            </p:nvSpPr>
            <p:spPr>
              <a:xfrm>
                <a:off x="3276720" y="307620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16"/>
            <p:cNvGrpSpPr/>
            <p:nvPr/>
          </p:nvGrpSpPr>
          <p:grpSpPr>
            <a:xfrm>
              <a:off x="5562720" y="1628640"/>
              <a:ext cx="1752480" cy="2286000"/>
              <a:chOff x="5562720" y="1628640"/>
              <a:chExt cx="1752480" cy="2286000"/>
            </a:xfrm>
          </p:grpSpPr>
          <p:pic>
            <p:nvPicPr>
              <p:cNvPr id="383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562720" y="162864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384" name="Text Box 13"/>
              <p:cNvSpPr/>
              <p:nvPr/>
            </p:nvSpPr>
            <p:spPr>
              <a:xfrm>
                <a:off x="5639040" y="353340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6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0" y="533412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0" y="285264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5264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561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000"/>
                            </p:stCondLst>
                            <p:childTnLst>
                              <p:par>
                                <p:cTn id="565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40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40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500"/>
                            </p:stCondLst>
                            <p:childTnLst>
                              <p:par>
                                <p:cTn id="584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Admin</cp:lastModifiedBy>
  <dcterms:modified xsi:type="dcterms:W3CDTF">2012-02-04T03:31:15Z</dcterms:modified>
  <cp:revision>228</cp:revision>
  <dc:subject/>
  <dc:title>Презентация PowerPoint</dc:title>
</cp:coreProperties>
</file>