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7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9.jpeg" ContentType="image/jpeg"/>
  <Override PartName="/ppt/media/image8.png" ContentType="image/png"/>
  <Override PartName="/ppt/media/image33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</p:sldIdLst>
  <p:sldSz cx="9144000" cy="6858000"/>
  <p:notesSz cx="6811963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68112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22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Img"/>
          </p:nvPr>
        </p:nvSpPr>
        <p:spPr>
          <a:xfrm>
            <a:off x="92232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ftr" idx="23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 type="sldNum" idx="24"/>
          </p:nvPr>
        </p:nvSpPr>
        <p:spPr>
          <a:xfrm>
            <a:off x="385920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7AC3-7150-4108-A375-F87C5FD6A4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5920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8965-C96D-4CFC-8DF2-059FDA97AB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5920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7357-136B-4EAC-A72F-4517360B67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0D1-F43B-48B3-8C64-9749D577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230-9EFF-4100-836F-05E6762B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693-DA5F-43A0-9494-451BC7DB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A067-B3F0-4EAA-90CC-084864E7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D6F8-C4DD-4E79-A4AC-325BE2CD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E304-9F48-4A75-92CE-2FFFB56F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E215-D41C-406D-9500-2184CF35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556F-3F3B-4CC1-9781-9AF58D6F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E119-ECD4-4DBF-8DBF-951B47DB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300C-F373-4101-BEBB-401CCDAE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5515-571C-4B05-A419-DC4AE328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1B1-A7C0-4B07-A744-4748145E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0715-179B-4C09-AE78-625C31DE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2C74-B132-43B8-B4E6-70A45BA5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DE84-0F1F-48C3-9CFE-5A848400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9230-A6FD-413B-9456-4A68B51B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7D9A-145E-4944-9E89-7191E2B1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45B5B-C8EE-47D9-91E7-DAA667C2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18B14-2278-4FEA-9827-3C5C3550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AB388-5D3D-43E7-A589-A536EA61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BAC7-3F9C-4E4E-AE3E-5113BCAF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CE6B5-EC87-4409-86C0-62D2C938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767-7AC5-4DFF-AC82-B6F652A0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DFC7-20A4-442D-9699-6A9CE35C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62455-5465-4255-9EF7-2B5366C5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15F53-6A5E-4FE6-BCE5-72C9D61F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2FEA9-65AE-4C07-AC38-9360B5DD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0BA11-9FC5-4F05-9F7E-530CA387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BC459-2DEB-4F46-A906-EC1A18CC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0BEC4-AE91-4282-B63A-EB2A85C9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E5BCC-0BBB-493E-AA66-6BC121B3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5F6D5-0503-46BB-BA96-6B338522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FFC3C-8988-4A98-A447-119A4BB3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2CE-7676-4018-A78C-443EE328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305AC-F3DE-4785-9E6E-47B5599D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ECF86-FE7A-4A08-9712-48BB212D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38802-19AF-4AAD-89AF-439D5545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A219B-3B9A-4AF3-852C-99D3F40B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DE516-4C05-4513-9B85-F20C300A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C588C-8C84-4EC8-B905-3A7ED3E8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F48DE-5CAC-47D1-BB22-091B8442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1D312-A3C0-48EF-B3C6-759B3EB4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63D11-934C-430C-8AE7-0FA309E0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DC653-D64E-473D-BB5F-BE17DAA8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9B2-190F-4E8E-85C4-1417D7A4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D215B-DF1E-4A53-A217-B94ED0BE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1FD38-0456-4771-A689-432DB493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B5841-5FD4-4593-9902-78F79D22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F050E-C429-4CB3-9B81-052EA2A3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42306-7DBB-49BC-9005-F6D8B8A0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5386F-ADD3-4A41-B8BA-ABA1AC45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F4B5F-3ACE-4942-8EA0-730348EF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06216-8057-4AAE-AFCC-9C7AE730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4DAC1-1672-4DFA-9291-C12FF0D3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8C38D-FE4A-401F-9D94-13DB3C36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A53-B67E-48C3-84DC-825756D4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02C15-BA75-4837-BB0E-A77F3911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121F9-55D5-42D5-BB0F-8DD66F94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BEE9B-1CEF-4E69-83B8-E9349A4E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E9A50-3423-40AA-806C-4C02B547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7E01F-A8F0-4A47-BE82-130B37D3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83F3D-AF35-4F1C-8056-E9CD8D82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12E73-0A29-4635-AE31-B1C14B54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06427-D241-46CC-9EB3-E7A19CDC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AE4F2-5327-4591-AF55-0B5D6CB3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EF2CC-3660-4D39-84D9-0A053496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948-5107-4563-8FE3-0DB261D0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F9F5B-B0C0-4E3D-9F82-F9B39ADB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96967-8A6C-4552-B6D9-17AC2FDF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F2CAA-2FEE-4802-BA6D-E8EFEFEF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50818-628C-45B9-A413-C9E73417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9EA12-ED1C-4D49-AF10-44C85629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C639F-ECDF-4180-8116-1FB7F774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CECA6-308F-42F4-A231-5A0B588D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FA2BC-2259-4D6E-B55B-7EFA18FC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8D316-5888-4D00-895D-C41A55F4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D603F-937E-4BF6-A386-6AFB9BBC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131-8192-4A2F-A5CC-0E8FDDF8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19A01-BD16-45E8-8C84-A88CD609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517B4-35B6-4E55-9BBD-93C06EAB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B3916-A515-4ACA-AA0A-2A0BCD50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913C2-C05B-4CEA-81BC-5D3DC746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0C33E-D69C-4EF5-85A5-1D15AC95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98EB-D291-4741-958B-3291D566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C508-8E18-4C97-B0C1-AB4D807436D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0BB0-BCB5-41A4-A495-5DD242671C5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D120-216B-496F-9EFA-E20EF9D8205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B2D8-0C61-45CF-B6EB-13B7A8DAB20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72C7-67B1-435D-AA72-CA1B7ACB350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F090-1D56-4974-AAE1-FA3F77EBC68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308E-211D-49A2-B5E7-76785AC0EA14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4E77-3C33-47AD-9B8C-682808B829B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6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7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89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F47E-B078-4D69-8801-E1C1228C89DA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2043-8A41-4265-A088-D1904D512C9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6789-5834-4A37-A79C-3EF6DB04A09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6AD6-1CD1-4226-B214-B918966310A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74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5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77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78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3373-8850-44B3-ABA4-F05AC41D79F6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3737-E592-47F8-9074-43B993ECBA6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Раздел биохимии, изучающий химические превращения, лежащие в основе функций органов, тканей и организма в целом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64D-DF1E-4041-94FD-0C1BF3FFBE49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"/>
          <p:cNvSpPr/>
          <p:nvPr/>
        </p:nvSpPr>
        <p:spPr>
          <a:xfrm>
            <a:off x="642960" y="27360"/>
            <a:ext cx="8001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м липидов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ени синтезируются желчные кислоты, при дефиците которых переваривания жиров практически не происходит. В регуляции метаболизма липидов печени принадлежит ведущая роль. Так, при дефиците основного энергетического материала - глюкозы, в печени активируется окисление жирных кислот. В условиях избытка глюкозы в гепатоцитах происходит синтез триглицеридов и фосфолипидов из жирных кислот, которые поступают в печень из кишечни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749-5735-4DB0-8AC8-3A23D32A7FC9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"/>
          <p:cNvSpPr/>
          <p:nvPr/>
        </p:nvSpPr>
        <p:spPr>
          <a:xfrm>
            <a:off x="214200" y="46656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и принадлежит ведущая роль в регуляции обмена холестерола. Исходное вещество в его синтезе - ацетил-КоА. Т. е. Избыточное питание стимулирует образование холестерол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ени синтезируются транспортные формы липопротеин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ени, кроме того, синтезируются кетоновые тела, в частности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цетоацет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идрооксимаслянная кисл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разносятся кровью по организму. Сердечная мышца и корковый слой надпочечников предпочитают в качестве источника энергии использовать именно эти соединения, а не глюкоз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C7A-44CE-4344-871C-A7393F1F9270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D:\Documents and Settings\Admin\Рабочий стол\305.jpg"/>
          <p:cNvPicPr/>
          <p:nvPr/>
        </p:nvPicPr>
        <p:blipFill>
          <a:blip r:embed="rId1"/>
          <a:stretch/>
        </p:blipFill>
        <p:spPr>
          <a:xfrm>
            <a:off x="2357280" y="0"/>
            <a:ext cx="4542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ECD-0F47-4983-B25C-ACE1CDA98583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571680" y="524880"/>
            <a:ext cx="82152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м белков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использует АК, поступающие из пищеварительного тракта для синтеза собственных белков, но большая их часть идет на синтез белков плазмы крови. В печени синтезируются фибриноген, альбумины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лобулины и липопротеиды. В печени синтезируется также т.н. лабильный резервный белок, который является как бы запасом АК, которые затем могут использоваться различными органами и тканями по мере необходимо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занимает центральное место в обмене АК, т.к. в ней активно протекают процессы их химической модификации. Кроме того, именно в печени происходит синтез мочевины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051-6500-4245-81C3-DD9D97FD9D5F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" descr="D:\Documents and Settings\Admin\Рабочий стол\S14-08-vzaimosvjaz-treh-obmenov-obmenov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34B-B61E-4DE7-9BCD-E65B537656A4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"/>
          <p:cNvSpPr/>
          <p:nvPr/>
        </p:nvSpPr>
        <p:spPr>
          <a:xfrm>
            <a:off x="571680" y="318960"/>
            <a:ext cx="714348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оксицирующая функция пече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оксикация ядовитых метаболитов и чужеродных соединений (ксенобиотиков) протекает в гепатоцитах в две стадии. Реакции первой стадии катализируются монооксигеназной системой, компоненты которой встроены  в мембраны эндоплазматического ретикулума. Реакции окисления, восстановления или гидролиза являются первой стадией  в системе выведения из организма гидрофобных молекул. Они превращают вещества в полярные водорастворимые метаболиты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фермент гемопротеид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итохромы Р-45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настоящему времени выявлено множество изоформ этого фермента и отнесено, в зависимости от их свойств и выполняемых функций, к нескольким семействам. У млекопитающих идентифицировано 13 подсемейств цх Р-450, условно считается, что ферменты семейства I-IV  участвуют в биотрансформации ксенобиотиков, остальные метаболизируют эндогенные соединения (стероидные гормоны, простатагландины, жирные кислоты и др.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свойством цх Р-450 является способность к индукции под действием экзогенных субстратов, что легло в основу классификации изоформ в зависимости от индуцируемости тем или веществом определенной химической структуры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509-DED7-4FDB-9781-AB8E1FE037F3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"/>
          <p:cNvSpPr/>
          <p:nvPr/>
        </p:nvSpPr>
        <p:spPr>
          <a:xfrm>
            <a:off x="500040" y="850680"/>
            <a:ext cx="7215120" cy="54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й стадии биотрансформации происходит образование или высвобождение гидрокси-, карбоксильных, тиоловых и аминогрупп, которые являются гидрофильными, и молекула может подвергаться дальнейшему превращению и выведению из организма. В качестве кофермента используется НАДФН. Кроме цх Р-450, в первой стадии биотрансформации принимают участие цх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цитохромредуктаз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лекарственные вещества, попадая в организм, превращаются на первой стадии биотрансформации в активные формы и оказывают необходимый лечебный эффект. Но часто ряд ксенобиотиков не детоксицируется, а наоборот токсифицируется с участием монооксигеназной системы и становится более реакционноспособны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 метаболизма чужеродных веществ, образовавшихся на первой стадии биотрансформации, подвергаются дальнейшей детоксикации с помощью ряда реакций второй стадии.  Образующиеся  при этом соединения менее полярны и в связи с этим легко удаляются из клеток. Преобладающим является процесс конъюгации, катализируемый глутатион-S-трансферазой, сульфотрансферазой и UDP-глюкуронилтрансферазой. Конъюгацию с глутатионом, приводящую к образованию меркаптуровых кислот, принято рассматривать в качестве основного механизма детоксикации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8FE-CFFF-437F-BC8D-E02B0A3CE00B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D:\Documents and Settings\Admin\Рабочий стол\Новая папка\pech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A7C-109D-4FE0-897F-006B1F88076C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D:\Documents and Settings\Admin\Рабочий стол\e7f6bc2cd695abf60cb801182e38c101.png"/>
          <p:cNvPicPr/>
          <p:nvPr/>
        </p:nvPicPr>
        <p:blipFill>
          <a:blip r:embed="rId1"/>
          <a:stretch/>
        </p:blipFill>
        <p:spPr>
          <a:xfrm>
            <a:off x="1571760" y="-1000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1"/>
          <p:cNvSpPr/>
          <p:nvPr/>
        </p:nvSpPr>
        <p:spPr>
          <a:xfrm>
            <a:off x="857160" y="2357280"/>
            <a:ext cx="771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 (ведущий компонент редокс-буфера клетки) представляет собой соединение, содержащее реактивную тиоловую группу.  Большая его часть находится в восстановленной форме (GSH) и играет центральную роль в инактивации токсических и реактивных продуктов. Восстановление окисленного  глутатиона осуществляет фермент - глутатионредуктаза, используя как кофермент НАДФН. Коньюгаты с глутатионом, серной и глюкуроновой кислотами выводятся из организма преимущественно с мочо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C18-C5DD-4663-A998-249EE164B8AB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D:\Documents and Settings\Admin\Рабочий стол\Glutathione-3D-vdW.pn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46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4C9-58C9-47DD-8F69-747C66220ADD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Прямоугольник 2" descr=""/>
          <p:cNvPicPr/>
          <p:nvPr/>
        </p:nvPicPr>
        <p:blipFill>
          <a:blip r:embed="rId1"/>
          <a:stretch/>
        </p:blipFill>
        <p:spPr>
          <a:xfrm>
            <a:off x="1000080" y="324000"/>
            <a:ext cx="7174080" cy="11332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"/>
          <p:cNvSpPr/>
          <p:nvPr/>
        </p:nvSpPr>
        <p:spPr>
          <a:xfrm>
            <a:off x="500040" y="2000160"/>
            <a:ext cx="771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Прямоугольник 5"/>
          <p:cNvSpPr/>
          <p:nvPr/>
        </p:nvSpPr>
        <p:spPr>
          <a:xfrm>
            <a:off x="500040" y="1500120"/>
            <a:ext cx="7286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самый крупный из паренхиматозных органов. Она выполняет ряд ключевых функци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ет и распределяет вещества, поступающие в организм из пищеварительного тракта, которые приносятся с кровью по воротной вене. Эти вещества проникают в гепатоциты, подвергаются химическим превращениям и в виде промежуточных или конечных метаболитов поступают в кровь и разносятся в другие органы и ткан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местом образования желч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ирует вещества, которые используются в других тканях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ктивирует экзогенные и эндогенные токсические вещества, а также гормон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8F1-18C0-48BA-9602-C6E275CFEA55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857160" y="381960"/>
            <a:ext cx="76438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альность ферментных систе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альность метаболических комплексов печени, основного органа поддержания химического гомеостаза,  определяет различие в ферментном составе между гепатоцитами перивенозной (центральной) и перипортальной (периферической) зон ацинуса (рис.4.16.1.). Это связано с их неодинаковой потребностью в кислороде различных ферментных систем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наибольшая концентрация ферментов ЦТК,  катаболизма амино- и жирных кислот, цикла мочевины, глюконеогенеза отмечена в перипортальной зон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ющ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ее оксигенированную кровь. Поскольку компоненты реакций второй фазы биотрансформации локализованы в клетках этой зоны ацинуса, то они более защищены от действия токсических продуктов.  В гепатоцитах перицентральной зоны более активен гликолиз и первая стадия биотрансформации ксенобиотик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B03-58F1-495F-8CB8-53741326B7E7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D:\Documents and Settings\Admin\Рабочий стол\126.jpg"/>
          <p:cNvPicPr/>
          <p:nvPr/>
        </p:nvPicPr>
        <p:blipFill>
          <a:blip r:embed="rId1"/>
          <a:stretch/>
        </p:blipFill>
        <p:spPr>
          <a:xfrm>
            <a:off x="6357960" y="4240080"/>
            <a:ext cx="2286000" cy="261792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1" descr=""/>
          <p:cNvPicPr/>
          <p:nvPr/>
        </p:nvPicPr>
        <p:blipFill>
          <a:blip r:embed="rId2"/>
          <a:stretch/>
        </p:blipFill>
        <p:spPr>
          <a:xfrm>
            <a:off x="1189080" y="36360"/>
            <a:ext cx="6559560" cy="113364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2"/>
          <p:cNvSpPr/>
          <p:nvPr/>
        </p:nvSpPr>
        <p:spPr>
          <a:xfrm>
            <a:off x="642960" y="1214280"/>
            <a:ext cx="785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крови у различных животных составляет от 6,2 до 8% массы тела, причём у молодых животных относительный объём крови несколько больше. Кровь как жидкая ткань обеспечивает постоянство внутренней среды организма. Биохимические показатели крови занимают особое место и очень важны как для оценки физиологического статуса организма животного, так и для своевременной диагностики патологических состояний. Кровь обеспечивает взаимосвязь обменных процессов, протекающих в различных органах и тканях, выполняет также защитную, транспортную, регуляторную, дыхательную, терморегулирующую и другие функции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ь состоит из плазмы (55-60%) и взвешенных в ней форменных элементов – эритроцитов (39-44%), лейкоцитов (1%) и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цитов (0,1%). Благодаря наличию в крови белков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эритроцитов её вязкость в 4-6 раз выше вязкости воды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тояние крови в пробирке или центрифугировании с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ми скоростями форменные элементы её осаждаютс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670-AB95-4376-99BC-27568E1B4A24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357120" y="285840"/>
            <a:ext cx="771516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е осаждение форменных элементов крови получило название реакции осаждения эритроцитов (РОЭ, теперь – СОЭ). Величина СОЭ (мм/час) для разных видов животных колеблется в широких пределах: если для собаки СОЭ практически совпадает с интервалом значений для человека (2-10 мм/час), то для свиньи и лошади не превышает 30 и 64 соответственно. Плазма крови, лишённая белка фибриногена, носит название сыворотки кров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рН крови для большинства животных находится в пределах 7,2 – 7,6. Осмотическое давление плазмы крови (7,0-8,0 атм.) определяется количеством в ней растворимых веществ (NaCl, NaHCO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фосфаты) и белков. Растворы солей, имеющие осмотическое давление, равное таковому нормальной сыворотки крови, называются изотоническими растворами (например, 0,9% раствор NaCl). Незначительная часть давления плазмы крови (несколько процентов) определяется белками и называется онкотическим давлением. Однако его роль важна для поддержания водного обмена организма: белки плазмы, удерживая воду в кровяном русле, предупреждает развитие тканевых отёков. Растворы с низким осмотическим давлением называются гипотоническими, а с высоким – гипертоническим. При введение в кровь они вызывают гемолиз и плазмолиз эритроцитов соответственно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84A-1FAE-4376-899C-CB034F053063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D:\Documents and Settings\Admin\Рабочий стол\analiz_krovi_1.jpg"/>
          <p:cNvPicPr/>
          <p:nvPr/>
        </p:nvPicPr>
        <p:blipFill>
          <a:blip r:embed="rId1"/>
          <a:stretch/>
        </p:blipFill>
        <p:spPr>
          <a:xfrm>
            <a:off x="1214280" y="0"/>
            <a:ext cx="6872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F21-C3B4-4EED-BE92-36DA74F46137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1"/>
          <p:cNvSpPr/>
          <p:nvPr/>
        </p:nvSpPr>
        <p:spPr>
          <a:xfrm>
            <a:off x="714240" y="571680"/>
            <a:ext cx="79297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Химический состав кров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а крови животных представляет собой жидкость с плотностью 1,02 – 1,06. Повышение плотности крови может наблюдаться в случаях обезвоживания организма, вызванного длительными диареями, отсутствием питьевой воды. На долю сухого (плотного) остатка плазмы приходится менее 10%, а остальное – вода. Основную массу сухого остатка составляют белки, общая концентрация которых в плазме составляет 60 – 80 г/л. Сумма концентраций глобулинов и альбуминов составляет концентрацию общего белка плазмы крови. Повышение концентрации общего белка плазмы обычно наблюдается при обезвоживании организма. Снижение концентрации общего белка плазмы может быть следствием самых разнообразных причин – низкое содержание белка в рационе, нарушение процесса всасывания питательных веществ в пищеварительном тракте, болезни печени, почек, при которых теряется белок с мочо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CB8-531C-44F6-9E19-BB39252BE7B4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D:\Documents and Settings\Admin\Рабочий стол\1265615179_krov.jpg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D91-D4EF-40E2-8F0C-169C28510535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214200" y="642960"/>
            <a:ext cx="87868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й состав белков плазмы крови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й состав белков плазмы крови очень разнообразен. В клинической биохимии часто общий белок плазмы делят на отдельные фракции методом электрофореза, основанного на разделении белковых смесей по признаку различной величины массы и конкретного заряда одного белка. При электрофоретическом разделении в зависимости от носителя количество белковых фракций общего белка неодинаково. Независимо от вида электрофореза всегда выделяют основные фракции - альбумины и глобулины. Альбумины синтезируются в печени и являются простыми белками, содержащими до 600 аминокислотных остатков. Они хорошо растворимы в воде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78B-D118-4E33-9BC2-35FBA2ECE833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1"/>
          <p:cNvSpPr/>
          <p:nvPr/>
        </p:nvSpPr>
        <p:spPr>
          <a:xfrm>
            <a:off x="642960" y="714240"/>
            <a:ext cx="7929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альбуминов состоит в поддержании коллоидно-осмотического давления плазмы, постоянства концентрации водородных ионов, а также в транспорте различных веществ, включая билирубин, жирные кислоты, минеральные соединения и лекарственные препараты. Альбумины плазмы крови могут рассматриваться и как определённый резерв аминокислот для синтеза жизненно необходимых специфических белков в условиях дефицита белков в рационе. Альбумины удерживают воду в кровяном русле, а поэтому при гипоальбуминемиях могут быть отёки мягких тканей. При нефритах в мочу из плазмы крови проникают в первую очередь альбумины, как самые низкомолекулярные белки (молекулярная масса альбуминов составляет около 60000 – 66000). В норме на долю альбуминов приходится 35 – 55% от общего    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белков плазмы кров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651-0DA9-4E0E-8EBB-53E32A7CFE1A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1"/>
          <p:cNvSpPr/>
          <p:nvPr/>
        </p:nvSpPr>
        <p:spPr>
          <a:xfrm>
            <a:off x="428760" y="928800"/>
            <a:ext cx="7358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лины плазмы – это множество различных белков. При электрофорезе они перемещаются вслед за альбуминами. Как правило, в плазме они находятся в комплексе со стероидами, углеводами или фосфатами. Взаимосвязь с липидами обеспечивает комплексам глобулинов растворимое состояние и транспорт в различные ткани. В период интенсивного роста животного в крови отмечается относительное снижение уровня альбуминов и соответствующие повышение уровня α- и γ-глобулинов. β-глобулины активно взаимодействуют с липидами крови. γ-глобулины, наименее подвижная и наиболее тяжёлая фракция из всех глобулинов, синтезируются происходящими из части стволовых клеток костного мозга В-лимфоцитами или образующимися из них плазматическими клетками. Они выполняют главным образом функцию защиты, являясь защитными антителами (иммуноглобулинами). У млекопитающих их пять – IgG, IgM, IgE, IgD, IgA. В количественном плане в крови преобладает IgG (80%). Используя метод иммуноэлектрофореза, в крови выделяют до 30 белковых фракций. Каждый тип иммуноглобулинов может специфически взаимодействовать лишь с одним определённым антигеном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80B-FA08-45F6-99C6-42381A3B0D25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D:\Documents and Settings\Admin\Рабочий стол\ateroskleroz.jpg"/>
          <p:cNvPicPr/>
          <p:nvPr/>
        </p:nvPicPr>
        <p:blipFill>
          <a:blip r:embed="rId1"/>
          <a:stretch/>
        </p:blipFill>
        <p:spPr>
          <a:xfrm>
            <a:off x="4165560" y="2209680"/>
            <a:ext cx="4978440" cy="464832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1"/>
          <p:cNvSpPr/>
          <p:nvPr/>
        </p:nvSpPr>
        <p:spPr>
          <a:xfrm>
            <a:off x="357120" y="1000080"/>
            <a:ext cx="7643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ждённые животные не способны в первые дни жизни синтезировать антитела. Они появляются только после поступления в желудочно-кишечный тракт молозива. Самостоятельный синтез этих защитных белков в костном мозге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зёнке, лимфатических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лах отмечается с 3- ил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недельного возраст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го. Поэтому важно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ить новорождённого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зивом, которое содержи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-20 раз больше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муноглобулинов, чем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е молоко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E13-EA7A-426D-95D1-3896306DBFD2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D:\Documents and Settings\Admin\Рабочий стол\Fibrotest_imagelarge.jpg"/>
          <p:cNvPicPr/>
          <p:nvPr/>
        </p:nvPicPr>
        <p:blipFill>
          <a:blip r:embed="rId1"/>
          <a:stretch/>
        </p:blipFill>
        <p:spPr>
          <a:xfrm>
            <a:off x="0" y="285840"/>
            <a:ext cx="9137520" cy="607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673-B623-4BF6-BAF2-F42D0F87BFC5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214200" y="357120"/>
            <a:ext cx="864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-лимфоциты кооперируются с В-лимфоцитами в синтезе иммуноглобулинов, тормозят иммунологические реакции, лизируют различные клетки. В крови Т-лимфоциты составляют 70%, В-лимфоциты – около 30%. Для синтеза иммуноглобулинов необходима и третья популяция клеток – макрофаги. Они выступают как первичные факторы неспецифической защиты, благодаря способности захватывать и переваривать микроорганизмы, антигены, иммунные комплексы, передавать информацию о них Т- и В-лимфацитам. Макрофаги выступают в роли посредников между всеми участниками процесса с помощью вырабатываемых клетками лимфокинов и монокинов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лимфоциты вырабатывают антитела лишь против определённых, поступивших в организм антигенов (бактерий, вирусов).Для этого структура антигена и глобулинового рецептора на поверхности лимфоцита должны соответствовать друг другу, как ключ к замку. В этом случае лимфоцит начинает делиться и синтезировать антитела против вида антигена, вызвавшего ответную реакцию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я γ-глобулинов увеличивается в сыворотке крови при хронических инфекционных болезнях, при иммунизации, беременности животны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8F5-4F1A-4473-B33D-E9D91ACDAE46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D:\Documents and Settings\Admin\Рабочий стол\39312761_TLIMFOCITI.jp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1FCC-CF5F-43B8-A11E-85B46C801B23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1"/>
          <p:cNvSpPr/>
          <p:nvPr/>
        </p:nvSpPr>
        <p:spPr>
          <a:xfrm>
            <a:off x="571680" y="714240"/>
            <a:ext cx="750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й ряд белков плазмы крови выполняет специфические функции. Среди них следует выделить такие белки, как трансферрин, гаптоглобин, церулоплазмин, пропердин, система комплимента, лизоцим, интерферон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еррины являются β-глобулинами, синтезируемыми в печени. Связывая два атома железа на молекулу белка, они транспортируют этот элемент в различные ткани, регулируют его концентрацию и удерживают его в организме. По величине заряда белковой молекулы, аминокислотному составу различают 19 типов трансферринов, которые связаны с наследственностью. Трансферрины могут оказывать и прямой бактериостатический эффект. Концентрация трансферринов в сыворотке крови составляет около 2,9 г/л. Низкое содержание трансферринов в сыворотке крови может быть вызвано недостатком белков в рационе животного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EB0-6143-4F07-BE95-989DB32092FD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571680" y="428760"/>
            <a:ext cx="70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птоглобин входит в состав α-глобулиновой фракции сыворотки крови. Он образует комплексы с гемоглобином при гемолизе эритроцитов. В форме таких комплексов железо из разрушенных эритроцитов не выделяется в составе мочи из организма, так как эти комплексы не способны проходить через почки. Гаптоглобин выполняет также защитную функцию, участвуя в процессах детоксикац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улоплазмин — α -глобулин, синтезирующийся в печени, имеет в своем составе медь (0,3%). Связывая медь, церулоплазмин обеспечивает должный уровень этого микроэлемента в тканях. На долю церулоплазмина приходится 3% всего количества меди организма животного. Он проявляет себя как фермент и как оксидант. Церулоплазмин является оксидазой адреналина, аскорбиновой кислоты. Важной характеристикой церулоплазмина является его способность окислять железо в тканях до Fe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понируя его в таком вид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09A-276D-47E8-95E3-6F769AF1B3F2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D:\Documents and Settings\Admin\Рабочий стол\1229.jpg"/>
          <p:cNvPicPr/>
          <p:nvPr/>
        </p:nvPicPr>
        <p:blipFill>
          <a:blip r:embed="rId1"/>
          <a:stretch/>
        </p:blipFill>
        <p:spPr>
          <a:xfrm>
            <a:off x="0" y="-1000080"/>
            <a:ext cx="9144000" cy="794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F3C-A302-4A43-8071-B4C630459AC9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"/>
          <p:cNvSpPr/>
          <p:nvPr/>
        </p:nvSpPr>
        <p:spPr>
          <a:xfrm>
            <a:off x="357120" y="500040"/>
            <a:ext cx="842976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комплемен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комплекс сывороточных белков глобулиновой природы, который рассматривается как система проэнзимов, активация которых приводит к цитолизу, разрушению антигена. Синтез системы комплемента, насчитывающей до 25 разных белков, осуществляется преимущественно мононуклеарньми фагоцитами, а также гистиоцитами. Это сложная эффекторная система белков сыворотки, играющая важную роль в регуляции иммунного ответа и в поддержании гомеостаза, в плане фило- и онтогенеза возникла раньше иммунной системы. В составе системы комплемента детально изучены 11 компонентов. Каскад ферментативных реакций, запускаемый комплексом антиген-антитело и приводящий к последовательной активации всех компонентов комплемента, начиная с первого, называется классическим путем активации. Обходной путь, который характеризуется активацией более поздних компонентов комплемента, начиная с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тся альтернативным. Разрушение микробной клетки наступает только после активации компонента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ерминальные белки системы комплемента, последовательно реагируя один с другим, внедряются в двойной слой липидов, повреждая клеточную мембрану с образованием мембранных каналов, что и приводит к осмотическим нарушениям, проникновению внутрь клетки антител, комплемента с последующим лизисом внутриклеточных мембран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861-1879-46AD-91A5-DAE3B9FB3BC2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D:\Documents and Settings\Admin\Рабочий стол\9a.jpg"/>
          <p:cNvPicPr/>
          <p:nvPr/>
        </p:nvPicPr>
        <p:blipFill>
          <a:blip r:embed="rId1"/>
          <a:stretch/>
        </p:blipFill>
        <p:spPr>
          <a:xfrm>
            <a:off x="571680" y="0"/>
            <a:ext cx="7837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A58-207C-4A45-AD3A-F6552104E7A5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D:\Documents and Settings\Admin\Рабочий стол\425px-Complement_death.PNG"/>
          <p:cNvPicPr/>
          <p:nvPr/>
        </p:nvPicPr>
        <p:blipFill>
          <a:blip r:embed="rId1"/>
          <a:stretch/>
        </p:blipFill>
        <p:spPr>
          <a:xfrm>
            <a:off x="0" y="0"/>
            <a:ext cx="9001080" cy="692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6B5-9837-44C3-9695-5E332228C2D9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D:\Documents and Settings\Admin\Рабочий стол\144.jpg"/>
          <p:cNvPicPr/>
          <p:nvPr/>
        </p:nvPicPr>
        <p:blipFill>
          <a:blip r:embed="rId1"/>
          <a:stretch/>
        </p:blipFill>
        <p:spPr>
          <a:xfrm>
            <a:off x="2238480" y="0"/>
            <a:ext cx="46670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22F-4E53-4A88-BCE4-846E67F28BD9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285840" y="2142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Значение биохимического экспресс-анализа крови в клинической практик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500040" y="1071720"/>
            <a:ext cx="67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, во всем мире происходит рост заболеваемости, связанной с хроническими неинфекционными патологиями. Такие заболевания, как сахарный диабет и атеросклероз, не только снижают качество жизни, но и приводят к развитию различных осложнений, угрожающих жизни. Применение ранней диагностики значительно улучшает прогноз таких состояний, позволяя выявить патологию на начальных этапах развития и назначить соответствующее лечение. Важное значение следует уделять и постоянному контролю показателей углеводного и липидного обмена, поскольку это позволяет оценить эффективность проводимой терапии и, по необходимости, корректировать ее. Осознание значительной части населения о необходимости проведения регулярного мониторинга состояния своего здоровья и развитие институтов семейной медицины в Российской Федерации также требует наличия соответствующих  экспресс-анализатор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C1E-94CA-490A-A0E3-3F75011EBD18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4"/>
          <p:cNvSpPr/>
          <p:nvPr/>
        </p:nvSpPr>
        <p:spPr>
          <a:xfrm>
            <a:off x="1000080" y="736920"/>
            <a:ext cx="735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строения гепатоцит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разнообразные функции обусловлены особенностями строения печени и ее отдельных клеток. Гепатоцит имеет хорошо развитую систему эндоплазматического ретикулума (ЭР), причем как гладкую, так и шероховатую. Одна из главных функций ЭР - синтез белков, которые используются другими органами и тканями (альбумины), или ферментов работающих в печени. Кроме того, в ЭР синтезируются фосфолипиды, триглицериды и холестерол. Гладкий ЭР содержит ферменты детоксикации ксенобиотик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E29-DFBF-4FE1-8536-FDB9B69AAAD7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785880" y="1000080"/>
            <a:ext cx="8072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на данный момент, наиболее оптимальным и единственным анализатором для биохимического экспресс-анализа крови является анализатор CardioChek. Данные анализаторы сочетают в себе достоверность результатов, получаемых в центральной лаборатории, со скоростью и удобством экспресс-тестов. Кроме того, они сочетают в себе широкий спектр диагностических анализов при сравнительной невысокой цен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B51-AF2C-4CBB-823E-892E5BE05EFD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9156960" cy="195732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2"/>
          <p:cNvSpPr/>
          <p:nvPr/>
        </p:nvSpPr>
        <p:spPr>
          <a:xfrm>
            <a:off x="1071720" y="2357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соединительной ткан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я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остоянства тканевой проницаемости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водно-солевого равновесия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иммунной защите организм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793-9AAC-4256-8729-F6BD0B3140D6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142920" y="642960"/>
            <a:ext cx="9001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Состав и строение соединительной ткани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В соединительной ткани различают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межклеточное (основное) вещество, клеточные элементы, волокнистые структуры (коллагеновые волокна). Особенность: межклеточного вещества гораздо больше, чем клеточных элементов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E99-3660-432A-81DE-4AD8185B1065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D:\Documents and Settings\Admin\Рабочий стол\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EDD-9603-4D73-A7BA-7DB0933FD3BA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D:\Documents and Settings\Admin\Рабочий стол\image001(5)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BEC-4B8A-4456-93FD-AC6DC368339A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"/>
          <p:cNvSpPr/>
          <p:nvPr/>
        </p:nvSpPr>
        <p:spPr>
          <a:xfrm>
            <a:off x="500040" y="42876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клеточное (основное) веществ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образная консистенция основного вещества объясняется его составом. Основное вещество - это сильно гидратированный гель, который образован высокомолекулярными соединениями, составляющими до 30 % массы межклеточного вещества. Оставшиеся 70 % - это вод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молекулярные компоненты представлены белками и углеводами. Углеводы по своему строению являются гетерополисахаридами - глюкозоаминогликаны (ГАГ). Эти гетерополисахариды построены из дисахаридных единиц, которые и являются их мономерам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ению мономеров различают 7 типов глюкозаминогликан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луроновая кисло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ндроитин-4-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ндроитин-6-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ан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атан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ран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рин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203-0AE8-4476-9B17-3A1BAE00E149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D:\Documents and Settings\Admin\Рабочий стол\connective_tissue_loose_areolar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64F-6337-4F01-969D-0BFD61C1B550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Прямоугольник 3" descr=""/>
          <p:cNvPicPr/>
          <p:nvPr/>
        </p:nvPicPr>
        <p:blipFill>
          <a:blip r:embed="rId1"/>
          <a:stretch/>
        </p:blipFill>
        <p:spPr>
          <a:xfrm>
            <a:off x="-365040" y="-6480"/>
            <a:ext cx="9655200" cy="10000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571680" y="1000080"/>
            <a:ext cx="7715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и виды мышечной ткан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ечная ткань составляет 40 % от веса тела человека. Биохимические процессы, протекающие в мышцах, оказывают большое влияние на весь организм человек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мышц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постоянной температуре. Ни один искусственный механизм к этому не способен. Механическое движение, в котором химическая энергия превращается в механическую при постоянном давлении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речно-полосатая мускулатура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един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аркомер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ая нить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молекул белка миозина. Миозин - крупный олигомерный белок, молекулярная масса 500 кДа, состоит из 6 субъединиц, попарно одинаковых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ая цеп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-конце - -спираль, на N-конце - глобула. При соединении двух тяжелых цепей С-концевыми участками образуется суперспираль. Две легкие цепи входят в состав глобулы (головки). Стержневой участок суперспирали имеет 2 отдела, где спирали оголены - эти места открыты для действия протеолитических ферментов и имеют повышенную подвижность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1E5-FE57-4A2F-A0B6-755994A99A64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D:\Documents and Settings\Admin\Рабочий стол\1204175445e2ee5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B2B-E9AA-4DBC-82A3-4399EBE0C4CA}" type="slidenum">
              <a:t>48</a:t>
            </a:fld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D:\Documents and Settings\Admin\Рабочий стол\ms1_ch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A87-A0A5-4828-9EBF-352101DD85A6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D:\Documents and Settings\Admin\Рабочий стол\Новая папка\p5300197-liver_cells_sem-spl.png"/>
          <p:cNvPicPr/>
          <p:nvPr/>
        </p:nvPicPr>
        <p:blipFill>
          <a:blip r:embed="rId1"/>
          <a:stretch/>
        </p:blipFill>
        <p:spPr>
          <a:xfrm>
            <a:off x="1000080" y="-15840"/>
            <a:ext cx="7286760" cy="687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1B9-8D3F-4472-9E4D-43900A5AF06F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714240" y="714240"/>
            <a:ext cx="7000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ция сокращения и расслабления мышц в живой клетк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ечное сокращение начинается с нервного импульса. Под воздействием ацетилхолина развивается возбуждение клеточной мембраны и резко повышается ее проницаемость для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упает в цитоплазму мышечной клетки (саркоплазма) из депо - цистерн цитоплазматического ретикулума. Концентрация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аркоплазме мгновенно увеличивается в 100 раз (с 10-7М до 10-5М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ьций связывается с тропонином "С". Это приводит к конформационным изменениям молекулы тропонина, в результате устраняется пространственное препятствие в виде тропонина "I", в результате конформационных изменений тропонина "Т" молекула тропомиозина оттягивается в сторону и открывает на поверхности актина миозин-связывающие центры. Дальше мышечное сокращение идет по схем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769-8785-4659-8AB6-A448556885C1}" type="slidenum">
              <a:t>50</a:t>
            </a:fld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1"/>
          <p:cNvSpPr/>
          <p:nvPr/>
        </p:nvSpPr>
        <p:spPr>
          <a:xfrm>
            <a:off x="214200" y="357120"/>
            <a:ext cx="8215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абление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оизошло расслабление мышцы, необходимы следующие условия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тропонина "С" от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ля этого работает мембрано-связанный фермент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висимая АТФаза. Этот фермент использует энергию гидролиза АТФ для переноса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о в цистерны против градиента их концентраций. Накоплению ионов кальция в цистернах помогает белок кальсеквестрин. Кальсеквестрин - связывает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цистернах. Когда мышца готова к сокращению, концентрация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цистернах велик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процесс сокращения, но и процесс расслабления нуждается в АТФ, потому что если нет АТФ, то не работает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висимая АТФаза. В этих условиях кальций связан с тропонином "С" - вся система находится в активном состоянии, нет распада актомиозинового комплекса - мышца постоянно находится в состоянии сокращения. Такая ситуация наблюдается после смерти человека в состоянии "трупного окоченения"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ы АТФ в клетке значительны, но их хватает для обеспечения мышечной работы только в течение 0.1 секунды. Но в мышечной клетке идет очень быстрый ресинтез АТФ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мышечной ткани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чень быстрые изменения концентрации АТФ (в 100 и более раз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24A-5B8B-4FA0-8D97-7B23FE8BE725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1"/>
          <p:cNvSpPr/>
          <p:nvPr/>
        </p:nvSpPr>
        <p:spPr>
          <a:xfrm>
            <a:off x="214200" y="14292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ы энергообеспечения мышечной ткан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энергии следующи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реакции субстратного фосфорилировани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лиз, гликогенолиз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е фосфорилирование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реакции субстратного фосфорилировани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специальных реакций субстратного фосфорилирования в обеспечении энергией мышечной клетки различна - это зависит от интенсивности, продолжительности, мощности и длительности мышечной работы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фосфокиназная реакци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ый быстрый способ ресинтеза АТФ. Запасов креатинфосфата хватает для обеспечения мышечной работы в течение 20 с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 эффективен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ребует присутствия кислорода, не дает побочных нежелательных продуктов, включается мгновенно. Его недостаток - малый резерв субстрата (хватает только на 20 с работы). Обратная реакция может протекать в митохондриях с использованием АТФ, образовавшейся в процессе окислительного фосфорилирова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а митохондрий хорошо проницаема как для креатина, так и для креатин-фосфата, а креатинфосфокиназа есть и в саркоплазме, и в межмембранном пространстве митохондр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EA4-17B7-4F9A-81C9-5F01FF38C12A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Прямоугольник 1" descr=""/>
          <p:cNvPicPr/>
          <p:nvPr/>
        </p:nvPicPr>
        <p:blipFill>
          <a:blip r:embed="rId1"/>
          <a:stretch/>
        </p:blipFill>
        <p:spPr>
          <a:xfrm>
            <a:off x="-450720" y="36360"/>
            <a:ext cx="9594720" cy="113364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2"/>
          <p:cNvSpPr/>
          <p:nvPr/>
        </p:nvSpPr>
        <p:spPr>
          <a:xfrm>
            <a:off x="571680" y="1214280"/>
            <a:ext cx="7929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ему со cтаву и процессам метаболизма нервная ткань значительно отличается от других ткане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ая функциональная клетка нервной ткани - нейрон - связана с помощью дендритов и аксонов с такими же клетками и клетками других типов, например, с секреторными и мышечными клетками. Клетки разделены синаптическими щелями. Связь между клетками осуществляется путем передачи сигнала. Сигнал проходит от тела нейрона по аксону до синапса. В синаптическую щель выделяется вещество-медиатор. Медиатор вступает в связь с рецепторами на другой стороне синаптической щели. Это обеспечивает восприятие сигнала и генерацию нового сигнала в клетке-акцепторе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054-54D1-401F-9A00-2E5CB11EAA25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D:\Documents and Settings\Admin\Рабочий стол\8800602a.GIF"/>
          <p:cNvPicPr/>
          <p:nvPr/>
        </p:nvPicPr>
        <p:blipFill>
          <a:blip r:embed="rId1"/>
          <a:stretch/>
        </p:blipFill>
        <p:spPr>
          <a:xfrm>
            <a:off x="428760" y="0"/>
            <a:ext cx="8189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66C-D300-4072-860A-521B05C8CD34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D:\Documents and Settings\Admin\Рабочий стол\iStock_000006935624Smal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174-8295-4008-AF1B-6DB84FEEC79A}" type="slidenum">
              <a:t>55</a:t>
            </a:fld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1"/>
          <p:cNvSpPr/>
          <p:nvPr/>
        </p:nvSpPr>
        <p:spPr>
          <a:xfrm>
            <a:off x="642960" y="571680"/>
            <a:ext cx="6500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И НЕРВНОЙ ТКАН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енерация электрического сигнала (нервного импульса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дение нервного импульс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поминание и хранение информаци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ормирование эмоций и поведени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ышлени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9E7-6A57-448D-B797-B7256667B773}" type="slidenum">
              <a:t>56</a:t>
            </a:fld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"/>
          <p:cNvSpPr/>
          <p:nvPr/>
        </p:nvSpPr>
        <p:spPr>
          <a:xfrm>
            <a:off x="714240" y="785880"/>
            <a:ext cx="77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 ХИМИЧЕСКОГО СОСТАВА И МЕТАБОЛИЗМА НЕРВНОЙ ТКАН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у нервной ткани определяет гематоэнцефалический барьер (ГЭБ). ГЭБ имеет избирательную проницаемость для различных метаболитов, а также способствует накоплению некоторых веществ в нервной ткани. Например, в нервной ткани на долю глутамата и аспартата приходится примерно 70-75% от общего количества аминокислот. Таким образом, внутренняя среда нервной ткани намного отличается по химическому составу от других ткане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25F-7A47-4CB9-A843-1C1D087485E7}" type="slidenum">
              <a:t>57</a:t>
            </a:fld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1"/>
          <p:cNvSpPr/>
          <p:nvPr/>
        </p:nvSpPr>
        <p:spPr>
          <a:xfrm>
            <a:off x="428760" y="474840"/>
            <a:ext cx="8215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ПИДЫ НЕРВНОЙ ТКАНИ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И ЛИПИДОВ НЕРВНОЙ ТКАНИ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уктурная: входят в состав клеточных мембран нейронов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ия диэлектриков (обеспечивают надежную электрическую изоляцию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щитная. Ганглиозиды являются очень активными антиоксидантами - ингибиторами перекисного окисления липидов (ПОЛ). При повреждении ткани мозга ганглиозиды способствуют ее заживлен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гуляторная. Фосфатидилинозиты являются предшественниками биологически активных веществ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липидов нервной ткани находится в составе плазматических и субклеточных мембран нейронов и в миелиновых оболочках. В нервной ткани по сравнению с другими тканями организма содержание липидов очень высокое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6C9-57CE-430F-9547-2EF76E6201D3}" type="slidenum">
              <a:t>58</a:t>
            </a:fld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1"/>
          <p:cNvSpPr/>
          <p:nvPr/>
        </p:nvSpPr>
        <p:spPr>
          <a:xfrm>
            <a:off x="571680" y="214200"/>
            <a:ext cx="757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липидного состава нервной ткани: есть фосфолипиды (ФЛ), гликолипиды (ГЛ) и холестерин (ХС), нет нейтральных жиров. Эфиры холестерина можно встретить только в участках активной миелинизации. Сам холестерин синтезируется интенсивно только в развивающемся мозге. В мозге взрослого человека низка активность ОМГ-КоА-редуктазы - ключевого фермента синтеза холестерина. Содержание свободных жирных кислот в мозге очень низко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нейромедиаторы после взаимодействия со специфическими рецепторами изменяют свою конформацию и изменяют конформацию фермента фосфолипазы С, которая катализирует расщепление связи в фосфатидилинозите между глицерином и остатком фосфата, в результате чего образуется фосфоинозитол и диацилглицерин. Эти вещества являются регуляторами внутриклеточного метаболизма. Диацилглицерин активирует протеинкиназу С, а фосфоинозитол вызывает повышение концентрации Са 2+. Ионы кальция влияют на активность внутриклеточных ферментов и участвуют в работе сократительных элементов нервных клеток: микрофиламентов, что обеспечивает передвижение различных веществ в теле нервной клетки, аксоне и растущем кончике аксона. Протеинкиназа С участвует в реакциях фосфорилирования белков внутри нервных клеток. Если это белки-ферменты, то меняется их активность, если это рибосомальные или ядерные белки, то изменяется скорость биосинтеза белков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B27-3896-4340-827B-631A1CB0D1F1}" type="slidenum">
              <a:t>59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:\Documents and Settings\Admin\Рабочий стол\Новая папка\images.jpeg"/>
          <p:cNvPicPr/>
          <p:nvPr/>
        </p:nvPicPr>
        <p:blipFill>
          <a:blip r:embed="rId1"/>
          <a:stretch/>
        </p:blipFill>
        <p:spPr>
          <a:xfrm>
            <a:off x="0" y="63828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1071720" y="0"/>
            <a:ext cx="65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патоциты похожи на печень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AA1-00EF-49B6-B2BC-860A36694FE0}" type="slidenum">
              <a:t>6</a:t>
            </a:fld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"/>
          <p:cNvSpPr/>
          <p:nvPr/>
        </p:nvSpPr>
        <p:spPr>
          <a:xfrm>
            <a:off x="285840" y="1000080"/>
            <a:ext cx="857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ды постоянно обновляются. Скорость их обновления различна, но в целом низка.. Некоторые липиды (например: холестерин, цереброзиды, фосфатидилэтаноламины, сфингомиелины) обмениваются медленно - в течение месяцев и даже лет. Исключение составляют фосфатидилхолин и, особенно, фосфатидилинозиты (содержат глицерин, фосфат, спирт (инозит), жирные кислоты) - они обмениваются очень быстро (сутки, недели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49F-C370-438A-955E-61C16C33FEA8}" type="slidenum">
              <a:t>60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500040" y="666360"/>
            <a:ext cx="7786800" cy="53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ь печени в метаболизме углеводо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играет ведущую роль в поддержании физиологической концентрации глюкозы в крови. Из общего количества поступающей из кишечника глюкозы печень извлекает ее большую часть и тратит: 10-15 % от этого количества на синтез гликогена, 60 % на окислительный распад, 30 % на синтез жирных кислот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изиологической гипогликемии в печени активируется распад гликогена. Первая стадия этого процесса заключается в отщеплении молекулы глюкозы и ее фосфорилировании (фермент фосфорилаза). Далее Глю-5-Ф может расходоваться по трем направлениям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ути глтколиза с образованием пировиноградной кислоты и лактата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ентозофосфатному пути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щепляться под действием фосфотазы на глюкозу и фосфо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ет последний путь, который приводит к выбросу в общий кровоток свободной глюкоз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341-51AE-4368-AAA4-25C0AE19D1E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642960" y="642960"/>
            <a:ext cx="7500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ени активно протекает глюконеогенез, при котором предшественниками глюкозы являются пируват и аланин (поступающий из мышц), глицерол - из жировой ткани и с пищей ряд глюкогенных АК. Избыточное поступление глюкозы с пищей увеличивает в гепатоците интенсивность всех путей ее превращения. Так активируется ее окисление с образованием большого количества пирувата.  Для его дальнейшего окисления необходимо также большое количество КоА, который также используется и для окисления жирных кислот. В результате окисление жирных кислот и распад липидов в жировых депо замедляетс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B60-07A6-453C-8E3F-63604C8011B3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D:\Documents and Settings\Admin\Рабочий стол\заболевание-печени.jpg"/>
          <p:cNvPicPr/>
          <p:nvPr/>
        </p:nvPicPr>
        <p:blipFill>
          <a:blip r:embed="rId1"/>
          <a:stretch/>
        </p:blipFill>
        <p:spPr>
          <a:xfrm>
            <a:off x="1143000" y="-3240"/>
            <a:ext cx="7572240" cy="68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A75-C8C6-4A39-A8CD-D9D4FB2AA5BA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4:37:47Z</dcterms:created>
  <dc:creator>Юлия Сергеевна</dc:creator>
  <dc:description/>
  <dc:language>en-US</dc:language>
  <cp:lastModifiedBy>Admin</cp:lastModifiedBy>
  <dcterms:modified xsi:type="dcterms:W3CDTF">2012-05-10T06:47:14Z</dcterms:modified>
  <cp:revision>45</cp:revision>
  <dc:subject/>
  <dc:title>Функциональная биохимия</dc:title>
</cp:coreProperties>
</file>