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1.png" ContentType="image/png"/>
  <Override PartName="/ppt/media/image50.jpeg" ContentType="image/jpe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2.jpeg" ContentType="image/jpeg"/>
  <Override PartName="/ppt/media/image31.jpeg" ContentType="image/jpeg"/>
  <Override PartName="/ppt/media/image14.png" ContentType="image/png"/>
  <Override PartName="/ppt/media/image62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0.jpeg" ContentType="image/jpeg"/>
  <Override PartName="/ppt/media/image16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82.png" ContentType="image/png"/>
  <Override PartName="/ppt/media/image52.jpeg" ContentType="image/jpeg"/>
  <Override PartName="/ppt/media/image70.png" ContentType="image/png"/>
  <Override PartName="/ppt/media/image84.jpeg" ContentType="image/jpeg"/>
  <Override PartName="/ppt/media/image78.png" ContentType="image/png"/>
  <Override PartName="/ppt/media/image19.jpeg" ContentType="image/jpeg"/>
  <Override PartName="/ppt/media/image25.png" ContentType="image/png"/>
  <Override PartName="/ppt/media/image63.jpeg" ContentType="image/jpeg"/>
  <Override PartName="/ppt/media/image26.jpeg" ContentType="image/jpeg"/>
  <Override PartName="/ppt/media/image42.png" ContentType="image/png"/>
  <Override PartName="/ppt/media/image79.png" ContentType="image/png"/>
  <Override PartName="/ppt/media/image76.gif" ContentType="image/gif"/>
  <Override PartName="/ppt/media/image69.png" ContentType="image/png"/>
  <Override PartName="/ppt/media/image71.png" ContentType="image/png"/>
  <Override PartName="/ppt/media/image65.jpeg" ContentType="image/jpeg"/>
  <Override PartName="/ppt/media/image2.jpeg" ContentType="image/jpeg"/>
  <Override PartName="/ppt/media/image80.png" ContentType="image/png"/>
  <Override PartName="/ppt/media/image15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81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5.jpeg" ContentType="image/jpeg"/>
  <Override PartName="/ppt/media/image3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85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C19-3FD4-406E-8CE0-08D6B9A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4B7-3849-45B4-A542-E5A4D85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EBF-3C5B-40D3-A6D3-4E711FE1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161-78A3-425C-888A-A5E4175E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3AC-AD62-4FB1-93E3-A3152489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D9E-9AC8-43D2-960C-FF1447A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DA3-6495-431C-AA2E-0E930A44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D4B-08EB-4211-8670-2B008D9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AD0-FB0B-4945-A65D-C581BDCA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0DD-D488-4124-88BA-07A729A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838-4223-4982-AF1B-784611E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E48-6FB9-4557-87D5-613024EA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B18-A4CD-4A7E-A051-27A42B147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page?q=1295375552&amp;p=1&amp;ag=ih&amp;rpt2=simage&amp;qs=text%3D%25D0%25C5%25DE%25C5%25CE%25D8%26isize%3D%26ogo%3D5%26rpt%3Dimage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509065792&amp;p=2&amp;ag=ih&amp;rpt2=simage&amp;qs=text%3D%25D3%25D9%25D2%26isize%3D%26ogo%3D5%26rpt%3Dimage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yandex.ru/yandpage?q=2009409472&amp;p=1&amp;ag=ih&amp;rpt2=simage&amp;qs=text%3D%25D1%25CA%25C3%25C1%26stype%3Dimage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14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pn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ookman Old Style"/>
              </a:rPr>
              <a:t>Путешествие в стра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5112000" cy="1235880"/>
          </a:xfrm>
          <a:prstGeom prst="rect">
            <a:avLst/>
          </a:prstGeom>
          <a:solidFill>
            <a:srgbClr val="ffcc00">
              <a:alpha val="34000"/>
            </a:srgbClr>
          </a:solidFill>
          <a:ln w="12600">
            <a:solidFill>
              <a:srgbClr val="ff99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3220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2644920" cy="266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13080" cy="2554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042920" y="2421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цианкобалам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1557360"/>
            <a:ext cx="4103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иливает иммун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кровя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авление. При недостат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локачественная анем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генератив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сое, суб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ыре, устри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й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1873440" cy="14698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0" y="4221000"/>
            <a:ext cx="1979640" cy="1944720"/>
          </a:xfrm>
          <a:prstGeom prst="rect">
            <a:avLst/>
          </a:prstGeom>
          <a:ln w="12600">
            <a:solidFill>
              <a:srgbClr val="8dc6ff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788000" y="3473280"/>
            <a:ext cx="3039840" cy="3384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50028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08000" y="5805360"/>
            <a:ext cx="3959280" cy="1008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rcRect l="-2073" t="18642" r="0" b="17662"/>
          <a:stretch/>
        </p:blipFill>
        <p:spPr>
          <a:xfrm>
            <a:off x="3924360" y="4930920"/>
            <a:ext cx="3959280" cy="1882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Путешествие в страну «Витамины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484280"/>
            <a:ext cx="72072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618920" y="1484280"/>
            <a:ext cx="1297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63640" y="1484280"/>
            <a:ext cx="43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692000" y="306864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08000" y="3500280"/>
            <a:ext cx="14292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00280"/>
            <a:ext cx="144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716280"/>
            <a:ext cx="2448000" cy="180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«Научно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Исследователь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институ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4797360"/>
            <a:ext cx="2305080" cy="12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Фармацев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4149720"/>
            <a:ext cx="216036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Космет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060640"/>
            <a:ext cx="1944720" cy="97164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637000"/>
            <a:ext cx="1871640" cy="79200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2637000"/>
            <a:ext cx="2016000" cy="86328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148428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2565360"/>
            <a:ext cx="1871640" cy="86364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83280" y="4365720"/>
            <a:ext cx="216072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Диет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335772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8000" y="2637000"/>
            <a:ext cx="3887640" cy="1296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вертываемость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едупреждает остеопо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4221000"/>
            <a:ext cx="295272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зел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помидо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грубого пом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пин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1954440" cy="21589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016000" cy="21607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sp>
        <p:nvSpPr>
          <p:cNvPr id="214" name=""/>
          <p:cNvSpPr txBox="1"/>
          <p:nvPr/>
        </p:nvSpPr>
        <p:spPr>
          <a:xfrm rot="5400000">
            <a:off x="6459120" y="4133880"/>
            <a:ext cx="381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томенад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1276200" cy="241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19552" r="0" b="18362"/>
          <a:stretch/>
        </p:blipFill>
        <p:spPr>
          <a:xfrm>
            <a:off x="4067280" y="1844640"/>
            <a:ext cx="3529080" cy="16336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2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11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1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89000"/>
            <a:ext cx="33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итаминоз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1341360"/>
            <a:ext cx="4680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3305"/>
                </a:solidFill>
                <a:latin typeface="Comic Sans MS"/>
              </a:rPr>
              <a:t>Виды витамин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2205000"/>
            <a:ext cx="2376360" cy="78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А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2349360"/>
            <a:ext cx="2376360" cy="78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ГИПО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41" idx="0"/>
          </p:cNvCxnSpPr>
          <p:nvPr/>
        </p:nvCxnSpPr>
        <p:spPr>
          <a:xfrm flipH="1">
            <a:off x="1799640" y="1766520"/>
            <a:ext cx="28803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2"/>
            <a:endCxn id="242" idx="0"/>
          </p:cNvCxnSpPr>
          <p:nvPr/>
        </p:nvCxnSpPr>
        <p:spPr>
          <a:xfrm>
            <a:off x="4680000" y="1766880"/>
            <a:ext cx="2666160" cy="573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162080" cy="2160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11280" y="306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Отсутствие в организме какого-либо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805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Цинга, рахит, куриная слепота, пеллагра, 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Частичная недостаточность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4221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Быстрая утомляемость, пониженная работоспособность, повышенная раздражимость, снижение сопротивляемости к инфе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32360" y="2565360"/>
            <a:ext cx="993600" cy="1655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4500720" y="4581360"/>
            <a:ext cx="1069920" cy="1079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564000" y="2060640"/>
            <a:ext cx="1139760" cy="1584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64360" y="333360"/>
            <a:ext cx="120816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1547640" y="4221000"/>
            <a:ext cx="2376720" cy="16192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11280" y="404640"/>
            <a:ext cx="363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витаминоз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77336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3305"/>
                </a:solidFill>
                <a:latin typeface="Arial"/>
              </a:rPr>
              <a:t>Гипервитамин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возникает при избыточном потреблении витаминов. Проявляется в виде интоксикации (отравления)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Более токсичным действием обладают избыточные дозы жирорастворимых витаминов, так как они накапливаются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365720"/>
            <a:ext cx="59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Гипервитаминоз очень часто наблюдается у людей, которые занимаются культуризмом – бодибилдингом и нередко без меры употребляют пищевые добавки  и витам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236000" y="474192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95280" y="189000"/>
            <a:ext cx="532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витаминов 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дуктах питания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5796000" y="333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Жир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95280" y="1413000"/>
          <a:ext cx="8064360" cy="5178240"/>
        </p:xfrm>
        <a:graphic>
          <a:graphicData uri="http://schemas.openxmlformats.org/drawingml/2006/table">
            <a:tbl>
              <a:tblPr/>
              <a:tblGrid>
                <a:gridCol w="2881440"/>
                <a:gridCol w="1800000"/>
                <a:gridCol w="1656000"/>
                <a:gridCol w="172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ргарин слив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 кури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о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кукуру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ивки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формировать общее представление о витаминах, познакомить учащихся с их классификацией, представителями и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основе межпредметных связей с биологией раскрыть важнейшую роль витаминов для здоровья человека, дать понятие об авитаминозах, гиповитаминозах и гипервитаминозах на примере важнейших представителей водо- и жирорастворимых витам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241800" cy="240012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Вод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9280" y="476280"/>
          <a:ext cx="8785440" cy="6330960"/>
        </p:xfrm>
        <a:graphic>
          <a:graphicData uri="http://schemas.openxmlformats.org/drawingml/2006/table">
            <a:tbl>
              <a:tblPr/>
              <a:tblGrid>
                <a:gridCol w="2197080"/>
                <a:gridCol w="804960"/>
                <a:gridCol w="731880"/>
                <a:gridCol w="878040"/>
                <a:gridCol w="879480"/>
                <a:gridCol w="1098360"/>
                <a:gridCol w="949320"/>
                <a:gridCol w="1246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ух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веж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ёрная сморо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Апельс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емля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Фа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ше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у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белые с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суше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ш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рупа 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459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9280" y="692280"/>
          <a:ext cx="8713800" cy="560376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865080"/>
                <a:gridCol w="863640"/>
                <a:gridCol w="1008000"/>
                <a:gridCol w="792360"/>
                <a:gridCol w="151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Хлеб 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вя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ясо кро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вор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рож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765000"/>
          <a:ext cx="9144000" cy="60994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640" y="189000"/>
            <a:ext cx="76485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Что вы знаете о витаминах"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179280" y="1052640"/>
            <a:ext cx="8785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Откуда эскимосы получают необходимые витамины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из рыбы, из рыбьего жира, из мяса белых медведей, из мяса тюле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шпинате витамины лучше всего сохраняются, если его употребля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свежем виде, в замороженном, в консервирован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е время года содержание витаминов в молоке увеличивается в 2 р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Если вы станете соблюдать вегетарианский режим, то один из четырёх витаминов будет отсутствова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А, витамин Д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Действие солнечных лучей позволяет организму выработать один витамин. Какой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Д, витамин А, витамин Е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Зимой необходимо чем-то компенсировать отсутствие солнечных лучей. Чем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Овощами, яичным желтком, лимонами, фру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м из продуктов питания наибольшее разнообразие витаминов и притом в самом большом количестве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хлебе, в молоке, в свежей капусте, в печ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Какой витамин содержится в большом количестве и в шоколаде, и в грибах, и в яйцах, и в арахис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Что нужно потреблять, чтобы покрыть ежедневную потребность организма в витамине С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1,5 кг помидоров, 1,5 кг телятины, 1 кг апельс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9640" y="189000"/>
            <a:ext cx="46767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ые ответы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717480"/>
            <a:ext cx="871380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се четы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сыром виде. Причём мыть шпинат надо как можно быстрее. Заморозка также хорошо сохраняет витамины, но замораживать его необходимо быстро. И консервированный шпинат богат витаминами, если время между срывом и консервированием непродолжительно. Кроме того, его необходимо варить в закрытой кастрюле и не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етом. Молоко – очень важный продукт питания, оно содержит кальций, витамины. Потребление одного литра молока в день способствует хорошему витаминному «равновесию»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В 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, который содержится в мя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Д, который предохраняет от рах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Яичным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печени. Ста граммов печени достаточно, чтобы покрыть ежедневную потребность взрослого человека в семи видах витаминов: А,С, витаминах группы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Н, или биотин. Он хорошо воздействует на состояние кожи и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юбой из эти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5280" y="189000"/>
            <a:ext cx="4867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счёт результатов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83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 таблице подсчитайте, сколько очков вы набр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268280"/>
          <a:ext cx="8642160" cy="1155600"/>
        </p:xfrm>
        <a:graphic>
          <a:graphicData uri="http://schemas.openxmlformats.org/drawingml/2006/table">
            <a:tbl>
              <a:tblPr/>
              <a:tblGrid>
                <a:gridCol w="3025800"/>
                <a:gridCol w="647640"/>
                <a:gridCol w="647640"/>
                <a:gridCol w="647640"/>
                <a:gridCol w="647640"/>
                <a:gridCol w="649440"/>
                <a:gridCol w="576360"/>
                <a:gridCol w="574560"/>
                <a:gridCol w="576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Очки за правильный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250920" y="2565360"/>
            <a:ext cx="8208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Менее 10 очков. Ваши знания о витаминах недостаточны. Тем самым, используя их слишком непродуманно, вы рискуете ухудшить своё здоровье. Ваш режим питания неудовлетворителен. Роли витаминов в питании вы должны придавать большее значение, это крайне ва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 10 до 19 очков. Вам ещё придётся приложить усилия, чтобы ваш режим питания был полноценным. Но в принципе вы на верном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0 и более очков. Витамины и их важное значение – не тайна для вас. Вы рационально питаетесь, подбирая для своего рациона и чередуя лёгкую, витаминизированную и разнообразную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84360" y="189000"/>
            <a:ext cx="4644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12536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нструкция к практической работе «Определение витамина С в яблочном или апельсиновом со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276640"/>
            <a:ext cx="7920000" cy="4362840"/>
          </a:xfrm>
          <a:prstGeom prst="rect">
            <a:avLst/>
          </a:prstGeom>
          <a:noFill/>
          <a:ln w="2844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Аптечную настойку йода разбавить в 40 раз. 20 мл сока разбавить водой до 100 мл и прилить к нему немного крахмального раствора, приготовленного из расчёта 1 г крахмала на 200 г воды. После этого к полученной смеси приливать по каплям с помощью пипетки раствор йода. Как только йод полностью окислит всю аскорбиновую кислоту, следующая его капля окрасит раствор в синий цвет. Это означает, что титрование закончено. Чтобы узнать, сколько йода ушло пошло на титрование, заранее нужно определить объём одной капли. Перевести число капель в миллилитры и умножить на 0,88. Для того. Чтобы узнать объём одной капли, нужно с помощью пипетки проверить, сколько капель содержится в известном объёме раствора йода, например в 2 мл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19080">
            <a:solidFill>
              <a:srgbClr val="8dc6ff"/>
            </a:solidFill>
            <a:miter/>
          </a:ln>
        </p:spPr>
      </p:pic>
    </p:spTree>
  </p:cSld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0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0"/>
            <a:ext cx="8964720" cy="1268280"/>
          </a:xfrm>
          <a:prstGeom prst="rightArrow">
            <a:avLst>
              <a:gd name="adj1" fmla="val 50000"/>
              <a:gd name="adj2" fmla="val 176710"/>
            </a:avLst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ТЕСТ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«ЕСТЬ ЛИ У МЕНЯ АВИТАМИНОЗ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solidFill>
            <a:srgbClr val="ffbdbd">
              <a:alpha val="51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Весной вы обычно простужаетесь чаще, чем осенью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-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2. Весенние простуды вы переносите тяжелее, чем осенние и зим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3. Вы тяжелее засыпаете и просыпаетесь весной, чем в другие времена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4. Свойственными ли вам весной раздражительность, утомляем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5. Кожа и волосы так же хорошо выглядят в марте, как летом, осен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6. Не возникают ли весной проблемы с пищевар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7. Часто ли весной вам приходится снижать физическую нагруз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8. Вы предпочитаете термически обработанную пищу свежим овощ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9. Каждый день у вас на столе бывает зе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10. Вы много времени проводите на свежем воздух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836640"/>
            <a:ext cx="6553080" cy="7128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4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4" dur="1000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6" dur="1000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8" dur="1000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3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«А» - 1 балл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«Б» -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0 баллов. Вы – идеальный человек! На ва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следует равн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1 – 2 балла. Риск авитаминоза невы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3 – 5 балла. Небольшой витаминный г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на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 – 8 баллов. Авитаминоз – фон в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9 – 10 баллов. Кардинально измените свой образ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144360"/>
            <a:ext cx="7705800" cy="1484280"/>
          </a:xfrm>
          <a:prstGeom prst="rightArrow">
            <a:avLst>
              <a:gd name="adj1" fmla="val 50000"/>
              <a:gd name="adj2" fmla="val 129790"/>
            </a:avLst>
          </a:prstGeom>
          <a:solidFill>
            <a:srgbClr val="ffdbdb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ПОДСЧЕТ 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00" y="79200"/>
            <a:ext cx="104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0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2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7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2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7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2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7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2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7" dur="5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представление учащимся об истории открыт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накомить учащихся с важнейшими представителям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казать значимость витаминов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авнить природные и искусственные 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волить учащимся определить присутствует ли у них витаминн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характеристику продуктов питания по присутствию в них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111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lonna MT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нятие о витам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сторическая 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ажнейшие представител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начение витаминов в жизни человека: авитаминоз и гипервитами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то лучше витамины натуральные или искусстве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одержание витаминов в продуктах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уточная потребность человека в витаминах и их основ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цепты витаминных блю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вторение и обобщение прой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ведение теста «Что вы знаете о витаминах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ция о домашнем за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49440" cy="2205000"/>
          </a:xfrm>
          <a:prstGeom prst="rect">
            <a:avLst/>
          </a:prstGeom>
          <a:ln w="12600">
            <a:solidFill>
              <a:srgbClr val="3333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773360"/>
            <a:ext cx="597672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78d52"/>
              </a:gs>
              <a:gs pos="100000">
                <a:srgbClr val="f66616"/>
              </a:gs>
            </a:gsLst>
            <a:lin ang="81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27664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Низкомолекулярные органические соединения различной химической природы, необходимые для осуществления важнейших процессов, протекающих в живом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664000" cy="22543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00720" y="4076640"/>
            <a:ext cx="2662200" cy="230364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1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32:03Z</dcterms:created>
  <dc:creator>Lenochka</dc:creator>
  <dc:description/>
  <dc:language>en-US</dc:language>
  <cp:lastModifiedBy>Serg</cp:lastModifiedBy>
  <dcterms:modified xsi:type="dcterms:W3CDTF">2009-03-20T06:50:47Z</dcterms:modified>
  <cp:revision>81</cp:revision>
  <dc:subject/>
  <dc:title>ЭЛИКСИРЫ  ЖИЗНИ</dc:title>
</cp:coreProperties>
</file>