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0.gif" ContentType="image/gif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8F1-D07D-46B1-AB4D-C6A50BA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489-7591-4FF3-9094-A0CFB191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498-1514-4DCA-AA11-0D06651E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589-4668-4368-87EC-21D64246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9AEF-92B5-4AA1-886B-CAF1068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2DD-EF95-405E-A47A-FFE5EFB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402A-B927-4A6F-A65E-AF93F23A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EC64-ACE1-408C-83D8-3C65868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9EC-9E9A-477A-96B2-D27EBD83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6C70-B64B-43DD-BEAD-6A6E7BC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B024-1E72-4369-A198-D9029B9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C06-DC48-4AFC-89DF-4FEDBAD0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4AA-8A7B-40EE-A215-34A3C42A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461-E17C-43A6-81A7-906FB21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8D0-5ECE-47E0-81DA-AB1A496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FF2-22AE-4317-AD0B-4AE5746F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D42-3582-40C2-9CE3-103FAC4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156-1B35-48E3-9DE0-FD2CB9C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A18-8E4A-4FE3-A704-7A42737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402-863E-48F6-9F92-4C6D2239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EF1-45C3-4A5B-BD92-D873B77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7BC-2358-49A3-B12E-33A0D2C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251-EAB8-4F74-B078-84D850E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4E8-4D13-4B26-9809-F060DFB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2AE2-7F3B-4A34-89B6-E10A4898735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EA5-A5CD-410E-AAB7-08990FE52EE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468440" y="-176040"/>
            <a:ext cx="7358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3" descr="0033-033-Kalij-igraet-bolshuju-rol-vo-vnutrikletochnom-obmene-vlijaet-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3" descr="0034-034-Svojstva-essentsialnykh-mikroelemento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3" descr="0035-035-Rasprostranennost-defitsitov-essentsialnykh-mikroelementov-v-mire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3" descr="0036-036-Nekotorye-sostojanija-svjazannye-s-defitsitom-ili-izbytko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3" descr="0037-037-Izmenenie-potrebnosti-v-essentsialnykh-khimicheskikh-elementakh-u-lit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5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x_c0ec31e0.jpg"/>
          <p:cNvPicPr/>
          <p:nvPr/>
        </p:nvPicPr>
        <p:blipFill>
          <a:blip r:embed="rId3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378000" y="-152280"/>
            <a:ext cx="855792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Рисунок2"/>
          <p:cNvPicPr/>
          <p:nvPr/>
        </p:nvPicPr>
        <p:blipFill>
          <a:blip r:embed="rId3"/>
          <a:stretch/>
        </p:blipFill>
        <p:spPr>
          <a:xfrm>
            <a:off x="826920" y="4145040"/>
            <a:ext cx="1944720" cy="171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2411280" y="1557360"/>
            <a:ext cx="4392720" cy="936720"/>
          </a:xfrm>
          <a:prstGeom prst="flowChartPunchedTape">
            <a:avLst/>
          </a:prstGeom>
          <a:solidFill>
            <a:srgbClr val="00ffff">
              <a:alpha val="2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62728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1547280" y="2421000"/>
            <a:ext cx="100836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572000" y="2349360"/>
            <a:ext cx="0" cy="1657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156360" y="2349360"/>
            <a:ext cx="865080" cy="1150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46836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д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059280" y="386064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ерд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084720" y="3429000"/>
            <a:ext cx="251964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6732720" y="4437000"/>
            <a:ext cx="1798560" cy="1295640"/>
          </a:xfrm>
          <a:prstGeom prst="cloudCallout">
            <a:avLst>
              <a:gd name="adj1" fmla="val -81333"/>
              <a:gd name="adj2" fmla="val 96814"/>
            </a:avLst>
          </a:prstGeom>
          <a:solidFill>
            <a:srgbClr val="00ccff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6084720" y="3573360"/>
            <a:ext cx="25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зообраз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8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 Антуан Лоран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авуазь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первые доказал, что во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ное вещество, пропус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ые пары через раскал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жейный ствол и разложив в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ва простых вещества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род и кислор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+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1035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143000" y="500040"/>
            <a:ext cx="692928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прозрач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цвет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запа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вк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истиллированн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им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оватый вку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иллирова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не провод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отличи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ой вод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облада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проводнос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ет растворен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вещест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E:\Документы слушателей\Avrora - 2009\стакан.jpg"/>
          <p:cNvPicPr/>
          <p:nvPr/>
        </p:nvPicPr>
        <p:blipFill>
          <a:blip r:embed="rId2"/>
          <a:stretch/>
        </p:blipFill>
        <p:spPr>
          <a:xfrm>
            <a:off x="6372360" y="981000"/>
            <a:ext cx="238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643280" y="4581360"/>
            <a:ext cx="309744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2160360" cy="152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3995640" y="2349360"/>
            <a:ext cx="230508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3948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43210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Содержимое 3" descr="0025-025-Obmen-mineralnykh-vesches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2"/>
          <a:stretch/>
        </p:blipFill>
        <p:spPr>
          <a:xfrm>
            <a:off x="4017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755640" y="1700280"/>
            <a:ext cx="2951280" cy="223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55640" y="4117320"/>
            <a:ext cx="76327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идрокарбонат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нижают кислотность желудочного сока. При этом, в зависимости от метода применения способны как стимулировать, так и тормозить секрецию желудочного сока. Применяются при лечении мочекаменной болезн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Хлорид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тимулируют обменные процессы в организме, улучшают секрецию желудка, поджелудочной железы, тонкого кишечника. Применяются при расстройствах пищеварительной систем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ульфат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тимулируют моторику желудочно-кишечного тракта, особенно благоприятно влияют на восстановление функции печени и желчного пузыря. Применяются при заболеваниях желчных путей, хроническом гепатите, сахарном диабете, ожирен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2"/>
          <a:stretch/>
        </p:blipFill>
        <p:spPr>
          <a:xfrm>
            <a:off x="407880" y="195120"/>
            <a:ext cx="8534520" cy="1262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активными металл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2Na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→2NaOH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некоторыми неметаллами. Например , при взаимодействии с хлором образуется хлорная вода, обладающая отбеливающими свойст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8"/>
          <p:cNvSpPr/>
          <p:nvPr/>
        </p:nvSpPr>
        <p:spPr>
          <a:xfrm>
            <a:off x="0" y="62064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основными оксидами с образованием щелоч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О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ahoma"/>
              </a:rPr>
              <a:t>→Са(ОН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 с кислотными оксидами (кроме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с образованием кисл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катализатором многих химических проце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2Al+3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2Al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50920" y="4762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Без воды была бы невозможна жизнь: ведь живое вещество образовалось в первобытных морях из растворенных в них веществ. И с тех пор все химические процессы в каждой клеточке тела любого живого организма происходят в водной среде между растворенными веществами. Вот почему так важно сохранять водный баланс нашего организма в любом возраст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30120" y="3573360"/>
            <a:ext cx="2760840" cy="328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5003640" y="3532320"/>
            <a:ext cx="4140360" cy="3325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3" descr="0026-026-Osnovnym-stroitelnym-materialom-javljajutsja-chetyre-elementa-azo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0027-027-Srednee-soderzhanie-mineralnykh-elementov-v-organizme-mlekopitajuschik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Содержимое 3" descr="0028-028-Kaltsij-Ca-obschee-soderzhanie-kaltsija-v-organizme-chelove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0029-029-Pri-izbytke-kaltsija-nabljudajutsja-khronicheskij-gipertroficheskij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Содержимое 3" descr="0030-030-Pri-nedostatke-kaltsija-nabljudajutsja-takhikardija-aritmija-boli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3" descr="0031-031-Magnij-Mg-glavnoe-depo-magnija-nakhoditsja-v-kostjakh-i-myshtsakh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----------------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Содержимое 3" descr="0032-032-Pri-nedostatke-magnija-nabljudaetsja-snizhenie-immunite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0:29:02Z</dcterms:created>
  <dc:creator>user</dc:creator>
  <dc:description/>
  <dc:language>en-US</dc:language>
  <cp:lastModifiedBy>Student</cp:lastModifiedBy>
  <dcterms:modified xsi:type="dcterms:W3CDTF">2012-05-24T04:35:54Z</dcterms:modified>
  <cp:revision>4</cp:revision>
  <dc:subject/>
  <dc:title>Обмен минеральных веществ</dc:title>
</cp:coreProperties>
</file>