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4.wmf" ContentType="image/x-wmf"/>
  <Override PartName="/ppt/media/image24.jpeg" ContentType="image/jpeg"/>
  <Override PartName="/ppt/media/image3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BF0-779E-4DE4-9490-1EF276AE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B80-78A9-4F9A-94ED-F03E783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EE1-4AD6-440B-9E99-C4EBB552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BD1-F670-4C93-9F8B-2C417DC2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7974-9420-4A4E-AF1F-82E63E05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BE4-71E2-4EF8-83FB-65882A1E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5EC1-7802-4920-85DA-7B21BDD0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5CF-90F2-4A2A-AB8B-8FF210D5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02CA-2B4C-4F19-94DD-EB3141AD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C54-64FA-42CA-BD86-07C527C8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3A9-BF15-4743-9F15-86AC6B5E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A49-73AB-45E9-9C23-666E3920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E788-8EE8-4201-ABE3-D4691CB3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6501-9E6A-4CB6-9F46-C988CE1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90CB-E227-4C03-BA33-082A55DA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54B0-607F-474E-A7A9-5D642CCE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C445-2DFA-4619-8DDA-E78AF9C1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B4C-6DA7-4E74-A56B-F5BFF2F1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7BB-B76A-4139-B6B8-30BA7F3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FE4-C93F-4653-9D7F-FCF42D5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8E7-E4C6-4B79-80DE-4C38B33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8F0-1B82-419F-9CAE-A3F7086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56C-8869-49C4-AFDF-F84952C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790-9930-4DF8-8EBD-A3AEDA2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FAA-DC64-441E-8A7C-F89DC9BB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308-21A4-4760-8F68-5F58DE8B9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Белки. Проблема  синтеза бел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пы"/>
          <p:cNvPicPr/>
          <p:nvPr/>
        </p:nvPicPr>
        <p:blipFill>
          <a:blip r:embed="rId1"/>
          <a:stretch/>
        </p:blipFill>
        <p:spPr>
          <a:xfrm>
            <a:off x="4284720" y="278136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ение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первичной структурой белка понимают число и последовательность аминокислот, соединенных друг с другом пептидными связями в полипептидной цеп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4452840" y="1341360"/>
            <a:ext cx="4392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441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всякого белка характерна помимо первичной еще и определенная вторичная структура. Обычно белковая молекула напоминает растянутую пружину. Это так называемая α-спираль, стабилизируемая множеством водородных связей, возникающих между находящимися поблизости друг от друга СО-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групп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5076720" y="549360"/>
            <a:ext cx="352116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L23p10p00"/>
          <p:cNvPicPr/>
          <p:nvPr/>
        </p:nvPicPr>
        <p:blipFill>
          <a:blip r:embed="rId2"/>
          <a:stretch/>
        </p:blipFill>
        <p:spPr>
          <a:xfrm>
            <a:off x="4859280" y="350028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319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ольшинства белков полипептидные цепи свернуты особым образом в компактную глобулу. Способ свертывания полипептидных цепей глобулярных белков называется третичной структурой. Третичная структура поддерживается связями трех типов – ионными, водородными и дисульфидными, а также гидрофобными взаимодейств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{3C828F5A-4FA2-4ED6-A698-B3B0E148AB48}"/>
          <p:cNvPicPr/>
          <p:nvPr/>
        </p:nvPicPr>
        <p:blipFill>
          <a:blip r:embed="rId1"/>
          <a:stretch/>
        </p:blipFill>
        <p:spPr>
          <a:xfrm>
            <a:off x="4788000" y="620640"/>
            <a:ext cx="39272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L23p02p02"/>
          <p:cNvPicPr/>
          <p:nvPr/>
        </p:nvPicPr>
        <p:blipFill>
          <a:blip r:embed="rId2"/>
          <a:stretch/>
        </p:blipFill>
        <p:spPr>
          <a:xfrm>
            <a:off x="4859280" y="357336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ногие белки с особо сложным строением состоят из нескольких полипептидных цепей, удерживаемых в молекуле вместе за счет гидрофобных взаимодействий, а также при помощи водородных и ионных связей. Способ совместной упаковки и укладки этих полипептидных цепей называют четвертичной структурой бе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{9D733D42-9CE6-4D17-870D-77F3193FD8AD}"/>
          <p:cNvPicPr/>
          <p:nvPr/>
        </p:nvPicPr>
        <p:blipFill>
          <a:blip r:embed="rId1"/>
          <a:stretch/>
        </p:blipFill>
        <p:spPr>
          <a:xfrm>
            <a:off x="5003640" y="333360"/>
            <a:ext cx="3527640" cy="339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L23p10p01"/>
          <p:cNvPicPr/>
          <p:nvPr/>
        </p:nvPicPr>
        <p:blipFill>
          <a:blip r:embed="rId2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иосинтез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001"/>
          <p:cNvPicPr/>
          <p:nvPr/>
        </p:nvPicPr>
        <p:blipFill>
          <a:blip r:embed="rId1"/>
          <a:stretch/>
        </p:blipFill>
        <p:spPr>
          <a:xfrm>
            <a:off x="539640" y="1773360"/>
            <a:ext cx="3024360" cy="205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"/>
          <p:cNvPicPr/>
          <p:nvPr/>
        </p:nvPicPr>
        <p:blipFill>
          <a:blip r:embed="rId2"/>
          <a:stretch/>
        </p:blipFill>
        <p:spPr>
          <a:xfrm>
            <a:off x="5033880" y="2000160"/>
            <a:ext cx="36957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"/>
          <p:cNvPicPr/>
          <p:nvPr/>
        </p:nvPicPr>
        <p:blipFill>
          <a:blip r:embed="rId3"/>
          <a:stretch/>
        </p:blipFill>
        <p:spPr>
          <a:xfrm>
            <a:off x="539640" y="4076640"/>
            <a:ext cx="3597480" cy="22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03"/>
          <p:cNvPicPr/>
          <p:nvPr/>
        </p:nvPicPr>
        <p:blipFill>
          <a:blip r:embed="rId4"/>
          <a:stretch/>
        </p:blipFill>
        <p:spPr>
          <a:xfrm>
            <a:off x="5003640" y="4076640"/>
            <a:ext cx="3473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1"/>
          <p:cNvPicPr/>
          <p:nvPr/>
        </p:nvPicPr>
        <p:blipFill>
          <a:blip r:embed="rId1"/>
          <a:stretch/>
        </p:blipFill>
        <p:spPr>
          <a:xfrm>
            <a:off x="468360" y="792000"/>
            <a:ext cx="4032360" cy="284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"/>
          <p:cNvPicPr/>
          <p:nvPr/>
        </p:nvPicPr>
        <p:blipFill>
          <a:blip r:embed="rId2"/>
          <a:stretch/>
        </p:blipFill>
        <p:spPr>
          <a:xfrm>
            <a:off x="5003640" y="765000"/>
            <a:ext cx="360216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1"/>
          <p:cNvPicPr/>
          <p:nvPr/>
        </p:nvPicPr>
        <p:blipFill>
          <a:blip r:embed="rId3"/>
          <a:stretch/>
        </p:blipFill>
        <p:spPr>
          <a:xfrm>
            <a:off x="900000" y="3743280"/>
            <a:ext cx="3367080" cy="29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1"/>
          <p:cNvPicPr/>
          <p:nvPr/>
        </p:nvPicPr>
        <p:blipFill>
          <a:blip r:embed="rId4"/>
          <a:stretch/>
        </p:blipFill>
        <p:spPr>
          <a:xfrm>
            <a:off x="5076720" y="3716280"/>
            <a:ext cx="342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08020302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и Р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трелка вправо 3"/>
          <p:cNvSpPr/>
          <p:nvPr/>
        </p:nvSpPr>
        <p:spPr>
          <a:xfrm>
            <a:off x="4071960" y="1928880"/>
            <a:ext cx="977760" cy="6429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4"/>
          <p:cNvSpPr/>
          <p:nvPr/>
        </p:nvSpPr>
        <p:spPr>
          <a:xfrm>
            <a:off x="5643720" y="2714760"/>
            <a:ext cx="121428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начение синтеза белков дл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i"/>
          <p:cNvPicPr/>
          <p:nvPr/>
        </p:nvPicPr>
        <p:blipFill>
          <a:blip r:embed="rId1"/>
          <a:stretch/>
        </p:blipFill>
        <p:spPr>
          <a:xfrm>
            <a:off x="571680" y="1521000"/>
            <a:ext cx="81216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и - обязательная составная часть всех живых клеток, играют исключительно важную роль в живой природе, являются главным, наиболее ценным и незаменимым компонентом питания. Это связанно с той огромной ролью, которую они играют в процессах развития и жизни человека. Белки являются основой структурных элементов и тканей, поддерживают обмен веществ и энергии, участвуют в процессах роста и размножения, обеспечивают механизмы движений, развитие иммунных реакций, необходимы для функционирования всех органов и систем организ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L23p02p01"/>
          <p:cNvPicPr/>
          <p:nvPr/>
        </p:nvPicPr>
        <p:blipFill>
          <a:blip r:embed="rId1"/>
          <a:stretch/>
        </p:blipFill>
        <p:spPr>
          <a:xfrm>
            <a:off x="3132000" y="249228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"Жизнь - это форма существования белка"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4" descr="Презентация «Белки», слайд № 1"/>
          <p:cNvPicPr/>
          <p:nvPr/>
        </p:nvPicPr>
        <p:blipFill>
          <a:blip r:embed="rId1"/>
          <a:stretch/>
        </p:blipFill>
        <p:spPr>
          <a:xfrm>
            <a:off x="1619280" y="1916280"/>
            <a:ext cx="61196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История открытия бел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530000"/>
            <a:ext cx="8007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ещества белковой природы известны с древних времен. Начало их изучения положено в середине 18 в. итальянцем Я. Беккари, но только через 100 лет ученым удалось систематизировать свойства белков  и сделать вывод , что белки – это главный компонент живых организмов. Затем из белковых гидролизатов были получены продукты расщепления и возникли гипотезы о строении белков из аминокисл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редерик Грант Бантинг – канадский ученый, в 1923 году  стал лауреатом Нобелевской премии за открытие и изучение инсу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1937 года изучал структуру гемоглоб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7720" y="4143240"/>
            <a:ext cx="29480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фото"/>
          <p:cNvPicPr/>
          <p:nvPr/>
        </p:nvPicPr>
        <p:blipFill>
          <a:blip r:embed="rId1"/>
          <a:stretch/>
        </p:blipFill>
        <p:spPr>
          <a:xfrm>
            <a:off x="285840" y="357120"/>
            <a:ext cx="3571920" cy="364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фото 2"/>
          <p:cNvPicPr/>
          <p:nvPr/>
        </p:nvPicPr>
        <p:blipFill>
          <a:blip r:embed="rId2"/>
          <a:stretch/>
        </p:blipFill>
        <p:spPr>
          <a:xfrm>
            <a:off x="5214960" y="304920"/>
            <a:ext cx="3081240" cy="3587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 flipV="1" rot="10800000">
            <a:off x="5285880" y="403200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Жак Люсьен Моно (1910-1976) – французский биохимик  и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8:36:41Z</dcterms:created>
  <dc:creator>Customer</dc:creator>
  <dc:description/>
  <dc:language>en-US</dc:language>
  <cp:lastModifiedBy>Student</cp:lastModifiedBy>
  <dcterms:modified xsi:type="dcterms:W3CDTF">2012-03-31T06:11:14Z</dcterms:modified>
  <cp:revision>6</cp:revision>
  <dc:subject/>
  <dc:title>Тема: Белки. Проблема  синтеза белков</dc:title>
</cp:coreProperties>
</file>