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C4C5-345D-413C-BC57-B5F4EC544F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C2B4-548C-464E-9A37-38A54369A8E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5E76-A7B2-49E4-BD1A-CBFB10B96F5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6164-754F-4C06-A010-94E751077C2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CBB-F2EF-4D69-8A73-4D0F7B49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7E53-9E5C-495E-9F3F-C4433071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6C23-F7FE-4179-9AA7-4EB35A94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89C3-34E1-47AB-8500-9401EAF7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94FC-785E-4760-8558-93BEE6DA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5F5B-CAAB-4FAA-B2F4-6F1F1E95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1C5E-36D8-48F6-9049-28129DB1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CD19-38A0-4574-B6D4-71EE000F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DA3E-CE95-46D7-B969-38E8F485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2659-67A3-424E-A0F6-4C39E214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98AB-BB70-45B8-97A1-F8EE4D6A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B788-100F-4171-B3F3-42BB4392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14C4-0BA8-4A3D-9554-9B943273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122B-A2B9-4C11-8251-671B0776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CFBB-5903-4577-B086-133A6E9E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6C65-2A75-4A94-8539-CD467C66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AE33-E84A-4551-BF42-0783B877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C5F26-C09C-464D-B2AB-AFA2176A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E419A-2F74-4A16-9C29-9DB94DA8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04B33-C7F5-436D-9D2B-47F03345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89847-E899-4493-9F04-35F8A614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EA1AD-1A3C-4D8D-9FBC-D6B90983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275E-06D5-46BD-95CF-A5BD0C67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C9771-8971-448C-956F-DBCA8ABE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4C3D2-B319-4043-9B56-03468ADC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A9D2D-0A53-47EF-BDD9-FCB737D5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28A10-65FF-4F52-8951-BC1CBE16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A06E9-D8AE-4861-AEC3-95C8B820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FE4A1-13AC-46BE-A4D9-944C0205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173E4-307F-4B86-BD2F-3B7DFABC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9A5F-63B7-4155-AE11-C532E55A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626-DB79-49C7-A9BA-1B176FB2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452-9490-4E26-B0E8-82602B5A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76CF-3BF9-4C65-849F-56F7D105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C0A0-DF01-41CC-A3E2-0F3A9072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EB1E-7103-412A-BA17-8DFC37B3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7DAE-74BD-462D-A637-62905A4364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B16B-C725-40BB-A63D-7774930475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5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3C68-2259-4916-980E-DB5699D8CD7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78_&#1075;&#1086;&#1076;" TargetMode="External"/><Relationship Id="rId2" Type="http://schemas.openxmlformats.org/officeDocument/2006/relationships/hyperlink" Target="http://ru.wikipedia.org/wiki/&#1041;&#1077;&#1088;&#1085;&#1072;&#1088;,_&#1050;&#1083;&#1086;&#1076;" TargetMode="External"/><Relationship Id="rId3" Type="http://schemas.openxmlformats.org/officeDocument/2006/relationships/hyperlink" Target="http://ru.wikipedia.org/wiki/&#1057;&#1064;&#1040;" TargetMode="External"/><Relationship Id="rId4" Type="http://schemas.openxmlformats.org/officeDocument/2006/relationships/hyperlink" Target="http://ru.wikipedia.org/wiki/&#1060;&#1080;&#1079;&#1080;&#1086;&#1083;&#1086;&#1075;" TargetMode="External"/><Relationship Id="rId5" Type="http://schemas.openxmlformats.org/officeDocument/2006/relationships/hyperlink" Target="http://ru.wikipedia.org/wiki/&#1059;&#1086;&#1083;&#1090;&#1077;&#1088;_&#1050;&#1077;&#1085;&#1085;&#1086;&#1085;" TargetMode="External"/><Relationship Id="rId6" Type="http://schemas.openxmlformats.org/officeDocument/2006/relationships/hyperlink" Target="http://ru.wikipedia.org/wiki/1932_&#1075;&#1086;&#1076;" TargetMode="External"/><Relationship Id="rId7" Type="http://schemas.openxmlformats.org/officeDocument/2006/relationships/hyperlink" Target="http://ru.wikipedia.org/wiki/&#1055;&#1088;&#1086;&#1094;&#1077;&#1089;&#1089;" TargetMode="External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доровье как норма реакции на окружающую среду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Oval 4"/>
          <p:cNvSpPr/>
          <p:nvPr/>
        </p:nvSpPr>
        <p:spPr>
          <a:xfrm>
            <a:off x="1066680" y="2057400"/>
            <a:ext cx="1524240" cy="144792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львеоляр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озду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04920" y="3733920"/>
            <a:ext cx="4495680" cy="533160"/>
          </a:xfrm>
          <a:prstGeom prst="rect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пилляры легких    О2 + Нв = Нв 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2438280" y="4038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828800" y="3352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6019920" y="2819520"/>
            <a:ext cx="1523880" cy="144756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львеоляр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озду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419720" y="4648320"/>
            <a:ext cx="4343400" cy="1981080"/>
          </a:xfrm>
          <a:prstGeom prst="rect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растворенный в плазме крови СО2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гидрокарбона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Нв СО2 = Нв + С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пилляры лег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6858000" y="41144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азообмен в легк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азообмен в тканях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1066680" y="2057400"/>
            <a:ext cx="1524240" cy="144792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канева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жидк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304920" y="3733920"/>
            <a:ext cx="4495680" cy="1904760"/>
          </a:xfrm>
          <a:prstGeom prst="rect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растворенный в плазме крови СО2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бикарбона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Нв СО2 = Нв + С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пилляры тка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1828800" y="3352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Oval 7"/>
          <p:cNvSpPr/>
          <p:nvPr/>
        </p:nvSpPr>
        <p:spPr>
          <a:xfrm>
            <a:off x="6019920" y="2819520"/>
            <a:ext cx="1523880" cy="144756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канева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жидк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4648320" y="4724280"/>
            <a:ext cx="4343400" cy="1371600"/>
          </a:xfrm>
          <a:prstGeom prst="rect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вО2 = О2 + Н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пилляры тка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Line 9"/>
          <p:cNvSpPr/>
          <p:nvPr/>
        </p:nvSpPr>
        <p:spPr>
          <a:xfrm flipV="1">
            <a:off x="6858000" y="41144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ияние легочной вентиляции на выделение СО2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52280" y="1405080"/>
          <a:ext cx="8763120" cy="5452920"/>
        </p:xfrm>
        <a:graphic>
          <a:graphicData uri="http://schemas.openxmlformats.org/drawingml/2006/table">
            <a:tbl>
              <a:tblPr/>
              <a:tblGrid>
                <a:gridCol w="3483000"/>
                <a:gridCol w="2467080"/>
                <a:gridCol w="2813040"/>
              </a:tblGrid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00"/>
                          </a:solidFill>
                          <a:latin typeface="Tahoma"/>
                          <a:ea typeface="Arial"/>
                        </a:rPr>
                        <a:t>Уровень легочн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00"/>
                          </a:solidFill>
                          <a:latin typeface="Tahoma"/>
                          <a:ea typeface="Arial"/>
                        </a:rPr>
                        <a:t>вентиля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00"/>
                          </a:solidFill>
                          <a:latin typeface="Tahoma"/>
                          <a:ea typeface="Arial"/>
                        </a:rPr>
                        <a:t>Нару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00"/>
                          </a:solidFill>
                          <a:latin typeface="Tahoma"/>
                          <a:ea typeface="Arial"/>
                        </a:rPr>
                        <a:t>Биохимические изме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Гиповентиляция 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dbbd71"/>
                          </a:solidFill>
                          <a:latin typeface="Tahoma"/>
                          <a:ea typeface="Arial"/>
                        </a:rPr>
                        <a:t>-задержка выделения</a:t>
                      </a: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dbbd71"/>
                          </a:solidFill>
                          <a:latin typeface="Tahoma"/>
                          <a:ea typeface="Arial"/>
                        </a:rPr>
                        <a:t>СО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(при заболеваниях органов дыхания, интоксикаци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Дыхатель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ацидоз</a:t>
                      </a: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Умень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концентрации бикарбонатов, сдвиг рН крови в кислую строн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Гипервентиляция 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dbbd71"/>
                          </a:solidFill>
                          <a:latin typeface="Tahoma"/>
                          <a:ea typeface="Arial"/>
                        </a:rPr>
                        <a:t>Избыточное выделение</a:t>
                      </a: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dbbd71"/>
                          </a:solidFill>
                          <a:latin typeface="Tahoma"/>
                          <a:ea typeface="Arial"/>
                        </a:rPr>
                        <a:t>СО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990000"/>
                          </a:solidFill>
                          <a:latin typeface="Tahoma"/>
                          <a:ea typeface="Arial"/>
                        </a:rPr>
                        <a:t>(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при интенсивной мышечной работе, восхождении на большие высот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Дыхательный алкалоз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Сдвиг рН крови в щелочную строну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8400" y="417240"/>
            <a:ext cx="825804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воды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: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тойчивым системам необходимы комбинации из обоих типов обратной связи. Тогда как отрицательная обратная связь позволяет вернуться к гомеостатическому состоянию, положительная обратная связь используется для перехода к совершенно новому (и, вполне может быть, менее желанному) состоянию гомеостаза, — такая ситуация называется «метастабильность». 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апы превращения углеводов в организм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04920" y="1981080"/>
            <a:ext cx="2819160" cy="6098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отовая пол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80880" y="3505320"/>
            <a:ext cx="281952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ече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Line 9"/>
          <p:cNvSpPr/>
          <p:nvPr/>
        </p:nvSpPr>
        <p:spPr>
          <a:xfrm>
            <a:off x="5791320" y="2209680"/>
            <a:ext cx="11430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Line 10"/>
          <p:cNvSpPr/>
          <p:nvPr/>
        </p:nvSpPr>
        <p:spPr>
          <a:xfrm>
            <a:off x="6324480" y="1828800"/>
            <a:ext cx="0" cy="3049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Line 11"/>
          <p:cNvSpPr/>
          <p:nvPr/>
        </p:nvSpPr>
        <p:spPr>
          <a:xfrm>
            <a:off x="5715000" y="3581280"/>
            <a:ext cx="121932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Line 12"/>
          <p:cNvSpPr/>
          <p:nvPr/>
        </p:nvSpPr>
        <p:spPr>
          <a:xfrm>
            <a:off x="5791320" y="4191120"/>
            <a:ext cx="11430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457200" y="5257800"/>
            <a:ext cx="281952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Мышц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5181480" y="5715000"/>
            <a:ext cx="6858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5562720" y="5410080"/>
            <a:ext cx="0" cy="3049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Line 18"/>
          <p:cNvSpPr/>
          <p:nvPr/>
        </p:nvSpPr>
        <p:spPr>
          <a:xfrm>
            <a:off x="6400800" y="3429000"/>
            <a:ext cx="0" cy="15228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Line 19"/>
          <p:cNvSpPr/>
          <p:nvPr/>
        </p:nvSpPr>
        <p:spPr>
          <a:xfrm>
            <a:off x="6324480" y="4038480"/>
            <a:ext cx="0" cy="15264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апы превращения углеводов в организм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228600" y="1752480"/>
            <a:ext cx="2971800" cy="44960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1 группа – превращен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углеводов в ротов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пол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1.Сравните вкусов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ачества крахмала и глюкоз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2.Капните 1 каплю р-ра йод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на поверхность кусочка хлеб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акое вещество содержитс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в хлебе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3.Наберите в пробирк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орцию слюны. Положит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в нее небольшое количест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рахмала, добавьте 1 каплю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р-ра йода. Нагрейте слег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(не более </a:t>
            </a: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37 С)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робирку с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орцией слюны.</a:t>
            </a: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ак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изменения в пробирк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роисходят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352680" y="1752480"/>
            <a:ext cx="2819520" cy="44960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2 группа- превращ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углеводов в печен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Сделайте вывод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Многочисленные анализ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рови показали, что посл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ормления у животны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(человека) в воротной в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ечени (сосуд, приносящ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ровь в печень из орган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ищеварения) содержитс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0,3%, а в нижней пол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вене(сосуд, выносящ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ровь из печени) 0,12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глюкоз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6324480" y="1752480"/>
            <a:ext cx="2819520" cy="44960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3 группа –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превращ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углеводов в мышца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Решите задачу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Сколько глюкоз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одверглос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окислению, есл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организ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израсходовал 200 г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ислорода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Сколько энерги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выделилось н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рассчитанную масс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глюкозы, если 1 мол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глюкозы дает 152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Дж энергии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апы превращения углеводов в организм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304920" y="1981080"/>
            <a:ext cx="2819160" cy="6098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отовая пол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685800" y="1219320"/>
            <a:ext cx="2057400" cy="685800"/>
          </a:xfrm>
          <a:prstGeom prst="downArrowCallout">
            <a:avLst>
              <a:gd name="adj1" fmla="val 75007"/>
              <a:gd name="adj2" fmla="val 7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ищ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3886200" y="1295280"/>
            <a:ext cx="4876920" cy="12956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Ферменты слю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Крахмал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глюко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3200400" y="2209680"/>
            <a:ext cx="6094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380880" y="3505320"/>
            <a:ext cx="281952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ече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3962520" y="2971800"/>
            <a:ext cx="4876560" cy="14479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нсул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Глюкоза                         Гликог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Адренал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Гликоген                       Глюко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5791320" y="2209680"/>
            <a:ext cx="11430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13"/>
          <p:cNvSpPr/>
          <p:nvPr/>
        </p:nvSpPr>
        <p:spPr>
          <a:xfrm>
            <a:off x="6324480" y="1828800"/>
            <a:ext cx="0" cy="3049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5715000" y="3581280"/>
            <a:ext cx="121932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5791320" y="4191120"/>
            <a:ext cx="11430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3276720" y="3809880"/>
            <a:ext cx="6094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Rectangle 17"/>
          <p:cNvSpPr/>
          <p:nvPr/>
        </p:nvSpPr>
        <p:spPr>
          <a:xfrm>
            <a:off x="457200" y="5257800"/>
            <a:ext cx="281952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Мышц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18"/>
          <p:cNvSpPr/>
          <p:nvPr/>
        </p:nvSpPr>
        <p:spPr>
          <a:xfrm>
            <a:off x="3962520" y="4876920"/>
            <a:ext cx="4876560" cy="1295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р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Глюкоза             углекислый газ, в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9"/>
          <p:cNvSpPr/>
          <p:nvPr/>
        </p:nvSpPr>
        <p:spPr>
          <a:xfrm>
            <a:off x="5181480" y="5715000"/>
            <a:ext cx="6858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5562720" y="5410080"/>
            <a:ext cx="0" cy="3049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Line 21"/>
          <p:cNvSpPr/>
          <p:nvPr/>
        </p:nvSpPr>
        <p:spPr>
          <a:xfrm>
            <a:off x="6400800" y="3429000"/>
            <a:ext cx="0" cy="15228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Line 22"/>
          <p:cNvSpPr/>
          <p:nvPr/>
        </p:nvSpPr>
        <p:spPr>
          <a:xfrm>
            <a:off x="6324480" y="4038480"/>
            <a:ext cx="0" cy="15264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Line 23"/>
          <p:cNvSpPr/>
          <p:nvPr/>
        </p:nvSpPr>
        <p:spPr>
          <a:xfrm>
            <a:off x="3352680" y="5562720"/>
            <a:ext cx="60984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52280" y="457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данным Всемирной организации здравоохранения, среди химических соединений, используемых в промышленном масштабе, примерно 40 тыс.  вредны для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228600" y="259092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хронических отравлениях ртутью наблюдаются признаки поражения ЦНС, эмоциональная неустойчивость, нарушение сна, головные боли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380880" y="43434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родуктах сгорания бензина 90% приходится на содержание свинца, который поступая в организм через кожу и слизистые, а также с пищей, водой, через дыхательные пути и пищеварительный тракт, вызывает поражение нервной и кровеносной систем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4"/>
          <p:cNvSpPr/>
          <p:nvPr/>
        </p:nvSpPr>
        <p:spPr>
          <a:xfrm>
            <a:off x="685800" y="804240"/>
            <a:ext cx="7661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ча №1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ельная сжигает в сутки  10т угля, содержащего 84% углерода, 5% водорода, 3,5% серы,   5% воды и 2,5% негорючих примесей. Рассчитайте  расход кислорода воздуха на сжигание углерода-основного компонента угля (учитывать два возможных случая горения углерода с образованием  угарного газа и углекислого газ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533520" y="901080"/>
            <a:ext cx="749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ча №2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адиусе 5 км вокруг химического завода ощущается легкий запах сероводорода.  Анализ проб воздуха показал, что газ распространяется на высоту до 2 км, служит причиной образования кислотных дождей. Рассчитайте, сколько сернистого газа (оксида серы (4) ) получится в результате взаимодействия 0.01л сероводорода с кислородом воздуха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533520" y="685800"/>
            <a:ext cx="82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 груп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едостаток соли в организме может привести к головокружению, обмороку, нарушению сердечной деятельности, снижению аппетита, уменьшению количества воды в крови и орган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едостаток белков приводит к задержке роста, малокровию, выпадению воло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1275120" y="0"/>
            <a:ext cx="72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читайте текс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кой вывод вы можете сделать на основе прочитанного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04920" y="2438280"/>
            <a:ext cx="84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 груп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Чрезмерное потребление соли вредно для здоровья – нарушается деятельность сердца, почек, появляются отеки ног, повышается кровяное давл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228600" y="3471120"/>
            <a:ext cx="860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 груп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тдельные клетки и группы клеток человеческого организма чрезвычайно чувствительны к изменению окружающей их среды. Что же касается целого организма, то границы изменений  внешней среды, которые он может переносить, значительно шире, чем у отдельных клеток. Клетки человека нормально функционируют лишь при температуре 36-380 С. Повышение или снижение температуры за пределы этих границ приводит к нарушению функций клеток. Человек может нормально существовать при значительно более широких колебаниях температуры внешней среды. В клетках поддерживается постоянное количество воды и минеральных веществ. Организм же может переносить и водное голодание, и избыточное поступление воды и соле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4"/>
          <p:cNvSpPr/>
          <p:nvPr/>
        </p:nvSpPr>
        <p:spPr>
          <a:xfrm>
            <a:off x="609480" y="-21672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№3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анализируйте таблицу «Выбросы  ( в тыс.т./ год) в атмосферу города с населением  1млн. человек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80880" y="1371600"/>
          <a:ext cx="8217000" cy="4022640"/>
        </p:xfrm>
        <a:graphic>
          <a:graphicData uri="http://schemas.openxmlformats.org/drawingml/2006/table">
            <a:tbl>
              <a:tblPr/>
              <a:tblGrid>
                <a:gridCol w="6472440"/>
                <a:gridCol w="1744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гредиенты  атмосферных выбр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глекислый г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ы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ческие вещества ( фенол, бензол, спирты, растворител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ианистый кал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единения   свин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ту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0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гарный г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ышья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Rectangle 139"/>
          <p:cNvSpPr/>
          <p:nvPr/>
        </p:nvSpPr>
        <p:spPr>
          <a:xfrm>
            <a:off x="457200" y="540900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Сделайте расчеты выбросов в атмосферу нашего города с населением…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делайте вывод, могут ли выбросы загрязняющих веществ в атмосферу оставлять « свой след на земл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доровье – это не только отсутствие болезней и физических недостатков. Это состояние полного физического, психологического и социального комфорта.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Мощность техногенного воздействия на живую природу достигла такой величины, что возникла опасность необратимых изменений за счет нарушения слагавшихся в течение миллионов лет природных динамических равновесий, в том числе и гомеостаз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собность биологических систем противостоять изменениям и сохранять динамическое относительное постоянство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а и свойств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7239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ГОМЕОСТАЗ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io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греч) – подобный, одинаков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si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греч.) – неподвижность, состоя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2600" y="428760"/>
            <a:ext cx="7815240" cy="5929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ако представление о постоянстве внутренней среды было сформулировано ещё в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1878 год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французским учёным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Клодом Бернаром</a:t>
            </a:r>
            <a:br>
              <a:rPr sz="3200"/>
            </a:br>
            <a:r>
              <a:rPr b="0" lang="ru-RU" sz="29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Американский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900" spc="-1" strike="noStrike" u="sng">
                <a:solidFill>
                  <a:srgbClr val="ffcc66"/>
                </a:solidFill>
                <a:uFillTx/>
                <a:latin typeface="Arial"/>
                <a:hlinkClick r:id="rId4"/>
              </a:rPr>
              <a:t>физиолог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900" spc="-1" strike="noStrike" u="sng">
                <a:solidFill>
                  <a:srgbClr val="ffcc66"/>
                </a:solidFill>
                <a:uFillTx/>
                <a:latin typeface="Arial"/>
                <a:hlinkClick r:id="rId5"/>
              </a:rPr>
              <a:t>Уолтер Кеннон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(Walter B. Cannon) в </a:t>
            </a:r>
            <a:r>
              <a:rPr b="0" lang="ru-RU" sz="2900" spc="-1" strike="noStrike" u="sng">
                <a:solidFill>
                  <a:srgbClr val="ffcc66"/>
                </a:solidFill>
                <a:uFillTx/>
                <a:latin typeface="Arial"/>
                <a:hlinkClick r:id="rId6"/>
              </a:rPr>
              <a:t>1932 году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в своей книге «The Wisdom of the Body» («Мудрость тела») предложил этот термин как название для «координированных физиологических </a:t>
            </a:r>
            <a:r>
              <a:rPr b="0" lang="ru-RU" sz="2900" spc="-1" strike="noStrike" u="sng">
                <a:solidFill>
                  <a:srgbClr val="ffcc66"/>
                </a:solidFill>
                <a:uFillTx/>
                <a:latin typeface="Arial"/>
                <a:hlinkClick r:id="rId7"/>
              </a:rPr>
              <a:t>процессов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которое поддерживают большинство устойчивых состояний организма».</a:t>
            </a:r>
            <a:endParaRPr b="0" lang="en-US" sz="29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ханизмы гомеостаза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гда происходит изменение в переменных, наблюдаются два основных типа обратной связи, или фидбэка, на которые реагирует система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араметрам гомеостаза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же относится химический состав крови, влажность кожи, состав суставной жидкости, ритмы сердечных сокращений, кислотно-щелочной баланс, осмотическое давление, соотношение электролитов (натрия, кальция, хлора, магния, фосфора), содержания глюкозы, числа форменных элементов крови и другие параметры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Отрицательная обратная связь, выражающаяся в реакции, при которой система отвечает так, чтобы изменить направление изменения на противоположное. Так как обратная связь служит сохранению постоянства системы, это позволяет соблюдать гомеостаз. 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*Например, когда концентрация углекислого газа в организме человека увеличивается, лёгким приходит сигнал к увеличению их активности и выдыханию большего количество углекислого газа. 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*Терморегуляция — другой пример отрицательной обратной связи. Когда температура тела повышается (или понижается) терморецепторы в коже и гипоталамусе регистрируют изменение, вызывая сигнал из мозга. Данный сигнал, в свою очередь, вызывает ответ — понижение температуры (или повышение). 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жительная обратная связь, которая выражается в усилении изменения переменной. Она оказывает дестабилизирующий эффект, поэтому не приводит к гомеостазу. Положительная обратная связь реже встречается в естественных системах, но также имеет своё применение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*Например, в нервах пороговый электрический потенциал вызывает генерацию намного большего потенциала действия. Свёртывание крови и события при рождении можно привести в качестве других примеров положительной обратной связи.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8T13:49:0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