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FC0-BF79-4A3E-8BCA-8055B89B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62D1-85F8-4E8F-9BA3-A559D910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4FDD-40CE-485B-85D0-E40F145E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DCDD-3640-4B4D-8962-853D542B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B464-DDF6-4BDB-BB33-6547C6BE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75BC-3EA5-4791-AB78-CC8B7222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48E1-1E9B-48DD-A30C-5D7AA250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16F8-CAF5-4D27-9B62-A6E2BA42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ADCB-1171-46C0-9872-ABA8B4E5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629B-E16F-43BC-9562-341BF4A2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E6A3-5589-4ACA-9272-9B4BF47D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2CD7-96D2-40F0-BA91-62333653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C9E1-B70F-4A98-B7EE-63036037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282E-2265-4410-BBA8-F42410ED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7879-CBF8-458F-8B3D-6A849E28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9ABE-8D85-4887-8909-E780648F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AFA9-065D-467D-917F-99FF3E31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4FA05E-4E54-4BFC-8C22-A4624ACF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3E39D-69F7-4288-8546-8AE7E0EB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B9A1F-1CD9-4AC2-AAB0-93A00295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616E6-81DD-440E-AFEF-CEC0EE01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543A4-44F1-4599-8762-A6DE33EF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9AE-2393-4558-B2E6-ABDDEEFC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A5D8AD-551B-4789-B4AA-8262AE57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7E98AD-8DFC-40B6-9114-1522FAD3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42594A-9DA0-4AFA-A014-DF8A21E1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73525B-2305-4AE7-821E-061C5B5B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3A8A7-AB0D-48F9-B0C5-F7B3FE20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2E7420-A297-4B79-8D73-85579415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29A9E-2378-4732-B443-0F48BE1E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A92A1-B54B-4D8D-8E9F-F0FF531C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06BA9-8EED-43BB-BBA9-30124DFE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B714A-1D09-486D-AFDB-A9BCC713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4D0-8292-40D3-8800-4D42F64F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04198-1658-47EB-86CC-949494AB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CFE73-FAD9-410B-8C0C-1496E584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AC5C2-6E4A-470A-908D-05A1161A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A29EF-F9E1-4DB1-8C4A-B84807ED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E25CA-6AE0-482F-BC7A-9BD3236E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2DB20-0FC5-4B77-9E18-185377E7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BF99C-44DB-4729-9BD8-AFBCF97C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3C4D1-BAF2-406B-941C-581EF423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08D4E-83DA-4AA9-93CD-EFEE6CC8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2520F7-8D2C-4AF9-B898-D70DFFF5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EBB8-D2E9-4397-B58D-CF0265AC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04BE58-477A-4A9E-B68A-5C42689C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AC0648-5DC2-4BB0-AF1A-17CAA8FA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1BAD9E-CE02-4C62-AC6F-A1D5DE1A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404ADE-440D-4D58-81D6-E3952E27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9F3151-D692-4824-95CD-EBFB6DEF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7148FF-72C5-4D68-8089-573C2D4B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A060D1-7080-4367-AF01-271133ED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0E4080-E5C7-4467-B181-2ED03D92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821059-1626-4CEB-9782-CCEC5AC5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B0A305-FC77-4162-AD26-116FF895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C6BC-E1DB-405E-9301-0462B280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3A3A83-205D-48AB-A0EF-C33148CB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7044BA-AA31-4D2F-AF54-E6AFF46E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4E587-89AF-47CB-9617-BF483287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CAD92B-B3D0-4346-AA6C-358C0F1F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843439-B299-45FB-B19F-DF372AAA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50B10F-5F5E-416E-8D0D-9FDAF78C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FC6830-5F50-493D-8611-E4B6ACDB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C42A8B-4B3A-416F-AB98-5CA7AF13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085B77-1ADE-4D79-9701-11EED261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1147B1-6929-4A0C-8C7D-8C786683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03BF-73E0-45CC-A4BF-E6BF05F3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26EC2E-027A-42C6-B1DA-E8F49A33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DA8D0E-3690-47CC-877F-1B995D28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F13AAB-B878-48F4-AD78-65E99CED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9D56C3-C3A4-419C-8422-D911EB7E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6828EA-1E1E-41AD-A133-814FB1E0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BC115F-6510-4CD4-B84D-597A424C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32A5D7-1B83-42F7-9DB5-60E9603D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61382D-B355-46B8-839A-FF91141B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2ACA0D-62D4-41D0-8688-63C7DA34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174713-D88A-4A46-AC67-9C12E4F0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6E49-4256-45D0-A1AD-AB778357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B5C0A3-C88A-4E0B-9CAC-0D5F1C38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44B33A-017D-4D28-B943-E8CCFF7F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101E6D-1D33-4656-A50A-C209FC46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013D4B-AE70-4812-B7E1-74CA3B07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AC6A20-0B74-4EE1-A758-A4DD5802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25C3-EB1D-4969-B22B-6C3B0957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9124-03F5-421C-B1E5-310F93C6542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328F-F743-4BF3-AD6A-A6C6415B46B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3D4E-B11A-4BA4-AD1C-374D0352EF8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3376-6076-4E87-8285-61A58A77D2C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DDAC-BDD4-4198-A970-F8408BA1F6B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91E5-0D54-456C-BED1-8316B978C3B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F291-FE9E-4CBE-ACBC-B23D9F2F034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00160" y="1285920"/>
            <a:ext cx="685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2bd8"/>
                </a:solidFill>
                <a:latin typeface="Century Schoolbook"/>
              </a:rPr>
              <a:t>АМИНОКИСЛОТЫ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428760"/>
            <a:ext cx="482904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дукты, содержащие лизи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ольшое количество лизина содержат в себе следующие продукты: картофель, свинина, йогурт, соя, зародыши пшеницы, яичный белок, чечевица, орехи, рыба, мясо, молочные продук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растительных продуктах содержание лизина почти всегда ограничено, то есть даже малые количества лизина существенно повышают их пищевую ценно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2" descr="C:\Users\User\Desktop\валя\200px-Lysine.png"/>
          <p:cNvPicPr/>
          <p:nvPr/>
        </p:nvPicPr>
        <p:blipFill>
          <a:blip r:embed="rId1"/>
          <a:stretch/>
        </p:blipFill>
        <p:spPr>
          <a:xfrm>
            <a:off x="5500800" y="1071720"/>
            <a:ext cx="253980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7467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71e5"/>
                </a:solidFill>
                <a:latin typeface="Century Schoolbook"/>
              </a:rPr>
              <a:t>АРГИНИН</a:t>
            </a:r>
            <a:br>
              <a:rPr sz="2700"/>
            </a:br>
            <a:endParaRPr b="0" lang="en-US" sz="49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374" name="Picture 2" descr="C:\Users\User\Desktop\валя\200px-L-arginine-3D-hztl.png"/>
          <p:cNvPicPr/>
          <p:nvPr/>
        </p:nvPicPr>
        <p:blipFill>
          <a:blip r:embed="rId1"/>
          <a:stretch/>
        </p:blipFill>
        <p:spPr>
          <a:xfrm>
            <a:off x="5214960" y="928800"/>
            <a:ext cx="3286080" cy="2466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C:\Users\User\Desktop\валя\200px-Arginine.png"/>
          <p:cNvPicPr/>
          <p:nvPr/>
        </p:nvPicPr>
        <p:blipFill>
          <a:blip r:embed="rId2"/>
          <a:stretch/>
        </p:blipFill>
        <p:spPr>
          <a:xfrm>
            <a:off x="785880" y="1071720"/>
            <a:ext cx="3071880" cy="407196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5"/>
          <p:cNvSpPr/>
          <p:nvPr/>
        </p:nvSpPr>
        <p:spPr>
          <a:xfrm>
            <a:off x="4286160" y="428616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кращени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рг, Arg,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6"/>
          <p:cNvSpPr/>
          <p:nvPr/>
        </p:nvSpPr>
        <p:spPr>
          <a:xfrm>
            <a:off x="321840" y="5357880"/>
            <a:ext cx="47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лярная масса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74,2 г/м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6840" y="285480"/>
            <a:ext cx="746748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ргинин — условно-незаменимая аминокислота. У взрослого и здорового человека аргинин вырабатывается организмом в достаточном количестве. В то же время, у детей и подростков, у пожилых и больных людей уровень синтеза аргинина часто недостаточе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ргинин широко рекламируется как компонент БАД для бодибилдеров с целью улучшения питания мышц, и пожилых людей для улучшения эректильной функции. Так же массово применяется аргинин и в пищевых добавках, рекламируемых «в целях стимулирования иммунитета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66"/>
                </a:solidFill>
                <a:latin typeface="Century Schoolbook"/>
              </a:rPr>
              <a:t>L-АРГИНИН ВСТРЕЧАЕТСЯ ВО МНОГИХ ПРОДУКТАХ ПИТАНИЯ, КАК ЖИВОТНОГО, ТАК И РАСТИТЕЛЬНОГО ПРОИСХОЖДЕНИЯ. В ТАБЛИЦЕ ПРИВЕДЕНЫ ДАННЫЕ ПО СОДЕРЖАНИЮ АРГИНИНА НА 100 ГРАММ ПРОДУКТА И УКАЗАНО СОДЕРЖАНИЕ БЕЛКА.</a:t>
            </a:r>
            <a:br>
              <a:rPr sz="2700"/>
            </a:br>
            <a:endParaRPr b="0" lang="en-US" sz="2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856880"/>
            <a:ext cx="7467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Продукт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             Белок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 Аргинин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/Б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Свинина сырая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20,95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394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,7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Сырое куриное филе 21,23 г 1436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,8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Сырое филе лосося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20,42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221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,0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Куриное яйцо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2,57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820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,5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Коровье молоко,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3,7 % жирности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3,28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119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3,6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Кедровые орехи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3,69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2413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7,6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Грецкие орехи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5,23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2278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5,0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Тыквенные семечки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30,23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5353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7,7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Пшеничная мука г/п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3,70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42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4,7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Кукурузная мука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,93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345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5,0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Рис нешлифованный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7,94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02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7,6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Гречишный хлеб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3,25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982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7,4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Горох сушеный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24,55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2188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8,9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Аргинин относится к разряду Аминокислот, которые вырабатываются в организме лишь при определённых условиях. При малейшей патологии организм не успевает справляться с производством Аргинина. И тогда его нужно принимать в виде лекарственных средств, или биологически активных добавок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Детский организм вообще не способен самостоятельно вырабатывать аргинин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и дефиците Аргинина возникают такие заболевания: устойчивая гипертония, ослабление памяти, нервные и психические расстройства, ослабление иммунитета, сахарный диабет, злокачественные новообразования, функциональные расстройства половой системы вплоть до импотенции, заболевания внутренних органов, жировая инфильтрация печени, замедления роста и полового созревания, ожирение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6666"/>
                </a:solidFill>
                <a:latin typeface="Century Schoolbook"/>
              </a:rPr>
              <a:t>ГИСТИДИН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Вид молекул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Химическая форму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2" descr="C:\Users\Петр\Desktop\Юля\презентация биохимия\гистидин\вид молекулы.png"/>
          <p:cNvPicPr/>
          <p:nvPr/>
        </p:nvPicPr>
        <p:blipFill>
          <a:blip r:embed="rId1"/>
          <a:stretch/>
        </p:blipFill>
        <p:spPr>
          <a:xfrm>
            <a:off x="755640" y="2637000"/>
            <a:ext cx="3016440" cy="3106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C:\Users\Петр\Desktop\Юля\презентация биохимия\гистидин\химическая формула.png"/>
          <p:cNvPicPr/>
          <p:nvPr/>
        </p:nvPicPr>
        <p:blipFill>
          <a:blip r:embed="rId2"/>
          <a:stretch/>
        </p:blipFill>
        <p:spPr>
          <a:xfrm>
            <a:off x="4788000" y="2349360"/>
            <a:ext cx="27558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0040" y="274680"/>
            <a:ext cx="742464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66"/>
                </a:solidFill>
                <a:latin typeface="Century Schoolbook"/>
              </a:rPr>
              <a:t>ГИСТИДИ́Н (L-Α-АМИНО-Β-ИМИДАЗОЛИЛПРОПИОНОВАЯ КИСЛОТА) — ГЕТЕРОЦИКЛИЧЕСКАЯ АЛЬФА-АМИНОКИСЛОТ</a:t>
            </a:r>
            <a:r>
              <a:rPr b="0" lang="ru-RU" sz="1600" spc="-1" strike="noStrike">
                <a:solidFill>
                  <a:srgbClr val="666666"/>
                </a:solidFill>
                <a:latin typeface="Century Schoolbook"/>
              </a:rPr>
              <a:t>А</a:t>
            </a: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, </a:t>
            </a:r>
            <a:br>
              <a:rPr sz="1400"/>
            </a:b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ГИСТИДИН — АЛЬФА-АМИНОКИСЛОТА СО СЛАБЫМИ ОСНОВНЫМИ СВОЙСТВАМИ, ОБУСЛОВЛЕННЫМИ ПРИСУТСТВИЕМ В МОЛЕКУЛЕ ОСТАТКА ИМИДАЗОЛА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666666"/>
                </a:solidFill>
                <a:latin typeface="Century Schoolbook"/>
              </a:rPr>
              <a:t>СОДЕРЖАНИЕ В ПРОДУКТАХ</a:t>
            </a:r>
            <a:br>
              <a:rPr sz="1400"/>
            </a:b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ГИСТИДИНОМ БОГАТЫ ТАКИЕ ПРОДУКТЫ КАК ТУНЕЦ, ЛОСОСЬ, СВИНАЯ ВЫРЕЗКА, ГОВЯЖЬЕ ФИЛЕ, КУРИНЫЕ ГРУДКИ, СОЕВЫЕ БОБЫ, АРАХИС, ЧЕЧЕВИЦА. КРОМЕ ТОГО, ГИСТИДИН ВКЛЮЧАЕТСЯ В СОСТАВ МНОГИХ ВИТАМИННЫХ КОМПЛЕКСОВ И НЕКОТОРЫХ ДРУГИХ МЕДИКАМЕНТОВ</a:t>
            </a:r>
            <a:br>
              <a:rPr sz="1400"/>
            </a:b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.</a:t>
            </a:r>
            <a:br>
              <a:rPr sz="1400"/>
            </a:br>
            <a:r>
              <a:rPr b="1" lang="ru-RU" sz="1400" spc="-1" strike="noStrike">
                <a:solidFill>
                  <a:srgbClr val="666666"/>
                </a:solidFill>
                <a:latin typeface="Century Schoolbook"/>
              </a:rPr>
              <a:t>РОЛЬ В ОРГАНИЗМЕ</a:t>
            </a:r>
            <a:br>
              <a:rPr sz="1400"/>
            </a:b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ГИСТИДИН ВХОДИТ В СОСТАВ АКТИВНЫХ ЦЕНТРОВ МНОЖЕСТВА ФЕРМЕНТОВ, ЯВЛЯЕТСЯ ПРЕДШЕСТВЕННИКОМ В БИОСИНТЕЗЕ ГИСТАМИНА. ОДНА ИЗ «СУЩЕСТВЕННЫХ» АМИНОКИСЛОТ, СПОСОБСТВУЕТ РОСТУ И ВОССТАНОВЛЕНИЮ ТКАНЕЙ. В БОЛЬШОМ КОЛИЧЕСТВЕ СОДЕРЖИТСЯ В ГЕМОГЛОБИНЕ; ИСПОЛЬЗУЕТСЯ ПРИ ЛЕЧЕНИИ </a:t>
            </a:r>
            <a:r>
              <a:rPr b="0" lang="en-US" sz="1400" spc="-1" strike="noStrike">
                <a:solidFill>
                  <a:srgbClr val="666666"/>
                </a:solidFill>
                <a:latin typeface="Century Schoolbook"/>
              </a:rPr>
              <a:t>   </a:t>
            </a: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РЕВМАТОИДНЫХ </a:t>
            </a:r>
            <a:r>
              <a:rPr b="0" lang="en-US" sz="1400" spc="-1" strike="noStrike">
                <a:solidFill>
                  <a:srgbClr val="666666"/>
                </a:solidFill>
                <a:latin typeface="Century Schoolbook"/>
              </a:rPr>
              <a:t>  </a:t>
            </a: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АРТРИТОВ, АЛЛЕРГИЙ, ЯЗВ И АНЕМИИ. НЕДОСТАТОК ГИСТИДИНА МОЖЕТ ВЫЗВАТЬ ОСЛАБЛЕНИЕ СЛУХ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666666"/>
                </a:solidFill>
                <a:latin typeface="Century Schoolbook"/>
              </a:rPr>
              <a:t>СИНТЕЗ</a:t>
            </a:r>
            <a:br>
              <a:rPr sz="1400"/>
            </a:b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БИОСИНТЕЗ ГИСТИДИНА ОСУЩЕСТВЛЯЕТСЯ ИЗ 5-ФОСФОРИБОЗИЛ-1-ПИРОФОСФАТА С ИСПОЛЬЗОВАНИЕМ ФРАГМЕНТА АДЕНИНОВОГО КОЛЬЦА АТФ И АЗОТА ГЛУТАМИНА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6666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6666"/>
                </a:solidFill>
                <a:latin typeface="Century Schoolbook"/>
              </a:rPr>
              <a:t>ФЕНИЛАЛАНИН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Вид молекул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Химическая форму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2" descr="C:\Users\Петр\Desktop\Юля\презентация биохимия\фениланин\200px-L-phenylalanine-3D-sticks.png"/>
          <p:cNvPicPr/>
          <p:nvPr/>
        </p:nvPicPr>
        <p:blipFill>
          <a:blip r:embed="rId1"/>
          <a:stretch/>
        </p:blipFill>
        <p:spPr>
          <a:xfrm>
            <a:off x="755640" y="2421000"/>
            <a:ext cx="3059280" cy="3211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C:\Users\Петр\Desktop\Юля\презентация биохимия\фениланин\200px-Phenylalanine.png"/>
          <p:cNvPicPr/>
          <p:nvPr/>
        </p:nvPicPr>
        <p:blipFill>
          <a:blip r:embed="rId2"/>
          <a:stretch/>
        </p:blipFill>
        <p:spPr>
          <a:xfrm>
            <a:off x="4788000" y="2349360"/>
            <a:ext cx="28270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61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ФЕНИЛАЛАНИ́Н (Α-АМИНО-Β-ФЕНИЛПРОПИОНОВАЯ КИСЛОТА, СОКР.: ФЕН, PHE, F) </a:t>
            </a: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— АРОМАТИЧЕСКАЯ АЛЬФА-АМИНОКИСЛОТА. СУЩЕСТВУЕТ В ДВУХ ОПТИЧЕСКИ ИЗОМЕРНЫХ ФОРМАХ — L И D И В ВИДЕ РАЦЕМАТА (DL). ПО ХИМИЧЕСКОМУ СТРОЕНИЮ СОЕДИНЕНИЕ МОЖНО ПРЕДСТАВИТЬ КАК АМИНОКИСЛОТУ АЛАНИН, В КОТОРОЙ ОДИН ИЗ АТОМОВ ВОДОРОДА ЗАМЕЩЁН ФЕНИЛЬНОЙ ГРУППОЙ</a:t>
            </a: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L-ФЕНИЛАЛАНИН ЯВЛЯЕТСЯ ПРОТЕИНОГЕННОЙ АМИНОКИСЛОТОЙ И ВХОДИТ В СОСТАВ БЕЛКОВ ВСЕХ ИЗВЕСТНЫХ ЖИВЫХ ОРГАНИЗМОВ. УЧАСТВУЯ В ГИДРОФОБНЫХ И СТЭКИНГ-ВЗАИМОДЕЙСТВИЯХ, ФЕНИЛАЛАНИН ИГРАЕТ ЗНАЧИТЕЛЬНУЮ РОЛЬ В ФОЛДИНГЕ И СТАБИЛИЗАЦИИ БЕЛКОВЫХ СТРУКТУР, ЯВЛЯЕТСЯ СОСТАВНОЙ ЧАСТЬЮ ФУНКЦИОНАЛЬНЫХ ЦЕНТРО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ПРИ НАСЛЕДСТВЕННОМ ЗАБОЛЕВАНИИ </a:t>
            </a:r>
            <a:r>
              <a:rPr b="1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ФЕНИЛКЕТОНУРИИ</a:t>
            </a: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ПРЕВРАЩЕНИЕ ФЕНИЛАЛАНИНА В ТИРОЗИН НАРУШЕНО, И В ОРГАНИЗМЕ ПРОИСХОДИТ НАКОПЛЕНИЕ ФЕНИЛАЛАНИНА И ЕГО МЕТАБОЛИТОВ (ФЕНИЛПИРУВАТ, ФЕНИЛЛАКТАТ, ФЕНИЛАЦЕТАТ, ОРТО-ГИДРОКСИФЕНИЛАЦЕТАТ, ФЕНИЛАЦЕТИЛГЛУТАМИН), ИЗБЫТОЧНОЕ  КОТОРЫХ ОТРИЦАТЕЛЬНО СКАЗЫВАЕТСЯ НА РАЗВИТИИ НЕРВНОЙ СИСТЕМЫ</a:t>
            </a: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ФЕНИЛАЛАНИН В ПРОМЫШЛЕННЫХ МАСШТАБАХ ПОЛУЧАЮТ МИКРОБИОЛОГИЧЕСКИМ СПОСОБОМ. ИСПОЛЬЗУЮТ ФЕНИЛАЛАНИН ДЛЯ СБАЛАНСИРОВАНИЯ КОРМОВ ДЛЯ ЖИВОТНЫХ, КАК КОМПОНЕНТ СПОРТИВНОГО ПИТАНИЯ. ЗНАЧИТЕЛЬНАЯ ЧАСТЬ ФЕНИЛАЛАНИНА ИДЁТ НА ПРОИЗВОДСТВО ДИПЕПТИДА АСПАРТАМА — СИНТЕТИЧЕСКОГО САХАРОЗАМЕНИТЕЛЯ, АКТИВНО ИСПОЛЬЗУЮЩЕГОСЯ В ПИЩЕВОЙ ПРОМЫШЛЕННОСТИ, ЧАЩЕ В ПРОИЗВОДСТВЕ ЖЕВАТЕЛЬНОЙ РЕЗИНКИ И ГАЗИРОВАННЫХ НАПИТКОВ. УПОТРЕБЛЕНИЕ ТАКИХ ПРОДУКТОВ ПРОТИВОПОКАЗАНО ЛИЦАМ, СТРАДАЮЩИМ ФЕНИЛКЕТОНУРИЕЙ.</a:t>
            </a:r>
            <a:endParaRPr b="0" lang="en-US" sz="1600" spc="-1" strike="noStrike">
              <a:solidFill>
                <a:srgbClr val="6666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6666"/>
                </a:solidFill>
                <a:latin typeface="Century Schoolbook"/>
              </a:rPr>
              <a:t>ТИРОЗИН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Вид молекул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Химическая форму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Picture 2" descr="C:\Users\Петр\Desktop\Юля\презентация биохимия\тирозин\200px-L-tyrosine-skeletal.png"/>
          <p:cNvPicPr/>
          <p:nvPr/>
        </p:nvPicPr>
        <p:blipFill>
          <a:blip r:embed="rId1"/>
          <a:stretch/>
        </p:blipFill>
        <p:spPr>
          <a:xfrm>
            <a:off x="4643280" y="2997360"/>
            <a:ext cx="3249720" cy="26636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"/>
          <p:cNvPicPr/>
          <p:nvPr/>
        </p:nvPicPr>
        <p:blipFill>
          <a:blip r:embed="rId2"/>
          <a:stretch/>
        </p:blipFill>
        <p:spPr>
          <a:xfrm>
            <a:off x="588960" y="2421000"/>
            <a:ext cx="34830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782964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4003f"/>
                </a:solidFill>
                <a:latin typeface="Century Schoolbook"/>
              </a:rPr>
              <a:t>ГЛУТАМИНОВАЯ КИСЛОТА</a:t>
            </a:r>
            <a:endParaRPr b="0" lang="en-US" sz="54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353" name="Picture 3" descr="C:\Users\User\Desktop\валя\глутамин кислотаа.png"/>
          <p:cNvPicPr/>
          <p:nvPr/>
        </p:nvPicPr>
        <p:blipFill>
          <a:blip r:embed="rId1"/>
          <a:stretch/>
        </p:blipFill>
        <p:spPr>
          <a:xfrm>
            <a:off x="4143240" y="1714680"/>
            <a:ext cx="4000680" cy="3509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C:\Users\User\Desktop\валя\глуаминов кислота.png"/>
          <p:cNvPicPr/>
          <p:nvPr/>
        </p:nvPicPr>
        <p:blipFill>
          <a:blip r:embed="rId2"/>
          <a:stretch/>
        </p:blipFill>
        <p:spPr>
          <a:xfrm>
            <a:off x="642960" y="3643200"/>
            <a:ext cx="3143160" cy="200052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6"/>
          <p:cNvSpPr/>
          <p:nvPr/>
        </p:nvSpPr>
        <p:spPr>
          <a:xfrm>
            <a:off x="2928960" y="5786280"/>
            <a:ext cx="47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кращения  Глу, Glu,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571680" y="2214720"/>
            <a:ext cx="350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Молярная масса 147,13 г/м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749592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ТИРОЗИ́Н (Α-АМИНО-Β-(П-ОКСИФЕНИЛ)ПРОПИОНОВАЯ КИСЛОТА, СОКР.: ТИР, TYR, Y) — АРОМАТИЧЕСКАЯ АЛЬФА-АМИНОКИСЛОТА.</a:t>
            </a: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СУЩЕСТВУЕТ В ДВУХ ОПТИЧЕСКИ ИЗОМЕРНЫХ ФОРМАХ — L И D И В ВИДЕ РАЦЕМАТА (DL). ПО СТРОЕНИЮ СОЕДИНЕНИЕ ОТЛИЧАЕТСЯ ОТ ФЕНИЛАЛАНИНА НАЛИЧИЕМ ФЕНОЛЬНОЙ ГИДРОКСИЛЬНОЙ ГРУППЫ В ПАРА-ПОЛОЖЕНИИ БЕНЗОЛЬНОГО КОЛЬЦА. ИЗВЕСТНЫ МЕНЕЕ ВАЖНЫЕ С БИОЛОГИЧЕСКОЙ ТОЧКИ ЗРЕНИЯ МЕТА- И ОРТО- ИЗОМЕРЫ ТИРОЗИНА.</a:t>
            </a: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ТИРОЗИН ВХОДИТ В СОСТАВ ФЕРМЕНТОВ, ВО МНОГИХ ИЗ КОТОРЫХ ИМЕННО ТИРОЗИНУ ОТВЕДЕНА КЛЮЧЕВАЯ РОЛЬ В ФЕРМЕНТАТИВНОЙ АКТИВНОСТИ И ЕЁ РЕГУЛЯЦИИ. МЕСТОМ АТАКИ ФОСФОРИЛИРУЮЩИХ ФЕРМЕНТОВ ПРОТЕИНКИНАЗ ЧАСТО ЯВЛЯЕТСЯ ИМЕННО ФЕНОЛЬНЫЙ ГИДРОКСИЛ ОСТАТКОВ ТИРОЗИНА. ОСТАТОК ТИРОЗИНА В СОСТАВЕ БЕЛКОВ МОЖЕТ ПОДВЕРГАТЬСЯ И ДРУГИМ ПОСТТРАНСЛЯЦИОННЫМ МОДИФИКАЦИЯМ. В НЕКОТОРЫХ БЕЛКАХ (РЕЗИЛИН НАСЕКОМЫХ) ПРИСУТСТВУЮТ МОЛЕКУЛЯРНЫЕ СШИВКИ, ВОЗНИКАЮЩИЕ В РЕЗУЛЬТАТЕ ПОСТТРАНСЛЯЦИОННОЙ ОКИСЛИТЕЛЬНОЙ КОНДЕНСАЦИИ ОСТАТКОВ ТИРОЗИНА С ОБРАЗОВАНИЕМ ДИТИРОЗИНА И ТРИТИРОЗИНА.</a:t>
            </a: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ОКРАШИВАНИЕ В РЕЗУЛЬТАТЕ КСАНТОПРОТЕИНОВОЙ КАЧЕСТВЕННОЙ РЕАКЦИИ НА БЕЛКИ ОПРЕДЕЛЯЕТСЯ ПРЕИМУЩЕСТВЕННО НИТРОВАНИЕМ ОСТАТКОВ ТИРОЗИНА (НИТРУЮТСЯ ТАКЖЕ ОСТАТКИ ФЕНИЛАЛАНИНА, ТРИПТОФАНА, И ГИСТИДИНА).</a:t>
            </a: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ИЗВЕСТНО ТАКЖЕ НЕСКОЛЬКО ОТНОСИТЕЛЬНО РЕДКИХ ЗАБОЛЕВАНИЙ (ТИРОЗИНЕМИИ), ВЫЗВАННЫХ НАРУШЕНИЯМИ ОБМЕНА ТИРОЗИНА. ЛЕЧЕНИЕ ЭТИХ ЗАБОЛЕВАНИЙ, КАК И ФЕНИЛКЕТОНУРИИ — ДИЕТИЧЕСКОЕ ОГРАНИЧЕНИЕ </a:t>
            </a:r>
            <a:r>
              <a:rPr b="0" lang="ru-RU" sz="1600" spc="-1" strike="noStrike">
                <a:solidFill>
                  <a:srgbClr val="666666"/>
                </a:solidFill>
                <a:latin typeface="Century Schoolbook"/>
              </a:rPr>
              <a:t>БЕЛКА.</a:t>
            </a:r>
            <a:br>
              <a:rPr sz="1600"/>
            </a:br>
            <a:endParaRPr b="0" lang="en-US" sz="1600" spc="-1" strike="noStrike">
              <a:solidFill>
                <a:srgbClr val="6666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6666"/>
                </a:solidFill>
                <a:latin typeface="Century Schoolbook"/>
              </a:rPr>
              <a:t>ТРИПТОФАН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Вид молекул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Химическая форму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2" descr="C:\Users\Петр\Desktop\Юля\презентация биохимия\триптофан\200px-L-tryptophan-3D-sticks.png"/>
          <p:cNvPicPr/>
          <p:nvPr/>
        </p:nvPicPr>
        <p:blipFill>
          <a:blip r:embed="rId1"/>
          <a:stretch/>
        </p:blipFill>
        <p:spPr>
          <a:xfrm>
            <a:off x="611280" y="2637000"/>
            <a:ext cx="2868480" cy="3313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C:\Users\Петр\Desktop\Юля\презентация биохимия\триптофан\200px-L-tryptophan.png"/>
          <p:cNvPicPr/>
          <p:nvPr/>
        </p:nvPicPr>
        <p:blipFill>
          <a:blip r:embed="rId2"/>
          <a:stretch/>
        </p:blipFill>
        <p:spPr>
          <a:xfrm>
            <a:off x="4716360" y="2637000"/>
            <a:ext cx="28148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66"/>
                </a:solidFill>
                <a:latin typeface="Century Schoolbook"/>
              </a:rPr>
              <a:t>ТРИПТОФА́Н —— (Β-ИНДОЛИЛАМИНОПРОПИОНОВАЯ, ИЛИ Α-2-АМИНО-3-(1H-ИНДОЛ-3-ИЛ)ПРОПИОНОВАЯ КИСЛОТА, СОКР.: ТРИ, ТРП, TRP, W) — </a:t>
            </a:r>
            <a:r>
              <a:rPr b="0" lang="ru-RU" sz="1800" spc="-1" strike="noStrike">
                <a:solidFill>
                  <a:srgbClr val="666666"/>
                </a:solidFill>
                <a:latin typeface="Century Schoolbook"/>
              </a:rPr>
              <a:t>АРОМАТИЧЕСКАЯ АЛЬФА-АМИНОКИСЛОТА. СУЩЕСТВУЕТ В ДВУХ ОПТИЧЕСКИ ИЗОМЕРНЫХ ФОРМАХ — L И D И В ВИДЕ РАЦЕМАТА (DL).</a:t>
            </a:r>
            <a:br>
              <a:rPr sz="1800"/>
            </a:br>
            <a:r>
              <a:rPr b="0" lang="ru-RU" sz="1800" spc="-1" strike="noStrike">
                <a:solidFill>
                  <a:srgbClr val="666666"/>
                </a:solidFill>
                <a:latin typeface="Century Schoolbook"/>
              </a:rPr>
              <a:t>L-ТРИПТОФАН ЯВЛЯЕТСЯ ПРОТЕИНОГЕННОЙ АМИНОКИСЛОТОЙ И ВХОДИТ В СОСТАВ БЕЛКОВ ВСЕХ ИЗВЕСТНЫХ ЖИВЫХ ОРГАНИЗМОВ. ОТНОСИТСЯ К РЯДУ ГИДРОФОБНЫХ АМИНОКИСЛОТ, ПОСКОЛЬКУ СОДЕРЖИТ АРОМАТИЧЕСКОЕ ЯДРО ИНДОЛА. УЧАСТВУЕТ В ГИДРОФОБНЫХ И СТЭКИНГ-ВЗАИМОДЕЙСТВИЯХ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6666"/>
                </a:solidFill>
                <a:latin typeface="Century Schoolbook"/>
              </a:rPr>
              <a:t>БИОСИНТЕЗ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66666"/>
                </a:solidFill>
                <a:latin typeface="Century Schoolbook"/>
              </a:rPr>
              <a:t>В ПРИРОДЕ ТРИПТОФАН СИНТЕЗИРУЮТ МИКРООРГАНИЗМЫ, РАСТЕНИЯ И ГРИБЫ. МНОГОКЛЕТОЧНЫЕ ЖИВОТНЫЕ НЕ СПОСОБНЫ СИНТЕЗИРОВАТЬ ТРИПТОФАН DE NOVO. ДЛЯ ЧЕЛОВЕКА, КАК И ДЛЯ ВСЕХ METAZOA, ТРИПТОФАН ЯВЛЯЕТСЯ НЕЗАМЕНИМОЙ АМИНОКИСЛОТОЙ И ДОЛЖЕН ПОСТУПАТЬ В ОРГАНИЗМ В ДОСТАТОЧНОМ КОЛИЧЕСТВЕ С БЕЛКАМИ ПИЩИ.</a:t>
            </a:r>
            <a:br>
              <a:rPr sz="1800"/>
            </a:br>
            <a:endParaRPr b="0" lang="en-US" sz="1800" spc="-1" strike="noStrike">
              <a:solidFill>
                <a:srgbClr val="6666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99680" y="214200"/>
            <a:ext cx="78296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Глутаминовая кислота (2-аминопентандиовая кислота)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— алифатическая аминокислота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Глутаминовая кислота также является нейромедиаторной аминокислотой, одним из важных представителей класса «возбуждающих аминокислот». Связывание глутамата со специфическими рецепторами нейронов приводит к возбуждению последних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Глутаминовая кислота относится к условно незаменимым аминокислотам. Глутамат в норме синтезируется организмом. Присутствие в пище свободного глутамата придает ей так называемый «мясной» вкус, для чего глутамат используют как усилитель вкуса. При этом метаболизм природного глутамата и глутамата натрия синтетического, не отличаются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Является одним из компонентов миофибрилл, участвует в синтезе других аминокислот, ацетилхолина, АТФ, мочевины, способствует переносу и поддержанию необходимой концентрации ионов калия в мозге, служит связующим звеном между обменом углеводов и нуклеиновых кислот, нормализует содержание показателей гликолиза в крови и тканях. Оказывает гепатопротекторное действие, угнетает секреторную функцию желудк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6840" y="2214360"/>
            <a:ext cx="790092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восстановления и формирования ткан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уже было сказано выше, лизин является компонентом практически любого белка человеческого организма. Это означает, что он просто незаменим при синтезе мышечных волокон и формировании полноценной мышечной ткани, ведь известно, как много белка в ней содержит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зин можно порекомендовать людям, желающим набрать мышечную массу, например, бодибилдерам. В этом случае он просто незаменим. Лизин участвует в формировании коллагена и восстановлении тканей. Его применяют в восстановительный период после операций и спортивных травм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2" descr="C:\Users\User\Desktop\валя\200px-L-lysine-3D-sticks.png"/>
          <p:cNvPicPr/>
          <p:nvPr/>
        </p:nvPicPr>
        <p:blipFill>
          <a:blip r:embed="rId1"/>
          <a:stretch/>
        </p:blipFill>
        <p:spPr>
          <a:xfrm>
            <a:off x="2500200" y="285840"/>
            <a:ext cx="37864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28520" y="214200"/>
            <a:ext cx="59958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e005f"/>
                </a:solidFill>
                <a:latin typeface="Century Schoolbook"/>
              </a:rPr>
              <a:t>ГЛУТАМИН</a:t>
            </a:r>
            <a:endParaRPr b="0" lang="en-US" sz="66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361" name="Picture 1" descr="C:\Users\User\Desktop\валя\глутаимн.png"/>
          <p:cNvPicPr/>
          <p:nvPr/>
        </p:nvPicPr>
        <p:blipFill>
          <a:blip r:embed="rId1"/>
          <a:stretch/>
        </p:blipFill>
        <p:spPr>
          <a:xfrm>
            <a:off x="5286240" y="2428920"/>
            <a:ext cx="3071880" cy="278604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5"/>
          <p:cNvSpPr/>
          <p:nvPr/>
        </p:nvSpPr>
        <p:spPr>
          <a:xfrm>
            <a:off x="357120" y="1643040"/>
            <a:ext cx="485784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не считается незаменимой аминокислотой, так как организм способен сам воспроизводить его. Тем не менее, глутамин может быть единственная важнейшая аминокислота, которая поддерживает анаболические процессы в мышцах и защищает организм от разрушительного влияния перетренированности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4"/>
          <p:cNvSpPr/>
          <p:nvPr/>
        </p:nvSpPr>
        <p:spPr>
          <a:xfrm>
            <a:off x="571680" y="3214800"/>
            <a:ext cx="4500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утамин служит межорганным транспортером азота в организме. Примерно 1/3 всего азота транспортируется в крови в виде глутамина17. Большая часть азота, потребляемого мышцами, используется в мышечных клетках для синтеза глутамина, который является нетоксичным переносчиком аммония из периферических тканей к внутренним органам.  Глутамин – главный субстрат для синтеза мочевины в печени и аммониогенеза в поч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оказано, что быстроделящиеся клетки, в том числе клет­ки слизистой оболочки кишки, поджелудочной железы, легочных альвеол и клетки иммунной системы, используют глутамин для энергетических и пластических нужд. Глутамин – главный источник энергии для клеток желудочно-кишечного тракт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сле длительного голодания, после хирургических вмешательств, ожогов, инфекций, панкреатита и при других критических состояниях внутримышечная концентрация глутамина снижается (в 2 раза и более), независимо от проведения стандартной нутриционной терапи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онкая кишка – главный орган, потребляющий глутамин. При стрессе, использование глутамина кишкой возрастает, что усиливает его дефицит. Сегодня доказано, что глутамин – абсолютно необходимый субстрат для поддержания структуры и функции кишки 6,10, особенно при состояниях, когда происходит повреждение слизистой оболочки кишки, ухудшение барьерной функции и, следовательно, увеличение степени транслокации бактерий и токсинов в кровоток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57160" y="285840"/>
            <a:ext cx="56390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5698"/>
                </a:solidFill>
                <a:latin typeface="Century Schoolbook"/>
              </a:rPr>
              <a:t>ЛИЗИН</a:t>
            </a:r>
            <a:endParaRPr b="0" lang="en-US" sz="59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5329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зин – незаменимая аминокислота. Лизин входит в состав практически всех белков, необходим организму человека для нормального роста, производства гормонов, антител, ферментов, а также для восстановления тканей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Эта аминокислота оказывает противовирусное действие, особенно в отношении вирусов, вызывающих острые респираторные инфекции. Рекомендуется сочетать лизин с витамином С при вирусных заболеваниях.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В Соединенных Штатах Америки и некоторых странах Европы для профилактики часто рецидивирующих форм генитального герпеса применяются биологически активные добавки к пище на основе лизина. Несколько десятилетий назад было замечено, что у некоторых людей, страдающих от герпеса, но соблюдавших определенную диету, рецидивы бывают реже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Лизин можно порекомендовать людям, желающим набрать мышечную массу, например, бодибилдерам. В этом случае он просто незаменим. Лизин участвует в формировании коллагена и восстановлении тканей. Его применяют в восстановительный период после операций и спортивных травм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2" descr="C:\Users\User\Desktop\валя\leafandlysite.jpg"/>
          <p:cNvPicPr/>
          <p:nvPr/>
        </p:nvPicPr>
        <p:blipFill>
          <a:blip r:embed="rId1"/>
          <a:stretch/>
        </p:blipFill>
        <p:spPr>
          <a:xfrm>
            <a:off x="5857920" y="214200"/>
            <a:ext cx="292896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56840" y="2214360"/>
            <a:ext cx="790092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восстановления и формирования ткан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уже было сказано выше, лизин является компонентом практически любого белка человеческого организма. Это означает, что он просто незаменим при синтезе мышечных волокон и формировании полноценной мышечной ткани, ведь известно, как много белка в ней содержит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зин можно порекомендовать людям, желающим набрать мышечную массу, например, бодибилдерам. В этом случае он просто незаменим. Лизин участвует в формировании коллагена и восстановлении тканей. Его применяют в восстановительный период после операций и спортивных травм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2" descr="C:\Users\User\Desktop\валя\200px-L-lysine-3D-sticks.png"/>
          <p:cNvPicPr/>
          <p:nvPr/>
        </p:nvPicPr>
        <p:blipFill>
          <a:blip r:embed="rId1"/>
          <a:stretch/>
        </p:blipFill>
        <p:spPr>
          <a:xfrm>
            <a:off x="2500200" y="285840"/>
            <a:ext cx="37864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356760"/>
            <a:ext cx="804384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Лизин - это мощный источник энергии, так как он ускоряет процесс расщепления жиров, являющихся эффективным «топливом» для организма.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 длительном потреблении лизин не накапливается и не оказывает токсического воздействия на организм человека. Излишки выводятся почками с мочо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учные эксперименты показали, что при длительном применении лизин обладает мягким антидепрессантным эффектом, также на фоне приёма лизина у некоторых людей прошли мучающие их головные боли, мигрени. Лизин не вызывает сонливости, снижения концентрации внимания и работоспособности, психической или физической зависимости. После приёма лизина вы можете спокойно водить автомобиль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против же, недостаток лизина в рационе питания может быть причиной повышенной утомляемости, тошноты, головокружения, вялости, пониженного аппетита, нервозности, появление сосудов на белочной оболочки глаза (симптом "красных глаз"), менструальной дисфункции.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Лизин в сочетании с пролином и витамином С предупреждает образование липопротеинов, вызывающих закупорку артерий, следовательно, будет полезен при сердечно-сосудистых патологиях.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Лизин улучшает усвоение кальция из крови и транспорт его в костную ткань, поэтому он может быть неотъемлемой частью программы лечения и профилактики остеопороз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5:58:54Z</dcterms:created>
  <dc:creator>User</dc:creator>
  <dc:description/>
  <dc:language>en-US</dc:language>
  <cp:lastModifiedBy>Admin</cp:lastModifiedBy>
  <dcterms:modified xsi:type="dcterms:W3CDTF">2012-02-03T13:56:20Z</dcterms:modified>
  <cp:revision>15</cp:revision>
  <dc:subject/>
  <dc:title>Аминокислоты</dc:title>
</cp:coreProperties>
</file>