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306-3974-4ED8-B656-51E09B24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003-8FCA-420F-AFA5-2E02C0F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967-E44D-4F1A-BA32-C4B74E0F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507-9B76-4FBA-9536-85352836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C4A-E3E7-4B67-82BC-2466071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CCE-A2BD-4B5D-A186-DFDFA3E7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3CE-B9B1-4C21-9BF6-632FB614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301-A07C-4777-8D34-249A141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C9A-1033-484A-BAAD-79F66C74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F37-F86D-44C5-9E2F-A0B8921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664-9759-4BDF-AD98-670E877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84B-6C09-465B-8317-33DE644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3B1-88CD-4851-B390-8CFB272BE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ИП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069920" y="2000160"/>
            <a:ext cx="635976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сфолип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жные эфиры многоатомных спиртов и ВЖК, содержащие остатки фосфорной кислоты и связанные с нею добавочные соединения (аминоспирты, аминокислот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олипиды в зависимости от спирта, входящего в их состав, подразделяют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атиды и сфингофосфолип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фосфатидов входит глицерин. В зависимости от добавочного соединения среди фосфатидов  разли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цитин, кефалин, серинфосфат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сфинголипидов входит спи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инго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льшое количество сфинголипидов содержится в нервной ткани и кров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лип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пиды, в которых остаток глицерина соединен с каким – либо сахаром и двумя жирными кислотами 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нцентрация в растениях  в пять раз превышает концентрацию фосфатидов. В хлоропластах практически все липиды представлены гликолипидами. Гликолипиды обнаружены в мозге. Наиболее важными являются гликолипиды, в которых глицерин соединен гликозидной связью с одной или двумя молекулами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алактозы. Их называют моно- или дигалактозилглицеридами. К глицеридной части молекулы гликолипида, как правило, присоединена  линолевая кисл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не растворимы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ров низкие температуры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онстанты, характеризующие свойства жира – э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вления, кислотное и иодное числа, число омы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глицерином и высшими карбоновыми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857160" y="3011040"/>
            <a:ext cx="3429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адикалы (иногда - различных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х кисл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G19_04-06l"/>
          <p:cNvPicPr/>
          <p:nvPr/>
        </p:nvPicPr>
        <p:blipFill>
          <a:blip r:embed="rId1"/>
          <a:stretch/>
        </p:blipFill>
        <p:spPr>
          <a:xfrm>
            <a:off x="4776840" y="2786040"/>
            <a:ext cx="4151160" cy="34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6"/>
          <p:cNvSpPr/>
          <p:nvPr/>
        </p:nvSpPr>
        <p:spPr>
          <a:xfrm flipH="1">
            <a:off x="1926720" y="3286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3"/>
          <p:cNvSpPr/>
          <p:nvPr/>
        </p:nvSpPr>
        <p:spPr>
          <a:xfrm flipH="1">
            <a:off x="1926720" y="393048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31640" y="152280"/>
            <a:ext cx="728352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31640" y="685800"/>
            <a:ext cx="8229600" cy="15030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  боле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  жирных  кислот,  отличающихся  по  длине  углеродной цепи,  по  степени  и  характеру  её  разветвления,  числу  и  положению  С=С  связей,  по природе  и  количеству  других  функциональных  групп  (COOH,  OH,  SH, 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 др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2"/>
          <p:cNvGraphicFramePr/>
          <p:nvPr/>
        </p:nvGraphicFramePr>
        <p:xfrm>
          <a:off x="431640" y="2057400"/>
          <a:ext cx="826776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2057400"/>
                    <a:ext cx="8267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3"/>
          <p:cNvSpPr/>
          <p:nvPr/>
        </p:nvSpPr>
        <p:spPr>
          <a:xfrm>
            <a:off x="463680" y="3363840"/>
            <a:ext cx="7751520" cy="2592360"/>
          </a:xfrm>
          <a:prstGeom prst="rect">
            <a:avLst/>
          </a:pr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80880" y="152280"/>
            <a:ext cx="697716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380880" y="650880"/>
          <a:ext cx="8382240" cy="18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50880"/>
                    <a:ext cx="838224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80880" y="2527200"/>
          <a:ext cx="8382240" cy="418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27200"/>
                    <a:ext cx="83822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85840" y="857160"/>
            <a:ext cx="8715240" cy="4107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91960" y="1447920"/>
          <a:ext cx="87091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447920"/>
                    <a:ext cx="87091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285840"/>
            <a:ext cx="811512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ще всего в состав жиров входят предельные кислот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мит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5Н31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стеар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5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и непредельные кислоты: оле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3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линоле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1СО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е название соединений карбоновых кислот с глицерином 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иглицери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 и строение жиров были установлены еще в начале XIX века благодаря работам французских химиков Шевреля и Бертло. Шеврель установил, что жиры и масла при длительном нагревании с водой и щелочью разлагаются с выделением карбоновых кислот и глицерина. Бертло синтезировал жиры из глицерина и карбоновых кисл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7"/>
          <p:cNvPicPr/>
          <p:nvPr/>
        </p:nvPicPr>
        <p:blipFill>
          <a:blip r:embed="rId1"/>
          <a:stretch/>
        </p:blipFill>
        <p:spPr>
          <a:xfrm>
            <a:off x="571680" y="3071880"/>
            <a:ext cx="7962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 омыление с водой и щелочами – едким натром или едким ка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 жир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image008"/>
          <p:cNvPicPr/>
          <p:nvPr/>
        </p:nvPicPr>
        <p:blipFill>
          <a:blip r:embed="rId1"/>
          <a:stretch/>
        </p:blipFill>
        <p:spPr>
          <a:xfrm>
            <a:off x="1116000" y="2670120"/>
            <a:ext cx="6480360" cy="131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mage004"/>
          <p:cNvPicPr/>
          <p:nvPr/>
        </p:nvPicPr>
        <p:blipFill>
          <a:blip r:embed="rId2"/>
          <a:stretch/>
        </p:blipFill>
        <p:spPr>
          <a:xfrm>
            <a:off x="6659640" y="4724280"/>
            <a:ext cx="212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"/>
          <p:cNvGrpSpPr/>
          <p:nvPr/>
        </p:nvGrpSpPr>
        <p:grpSpPr>
          <a:xfrm>
            <a:off x="324000" y="4581360"/>
            <a:ext cx="6265800" cy="1784160"/>
            <a:chOff x="324000" y="4581360"/>
            <a:chExt cx="6265800" cy="1784160"/>
          </a:xfrm>
        </p:grpSpPr>
        <p:pic>
          <p:nvPicPr>
            <p:cNvPr id="125" name="Picture 14" descr="image006"/>
            <p:cNvPicPr/>
            <p:nvPr/>
          </p:nvPicPr>
          <p:blipFill>
            <a:blip r:embed="rId3"/>
            <a:srcRect l="58630" t="0" r="24996" b="0"/>
            <a:stretch/>
          </p:blipFill>
          <p:spPr>
            <a:xfrm>
              <a:off x="5221440" y="4581360"/>
              <a:ext cx="136836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image006"/>
            <p:cNvPicPr/>
            <p:nvPr/>
          </p:nvPicPr>
          <p:blipFill>
            <a:blip r:embed="rId4"/>
            <a:srcRect l="0" t="0" r="47415" b="0"/>
            <a:stretch/>
          </p:blipFill>
          <p:spPr>
            <a:xfrm>
              <a:off x="324000" y="4654080"/>
              <a:ext cx="439272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4672080" y="46353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651200" y="53020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4653000" y="5949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foto_019"/>
          <p:cNvPicPr/>
          <p:nvPr/>
        </p:nvPicPr>
        <p:blipFill>
          <a:blip r:embed="rId1"/>
          <a:stretch/>
        </p:blipFill>
        <p:spPr>
          <a:xfrm>
            <a:off x="1285920" y="2517840"/>
            <a:ext cx="5857920" cy="4111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195640" y="3333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цион   пит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63480" y="155736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Бел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564000" y="1557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014520" y="15573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глево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692360" y="907920"/>
            <a:ext cx="2016000" cy="72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211640" y="981000"/>
            <a:ext cx="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859280" y="907920"/>
            <a:ext cx="1800360" cy="649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901800" y="227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а, 2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06908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589440" y="2205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4б,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ы получ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7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апли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траг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парат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ир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02904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аках и крас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ческая роль липидов в биохимических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 окислении липидов выделяется энергия (при окислении 1 г. жира выделяется 39,1 к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ходят в состав различных биологических мемб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вуют в транспорте веществ через липидный слой биомемб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пиды соединительной ткани, окружающей внутренние органы,  и подкожного жирового слоя предохраняют органы от повреждений при внешних механических воз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изолиру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лагодаря своей низкой теплопроводности сохраняют тепло в 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азличных источников выделено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личных видов жиров, их них – 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4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Arial"/>
              </a:rPr>
              <a:t>растительного происхожд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51560" y="3473280"/>
            <a:ext cx="269244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21p2p06m"/>
          <p:cNvPicPr/>
          <p:nvPr/>
        </p:nvPicPr>
        <p:blipFill>
          <a:blip r:embed="rId2"/>
          <a:stretch/>
        </p:blipFill>
        <p:spPr>
          <a:xfrm>
            <a:off x="250920" y="3429000"/>
            <a:ext cx="1778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06w4p05"/>
          <p:cNvPicPr/>
          <p:nvPr/>
        </p:nvPicPr>
        <p:blipFill>
          <a:blip r:embed="rId3"/>
          <a:stretch/>
        </p:blipFill>
        <p:spPr>
          <a:xfrm>
            <a:off x="2340000" y="394164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2009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05120" cy="43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22p2p04"/>
          <p:cNvPicPr/>
          <p:nvPr/>
        </p:nvPicPr>
        <p:blipFill>
          <a:blip r:embed="rId3"/>
          <a:stretch/>
        </p:blipFill>
        <p:spPr>
          <a:xfrm>
            <a:off x="586728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471760" cy="249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3564000" y="1154160"/>
            <a:ext cx="24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животного происхождени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L22p1p07"/>
          <p:cNvPicPr/>
          <p:nvPr/>
        </p:nvPicPr>
        <p:blipFill>
          <a:blip r:embed="rId1"/>
          <a:stretch/>
        </p:blipFill>
        <p:spPr>
          <a:xfrm>
            <a:off x="3635280" y="1484280"/>
            <a:ext cx="287352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15-1551_IMG"/>
          <p:cNvPicPr/>
          <p:nvPr/>
        </p:nvPicPr>
        <p:blipFill>
          <a:blip r:embed="rId2"/>
          <a:stretch/>
        </p:blipFill>
        <p:spPr>
          <a:xfrm>
            <a:off x="6659640" y="1557360"/>
            <a:ext cx="216036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050920" y="4737240"/>
            <a:ext cx="159084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5670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5"/>
          <a:stretch/>
        </p:blipFill>
        <p:spPr>
          <a:xfrm>
            <a:off x="0" y="1413000"/>
            <a:ext cx="3492360" cy="183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L22p1p05"/>
          <p:cNvPicPr/>
          <p:nvPr/>
        </p:nvPicPr>
        <p:blipFill>
          <a:blip r:embed="rId6"/>
          <a:stretch/>
        </p:blipFill>
        <p:spPr>
          <a:xfrm>
            <a:off x="3492360" y="386064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7"/>
          <a:stretch/>
        </p:blipFill>
        <p:spPr>
          <a:xfrm>
            <a:off x="0" y="3068640"/>
            <a:ext cx="2770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76760" y="4500720"/>
            <a:ext cx="4724280" cy="2199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78680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зервные липиды (жировая ткань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труктурные или протоплазматические липиды (мембраны клеток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вная ткань содержит до 25% структурных липидов, а биологические мембраны – 40 % от сухой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липиды   простые (двухкомпонентные)  - жиры, стериды, в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ложные (многокомпонентные) - фосфолипиды, гликолипиды, сфинголип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гидрофоб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амфифи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cId21Img1"/>
          <p:cNvPicPr/>
          <p:nvPr/>
        </p:nvPicPr>
        <p:blipFill>
          <a:blip r:embed="rId2"/>
          <a:stretch/>
        </p:blipFill>
        <p:spPr>
          <a:xfrm>
            <a:off x="4929120" y="3357720"/>
            <a:ext cx="316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иды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ложные эфиры ВЖК  и полициклических спиртов (стеролов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ганизме 10%  стеролов представлены стеридами; 90 % находятся в свободном состоянии и образуют  неомыляемую (негидролизующуюся) фракцию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для организма стеролом является холестер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организме животных стеролы окисляются с образованием производных – стероидов. К ним относ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вые кислоты (ингредиенты желчи), стероидные горм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ВЖК в составе стеридов обнаружены пальмитиновая, стеариновая, олеиновая кисло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ски - сложные эфи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ЖК и высших одноатомных спиртов . В состав эфиров, образующих воски входя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льмитиновая и церотиновая кисл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Н3(СН2)14СООН  и  СН3(СН2)24СООН ), а из спиртов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тиловый, цериловый и мирицилов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 СН3(СН2)14СН2ОН,  СН3(СН2)24СН2ОН      и     СН3(СН2)28СН2ОН 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ски покрывают тонким слоем листья, стебли и плоды растений. Восковой налёт предохраняет от смачивания водой, высыхания и поражения микроорганизмами. Содержание восков в зерне невели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оски животного происхождения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ермац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обываемый из черепных полостей кашелота,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иный во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ланол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учают при отмывке растворителями жиров овечьей шер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ольга</dc:creator>
  <dc:description/>
  <dc:language>en-US</dc:language>
  <cp:lastModifiedBy>Admin</cp:lastModifiedBy>
  <dcterms:modified xsi:type="dcterms:W3CDTF">2012-02-13T12:59:00Z</dcterms:modified>
  <cp:revision>32</cp:revision>
  <dc:subject/>
  <dc:title>Органическая химия: «Жиры»</dc:title>
</cp:coreProperties>
</file>