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0A2E-9278-490A-B19E-70C1A8030D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D8E3-919A-4E09-9843-A49E840DA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4217-EDDA-4B49-833F-31059EC89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A5A-D5A6-4914-A586-17C7F8C01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70E0-AF74-49ED-A96C-DEC28FD45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A9EB-0C68-4FC6-8D22-A14E7EBB9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8C3-9A9C-4ECF-893F-8CAD16648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0F6-C956-4437-99D5-54552CECE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69C-F4A6-4611-A1B2-C3262E17D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DF8-CA04-4DD5-83AE-1AA7715FA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81A3-E50A-4D81-978C-F2386D212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CEC-49C3-4013-BE38-C9F2765A1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6F6D-6A67-43D4-9289-00B268847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AEFC-E1A4-42B3-A803-7FCBE1AD0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E203-22B7-44E1-8EE0-931DA7608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CC91-CBE0-4732-8584-8341A2FE4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B21-E55D-4917-8B64-7B1274C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B3A-ED0A-40D3-830C-A8B6746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5CA-2F81-4373-A2C8-E40A57D6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EBD-29EB-49B0-9BE5-238DE3DA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5F54-B9C8-4C13-98D3-3FF6A71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BA83-8F66-4827-B4D2-B55F16E8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4C6-6FD2-4A2F-95AB-B4A066E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19A-3F11-4BA2-BB60-AC9DE3DC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51D0-64E1-43FD-B9E2-0BF33F5A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CD2-BE83-4F1F-8559-DF5293C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F1FB-DBB2-437C-9B04-05D61FF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13A-36A3-4273-A6FD-B774BB3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7648-2A49-4868-9D2A-7DC17DB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9AB1-1E49-431C-9692-12124876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42BD-02F9-4411-89D2-D8B653B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8938-FE48-49DC-B118-A30927E9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05AD-027B-4AE2-AB29-DEC12EF5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D3A-E665-48EE-B352-D5AFD12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A9E-ED66-490D-B759-1CAA341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CE2-468F-4152-9D4E-3143B1C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DAC-22CA-42D9-BD26-6F50979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F4B-E914-430B-975D-A0892F9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D87-6CF8-4E4A-B190-76A84CF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C81-C2CB-4444-B332-A5F5A92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F4F3-8EFF-416F-BED2-FA64959C50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018-4109-4587-81F6-39202DF79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membranes.nbi.dk/presentation-english/News_engl.html" TargetMode="External"/><Relationship Id="rId4" Type="http://schemas.openxmlformats.org/officeDocument/2006/relationships/hyperlink" Target="http://membranes.nbi.dk/presentation-english/News_engl.html" TargetMode="External"/><Relationship Id="rId5" Type="http://schemas.openxmlformats.org/officeDocument/2006/relationships/hyperlink" Target="http://membranes.nbi.dk/presentation-english/News_engl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Times New Roman"/>
              </a:rPr>
              <a:t>Химический состав клетки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membranes.nbi.dk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/.../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5"/>
              </a:rPr>
              <a:t>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Student</cp:lastModifiedBy>
  <dcterms:modified xsi:type="dcterms:W3CDTF">2012-03-31T05:56:24Z</dcterms:modified>
  <cp:revision>35</cp:revision>
  <dc:subject/>
  <dc:title>Слайд 1</dc:title>
</cp:coreProperties>
</file>