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940-DE8E-409D-B876-A35E8048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141-A5C2-4396-BEA9-8F440C10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A47-EE58-4317-B786-7364831B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1E1-7C9F-4B02-8342-1B7829D5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B22D-FA8E-4E92-9BBD-A7547C46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77F9-17A4-4C01-81E4-1150255D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03E7-D69C-43E7-8062-D62CCACC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C8B6-7027-49F4-ACDF-3824E29D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049D-BB37-4CD7-A989-01CC831C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A395-3CA5-4CA2-B1D5-5A4A91E8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9830-8FB8-4CCA-BDCF-4E94D49F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DEC-1A34-44ED-A0C6-3A610FAA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B3BC-680D-43ED-8A4B-89797D3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4887-527D-45C3-A4A9-520E934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EC2D-368F-4639-8A66-1A800377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B2BC-BA6E-453E-8B64-A2720A8D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9D02-4F50-4900-AF38-769FDCAB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E22D-D8A8-4394-B0FC-24EC5814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71FD-58E7-45F3-A05E-F31675B2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9FFC-4EB2-4779-9FEB-62FDB0C7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E8A1-CB3A-45A8-B656-B4E68681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1ECF-96C0-4826-85DC-1688AF24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12F-54C6-4A38-8AB3-C78A01FE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4F56-348C-48C7-89C8-A32F7E4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686C-BE78-44C8-909E-9BB7442F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E32B-7226-42A2-AB8E-0A3C58B5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54E7-5C8B-47D0-86BA-AB5DE602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5C19-AA33-4A99-95E2-45CF57A6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90F9-E1FD-402D-940B-3A151B8F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A9F2-83E8-4B3E-B683-A89B33E4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261D-F609-47DB-AD2D-201D241D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57BFA-6682-4F30-BECC-196BD6A6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4E8F-EA90-4839-82CC-E5A7205A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3BB-0755-422E-B0EF-5F99BBD7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4C7FA-084F-4530-A09F-0FF2FE3B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8AC5-1C89-49E5-8766-D712CAD3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1B80-0BB6-483B-AB47-CC937B94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2E6A-077C-45E4-AB1B-2644D81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C7E6-77BA-4EBA-8059-8E433CA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DC59-C56B-4F52-B51A-CB296BA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CC2B-4B09-4C42-BF9C-03947DD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58BF-D28A-4EF8-A555-9CA6C7F9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E632A-D374-499B-88B7-0BBB2C8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79526-752E-421B-AF82-CAAB4121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F40-6C8A-4EF3-A5BB-844F101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9ACCC-B163-49A4-B336-B633C443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1FE58-DA68-4AE1-A3D2-3ADA79C3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CD07C-F564-4394-82AF-B115E37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72F5-9134-4EFC-8900-3114CE9C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F83C4-D875-4280-9264-40FD0052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0AC0-6681-4F65-B8E1-3B5363B2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ADB89-FE48-47FC-B226-3764F0DC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9234E-AEC5-44B5-8E29-429AAAE5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FB37E-A638-4867-9ED7-67FF13D2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33D5-62BB-46BE-A78C-59245C4B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F6D-76F2-4DE2-B3B5-799AA31D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785D0-2BF5-4BF0-8C77-149240CC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E48B7-FBE6-4970-89A9-E14F04BE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F0CDA-C92C-4F66-A225-EA1FF38E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180D6-FF28-458D-BF62-319F5F3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19D88-4DD6-4047-AE05-1BBED7CB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3FE8D-C171-439C-B357-EE086A5D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5F3E8-E80F-42CC-B331-75A8D7A7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E282B-AE44-4A6A-9C0C-A16FF966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867B9-CB4A-49F3-927C-36B8FED7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B8688-408C-4C47-96EC-773F9EB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D2E-218A-4F29-A62E-FDE0CE03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4C2CF-C54D-431F-8363-A9F7B525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2977B-9A4E-47E9-A5D2-272ED8BF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D0E88-7923-4CE8-BCEA-18943221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48B7-5BD6-44A7-8832-F00B63C8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1661F-154C-4BEA-B73A-EA191AA8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645B-E3BF-487D-93C5-2421B949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54FF-FDCE-4541-BDB4-69D3E8B2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43C8-AEDE-45C8-A2D8-7F92C440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DABC-5565-4343-8FF1-BCBFB1A4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9BE6-EDAA-49CF-9543-0E6058DA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2F6-4050-4AC6-A8B9-A56CDBC8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78FF3-C254-494B-8076-A9D7B41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AE1B5-66C1-4083-BE7B-84FAC7CA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D3A8D-273E-4837-9762-5B617D40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BC211-E315-4B5C-AC63-76569D69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3FDF5-C876-418C-AADB-B2F25488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661-580F-4011-BE16-8D2B1012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F4C7-4224-48B4-8618-5617BD856B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F91E-7487-4FE1-B6DC-E3084B8870D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AD31-896D-4105-9524-B7512B9732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F528-E699-4EC7-B4D8-F3547F12605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AAA1-1ED5-4A98-81FC-E924A0B83BE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EA7F-4468-49FD-AAB5-FAE72A454AE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0BC2-F33A-448C-AB5E-BDE4D79773C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50000">
              <a:srgbClr val="ffffff"/>
            </a:gs>
            <a:gs pos="100000">
              <a:srgbClr val="32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371240" y="5429160"/>
            <a:ext cx="3700440" cy="46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79766f"/>
                </a:solidFill>
                <a:latin typeface="Verdana"/>
              </a:rPr>
              <a:t>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1692360" y="1844640"/>
            <a:ext cx="640872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ормон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ептидн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птидные гормоны имеют более простое строение, чем белковые. При этом их мономером, как известно, так же являются альфа аминокислоты. Представитель: биохимический и функциональный антипо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улина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юкаго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Составные части эндокринной системы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00040" y="499680"/>
            <a:ext cx="4354560" cy="307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уморальная система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состоит из восьми часте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таламус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Эпи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аращитовидн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Надпочечни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Бета-клетки (островки Лангерганса) поджелудочной желез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олов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5" descr="post-18-1151496150"/>
          <p:cNvPicPr/>
          <p:nvPr/>
        </p:nvPicPr>
        <p:blipFill>
          <a:blip r:embed="rId1"/>
          <a:stretch/>
        </p:blipFill>
        <p:spPr>
          <a:xfrm>
            <a:off x="5000760" y="674640"/>
            <a:ext cx="3429000" cy="44690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5"/>
          <p:cNvSpPr/>
          <p:nvPr/>
        </p:nvSpPr>
        <p:spPr>
          <a:xfrm flipV="1" rot="10800000">
            <a:off x="1071720" y="3364560"/>
            <a:ext cx="37144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щий вес этих органов не превышает 100 г, а количество выделяемых ими биологически активных веществ измеряется десятитысячными долями миллиграмма! Способность оказывать мощное воздействие на организм в ничтожно малых концентрациях - главная особенность гормонов. Например, грамма инсулина достаточ­но, чтобы снизить уровень сахара в крови 125 тыс. кроликов</a:t>
            </a: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Эндокринный мозг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13880" y="642960"/>
            <a:ext cx="4211640" cy="36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ходится в самой середине мозга, под зрительными буграми. Эта часть мозг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сом в полграмм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ирует работу всей гуморальной системы, вырабатыва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пециальные нейрогормоны рилизинг-факторы и ингибитор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Первые поступая с током крови в гипофиз служат сигналом для синтеза более сложных гормонов, которые в свою очередь активируют какую-либо железу внутренней секреции. Ингибиторы же затормаживают эндокринную активность гипофи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 же в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интезируются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вазопрессин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кситоци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отвечающие за водно-солевой баланс и поддержание тонуса сосуд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2" name="Picture 11" descr=""/>
          <p:cNvPicPr/>
          <p:nvPr/>
        </p:nvPicPr>
        <p:blipFill>
          <a:blip r:embed="rId1"/>
          <a:stretch/>
        </p:blipFill>
        <p:spPr>
          <a:xfrm>
            <a:off x="4633200" y="2642400"/>
            <a:ext cx="136692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гипот"/>
          <p:cNvPicPr/>
          <p:nvPr/>
        </p:nvPicPr>
        <p:blipFill>
          <a:blip r:embed="rId2"/>
          <a:stretch/>
        </p:blipFill>
        <p:spPr>
          <a:xfrm>
            <a:off x="5786280" y="500040"/>
            <a:ext cx="268632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Эпифиз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42960" y="1213920"/>
            <a:ext cx="4214880" cy="3643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Эпифиз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шишковидная железа) верхний мозговой придаток. Предполагается, что эпифиз вырабатывает ряд биологически активных веществ, которые регулируют деятельность иммунной системы, рост, половое созревание, водно-солевой и пигментный обмен. Их химическое строение и роль в организме до конца не изучен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ьше всего сведений на сегодняшний день о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Verdana"/>
              </a:rPr>
              <a:t>мелатонин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Это, так называемый, гормон молодости, устанавливающий биологические ритмы организм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8" descr="эпифиз"/>
          <p:cNvPicPr/>
          <p:nvPr/>
        </p:nvPicPr>
        <p:blipFill>
          <a:blip r:embed="rId1"/>
          <a:stretch/>
        </p:blipFill>
        <p:spPr>
          <a:xfrm>
            <a:off x="4929120" y="785880"/>
            <a:ext cx="3554640" cy="46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Щитовидная желез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2920" y="642960"/>
            <a:ext cx="4211640" cy="4075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ет три важных гормона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еокальцетон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следний гормон участвует в обмене кальция, происходящем в организме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гулируют процессы роста и развития, влияют на нервную систему, сердце и половые железы, повышают интенсивность обмена веществ, в частности окислительных реакций, проходящих с выделением теп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щитовид"/>
          <p:cNvPicPr/>
          <p:nvPr/>
        </p:nvPicPr>
        <p:blipFill>
          <a:blip r:embed="rId1"/>
          <a:stretch/>
        </p:blipFill>
        <p:spPr>
          <a:xfrm>
            <a:off x="4786200" y="714240"/>
            <a:ext cx="388008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аращитовидные железы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3280" y="785880"/>
            <a:ext cx="40687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ращитовидные желез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аратероид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ормон, регулирующий обмен кальция и фосфора, от интенсивности которых зависят нервных импульсов, образование костной ткани, сокращение мышц и многое друго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6" descr="паращит"/>
          <p:cNvPicPr/>
          <p:nvPr/>
        </p:nvPicPr>
        <p:blipFill>
          <a:blip r:embed="rId1"/>
          <a:stretch/>
        </p:blipFill>
        <p:spPr>
          <a:xfrm>
            <a:off x="4468680" y="928800"/>
            <a:ext cx="35337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Надпочечники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2920" y="928800"/>
            <a:ext cx="356868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адпочечни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стоят из мозгового вещества и коры. Гормоны коры надпочечников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ртикостероид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отвечают за адаптацию к проявлениям среды, в частности к холод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зговой слой вырабатывает два гормона: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адреналин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норадренали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Они регулируют функцию сердечно-сосудистой системы и влияют на обмен, прежде всего углев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7" descr="надпоч"/>
          <p:cNvPicPr/>
          <p:nvPr/>
        </p:nvPicPr>
        <p:blipFill>
          <a:blip r:embed="rId1"/>
          <a:stretch/>
        </p:blipFill>
        <p:spPr>
          <a:xfrm>
            <a:off x="4357800" y="1063800"/>
            <a:ext cx="3786120" cy="37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Бета-клетки (островки Лангерганса) поджелудочной железы.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2920" y="428760"/>
            <a:ext cx="42829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батывает два гормон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инсули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глюкого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Соответственно, первый снижает уровень глюкозы в крови, второй гормон его повыша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6" descr="поджелуд"/>
          <p:cNvPicPr/>
          <p:nvPr/>
        </p:nvPicPr>
        <p:blipFill>
          <a:blip r:embed="rId1"/>
          <a:stretch/>
        </p:blipFill>
        <p:spPr>
          <a:xfrm>
            <a:off x="4714920" y="12859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оловые желез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2920" y="571680"/>
            <a:ext cx="356868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половой принадлеж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огестерон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славливают появление женских половых призна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ндроген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тестостерон)– мужск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429000" cy="47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Verdana"/>
              </a:rPr>
              <a:t>Гармоничный баланс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В нормальном состоянии существует гармоничный баланс между активностью эндокринных желез, состоянием нервной системы и ответом тканей-мишеней (тканей, на которые направлено воздействие). Любое нарушение в каждом из этих звеньев быстро приводит к отклонениям от нормы. Избыточная или недостаточная продукция гормонов служит причиной различных заболеваний, сопровождающихся глубокими химическими изменениями в организме.</a:t>
            </a:r>
            <a:r>
              <a:rPr b="0" lang="ru-RU" sz="2800" spc="-1" strike="noStrike">
                <a:solidFill>
                  <a:srgbClr val="0d0d0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168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Гормоны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 биологически активные вещества, вырабатываемые железами внутренней секреции,  регулирующие деятельность органов и тканей организ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оль гормонов велика. Эти вещества влияют практически на все процессы, происходящие в организме, сохраняя внутреннюю стабильность среды (гомеостаза), противостояние отрицательным внешним воздействия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1714680" y="4572000"/>
            <a:ext cx="6000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ермин «гормоны» введён англ. физиологами У. Бейлиссом и Э. Старлингом в 1902 г.. Известно более 30 гормонов, выделяемых эндокринными железами млекопитающих и человека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рушение функций гипофиз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ГАНТ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гипофизарный) - аномальный рост человека, превышающий норму. Вызывается нарушением деятельности желез внутренней секреции (главным образом гипофиза, щитовидной и половых желез). При частичном гигантизме увеличены пальцы, кисти, стопы, череп. При гипофункции гипофиза возникают </a:t>
            </a: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ПОФИЗАРНЫЕ ЛИЛИПУ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АКРОМЕГАЛ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греч. akron — конечность и megas, род. п. megalu — большой), эндокринное заболевание, обусловленное избыточной продукцией гормона роста. Возникает преимущественно после завершения роста организма: увеличение конечностей, нижней челюсти и т. 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лева: Гипофизарный гигант, рядом женщины нормального роста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права: Разрастание котей лицевого черепа при акромегалии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7" name="Picture 6" descr="S7002592"/>
          <p:cNvPicPr/>
          <p:nvPr/>
        </p:nvPicPr>
        <p:blipFill>
          <a:blip r:embed="rId1"/>
          <a:stretch/>
        </p:blipFill>
        <p:spPr>
          <a:xfrm>
            <a:off x="1571760" y="2071800"/>
            <a:ext cx="58579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Известны случаи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искусственном введении гормона роста детям, страдающим недостаточностью функции гипофиза, их рост увеличивался в течение 6 месяцев на 5-6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гиперфункции гипофиза рост превышает 2 м. Римский император Максимиллиан был ростом 2,5 м, а русский крестьянин Махнов – 2.8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женщин наибольший рост отмечен у швейцарки Амы – 2,3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гипетская карлица Агибе имела рост 38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рушение функций щитовидной желез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Базедова болезнь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- эндокринное заболевание, обусловленное повышенной функцией щитовидной железы, избыточно выделяющей тироксин, что приводит к тиреотоксикозу. Основные симптомы: зоб, пучеглазие, тахикардия, повышение основного обмена, исхуд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МИКСЕДЕМА или СЛИЗИСТЫЙ ОТЁК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греч. myxa — слизь и oidema — опухание, отек), эндокринное заболевание, обусловленное врожденным или приобретенным нарушением функции щитовидки. Признаки: отек кожи и подкожной клетчатки, выпадение волос, вялость, снижение умственных способност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КРЕТИНИЗМ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франц. cretin — слабоумный, кретин), эндокринное заболевание — недостаточная функция щитовидной железы, задержка физического и психического развития; главным образом в горных районах с недостатком иода в воде или как наследственная патолог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ahoma"/>
              </a:rPr>
              <a:t>Если нарушен синтез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ИНСУЛИНА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Применение и значе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6140520" y="714240"/>
            <a:ext cx="2444760" cy="4643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500040" y="1285920"/>
            <a:ext cx="528624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моны – важнейший элемент жизни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болевания эндокринной системы приводят к тяжелейшим патологиям и, нередко, смерти. Интегрированное химико-биологическое исследование этого класса органических соединений открывает огромные перспективы  по созданию лекарств, не имеющих побочных эффектов, совершенствованию технологий генной инженерии и во многих других отрас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4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Механизм действия гормонов</a:t>
            </a:r>
            <a:br>
              <a:rPr sz="40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5840" y="499680"/>
            <a:ext cx="8501040" cy="6024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ы действуют на органы избирательно, это объясняется тем, что клетки определенных органов содержат специальные образования -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рецепторы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рганы или клетки, на которые действует конкретный гормон, называют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органами-мишенями или клетками-мишенями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Во внеклеточной жидкости содержится множество разнообразных соединений, но рецепторы узнают лишь очень немногие из них. Кроме того, рецепторы должны выбрать определенные молекулы из множества других, присутствующих в более высокой концентрации.  Каждая клетка может нести либо один тип рецепторов, либо нескольк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6" descr="Безымянный"/>
          <p:cNvPicPr/>
          <p:nvPr/>
        </p:nvPicPr>
        <p:blipFill>
          <a:blip r:embed="rId1"/>
          <a:stretch/>
        </p:blipFill>
        <p:spPr>
          <a:xfrm>
            <a:off x="714240" y="3176640"/>
            <a:ext cx="7547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858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ТИПЫ РЕАЛИЗАЦИИ ГОРМОНАЛЬНОГО ДЕЙСТВ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3880" y="121428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ый тип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При взаимодействии гормона с клеточной мембраной изменяется ее проницаемость для определенных веществ. Так под действием инсулина активируются системы транспорта глюкозы и она начинает активно проникать в клет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При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о-клеточном типе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 не проникая в клетку, а влияет на ее обмен через своего посредника (вторичного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ссендже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, первичный - сам гормон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Цитозольный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механизм (или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ядерный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) свойственен липофильным белкам - стероидам. Они проникают через клеточную мембрану в цитозоль и соединяются с внутриклеточными рецепторами. Комплекс гормон-рецептор проникает в ядро клетки, где избирательно влияет на активность генома, это приводит к снижению или активации синтеза определенных ферментов, что приводит к изменению скорости или направления определенных реак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Смешанный тип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- присущ йодтиронинам (гормонам щитовидной желез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2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2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 гормон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уществует две основные классифик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900000" y="2781360"/>
            <a:ext cx="324036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железам внутренней секреции продуцирующим гормо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03640" y="2781360"/>
            <a:ext cx="374508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химической приро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 вниз 10"/>
          <p:cNvSpPr/>
          <p:nvPr/>
        </p:nvSpPr>
        <p:spPr>
          <a:xfrm>
            <a:off x="2286000" y="1714680"/>
            <a:ext cx="191304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низ 11"/>
          <p:cNvSpPr/>
          <p:nvPr/>
        </p:nvSpPr>
        <p:spPr>
          <a:xfrm>
            <a:off x="4857840" y="1714680"/>
            <a:ext cx="1490400" cy="928440"/>
          </a:xfrm>
          <a:prstGeom prst="downArrow">
            <a:avLst>
              <a:gd name="adj1" fmla="val 4637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о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химической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рирод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26" name="Diagram 7"/>
          <p:cNvGrpSpPr/>
          <p:nvPr/>
        </p:nvGrpSpPr>
        <p:grpSpPr>
          <a:xfrm>
            <a:off x="3853800" y="3240720"/>
            <a:ext cx="1891080" cy="1163880"/>
            <a:chOff x="3853800" y="3240720"/>
            <a:chExt cx="1891080" cy="1163880"/>
          </a:xfrm>
        </p:grpSpPr>
        <p:sp>
          <p:nvSpPr>
            <p:cNvPr id="327" name="_s1028"/>
            <p:cNvSpPr/>
            <p:nvPr/>
          </p:nvSpPr>
          <p:spPr>
            <a:xfrm>
              <a:off x="3853800" y="3240720"/>
              <a:ext cx="1891080" cy="1163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ормон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8"/>
          <p:cNvSpPr/>
          <p:nvPr/>
        </p:nvSpPr>
        <p:spPr>
          <a:xfrm>
            <a:off x="3357720" y="2000160"/>
            <a:ext cx="2366640" cy="9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3286080" y="521496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т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642960" y="371484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но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6000840" y="3429000"/>
            <a:ext cx="252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о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4500720" y="2924280"/>
            <a:ext cx="0" cy="57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4"/>
          <p:cNvSpPr/>
          <p:nvPr/>
        </p:nvSpPr>
        <p:spPr>
          <a:xfrm>
            <a:off x="3000240" y="3929040"/>
            <a:ext cx="720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4643280" y="4572000"/>
            <a:ext cx="0" cy="792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5715000" y="3929040"/>
            <a:ext cx="792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528624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Стероидные гормо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ероидные гормоны обладают сложной циклической структурой. Например: тестестерон, наиболее важный представитель андрогенов(мужские половые гормоны) и эстроген (женский половой гормон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680724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Гормоны производные аминокисло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3280" y="529920"/>
            <a:ext cx="8183520" cy="568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моны производные аминокислот имеют относительно простое строение, что, однако не умаляет их значения в организме. Наиболее известные представители: адреналин, норадреналин, тирокс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ная формула адренал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4475" t="7870" r="0" b="11991"/>
          <a:stretch/>
        </p:blipFill>
        <p:spPr>
          <a:xfrm>
            <a:off x="3214800" y="3214800"/>
            <a:ext cx="52257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Белков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лковые гормоны обладаю характерными для белков свойствами: большой относительной молекулярной массой, способностью формирования первичной, вторичной, третичной и четвертичной пространственных структур и т.д. Самый известный представитель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ули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Этот гормон стал первым белком, который удалось синтезировать химическим пу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40:46Z</dcterms:created>
  <dc:creator>1</dc:creator>
  <dc:description/>
  <dc:language>en-US</dc:language>
  <cp:lastModifiedBy>Admin</cp:lastModifiedBy>
  <dcterms:modified xsi:type="dcterms:W3CDTF">2012-02-13T15:55:44Z</dcterms:modified>
  <cp:revision>17</cp:revision>
  <dc:subject/>
  <dc:title>Г</dc:title>
</cp:coreProperties>
</file>