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B11F-AADD-4C73-A954-3184F221E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FA36-B93B-40FF-BFF6-2D54C1414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BE81-AC89-469E-B736-9276B5A8A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2CB-1748-4ACF-8FDB-2348AF3E6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B45-1270-41E0-B4E3-A3AFB061A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4984-58C5-472E-B26A-EC070FB54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5AC-AB7C-49CA-AF87-5F76392E8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063-D527-4337-B9D9-8FEACC54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059-2409-4013-AB15-DF98626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FEF-E7C2-4FA6-A93D-06E07280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957-DB8B-4A10-BA2B-1FFE38A9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6A5-AC3A-40F1-91B2-3B97FC65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004-1D17-4371-A89D-5036A05E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3D85-A9E3-4FE9-9A50-5B02767D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91DD-BE9A-4AD0-93FF-FD9EA13C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7BD4-D9FF-42BE-A2A6-1113491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3EC0-C83A-416B-AD77-4CB4ADC9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A73E-90BF-4DC9-8E6D-48C90F1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50A-F2E9-467D-A72F-5C021F4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0D9F-E588-4740-A217-1C7AB1A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F4F7-0BD3-4080-92B9-8D99446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92D4-0A67-49CA-85BF-4264909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4450-6F0A-4E85-BB2D-D9F5604D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26ED-3DBC-4637-B578-6B833754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107-E11D-4621-8965-22E6D10B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795-CC88-4E38-B7A7-50B6E42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122-2718-4F1A-8350-158739EB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95C-EFA1-4E22-A34A-AF3695E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927-48F4-4E28-A987-272C91C1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EB8-90E0-40CC-8BDF-6BFB7D0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373-121B-434B-A7AA-440F3FE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274-8F67-4371-945F-32DE989C0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A27E-A8C3-470E-B4E4-7C4CEA594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720" y="1071720"/>
            <a:ext cx="446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рмент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зимы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ческие катализаторы белковой природы, которые ускоряют реакции, необходимые для функционирования живых 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80px-Purine_Nucleoside_Phosphorylase"/>
          <p:cNvPicPr/>
          <p:nvPr/>
        </p:nvPicPr>
        <p:blipFill>
          <a:blip r:embed="rId1"/>
          <a:stretch/>
        </p:blipFill>
        <p:spPr>
          <a:xfrm>
            <a:off x="285840" y="1000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enzymes"/>
          <p:cNvPicPr/>
          <p:nvPr/>
        </p:nvPicPr>
        <p:blipFill>
          <a:blip r:embed="rId2"/>
          <a:stretch/>
        </p:blipFill>
        <p:spPr>
          <a:xfrm>
            <a:off x="214200" y="342900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32073450"/>
          <p:cNvPicPr/>
          <p:nvPr/>
        </p:nvPicPr>
        <p:blipFill>
          <a:blip r:embed="rId3"/>
          <a:stretch/>
        </p:blipFill>
        <p:spPr>
          <a:xfrm>
            <a:off x="4786200" y="4500720"/>
            <a:ext cx="372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5951-9389-4934-AF99-18AC88F47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дивительная эффективность фермент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573360"/>
          <a:ext cx="7632720" cy="1965600"/>
        </p:xfrm>
        <a:graphic>
          <a:graphicData uri="http://schemas.openxmlformats.org/drawingml/2006/table">
            <a:tbl>
              <a:tblPr/>
              <a:tblGrid>
                <a:gridCol w="3996000"/>
                <a:gridCol w="36367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ермен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Число оборотов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 </a:t>
                      </a:r>
                      <a:br>
                        <a:rPr sz="2100"/>
                      </a:b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мин при 37°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арбоангидр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36 0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мил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1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сфоглюкомут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938160" y="298440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оротов некоторых фер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CA4F-2692-4928-ADD1-0BCF3A3CA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542440" cy="4846680"/>
        </p:xfrm>
        <a:graphic>
          <a:graphicData uri="http://schemas.openxmlformats.org/drawingml/2006/table">
            <a:tbl>
              <a:tblPr/>
              <a:tblGrid>
                <a:gridCol w="1871640"/>
                <a:gridCol w="3141720"/>
                <a:gridCol w="3529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од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пиро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карбоксилирование </a:t>
                      </a: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-кето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ибофлав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лавинмононуклеотид, флавинадениндинуклеот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о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аденин-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инуклеотид,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дениндинуклеотид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антотеновая 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 (коэнзим)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циль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аль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мино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н (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О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лие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етрагидрофо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одноуглерод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зоксиаденозил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вязанного с углеродом атома водорода на соседний атом угле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скорбиновая кислот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гидр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B14-D828-4177-A0F0-345AC84B7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681200"/>
          <a:ext cx="8496360" cy="2212920"/>
        </p:xfrm>
        <a:graphic>
          <a:graphicData uri="http://schemas.openxmlformats.org/drawingml/2006/table">
            <a:tbl>
              <a:tblPr/>
              <a:tblGrid>
                <a:gridCol w="1582560"/>
                <a:gridCol w="3673440"/>
                <a:gridCol w="3240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Жир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тин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рительный проц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,25-Дигидроксихоле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гуляция обмена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ащита мембранных лип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декарб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971640" y="98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действия ферм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00000" y="2276640"/>
            <a:ext cx="655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а 30 –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среды (р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ирательнос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растворению в воде и образованию коллоидных раство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увеличивают скорость реа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расходуются 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амфотер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х присутствие не влияет на свойства продукто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характерно протекание цветных реа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зменяют энергию активации, при которой может произойти реак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изменяют сколько-нибудь значительно температуру, при которой происходит реа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денатурации и гидрол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еск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очетание высочайшей активности с соблюдением строгого ряда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цифичность действия по принципу «ключ – замок» или «рука – перчат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аби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ратимость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 +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↔ ES → E + P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,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 – энзим;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убстрат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– продукт реа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фермент-субстратный компле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ферментов в жизнедеятельности организ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рожденные нарушения об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заимопревращения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химическая револю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ревращение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син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армак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Ультраструктура мемб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Генетический аппа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леточный метабол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ат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изиологическая регуля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актериальное бр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CC3-1948-4FBB-9A4B-9E2C378DB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2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9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ипу катализируемых реакций ферменты подразделяю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ерархической классификации ферментов. Классификация была предложена Международным союзом биохимии и молекулярной биологи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класс содержит под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g406"/>
          <p:cNvPicPr/>
          <p:nvPr/>
        </p:nvPicPr>
        <p:blipFill>
          <a:blip r:embed="rId1"/>
          <a:stretch/>
        </p:blipFill>
        <p:spPr>
          <a:xfrm>
            <a:off x="3429000" y="689040"/>
            <a:ext cx="55548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цин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2600" y="92844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меж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ентами и наследственными болезн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мена веществ была впервые установле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Гэрродом в 1910-е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эррод назвал заболевания, связанные с дефектами ферменто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ожденными ошибками метаболиз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сходит мутация в гене, кодирующем определенный фермент, может измениться аминокислотная последовательность фермента. При этом в результате большинства мутаций его каталитическая активность снижается или полностью пропадает. Если организм получает два таких мутантных гена (по одному от каждого из родителей), в организме перестает идти химическая реакция, которую катализирует данный фермент. Например, по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и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щением выработки фермента тирозиназ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чающего за одну из стадий синтез темного пигмента мелани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ниженной или отсутствующей активностью фермента фенилаланин-4-гидроксилазы в пе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46827_w640_h640_183707e36a3dafce6f1a6e0261"/>
          <p:cNvPicPr/>
          <p:nvPr/>
        </p:nvPicPr>
        <p:blipFill>
          <a:blip r:embed="rId1"/>
          <a:stretch/>
        </p:blipFill>
        <p:spPr>
          <a:xfrm>
            <a:off x="5786280" y="2571840"/>
            <a:ext cx="1571760" cy="3286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395280" y="623736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ferment"/>
          <p:cNvPicPr/>
          <p:nvPr/>
        </p:nvPicPr>
        <p:blipFill>
          <a:blip r:embed="rId2"/>
          <a:stretch/>
        </p:blipFill>
        <p:spPr>
          <a:xfrm>
            <a:off x="6238800" y="714240"/>
            <a:ext cx="25052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fil_krf"/>
          <p:cNvPicPr/>
          <p:nvPr/>
        </p:nvPicPr>
        <p:blipFill>
          <a:blip r:embed="rId3"/>
          <a:stretch/>
        </p:blipFill>
        <p:spPr>
          <a:xfrm>
            <a:off x="7221600" y="2403360"/>
            <a:ext cx="1817640" cy="165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medicine-cure-facial-blushi"/>
          <p:cNvPicPr/>
          <p:nvPr/>
        </p:nvPicPr>
        <p:blipFill>
          <a:blip r:embed="rId4"/>
          <a:stretch/>
        </p:blipFill>
        <p:spPr>
          <a:xfrm>
            <a:off x="7027920" y="4214880"/>
            <a:ext cx="197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из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83628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ложен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VII веке химиком ван Гельмонт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суждении механизмов пищева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. ХVIII — нач. XIX вв. уже было известно, что мясо переваривается желудочным соком, а крахмал превращается в сахар под действием слюны. Однако механизм этих явлений был неизвест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 XIX в. Луи Пастер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ая превращение углеводов в этиловый спирт под действием дрожжей, пришел к выводу, что этот процесс (брожение) катализируется некой жизненной силой, находящейся в дрожжевых клет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ста лет назад термины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ражали различные точки зрения в теоретическом споре Л. Пастера с одной стороны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 Бертло и Ю. Либих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 другой, о природе спиртового брожения. Собствен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fermen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закваска) называли «организованные ферменты» (то есть сами живые микроорганизмы), 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ἐν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в- 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ύμη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дрожжи, закваска) предложен в 1876 году В. Кю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«неорганизованных ферментов», секретируемых клетками, например, в желудок (пепсин) или кишечник (трипсин, амилаза). Через два года после смерти Л. Пастера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97 году Э. Бухне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убликовал работу «Спиртовое брожение без дрожжевых клеток», в которой экспериментально показал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клеточный дрожжевой сок осуществляет спиртовое брожение так же, как и неразрушенные дрожжевые клетки. В 1907 году за эту работу он был удостоен Нобелевской прем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первые высокоочищенный кристаллическ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рмент (уреаза) был выделен в 1926 году Дж. Самн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ечение последующих 10 лет было выделено еще несколько ферментов, и белковая природа ферментов была окончательно до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кам извест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2000 фер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е они обладают рядом специфических свойств, отличающих их от неорганических катализ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80360" y="6453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632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исполь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то что надо"/>
          <p:cNvPicPr/>
          <p:nvPr/>
        </p:nvPicPr>
        <p:blipFill>
          <a:blip r:embed="rId1"/>
          <a:stretch/>
        </p:blipFill>
        <p:spPr>
          <a:xfrm>
            <a:off x="4572000" y="785880"/>
            <a:ext cx="4429080" cy="56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о что надо 1"/>
          <p:cNvPicPr/>
          <p:nvPr/>
        </p:nvPicPr>
        <p:blipFill>
          <a:blip r:embed="rId2"/>
          <a:stretch/>
        </p:blipFill>
        <p:spPr>
          <a:xfrm>
            <a:off x="166680" y="785880"/>
            <a:ext cx="411948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071800" y="5000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680" y="6093000"/>
            <a:ext cx="57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219320"/>
          <a:ext cx="8229600" cy="564660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071720"/>
          <a:ext cx="8229600" cy="566568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омолекулярные вещества, образованные 1 или нескольки-ми элемент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– высокомолекуляр-ные пол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, универсальн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 – Pt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яет множ. реак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. На каждую р-цию нужен свой фер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кислая или щ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интервал, у кажд. органа – с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широк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2 градуса, затем денатурирую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незначительно, или не изменяется вовс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изменяются и восстанавливаются в исходную структуру по окончании реа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 – 100000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в 8 степени до 10 в 12 степени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2556000" y="1052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ерме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211640" y="312912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2410920" y="2276640"/>
            <a:ext cx="10796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149800" y="2276640"/>
            <a:ext cx="9349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00040" y="2786040"/>
            <a:ext cx="378612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4500720" y="2857680"/>
            <a:ext cx="414324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3"/>
          <p:cNvGrpSpPr/>
          <p:nvPr/>
        </p:nvGrpSpPr>
        <p:grpSpPr>
          <a:xfrm>
            <a:off x="0" y="1447920"/>
            <a:ext cx="8153280" cy="5410080"/>
            <a:chOff x="0" y="1447920"/>
            <a:chExt cx="8153280" cy="5410080"/>
          </a:xfrm>
        </p:grpSpPr>
        <p:sp>
          <p:nvSpPr>
            <p:cNvPr id="110" name="AutoShape 24"/>
            <p:cNvSpPr/>
            <p:nvPr/>
          </p:nvSpPr>
          <p:spPr>
            <a:xfrm>
              <a:off x="0" y="1447920"/>
              <a:ext cx="81532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1892160" y="1825200"/>
              <a:ext cx="393372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ЕР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2183760" y="28321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513680" y="28321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1019160" y="3460680"/>
              <a:ext cx="2037960" cy="7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4076640" y="3460680"/>
              <a:ext cx="2911320" cy="75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5677560" y="42163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3785040" y="42163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47536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апр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553284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к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фер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95A-71F7-4331-86F2-6881C45A3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11280" y="15098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ферменты: белковая часть обеспечивает связывание субстрата, а катализ осуществляют небелковые (мономерные) соединения, называемые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фактором, простетической групп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Белковая часть такого фермента называе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активный фермент (комплекс апофермента и кофермента)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ол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000-8033-4E66-BA4B-2E4F17FA6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34136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выделить отдельно группу коферментов, т.е. тех соединений, которые образованы из соответствующих витаминов или синтезированы самостоятельно данным организмом для осуществления того или иного химического процесса в живой кл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79280" y="4724280"/>
          <a:ext cx="8906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24280"/>
                    <a:ext cx="8906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D900-04E4-429E-B9E3-6BCA93EA2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фермента можно определить по его а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468360" y="2223360"/>
            <a:ext cx="842472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21:15:36Z</dcterms:created>
  <dc:creator>Ник Мартинович</dc:creator>
  <dc:description/>
  <dc:language>en-US</dc:language>
  <cp:lastModifiedBy>Admin</cp:lastModifiedBy>
  <dcterms:modified xsi:type="dcterms:W3CDTF">2012-02-09T17:21:09Z</dcterms:modified>
  <cp:revision>18</cp:revision>
  <dc:subject/>
  <dc:title>Слайд 1</dc:title>
</cp:coreProperties>
</file>