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.png" ContentType="image/png"/>
  <Override PartName="/ppt/media/image26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E32-FB47-480A-BAF1-F51F93D4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C57-A093-4903-A026-FC22C82D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52B-1390-4783-863F-B61B3CEA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0C4-8CFD-4F63-9306-870C35A5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6D0-FAAF-48C7-8C25-DDB594B2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2B8-D95C-4B0C-B3B3-D6DC75E4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C82-FBA1-4436-AAC9-709EA498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41D-A105-464E-A615-89F4D7CA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9EF-690F-491D-A979-EE8BF298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065-9851-48F1-8091-8BAA5D10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2EC-BA1E-459E-B602-9890D01E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8EE-B4A3-40B3-968A-19A2420E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22C1-7B29-4665-BC07-82BB1059D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Биологический катализ. Ферме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over_14"/>
          <p:cNvPicPr/>
          <p:nvPr/>
        </p:nvPicPr>
        <p:blipFill>
          <a:blip r:embed="rId1"/>
          <a:stretch/>
        </p:blipFill>
        <p:spPr>
          <a:xfrm>
            <a:off x="3132000" y="2205000"/>
            <a:ext cx="2882880" cy="3529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332000" y="5805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Алиса в стране чудес», иллюстрация John Tenniel,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The Nursery Alice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 (Mary Evans Picture Library, Londo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3596-744D-4E22-BFEC-1ADAA1EDD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8" name="Object 11"/>
          <p:cNvGraphicFramePr/>
          <p:nvPr/>
        </p:nvGraphicFramePr>
        <p:xfrm>
          <a:off x="395280" y="1268280"/>
          <a:ext cx="856944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569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3"/>
          <p:cNvSpPr/>
          <p:nvPr/>
        </p:nvSpPr>
        <p:spPr>
          <a:xfrm>
            <a:off x="607320" y="37486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AM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аденозил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метионин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ADA3-7564-4CC8-A75A-64ED3FF0F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68360" y="1056960"/>
            <a:ext cx="8424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 – переносчики одно-углеродной групп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2. – переносчики карбонильны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3. – ацетилтрансфе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4. – гликозилтрансф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5. – переносчики алкильных (кроме метильных) и арильных групп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6. – переносчики азотисты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7. – переносчики фосфор-содержащих групп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8. – переносчики серу-содержащи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9. – переносчики селен-содержащих групп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5F5E-2488-4CCC-94B7-3F4DA1D12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11280" y="1602720"/>
            <a:ext cx="828180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трансферазы одноуглеродной групп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1.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етилтрансфеп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1.41.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стерол 24-С-метилтрансфер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B288-1D07-4C01-98A9-655D4FBB9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39640" y="1484280"/>
            <a:ext cx="820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Прот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–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гидролизуют белк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Нукл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гидролизуют нуклеиновые кислот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Специфические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эндонукл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(так называемые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рестрикт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разрывают полинуклеотиды по строго определенным последовательностям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924A-DA6A-4A1D-BEB2-2424E3F6B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538200" y="104688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. – действуют на сложноэфирные связи, эстераз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2. – гликозилазы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3. – действуют на простоэфирные 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4. – действуют на пептидные связи (пептид гидролазы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5. 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, кроме пептидн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6. – действуют на ангидриды кисло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7. – действуют на углерод-углеродные 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8. – действуют на связи с галогеном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9. – действуют на связи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0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1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2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3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3228-19CA-4A06-BB5E-68C35C8EF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11280" y="1453680"/>
            <a:ext cx="8353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 гидролазы действующие на сложноэфирную связь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.1. гидролазы эфиров карбоновых кислот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.1.1 карбоксилэст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876240" y="4329000"/>
            <a:ext cx="719424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COOR</a:t>
            </a:r>
            <a:r>
              <a:rPr b="0" lang="ru-RU" sz="3400" spc="-1" strike="noStrike" baseline="30000">
                <a:solidFill>
                  <a:srgbClr val="000099"/>
                </a:solidFill>
                <a:latin typeface="Arial"/>
              </a:rPr>
              <a:t>1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 H</a:t>
            </a:r>
            <a:r>
              <a:rPr b="0" lang="ru-RU" sz="34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=  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COOH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+ 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ru-RU" sz="34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OH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A087-4F0D-4D83-B7B3-2450C5B24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12000" y="1165680"/>
            <a:ext cx="76406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1. – углерод-углеродные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2. – углерод-кислородные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3. – углерод-азотные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4. – углерод-серы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5. – углерод-галоген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6. – фосфор-кислородные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99.– другие лиазы.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A1DE-0346-4FD5-A905-0640E12457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39280" y="1053360"/>
            <a:ext cx="808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 – карбокси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2. – альдегид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3. – оксо-кислот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99. – другие углерод-углерод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37120" y="3071520"/>
            <a:ext cx="8379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1. – пируват декарбоксилаза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23. – оротидин-5-фосфат дека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31. – фосфоенолпируват карбоксилаза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39. – рибулозодифосфат кар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50. – аденозилметионин декар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B7FB-911A-4288-BB09-564C032E1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5" name="Object 8"/>
          <p:cNvGraphicFramePr/>
          <p:nvPr/>
        </p:nvGraphicFramePr>
        <p:xfrm>
          <a:off x="611280" y="1716120"/>
          <a:ext cx="828036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16120"/>
                    <a:ext cx="828036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9115-95D0-4D61-B584-FFD625B39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зомер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25520" y="1127520"/>
            <a:ext cx="8539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 – рацемазы и эпим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2. –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цис-трас-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изом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3. – внутримолекулярные оксидоредукт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4. – внутримолекулярные трансферазы (мутазы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5. – внутримолекуляр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99. – другие изомеразы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6137-32A1-4DFC-A0ED-348D857D4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7" name="Picture 35" descr=""/>
          <p:cNvPicPr/>
          <p:nvPr/>
        </p:nvPicPr>
        <p:blipFill>
          <a:blip r:embed="rId1"/>
          <a:stretch/>
        </p:blipFill>
        <p:spPr>
          <a:xfrm>
            <a:off x="395280" y="1960560"/>
            <a:ext cx="849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26C6-1EFD-4465-8CB5-C46F5DECA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зомер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11280" y="1342080"/>
            <a:ext cx="802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 рацемазы и эриме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3. действующие на углеводу и их производные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3.3. альдоза-1-эпимер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2" name="Object 9"/>
          <p:cNvGraphicFramePr/>
          <p:nvPr/>
        </p:nvGraphicFramePr>
        <p:xfrm>
          <a:off x="539640" y="3429000"/>
          <a:ext cx="8209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8209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D8BB-234B-4122-8D2B-EC17D7724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Лигазы (синтетазы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607680" y="1269360"/>
            <a:ext cx="81496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1. – образуют углерод-кислород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2. – образуют углерод-сера связи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 – образуют углерод-азот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4. – образуют углерод-углерод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5. – образуют фосфат эфирные связи.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52320" y="3790080"/>
            <a:ext cx="8240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 образующие углерод-азот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1. кислота-аммиак (или амид) лигазы (амид синтазы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1.1. аспарат-аммиак лигаза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D600-767F-410E-80B1-33459B164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9" name="Picture 10" descr=""/>
          <p:cNvPicPr/>
          <p:nvPr/>
        </p:nvPicPr>
        <p:blipFill>
          <a:blip r:embed="rId1"/>
          <a:srcRect l="2703" t="0" r="0" b="0"/>
          <a:stretch/>
        </p:blipFill>
        <p:spPr>
          <a:xfrm>
            <a:off x="1187280" y="981000"/>
            <a:ext cx="676944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247E-140D-4F4A-9946-F09C1CFF2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rcRect l="3896" t="4074" r="3833" b="0"/>
          <a:stretch/>
        </p:blipFill>
        <p:spPr>
          <a:xfrm>
            <a:off x="1260360" y="981000"/>
            <a:ext cx="6264360" cy="43452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9"/>
          <p:cNvSpPr/>
          <p:nvPr/>
        </p:nvSpPr>
        <p:spPr>
          <a:xfrm>
            <a:off x="179280" y="5362200"/>
            <a:ext cx="896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лияние концентрации субстрата на начальную скорость катализируемой ферментом реакции. Из такого графика можно определить величину </a:t>
            </a: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только путем аппроксимирования. Точное определение этой величины в данном случае невозможно, так как по мере повышения концентрации субстрата начальная скорость реакции лишь приближаете к </a:t>
            </a: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, но никогда ее не достигает. Концентрация субстрата, при которой скорость реакции составляет половину максимальной, численно равна К'м константе Михаэлиса - Ментен.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63ED-103F-4009-94FC-F2B894708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540360" y="1125000"/>
            <a:ext cx="379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Виктор Генри (1903 г.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76000" y="1699920"/>
            <a:ext cx="66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Леонор Михаэлис, Мод Ментен (1913 г.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1979640" y="2565360"/>
          <a:ext cx="4680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65360"/>
                    <a:ext cx="4680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9" name="Object 13"/>
          <p:cNvGraphicFramePr/>
          <p:nvPr/>
        </p:nvGraphicFramePr>
        <p:xfrm>
          <a:off x="1979640" y="3789360"/>
          <a:ext cx="460836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789360"/>
                    <a:ext cx="46083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12" name="Object 15"/>
          <p:cNvGraphicFramePr/>
          <p:nvPr/>
        </p:nvGraphicFramePr>
        <p:xfrm>
          <a:off x="2050920" y="5084640"/>
          <a:ext cx="4608720" cy="81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084640"/>
                    <a:ext cx="46087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8C79-3388-4F40-A30D-D2FCD3E2E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23" name="Picture 15" descr=""/>
          <p:cNvPicPr/>
          <p:nvPr/>
        </p:nvPicPr>
        <p:blipFill>
          <a:blip r:embed="rId1"/>
          <a:srcRect l="3896" t="4074" r="3833" b="0"/>
          <a:stretch/>
        </p:blipFill>
        <p:spPr>
          <a:xfrm>
            <a:off x="611280" y="1700280"/>
            <a:ext cx="5668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130D-E019-449A-BE3F-8D770A555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611280" y="2164680"/>
            <a:ext cx="806436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i="1" lang="ru-RU" sz="2600" spc="-1" strike="noStrike" baseline="-25000">
                <a:solidFill>
                  <a:srgbClr val="ff3300"/>
                </a:solidFill>
                <a:latin typeface="Arial"/>
              </a:rPr>
              <a:t>м</a:t>
            </a:r>
            <a:r>
              <a:rPr b="1" i="1" lang="ru-RU" sz="26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константа Михаэлиса-Ментен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концентрация специфического субстрата, при которой данный фермент обеспечивает скорость реакции, равную половине ее максимальной скорости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6D38-F1F4-4A10-93FC-38C15973C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1835280" y="2349360"/>
                <a:ext cx="446544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Rectangle 13"/>
          <p:cNvSpPr/>
          <p:nvPr/>
        </p:nvSpPr>
        <p:spPr>
          <a:xfrm>
            <a:off x="609120" y="1699920"/>
            <a:ext cx="54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Уравнение Михаэлиса-Ментен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395280" y="4477320"/>
            <a:ext cx="849780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lang="ru-RU" sz="26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начальная скорость при концентрации субстрата [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], </a:t>
            </a:r>
            <a:r>
              <a:rPr b="0" i="1" lang="en-US" sz="26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i="1" lang="en-US" sz="2600" spc="-1" strike="noStrike" baseline="-25000">
                <a:solidFill>
                  <a:srgbClr val="000099"/>
                </a:solidFill>
                <a:latin typeface="Arial"/>
              </a:rPr>
              <a:t>max</a:t>
            </a:r>
            <a:r>
              <a:rPr b="0" i="1" lang="ru-RU" sz="26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максимальная скорость и К</a:t>
            </a:r>
            <a:r>
              <a:rPr b="0" lang="ru-RU" sz="2600" spc="-1" strike="noStrike" baseline="-25000">
                <a:solidFill>
                  <a:srgbClr val="000099"/>
                </a:solidFill>
                <a:latin typeface="Arial"/>
              </a:rPr>
              <a:t>м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константа Михаэлиса-Ментен для данного фермента, соответствующая определенному субстрату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8502-8C4A-4730-93DF-DA2C68CDB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674720"/>
          <a:ext cx="8532720" cy="5002200"/>
        </p:xfrm>
        <a:graphic>
          <a:graphicData uri="http://schemas.openxmlformats.org/drawingml/2006/table">
            <a:tbl>
              <a:tblPr/>
              <a:tblGrid>
                <a:gridCol w="3024000"/>
                <a:gridCol w="3960720"/>
                <a:gridCol w="1548000"/>
              </a:tblGrid>
              <a:tr h="75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начения констант Михаэлиса-Ментен (</a:t>
                      </a: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i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 для некоторых 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о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страт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</a:t>
                      </a:r>
                      <a:r>
                        <a:rPr b="1" i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тал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ексокин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мозг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Р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глюк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фрукт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рбоангидр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СОз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имотрипс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лицил-тирозинил-глиц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бензоилтирозинами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β-Галактозид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лакт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реониндегидрат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треон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A5D9-69C3-41EC-87D5-17F40538E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Зависимость скорости ферментативных реакций от рН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9" name="Object 47"/>
          <p:cNvGraphicFramePr/>
          <p:nvPr/>
        </p:nvGraphicFramePr>
        <p:xfrm>
          <a:off x="395280" y="2090880"/>
          <a:ext cx="547200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90880"/>
                    <a:ext cx="547200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49"/>
          <p:cNvSpPr/>
          <p:nvPr/>
        </p:nvSpPr>
        <p:spPr>
          <a:xfrm>
            <a:off x="5722920" y="2995920"/>
            <a:ext cx="345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висимость активности ферментов (для удобства сравнения приведены активности, нормированные к единице) от рН.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— Пепсин,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— рибонуклеаза,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 — аргиназа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28E1-2EC4-467E-AB44-3417480D6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726840" y="1908720"/>
            <a:ext cx="807156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 – оксидоредукт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oxidoreductases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2. – трансфер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transfer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3. – гидрол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ydrol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4. – ли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ly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5. – изомер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somer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6. – лиг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lig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FBB2-38D1-46B2-997C-F97B8E768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Зависимость скорости ферментативных реакций от рН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2708280"/>
          <a:ext cx="8642160" cy="352116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птимум р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пси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рипси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тал 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ргин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умар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ибонукле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97"/>
          <p:cNvSpPr/>
          <p:nvPr/>
        </p:nvSpPr>
        <p:spPr>
          <a:xfrm>
            <a:off x="250920" y="211428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Оптимальные значения рН для некоторых ферментов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D49F-2FB1-4D00-8269-E0C14CC2B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Количество фермента можно определить по его активност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468360" y="2025720"/>
            <a:ext cx="842472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За единицу активности фермента принимается такое количество фермента, которое катализирует превращение 1 мкмоля субстрата (1 мкмоль = 10–6 моля) в 1 мин при 25°С в оптимальных условиях действия фермента.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Удельной активностью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называется число единиц ферментативной активности в расчете на 1 мг белка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5F56-6B1B-4F6D-AA18-84205FEA2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Специфичность ферментов по отношению к субстратам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80" name="Object 6"/>
          <p:cNvGraphicFramePr/>
          <p:nvPr/>
        </p:nvGraphicFramePr>
        <p:xfrm>
          <a:off x="826920" y="1413000"/>
          <a:ext cx="799308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799308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9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83" name="Object 8"/>
          <p:cNvGraphicFramePr/>
          <p:nvPr/>
        </p:nvGraphicFramePr>
        <p:xfrm>
          <a:off x="2050920" y="4292640"/>
          <a:ext cx="5759640" cy="24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4292640"/>
                    <a:ext cx="575964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1066-3C93-4DF8-A0F9-FDF54E25B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50920" y="2708280"/>
          <a:ext cx="871380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8280"/>
                    <a:ext cx="87138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DD12-0EBC-4A3E-8358-9E202E2E4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rcRect l="0" t="0" r="0" b="15496"/>
          <a:stretch/>
        </p:blipFill>
        <p:spPr>
          <a:xfrm>
            <a:off x="900000" y="1557360"/>
            <a:ext cx="70567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F827-A17E-4207-97B4-EB075488E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1"/>
          <a:srcRect l="0" t="0" r="0" b="13424"/>
          <a:stretch/>
        </p:blipFill>
        <p:spPr>
          <a:xfrm>
            <a:off x="1042920" y="1484280"/>
            <a:ext cx="73454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D096-C308-4797-8077-20211FA04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4" name="Object 8"/>
          <p:cNvGraphicFramePr/>
          <p:nvPr/>
        </p:nvGraphicFramePr>
        <p:xfrm>
          <a:off x="900000" y="1628640"/>
          <a:ext cx="7417080" cy="44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41708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203F-0FCF-4906-B1CD-5EEDC7DA0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23" name="Picture 9" descr="elast_0"/>
          <p:cNvPicPr/>
          <p:nvPr/>
        </p:nvPicPr>
        <p:blipFill>
          <a:blip r:embed="rId1"/>
          <a:srcRect l="12791" t="0" r="12791" b="0"/>
          <a:stretch/>
        </p:blipFill>
        <p:spPr>
          <a:xfrm>
            <a:off x="755640" y="1413000"/>
            <a:ext cx="755964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F814-1266-4CF8-8FAB-C5BE943B7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32" name="Object 9"/>
          <p:cNvGraphicFramePr/>
          <p:nvPr/>
        </p:nvGraphicFramePr>
        <p:xfrm>
          <a:off x="1738440" y="1341360"/>
          <a:ext cx="492120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341360"/>
                    <a:ext cx="49212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1DE4-16A5-4D58-B7F7-C334165F6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rcRect l="0" t="0" r="-4685" b="0"/>
          <a:stretch/>
        </p:blipFill>
        <p:spPr>
          <a:xfrm>
            <a:off x="1403280" y="1528920"/>
            <a:ext cx="5975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76CC-F8AB-4D22-8B31-DB30FFA85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11280" y="1677600"/>
            <a:ext cx="8066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Дегидрогеназы (редуктазы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ксидаз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Пероксидаз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Гидроксилаз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ксигеназ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Гидрогеназы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C47F-43E6-4D9A-B8F7-8EA49557E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52" name="Object 10"/>
          <p:cNvGraphicFramePr/>
          <p:nvPr/>
        </p:nvGraphicFramePr>
        <p:xfrm>
          <a:off x="34920" y="1484280"/>
          <a:ext cx="547200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484280"/>
                    <a:ext cx="547200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12"/>
          <p:cNvSpPr/>
          <p:nvPr/>
        </p:nvSpPr>
        <p:spPr>
          <a:xfrm>
            <a:off x="5508720" y="1764720"/>
            <a:ext cx="3635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рехмерная структура активного центра рибонуклеазы А по данным рентгено-структурного анализа. Для удобства показаны лишь участки полипептидной цепи несущие связывающие и каталитические группы. Полипептидые цепи представлены ходом пептидного остова (темно-серые), связывающие и каталитические группы — палочковыми моделями (светло-серые), модель субстрата [уридилил(3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аденозин] — черной палочковой моделью. Водородные связи обозначены пунктиром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4849-B35D-40E7-A897-4E47F85F4E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65" name="Object 12"/>
          <p:cNvGraphicFramePr/>
          <p:nvPr/>
        </p:nvGraphicFramePr>
        <p:xfrm>
          <a:off x="108000" y="1484280"/>
          <a:ext cx="5688000" cy="49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568800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4"/>
          <p:cNvSpPr/>
          <p:nvPr/>
        </p:nvSpPr>
        <p:spPr>
          <a:xfrm>
            <a:off x="5867280" y="407520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кладка субстрата [аденилил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уридилил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аденилил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 аденозина] в третичной структуре фермента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6CD3-C4E1-4E5C-A44C-1931611CB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акторы, определяющие каталитическую эффективность фер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539640" y="184464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468360" y="2354760"/>
            <a:ext cx="806436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ближение и ориентация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Напряжение и деформация; индуцированное соответствие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Общий кислотно-основной катализ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Ковалентный катализ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6296-008A-4695-AFC8-09D541A24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39640" y="1142640"/>
            <a:ext cx="8353440" cy="53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 – действует на СН-ОН функцию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2. – действует на альдегидную группу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3. – действует на СН-СН группу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0. – действует на дифенолы и родственные групп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3. – действует на простую связь с внедрением молекулярного кислород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7. – действует на СН</a:t>
            </a:r>
            <a:r>
              <a:rPr b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фрагмен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C93F-096C-4AD0-9D1A-BD7A75442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16680" y="1198080"/>
            <a:ext cx="520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 –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 или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2. – цитохромом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3. – кислородом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4. – дисульфидом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5. – хиноном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489A-EBBF-4C9C-A221-501B98D68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5960" y="1181880"/>
            <a:ext cx="80737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1. – алкоголь дегидрогеназ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2. – алкоголь дегидрогеназ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27 –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лактат дегидрогеназа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32 – мевальдат редуктаз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62 – эстрадиол 17-β-дегидрогеназ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95C8-17C8-42BB-8B6C-DE63F1D12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42160" y="1426680"/>
            <a:ext cx="192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1.1.1.1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3" name="Object 6"/>
          <p:cNvGraphicFramePr/>
          <p:nvPr/>
        </p:nvGraphicFramePr>
        <p:xfrm>
          <a:off x="395280" y="2436840"/>
          <a:ext cx="8424720" cy="14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36840"/>
                    <a:ext cx="8424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9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6" name="Object 8"/>
          <p:cNvGraphicFramePr/>
          <p:nvPr/>
        </p:nvGraphicFramePr>
        <p:xfrm>
          <a:off x="684360" y="4653000"/>
          <a:ext cx="741672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653000"/>
                    <a:ext cx="74167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9362-FE77-4BB9-A0BF-DE9E9361E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4" name="Object 9"/>
          <p:cNvGraphicFramePr/>
          <p:nvPr/>
        </p:nvGraphicFramePr>
        <p:xfrm>
          <a:off x="611280" y="1341360"/>
          <a:ext cx="822168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2216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2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7" name="Object 11"/>
          <p:cNvGraphicFramePr/>
          <p:nvPr/>
        </p:nvGraphicFramePr>
        <p:xfrm>
          <a:off x="2195640" y="2276640"/>
          <a:ext cx="3671640" cy="29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276640"/>
                    <a:ext cx="367164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3"/>
          <p:cNvSpPr/>
          <p:nvPr/>
        </p:nvSpPr>
        <p:spPr>
          <a:xfrm>
            <a:off x="2588400" y="547740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Аденозил-метионин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3:40Z</dcterms:created>
  <dc:creator>Markin</dc:creator>
  <dc:description/>
  <dc:language>en-US</dc:language>
  <cp:lastModifiedBy>Admin</cp:lastModifiedBy>
  <dcterms:modified xsi:type="dcterms:W3CDTF">2012-03-28T13:30:19Z</dcterms:modified>
  <cp:revision>67</cp:revision>
  <dc:subject/>
  <dc:title>Биологический катализ. Ферменты </dc:title>
</cp:coreProperties>
</file>