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png" ContentType="image/png"/>
  <Override PartName="/ppt/media/image13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4ABC-D366-4AA2-A2B2-F0891885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FCD8-D5FC-4F7A-9FAF-93FD1769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7A254-580A-425A-8089-0FFC0101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8BED4-E0D8-4EDA-A258-FF7EF933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2E28F-8248-41F6-871C-F30F24C3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5B4A2-C214-4A9B-A2CE-EF7B3F1C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E8AA0-6FC8-4DE4-B168-F976D52F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B1B64-A23F-40A8-895C-19D5BE6E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ED40B-2084-4B05-BFFF-76432EF4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05F36-220E-4872-B8AB-59267AE1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D146A-584F-4664-B873-E8BD764E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787D0-6705-42F1-884D-8FDC0708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572C-8B27-47DE-8185-2D569475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58E9B-59F3-4497-AD56-1A747660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98B53-5CBE-42FD-8291-601490CB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E8113-19A2-446A-935A-6A912BA9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5EEDB-7F52-4F33-BA2B-C5AFFADA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16466-FF5C-4F5D-AA0E-D3255D34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DB9C5-3D30-4CAA-9BD2-4A5673B3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7A9AD-89E5-45C3-A310-38DD3C97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FEAE4-0C2E-483C-9DD6-93F8F519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714DD-8D07-41E8-96C9-AB79EA28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BCBBF-A71D-4249-91B2-FCBE9233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AF1B-F768-46FF-9F8F-FF475AF7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4A018-202E-4B31-A64D-F22C3AF5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CB9E1-4F26-49CA-B543-63B299F5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D6AD0-103B-48E6-B0EC-86B93BC4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A191F-0443-4277-AC0B-38CB993F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66EA7-3DE5-401F-84C4-4C6E06EF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202F5-2099-4E23-8BDE-102622B3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91663-93A2-4FCE-A68E-1183A124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893B4-F16C-473B-8083-190B11D5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CD2B1-31C2-4FB9-948B-66879081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CA9C7-9BB5-4D83-9AAF-7A9B7DCE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B34D-6670-43C4-A0B5-4163DC99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81D1C-517F-4206-BBF9-DEC2DE39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0B2ED-06FF-4356-9094-0ACF2AAD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DDA93-40FF-4C42-89E5-8F74AF1A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D87A4-15DA-4A4B-81A8-A45E68DF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9CC1D-8A30-419E-A5FF-093CFF70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864CB-108E-4F71-A2F8-029AD24D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BB37E-9013-4708-A950-24DEA74B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1A2F3-BAEC-4E3A-9E0A-0806B682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6C633-31A0-436A-9C66-56C44289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03131-BBB0-4611-BF1D-724DA5E2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F95B-1A51-4FAF-B28B-62088E08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6EDFC-5C4D-4AC6-A55B-561099D8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3E70C-E57C-47DD-9BAB-46BBA743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46EF7-BE48-4D90-BBF9-75D0BDB9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7050E-E371-42AA-8641-E4397CDD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C14B5-BF21-457F-83EC-D95EAB50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71BF1B-FA72-4A5F-99BD-242F14BE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C685B-0485-4BE6-B950-F3F41780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89B765-FDCD-4A10-BADB-D7D810FD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292552-1AB7-4934-945D-C93C669F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BEF3F7-04AA-4142-981D-7B15C096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5AC6-1678-44B4-A567-AD828B4A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102F6C-96FC-4987-A386-3A6548D7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249B6B-3A43-440E-8B4A-BC1CC521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907300-0106-4019-B294-822E9692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E4D068-4921-4CBE-BB6E-37C570BC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C5E892-B3B2-4E42-A842-66078500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1319BF-0D14-4B79-A103-12F08C3A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05094-FFA3-461F-A20B-2EC4A5B2C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2B6F-4C60-4454-BE18-3107D9C1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9C63-08A2-4D4B-8B5C-A6BEC7E0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D90F-04EB-47B4-9E7E-761FD171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D93E-52F2-478C-AD52-FB9089A1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FB0E-88E6-4037-ADC5-382208FF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BD88-EEF9-488F-9D57-1B900DEB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B0DC-F368-4907-AE69-9AF3B307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89A1-6EC1-4E35-98FD-99342659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EBAD-7E24-4C8D-AEAC-3E21D6A9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EC16-6BAB-4CA2-8086-2ED602DB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2CC22-05E0-48DB-B2A2-BBE0440D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7E8BD-B3BD-48E2-80A6-DA6C976C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38D3B-3961-4B6B-BDE1-61F01696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EBA00-5A48-4BC1-81F2-687182B9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86DA5-35E7-4117-8E74-F8A5E033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CAC8-5B22-40EE-8EC0-40D060DF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3F687-91CE-4CAE-AB75-8904E8C3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7FD7A-D282-49E5-9001-504D3BE3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DC065-BBDE-41F2-A7B4-1F44C72B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BB8B0-33FD-4FC8-81AA-DF463BF8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C489D-3EC0-4457-9915-BDEC353A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766D1-63E6-4866-AF95-888B6A9C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40C0E-6AA2-4EC3-8934-F7FB9537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6C099-0523-45F1-9B06-55303E5A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018A0-7ADA-4467-ACF4-C9170FB9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5885D-6238-4F26-8A70-31FA9ABD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45AE-2F0B-43B6-97F8-61EA3806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2AB97-35FB-4A21-9F1E-6FA20190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824B2-E412-445D-A1CC-05E645BB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4B05B-B95F-4F09-B3E7-6CB2C5C1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9250C-2F9B-44C7-9BC7-FBC21DBC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777A1-3A1F-48D5-818E-81EB1EBE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6361C-99F1-4178-9639-FE005833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25678-FC58-491A-90AB-57DA6EA3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36FE2-BD2F-458A-8EB5-5E2015D9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15632-2872-4D84-843F-846F1C6B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C7326-BFA1-4490-A45D-A5EA0476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4B33-5FDF-45E6-9E90-C226D13B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2E40F-9D8D-4061-9E20-2A570D3F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C71BD-B40E-438D-82DA-846D9702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F3FB8-2CC4-405E-8EAB-9B100418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F014D-2F3B-4B24-B7C2-FB5385ED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989BE-512E-46EE-9CE4-5639935C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F664F-51A5-49AD-88E8-DFFF6B4F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72F9A-707A-4823-B5E0-830256B3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09C8D-95E0-439D-B200-53DC0B77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E1306-7EDA-4366-9308-85E311D6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DCC74-5A7E-4AAE-9DE5-28C91402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4E3C-2146-4541-A238-0080846C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F318A-9483-4F1D-B36A-444C9793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24C3B-A4C3-4C08-9312-BF4A3C1A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052E2-DB4B-4D4B-8C3D-9DD5E0A7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01F15-5775-408A-AA09-4C192B7F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43448-9544-49E5-A464-4C2B0554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78FE4-C1E8-4751-AABD-A66D9138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F3FE2-E0DA-4E68-9C99-EE4AC5A5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6321A-71B7-4924-B4B6-307502AD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6E8EF-6DCB-43CB-AD94-77A0119C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FF1D8-1FAD-4956-85DE-81328E5A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6FBF-FEF2-4E9E-BE60-986B12EF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5CE70-F528-486A-B317-F075BAE3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EEC97-1376-4A2D-8D37-9F0CC9F9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8E920-92AC-49C0-A235-62D5949A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C44E5-E1C2-4717-AE5C-274A2BC0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50E3E-EF85-4412-B808-EE0A8A86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A0AC1-1B78-40D7-A2A1-E0DA0165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7A2A7-4F21-4197-AC92-51E64E0D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9AE82-590C-457A-B530-02783D57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E668F-B402-44CF-8C78-24B13B57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CB9A8-B819-470F-9664-B04FC994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7C99-954D-4468-99F6-D75090FE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18801-2A6B-4BA1-B6A5-9B484A10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50C06-8E8E-4065-A992-C6E20F6C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2883B-D556-4F84-910A-16392256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688A9-3634-4802-ACA9-9A37F794D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DE4B8-C2C2-48FE-A7B2-CF7D1185C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40962-117E-4047-BE1A-952D5FE9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71D6F-1CC1-4726-8B52-9C6091E5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A6E19-45D4-4B40-91FE-82544EEF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55CB3-772A-42DF-B94C-79E8A580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CB927-96EF-4AB8-90C2-D96C38EF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76BB-EBCC-43D8-9021-5C56D5A8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4DB49-0C1E-4DCB-955D-D45D0E59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2BC9B-C9E1-4D13-B244-C187AFD8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6EE8E-8586-4DC6-A65A-6B4068A7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C6BE9-223D-4E19-A2EB-CAB3304B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FAB90-E6E5-4299-A35A-911C4E7E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B692A-C70C-46C6-849D-4CA05B79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7334E-DFB0-4720-A732-71FB33D4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7C699-7B0D-4CFB-9874-68B4CE21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9447E-4BC3-4CFF-8C2B-5CFC40F2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0899A-C4C6-4E45-9C38-902CFF7A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F8E6-AF37-4128-9542-0F1085A50B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656F-7A5B-4AD3-BF92-A2B2F2929A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9B0A-ED4E-4272-AD0E-326C7C6E87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9826-903F-43E7-BA30-993A1577B1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AEE5-9737-499F-8379-9556F6742BC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4ACA-AAC5-433E-B506-E9990E209B1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78D2-40AE-4CD7-97C5-1B0C168913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50C7-C36A-42A5-AC71-FD5405653D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6F31-7954-4D09-ACB9-1A49CFFCB3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0F86-3AF8-42E8-BEB0-5E8D76239F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F667-8ED7-4977-B732-37B896726B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0136-1B51-4133-A7EC-1651EF162C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F2AB-5816-43EC-BBB0-E4661D1A20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ollege.ru/biology/course/content/chapter8/section1/paragraph6/theory.html" TargetMode="External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i-main-pic" descr="Картинка 502 из 2578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2928960"/>
          </a:xfrm>
          <a:prstGeom prst="rect">
            <a:avLst/>
          </a:prstGeom>
          <a:ln w="0">
            <a:noFill/>
          </a:ln>
        </p:spPr>
      </p:pic>
      <p:sp>
        <p:nvSpPr>
          <p:cNvPr id="598" name="WordArt 4"/>
          <p:cNvSpPr txBox="1"/>
          <p:nvPr/>
        </p:nvSpPr>
        <p:spPr>
          <a:xfrm>
            <a:off x="3357720" y="928800"/>
            <a:ext cx="371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У Г Л Е В О Д Ы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9" name="Picture 7" descr=""/>
          <p:cNvPicPr/>
          <p:nvPr/>
        </p:nvPicPr>
        <p:blipFill>
          <a:blip r:embed="rId2"/>
          <a:stretch/>
        </p:blipFill>
        <p:spPr>
          <a:xfrm>
            <a:off x="0" y="2652840"/>
            <a:ext cx="4500720" cy="42051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8" descr=""/>
          <p:cNvPicPr/>
          <p:nvPr/>
        </p:nvPicPr>
        <p:blipFill>
          <a:blip r:embed="rId3"/>
          <a:stretch/>
        </p:blipFill>
        <p:spPr>
          <a:xfrm>
            <a:off x="4357800" y="2357280"/>
            <a:ext cx="4786200" cy="450072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2143080" y="5610240"/>
            <a:ext cx="4608720" cy="12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5"/>
          <p:cNvSpPr/>
          <p:nvPr/>
        </p:nvSpPr>
        <p:spPr>
          <a:xfrm>
            <a:off x="4419720" y="457200"/>
            <a:ext cx="4495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ий из дисахаридов - сахароза - очень распространен в природе. Это химическое название обычного сахара, называемого тростниковым или свекловичны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Rectangle 11"/>
          <p:cNvSpPr/>
          <p:nvPr/>
        </p:nvSpPr>
        <p:spPr>
          <a:xfrm>
            <a:off x="357120" y="4071960"/>
            <a:ext cx="4343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кловичный сахар широко применяется в пищевой промышленности, кулинарии, приготовлении вин, пива и т.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1169640" y="194616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12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3929040" cy="3571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3" descr=""/>
          <p:cNvPicPr/>
          <p:nvPr/>
        </p:nvPicPr>
        <p:blipFill>
          <a:blip r:embed="rId3"/>
          <a:stretch/>
        </p:blipFill>
        <p:spPr>
          <a:xfrm>
            <a:off x="4932360" y="3645000"/>
            <a:ext cx="40006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5" descr="http://www.college.ru/biology/course/content/javagifs/08010204.gif"/>
          <p:cNvPicPr/>
          <p:nvPr/>
        </p:nvPicPr>
        <p:blipFill>
          <a:blip r:embed="rId1"/>
          <a:stretch/>
        </p:blipFill>
        <p:spPr>
          <a:xfrm>
            <a:off x="4648320" y="380880"/>
            <a:ext cx="4267080" cy="25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40" name="Rectangle 8"/>
          <p:cNvSpPr/>
          <p:nvPr/>
        </p:nvSpPr>
        <p:spPr>
          <a:xfrm>
            <a:off x="0" y="3808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молока получают молочный сахар 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актозу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молоке лактоза содержится в довольно значительном количеств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9"/>
          <p:cNvSpPr/>
          <p:nvPr/>
        </p:nvSpPr>
        <p:spPr>
          <a:xfrm>
            <a:off x="0" y="314172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тоза отличается от других сахаров отсутствием гидроскопичности - она не отсыревает. Это свойство имеет большое значение: если нужно приготовить с сахаром какой-либо порошок, содержащий легко гидролизующее лекарство, то берут молочный саха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лактозы очень велико, т.к. она является важным питательным веществом, особенно для растущих организмов человека и млекопитающихся животн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5" descr="http://www.college.ru/biology/course/content/javagifs/08010203.gif"/>
          <p:cNvPicPr/>
          <p:nvPr/>
        </p:nvPicPr>
        <p:blipFill>
          <a:blip r:embed="rId1"/>
          <a:stretch/>
        </p:blipFill>
        <p:spPr>
          <a:xfrm>
            <a:off x="304920" y="30492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6"/>
          <p:cNvSpPr/>
          <p:nvPr/>
        </p:nvSpPr>
        <p:spPr>
          <a:xfrm>
            <a:off x="914400" y="3352680"/>
            <a:ext cx="1752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ь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4648320" y="228600"/>
            <a:ext cx="4495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довый сахар - это промежуточный продукт при гидролизе крахмала. По другому его называют ещ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льт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к. солодовый сахар получается из крахмала при действии солода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. солод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tu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0" y="411480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довый сахар широко распространен как в растительных, так и в животных организмах. Например, он образуется под влиянием ферментов пищеварительного канала, а также при многих технологических процессах бродильной промышленности: винокурения, пивоварении и т.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П О Л И С А Х А Р И Д 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7" name="Rectangle 5"/>
          <p:cNvSpPr/>
          <p:nvPr/>
        </p:nvSpPr>
        <p:spPr>
          <a:xfrm>
            <a:off x="0" y="1219320"/>
            <a:ext cx="9144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ыми углеводами (полисахаридами или полиозами) называют такие углеводы, которые способны гидролизоваться с образованием простых углеводов и у них число атомов углерода не равно числу атомов кислорода 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xt Box 6"/>
          <p:cNvSpPr/>
          <p:nvPr/>
        </p:nvSpPr>
        <p:spPr>
          <a:xfrm>
            <a:off x="609480" y="4419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полисахаридам относя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304920" y="5181480"/>
            <a:ext cx="76960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тозан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люл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хма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ге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5"/>
          <p:cNvSpPr/>
          <p:nvPr/>
        </p:nvSpPr>
        <p:spPr>
          <a:xfrm>
            <a:off x="304920" y="990720"/>
            <a:ext cx="853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сахари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оят из моносахаридов. Большие размеры делают их молекулы практически нерастворимыми в воде; они не оказывают влияние на клетку и потому удобны в качестве запасных веществ. При необходимости они могут быть превращены обратно в сахара путём гидролиз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380880" y="45720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ие из полисахаридов - это крахмал, гликоген (животный крахмал), целлюлоза (клетчатка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5"/>
          <p:cNvSpPr/>
          <p:nvPr/>
        </p:nvSpPr>
        <p:spPr>
          <a:xfrm>
            <a:off x="3733920" y="228600"/>
            <a:ext cx="510516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ахма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биополимер, состоящий из остатков глюкозы - первый видимый продукт фотосинтеза. При фотосинтезе крахмал образуется  в растениях  и откладывается  в корнях,  клубнях, семенах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хма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белое вещество, состоящее из мельчайших зерен, напоминающих муку, поэтому его второе название «картофельная мука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3" name="Object 0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286080" cy="4114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1" descr="крахмал"/>
          <p:cNvPicPr/>
          <p:nvPr/>
        </p:nvPicPr>
        <p:blipFill>
          <a:blip r:embed="rId2"/>
          <a:stretch/>
        </p:blipFill>
        <p:spPr>
          <a:xfrm>
            <a:off x="250920" y="189000"/>
            <a:ext cx="331128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ЗНАЧЕНИЕ КРАХМАЛА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609120" y="928440"/>
            <a:ext cx="8534520" cy="326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)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ачестве пищевого продукта (хлеб, картофель, крупы и т. д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. Для изготовления  канцелярского кле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. В медицине и фармац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готовления присыпок, паст (густых мазей), а также при производстве таблето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7" name="Picture 6" descr=""/>
          <p:cNvPicPr/>
          <p:nvPr/>
        </p:nvPicPr>
        <p:blipFill>
          <a:blip r:embed="rId1"/>
          <a:stretch/>
        </p:blipFill>
        <p:spPr>
          <a:xfrm>
            <a:off x="684360" y="3143160"/>
            <a:ext cx="31194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5"/>
          <p:cNvSpPr/>
          <p:nvPr/>
        </p:nvSpPr>
        <p:spPr>
          <a:xfrm>
            <a:off x="380880" y="380880"/>
            <a:ext cx="8153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тном мире роль «запасного крахмала» играет родственный крахмалу полисахарид 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ликоге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ликоген содержится во всех животных тканях.  Особенно много его в печени (до 20%) и в мышцах (4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ген представляет собой белый аморфный порошок, хорошо растворимый  даже в холодной воде. Молекула животного крахмала построена по типу молекул амилопектина, отличаясь лишь большей ветвистость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ярная масса гликогена  исчисляется миллион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7" descr="http://www.college.ru/biology/course/content/chapter8/section1/paragraph2/images/08010207.jpg"/>
          <p:cNvPicPr/>
          <p:nvPr/>
        </p:nvPicPr>
        <p:blipFill>
          <a:blip r:embed="rId1"/>
          <a:stretch/>
        </p:blipFill>
        <p:spPr>
          <a:xfrm>
            <a:off x="428760" y="857160"/>
            <a:ext cx="3943080" cy="525780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8"/>
          <p:cNvSpPr/>
          <p:nvPr/>
        </p:nvSpPr>
        <p:spPr>
          <a:xfrm>
            <a:off x="4648320" y="228600"/>
            <a:ext cx="419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люлоза также является полимером глюкоз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Rectangle 9"/>
          <p:cNvSpPr/>
          <p:nvPr/>
        </p:nvSpPr>
        <p:spPr>
          <a:xfrm>
            <a:off x="4643280" y="1928880"/>
            <a:ext cx="4038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й заключено около 50 % углерода, содержащегося в растениях. По общей массе на Земле целлюлоза занимает первое место среди органических соединений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8"/>
          <p:cNvSpPr/>
          <p:nvPr/>
        </p:nvSpPr>
        <p:spPr>
          <a:xfrm>
            <a:off x="4714920" y="3500280"/>
            <a:ext cx="414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люлоза (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Rectangle 9"/>
          <p:cNvSpPr/>
          <p:nvPr/>
        </p:nvSpPr>
        <p:spPr>
          <a:xfrm>
            <a:off x="0" y="50004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люлоза – это биополимер, состоящий из остатков глюкозы - ценный источник глюкозы, однако для её расщепления необходим фермент целлюлаза, сравнительно редко встречающийся в природе. Поэтому в пищу целлюлозу употребляют только некоторые животные (например, жвачные). Велико и промышленное значение целлюлозы – из этого вещества изготовляют хлопчатобумажные ткани и бумагу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4" name="Picture 0" descr=""/>
          <p:cNvPicPr/>
          <p:nvPr/>
        </p:nvPicPr>
        <p:blipFill>
          <a:blip r:embed="rId1"/>
          <a:stretch/>
        </p:blipFill>
        <p:spPr>
          <a:xfrm>
            <a:off x="1357200" y="3429000"/>
            <a:ext cx="32148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642600" y="499680"/>
            <a:ext cx="80391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глеводам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называют вещества с общей формулой C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H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)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где x и y – натуральные числа. Название «углеводы» говорит о том, что в их молекулах водород и кислород находятся в том же отношении, что и в во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1219320" y="4191120"/>
            <a:ext cx="761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 животных клетках содержится небольшое количество углеводов, а в растительных – почти 70 % от общего количества органических вещест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5" descr="http://www.college.ru/biology/course/content/javagifs/08010209.gif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251460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6"/>
          <p:cNvSpPr/>
          <p:nvPr/>
        </p:nvSpPr>
        <p:spPr>
          <a:xfrm>
            <a:off x="0" y="3000240"/>
            <a:ext cx="4800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тин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лизок к целлюлозе; он встречается у некоторых форм грибов, а также как важный компонент наружного скелета некоторых животных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7" name="Picture 9" descr=""/>
          <p:cNvPicPr/>
          <p:nvPr/>
        </p:nvPicPr>
        <p:blipFill>
          <a:blip r:embed="rId2"/>
          <a:stretch/>
        </p:blipFill>
        <p:spPr>
          <a:xfrm>
            <a:off x="4572000" y="2928960"/>
            <a:ext cx="4286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915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КЛАССИФИКАЦИЯ</a:t>
            </a: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УГЛЕВОДОВ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42920" y="3429000"/>
            <a:ext cx="37339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СТ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сахари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4343400" y="3214800"/>
            <a:ext cx="4800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ОЖ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 дисахарид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исахариды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Line 7"/>
          <p:cNvSpPr/>
          <p:nvPr/>
        </p:nvSpPr>
        <p:spPr>
          <a:xfrm flipH="1">
            <a:off x="2057040" y="2362320"/>
            <a:ext cx="106668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Line 8"/>
          <p:cNvSpPr/>
          <p:nvPr/>
        </p:nvSpPr>
        <p:spPr>
          <a:xfrm>
            <a:off x="5105520" y="2362320"/>
            <a:ext cx="137160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М О Н О С А Х А Р И Д 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-360" y="380988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К моносахаридам относя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0" y="4343400"/>
            <a:ext cx="845820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озы   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итроза  тре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тозы    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бин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сил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ибоз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ксоз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нн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алакт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рукт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0" y="144792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ыми углеводами (моносахаридами и мономинозами) называют углеводы, которые не способны гидролизоваться с образованием более простых углеводов,  у них число атомов углерода  равно числу атомов кислорода 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5"/>
          <p:cNvSpPr/>
          <p:nvPr/>
        </p:nvSpPr>
        <p:spPr>
          <a:xfrm>
            <a:off x="4343400" y="228600"/>
            <a:ext cx="4800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у называют также виноградным сахаром, так как она содержится в  большом количестве в виноградном соке. Кроме винограда глюкоза находится и в других сладких плодах  и даже в разных частях растени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04920" y="4419720"/>
            <a:ext cx="8572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а глюкоза и в животном мире: 0,1% ее находится в крови. Глюкоза разносится по всему телу и служит источником энергии для организма. Она также входит в состав сахарозы, лактозы, целлюлозы, крахма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5" name="Picture 10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40719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5"/>
          <p:cNvSpPr/>
          <p:nvPr/>
        </p:nvSpPr>
        <p:spPr>
          <a:xfrm>
            <a:off x="179280" y="189000"/>
            <a:ext cx="5256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стительном мире широко распространена фруктоза или фруктовый (плодовый) сахар. Фруктоза содержится в сладких плодах, меде. Извлекая из цветов  сладких плодов соки, пчелы приготавливают мед, который по химическому составу  представляет собой  в основном смесь глюкозы и фруктозы. Также фруктоза входит в состав сложных сахаров, например тростникового и свекловичног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7" name="Picture 6" descr="47"/>
          <p:cNvPicPr/>
          <p:nvPr/>
        </p:nvPicPr>
        <p:blipFill>
          <a:blip r:embed="rId1"/>
          <a:stretch/>
        </p:blipFill>
        <p:spPr>
          <a:xfrm>
            <a:off x="5580000" y="260280"/>
            <a:ext cx="3095640" cy="26416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7" descr="75491"/>
          <p:cNvPicPr/>
          <p:nvPr/>
        </p:nvPicPr>
        <p:blipFill>
          <a:blip r:embed="rId2"/>
          <a:stretch/>
        </p:blipFill>
        <p:spPr>
          <a:xfrm>
            <a:off x="5580000" y="3357720"/>
            <a:ext cx="280836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ЗНАЧЕНИЕ МОНОСАХАРИДОВ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0" y="129528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сахариды играют роль промежуточных продуктов в процессах дыхания и фотосинтеза, участвуют в синтезе нуклеиновых кислот, коферментов, АТФ и полисахаридов, служат источниками энергии, высвобождаемой при окислении в процессе дыхания. Производные моносахаридов – сахарные спирты, сахарные кислоты, дезоксисахара и аминосахара – имеют важное значение в процессе дыхания, а также используются при синтезе липидов,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ДН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ругих макромолеку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Д И С А Х А Р И Д 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сахариды имеют формул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дисахаридам относя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533520" y="472428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ар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юкоза + фрукт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т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юкоза + галактоза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т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юкоза + глюкоза)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би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152280" y="1371600"/>
            <a:ext cx="8610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ахариды - это сложные сахара, каждая молекула которых при гидролизе распадается на 2 молекулы моносахарид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они используются в качестве запасных питательных вещест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6781320" y="228600"/>
            <a:ext cx="175284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ь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6" name="Picture 9" descr="http://www.college.ru/biology/course/content/javagifs/08010203.gif"/>
          <p:cNvPicPr/>
          <p:nvPr/>
        </p:nvPicPr>
        <p:blipFill>
          <a:blip r:embed="rId1"/>
          <a:stretch/>
        </p:blipFill>
        <p:spPr>
          <a:xfrm>
            <a:off x="228600" y="228600"/>
            <a:ext cx="4370400" cy="26542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0" descr="http://www.college.ru/biology/course/content/javagifs/08010204.gif"/>
          <p:cNvPicPr/>
          <p:nvPr/>
        </p:nvPicPr>
        <p:blipFill>
          <a:blip r:embed="rId2"/>
          <a:stretch/>
        </p:blipFill>
        <p:spPr>
          <a:xfrm>
            <a:off x="4876920" y="1219320"/>
            <a:ext cx="4267080" cy="2590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28" name="Rectangle 12"/>
          <p:cNvSpPr/>
          <p:nvPr/>
        </p:nvSpPr>
        <p:spPr>
          <a:xfrm>
            <a:off x="1295280" y="31240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к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9" name="Picture 13" descr="http://www.college.ru/biology/course/content/javagifs/08010205.gif"/>
          <p:cNvPicPr/>
          <p:nvPr/>
        </p:nvPicPr>
        <p:blipFill>
          <a:blip r:embed="rId3"/>
          <a:stretch/>
        </p:blipFill>
        <p:spPr>
          <a:xfrm>
            <a:off x="228600" y="3962520"/>
            <a:ext cx="4267080" cy="2400120"/>
          </a:xfrm>
          <a:prstGeom prst="rect">
            <a:avLst/>
          </a:prstGeom>
          <a:ln w="0">
            <a:noFill/>
          </a:ln>
        </p:spPr>
      </p:pic>
      <p:sp>
        <p:nvSpPr>
          <p:cNvPr id="630" name="Line 15"/>
          <p:cNvSpPr/>
          <p:nvPr/>
        </p:nvSpPr>
        <p:spPr>
          <a:xfrm flipH="1">
            <a:off x="4723920" y="380880"/>
            <a:ext cx="17528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Line 16"/>
          <p:cNvSpPr/>
          <p:nvPr/>
        </p:nvSpPr>
        <p:spPr>
          <a:xfrm flipV="1">
            <a:off x="3352680" y="3200040"/>
            <a:ext cx="12956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Rectangle 17"/>
          <p:cNvSpPr/>
          <p:nvPr/>
        </p:nvSpPr>
        <p:spPr>
          <a:xfrm>
            <a:off x="6324480" y="457200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хар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Line 18"/>
          <p:cNvSpPr/>
          <p:nvPr/>
        </p:nvSpPr>
        <p:spPr>
          <a:xfrm flipH="1">
            <a:off x="4876920" y="4876920"/>
            <a:ext cx="1295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4T09:52:46Z</dcterms:created>
  <dc:creator>Василенков</dc:creator>
  <dc:description/>
  <dc:language>en-US</dc:language>
  <cp:lastModifiedBy>Admin</cp:lastModifiedBy>
  <dcterms:modified xsi:type="dcterms:W3CDTF">2012-01-08T16:36:12Z</dcterms:modified>
  <cp:revision>60</cp:revision>
  <dc:subject/>
  <dc:title> ПРЕЗЕНТАЦИЯ по химии</dc:title>
</cp:coreProperties>
</file>